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4E00-EFC8-48F3-8E8D-7BA1AB673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733-FC2F-4601-9855-6D836B51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6F3-CBF8-429A-92D0-33500CE5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CD7-286D-4140-B46A-EDA7240E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C71-2C5D-487C-B9E9-C3ADF2B3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84B-E875-4342-8C16-1EA60C21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C6F-0764-4798-A607-5BC9D59B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4FA-093D-4F44-A25D-D81E38EE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AF2-707E-444B-BE12-C4B5C899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32E-A9A2-48D6-89B1-6B557D3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196-8917-4797-AC45-BE5307C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330-14C9-4909-87B4-F4035CD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557-08DE-4C7F-A6F8-4AFB574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86280"/>
                <a:tab algn="l" pos="6172200"/>
                <a:tab algn="l" pos="925848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A99-3F24-49F8-9D4B-EF7740C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6280"/>
                <a:tab algn="l" pos="6172200"/>
                <a:tab algn="l" pos="9258480"/>
              </a:tabLst>
            </a:pPr>
            <a:r>
              <a:rPr b="0" lang="en-US" sz="1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7000"/>
          </a:bodyPr>
          <a:p>
            <a:pPr marL="891000" indent="-891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31040" indent="-7430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70360" indent="-5940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58360" indent="-59400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46360" indent="-59400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86280"/>
                <a:tab algn="l" pos="6172200"/>
                <a:tab algn="l" pos="92584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FF0-5990-4C1C-8079-3F2CB9625A77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-1440" y="3240"/>
            <a:ext cx="10974240" cy="43214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4680" y="12600"/>
            <a:ext cx="10693440" cy="7086600"/>
          </a:xfrm>
          <a:prstGeom prst="rect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4680" y="7099200"/>
            <a:ext cx="10693440" cy="180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4680" y="7099200"/>
            <a:ext cx="10693440" cy="1800"/>
          </a:xfrm>
          <a:prstGeom prst="line">
            <a:avLst/>
          </a:prstGeom>
          <a:ln w="142920">
            <a:solidFill>
              <a:srgbClr val="fefe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1503360" y="1114560"/>
            <a:ext cx="7781760" cy="489240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3"/>
          <p:cNvSpPr/>
          <p:nvPr/>
        </p:nvSpPr>
        <p:spPr>
          <a:xfrm>
            <a:off x="6097680" y="3635280"/>
            <a:ext cx="390600" cy="3556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4"/>
          <p:cNvSpPr/>
          <p:nvPr/>
        </p:nvSpPr>
        <p:spPr>
          <a:xfrm>
            <a:off x="6097680" y="3635280"/>
            <a:ext cx="390600" cy="355680"/>
          </a:xfrm>
          <a:prstGeom prst="pie">
            <a:avLst/>
          </a:prstGeom>
          <a:noFill/>
          <a:ln w="792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5"/>
          <p:cNvSpPr/>
          <p:nvPr/>
        </p:nvSpPr>
        <p:spPr>
          <a:xfrm>
            <a:off x="4319640" y="3635280"/>
            <a:ext cx="390600" cy="3556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4319640" y="3635280"/>
            <a:ext cx="390600" cy="355680"/>
          </a:xfrm>
          <a:prstGeom prst="pie">
            <a:avLst/>
          </a:prstGeom>
          <a:noFill/>
          <a:ln w="792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3408480" y="1422360"/>
            <a:ext cx="1498320" cy="18352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8"/>
          <p:cNvSpPr/>
          <p:nvPr/>
        </p:nvSpPr>
        <p:spPr>
          <a:xfrm>
            <a:off x="5900760" y="1422360"/>
            <a:ext cx="1498680" cy="18352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"/>
          <p:cNvPicPr/>
          <p:nvPr/>
        </p:nvPicPr>
        <p:blipFill>
          <a:blip r:embed="rId2"/>
          <a:stretch/>
        </p:blipFill>
        <p:spPr>
          <a:xfrm>
            <a:off x="3865680" y="1457280"/>
            <a:ext cx="3066840" cy="2276640"/>
          </a:xfrm>
          <a:prstGeom prst="rect">
            <a:avLst/>
          </a:prstGeom>
          <a:ln w="0">
            <a:noFill/>
          </a:ln>
        </p:spPr>
      </p:pic>
      <p:sp>
        <p:nvSpPr>
          <p:cNvPr id="61" name="Freeform 20"/>
          <p:cNvSpPr/>
          <p:nvPr/>
        </p:nvSpPr>
        <p:spPr>
          <a:xfrm>
            <a:off x="3913200" y="1504800"/>
            <a:ext cx="2981160" cy="2184480"/>
          </a:xfrm>
          <a:prstGeom prst="pie">
            <a:avLst/>
          </a:prstGeom>
          <a:noFill/>
          <a:ln w="666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3"/>
          <a:stretch/>
        </p:blipFill>
        <p:spPr>
          <a:xfrm>
            <a:off x="4560840" y="2124000"/>
            <a:ext cx="1619280" cy="590760"/>
          </a:xfrm>
          <a:prstGeom prst="rect">
            <a:avLst/>
          </a:prstGeom>
          <a:ln w="0">
            <a:noFill/>
          </a:ln>
        </p:spPr>
      </p:pic>
      <p:sp>
        <p:nvSpPr>
          <p:cNvPr id="63" name="Freeform 22"/>
          <p:cNvSpPr/>
          <p:nvPr/>
        </p:nvSpPr>
        <p:spPr>
          <a:xfrm>
            <a:off x="4583160" y="2276640"/>
            <a:ext cx="1568520" cy="117360"/>
          </a:xfrm>
          <a:prstGeom prst="pie">
            <a:avLst/>
          </a:prstGeom>
          <a:noFill/>
          <a:ln w="666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3"/>
          <p:cNvSpPr/>
          <p:nvPr/>
        </p:nvSpPr>
        <p:spPr>
          <a:xfrm>
            <a:off x="4678200" y="1806480"/>
            <a:ext cx="358920" cy="358920"/>
          </a:xfrm>
          <a:prstGeom prst="pie">
            <a:avLst/>
          </a:prstGeom>
          <a:solidFill>
            <a:srgbClr val="fdfcfc"/>
          </a:solidFill>
          <a:ln w="666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4859280" y="1895400"/>
            <a:ext cx="177840" cy="1810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5776920" y="1806480"/>
            <a:ext cx="358920" cy="358920"/>
          </a:xfrm>
          <a:prstGeom prst="pie">
            <a:avLst/>
          </a:prstGeom>
          <a:solidFill>
            <a:srgbClr val="fdfcfc"/>
          </a:solidFill>
          <a:ln w="66600">
            <a:solidFill>
              <a:srgbClr val="0909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5954760" y="1895400"/>
            <a:ext cx="181080" cy="1810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7"/>
          <p:cNvSpPr/>
          <p:nvPr/>
        </p:nvSpPr>
        <p:spPr>
          <a:xfrm>
            <a:off x="5224320" y="2139840"/>
            <a:ext cx="374760" cy="276480"/>
          </a:xfrm>
          <a:prstGeom prst="pie">
            <a:avLst/>
          </a:prstGeom>
          <a:solidFill>
            <a:srgbClr val="0909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8"/>
          <p:cNvSpPr/>
          <p:nvPr/>
        </p:nvSpPr>
        <p:spPr>
          <a:xfrm>
            <a:off x="5446800" y="2197080"/>
            <a:ext cx="73080" cy="63360"/>
          </a:xfrm>
          <a:prstGeom prst="pie">
            <a:avLst/>
          </a:prstGeom>
          <a:solidFill>
            <a:srgbClr val="fd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9"/>
          <p:cNvSpPr/>
          <p:nvPr/>
        </p:nvSpPr>
        <p:spPr>
          <a:xfrm>
            <a:off x="4941720" y="1920960"/>
            <a:ext cx="54000" cy="50760"/>
          </a:xfrm>
          <a:prstGeom prst="pie">
            <a:avLst/>
          </a:prstGeom>
          <a:solidFill>
            <a:srgbClr val="fd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0"/>
          <p:cNvSpPr/>
          <p:nvPr/>
        </p:nvSpPr>
        <p:spPr>
          <a:xfrm>
            <a:off x="6040440" y="1920960"/>
            <a:ext cx="50760" cy="50760"/>
          </a:xfrm>
          <a:prstGeom prst="pie">
            <a:avLst/>
          </a:prstGeom>
          <a:solidFill>
            <a:srgbClr val="fd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2198520" y="4419720"/>
            <a:ext cx="873360" cy="117792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3160800" y="4438800"/>
            <a:ext cx="996840" cy="113976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4059360" y="4438800"/>
            <a:ext cx="1095120" cy="113976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5094360" y="4419720"/>
            <a:ext cx="853920" cy="117792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5"/>
          <p:cNvSpPr/>
          <p:nvPr/>
        </p:nvSpPr>
        <p:spPr>
          <a:xfrm>
            <a:off x="5973840" y="4438800"/>
            <a:ext cx="809640" cy="113976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6"/>
          <p:cNvSpPr/>
          <p:nvPr/>
        </p:nvSpPr>
        <p:spPr>
          <a:xfrm>
            <a:off x="6691320" y="4438800"/>
            <a:ext cx="1206360" cy="113976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7967520" y="4438800"/>
            <a:ext cx="755640" cy="1139760"/>
          </a:xfrm>
          <a:prstGeom prst="pie">
            <a:avLst/>
          </a:prstGeom>
          <a:solidFill>
            <a:srgbClr val="195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8"/>
          <p:cNvSpPr/>
          <p:nvPr/>
        </p:nvSpPr>
        <p:spPr>
          <a:xfrm>
            <a:off x="4294080" y="8020080"/>
            <a:ext cx="5276880" cy="391140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5430960" y="12252240"/>
            <a:ext cx="3000240" cy="2082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0"/>
          <p:cNvSpPr/>
          <p:nvPr/>
        </p:nvSpPr>
        <p:spPr>
          <a:xfrm>
            <a:off x="4259160" y="14554080"/>
            <a:ext cx="5318280" cy="393696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5408640" y="18732600"/>
            <a:ext cx="3060720" cy="21906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2"/>
          <p:cNvSpPr/>
          <p:nvPr/>
        </p:nvSpPr>
        <p:spPr>
          <a:xfrm>
            <a:off x="5716440" y="21167640"/>
            <a:ext cx="2565720" cy="21877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3"/>
          <p:cNvSpPr/>
          <p:nvPr/>
        </p:nvSpPr>
        <p:spPr>
          <a:xfrm>
            <a:off x="4478400" y="23672880"/>
            <a:ext cx="5108400" cy="376236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4"/>
          <p:cNvSpPr/>
          <p:nvPr/>
        </p:nvSpPr>
        <p:spPr>
          <a:xfrm>
            <a:off x="4614840" y="27663840"/>
            <a:ext cx="4610160" cy="367344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4294080" y="31508640"/>
            <a:ext cx="5337360" cy="372420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6"/>
          <p:cNvSpPr/>
          <p:nvPr/>
        </p:nvSpPr>
        <p:spPr>
          <a:xfrm>
            <a:off x="4414680" y="35442360"/>
            <a:ext cx="5032440" cy="3600720"/>
          </a:xfrm>
          <a:prstGeom prst="pie">
            <a:avLst/>
          </a:prstGeom>
          <a:solidFill>
            <a:srgbClr val="faf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7"/>
          <p:cNvSpPr/>
          <p:nvPr/>
        </p:nvSpPr>
        <p:spPr>
          <a:xfrm>
            <a:off x="6342120" y="39344760"/>
            <a:ext cx="2527200" cy="24285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8"/>
          <p:cNvSpPr/>
          <p:nvPr/>
        </p:nvSpPr>
        <p:spPr>
          <a:xfrm>
            <a:off x="1077840" y="22078800"/>
            <a:ext cx="2263680" cy="201517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9"/>
          <p:cNvSpPr/>
          <p:nvPr/>
        </p:nvSpPr>
        <p:spPr>
          <a:xfrm>
            <a:off x="1554120" y="23221800"/>
            <a:ext cx="1260360" cy="13557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0"/>
          <p:cNvSpPr/>
          <p:nvPr/>
        </p:nvSpPr>
        <p:spPr>
          <a:xfrm>
            <a:off x="1512720" y="24831720"/>
            <a:ext cx="1343160" cy="13557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512720" y="26435160"/>
            <a:ext cx="1343160" cy="135252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471680" y="28374840"/>
            <a:ext cx="1425600" cy="16862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484280" y="30461040"/>
            <a:ext cx="1403280" cy="168588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4"/>
          <p:cNvSpPr/>
          <p:nvPr/>
        </p:nvSpPr>
        <p:spPr>
          <a:xfrm>
            <a:off x="1484280" y="32546880"/>
            <a:ext cx="1403280" cy="168588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1490760" y="34635960"/>
            <a:ext cx="1387440" cy="13748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477800" y="36293400"/>
            <a:ext cx="1406520" cy="133020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1494000" y="37903320"/>
            <a:ext cx="1374480" cy="13143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1554120" y="39465360"/>
            <a:ext cx="1260360" cy="13557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5389560" y="41544720"/>
            <a:ext cx="1066680" cy="10670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moosawa</cp:lastModifiedBy>
  <dcterms:modified xsi:type="dcterms:W3CDTF">2009-05-28T22:20:31Z</dcterms:modified>
  <cp:revision>2</cp:revision>
  <dc:subject/>
  <dc:title>スライド 1</dc:title>
</cp:coreProperties>
</file>