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B19D-05C4-4F2E-9E3D-230D4241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881-C410-4958-893A-442AFE5E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0212-03B2-49E6-BE36-77B6C337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8B5C-B924-4A73-84B2-552A7AB3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823C-FACC-464B-9E22-66064DC7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71E-56E0-45A2-9B3F-C608C6D3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BDC-B5F2-4700-B4F6-2824A1E9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CCBA-073C-451C-9031-A489D85D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DA8-47F5-4563-A960-EBA5251C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5241-3D9E-47A7-8ADC-3C12AA71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C390-CB55-44C4-AA07-08E6DAF8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B2E0-B2D6-4323-960E-AB84E347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920" indent="-5659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737640"/>
            <a:ext cx="1368108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E1411427-458C-4F11-B1A0-5B2061EFCC8F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205400" cy="10693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6640" y="2743200"/>
            <a:ext cx="5451480" cy="5451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6431640" y="1442880"/>
            <a:ext cx="5184720" cy="7689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604280" y="0"/>
            <a:ext cx="24799680" cy="9804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705720" y="3559320"/>
            <a:ext cx="288892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07:11:31Z</dcterms:created>
  <dc:creator>fukase3</dc:creator>
  <dc:description/>
  <dc:language>en-US</dc:language>
  <cp:lastModifiedBy>fukase3</cp:lastModifiedBy>
  <dcterms:modified xsi:type="dcterms:W3CDTF">2009-05-08T08:13:41Z</dcterms:modified>
  <cp:revision>3</cp:revision>
  <dc:subject/>
  <dc:title>スライド 1</dc:title>
</cp:coreProperties>
</file>