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827-8818-4C06-B592-DC4F477C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7904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81A-F5CA-4F97-BA1B-6C128D32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4404-039B-48F5-B2C1-85158E54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18D-28C2-4101-89C8-A2D2F0CD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AC1-9F40-434E-A563-31473930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AED-B6D8-4818-9FEA-2113BA5E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85F-E7DF-4B45-91EB-85F0466C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99A-C4C3-4C5E-94A3-228B2E80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170-85F1-4B1B-A102-BCB62425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06F-9F8F-4607-96CE-C88774EE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878-EEAC-4813-B855-E886084F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2ED-24A3-4CCF-9D2D-65664D40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0576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0576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0576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944C0F52-8E37-4D68-B038-FEAF108D32DE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29" descr="oil_haikei_01.jpg"/>
          <p:cNvPicPr/>
          <p:nvPr/>
        </p:nvPicPr>
        <p:blipFill>
          <a:blip r:embed="rId1"/>
          <a:stretch/>
        </p:blipFill>
        <p:spPr>
          <a:xfrm>
            <a:off x="0" y="0"/>
            <a:ext cx="43205400" cy="10693440"/>
          </a:xfrm>
          <a:prstGeom prst="rect">
            <a:avLst/>
          </a:prstGeom>
          <a:ln w="0">
            <a:noFill/>
          </a:ln>
        </p:spPr>
      </p:pic>
      <p:sp>
        <p:nvSpPr>
          <p:cNvPr id="42" name="円形吹き出し 32"/>
          <p:cNvSpPr/>
          <p:nvPr/>
        </p:nvSpPr>
        <p:spPr>
          <a:xfrm>
            <a:off x="36193320" y="423720"/>
            <a:ext cx="6604200" cy="4105440"/>
          </a:xfrm>
          <a:prstGeom prst="wedgeEllipseCallout">
            <a:avLst>
              <a:gd name="adj1" fmla="val -24800"/>
              <a:gd name="adj2" fmla="val 65592"/>
            </a:avLst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5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6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期間限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6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２０１３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6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００月末まで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9"/>
          <p:cNvSpPr/>
          <p:nvPr/>
        </p:nvSpPr>
        <p:spPr>
          <a:xfrm>
            <a:off x="9524880" y="1440000"/>
            <a:ext cx="27643320" cy="16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1500" spc="-1" strike="noStrike">
                <a:solidFill>
                  <a:srgbClr val="ffffff"/>
                </a:solidFill>
                <a:latin typeface="Calibri"/>
                <a:ea typeface="HGP創英角ｺﾞｼｯｸUB"/>
              </a:rPr>
              <a:t>いまならオイル交換が２０％</a:t>
            </a:r>
            <a:r>
              <a:rPr b="0" lang="en-US" sz="11500" spc="-1" strike="noStrike">
                <a:solidFill>
                  <a:srgbClr val="ffffff"/>
                </a:solidFill>
                <a:latin typeface="Calibri"/>
                <a:ea typeface="HGP創英角ｺﾞｼｯｸUB"/>
              </a:rPr>
              <a:t>OFF</a:t>
            </a:r>
            <a:r>
              <a:rPr b="0" lang="ja-JP" sz="11500" spc="-1" strike="noStrike">
                <a:solidFill>
                  <a:srgbClr val="ffffff"/>
                </a:solidFill>
                <a:latin typeface="Calibri"/>
                <a:ea typeface="HGP創英角ｺﾞｼｯｸUB"/>
              </a:rPr>
              <a:t>のチャンス</a:t>
            </a:r>
            <a:r>
              <a:rPr b="0" lang="en-US" sz="11500" spc="-1" strike="noStrike">
                <a:solidFill>
                  <a:srgbClr val="ffffff"/>
                </a:solidFill>
                <a:latin typeface="Calibri"/>
                <a:ea typeface="HGP創英角ｺﾞｼｯｸUB"/>
              </a:rPr>
              <a:t>!!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角丸四角形 28"/>
          <p:cNvSpPr/>
          <p:nvPr/>
        </p:nvSpPr>
        <p:spPr>
          <a:xfrm>
            <a:off x="9524880" y="7577280"/>
            <a:ext cx="31748400" cy="15793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実</a:t>
            </a:r>
            <a:r>
              <a:rPr b="0" lang="en-US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施</a:t>
            </a:r>
            <a:r>
              <a:rPr b="0" lang="en-US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店</a:t>
            </a:r>
            <a:r>
              <a:rPr b="0" lang="en-US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舗</a:t>
            </a:r>
            <a:r>
              <a:rPr b="0" lang="en-US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順</a:t>
            </a:r>
            <a:r>
              <a:rPr b="0" lang="en-US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次</a:t>
            </a:r>
            <a:r>
              <a:rPr b="0" lang="en-US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拡</a:t>
            </a:r>
            <a:r>
              <a:rPr b="0" lang="en-US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大</a:t>
            </a:r>
            <a:r>
              <a:rPr b="0" lang="en-US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中</a:t>
            </a:r>
            <a:r>
              <a:rPr b="0" lang="en-US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!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30" descr="oil_01.png"/>
          <p:cNvPicPr/>
          <p:nvPr/>
        </p:nvPicPr>
        <p:blipFill>
          <a:blip r:embed="rId2"/>
          <a:stretch/>
        </p:blipFill>
        <p:spPr>
          <a:xfrm>
            <a:off x="1160640" y="973080"/>
            <a:ext cx="7645320" cy="8888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6" name="正方形/長方形 31"/>
          <p:cNvSpPr/>
          <p:nvPr/>
        </p:nvSpPr>
        <p:spPr>
          <a:xfrm>
            <a:off x="9524880" y="3446640"/>
            <a:ext cx="329770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ja-JP" sz="26000" spc="-1" strike="noStrike">
                <a:solidFill>
                  <a:srgbClr val="ffff00"/>
                </a:solidFill>
                <a:latin typeface="Calibri"/>
                <a:ea typeface="HGP創英角ｺﾞｼｯｸUB"/>
              </a:rPr>
              <a:t>オイル交換キャンペーン</a:t>
            </a:r>
            <a:endParaRPr b="0" lang="en-US" sz="2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深田 龍</cp:lastModifiedBy>
  <dcterms:modified xsi:type="dcterms:W3CDTF">2013-02-14T07:46:27Z</dcterms:modified>
  <cp:revision>12</cp:revision>
  <dc:subject/>
  <dc:title>PowerPoint プレゼンテーション</dc:title>
</cp:coreProperties>
</file>