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FF9-EEB2-400D-A10B-2C9052ED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C72-81E1-4107-A952-AF24985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441-6742-4DD4-A360-0CF9BABC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895-320D-4D47-A873-70EE0D1F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09C-443F-49D3-B4D2-F0A6674B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453-2E05-403E-BA4E-5E651792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AE0-BBE5-41CC-819E-F1A5F969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C1C-0EBC-4DF1-BD8D-A172683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E40-F131-4FE1-BB30-645CA4B1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9A5-ACF3-4403-8FC8-96734212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B9B-6338-4EB7-99A7-17A525A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4BD-6295-4EAE-BB2D-2480C07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94C-5608-43EF-9E4C-49863E02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7620120" cy="1101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41"/>
          <p:cNvSpPr/>
          <p:nvPr/>
        </p:nvSpPr>
        <p:spPr>
          <a:xfrm>
            <a:off x="468360" y="465120"/>
            <a:ext cx="6683400" cy="8928000"/>
          </a:xfrm>
          <a:custGeom>
            <a:avLst/>
            <a:gdLst>
              <a:gd name="textAreaLeft" fmla="*/ 0 w 6683400"/>
              <a:gd name="textAreaRight" fmla="*/ 6683760 w 6683400"/>
              <a:gd name="textAreaTop" fmla="*/ 0 h 8928000"/>
              <a:gd name="textAreaBottom" fmla="*/ 8928360 h 8928000"/>
            </a:gdLst>
            <a:ahLst/>
            <a:rect l="textAreaLeft" t="textAreaTop" r="textAreaRight" b="textAreaBottom"/>
            <a:pathLst>
              <a:path w="4893" h="4694">
                <a:moveTo>
                  <a:pt x="4893" y="4503"/>
                </a:moveTo>
                <a:lnTo>
                  <a:pt x="4893" y="4503"/>
                </a:lnTo>
                <a:lnTo>
                  <a:pt x="4893" y="4521"/>
                </a:lnTo>
                <a:lnTo>
                  <a:pt x="4890" y="4542"/>
                </a:lnTo>
                <a:lnTo>
                  <a:pt x="4884" y="4558"/>
                </a:lnTo>
                <a:lnTo>
                  <a:pt x="4878" y="4577"/>
                </a:lnTo>
                <a:lnTo>
                  <a:pt x="4871" y="4594"/>
                </a:lnTo>
                <a:lnTo>
                  <a:pt x="4861" y="4609"/>
                </a:lnTo>
                <a:lnTo>
                  <a:pt x="4849" y="4624"/>
                </a:lnTo>
                <a:lnTo>
                  <a:pt x="4837" y="4638"/>
                </a:lnTo>
                <a:lnTo>
                  <a:pt x="4824" y="4650"/>
                </a:lnTo>
                <a:lnTo>
                  <a:pt x="4808" y="4662"/>
                </a:lnTo>
                <a:lnTo>
                  <a:pt x="4793" y="4670"/>
                </a:lnTo>
                <a:lnTo>
                  <a:pt x="4776" y="4679"/>
                </a:lnTo>
                <a:lnTo>
                  <a:pt x="4759" y="4685"/>
                </a:lnTo>
                <a:lnTo>
                  <a:pt x="4741" y="4690"/>
                </a:lnTo>
                <a:lnTo>
                  <a:pt x="4722" y="4694"/>
                </a:lnTo>
                <a:lnTo>
                  <a:pt x="4702" y="4694"/>
                </a:lnTo>
                <a:lnTo>
                  <a:pt x="191" y="4694"/>
                </a:lnTo>
                <a:lnTo>
                  <a:pt x="173" y="4694"/>
                </a:lnTo>
                <a:lnTo>
                  <a:pt x="154" y="4690"/>
                </a:lnTo>
                <a:lnTo>
                  <a:pt x="135" y="4685"/>
                </a:lnTo>
                <a:lnTo>
                  <a:pt x="117" y="4679"/>
                </a:lnTo>
                <a:lnTo>
                  <a:pt x="100" y="4670"/>
                </a:lnTo>
                <a:lnTo>
                  <a:pt x="85" y="4662"/>
                </a:lnTo>
                <a:lnTo>
                  <a:pt x="69" y="4650"/>
                </a:lnTo>
                <a:lnTo>
                  <a:pt x="56" y="4638"/>
                </a:lnTo>
                <a:lnTo>
                  <a:pt x="44" y="4624"/>
                </a:lnTo>
                <a:lnTo>
                  <a:pt x="32" y="4609"/>
                </a:lnTo>
                <a:lnTo>
                  <a:pt x="24" y="4594"/>
                </a:lnTo>
                <a:lnTo>
                  <a:pt x="15" y="4577"/>
                </a:lnTo>
                <a:lnTo>
                  <a:pt x="9" y="4558"/>
                </a:lnTo>
                <a:lnTo>
                  <a:pt x="3" y="4542"/>
                </a:lnTo>
                <a:lnTo>
                  <a:pt x="2" y="4521"/>
                </a:lnTo>
                <a:lnTo>
                  <a:pt x="0" y="4503"/>
                </a:lnTo>
                <a:lnTo>
                  <a:pt x="0" y="191"/>
                </a:lnTo>
                <a:lnTo>
                  <a:pt x="2" y="173"/>
                </a:lnTo>
                <a:lnTo>
                  <a:pt x="3" y="154"/>
                </a:lnTo>
                <a:lnTo>
                  <a:pt x="9" y="136"/>
                </a:lnTo>
                <a:lnTo>
                  <a:pt x="15" y="117"/>
                </a:lnTo>
                <a:lnTo>
                  <a:pt x="24" y="100"/>
                </a:lnTo>
                <a:lnTo>
                  <a:pt x="32" y="85"/>
                </a:lnTo>
                <a:lnTo>
                  <a:pt x="44" y="70"/>
                </a:lnTo>
                <a:lnTo>
                  <a:pt x="56" y="56"/>
                </a:lnTo>
                <a:lnTo>
                  <a:pt x="69" y="44"/>
                </a:lnTo>
                <a:lnTo>
                  <a:pt x="85" y="32"/>
                </a:lnTo>
                <a:lnTo>
                  <a:pt x="100" y="24"/>
                </a:lnTo>
                <a:lnTo>
                  <a:pt x="117" y="15"/>
                </a:lnTo>
                <a:lnTo>
                  <a:pt x="135" y="9"/>
                </a:lnTo>
                <a:lnTo>
                  <a:pt x="154" y="4"/>
                </a:lnTo>
                <a:lnTo>
                  <a:pt x="173" y="0"/>
                </a:lnTo>
                <a:lnTo>
                  <a:pt x="191" y="0"/>
                </a:lnTo>
                <a:lnTo>
                  <a:pt x="4702" y="0"/>
                </a:lnTo>
                <a:lnTo>
                  <a:pt x="4722" y="0"/>
                </a:lnTo>
                <a:lnTo>
                  <a:pt x="4741" y="4"/>
                </a:lnTo>
                <a:lnTo>
                  <a:pt x="4759" y="9"/>
                </a:lnTo>
                <a:lnTo>
                  <a:pt x="4776" y="15"/>
                </a:lnTo>
                <a:lnTo>
                  <a:pt x="4793" y="24"/>
                </a:lnTo>
                <a:lnTo>
                  <a:pt x="4808" y="32"/>
                </a:lnTo>
                <a:lnTo>
                  <a:pt x="4824" y="44"/>
                </a:lnTo>
                <a:lnTo>
                  <a:pt x="4837" y="56"/>
                </a:lnTo>
                <a:lnTo>
                  <a:pt x="4849" y="70"/>
                </a:lnTo>
                <a:lnTo>
                  <a:pt x="4861" y="85"/>
                </a:lnTo>
                <a:lnTo>
                  <a:pt x="4871" y="100"/>
                </a:lnTo>
                <a:lnTo>
                  <a:pt x="4878" y="117"/>
                </a:lnTo>
                <a:lnTo>
                  <a:pt x="4884" y="136"/>
                </a:lnTo>
                <a:lnTo>
                  <a:pt x="4890" y="154"/>
                </a:lnTo>
                <a:lnTo>
                  <a:pt x="4893" y="173"/>
                </a:lnTo>
                <a:lnTo>
                  <a:pt x="4893" y="191"/>
                </a:lnTo>
                <a:lnTo>
                  <a:pt x="4893" y="4503"/>
                </a:lnTo>
                <a:close/>
              </a:path>
            </a:pathLst>
          </a:custGeom>
          <a:solidFill>
            <a:srgbClr val="007d32"/>
          </a:solid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図 8" descr="お酒.png"/>
          <p:cNvPicPr/>
          <p:nvPr/>
        </p:nvPicPr>
        <p:blipFill>
          <a:blip r:embed="rId1"/>
          <a:stretch/>
        </p:blipFill>
        <p:spPr>
          <a:xfrm>
            <a:off x="915840" y="825480"/>
            <a:ext cx="5780160" cy="5425920"/>
          </a:xfrm>
          <a:prstGeom prst="rect">
            <a:avLst/>
          </a:prstGeom>
          <a:ln w="0">
            <a:noFill/>
          </a:ln>
        </p:spPr>
      </p:pic>
      <p:sp>
        <p:nvSpPr>
          <p:cNvPr id="44" name="直線コネクタ 10"/>
          <p:cNvSpPr/>
          <p:nvPr/>
        </p:nvSpPr>
        <p:spPr>
          <a:xfrm>
            <a:off x="439560" y="6442200"/>
            <a:ext cx="6740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図 12" descr="20.png"/>
          <p:cNvPicPr/>
          <p:nvPr/>
        </p:nvPicPr>
        <p:blipFill>
          <a:blip r:embed="rId2"/>
          <a:stretch/>
        </p:blipFill>
        <p:spPr>
          <a:xfrm>
            <a:off x="716040" y="6800760"/>
            <a:ext cx="617832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4"/>
          <p:cNvSpPr/>
          <p:nvPr/>
        </p:nvSpPr>
        <p:spPr>
          <a:xfrm>
            <a:off x="1620720" y="9753480"/>
            <a:ext cx="45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Times New Roman"/>
              </a:rPr>
              <a:t>リカーショップ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ja-JP" sz="4800" spc="-1" strike="noStrike">
                <a:solidFill>
                  <a:srgbClr val="ffffff"/>
                </a:solidFill>
                <a:latin typeface="Times New Roman"/>
              </a:rPr>
              <a:t>エコク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株式会社ジーン macpro2</cp:lastModifiedBy>
  <cp:lastPrinted>2013-02-13T07:33:39Z</cp:lastPrinted>
  <dcterms:modified xsi:type="dcterms:W3CDTF">2013-02-13T10:13:19Z</dcterms:modified>
  <cp:revision>44</cp:revision>
  <dc:subject/>
  <dc:title>PowerPoint プレゼンテーション</dc:title>
</cp:coreProperties>
</file>