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5530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685440"/>
            <a:ext cx="48326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4DE-5307-47FD-B428-EBDBEA20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A96-CA53-4A90-9F68-B5020774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12680" y="685800"/>
            <a:ext cx="48326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846-6B2B-4BD3-B106-8F4131FC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95900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70760"/>
            <a:ext cx="95900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04A-5FC5-48B6-9B6C-24ED001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7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7076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7160" y="437076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8D6-666A-488E-84CB-FA6E4168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5680" y="176364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18200" y="176364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7076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5680" y="437076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18200" y="4370760"/>
            <a:ext cx="3087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5E2-32EF-4A53-A3D1-96B39FEA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763640"/>
            <a:ext cx="95900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E87-88BC-4E38-BFCD-22EDF99B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95900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84F-E7F6-40E5-B587-3922D35C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4679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7160" y="1763640"/>
            <a:ext cx="4679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E64-F6A6-4ADF-A69F-8B9A2255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36F-2350-416E-BC70-773783B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03120"/>
            <a:ext cx="95900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C21-C4C5-4504-B342-7D7B062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7160" y="1763640"/>
            <a:ext cx="4679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7076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9D4-3547-4865-A0F4-955FBF8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4679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7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7160" y="437076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402-27E9-4A2A-A350-3612D93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7160" y="1763640"/>
            <a:ext cx="4679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70760"/>
            <a:ext cx="95900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0C1-1D6E-4ADE-974C-CB8F72B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95900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63640"/>
            <a:ext cx="95900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885000"/>
            <a:ext cx="248580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1400" y="6885000"/>
            <a:ext cx="337356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37400" y="6885000"/>
            <a:ext cx="248616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17E-B923-4499-ACB9-92EFFB4163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0" y="-14400"/>
            <a:ext cx="10665000" cy="75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2600" y="-1440"/>
            <a:ext cx="10639440" cy="7549920"/>
          </a:xfrm>
          <a:prstGeom prst="pie">
            <a:avLst/>
          </a:prstGeom>
          <a:solidFill>
            <a:srgbClr val="fefefc"/>
          </a:solidFill>
          <a:ln w="126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200240" y="2757600"/>
            <a:ext cx="9039240" cy="4575240"/>
          </a:xfrm>
          <a:prstGeom prst="pie">
            <a:avLst/>
          </a:prstGeom>
          <a:solidFill>
            <a:srgbClr val="175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1857240" y="6367320"/>
            <a:ext cx="1352520" cy="18108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2066760" y="4729320"/>
            <a:ext cx="1349640" cy="1807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2273400" y="3090960"/>
            <a:ext cx="1349280" cy="1807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1574640" y="5043600"/>
            <a:ext cx="324000" cy="11905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3375000" y="5043600"/>
            <a:ext cx="32688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1781280" y="3405240"/>
            <a:ext cx="323640" cy="11905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3581280" y="3405240"/>
            <a:ext cx="32724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356000" y="6367320"/>
            <a:ext cx="1333440" cy="18108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4562640" y="4729320"/>
            <a:ext cx="1333440" cy="1807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4772160" y="3090960"/>
            <a:ext cx="1330200" cy="1807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4060800" y="5043600"/>
            <a:ext cx="32688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5864400" y="5043600"/>
            <a:ext cx="32688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4270320" y="3405240"/>
            <a:ext cx="32400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6070680" y="3405240"/>
            <a:ext cx="326880" cy="11905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6845400" y="6367320"/>
            <a:ext cx="1330200" cy="18108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4"/>
          <p:cNvSpPr/>
          <p:nvPr/>
        </p:nvSpPr>
        <p:spPr>
          <a:xfrm>
            <a:off x="7051680" y="4729320"/>
            <a:ext cx="1333440" cy="180720"/>
          </a:xfrm>
          <a:prstGeom prst="pie">
            <a:avLst/>
          </a:prstGeom>
          <a:solidFill>
            <a:srgbClr val="626060"/>
          </a:solidFill>
          <a:ln w="216000">
            <a:solidFill>
              <a:srgbClr val="62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5"/>
          <p:cNvSpPr/>
          <p:nvPr/>
        </p:nvSpPr>
        <p:spPr>
          <a:xfrm>
            <a:off x="7261200" y="3090960"/>
            <a:ext cx="1330200" cy="1807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6"/>
          <p:cNvSpPr/>
          <p:nvPr/>
        </p:nvSpPr>
        <p:spPr>
          <a:xfrm>
            <a:off x="6550200" y="5043600"/>
            <a:ext cx="32688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7"/>
          <p:cNvSpPr/>
          <p:nvPr/>
        </p:nvSpPr>
        <p:spPr>
          <a:xfrm>
            <a:off x="8353440" y="5043600"/>
            <a:ext cx="32400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8"/>
          <p:cNvSpPr/>
          <p:nvPr/>
        </p:nvSpPr>
        <p:spPr>
          <a:xfrm>
            <a:off x="6759720" y="3405240"/>
            <a:ext cx="32364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8559720" y="3405240"/>
            <a:ext cx="327240" cy="1190520"/>
          </a:xfrm>
          <a:prstGeom prst="pie">
            <a:avLst/>
          </a:prstGeom>
          <a:solidFill>
            <a:srgbClr val="f2ee2d"/>
          </a:solidFill>
          <a:ln w="216000">
            <a:solidFill>
              <a:srgbClr val="f2e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8966160" y="4741920"/>
            <a:ext cx="971640" cy="873000"/>
          </a:xfrm>
          <a:prstGeom prst="pie">
            <a:avLst/>
          </a:prstGeom>
          <a:solidFill>
            <a:srgbClr val="f2e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9013680" y="5738760"/>
            <a:ext cx="882720" cy="873000"/>
          </a:xfrm>
          <a:prstGeom prst="pie">
            <a:avLst/>
          </a:prstGeom>
          <a:solidFill>
            <a:srgbClr val="f2e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66600" y="71280"/>
            <a:ext cx="2978280" cy="2934000"/>
          </a:xfrm>
          <a:prstGeom prst="pie">
            <a:avLst/>
          </a:prstGeom>
          <a:solidFill>
            <a:srgbClr val="cb3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825480" y="655560"/>
            <a:ext cx="1231920" cy="12636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1165320" y="1855800"/>
            <a:ext cx="552240" cy="577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1612800" y="1652760"/>
            <a:ext cx="603360" cy="5871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2082960" y="1598760"/>
            <a:ext cx="247320" cy="4093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2187720" y="1557360"/>
            <a:ext cx="247680" cy="406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3200400" y="798480"/>
            <a:ext cx="870120" cy="96516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4118040" y="814320"/>
            <a:ext cx="901800" cy="9334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5442120" y="814320"/>
            <a:ext cx="1269720" cy="9334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1"/>
          <p:cNvSpPr/>
          <p:nvPr/>
        </p:nvSpPr>
        <p:spPr>
          <a:xfrm>
            <a:off x="6680160" y="798480"/>
            <a:ext cx="930240" cy="96516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2"/>
          <p:cNvSpPr/>
          <p:nvPr/>
        </p:nvSpPr>
        <p:spPr>
          <a:xfrm>
            <a:off x="7648560" y="814320"/>
            <a:ext cx="993960" cy="9334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3"/>
          <p:cNvSpPr/>
          <p:nvPr/>
        </p:nvSpPr>
        <p:spPr>
          <a:xfrm>
            <a:off x="8607600" y="814320"/>
            <a:ext cx="784080" cy="9334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9464760" y="798480"/>
            <a:ext cx="736560" cy="96516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5"/>
          <p:cNvSpPr/>
          <p:nvPr/>
        </p:nvSpPr>
        <p:spPr>
          <a:xfrm>
            <a:off x="3327480" y="1884240"/>
            <a:ext cx="253800" cy="2635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6"/>
          <p:cNvSpPr/>
          <p:nvPr/>
        </p:nvSpPr>
        <p:spPr>
          <a:xfrm>
            <a:off x="3603600" y="1890720"/>
            <a:ext cx="270000" cy="2509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7"/>
          <p:cNvSpPr/>
          <p:nvPr/>
        </p:nvSpPr>
        <p:spPr>
          <a:xfrm>
            <a:off x="3921120" y="1890720"/>
            <a:ext cx="282600" cy="27000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8"/>
          <p:cNvSpPr/>
          <p:nvPr/>
        </p:nvSpPr>
        <p:spPr>
          <a:xfrm>
            <a:off x="4273560" y="1859040"/>
            <a:ext cx="311040" cy="2728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9"/>
          <p:cNvSpPr/>
          <p:nvPr/>
        </p:nvSpPr>
        <p:spPr>
          <a:xfrm>
            <a:off x="4616280" y="1884240"/>
            <a:ext cx="301680" cy="27324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0"/>
          <p:cNvSpPr/>
          <p:nvPr/>
        </p:nvSpPr>
        <p:spPr>
          <a:xfrm>
            <a:off x="4943520" y="1890720"/>
            <a:ext cx="237960" cy="2509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1"/>
          <p:cNvSpPr/>
          <p:nvPr/>
        </p:nvSpPr>
        <p:spPr>
          <a:xfrm>
            <a:off x="5210280" y="1884240"/>
            <a:ext cx="234720" cy="2635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5816520" y="1890720"/>
            <a:ext cx="270000" cy="2509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6130800" y="1874880"/>
            <a:ext cx="273240" cy="2887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4"/>
          <p:cNvSpPr/>
          <p:nvPr/>
        </p:nvSpPr>
        <p:spPr>
          <a:xfrm>
            <a:off x="6458040" y="1868400"/>
            <a:ext cx="288720" cy="2890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5"/>
          <p:cNvSpPr/>
          <p:nvPr/>
        </p:nvSpPr>
        <p:spPr>
          <a:xfrm>
            <a:off x="6829560" y="1855800"/>
            <a:ext cx="314280" cy="30780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6"/>
          <p:cNvSpPr/>
          <p:nvPr/>
        </p:nvSpPr>
        <p:spPr>
          <a:xfrm>
            <a:off x="7143840" y="1871640"/>
            <a:ext cx="333360" cy="29196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7"/>
          <p:cNvSpPr/>
          <p:nvPr/>
        </p:nvSpPr>
        <p:spPr>
          <a:xfrm>
            <a:off x="7493040" y="1874880"/>
            <a:ext cx="330120" cy="28872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8"/>
          <p:cNvSpPr/>
          <p:nvPr/>
        </p:nvSpPr>
        <p:spPr>
          <a:xfrm>
            <a:off x="7839000" y="1871640"/>
            <a:ext cx="333360" cy="29196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9"/>
          <p:cNvSpPr/>
          <p:nvPr/>
        </p:nvSpPr>
        <p:spPr>
          <a:xfrm>
            <a:off x="8191440" y="1865160"/>
            <a:ext cx="345960" cy="3016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0"/>
          <p:cNvSpPr/>
          <p:nvPr/>
        </p:nvSpPr>
        <p:spPr>
          <a:xfrm>
            <a:off x="8553600" y="1871640"/>
            <a:ext cx="320400" cy="29520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1"/>
          <p:cNvSpPr/>
          <p:nvPr/>
        </p:nvSpPr>
        <p:spPr>
          <a:xfrm>
            <a:off x="3292560" y="2293920"/>
            <a:ext cx="1155600" cy="33984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2"/>
          <p:cNvSpPr/>
          <p:nvPr/>
        </p:nvSpPr>
        <p:spPr>
          <a:xfrm>
            <a:off x="3556080" y="2354400"/>
            <a:ext cx="16812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3"/>
          <p:cNvSpPr/>
          <p:nvPr/>
        </p:nvSpPr>
        <p:spPr>
          <a:xfrm>
            <a:off x="3743280" y="2354400"/>
            <a:ext cx="23832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4"/>
          <p:cNvSpPr/>
          <p:nvPr/>
        </p:nvSpPr>
        <p:spPr>
          <a:xfrm>
            <a:off x="4003560" y="2354400"/>
            <a:ext cx="17460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5"/>
          <p:cNvSpPr/>
          <p:nvPr/>
        </p:nvSpPr>
        <p:spPr>
          <a:xfrm>
            <a:off x="4498920" y="2293920"/>
            <a:ext cx="1523880" cy="33984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6"/>
          <p:cNvSpPr/>
          <p:nvPr/>
        </p:nvSpPr>
        <p:spPr>
          <a:xfrm>
            <a:off x="4902120" y="2370240"/>
            <a:ext cx="216000" cy="1778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7"/>
          <p:cNvSpPr/>
          <p:nvPr/>
        </p:nvSpPr>
        <p:spPr>
          <a:xfrm>
            <a:off x="5156280" y="2360520"/>
            <a:ext cx="222120" cy="2066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8"/>
          <p:cNvSpPr/>
          <p:nvPr/>
        </p:nvSpPr>
        <p:spPr>
          <a:xfrm>
            <a:off x="5419800" y="2373480"/>
            <a:ext cx="183960" cy="1746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9"/>
          <p:cNvSpPr/>
          <p:nvPr/>
        </p:nvSpPr>
        <p:spPr>
          <a:xfrm>
            <a:off x="6086520" y="2293920"/>
            <a:ext cx="1523880" cy="33984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0"/>
          <p:cNvSpPr/>
          <p:nvPr/>
        </p:nvSpPr>
        <p:spPr>
          <a:xfrm>
            <a:off x="6315120" y="2354400"/>
            <a:ext cx="18108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1"/>
          <p:cNvSpPr/>
          <p:nvPr/>
        </p:nvSpPr>
        <p:spPr>
          <a:xfrm>
            <a:off x="6531120" y="2354400"/>
            <a:ext cx="17460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2"/>
          <p:cNvSpPr/>
          <p:nvPr/>
        </p:nvSpPr>
        <p:spPr>
          <a:xfrm>
            <a:off x="6737400" y="2354400"/>
            <a:ext cx="171360" cy="199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3"/>
          <p:cNvSpPr/>
          <p:nvPr/>
        </p:nvSpPr>
        <p:spPr>
          <a:xfrm>
            <a:off x="6940440" y="2344680"/>
            <a:ext cx="216000" cy="2253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4"/>
          <p:cNvSpPr/>
          <p:nvPr/>
        </p:nvSpPr>
        <p:spPr>
          <a:xfrm>
            <a:off x="7213680" y="2332080"/>
            <a:ext cx="203040" cy="2286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5"/>
          <p:cNvSpPr/>
          <p:nvPr/>
        </p:nvSpPr>
        <p:spPr>
          <a:xfrm>
            <a:off x="7661160" y="2293920"/>
            <a:ext cx="2565360" cy="33984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6"/>
          <p:cNvSpPr/>
          <p:nvPr/>
        </p:nvSpPr>
        <p:spPr>
          <a:xfrm>
            <a:off x="7886880" y="2338560"/>
            <a:ext cx="177480" cy="2314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7"/>
          <p:cNvSpPr/>
          <p:nvPr/>
        </p:nvSpPr>
        <p:spPr>
          <a:xfrm>
            <a:off x="8115480" y="2351160"/>
            <a:ext cx="183960" cy="2160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8"/>
          <p:cNvSpPr/>
          <p:nvPr/>
        </p:nvSpPr>
        <p:spPr>
          <a:xfrm>
            <a:off x="8325000" y="2354400"/>
            <a:ext cx="183960" cy="2156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9"/>
          <p:cNvSpPr/>
          <p:nvPr/>
        </p:nvSpPr>
        <p:spPr>
          <a:xfrm>
            <a:off x="8566200" y="2344680"/>
            <a:ext cx="136440" cy="2286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0"/>
          <p:cNvSpPr/>
          <p:nvPr/>
        </p:nvSpPr>
        <p:spPr>
          <a:xfrm>
            <a:off x="8763120" y="2335320"/>
            <a:ext cx="187200" cy="2347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1"/>
          <p:cNvSpPr/>
          <p:nvPr/>
        </p:nvSpPr>
        <p:spPr>
          <a:xfrm>
            <a:off x="8991720" y="2405160"/>
            <a:ext cx="149040" cy="145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2"/>
          <p:cNvSpPr/>
          <p:nvPr/>
        </p:nvSpPr>
        <p:spPr>
          <a:xfrm>
            <a:off x="9194760" y="2351160"/>
            <a:ext cx="184320" cy="2160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3"/>
          <p:cNvSpPr/>
          <p:nvPr/>
        </p:nvSpPr>
        <p:spPr>
          <a:xfrm>
            <a:off x="9458280" y="2344680"/>
            <a:ext cx="120600" cy="2224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4"/>
          <p:cNvSpPr/>
          <p:nvPr/>
        </p:nvSpPr>
        <p:spPr>
          <a:xfrm>
            <a:off x="9620280" y="2344680"/>
            <a:ext cx="183960" cy="2253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5"/>
          <p:cNvSpPr/>
          <p:nvPr/>
        </p:nvSpPr>
        <p:spPr>
          <a:xfrm>
            <a:off x="9836280" y="2440080"/>
            <a:ext cx="187200" cy="34920"/>
          </a:xfrm>
          <a:prstGeom prst="rect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6"/>
          <p:cNvSpPr/>
          <p:nvPr/>
        </p:nvSpPr>
        <p:spPr>
          <a:xfrm>
            <a:off x="5064120" y="6786720"/>
            <a:ext cx="1355760" cy="419040"/>
          </a:xfrm>
          <a:prstGeom prst="pie">
            <a:avLst/>
          </a:prstGeom>
          <a:solidFill>
            <a:srgbClr val="194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7"/>
          <p:cNvSpPr/>
          <p:nvPr/>
        </p:nvSpPr>
        <p:spPr>
          <a:xfrm>
            <a:off x="5479920" y="6843600"/>
            <a:ext cx="863640" cy="82800"/>
          </a:xfrm>
          <a:prstGeom prst="pie">
            <a:avLst/>
          </a:prstGeom>
          <a:solidFill>
            <a:srgbClr val="f5f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8"/>
          <p:cNvSpPr/>
          <p:nvPr/>
        </p:nvSpPr>
        <p:spPr>
          <a:xfrm>
            <a:off x="5727600" y="6862680"/>
            <a:ext cx="4140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9"/>
          <p:cNvSpPr/>
          <p:nvPr/>
        </p:nvSpPr>
        <p:spPr>
          <a:xfrm>
            <a:off x="5775480" y="6878520"/>
            <a:ext cx="18720" cy="12960"/>
          </a:xfrm>
          <a:prstGeom prst="rect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0"/>
          <p:cNvSpPr/>
          <p:nvPr/>
        </p:nvSpPr>
        <p:spPr>
          <a:xfrm>
            <a:off x="5797440" y="6859440"/>
            <a:ext cx="50760" cy="5112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1"/>
          <p:cNvSpPr/>
          <p:nvPr/>
        </p:nvSpPr>
        <p:spPr>
          <a:xfrm>
            <a:off x="5854680" y="6878520"/>
            <a:ext cx="50760" cy="9720"/>
          </a:xfrm>
          <a:prstGeom prst="rect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2"/>
          <p:cNvSpPr/>
          <p:nvPr/>
        </p:nvSpPr>
        <p:spPr>
          <a:xfrm>
            <a:off x="5934240" y="6862680"/>
            <a:ext cx="47520" cy="478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3"/>
          <p:cNvSpPr/>
          <p:nvPr/>
        </p:nvSpPr>
        <p:spPr>
          <a:xfrm>
            <a:off x="5994360" y="6869160"/>
            <a:ext cx="38160" cy="4140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4"/>
          <p:cNvSpPr/>
          <p:nvPr/>
        </p:nvSpPr>
        <p:spPr>
          <a:xfrm>
            <a:off x="6048360" y="6869160"/>
            <a:ext cx="44640" cy="4140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5"/>
          <p:cNvSpPr/>
          <p:nvPr/>
        </p:nvSpPr>
        <p:spPr>
          <a:xfrm>
            <a:off x="6102360" y="6856560"/>
            <a:ext cx="54000" cy="5400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6"/>
          <p:cNvSpPr/>
          <p:nvPr/>
        </p:nvSpPr>
        <p:spPr>
          <a:xfrm>
            <a:off x="5502240" y="6967440"/>
            <a:ext cx="108000" cy="14616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7"/>
          <p:cNvSpPr/>
          <p:nvPr/>
        </p:nvSpPr>
        <p:spPr>
          <a:xfrm>
            <a:off x="5622840" y="6970680"/>
            <a:ext cx="123840" cy="13968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8"/>
          <p:cNvSpPr/>
          <p:nvPr/>
        </p:nvSpPr>
        <p:spPr>
          <a:xfrm>
            <a:off x="5737320" y="6970680"/>
            <a:ext cx="136440" cy="13968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9"/>
          <p:cNvSpPr/>
          <p:nvPr/>
        </p:nvSpPr>
        <p:spPr>
          <a:xfrm>
            <a:off x="5867280" y="6967440"/>
            <a:ext cx="104760" cy="14616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0"/>
          <p:cNvSpPr/>
          <p:nvPr/>
        </p:nvSpPr>
        <p:spPr>
          <a:xfrm>
            <a:off x="5978520" y="6970680"/>
            <a:ext cx="101520" cy="13968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1"/>
          <p:cNvSpPr/>
          <p:nvPr/>
        </p:nvSpPr>
        <p:spPr>
          <a:xfrm>
            <a:off x="6070680" y="6970680"/>
            <a:ext cx="149040" cy="13968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2"/>
          <p:cNvSpPr/>
          <p:nvPr/>
        </p:nvSpPr>
        <p:spPr>
          <a:xfrm>
            <a:off x="6229440" y="6970680"/>
            <a:ext cx="95040" cy="139680"/>
          </a:xfrm>
          <a:prstGeom prst="pie">
            <a:avLst/>
          </a:prstGeom>
          <a:solidFill>
            <a:srgbClr val="fefefc"/>
          </a:solidFill>
          <a:ln w="25560">
            <a:solidFill>
              <a:srgbClr val="f5f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3"/>
          <p:cNvSpPr/>
          <p:nvPr/>
        </p:nvSpPr>
        <p:spPr>
          <a:xfrm>
            <a:off x="5502240" y="6967440"/>
            <a:ext cx="108000" cy="14616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4"/>
          <p:cNvSpPr/>
          <p:nvPr/>
        </p:nvSpPr>
        <p:spPr>
          <a:xfrm>
            <a:off x="5622840" y="6970680"/>
            <a:ext cx="123840" cy="1396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5"/>
          <p:cNvSpPr/>
          <p:nvPr/>
        </p:nvSpPr>
        <p:spPr>
          <a:xfrm>
            <a:off x="5737320" y="6970680"/>
            <a:ext cx="136440" cy="1396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6"/>
          <p:cNvSpPr/>
          <p:nvPr/>
        </p:nvSpPr>
        <p:spPr>
          <a:xfrm>
            <a:off x="5867280" y="6967440"/>
            <a:ext cx="104760" cy="14616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7"/>
          <p:cNvSpPr/>
          <p:nvPr/>
        </p:nvSpPr>
        <p:spPr>
          <a:xfrm>
            <a:off x="5978520" y="6970680"/>
            <a:ext cx="101520" cy="1396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8"/>
          <p:cNvSpPr/>
          <p:nvPr/>
        </p:nvSpPr>
        <p:spPr>
          <a:xfrm>
            <a:off x="6070680" y="6970680"/>
            <a:ext cx="149040" cy="1396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9"/>
          <p:cNvSpPr/>
          <p:nvPr/>
        </p:nvSpPr>
        <p:spPr>
          <a:xfrm>
            <a:off x="6229440" y="6970680"/>
            <a:ext cx="95040" cy="13968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0"/>
          <p:cNvSpPr/>
          <p:nvPr/>
        </p:nvSpPr>
        <p:spPr>
          <a:xfrm>
            <a:off x="5140440" y="6837480"/>
            <a:ext cx="307800" cy="288720"/>
          </a:xfrm>
          <a:prstGeom prst="pie">
            <a:avLst/>
          </a:prstGeom>
          <a:solidFill>
            <a:srgbClr val="f5f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1"/>
          <p:cNvSpPr/>
          <p:nvPr/>
        </p:nvSpPr>
        <p:spPr>
          <a:xfrm>
            <a:off x="5340240" y="7012080"/>
            <a:ext cx="25560" cy="2196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2"/>
          <p:cNvSpPr/>
          <p:nvPr/>
        </p:nvSpPr>
        <p:spPr>
          <a:xfrm>
            <a:off x="5340240" y="7012080"/>
            <a:ext cx="25560" cy="21960"/>
          </a:xfrm>
          <a:prstGeom prst="pie">
            <a:avLst/>
          </a:prstGeom>
          <a:noFill/>
          <a:ln w="648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3"/>
          <p:cNvSpPr/>
          <p:nvPr/>
        </p:nvSpPr>
        <p:spPr>
          <a:xfrm>
            <a:off x="5222880" y="7012080"/>
            <a:ext cx="25560" cy="2196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4"/>
          <p:cNvSpPr/>
          <p:nvPr/>
        </p:nvSpPr>
        <p:spPr>
          <a:xfrm>
            <a:off x="5222880" y="7012080"/>
            <a:ext cx="25560" cy="21960"/>
          </a:xfrm>
          <a:prstGeom prst="pie">
            <a:avLst/>
          </a:prstGeom>
          <a:noFill/>
          <a:ln w="648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5"/>
          <p:cNvSpPr/>
          <p:nvPr/>
        </p:nvSpPr>
        <p:spPr>
          <a:xfrm>
            <a:off x="5165640" y="6865920"/>
            <a:ext cx="95400" cy="12060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6"/>
          <p:cNvSpPr/>
          <p:nvPr/>
        </p:nvSpPr>
        <p:spPr>
          <a:xfrm>
            <a:off x="5327640" y="6865920"/>
            <a:ext cx="95400" cy="12060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7" descr=""/>
          <p:cNvPicPr/>
          <p:nvPr/>
        </p:nvPicPr>
        <p:blipFill>
          <a:blip r:embed="rId1"/>
          <a:stretch/>
        </p:blipFill>
        <p:spPr>
          <a:xfrm>
            <a:off x="5181480" y="6859440"/>
            <a:ext cx="219240" cy="17172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118"/>
          <p:cNvSpPr/>
          <p:nvPr/>
        </p:nvSpPr>
        <p:spPr>
          <a:xfrm>
            <a:off x="5197320" y="6872400"/>
            <a:ext cx="193680" cy="142920"/>
          </a:xfrm>
          <a:prstGeom prst="pie">
            <a:avLst/>
          </a:prstGeom>
          <a:noFill/>
          <a:ln w="324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9" descr=""/>
          <p:cNvPicPr/>
          <p:nvPr/>
        </p:nvPicPr>
        <p:blipFill>
          <a:blip r:embed="rId2"/>
          <a:stretch/>
        </p:blipFill>
        <p:spPr>
          <a:xfrm>
            <a:off x="5226120" y="6907320"/>
            <a:ext cx="133200" cy="5688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120"/>
          <p:cNvSpPr/>
          <p:nvPr/>
        </p:nvSpPr>
        <p:spPr>
          <a:xfrm>
            <a:off x="5241960" y="6923160"/>
            <a:ext cx="101520" cy="6120"/>
          </a:xfrm>
          <a:prstGeom prst="pie">
            <a:avLst/>
          </a:prstGeom>
          <a:noFill/>
          <a:ln w="324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1"/>
          <p:cNvSpPr/>
          <p:nvPr/>
        </p:nvSpPr>
        <p:spPr>
          <a:xfrm>
            <a:off x="5248440" y="6891480"/>
            <a:ext cx="21960" cy="21960"/>
          </a:xfrm>
          <a:prstGeom prst="pie">
            <a:avLst/>
          </a:prstGeom>
          <a:solidFill>
            <a:srgbClr val="fefefc"/>
          </a:solidFill>
          <a:ln w="324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2"/>
          <p:cNvSpPr/>
          <p:nvPr/>
        </p:nvSpPr>
        <p:spPr>
          <a:xfrm>
            <a:off x="5257800" y="6897600"/>
            <a:ext cx="12600" cy="1296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3"/>
          <p:cNvSpPr/>
          <p:nvPr/>
        </p:nvSpPr>
        <p:spPr>
          <a:xfrm>
            <a:off x="5318280" y="6891480"/>
            <a:ext cx="21960" cy="21960"/>
          </a:xfrm>
          <a:prstGeom prst="pie">
            <a:avLst/>
          </a:prstGeom>
          <a:solidFill>
            <a:srgbClr val="fefefc"/>
          </a:solidFill>
          <a:ln w="3240">
            <a:solidFill>
              <a:srgbClr val="0f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4"/>
          <p:cNvSpPr/>
          <p:nvPr/>
        </p:nvSpPr>
        <p:spPr>
          <a:xfrm>
            <a:off x="5330880" y="6897600"/>
            <a:ext cx="9360" cy="1296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5"/>
          <p:cNvSpPr/>
          <p:nvPr/>
        </p:nvSpPr>
        <p:spPr>
          <a:xfrm>
            <a:off x="5283360" y="6913440"/>
            <a:ext cx="21960" cy="19080"/>
          </a:xfrm>
          <a:prstGeom prst="pie">
            <a:avLst/>
          </a:prstGeom>
          <a:solidFill>
            <a:srgbClr val="0f0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6"/>
          <p:cNvSpPr/>
          <p:nvPr/>
        </p:nvSpPr>
        <p:spPr>
          <a:xfrm>
            <a:off x="5295960" y="6916680"/>
            <a:ext cx="6120" cy="32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7"/>
          <p:cNvSpPr/>
          <p:nvPr/>
        </p:nvSpPr>
        <p:spPr>
          <a:xfrm>
            <a:off x="5264280" y="6897600"/>
            <a:ext cx="2880" cy="64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8"/>
          <p:cNvSpPr/>
          <p:nvPr/>
        </p:nvSpPr>
        <p:spPr>
          <a:xfrm>
            <a:off x="5334120" y="6897600"/>
            <a:ext cx="6120" cy="64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9"/>
          <p:cNvSpPr/>
          <p:nvPr/>
        </p:nvSpPr>
        <p:spPr>
          <a:xfrm>
            <a:off x="5168880" y="7053120"/>
            <a:ext cx="3492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0"/>
          <p:cNvSpPr/>
          <p:nvPr/>
        </p:nvSpPr>
        <p:spPr>
          <a:xfrm>
            <a:off x="5207040" y="7053120"/>
            <a:ext cx="3816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1"/>
          <p:cNvSpPr/>
          <p:nvPr/>
        </p:nvSpPr>
        <p:spPr>
          <a:xfrm>
            <a:off x="5241960" y="7053120"/>
            <a:ext cx="4428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2"/>
          <p:cNvSpPr/>
          <p:nvPr/>
        </p:nvSpPr>
        <p:spPr>
          <a:xfrm>
            <a:off x="5283360" y="7053120"/>
            <a:ext cx="3168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3"/>
          <p:cNvSpPr/>
          <p:nvPr/>
        </p:nvSpPr>
        <p:spPr>
          <a:xfrm>
            <a:off x="5318280" y="7053120"/>
            <a:ext cx="3168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4"/>
          <p:cNvSpPr/>
          <p:nvPr/>
        </p:nvSpPr>
        <p:spPr>
          <a:xfrm>
            <a:off x="5346720" y="7053120"/>
            <a:ext cx="4752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5"/>
          <p:cNvSpPr/>
          <p:nvPr/>
        </p:nvSpPr>
        <p:spPr>
          <a:xfrm>
            <a:off x="5394240" y="7053120"/>
            <a:ext cx="31680" cy="44640"/>
          </a:xfrm>
          <a:prstGeom prst="pie">
            <a:avLst/>
          </a:prstGeom>
          <a:solidFill>
            <a:srgbClr val="1d6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4:35Z</dcterms:created>
  <dc:creator>NEC-PCuser</dc:creator>
  <dc:description/>
  <dc:language>en-US</dc:language>
  <cp:lastModifiedBy>moosawa</cp:lastModifiedBy>
  <dcterms:modified xsi:type="dcterms:W3CDTF">2009-05-28T22:24:45Z</dcterms:modified>
  <cp:revision>1</cp:revision>
  <dc:subject/>
  <dc:title>スライド 1</dc:title>
</cp:coreProperties>
</file>