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621588" cy="11012488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194-72AA-4B1C-BA53-89AED87D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66315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69F-E7C3-4A62-913F-5D2C37D8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2BE-AC88-4692-8E31-B60E10B2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689-34C4-4FE2-BFBA-00C8C709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8CC-437A-474C-BB74-01ED17C0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FEA-45FE-499F-90C2-2247B485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0EF-4DEE-4718-8E77-399970CE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2481-590A-4311-9DD8-724CD3EF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979200"/>
            <a:ext cx="6476760" cy="85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96A-66F4-46A6-A813-A6965DCF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115-FB3C-4FBD-8A22-C4A0EF8B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B784-535B-4C64-B977-D36BB458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AAB-1BED-43F6-85E9-53E4995C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10031400"/>
            <a:ext cx="158724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10031400"/>
            <a:ext cx="241308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10031400"/>
            <a:ext cx="15876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1F82-80DB-4213-8159-90B41D8C5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seal001.jpg"/>
          <p:cNvPicPr/>
          <p:nvPr/>
        </p:nvPicPr>
        <p:blipFill>
          <a:blip r:embed="rId1"/>
          <a:stretch/>
        </p:blipFill>
        <p:spPr>
          <a:xfrm>
            <a:off x="0" y="0"/>
            <a:ext cx="7620120" cy="11010960"/>
          </a:xfrm>
          <a:prstGeom prst="rect">
            <a:avLst/>
          </a:prstGeom>
          <a:ln w="0">
            <a:noFill/>
          </a:ln>
        </p:spPr>
      </p:pic>
      <p:pic>
        <p:nvPicPr>
          <p:cNvPr id="42" name="図 5" descr=""/>
          <p:cNvPicPr/>
          <p:nvPr/>
        </p:nvPicPr>
        <p:blipFill>
          <a:blip r:embed="rId2"/>
          <a:stretch/>
        </p:blipFill>
        <p:spPr>
          <a:xfrm>
            <a:off x="2657520" y="7593120"/>
            <a:ext cx="4465440" cy="2178000"/>
          </a:xfrm>
          <a:prstGeom prst="rect">
            <a:avLst/>
          </a:prstGeom>
          <a:ln w="0">
            <a:noFill/>
          </a:ln>
        </p:spPr>
      </p:pic>
      <p:pic>
        <p:nvPicPr>
          <p:cNvPr id="43" name="図 6" descr="sale02.png"/>
          <p:cNvPicPr/>
          <p:nvPr/>
        </p:nvPicPr>
        <p:blipFill>
          <a:blip r:embed="rId3"/>
          <a:stretch/>
        </p:blipFill>
        <p:spPr>
          <a:xfrm>
            <a:off x="2370240" y="5248440"/>
            <a:ext cx="511632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4:01:00Z</dcterms:created>
  <dc:creator>ttec</dc:creator>
  <dc:description/>
  <dc:language>en-US</dc:language>
  <cp:lastModifiedBy>株式会社ジーン macpro2</cp:lastModifiedBy>
  <cp:lastPrinted>2013-02-18T11:35:47Z</cp:lastPrinted>
  <dcterms:modified xsi:type="dcterms:W3CDTF">2013-03-18T10:08:06Z</dcterms:modified>
  <cp:revision>55</cp:revision>
  <dc:subject/>
  <dc:title>PowerPoint プレゼンテーション</dc:title>
</cp:coreProperties>
</file>