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11012488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2CC-3A41-4C8D-86C2-8E82D3C8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F06-8BA8-4004-9771-558B178F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5A0-E2C6-41A3-B47F-C5B25D60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31809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631560"/>
            <a:ext cx="208512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6B1-4AC7-455D-B3BE-DB243FC8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017-3922-4A8E-9718-42C1C4D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867-C2E5-4E91-9E3A-9B2874F5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F61-477E-41BC-ACEA-2A0C8530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6D5-36AA-4A41-A26D-5A7C0D8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79200"/>
            <a:ext cx="6476760" cy="85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EFE-6423-411B-AF0D-62CC08B8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301-0F98-4E6F-844F-4038BB5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6315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5A7-12F5-4151-8E40-9B0088A4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3180960"/>
            <a:ext cx="316044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631560"/>
            <a:ext cx="6476760" cy="31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26B-E5E7-429A-9767-93B3774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79200"/>
            <a:ext cx="647676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3180960"/>
            <a:ext cx="6476760" cy="66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10031400"/>
            <a:ext cx="158724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031400"/>
            <a:ext cx="241308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10031400"/>
            <a:ext cx="15876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CEE6-71CE-4969-83DA-E16ABE80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0"/>
            <a:ext cx="7620120" cy="11010960"/>
          </a:xfrm>
          <a:prstGeom prst="rect">
            <a:avLst/>
          </a:prstGeom>
          <a:solidFill>
            <a:srgbClr val="2da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41"/>
          <p:cNvSpPr/>
          <p:nvPr/>
        </p:nvSpPr>
        <p:spPr>
          <a:xfrm>
            <a:off x="490680" y="392040"/>
            <a:ext cx="6638760" cy="8785440"/>
          </a:xfrm>
          <a:custGeom>
            <a:avLst/>
            <a:gdLst>
              <a:gd name="textAreaLeft" fmla="*/ 0 w 6638760"/>
              <a:gd name="textAreaRight" fmla="*/ 6639120 w 663876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4893" h="4694">
                <a:moveTo>
                  <a:pt x="4893" y="4503"/>
                </a:moveTo>
                <a:lnTo>
                  <a:pt x="4893" y="4503"/>
                </a:lnTo>
                <a:lnTo>
                  <a:pt x="4893" y="4521"/>
                </a:lnTo>
                <a:lnTo>
                  <a:pt x="4890" y="4542"/>
                </a:lnTo>
                <a:lnTo>
                  <a:pt x="4884" y="4558"/>
                </a:lnTo>
                <a:lnTo>
                  <a:pt x="4878" y="4577"/>
                </a:lnTo>
                <a:lnTo>
                  <a:pt x="4871" y="4594"/>
                </a:lnTo>
                <a:lnTo>
                  <a:pt x="4861" y="4609"/>
                </a:lnTo>
                <a:lnTo>
                  <a:pt x="4849" y="4624"/>
                </a:lnTo>
                <a:lnTo>
                  <a:pt x="4837" y="4638"/>
                </a:lnTo>
                <a:lnTo>
                  <a:pt x="4824" y="4650"/>
                </a:lnTo>
                <a:lnTo>
                  <a:pt x="4808" y="4662"/>
                </a:lnTo>
                <a:lnTo>
                  <a:pt x="4793" y="4670"/>
                </a:lnTo>
                <a:lnTo>
                  <a:pt x="4776" y="4679"/>
                </a:lnTo>
                <a:lnTo>
                  <a:pt x="4759" y="4685"/>
                </a:lnTo>
                <a:lnTo>
                  <a:pt x="4741" y="4690"/>
                </a:lnTo>
                <a:lnTo>
                  <a:pt x="4722" y="4694"/>
                </a:lnTo>
                <a:lnTo>
                  <a:pt x="4702" y="4694"/>
                </a:lnTo>
                <a:lnTo>
                  <a:pt x="191" y="4694"/>
                </a:lnTo>
                <a:lnTo>
                  <a:pt x="173" y="4694"/>
                </a:lnTo>
                <a:lnTo>
                  <a:pt x="154" y="4690"/>
                </a:lnTo>
                <a:lnTo>
                  <a:pt x="135" y="4685"/>
                </a:lnTo>
                <a:lnTo>
                  <a:pt x="117" y="4679"/>
                </a:lnTo>
                <a:lnTo>
                  <a:pt x="100" y="4670"/>
                </a:lnTo>
                <a:lnTo>
                  <a:pt x="85" y="4662"/>
                </a:lnTo>
                <a:lnTo>
                  <a:pt x="69" y="4650"/>
                </a:lnTo>
                <a:lnTo>
                  <a:pt x="56" y="4638"/>
                </a:lnTo>
                <a:lnTo>
                  <a:pt x="44" y="4624"/>
                </a:lnTo>
                <a:lnTo>
                  <a:pt x="32" y="4609"/>
                </a:lnTo>
                <a:lnTo>
                  <a:pt x="24" y="4594"/>
                </a:lnTo>
                <a:lnTo>
                  <a:pt x="15" y="4577"/>
                </a:lnTo>
                <a:lnTo>
                  <a:pt x="9" y="4558"/>
                </a:lnTo>
                <a:lnTo>
                  <a:pt x="3" y="4542"/>
                </a:lnTo>
                <a:lnTo>
                  <a:pt x="2" y="4521"/>
                </a:lnTo>
                <a:lnTo>
                  <a:pt x="0" y="4503"/>
                </a:lnTo>
                <a:lnTo>
                  <a:pt x="0" y="191"/>
                </a:lnTo>
                <a:lnTo>
                  <a:pt x="2" y="173"/>
                </a:lnTo>
                <a:lnTo>
                  <a:pt x="3" y="154"/>
                </a:lnTo>
                <a:lnTo>
                  <a:pt x="9" y="136"/>
                </a:lnTo>
                <a:lnTo>
                  <a:pt x="15" y="117"/>
                </a:lnTo>
                <a:lnTo>
                  <a:pt x="24" y="100"/>
                </a:lnTo>
                <a:lnTo>
                  <a:pt x="32" y="85"/>
                </a:lnTo>
                <a:lnTo>
                  <a:pt x="44" y="70"/>
                </a:lnTo>
                <a:lnTo>
                  <a:pt x="56" y="56"/>
                </a:lnTo>
                <a:lnTo>
                  <a:pt x="69" y="44"/>
                </a:lnTo>
                <a:lnTo>
                  <a:pt x="85" y="32"/>
                </a:lnTo>
                <a:lnTo>
                  <a:pt x="100" y="24"/>
                </a:lnTo>
                <a:lnTo>
                  <a:pt x="117" y="15"/>
                </a:lnTo>
                <a:lnTo>
                  <a:pt x="135" y="9"/>
                </a:lnTo>
                <a:lnTo>
                  <a:pt x="154" y="4"/>
                </a:lnTo>
                <a:lnTo>
                  <a:pt x="173" y="0"/>
                </a:lnTo>
                <a:lnTo>
                  <a:pt x="191" y="0"/>
                </a:lnTo>
                <a:lnTo>
                  <a:pt x="4702" y="0"/>
                </a:lnTo>
                <a:lnTo>
                  <a:pt x="4722" y="0"/>
                </a:lnTo>
                <a:lnTo>
                  <a:pt x="4741" y="4"/>
                </a:lnTo>
                <a:lnTo>
                  <a:pt x="4759" y="9"/>
                </a:lnTo>
                <a:lnTo>
                  <a:pt x="4776" y="15"/>
                </a:lnTo>
                <a:lnTo>
                  <a:pt x="4793" y="24"/>
                </a:lnTo>
                <a:lnTo>
                  <a:pt x="4808" y="32"/>
                </a:lnTo>
                <a:lnTo>
                  <a:pt x="4824" y="44"/>
                </a:lnTo>
                <a:lnTo>
                  <a:pt x="4837" y="56"/>
                </a:lnTo>
                <a:lnTo>
                  <a:pt x="4849" y="70"/>
                </a:lnTo>
                <a:lnTo>
                  <a:pt x="4861" y="85"/>
                </a:lnTo>
                <a:lnTo>
                  <a:pt x="4871" y="100"/>
                </a:lnTo>
                <a:lnTo>
                  <a:pt x="4878" y="117"/>
                </a:lnTo>
                <a:lnTo>
                  <a:pt x="4884" y="136"/>
                </a:lnTo>
                <a:lnTo>
                  <a:pt x="4890" y="154"/>
                </a:lnTo>
                <a:lnTo>
                  <a:pt x="4893" y="173"/>
                </a:lnTo>
                <a:lnTo>
                  <a:pt x="4893" y="191"/>
                </a:lnTo>
                <a:lnTo>
                  <a:pt x="4893" y="4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正方形/長方形 2"/>
          <p:cNvSpPr/>
          <p:nvPr/>
        </p:nvSpPr>
        <p:spPr>
          <a:xfrm>
            <a:off x="0" y="10371240"/>
            <a:ext cx="7620120" cy="639720"/>
          </a:xfrm>
          <a:prstGeom prst="rect">
            <a:avLst/>
          </a:prstGeom>
          <a:solidFill>
            <a:srgbClr val="122a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20760"/>
                <a:tab algn="l" pos="2441520"/>
                <a:tab algn="l" pos="3662280"/>
                <a:tab algn="l" pos="4883040"/>
                <a:tab algn="l" pos="6103800"/>
                <a:tab algn="l" pos="7324560"/>
                <a:tab algn="l" pos="8545680"/>
                <a:tab algn="l" pos="9766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正方形/長方形 4"/>
          <p:cNvSpPr/>
          <p:nvPr/>
        </p:nvSpPr>
        <p:spPr>
          <a:xfrm>
            <a:off x="2391480" y="10401480"/>
            <a:ext cx="2836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Times New Roman"/>
              </a:rPr>
              <a:t>ドラッグストアー エコク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図 1" descr="レジ.png"/>
          <p:cNvPicPr/>
          <p:nvPr/>
        </p:nvPicPr>
        <p:blipFill>
          <a:blip r:embed="rId1"/>
          <a:stretch/>
        </p:blipFill>
        <p:spPr>
          <a:xfrm>
            <a:off x="1938240" y="603360"/>
            <a:ext cx="3986280" cy="8502480"/>
          </a:xfrm>
          <a:prstGeom prst="rect">
            <a:avLst/>
          </a:prstGeom>
          <a:ln w="0">
            <a:noFill/>
          </a:ln>
        </p:spPr>
      </p:pic>
      <p:pic>
        <p:nvPicPr>
          <p:cNvPr id="46" name="図 4" descr="ご協力.png"/>
          <p:cNvPicPr/>
          <p:nvPr/>
        </p:nvPicPr>
        <p:blipFill>
          <a:blip r:embed="rId2"/>
          <a:stretch/>
        </p:blipFill>
        <p:spPr>
          <a:xfrm>
            <a:off x="425520" y="9556920"/>
            <a:ext cx="684036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01:00Z</dcterms:created>
  <dc:creator>ttec</dc:creator>
  <dc:description/>
  <dc:language>en-US</dc:language>
  <cp:lastModifiedBy>株式会社ジーン macpro2</cp:lastModifiedBy>
  <cp:lastPrinted>2013-02-13T07:33:39Z</cp:lastPrinted>
  <dcterms:modified xsi:type="dcterms:W3CDTF">2013-02-13T08:39:23Z</dcterms:modified>
  <cp:revision>44</cp:revision>
  <dc:subject/>
  <dc:title>PowerPoint プレゼンテーション</dc:title>
</cp:coreProperties>
</file>