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BC3-2061-4104-B90F-7CFBB1E8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388620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9000" y="6815520"/>
            <a:ext cx="388620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5E7-3C7B-441A-A025-FF0E3506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900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254-120D-4C9E-95B9-6A7AC490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8280" y="326880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560" y="326880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9000" y="681552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8280" y="681552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560" y="681552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227-B76E-440A-90A7-BA136B67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9000" y="3268800"/>
            <a:ext cx="3886200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2FD-F023-4DB2-AE5E-27BD1EDC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388620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008-6433-4DE5-AF95-16769470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D6F-EED3-4B7F-9903-BA52F3B0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9FE-D864-4B91-9D56-5607B37D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9000" y="1006200"/>
            <a:ext cx="3886200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F17-8B21-4006-905B-997F23FD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900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0A6-4D41-4343-8E45-C5FC531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AB0-4ADF-4A40-AD6B-DD9D50D3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9000" y="6815520"/>
            <a:ext cx="388620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8C1-549D-4DA5-ACF3-E341A341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9000" y="1006200"/>
            <a:ext cx="3886200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9000" y="3268800"/>
            <a:ext cx="388620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900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1120" y="10308960"/>
            <a:ext cx="1447776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612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E18681DC-9367-40AB-B2CA-1DF522878E89}" type="slidenum"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00" cy="113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lm20_ac04003-s" descr=""/>
          <p:cNvPicPr/>
          <p:nvPr/>
        </p:nvPicPr>
        <p:blipFill>
          <a:blip r:embed="rId1"/>
          <a:stretch/>
        </p:blipFill>
        <p:spPr>
          <a:xfrm>
            <a:off x="179280" y="208080"/>
            <a:ext cx="12088800" cy="10691640"/>
          </a:xfrm>
          <a:prstGeom prst="rect">
            <a:avLst/>
          </a:prstGeom>
          <a:ln w="0">
            <a:noFill/>
          </a:ln>
        </p:spPr>
      </p:pic>
      <p:pic>
        <p:nvPicPr>
          <p:cNvPr id="43" name="FISHC115" descr=""/>
          <p:cNvPicPr/>
          <p:nvPr/>
        </p:nvPicPr>
        <p:blipFill>
          <a:blip r:embed="rId2"/>
          <a:stretch/>
        </p:blipFill>
        <p:spPr>
          <a:xfrm>
            <a:off x="24688800" y="4724280"/>
            <a:ext cx="8537400" cy="556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52440" y="914400"/>
            <a:ext cx="4746600" cy="155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3333cc"/>
                </a:solidFill>
                <a:latin typeface="Times New Roman"/>
              </a:rPr>
              <a:t>　○○名産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ONT067" descr=""/>
          <p:cNvPicPr/>
          <p:nvPr/>
        </p:nvPicPr>
        <p:blipFill>
          <a:blip r:embed="rId3"/>
          <a:stretch/>
        </p:blipFill>
        <p:spPr>
          <a:xfrm>
            <a:off x="15697080" y="1787400"/>
            <a:ext cx="10715760" cy="7739280"/>
          </a:xfrm>
          <a:prstGeom prst="rect">
            <a:avLst/>
          </a:prstGeom>
          <a:ln w="0">
            <a:noFill/>
          </a:ln>
        </p:spPr>
      </p:pic>
      <p:pic>
        <p:nvPicPr>
          <p:cNvPr id="46" name="PONT067" descr=""/>
          <p:cNvPicPr/>
          <p:nvPr/>
        </p:nvPicPr>
        <p:blipFill>
          <a:blip r:embed="rId4"/>
          <a:stretch/>
        </p:blipFill>
        <p:spPr>
          <a:xfrm>
            <a:off x="38204640" y="230040"/>
            <a:ext cx="7515360" cy="542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2666880"/>
            <a:ext cx="19506960" cy="5427720"/>
          </a:xfrm>
          <a:prstGeom prst="rect">
            <a:avLst/>
          </a:prstGeom>
          <a:noFill/>
          <a:ln w="0">
            <a:noFill/>
          </a:ln>
          <a:effectLst>
            <a:outerShdw dist="233684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0" spc="-1" strike="noStrike">
                <a:solidFill>
                  <a:srgbClr val="000000"/>
                </a:solidFill>
                <a:latin typeface="Times New Roman"/>
                <a:ea typeface="ＤＣＰ籠文字W12"/>
              </a:rPr>
              <a:t>塩引き鮭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FUC052" descr=""/>
          <p:cNvPicPr/>
          <p:nvPr/>
        </p:nvPicPr>
        <p:blipFill>
          <a:blip r:embed="rId5"/>
          <a:stretch/>
        </p:blipFill>
        <p:spPr>
          <a:xfrm>
            <a:off x="30861000" y="-2025720"/>
            <a:ext cx="13944600" cy="1334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271960" y="8366040"/>
            <a:ext cx="932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0" spc="-1" strike="noStrike">
                <a:solidFill>
                  <a:srgbClr val="ff0000"/>
                </a:solidFill>
                <a:latin typeface="Times New Roman"/>
              </a:rPr>
              <a:t>限定予約承り中！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1:26:25Z</dcterms:created>
  <dc:creator>ttec</dc:creator>
  <dc:description/>
  <dc:language>en-US</dc:language>
  <cp:lastModifiedBy>ttec</cp:lastModifiedBy>
  <dcterms:modified xsi:type="dcterms:W3CDTF">2011-11-10T01:46:46Z</dcterms:modified>
  <cp:revision>7</cp:revision>
  <dc:subject/>
  <dc:title>PowerPoint プレゼンテーション</dc:title>
</cp:coreProperties>
</file>