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602-92AC-422A-8276-9949397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2EB-9AE2-4FE1-B57D-1F5A092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033-BE33-4E29-B0C6-E8492A79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E7B-5BF9-4399-98D9-7CA139F7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24A-FE30-47C5-A9DF-E1A2CA7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02E-1331-4A2B-AE5D-7517532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B7-BEFB-4021-B56C-92399156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C40-51CB-44D0-89F4-195646B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005-257D-4AC6-8941-8542BDD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40C-61A5-4405-9891-824D7EE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D07-7F0A-48EF-8401-E28CFAB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E07-EDDA-41CA-8C13-D64B731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F2749EF8-2D26-49D2-8559-D676670DECC2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3240" y="25365240"/>
            <a:ext cx="10693440" cy="17840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440" y="-144360"/>
            <a:ext cx="10804680" cy="6035400"/>
          </a:xfrm>
          <a:prstGeom prst="rect">
            <a:avLst/>
          </a:pr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440" y="42271920"/>
            <a:ext cx="10807920" cy="1241280"/>
          </a:xfrm>
          <a:prstGeom prst="rect">
            <a:avLst/>
          </a:prstGeom>
          <a:solidFill>
            <a:srgbClr val="8f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10"/>
          <p:cNvGrpSpPr/>
          <p:nvPr/>
        </p:nvGrpSpPr>
        <p:grpSpPr>
          <a:xfrm>
            <a:off x="-2575080" y="12985920"/>
            <a:ext cx="15986520" cy="16560720"/>
            <a:chOff x="-2575080" y="12985920"/>
            <a:chExt cx="15986520" cy="16560720"/>
          </a:xfrm>
        </p:grpSpPr>
        <p:sp>
          <p:nvSpPr>
            <p:cNvPr id="45" name="Freeform 7"/>
            <p:cNvSpPr/>
            <p:nvPr/>
          </p:nvSpPr>
          <p:spPr>
            <a:xfrm>
              <a:off x="-2514600" y="13168440"/>
              <a:ext cx="15926040" cy="16378200"/>
            </a:xfrm>
            <a:custGeom>
              <a:avLst/>
              <a:gdLst>
                <a:gd name="textAreaLeft" fmla="*/ 0 w 15926040"/>
                <a:gd name="textAreaRight" fmla="*/ 15926400 w 15926040"/>
                <a:gd name="textAreaTop" fmla="*/ 0 h 16378200"/>
                <a:gd name="textAreaBottom" fmla="*/ 16378560 h 16378200"/>
              </a:gdLst>
              <a:ahLst/>
              <a:rect l="textAreaLeft" t="textAreaTop" r="textAreaRight" b="textAreaBottom"/>
              <a:pathLst>
                <a:path w="10032" h="10317">
                  <a:moveTo>
                    <a:pt x="362" y="6084"/>
                  </a:moveTo>
                  <a:lnTo>
                    <a:pt x="362" y="6084"/>
                  </a:lnTo>
                  <a:lnTo>
                    <a:pt x="391" y="6213"/>
                  </a:lnTo>
                  <a:lnTo>
                    <a:pt x="421" y="6329"/>
                  </a:lnTo>
                  <a:lnTo>
                    <a:pt x="447" y="6428"/>
                  </a:lnTo>
                  <a:lnTo>
                    <a:pt x="471" y="6513"/>
                  </a:lnTo>
                  <a:lnTo>
                    <a:pt x="496" y="6585"/>
                  </a:lnTo>
                  <a:lnTo>
                    <a:pt x="514" y="6644"/>
                  </a:lnTo>
                  <a:lnTo>
                    <a:pt x="542" y="6725"/>
                  </a:lnTo>
                  <a:lnTo>
                    <a:pt x="542" y="6725"/>
                  </a:lnTo>
                  <a:lnTo>
                    <a:pt x="554" y="6755"/>
                  </a:lnTo>
                  <a:lnTo>
                    <a:pt x="554" y="6755"/>
                  </a:lnTo>
                  <a:lnTo>
                    <a:pt x="538" y="6713"/>
                  </a:lnTo>
                  <a:lnTo>
                    <a:pt x="496" y="6583"/>
                  </a:lnTo>
                  <a:lnTo>
                    <a:pt x="496" y="6583"/>
                  </a:lnTo>
                  <a:lnTo>
                    <a:pt x="463" y="6472"/>
                  </a:lnTo>
                  <a:lnTo>
                    <a:pt x="425" y="6333"/>
                  </a:lnTo>
                  <a:lnTo>
                    <a:pt x="425" y="6333"/>
                  </a:lnTo>
                  <a:lnTo>
                    <a:pt x="393" y="6209"/>
                  </a:lnTo>
                  <a:lnTo>
                    <a:pt x="362" y="6084"/>
                  </a:lnTo>
                  <a:close/>
                  <a:moveTo>
                    <a:pt x="698" y="4342"/>
                  </a:moveTo>
                  <a:lnTo>
                    <a:pt x="698" y="4342"/>
                  </a:lnTo>
                  <a:lnTo>
                    <a:pt x="684" y="4421"/>
                  </a:lnTo>
                  <a:lnTo>
                    <a:pt x="671" y="4499"/>
                  </a:lnTo>
                  <a:lnTo>
                    <a:pt x="661" y="4580"/>
                  </a:lnTo>
                  <a:lnTo>
                    <a:pt x="651" y="4661"/>
                  </a:lnTo>
                  <a:lnTo>
                    <a:pt x="645" y="4744"/>
                  </a:lnTo>
                  <a:lnTo>
                    <a:pt x="639" y="4827"/>
                  </a:lnTo>
                  <a:lnTo>
                    <a:pt x="633" y="4910"/>
                  </a:lnTo>
                  <a:lnTo>
                    <a:pt x="631" y="4995"/>
                  </a:lnTo>
                  <a:lnTo>
                    <a:pt x="629" y="5077"/>
                  </a:lnTo>
                  <a:lnTo>
                    <a:pt x="631" y="5162"/>
                  </a:lnTo>
                  <a:lnTo>
                    <a:pt x="633" y="5247"/>
                  </a:lnTo>
                  <a:lnTo>
                    <a:pt x="635" y="5332"/>
                  </a:lnTo>
                  <a:lnTo>
                    <a:pt x="641" y="5417"/>
                  </a:lnTo>
                  <a:lnTo>
                    <a:pt x="647" y="5502"/>
                  </a:lnTo>
                  <a:lnTo>
                    <a:pt x="655" y="5587"/>
                  </a:lnTo>
                  <a:lnTo>
                    <a:pt x="665" y="5672"/>
                  </a:lnTo>
                  <a:lnTo>
                    <a:pt x="665" y="5672"/>
                  </a:lnTo>
                  <a:lnTo>
                    <a:pt x="655" y="5589"/>
                  </a:lnTo>
                  <a:lnTo>
                    <a:pt x="649" y="5506"/>
                  </a:lnTo>
                  <a:lnTo>
                    <a:pt x="641" y="5423"/>
                  </a:lnTo>
                  <a:lnTo>
                    <a:pt x="637" y="5340"/>
                  </a:lnTo>
                  <a:lnTo>
                    <a:pt x="633" y="5257"/>
                  </a:lnTo>
                  <a:lnTo>
                    <a:pt x="631" y="5175"/>
                  </a:lnTo>
                  <a:lnTo>
                    <a:pt x="631" y="5090"/>
                  </a:lnTo>
                  <a:lnTo>
                    <a:pt x="633" y="5007"/>
                  </a:lnTo>
                  <a:lnTo>
                    <a:pt x="635" y="4924"/>
                  </a:lnTo>
                  <a:lnTo>
                    <a:pt x="639" y="4839"/>
                  </a:lnTo>
                  <a:lnTo>
                    <a:pt x="645" y="4756"/>
                  </a:lnTo>
                  <a:lnTo>
                    <a:pt x="653" y="4673"/>
                  </a:lnTo>
                  <a:lnTo>
                    <a:pt x="663" y="4590"/>
                  </a:lnTo>
                  <a:lnTo>
                    <a:pt x="673" y="4507"/>
                  </a:lnTo>
                  <a:lnTo>
                    <a:pt x="686" y="4425"/>
                  </a:lnTo>
                  <a:lnTo>
                    <a:pt x="698" y="4342"/>
                  </a:lnTo>
                  <a:close/>
                  <a:moveTo>
                    <a:pt x="2828" y="9532"/>
                  </a:moveTo>
                  <a:lnTo>
                    <a:pt x="2828" y="9532"/>
                  </a:lnTo>
                  <a:lnTo>
                    <a:pt x="2745" y="9490"/>
                  </a:lnTo>
                  <a:lnTo>
                    <a:pt x="2656" y="9443"/>
                  </a:lnTo>
                  <a:lnTo>
                    <a:pt x="2565" y="9397"/>
                  </a:lnTo>
                  <a:lnTo>
                    <a:pt x="2472" y="9348"/>
                  </a:lnTo>
                  <a:lnTo>
                    <a:pt x="2381" y="9298"/>
                  </a:lnTo>
                  <a:lnTo>
                    <a:pt x="2295" y="9245"/>
                  </a:lnTo>
                  <a:lnTo>
                    <a:pt x="2254" y="9219"/>
                  </a:lnTo>
                  <a:lnTo>
                    <a:pt x="2214" y="9191"/>
                  </a:lnTo>
                  <a:lnTo>
                    <a:pt x="2177" y="9164"/>
                  </a:lnTo>
                  <a:lnTo>
                    <a:pt x="2143" y="9136"/>
                  </a:lnTo>
                  <a:lnTo>
                    <a:pt x="2143" y="9136"/>
                  </a:lnTo>
                  <a:lnTo>
                    <a:pt x="2056" y="9065"/>
                  </a:lnTo>
                  <a:lnTo>
                    <a:pt x="1969" y="8995"/>
                  </a:lnTo>
                  <a:lnTo>
                    <a:pt x="1886" y="8924"/>
                  </a:lnTo>
                  <a:lnTo>
                    <a:pt x="1805" y="8853"/>
                  </a:lnTo>
                  <a:lnTo>
                    <a:pt x="1727" y="8780"/>
                  </a:lnTo>
                  <a:lnTo>
                    <a:pt x="1650" y="8708"/>
                  </a:lnTo>
                  <a:lnTo>
                    <a:pt x="1575" y="8633"/>
                  </a:lnTo>
                  <a:lnTo>
                    <a:pt x="1502" y="8558"/>
                  </a:lnTo>
                  <a:lnTo>
                    <a:pt x="1431" y="8483"/>
                  </a:lnTo>
                  <a:lnTo>
                    <a:pt x="1361" y="8406"/>
                  </a:lnTo>
                  <a:lnTo>
                    <a:pt x="1294" y="8330"/>
                  </a:lnTo>
                  <a:lnTo>
                    <a:pt x="1227" y="8251"/>
                  </a:lnTo>
                  <a:lnTo>
                    <a:pt x="1165" y="8172"/>
                  </a:lnTo>
                  <a:lnTo>
                    <a:pt x="1102" y="8093"/>
                  </a:lnTo>
                  <a:lnTo>
                    <a:pt x="1041" y="8012"/>
                  </a:lnTo>
                  <a:lnTo>
                    <a:pt x="983" y="7931"/>
                  </a:lnTo>
                  <a:lnTo>
                    <a:pt x="983" y="7931"/>
                  </a:lnTo>
                  <a:lnTo>
                    <a:pt x="926" y="7849"/>
                  </a:lnTo>
                  <a:lnTo>
                    <a:pt x="872" y="7764"/>
                  </a:lnTo>
                  <a:lnTo>
                    <a:pt x="817" y="7679"/>
                  </a:lnTo>
                  <a:lnTo>
                    <a:pt x="766" y="7594"/>
                  </a:lnTo>
                  <a:lnTo>
                    <a:pt x="716" y="7505"/>
                  </a:lnTo>
                  <a:lnTo>
                    <a:pt x="669" y="7418"/>
                  </a:lnTo>
                  <a:lnTo>
                    <a:pt x="623" y="7327"/>
                  </a:lnTo>
                  <a:lnTo>
                    <a:pt x="578" y="7236"/>
                  </a:lnTo>
                  <a:lnTo>
                    <a:pt x="538" y="7143"/>
                  </a:lnTo>
                  <a:lnTo>
                    <a:pt x="498" y="7048"/>
                  </a:lnTo>
                  <a:lnTo>
                    <a:pt x="461" y="6953"/>
                  </a:lnTo>
                  <a:lnTo>
                    <a:pt x="425" y="6856"/>
                  </a:lnTo>
                  <a:lnTo>
                    <a:pt x="393" y="6757"/>
                  </a:lnTo>
                  <a:lnTo>
                    <a:pt x="362" y="6658"/>
                  </a:lnTo>
                  <a:lnTo>
                    <a:pt x="334" y="6557"/>
                  </a:lnTo>
                  <a:lnTo>
                    <a:pt x="310" y="6454"/>
                  </a:lnTo>
                  <a:lnTo>
                    <a:pt x="310" y="6454"/>
                  </a:lnTo>
                  <a:lnTo>
                    <a:pt x="302" y="6418"/>
                  </a:lnTo>
                  <a:lnTo>
                    <a:pt x="296" y="6383"/>
                  </a:lnTo>
                  <a:lnTo>
                    <a:pt x="291" y="6349"/>
                  </a:lnTo>
                  <a:lnTo>
                    <a:pt x="289" y="6319"/>
                  </a:lnTo>
                  <a:lnTo>
                    <a:pt x="285" y="6256"/>
                  </a:lnTo>
                  <a:lnTo>
                    <a:pt x="283" y="6224"/>
                  </a:lnTo>
                  <a:lnTo>
                    <a:pt x="277" y="6189"/>
                  </a:lnTo>
                  <a:lnTo>
                    <a:pt x="277" y="6189"/>
                  </a:lnTo>
                  <a:lnTo>
                    <a:pt x="306" y="6306"/>
                  </a:lnTo>
                  <a:lnTo>
                    <a:pt x="336" y="6422"/>
                  </a:lnTo>
                  <a:lnTo>
                    <a:pt x="368" y="6535"/>
                  </a:lnTo>
                  <a:lnTo>
                    <a:pt x="403" y="6648"/>
                  </a:lnTo>
                  <a:lnTo>
                    <a:pt x="441" y="6759"/>
                  </a:lnTo>
                  <a:lnTo>
                    <a:pt x="483" y="6868"/>
                  </a:lnTo>
                  <a:lnTo>
                    <a:pt x="526" y="6975"/>
                  </a:lnTo>
                  <a:lnTo>
                    <a:pt x="572" y="7083"/>
                  </a:lnTo>
                  <a:lnTo>
                    <a:pt x="621" y="7188"/>
                  </a:lnTo>
                  <a:lnTo>
                    <a:pt x="671" y="7291"/>
                  </a:lnTo>
                  <a:lnTo>
                    <a:pt x="724" y="7392"/>
                  </a:lnTo>
                  <a:lnTo>
                    <a:pt x="781" y="7493"/>
                  </a:lnTo>
                  <a:lnTo>
                    <a:pt x="837" y="7592"/>
                  </a:lnTo>
                  <a:lnTo>
                    <a:pt x="898" y="7689"/>
                  </a:lnTo>
                  <a:lnTo>
                    <a:pt x="958" y="7786"/>
                  </a:lnTo>
                  <a:lnTo>
                    <a:pt x="1023" y="7879"/>
                  </a:lnTo>
                  <a:lnTo>
                    <a:pt x="1023" y="7879"/>
                  </a:lnTo>
                  <a:lnTo>
                    <a:pt x="1090" y="7974"/>
                  </a:lnTo>
                  <a:lnTo>
                    <a:pt x="1161" y="8067"/>
                  </a:lnTo>
                  <a:lnTo>
                    <a:pt x="1231" y="8160"/>
                  </a:lnTo>
                  <a:lnTo>
                    <a:pt x="1306" y="8251"/>
                  </a:lnTo>
                  <a:lnTo>
                    <a:pt x="1383" y="8340"/>
                  </a:lnTo>
                  <a:lnTo>
                    <a:pt x="1460" y="8427"/>
                  </a:lnTo>
                  <a:lnTo>
                    <a:pt x="1541" y="8512"/>
                  </a:lnTo>
                  <a:lnTo>
                    <a:pt x="1623" y="8596"/>
                  </a:lnTo>
                  <a:lnTo>
                    <a:pt x="1708" y="8679"/>
                  </a:lnTo>
                  <a:lnTo>
                    <a:pt x="1795" y="8762"/>
                  </a:lnTo>
                  <a:lnTo>
                    <a:pt x="1884" y="8841"/>
                  </a:lnTo>
                  <a:lnTo>
                    <a:pt x="1975" y="8920"/>
                  </a:lnTo>
                  <a:lnTo>
                    <a:pt x="2070" y="8997"/>
                  </a:lnTo>
                  <a:lnTo>
                    <a:pt x="2165" y="9071"/>
                  </a:lnTo>
                  <a:lnTo>
                    <a:pt x="2264" y="9146"/>
                  </a:lnTo>
                  <a:lnTo>
                    <a:pt x="2363" y="9219"/>
                  </a:lnTo>
                  <a:lnTo>
                    <a:pt x="2363" y="9219"/>
                  </a:lnTo>
                  <a:lnTo>
                    <a:pt x="2487" y="9308"/>
                  </a:lnTo>
                  <a:lnTo>
                    <a:pt x="2602" y="9389"/>
                  </a:lnTo>
                  <a:lnTo>
                    <a:pt x="2715" y="9464"/>
                  </a:lnTo>
                  <a:lnTo>
                    <a:pt x="2828" y="9532"/>
                  </a:lnTo>
                  <a:close/>
                  <a:moveTo>
                    <a:pt x="3125" y="9486"/>
                  </a:moveTo>
                  <a:lnTo>
                    <a:pt x="3125" y="9486"/>
                  </a:lnTo>
                  <a:lnTo>
                    <a:pt x="3030" y="9449"/>
                  </a:lnTo>
                  <a:lnTo>
                    <a:pt x="2931" y="9407"/>
                  </a:lnTo>
                  <a:lnTo>
                    <a:pt x="2832" y="9360"/>
                  </a:lnTo>
                  <a:lnTo>
                    <a:pt x="2729" y="9310"/>
                  </a:lnTo>
                  <a:lnTo>
                    <a:pt x="2626" y="9253"/>
                  </a:lnTo>
                  <a:lnTo>
                    <a:pt x="2519" y="9191"/>
                  </a:lnTo>
                  <a:lnTo>
                    <a:pt x="2414" y="9126"/>
                  </a:lnTo>
                  <a:lnTo>
                    <a:pt x="2307" y="9053"/>
                  </a:lnTo>
                  <a:lnTo>
                    <a:pt x="2198" y="8978"/>
                  </a:lnTo>
                  <a:lnTo>
                    <a:pt x="2090" y="8898"/>
                  </a:lnTo>
                  <a:lnTo>
                    <a:pt x="1983" y="8811"/>
                  </a:lnTo>
                  <a:lnTo>
                    <a:pt x="1876" y="8720"/>
                  </a:lnTo>
                  <a:lnTo>
                    <a:pt x="1771" y="8625"/>
                  </a:lnTo>
                  <a:lnTo>
                    <a:pt x="1668" y="8524"/>
                  </a:lnTo>
                  <a:lnTo>
                    <a:pt x="1615" y="8471"/>
                  </a:lnTo>
                  <a:lnTo>
                    <a:pt x="1565" y="8417"/>
                  </a:lnTo>
                  <a:lnTo>
                    <a:pt x="1514" y="8362"/>
                  </a:lnTo>
                  <a:lnTo>
                    <a:pt x="1466" y="8305"/>
                  </a:lnTo>
                  <a:lnTo>
                    <a:pt x="1466" y="8305"/>
                  </a:lnTo>
                  <a:lnTo>
                    <a:pt x="1415" y="8249"/>
                  </a:lnTo>
                  <a:lnTo>
                    <a:pt x="1367" y="8192"/>
                  </a:lnTo>
                  <a:lnTo>
                    <a:pt x="1318" y="8134"/>
                  </a:lnTo>
                  <a:lnTo>
                    <a:pt x="1272" y="8073"/>
                  </a:lnTo>
                  <a:lnTo>
                    <a:pt x="1225" y="8012"/>
                  </a:lnTo>
                  <a:lnTo>
                    <a:pt x="1181" y="7950"/>
                  </a:lnTo>
                  <a:lnTo>
                    <a:pt x="1134" y="7885"/>
                  </a:lnTo>
                  <a:lnTo>
                    <a:pt x="1092" y="7822"/>
                  </a:lnTo>
                  <a:lnTo>
                    <a:pt x="1049" y="7756"/>
                  </a:lnTo>
                  <a:lnTo>
                    <a:pt x="1007" y="7691"/>
                  </a:lnTo>
                  <a:lnTo>
                    <a:pt x="967" y="7624"/>
                  </a:lnTo>
                  <a:lnTo>
                    <a:pt x="926" y="7556"/>
                  </a:lnTo>
                  <a:lnTo>
                    <a:pt x="888" y="7487"/>
                  </a:lnTo>
                  <a:lnTo>
                    <a:pt x="849" y="7418"/>
                  </a:lnTo>
                  <a:lnTo>
                    <a:pt x="811" y="7347"/>
                  </a:lnTo>
                  <a:lnTo>
                    <a:pt x="777" y="7277"/>
                  </a:lnTo>
                  <a:lnTo>
                    <a:pt x="740" y="7206"/>
                  </a:lnTo>
                  <a:lnTo>
                    <a:pt x="708" y="7135"/>
                  </a:lnTo>
                  <a:lnTo>
                    <a:pt x="676" y="7062"/>
                  </a:lnTo>
                  <a:lnTo>
                    <a:pt x="643" y="6990"/>
                  </a:lnTo>
                  <a:lnTo>
                    <a:pt x="613" y="6915"/>
                  </a:lnTo>
                  <a:lnTo>
                    <a:pt x="585" y="6842"/>
                  </a:lnTo>
                  <a:lnTo>
                    <a:pt x="556" y="6767"/>
                  </a:lnTo>
                  <a:lnTo>
                    <a:pt x="530" y="6692"/>
                  </a:lnTo>
                  <a:lnTo>
                    <a:pt x="504" y="6618"/>
                  </a:lnTo>
                  <a:lnTo>
                    <a:pt x="479" y="6541"/>
                  </a:lnTo>
                  <a:lnTo>
                    <a:pt x="457" y="6466"/>
                  </a:lnTo>
                  <a:lnTo>
                    <a:pt x="435" y="6389"/>
                  </a:lnTo>
                  <a:lnTo>
                    <a:pt x="415" y="6312"/>
                  </a:lnTo>
                  <a:lnTo>
                    <a:pt x="397" y="6236"/>
                  </a:lnTo>
                  <a:lnTo>
                    <a:pt x="378" y="6161"/>
                  </a:lnTo>
                  <a:lnTo>
                    <a:pt x="362" y="6084"/>
                  </a:lnTo>
                  <a:lnTo>
                    <a:pt x="362" y="6084"/>
                  </a:lnTo>
                  <a:lnTo>
                    <a:pt x="340" y="5971"/>
                  </a:lnTo>
                  <a:lnTo>
                    <a:pt x="318" y="5858"/>
                  </a:lnTo>
                  <a:lnTo>
                    <a:pt x="300" y="5742"/>
                  </a:lnTo>
                  <a:lnTo>
                    <a:pt x="285" y="5629"/>
                  </a:lnTo>
                  <a:lnTo>
                    <a:pt x="273" y="5514"/>
                  </a:lnTo>
                  <a:lnTo>
                    <a:pt x="263" y="5399"/>
                  </a:lnTo>
                  <a:lnTo>
                    <a:pt x="255" y="5282"/>
                  </a:lnTo>
                  <a:lnTo>
                    <a:pt x="251" y="5166"/>
                  </a:lnTo>
                  <a:lnTo>
                    <a:pt x="249" y="5049"/>
                  </a:lnTo>
                  <a:lnTo>
                    <a:pt x="251" y="4934"/>
                  </a:lnTo>
                  <a:lnTo>
                    <a:pt x="253" y="4817"/>
                  </a:lnTo>
                  <a:lnTo>
                    <a:pt x="261" y="4700"/>
                  </a:lnTo>
                  <a:lnTo>
                    <a:pt x="269" y="4582"/>
                  </a:lnTo>
                  <a:lnTo>
                    <a:pt x="281" y="4467"/>
                  </a:lnTo>
                  <a:lnTo>
                    <a:pt x="298" y="4350"/>
                  </a:lnTo>
                  <a:lnTo>
                    <a:pt x="316" y="4235"/>
                  </a:lnTo>
                  <a:lnTo>
                    <a:pt x="316" y="4235"/>
                  </a:lnTo>
                  <a:lnTo>
                    <a:pt x="304" y="4320"/>
                  </a:lnTo>
                  <a:lnTo>
                    <a:pt x="293" y="4394"/>
                  </a:lnTo>
                  <a:lnTo>
                    <a:pt x="287" y="4455"/>
                  </a:lnTo>
                  <a:lnTo>
                    <a:pt x="285" y="4499"/>
                  </a:lnTo>
                  <a:lnTo>
                    <a:pt x="285" y="4499"/>
                  </a:lnTo>
                  <a:lnTo>
                    <a:pt x="271" y="4647"/>
                  </a:lnTo>
                  <a:lnTo>
                    <a:pt x="263" y="4790"/>
                  </a:lnTo>
                  <a:lnTo>
                    <a:pt x="259" y="4930"/>
                  </a:lnTo>
                  <a:lnTo>
                    <a:pt x="257" y="5067"/>
                  </a:lnTo>
                  <a:lnTo>
                    <a:pt x="261" y="5199"/>
                  </a:lnTo>
                  <a:lnTo>
                    <a:pt x="265" y="5326"/>
                  </a:lnTo>
                  <a:lnTo>
                    <a:pt x="275" y="5449"/>
                  </a:lnTo>
                  <a:lnTo>
                    <a:pt x="285" y="5569"/>
                  </a:lnTo>
                  <a:lnTo>
                    <a:pt x="300" y="5682"/>
                  </a:lnTo>
                  <a:lnTo>
                    <a:pt x="314" y="5791"/>
                  </a:lnTo>
                  <a:lnTo>
                    <a:pt x="330" y="5896"/>
                  </a:lnTo>
                  <a:lnTo>
                    <a:pt x="348" y="5995"/>
                  </a:lnTo>
                  <a:lnTo>
                    <a:pt x="366" y="6088"/>
                  </a:lnTo>
                  <a:lnTo>
                    <a:pt x="386" y="6175"/>
                  </a:lnTo>
                  <a:lnTo>
                    <a:pt x="405" y="6258"/>
                  </a:lnTo>
                  <a:lnTo>
                    <a:pt x="425" y="6333"/>
                  </a:lnTo>
                  <a:lnTo>
                    <a:pt x="425" y="6333"/>
                  </a:lnTo>
                  <a:lnTo>
                    <a:pt x="461" y="6460"/>
                  </a:lnTo>
                  <a:lnTo>
                    <a:pt x="502" y="6583"/>
                  </a:lnTo>
                  <a:lnTo>
                    <a:pt x="544" y="6707"/>
                  </a:lnTo>
                  <a:lnTo>
                    <a:pt x="591" y="6828"/>
                  </a:lnTo>
                  <a:lnTo>
                    <a:pt x="641" y="6947"/>
                  </a:lnTo>
                  <a:lnTo>
                    <a:pt x="694" y="7066"/>
                  </a:lnTo>
                  <a:lnTo>
                    <a:pt x="748" y="7184"/>
                  </a:lnTo>
                  <a:lnTo>
                    <a:pt x="807" y="7299"/>
                  </a:lnTo>
                  <a:lnTo>
                    <a:pt x="870" y="7412"/>
                  </a:lnTo>
                  <a:lnTo>
                    <a:pt x="932" y="7523"/>
                  </a:lnTo>
                  <a:lnTo>
                    <a:pt x="999" y="7632"/>
                  </a:lnTo>
                  <a:lnTo>
                    <a:pt x="1070" y="7739"/>
                  </a:lnTo>
                  <a:lnTo>
                    <a:pt x="1142" y="7845"/>
                  </a:lnTo>
                  <a:lnTo>
                    <a:pt x="1217" y="7948"/>
                  </a:lnTo>
                  <a:lnTo>
                    <a:pt x="1294" y="8049"/>
                  </a:lnTo>
                  <a:lnTo>
                    <a:pt x="1373" y="8146"/>
                  </a:lnTo>
                  <a:lnTo>
                    <a:pt x="1373" y="8146"/>
                  </a:lnTo>
                  <a:lnTo>
                    <a:pt x="1466" y="8255"/>
                  </a:lnTo>
                  <a:lnTo>
                    <a:pt x="1561" y="8360"/>
                  </a:lnTo>
                  <a:lnTo>
                    <a:pt x="1658" y="8461"/>
                  </a:lnTo>
                  <a:lnTo>
                    <a:pt x="1759" y="8560"/>
                  </a:lnTo>
                  <a:lnTo>
                    <a:pt x="1862" y="8655"/>
                  </a:lnTo>
                  <a:lnTo>
                    <a:pt x="1967" y="8748"/>
                  </a:lnTo>
                  <a:lnTo>
                    <a:pt x="2074" y="8837"/>
                  </a:lnTo>
                  <a:lnTo>
                    <a:pt x="2183" y="8924"/>
                  </a:lnTo>
                  <a:lnTo>
                    <a:pt x="2295" y="9005"/>
                  </a:lnTo>
                  <a:lnTo>
                    <a:pt x="2410" y="9086"/>
                  </a:lnTo>
                  <a:lnTo>
                    <a:pt x="2525" y="9160"/>
                  </a:lnTo>
                  <a:lnTo>
                    <a:pt x="2642" y="9233"/>
                  </a:lnTo>
                  <a:lnTo>
                    <a:pt x="2759" y="9302"/>
                  </a:lnTo>
                  <a:lnTo>
                    <a:pt x="2881" y="9367"/>
                  </a:lnTo>
                  <a:lnTo>
                    <a:pt x="3002" y="9429"/>
                  </a:lnTo>
                  <a:lnTo>
                    <a:pt x="3125" y="9486"/>
                  </a:lnTo>
                  <a:close/>
                  <a:moveTo>
                    <a:pt x="1106" y="8227"/>
                  </a:moveTo>
                  <a:lnTo>
                    <a:pt x="1106" y="8227"/>
                  </a:lnTo>
                  <a:lnTo>
                    <a:pt x="1033" y="8132"/>
                  </a:lnTo>
                  <a:lnTo>
                    <a:pt x="967" y="8035"/>
                  </a:lnTo>
                  <a:lnTo>
                    <a:pt x="900" y="7936"/>
                  </a:lnTo>
                  <a:lnTo>
                    <a:pt x="835" y="7834"/>
                  </a:lnTo>
                  <a:lnTo>
                    <a:pt x="775" y="7733"/>
                  </a:lnTo>
                  <a:lnTo>
                    <a:pt x="716" y="7630"/>
                  </a:lnTo>
                  <a:lnTo>
                    <a:pt x="661" y="7525"/>
                  </a:lnTo>
                  <a:lnTo>
                    <a:pt x="607" y="7420"/>
                  </a:lnTo>
                  <a:lnTo>
                    <a:pt x="556" y="7313"/>
                  </a:lnTo>
                  <a:lnTo>
                    <a:pt x="508" y="7206"/>
                  </a:lnTo>
                  <a:lnTo>
                    <a:pt x="461" y="7097"/>
                  </a:lnTo>
                  <a:lnTo>
                    <a:pt x="419" y="6988"/>
                  </a:lnTo>
                  <a:lnTo>
                    <a:pt x="376" y="6876"/>
                  </a:lnTo>
                  <a:lnTo>
                    <a:pt x="338" y="6765"/>
                  </a:lnTo>
                  <a:lnTo>
                    <a:pt x="304" y="6654"/>
                  </a:lnTo>
                  <a:lnTo>
                    <a:pt x="269" y="6541"/>
                  </a:lnTo>
                  <a:lnTo>
                    <a:pt x="239" y="6428"/>
                  </a:lnTo>
                  <a:lnTo>
                    <a:pt x="211" y="6314"/>
                  </a:lnTo>
                  <a:lnTo>
                    <a:pt x="186" y="6199"/>
                  </a:lnTo>
                  <a:lnTo>
                    <a:pt x="164" y="6084"/>
                  </a:lnTo>
                  <a:lnTo>
                    <a:pt x="144" y="5969"/>
                  </a:lnTo>
                  <a:lnTo>
                    <a:pt x="126" y="5854"/>
                  </a:lnTo>
                  <a:lnTo>
                    <a:pt x="112" y="5738"/>
                  </a:lnTo>
                  <a:lnTo>
                    <a:pt x="99" y="5623"/>
                  </a:lnTo>
                  <a:lnTo>
                    <a:pt x="89" y="5506"/>
                  </a:lnTo>
                  <a:lnTo>
                    <a:pt x="83" y="5391"/>
                  </a:lnTo>
                  <a:lnTo>
                    <a:pt x="79" y="5274"/>
                  </a:lnTo>
                  <a:lnTo>
                    <a:pt x="77" y="5158"/>
                  </a:lnTo>
                  <a:lnTo>
                    <a:pt x="79" y="5043"/>
                  </a:lnTo>
                  <a:lnTo>
                    <a:pt x="83" y="4926"/>
                  </a:lnTo>
                  <a:lnTo>
                    <a:pt x="89" y="4811"/>
                  </a:lnTo>
                  <a:lnTo>
                    <a:pt x="99" y="4695"/>
                  </a:lnTo>
                  <a:lnTo>
                    <a:pt x="99" y="4695"/>
                  </a:lnTo>
                  <a:lnTo>
                    <a:pt x="110" y="4580"/>
                  </a:lnTo>
                  <a:lnTo>
                    <a:pt x="124" y="4467"/>
                  </a:lnTo>
                  <a:lnTo>
                    <a:pt x="140" y="4352"/>
                  </a:lnTo>
                  <a:lnTo>
                    <a:pt x="160" y="4239"/>
                  </a:lnTo>
                  <a:lnTo>
                    <a:pt x="182" y="4125"/>
                  </a:lnTo>
                  <a:lnTo>
                    <a:pt x="207" y="4014"/>
                  </a:lnTo>
                  <a:lnTo>
                    <a:pt x="233" y="3903"/>
                  </a:lnTo>
                  <a:lnTo>
                    <a:pt x="263" y="3792"/>
                  </a:lnTo>
                  <a:lnTo>
                    <a:pt x="293" y="3681"/>
                  </a:lnTo>
                  <a:lnTo>
                    <a:pt x="328" y="3574"/>
                  </a:lnTo>
                  <a:lnTo>
                    <a:pt x="366" y="3465"/>
                  </a:lnTo>
                  <a:lnTo>
                    <a:pt x="405" y="3357"/>
                  </a:lnTo>
                  <a:lnTo>
                    <a:pt x="447" y="3252"/>
                  </a:lnTo>
                  <a:lnTo>
                    <a:pt x="490" y="3147"/>
                  </a:lnTo>
                  <a:lnTo>
                    <a:pt x="536" y="3042"/>
                  </a:lnTo>
                  <a:lnTo>
                    <a:pt x="585" y="2939"/>
                  </a:lnTo>
                  <a:lnTo>
                    <a:pt x="635" y="2838"/>
                  </a:lnTo>
                  <a:lnTo>
                    <a:pt x="688" y="2737"/>
                  </a:lnTo>
                  <a:lnTo>
                    <a:pt x="742" y="2638"/>
                  </a:lnTo>
                  <a:lnTo>
                    <a:pt x="801" y="2541"/>
                  </a:lnTo>
                  <a:lnTo>
                    <a:pt x="859" y="2444"/>
                  </a:lnTo>
                  <a:lnTo>
                    <a:pt x="920" y="2351"/>
                  </a:lnTo>
                  <a:lnTo>
                    <a:pt x="985" y="2256"/>
                  </a:lnTo>
                  <a:lnTo>
                    <a:pt x="1049" y="2165"/>
                  </a:lnTo>
                  <a:lnTo>
                    <a:pt x="1116" y="2074"/>
                  </a:lnTo>
                  <a:lnTo>
                    <a:pt x="1185" y="1987"/>
                  </a:lnTo>
                  <a:lnTo>
                    <a:pt x="1256" y="1900"/>
                  </a:lnTo>
                  <a:lnTo>
                    <a:pt x="1330" y="1813"/>
                  </a:lnTo>
                  <a:lnTo>
                    <a:pt x="1405" y="1730"/>
                  </a:lnTo>
                  <a:lnTo>
                    <a:pt x="1480" y="1649"/>
                  </a:lnTo>
                  <a:lnTo>
                    <a:pt x="1559" y="1569"/>
                  </a:lnTo>
                  <a:lnTo>
                    <a:pt x="1640" y="1492"/>
                  </a:lnTo>
                  <a:lnTo>
                    <a:pt x="1640" y="1492"/>
                  </a:lnTo>
                  <a:lnTo>
                    <a:pt x="1721" y="1415"/>
                  </a:lnTo>
                  <a:lnTo>
                    <a:pt x="1803" y="1340"/>
                  </a:lnTo>
                  <a:lnTo>
                    <a:pt x="1888" y="1267"/>
                  </a:lnTo>
                  <a:lnTo>
                    <a:pt x="1973" y="1199"/>
                  </a:lnTo>
                  <a:lnTo>
                    <a:pt x="2060" y="1130"/>
                  </a:lnTo>
                  <a:lnTo>
                    <a:pt x="2149" y="1063"/>
                  </a:lnTo>
                  <a:lnTo>
                    <a:pt x="2240" y="999"/>
                  </a:lnTo>
                  <a:lnTo>
                    <a:pt x="2331" y="936"/>
                  </a:lnTo>
                  <a:lnTo>
                    <a:pt x="2424" y="877"/>
                  </a:lnTo>
                  <a:lnTo>
                    <a:pt x="2519" y="819"/>
                  </a:lnTo>
                  <a:lnTo>
                    <a:pt x="2614" y="762"/>
                  </a:lnTo>
                  <a:lnTo>
                    <a:pt x="2709" y="710"/>
                  </a:lnTo>
                  <a:lnTo>
                    <a:pt x="2808" y="657"/>
                  </a:lnTo>
                  <a:lnTo>
                    <a:pt x="2905" y="609"/>
                  </a:lnTo>
                  <a:lnTo>
                    <a:pt x="3004" y="562"/>
                  </a:lnTo>
                  <a:lnTo>
                    <a:pt x="3105" y="518"/>
                  </a:lnTo>
                  <a:lnTo>
                    <a:pt x="3206" y="475"/>
                  </a:lnTo>
                  <a:lnTo>
                    <a:pt x="3307" y="435"/>
                  </a:lnTo>
                  <a:lnTo>
                    <a:pt x="3410" y="396"/>
                  </a:lnTo>
                  <a:lnTo>
                    <a:pt x="3513" y="360"/>
                  </a:lnTo>
                  <a:lnTo>
                    <a:pt x="3616" y="328"/>
                  </a:lnTo>
                  <a:lnTo>
                    <a:pt x="3722" y="295"/>
                  </a:lnTo>
                  <a:lnTo>
                    <a:pt x="3827" y="267"/>
                  </a:lnTo>
                  <a:lnTo>
                    <a:pt x="3932" y="241"/>
                  </a:lnTo>
                  <a:lnTo>
                    <a:pt x="4039" y="216"/>
                  </a:lnTo>
                  <a:lnTo>
                    <a:pt x="4144" y="194"/>
                  </a:lnTo>
                  <a:lnTo>
                    <a:pt x="4251" y="176"/>
                  </a:lnTo>
                  <a:lnTo>
                    <a:pt x="4358" y="158"/>
                  </a:lnTo>
                  <a:lnTo>
                    <a:pt x="4465" y="144"/>
                  </a:lnTo>
                  <a:lnTo>
                    <a:pt x="4575" y="132"/>
                  </a:lnTo>
                  <a:lnTo>
                    <a:pt x="4682" y="123"/>
                  </a:lnTo>
                  <a:lnTo>
                    <a:pt x="4789" y="115"/>
                  </a:lnTo>
                  <a:lnTo>
                    <a:pt x="4789" y="115"/>
                  </a:lnTo>
                  <a:lnTo>
                    <a:pt x="4934" y="109"/>
                  </a:lnTo>
                  <a:lnTo>
                    <a:pt x="5080" y="107"/>
                  </a:lnTo>
                  <a:lnTo>
                    <a:pt x="5080" y="107"/>
                  </a:lnTo>
                  <a:lnTo>
                    <a:pt x="5179" y="107"/>
                  </a:lnTo>
                  <a:lnTo>
                    <a:pt x="5278" y="111"/>
                  </a:lnTo>
                  <a:lnTo>
                    <a:pt x="5375" y="115"/>
                  </a:lnTo>
                  <a:lnTo>
                    <a:pt x="5474" y="123"/>
                  </a:lnTo>
                  <a:lnTo>
                    <a:pt x="5571" y="132"/>
                  </a:lnTo>
                  <a:lnTo>
                    <a:pt x="5668" y="144"/>
                  </a:lnTo>
                  <a:lnTo>
                    <a:pt x="5765" y="156"/>
                  </a:lnTo>
                  <a:lnTo>
                    <a:pt x="5862" y="170"/>
                  </a:lnTo>
                  <a:lnTo>
                    <a:pt x="5959" y="186"/>
                  </a:lnTo>
                  <a:lnTo>
                    <a:pt x="6054" y="206"/>
                  </a:lnTo>
                  <a:lnTo>
                    <a:pt x="6151" y="227"/>
                  </a:lnTo>
                  <a:lnTo>
                    <a:pt x="6246" y="249"/>
                  </a:lnTo>
                  <a:lnTo>
                    <a:pt x="6341" y="273"/>
                  </a:lnTo>
                  <a:lnTo>
                    <a:pt x="6434" y="297"/>
                  </a:lnTo>
                  <a:lnTo>
                    <a:pt x="6527" y="326"/>
                  </a:lnTo>
                  <a:lnTo>
                    <a:pt x="6620" y="356"/>
                  </a:lnTo>
                  <a:lnTo>
                    <a:pt x="6713" y="386"/>
                  </a:lnTo>
                  <a:lnTo>
                    <a:pt x="6804" y="421"/>
                  </a:lnTo>
                  <a:lnTo>
                    <a:pt x="6895" y="455"/>
                  </a:lnTo>
                  <a:lnTo>
                    <a:pt x="6984" y="491"/>
                  </a:lnTo>
                  <a:lnTo>
                    <a:pt x="7073" y="530"/>
                  </a:lnTo>
                  <a:lnTo>
                    <a:pt x="7162" y="570"/>
                  </a:lnTo>
                  <a:lnTo>
                    <a:pt x="7249" y="613"/>
                  </a:lnTo>
                  <a:lnTo>
                    <a:pt x="7336" y="657"/>
                  </a:lnTo>
                  <a:lnTo>
                    <a:pt x="7421" y="701"/>
                  </a:lnTo>
                  <a:lnTo>
                    <a:pt x="7505" y="748"/>
                  </a:lnTo>
                  <a:lnTo>
                    <a:pt x="7588" y="796"/>
                  </a:lnTo>
                  <a:lnTo>
                    <a:pt x="7671" y="847"/>
                  </a:lnTo>
                  <a:lnTo>
                    <a:pt x="7752" y="900"/>
                  </a:lnTo>
                  <a:lnTo>
                    <a:pt x="7833" y="954"/>
                  </a:lnTo>
                  <a:lnTo>
                    <a:pt x="7912" y="1009"/>
                  </a:lnTo>
                  <a:lnTo>
                    <a:pt x="7991" y="1065"/>
                  </a:lnTo>
                  <a:lnTo>
                    <a:pt x="7991" y="1065"/>
                  </a:lnTo>
                  <a:lnTo>
                    <a:pt x="7877" y="995"/>
                  </a:lnTo>
                  <a:lnTo>
                    <a:pt x="7762" y="924"/>
                  </a:lnTo>
                  <a:lnTo>
                    <a:pt x="7645" y="859"/>
                  </a:lnTo>
                  <a:lnTo>
                    <a:pt x="7526" y="794"/>
                  </a:lnTo>
                  <a:lnTo>
                    <a:pt x="7404" y="734"/>
                  </a:lnTo>
                  <a:lnTo>
                    <a:pt x="7281" y="675"/>
                  </a:lnTo>
                  <a:lnTo>
                    <a:pt x="7156" y="621"/>
                  </a:lnTo>
                  <a:lnTo>
                    <a:pt x="7028" y="568"/>
                  </a:lnTo>
                  <a:lnTo>
                    <a:pt x="7028" y="568"/>
                  </a:lnTo>
                  <a:lnTo>
                    <a:pt x="6937" y="532"/>
                  </a:lnTo>
                  <a:lnTo>
                    <a:pt x="6846" y="497"/>
                  </a:lnTo>
                  <a:lnTo>
                    <a:pt x="6756" y="465"/>
                  </a:lnTo>
                  <a:lnTo>
                    <a:pt x="6663" y="435"/>
                  </a:lnTo>
                  <a:lnTo>
                    <a:pt x="6570" y="406"/>
                  </a:lnTo>
                  <a:lnTo>
                    <a:pt x="6477" y="380"/>
                  </a:lnTo>
                  <a:lnTo>
                    <a:pt x="6384" y="356"/>
                  </a:lnTo>
                  <a:lnTo>
                    <a:pt x="6291" y="334"/>
                  </a:lnTo>
                  <a:lnTo>
                    <a:pt x="6196" y="311"/>
                  </a:lnTo>
                  <a:lnTo>
                    <a:pt x="6103" y="293"/>
                  </a:lnTo>
                  <a:lnTo>
                    <a:pt x="6008" y="275"/>
                  </a:lnTo>
                  <a:lnTo>
                    <a:pt x="5913" y="261"/>
                  </a:lnTo>
                  <a:lnTo>
                    <a:pt x="5818" y="247"/>
                  </a:lnTo>
                  <a:lnTo>
                    <a:pt x="5723" y="235"/>
                  </a:lnTo>
                  <a:lnTo>
                    <a:pt x="5628" y="224"/>
                  </a:lnTo>
                  <a:lnTo>
                    <a:pt x="5533" y="216"/>
                  </a:lnTo>
                  <a:lnTo>
                    <a:pt x="5533" y="216"/>
                  </a:lnTo>
                  <a:lnTo>
                    <a:pt x="5397" y="204"/>
                  </a:lnTo>
                  <a:lnTo>
                    <a:pt x="5262" y="194"/>
                  </a:lnTo>
                  <a:lnTo>
                    <a:pt x="5124" y="190"/>
                  </a:lnTo>
                  <a:lnTo>
                    <a:pt x="4989" y="188"/>
                  </a:lnTo>
                  <a:lnTo>
                    <a:pt x="4989" y="188"/>
                  </a:lnTo>
                  <a:lnTo>
                    <a:pt x="4866" y="190"/>
                  </a:lnTo>
                  <a:lnTo>
                    <a:pt x="4744" y="194"/>
                  </a:lnTo>
                  <a:lnTo>
                    <a:pt x="4621" y="200"/>
                  </a:lnTo>
                  <a:lnTo>
                    <a:pt x="4498" y="212"/>
                  </a:lnTo>
                  <a:lnTo>
                    <a:pt x="4376" y="224"/>
                  </a:lnTo>
                  <a:lnTo>
                    <a:pt x="4255" y="241"/>
                  </a:lnTo>
                  <a:lnTo>
                    <a:pt x="4134" y="261"/>
                  </a:lnTo>
                  <a:lnTo>
                    <a:pt x="4013" y="283"/>
                  </a:lnTo>
                  <a:lnTo>
                    <a:pt x="3891" y="309"/>
                  </a:lnTo>
                  <a:lnTo>
                    <a:pt x="3772" y="340"/>
                  </a:lnTo>
                  <a:lnTo>
                    <a:pt x="3653" y="372"/>
                  </a:lnTo>
                  <a:lnTo>
                    <a:pt x="3534" y="406"/>
                  </a:lnTo>
                  <a:lnTo>
                    <a:pt x="3416" y="445"/>
                  </a:lnTo>
                  <a:lnTo>
                    <a:pt x="3299" y="487"/>
                  </a:lnTo>
                  <a:lnTo>
                    <a:pt x="3182" y="532"/>
                  </a:lnTo>
                  <a:lnTo>
                    <a:pt x="3067" y="580"/>
                  </a:lnTo>
                  <a:lnTo>
                    <a:pt x="3067" y="580"/>
                  </a:lnTo>
                  <a:lnTo>
                    <a:pt x="2992" y="613"/>
                  </a:lnTo>
                  <a:lnTo>
                    <a:pt x="2919" y="647"/>
                  </a:lnTo>
                  <a:lnTo>
                    <a:pt x="2846" y="681"/>
                  </a:lnTo>
                  <a:lnTo>
                    <a:pt x="2776" y="718"/>
                  </a:lnTo>
                  <a:lnTo>
                    <a:pt x="2703" y="756"/>
                  </a:lnTo>
                  <a:lnTo>
                    <a:pt x="2632" y="796"/>
                  </a:lnTo>
                  <a:lnTo>
                    <a:pt x="2561" y="837"/>
                  </a:lnTo>
                  <a:lnTo>
                    <a:pt x="2491" y="877"/>
                  </a:lnTo>
                  <a:lnTo>
                    <a:pt x="2420" y="922"/>
                  </a:lnTo>
                  <a:lnTo>
                    <a:pt x="2351" y="966"/>
                  </a:lnTo>
                  <a:lnTo>
                    <a:pt x="2282" y="1013"/>
                  </a:lnTo>
                  <a:lnTo>
                    <a:pt x="2216" y="1059"/>
                  </a:lnTo>
                  <a:lnTo>
                    <a:pt x="2147" y="1110"/>
                  </a:lnTo>
                  <a:lnTo>
                    <a:pt x="2080" y="1158"/>
                  </a:lnTo>
                  <a:lnTo>
                    <a:pt x="2016" y="1211"/>
                  </a:lnTo>
                  <a:lnTo>
                    <a:pt x="1949" y="1263"/>
                  </a:lnTo>
                  <a:lnTo>
                    <a:pt x="1884" y="1318"/>
                  </a:lnTo>
                  <a:lnTo>
                    <a:pt x="1822" y="1375"/>
                  </a:lnTo>
                  <a:lnTo>
                    <a:pt x="1759" y="1431"/>
                  </a:lnTo>
                  <a:lnTo>
                    <a:pt x="1696" y="1490"/>
                  </a:lnTo>
                  <a:lnTo>
                    <a:pt x="1636" y="1550"/>
                  </a:lnTo>
                  <a:lnTo>
                    <a:pt x="1575" y="1611"/>
                  </a:lnTo>
                  <a:lnTo>
                    <a:pt x="1516" y="1674"/>
                  </a:lnTo>
                  <a:lnTo>
                    <a:pt x="1458" y="1736"/>
                  </a:lnTo>
                  <a:lnTo>
                    <a:pt x="1401" y="1803"/>
                  </a:lnTo>
                  <a:lnTo>
                    <a:pt x="1345" y="1870"/>
                  </a:lnTo>
                  <a:lnTo>
                    <a:pt x="1290" y="1936"/>
                  </a:lnTo>
                  <a:lnTo>
                    <a:pt x="1235" y="2007"/>
                  </a:lnTo>
                  <a:lnTo>
                    <a:pt x="1183" y="2078"/>
                  </a:lnTo>
                  <a:lnTo>
                    <a:pt x="1130" y="2151"/>
                  </a:lnTo>
                  <a:lnTo>
                    <a:pt x="1080" y="2223"/>
                  </a:lnTo>
                  <a:lnTo>
                    <a:pt x="1029" y="2298"/>
                  </a:lnTo>
                  <a:lnTo>
                    <a:pt x="1029" y="2298"/>
                  </a:lnTo>
                  <a:lnTo>
                    <a:pt x="1108" y="2185"/>
                  </a:lnTo>
                  <a:lnTo>
                    <a:pt x="1189" y="2078"/>
                  </a:lnTo>
                  <a:lnTo>
                    <a:pt x="1272" y="1975"/>
                  </a:lnTo>
                  <a:lnTo>
                    <a:pt x="1355" y="1876"/>
                  </a:lnTo>
                  <a:lnTo>
                    <a:pt x="1440" y="1783"/>
                  </a:lnTo>
                  <a:lnTo>
                    <a:pt x="1526" y="1692"/>
                  </a:lnTo>
                  <a:lnTo>
                    <a:pt x="1613" y="1607"/>
                  </a:lnTo>
                  <a:lnTo>
                    <a:pt x="1700" y="1526"/>
                  </a:lnTo>
                  <a:lnTo>
                    <a:pt x="1791" y="1449"/>
                  </a:lnTo>
                  <a:lnTo>
                    <a:pt x="1880" y="1375"/>
                  </a:lnTo>
                  <a:lnTo>
                    <a:pt x="1971" y="1304"/>
                  </a:lnTo>
                  <a:lnTo>
                    <a:pt x="2062" y="1237"/>
                  </a:lnTo>
                  <a:lnTo>
                    <a:pt x="2155" y="1174"/>
                  </a:lnTo>
                  <a:lnTo>
                    <a:pt x="2248" y="1114"/>
                  </a:lnTo>
                  <a:lnTo>
                    <a:pt x="2341" y="1057"/>
                  </a:lnTo>
                  <a:lnTo>
                    <a:pt x="2434" y="1003"/>
                  </a:lnTo>
                  <a:lnTo>
                    <a:pt x="2434" y="1003"/>
                  </a:lnTo>
                  <a:lnTo>
                    <a:pt x="2345" y="1061"/>
                  </a:lnTo>
                  <a:lnTo>
                    <a:pt x="2256" y="1122"/>
                  </a:lnTo>
                  <a:lnTo>
                    <a:pt x="2169" y="1187"/>
                  </a:lnTo>
                  <a:lnTo>
                    <a:pt x="2082" y="1251"/>
                  </a:lnTo>
                  <a:lnTo>
                    <a:pt x="1999" y="1320"/>
                  </a:lnTo>
                  <a:lnTo>
                    <a:pt x="1917" y="1389"/>
                  </a:lnTo>
                  <a:lnTo>
                    <a:pt x="1834" y="1459"/>
                  </a:lnTo>
                  <a:lnTo>
                    <a:pt x="1755" y="1532"/>
                  </a:lnTo>
                  <a:lnTo>
                    <a:pt x="1676" y="1607"/>
                  </a:lnTo>
                  <a:lnTo>
                    <a:pt x="1599" y="1684"/>
                  </a:lnTo>
                  <a:lnTo>
                    <a:pt x="1524" y="1763"/>
                  </a:lnTo>
                  <a:lnTo>
                    <a:pt x="1450" y="1841"/>
                  </a:lnTo>
                  <a:lnTo>
                    <a:pt x="1377" y="1924"/>
                  </a:lnTo>
                  <a:lnTo>
                    <a:pt x="1308" y="2007"/>
                  </a:lnTo>
                  <a:lnTo>
                    <a:pt x="1239" y="2092"/>
                  </a:lnTo>
                  <a:lnTo>
                    <a:pt x="1173" y="2179"/>
                  </a:lnTo>
                  <a:lnTo>
                    <a:pt x="1173" y="2179"/>
                  </a:lnTo>
                  <a:lnTo>
                    <a:pt x="1056" y="2365"/>
                  </a:lnTo>
                  <a:lnTo>
                    <a:pt x="944" y="2543"/>
                  </a:lnTo>
                  <a:lnTo>
                    <a:pt x="944" y="2543"/>
                  </a:lnTo>
                  <a:lnTo>
                    <a:pt x="902" y="2614"/>
                  </a:lnTo>
                  <a:lnTo>
                    <a:pt x="861" y="2684"/>
                  </a:lnTo>
                  <a:lnTo>
                    <a:pt x="823" y="2757"/>
                  </a:lnTo>
                  <a:lnTo>
                    <a:pt x="785" y="2830"/>
                  </a:lnTo>
                  <a:lnTo>
                    <a:pt x="785" y="2830"/>
                  </a:lnTo>
                  <a:lnTo>
                    <a:pt x="726" y="2929"/>
                  </a:lnTo>
                  <a:lnTo>
                    <a:pt x="671" y="3032"/>
                  </a:lnTo>
                  <a:lnTo>
                    <a:pt x="619" y="3133"/>
                  </a:lnTo>
                  <a:lnTo>
                    <a:pt x="568" y="3236"/>
                  </a:lnTo>
                  <a:lnTo>
                    <a:pt x="520" y="3341"/>
                  </a:lnTo>
                  <a:lnTo>
                    <a:pt x="475" y="3446"/>
                  </a:lnTo>
                  <a:lnTo>
                    <a:pt x="433" y="3555"/>
                  </a:lnTo>
                  <a:lnTo>
                    <a:pt x="395" y="3665"/>
                  </a:lnTo>
                  <a:lnTo>
                    <a:pt x="395" y="3665"/>
                  </a:lnTo>
                  <a:lnTo>
                    <a:pt x="350" y="3806"/>
                  </a:lnTo>
                  <a:lnTo>
                    <a:pt x="310" y="3950"/>
                  </a:lnTo>
                  <a:lnTo>
                    <a:pt x="273" y="4095"/>
                  </a:lnTo>
                  <a:lnTo>
                    <a:pt x="243" y="4239"/>
                  </a:lnTo>
                  <a:lnTo>
                    <a:pt x="217" y="4384"/>
                  </a:lnTo>
                  <a:lnTo>
                    <a:pt x="194" y="4532"/>
                  </a:lnTo>
                  <a:lnTo>
                    <a:pt x="176" y="4679"/>
                  </a:lnTo>
                  <a:lnTo>
                    <a:pt x="162" y="4827"/>
                  </a:lnTo>
                  <a:lnTo>
                    <a:pt x="154" y="4974"/>
                  </a:lnTo>
                  <a:lnTo>
                    <a:pt x="148" y="5122"/>
                  </a:lnTo>
                  <a:lnTo>
                    <a:pt x="148" y="5270"/>
                  </a:lnTo>
                  <a:lnTo>
                    <a:pt x="152" y="5417"/>
                  </a:lnTo>
                  <a:lnTo>
                    <a:pt x="160" y="5565"/>
                  </a:lnTo>
                  <a:lnTo>
                    <a:pt x="172" y="5714"/>
                  </a:lnTo>
                  <a:lnTo>
                    <a:pt x="188" y="5862"/>
                  </a:lnTo>
                  <a:lnTo>
                    <a:pt x="209" y="6007"/>
                  </a:lnTo>
                  <a:lnTo>
                    <a:pt x="233" y="6155"/>
                  </a:lnTo>
                  <a:lnTo>
                    <a:pt x="263" y="6300"/>
                  </a:lnTo>
                  <a:lnTo>
                    <a:pt x="296" y="6446"/>
                  </a:lnTo>
                  <a:lnTo>
                    <a:pt x="334" y="6591"/>
                  </a:lnTo>
                  <a:lnTo>
                    <a:pt x="376" y="6735"/>
                  </a:lnTo>
                  <a:lnTo>
                    <a:pt x="421" y="6876"/>
                  </a:lnTo>
                  <a:lnTo>
                    <a:pt x="471" y="7018"/>
                  </a:lnTo>
                  <a:lnTo>
                    <a:pt x="526" y="7159"/>
                  </a:lnTo>
                  <a:lnTo>
                    <a:pt x="585" y="7299"/>
                  </a:lnTo>
                  <a:lnTo>
                    <a:pt x="645" y="7436"/>
                  </a:lnTo>
                  <a:lnTo>
                    <a:pt x="712" y="7572"/>
                  </a:lnTo>
                  <a:lnTo>
                    <a:pt x="783" y="7707"/>
                  </a:lnTo>
                  <a:lnTo>
                    <a:pt x="857" y="7841"/>
                  </a:lnTo>
                  <a:lnTo>
                    <a:pt x="936" y="7972"/>
                  </a:lnTo>
                  <a:lnTo>
                    <a:pt x="1019" y="8101"/>
                  </a:lnTo>
                  <a:lnTo>
                    <a:pt x="1106" y="8227"/>
                  </a:lnTo>
                  <a:close/>
                  <a:moveTo>
                    <a:pt x="5086" y="0"/>
                  </a:moveTo>
                  <a:lnTo>
                    <a:pt x="5086" y="0"/>
                  </a:lnTo>
                  <a:lnTo>
                    <a:pt x="4999" y="0"/>
                  </a:lnTo>
                  <a:lnTo>
                    <a:pt x="4914" y="2"/>
                  </a:lnTo>
                  <a:lnTo>
                    <a:pt x="4827" y="6"/>
                  </a:lnTo>
                  <a:lnTo>
                    <a:pt x="4740" y="12"/>
                  </a:lnTo>
                  <a:lnTo>
                    <a:pt x="4655" y="18"/>
                  </a:lnTo>
                  <a:lnTo>
                    <a:pt x="4568" y="26"/>
                  </a:lnTo>
                  <a:lnTo>
                    <a:pt x="4482" y="37"/>
                  </a:lnTo>
                  <a:lnTo>
                    <a:pt x="4397" y="47"/>
                  </a:lnTo>
                  <a:lnTo>
                    <a:pt x="4310" y="61"/>
                  </a:lnTo>
                  <a:lnTo>
                    <a:pt x="4225" y="75"/>
                  </a:lnTo>
                  <a:lnTo>
                    <a:pt x="4140" y="89"/>
                  </a:lnTo>
                  <a:lnTo>
                    <a:pt x="4053" y="107"/>
                  </a:lnTo>
                  <a:lnTo>
                    <a:pt x="3968" y="125"/>
                  </a:lnTo>
                  <a:lnTo>
                    <a:pt x="3883" y="146"/>
                  </a:lnTo>
                  <a:lnTo>
                    <a:pt x="3798" y="168"/>
                  </a:lnTo>
                  <a:lnTo>
                    <a:pt x="3716" y="192"/>
                  </a:lnTo>
                  <a:lnTo>
                    <a:pt x="3716" y="192"/>
                  </a:lnTo>
                  <a:lnTo>
                    <a:pt x="3625" y="218"/>
                  </a:lnTo>
                  <a:lnTo>
                    <a:pt x="3534" y="247"/>
                  </a:lnTo>
                  <a:lnTo>
                    <a:pt x="3443" y="277"/>
                  </a:lnTo>
                  <a:lnTo>
                    <a:pt x="3354" y="309"/>
                  </a:lnTo>
                  <a:lnTo>
                    <a:pt x="3265" y="344"/>
                  </a:lnTo>
                  <a:lnTo>
                    <a:pt x="3176" y="378"/>
                  </a:lnTo>
                  <a:lnTo>
                    <a:pt x="3089" y="417"/>
                  </a:lnTo>
                  <a:lnTo>
                    <a:pt x="3002" y="455"/>
                  </a:lnTo>
                  <a:lnTo>
                    <a:pt x="2915" y="495"/>
                  </a:lnTo>
                  <a:lnTo>
                    <a:pt x="2828" y="538"/>
                  </a:lnTo>
                  <a:lnTo>
                    <a:pt x="2743" y="582"/>
                  </a:lnTo>
                  <a:lnTo>
                    <a:pt x="2660" y="629"/>
                  </a:lnTo>
                  <a:lnTo>
                    <a:pt x="2576" y="675"/>
                  </a:lnTo>
                  <a:lnTo>
                    <a:pt x="2495" y="724"/>
                  </a:lnTo>
                  <a:lnTo>
                    <a:pt x="2412" y="774"/>
                  </a:lnTo>
                  <a:lnTo>
                    <a:pt x="2331" y="827"/>
                  </a:lnTo>
                  <a:lnTo>
                    <a:pt x="2252" y="881"/>
                  </a:lnTo>
                  <a:lnTo>
                    <a:pt x="2173" y="936"/>
                  </a:lnTo>
                  <a:lnTo>
                    <a:pt x="2094" y="993"/>
                  </a:lnTo>
                  <a:lnTo>
                    <a:pt x="2018" y="1051"/>
                  </a:lnTo>
                  <a:lnTo>
                    <a:pt x="1941" y="1110"/>
                  </a:lnTo>
                  <a:lnTo>
                    <a:pt x="1866" y="1170"/>
                  </a:lnTo>
                  <a:lnTo>
                    <a:pt x="1793" y="1233"/>
                  </a:lnTo>
                  <a:lnTo>
                    <a:pt x="1721" y="1298"/>
                  </a:lnTo>
                  <a:lnTo>
                    <a:pt x="1650" y="1362"/>
                  </a:lnTo>
                  <a:lnTo>
                    <a:pt x="1579" y="1429"/>
                  </a:lnTo>
                  <a:lnTo>
                    <a:pt x="1510" y="1498"/>
                  </a:lnTo>
                  <a:lnTo>
                    <a:pt x="1442" y="1567"/>
                  </a:lnTo>
                  <a:lnTo>
                    <a:pt x="1375" y="1637"/>
                  </a:lnTo>
                  <a:lnTo>
                    <a:pt x="1310" y="1710"/>
                  </a:lnTo>
                  <a:lnTo>
                    <a:pt x="1246" y="1783"/>
                  </a:lnTo>
                  <a:lnTo>
                    <a:pt x="1183" y="1858"/>
                  </a:lnTo>
                  <a:lnTo>
                    <a:pt x="1183" y="1858"/>
                  </a:lnTo>
                  <a:lnTo>
                    <a:pt x="1122" y="1934"/>
                  </a:lnTo>
                  <a:lnTo>
                    <a:pt x="1062" y="2011"/>
                  </a:lnTo>
                  <a:lnTo>
                    <a:pt x="1003" y="2090"/>
                  </a:lnTo>
                  <a:lnTo>
                    <a:pt x="946" y="2169"/>
                  </a:lnTo>
                  <a:lnTo>
                    <a:pt x="892" y="2250"/>
                  </a:lnTo>
                  <a:lnTo>
                    <a:pt x="837" y="2331"/>
                  </a:lnTo>
                  <a:lnTo>
                    <a:pt x="785" y="2413"/>
                  </a:lnTo>
                  <a:lnTo>
                    <a:pt x="734" y="2498"/>
                  </a:lnTo>
                  <a:lnTo>
                    <a:pt x="686" y="2583"/>
                  </a:lnTo>
                  <a:lnTo>
                    <a:pt x="637" y="2668"/>
                  </a:lnTo>
                  <a:lnTo>
                    <a:pt x="591" y="2755"/>
                  </a:lnTo>
                  <a:lnTo>
                    <a:pt x="546" y="2842"/>
                  </a:lnTo>
                  <a:lnTo>
                    <a:pt x="504" y="2931"/>
                  </a:lnTo>
                  <a:lnTo>
                    <a:pt x="461" y="3020"/>
                  </a:lnTo>
                  <a:lnTo>
                    <a:pt x="423" y="3111"/>
                  </a:lnTo>
                  <a:lnTo>
                    <a:pt x="384" y="3202"/>
                  </a:lnTo>
                  <a:lnTo>
                    <a:pt x="348" y="3295"/>
                  </a:lnTo>
                  <a:lnTo>
                    <a:pt x="314" y="3386"/>
                  </a:lnTo>
                  <a:lnTo>
                    <a:pt x="281" y="3479"/>
                  </a:lnTo>
                  <a:lnTo>
                    <a:pt x="251" y="3574"/>
                  </a:lnTo>
                  <a:lnTo>
                    <a:pt x="221" y="3669"/>
                  </a:lnTo>
                  <a:lnTo>
                    <a:pt x="194" y="3764"/>
                  </a:lnTo>
                  <a:lnTo>
                    <a:pt x="168" y="3859"/>
                  </a:lnTo>
                  <a:lnTo>
                    <a:pt x="144" y="3956"/>
                  </a:lnTo>
                  <a:lnTo>
                    <a:pt x="122" y="4053"/>
                  </a:lnTo>
                  <a:lnTo>
                    <a:pt x="101" y="4150"/>
                  </a:lnTo>
                  <a:lnTo>
                    <a:pt x="83" y="4247"/>
                  </a:lnTo>
                  <a:lnTo>
                    <a:pt x="67" y="4346"/>
                  </a:lnTo>
                  <a:lnTo>
                    <a:pt x="53" y="4443"/>
                  </a:lnTo>
                  <a:lnTo>
                    <a:pt x="39" y="4542"/>
                  </a:lnTo>
                  <a:lnTo>
                    <a:pt x="29" y="4641"/>
                  </a:lnTo>
                  <a:lnTo>
                    <a:pt x="21" y="4740"/>
                  </a:lnTo>
                  <a:lnTo>
                    <a:pt x="21" y="4740"/>
                  </a:lnTo>
                  <a:lnTo>
                    <a:pt x="13" y="4841"/>
                  </a:lnTo>
                  <a:lnTo>
                    <a:pt x="6" y="4944"/>
                  </a:lnTo>
                  <a:lnTo>
                    <a:pt x="2" y="5045"/>
                  </a:lnTo>
                  <a:lnTo>
                    <a:pt x="0" y="5148"/>
                  </a:lnTo>
                  <a:lnTo>
                    <a:pt x="0" y="5148"/>
                  </a:lnTo>
                  <a:lnTo>
                    <a:pt x="6" y="5162"/>
                  </a:lnTo>
                  <a:lnTo>
                    <a:pt x="13" y="5172"/>
                  </a:lnTo>
                  <a:lnTo>
                    <a:pt x="21" y="5179"/>
                  </a:lnTo>
                  <a:lnTo>
                    <a:pt x="27" y="5181"/>
                  </a:lnTo>
                  <a:lnTo>
                    <a:pt x="27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340"/>
                  </a:lnTo>
                  <a:lnTo>
                    <a:pt x="35" y="5498"/>
                  </a:lnTo>
                  <a:lnTo>
                    <a:pt x="45" y="5658"/>
                  </a:lnTo>
                  <a:lnTo>
                    <a:pt x="61" y="5815"/>
                  </a:lnTo>
                  <a:lnTo>
                    <a:pt x="79" y="5973"/>
                  </a:lnTo>
                  <a:lnTo>
                    <a:pt x="103" y="6131"/>
                  </a:lnTo>
                  <a:lnTo>
                    <a:pt x="134" y="6288"/>
                  </a:lnTo>
                  <a:lnTo>
                    <a:pt x="166" y="6444"/>
                  </a:lnTo>
                  <a:lnTo>
                    <a:pt x="166" y="6444"/>
                  </a:lnTo>
                  <a:lnTo>
                    <a:pt x="188" y="6521"/>
                  </a:lnTo>
                  <a:lnTo>
                    <a:pt x="188" y="6521"/>
                  </a:lnTo>
                  <a:lnTo>
                    <a:pt x="221" y="6630"/>
                  </a:lnTo>
                  <a:lnTo>
                    <a:pt x="255" y="6737"/>
                  </a:lnTo>
                  <a:lnTo>
                    <a:pt x="293" y="6844"/>
                  </a:lnTo>
                  <a:lnTo>
                    <a:pt x="334" y="6951"/>
                  </a:lnTo>
                  <a:lnTo>
                    <a:pt x="376" y="7056"/>
                  </a:lnTo>
                  <a:lnTo>
                    <a:pt x="421" y="7159"/>
                  </a:lnTo>
                  <a:lnTo>
                    <a:pt x="469" y="7262"/>
                  </a:lnTo>
                  <a:lnTo>
                    <a:pt x="518" y="7364"/>
                  </a:lnTo>
                  <a:lnTo>
                    <a:pt x="570" y="7465"/>
                  </a:lnTo>
                  <a:lnTo>
                    <a:pt x="625" y="7562"/>
                  </a:lnTo>
                  <a:lnTo>
                    <a:pt x="682" y="7659"/>
                  </a:lnTo>
                  <a:lnTo>
                    <a:pt x="738" y="7756"/>
                  </a:lnTo>
                  <a:lnTo>
                    <a:pt x="799" y="7849"/>
                  </a:lnTo>
                  <a:lnTo>
                    <a:pt x="861" y="7942"/>
                  </a:lnTo>
                  <a:lnTo>
                    <a:pt x="926" y="8031"/>
                  </a:lnTo>
                  <a:lnTo>
                    <a:pt x="993" y="8119"/>
                  </a:lnTo>
                  <a:lnTo>
                    <a:pt x="993" y="8119"/>
                  </a:lnTo>
                  <a:lnTo>
                    <a:pt x="1092" y="8247"/>
                  </a:lnTo>
                  <a:lnTo>
                    <a:pt x="1203" y="8390"/>
                  </a:lnTo>
                  <a:lnTo>
                    <a:pt x="1262" y="8463"/>
                  </a:lnTo>
                  <a:lnTo>
                    <a:pt x="1324" y="8540"/>
                  </a:lnTo>
                  <a:lnTo>
                    <a:pt x="1389" y="8615"/>
                  </a:lnTo>
                  <a:lnTo>
                    <a:pt x="1454" y="8691"/>
                  </a:lnTo>
                  <a:lnTo>
                    <a:pt x="1454" y="8691"/>
                  </a:lnTo>
                  <a:lnTo>
                    <a:pt x="1520" y="8764"/>
                  </a:lnTo>
                  <a:lnTo>
                    <a:pt x="1589" y="8837"/>
                  </a:lnTo>
                  <a:lnTo>
                    <a:pt x="1658" y="8908"/>
                  </a:lnTo>
                  <a:lnTo>
                    <a:pt x="1727" y="8972"/>
                  </a:lnTo>
                  <a:lnTo>
                    <a:pt x="1795" y="9035"/>
                  </a:lnTo>
                  <a:lnTo>
                    <a:pt x="1862" y="9094"/>
                  </a:lnTo>
                  <a:lnTo>
                    <a:pt x="1927" y="9146"/>
                  </a:lnTo>
                  <a:lnTo>
                    <a:pt x="1989" y="9195"/>
                  </a:lnTo>
                  <a:lnTo>
                    <a:pt x="1989" y="9195"/>
                  </a:lnTo>
                  <a:lnTo>
                    <a:pt x="2058" y="9245"/>
                  </a:lnTo>
                  <a:lnTo>
                    <a:pt x="2127" y="9296"/>
                  </a:lnTo>
                  <a:lnTo>
                    <a:pt x="2196" y="9344"/>
                  </a:lnTo>
                  <a:lnTo>
                    <a:pt x="2266" y="9393"/>
                  </a:lnTo>
                  <a:lnTo>
                    <a:pt x="2339" y="9439"/>
                  </a:lnTo>
                  <a:lnTo>
                    <a:pt x="2410" y="9486"/>
                  </a:lnTo>
                  <a:lnTo>
                    <a:pt x="2485" y="9530"/>
                  </a:lnTo>
                  <a:lnTo>
                    <a:pt x="2557" y="9575"/>
                  </a:lnTo>
                  <a:lnTo>
                    <a:pt x="2632" y="9617"/>
                  </a:lnTo>
                  <a:lnTo>
                    <a:pt x="2707" y="9660"/>
                  </a:lnTo>
                  <a:lnTo>
                    <a:pt x="2784" y="9700"/>
                  </a:lnTo>
                  <a:lnTo>
                    <a:pt x="2861" y="9738"/>
                  </a:lnTo>
                  <a:lnTo>
                    <a:pt x="2937" y="9777"/>
                  </a:lnTo>
                  <a:lnTo>
                    <a:pt x="3014" y="9813"/>
                  </a:lnTo>
                  <a:lnTo>
                    <a:pt x="3093" y="9850"/>
                  </a:lnTo>
                  <a:lnTo>
                    <a:pt x="3172" y="9884"/>
                  </a:lnTo>
                  <a:lnTo>
                    <a:pt x="3251" y="9918"/>
                  </a:lnTo>
                  <a:lnTo>
                    <a:pt x="3331" y="9951"/>
                  </a:lnTo>
                  <a:lnTo>
                    <a:pt x="3412" y="9981"/>
                  </a:lnTo>
                  <a:lnTo>
                    <a:pt x="3493" y="10011"/>
                  </a:lnTo>
                  <a:lnTo>
                    <a:pt x="3574" y="10040"/>
                  </a:lnTo>
                  <a:lnTo>
                    <a:pt x="3655" y="10068"/>
                  </a:lnTo>
                  <a:lnTo>
                    <a:pt x="3738" y="10092"/>
                  </a:lnTo>
                  <a:lnTo>
                    <a:pt x="3821" y="10116"/>
                  </a:lnTo>
                  <a:lnTo>
                    <a:pt x="3903" y="10141"/>
                  </a:lnTo>
                  <a:lnTo>
                    <a:pt x="3986" y="10163"/>
                  </a:lnTo>
                  <a:lnTo>
                    <a:pt x="4069" y="10183"/>
                  </a:lnTo>
                  <a:lnTo>
                    <a:pt x="4154" y="10201"/>
                  </a:lnTo>
                  <a:lnTo>
                    <a:pt x="4237" y="10220"/>
                  </a:lnTo>
                  <a:lnTo>
                    <a:pt x="4322" y="10234"/>
                  </a:lnTo>
                  <a:lnTo>
                    <a:pt x="4407" y="10250"/>
                  </a:lnTo>
                  <a:lnTo>
                    <a:pt x="4492" y="10262"/>
                  </a:lnTo>
                  <a:lnTo>
                    <a:pt x="4492" y="10262"/>
                  </a:lnTo>
                  <a:lnTo>
                    <a:pt x="4583" y="10274"/>
                  </a:lnTo>
                  <a:lnTo>
                    <a:pt x="4676" y="10286"/>
                  </a:lnTo>
                  <a:lnTo>
                    <a:pt x="4767" y="10296"/>
                  </a:lnTo>
                  <a:lnTo>
                    <a:pt x="4860" y="10302"/>
                  </a:lnTo>
                  <a:lnTo>
                    <a:pt x="4951" y="10308"/>
                  </a:lnTo>
                  <a:lnTo>
                    <a:pt x="5041" y="10312"/>
                  </a:lnTo>
                  <a:lnTo>
                    <a:pt x="5134" y="10317"/>
                  </a:lnTo>
                  <a:lnTo>
                    <a:pt x="5225" y="10317"/>
                  </a:lnTo>
                  <a:lnTo>
                    <a:pt x="5225" y="10317"/>
                  </a:lnTo>
                  <a:lnTo>
                    <a:pt x="5347" y="10315"/>
                  </a:lnTo>
                  <a:lnTo>
                    <a:pt x="5470" y="10310"/>
                  </a:lnTo>
                  <a:lnTo>
                    <a:pt x="5591" y="10302"/>
                  </a:lnTo>
                  <a:lnTo>
                    <a:pt x="5711" y="10292"/>
                  </a:lnTo>
                  <a:lnTo>
                    <a:pt x="5832" y="10280"/>
                  </a:lnTo>
                  <a:lnTo>
                    <a:pt x="5949" y="10264"/>
                  </a:lnTo>
                  <a:lnTo>
                    <a:pt x="6068" y="10244"/>
                  </a:lnTo>
                  <a:lnTo>
                    <a:pt x="6183" y="10222"/>
                  </a:lnTo>
                  <a:lnTo>
                    <a:pt x="6301" y="10197"/>
                  </a:lnTo>
                  <a:lnTo>
                    <a:pt x="6414" y="10169"/>
                  </a:lnTo>
                  <a:lnTo>
                    <a:pt x="6527" y="10139"/>
                  </a:lnTo>
                  <a:lnTo>
                    <a:pt x="6638" y="10106"/>
                  </a:lnTo>
                  <a:lnTo>
                    <a:pt x="6747" y="10070"/>
                  </a:lnTo>
                  <a:lnTo>
                    <a:pt x="6857" y="10032"/>
                  </a:lnTo>
                  <a:lnTo>
                    <a:pt x="6962" y="9989"/>
                  </a:lnTo>
                  <a:lnTo>
                    <a:pt x="7067" y="9947"/>
                  </a:lnTo>
                  <a:lnTo>
                    <a:pt x="7067" y="9947"/>
                  </a:lnTo>
                  <a:lnTo>
                    <a:pt x="7214" y="9892"/>
                  </a:lnTo>
                  <a:lnTo>
                    <a:pt x="7362" y="9833"/>
                  </a:lnTo>
                  <a:lnTo>
                    <a:pt x="7507" y="9771"/>
                  </a:lnTo>
                  <a:lnTo>
                    <a:pt x="7649" y="9704"/>
                  </a:lnTo>
                  <a:lnTo>
                    <a:pt x="7649" y="9704"/>
                  </a:lnTo>
                  <a:lnTo>
                    <a:pt x="7473" y="9773"/>
                  </a:lnTo>
                  <a:lnTo>
                    <a:pt x="7293" y="9844"/>
                  </a:lnTo>
                  <a:lnTo>
                    <a:pt x="7117" y="9908"/>
                  </a:lnTo>
                  <a:lnTo>
                    <a:pt x="6950" y="9967"/>
                  </a:lnTo>
                  <a:lnTo>
                    <a:pt x="6950" y="9967"/>
                  </a:lnTo>
                  <a:lnTo>
                    <a:pt x="6913" y="9977"/>
                  </a:lnTo>
                  <a:lnTo>
                    <a:pt x="6881" y="9981"/>
                  </a:lnTo>
                  <a:lnTo>
                    <a:pt x="6881" y="9981"/>
                  </a:lnTo>
                  <a:lnTo>
                    <a:pt x="6804" y="10011"/>
                  </a:lnTo>
                  <a:lnTo>
                    <a:pt x="6751" y="10032"/>
                  </a:lnTo>
                  <a:lnTo>
                    <a:pt x="6751" y="10032"/>
                  </a:lnTo>
                  <a:lnTo>
                    <a:pt x="6588" y="10066"/>
                  </a:lnTo>
                  <a:lnTo>
                    <a:pt x="6414" y="10098"/>
                  </a:lnTo>
                  <a:lnTo>
                    <a:pt x="6230" y="10129"/>
                  </a:lnTo>
                  <a:lnTo>
                    <a:pt x="6133" y="10143"/>
                  </a:lnTo>
                  <a:lnTo>
                    <a:pt x="6034" y="10157"/>
                  </a:lnTo>
                  <a:lnTo>
                    <a:pt x="5933" y="10169"/>
                  </a:lnTo>
                  <a:lnTo>
                    <a:pt x="5832" y="10181"/>
                  </a:lnTo>
                  <a:lnTo>
                    <a:pt x="5727" y="10189"/>
                  </a:lnTo>
                  <a:lnTo>
                    <a:pt x="5620" y="10199"/>
                  </a:lnTo>
                  <a:lnTo>
                    <a:pt x="5510" y="10205"/>
                  </a:lnTo>
                  <a:lnTo>
                    <a:pt x="5401" y="10209"/>
                  </a:lnTo>
                  <a:lnTo>
                    <a:pt x="5288" y="10213"/>
                  </a:lnTo>
                  <a:lnTo>
                    <a:pt x="5175" y="10215"/>
                  </a:lnTo>
                  <a:lnTo>
                    <a:pt x="5175" y="10215"/>
                  </a:lnTo>
                  <a:lnTo>
                    <a:pt x="5090" y="10213"/>
                  </a:lnTo>
                  <a:lnTo>
                    <a:pt x="5005" y="10211"/>
                  </a:lnTo>
                  <a:lnTo>
                    <a:pt x="4920" y="10209"/>
                  </a:lnTo>
                  <a:lnTo>
                    <a:pt x="4833" y="10205"/>
                  </a:lnTo>
                  <a:lnTo>
                    <a:pt x="4746" y="10199"/>
                  </a:lnTo>
                  <a:lnTo>
                    <a:pt x="4659" y="10191"/>
                  </a:lnTo>
                  <a:lnTo>
                    <a:pt x="4571" y="10183"/>
                  </a:lnTo>
                  <a:lnTo>
                    <a:pt x="4482" y="10171"/>
                  </a:lnTo>
                  <a:lnTo>
                    <a:pt x="4482" y="10171"/>
                  </a:lnTo>
                  <a:lnTo>
                    <a:pt x="4399" y="10161"/>
                  </a:lnTo>
                  <a:lnTo>
                    <a:pt x="4318" y="10151"/>
                  </a:lnTo>
                  <a:lnTo>
                    <a:pt x="4235" y="10137"/>
                  </a:lnTo>
                  <a:lnTo>
                    <a:pt x="4152" y="10123"/>
                  </a:lnTo>
                  <a:lnTo>
                    <a:pt x="4069" y="10106"/>
                  </a:lnTo>
                  <a:lnTo>
                    <a:pt x="3986" y="10088"/>
                  </a:lnTo>
                  <a:lnTo>
                    <a:pt x="3906" y="10070"/>
                  </a:lnTo>
                  <a:lnTo>
                    <a:pt x="3823" y="10050"/>
                  </a:lnTo>
                  <a:lnTo>
                    <a:pt x="3742" y="10028"/>
                  </a:lnTo>
                  <a:lnTo>
                    <a:pt x="3659" y="10003"/>
                  </a:lnTo>
                  <a:lnTo>
                    <a:pt x="3578" y="9979"/>
                  </a:lnTo>
                  <a:lnTo>
                    <a:pt x="3497" y="9955"/>
                  </a:lnTo>
                  <a:lnTo>
                    <a:pt x="3416" y="9926"/>
                  </a:lnTo>
                  <a:lnTo>
                    <a:pt x="3338" y="9898"/>
                  </a:lnTo>
                  <a:lnTo>
                    <a:pt x="3257" y="9870"/>
                  </a:lnTo>
                  <a:lnTo>
                    <a:pt x="3178" y="9838"/>
                  </a:lnTo>
                  <a:lnTo>
                    <a:pt x="3101" y="9805"/>
                  </a:lnTo>
                  <a:lnTo>
                    <a:pt x="3024" y="9773"/>
                  </a:lnTo>
                  <a:lnTo>
                    <a:pt x="2947" y="9738"/>
                  </a:lnTo>
                  <a:lnTo>
                    <a:pt x="2871" y="9704"/>
                  </a:lnTo>
                  <a:lnTo>
                    <a:pt x="2796" y="9666"/>
                  </a:lnTo>
                  <a:lnTo>
                    <a:pt x="2721" y="9629"/>
                  </a:lnTo>
                  <a:lnTo>
                    <a:pt x="2648" y="9591"/>
                  </a:lnTo>
                  <a:lnTo>
                    <a:pt x="2578" y="9550"/>
                  </a:lnTo>
                  <a:lnTo>
                    <a:pt x="2507" y="9510"/>
                  </a:lnTo>
                  <a:lnTo>
                    <a:pt x="2436" y="9468"/>
                  </a:lnTo>
                  <a:lnTo>
                    <a:pt x="2367" y="9425"/>
                  </a:lnTo>
                  <a:lnTo>
                    <a:pt x="2301" y="9383"/>
                  </a:lnTo>
                  <a:lnTo>
                    <a:pt x="2234" y="9338"/>
                  </a:lnTo>
                  <a:lnTo>
                    <a:pt x="2169" y="9292"/>
                  </a:lnTo>
                  <a:lnTo>
                    <a:pt x="2105" y="9245"/>
                  </a:lnTo>
                  <a:lnTo>
                    <a:pt x="2044" y="9199"/>
                  </a:lnTo>
                  <a:lnTo>
                    <a:pt x="2044" y="9199"/>
                  </a:lnTo>
                  <a:lnTo>
                    <a:pt x="1973" y="9144"/>
                  </a:lnTo>
                  <a:lnTo>
                    <a:pt x="1904" y="9088"/>
                  </a:lnTo>
                  <a:lnTo>
                    <a:pt x="1838" y="9031"/>
                  </a:lnTo>
                  <a:lnTo>
                    <a:pt x="1771" y="8972"/>
                  </a:lnTo>
                  <a:lnTo>
                    <a:pt x="1706" y="8914"/>
                  </a:lnTo>
                  <a:lnTo>
                    <a:pt x="1642" y="8853"/>
                  </a:lnTo>
                  <a:lnTo>
                    <a:pt x="1579" y="8791"/>
                  </a:lnTo>
                  <a:lnTo>
                    <a:pt x="1516" y="8728"/>
                  </a:lnTo>
                  <a:lnTo>
                    <a:pt x="1456" y="8665"/>
                  </a:lnTo>
                  <a:lnTo>
                    <a:pt x="1395" y="8601"/>
                  </a:lnTo>
                  <a:lnTo>
                    <a:pt x="1336" y="8534"/>
                  </a:lnTo>
                  <a:lnTo>
                    <a:pt x="1278" y="8469"/>
                  </a:lnTo>
                  <a:lnTo>
                    <a:pt x="1221" y="8400"/>
                  </a:lnTo>
                  <a:lnTo>
                    <a:pt x="1167" y="8332"/>
                  </a:lnTo>
                  <a:lnTo>
                    <a:pt x="1112" y="8263"/>
                  </a:lnTo>
                  <a:lnTo>
                    <a:pt x="1060" y="8192"/>
                  </a:lnTo>
                  <a:lnTo>
                    <a:pt x="1060" y="8192"/>
                  </a:lnTo>
                  <a:lnTo>
                    <a:pt x="1106" y="8241"/>
                  </a:lnTo>
                  <a:lnTo>
                    <a:pt x="1157" y="8291"/>
                  </a:lnTo>
                  <a:lnTo>
                    <a:pt x="1270" y="8402"/>
                  </a:lnTo>
                  <a:lnTo>
                    <a:pt x="1391" y="8518"/>
                  </a:lnTo>
                  <a:lnTo>
                    <a:pt x="1508" y="8631"/>
                  </a:lnTo>
                  <a:lnTo>
                    <a:pt x="1508" y="8631"/>
                  </a:lnTo>
                  <a:lnTo>
                    <a:pt x="1575" y="8698"/>
                  </a:lnTo>
                  <a:lnTo>
                    <a:pt x="1642" y="8764"/>
                  </a:lnTo>
                  <a:lnTo>
                    <a:pt x="1710" y="8831"/>
                  </a:lnTo>
                  <a:lnTo>
                    <a:pt x="1781" y="8894"/>
                  </a:lnTo>
                  <a:lnTo>
                    <a:pt x="1854" y="8958"/>
                  </a:lnTo>
                  <a:lnTo>
                    <a:pt x="1927" y="9021"/>
                  </a:lnTo>
                  <a:lnTo>
                    <a:pt x="2001" y="9082"/>
                  </a:lnTo>
                  <a:lnTo>
                    <a:pt x="2078" y="9142"/>
                  </a:lnTo>
                  <a:lnTo>
                    <a:pt x="2155" y="9201"/>
                  </a:lnTo>
                  <a:lnTo>
                    <a:pt x="2234" y="9257"/>
                  </a:lnTo>
                  <a:lnTo>
                    <a:pt x="2313" y="9314"/>
                  </a:lnTo>
                  <a:lnTo>
                    <a:pt x="2394" y="9367"/>
                  </a:lnTo>
                  <a:lnTo>
                    <a:pt x="2474" y="9421"/>
                  </a:lnTo>
                  <a:lnTo>
                    <a:pt x="2557" y="9472"/>
                  </a:lnTo>
                  <a:lnTo>
                    <a:pt x="2640" y="9520"/>
                  </a:lnTo>
                  <a:lnTo>
                    <a:pt x="2723" y="9569"/>
                  </a:lnTo>
                  <a:lnTo>
                    <a:pt x="2723" y="9569"/>
                  </a:lnTo>
                  <a:lnTo>
                    <a:pt x="2808" y="9615"/>
                  </a:lnTo>
                  <a:lnTo>
                    <a:pt x="2895" y="9660"/>
                  </a:lnTo>
                  <a:lnTo>
                    <a:pt x="2980" y="9702"/>
                  </a:lnTo>
                  <a:lnTo>
                    <a:pt x="3067" y="9743"/>
                  </a:lnTo>
                  <a:lnTo>
                    <a:pt x="3154" y="9781"/>
                  </a:lnTo>
                  <a:lnTo>
                    <a:pt x="3241" y="9817"/>
                  </a:lnTo>
                  <a:lnTo>
                    <a:pt x="3327" y="9852"/>
                  </a:lnTo>
                  <a:lnTo>
                    <a:pt x="3416" y="9884"/>
                  </a:lnTo>
                  <a:lnTo>
                    <a:pt x="3503" y="9916"/>
                  </a:lnTo>
                  <a:lnTo>
                    <a:pt x="3590" y="9945"/>
                  </a:lnTo>
                  <a:lnTo>
                    <a:pt x="3679" y="9971"/>
                  </a:lnTo>
                  <a:lnTo>
                    <a:pt x="3766" y="9995"/>
                  </a:lnTo>
                  <a:lnTo>
                    <a:pt x="3853" y="10019"/>
                  </a:lnTo>
                  <a:lnTo>
                    <a:pt x="3940" y="10040"/>
                  </a:lnTo>
                  <a:lnTo>
                    <a:pt x="4025" y="10058"/>
                  </a:lnTo>
                  <a:lnTo>
                    <a:pt x="4112" y="10074"/>
                  </a:lnTo>
                  <a:lnTo>
                    <a:pt x="4112" y="10074"/>
                  </a:lnTo>
                  <a:lnTo>
                    <a:pt x="4027" y="10050"/>
                  </a:lnTo>
                  <a:lnTo>
                    <a:pt x="3946" y="10025"/>
                  </a:lnTo>
                  <a:lnTo>
                    <a:pt x="3863" y="9999"/>
                  </a:lnTo>
                  <a:lnTo>
                    <a:pt x="3782" y="9971"/>
                  </a:lnTo>
                  <a:lnTo>
                    <a:pt x="3701" y="9941"/>
                  </a:lnTo>
                  <a:lnTo>
                    <a:pt x="3623" y="9910"/>
                  </a:lnTo>
                  <a:lnTo>
                    <a:pt x="3544" y="9878"/>
                  </a:lnTo>
                  <a:lnTo>
                    <a:pt x="3465" y="9844"/>
                  </a:lnTo>
                  <a:lnTo>
                    <a:pt x="3307" y="9773"/>
                  </a:lnTo>
                  <a:lnTo>
                    <a:pt x="3150" y="9698"/>
                  </a:lnTo>
                  <a:lnTo>
                    <a:pt x="2990" y="9617"/>
                  </a:lnTo>
                  <a:lnTo>
                    <a:pt x="2828" y="9532"/>
                  </a:lnTo>
                  <a:lnTo>
                    <a:pt x="2828" y="9532"/>
                  </a:lnTo>
                  <a:lnTo>
                    <a:pt x="2956" y="9591"/>
                  </a:lnTo>
                  <a:lnTo>
                    <a:pt x="3075" y="9645"/>
                  </a:lnTo>
                  <a:lnTo>
                    <a:pt x="3299" y="9740"/>
                  </a:lnTo>
                  <a:lnTo>
                    <a:pt x="3299" y="9740"/>
                  </a:lnTo>
                  <a:lnTo>
                    <a:pt x="3368" y="9769"/>
                  </a:lnTo>
                  <a:lnTo>
                    <a:pt x="3435" y="9797"/>
                  </a:lnTo>
                  <a:lnTo>
                    <a:pt x="3499" y="9821"/>
                  </a:lnTo>
                  <a:lnTo>
                    <a:pt x="3564" y="9846"/>
                  </a:lnTo>
                  <a:lnTo>
                    <a:pt x="3689" y="9886"/>
                  </a:lnTo>
                  <a:lnTo>
                    <a:pt x="3811" y="9922"/>
                  </a:lnTo>
                  <a:lnTo>
                    <a:pt x="3926" y="9953"/>
                  </a:lnTo>
                  <a:lnTo>
                    <a:pt x="4037" y="9977"/>
                  </a:lnTo>
                  <a:lnTo>
                    <a:pt x="4142" y="9997"/>
                  </a:lnTo>
                  <a:lnTo>
                    <a:pt x="4245" y="10013"/>
                  </a:lnTo>
                  <a:lnTo>
                    <a:pt x="4245" y="10013"/>
                  </a:lnTo>
                  <a:lnTo>
                    <a:pt x="4322" y="10025"/>
                  </a:lnTo>
                  <a:lnTo>
                    <a:pt x="4397" y="10034"/>
                  </a:lnTo>
                  <a:lnTo>
                    <a:pt x="4469" y="10040"/>
                  </a:lnTo>
                  <a:lnTo>
                    <a:pt x="4542" y="10046"/>
                  </a:lnTo>
                  <a:lnTo>
                    <a:pt x="4611" y="10050"/>
                  </a:lnTo>
                  <a:lnTo>
                    <a:pt x="4680" y="10052"/>
                  </a:lnTo>
                  <a:lnTo>
                    <a:pt x="4813" y="10054"/>
                  </a:lnTo>
                  <a:lnTo>
                    <a:pt x="4813" y="10054"/>
                  </a:lnTo>
                  <a:lnTo>
                    <a:pt x="4957" y="10052"/>
                  </a:lnTo>
                  <a:lnTo>
                    <a:pt x="4957" y="10052"/>
                  </a:lnTo>
                  <a:lnTo>
                    <a:pt x="5122" y="10046"/>
                  </a:lnTo>
                  <a:lnTo>
                    <a:pt x="5290" y="10036"/>
                  </a:lnTo>
                  <a:lnTo>
                    <a:pt x="5464" y="10019"/>
                  </a:lnTo>
                  <a:lnTo>
                    <a:pt x="5648" y="10001"/>
                  </a:lnTo>
                  <a:lnTo>
                    <a:pt x="5648" y="10001"/>
                  </a:lnTo>
                  <a:lnTo>
                    <a:pt x="5846" y="9977"/>
                  </a:lnTo>
                  <a:lnTo>
                    <a:pt x="5951" y="9963"/>
                  </a:lnTo>
                  <a:lnTo>
                    <a:pt x="6062" y="9949"/>
                  </a:lnTo>
                  <a:lnTo>
                    <a:pt x="6177" y="9928"/>
                  </a:lnTo>
                  <a:lnTo>
                    <a:pt x="6299" y="9908"/>
                  </a:lnTo>
                  <a:lnTo>
                    <a:pt x="6428" y="9884"/>
                  </a:lnTo>
                  <a:lnTo>
                    <a:pt x="6561" y="9856"/>
                  </a:lnTo>
                  <a:lnTo>
                    <a:pt x="6561" y="9856"/>
                  </a:lnTo>
                  <a:lnTo>
                    <a:pt x="6432" y="9888"/>
                  </a:lnTo>
                  <a:lnTo>
                    <a:pt x="6293" y="9920"/>
                  </a:lnTo>
                  <a:lnTo>
                    <a:pt x="6147" y="9951"/>
                  </a:lnTo>
                  <a:lnTo>
                    <a:pt x="5996" y="9981"/>
                  </a:lnTo>
                  <a:lnTo>
                    <a:pt x="5840" y="10009"/>
                  </a:lnTo>
                  <a:lnTo>
                    <a:pt x="5682" y="10034"/>
                  </a:lnTo>
                  <a:lnTo>
                    <a:pt x="5523" y="10054"/>
                  </a:lnTo>
                  <a:lnTo>
                    <a:pt x="5361" y="10072"/>
                  </a:lnTo>
                  <a:lnTo>
                    <a:pt x="5361" y="10072"/>
                  </a:lnTo>
                  <a:lnTo>
                    <a:pt x="5213" y="10084"/>
                  </a:lnTo>
                  <a:lnTo>
                    <a:pt x="5068" y="10092"/>
                  </a:lnTo>
                  <a:lnTo>
                    <a:pt x="4926" y="10096"/>
                  </a:lnTo>
                  <a:lnTo>
                    <a:pt x="4791" y="10098"/>
                  </a:lnTo>
                  <a:lnTo>
                    <a:pt x="4791" y="10098"/>
                  </a:lnTo>
                  <a:lnTo>
                    <a:pt x="4647" y="10096"/>
                  </a:lnTo>
                  <a:lnTo>
                    <a:pt x="4514" y="10092"/>
                  </a:lnTo>
                  <a:lnTo>
                    <a:pt x="4393" y="10084"/>
                  </a:lnTo>
                  <a:lnTo>
                    <a:pt x="4288" y="10076"/>
                  </a:lnTo>
                  <a:lnTo>
                    <a:pt x="4288" y="10076"/>
                  </a:lnTo>
                  <a:lnTo>
                    <a:pt x="4374" y="10092"/>
                  </a:lnTo>
                  <a:lnTo>
                    <a:pt x="4467" y="10104"/>
                  </a:lnTo>
                  <a:lnTo>
                    <a:pt x="4564" y="10116"/>
                  </a:lnTo>
                  <a:lnTo>
                    <a:pt x="4668" y="10127"/>
                  </a:lnTo>
                  <a:lnTo>
                    <a:pt x="4775" y="10135"/>
                  </a:lnTo>
                  <a:lnTo>
                    <a:pt x="4884" y="10141"/>
                  </a:lnTo>
                  <a:lnTo>
                    <a:pt x="4997" y="10145"/>
                  </a:lnTo>
                  <a:lnTo>
                    <a:pt x="5114" y="10147"/>
                  </a:lnTo>
                  <a:lnTo>
                    <a:pt x="5114" y="10147"/>
                  </a:lnTo>
                  <a:lnTo>
                    <a:pt x="5240" y="10145"/>
                  </a:lnTo>
                  <a:lnTo>
                    <a:pt x="5367" y="10141"/>
                  </a:lnTo>
                  <a:lnTo>
                    <a:pt x="5496" y="10133"/>
                  </a:lnTo>
                  <a:lnTo>
                    <a:pt x="5626" y="10120"/>
                  </a:lnTo>
                  <a:lnTo>
                    <a:pt x="5759" y="10106"/>
                  </a:lnTo>
                  <a:lnTo>
                    <a:pt x="5892" y="10088"/>
                  </a:lnTo>
                  <a:lnTo>
                    <a:pt x="6026" y="10066"/>
                  </a:lnTo>
                  <a:lnTo>
                    <a:pt x="6159" y="10040"/>
                  </a:lnTo>
                  <a:lnTo>
                    <a:pt x="6159" y="10040"/>
                  </a:lnTo>
                  <a:lnTo>
                    <a:pt x="6291" y="10011"/>
                  </a:lnTo>
                  <a:lnTo>
                    <a:pt x="6422" y="9979"/>
                  </a:lnTo>
                  <a:lnTo>
                    <a:pt x="6551" y="9945"/>
                  </a:lnTo>
                  <a:lnTo>
                    <a:pt x="6679" y="9906"/>
                  </a:lnTo>
                  <a:lnTo>
                    <a:pt x="6804" y="9864"/>
                  </a:lnTo>
                  <a:lnTo>
                    <a:pt x="6927" y="9819"/>
                  </a:lnTo>
                  <a:lnTo>
                    <a:pt x="7049" y="9773"/>
                  </a:lnTo>
                  <a:lnTo>
                    <a:pt x="7166" y="9724"/>
                  </a:lnTo>
                  <a:lnTo>
                    <a:pt x="7281" y="9674"/>
                  </a:lnTo>
                  <a:lnTo>
                    <a:pt x="7394" y="9621"/>
                  </a:lnTo>
                  <a:lnTo>
                    <a:pt x="7501" y="9569"/>
                  </a:lnTo>
                  <a:lnTo>
                    <a:pt x="7606" y="9516"/>
                  </a:lnTo>
                  <a:lnTo>
                    <a:pt x="7708" y="9462"/>
                  </a:lnTo>
                  <a:lnTo>
                    <a:pt x="7805" y="9407"/>
                  </a:lnTo>
                  <a:lnTo>
                    <a:pt x="7896" y="9352"/>
                  </a:lnTo>
                  <a:lnTo>
                    <a:pt x="7982" y="9298"/>
                  </a:lnTo>
                  <a:lnTo>
                    <a:pt x="7982" y="9298"/>
                  </a:lnTo>
                  <a:lnTo>
                    <a:pt x="8081" y="9233"/>
                  </a:lnTo>
                  <a:lnTo>
                    <a:pt x="8172" y="9173"/>
                  </a:lnTo>
                  <a:lnTo>
                    <a:pt x="8257" y="9112"/>
                  </a:lnTo>
                  <a:lnTo>
                    <a:pt x="8332" y="9057"/>
                  </a:lnTo>
                  <a:lnTo>
                    <a:pt x="8403" y="9003"/>
                  </a:lnTo>
                  <a:lnTo>
                    <a:pt x="8468" y="8952"/>
                  </a:lnTo>
                  <a:lnTo>
                    <a:pt x="8526" y="8902"/>
                  </a:lnTo>
                  <a:lnTo>
                    <a:pt x="8581" y="8855"/>
                  </a:lnTo>
                  <a:lnTo>
                    <a:pt x="8629" y="8811"/>
                  </a:lnTo>
                  <a:lnTo>
                    <a:pt x="8676" y="8766"/>
                  </a:lnTo>
                  <a:lnTo>
                    <a:pt x="8757" y="8683"/>
                  </a:lnTo>
                  <a:lnTo>
                    <a:pt x="8829" y="8607"/>
                  </a:lnTo>
                  <a:lnTo>
                    <a:pt x="8896" y="8534"/>
                  </a:lnTo>
                  <a:lnTo>
                    <a:pt x="8896" y="8534"/>
                  </a:lnTo>
                  <a:lnTo>
                    <a:pt x="9021" y="8380"/>
                  </a:lnTo>
                  <a:lnTo>
                    <a:pt x="9086" y="8297"/>
                  </a:lnTo>
                  <a:lnTo>
                    <a:pt x="9157" y="8202"/>
                  </a:lnTo>
                  <a:lnTo>
                    <a:pt x="9232" y="8097"/>
                  </a:lnTo>
                  <a:lnTo>
                    <a:pt x="9314" y="7974"/>
                  </a:lnTo>
                  <a:lnTo>
                    <a:pt x="9405" y="7828"/>
                  </a:lnTo>
                  <a:lnTo>
                    <a:pt x="9506" y="7661"/>
                  </a:lnTo>
                  <a:lnTo>
                    <a:pt x="9506" y="7661"/>
                  </a:lnTo>
                  <a:lnTo>
                    <a:pt x="9533" y="7614"/>
                  </a:lnTo>
                  <a:lnTo>
                    <a:pt x="9567" y="7549"/>
                  </a:lnTo>
                  <a:lnTo>
                    <a:pt x="9603" y="7473"/>
                  </a:lnTo>
                  <a:lnTo>
                    <a:pt x="9646" y="7384"/>
                  </a:lnTo>
                  <a:lnTo>
                    <a:pt x="9688" y="7283"/>
                  </a:lnTo>
                  <a:lnTo>
                    <a:pt x="9733" y="7174"/>
                  </a:lnTo>
                  <a:lnTo>
                    <a:pt x="9775" y="7056"/>
                  </a:lnTo>
                  <a:lnTo>
                    <a:pt x="9818" y="6935"/>
                  </a:lnTo>
                  <a:lnTo>
                    <a:pt x="9818" y="6935"/>
                  </a:lnTo>
                  <a:lnTo>
                    <a:pt x="9856" y="6810"/>
                  </a:lnTo>
                  <a:lnTo>
                    <a:pt x="9893" y="6680"/>
                  </a:lnTo>
                  <a:lnTo>
                    <a:pt x="9925" y="6553"/>
                  </a:lnTo>
                  <a:lnTo>
                    <a:pt x="9953" y="6428"/>
                  </a:lnTo>
                  <a:lnTo>
                    <a:pt x="9977" y="6306"/>
                  </a:lnTo>
                  <a:lnTo>
                    <a:pt x="10000" y="6191"/>
                  </a:lnTo>
                  <a:lnTo>
                    <a:pt x="10018" y="6084"/>
                  </a:lnTo>
                  <a:lnTo>
                    <a:pt x="10032" y="5987"/>
                  </a:lnTo>
                  <a:lnTo>
                    <a:pt x="10032" y="5987"/>
                  </a:lnTo>
                  <a:lnTo>
                    <a:pt x="10000" y="6137"/>
                  </a:lnTo>
                  <a:lnTo>
                    <a:pt x="9965" y="6280"/>
                  </a:lnTo>
                  <a:lnTo>
                    <a:pt x="9929" y="6418"/>
                  </a:lnTo>
                  <a:lnTo>
                    <a:pt x="9891" y="6551"/>
                  </a:lnTo>
                  <a:lnTo>
                    <a:pt x="9850" y="6678"/>
                  </a:lnTo>
                  <a:lnTo>
                    <a:pt x="9808" y="6800"/>
                  </a:lnTo>
                  <a:lnTo>
                    <a:pt x="9765" y="6917"/>
                  </a:lnTo>
                  <a:lnTo>
                    <a:pt x="9723" y="7026"/>
                  </a:lnTo>
                  <a:lnTo>
                    <a:pt x="9678" y="7133"/>
                  </a:lnTo>
                  <a:lnTo>
                    <a:pt x="9632" y="7232"/>
                  </a:lnTo>
                  <a:lnTo>
                    <a:pt x="9585" y="7327"/>
                  </a:lnTo>
                  <a:lnTo>
                    <a:pt x="9541" y="7418"/>
                  </a:lnTo>
                  <a:lnTo>
                    <a:pt x="9494" y="7501"/>
                  </a:lnTo>
                  <a:lnTo>
                    <a:pt x="9448" y="7582"/>
                  </a:lnTo>
                  <a:lnTo>
                    <a:pt x="9401" y="7657"/>
                  </a:lnTo>
                  <a:lnTo>
                    <a:pt x="9355" y="7725"/>
                  </a:lnTo>
                  <a:lnTo>
                    <a:pt x="9355" y="7725"/>
                  </a:lnTo>
                  <a:lnTo>
                    <a:pt x="9286" y="7836"/>
                  </a:lnTo>
                  <a:lnTo>
                    <a:pt x="9211" y="7948"/>
                  </a:lnTo>
                  <a:lnTo>
                    <a:pt x="9135" y="8059"/>
                  </a:lnTo>
                  <a:lnTo>
                    <a:pt x="9052" y="8168"/>
                  </a:lnTo>
                  <a:lnTo>
                    <a:pt x="8965" y="8275"/>
                  </a:lnTo>
                  <a:lnTo>
                    <a:pt x="8876" y="8380"/>
                  </a:lnTo>
                  <a:lnTo>
                    <a:pt x="8783" y="8483"/>
                  </a:lnTo>
                  <a:lnTo>
                    <a:pt x="8686" y="8584"/>
                  </a:lnTo>
                  <a:lnTo>
                    <a:pt x="8589" y="8681"/>
                  </a:lnTo>
                  <a:lnTo>
                    <a:pt x="8488" y="8776"/>
                  </a:lnTo>
                  <a:lnTo>
                    <a:pt x="8385" y="8867"/>
                  </a:lnTo>
                  <a:lnTo>
                    <a:pt x="8282" y="8956"/>
                  </a:lnTo>
                  <a:lnTo>
                    <a:pt x="8176" y="9039"/>
                  </a:lnTo>
                  <a:lnTo>
                    <a:pt x="8071" y="9118"/>
                  </a:lnTo>
                  <a:lnTo>
                    <a:pt x="7964" y="9193"/>
                  </a:lnTo>
                  <a:lnTo>
                    <a:pt x="7859" y="9263"/>
                  </a:lnTo>
                  <a:lnTo>
                    <a:pt x="7859" y="9263"/>
                  </a:lnTo>
                  <a:lnTo>
                    <a:pt x="7754" y="9328"/>
                  </a:lnTo>
                  <a:lnTo>
                    <a:pt x="7651" y="9391"/>
                  </a:lnTo>
                  <a:lnTo>
                    <a:pt x="7550" y="9447"/>
                  </a:lnTo>
                  <a:lnTo>
                    <a:pt x="7451" y="9500"/>
                  </a:lnTo>
                  <a:lnTo>
                    <a:pt x="7354" y="9548"/>
                  </a:lnTo>
                  <a:lnTo>
                    <a:pt x="7263" y="9593"/>
                  </a:lnTo>
                  <a:lnTo>
                    <a:pt x="7174" y="9631"/>
                  </a:lnTo>
                  <a:lnTo>
                    <a:pt x="7089" y="9668"/>
                  </a:lnTo>
                  <a:lnTo>
                    <a:pt x="7010" y="9700"/>
                  </a:lnTo>
                  <a:lnTo>
                    <a:pt x="6935" y="9728"/>
                  </a:lnTo>
                  <a:lnTo>
                    <a:pt x="6867" y="9753"/>
                  </a:lnTo>
                  <a:lnTo>
                    <a:pt x="6806" y="9775"/>
                  </a:lnTo>
                  <a:lnTo>
                    <a:pt x="6703" y="9807"/>
                  </a:lnTo>
                  <a:lnTo>
                    <a:pt x="6632" y="9827"/>
                  </a:lnTo>
                  <a:lnTo>
                    <a:pt x="6632" y="9827"/>
                  </a:lnTo>
                  <a:lnTo>
                    <a:pt x="6590" y="9838"/>
                  </a:lnTo>
                  <a:lnTo>
                    <a:pt x="6590" y="9838"/>
                  </a:lnTo>
                  <a:lnTo>
                    <a:pt x="6588" y="9835"/>
                  </a:lnTo>
                  <a:lnTo>
                    <a:pt x="6592" y="9833"/>
                  </a:lnTo>
                  <a:lnTo>
                    <a:pt x="6612" y="9825"/>
                  </a:lnTo>
                  <a:lnTo>
                    <a:pt x="6709" y="9791"/>
                  </a:lnTo>
                  <a:lnTo>
                    <a:pt x="6709" y="9791"/>
                  </a:lnTo>
                  <a:lnTo>
                    <a:pt x="6832" y="9745"/>
                  </a:lnTo>
                  <a:lnTo>
                    <a:pt x="6911" y="9714"/>
                  </a:lnTo>
                  <a:lnTo>
                    <a:pt x="7000" y="9678"/>
                  </a:lnTo>
                  <a:lnTo>
                    <a:pt x="7101" y="9633"/>
                  </a:lnTo>
                  <a:lnTo>
                    <a:pt x="7212" y="9583"/>
                  </a:lnTo>
                  <a:lnTo>
                    <a:pt x="7336" y="9522"/>
                  </a:lnTo>
                  <a:lnTo>
                    <a:pt x="7469" y="9451"/>
                  </a:lnTo>
                  <a:lnTo>
                    <a:pt x="7469" y="9451"/>
                  </a:lnTo>
                  <a:lnTo>
                    <a:pt x="7538" y="9413"/>
                  </a:lnTo>
                  <a:lnTo>
                    <a:pt x="7611" y="9371"/>
                  </a:lnTo>
                  <a:lnTo>
                    <a:pt x="7685" y="9326"/>
                  </a:lnTo>
                  <a:lnTo>
                    <a:pt x="7764" y="9278"/>
                  </a:lnTo>
                  <a:lnTo>
                    <a:pt x="7843" y="9225"/>
                  </a:lnTo>
                  <a:lnTo>
                    <a:pt x="7926" y="9170"/>
                  </a:lnTo>
                  <a:lnTo>
                    <a:pt x="8009" y="9112"/>
                  </a:lnTo>
                  <a:lnTo>
                    <a:pt x="8096" y="9047"/>
                  </a:lnTo>
                  <a:lnTo>
                    <a:pt x="8183" y="8980"/>
                  </a:lnTo>
                  <a:lnTo>
                    <a:pt x="8269" y="8908"/>
                  </a:lnTo>
                  <a:lnTo>
                    <a:pt x="8360" y="8831"/>
                  </a:lnTo>
                  <a:lnTo>
                    <a:pt x="8451" y="8750"/>
                  </a:lnTo>
                  <a:lnTo>
                    <a:pt x="8542" y="8665"/>
                  </a:lnTo>
                  <a:lnTo>
                    <a:pt x="8633" y="8574"/>
                  </a:lnTo>
                  <a:lnTo>
                    <a:pt x="8726" y="8477"/>
                  </a:lnTo>
                  <a:lnTo>
                    <a:pt x="8819" y="8374"/>
                  </a:lnTo>
                  <a:lnTo>
                    <a:pt x="8819" y="8374"/>
                  </a:lnTo>
                  <a:lnTo>
                    <a:pt x="8910" y="8267"/>
                  </a:lnTo>
                  <a:lnTo>
                    <a:pt x="9003" y="8154"/>
                  </a:lnTo>
                  <a:lnTo>
                    <a:pt x="9094" y="8035"/>
                  </a:lnTo>
                  <a:lnTo>
                    <a:pt x="9139" y="7972"/>
                  </a:lnTo>
                  <a:lnTo>
                    <a:pt x="9183" y="7909"/>
                  </a:lnTo>
                  <a:lnTo>
                    <a:pt x="9228" y="7843"/>
                  </a:lnTo>
                  <a:lnTo>
                    <a:pt x="9272" y="7776"/>
                  </a:lnTo>
                  <a:lnTo>
                    <a:pt x="9314" y="7707"/>
                  </a:lnTo>
                  <a:lnTo>
                    <a:pt x="9357" y="7636"/>
                  </a:lnTo>
                  <a:lnTo>
                    <a:pt x="9399" y="7566"/>
                  </a:lnTo>
                  <a:lnTo>
                    <a:pt x="9440" y="7493"/>
                  </a:lnTo>
                  <a:lnTo>
                    <a:pt x="9480" y="7418"/>
                  </a:lnTo>
                  <a:lnTo>
                    <a:pt x="9519" y="7341"/>
                  </a:lnTo>
                  <a:lnTo>
                    <a:pt x="9557" y="7262"/>
                  </a:lnTo>
                  <a:lnTo>
                    <a:pt x="9595" y="7182"/>
                  </a:lnTo>
                  <a:lnTo>
                    <a:pt x="9632" y="7101"/>
                  </a:lnTo>
                  <a:lnTo>
                    <a:pt x="9666" y="7018"/>
                  </a:lnTo>
                  <a:lnTo>
                    <a:pt x="9701" y="6933"/>
                  </a:lnTo>
                  <a:lnTo>
                    <a:pt x="9735" y="6848"/>
                  </a:lnTo>
                  <a:lnTo>
                    <a:pt x="9765" y="6759"/>
                  </a:lnTo>
                  <a:lnTo>
                    <a:pt x="9796" y="6670"/>
                  </a:lnTo>
                  <a:lnTo>
                    <a:pt x="9824" y="6579"/>
                  </a:lnTo>
                  <a:lnTo>
                    <a:pt x="9852" y="6486"/>
                  </a:lnTo>
                  <a:lnTo>
                    <a:pt x="9876" y="6391"/>
                  </a:lnTo>
                  <a:lnTo>
                    <a:pt x="9901" y="6294"/>
                  </a:lnTo>
                  <a:lnTo>
                    <a:pt x="9923" y="6197"/>
                  </a:lnTo>
                  <a:lnTo>
                    <a:pt x="9943" y="6098"/>
                  </a:lnTo>
                  <a:lnTo>
                    <a:pt x="9961" y="5997"/>
                  </a:lnTo>
                  <a:lnTo>
                    <a:pt x="9977" y="5894"/>
                  </a:lnTo>
                  <a:lnTo>
                    <a:pt x="9977" y="5894"/>
                  </a:lnTo>
                  <a:lnTo>
                    <a:pt x="9941" y="6062"/>
                  </a:lnTo>
                  <a:lnTo>
                    <a:pt x="9907" y="6203"/>
                  </a:lnTo>
                  <a:lnTo>
                    <a:pt x="9884" y="6286"/>
                  </a:lnTo>
                  <a:lnTo>
                    <a:pt x="9860" y="6373"/>
                  </a:lnTo>
                  <a:lnTo>
                    <a:pt x="9860" y="6373"/>
                  </a:lnTo>
                  <a:lnTo>
                    <a:pt x="9830" y="6468"/>
                  </a:lnTo>
                  <a:lnTo>
                    <a:pt x="9798" y="6565"/>
                  </a:lnTo>
                  <a:lnTo>
                    <a:pt x="9761" y="6668"/>
                  </a:lnTo>
                  <a:lnTo>
                    <a:pt x="9723" y="6771"/>
                  </a:lnTo>
                  <a:lnTo>
                    <a:pt x="9678" y="6878"/>
                  </a:lnTo>
                  <a:lnTo>
                    <a:pt x="9632" y="6986"/>
                  </a:lnTo>
                  <a:lnTo>
                    <a:pt x="9581" y="7093"/>
                  </a:lnTo>
                  <a:lnTo>
                    <a:pt x="9529" y="7198"/>
                  </a:lnTo>
                  <a:lnTo>
                    <a:pt x="9529" y="7198"/>
                  </a:lnTo>
                  <a:lnTo>
                    <a:pt x="9474" y="7303"/>
                  </a:lnTo>
                  <a:lnTo>
                    <a:pt x="9418" y="7404"/>
                  </a:lnTo>
                  <a:lnTo>
                    <a:pt x="9359" y="7503"/>
                  </a:lnTo>
                  <a:lnTo>
                    <a:pt x="9298" y="7598"/>
                  </a:lnTo>
                  <a:lnTo>
                    <a:pt x="9238" y="7687"/>
                  </a:lnTo>
                  <a:lnTo>
                    <a:pt x="9179" y="7772"/>
                  </a:lnTo>
                  <a:lnTo>
                    <a:pt x="9120" y="7853"/>
                  </a:lnTo>
                  <a:lnTo>
                    <a:pt x="9064" y="7925"/>
                  </a:lnTo>
                  <a:lnTo>
                    <a:pt x="9011" y="7992"/>
                  </a:lnTo>
                  <a:lnTo>
                    <a:pt x="8961" y="8053"/>
                  </a:lnTo>
                  <a:lnTo>
                    <a:pt x="8916" y="8107"/>
                  </a:lnTo>
                  <a:lnTo>
                    <a:pt x="8876" y="8152"/>
                  </a:lnTo>
                  <a:lnTo>
                    <a:pt x="8815" y="8216"/>
                  </a:lnTo>
                  <a:lnTo>
                    <a:pt x="8795" y="823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3"/>
                  </a:lnTo>
                  <a:lnTo>
                    <a:pt x="8785" y="8237"/>
                  </a:lnTo>
                  <a:lnTo>
                    <a:pt x="8801" y="8214"/>
                  </a:lnTo>
                  <a:lnTo>
                    <a:pt x="8872" y="8130"/>
                  </a:lnTo>
                  <a:lnTo>
                    <a:pt x="8922" y="8065"/>
                  </a:lnTo>
                  <a:lnTo>
                    <a:pt x="8981" y="7990"/>
                  </a:lnTo>
                  <a:lnTo>
                    <a:pt x="9046" y="7903"/>
                  </a:lnTo>
                  <a:lnTo>
                    <a:pt x="9116" y="7806"/>
                  </a:lnTo>
                  <a:lnTo>
                    <a:pt x="9116" y="7806"/>
                  </a:lnTo>
                  <a:lnTo>
                    <a:pt x="9193" y="7695"/>
                  </a:lnTo>
                  <a:lnTo>
                    <a:pt x="9270" y="7576"/>
                  </a:lnTo>
                  <a:lnTo>
                    <a:pt x="9349" y="7446"/>
                  </a:lnTo>
                  <a:lnTo>
                    <a:pt x="9387" y="7378"/>
                  </a:lnTo>
                  <a:lnTo>
                    <a:pt x="9426" y="7307"/>
                  </a:lnTo>
                  <a:lnTo>
                    <a:pt x="9464" y="7236"/>
                  </a:lnTo>
                  <a:lnTo>
                    <a:pt x="9502" y="7161"/>
                  </a:lnTo>
                  <a:lnTo>
                    <a:pt x="9539" y="7087"/>
                  </a:lnTo>
                  <a:lnTo>
                    <a:pt x="9575" y="7010"/>
                  </a:lnTo>
                  <a:lnTo>
                    <a:pt x="9610" y="6933"/>
                  </a:lnTo>
                  <a:lnTo>
                    <a:pt x="9642" y="6854"/>
                  </a:lnTo>
                  <a:lnTo>
                    <a:pt x="9674" y="6773"/>
                  </a:lnTo>
                  <a:lnTo>
                    <a:pt x="9705" y="6692"/>
                  </a:lnTo>
                  <a:lnTo>
                    <a:pt x="9705" y="6692"/>
                  </a:lnTo>
                  <a:lnTo>
                    <a:pt x="9733" y="6612"/>
                  </a:lnTo>
                  <a:lnTo>
                    <a:pt x="9761" y="6531"/>
                  </a:lnTo>
                  <a:lnTo>
                    <a:pt x="9787" y="6450"/>
                  </a:lnTo>
                  <a:lnTo>
                    <a:pt x="9812" y="6367"/>
                  </a:lnTo>
                  <a:lnTo>
                    <a:pt x="9834" y="6286"/>
                  </a:lnTo>
                  <a:lnTo>
                    <a:pt x="9854" y="6207"/>
                  </a:lnTo>
                  <a:lnTo>
                    <a:pt x="9874" y="6127"/>
                  </a:lnTo>
                  <a:lnTo>
                    <a:pt x="9891" y="6048"/>
                  </a:lnTo>
                  <a:lnTo>
                    <a:pt x="9907" y="5969"/>
                  </a:lnTo>
                  <a:lnTo>
                    <a:pt x="9921" y="5894"/>
                  </a:lnTo>
                  <a:lnTo>
                    <a:pt x="9935" y="5817"/>
                  </a:lnTo>
                  <a:lnTo>
                    <a:pt x="9945" y="5744"/>
                  </a:lnTo>
                  <a:lnTo>
                    <a:pt x="9963" y="5605"/>
                  </a:lnTo>
                  <a:lnTo>
                    <a:pt x="9977" y="5474"/>
                  </a:lnTo>
                  <a:lnTo>
                    <a:pt x="9977" y="5474"/>
                  </a:lnTo>
                  <a:lnTo>
                    <a:pt x="9986" y="5358"/>
                  </a:lnTo>
                  <a:lnTo>
                    <a:pt x="9990" y="5253"/>
                  </a:lnTo>
                  <a:lnTo>
                    <a:pt x="9992" y="5162"/>
                  </a:lnTo>
                  <a:lnTo>
                    <a:pt x="9992" y="5086"/>
                  </a:lnTo>
                  <a:lnTo>
                    <a:pt x="9992" y="5023"/>
                  </a:lnTo>
                  <a:lnTo>
                    <a:pt x="9990" y="4976"/>
                  </a:lnTo>
                  <a:lnTo>
                    <a:pt x="9988" y="4948"/>
                  </a:lnTo>
                  <a:lnTo>
                    <a:pt x="9986" y="4938"/>
                  </a:lnTo>
                  <a:lnTo>
                    <a:pt x="9986" y="4938"/>
                  </a:lnTo>
                  <a:lnTo>
                    <a:pt x="9986" y="4940"/>
                  </a:lnTo>
                  <a:lnTo>
                    <a:pt x="9986" y="4940"/>
                  </a:lnTo>
                  <a:lnTo>
                    <a:pt x="9977" y="4991"/>
                  </a:lnTo>
                  <a:lnTo>
                    <a:pt x="9969" y="5075"/>
                  </a:lnTo>
                  <a:lnTo>
                    <a:pt x="9957" y="5191"/>
                  </a:lnTo>
                  <a:lnTo>
                    <a:pt x="9939" y="5330"/>
                  </a:lnTo>
                  <a:lnTo>
                    <a:pt x="9917" y="5488"/>
                  </a:lnTo>
                  <a:lnTo>
                    <a:pt x="9903" y="5573"/>
                  </a:lnTo>
                  <a:lnTo>
                    <a:pt x="9886" y="5662"/>
                  </a:lnTo>
                  <a:lnTo>
                    <a:pt x="9868" y="5751"/>
                  </a:lnTo>
                  <a:lnTo>
                    <a:pt x="9848" y="5844"/>
                  </a:lnTo>
                  <a:lnTo>
                    <a:pt x="9826" y="5937"/>
                  </a:lnTo>
                  <a:lnTo>
                    <a:pt x="9800" y="6029"/>
                  </a:lnTo>
                  <a:lnTo>
                    <a:pt x="9800" y="6029"/>
                  </a:lnTo>
                  <a:lnTo>
                    <a:pt x="9773" y="6122"/>
                  </a:lnTo>
                  <a:lnTo>
                    <a:pt x="9745" y="6215"/>
                  </a:lnTo>
                  <a:lnTo>
                    <a:pt x="9715" y="6306"/>
                  </a:lnTo>
                  <a:lnTo>
                    <a:pt x="9684" y="6397"/>
                  </a:lnTo>
                  <a:lnTo>
                    <a:pt x="9650" y="6482"/>
                  </a:lnTo>
                  <a:lnTo>
                    <a:pt x="9618" y="6567"/>
                  </a:lnTo>
                  <a:lnTo>
                    <a:pt x="9583" y="6648"/>
                  </a:lnTo>
                  <a:lnTo>
                    <a:pt x="9551" y="6725"/>
                  </a:lnTo>
                  <a:lnTo>
                    <a:pt x="9486" y="6864"/>
                  </a:lnTo>
                  <a:lnTo>
                    <a:pt x="9428" y="6984"/>
                  </a:lnTo>
                  <a:lnTo>
                    <a:pt x="9377" y="7081"/>
                  </a:lnTo>
                  <a:lnTo>
                    <a:pt x="9341" y="7147"/>
                  </a:lnTo>
                  <a:lnTo>
                    <a:pt x="9341" y="7147"/>
                  </a:lnTo>
                  <a:lnTo>
                    <a:pt x="9323" y="7190"/>
                  </a:lnTo>
                  <a:lnTo>
                    <a:pt x="9304" y="7226"/>
                  </a:lnTo>
                  <a:lnTo>
                    <a:pt x="9272" y="7295"/>
                  </a:lnTo>
                  <a:lnTo>
                    <a:pt x="9258" y="7325"/>
                  </a:lnTo>
                  <a:lnTo>
                    <a:pt x="9248" y="7351"/>
                  </a:lnTo>
                  <a:lnTo>
                    <a:pt x="9242" y="7374"/>
                  </a:lnTo>
                  <a:lnTo>
                    <a:pt x="9242" y="7386"/>
                  </a:lnTo>
                  <a:lnTo>
                    <a:pt x="9242" y="7394"/>
                  </a:lnTo>
                  <a:lnTo>
                    <a:pt x="9242" y="7394"/>
                  </a:lnTo>
                  <a:lnTo>
                    <a:pt x="9157" y="7527"/>
                  </a:lnTo>
                  <a:lnTo>
                    <a:pt x="9072" y="7655"/>
                  </a:lnTo>
                  <a:lnTo>
                    <a:pt x="8987" y="7778"/>
                  </a:lnTo>
                  <a:lnTo>
                    <a:pt x="8898" y="7895"/>
                  </a:lnTo>
                  <a:lnTo>
                    <a:pt x="8807" y="8012"/>
                  </a:lnTo>
                  <a:lnTo>
                    <a:pt x="8759" y="8071"/>
                  </a:lnTo>
                  <a:lnTo>
                    <a:pt x="8708" y="8130"/>
                  </a:lnTo>
                  <a:lnTo>
                    <a:pt x="8658" y="8188"/>
                  </a:lnTo>
                  <a:lnTo>
                    <a:pt x="8603" y="8247"/>
                  </a:lnTo>
                  <a:lnTo>
                    <a:pt x="8548" y="8307"/>
                  </a:lnTo>
                  <a:lnTo>
                    <a:pt x="8490" y="8366"/>
                  </a:lnTo>
                  <a:lnTo>
                    <a:pt x="8490" y="8366"/>
                  </a:lnTo>
                  <a:lnTo>
                    <a:pt x="8413" y="8443"/>
                  </a:lnTo>
                  <a:lnTo>
                    <a:pt x="8336" y="8518"/>
                  </a:lnTo>
                  <a:lnTo>
                    <a:pt x="8257" y="8592"/>
                  </a:lnTo>
                  <a:lnTo>
                    <a:pt x="8176" y="8663"/>
                  </a:lnTo>
                  <a:lnTo>
                    <a:pt x="8094" y="8734"/>
                  </a:lnTo>
                  <a:lnTo>
                    <a:pt x="8009" y="8803"/>
                  </a:lnTo>
                  <a:lnTo>
                    <a:pt x="7924" y="8869"/>
                  </a:lnTo>
                  <a:lnTo>
                    <a:pt x="7837" y="8934"/>
                  </a:lnTo>
                  <a:lnTo>
                    <a:pt x="7748" y="8997"/>
                  </a:lnTo>
                  <a:lnTo>
                    <a:pt x="7657" y="9057"/>
                  </a:lnTo>
                  <a:lnTo>
                    <a:pt x="7566" y="9116"/>
                  </a:lnTo>
                  <a:lnTo>
                    <a:pt x="7473" y="9173"/>
                  </a:lnTo>
                  <a:lnTo>
                    <a:pt x="7378" y="9227"/>
                  </a:lnTo>
                  <a:lnTo>
                    <a:pt x="7281" y="9280"/>
                  </a:lnTo>
                  <a:lnTo>
                    <a:pt x="7182" y="9330"/>
                  </a:lnTo>
                  <a:lnTo>
                    <a:pt x="7083" y="9377"/>
                  </a:lnTo>
                  <a:lnTo>
                    <a:pt x="7083" y="9377"/>
                  </a:lnTo>
                  <a:lnTo>
                    <a:pt x="6992" y="9417"/>
                  </a:lnTo>
                  <a:lnTo>
                    <a:pt x="6899" y="9455"/>
                  </a:lnTo>
                  <a:lnTo>
                    <a:pt x="6806" y="9492"/>
                  </a:lnTo>
                  <a:lnTo>
                    <a:pt x="6711" y="9524"/>
                  </a:lnTo>
                  <a:lnTo>
                    <a:pt x="6616" y="9557"/>
                  </a:lnTo>
                  <a:lnTo>
                    <a:pt x="6519" y="9585"/>
                  </a:lnTo>
                  <a:lnTo>
                    <a:pt x="6420" y="9611"/>
                  </a:lnTo>
                  <a:lnTo>
                    <a:pt x="6321" y="9635"/>
                  </a:lnTo>
                  <a:lnTo>
                    <a:pt x="6222" y="9658"/>
                  </a:lnTo>
                  <a:lnTo>
                    <a:pt x="6121" y="9676"/>
                  </a:lnTo>
                  <a:lnTo>
                    <a:pt x="6020" y="9692"/>
                  </a:lnTo>
                  <a:lnTo>
                    <a:pt x="5919" y="9704"/>
                  </a:lnTo>
                  <a:lnTo>
                    <a:pt x="5816" y="9716"/>
                  </a:lnTo>
                  <a:lnTo>
                    <a:pt x="5713" y="9722"/>
                  </a:lnTo>
                  <a:lnTo>
                    <a:pt x="5607" y="9728"/>
                  </a:lnTo>
                  <a:lnTo>
                    <a:pt x="5504" y="9728"/>
                  </a:lnTo>
                  <a:lnTo>
                    <a:pt x="5504" y="9728"/>
                  </a:lnTo>
                  <a:lnTo>
                    <a:pt x="5411" y="9728"/>
                  </a:lnTo>
                  <a:lnTo>
                    <a:pt x="5320" y="9724"/>
                  </a:lnTo>
                  <a:lnTo>
                    <a:pt x="5320" y="9724"/>
                  </a:lnTo>
                  <a:lnTo>
                    <a:pt x="5310" y="9724"/>
                  </a:lnTo>
                  <a:lnTo>
                    <a:pt x="5310" y="9724"/>
                  </a:lnTo>
                  <a:lnTo>
                    <a:pt x="5215" y="9726"/>
                  </a:lnTo>
                  <a:lnTo>
                    <a:pt x="5094" y="9734"/>
                  </a:lnTo>
                  <a:lnTo>
                    <a:pt x="5094" y="9734"/>
                  </a:lnTo>
                  <a:lnTo>
                    <a:pt x="4967" y="9740"/>
                  </a:lnTo>
                  <a:lnTo>
                    <a:pt x="4906" y="9743"/>
                  </a:lnTo>
                  <a:lnTo>
                    <a:pt x="4853" y="9743"/>
                  </a:lnTo>
                  <a:lnTo>
                    <a:pt x="4853" y="9743"/>
                  </a:lnTo>
                  <a:lnTo>
                    <a:pt x="4815" y="9743"/>
                  </a:lnTo>
                  <a:lnTo>
                    <a:pt x="4815" y="9743"/>
                  </a:lnTo>
                  <a:lnTo>
                    <a:pt x="4730" y="9732"/>
                  </a:lnTo>
                  <a:lnTo>
                    <a:pt x="4645" y="9722"/>
                  </a:lnTo>
                  <a:lnTo>
                    <a:pt x="4560" y="9710"/>
                  </a:lnTo>
                  <a:lnTo>
                    <a:pt x="4478" y="9696"/>
                  </a:lnTo>
                  <a:lnTo>
                    <a:pt x="4393" y="9680"/>
                  </a:lnTo>
                  <a:lnTo>
                    <a:pt x="4310" y="9662"/>
                  </a:lnTo>
                  <a:lnTo>
                    <a:pt x="4227" y="9641"/>
                  </a:lnTo>
                  <a:lnTo>
                    <a:pt x="4144" y="9619"/>
                  </a:lnTo>
                  <a:lnTo>
                    <a:pt x="4063" y="9597"/>
                  </a:lnTo>
                  <a:lnTo>
                    <a:pt x="3980" y="9571"/>
                  </a:lnTo>
                  <a:lnTo>
                    <a:pt x="3899" y="9544"/>
                  </a:lnTo>
                  <a:lnTo>
                    <a:pt x="3819" y="9516"/>
                  </a:lnTo>
                  <a:lnTo>
                    <a:pt x="3740" y="9486"/>
                  </a:lnTo>
                  <a:lnTo>
                    <a:pt x="3661" y="9455"/>
                  </a:lnTo>
                  <a:lnTo>
                    <a:pt x="3580" y="9423"/>
                  </a:lnTo>
                  <a:lnTo>
                    <a:pt x="3503" y="9389"/>
                  </a:lnTo>
                  <a:lnTo>
                    <a:pt x="3424" y="9352"/>
                  </a:lnTo>
                  <a:lnTo>
                    <a:pt x="3348" y="9316"/>
                  </a:lnTo>
                  <a:lnTo>
                    <a:pt x="3271" y="9278"/>
                  </a:lnTo>
                  <a:lnTo>
                    <a:pt x="3194" y="9239"/>
                  </a:lnTo>
                  <a:lnTo>
                    <a:pt x="3119" y="9197"/>
                  </a:lnTo>
                  <a:lnTo>
                    <a:pt x="3044" y="9156"/>
                  </a:lnTo>
                  <a:lnTo>
                    <a:pt x="2970" y="9112"/>
                  </a:lnTo>
                  <a:lnTo>
                    <a:pt x="2897" y="9067"/>
                  </a:lnTo>
                  <a:lnTo>
                    <a:pt x="2824" y="9023"/>
                  </a:lnTo>
                  <a:lnTo>
                    <a:pt x="2751" y="8976"/>
                  </a:lnTo>
                  <a:lnTo>
                    <a:pt x="2608" y="8881"/>
                  </a:lnTo>
                  <a:lnTo>
                    <a:pt x="2468" y="8780"/>
                  </a:lnTo>
                  <a:lnTo>
                    <a:pt x="2331" y="8677"/>
                  </a:lnTo>
                  <a:lnTo>
                    <a:pt x="2331" y="8677"/>
                  </a:lnTo>
                  <a:lnTo>
                    <a:pt x="2248" y="8611"/>
                  </a:lnTo>
                  <a:lnTo>
                    <a:pt x="2167" y="8540"/>
                  </a:lnTo>
                  <a:lnTo>
                    <a:pt x="2088" y="8465"/>
                  </a:lnTo>
                  <a:lnTo>
                    <a:pt x="2014" y="8390"/>
                  </a:lnTo>
                  <a:lnTo>
                    <a:pt x="1939" y="8311"/>
                  </a:lnTo>
                  <a:lnTo>
                    <a:pt x="1868" y="8231"/>
                  </a:lnTo>
                  <a:lnTo>
                    <a:pt x="1797" y="8148"/>
                  </a:lnTo>
                  <a:lnTo>
                    <a:pt x="1731" y="8063"/>
                  </a:lnTo>
                  <a:lnTo>
                    <a:pt x="1664" y="7978"/>
                  </a:lnTo>
                  <a:lnTo>
                    <a:pt x="1599" y="7891"/>
                  </a:lnTo>
                  <a:lnTo>
                    <a:pt x="1539" y="7802"/>
                  </a:lnTo>
                  <a:lnTo>
                    <a:pt x="1478" y="7713"/>
                  </a:lnTo>
                  <a:lnTo>
                    <a:pt x="1419" y="7624"/>
                  </a:lnTo>
                  <a:lnTo>
                    <a:pt x="1363" y="7533"/>
                  </a:lnTo>
                  <a:lnTo>
                    <a:pt x="1306" y="7444"/>
                  </a:lnTo>
                  <a:lnTo>
                    <a:pt x="1252" y="7353"/>
                  </a:lnTo>
                  <a:lnTo>
                    <a:pt x="1252" y="7353"/>
                  </a:lnTo>
                  <a:lnTo>
                    <a:pt x="1191" y="7252"/>
                  </a:lnTo>
                  <a:lnTo>
                    <a:pt x="1132" y="7147"/>
                  </a:lnTo>
                  <a:lnTo>
                    <a:pt x="1076" y="7042"/>
                  </a:lnTo>
                  <a:lnTo>
                    <a:pt x="1025" y="6935"/>
                  </a:lnTo>
                  <a:lnTo>
                    <a:pt x="977" y="6826"/>
                  </a:lnTo>
                  <a:lnTo>
                    <a:pt x="930" y="6717"/>
                  </a:lnTo>
                  <a:lnTo>
                    <a:pt x="888" y="6604"/>
                  </a:lnTo>
                  <a:lnTo>
                    <a:pt x="849" y="6492"/>
                  </a:lnTo>
                  <a:lnTo>
                    <a:pt x="849" y="6492"/>
                  </a:lnTo>
                  <a:lnTo>
                    <a:pt x="894" y="6624"/>
                  </a:lnTo>
                  <a:lnTo>
                    <a:pt x="940" y="6753"/>
                  </a:lnTo>
                  <a:lnTo>
                    <a:pt x="991" y="6878"/>
                  </a:lnTo>
                  <a:lnTo>
                    <a:pt x="1045" y="7000"/>
                  </a:lnTo>
                  <a:lnTo>
                    <a:pt x="1100" y="7119"/>
                  </a:lnTo>
                  <a:lnTo>
                    <a:pt x="1157" y="7234"/>
                  </a:lnTo>
                  <a:lnTo>
                    <a:pt x="1215" y="7347"/>
                  </a:lnTo>
                  <a:lnTo>
                    <a:pt x="1276" y="7454"/>
                  </a:lnTo>
                  <a:lnTo>
                    <a:pt x="1336" y="7560"/>
                  </a:lnTo>
                  <a:lnTo>
                    <a:pt x="1397" y="7661"/>
                  </a:lnTo>
                  <a:lnTo>
                    <a:pt x="1458" y="7758"/>
                  </a:lnTo>
                  <a:lnTo>
                    <a:pt x="1518" y="7853"/>
                  </a:lnTo>
                  <a:lnTo>
                    <a:pt x="1579" y="7942"/>
                  </a:lnTo>
                  <a:lnTo>
                    <a:pt x="1638" y="8026"/>
                  </a:lnTo>
                  <a:lnTo>
                    <a:pt x="1751" y="8184"/>
                  </a:lnTo>
                  <a:lnTo>
                    <a:pt x="1751" y="8184"/>
                  </a:lnTo>
                  <a:lnTo>
                    <a:pt x="1785" y="8221"/>
                  </a:lnTo>
                  <a:lnTo>
                    <a:pt x="1838" y="8271"/>
                  </a:lnTo>
                  <a:lnTo>
                    <a:pt x="1838" y="8271"/>
                  </a:lnTo>
                  <a:lnTo>
                    <a:pt x="1852" y="8293"/>
                  </a:lnTo>
                  <a:lnTo>
                    <a:pt x="1874" y="8320"/>
                  </a:lnTo>
                  <a:lnTo>
                    <a:pt x="1874" y="8320"/>
                  </a:lnTo>
                  <a:lnTo>
                    <a:pt x="1979" y="8431"/>
                  </a:lnTo>
                  <a:lnTo>
                    <a:pt x="2094" y="8546"/>
                  </a:lnTo>
                  <a:lnTo>
                    <a:pt x="2212" y="8663"/>
                  </a:lnTo>
                  <a:lnTo>
                    <a:pt x="2331" y="8778"/>
                  </a:lnTo>
                  <a:lnTo>
                    <a:pt x="2331" y="8778"/>
                  </a:lnTo>
                  <a:lnTo>
                    <a:pt x="2226" y="8689"/>
                  </a:lnTo>
                  <a:lnTo>
                    <a:pt x="2125" y="8596"/>
                  </a:lnTo>
                  <a:lnTo>
                    <a:pt x="2028" y="8501"/>
                  </a:lnTo>
                  <a:lnTo>
                    <a:pt x="1931" y="8404"/>
                  </a:lnTo>
                  <a:lnTo>
                    <a:pt x="1931" y="8404"/>
                  </a:lnTo>
                  <a:lnTo>
                    <a:pt x="1882" y="8358"/>
                  </a:lnTo>
                  <a:lnTo>
                    <a:pt x="1834" y="8311"/>
                  </a:lnTo>
                  <a:lnTo>
                    <a:pt x="1785" y="8263"/>
                  </a:lnTo>
                  <a:lnTo>
                    <a:pt x="1739" y="8214"/>
                  </a:lnTo>
                  <a:lnTo>
                    <a:pt x="1692" y="8164"/>
                  </a:lnTo>
                  <a:lnTo>
                    <a:pt x="1646" y="8113"/>
                  </a:lnTo>
                  <a:lnTo>
                    <a:pt x="1601" y="8061"/>
                  </a:lnTo>
                  <a:lnTo>
                    <a:pt x="1557" y="8008"/>
                  </a:lnTo>
                  <a:lnTo>
                    <a:pt x="1512" y="7954"/>
                  </a:lnTo>
                  <a:lnTo>
                    <a:pt x="1470" y="7899"/>
                  </a:lnTo>
                  <a:lnTo>
                    <a:pt x="1427" y="7843"/>
                  </a:lnTo>
                  <a:lnTo>
                    <a:pt x="1387" y="7786"/>
                  </a:lnTo>
                  <a:lnTo>
                    <a:pt x="1347" y="7727"/>
                  </a:lnTo>
                  <a:lnTo>
                    <a:pt x="1306" y="7669"/>
                  </a:lnTo>
                  <a:lnTo>
                    <a:pt x="1268" y="7608"/>
                  </a:lnTo>
                  <a:lnTo>
                    <a:pt x="1229" y="7547"/>
                  </a:lnTo>
                  <a:lnTo>
                    <a:pt x="1193" y="7487"/>
                  </a:lnTo>
                  <a:lnTo>
                    <a:pt x="1159" y="7424"/>
                  </a:lnTo>
                  <a:lnTo>
                    <a:pt x="1122" y="7361"/>
                  </a:lnTo>
                  <a:lnTo>
                    <a:pt x="1090" y="7299"/>
                  </a:lnTo>
                  <a:lnTo>
                    <a:pt x="1056" y="7234"/>
                  </a:lnTo>
                  <a:lnTo>
                    <a:pt x="1025" y="7167"/>
                  </a:lnTo>
                  <a:lnTo>
                    <a:pt x="993" y="7103"/>
                  </a:lnTo>
                  <a:lnTo>
                    <a:pt x="965" y="7036"/>
                  </a:lnTo>
                  <a:lnTo>
                    <a:pt x="934" y="6969"/>
                  </a:lnTo>
                  <a:lnTo>
                    <a:pt x="908" y="6901"/>
                  </a:lnTo>
                  <a:lnTo>
                    <a:pt x="882" y="6832"/>
                  </a:lnTo>
                  <a:lnTo>
                    <a:pt x="855" y="6763"/>
                  </a:lnTo>
                  <a:lnTo>
                    <a:pt x="831" y="6694"/>
                  </a:lnTo>
                  <a:lnTo>
                    <a:pt x="809" y="6624"/>
                  </a:lnTo>
                  <a:lnTo>
                    <a:pt x="787" y="6553"/>
                  </a:lnTo>
                  <a:lnTo>
                    <a:pt x="766" y="6482"/>
                  </a:lnTo>
                  <a:lnTo>
                    <a:pt x="766" y="6482"/>
                  </a:lnTo>
                  <a:lnTo>
                    <a:pt x="746" y="6412"/>
                  </a:lnTo>
                  <a:lnTo>
                    <a:pt x="728" y="6339"/>
                  </a:lnTo>
                  <a:lnTo>
                    <a:pt x="710" y="6266"/>
                  </a:lnTo>
                  <a:lnTo>
                    <a:pt x="694" y="6193"/>
                  </a:lnTo>
                  <a:lnTo>
                    <a:pt x="680" y="6120"/>
                  </a:lnTo>
                  <a:lnTo>
                    <a:pt x="665" y="6048"/>
                  </a:lnTo>
                  <a:lnTo>
                    <a:pt x="653" y="5975"/>
                  </a:lnTo>
                  <a:lnTo>
                    <a:pt x="641" y="5900"/>
                  </a:lnTo>
                  <a:lnTo>
                    <a:pt x="631" y="5827"/>
                  </a:lnTo>
                  <a:lnTo>
                    <a:pt x="623" y="5753"/>
                  </a:lnTo>
                  <a:lnTo>
                    <a:pt x="609" y="5605"/>
                  </a:lnTo>
                  <a:lnTo>
                    <a:pt x="599" y="5455"/>
                  </a:lnTo>
                  <a:lnTo>
                    <a:pt x="595" y="5306"/>
                  </a:lnTo>
                  <a:lnTo>
                    <a:pt x="595" y="5156"/>
                  </a:lnTo>
                  <a:lnTo>
                    <a:pt x="599" y="5007"/>
                  </a:lnTo>
                  <a:lnTo>
                    <a:pt x="609" y="4859"/>
                  </a:lnTo>
                  <a:lnTo>
                    <a:pt x="621" y="4710"/>
                  </a:lnTo>
                  <a:lnTo>
                    <a:pt x="639" y="4562"/>
                  </a:lnTo>
                  <a:lnTo>
                    <a:pt x="661" y="4417"/>
                  </a:lnTo>
                  <a:lnTo>
                    <a:pt x="688" y="4271"/>
                  </a:lnTo>
                  <a:lnTo>
                    <a:pt x="720" y="4125"/>
                  </a:lnTo>
                  <a:lnTo>
                    <a:pt x="720" y="4125"/>
                  </a:lnTo>
                  <a:lnTo>
                    <a:pt x="732" y="4067"/>
                  </a:lnTo>
                  <a:lnTo>
                    <a:pt x="748" y="4004"/>
                  </a:lnTo>
                  <a:lnTo>
                    <a:pt x="768" y="3938"/>
                  </a:lnTo>
                  <a:lnTo>
                    <a:pt x="791" y="3869"/>
                  </a:lnTo>
                  <a:lnTo>
                    <a:pt x="815" y="3800"/>
                  </a:lnTo>
                  <a:lnTo>
                    <a:pt x="841" y="3729"/>
                  </a:lnTo>
                  <a:lnTo>
                    <a:pt x="870" y="3657"/>
                  </a:lnTo>
                  <a:lnTo>
                    <a:pt x="900" y="3586"/>
                  </a:lnTo>
                  <a:lnTo>
                    <a:pt x="900" y="3586"/>
                  </a:lnTo>
                  <a:lnTo>
                    <a:pt x="948" y="3456"/>
                  </a:lnTo>
                  <a:lnTo>
                    <a:pt x="948" y="3456"/>
                  </a:lnTo>
                  <a:lnTo>
                    <a:pt x="944" y="3458"/>
                  </a:lnTo>
                  <a:lnTo>
                    <a:pt x="944" y="3458"/>
                  </a:lnTo>
                  <a:lnTo>
                    <a:pt x="938" y="3456"/>
                  </a:lnTo>
                  <a:lnTo>
                    <a:pt x="932" y="3452"/>
                  </a:lnTo>
                  <a:lnTo>
                    <a:pt x="930" y="3446"/>
                  </a:lnTo>
                  <a:lnTo>
                    <a:pt x="928" y="3440"/>
                  </a:lnTo>
                  <a:lnTo>
                    <a:pt x="928" y="3440"/>
                  </a:lnTo>
                  <a:lnTo>
                    <a:pt x="890" y="3533"/>
                  </a:lnTo>
                  <a:lnTo>
                    <a:pt x="853" y="3628"/>
                  </a:lnTo>
                  <a:lnTo>
                    <a:pt x="821" y="3723"/>
                  </a:lnTo>
                  <a:lnTo>
                    <a:pt x="789" y="3820"/>
                  </a:lnTo>
                  <a:lnTo>
                    <a:pt x="789" y="3820"/>
                  </a:lnTo>
                  <a:lnTo>
                    <a:pt x="762" y="3899"/>
                  </a:lnTo>
                  <a:lnTo>
                    <a:pt x="738" y="3980"/>
                  </a:lnTo>
                  <a:lnTo>
                    <a:pt x="714" y="4063"/>
                  </a:lnTo>
                  <a:lnTo>
                    <a:pt x="692" y="4148"/>
                  </a:lnTo>
                  <a:lnTo>
                    <a:pt x="671" y="4233"/>
                  </a:lnTo>
                  <a:lnTo>
                    <a:pt x="651" y="4320"/>
                  </a:lnTo>
                  <a:lnTo>
                    <a:pt x="633" y="4408"/>
                  </a:lnTo>
                  <a:lnTo>
                    <a:pt x="615" y="4495"/>
                  </a:lnTo>
                  <a:lnTo>
                    <a:pt x="585" y="4671"/>
                  </a:lnTo>
                  <a:lnTo>
                    <a:pt x="558" y="4841"/>
                  </a:lnTo>
                  <a:lnTo>
                    <a:pt x="538" y="5007"/>
                  </a:lnTo>
                  <a:lnTo>
                    <a:pt x="524" y="5160"/>
                  </a:lnTo>
                  <a:lnTo>
                    <a:pt x="524" y="5160"/>
                  </a:lnTo>
                  <a:lnTo>
                    <a:pt x="526" y="5080"/>
                  </a:lnTo>
                  <a:lnTo>
                    <a:pt x="530" y="4997"/>
                  </a:lnTo>
                  <a:lnTo>
                    <a:pt x="536" y="4914"/>
                  </a:lnTo>
                  <a:lnTo>
                    <a:pt x="542" y="4829"/>
                  </a:lnTo>
                  <a:lnTo>
                    <a:pt x="550" y="4746"/>
                  </a:lnTo>
                  <a:lnTo>
                    <a:pt x="558" y="4663"/>
                  </a:lnTo>
                  <a:lnTo>
                    <a:pt x="570" y="4578"/>
                  </a:lnTo>
                  <a:lnTo>
                    <a:pt x="581" y="4495"/>
                  </a:lnTo>
                  <a:lnTo>
                    <a:pt x="595" y="4410"/>
                  </a:lnTo>
                  <a:lnTo>
                    <a:pt x="609" y="4328"/>
                  </a:lnTo>
                  <a:lnTo>
                    <a:pt x="625" y="4243"/>
                  </a:lnTo>
                  <a:lnTo>
                    <a:pt x="643" y="4160"/>
                  </a:lnTo>
                  <a:lnTo>
                    <a:pt x="661" y="4075"/>
                  </a:lnTo>
                  <a:lnTo>
                    <a:pt x="682" y="3992"/>
                  </a:lnTo>
                  <a:lnTo>
                    <a:pt x="704" y="3909"/>
                  </a:lnTo>
                  <a:lnTo>
                    <a:pt x="728" y="3826"/>
                  </a:lnTo>
                  <a:lnTo>
                    <a:pt x="728" y="3826"/>
                  </a:lnTo>
                  <a:lnTo>
                    <a:pt x="758" y="3737"/>
                  </a:lnTo>
                  <a:lnTo>
                    <a:pt x="791" y="3646"/>
                  </a:lnTo>
                  <a:lnTo>
                    <a:pt x="825" y="3560"/>
                  </a:lnTo>
                  <a:lnTo>
                    <a:pt x="861" y="3473"/>
                  </a:lnTo>
                  <a:lnTo>
                    <a:pt x="898" y="3388"/>
                  </a:lnTo>
                  <a:lnTo>
                    <a:pt x="938" y="3303"/>
                  </a:lnTo>
                  <a:lnTo>
                    <a:pt x="979" y="3220"/>
                  </a:lnTo>
                  <a:lnTo>
                    <a:pt x="1021" y="3137"/>
                  </a:lnTo>
                  <a:lnTo>
                    <a:pt x="1021" y="3137"/>
                  </a:lnTo>
                  <a:lnTo>
                    <a:pt x="1049" y="3074"/>
                  </a:lnTo>
                  <a:lnTo>
                    <a:pt x="1078" y="3018"/>
                  </a:lnTo>
                  <a:lnTo>
                    <a:pt x="1104" y="2969"/>
                  </a:lnTo>
                  <a:lnTo>
                    <a:pt x="1126" y="2929"/>
                  </a:lnTo>
                  <a:lnTo>
                    <a:pt x="1126" y="2929"/>
                  </a:lnTo>
                  <a:lnTo>
                    <a:pt x="1189" y="2812"/>
                  </a:lnTo>
                  <a:lnTo>
                    <a:pt x="1254" y="2694"/>
                  </a:lnTo>
                  <a:lnTo>
                    <a:pt x="1320" y="2581"/>
                  </a:lnTo>
                  <a:lnTo>
                    <a:pt x="1391" y="2470"/>
                  </a:lnTo>
                  <a:lnTo>
                    <a:pt x="1466" y="2361"/>
                  </a:lnTo>
                  <a:lnTo>
                    <a:pt x="1543" y="2256"/>
                  </a:lnTo>
                  <a:lnTo>
                    <a:pt x="1623" y="2153"/>
                  </a:lnTo>
                  <a:lnTo>
                    <a:pt x="1706" y="2052"/>
                  </a:lnTo>
                  <a:lnTo>
                    <a:pt x="1791" y="1953"/>
                  </a:lnTo>
                  <a:lnTo>
                    <a:pt x="1878" y="1858"/>
                  </a:lnTo>
                  <a:lnTo>
                    <a:pt x="1969" y="1765"/>
                  </a:lnTo>
                  <a:lnTo>
                    <a:pt x="2062" y="1676"/>
                  </a:lnTo>
                  <a:lnTo>
                    <a:pt x="2157" y="1589"/>
                  </a:lnTo>
                  <a:lnTo>
                    <a:pt x="2252" y="1506"/>
                  </a:lnTo>
                  <a:lnTo>
                    <a:pt x="2351" y="1425"/>
                  </a:lnTo>
                  <a:lnTo>
                    <a:pt x="2452" y="1348"/>
                  </a:lnTo>
                  <a:lnTo>
                    <a:pt x="2452" y="1348"/>
                  </a:lnTo>
                  <a:lnTo>
                    <a:pt x="2555" y="1274"/>
                  </a:lnTo>
                  <a:lnTo>
                    <a:pt x="2658" y="1203"/>
                  </a:lnTo>
                  <a:lnTo>
                    <a:pt x="2763" y="1136"/>
                  </a:lnTo>
                  <a:lnTo>
                    <a:pt x="2871" y="1071"/>
                  </a:lnTo>
                  <a:lnTo>
                    <a:pt x="2978" y="1011"/>
                  </a:lnTo>
                  <a:lnTo>
                    <a:pt x="3087" y="954"/>
                  </a:lnTo>
                  <a:lnTo>
                    <a:pt x="3196" y="900"/>
                  </a:lnTo>
                  <a:lnTo>
                    <a:pt x="3307" y="849"/>
                  </a:lnTo>
                  <a:lnTo>
                    <a:pt x="3418" y="803"/>
                  </a:lnTo>
                  <a:lnTo>
                    <a:pt x="3530" y="758"/>
                  </a:lnTo>
                  <a:lnTo>
                    <a:pt x="3641" y="718"/>
                  </a:lnTo>
                  <a:lnTo>
                    <a:pt x="3754" y="679"/>
                  </a:lnTo>
                  <a:lnTo>
                    <a:pt x="3867" y="645"/>
                  </a:lnTo>
                  <a:lnTo>
                    <a:pt x="3980" y="615"/>
                  </a:lnTo>
                  <a:lnTo>
                    <a:pt x="4093" y="586"/>
                  </a:lnTo>
                  <a:lnTo>
                    <a:pt x="4205" y="562"/>
                  </a:lnTo>
                  <a:lnTo>
                    <a:pt x="4205" y="562"/>
                  </a:lnTo>
                  <a:lnTo>
                    <a:pt x="4332" y="534"/>
                  </a:lnTo>
                  <a:lnTo>
                    <a:pt x="4461" y="509"/>
                  </a:lnTo>
                  <a:lnTo>
                    <a:pt x="4589" y="489"/>
                  </a:lnTo>
                  <a:lnTo>
                    <a:pt x="4716" y="473"/>
                  </a:lnTo>
                  <a:lnTo>
                    <a:pt x="4843" y="459"/>
                  </a:lnTo>
                  <a:lnTo>
                    <a:pt x="4971" y="449"/>
                  </a:lnTo>
                  <a:lnTo>
                    <a:pt x="5100" y="445"/>
                  </a:lnTo>
                  <a:lnTo>
                    <a:pt x="5227" y="443"/>
                  </a:lnTo>
                  <a:lnTo>
                    <a:pt x="5227" y="443"/>
                  </a:lnTo>
                  <a:lnTo>
                    <a:pt x="5324" y="443"/>
                  </a:lnTo>
                  <a:lnTo>
                    <a:pt x="5419" y="447"/>
                  </a:lnTo>
                  <a:lnTo>
                    <a:pt x="5516" y="451"/>
                  </a:lnTo>
                  <a:lnTo>
                    <a:pt x="5613" y="459"/>
                  </a:lnTo>
                  <a:lnTo>
                    <a:pt x="5711" y="469"/>
                  </a:lnTo>
                  <a:lnTo>
                    <a:pt x="5808" y="481"/>
                  </a:lnTo>
                  <a:lnTo>
                    <a:pt x="5905" y="495"/>
                  </a:lnTo>
                  <a:lnTo>
                    <a:pt x="6004" y="512"/>
                  </a:lnTo>
                  <a:lnTo>
                    <a:pt x="6004" y="512"/>
                  </a:lnTo>
                  <a:lnTo>
                    <a:pt x="6119" y="534"/>
                  </a:lnTo>
                  <a:lnTo>
                    <a:pt x="6232" y="558"/>
                  </a:lnTo>
                  <a:lnTo>
                    <a:pt x="6343" y="586"/>
                  </a:lnTo>
                  <a:lnTo>
                    <a:pt x="6452" y="617"/>
                  </a:lnTo>
                  <a:lnTo>
                    <a:pt x="6561" y="651"/>
                  </a:lnTo>
                  <a:lnTo>
                    <a:pt x="6667" y="685"/>
                  </a:lnTo>
                  <a:lnTo>
                    <a:pt x="6772" y="724"/>
                  </a:lnTo>
                  <a:lnTo>
                    <a:pt x="6875" y="766"/>
                  </a:lnTo>
                  <a:lnTo>
                    <a:pt x="6976" y="809"/>
                  </a:lnTo>
                  <a:lnTo>
                    <a:pt x="7075" y="855"/>
                  </a:lnTo>
                  <a:lnTo>
                    <a:pt x="7174" y="904"/>
                  </a:lnTo>
                  <a:lnTo>
                    <a:pt x="7269" y="952"/>
                  </a:lnTo>
                  <a:lnTo>
                    <a:pt x="7364" y="1005"/>
                  </a:lnTo>
                  <a:lnTo>
                    <a:pt x="7457" y="1059"/>
                  </a:lnTo>
                  <a:lnTo>
                    <a:pt x="7548" y="1116"/>
                  </a:lnTo>
                  <a:lnTo>
                    <a:pt x="7637" y="1174"/>
                  </a:lnTo>
                  <a:lnTo>
                    <a:pt x="7637" y="1174"/>
                  </a:lnTo>
                  <a:lnTo>
                    <a:pt x="7724" y="1233"/>
                  </a:lnTo>
                  <a:lnTo>
                    <a:pt x="7811" y="1296"/>
                  </a:lnTo>
                  <a:lnTo>
                    <a:pt x="7896" y="1358"/>
                  </a:lnTo>
                  <a:lnTo>
                    <a:pt x="7978" y="1425"/>
                  </a:lnTo>
                  <a:lnTo>
                    <a:pt x="8061" y="1492"/>
                  </a:lnTo>
                  <a:lnTo>
                    <a:pt x="8140" y="1561"/>
                  </a:lnTo>
                  <a:lnTo>
                    <a:pt x="8219" y="1631"/>
                  </a:lnTo>
                  <a:lnTo>
                    <a:pt x="8298" y="1702"/>
                  </a:lnTo>
                  <a:lnTo>
                    <a:pt x="8375" y="1777"/>
                  </a:lnTo>
                  <a:lnTo>
                    <a:pt x="8449" y="1854"/>
                  </a:lnTo>
                  <a:lnTo>
                    <a:pt x="8522" y="1930"/>
                  </a:lnTo>
                  <a:lnTo>
                    <a:pt x="8595" y="2009"/>
                  </a:lnTo>
                  <a:lnTo>
                    <a:pt x="8666" y="2090"/>
                  </a:lnTo>
                  <a:lnTo>
                    <a:pt x="8734" y="2173"/>
                  </a:lnTo>
                  <a:lnTo>
                    <a:pt x="8803" y="2258"/>
                  </a:lnTo>
                  <a:lnTo>
                    <a:pt x="8870" y="2343"/>
                  </a:lnTo>
                  <a:lnTo>
                    <a:pt x="8870" y="2343"/>
                  </a:lnTo>
                  <a:lnTo>
                    <a:pt x="8955" y="2456"/>
                  </a:lnTo>
                  <a:lnTo>
                    <a:pt x="9036" y="2571"/>
                  </a:lnTo>
                  <a:lnTo>
                    <a:pt x="9110" y="2690"/>
                  </a:lnTo>
                  <a:lnTo>
                    <a:pt x="9183" y="2810"/>
                  </a:lnTo>
                  <a:lnTo>
                    <a:pt x="9217" y="2872"/>
                  </a:lnTo>
                  <a:lnTo>
                    <a:pt x="9252" y="2933"/>
                  </a:lnTo>
                  <a:lnTo>
                    <a:pt x="9284" y="2996"/>
                  </a:lnTo>
                  <a:lnTo>
                    <a:pt x="9316" y="3060"/>
                  </a:lnTo>
                  <a:lnTo>
                    <a:pt x="9347" y="3123"/>
                  </a:lnTo>
                  <a:lnTo>
                    <a:pt x="9375" y="3188"/>
                  </a:lnTo>
                  <a:lnTo>
                    <a:pt x="9403" y="3252"/>
                  </a:lnTo>
                  <a:lnTo>
                    <a:pt x="9432" y="3319"/>
                  </a:lnTo>
                  <a:lnTo>
                    <a:pt x="9458" y="3384"/>
                  </a:lnTo>
                  <a:lnTo>
                    <a:pt x="9482" y="3450"/>
                  </a:lnTo>
                  <a:lnTo>
                    <a:pt x="9506" y="3519"/>
                  </a:lnTo>
                  <a:lnTo>
                    <a:pt x="9529" y="3588"/>
                  </a:lnTo>
                  <a:lnTo>
                    <a:pt x="9551" y="3657"/>
                  </a:lnTo>
                  <a:lnTo>
                    <a:pt x="9571" y="3725"/>
                  </a:lnTo>
                  <a:lnTo>
                    <a:pt x="9589" y="3796"/>
                  </a:lnTo>
                  <a:lnTo>
                    <a:pt x="9608" y="3867"/>
                  </a:lnTo>
                  <a:lnTo>
                    <a:pt x="9626" y="3938"/>
                  </a:lnTo>
                  <a:lnTo>
                    <a:pt x="9640" y="4008"/>
                  </a:lnTo>
                  <a:lnTo>
                    <a:pt x="9654" y="4081"/>
                  </a:lnTo>
                  <a:lnTo>
                    <a:pt x="9668" y="4154"/>
                  </a:lnTo>
                  <a:lnTo>
                    <a:pt x="9680" y="4229"/>
                  </a:lnTo>
                  <a:lnTo>
                    <a:pt x="9690" y="4303"/>
                  </a:lnTo>
                  <a:lnTo>
                    <a:pt x="9701" y="4378"/>
                  </a:lnTo>
                  <a:lnTo>
                    <a:pt x="9709" y="4453"/>
                  </a:lnTo>
                  <a:lnTo>
                    <a:pt x="9709" y="4453"/>
                  </a:lnTo>
                  <a:lnTo>
                    <a:pt x="9727" y="4639"/>
                  </a:lnTo>
                  <a:lnTo>
                    <a:pt x="9747" y="4811"/>
                  </a:lnTo>
                  <a:lnTo>
                    <a:pt x="9757" y="4883"/>
                  </a:lnTo>
                  <a:lnTo>
                    <a:pt x="9765" y="4940"/>
                  </a:lnTo>
                  <a:lnTo>
                    <a:pt x="9771" y="4960"/>
                  </a:lnTo>
                  <a:lnTo>
                    <a:pt x="9775" y="4976"/>
                  </a:lnTo>
                  <a:lnTo>
                    <a:pt x="9781" y="4987"/>
                  </a:lnTo>
                  <a:lnTo>
                    <a:pt x="9783" y="4989"/>
                  </a:lnTo>
                  <a:lnTo>
                    <a:pt x="9785" y="4989"/>
                  </a:lnTo>
                  <a:lnTo>
                    <a:pt x="9785" y="4989"/>
                  </a:lnTo>
                  <a:lnTo>
                    <a:pt x="9789" y="4987"/>
                  </a:lnTo>
                  <a:lnTo>
                    <a:pt x="9793" y="4978"/>
                  </a:lnTo>
                  <a:lnTo>
                    <a:pt x="9796" y="4964"/>
                  </a:lnTo>
                  <a:lnTo>
                    <a:pt x="9800" y="4942"/>
                  </a:lnTo>
                  <a:lnTo>
                    <a:pt x="9800" y="4942"/>
                  </a:lnTo>
                  <a:lnTo>
                    <a:pt x="9810" y="4833"/>
                  </a:lnTo>
                  <a:lnTo>
                    <a:pt x="9814" y="4722"/>
                  </a:lnTo>
                  <a:lnTo>
                    <a:pt x="9816" y="4609"/>
                  </a:lnTo>
                  <a:lnTo>
                    <a:pt x="9814" y="4495"/>
                  </a:lnTo>
                  <a:lnTo>
                    <a:pt x="9814" y="4495"/>
                  </a:lnTo>
                  <a:lnTo>
                    <a:pt x="9800" y="4342"/>
                  </a:lnTo>
                  <a:lnTo>
                    <a:pt x="9779" y="4188"/>
                  </a:lnTo>
                  <a:lnTo>
                    <a:pt x="9755" y="4035"/>
                  </a:lnTo>
                  <a:lnTo>
                    <a:pt x="9741" y="3956"/>
                  </a:lnTo>
                  <a:lnTo>
                    <a:pt x="9725" y="3879"/>
                  </a:lnTo>
                  <a:lnTo>
                    <a:pt x="9709" y="3800"/>
                  </a:lnTo>
                  <a:lnTo>
                    <a:pt x="9690" y="3723"/>
                  </a:lnTo>
                  <a:lnTo>
                    <a:pt x="9672" y="3646"/>
                  </a:lnTo>
                  <a:lnTo>
                    <a:pt x="9650" y="3568"/>
                  </a:lnTo>
                  <a:lnTo>
                    <a:pt x="9628" y="3491"/>
                  </a:lnTo>
                  <a:lnTo>
                    <a:pt x="9606" y="3414"/>
                  </a:lnTo>
                  <a:lnTo>
                    <a:pt x="9579" y="3337"/>
                  </a:lnTo>
                  <a:lnTo>
                    <a:pt x="9553" y="3260"/>
                  </a:lnTo>
                  <a:lnTo>
                    <a:pt x="9553" y="3260"/>
                  </a:lnTo>
                  <a:lnTo>
                    <a:pt x="9525" y="3184"/>
                  </a:lnTo>
                  <a:lnTo>
                    <a:pt x="9496" y="3109"/>
                  </a:lnTo>
                  <a:lnTo>
                    <a:pt x="9464" y="3034"/>
                  </a:lnTo>
                  <a:lnTo>
                    <a:pt x="9432" y="2959"/>
                  </a:lnTo>
                  <a:lnTo>
                    <a:pt x="9397" y="2884"/>
                  </a:lnTo>
                  <a:lnTo>
                    <a:pt x="9363" y="2812"/>
                  </a:lnTo>
                  <a:lnTo>
                    <a:pt x="9325" y="2739"/>
                  </a:lnTo>
                  <a:lnTo>
                    <a:pt x="9286" y="2666"/>
                  </a:lnTo>
                  <a:lnTo>
                    <a:pt x="9246" y="2595"/>
                  </a:lnTo>
                  <a:lnTo>
                    <a:pt x="9205" y="2525"/>
                  </a:lnTo>
                  <a:lnTo>
                    <a:pt x="9161" y="2456"/>
                  </a:lnTo>
                  <a:lnTo>
                    <a:pt x="9116" y="2387"/>
                  </a:lnTo>
                  <a:lnTo>
                    <a:pt x="9070" y="2321"/>
                  </a:lnTo>
                  <a:lnTo>
                    <a:pt x="9023" y="2256"/>
                  </a:lnTo>
                  <a:lnTo>
                    <a:pt x="8975" y="2191"/>
                  </a:lnTo>
                  <a:lnTo>
                    <a:pt x="8924" y="2126"/>
                  </a:lnTo>
                  <a:lnTo>
                    <a:pt x="8924" y="2126"/>
                  </a:lnTo>
                  <a:lnTo>
                    <a:pt x="8890" y="2080"/>
                  </a:lnTo>
                  <a:lnTo>
                    <a:pt x="8854" y="2033"/>
                  </a:lnTo>
                  <a:lnTo>
                    <a:pt x="8815" y="1987"/>
                  </a:lnTo>
                  <a:lnTo>
                    <a:pt x="8777" y="1941"/>
                  </a:lnTo>
                  <a:lnTo>
                    <a:pt x="8694" y="1850"/>
                  </a:lnTo>
                  <a:lnTo>
                    <a:pt x="8609" y="1761"/>
                  </a:lnTo>
                  <a:lnTo>
                    <a:pt x="8518" y="1674"/>
                  </a:lnTo>
                  <a:lnTo>
                    <a:pt x="8425" y="1589"/>
                  </a:lnTo>
                  <a:lnTo>
                    <a:pt x="8328" y="1506"/>
                  </a:lnTo>
                  <a:lnTo>
                    <a:pt x="8229" y="1427"/>
                  </a:lnTo>
                  <a:lnTo>
                    <a:pt x="8229" y="1427"/>
                  </a:lnTo>
                  <a:lnTo>
                    <a:pt x="8183" y="1387"/>
                  </a:lnTo>
                  <a:lnTo>
                    <a:pt x="8126" y="1342"/>
                  </a:lnTo>
                  <a:lnTo>
                    <a:pt x="8001" y="1243"/>
                  </a:lnTo>
                  <a:lnTo>
                    <a:pt x="7938" y="1195"/>
                  </a:lnTo>
                  <a:lnTo>
                    <a:pt x="7879" y="1146"/>
                  </a:lnTo>
                  <a:lnTo>
                    <a:pt x="7829" y="1102"/>
                  </a:lnTo>
                  <a:lnTo>
                    <a:pt x="7809" y="1081"/>
                  </a:lnTo>
                  <a:lnTo>
                    <a:pt x="7792" y="1063"/>
                  </a:lnTo>
                  <a:lnTo>
                    <a:pt x="7792" y="1063"/>
                  </a:lnTo>
                  <a:lnTo>
                    <a:pt x="7873" y="1116"/>
                  </a:lnTo>
                  <a:lnTo>
                    <a:pt x="7954" y="1170"/>
                  </a:lnTo>
                  <a:lnTo>
                    <a:pt x="8033" y="1227"/>
                  </a:lnTo>
                  <a:lnTo>
                    <a:pt x="8110" y="1284"/>
                  </a:lnTo>
                  <a:lnTo>
                    <a:pt x="8187" y="1342"/>
                  </a:lnTo>
                  <a:lnTo>
                    <a:pt x="8261" y="1405"/>
                  </a:lnTo>
                  <a:lnTo>
                    <a:pt x="8336" y="1466"/>
                  </a:lnTo>
                  <a:lnTo>
                    <a:pt x="8409" y="1530"/>
                  </a:lnTo>
                  <a:lnTo>
                    <a:pt x="8480" y="1595"/>
                  </a:lnTo>
                  <a:lnTo>
                    <a:pt x="8550" y="1662"/>
                  </a:lnTo>
                  <a:lnTo>
                    <a:pt x="8617" y="1730"/>
                  </a:lnTo>
                  <a:lnTo>
                    <a:pt x="8686" y="1799"/>
                  </a:lnTo>
                  <a:lnTo>
                    <a:pt x="8751" y="1870"/>
                  </a:lnTo>
                  <a:lnTo>
                    <a:pt x="8815" y="1943"/>
                  </a:lnTo>
                  <a:lnTo>
                    <a:pt x="8878" y="2015"/>
                  </a:lnTo>
                  <a:lnTo>
                    <a:pt x="8938" y="2090"/>
                  </a:lnTo>
                  <a:lnTo>
                    <a:pt x="8999" y="2165"/>
                  </a:lnTo>
                  <a:lnTo>
                    <a:pt x="9058" y="2242"/>
                  </a:lnTo>
                  <a:lnTo>
                    <a:pt x="9112" y="2321"/>
                  </a:lnTo>
                  <a:lnTo>
                    <a:pt x="9169" y="2399"/>
                  </a:lnTo>
                  <a:lnTo>
                    <a:pt x="9221" y="2480"/>
                  </a:lnTo>
                  <a:lnTo>
                    <a:pt x="9272" y="2561"/>
                  </a:lnTo>
                  <a:lnTo>
                    <a:pt x="9323" y="2642"/>
                  </a:lnTo>
                  <a:lnTo>
                    <a:pt x="9371" y="2727"/>
                  </a:lnTo>
                  <a:lnTo>
                    <a:pt x="9418" y="2810"/>
                  </a:lnTo>
                  <a:lnTo>
                    <a:pt x="9462" y="2895"/>
                  </a:lnTo>
                  <a:lnTo>
                    <a:pt x="9504" y="2981"/>
                  </a:lnTo>
                  <a:lnTo>
                    <a:pt x="9545" y="3068"/>
                  </a:lnTo>
                  <a:lnTo>
                    <a:pt x="9583" y="3155"/>
                  </a:lnTo>
                  <a:lnTo>
                    <a:pt x="9622" y="3244"/>
                  </a:lnTo>
                  <a:lnTo>
                    <a:pt x="9656" y="3333"/>
                  </a:lnTo>
                  <a:lnTo>
                    <a:pt x="9690" y="3424"/>
                  </a:lnTo>
                  <a:lnTo>
                    <a:pt x="9690" y="3424"/>
                  </a:lnTo>
                  <a:lnTo>
                    <a:pt x="9684" y="3382"/>
                  </a:lnTo>
                  <a:lnTo>
                    <a:pt x="9678" y="3339"/>
                  </a:lnTo>
                  <a:lnTo>
                    <a:pt x="9672" y="3317"/>
                  </a:lnTo>
                  <a:lnTo>
                    <a:pt x="9666" y="3295"/>
                  </a:lnTo>
                  <a:lnTo>
                    <a:pt x="9656" y="3268"/>
                  </a:lnTo>
                  <a:lnTo>
                    <a:pt x="9644" y="3244"/>
                  </a:lnTo>
                  <a:lnTo>
                    <a:pt x="9644" y="3244"/>
                  </a:lnTo>
                  <a:lnTo>
                    <a:pt x="9686" y="3268"/>
                  </a:lnTo>
                  <a:lnTo>
                    <a:pt x="9686" y="3268"/>
                  </a:lnTo>
                  <a:lnTo>
                    <a:pt x="9666" y="3208"/>
                  </a:lnTo>
                  <a:lnTo>
                    <a:pt x="9642" y="3143"/>
                  </a:lnTo>
                  <a:lnTo>
                    <a:pt x="9614" y="3072"/>
                  </a:lnTo>
                  <a:lnTo>
                    <a:pt x="9614" y="3072"/>
                  </a:lnTo>
                  <a:lnTo>
                    <a:pt x="9630" y="3093"/>
                  </a:lnTo>
                  <a:lnTo>
                    <a:pt x="9644" y="3121"/>
                  </a:lnTo>
                  <a:lnTo>
                    <a:pt x="9662" y="3153"/>
                  </a:lnTo>
                  <a:lnTo>
                    <a:pt x="9678" y="3190"/>
                  </a:lnTo>
                  <a:lnTo>
                    <a:pt x="9711" y="3268"/>
                  </a:lnTo>
                  <a:lnTo>
                    <a:pt x="9743" y="3351"/>
                  </a:lnTo>
                  <a:lnTo>
                    <a:pt x="9796" y="3493"/>
                  </a:lnTo>
                  <a:lnTo>
                    <a:pt x="9812" y="3537"/>
                  </a:lnTo>
                  <a:lnTo>
                    <a:pt x="9818" y="3549"/>
                  </a:lnTo>
                  <a:lnTo>
                    <a:pt x="9820" y="3553"/>
                  </a:lnTo>
                  <a:lnTo>
                    <a:pt x="9820" y="3553"/>
                  </a:lnTo>
                  <a:lnTo>
                    <a:pt x="9822" y="3551"/>
                  </a:lnTo>
                  <a:lnTo>
                    <a:pt x="9820" y="3543"/>
                  </a:lnTo>
                  <a:lnTo>
                    <a:pt x="9814" y="3513"/>
                  </a:lnTo>
                  <a:lnTo>
                    <a:pt x="9814" y="3513"/>
                  </a:lnTo>
                  <a:lnTo>
                    <a:pt x="9793" y="3426"/>
                  </a:lnTo>
                  <a:lnTo>
                    <a:pt x="9769" y="3341"/>
                  </a:lnTo>
                  <a:lnTo>
                    <a:pt x="9743" y="3258"/>
                  </a:lnTo>
                  <a:lnTo>
                    <a:pt x="9715" y="3173"/>
                  </a:lnTo>
                  <a:lnTo>
                    <a:pt x="9682" y="3091"/>
                  </a:lnTo>
                  <a:lnTo>
                    <a:pt x="9650" y="3008"/>
                  </a:lnTo>
                  <a:lnTo>
                    <a:pt x="9616" y="2927"/>
                  </a:lnTo>
                  <a:lnTo>
                    <a:pt x="9579" y="2844"/>
                  </a:lnTo>
                  <a:lnTo>
                    <a:pt x="9539" y="2765"/>
                  </a:lnTo>
                  <a:lnTo>
                    <a:pt x="9498" y="2684"/>
                  </a:lnTo>
                  <a:lnTo>
                    <a:pt x="9456" y="2606"/>
                  </a:lnTo>
                  <a:lnTo>
                    <a:pt x="9411" y="2527"/>
                  </a:lnTo>
                  <a:lnTo>
                    <a:pt x="9365" y="2450"/>
                  </a:lnTo>
                  <a:lnTo>
                    <a:pt x="9316" y="2373"/>
                  </a:lnTo>
                  <a:lnTo>
                    <a:pt x="9266" y="2298"/>
                  </a:lnTo>
                  <a:lnTo>
                    <a:pt x="9213" y="2223"/>
                  </a:lnTo>
                  <a:lnTo>
                    <a:pt x="9213" y="2223"/>
                  </a:lnTo>
                  <a:lnTo>
                    <a:pt x="9149" y="2118"/>
                  </a:lnTo>
                  <a:lnTo>
                    <a:pt x="9082" y="2015"/>
                  </a:lnTo>
                  <a:lnTo>
                    <a:pt x="9082" y="2015"/>
                  </a:lnTo>
                  <a:lnTo>
                    <a:pt x="9108" y="2066"/>
                  </a:lnTo>
                  <a:lnTo>
                    <a:pt x="9135" y="2116"/>
                  </a:lnTo>
                  <a:lnTo>
                    <a:pt x="9135" y="2116"/>
                  </a:lnTo>
                  <a:lnTo>
                    <a:pt x="9094" y="2066"/>
                  </a:lnTo>
                  <a:lnTo>
                    <a:pt x="9054" y="2013"/>
                  </a:lnTo>
                  <a:lnTo>
                    <a:pt x="8969" y="1912"/>
                  </a:lnTo>
                  <a:lnTo>
                    <a:pt x="8969" y="1912"/>
                  </a:lnTo>
                  <a:lnTo>
                    <a:pt x="8886" y="1807"/>
                  </a:lnTo>
                  <a:lnTo>
                    <a:pt x="8799" y="1702"/>
                  </a:lnTo>
                  <a:lnTo>
                    <a:pt x="8799" y="1702"/>
                  </a:lnTo>
                  <a:lnTo>
                    <a:pt x="8811" y="1718"/>
                  </a:lnTo>
                  <a:lnTo>
                    <a:pt x="8811" y="1718"/>
                  </a:lnTo>
                  <a:lnTo>
                    <a:pt x="8748" y="1643"/>
                  </a:lnTo>
                  <a:lnTo>
                    <a:pt x="8748" y="1643"/>
                  </a:lnTo>
                  <a:lnTo>
                    <a:pt x="8698" y="1585"/>
                  </a:lnTo>
                  <a:lnTo>
                    <a:pt x="8645" y="1528"/>
                  </a:lnTo>
                  <a:lnTo>
                    <a:pt x="8591" y="1472"/>
                  </a:lnTo>
                  <a:lnTo>
                    <a:pt x="8536" y="1415"/>
                  </a:lnTo>
                  <a:lnTo>
                    <a:pt x="8480" y="1360"/>
                  </a:lnTo>
                  <a:lnTo>
                    <a:pt x="8423" y="1306"/>
                  </a:lnTo>
                  <a:lnTo>
                    <a:pt x="8364" y="1253"/>
                  </a:lnTo>
                  <a:lnTo>
                    <a:pt x="8306" y="1201"/>
                  </a:lnTo>
                  <a:lnTo>
                    <a:pt x="8247" y="1150"/>
                  </a:lnTo>
                  <a:lnTo>
                    <a:pt x="8187" y="1100"/>
                  </a:lnTo>
                  <a:lnTo>
                    <a:pt x="8124" y="1049"/>
                  </a:lnTo>
                  <a:lnTo>
                    <a:pt x="8061" y="1001"/>
                  </a:lnTo>
                  <a:lnTo>
                    <a:pt x="7999" y="954"/>
                  </a:lnTo>
                  <a:lnTo>
                    <a:pt x="7934" y="908"/>
                  </a:lnTo>
                  <a:lnTo>
                    <a:pt x="7869" y="861"/>
                  </a:lnTo>
                  <a:lnTo>
                    <a:pt x="7805" y="817"/>
                  </a:lnTo>
                  <a:lnTo>
                    <a:pt x="7738" y="772"/>
                  </a:lnTo>
                  <a:lnTo>
                    <a:pt x="7671" y="730"/>
                  </a:lnTo>
                  <a:lnTo>
                    <a:pt x="7602" y="689"/>
                  </a:lnTo>
                  <a:lnTo>
                    <a:pt x="7534" y="649"/>
                  </a:lnTo>
                  <a:lnTo>
                    <a:pt x="7465" y="609"/>
                  </a:lnTo>
                  <a:lnTo>
                    <a:pt x="7394" y="572"/>
                  </a:lnTo>
                  <a:lnTo>
                    <a:pt x="7323" y="534"/>
                  </a:lnTo>
                  <a:lnTo>
                    <a:pt x="7253" y="499"/>
                  </a:lnTo>
                  <a:lnTo>
                    <a:pt x="7180" y="463"/>
                  </a:lnTo>
                  <a:lnTo>
                    <a:pt x="7107" y="431"/>
                  </a:lnTo>
                  <a:lnTo>
                    <a:pt x="7034" y="398"/>
                  </a:lnTo>
                  <a:lnTo>
                    <a:pt x="6960" y="366"/>
                  </a:lnTo>
                  <a:lnTo>
                    <a:pt x="6885" y="338"/>
                  </a:lnTo>
                  <a:lnTo>
                    <a:pt x="6810" y="307"/>
                  </a:lnTo>
                  <a:lnTo>
                    <a:pt x="6735" y="281"/>
                  </a:lnTo>
                  <a:lnTo>
                    <a:pt x="6658" y="255"/>
                  </a:lnTo>
                  <a:lnTo>
                    <a:pt x="6658" y="255"/>
                  </a:lnTo>
                  <a:lnTo>
                    <a:pt x="6563" y="224"/>
                  </a:lnTo>
                  <a:lnTo>
                    <a:pt x="6468" y="194"/>
                  </a:lnTo>
                  <a:lnTo>
                    <a:pt x="6373" y="168"/>
                  </a:lnTo>
                  <a:lnTo>
                    <a:pt x="6276" y="144"/>
                  </a:lnTo>
                  <a:lnTo>
                    <a:pt x="6179" y="121"/>
                  </a:lnTo>
                  <a:lnTo>
                    <a:pt x="6082" y="99"/>
                  </a:lnTo>
                  <a:lnTo>
                    <a:pt x="5985" y="81"/>
                  </a:lnTo>
                  <a:lnTo>
                    <a:pt x="5886" y="63"/>
                  </a:lnTo>
                  <a:lnTo>
                    <a:pt x="5787" y="49"/>
                  </a:lnTo>
                  <a:lnTo>
                    <a:pt x="5688" y="37"/>
                  </a:lnTo>
                  <a:lnTo>
                    <a:pt x="5587" y="24"/>
                  </a:lnTo>
                  <a:lnTo>
                    <a:pt x="5488" y="16"/>
                  </a:lnTo>
                  <a:lnTo>
                    <a:pt x="5387" y="8"/>
                  </a:lnTo>
                  <a:lnTo>
                    <a:pt x="5288" y="4"/>
                  </a:lnTo>
                  <a:lnTo>
                    <a:pt x="5187" y="0"/>
                  </a:lnTo>
                  <a:lnTo>
                    <a:pt x="5086" y="0"/>
                  </a:lnTo>
                  <a:close/>
                </a:path>
              </a:pathLst>
            </a:custGeom>
            <a:solidFill>
              <a:srgbClr val="ea5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-1940040" y="22826880"/>
              <a:ext cx="304560" cy="10648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064880"/>
                <a:gd name="textAreaBottom" fmla="*/ 1065240 h 1064880"/>
              </a:gdLst>
              <a:ahLst/>
              <a:rect l="textAreaLeft" t="textAreaTop" r="textAreaRight" b="textAreaBottom"/>
              <a:pathLst>
                <a:path w="192" h="671">
                  <a:moveTo>
                    <a:pt x="0" y="0"/>
                  </a:moveTo>
                  <a:lnTo>
                    <a:pt x="0" y="0"/>
                  </a:lnTo>
                  <a:lnTo>
                    <a:pt x="29" y="129"/>
                  </a:lnTo>
                  <a:lnTo>
                    <a:pt x="59" y="245"/>
                  </a:lnTo>
                  <a:lnTo>
                    <a:pt x="85" y="344"/>
                  </a:lnTo>
                  <a:lnTo>
                    <a:pt x="109" y="429"/>
                  </a:lnTo>
                  <a:lnTo>
                    <a:pt x="134" y="501"/>
                  </a:lnTo>
                  <a:lnTo>
                    <a:pt x="152" y="560"/>
                  </a:lnTo>
                  <a:lnTo>
                    <a:pt x="180" y="641"/>
                  </a:lnTo>
                  <a:lnTo>
                    <a:pt x="180" y="641"/>
                  </a:lnTo>
                  <a:lnTo>
                    <a:pt x="192" y="671"/>
                  </a:lnTo>
                  <a:lnTo>
                    <a:pt x="192" y="671"/>
                  </a:lnTo>
                  <a:lnTo>
                    <a:pt x="176" y="629"/>
                  </a:lnTo>
                  <a:lnTo>
                    <a:pt x="134" y="499"/>
                  </a:lnTo>
                  <a:lnTo>
                    <a:pt x="134" y="499"/>
                  </a:lnTo>
                  <a:lnTo>
                    <a:pt x="101" y="388"/>
                  </a:lnTo>
                  <a:lnTo>
                    <a:pt x="63" y="249"/>
                  </a:lnTo>
                  <a:lnTo>
                    <a:pt x="63" y="249"/>
                  </a:lnTo>
                  <a:lnTo>
                    <a:pt x="31" y="1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-1515960" y="20061360"/>
              <a:ext cx="109440" cy="21114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w="69" h="1330">
                  <a:moveTo>
                    <a:pt x="69" y="0"/>
                  </a:moveTo>
                  <a:lnTo>
                    <a:pt x="69" y="0"/>
                  </a:lnTo>
                  <a:lnTo>
                    <a:pt x="55" y="79"/>
                  </a:lnTo>
                  <a:lnTo>
                    <a:pt x="42" y="157"/>
                  </a:lnTo>
                  <a:lnTo>
                    <a:pt x="32" y="238"/>
                  </a:lnTo>
                  <a:lnTo>
                    <a:pt x="22" y="319"/>
                  </a:lnTo>
                  <a:lnTo>
                    <a:pt x="16" y="402"/>
                  </a:lnTo>
                  <a:lnTo>
                    <a:pt x="10" y="485"/>
                  </a:lnTo>
                  <a:lnTo>
                    <a:pt x="4" y="568"/>
                  </a:lnTo>
                  <a:lnTo>
                    <a:pt x="2" y="653"/>
                  </a:lnTo>
                  <a:lnTo>
                    <a:pt x="0" y="735"/>
                  </a:lnTo>
                  <a:lnTo>
                    <a:pt x="2" y="820"/>
                  </a:lnTo>
                  <a:lnTo>
                    <a:pt x="4" y="905"/>
                  </a:lnTo>
                  <a:lnTo>
                    <a:pt x="6" y="990"/>
                  </a:lnTo>
                  <a:lnTo>
                    <a:pt x="12" y="1075"/>
                  </a:lnTo>
                  <a:lnTo>
                    <a:pt x="18" y="1160"/>
                  </a:lnTo>
                  <a:lnTo>
                    <a:pt x="26" y="1245"/>
                  </a:lnTo>
                  <a:lnTo>
                    <a:pt x="36" y="1330"/>
                  </a:lnTo>
                  <a:lnTo>
                    <a:pt x="36" y="1330"/>
                  </a:lnTo>
                  <a:lnTo>
                    <a:pt x="26" y="1247"/>
                  </a:lnTo>
                  <a:lnTo>
                    <a:pt x="20" y="1164"/>
                  </a:lnTo>
                  <a:lnTo>
                    <a:pt x="12" y="1081"/>
                  </a:lnTo>
                  <a:lnTo>
                    <a:pt x="8" y="998"/>
                  </a:lnTo>
                  <a:lnTo>
                    <a:pt x="4" y="915"/>
                  </a:lnTo>
                  <a:lnTo>
                    <a:pt x="2" y="833"/>
                  </a:lnTo>
                  <a:lnTo>
                    <a:pt x="2" y="748"/>
                  </a:lnTo>
                  <a:lnTo>
                    <a:pt x="4" y="665"/>
                  </a:lnTo>
                  <a:lnTo>
                    <a:pt x="6" y="582"/>
                  </a:lnTo>
                  <a:lnTo>
                    <a:pt x="10" y="497"/>
                  </a:lnTo>
                  <a:lnTo>
                    <a:pt x="16" y="414"/>
                  </a:lnTo>
                  <a:lnTo>
                    <a:pt x="24" y="331"/>
                  </a:lnTo>
                  <a:lnTo>
                    <a:pt x="34" y="248"/>
                  </a:lnTo>
                  <a:lnTo>
                    <a:pt x="44" y="165"/>
                  </a:lnTo>
                  <a:lnTo>
                    <a:pt x="57" y="83"/>
                  </a:lnTo>
                  <a:lnTo>
                    <a:pt x="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2074680" y="22993560"/>
              <a:ext cx="4049640" cy="5306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5306760"/>
                <a:gd name="textAreaBottom" fmla="*/ 5307120 h 5306760"/>
              </a:gdLst>
              <a:ahLst/>
              <a:rect l="textAreaLeft" t="textAreaTop" r="textAreaRight" b="textAreaBottom"/>
              <a:pathLst>
                <a:path w="2551" h="3343">
                  <a:moveTo>
                    <a:pt x="2551" y="3343"/>
                  </a:moveTo>
                  <a:lnTo>
                    <a:pt x="2551" y="3343"/>
                  </a:lnTo>
                  <a:lnTo>
                    <a:pt x="2468" y="3301"/>
                  </a:lnTo>
                  <a:lnTo>
                    <a:pt x="2379" y="3254"/>
                  </a:lnTo>
                  <a:lnTo>
                    <a:pt x="2288" y="3208"/>
                  </a:lnTo>
                  <a:lnTo>
                    <a:pt x="2195" y="3159"/>
                  </a:lnTo>
                  <a:lnTo>
                    <a:pt x="2104" y="3109"/>
                  </a:lnTo>
                  <a:lnTo>
                    <a:pt x="2018" y="3056"/>
                  </a:lnTo>
                  <a:lnTo>
                    <a:pt x="1977" y="3030"/>
                  </a:lnTo>
                  <a:lnTo>
                    <a:pt x="1937" y="3002"/>
                  </a:lnTo>
                  <a:lnTo>
                    <a:pt x="1900" y="2975"/>
                  </a:lnTo>
                  <a:lnTo>
                    <a:pt x="1866" y="2947"/>
                  </a:lnTo>
                  <a:lnTo>
                    <a:pt x="1866" y="2947"/>
                  </a:lnTo>
                  <a:lnTo>
                    <a:pt x="1779" y="2876"/>
                  </a:lnTo>
                  <a:lnTo>
                    <a:pt x="1692" y="2806"/>
                  </a:lnTo>
                  <a:lnTo>
                    <a:pt x="1609" y="2735"/>
                  </a:lnTo>
                  <a:lnTo>
                    <a:pt x="1528" y="2664"/>
                  </a:lnTo>
                  <a:lnTo>
                    <a:pt x="1450" y="2591"/>
                  </a:lnTo>
                  <a:lnTo>
                    <a:pt x="1373" y="2519"/>
                  </a:lnTo>
                  <a:lnTo>
                    <a:pt x="1298" y="2444"/>
                  </a:lnTo>
                  <a:lnTo>
                    <a:pt x="1225" y="2369"/>
                  </a:lnTo>
                  <a:lnTo>
                    <a:pt x="1154" y="2294"/>
                  </a:lnTo>
                  <a:lnTo>
                    <a:pt x="1084" y="2217"/>
                  </a:lnTo>
                  <a:lnTo>
                    <a:pt x="1017" y="2141"/>
                  </a:lnTo>
                  <a:lnTo>
                    <a:pt x="950" y="2062"/>
                  </a:lnTo>
                  <a:lnTo>
                    <a:pt x="888" y="1983"/>
                  </a:lnTo>
                  <a:lnTo>
                    <a:pt x="825" y="1904"/>
                  </a:lnTo>
                  <a:lnTo>
                    <a:pt x="764" y="1823"/>
                  </a:lnTo>
                  <a:lnTo>
                    <a:pt x="706" y="1742"/>
                  </a:lnTo>
                  <a:lnTo>
                    <a:pt x="706" y="1742"/>
                  </a:lnTo>
                  <a:lnTo>
                    <a:pt x="649" y="1660"/>
                  </a:lnTo>
                  <a:lnTo>
                    <a:pt x="595" y="1575"/>
                  </a:lnTo>
                  <a:lnTo>
                    <a:pt x="540" y="1490"/>
                  </a:lnTo>
                  <a:lnTo>
                    <a:pt x="489" y="1405"/>
                  </a:lnTo>
                  <a:lnTo>
                    <a:pt x="439" y="1316"/>
                  </a:lnTo>
                  <a:lnTo>
                    <a:pt x="392" y="1229"/>
                  </a:lnTo>
                  <a:lnTo>
                    <a:pt x="346" y="1138"/>
                  </a:lnTo>
                  <a:lnTo>
                    <a:pt x="301" y="1047"/>
                  </a:lnTo>
                  <a:lnTo>
                    <a:pt x="261" y="954"/>
                  </a:lnTo>
                  <a:lnTo>
                    <a:pt x="221" y="859"/>
                  </a:lnTo>
                  <a:lnTo>
                    <a:pt x="184" y="764"/>
                  </a:lnTo>
                  <a:lnTo>
                    <a:pt x="148" y="667"/>
                  </a:lnTo>
                  <a:lnTo>
                    <a:pt x="116" y="568"/>
                  </a:lnTo>
                  <a:lnTo>
                    <a:pt x="85" y="469"/>
                  </a:lnTo>
                  <a:lnTo>
                    <a:pt x="57" y="368"/>
                  </a:lnTo>
                  <a:lnTo>
                    <a:pt x="33" y="265"/>
                  </a:lnTo>
                  <a:lnTo>
                    <a:pt x="33" y="265"/>
                  </a:lnTo>
                  <a:lnTo>
                    <a:pt x="25" y="229"/>
                  </a:lnTo>
                  <a:lnTo>
                    <a:pt x="19" y="194"/>
                  </a:lnTo>
                  <a:lnTo>
                    <a:pt x="14" y="160"/>
                  </a:lnTo>
                  <a:lnTo>
                    <a:pt x="12" y="130"/>
                  </a:lnTo>
                  <a:lnTo>
                    <a:pt x="8" y="67"/>
                  </a:lnTo>
                  <a:lnTo>
                    <a:pt x="6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29" y="117"/>
                  </a:lnTo>
                  <a:lnTo>
                    <a:pt x="59" y="233"/>
                  </a:lnTo>
                  <a:lnTo>
                    <a:pt x="91" y="346"/>
                  </a:lnTo>
                  <a:lnTo>
                    <a:pt x="126" y="459"/>
                  </a:lnTo>
                  <a:lnTo>
                    <a:pt x="164" y="570"/>
                  </a:lnTo>
                  <a:lnTo>
                    <a:pt x="206" y="679"/>
                  </a:lnTo>
                  <a:lnTo>
                    <a:pt x="249" y="786"/>
                  </a:lnTo>
                  <a:lnTo>
                    <a:pt x="295" y="894"/>
                  </a:lnTo>
                  <a:lnTo>
                    <a:pt x="344" y="999"/>
                  </a:lnTo>
                  <a:lnTo>
                    <a:pt x="394" y="1102"/>
                  </a:lnTo>
                  <a:lnTo>
                    <a:pt x="447" y="1203"/>
                  </a:lnTo>
                  <a:lnTo>
                    <a:pt x="504" y="1304"/>
                  </a:lnTo>
                  <a:lnTo>
                    <a:pt x="560" y="1403"/>
                  </a:lnTo>
                  <a:lnTo>
                    <a:pt x="621" y="1500"/>
                  </a:lnTo>
                  <a:lnTo>
                    <a:pt x="681" y="1597"/>
                  </a:lnTo>
                  <a:lnTo>
                    <a:pt x="746" y="1690"/>
                  </a:lnTo>
                  <a:lnTo>
                    <a:pt x="746" y="1690"/>
                  </a:lnTo>
                  <a:lnTo>
                    <a:pt x="813" y="1785"/>
                  </a:lnTo>
                  <a:lnTo>
                    <a:pt x="884" y="1878"/>
                  </a:lnTo>
                  <a:lnTo>
                    <a:pt x="954" y="1971"/>
                  </a:lnTo>
                  <a:lnTo>
                    <a:pt x="1029" y="2062"/>
                  </a:lnTo>
                  <a:lnTo>
                    <a:pt x="1106" y="2151"/>
                  </a:lnTo>
                  <a:lnTo>
                    <a:pt x="1183" y="2238"/>
                  </a:lnTo>
                  <a:lnTo>
                    <a:pt x="1264" y="2323"/>
                  </a:lnTo>
                  <a:lnTo>
                    <a:pt x="1346" y="2407"/>
                  </a:lnTo>
                  <a:lnTo>
                    <a:pt x="1431" y="2490"/>
                  </a:lnTo>
                  <a:lnTo>
                    <a:pt x="1518" y="2573"/>
                  </a:lnTo>
                  <a:lnTo>
                    <a:pt x="1607" y="2652"/>
                  </a:lnTo>
                  <a:lnTo>
                    <a:pt x="1698" y="2731"/>
                  </a:lnTo>
                  <a:lnTo>
                    <a:pt x="1793" y="2808"/>
                  </a:lnTo>
                  <a:lnTo>
                    <a:pt x="1888" y="2882"/>
                  </a:lnTo>
                  <a:lnTo>
                    <a:pt x="1987" y="2957"/>
                  </a:lnTo>
                  <a:lnTo>
                    <a:pt x="2086" y="3030"/>
                  </a:lnTo>
                  <a:lnTo>
                    <a:pt x="2086" y="3030"/>
                  </a:lnTo>
                  <a:lnTo>
                    <a:pt x="2210" y="3119"/>
                  </a:lnTo>
                  <a:lnTo>
                    <a:pt x="2325" y="3200"/>
                  </a:lnTo>
                  <a:lnTo>
                    <a:pt x="2438" y="3275"/>
                  </a:lnTo>
                  <a:lnTo>
                    <a:pt x="2551" y="3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-2119320" y="19891440"/>
              <a:ext cx="4565520" cy="8335800"/>
            </a:xfrm>
            <a:custGeom>
              <a:avLst/>
              <a:gdLst>
                <a:gd name="textAreaLeft" fmla="*/ 0 w 4565520"/>
                <a:gd name="textAreaRight" fmla="*/ 4565880 w 4565520"/>
                <a:gd name="textAreaTop" fmla="*/ 0 h 8335800"/>
                <a:gd name="textAreaBottom" fmla="*/ 8336160 h 8335800"/>
              </a:gdLst>
              <a:ahLst/>
              <a:rect l="textAreaLeft" t="textAreaTop" r="textAreaRight" b="textAreaBottom"/>
              <a:pathLst>
                <a:path w="2876" h="5251">
                  <a:moveTo>
                    <a:pt x="2876" y="5251"/>
                  </a:moveTo>
                  <a:lnTo>
                    <a:pt x="2876" y="5251"/>
                  </a:lnTo>
                  <a:lnTo>
                    <a:pt x="2781" y="5214"/>
                  </a:lnTo>
                  <a:lnTo>
                    <a:pt x="2682" y="5172"/>
                  </a:lnTo>
                  <a:lnTo>
                    <a:pt x="2583" y="5125"/>
                  </a:lnTo>
                  <a:lnTo>
                    <a:pt x="2480" y="5075"/>
                  </a:lnTo>
                  <a:lnTo>
                    <a:pt x="2377" y="5018"/>
                  </a:lnTo>
                  <a:lnTo>
                    <a:pt x="2270" y="4956"/>
                  </a:lnTo>
                  <a:lnTo>
                    <a:pt x="2165" y="4891"/>
                  </a:lnTo>
                  <a:lnTo>
                    <a:pt x="2058" y="4818"/>
                  </a:lnTo>
                  <a:lnTo>
                    <a:pt x="1949" y="4743"/>
                  </a:lnTo>
                  <a:lnTo>
                    <a:pt x="1841" y="4663"/>
                  </a:lnTo>
                  <a:lnTo>
                    <a:pt x="1734" y="4576"/>
                  </a:lnTo>
                  <a:lnTo>
                    <a:pt x="1627" y="4485"/>
                  </a:lnTo>
                  <a:lnTo>
                    <a:pt x="1522" y="4390"/>
                  </a:lnTo>
                  <a:lnTo>
                    <a:pt x="1419" y="4289"/>
                  </a:lnTo>
                  <a:lnTo>
                    <a:pt x="1366" y="4236"/>
                  </a:lnTo>
                  <a:lnTo>
                    <a:pt x="1316" y="4182"/>
                  </a:lnTo>
                  <a:lnTo>
                    <a:pt x="1265" y="4127"/>
                  </a:lnTo>
                  <a:lnTo>
                    <a:pt x="1217" y="4070"/>
                  </a:lnTo>
                  <a:lnTo>
                    <a:pt x="1217" y="4070"/>
                  </a:lnTo>
                  <a:lnTo>
                    <a:pt x="1166" y="4014"/>
                  </a:lnTo>
                  <a:lnTo>
                    <a:pt x="1118" y="3957"/>
                  </a:lnTo>
                  <a:lnTo>
                    <a:pt x="1069" y="3899"/>
                  </a:lnTo>
                  <a:lnTo>
                    <a:pt x="1023" y="3838"/>
                  </a:lnTo>
                  <a:lnTo>
                    <a:pt x="976" y="3777"/>
                  </a:lnTo>
                  <a:lnTo>
                    <a:pt x="932" y="3715"/>
                  </a:lnTo>
                  <a:lnTo>
                    <a:pt x="885" y="3650"/>
                  </a:lnTo>
                  <a:lnTo>
                    <a:pt x="843" y="3587"/>
                  </a:lnTo>
                  <a:lnTo>
                    <a:pt x="800" y="3521"/>
                  </a:lnTo>
                  <a:lnTo>
                    <a:pt x="758" y="3456"/>
                  </a:lnTo>
                  <a:lnTo>
                    <a:pt x="718" y="3389"/>
                  </a:lnTo>
                  <a:lnTo>
                    <a:pt x="677" y="3321"/>
                  </a:lnTo>
                  <a:lnTo>
                    <a:pt x="639" y="3252"/>
                  </a:lnTo>
                  <a:lnTo>
                    <a:pt x="600" y="3183"/>
                  </a:lnTo>
                  <a:lnTo>
                    <a:pt x="562" y="3112"/>
                  </a:lnTo>
                  <a:lnTo>
                    <a:pt x="528" y="3042"/>
                  </a:lnTo>
                  <a:lnTo>
                    <a:pt x="491" y="2971"/>
                  </a:lnTo>
                  <a:lnTo>
                    <a:pt x="459" y="2900"/>
                  </a:lnTo>
                  <a:lnTo>
                    <a:pt x="427" y="2827"/>
                  </a:lnTo>
                  <a:lnTo>
                    <a:pt x="394" y="2755"/>
                  </a:lnTo>
                  <a:lnTo>
                    <a:pt x="364" y="2680"/>
                  </a:lnTo>
                  <a:lnTo>
                    <a:pt x="336" y="2607"/>
                  </a:lnTo>
                  <a:lnTo>
                    <a:pt x="307" y="2532"/>
                  </a:lnTo>
                  <a:lnTo>
                    <a:pt x="281" y="2457"/>
                  </a:lnTo>
                  <a:lnTo>
                    <a:pt x="255" y="2383"/>
                  </a:lnTo>
                  <a:lnTo>
                    <a:pt x="230" y="2306"/>
                  </a:lnTo>
                  <a:lnTo>
                    <a:pt x="208" y="2231"/>
                  </a:lnTo>
                  <a:lnTo>
                    <a:pt x="186" y="2154"/>
                  </a:lnTo>
                  <a:lnTo>
                    <a:pt x="166" y="2077"/>
                  </a:lnTo>
                  <a:lnTo>
                    <a:pt x="148" y="2001"/>
                  </a:lnTo>
                  <a:lnTo>
                    <a:pt x="129" y="1926"/>
                  </a:lnTo>
                  <a:lnTo>
                    <a:pt x="113" y="1849"/>
                  </a:lnTo>
                  <a:lnTo>
                    <a:pt x="113" y="1849"/>
                  </a:lnTo>
                  <a:lnTo>
                    <a:pt x="91" y="1736"/>
                  </a:lnTo>
                  <a:lnTo>
                    <a:pt x="69" y="1623"/>
                  </a:lnTo>
                  <a:lnTo>
                    <a:pt x="51" y="1507"/>
                  </a:lnTo>
                  <a:lnTo>
                    <a:pt x="36" y="1394"/>
                  </a:lnTo>
                  <a:lnTo>
                    <a:pt x="24" y="1279"/>
                  </a:lnTo>
                  <a:lnTo>
                    <a:pt x="14" y="1164"/>
                  </a:lnTo>
                  <a:lnTo>
                    <a:pt x="6" y="1047"/>
                  </a:lnTo>
                  <a:lnTo>
                    <a:pt x="2" y="931"/>
                  </a:lnTo>
                  <a:lnTo>
                    <a:pt x="0" y="814"/>
                  </a:lnTo>
                  <a:lnTo>
                    <a:pt x="2" y="699"/>
                  </a:lnTo>
                  <a:lnTo>
                    <a:pt x="4" y="582"/>
                  </a:lnTo>
                  <a:lnTo>
                    <a:pt x="12" y="465"/>
                  </a:lnTo>
                  <a:lnTo>
                    <a:pt x="20" y="347"/>
                  </a:lnTo>
                  <a:lnTo>
                    <a:pt x="32" y="232"/>
                  </a:lnTo>
                  <a:lnTo>
                    <a:pt x="49" y="11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5" y="85"/>
                  </a:lnTo>
                  <a:lnTo>
                    <a:pt x="44" y="159"/>
                  </a:lnTo>
                  <a:lnTo>
                    <a:pt x="38" y="220"/>
                  </a:lnTo>
                  <a:lnTo>
                    <a:pt x="36" y="264"/>
                  </a:lnTo>
                  <a:lnTo>
                    <a:pt x="36" y="264"/>
                  </a:lnTo>
                  <a:lnTo>
                    <a:pt x="22" y="412"/>
                  </a:lnTo>
                  <a:lnTo>
                    <a:pt x="14" y="555"/>
                  </a:lnTo>
                  <a:lnTo>
                    <a:pt x="10" y="695"/>
                  </a:lnTo>
                  <a:lnTo>
                    <a:pt x="8" y="832"/>
                  </a:lnTo>
                  <a:lnTo>
                    <a:pt x="12" y="964"/>
                  </a:lnTo>
                  <a:lnTo>
                    <a:pt x="16" y="1091"/>
                  </a:lnTo>
                  <a:lnTo>
                    <a:pt x="26" y="1214"/>
                  </a:lnTo>
                  <a:lnTo>
                    <a:pt x="36" y="1334"/>
                  </a:lnTo>
                  <a:lnTo>
                    <a:pt x="51" y="1447"/>
                  </a:lnTo>
                  <a:lnTo>
                    <a:pt x="65" y="1556"/>
                  </a:lnTo>
                  <a:lnTo>
                    <a:pt x="81" y="1661"/>
                  </a:lnTo>
                  <a:lnTo>
                    <a:pt x="99" y="1760"/>
                  </a:lnTo>
                  <a:lnTo>
                    <a:pt x="117" y="1853"/>
                  </a:lnTo>
                  <a:lnTo>
                    <a:pt x="137" y="1940"/>
                  </a:lnTo>
                  <a:lnTo>
                    <a:pt x="156" y="2023"/>
                  </a:lnTo>
                  <a:lnTo>
                    <a:pt x="176" y="2098"/>
                  </a:lnTo>
                  <a:lnTo>
                    <a:pt x="176" y="2098"/>
                  </a:lnTo>
                  <a:lnTo>
                    <a:pt x="212" y="2225"/>
                  </a:lnTo>
                  <a:lnTo>
                    <a:pt x="253" y="2348"/>
                  </a:lnTo>
                  <a:lnTo>
                    <a:pt x="295" y="2472"/>
                  </a:lnTo>
                  <a:lnTo>
                    <a:pt x="342" y="2593"/>
                  </a:lnTo>
                  <a:lnTo>
                    <a:pt x="392" y="2712"/>
                  </a:lnTo>
                  <a:lnTo>
                    <a:pt x="445" y="2831"/>
                  </a:lnTo>
                  <a:lnTo>
                    <a:pt x="499" y="2949"/>
                  </a:lnTo>
                  <a:lnTo>
                    <a:pt x="558" y="3064"/>
                  </a:lnTo>
                  <a:lnTo>
                    <a:pt x="621" y="3177"/>
                  </a:lnTo>
                  <a:lnTo>
                    <a:pt x="683" y="3288"/>
                  </a:lnTo>
                  <a:lnTo>
                    <a:pt x="750" y="3397"/>
                  </a:lnTo>
                  <a:lnTo>
                    <a:pt x="821" y="3504"/>
                  </a:lnTo>
                  <a:lnTo>
                    <a:pt x="893" y="3610"/>
                  </a:lnTo>
                  <a:lnTo>
                    <a:pt x="968" y="3713"/>
                  </a:lnTo>
                  <a:lnTo>
                    <a:pt x="1045" y="3814"/>
                  </a:lnTo>
                  <a:lnTo>
                    <a:pt x="1124" y="3911"/>
                  </a:lnTo>
                  <a:lnTo>
                    <a:pt x="1124" y="3911"/>
                  </a:lnTo>
                  <a:lnTo>
                    <a:pt x="1217" y="4020"/>
                  </a:lnTo>
                  <a:lnTo>
                    <a:pt x="1312" y="4125"/>
                  </a:lnTo>
                  <a:lnTo>
                    <a:pt x="1409" y="4226"/>
                  </a:lnTo>
                  <a:lnTo>
                    <a:pt x="1510" y="4325"/>
                  </a:lnTo>
                  <a:lnTo>
                    <a:pt x="1613" y="4420"/>
                  </a:lnTo>
                  <a:lnTo>
                    <a:pt x="1718" y="4513"/>
                  </a:lnTo>
                  <a:lnTo>
                    <a:pt x="1825" y="4602"/>
                  </a:lnTo>
                  <a:lnTo>
                    <a:pt x="1934" y="4689"/>
                  </a:lnTo>
                  <a:lnTo>
                    <a:pt x="2046" y="4770"/>
                  </a:lnTo>
                  <a:lnTo>
                    <a:pt x="2161" y="4851"/>
                  </a:lnTo>
                  <a:lnTo>
                    <a:pt x="2276" y="4925"/>
                  </a:lnTo>
                  <a:lnTo>
                    <a:pt x="2393" y="4998"/>
                  </a:lnTo>
                  <a:lnTo>
                    <a:pt x="2510" y="5067"/>
                  </a:lnTo>
                  <a:lnTo>
                    <a:pt x="2632" y="5132"/>
                  </a:lnTo>
                  <a:lnTo>
                    <a:pt x="2753" y="5194"/>
                  </a:lnTo>
                  <a:lnTo>
                    <a:pt x="2876" y="52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-2392200" y="13338000"/>
              <a:ext cx="12563640" cy="12890520"/>
            </a:xfrm>
            <a:custGeom>
              <a:avLst/>
              <a:gdLst>
                <a:gd name="textAreaLeft" fmla="*/ 0 w 12563640"/>
                <a:gd name="textAreaRight" fmla="*/ 12564000 w 12563640"/>
                <a:gd name="textAreaTop" fmla="*/ 0 h 12890520"/>
                <a:gd name="textAreaBottom" fmla="*/ 12890880 h 12890520"/>
              </a:gdLst>
              <a:ahLst/>
              <a:rect l="textAreaLeft" t="textAreaTop" r="textAreaRight" b="textAreaBottom"/>
              <a:pathLst>
                <a:path w="7914" h="8120">
                  <a:moveTo>
                    <a:pt x="1029" y="8120"/>
                  </a:moveTo>
                  <a:lnTo>
                    <a:pt x="1029" y="8120"/>
                  </a:lnTo>
                  <a:lnTo>
                    <a:pt x="956" y="8025"/>
                  </a:lnTo>
                  <a:lnTo>
                    <a:pt x="890" y="7928"/>
                  </a:lnTo>
                  <a:lnTo>
                    <a:pt x="823" y="7829"/>
                  </a:lnTo>
                  <a:lnTo>
                    <a:pt x="758" y="7727"/>
                  </a:lnTo>
                  <a:lnTo>
                    <a:pt x="698" y="7626"/>
                  </a:lnTo>
                  <a:lnTo>
                    <a:pt x="639" y="7523"/>
                  </a:lnTo>
                  <a:lnTo>
                    <a:pt x="584" y="7418"/>
                  </a:lnTo>
                  <a:lnTo>
                    <a:pt x="530" y="7313"/>
                  </a:lnTo>
                  <a:lnTo>
                    <a:pt x="479" y="7206"/>
                  </a:lnTo>
                  <a:lnTo>
                    <a:pt x="431" y="7099"/>
                  </a:lnTo>
                  <a:lnTo>
                    <a:pt x="384" y="6990"/>
                  </a:lnTo>
                  <a:lnTo>
                    <a:pt x="342" y="6881"/>
                  </a:lnTo>
                  <a:lnTo>
                    <a:pt x="299" y="6769"/>
                  </a:lnTo>
                  <a:lnTo>
                    <a:pt x="261" y="6658"/>
                  </a:lnTo>
                  <a:lnTo>
                    <a:pt x="227" y="6547"/>
                  </a:lnTo>
                  <a:lnTo>
                    <a:pt x="192" y="6434"/>
                  </a:lnTo>
                  <a:lnTo>
                    <a:pt x="162" y="6321"/>
                  </a:lnTo>
                  <a:lnTo>
                    <a:pt x="134" y="6207"/>
                  </a:lnTo>
                  <a:lnTo>
                    <a:pt x="109" y="6092"/>
                  </a:lnTo>
                  <a:lnTo>
                    <a:pt x="87" y="5977"/>
                  </a:lnTo>
                  <a:lnTo>
                    <a:pt x="67" y="5862"/>
                  </a:lnTo>
                  <a:lnTo>
                    <a:pt x="49" y="5747"/>
                  </a:lnTo>
                  <a:lnTo>
                    <a:pt x="35" y="5631"/>
                  </a:lnTo>
                  <a:lnTo>
                    <a:pt x="22" y="5516"/>
                  </a:lnTo>
                  <a:lnTo>
                    <a:pt x="12" y="5399"/>
                  </a:lnTo>
                  <a:lnTo>
                    <a:pt x="6" y="5284"/>
                  </a:lnTo>
                  <a:lnTo>
                    <a:pt x="2" y="5167"/>
                  </a:lnTo>
                  <a:lnTo>
                    <a:pt x="0" y="5051"/>
                  </a:lnTo>
                  <a:lnTo>
                    <a:pt x="2" y="4936"/>
                  </a:lnTo>
                  <a:lnTo>
                    <a:pt x="6" y="4819"/>
                  </a:lnTo>
                  <a:lnTo>
                    <a:pt x="12" y="4704"/>
                  </a:lnTo>
                  <a:lnTo>
                    <a:pt x="22" y="4588"/>
                  </a:lnTo>
                  <a:lnTo>
                    <a:pt x="22" y="4588"/>
                  </a:lnTo>
                  <a:lnTo>
                    <a:pt x="33" y="4473"/>
                  </a:lnTo>
                  <a:lnTo>
                    <a:pt x="47" y="4360"/>
                  </a:lnTo>
                  <a:lnTo>
                    <a:pt x="63" y="4245"/>
                  </a:lnTo>
                  <a:lnTo>
                    <a:pt x="83" y="4132"/>
                  </a:lnTo>
                  <a:lnTo>
                    <a:pt x="105" y="4018"/>
                  </a:lnTo>
                  <a:lnTo>
                    <a:pt x="130" y="3907"/>
                  </a:lnTo>
                  <a:lnTo>
                    <a:pt x="156" y="3796"/>
                  </a:lnTo>
                  <a:lnTo>
                    <a:pt x="186" y="3685"/>
                  </a:lnTo>
                  <a:lnTo>
                    <a:pt x="216" y="3574"/>
                  </a:lnTo>
                  <a:lnTo>
                    <a:pt x="251" y="3467"/>
                  </a:lnTo>
                  <a:lnTo>
                    <a:pt x="289" y="3358"/>
                  </a:lnTo>
                  <a:lnTo>
                    <a:pt x="328" y="3250"/>
                  </a:lnTo>
                  <a:lnTo>
                    <a:pt x="370" y="3145"/>
                  </a:lnTo>
                  <a:lnTo>
                    <a:pt x="413" y="3040"/>
                  </a:lnTo>
                  <a:lnTo>
                    <a:pt x="459" y="2935"/>
                  </a:lnTo>
                  <a:lnTo>
                    <a:pt x="508" y="2832"/>
                  </a:lnTo>
                  <a:lnTo>
                    <a:pt x="558" y="2731"/>
                  </a:lnTo>
                  <a:lnTo>
                    <a:pt x="611" y="2630"/>
                  </a:lnTo>
                  <a:lnTo>
                    <a:pt x="665" y="2531"/>
                  </a:lnTo>
                  <a:lnTo>
                    <a:pt x="724" y="2434"/>
                  </a:lnTo>
                  <a:lnTo>
                    <a:pt x="782" y="2337"/>
                  </a:lnTo>
                  <a:lnTo>
                    <a:pt x="843" y="2244"/>
                  </a:lnTo>
                  <a:lnTo>
                    <a:pt x="908" y="2149"/>
                  </a:lnTo>
                  <a:lnTo>
                    <a:pt x="972" y="2058"/>
                  </a:lnTo>
                  <a:lnTo>
                    <a:pt x="1039" y="1967"/>
                  </a:lnTo>
                  <a:lnTo>
                    <a:pt x="1108" y="1880"/>
                  </a:lnTo>
                  <a:lnTo>
                    <a:pt x="1179" y="1793"/>
                  </a:lnTo>
                  <a:lnTo>
                    <a:pt x="1253" y="1706"/>
                  </a:lnTo>
                  <a:lnTo>
                    <a:pt x="1328" y="1623"/>
                  </a:lnTo>
                  <a:lnTo>
                    <a:pt x="1403" y="1542"/>
                  </a:lnTo>
                  <a:lnTo>
                    <a:pt x="1482" y="1462"/>
                  </a:lnTo>
                  <a:lnTo>
                    <a:pt x="1563" y="1385"/>
                  </a:lnTo>
                  <a:lnTo>
                    <a:pt x="1563" y="1385"/>
                  </a:lnTo>
                  <a:lnTo>
                    <a:pt x="1644" y="1308"/>
                  </a:lnTo>
                  <a:lnTo>
                    <a:pt x="1726" y="1233"/>
                  </a:lnTo>
                  <a:lnTo>
                    <a:pt x="1811" y="1160"/>
                  </a:lnTo>
                  <a:lnTo>
                    <a:pt x="1896" y="1092"/>
                  </a:lnTo>
                  <a:lnTo>
                    <a:pt x="1983" y="1023"/>
                  </a:lnTo>
                  <a:lnTo>
                    <a:pt x="2072" y="956"/>
                  </a:lnTo>
                  <a:lnTo>
                    <a:pt x="2163" y="892"/>
                  </a:lnTo>
                  <a:lnTo>
                    <a:pt x="2254" y="829"/>
                  </a:lnTo>
                  <a:lnTo>
                    <a:pt x="2347" y="770"/>
                  </a:lnTo>
                  <a:lnTo>
                    <a:pt x="2442" y="712"/>
                  </a:lnTo>
                  <a:lnTo>
                    <a:pt x="2537" y="655"/>
                  </a:lnTo>
                  <a:lnTo>
                    <a:pt x="2632" y="603"/>
                  </a:lnTo>
                  <a:lnTo>
                    <a:pt x="2731" y="550"/>
                  </a:lnTo>
                  <a:lnTo>
                    <a:pt x="2828" y="502"/>
                  </a:lnTo>
                  <a:lnTo>
                    <a:pt x="2927" y="455"/>
                  </a:lnTo>
                  <a:lnTo>
                    <a:pt x="3028" y="411"/>
                  </a:lnTo>
                  <a:lnTo>
                    <a:pt x="3129" y="368"/>
                  </a:lnTo>
                  <a:lnTo>
                    <a:pt x="3230" y="328"/>
                  </a:lnTo>
                  <a:lnTo>
                    <a:pt x="3333" y="289"/>
                  </a:lnTo>
                  <a:lnTo>
                    <a:pt x="3436" y="253"/>
                  </a:lnTo>
                  <a:lnTo>
                    <a:pt x="3539" y="221"/>
                  </a:lnTo>
                  <a:lnTo>
                    <a:pt x="3645" y="188"/>
                  </a:lnTo>
                  <a:lnTo>
                    <a:pt x="3750" y="160"/>
                  </a:lnTo>
                  <a:lnTo>
                    <a:pt x="3855" y="134"/>
                  </a:lnTo>
                  <a:lnTo>
                    <a:pt x="3962" y="109"/>
                  </a:lnTo>
                  <a:lnTo>
                    <a:pt x="4067" y="87"/>
                  </a:lnTo>
                  <a:lnTo>
                    <a:pt x="4174" y="69"/>
                  </a:lnTo>
                  <a:lnTo>
                    <a:pt x="4281" y="51"/>
                  </a:lnTo>
                  <a:lnTo>
                    <a:pt x="4388" y="37"/>
                  </a:lnTo>
                  <a:lnTo>
                    <a:pt x="4498" y="25"/>
                  </a:lnTo>
                  <a:lnTo>
                    <a:pt x="4605" y="16"/>
                  </a:lnTo>
                  <a:lnTo>
                    <a:pt x="4712" y="8"/>
                  </a:lnTo>
                  <a:lnTo>
                    <a:pt x="4712" y="8"/>
                  </a:lnTo>
                  <a:lnTo>
                    <a:pt x="4857" y="2"/>
                  </a:lnTo>
                  <a:lnTo>
                    <a:pt x="5003" y="0"/>
                  </a:lnTo>
                  <a:lnTo>
                    <a:pt x="5003" y="0"/>
                  </a:lnTo>
                  <a:lnTo>
                    <a:pt x="5102" y="0"/>
                  </a:lnTo>
                  <a:lnTo>
                    <a:pt x="5201" y="4"/>
                  </a:lnTo>
                  <a:lnTo>
                    <a:pt x="5298" y="8"/>
                  </a:lnTo>
                  <a:lnTo>
                    <a:pt x="5397" y="16"/>
                  </a:lnTo>
                  <a:lnTo>
                    <a:pt x="5494" y="25"/>
                  </a:lnTo>
                  <a:lnTo>
                    <a:pt x="5591" y="37"/>
                  </a:lnTo>
                  <a:lnTo>
                    <a:pt x="5688" y="49"/>
                  </a:lnTo>
                  <a:lnTo>
                    <a:pt x="5785" y="63"/>
                  </a:lnTo>
                  <a:lnTo>
                    <a:pt x="5882" y="79"/>
                  </a:lnTo>
                  <a:lnTo>
                    <a:pt x="5977" y="99"/>
                  </a:lnTo>
                  <a:lnTo>
                    <a:pt x="6074" y="120"/>
                  </a:lnTo>
                  <a:lnTo>
                    <a:pt x="6169" y="142"/>
                  </a:lnTo>
                  <a:lnTo>
                    <a:pt x="6264" y="166"/>
                  </a:lnTo>
                  <a:lnTo>
                    <a:pt x="6357" y="190"/>
                  </a:lnTo>
                  <a:lnTo>
                    <a:pt x="6450" y="219"/>
                  </a:lnTo>
                  <a:lnTo>
                    <a:pt x="6543" y="249"/>
                  </a:lnTo>
                  <a:lnTo>
                    <a:pt x="6636" y="279"/>
                  </a:lnTo>
                  <a:lnTo>
                    <a:pt x="6727" y="314"/>
                  </a:lnTo>
                  <a:lnTo>
                    <a:pt x="6818" y="348"/>
                  </a:lnTo>
                  <a:lnTo>
                    <a:pt x="6907" y="384"/>
                  </a:lnTo>
                  <a:lnTo>
                    <a:pt x="6996" y="423"/>
                  </a:lnTo>
                  <a:lnTo>
                    <a:pt x="7085" y="463"/>
                  </a:lnTo>
                  <a:lnTo>
                    <a:pt x="7172" y="506"/>
                  </a:lnTo>
                  <a:lnTo>
                    <a:pt x="7259" y="550"/>
                  </a:lnTo>
                  <a:lnTo>
                    <a:pt x="7344" y="594"/>
                  </a:lnTo>
                  <a:lnTo>
                    <a:pt x="7428" y="641"/>
                  </a:lnTo>
                  <a:lnTo>
                    <a:pt x="7511" y="689"/>
                  </a:lnTo>
                  <a:lnTo>
                    <a:pt x="7594" y="740"/>
                  </a:lnTo>
                  <a:lnTo>
                    <a:pt x="7675" y="793"/>
                  </a:lnTo>
                  <a:lnTo>
                    <a:pt x="7756" y="847"/>
                  </a:lnTo>
                  <a:lnTo>
                    <a:pt x="7835" y="902"/>
                  </a:lnTo>
                  <a:lnTo>
                    <a:pt x="7914" y="958"/>
                  </a:lnTo>
                  <a:lnTo>
                    <a:pt x="7914" y="958"/>
                  </a:lnTo>
                  <a:lnTo>
                    <a:pt x="7800" y="888"/>
                  </a:lnTo>
                  <a:lnTo>
                    <a:pt x="7685" y="817"/>
                  </a:lnTo>
                  <a:lnTo>
                    <a:pt x="7568" y="752"/>
                  </a:lnTo>
                  <a:lnTo>
                    <a:pt x="7449" y="687"/>
                  </a:lnTo>
                  <a:lnTo>
                    <a:pt x="7327" y="627"/>
                  </a:lnTo>
                  <a:lnTo>
                    <a:pt x="7204" y="568"/>
                  </a:lnTo>
                  <a:lnTo>
                    <a:pt x="7079" y="514"/>
                  </a:lnTo>
                  <a:lnTo>
                    <a:pt x="6951" y="461"/>
                  </a:lnTo>
                  <a:lnTo>
                    <a:pt x="6951" y="461"/>
                  </a:lnTo>
                  <a:lnTo>
                    <a:pt x="6860" y="425"/>
                  </a:lnTo>
                  <a:lnTo>
                    <a:pt x="6769" y="390"/>
                  </a:lnTo>
                  <a:lnTo>
                    <a:pt x="6679" y="358"/>
                  </a:lnTo>
                  <a:lnTo>
                    <a:pt x="6586" y="328"/>
                  </a:lnTo>
                  <a:lnTo>
                    <a:pt x="6493" y="299"/>
                  </a:lnTo>
                  <a:lnTo>
                    <a:pt x="6400" y="273"/>
                  </a:lnTo>
                  <a:lnTo>
                    <a:pt x="6307" y="249"/>
                  </a:lnTo>
                  <a:lnTo>
                    <a:pt x="6214" y="227"/>
                  </a:lnTo>
                  <a:lnTo>
                    <a:pt x="6119" y="204"/>
                  </a:lnTo>
                  <a:lnTo>
                    <a:pt x="6026" y="186"/>
                  </a:lnTo>
                  <a:lnTo>
                    <a:pt x="5931" y="168"/>
                  </a:lnTo>
                  <a:lnTo>
                    <a:pt x="5836" y="154"/>
                  </a:lnTo>
                  <a:lnTo>
                    <a:pt x="5741" y="140"/>
                  </a:lnTo>
                  <a:lnTo>
                    <a:pt x="5646" y="128"/>
                  </a:lnTo>
                  <a:lnTo>
                    <a:pt x="5551" y="117"/>
                  </a:lnTo>
                  <a:lnTo>
                    <a:pt x="5456" y="109"/>
                  </a:lnTo>
                  <a:lnTo>
                    <a:pt x="5456" y="109"/>
                  </a:lnTo>
                  <a:lnTo>
                    <a:pt x="5320" y="97"/>
                  </a:lnTo>
                  <a:lnTo>
                    <a:pt x="5185" y="87"/>
                  </a:lnTo>
                  <a:lnTo>
                    <a:pt x="5047" y="83"/>
                  </a:lnTo>
                  <a:lnTo>
                    <a:pt x="4912" y="81"/>
                  </a:lnTo>
                  <a:lnTo>
                    <a:pt x="4912" y="81"/>
                  </a:lnTo>
                  <a:lnTo>
                    <a:pt x="4789" y="83"/>
                  </a:lnTo>
                  <a:lnTo>
                    <a:pt x="4667" y="87"/>
                  </a:lnTo>
                  <a:lnTo>
                    <a:pt x="4544" y="93"/>
                  </a:lnTo>
                  <a:lnTo>
                    <a:pt x="4421" y="105"/>
                  </a:lnTo>
                  <a:lnTo>
                    <a:pt x="4299" y="117"/>
                  </a:lnTo>
                  <a:lnTo>
                    <a:pt x="4178" y="134"/>
                  </a:lnTo>
                  <a:lnTo>
                    <a:pt x="4057" y="154"/>
                  </a:lnTo>
                  <a:lnTo>
                    <a:pt x="3936" y="176"/>
                  </a:lnTo>
                  <a:lnTo>
                    <a:pt x="3814" y="202"/>
                  </a:lnTo>
                  <a:lnTo>
                    <a:pt x="3695" y="233"/>
                  </a:lnTo>
                  <a:lnTo>
                    <a:pt x="3576" y="265"/>
                  </a:lnTo>
                  <a:lnTo>
                    <a:pt x="3457" y="299"/>
                  </a:lnTo>
                  <a:lnTo>
                    <a:pt x="3339" y="338"/>
                  </a:lnTo>
                  <a:lnTo>
                    <a:pt x="3222" y="380"/>
                  </a:lnTo>
                  <a:lnTo>
                    <a:pt x="3105" y="425"/>
                  </a:lnTo>
                  <a:lnTo>
                    <a:pt x="2990" y="473"/>
                  </a:lnTo>
                  <a:lnTo>
                    <a:pt x="2990" y="473"/>
                  </a:lnTo>
                  <a:lnTo>
                    <a:pt x="2915" y="506"/>
                  </a:lnTo>
                  <a:lnTo>
                    <a:pt x="2842" y="540"/>
                  </a:lnTo>
                  <a:lnTo>
                    <a:pt x="2769" y="574"/>
                  </a:lnTo>
                  <a:lnTo>
                    <a:pt x="2699" y="611"/>
                  </a:lnTo>
                  <a:lnTo>
                    <a:pt x="2626" y="649"/>
                  </a:lnTo>
                  <a:lnTo>
                    <a:pt x="2555" y="689"/>
                  </a:lnTo>
                  <a:lnTo>
                    <a:pt x="2484" y="730"/>
                  </a:lnTo>
                  <a:lnTo>
                    <a:pt x="2414" y="770"/>
                  </a:lnTo>
                  <a:lnTo>
                    <a:pt x="2343" y="815"/>
                  </a:lnTo>
                  <a:lnTo>
                    <a:pt x="2274" y="859"/>
                  </a:lnTo>
                  <a:lnTo>
                    <a:pt x="2205" y="906"/>
                  </a:lnTo>
                  <a:lnTo>
                    <a:pt x="2139" y="952"/>
                  </a:lnTo>
                  <a:lnTo>
                    <a:pt x="2070" y="1003"/>
                  </a:lnTo>
                  <a:lnTo>
                    <a:pt x="2003" y="1051"/>
                  </a:lnTo>
                  <a:lnTo>
                    <a:pt x="1939" y="1104"/>
                  </a:lnTo>
                  <a:lnTo>
                    <a:pt x="1872" y="1156"/>
                  </a:lnTo>
                  <a:lnTo>
                    <a:pt x="1807" y="1211"/>
                  </a:lnTo>
                  <a:lnTo>
                    <a:pt x="1745" y="1268"/>
                  </a:lnTo>
                  <a:lnTo>
                    <a:pt x="1682" y="1324"/>
                  </a:lnTo>
                  <a:lnTo>
                    <a:pt x="1619" y="1383"/>
                  </a:lnTo>
                  <a:lnTo>
                    <a:pt x="1559" y="1443"/>
                  </a:lnTo>
                  <a:lnTo>
                    <a:pt x="1498" y="1504"/>
                  </a:lnTo>
                  <a:lnTo>
                    <a:pt x="1439" y="1567"/>
                  </a:lnTo>
                  <a:lnTo>
                    <a:pt x="1381" y="1629"/>
                  </a:lnTo>
                  <a:lnTo>
                    <a:pt x="1324" y="1696"/>
                  </a:lnTo>
                  <a:lnTo>
                    <a:pt x="1268" y="1763"/>
                  </a:lnTo>
                  <a:lnTo>
                    <a:pt x="1213" y="1829"/>
                  </a:lnTo>
                  <a:lnTo>
                    <a:pt x="1158" y="1900"/>
                  </a:lnTo>
                  <a:lnTo>
                    <a:pt x="1106" y="1971"/>
                  </a:lnTo>
                  <a:lnTo>
                    <a:pt x="1053" y="2044"/>
                  </a:lnTo>
                  <a:lnTo>
                    <a:pt x="1003" y="2116"/>
                  </a:lnTo>
                  <a:lnTo>
                    <a:pt x="952" y="2191"/>
                  </a:lnTo>
                  <a:lnTo>
                    <a:pt x="952" y="2191"/>
                  </a:lnTo>
                  <a:lnTo>
                    <a:pt x="1031" y="2078"/>
                  </a:lnTo>
                  <a:lnTo>
                    <a:pt x="1112" y="1971"/>
                  </a:lnTo>
                  <a:lnTo>
                    <a:pt x="1195" y="1868"/>
                  </a:lnTo>
                  <a:lnTo>
                    <a:pt x="1278" y="1769"/>
                  </a:lnTo>
                  <a:lnTo>
                    <a:pt x="1363" y="1676"/>
                  </a:lnTo>
                  <a:lnTo>
                    <a:pt x="1449" y="1585"/>
                  </a:lnTo>
                  <a:lnTo>
                    <a:pt x="1536" y="1500"/>
                  </a:lnTo>
                  <a:lnTo>
                    <a:pt x="1623" y="1419"/>
                  </a:lnTo>
                  <a:lnTo>
                    <a:pt x="1714" y="1342"/>
                  </a:lnTo>
                  <a:lnTo>
                    <a:pt x="1803" y="1268"/>
                  </a:lnTo>
                  <a:lnTo>
                    <a:pt x="1894" y="1197"/>
                  </a:lnTo>
                  <a:lnTo>
                    <a:pt x="1985" y="1130"/>
                  </a:lnTo>
                  <a:lnTo>
                    <a:pt x="2078" y="1067"/>
                  </a:lnTo>
                  <a:lnTo>
                    <a:pt x="2171" y="1007"/>
                  </a:lnTo>
                  <a:lnTo>
                    <a:pt x="2264" y="950"/>
                  </a:lnTo>
                  <a:lnTo>
                    <a:pt x="2357" y="896"/>
                  </a:lnTo>
                  <a:lnTo>
                    <a:pt x="2357" y="896"/>
                  </a:lnTo>
                  <a:lnTo>
                    <a:pt x="2268" y="954"/>
                  </a:lnTo>
                  <a:lnTo>
                    <a:pt x="2179" y="1015"/>
                  </a:lnTo>
                  <a:lnTo>
                    <a:pt x="2092" y="1080"/>
                  </a:lnTo>
                  <a:lnTo>
                    <a:pt x="2005" y="1144"/>
                  </a:lnTo>
                  <a:lnTo>
                    <a:pt x="1922" y="1213"/>
                  </a:lnTo>
                  <a:lnTo>
                    <a:pt x="1840" y="1282"/>
                  </a:lnTo>
                  <a:lnTo>
                    <a:pt x="1757" y="1352"/>
                  </a:lnTo>
                  <a:lnTo>
                    <a:pt x="1678" y="1425"/>
                  </a:lnTo>
                  <a:lnTo>
                    <a:pt x="1599" y="1500"/>
                  </a:lnTo>
                  <a:lnTo>
                    <a:pt x="1522" y="1577"/>
                  </a:lnTo>
                  <a:lnTo>
                    <a:pt x="1447" y="1656"/>
                  </a:lnTo>
                  <a:lnTo>
                    <a:pt x="1373" y="1734"/>
                  </a:lnTo>
                  <a:lnTo>
                    <a:pt x="1300" y="1817"/>
                  </a:lnTo>
                  <a:lnTo>
                    <a:pt x="1231" y="1900"/>
                  </a:lnTo>
                  <a:lnTo>
                    <a:pt x="1162" y="1985"/>
                  </a:lnTo>
                  <a:lnTo>
                    <a:pt x="1096" y="2072"/>
                  </a:lnTo>
                  <a:lnTo>
                    <a:pt x="1096" y="2072"/>
                  </a:lnTo>
                  <a:lnTo>
                    <a:pt x="979" y="2258"/>
                  </a:lnTo>
                  <a:lnTo>
                    <a:pt x="867" y="2436"/>
                  </a:lnTo>
                  <a:lnTo>
                    <a:pt x="867" y="2436"/>
                  </a:lnTo>
                  <a:lnTo>
                    <a:pt x="825" y="2507"/>
                  </a:lnTo>
                  <a:lnTo>
                    <a:pt x="784" y="2577"/>
                  </a:lnTo>
                  <a:lnTo>
                    <a:pt x="746" y="2650"/>
                  </a:lnTo>
                  <a:lnTo>
                    <a:pt x="708" y="2723"/>
                  </a:lnTo>
                  <a:lnTo>
                    <a:pt x="708" y="2723"/>
                  </a:lnTo>
                  <a:lnTo>
                    <a:pt x="649" y="2822"/>
                  </a:lnTo>
                  <a:lnTo>
                    <a:pt x="594" y="2925"/>
                  </a:lnTo>
                  <a:lnTo>
                    <a:pt x="542" y="3026"/>
                  </a:lnTo>
                  <a:lnTo>
                    <a:pt x="491" y="3129"/>
                  </a:lnTo>
                  <a:lnTo>
                    <a:pt x="443" y="3234"/>
                  </a:lnTo>
                  <a:lnTo>
                    <a:pt x="398" y="3339"/>
                  </a:lnTo>
                  <a:lnTo>
                    <a:pt x="356" y="3448"/>
                  </a:lnTo>
                  <a:lnTo>
                    <a:pt x="318" y="3558"/>
                  </a:lnTo>
                  <a:lnTo>
                    <a:pt x="318" y="3558"/>
                  </a:lnTo>
                  <a:lnTo>
                    <a:pt x="273" y="3699"/>
                  </a:lnTo>
                  <a:lnTo>
                    <a:pt x="233" y="3843"/>
                  </a:lnTo>
                  <a:lnTo>
                    <a:pt x="196" y="3988"/>
                  </a:lnTo>
                  <a:lnTo>
                    <a:pt x="166" y="4132"/>
                  </a:lnTo>
                  <a:lnTo>
                    <a:pt x="140" y="4277"/>
                  </a:lnTo>
                  <a:lnTo>
                    <a:pt x="117" y="4425"/>
                  </a:lnTo>
                  <a:lnTo>
                    <a:pt x="99" y="4572"/>
                  </a:lnTo>
                  <a:lnTo>
                    <a:pt x="85" y="4720"/>
                  </a:lnTo>
                  <a:lnTo>
                    <a:pt x="77" y="4867"/>
                  </a:lnTo>
                  <a:lnTo>
                    <a:pt x="71" y="5015"/>
                  </a:lnTo>
                  <a:lnTo>
                    <a:pt x="71" y="5163"/>
                  </a:lnTo>
                  <a:lnTo>
                    <a:pt x="75" y="5310"/>
                  </a:lnTo>
                  <a:lnTo>
                    <a:pt x="83" y="5458"/>
                  </a:lnTo>
                  <a:lnTo>
                    <a:pt x="95" y="5607"/>
                  </a:lnTo>
                  <a:lnTo>
                    <a:pt x="111" y="5755"/>
                  </a:lnTo>
                  <a:lnTo>
                    <a:pt x="132" y="5900"/>
                  </a:lnTo>
                  <a:lnTo>
                    <a:pt x="156" y="6048"/>
                  </a:lnTo>
                  <a:lnTo>
                    <a:pt x="186" y="6193"/>
                  </a:lnTo>
                  <a:lnTo>
                    <a:pt x="219" y="6339"/>
                  </a:lnTo>
                  <a:lnTo>
                    <a:pt x="257" y="6484"/>
                  </a:lnTo>
                  <a:lnTo>
                    <a:pt x="299" y="6628"/>
                  </a:lnTo>
                  <a:lnTo>
                    <a:pt x="344" y="6769"/>
                  </a:lnTo>
                  <a:lnTo>
                    <a:pt x="394" y="6911"/>
                  </a:lnTo>
                  <a:lnTo>
                    <a:pt x="449" y="7052"/>
                  </a:lnTo>
                  <a:lnTo>
                    <a:pt x="508" y="7192"/>
                  </a:lnTo>
                  <a:lnTo>
                    <a:pt x="568" y="7329"/>
                  </a:lnTo>
                  <a:lnTo>
                    <a:pt x="635" y="7465"/>
                  </a:lnTo>
                  <a:lnTo>
                    <a:pt x="706" y="7600"/>
                  </a:lnTo>
                  <a:lnTo>
                    <a:pt x="780" y="7734"/>
                  </a:lnTo>
                  <a:lnTo>
                    <a:pt x="859" y="7865"/>
                  </a:lnTo>
                  <a:lnTo>
                    <a:pt x="942" y="7994"/>
                  </a:lnTo>
                  <a:lnTo>
                    <a:pt x="1029" y="8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-2514600" y="13168440"/>
              <a:ext cx="15926040" cy="16378200"/>
            </a:xfrm>
            <a:custGeom>
              <a:avLst/>
              <a:gdLst>
                <a:gd name="textAreaLeft" fmla="*/ 0 w 15926040"/>
                <a:gd name="textAreaRight" fmla="*/ 15926400 w 15926040"/>
                <a:gd name="textAreaTop" fmla="*/ 0 h 16378200"/>
                <a:gd name="textAreaBottom" fmla="*/ 16378560 h 16378200"/>
              </a:gdLst>
              <a:ahLst/>
              <a:rect l="textAreaLeft" t="textAreaTop" r="textAreaRight" b="textAreaBottom"/>
              <a:pathLst>
                <a:path w="10032" h="10317">
                  <a:moveTo>
                    <a:pt x="5086" y="0"/>
                  </a:moveTo>
                  <a:lnTo>
                    <a:pt x="5086" y="0"/>
                  </a:lnTo>
                  <a:lnTo>
                    <a:pt x="4999" y="0"/>
                  </a:lnTo>
                  <a:lnTo>
                    <a:pt x="4914" y="2"/>
                  </a:lnTo>
                  <a:lnTo>
                    <a:pt x="4827" y="6"/>
                  </a:lnTo>
                  <a:lnTo>
                    <a:pt x="4740" y="12"/>
                  </a:lnTo>
                  <a:lnTo>
                    <a:pt x="4655" y="18"/>
                  </a:lnTo>
                  <a:lnTo>
                    <a:pt x="4568" y="26"/>
                  </a:lnTo>
                  <a:lnTo>
                    <a:pt x="4482" y="37"/>
                  </a:lnTo>
                  <a:lnTo>
                    <a:pt x="4397" y="47"/>
                  </a:lnTo>
                  <a:lnTo>
                    <a:pt x="4310" y="61"/>
                  </a:lnTo>
                  <a:lnTo>
                    <a:pt x="4225" y="75"/>
                  </a:lnTo>
                  <a:lnTo>
                    <a:pt x="4140" y="89"/>
                  </a:lnTo>
                  <a:lnTo>
                    <a:pt x="4053" y="107"/>
                  </a:lnTo>
                  <a:lnTo>
                    <a:pt x="3968" y="125"/>
                  </a:lnTo>
                  <a:lnTo>
                    <a:pt x="3883" y="146"/>
                  </a:lnTo>
                  <a:lnTo>
                    <a:pt x="3798" y="168"/>
                  </a:lnTo>
                  <a:lnTo>
                    <a:pt x="3716" y="192"/>
                  </a:lnTo>
                  <a:lnTo>
                    <a:pt x="3716" y="192"/>
                  </a:lnTo>
                  <a:lnTo>
                    <a:pt x="3625" y="218"/>
                  </a:lnTo>
                  <a:lnTo>
                    <a:pt x="3534" y="247"/>
                  </a:lnTo>
                  <a:lnTo>
                    <a:pt x="3443" y="277"/>
                  </a:lnTo>
                  <a:lnTo>
                    <a:pt x="3354" y="309"/>
                  </a:lnTo>
                  <a:lnTo>
                    <a:pt x="3265" y="344"/>
                  </a:lnTo>
                  <a:lnTo>
                    <a:pt x="3176" y="378"/>
                  </a:lnTo>
                  <a:lnTo>
                    <a:pt x="3089" y="417"/>
                  </a:lnTo>
                  <a:lnTo>
                    <a:pt x="3002" y="455"/>
                  </a:lnTo>
                  <a:lnTo>
                    <a:pt x="2915" y="495"/>
                  </a:lnTo>
                  <a:lnTo>
                    <a:pt x="2828" y="538"/>
                  </a:lnTo>
                  <a:lnTo>
                    <a:pt x="2743" y="582"/>
                  </a:lnTo>
                  <a:lnTo>
                    <a:pt x="2660" y="629"/>
                  </a:lnTo>
                  <a:lnTo>
                    <a:pt x="2576" y="675"/>
                  </a:lnTo>
                  <a:lnTo>
                    <a:pt x="2495" y="724"/>
                  </a:lnTo>
                  <a:lnTo>
                    <a:pt x="2412" y="774"/>
                  </a:lnTo>
                  <a:lnTo>
                    <a:pt x="2331" y="827"/>
                  </a:lnTo>
                  <a:lnTo>
                    <a:pt x="2252" y="881"/>
                  </a:lnTo>
                  <a:lnTo>
                    <a:pt x="2173" y="936"/>
                  </a:lnTo>
                  <a:lnTo>
                    <a:pt x="2094" y="993"/>
                  </a:lnTo>
                  <a:lnTo>
                    <a:pt x="2018" y="1051"/>
                  </a:lnTo>
                  <a:lnTo>
                    <a:pt x="1941" y="1110"/>
                  </a:lnTo>
                  <a:lnTo>
                    <a:pt x="1866" y="1170"/>
                  </a:lnTo>
                  <a:lnTo>
                    <a:pt x="1793" y="1233"/>
                  </a:lnTo>
                  <a:lnTo>
                    <a:pt x="1721" y="1298"/>
                  </a:lnTo>
                  <a:lnTo>
                    <a:pt x="1650" y="1362"/>
                  </a:lnTo>
                  <a:lnTo>
                    <a:pt x="1579" y="1429"/>
                  </a:lnTo>
                  <a:lnTo>
                    <a:pt x="1510" y="1498"/>
                  </a:lnTo>
                  <a:lnTo>
                    <a:pt x="1442" y="1567"/>
                  </a:lnTo>
                  <a:lnTo>
                    <a:pt x="1375" y="1637"/>
                  </a:lnTo>
                  <a:lnTo>
                    <a:pt x="1310" y="1710"/>
                  </a:lnTo>
                  <a:lnTo>
                    <a:pt x="1246" y="1783"/>
                  </a:lnTo>
                  <a:lnTo>
                    <a:pt x="1183" y="1858"/>
                  </a:lnTo>
                  <a:lnTo>
                    <a:pt x="1183" y="1858"/>
                  </a:lnTo>
                  <a:lnTo>
                    <a:pt x="1122" y="1934"/>
                  </a:lnTo>
                  <a:lnTo>
                    <a:pt x="1062" y="2011"/>
                  </a:lnTo>
                  <a:lnTo>
                    <a:pt x="1003" y="2090"/>
                  </a:lnTo>
                  <a:lnTo>
                    <a:pt x="946" y="2169"/>
                  </a:lnTo>
                  <a:lnTo>
                    <a:pt x="892" y="2250"/>
                  </a:lnTo>
                  <a:lnTo>
                    <a:pt x="837" y="2331"/>
                  </a:lnTo>
                  <a:lnTo>
                    <a:pt x="785" y="2413"/>
                  </a:lnTo>
                  <a:lnTo>
                    <a:pt x="734" y="2498"/>
                  </a:lnTo>
                  <a:lnTo>
                    <a:pt x="686" y="2583"/>
                  </a:lnTo>
                  <a:lnTo>
                    <a:pt x="637" y="2668"/>
                  </a:lnTo>
                  <a:lnTo>
                    <a:pt x="591" y="2755"/>
                  </a:lnTo>
                  <a:lnTo>
                    <a:pt x="546" y="2842"/>
                  </a:lnTo>
                  <a:lnTo>
                    <a:pt x="504" y="2931"/>
                  </a:lnTo>
                  <a:lnTo>
                    <a:pt x="461" y="3020"/>
                  </a:lnTo>
                  <a:lnTo>
                    <a:pt x="423" y="3111"/>
                  </a:lnTo>
                  <a:lnTo>
                    <a:pt x="384" y="3202"/>
                  </a:lnTo>
                  <a:lnTo>
                    <a:pt x="348" y="3295"/>
                  </a:lnTo>
                  <a:lnTo>
                    <a:pt x="314" y="3386"/>
                  </a:lnTo>
                  <a:lnTo>
                    <a:pt x="281" y="3479"/>
                  </a:lnTo>
                  <a:lnTo>
                    <a:pt x="251" y="3574"/>
                  </a:lnTo>
                  <a:lnTo>
                    <a:pt x="221" y="3669"/>
                  </a:lnTo>
                  <a:lnTo>
                    <a:pt x="194" y="3764"/>
                  </a:lnTo>
                  <a:lnTo>
                    <a:pt x="168" y="3859"/>
                  </a:lnTo>
                  <a:lnTo>
                    <a:pt x="144" y="3956"/>
                  </a:lnTo>
                  <a:lnTo>
                    <a:pt x="122" y="4053"/>
                  </a:lnTo>
                  <a:lnTo>
                    <a:pt x="101" y="4150"/>
                  </a:lnTo>
                  <a:lnTo>
                    <a:pt x="83" y="4247"/>
                  </a:lnTo>
                  <a:lnTo>
                    <a:pt x="67" y="4346"/>
                  </a:lnTo>
                  <a:lnTo>
                    <a:pt x="53" y="4443"/>
                  </a:lnTo>
                  <a:lnTo>
                    <a:pt x="39" y="4542"/>
                  </a:lnTo>
                  <a:lnTo>
                    <a:pt x="29" y="4641"/>
                  </a:lnTo>
                  <a:lnTo>
                    <a:pt x="21" y="4740"/>
                  </a:lnTo>
                  <a:lnTo>
                    <a:pt x="21" y="4740"/>
                  </a:lnTo>
                  <a:lnTo>
                    <a:pt x="13" y="4841"/>
                  </a:lnTo>
                  <a:lnTo>
                    <a:pt x="6" y="4944"/>
                  </a:lnTo>
                  <a:lnTo>
                    <a:pt x="2" y="5045"/>
                  </a:lnTo>
                  <a:lnTo>
                    <a:pt x="0" y="5148"/>
                  </a:lnTo>
                  <a:lnTo>
                    <a:pt x="0" y="5148"/>
                  </a:lnTo>
                  <a:lnTo>
                    <a:pt x="6" y="5162"/>
                  </a:lnTo>
                  <a:lnTo>
                    <a:pt x="13" y="5172"/>
                  </a:lnTo>
                  <a:lnTo>
                    <a:pt x="21" y="5179"/>
                  </a:lnTo>
                  <a:lnTo>
                    <a:pt x="27" y="5181"/>
                  </a:lnTo>
                  <a:lnTo>
                    <a:pt x="27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181"/>
                  </a:lnTo>
                  <a:lnTo>
                    <a:pt x="29" y="5340"/>
                  </a:lnTo>
                  <a:lnTo>
                    <a:pt x="35" y="5498"/>
                  </a:lnTo>
                  <a:lnTo>
                    <a:pt x="45" y="5658"/>
                  </a:lnTo>
                  <a:lnTo>
                    <a:pt x="61" y="5815"/>
                  </a:lnTo>
                  <a:lnTo>
                    <a:pt x="79" y="5973"/>
                  </a:lnTo>
                  <a:lnTo>
                    <a:pt x="103" y="6131"/>
                  </a:lnTo>
                  <a:lnTo>
                    <a:pt x="134" y="6288"/>
                  </a:lnTo>
                  <a:lnTo>
                    <a:pt x="166" y="6444"/>
                  </a:lnTo>
                  <a:lnTo>
                    <a:pt x="166" y="6444"/>
                  </a:lnTo>
                  <a:lnTo>
                    <a:pt x="188" y="6521"/>
                  </a:lnTo>
                  <a:lnTo>
                    <a:pt x="188" y="6521"/>
                  </a:lnTo>
                  <a:lnTo>
                    <a:pt x="221" y="6630"/>
                  </a:lnTo>
                  <a:lnTo>
                    <a:pt x="255" y="6737"/>
                  </a:lnTo>
                  <a:lnTo>
                    <a:pt x="293" y="6844"/>
                  </a:lnTo>
                  <a:lnTo>
                    <a:pt x="334" y="6951"/>
                  </a:lnTo>
                  <a:lnTo>
                    <a:pt x="376" y="7056"/>
                  </a:lnTo>
                  <a:lnTo>
                    <a:pt x="421" y="7159"/>
                  </a:lnTo>
                  <a:lnTo>
                    <a:pt x="469" y="7262"/>
                  </a:lnTo>
                  <a:lnTo>
                    <a:pt x="518" y="7364"/>
                  </a:lnTo>
                  <a:lnTo>
                    <a:pt x="570" y="7465"/>
                  </a:lnTo>
                  <a:lnTo>
                    <a:pt x="625" y="7562"/>
                  </a:lnTo>
                  <a:lnTo>
                    <a:pt x="682" y="7659"/>
                  </a:lnTo>
                  <a:lnTo>
                    <a:pt x="738" y="7756"/>
                  </a:lnTo>
                  <a:lnTo>
                    <a:pt x="799" y="7849"/>
                  </a:lnTo>
                  <a:lnTo>
                    <a:pt x="861" y="7942"/>
                  </a:lnTo>
                  <a:lnTo>
                    <a:pt x="926" y="8031"/>
                  </a:lnTo>
                  <a:lnTo>
                    <a:pt x="993" y="8119"/>
                  </a:lnTo>
                  <a:lnTo>
                    <a:pt x="993" y="8119"/>
                  </a:lnTo>
                  <a:lnTo>
                    <a:pt x="1092" y="8247"/>
                  </a:lnTo>
                  <a:lnTo>
                    <a:pt x="1203" y="8390"/>
                  </a:lnTo>
                  <a:lnTo>
                    <a:pt x="1262" y="8463"/>
                  </a:lnTo>
                  <a:lnTo>
                    <a:pt x="1324" y="8540"/>
                  </a:lnTo>
                  <a:lnTo>
                    <a:pt x="1389" y="8615"/>
                  </a:lnTo>
                  <a:lnTo>
                    <a:pt x="1454" y="8691"/>
                  </a:lnTo>
                  <a:lnTo>
                    <a:pt x="1454" y="8691"/>
                  </a:lnTo>
                  <a:lnTo>
                    <a:pt x="1520" y="8764"/>
                  </a:lnTo>
                  <a:lnTo>
                    <a:pt x="1589" y="8837"/>
                  </a:lnTo>
                  <a:lnTo>
                    <a:pt x="1658" y="8908"/>
                  </a:lnTo>
                  <a:lnTo>
                    <a:pt x="1727" y="8972"/>
                  </a:lnTo>
                  <a:lnTo>
                    <a:pt x="1795" y="9035"/>
                  </a:lnTo>
                  <a:lnTo>
                    <a:pt x="1862" y="9094"/>
                  </a:lnTo>
                  <a:lnTo>
                    <a:pt x="1927" y="9146"/>
                  </a:lnTo>
                  <a:lnTo>
                    <a:pt x="1989" y="9195"/>
                  </a:lnTo>
                  <a:lnTo>
                    <a:pt x="1989" y="9195"/>
                  </a:lnTo>
                  <a:lnTo>
                    <a:pt x="2058" y="9245"/>
                  </a:lnTo>
                  <a:lnTo>
                    <a:pt x="2127" y="9296"/>
                  </a:lnTo>
                  <a:lnTo>
                    <a:pt x="2196" y="9344"/>
                  </a:lnTo>
                  <a:lnTo>
                    <a:pt x="2266" y="9393"/>
                  </a:lnTo>
                  <a:lnTo>
                    <a:pt x="2339" y="9439"/>
                  </a:lnTo>
                  <a:lnTo>
                    <a:pt x="2410" y="9486"/>
                  </a:lnTo>
                  <a:lnTo>
                    <a:pt x="2485" y="9530"/>
                  </a:lnTo>
                  <a:lnTo>
                    <a:pt x="2557" y="9575"/>
                  </a:lnTo>
                  <a:lnTo>
                    <a:pt x="2632" y="9617"/>
                  </a:lnTo>
                  <a:lnTo>
                    <a:pt x="2707" y="9660"/>
                  </a:lnTo>
                  <a:lnTo>
                    <a:pt x="2784" y="9700"/>
                  </a:lnTo>
                  <a:lnTo>
                    <a:pt x="2861" y="9738"/>
                  </a:lnTo>
                  <a:lnTo>
                    <a:pt x="2937" y="9777"/>
                  </a:lnTo>
                  <a:lnTo>
                    <a:pt x="3014" y="9813"/>
                  </a:lnTo>
                  <a:lnTo>
                    <a:pt x="3093" y="9850"/>
                  </a:lnTo>
                  <a:lnTo>
                    <a:pt x="3172" y="9884"/>
                  </a:lnTo>
                  <a:lnTo>
                    <a:pt x="3251" y="9918"/>
                  </a:lnTo>
                  <a:lnTo>
                    <a:pt x="3331" y="9951"/>
                  </a:lnTo>
                  <a:lnTo>
                    <a:pt x="3412" y="9981"/>
                  </a:lnTo>
                  <a:lnTo>
                    <a:pt x="3493" y="10011"/>
                  </a:lnTo>
                  <a:lnTo>
                    <a:pt x="3574" y="10040"/>
                  </a:lnTo>
                  <a:lnTo>
                    <a:pt x="3655" y="10068"/>
                  </a:lnTo>
                  <a:lnTo>
                    <a:pt x="3738" y="10092"/>
                  </a:lnTo>
                  <a:lnTo>
                    <a:pt x="3821" y="10116"/>
                  </a:lnTo>
                  <a:lnTo>
                    <a:pt x="3903" y="10141"/>
                  </a:lnTo>
                  <a:lnTo>
                    <a:pt x="3986" y="10163"/>
                  </a:lnTo>
                  <a:lnTo>
                    <a:pt x="4069" y="10183"/>
                  </a:lnTo>
                  <a:lnTo>
                    <a:pt x="4154" y="10201"/>
                  </a:lnTo>
                  <a:lnTo>
                    <a:pt x="4237" y="10220"/>
                  </a:lnTo>
                  <a:lnTo>
                    <a:pt x="4322" y="10234"/>
                  </a:lnTo>
                  <a:lnTo>
                    <a:pt x="4407" y="10250"/>
                  </a:lnTo>
                  <a:lnTo>
                    <a:pt x="4492" y="10262"/>
                  </a:lnTo>
                  <a:lnTo>
                    <a:pt x="4492" y="10262"/>
                  </a:lnTo>
                  <a:lnTo>
                    <a:pt x="4583" y="10274"/>
                  </a:lnTo>
                  <a:lnTo>
                    <a:pt x="4676" y="10286"/>
                  </a:lnTo>
                  <a:lnTo>
                    <a:pt x="4767" y="10296"/>
                  </a:lnTo>
                  <a:lnTo>
                    <a:pt x="4860" y="10302"/>
                  </a:lnTo>
                  <a:lnTo>
                    <a:pt x="4951" y="10308"/>
                  </a:lnTo>
                  <a:lnTo>
                    <a:pt x="5041" y="10312"/>
                  </a:lnTo>
                  <a:lnTo>
                    <a:pt x="5134" y="10317"/>
                  </a:lnTo>
                  <a:lnTo>
                    <a:pt x="5225" y="10317"/>
                  </a:lnTo>
                  <a:lnTo>
                    <a:pt x="5225" y="10317"/>
                  </a:lnTo>
                  <a:lnTo>
                    <a:pt x="5347" y="10315"/>
                  </a:lnTo>
                  <a:lnTo>
                    <a:pt x="5470" y="10310"/>
                  </a:lnTo>
                  <a:lnTo>
                    <a:pt x="5591" y="10302"/>
                  </a:lnTo>
                  <a:lnTo>
                    <a:pt x="5711" y="10292"/>
                  </a:lnTo>
                  <a:lnTo>
                    <a:pt x="5832" y="10280"/>
                  </a:lnTo>
                  <a:lnTo>
                    <a:pt x="5949" y="10264"/>
                  </a:lnTo>
                  <a:lnTo>
                    <a:pt x="6068" y="10244"/>
                  </a:lnTo>
                  <a:lnTo>
                    <a:pt x="6183" y="10222"/>
                  </a:lnTo>
                  <a:lnTo>
                    <a:pt x="6301" y="10197"/>
                  </a:lnTo>
                  <a:lnTo>
                    <a:pt x="6414" y="10169"/>
                  </a:lnTo>
                  <a:lnTo>
                    <a:pt x="6527" y="10139"/>
                  </a:lnTo>
                  <a:lnTo>
                    <a:pt x="6638" y="10106"/>
                  </a:lnTo>
                  <a:lnTo>
                    <a:pt x="6747" y="10070"/>
                  </a:lnTo>
                  <a:lnTo>
                    <a:pt x="6857" y="10032"/>
                  </a:lnTo>
                  <a:lnTo>
                    <a:pt x="6962" y="9989"/>
                  </a:lnTo>
                  <a:lnTo>
                    <a:pt x="7067" y="9947"/>
                  </a:lnTo>
                  <a:lnTo>
                    <a:pt x="7067" y="9947"/>
                  </a:lnTo>
                  <a:lnTo>
                    <a:pt x="7214" y="9892"/>
                  </a:lnTo>
                  <a:lnTo>
                    <a:pt x="7362" y="9833"/>
                  </a:lnTo>
                  <a:lnTo>
                    <a:pt x="7507" y="9771"/>
                  </a:lnTo>
                  <a:lnTo>
                    <a:pt x="7649" y="9704"/>
                  </a:lnTo>
                  <a:lnTo>
                    <a:pt x="7649" y="9704"/>
                  </a:lnTo>
                  <a:lnTo>
                    <a:pt x="7473" y="9773"/>
                  </a:lnTo>
                  <a:lnTo>
                    <a:pt x="7293" y="9844"/>
                  </a:lnTo>
                  <a:lnTo>
                    <a:pt x="7117" y="9908"/>
                  </a:lnTo>
                  <a:lnTo>
                    <a:pt x="6950" y="9967"/>
                  </a:lnTo>
                  <a:lnTo>
                    <a:pt x="6950" y="9967"/>
                  </a:lnTo>
                  <a:lnTo>
                    <a:pt x="6913" y="9977"/>
                  </a:lnTo>
                  <a:lnTo>
                    <a:pt x="6881" y="9981"/>
                  </a:lnTo>
                  <a:lnTo>
                    <a:pt x="6881" y="9981"/>
                  </a:lnTo>
                  <a:lnTo>
                    <a:pt x="6804" y="10011"/>
                  </a:lnTo>
                  <a:lnTo>
                    <a:pt x="6751" y="10032"/>
                  </a:lnTo>
                  <a:lnTo>
                    <a:pt x="6751" y="10032"/>
                  </a:lnTo>
                  <a:lnTo>
                    <a:pt x="6588" y="10066"/>
                  </a:lnTo>
                  <a:lnTo>
                    <a:pt x="6414" y="10098"/>
                  </a:lnTo>
                  <a:lnTo>
                    <a:pt x="6230" y="10129"/>
                  </a:lnTo>
                  <a:lnTo>
                    <a:pt x="6133" y="10143"/>
                  </a:lnTo>
                  <a:lnTo>
                    <a:pt x="6034" y="10157"/>
                  </a:lnTo>
                  <a:lnTo>
                    <a:pt x="5933" y="10169"/>
                  </a:lnTo>
                  <a:lnTo>
                    <a:pt x="5832" y="10181"/>
                  </a:lnTo>
                  <a:lnTo>
                    <a:pt x="5727" y="10189"/>
                  </a:lnTo>
                  <a:lnTo>
                    <a:pt x="5620" y="10199"/>
                  </a:lnTo>
                  <a:lnTo>
                    <a:pt x="5510" y="10205"/>
                  </a:lnTo>
                  <a:lnTo>
                    <a:pt x="5401" y="10209"/>
                  </a:lnTo>
                  <a:lnTo>
                    <a:pt x="5288" y="10213"/>
                  </a:lnTo>
                  <a:lnTo>
                    <a:pt x="5175" y="10215"/>
                  </a:lnTo>
                  <a:lnTo>
                    <a:pt x="5175" y="10215"/>
                  </a:lnTo>
                  <a:lnTo>
                    <a:pt x="5090" y="10213"/>
                  </a:lnTo>
                  <a:lnTo>
                    <a:pt x="5005" y="10211"/>
                  </a:lnTo>
                  <a:lnTo>
                    <a:pt x="4920" y="10209"/>
                  </a:lnTo>
                  <a:lnTo>
                    <a:pt x="4833" y="10205"/>
                  </a:lnTo>
                  <a:lnTo>
                    <a:pt x="4746" y="10199"/>
                  </a:lnTo>
                  <a:lnTo>
                    <a:pt x="4659" y="10191"/>
                  </a:lnTo>
                  <a:lnTo>
                    <a:pt x="4571" y="10183"/>
                  </a:lnTo>
                  <a:lnTo>
                    <a:pt x="4482" y="10171"/>
                  </a:lnTo>
                  <a:lnTo>
                    <a:pt x="4482" y="10171"/>
                  </a:lnTo>
                  <a:lnTo>
                    <a:pt x="4399" y="10161"/>
                  </a:lnTo>
                  <a:lnTo>
                    <a:pt x="4318" y="10151"/>
                  </a:lnTo>
                  <a:lnTo>
                    <a:pt x="4235" y="10137"/>
                  </a:lnTo>
                  <a:lnTo>
                    <a:pt x="4152" y="10123"/>
                  </a:lnTo>
                  <a:lnTo>
                    <a:pt x="4069" y="10106"/>
                  </a:lnTo>
                  <a:lnTo>
                    <a:pt x="3986" y="10088"/>
                  </a:lnTo>
                  <a:lnTo>
                    <a:pt x="3906" y="10070"/>
                  </a:lnTo>
                  <a:lnTo>
                    <a:pt x="3823" y="10050"/>
                  </a:lnTo>
                  <a:lnTo>
                    <a:pt x="3742" y="10028"/>
                  </a:lnTo>
                  <a:lnTo>
                    <a:pt x="3659" y="10003"/>
                  </a:lnTo>
                  <a:lnTo>
                    <a:pt x="3578" y="9979"/>
                  </a:lnTo>
                  <a:lnTo>
                    <a:pt x="3497" y="9955"/>
                  </a:lnTo>
                  <a:lnTo>
                    <a:pt x="3416" y="9926"/>
                  </a:lnTo>
                  <a:lnTo>
                    <a:pt x="3338" y="9898"/>
                  </a:lnTo>
                  <a:lnTo>
                    <a:pt x="3257" y="9870"/>
                  </a:lnTo>
                  <a:lnTo>
                    <a:pt x="3178" y="9838"/>
                  </a:lnTo>
                  <a:lnTo>
                    <a:pt x="3101" y="9805"/>
                  </a:lnTo>
                  <a:lnTo>
                    <a:pt x="3024" y="9773"/>
                  </a:lnTo>
                  <a:lnTo>
                    <a:pt x="2947" y="9738"/>
                  </a:lnTo>
                  <a:lnTo>
                    <a:pt x="2871" y="9704"/>
                  </a:lnTo>
                  <a:lnTo>
                    <a:pt x="2796" y="9666"/>
                  </a:lnTo>
                  <a:lnTo>
                    <a:pt x="2721" y="9629"/>
                  </a:lnTo>
                  <a:lnTo>
                    <a:pt x="2648" y="9591"/>
                  </a:lnTo>
                  <a:lnTo>
                    <a:pt x="2578" y="9550"/>
                  </a:lnTo>
                  <a:lnTo>
                    <a:pt x="2507" y="9510"/>
                  </a:lnTo>
                  <a:lnTo>
                    <a:pt x="2436" y="9468"/>
                  </a:lnTo>
                  <a:lnTo>
                    <a:pt x="2367" y="9425"/>
                  </a:lnTo>
                  <a:lnTo>
                    <a:pt x="2301" y="9383"/>
                  </a:lnTo>
                  <a:lnTo>
                    <a:pt x="2234" y="9338"/>
                  </a:lnTo>
                  <a:lnTo>
                    <a:pt x="2169" y="9292"/>
                  </a:lnTo>
                  <a:lnTo>
                    <a:pt x="2105" y="9245"/>
                  </a:lnTo>
                  <a:lnTo>
                    <a:pt x="2044" y="9199"/>
                  </a:lnTo>
                  <a:lnTo>
                    <a:pt x="2044" y="9199"/>
                  </a:lnTo>
                  <a:lnTo>
                    <a:pt x="1973" y="9144"/>
                  </a:lnTo>
                  <a:lnTo>
                    <a:pt x="1904" y="9088"/>
                  </a:lnTo>
                  <a:lnTo>
                    <a:pt x="1838" y="9031"/>
                  </a:lnTo>
                  <a:lnTo>
                    <a:pt x="1771" y="8972"/>
                  </a:lnTo>
                  <a:lnTo>
                    <a:pt x="1706" y="8914"/>
                  </a:lnTo>
                  <a:lnTo>
                    <a:pt x="1642" y="8853"/>
                  </a:lnTo>
                  <a:lnTo>
                    <a:pt x="1579" y="8791"/>
                  </a:lnTo>
                  <a:lnTo>
                    <a:pt x="1516" y="8728"/>
                  </a:lnTo>
                  <a:lnTo>
                    <a:pt x="1456" y="8665"/>
                  </a:lnTo>
                  <a:lnTo>
                    <a:pt x="1395" y="8601"/>
                  </a:lnTo>
                  <a:lnTo>
                    <a:pt x="1336" y="8534"/>
                  </a:lnTo>
                  <a:lnTo>
                    <a:pt x="1278" y="8469"/>
                  </a:lnTo>
                  <a:lnTo>
                    <a:pt x="1221" y="8400"/>
                  </a:lnTo>
                  <a:lnTo>
                    <a:pt x="1167" y="8332"/>
                  </a:lnTo>
                  <a:lnTo>
                    <a:pt x="1112" y="8263"/>
                  </a:lnTo>
                  <a:lnTo>
                    <a:pt x="1060" y="8192"/>
                  </a:lnTo>
                  <a:lnTo>
                    <a:pt x="1060" y="8192"/>
                  </a:lnTo>
                  <a:lnTo>
                    <a:pt x="1106" y="8241"/>
                  </a:lnTo>
                  <a:lnTo>
                    <a:pt x="1157" y="8291"/>
                  </a:lnTo>
                  <a:lnTo>
                    <a:pt x="1270" y="8402"/>
                  </a:lnTo>
                  <a:lnTo>
                    <a:pt x="1391" y="8518"/>
                  </a:lnTo>
                  <a:lnTo>
                    <a:pt x="1508" y="8631"/>
                  </a:lnTo>
                  <a:lnTo>
                    <a:pt x="1508" y="8631"/>
                  </a:lnTo>
                  <a:lnTo>
                    <a:pt x="1575" y="8698"/>
                  </a:lnTo>
                  <a:lnTo>
                    <a:pt x="1642" y="8764"/>
                  </a:lnTo>
                  <a:lnTo>
                    <a:pt x="1710" y="8831"/>
                  </a:lnTo>
                  <a:lnTo>
                    <a:pt x="1781" y="8894"/>
                  </a:lnTo>
                  <a:lnTo>
                    <a:pt x="1854" y="8958"/>
                  </a:lnTo>
                  <a:lnTo>
                    <a:pt x="1927" y="9021"/>
                  </a:lnTo>
                  <a:lnTo>
                    <a:pt x="2001" y="9082"/>
                  </a:lnTo>
                  <a:lnTo>
                    <a:pt x="2078" y="9142"/>
                  </a:lnTo>
                  <a:lnTo>
                    <a:pt x="2155" y="9201"/>
                  </a:lnTo>
                  <a:lnTo>
                    <a:pt x="2234" y="9257"/>
                  </a:lnTo>
                  <a:lnTo>
                    <a:pt x="2313" y="9314"/>
                  </a:lnTo>
                  <a:lnTo>
                    <a:pt x="2394" y="9367"/>
                  </a:lnTo>
                  <a:lnTo>
                    <a:pt x="2474" y="9421"/>
                  </a:lnTo>
                  <a:lnTo>
                    <a:pt x="2557" y="9472"/>
                  </a:lnTo>
                  <a:lnTo>
                    <a:pt x="2640" y="9520"/>
                  </a:lnTo>
                  <a:lnTo>
                    <a:pt x="2723" y="9569"/>
                  </a:lnTo>
                  <a:lnTo>
                    <a:pt x="2723" y="9569"/>
                  </a:lnTo>
                  <a:lnTo>
                    <a:pt x="2808" y="9615"/>
                  </a:lnTo>
                  <a:lnTo>
                    <a:pt x="2895" y="9660"/>
                  </a:lnTo>
                  <a:lnTo>
                    <a:pt x="2980" y="9702"/>
                  </a:lnTo>
                  <a:lnTo>
                    <a:pt x="3067" y="9743"/>
                  </a:lnTo>
                  <a:lnTo>
                    <a:pt x="3154" y="9781"/>
                  </a:lnTo>
                  <a:lnTo>
                    <a:pt x="3241" y="9817"/>
                  </a:lnTo>
                  <a:lnTo>
                    <a:pt x="3327" y="9852"/>
                  </a:lnTo>
                  <a:lnTo>
                    <a:pt x="3416" y="9884"/>
                  </a:lnTo>
                  <a:lnTo>
                    <a:pt x="3503" y="9916"/>
                  </a:lnTo>
                  <a:lnTo>
                    <a:pt x="3590" y="9945"/>
                  </a:lnTo>
                  <a:lnTo>
                    <a:pt x="3679" y="9971"/>
                  </a:lnTo>
                  <a:lnTo>
                    <a:pt x="3766" y="9995"/>
                  </a:lnTo>
                  <a:lnTo>
                    <a:pt x="3853" y="10019"/>
                  </a:lnTo>
                  <a:lnTo>
                    <a:pt x="3940" y="10040"/>
                  </a:lnTo>
                  <a:lnTo>
                    <a:pt x="4025" y="10058"/>
                  </a:lnTo>
                  <a:lnTo>
                    <a:pt x="4112" y="10074"/>
                  </a:lnTo>
                  <a:lnTo>
                    <a:pt x="4112" y="10074"/>
                  </a:lnTo>
                  <a:lnTo>
                    <a:pt x="4027" y="10050"/>
                  </a:lnTo>
                  <a:lnTo>
                    <a:pt x="3946" y="10025"/>
                  </a:lnTo>
                  <a:lnTo>
                    <a:pt x="3863" y="9999"/>
                  </a:lnTo>
                  <a:lnTo>
                    <a:pt x="3782" y="9971"/>
                  </a:lnTo>
                  <a:lnTo>
                    <a:pt x="3701" y="9941"/>
                  </a:lnTo>
                  <a:lnTo>
                    <a:pt x="3623" y="9910"/>
                  </a:lnTo>
                  <a:lnTo>
                    <a:pt x="3544" y="9878"/>
                  </a:lnTo>
                  <a:lnTo>
                    <a:pt x="3465" y="9844"/>
                  </a:lnTo>
                  <a:lnTo>
                    <a:pt x="3307" y="9773"/>
                  </a:lnTo>
                  <a:lnTo>
                    <a:pt x="3150" y="9698"/>
                  </a:lnTo>
                  <a:lnTo>
                    <a:pt x="2990" y="9617"/>
                  </a:lnTo>
                  <a:lnTo>
                    <a:pt x="2828" y="9532"/>
                  </a:lnTo>
                  <a:lnTo>
                    <a:pt x="2828" y="9532"/>
                  </a:lnTo>
                  <a:lnTo>
                    <a:pt x="2956" y="9591"/>
                  </a:lnTo>
                  <a:lnTo>
                    <a:pt x="3075" y="9645"/>
                  </a:lnTo>
                  <a:lnTo>
                    <a:pt x="3299" y="9740"/>
                  </a:lnTo>
                  <a:lnTo>
                    <a:pt x="3299" y="9740"/>
                  </a:lnTo>
                  <a:lnTo>
                    <a:pt x="3368" y="9769"/>
                  </a:lnTo>
                  <a:lnTo>
                    <a:pt x="3435" y="9797"/>
                  </a:lnTo>
                  <a:lnTo>
                    <a:pt x="3499" y="9821"/>
                  </a:lnTo>
                  <a:lnTo>
                    <a:pt x="3564" y="9846"/>
                  </a:lnTo>
                  <a:lnTo>
                    <a:pt x="3689" y="9886"/>
                  </a:lnTo>
                  <a:lnTo>
                    <a:pt x="3811" y="9922"/>
                  </a:lnTo>
                  <a:lnTo>
                    <a:pt x="3926" y="9953"/>
                  </a:lnTo>
                  <a:lnTo>
                    <a:pt x="4037" y="9977"/>
                  </a:lnTo>
                  <a:lnTo>
                    <a:pt x="4142" y="9997"/>
                  </a:lnTo>
                  <a:lnTo>
                    <a:pt x="4245" y="10013"/>
                  </a:lnTo>
                  <a:lnTo>
                    <a:pt x="4245" y="10013"/>
                  </a:lnTo>
                  <a:lnTo>
                    <a:pt x="4322" y="10025"/>
                  </a:lnTo>
                  <a:lnTo>
                    <a:pt x="4397" y="10034"/>
                  </a:lnTo>
                  <a:lnTo>
                    <a:pt x="4469" y="10040"/>
                  </a:lnTo>
                  <a:lnTo>
                    <a:pt x="4542" y="10046"/>
                  </a:lnTo>
                  <a:lnTo>
                    <a:pt x="4611" y="10050"/>
                  </a:lnTo>
                  <a:lnTo>
                    <a:pt x="4680" y="10052"/>
                  </a:lnTo>
                  <a:lnTo>
                    <a:pt x="4813" y="10054"/>
                  </a:lnTo>
                  <a:lnTo>
                    <a:pt x="4813" y="10054"/>
                  </a:lnTo>
                  <a:lnTo>
                    <a:pt x="4957" y="10052"/>
                  </a:lnTo>
                  <a:lnTo>
                    <a:pt x="4957" y="10052"/>
                  </a:lnTo>
                  <a:lnTo>
                    <a:pt x="5122" y="10046"/>
                  </a:lnTo>
                  <a:lnTo>
                    <a:pt x="5290" y="10036"/>
                  </a:lnTo>
                  <a:lnTo>
                    <a:pt x="5464" y="10019"/>
                  </a:lnTo>
                  <a:lnTo>
                    <a:pt x="5648" y="10001"/>
                  </a:lnTo>
                  <a:lnTo>
                    <a:pt x="5648" y="10001"/>
                  </a:lnTo>
                  <a:lnTo>
                    <a:pt x="5846" y="9977"/>
                  </a:lnTo>
                  <a:lnTo>
                    <a:pt x="5951" y="9963"/>
                  </a:lnTo>
                  <a:lnTo>
                    <a:pt x="6062" y="9949"/>
                  </a:lnTo>
                  <a:lnTo>
                    <a:pt x="6177" y="9928"/>
                  </a:lnTo>
                  <a:lnTo>
                    <a:pt x="6299" y="9908"/>
                  </a:lnTo>
                  <a:lnTo>
                    <a:pt x="6428" y="9884"/>
                  </a:lnTo>
                  <a:lnTo>
                    <a:pt x="6561" y="9856"/>
                  </a:lnTo>
                  <a:lnTo>
                    <a:pt x="6561" y="9856"/>
                  </a:lnTo>
                  <a:lnTo>
                    <a:pt x="6432" y="9888"/>
                  </a:lnTo>
                  <a:lnTo>
                    <a:pt x="6293" y="9920"/>
                  </a:lnTo>
                  <a:lnTo>
                    <a:pt x="6147" y="9951"/>
                  </a:lnTo>
                  <a:lnTo>
                    <a:pt x="5996" y="9981"/>
                  </a:lnTo>
                  <a:lnTo>
                    <a:pt x="5840" y="10009"/>
                  </a:lnTo>
                  <a:lnTo>
                    <a:pt x="5682" y="10034"/>
                  </a:lnTo>
                  <a:lnTo>
                    <a:pt x="5523" y="10054"/>
                  </a:lnTo>
                  <a:lnTo>
                    <a:pt x="5361" y="10072"/>
                  </a:lnTo>
                  <a:lnTo>
                    <a:pt x="5361" y="10072"/>
                  </a:lnTo>
                  <a:lnTo>
                    <a:pt x="5213" y="10084"/>
                  </a:lnTo>
                  <a:lnTo>
                    <a:pt x="5068" y="10092"/>
                  </a:lnTo>
                  <a:lnTo>
                    <a:pt x="4926" y="10096"/>
                  </a:lnTo>
                  <a:lnTo>
                    <a:pt x="4791" y="10098"/>
                  </a:lnTo>
                  <a:lnTo>
                    <a:pt x="4791" y="10098"/>
                  </a:lnTo>
                  <a:lnTo>
                    <a:pt x="4647" y="10096"/>
                  </a:lnTo>
                  <a:lnTo>
                    <a:pt x="4514" y="10092"/>
                  </a:lnTo>
                  <a:lnTo>
                    <a:pt x="4393" y="10084"/>
                  </a:lnTo>
                  <a:lnTo>
                    <a:pt x="4288" y="10076"/>
                  </a:lnTo>
                  <a:lnTo>
                    <a:pt x="4288" y="10076"/>
                  </a:lnTo>
                  <a:lnTo>
                    <a:pt x="4374" y="10092"/>
                  </a:lnTo>
                  <a:lnTo>
                    <a:pt x="4467" y="10104"/>
                  </a:lnTo>
                  <a:lnTo>
                    <a:pt x="4564" y="10116"/>
                  </a:lnTo>
                  <a:lnTo>
                    <a:pt x="4668" y="10127"/>
                  </a:lnTo>
                  <a:lnTo>
                    <a:pt x="4775" y="10135"/>
                  </a:lnTo>
                  <a:lnTo>
                    <a:pt x="4884" y="10141"/>
                  </a:lnTo>
                  <a:lnTo>
                    <a:pt x="4997" y="10145"/>
                  </a:lnTo>
                  <a:lnTo>
                    <a:pt x="5114" y="10147"/>
                  </a:lnTo>
                  <a:lnTo>
                    <a:pt x="5114" y="10147"/>
                  </a:lnTo>
                  <a:lnTo>
                    <a:pt x="5240" y="10145"/>
                  </a:lnTo>
                  <a:lnTo>
                    <a:pt x="5367" y="10141"/>
                  </a:lnTo>
                  <a:lnTo>
                    <a:pt x="5496" y="10133"/>
                  </a:lnTo>
                  <a:lnTo>
                    <a:pt x="5626" y="10120"/>
                  </a:lnTo>
                  <a:lnTo>
                    <a:pt x="5759" y="10106"/>
                  </a:lnTo>
                  <a:lnTo>
                    <a:pt x="5892" y="10088"/>
                  </a:lnTo>
                  <a:lnTo>
                    <a:pt x="6026" y="10066"/>
                  </a:lnTo>
                  <a:lnTo>
                    <a:pt x="6159" y="10040"/>
                  </a:lnTo>
                  <a:lnTo>
                    <a:pt x="6159" y="10040"/>
                  </a:lnTo>
                  <a:lnTo>
                    <a:pt x="6291" y="10011"/>
                  </a:lnTo>
                  <a:lnTo>
                    <a:pt x="6422" y="9979"/>
                  </a:lnTo>
                  <a:lnTo>
                    <a:pt x="6551" y="9945"/>
                  </a:lnTo>
                  <a:lnTo>
                    <a:pt x="6679" y="9906"/>
                  </a:lnTo>
                  <a:lnTo>
                    <a:pt x="6804" y="9864"/>
                  </a:lnTo>
                  <a:lnTo>
                    <a:pt x="6927" y="9819"/>
                  </a:lnTo>
                  <a:lnTo>
                    <a:pt x="7049" y="9773"/>
                  </a:lnTo>
                  <a:lnTo>
                    <a:pt x="7166" y="9724"/>
                  </a:lnTo>
                  <a:lnTo>
                    <a:pt x="7281" y="9674"/>
                  </a:lnTo>
                  <a:lnTo>
                    <a:pt x="7394" y="9621"/>
                  </a:lnTo>
                  <a:lnTo>
                    <a:pt x="7501" y="9569"/>
                  </a:lnTo>
                  <a:lnTo>
                    <a:pt x="7606" y="9516"/>
                  </a:lnTo>
                  <a:lnTo>
                    <a:pt x="7708" y="9462"/>
                  </a:lnTo>
                  <a:lnTo>
                    <a:pt x="7805" y="9407"/>
                  </a:lnTo>
                  <a:lnTo>
                    <a:pt x="7896" y="9352"/>
                  </a:lnTo>
                  <a:lnTo>
                    <a:pt x="7982" y="9298"/>
                  </a:lnTo>
                  <a:lnTo>
                    <a:pt x="7982" y="9298"/>
                  </a:lnTo>
                  <a:lnTo>
                    <a:pt x="8081" y="9233"/>
                  </a:lnTo>
                  <a:lnTo>
                    <a:pt x="8172" y="9173"/>
                  </a:lnTo>
                  <a:lnTo>
                    <a:pt x="8257" y="9112"/>
                  </a:lnTo>
                  <a:lnTo>
                    <a:pt x="8332" y="9057"/>
                  </a:lnTo>
                  <a:lnTo>
                    <a:pt x="8403" y="9003"/>
                  </a:lnTo>
                  <a:lnTo>
                    <a:pt x="8468" y="8952"/>
                  </a:lnTo>
                  <a:lnTo>
                    <a:pt x="8526" y="8902"/>
                  </a:lnTo>
                  <a:lnTo>
                    <a:pt x="8581" y="8855"/>
                  </a:lnTo>
                  <a:lnTo>
                    <a:pt x="8629" y="8811"/>
                  </a:lnTo>
                  <a:lnTo>
                    <a:pt x="8676" y="8766"/>
                  </a:lnTo>
                  <a:lnTo>
                    <a:pt x="8757" y="8683"/>
                  </a:lnTo>
                  <a:lnTo>
                    <a:pt x="8829" y="8607"/>
                  </a:lnTo>
                  <a:lnTo>
                    <a:pt x="8896" y="8534"/>
                  </a:lnTo>
                  <a:lnTo>
                    <a:pt x="8896" y="8534"/>
                  </a:lnTo>
                  <a:lnTo>
                    <a:pt x="9021" y="8380"/>
                  </a:lnTo>
                  <a:lnTo>
                    <a:pt x="9086" y="8297"/>
                  </a:lnTo>
                  <a:lnTo>
                    <a:pt x="9157" y="8202"/>
                  </a:lnTo>
                  <a:lnTo>
                    <a:pt x="9232" y="8097"/>
                  </a:lnTo>
                  <a:lnTo>
                    <a:pt x="9314" y="7974"/>
                  </a:lnTo>
                  <a:lnTo>
                    <a:pt x="9405" y="7828"/>
                  </a:lnTo>
                  <a:lnTo>
                    <a:pt x="9506" y="7661"/>
                  </a:lnTo>
                  <a:lnTo>
                    <a:pt x="9506" y="7661"/>
                  </a:lnTo>
                  <a:lnTo>
                    <a:pt x="9533" y="7614"/>
                  </a:lnTo>
                  <a:lnTo>
                    <a:pt x="9567" y="7549"/>
                  </a:lnTo>
                  <a:lnTo>
                    <a:pt x="9603" y="7473"/>
                  </a:lnTo>
                  <a:lnTo>
                    <a:pt x="9646" y="7384"/>
                  </a:lnTo>
                  <a:lnTo>
                    <a:pt x="9688" y="7283"/>
                  </a:lnTo>
                  <a:lnTo>
                    <a:pt x="9733" y="7174"/>
                  </a:lnTo>
                  <a:lnTo>
                    <a:pt x="9775" y="7056"/>
                  </a:lnTo>
                  <a:lnTo>
                    <a:pt x="9818" y="6935"/>
                  </a:lnTo>
                  <a:lnTo>
                    <a:pt x="9818" y="6935"/>
                  </a:lnTo>
                  <a:lnTo>
                    <a:pt x="9856" y="6810"/>
                  </a:lnTo>
                  <a:lnTo>
                    <a:pt x="9893" y="6680"/>
                  </a:lnTo>
                  <a:lnTo>
                    <a:pt x="9925" y="6553"/>
                  </a:lnTo>
                  <a:lnTo>
                    <a:pt x="9953" y="6428"/>
                  </a:lnTo>
                  <a:lnTo>
                    <a:pt x="9977" y="6306"/>
                  </a:lnTo>
                  <a:lnTo>
                    <a:pt x="10000" y="6191"/>
                  </a:lnTo>
                  <a:lnTo>
                    <a:pt x="10018" y="6084"/>
                  </a:lnTo>
                  <a:lnTo>
                    <a:pt x="10032" y="5987"/>
                  </a:lnTo>
                  <a:lnTo>
                    <a:pt x="10032" y="5987"/>
                  </a:lnTo>
                  <a:lnTo>
                    <a:pt x="10000" y="6137"/>
                  </a:lnTo>
                  <a:lnTo>
                    <a:pt x="9965" y="6280"/>
                  </a:lnTo>
                  <a:lnTo>
                    <a:pt x="9929" y="6418"/>
                  </a:lnTo>
                  <a:lnTo>
                    <a:pt x="9891" y="6551"/>
                  </a:lnTo>
                  <a:lnTo>
                    <a:pt x="9850" y="6678"/>
                  </a:lnTo>
                  <a:lnTo>
                    <a:pt x="9808" y="6800"/>
                  </a:lnTo>
                  <a:lnTo>
                    <a:pt x="9765" y="6917"/>
                  </a:lnTo>
                  <a:lnTo>
                    <a:pt x="9723" y="7026"/>
                  </a:lnTo>
                  <a:lnTo>
                    <a:pt x="9678" y="7133"/>
                  </a:lnTo>
                  <a:lnTo>
                    <a:pt x="9632" y="7232"/>
                  </a:lnTo>
                  <a:lnTo>
                    <a:pt x="9585" y="7327"/>
                  </a:lnTo>
                  <a:lnTo>
                    <a:pt x="9541" y="7418"/>
                  </a:lnTo>
                  <a:lnTo>
                    <a:pt x="9494" y="7501"/>
                  </a:lnTo>
                  <a:lnTo>
                    <a:pt x="9448" y="7582"/>
                  </a:lnTo>
                  <a:lnTo>
                    <a:pt x="9401" y="7657"/>
                  </a:lnTo>
                  <a:lnTo>
                    <a:pt x="9355" y="7725"/>
                  </a:lnTo>
                  <a:lnTo>
                    <a:pt x="9355" y="7725"/>
                  </a:lnTo>
                  <a:lnTo>
                    <a:pt x="9286" y="7836"/>
                  </a:lnTo>
                  <a:lnTo>
                    <a:pt x="9211" y="7948"/>
                  </a:lnTo>
                  <a:lnTo>
                    <a:pt x="9135" y="8059"/>
                  </a:lnTo>
                  <a:lnTo>
                    <a:pt x="9052" y="8168"/>
                  </a:lnTo>
                  <a:lnTo>
                    <a:pt x="8965" y="8275"/>
                  </a:lnTo>
                  <a:lnTo>
                    <a:pt x="8876" y="8380"/>
                  </a:lnTo>
                  <a:lnTo>
                    <a:pt x="8783" y="8483"/>
                  </a:lnTo>
                  <a:lnTo>
                    <a:pt x="8686" y="8584"/>
                  </a:lnTo>
                  <a:lnTo>
                    <a:pt x="8589" y="8681"/>
                  </a:lnTo>
                  <a:lnTo>
                    <a:pt x="8488" y="8776"/>
                  </a:lnTo>
                  <a:lnTo>
                    <a:pt x="8385" y="8867"/>
                  </a:lnTo>
                  <a:lnTo>
                    <a:pt x="8282" y="8956"/>
                  </a:lnTo>
                  <a:lnTo>
                    <a:pt x="8176" y="9039"/>
                  </a:lnTo>
                  <a:lnTo>
                    <a:pt x="8071" y="9118"/>
                  </a:lnTo>
                  <a:lnTo>
                    <a:pt x="7964" y="9193"/>
                  </a:lnTo>
                  <a:lnTo>
                    <a:pt x="7859" y="9263"/>
                  </a:lnTo>
                  <a:lnTo>
                    <a:pt x="7859" y="9263"/>
                  </a:lnTo>
                  <a:lnTo>
                    <a:pt x="7754" y="9328"/>
                  </a:lnTo>
                  <a:lnTo>
                    <a:pt x="7651" y="9391"/>
                  </a:lnTo>
                  <a:lnTo>
                    <a:pt x="7550" y="9447"/>
                  </a:lnTo>
                  <a:lnTo>
                    <a:pt x="7451" y="9500"/>
                  </a:lnTo>
                  <a:lnTo>
                    <a:pt x="7354" y="9548"/>
                  </a:lnTo>
                  <a:lnTo>
                    <a:pt x="7263" y="9593"/>
                  </a:lnTo>
                  <a:lnTo>
                    <a:pt x="7174" y="9631"/>
                  </a:lnTo>
                  <a:lnTo>
                    <a:pt x="7089" y="9668"/>
                  </a:lnTo>
                  <a:lnTo>
                    <a:pt x="7010" y="9700"/>
                  </a:lnTo>
                  <a:lnTo>
                    <a:pt x="6935" y="9728"/>
                  </a:lnTo>
                  <a:lnTo>
                    <a:pt x="6867" y="9753"/>
                  </a:lnTo>
                  <a:lnTo>
                    <a:pt x="6806" y="9775"/>
                  </a:lnTo>
                  <a:lnTo>
                    <a:pt x="6703" y="9807"/>
                  </a:lnTo>
                  <a:lnTo>
                    <a:pt x="6632" y="9827"/>
                  </a:lnTo>
                  <a:lnTo>
                    <a:pt x="6632" y="9827"/>
                  </a:lnTo>
                  <a:lnTo>
                    <a:pt x="6590" y="9838"/>
                  </a:lnTo>
                  <a:lnTo>
                    <a:pt x="6590" y="9838"/>
                  </a:lnTo>
                  <a:lnTo>
                    <a:pt x="6588" y="9835"/>
                  </a:lnTo>
                  <a:lnTo>
                    <a:pt x="6592" y="9833"/>
                  </a:lnTo>
                  <a:lnTo>
                    <a:pt x="6612" y="9825"/>
                  </a:lnTo>
                  <a:lnTo>
                    <a:pt x="6709" y="9791"/>
                  </a:lnTo>
                  <a:lnTo>
                    <a:pt x="6709" y="9791"/>
                  </a:lnTo>
                  <a:lnTo>
                    <a:pt x="6832" y="9745"/>
                  </a:lnTo>
                  <a:lnTo>
                    <a:pt x="6911" y="9714"/>
                  </a:lnTo>
                  <a:lnTo>
                    <a:pt x="7000" y="9678"/>
                  </a:lnTo>
                  <a:lnTo>
                    <a:pt x="7101" y="9633"/>
                  </a:lnTo>
                  <a:lnTo>
                    <a:pt x="7212" y="9583"/>
                  </a:lnTo>
                  <a:lnTo>
                    <a:pt x="7336" y="9522"/>
                  </a:lnTo>
                  <a:lnTo>
                    <a:pt x="7469" y="9451"/>
                  </a:lnTo>
                  <a:lnTo>
                    <a:pt x="7469" y="9451"/>
                  </a:lnTo>
                  <a:lnTo>
                    <a:pt x="7538" y="9413"/>
                  </a:lnTo>
                  <a:lnTo>
                    <a:pt x="7611" y="9371"/>
                  </a:lnTo>
                  <a:lnTo>
                    <a:pt x="7685" y="9326"/>
                  </a:lnTo>
                  <a:lnTo>
                    <a:pt x="7764" y="9278"/>
                  </a:lnTo>
                  <a:lnTo>
                    <a:pt x="7843" y="9225"/>
                  </a:lnTo>
                  <a:lnTo>
                    <a:pt x="7926" y="9170"/>
                  </a:lnTo>
                  <a:lnTo>
                    <a:pt x="8009" y="9112"/>
                  </a:lnTo>
                  <a:lnTo>
                    <a:pt x="8096" y="9047"/>
                  </a:lnTo>
                  <a:lnTo>
                    <a:pt x="8183" y="8980"/>
                  </a:lnTo>
                  <a:lnTo>
                    <a:pt x="8269" y="8908"/>
                  </a:lnTo>
                  <a:lnTo>
                    <a:pt x="8360" y="8831"/>
                  </a:lnTo>
                  <a:lnTo>
                    <a:pt x="8451" y="8750"/>
                  </a:lnTo>
                  <a:lnTo>
                    <a:pt x="8542" y="8665"/>
                  </a:lnTo>
                  <a:lnTo>
                    <a:pt x="8633" y="8574"/>
                  </a:lnTo>
                  <a:lnTo>
                    <a:pt x="8726" y="8477"/>
                  </a:lnTo>
                  <a:lnTo>
                    <a:pt x="8819" y="8374"/>
                  </a:lnTo>
                  <a:lnTo>
                    <a:pt x="8819" y="8374"/>
                  </a:lnTo>
                  <a:lnTo>
                    <a:pt x="8910" y="8267"/>
                  </a:lnTo>
                  <a:lnTo>
                    <a:pt x="9003" y="8154"/>
                  </a:lnTo>
                  <a:lnTo>
                    <a:pt x="9094" y="8035"/>
                  </a:lnTo>
                  <a:lnTo>
                    <a:pt x="9139" y="7972"/>
                  </a:lnTo>
                  <a:lnTo>
                    <a:pt x="9183" y="7909"/>
                  </a:lnTo>
                  <a:lnTo>
                    <a:pt x="9228" y="7843"/>
                  </a:lnTo>
                  <a:lnTo>
                    <a:pt x="9272" y="7776"/>
                  </a:lnTo>
                  <a:lnTo>
                    <a:pt x="9314" y="7707"/>
                  </a:lnTo>
                  <a:lnTo>
                    <a:pt x="9357" y="7636"/>
                  </a:lnTo>
                  <a:lnTo>
                    <a:pt x="9399" y="7566"/>
                  </a:lnTo>
                  <a:lnTo>
                    <a:pt x="9440" y="7493"/>
                  </a:lnTo>
                  <a:lnTo>
                    <a:pt x="9480" y="7418"/>
                  </a:lnTo>
                  <a:lnTo>
                    <a:pt x="9519" y="7341"/>
                  </a:lnTo>
                  <a:lnTo>
                    <a:pt x="9557" y="7262"/>
                  </a:lnTo>
                  <a:lnTo>
                    <a:pt x="9595" y="7182"/>
                  </a:lnTo>
                  <a:lnTo>
                    <a:pt x="9632" y="7101"/>
                  </a:lnTo>
                  <a:lnTo>
                    <a:pt x="9666" y="7018"/>
                  </a:lnTo>
                  <a:lnTo>
                    <a:pt x="9701" y="6933"/>
                  </a:lnTo>
                  <a:lnTo>
                    <a:pt x="9735" y="6848"/>
                  </a:lnTo>
                  <a:lnTo>
                    <a:pt x="9765" y="6759"/>
                  </a:lnTo>
                  <a:lnTo>
                    <a:pt x="9796" y="6670"/>
                  </a:lnTo>
                  <a:lnTo>
                    <a:pt x="9824" y="6579"/>
                  </a:lnTo>
                  <a:lnTo>
                    <a:pt x="9852" y="6486"/>
                  </a:lnTo>
                  <a:lnTo>
                    <a:pt x="9876" y="6391"/>
                  </a:lnTo>
                  <a:lnTo>
                    <a:pt x="9901" y="6294"/>
                  </a:lnTo>
                  <a:lnTo>
                    <a:pt x="9923" y="6197"/>
                  </a:lnTo>
                  <a:lnTo>
                    <a:pt x="9943" y="6098"/>
                  </a:lnTo>
                  <a:lnTo>
                    <a:pt x="9961" y="5997"/>
                  </a:lnTo>
                  <a:lnTo>
                    <a:pt x="9977" y="5894"/>
                  </a:lnTo>
                  <a:lnTo>
                    <a:pt x="9977" y="5894"/>
                  </a:lnTo>
                  <a:lnTo>
                    <a:pt x="9941" y="6062"/>
                  </a:lnTo>
                  <a:lnTo>
                    <a:pt x="9907" y="6203"/>
                  </a:lnTo>
                  <a:lnTo>
                    <a:pt x="9884" y="6286"/>
                  </a:lnTo>
                  <a:lnTo>
                    <a:pt x="9860" y="6373"/>
                  </a:lnTo>
                  <a:lnTo>
                    <a:pt x="9860" y="6373"/>
                  </a:lnTo>
                  <a:lnTo>
                    <a:pt x="9830" y="6468"/>
                  </a:lnTo>
                  <a:lnTo>
                    <a:pt x="9798" y="6565"/>
                  </a:lnTo>
                  <a:lnTo>
                    <a:pt x="9761" y="6668"/>
                  </a:lnTo>
                  <a:lnTo>
                    <a:pt x="9723" y="6771"/>
                  </a:lnTo>
                  <a:lnTo>
                    <a:pt x="9678" y="6878"/>
                  </a:lnTo>
                  <a:lnTo>
                    <a:pt x="9632" y="6986"/>
                  </a:lnTo>
                  <a:lnTo>
                    <a:pt x="9581" y="7093"/>
                  </a:lnTo>
                  <a:lnTo>
                    <a:pt x="9529" y="7198"/>
                  </a:lnTo>
                  <a:lnTo>
                    <a:pt x="9529" y="7198"/>
                  </a:lnTo>
                  <a:lnTo>
                    <a:pt x="9474" y="7303"/>
                  </a:lnTo>
                  <a:lnTo>
                    <a:pt x="9418" y="7404"/>
                  </a:lnTo>
                  <a:lnTo>
                    <a:pt x="9359" y="7503"/>
                  </a:lnTo>
                  <a:lnTo>
                    <a:pt x="9298" y="7598"/>
                  </a:lnTo>
                  <a:lnTo>
                    <a:pt x="9238" y="7687"/>
                  </a:lnTo>
                  <a:lnTo>
                    <a:pt x="9179" y="7772"/>
                  </a:lnTo>
                  <a:lnTo>
                    <a:pt x="9120" y="7853"/>
                  </a:lnTo>
                  <a:lnTo>
                    <a:pt x="9064" y="7925"/>
                  </a:lnTo>
                  <a:lnTo>
                    <a:pt x="9011" y="7992"/>
                  </a:lnTo>
                  <a:lnTo>
                    <a:pt x="8961" y="8053"/>
                  </a:lnTo>
                  <a:lnTo>
                    <a:pt x="8916" y="8107"/>
                  </a:lnTo>
                  <a:lnTo>
                    <a:pt x="8876" y="8152"/>
                  </a:lnTo>
                  <a:lnTo>
                    <a:pt x="8815" y="8216"/>
                  </a:lnTo>
                  <a:lnTo>
                    <a:pt x="8795" y="823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5"/>
                  </a:lnTo>
                  <a:lnTo>
                    <a:pt x="8783" y="8243"/>
                  </a:lnTo>
                  <a:lnTo>
                    <a:pt x="8785" y="8237"/>
                  </a:lnTo>
                  <a:lnTo>
                    <a:pt x="8801" y="8214"/>
                  </a:lnTo>
                  <a:lnTo>
                    <a:pt x="8872" y="8130"/>
                  </a:lnTo>
                  <a:lnTo>
                    <a:pt x="8922" y="8065"/>
                  </a:lnTo>
                  <a:lnTo>
                    <a:pt x="8981" y="7990"/>
                  </a:lnTo>
                  <a:lnTo>
                    <a:pt x="9046" y="7903"/>
                  </a:lnTo>
                  <a:lnTo>
                    <a:pt x="9116" y="7806"/>
                  </a:lnTo>
                  <a:lnTo>
                    <a:pt x="9116" y="7806"/>
                  </a:lnTo>
                  <a:lnTo>
                    <a:pt x="9193" y="7695"/>
                  </a:lnTo>
                  <a:lnTo>
                    <a:pt x="9270" y="7576"/>
                  </a:lnTo>
                  <a:lnTo>
                    <a:pt x="9349" y="7446"/>
                  </a:lnTo>
                  <a:lnTo>
                    <a:pt x="9387" y="7378"/>
                  </a:lnTo>
                  <a:lnTo>
                    <a:pt x="9426" y="7307"/>
                  </a:lnTo>
                  <a:lnTo>
                    <a:pt x="9464" y="7236"/>
                  </a:lnTo>
                  <a:lnTo>
                    <a:pt x="9502" y="7161"/>
                  </a:lnTo>
                  <a:lnTo>
                    <a:pt x="9539" y="7087"/>
                  </a:lnTo>
                  <a:lnTo>
                    <a:pt x="9575" y="7010"/>
                  </a:lnTo>
                  <a:lnTo>
                    <a:pt x="9610" y="6933"/>
                  </a:lnTo>
                  <a:lnTo>
                    <a:pt x="9642" y="6854"/>
                  </a:lnTo>
                  <a:lnTo>
                    <a:pt x="9674" y="6773"/>
                  </a:lnTo>
                  <a:lnTo>
                    <a:pt x="9705" y="6692"/>
                  </a:lnTo>
                  <a:lnTo>
                    <a:pt x="9705" y="6692"/>
                  </a:lnTo>
                  <a:lnTo>
                    <a:pt x="9733" y="6612"/>
                  </a:lnTo>
                  <a:lnTo>
                    <a:pt x="9761" y="6531"/>
                  </a:lnTo>
                  <a:lnTo>
                    <a:pt x="9787" y="6450"/>
                  </a:lnTo>
                  <a:lnTo>
                    <a:pt x="9812" y="6367"/>
                  </a:lnTo>
                  <a:lnTo>
                    <a:pt x="9834" y="6286"/>
                  </a:lnTo>
                  <a:lnTo>
                    <a:pt x="9854" y="6207"/>
                  </a:lnTo>
                  <a:lnTo>
                    <a:pt x="9874" y="6127"/>
                  </a:lnTo>
                  <a:lnTo>
                    <a:pt x="9891" y="6048"/>
                  </a:lnTo>
                  <a:lnTo>
                    <a:pt x="9907" y="5969"/>
                  </a:lnTo>
                  <a:lnTo>
                    <a:pt x="9921" y="5894"/>
                  </a:lnTo>
                  <a:lnTo>
                    <a:pt x="9935" y="5817"/>
                  </a:lnTo>
                  <a:lnTo>
                    <a:pt x="9945" y="5744"/>
                  </a:lnTo>
                  <a:lnTo>
                    <a:pt x="9963" y="5605"/>
                  </a:lnTo>
                  <a:lnTo>
                    <a:pt x="9977" y="5474"/>
                  </a:lnTo>
                  <a:lnTo>
                    <a:pt x="9977" y="5474"/>
                  </a:lnTo>
                  <a:lnTo>
                    <a:pt x="9986" y="5358"/>
                  </a:lnTo>
                  <a:lnTo>
                    <a:pt x="9990" y="5253"/>
                  </a:lnTo>
                  <a:lnTo>
                    <a:pt x="9992" y="5162"/>
                  </a:lnTo>
                  <a:lnTo>
                    <a:pt x="9992" y="5086"/>
                  </a:lnTo>
                  <a:lnTo>
                    <a:pt x="9992" y="5023"/>
                  </a:lnTo>
                  <a:lnTo>
                    <a:pt x="9990" y="4976"/>
                  </a:lnTo>
                  <a:lnTo>
                    <a:pt x="9988" y="4948"/>
                  </a:lnTo>
                  <a:lnTo>
                    <a:pt x="9986" y="4938"/>
                  </a:lnTo>
                  <a:lnTo>
                    <a:pt x="9986" y="4938"/>
                  </a:lnTo>
                  <a:lnTo>
                    <a:pt x="9986" y="4940"/>
                  </a:lnTo>
                  <a:lnTo>
                    <a:pt x="9986" y="4940"/>
                  </a:lnTo>
                  <a:lnTo>
                    <a:pt x="9977" y="4991"/>
                  </a:lnTo>
                  <a:lnTo>
                    <a:pt x="9969" y="5075"/>
                  </a:lnTo>
                  <a:lnTo>
                    <a:pt x="9957" y="5191"/>
                  </a:lnTo>
                  <a:lnTo>
                    <a:pt x="9939" y="5330"/>
                  </a:lnTo>
                  <a:lnTo>
                    <a:pt x="9917" y="5488"/>
                  </a:lnTo>
                  <a:lnTo>
                    <a:pt x="9903" y="5573"/>
                  </a:lnTo>
                  <a:lnTo>
                    <a:pt x="9886" y="5662"/>
                  </a:lnTo>
                  <a:lnTo>
                    <a:pt x="9868" y="5751"/>
                  </a:lnTo>
                  <a:lnTo>
                    <a:pt x="9848" y="5844"/>
                  </a:lnTo>
                  <a:lnTo>
                    <a:pt x="9826" y="5937"/>
                  </a:lnTo>
                  <a:lnTo>
                    <a:pt x="9800" y="6029"/>
                  </a:lnTo>
                  <a:lnTo>
                    <a:pt x="9800" y="6029"/>
                  </a:lnTo>
                  <a:lnTo>
                    <a:pt x="9773" y="6122"/>
                  </a:lnTo>
                  <a:lnTo>
                    <a:pt x="9745" y="6215"/>
                  </a:lnTo>
                  <a:lnTo>
                    <a:pt x="9715" y="6306"/>
                  </a:lnTo>
                  <a:lnTo>
                    <a:pt x="9684" y="6397"/>
                  </a:lnTo>
                  <a:lnTo>
                    <a:pt x="9650" y="6482"/>
                  </a:lnTo>
                  <a:lnTo>
                    <a:pt x="9618" y="6567"/>
                  </a:lnTo>
                  <a:lnTo>
                    <a:pt x="9583" y="6648"/>
                  </a:lnTo>
                  <a:lnTo>
                    <a:pt x="9551" y="6725"/>
                  </a:lnTo>
                  <a:lnTo>
                    <a:pt x="9486" y="6864"/>
                  </a:lnTo>
                  <a:lnTo>
                    <a:pt x="9428" y="6984"/>
                  </a:lnTo>
                  <a:lnTo>
                    <a:pt x="9377" y="7081"/>
                  </a:lnTo>
                  <a:lnTo>
                    <a:pt x="9341" y="7147"/>
                  </a:lnTo>
                  <a:lnTo>
                    <a:pt x="9341" y="7147"/>
                  </a:lnTo>
                  <a:lnTo>
                    <a:pt x="9323" y="7190"/>
                  </a:lnTo>
                  <a:lnTo>
                    <a:pt x="9304" y="7226"/>
                  </a:lnTo>
                  <a:lnTo>
                    <a:pt x="9272" y="7295"/>
                  </a:lnTo>
                  <a:lnTo>
                    <a:pt x="9258" y="7325"/>
                  </a:lnTo>
                  <a:lnTo>
                    <a:pt x="9248" y="7351"/>
                  </a:lnTo>
                  <a:lnTo>
                    <a:pt x="9242" y="7374"/>
                  </a:lnTo>
                  <a:lnTo>
                    <a:pt x="9242" y="7386"/>
                  </a:lnTo>
                  <a:lnTo>
                    <a:pt x="9242" y="7394"/>
                  </a:lnTo>
                  <a:lnTo>
                    <a:pt x="9242" y="7394"/>
                  </a:lnTo>
                  <a:lnTo>
                    <a:pt x="9157" y="7527"/>
                  </a:lnTo>
                  <a:lnTo>
                    <a:pt x="9072" y="7655"/>
                  </a:lnTo>
                  <a:lnTo>
                    <a:pt x="8987" y="7778"/>
                  </a:lnTo>
                  <a:lnTo>
                    <a:pt x="8898" y="7895"/>
                  </a:lnTo>
                  <a:lnTo>
                    <a:pt x="8807" y="8012"/>
                  </a:lnTo>
                  <a:lnTo>
                    <a:pt x="8759" y="8071"/>
                  </a:lnTo>
                  <a:lnTo>
                    <a:pt x="8708" y="8130"/>
                  </a:lnTo>
                  <a:lnTo>
                    <a:pt x="8658" y="8188"/>
                  </a:lnTo>
                  <a:lnTo>
                    <a:pt x="8603" y="8247"/>
                  </a:lnTo>
                  <a:lnTo>
                    <a:pt x="8548" y="8307"/>
                  </a:lnTo>
                  <a:lnTo>
                    <a:pt x="8490" y="8366"/>
                  </a:lnTo>
                  <a:lnTo>
                    <a:pt x="8490" y="8366"/>
                  </a:lnTo>
                  <a:lnTo>
                    <a:pt x="8413" y="8443"/>
                  </a:lnTo>
                  <a:lnTo>
                    <a:pt x="8336" y="8518"/>
                  </a:lnTo>
                  <a:lnTo>
                    <a:pt x="8257" y="8592"/>
                  </a:lnTo>
                  <a:lnTo>
                    <a:pt x="8176" y="8663"/>
                  </a:lnTo>
                  <a:lnTo>
                    <a:pt x="8094" y="8734"/>
                  </a:lnTo>
                  <a:lnTo>
                    <a:pt x="8009" y="8803"/>
                  </a:lnTo>
                  <a:lnTo>
                    <a:pt x="7924" y="8869"/>
                  </a:lnTo>
                  <a:lnTo>
                    <a:pt x="7837" y="8934"/>
                  </a:lnTo>
                  <a:lnTo>
                    <a:pt x="7748" y="8997"/>
                  </a:lnTo>
                  <a:lnTo>
                    <a:pt x="7657" y="9057"/>
                  </a:lnTo>
                  <a:lnTo>
                    <a:pt x="7566" y="9116"/>
                  </a:lnTo>
                  <a:lnTo>
                    <a:pt x="7473" y="9173"/>
                  </a:lnTo>
                  <a:lnTo>
                    <a:pt x="7378" y="9227"/>
                  </a:lnTo>
                  <a:lnTo>
                    <a:pt x="7281" y="9280"/>
                  </a:lnTo>
                  <a:lnTo>
                    <a:pt x="7182" y="9330"/>
                  </a:lnTo>
                  <a:lnTo>
                    <a:pt x="7083" y="9377"/>
                  </a:lnTo>
                  <a:lnTo>
                    <a:pt x="7083" y="9377"/>
                  </a:lnTo>
                  <a:lnTo>
                    <a:pt x="6992" y="9417"/>
                  </a:lnTo>
                  <a:lnTo>
                    <a:pt x="6899" y="9455"/>
                  </a:lnTo>
                  <a:lnTo>
                    <a:pt x="6806" y="9492"/>
                  </a:lnTo>
                  <a:lnTo>
                    <a:pt x="6711" y="9524"/>
                  </a:lnTo>
                  <a:lnTo>
                    <a:pt x="6616" y="9557"/>
                  </a:lnTo>
                  <a:lnTo>
                    <a:pt x="6519" y="9585"/>
                  </a:lnTo>
                  <a:lnTo>
                    <a:pt x="6420" y="9611"/>
                  </a:lnTo>
                  <a:lnTo>
                    <a:pt x="6321" y="9635"/>
                  </a:lnTo>
                  <a:lnTo>
                    <a:pt x="6222" y="9658"/>
                  </a:lnTo>
                  <a:lnTo>
                    <a:pt x="6121" y="9676"/>
                  </a:lnTo>
                  <a:lnTo>
                    <a:pt x="6020" y="9692"/>
                  </a:lnTo>
                  <a:lnTo>
                    <a:pt x="5919" y="9704"/>
                  </a:lnTo>
                  <a:lnTo>
                    <a:pt x="5816" y="9716"/>
                  </a:lnTo>
                  <a:lnTo>
                    <a:pt x="5713" y="9722"/>
                  </a:lnTo>
                  <a:lnTo>
                    <a:pt x="5607" y="9728"/>
                  </a:lnTo>
                  <a:lnTo>
                    <a:pt x="5504" y="9728"/>
                  </a:lnTo>
                  <a:lnTo>
                    <a:pt x="5504" y="9728"/>
                  </a:lnTo>
                  <a:lnTo>
                    <a:pt x="5411" y="9728"/>
                  </a:lnTo>
                  <a:lnTo>
                    <a:pt x="5320" y="9724"/>
                  </a:lnTo>
                  <a:lnTo>
                    <a:pt x="5320" y="9724"/>
                  </a:lnTo>
                  <a:lnTo>
                    <a:pt x="5310" y="9724"/>
                  </a:lnTo>
                  <a:lnTo>
                    <a:pt x="5310" y="9724"/>
                  </a:lnTo>
                  <a:lnTo>
                    <a:pt x="5215" y="9726"/>
                  </a:lnTo>
                  <a:lnTo>
                    <a:pt x="5094" y="9734"/>
                  </a:lnTo>
                  <a:lnTo>
                    <a:pt x="5094" y="9734"/>
                  </a:lnTo>
                  <a:lnTo>
                    <a:pt x="4967" y="9740"/>
                  </a:lnTo>
                  <a:lnTo>
                    <a:pt x="4906" y="9743"/>
                  </a:lnTo>
                  <a:lnTo>
                    <a:pt x="4853" y="9743"/>
                  </a:lnTo>
                  <a:lnTo>
                    <a:pt x="4853" y="9743"/>
                  </a:lnTo>
                  <a:lnTo>
                    <a:pt x="4815" y="9743"/>
                  </a:lnTo>
                  <a:lnTo>
                    <a:pt x="4815" y="9743"/>
                  </a:lnTo>
                  <a:lnTo>
                    <a:pt x="4730" y="9732"/>
                  </a:lnTo>
                  <a:lnTo>
                    <a:pt x="4645" y="9722"/>
                  </a:lnTo>
                  <a:lnTo>
                    <a:pt x="4560" y="9710"/>
                  </a:lnTo>
                  <a:lnTo>
                    <a:pt x="4478" y="9696"/>
                  </a:lnTo>
                  <a:lnTo>
                    <a:pt x="4393" y="9680"/>
                  </a:lnTo>
                  <a:lnTo>
                    <a:pt x="4310" y="9662"/>
                  </a:lnTo>
                  <a:lnTo>
                    <a:pt x="4227" y="9641"/>
                  </a:lnTo>
                  <a:lnTo>
                    <a:pt x="4144" y="9619"/>
                  </a:lnTo>
                  <a:lnTo>
                    <a:pt x="4063" y="9597"/>
                  </a:lnTo>
                  <a:lnTo>
                    <a:pt x="3980" y="9571"/>
                  </a:lnTo>
                  <a:lnTo>
                    <a:pt x="3899" y="9544"/>
                  </a:lnTo>
                  <a:lnTo>
                    <a:pt x="3819" y="9516"/>
                  </a:lnTo>
                  <a:lnTo>
                    <a:pt x="3740" y="9486"/>
                  </a:lnTo>
                  <a:lnTo>
                    <a:pt x="3661" y="9455"/>
                  </a:lnTo>
                  <a:lnTo>
                    <a:pt x="3580" y="9423"/>
                  </a:lnTo>
                  <a:lnTo>
                    <a:pt x="3503" y="9389"/>
                  </a:lnTo>
                  <a:lnTo>
                    <a:pt x="3424" y="9352"/>
                  </a:lnTo>
                  <a:lnTo>
                    <a:pt x="3348" y="9316"/>
                  </a:lnTo>
                  <a:lnTo>
                    <a:pt x="3271" y="9278"/>
                  </a:lnTo>
                  <a:lnTo>
                    <a:pt x="3194" y="9239"/>
                  </a:lnTo>
                  <a:lnTo>
                    <a:pt x="3119" y="9197"/>
                  </a:lnTo>
                  <a:lnTo>
                    <a:pt x="3044" y="9156"/>
                  </a:lnTo>
                  <a:lnTo>
                    <a:pt x="2970" y="9112"/>
                  </a:lnTo>
                  <a:lnTo>
                    <a:pt x="2897" y="9067"/>
                  </a:lnTo>
                  <a:lnTo>
                    <a:pt x="2824" y="9023"/>
                  </a:lnTo>
                  <a:lnTo>
                    <a:pt x="2751" y="8976"/>
                  </a:lnTo>
                  <a:lnTo>
                    <a:pt x="2608" y="8881"/>
                  </a:lnTo>
                  <a:lnTo>
                    <a:pt x="2468" y="8780"/>
                  </a:lnTo>
                  <a:lnTo>
                    <a:pt x="2331" y="8677"/>
                  </a:lnTo>
                  <a:lnTo>
                    <a:pt x="2331" y="8677"/>
                  </a:lnTo>
                  <a:lnTo>
                    <a:pt x="2248" y="8611"/>
                  </a:lnTo>
                  <a:lnTo>
                    <a:pt x="2167" y="8540"/>
                  </a:lnTo>
                  <a:lnTo>
                    <a:pt x="2088" y="8465"/>
                  </a:lnTo>
                  <a:lnTo>
                    <a:pt x="2014" y="8390"/>
                  </a:lnTo>
                  <a:lnTo>
                    <a:pt x="1939" y="8311"/>
                  </a:lnTo>
                  <a:lnTo>
                    <a:pt x="1868" y="8231"/>
                  </a:lnTo>
                  <a:lnTo>
                    <a:pt x="1797" y="8148"/>
                  </a:lnTo>
                  <a:lnTo>
                    <a:pt x="1731" y="8063"/>
                  </a:lnTo>
                  <a:lnTo>
                    <a:pt x="1664" y="7978"/>
                  </a:lnTo>
                  <a:lnTo>
                    <a:pt x="1599" y="7891"/>
                  </a:lnTo>
                  <a:lnTo>
                    <a:pt x="1539" y="7802"/>
                  </a:lnTo>
                  <a:lnTo>
                    <a:pt x="1478" y="7713"/>
                  </a:lnTo>
                  <a:lnTo>
                    <a:pt x="1419" y="7624"/>
                  </a:lnTo>
                  <a:lnTo>
                    <a:pt x="1363" y="7533"/>
                  </a:lnTo>
                  <a:lnTo>
                    <a:pt x="1306" y="7444"/>
                  </a:lnTo>
                  <a:lnTo>
                    <a:pt x="1252" y="7353"/>
                  </a:lnTo>
                  <a:lnTo>
                    <a:pt x="1252" y="7353"/>
                  </a:lnTo>
                  <a:lnTo>
                    <a:pt x="1191" y="7252"/>
                  </a:lnTo>
                  <a:lnTo>
                    <a:pt x="1132" y="7147"/>
                  </a:lnTo>
                  <a:lnTo>
                    <a:pt x="1076" y="7042"/>
                  </a:lnTo>
                  <a:lnTo>
                    <a:pt x="1025" y="6935"/>
                  </a:lnTo>
                  <a:lnTo>
                    <a:pt x="977" y="6826"/>
                  </a:lnTo>
                  <a:lnTo>
                    <a:pt x="930" y="6717"/>
                  </a:lnTo>
                  <a:lnTo>
                    <a:pt x="888" y="6604"/>
                  </a:lnTo>
                  <a:lnTo>
                    <a:pt x="849" y="6492"/>
                  </a:lnTo>
                  <a:lnTo>
                    <a:pt x="849" y="6492"/>
                  </a:lnTo>
                  <a:lnTo>
                    <a:pt x="894" y="6624"/>
                  </a:lnTo>
                  <a:lnTo>
                    <a:pt x="940" y="6753"/>
                  </a:lnTo>
                  <a:lnTo>
                    <a:pt x="991" y="6878"/>
                  </a:lnTo>
                  <a:lnTo>
                    <a:pt x="1045" y="7000"/>
                  </a:lnTo>
                  <a:lnTo>
                    <a:pt x="1100" y="7119"/>
                  </a:lnTo>
                  <a:lnTo>
                    <a:pt x="1157" y="7234"/>
                  </a:lnTo>
                  <a:lnTo>
                    <a:pt x="1215" y="7347"/>
                  </a:lnTo>
                  <a:lnTo>
                    <a:pt x="1276" y="7454"/>
                  </a:lnTo>
                  <a:lnTo>
                    <a:pt x="1336" y="7560"/>
                  </a:lnTo>
                  <a:lnTo>
                    <a:pt x="1397" y="7661"/>
                  </a:lnTo>
                  <a:lnTo>
                    <a:pt x="1458" y="7758"/>
                  </a:lnTo>
                  <a:lnTo>
                    <a:pt x="1518" y="7853"/>
                  </a:lnTo>
                  <a:lnTo>
                    <a:pt x="1579" y="7942"/>
                  </a:lnTo>
                  <a:lnTo>
                    <a:pt x="1638" y="8026"/>
                  </a:lnTo>
                  <a:lnTo>
                    <a:pt x="1751" y="8184"/>
                  </a:lnTo>
                  <a:lnTo>
                    <a:pt x="1751" y="8184"/>
                  </a:lnTo>
                  <a:lnTo>
                    <a:pt x="1785" y="8221"/>
                  </a:lnTo>
                  <a:lnTo>
                    <a:pt x="1838" y="8271"/>
                  </a:lnTo>
                  <a:lnTo>
                    <a:pt x="1838" y="8271"/>
                  </a:lnTo>
                  <a:lnTo>
                    <a:pt x="1852" y="8293"/>
                  </a:lnTo>
                  <a:lnTo>
                    <a:pt x="1874" y="8320"/>
                  </a:lnTo>
                  <a:lnTo>
                    <a:pt x="1874" y="8320"/>
                  </a:lnTo>
                  <a:lnTo>
                    <a:pt x="1979" y="8431"/>
                  </a:lnTo>
                  <a:lnTo>
                    <a:pt x="2094" y="8546"/>
                  </a:lnTo>
                  <a:lnTo>
                    <a:pt x="2212" y="8663"/>
                  </a:lnTo>
                  <a:lnTo>
                    <a:pt x="2331" y="8778"/>
                  </a:lnTo>
                  <a:lnTo>
                    <a:pt x="2331" y="8778"/>
                  </a:lnTo>
                  <a:lnTo>
                    <a:pt x="2226" y="8689"/>
                  </a:lnTo>
                  <a:lnTo>
                    <a:pt x="2125" y="8596"/>
                  </a:lnTo>
                  <a:lnTo>
                    <a:pt x="2028" y="8501"/>
                  </a:lnTo>
                  <a:lnTo>
                    <a:pt x="1931" y="8404"/>
                  </a:lnTo>
                  <a:lnTo>
                    <a:pt x="1931" y="8404"/>
                  </a:lnTo>
                  <a:lnTo>
                    <a:pt x="1882" y="8358"/>
                  </a:lnTo>
                  <a:lnTo>
                    <a:pt x="1834" y="8311"/>
                  </a:lnTo>
                  <a:lnTo>
                    <a:pt x="1785" y="8263"/>
                  </a:lnTo>
                  <a:lnTo>
                    <a:pt x="1739" y="8214"/>
                  </a:lnTo>
                  <a:lnTo>
                    <a:pt x="1692" y="8164"/>
                  </a:lnTo>
                  <a:lnTo>
                    <a:pt x="1646" y="8113"/>
                  </a:lnTo>
                  <a:lnTo>
                    <a:pt x="1601" y="8061"/>
                  </a:lnTo>
                  <a:lnTo>
                    <a:pt x="1557" y="8008"/>
                  </a:lnTo>
                  <a:lnTo>
                    <a:pt x="1512" y="7954"/>
                  </a:lnTo>
                  <a:lnTo>
                    <a:pt x="1470" y="7899"/>
                  </a:lnTo>
                  <a:lnTo>
                    <a:pt x="1427" y="7843"/>
                  </a:lnTo>
                  <a:lnTo>
                    <a:pt x="1387" y="7786"/>
                  </a:lnTo>
                  <a:lnTo>
                    <a:pt x="1347" y="7727"/>
                  </a:lnTo>
                  <a:lnTo>
                    <a:pt x="1306" y="7669"/>
                  </a:lnTo>
                  <a:lnTo>
                    <a:pt x="1268" y="7608"/>
                  </a:lnTo>
                  <a:lnTo>
                    <a:pt x="1229" y="7547"/>
                  </a:lnTo>
                  <a:lnTo>
                    <a:pt x="1193" y="7487"/>
                  </a:lnTo>
                  <a:lnTo>
                    <a:pt x="1159" y="7424"/>
                  </a:lnTo>
                  <a:lnTo>
                    <a:pt x="1122" y="7361"/>
                  </a:lnTo>
                  <a:lnTo>
                    <a:pt x="1090" y="7299"/>
                  </a:lnTo>
                  <a:lnTo>
                    <a:pt x="1056" y="7234"/>
                  </a:lnTo>
                  <a:lnTo>
                    <a:pt x="1025" y="7167"/>
                  </a:lnTo>
                  <a:lnTo>
                    <a:pt x="993" y="7103"/>
                  </a:lnTo>
                  <a:lnTo>
                    <a:pt x="965" y="7036"/>
                  </a:lnTo>
                  <a:lnTo>
                    <a:pt x="934" y="6969"/>
                  </a:lnTo>
                  <a:lnTo>
                    <a:pt x="908" y="6901"/>
                  </a:lnTo>
                  <a:lnTo>
                    <a:pt x="882" y="6832"/>
                  </a:lnTo>
                  <a:lnTo>
                    <a:pt x="855" y="6763"/>
                  </a:lnTo>
                  <a:lnTo>
                    <a:pt x="831" y="6694"/>
                  </a:lnTo>
                  <a:lnTo>
                    <a:pt x="809" y="6624"/>
                  </a:lnTo>
                  <a:lnTo>
                    <a:pt x="787" y="6553"/>
                  </a:lnTo>
                  <a:lnTo>
                    <a:pt x="766" y="6482"/>
                  </a:lnTo>
                  <a:lnTo>
                    <a:pt x="766" y="6482"/>
                  </a:lnTo>
                  <a:lnTo>
                    <a:pt x="746" y="6412"/>
                  </a:lnTo>
                  <a:lnTo>
                    <a:pt x="728" y="6339"/>
                  </a:lnTo>
                  <a:lnTo>
                    <a:pt x="710" y="6266"/>
                  </a:lnTo>
                  <a:lnTo>
                    <a:pt x="694" y="6193"/>
                  </a:lnTo>
                  <a:lnTo>
                    <a:pt x="680" y="6120"/>
                  </a:lnTo>
                  <a:lnTo>
                    <a:pt x="665" y="6048"/>
                  </a:lnTo>
                  <a:lnTo>
                    <a:pt x="653" y="5975"/>
                  </a:lnTo>
                  <a:lnTo>
                    <a:pt x="641" y="5900"/>
                  </a:lnTo>
                  <a:lnTo>
                    <a:pt x="631" y="5827"/>
                  </a:lnTo>
                  <a:lnTo>
                    <a:pt x="623" y="5753"/>
                  </a:lnTo>
                  <a:lnTo>
                    <a:pt x="609" y="5605"/>
                  </a:lnTo>
                  <a:lnTo>
                    <a:pt x="599" y="5455"/>
                  </a:lnTo>
                  <a:lnTo>
                    <a:pt x="595" y="5306"/>
                  </a:lnTo>
                  <a:lnTo>
                    <a:pt x="595" y="5156"/>
                  </a:lnTo>
                  <a:lnTo>
                    <a:pt x="599" y="5007"/>
                  </a:lnTo>
                  <a:lnTo>
                    <a:pt x="609" y="4859"/>
                  </a:lnTo>
                  <a:lnTo>
                    <a:pt x="621" y="4710"/>
                  </a:lnTo>
                  <a:lnTo>
                    <a:pt x="639" y="4562"/>
                  </a:lnTo>
                  <a:lnTo>
                    <a:pt x="661" y="4417"/>
                  </a:lnTo>
                  <a:lnTo>
                    <a:pt x="688" y="4271"/>
                  </a:lnTo>
                  <a:lnTo>
                    <a:pt x="720" y="4125"/>
                  </a:lnTo>
                  <a:lnTo>
                    <a:pt x="720" y="4125"/>
                  </a:lnTo>
                  <a:lnTo>
                    <a:pt x="732" y="4067"/>
                  </a:lnTo>
                  <a:lnTo>
                    <a:pt x="748" y="4004"/>
                  </a:lnTo>
                  <a:lnTo>
                    <a:pt x="768" y="3938"/>
                  </a:lnTo>
                  <a:lnTo>
                    <a:pt x="791" y="3869"/>
                  </a:lnTo>
                  <a:lnTo>
                    <a:pt x="815" y="3800"/>
                  </a:lnTo>
                  <a:lnTo>
                    <a:pt x="841" y="3729"/>
                  </a:lnTo>
                  <a:lnTo>
                    <a:pt x="870" y="3657"/>
                  </a:lnTo>
                  <a:lnTo>
                    <a:pt x="900" y="3586"/>
                  </a:lnTo>
                  <a:lnTo>
                    <a:pt x="900" y="3586"/>
                  </a:lnTo>
                  <a:lnTo>
                    <a:pt x="948" y="3456"/>
                  </a:lnTo>
                  <a:lnTo>
                    <a:pt x="948" y="3456"/>
                  </a:lnTo>
                  <a:lnTo>
                    <a:pt x="944" y="3458"/>
                  </a:lnTo>
                  <a:lnTo>
                    <a:pt x="944" y="3458"/>
                  </a:lnTo>
                  <a:lnTo>
                    <a:pt x="938" y="3456"/>
                  </a:lnTo>
                  <a:lnTo>
                    <a:pt x="932" y="3452"/>
                  </a:lnTo>
                  <a:lnTo>
                    <a:pt x="930" y="3446"/>
                  </a:lnTo>
                  <a:lnTo>
                    <a:pt x="928" y="3440"/>
                  </a:lnTo>
                  <a:lnTo>
                    <a:pt x="928" y="3440"/>
                  </a:lnTo>
                  <a:lnTo>
                    <a:pt x="890" y="3533"/>
                  </a:lnTo>
                  <a:lnTo>
                    <a:pt x="853" y="3628"/>
                  </a:lnTo>
                  <a:lnTo>
                    <a:pt x="821" y="3723"/>
                  </a:lnTo>
                  <a:lnTo>
                    <a:pt x="789" y="3820"/>
                  </a:lnTo>
                  <a:lnTo>
                    <a:pt x="789" y="3820"/>
                  </a:lnTo>
                  <a:lnTo>
                    <a:pt x="762" y="3899"/>
                  </a:lnTo>
                  <a:lnTo>
                    <a:pt x="738" y="3980"/>
                  </a:lnTo>
                  <a:lnTo>
                    <a:pt x="714" y="4063"/>
                  </a:lnTo>
                  <a:lnTo>
                    <a:pt x="692" y="4148"/>
                  </a:lnTo>
                  <a:lnTo>
                    <a:pt x="671" y="4233"/>
                  </a:lnTo>
                  <a:lnTo>
                    <a:pt x="651" y="4320"/>
                  </a:lnTo>
                  <a:lnTo>
                    <a:pt x="633" y="4408"/>
                  </a:lnTo>
                  <a:lnTo>
                    <a:pt x="615" y="4495"/>
                  </a:lnTo>
                  <a:lnTo>
                    <a:pt x="585" y="4671"/>
                  </a:lnTo>
                  <a:lnTo>
                    <a:pt x="558" y="4841"/>
                  </a:lnTo>
                  <a:lnTo>
                    <a:pt x="538" y="5007"/>
                  </a:lnTo>
                  <a:lnTo>
                    <a:pt x="524" y="5160"/>
                  </a:lnTo>
                  <a:lnTo>
                    <a:pt x="524" y="5160"/>
                  </a:lnTo>
                  <a:lnTo>
                    <a:pt x="526" y="5080"/>
                  </a:lnTo>
                  <a:lnTo>
                    <a:pt x="530" y="4997"/>
                  </a:lnTo>
                  <a:lnTo>
                    <a:pt x="536" y="4914"/>
                  </a:lnTo>
                  <a:lnTo>
                    <a:pt x="542" y="4829"/>
                  </a:lnTo>
                  <a:lnTo>
                    <a:pt x="550" y="4746"/>
                  </a:lnTo>
                  <a:lnTo>
                    <a:pt x="558" y="4663"/>
                  </a:lnTo>
                  <a:lnTo>
                    <a:pt x="570" y="4578"/>
                  </a:lnTo>
                  <a:lnTo>
                    <a:pt x="581" y="4495"/>
                  </a:lnTo>
                  <a:lnTo>
                    <a:pt x="595" y="4410"/>
                  </a:lnTo>
                  <a:lnTo>
                    <a:pt x="609" y="4328"/>
                  </a:lnTo>
                  <a:lnTo>
                    <a:pt x="625" y="4243"/>
                  </a:lnTo>
                  <a:lnTo>
                    <a:pt x="643" y="4160"/>
                  </a:lnTo>
                  <a:lnTo>
                    <a:pt x="661" y="4075"/>
                  </a:lnTo>
                  <a:lnTo>
                    <a:pt x="682" y="3992"/>
                  </a:lnTo>
                  <a:lnTo>
                    <a:pt x="704" y="3909"/>
                  </a:lnTo>
                  <a:lnTo>
                    <a:pt x="728" y="3826"/>
                  </a:lnTo>
                  <a:lnTo>
                    <a:pt x="728" y="3826"/>
                  </a:lnTo>
                  <a:lnTo>
                    <a:pt x="758" y="3737"/>
                  </a:lnTo>
                  <a:lnTo>
                    <a:pt x="791" y="3646"/>
                  </a:lnTo>
                  <a:lnTo>
                    <a:pt x="825" y="3560"/>
                  </a:lnTo>
                  <a:lnTo>
                    <a:pt x="861" y="3473"/>
                  </a:lnTo>
                  <a:lnTo>
                    <a:pt x="898" y="3388"/>
                  </a:lnTo>
                  <a:lnTo>
                    <a:pt x="938" y="3303"/>
                  </a:lnTo>
                  <a:lnTo>
                    <a:pt x="979" y="3220"/>
                  </a:lnTo>
                  <a:lnTo>
                    <a:pt x="1021" y="3137"/>
                  </a:lnTo>
                  <a:lnTo>
                    <a:pt x="1021" y="3137"/>
                  </a:lnTo>
                  <a:lnTo>
                    <a:pt x="1049" y="3074"/>
                  </a:lnTo>
                  <a:lnTo>
                    <a:pt x="1078" y="3018"/>
                  </a:lnTo>
                  <a:lnTo>
                    <a:pt x="1104" y="2969"/>
                  </a:lnTo>
                  <a:lnTo>
                    <a:pt x="1126" y="2929"/>
                  </a:lnTo>
                  <a:lnTo>
                    <a:pt x="1126" y="2929"/>
                  </a:lnTo>
                  <a:lnTo>
                    <a:pt x="1189" y="2812"/>
                  </a:lnTo>
                  <a:lnTo>
                    <a:pt x="1254" y="2694"/>
                  </a:lnTo>
                  <a:lnTo>
                    <a:pt x="1320" y="2581"/>
                  </a:lnTo>
                  <a:lnTo>
                    <a:pt x="1391" y="2470"/>
                  </a:lnTo>
                  <a:lnTo>
                    <a:pt x="1466" y="2361"/>
                  </a:lnTo>
                  <a:lnTo>
                    <a:pt x="1543" y="2256"/>
                  </a:lnTo>
                  <a:lnTo>
                    <a:pt x="1623" y="2153"/>
                  </a:lnTo>
                  <a:lnTo>
                    <a:pt x="1706" y="2052"/>
                  </a:lnTo>
                  <a:lnTo>
                    <a:pt x="1791" y="1953"/>
                  </a:lnTo>
                  <a:lnTo>
                    <a:pt x="1878" y="1858"/>
                  </a:lnTo>
                  <a:lnTo>
                    <a:pt x="1969" y="1765"/>
                  </a:lnTo>
                  <a:lnTo>
                    <a:pt x="2062" y="1676"/>
                  </a:lnTo>
                  <a:lnTo>
                    <a:pt x="2157" y="1589"/>
                  </a:lnTo>
                  <a:lnTo>
                    <a:pt x="2252" y="1506"/>
                  </a:lnTo>
                  <a:lnTo>
                    <a:pt x="2351" y="1425"/>
                  </a:lnTo>
                  <a:lnTo>
                    <a:pt x="2452" y="1348"/>
                  </a:lnTo>
                  <a:lnTo>
                    <a:pt x="2452" y="1348"/>
                  </a:lnTo>
                  <a:lnTo>
                    <a:pt x="2555" y="1274"/>
                  </a:lnTo>
                  <a:lnTo>
                    <a:pt x="2658" y="1203"/>
                  </a:lnTo>
                  <a:lnTo>
                    <a:pt x="2763" y="1136"/>
                  </a:lnTo>
                  <a:lnTo>
                    <a:pt x="2871" y="1071"/>
                  </a:lnTo>
                  <a:lnTo>
                    <a:pt x="2978" y="1011"/>
                  </a:lnTo>
                  <a:lnTo>
                    <a:pt x="3087" y="954"/>
                  </a:lnTo>
                  <a:lnTo>
                    <a:pt x="3196" y="900"/>
                  </a:lnTo>
                  <a:lnTo>
                    <a:pt x="3307" y="849"/>
                  </a:lnTo>
                  <a:lnTo>
                    <a:pt x="3418" y="803"/>
                  </a:lnTo>
                  <a:lnTo>
                    <a:pt x="3530" y="758"/>
                  </a:lnTo>
                  <a:lnTo>
                    <a:pt x="3641" y="718"/>
                  </a:lnTo>
                  <a:lnTo>
                    <a:pt x="3754" y="679"/>
                  </a:lnTo>
                  <a:lnTo>
                    <a:pt x="3867" y="645"/>
                  </a:lnTo>
                  <a:lnTo>
                    <a:pt x="3980" y="615"/>
                  </a:lnTo>
                  <a:lnTo>
                    <a:pt x="4093" y="586"/>
                  </a:lnTo>
                  <a:lnTo>
                    <a:pt x="4205" y="562"/>
                  </a:lnTo>
                  <a:lnTo>
                    <a:pt x="4205" y="562"/>
                  </a:lnTo>
                  <a:lnTo>
                    <a:pt x="4332" y="534"/>
                  </a:lnTo>
                  <a:lnTo>
                    <a:pt x="4461" y="509"/>
                  </a:lnTo>
                  <a:lnTo>
                    <a:pt x="4589" y="489"/>
                  </a:lnTo>
                  <a:lnTo>
                    <a:pt x="4716" y="473"/>
                  </a:lnTo>
                  <a:lnTo>
                    <a:pt x="4843" y="459"/>
                  </a:lnTo>
                  <a:lnTo>
                    <a:pt x="4971" y="449"/>
                  </a:lnTo>
                  <a:lnTo>
                    <a:pt x="5100" y="445"/>
                  </a:lnTo>
                  <a:lnTo>
                    <a:pt x="5227" y="443"/>
                  </a:lnTo>
                  <a:lnTo>
                    <a:pt x="5227" y="443"/>
                  </a:lnTo>
                  <a:lnTo>
                    <a:pt x="5324" y="443"/>
                  </a:lnTo>
                  <a:lnTo>
                    <a:pt x="5419" y="447"/>
                  </a:lnTo>
                  <a:lnTo>
                    <a:pt x="5516" y="451"/>
                  </a:lnTo>
                  <a:lnTo>
                    <a:pt x="5613" y="459"/>
                  </a:lnTo>
                  <a:lnTo>
                    <a:pt x="5711" y="469"/>
                  </a:lnTo>
                  <a:lnTo>
                    <a:pt x="5808" y="481"/>
                  </a:lnTo>
                  <a:lnTo>
                    <a:pt x="5905" y="495"/>
                  </a:lnTo>
                  <a:lnTo>
                    <a:pt x="6004" y="512"/>
                  </a:lnTo>
                  <a:lnTo>
                    <a:pt x="6004" y="512"/>
                  </a:lnTo>
                  <a:lnTo>
                    <a:pt x="6119" y="534"/>
                  </a:lnTo>
                  <a:lnTo>
                    <a:pt x="6232" y="558"/>
                  </a:lnTo>
                  <a:lnTo>
                    <a:pt x="6343" y="586"/>
                  </a:lnTo>
                  <a:lnTo>
                    <a:pt x="6452" y="617"/>
                  </a:lnTo>
                  <a:lnTo>
                    <a:pt x="6561" y="651"/>
                  </a:lnTo>
                  <a:lnTo>
                    <a:pt x="6667" y="685"/>
                  </a:lnTo>
                  <a:lnTo>
                    <a:pt x="6772" y="724"/>
                  </a:lnTo>
                  <a:lnTo>
                    <a:pt x="6875" y="766"/>
                  </a:lnTo>
                  <a:lnTo>
                    <a:pt x="6976" y="809"/>
                  </a:lnTo>
                  <a:lnTo>
                    <a:pt x="7075" y="855"/>
                  </a:lnTo>
                  <a:lnTo>
                    <a:pt x="7174" y="904"/>
                  </a:lnTo>
                  <a:lnTo>
                    <a:pt x="7269" y="952"/>
                  </a:lnTo>
                  <a:lnTo>
                    <a:pt x="7364" y="1005"/>
                  </a:lnTo>
                  <a:lnTo>
                    <a:pt x="7457" y="1059"/>
                  </a:lnTo>
                  <a:lnTo>
                    <a:pt x="7548" y="1116"/>
                  </a:lnTo>
                  <a:lnTo>
                    <a:pt x="7637" y="1174"/>
                  </a:lnTo>
                  <a:lnTo>
                    <a:pt x="7637" y="1174"/>
                  </a:lnTo>
                  <a:lnTo>
                    <a:pt x="7724" y="1233"/>
                  </a:lnTo>
                  <a:lnTo>
                    <a:pt x="7811" y="1296"/>
                  </a:lnTo>
                  <a:lnTo>
                    <a:pt x="7896" y="1358"/>
                  </a:lnTo>
                  <a:lnTo>
                    <a:pt x="7978" y="1425"/>
                  </a:lnTo>
                  <a:lnTo>
                    <a:pt x="8061" y="1492"/>
                  </a:lnTo>
                  <a:lnTo>
                    <a:pt x="8140" y="1561"/>
                  </a:lnTo>
                  <a:lnTo>
                    <a:pt x="8219" y="1631"/>
                  </a:lnTo>
                  <a:lnTo>
                    <a:pt x="8298" y="1702"/>
                  </a:lnTo>
                  <a:lnTo>
                    <a:pt x="8375" y="1777"/>
                  </a:lnTo>
                  <a:lnTo>
                    <a:pt x="8449" y="1854"/>
                  </a:lnTo>
                  <a:lnTo>
                    <a:pt x="8522" y="1930"/>
                  </a:lnTo>
                  <a:lnTo>
                    <a:pt x="8595" y="2009"/>
                  </a:lnTo>
                  <a:lnTo>
                    <a:pt x="8666" y="2090"/>
                  </a:lnTo>
                  <a:lnTo>
                    <a:pt x="8734" y="2173"/>
                  </a:lnTo>
                  <a:lnTo>
                    <a:pt x="8803" y="2258"/>
                  </a:lnTo>
                  <a:lnTo>
                    <a:pt x="8870" y="2343"/>
                  </a:lnTo>
                  <a:lnTo>
                    <a:pt x="8870" y="2343"/>
                  </a:lnTo>
                  <a:lnTo>
                    <a:pt x="8955" y="2456"/>
                  </a:lnTo>
                  <a:lnTo>
                    <a:pt x="9036" y="2571"/>
                  </a:lnTo>
                  <a:lnTo>
                    <a:pt x="9110" y="2690"/>
                  </a:lnTo>
                  <a:lnTo>
                    <a:pt x="9183" y="2810"/>
                  </a:lnTo>
                  <a:lnTo>
                    <a:pt x="9217" y="2872"/>
                  </a:lnTo>
                  <a:lnTo>
                    <a:pt x="9252" y="2933"/>
                  </a:lnTo>
                  <a:lnTo>
                    <a:pt x="9284" y="2996"/>
                  </a:lnTo>
                  <a:lnTo>
                    <a:pt x="9316" y="3060"/>
                  </a:lnTo>
                  <a:lnTo>
                    <a:pt x="9347" y="3123"/>
                  </a:lnTo>
                  <a:lnTo>
                    <a:pt x="9375" y="3188"/>
                  </a:lnTo>
                  <a:lnTo>
                    <a:pt x="9403" y="3252"/>
                  </a:lnTo>
                  <a:lnTo>
                    <a:pt x="9432" y="3319"/>
                  </a:lnTo>
                  <a:lnTo>
                    <a:pt x="9458" y="3384"/>
                  </a:lnTo>
                  <a:lnTo>
                    <a:pt x="9482" y="3450"/>
                  </a:lnTo>
                  <a:lnTo>
                    <a:pt x="9506" y="3519"/>
                  </a:lnTo>
                  <a:lnTo>
                    <a:pt x="9529" y="3588"/>
                  </a:lnTo>
                  <a:lnTo>
                    <a:pt x="9551" y="3657"/>
                  </a:lnTo>
                  <a:lnTo>
                    <a:pt x="9571" y="3725"/>
                  </a:lnTo>
                  <a:lnTo>
                    <a:pt x="9589" y="3796"/>
                  </a:lnTo>
                  <a:lnTo>
                    <a:pt x="9608" y="3867"/>
                  </a:lnTo>
                  <a:lnTo>
                    <a:pt x="9626" y="3938"/>
                  </a:lnTo>
                  <a:lnTo>
                    <a:pt x="9640" y="4008"/>
                  </a:lnTo>
                  <a:lnTo>
                    <a:pt x="9654" y="4081"/>
                  </a:lnTo>
                  <a:lnTo>
                    <a:pt x="9668" y="4154"/>
                  </a:lnTo>
                  <a:lnTo>
                    <a:pt x="9680" y="4229"/>
                  </a:lnTo>
                  <a:lnTo>
                    <a:pt x="9690" y="4303"/>
                  </a:lnTo>
                  <a:lnTo>
                    <a:pt x="9701" y="4378"/>
                  </a:lnTo>
                  <a:lnTo>
                    <a:pt x="9709" y="4453"/>
                  </a:lnTo>
                  <a:lnTo>
                    <a:pt x="9709" y="4453"/>
                  </a:lnTo>
                  <a:lnTo>
                    <a:pt x="9727" y="4639"/>
                  </a:lnTo>
                  <a:lnTo>
                    <a:pt x="9747" y="4811"/>
                  </a:lnTo>
                  <a:lnTo>
                    <a:pt x="9757" y="4883"/>
                  </a:lnTo>
                  <a:lnTo>
                    <a:pt x="9765" y="4940"/>
                  </a:lnTo>
                  <a:lnTo>
                    <a:pt x="9771" y="4960"/>
                  </a:lnTo>
                  <a:lnTo>
                    <a:pt x="9775" y="4976"/>
                  </a:lnTo>
                  <a:lnTo>
                    <a:pt x="9781" y="4987"/>
                  </a:lnTo>
                  <a:lnTo>
                    <a:pt x="9783" y="4989"/>
                  </a:lnTo>
                  <a:lnTo>
                    <a:pt x="9785" y="4989"/>
                  </a:lnTo>
                  <a:lnTo>
                    <a:pt x="9785" y="4989"/>
                  </a:lnTo>
                  <a:lnTo>
                    <a:pt x="9789" y="4987"/>
                  </a:lnTo>
                  <a:lnTo>
                    <a:pt x="9793" y="4978"/>
                  </a:lnTo>
                  <a:lnTo>
                    <a:pt x="9796" y="4964"/>
                  </a:lnTo>
                  <a:lnTo>
                    <a:pt x="9800" y="4942"/>
                  </a:lnTo>
                  <a:lnTo>
                    <a:pt x="9800" y="4942"/>
                  </a:lnTo>
                  <a:lnTo>
                    <a:pt x="9810" y="4833"/>
                  </a:lnTo>
                  <a:lnTo>
                    <a:pt x="9814" y="4722"/>
                  </a:lnTo>
                  <a:lnTo>
                    <a:pt x="9816" y="4609"/>
                  </a:lnTo>
                  <a:lnTo>
                    <a:pt x="9814" y="4495"/>
                  </a:lnTo>
                  <a:lnTo>
                    <a:pt x="9814" y="4495"/>
                  </a:lnTo>
                  <a:lnTo>
                    <a:pt x="9800" y="4342"/>
                  </a:lnTo>
                  <a:lnTo>
                    <a:pt x="9779" y="4188"/>
                  </a:lnTo>
                  <a:lnTo>
                    <a:pt x="9755" y="4035"/>
                  </a:lnTo>
                  <a:lnTo>
                    <a:pt x="9741" y="3956"/>
                  </a:lnTo>
                  <a:lnTo>
                    <a:pt x="9725" y="3879"/>
                  </a:lnTo>
                  <a:lnTo>
                    <a:pt x="9709" y="3800"/>
                  </a:lnTo>
                  <a:lnTo>
                    <a:pt x="9690" y="3723"/>
                  </a:lnTo>
                  <a:lnTo>
                    <a:pt x="9672" y="3646"/>
                  </a:lnTo>
                  <a:lnTo>
                    <a:pt x="9650" y="3568"/>
                  </a:lnTo>
                  <a:lnTo>
                    <a:pt x="9628" y="3491"/>
                  </a:lnTo>
                  <a:lnTo>
                    <a:pt x="9606" y="3414"/>
                  </a:lnTo>
                  <a:lnTo>
                    <a:pt x="9579" y="3337"/>
                  </a:lnTo>
                  <a:lnTo>
                    <a:pt x="9553" y="3260"/>
                  </a:lnTo>
                  <a:lnTo>
                    <a:pt x="9553" y="3260"/>
                  </a:lnTo>
                  <a:lnTo>
                    <a:pt x="9525" y="3184"/>
                  </a:lnTo>
                  <a:lnTo>
                    <a:pt x="9496" y="3109"/>
                  </a:lnTo>
                  <a:lnTo>
                    <a:pt x="9464" y="3034"/>
                  </a:lnTo>
                  <a:lnTo>
                    <a:pt x="9432" y="2959"/>
                  </a:lnTo>
                  <a:lnTo>
                    <a:pt x="9397" y="2884"/>
                  </a:lnTo>
                  <a:lnTo>
                    <a:pt x="9363" y="2812"/>
                  </a:lnTo>
                  <a:lnTo>
                    <a:pt x="9325" y="2739"/>
                  </a:lnTo>
                  <a:lnTo>
                    <a:pt x="9286" y="2666"/>
                  </a:lnTo>
                  <a:lnTo>
                    <a:pt x="9246" y="2595"/>
                  </a:lnTo>
                  <a:lnTo>
                    <a:pt x="9205" y="2525"/>
                  </a:lnTo>
                  <a:lnTo>
                    <a:pt x="9161" y="2456"/>
                  </a:lnTo>
                  <a:lnTo>
                    <a:pt x="9116" y="2387"/>
                  </a:lnTo>
                  <a:lnTo>
                    <a:pt x="9070" y="2321"/>
                  </a:lnTo>
                  <a:lnTo>
                    <a:pt x="9023" y="2256"/>
                  </a:lnTo>
                  <a:lnTo>
                    <a:pt x="8975" y="2191"/>
                  </a:lnTo>
                  <a:lnTo>
                    <a:pt x="8924" y="2126"/>
                  </a:lnTo>
                  <a:lnTo>
                    <a:pt x="8924" y="2126"/>
                  </a:lnTo>
                  <a:lnTo>
                    <a:pt x="8890" y="2080"/>
                  </a:lnTo>
                  <a:lnTo>
                    <a:pt x="8854" y="2033"/>
                  </a:lnTo>
                  <a:lnTo>
                    <a:pt x="8815" y="1987"/>
                  </a:lnTo>
                  <a:lnTo>
                    <a:pt x="8777" y="1941"/>
                  </a:lnTo>
                  <a:lnTo>
                    <a:pt x="8694" y="1850"/>
                  </a:lnTo>
                  <a:lnTo>
                    <a:pt x="8609" y="1761"/>
                  </a:lnTo>
                  <a:lnTo>
                    <a:pt x="8518" y="1674"/>
                  </a:lnTo>
                  <a:lnTo>
                    <a:pt x="8425" y="1589"/>
                  </a:lnTo>
                  <a:lnTo>
                    <a:pt x="8328" y="1506"/>
                  </a:lnTo>
                  <a:lnTo>
                    <a:pt x="8229" y="1427"/>
                  </a:lnTo>
                  <a:lnTo>
                    <a:pt x="8229" y="1427"/>
                  </a:lnTo>
                  <a:lnTo>
                    <a:pt x="8183" y="1387"/>
                  </a:lnTo>
                  <a:lnTo>
                    <a:pt x="8126" y="1342"/>
                  </a:lnTo>
                  <a:lnTo>
                    <a:pt x="8001" y="1243"/>
                  </a:lnTo>
                  <a:lnTo>
                    <a:pt x="7938" y="1195"/>
                  </a:lnTo>
                  <a:lnTo>
                    <a:pt x="7879" y="1146"/>
                  </a:lnTo>
                  <a:lnTo>
                    <a:pt x="7829" y="1102"/>
                  </a:lnTo>
                  <a:lnTo>
                    <a:pt x="7809" y="1081"/>
                  </a:lnTo>
                  <a:lnTo>
                    <a:pt x="7792" y="1063"/>
                  </a:lnTo>
                  <a:lnTo>
                    <a:pt x="7792" y="1063"/>
                  </a:lnTo>
                  <a:lnTo>
                    <a:pt x="7873" y="1116"/>
                  </a:lnTo>
                  <a:lnTo>
                    <a:pt x="7954" y="1170"/>
                  </a:lnTo>
                  <a:lnTo>
                    <a:pt x="8033" y="1227"/>
                  </a:lnTo>
                  <a:lnTo>
                    <a:pt x="8110" y="1284"/>
                  </a:lnTo>
                  <a:lnTo>
                    <a:pt x="8187" y="1342"/>
                  </a:lnTo>
                  <a:lnTo>
                    <a:pt x="8261" y="1405"/>
                  </a:lnTo>
                  <a:lnTo>
                    <a:pt x="8336" y="1466"/>
                  </a:lnTo>
                  <a:lnTo>
                    <a:pt x="8409" y="1530"/>
                  </a:lnTo>
                  <a:lnTo>
                    <a:pt x="8480" y="1595"/>
                  </a:lnTo>
                  <a:lnTo>
                    <a:pt x="8550" y="1662"/>
                  </a:lnTo>
                  <a:lnTo>
                    <a:pt x="8617" y="1730"/>
                  </a:lnTo>
                  <a:lnTo>
                    <a:pt x="8686" y="1799"/>
                  </a:lnTo>
                  <a:lnTo>
                    <a:pt x="8751" y="1870"/>
                  </a:lnTo>
                  <a:lnTo>
                    <a:pt x="8815" y="1943"/>
                  </a:lnTo>
                  <a:lnTo>
                    <a:pt x="8878" y="2015"/>
                  </a:lnTo>
                  <a:lnTo>
                    <a:pt x="8938" y="2090"/>
                  </a:lnTo>
                  <a:lnTo>
                    <a:pt x="8999" y="2165"/>
                  </a:lnTo>
                  <a:lnTo>
                    <a:pt x="9058" y="2242"/>
                  </a:lnTo>
                  <a:lnTo>
                    <a:pt x="9112" y="2321"/>
                  </a:lnTo>
                  <a:lnTo>
                    <a:pt x="9169" y="2399"/>
                  </a:lnTo>
                  <a:lnTo>
                    <a:pt x="9221" y="2480"/>
                  </a:lnTo>
                  <a:lnTo>
                    <a:pt x="9272" y="2561"/>
                  </a:lnTo>
                  <a:lnTo>
                    <a:pt x="9323" y="2642"/>
                  </a:lnTo>
                  <a:lnTo>
                    <a:pt x="9371" y="2727"/>
                  </a:lnTo>
                  <a:lnTo>
                    <a:pt x="9418" y="2810"/>
                  </a:lnTo>
                  <a:lnTo>
                    <a:pt x="9462" y="2895"/>
                  </a:lnTo>
                  <a:lnTo>
                    <a:pt x="9504" y="2981"/>
                  </a:lnTo>
                  <a:lnTo>
                    <a:pt x="9545" y="3068"/>
                  </a:lnTo>
                  <a:lnTo>
                    <a:pt x="9583" y="3155"/>
                  </a:lnTo>
                  <a:lnTo>
                    <a:pt x="9622" y="3244"/>
                  </a:lnTo>
                  <a:lnTo>
                    <a:pt x="9656" y="3333"/>
                  </a:lnTo>
                  <a:lnTo>
                    <a:pt x="9690" y="3424"/>
                  </a:lnTo>
                  <a:lnTo>
                    <a:pt x="9690" y="3424"/>
                  </a:lnTo>
                  <a:lnTo>
                    <a:pt x="9684" y="3382"/>
                  </a:lnTo>
                  <a:lnTo>
                    <a:pt x="9678" y="3339"/>
                  </a:lnTo>
                  <a:lnTo>
                    <a:pt x="9672" y="3317"/>
                  </a:lnTo>
                  <a:lnTo>
                    <a:pt x="9666" y="3295"/>
                  </a:lnTo>
                  <a:lnTo>
                    <a:pt x="9656" y="3268"/>
                  </a:lnTo>
                  <a:lnTo>
                    <a:pt x="9644" y="3244"/>
                  </a:lnTo>
                  <a:lnTo>
                    <a:pt x="9644" y="3244"/>
                  </a:lnTo>
                  <a:lnTo>
                    <a:pt x="9686" y="3268"/>
                  </a:lnTo>
                  <a:lnTo>
                    <a:pt x="9686" y="3268"/>
                  </a:lnTo>
                  <a:lnTo>
                    <a:pt x="9666" y="3208"/>
                  </a:lnTo>
                  <a:lnTo>
                    <a:pt x="9642" y="3143"/>
                  </a:lnTo>
                  <a:lnTo>
                    <a:pt x="9614" y="3072"/>
                  </a:lnTo>
                  <a:lnTo>
                    <a:pt x="9614" y="3072"/>
                  </a:lnTo>
                  <a:lnTo>
                    <a:pt x="9630" y="3093"/>
                  </a:lnTo>
                  <a:lnTo>
                    <a:pt x="9644" y="3121"/>
                  </a:lnTo>
                  <a:lnTo>
                    <a:pt x="9662" y="3153"/>
                  </a:lnTo>
                  <a:lnTo>
                    <a:pt x="9678" y="3190"/>
                  </a:lnTo>
                  <a:lnTo>
                    <a:pt x="9711" y="3268"/>
                  </a:lnTo>
                  <a:lnTo>
                    <a:pt x="9743" y="3351"/>
                  </a:lnTo>
                  <a:lnTo>
                    <a:pt x="9796" y="3493"/>
                  </a:lnTo>
                  <a:lnTo>
                    <a:pt x="9812" y="3537"/>
                  </a:lnTo>
                  <a:lnTo>
                    <a:pt x="9818" y="3549"/>
                  </a:lnTo>
                  <a:lnTo>
                    <a:pt x="9820" y="3553"/>
                  </a:lnTo>
                  <a:lnTo>
                    <a:pt x="9820" y="3553"/>
                  </a:lnTo>
                  <a:lnTo>
                    <a:pt x="9822" y="3551"/>
                  </a:lnTo>
                  <a:lnTo>
                    <a:pt x="9820" y="3543"/>
                  </a:lnTo>
                  <a:lnTo>
                    <a:pt x="9814" y="3513"/>
                  </a:lnTo>
                  <a:lnTo>
                    <a:pt x="9814" y="3513"/>
                  </a:lnTo>
                  <a:lnTo>
                    <a:pt x="9793" y="3426"/>
                  </a:lnTo>
                  <a:lnTo>
                    <a:pt x="9769" y="3341"/>
                  </a:lnTo>
                  <a:lnTo>
                    <a:pt x="9743" y="3258"/>
                  </a:lnTo>
                  <a:lnTo>
                    <a:pt x="9715" y="3173"/>
                  </a:lnTo>
                  <a:lnTo>
                    <a:pt x="9682" y="3091"/>
                  </a:lnTo>
                  <a:lnTo>
                    <a:pt x="9650" y="3008"/>
                  </a:lnTo>
                  <a:lnTo>
                    <a:pt x="9616" y="2927"/>
                  </a:lnTo>
                  <a:lnTo>
                    <a:pt x="9579" y="2844"/>
                  </a:lnTo>
                  <a:lnTo>
                    <a:pt x="9539" y="2765"/>
                  </a:lnTo>
                  <a:lnTo>
                    <a:pt x="9498" y="2684"/>
                  </a:lnTo>
                  <a:lnTo>
                    <a:pt x="9456" y="2606"/>
                  </a:lnTo>
                  <a:lnTo>
                    <a:pt x="9411" y="2527"/>
                  </a:lnTo>
                  <a:lnTo>
                    <a:pt x="9365" y="2450"/>
                  </a:lnTo>
                  <a:lnTo>
                    <a:pt x="9316" y="2373"/>
                  </a:lnTo>
                  <a:lnTo>
                    <a:pt x="9266" y="2298"/>
                  </a:lnTo>
                  <a:lnTo>
                    <a:pt x="9213" y="2223"/>
                  </a:lnTo>
                  <a:lnTo>
                    <a:pt x="9213" y="2223"/>
                  </a:lnTo>
                  <a:lnTo>
                    <a:pt x="9149" y="2118"/>
                  </a:lnTo>
                  <a:lnTo>
                    <a:pt x="9082" y="2015"/>
                  </a:lnTo>
                  <a:lnTo>
                    <a:pt x="9082" y="2015"/>
                  </a:lnTo>
                  <a:lnTo>
                    <a:pt x="9108" y="2066"/>
                  </a:lnTo>
                  <a:lnTo>
                    <a:pt x="9135" y="2116"/>
                  </a:lnTo>
                  <a:lnTo>
                    <a:pt x="9135" y="2116"/>
                  </a:lnTo>
                  <a:lnTo>
                    <a:pt x="9094" y="2066"/>
                  </a:lnTo>
                  <a:lnTo>
                    <a:pt x="9054" y="2013"/>
                  </a:lnTo>
                  <a:lnTo>
                    <a:pt x="8969" y="1912"/>
                  </a:lnTo>
                  <a:lnTo>
                    <a:pt x="8969" y="1912"/>
                  </a:lnTo>
                  <a:lnTo>
                    <a:pt x="8886" y="1807"/>
                  </a:lnTo>
                  <a:lnTo>
                    <a:pt x="8799" y="1702"/>
                  </a:lnTo>
                  <a:lnTo>
                    <a:pt x="8799" y="1702"/>
                  </a:lnTo>
                  <a:lnTo>
                    <a:pt x="8811" y="1718"/>
                  </a:lnTo>
                  <a:lnTo>
                    <a:pt x="8811" y="1718"/>
                  </a:lnTo>
                  <a:lnTo>
                    <a:pt x="8748" y="1643"/>
                  </a:lnTo>
                  <a:lnTo>
                    <a:pt x="8748" y="1643"/>
                  </a:lnTo>
                  <a:lnTo>
                    <a:pt x="8698" y="1585"/>
                  </a:lnTo>
                  <a:lnTo>
                    <a:pt x="8645" y="1528"/>
                  </a:lnTo>
                  <a:lnTo>
                    <a:pt x="8591" y="1472"/>
                  </a:lnTo>
                  <a:lnTo>
                    <a:pt x="8536" y="1415"/>
                  </a:lnTo>
                  <a:lnTo>
                    <a:pt x="8480" y="1360"/>
                  </a:lnTo>
                  <a:lnTo>
                    <a:pt x="8423" y="1306"/>
                  </a:lnTo>
                  <a:lnTo>
                    <a:pt x="8364" y="1253"/>
                  </a:lnTo>
                  <a:lnTo>
                    <a:pt x="8306" y="1201"/>
                  </a:lnTo>
                  <a:lnTo>
                    <a:pt x="8247" y="1150"/>
                  </a:lnTo>
                  <a:lnTo>
                    <a:pt x="8187" y="1100"/>
                  </a:lnTo>
                  <a:lnTo>
                    <a:pt x="8124" y="1049"/>
                  </a:lnTo>
                  <a:lnTo>
                    <a:pt x="8061" y="1001"/>
                  </a:lnTo>
                  <a:lnTo>
                    <a:pt x="7999" y="954"/>
                  </a:lnTo>
                  <a:lnTo>
                    <a:pt x="7934" y="908"/>
                  </a:lnTo>
                  <a:lnTo>
                    <a:pt x="7869" y="861"/>
                  </a:lnTo>
                  <a:lnTo>
                    <a:pt x="7805" y="817"/>
                  </a:lnTo>
                  <a:lnTo>
                    <a:pt x="7738" y="772"/>
                  </a:lnTo>
                  <a:lnTo>
                    <a:pt x="7671" y="730"/>
                  </a:lnTo>
                  <a:lnTo>
                    <a:pt x="7602" y="689"/>
                  </a:lnTo>
                  <a:lnTo>
                    <a:pt x="7534" y="649"/>
                  </a:lnTo>
                  <a:lnTo>
                    <a:pt x="7465" y="609"/>
                  </a:lnTo>
                  <a:lnTo>
                    <a:pt x="7394" y="572"/>
                  </a:lnTo>
                  <a:lnTo>
                    <a:pt x="7323" y="534"/>
                  </a:lnTo>
                  <a:lnTo>
                    <a:pt x="7253" y="499"/>
                  </a:lnTo>
                  <a:lnTo>
                    <a:pt x="7180" y="463"/>
                  </a:lnTo>
                  <a:lnTo>
                    <a:pt x="7107" y="431"/>
                  </a:lnTo>
                  <a:lnTo>
                    <a:pt x="7034" y="398"/>
                  </a:lnTo>
                  <a:lnTo>
                    <a:pt x="6960" y="366"/>
                  </a:lnTo>
                  <a:lnTo>
                    <a:pt x="6885" y="338"/>
                  </a:lnTo>
                  <a:lnTo>
                    <a:pt x="6810" y="307"/>
                  </a:lnTo>
                  <a:lnTo>
                    <a:pt x="6735" y="281"/>
                  </a:lnTo>
                  <a:lnTo>
                    <a:pt x="6658" y="255"/>
                  </a:lnTo>
                  <a:lnTo>
                    <a:pt x="6658" y="255"/>
                  </a:lnTo>
                  <a:lnTo>
                    <a:pt x="6563" y="224"/>
                  </a:lnTo>
                  <a:lnTo>
                    <a:pt x="6468" y="194"/>
                  </a:lnTo>
                  <a:lnTo>
                    <a:pt x="6373" y="168"/>
                  </a:lnTo>
                  <a:lnTo>
                    <a:pt x="6276" y="144"/>
                  </a:lnTo>
                  <a:lnTo>
                    <a:pt x="6179" y="121"/>
                  </a:lnTo>
                  <a:lnTo>
                    <a:pt x="6082" y="99"/>
                  </a:lnTo>
                  <a:lnTo>
                    <a:pt x="5985" y="81"/>
                  </a:lnTo>
                  <a:lnTo>
                    <a:pt x="5886" y="63"/>
                  </a:lnTo>
                  <a:lnTo>
                    <a:pt x="5787" y="49"/>
                  </a:lnTo>
                  <a:lnTo>
                    <a:pt x="5688" y="37"/>
                  </a:lnTo>
                  <a:lnTo>
                    <a:pt x="5587" y="24"/>
                  </a:lnTo>
                  <a:lnTo>
                    <a:pt x="5488" y="16"/>
                  </a:lnTo>
                  <a:lnTo>
                    <a:pt x="5387" y="8"/>
                  </a:lnTo>
                  <a:lnTo>
                    <a:pt x="5288" y="4"/>
                  </a:lnTo>
                  <a:lnTo>
                    <a:pt x="5187" y="0"/>
                  </a:lnTo>
                  <a:lnTo>
                    <a:pt x="508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-2568600" y="12985920"/>
              <a:ext cx="14041440" cy="7958160"/>
            </a:xfrm>
            <a:custGeom>
              <a:avLst/>
              <a:gdLst>
                <a:gd name="textAreaLeft" fmla="*/ 0 w 14041440"/>
                <a:gd name="textAreaRight" fmla="*/ 14041800 w 14041440"/>
                <a:gd name="textAreaTop" fmla="*/ 0 h 7958160"/>
                <a:gd name="textAreaBottom" fmla="*/ 7958160 h 7958160"/>
              </a:gdLst>
              <a:ahLst/>
              <a:rect l="textAreaLeft" t="textAreaTop" r="textAreaRight" b="textAreaBottom"/>
              <a:pathLst>
                <a:path w="8845" h="5013">
                  <a:moveTo>
                    <a:pt x="5069" y="0"/>
                  </a:moveTo>
                  <a:lnTo>
                    <a:pt x="5069" y="0"/>
                  </a:lnTo>
                  <a:lnTo>
                    <a:pt x="4946" y="2"/>
                  </a:lnTo>
                  <a:lnTo>
                    <a:pt x="4821" y="6"/>
                  </a:lnTo>
                  <a:lnTo>
                    <a:pt x="4695" y="14"/>
                  </a:lnTo>
                  <a:lnTo>
                    <a:pt x="4572" y="26"/>
                  </a:lnTo>
                  <a:lnTo>
                    <a:pt x="4447" y="40"/>
                  </a:lnTo>
                  <a:lnTo>
                    <a:pt x="4322" y="57"/>
                  </a:lnTo>
                  <a:lnTo>
                    <a:pt x="4196" y="77"/>
                  </a:lnTo>
                  <a:lnTo>
                    <a:pt x="4073" y="101"/>
                  </a:lnTo>
                  <a:lnTo>
                    <a:pt x="4073" y="101"/>
                  </a:lnTo>
                  <a:lnTo>
                    <a:pt x="3952" y="127"/>
                  </a:lnTo>
                  <a:lnTo>
                    <a:pt x="3830" y="158"/>
                  </a:lnTo>
                  <a:lnTo>
                    <a:pt x="3711" y="190"/>
                  </a:lnTo>
                  <a:lnTo>
                    <a:pt x="3590" y="224"/>
                  </a:lnTo>
                  <a:lnTo>
                    <a:pt x="3473" y="265"/>
                  </a:lnTo>
                  <a:lnTo>
                    <a:pt x="3353" y="305"/>
                  </a:lnTo>
                  <a:lnTo>
                    <a:pt x="3236" y="350"/>
                  </a:lnTo>
                  <a:lnTo>
                    <a:pt x="3119" y="398"/>
                  </a:lnTo>
                  <a:lnTo>
                    <a:pt x="3004" y="449"/>
                  </a:lnTo>
                  <a:lnTo>
                    <a:pt x="2890" y="503"/>
                  </a:lnTo>
                  <a:lnTo>
                    <a:pt x="2777" y="560"/>
                  </a:lnTo>
                  <a:lnTo>
                    <a:pt x="2666" y="618"/>
                  </a:lnTo>
                  <a:lnTo>
                    <a:pt x="2555" y="681"/>
                  </a:lnTo>
                  <a:lnTo>
                    <a:pt x="2446" y="748"/>
                  </a:lnTo>
                  <a:lnTo>
                    <a:pt x="2339" y="814"/>
                  </a:lnTo>
                  <a:lnTo>
                    <a:pt x="2232" y="885"/>
                  </a:lnTo>
                  <a:lnTo>
                    <a:pt x="2232" y="885"/>
                  </a:lnTo>
                  <a:lnTo>
                    <a:pt x="2126" y="960"/>
                  </a:lnTo>
                  <a:lnTo>
                    <a:pt x="2023" y="1035"/>
                  </a:lnTo>
                  <a:lnTo>
                    <a:pt x="1922" y="1114"/>
                  </a:lnTo>
                  <a:lnTo>
                    <a:pt x="1823" y="1196"/>
                  </a:lnTo>
                  <a:lnTo>
                    <a:pt x="1726" y="1281"/>
                  </a:lnTo>
                  <a:lnTo>
                    <a:pt x="1631" y="1368"/>
                  </a:lnTo>
                  <a:lnTo>
                    <a:pt x="1538" y="1457"/>
                  </a:lnTo>
                  <a:lnTo>
                    <a:pt x="1447" y="1550"/>
                  </a:lnTo>
                  <a:lnTo>
                    <a:pt x="1358" y="1643"/>
                  </a:lnTo>
                  <a:lnTo>
                    <a:pt x="1273" y="1740"/>
                  </a:lnTo>
                  <a:lnTo>
                    <a:pt x="1189" y="1839"/>
                  </a:lnTo>
                  <a:lnTo>
                    <a:pt x="1108" y="1940"/>
                  </a:lnTo>
                  <a:lnTo>
                    <a:pt x="1027" y="2045"/>
                  </a:lnTo>
                  <a:lnTo>
                    <a:pt x="950" y="2151"/>
                  </a:lnTo>
                  <a:lnTo>
                    <a:pt x="877" y="2258"/>
                  </a:lnTo>
                  <a:lnTo>
                    <a:pt x="805" y="2367"/>
                  </a:lnTo>
                  <a:lnTo>
                    <a:pt x="736" y="2478"/>
                  </a:lnTo>
                  <a:lnTo>
                    <a:pt x="669" y="2591"/>
                  </a:lnTo>
                  <a:lnTo>
                    <a:pt x="606" y="2706"/>
                  </a:lnTo>
                  <a:lnTo>
                    <a:pt x="546" y="2824"/>
                  </a:lnTo>
                  <a:lnTo>
                    <a:pt x="487" y="2943"/>
                  </a:lnTo>
                  <a:lnTo>
                    <a:pt x="433" y="3062"/>
                  </a:lnTo>
                  <a:lnTo>
                    <a:pt x="382" y="3183"/>
                  </a:lnTo>
                  <a:lnTo>
                    <a:pt x="332" y="3307"/>
                  </a:lnTo>
                  <a:lnTo>
                    <a:pt x="287" y="3430"/>
                  </a:lnTo>
                  <a:lnTo>
                    <a:pt x="245" y="3555"/>
                  </a:lnTo>
                  <a:lnTo>
                    <a:pt x="204" y="3683"/>
                  </a:lnTo>
                  <a:lnTo>
                    <a:pt x="170" y="3810"/>
                  </a:lnTo>
                  <a:lnTo>
                    <a:pt x="137" y="3939"/>
                  </a:lnTo>
                  <a:lnTo>
                    <a:pt x="107" y="4069"/>
                  </a:lnTo>
                  <a:lnTo>
                    <a:pt x="81" y="4200"/>
                  </a:lnTo>
                  <a:lnTo>
                    <a:pt x="59" y="4333"/>
                  </a:lnTo>
                  <a:lnTo>
                    <a:pt x="59" y="4333"/>
                  </a:lnTo>
                  <a:lnTo>
                    <a:pt x="49" y="4392"/>
                  </a:lnTo>
                  <a:lnTo>
                    <a:pt x="36" y="4465"/>
                  </a:lnTo>
                  <a:lnTo>
                    <a:pt x="26" y="4546"/>
                  </a:lnTo>
                  <a:lnTo>
                    <a:pt x="16" y="4637"/>
                  </a:lnTo>
                  <a:lnTo>
                    <a:pt x="8" y="4732"/>
                  </a:lnTo>
                  <a:lnTo>
                    <a:pt x="4" y="4827"/>
                  </a:lnTo>
                  <a:lnTo>
                    <a:pt x="0" y="4922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6" y="4930"/>
                  </a:lnTo>
                  <a:lnTo>
                    <a:pt x="12" y="4845"/>
                  </a:lnTo>
                  <a:lnTo>
                    <a:pt x="20" y="4762"/>
                  </a:lnTo>
                  <a:lnTo>
                    <a:pt x="28" y="4679"/>
                  </a:lnTo>
                  <a:lnTo>
                    <a:pt x="38" y="4594"/>
                  </a:lnTo>
                  <a:lnTo>
                    <a:pt x="49" y="4511"/>
                  </a:lnTo>
                  <a:lnTo>
                    <a:pt x="61" y="4430"/>
                  </a:lnTo>
                  <a:lnTo>
                    <a:pt x="75" y="4348"/>
                  </a:lnTo>
                  <a:lnTo>
                    <a:pt x="89" y="4265"/>
                  </a:lnTo>
                  <a:lnTo>
                    <a:pt x="105" y="4184"/>
                  </a:lnTo>
                  <a:lnTo>
                    <a:pt x="123" y="4103"/>
                  </a:lnTo>
                  <a:lnTo>
                    <a:pt x="142" y="4022"/>
                  </a:lnTo>
                  <a:lnTo>
                    <a:pt x="162" y="3941"/>
                  </a:lnTo>
                  <a:lnTo>
                    <a:pt x="182" y="3860"/>
                  </a:lnTo>
                  <a:lnTo>
                    <a:pt x="204" y="3782"/>
                  </a:lnTo>
                  <a:lnTo>
                    <a:pt x="228" y="3703"/>
                  </a:lnTo>
                  <a:lnTo>
                    <a:pt x="253" y="3624"/>
                  </a:lnTo>
                  <a:lnTo>
                    <a:pt x="279" y="3545"/>
                  </a:lnTo>
                  <a:lnTo>
                    <a:pt x="307" y="3468"/>
                  </a:lnTo>
                  <a:lnTo>
                    <a:pt x="336" y="3392"/>
                  </a:lnTo>
                  <a:lnTo>
                    <a:pt x="364" y="3315"/>
                  </a:lnTo>
                  <a:lnTo>
                    <a:pt x="396" y="3238"/>
                  </a:lnTo>
                  <a:lnTo>
                    <a:pt x="427" y="3163"/>
                  </a:lnTo>
                  <a:lnTo>
                    <a:pt x="461" y="3088"/>
                  </a:lnTo>
                  <a:lnTo>
                    <a:pt x="493" y="3014"/>
                  </a:lnTo>
                  <a:lnTo>
                    <a:pt x="530" y="2939"/>
                  </a:lnTo>
                  <a:lnTo>
                    <a:pt x="566" y="2866"/>
                  </a:lnTo>
                  <a:lnTo>
                    <a:pt x="602" y="2793"/>
                  </a:lnTo>
                  <a:lnTo>
                    <a:pt x="643" y="2723"/>
                  </a:lnTo>
                  <a:lnTo>
                    <a:pt x="681" y="2652"/>
                  </a:lnTo>
                  <a:lnTo>
                    <a:pt x="722" y="2581"/>
                  </a:lnTo>
                  <a:lnTo>
                    <a:pt x="764" y="2512"/>
                  </a:lnTo>
                  <a:lnTo>
                    <a:pt x="764" y="2512"/>
                  </a:lnTo>
                  <a:lnTo>
                    <a:pt x="807" y="2444"/>
                  </a:lnTo>
                  <a:lnTo>
                    <a:pt x="851" y="2375"/>
                  </a:lnTo>
                  <a:lnTo>
                    <a:pt x="895" y="2308"/>
                  </a:lnTo>
                  <a:lnTo>
                    <a:pt x="942" y="2241"/>
                  </a:lnTo>
                  <a:lnTo>
                    <a:pt x="988" y="2175"/>
                  </a:lnTo>
                  <a:lnTo>
                    <a:pt x="1035" y="2110"/>
                  </a:lnTo>
                  <a:lnTo>
                    <a:pt x="1083" y="2045"/>
                  </a:lnTo>
                  <a:lnTo>
                    <a:pt x="1134" y="1983"/>
                  </a:lnTo>
                  <a:lnTo>
                    <a:pt x="1185" y="1920"/>
                  </a:lnTo>
                  <a:lnTo>
                    <a:pt x="1235" y="1857"/>
                  </a:lnTo>
                  <a:lnTo>
                    <a:pt x="1288" y="1797"/>
                  </a:lnTo>
                  <a:lnTo>
                    <a:pt x="1342" y="1738"/>
                  </a:lnTo>
                  <a:lnTo>
                    <a:pt x="1395" y="1680"/>
                  </a:lnTo>
                  <a:lnTo>
                    <a:pt x="1449" y="1621"/>
                  </a:lnTo>
                  <a:lnTo>
                    <a:pt x="1506" y="1562"/>
                  </a:lnTo>
                  <a:lnTo>
                    <a:pt x="1562" y="1508"/>
                  </a:lnTo>
                  <a:lnTo>
                    <a:pt x="1619" y="1451"/>
                  </a:lnTo>
                  <a:lnTo>
                    <a:pt x="1678" y="1397"/>
                  </a:lnTo>
                  <a:lnTo>
                    <a:pt x="1736" y="1344"/>
                  </a:lnTo>
                  <a:lnTo>
                    <a:pt x="1797" y="1291"/>
                  </a:lnTo>
                  <a:lnTo>
                    <a:pt x="1858" y="1239"/>
                  </a:lnTo>
                  <a:lnTo>
                    <a:pt x="1918" y="1188"/>
                  </a:lnTo>
                  <a:lnTo>
                    <a:pt x="1981" y="1140"/>
                  </a:lnTo>
                  <a:lnTo>
                    <a:pt x="2044" y="1091"/>
                  </a:lnTo>
                  <a:lnTo>
                    <a:pt x="2106" y="1043"/>
                  </a:lnTo>
                  <a:lnTo>
                    <a:pt x="2169" y="996"/>
                  </a:lnTo>
                  <a:lnTo>
                    <a:pt x="2234" y="950"/>
                  </a:lnTo>
                  <a:lnTo>
                    <a:pt x="2300" y="905"/>
                  </a:lnTo>
                  <a:lnTo>
                    <a:pt x="2365" y="863"/>
                  </a:lnTo>
                  <a:lnTo>
                    <a:pt x="2432" y="821"/>
                  </a:lnTo>
                  <a:lnTo>
                    <a:pt x="2498" y="778"/>
                  </a:lnTo>
                  <a:lnTo>
                    <a:pt x="2567" y="740"/>
                  </a:lnTo>
                  <a:lnTo>
                    <a:pt x="2567" y="740"/>
                  </a:lnTo>
                  <a:lnTo>
                    <a:pt x="2640" y="697"/>
                  </a:lnTo>
                  <a:lnTo>
                    <a:pt x="2713" y="655"/>
                  </a:lnTo>
                  <a:lnTo>
                    <a:pt x="2787" y="616"/>
                  </a:lnTo>
                  <a:lnTo>
                    <a:pt x="2862" y="578"/>
                  </a:lnTo>
                  <a:lnTo>
                    <a:pt x="2937" y="540"/>
                  </a:lnTo>
                  <a:lnTo>
                    <a:pt x="3014" y="505"/>
                  </a:lnTo>
                  <a:lnTo>
                    <a:pt x="3091" y="471"/>
                  </a:lnTo>
                  <a:lnTo>
                    <a:pt x="3167" y="437"/>
                  </a:lnTo>
                  <a:lnTo>
                    <a:pt x="3244" y="406"/>
                  </a:lnTo>
                  <a:lnTo>
                    <a:pt x="3321" y="376"/>
                  </a:lnTo>
                  <a:lnTo>
                    <a:pt x="3400" y="348"/>
                  </a:lnTo>
                  <a:lnTo>
                    <a:pt x="3479" y="319"/>
                  </a:lnTo>
                  <a:lnTo>
                    <a:pt x="3557" y="293"/>
                  </a:lnTo>
                  <a:lnTo>
                    <a:pt x="3636" y="269"/>
                  </a:lnTo>
                  <a:lnTo>
                    <a:pt x="3717" y="244"/>
                  </a:lnTo>
                  <a:lnTo>
                    <a:pt x="3796" y="222"/>
                  </a:lnTo>
                  <a:lnTo>
                    <a:pt x="3877" y="202"/>
                  </a:lnTo>
                  <a:lnTo>
                    <a:pt x="3958" y="182"/>
                  </a:lnTo>
                  <a:lnTo>
                    <a:pt x="4039" y="164"/>
                  </a:lnTo>
                  <a:lnTo>
                    <a:pt x="4119" y="147"/>
                  </a:lnTo>
                  <a:lnTo>
                    <a:pt x="4200" y="133"/>
                  </a:lnTo>
                  <a:lnTo>
                    <a:pt x="4281" y="119"/>
                  </a:lnTo>
                  <a:lnTo>
                    <a:pt x="4364" y="105"/>
                  </a:lnTo>
                  <a:lnTo>
                    <a:pt x="4445" y="95"/>
                  </a:lnTo>
                  <a:lnTo>
                    <a:pt x="4528" y="85"/>
                  </a:lnTo>
                  <a:lnTo>
                    <a:pt x="4609" y="75"/>
                  </a:lnTo>
                  <a:lnTo>
                    <a:pt x="4691" y="69"/>
                  </a:lnTo>
                  <a:lnTo>
                    <a:pt x="4772" y="63"/>
                  </a:lnTo>
                  <a:lnTo>
                    <a:pt x="4855" y="59"/>
                  </a:lnTo>
                  <a:lnTo>
                    <a:pt x="4938" y="54"/>
                  </a:lnTo>
                  <a:lnTo>
                    <a:pt x="5019" y="52"/>
                  </a:lnTo>
                  <a:lnTo>
                    <a:pt x="5102" y="52"/>
                  </a:lnTo>
                  <a:lnTo>
                    <a:pt x="5102" y="52"/>
                  </a:lnTo>
                  <a:lnTo>
                    <a:pt x="5245" y="54"/>
                  </a:lnTo>
                  <a:lnTo>
                    <a:pt x="5387" y="61"/>
                  </a:lnTo>
                  <a:lnTo>
                    <a:pt x="5530" y="71"/>
                  </a:lnTo>
                  <a:lnTo>
                    <a:pt x="5672" y="85"/>
                  </a:lnTo>
                  <a:lnTo>
                    <a:pt x="5811" y="103"/>
                  </a:lnTo>
                  <a:lnTo>
                    <a:pt x="5953" y="123"/>
                  </a:lnTo>
                  <a:lnTo>
                    <a:pt x="6092" y="149"/>
                  </a:lnTo>
                  <a:lnTo>
                    <a:pt x="6230" y="180"/>
                  </a:lnTo>
                  <a:lnTo>
                    <a:pt x="6367" y="214"/>
                  </a:lnTo>
                  <a:lnTo>
                    <a:pt x="6502" y="253"/>
                  </a:lnTo>
                  <a:lnTo>
                    <a:pt x="6638" y="295"/>
                  </a:lnTo>
                  <a:lnTo>
                    <a:pt x="6771" y="342"/>
                  </a:lnTo>
                  <a:lnTo>
                    <a:pt x="6903" y="392"/>
                  </a:lnTo>
                  <a:lnTo>
                    <a:pt x="7034" y="447"/>
                  </a:lnTo>
                  <a:lnTo>
                    <a:pt x="7161" y="503"/>
                  </a:lnTo>
                  <a:lnTo>
                    <a:pt x="7289" y="566"/>
                  </a:lnTo>
                  <a:lnTo>
                    <a:pt x="7289" y="566"/>
                  </a:lnTo>
                  <a:lnTo>
                    <a:pt x="7396" y="622"/>
                  </a:lnTo>
                  <a:lnTo>
                    <a:pt x="7501" y="683"/>
                  </a:lnTo>
                  <a:lnTo>
                    <a:pt x="7604" y="746"/>
                  </a:lnTo>
                  <a:lnTo>
                    <a:pt x="7707" y="810"/>
                  </a:lnTo>
                  <a:lnTo>
                    <a:pt x="7808" y="877"/>
                  </a:lnTo>
                  <a:lnTo>
                    <a:pt x="7907" y="946"/>
                  </a:lnTo>
                  <a:lnTo>
                    <a:pt x="8004" y="1019"/>
                  </a:lnTo>
                  <a:lnTo>
                    <a:pt x="8099" y="1093"/>
                  </a:lnTo>
                  <a:lnTo>
                    <a:pt x="8192" y="1168"/>
                  </a:lnTo>
                  <a:lnTo>
                    <a:pt x="8283" y="1247"/>
                  </a:lnTo>
                  <a:lnTo>
                    <a:pt x="8374" y="1328"/>
                  </a:lnTo>
                  <a:lnTo>
                    <a:pt x="8459" y="1411"/>
                  </a:lnTo>
                  <a:lnTo>
                    <a:pt x="8544" y="1496"/>
                  </a:lnTo>
                  <a:lnTo>
                    <a:pt x="8627" y="1581"/>
                  </a:lnTo>
                  <a:lnTo>
                    <a:pt x="8706" y="1669"/>
                  </a:lnTo>
                  <a:lnTo>
                    <a:pt x="8782" y="1758"/>
                  </a:lnTo>
                  <a:lnTo>
                    <a:pt x="8782" y="1758"/>
                  </a:lnTo>
                  <a:lnTo>
                    <a:pt x="8845" y="1833"/>
                  </a:lnTo>
                  <a:lnTo>
                    <a:pt x="8845" y="1833"/>
                  </a:lnTo>
                  <a:lnTo>
                    <a:pt x="8833" y="1817"/>
                  </a:lnTo>
                  <a:lnTo>
                    <a:pt x="8833" y="1817"/>
                  </a:lnTo>
                  <a:lnTo>
                    <a:pt x="8782" y="1740"/>
                  </a:lnTo>
                  <a:lnTo>
                    <a:pt x="8732" y="1665"/>
                  </a:lnTo>
                  <a:lnTo>
                    <a:pt x="8679" y="1593"/>
                  </a:lnTo>
                  <a:lnTo>
                    <a:pt x="8623" y="1520"/>
                  </a:lnTo>
                  <a:lnTo>
                    <a:pt x="8564" y="1445"/>
                  </a:lnTo>
                  <a:lnTo>
                    <a:pt x="8500" y="1372"/>
                  </a:lnTo>
                  <a:lnTo>
                    <a:pt x="8431" y="1296"/>
                  </a:lnTo>
                  <a:lnTo>
                    <a:pt x="8356" y="1219"/>
                  </a:lnTo>
                  <a:lnTo>
                    <a:pt x="8356" y="1219"/>
                  </a:lnTo>
                  <a:lnTo>
                    <a:pt x="8299" y="1166"/>
                  </a:lnTo>
                  <a:lnTo>
                    <a:pt x="8241" y="1114"/>
                  </a:lnTo>
                  <a:lnTo>
                    <a:pt x="8180" y="1063"/>
                  </a:lnTo>
                  <a:lnTo>
                    <a:pt x="8120" y="1013"/>
                  </a:lnTo>
                  <a:lnTo>
                    <a:pt x="8057" y="964"/>
                  </a:lnTo>
                  <a:lnTo>
                    <a:pt x="7992" y="916"/>
                  </a:lnTo>
                  <a:lnTo>
                    <a:pt x="7927" y="869"/>
                  </a:lnTo>
                  <a:lnTo>
                    <a:pt x="7859" y="823"/>
                  </a:lnTo>
                  <a:lnTo>
                    <a:pt x="7792" y="778"/>
                  </a:lnTo>
                  <a:lnTo>
                    <a:pt x="7721" y="734"/>
                  </a:lnTo>
                  <a:lnTo>
                    <a:pt x="7651" y="693"/>
                  </a:lnTo>
                  <a:lnTo>
                    <a:pt x="7580" y="651"/>
                  </a:lnTo>
                  <a:lnTo>
                    <a:pt x="7507" y="610"/>
                  </a:lnTo>
                  <a:lnTo>
                    <a:pt x="7432" y="572"/>
                  </a:lnTo>
                  <a:lnTo>
                    <a:pt x="7357" y="536"/>
                  </a:lnTo>
                  <a:lnTo>
                    <a:pt x="7283" y="499"/>
                  </a:lnTo>
                  <a:lnTo>
                    <a:pt x="7206" y="463"/>
                  </a:lnTo>
                  <a:lnTo>
                    <a:pt x="7129" y="428"/>
                  </a:lnTo>
                  <a:lnTo>
                    <a:pt x="7052" y="396"/>
                  </a:lnTo>
                  <a:lnTo>
                    <a:pt x="6973" y="366"/>
                  </a:lnTo>
                  <a:lnTo>
                    <a:pt x="6895" y="335"/>
                  </a:lnTo>
                  <a:lnTo>
                    <a:pt x="6814" y="305"/>
                  </a:lnTo>
                  <a:lnTo>
                    <a:pt x="6735" y="279"/>
                  </a:lnTo>
                  <a:lnTo>
                    <a:pt x="6654" y="253"/>
                  </a:lnTo>
                  <a:lnTo>
                    <a:pt x="6573" y="226"/>
                  </a:lnTo>
                  <a:lnTo>
                    <a:pt x="6492" y="204"/>
                  </a:lnTo>
                  <a:lnTo>
                    <a:pt x="6412" y="182"/>
                  </a:lnTo>
                  <a:lnTo>
                    <a:pt x="6331" y="160"/>
                  </a:lnTo>
                  <a:lnTo>
                    <a:pt x="6250" y="141"/>
                  </a:lnTo>
                  <a:lnTo>
                    <a:pt x="6167" y="121"/>
                  </a:lnTo>
                  <a:lnTo>
                    <a:pt x="6086" y="105"/>
                  </a:lnTo>
                  <a:lnTo>
                    <a:pt x="6005" y="89"/>
                  </a:lnTo>
                  <a:lnTo>
                    <a:pt x="6005" y="89"/>
                  </a:lnTo>
                  <a:lnTo>
                    <a:pt x="5890" y="69"/>
                  </a:lnTo>
                  <a:lnTo>
                    <a:pt x="5775" y="50"/>
                  </a:lnTo>
                  <a:lnTo>
                    <a:pt x="5658" y="36"/>
                  </a:lnTo>
                  <a:lnTo>
                    <a:pt x="5542" y="22"/>
                  </a:lnTo>
                  <a:lnTo>
                    <a:pt x="5425" y="14"/>
                  </a:lnTo>
                  <a:lnTo>
                    <a:pt x="5306" y="6"/>
                  </a:lnTo>
                  <a:lnTo>
                    <a:pt x="5189" y="2"/>
                  </a:lnTo>
                  <a:lnTo>
                    <a:pt x="5069" y="0"/>
                  </a:lnTo>
                  <a:close/>
                </a:path>
              </a:pathLst>
            </a:custGeom>
            <a:solidFill>
              <a:srgbClr val="ea5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-2568600" y="12985920"/>
              <a:ext cx="14041440" cy="7958160"/>
            </a:xfrm>
            <a:custGeom>
              <a:avLst/>
              <a:gdLst>
                <a:gd name="textAreaLeft" fmla="*/ 0 w 14041440"/>
                <a:gd name="textAreaRight" fmla="*/ 14041800 w 14041440"/>
                <a:gd name="textAreaTop" fmla="*/ 0 h 7958160"/>
                <a:gd name="textAreaBottom" fmla="*/ 7958160 h 7958160"/>
              </a:gdLst>
              <a:ahLst/>
              <a:rect l="textAreaLeft" t="textAreaTop" r="textAreaRight" b="textAreaBottom"/>
              <a:pathLst>
                <a:path w="8845" h="5013">
                  <a:moveTo>
                    <a:pt x="5069" y="0"/>
                  </a:moveTo>
                  <a:lnTo>
                    <a:pt x="5069" y="0"/>
                  </a:lnTo>
                  <a:lnTo>
                    <a:pt x="4946" y="2"/>
                  </a:lnTo>
                  <a:lnTo>
                    <a:pt x="4821" y="6"/>
                  </a:lnTo>
                  <a:lnTo>
                    <a:pt x="4695" y="14"/>
                  </a:lnTo>
                  <a:lnTo>
                    <a:pt x="4572" y="26"/>
                  </a:lnTo>
                  <a:lnTo>
                    <a:pt x="4447" y="40"/>
                  </a:lnTo>
                  <a:lnTo>
                    <a:pt x="4322" y="57"/>
                  </a:lnTo>
                  <a:lnTo>
                    <a:pt x="4196" y="77"/>
                  </a:lnTo>
                  <a:lnTo>
                    <a:pt x="4073" y="101"/>
                  </a:lnTo>
                  <a:lnTo>
                    <a:pt x="4073" y="101"/>
                  </a:lnTo>
                  <a:lnTo>
                    <a:pt x="3952" y="127"/>
                  </a:lnTo>
                  <a:lnTo>
                    <a:pt x="3830" y="158"/>
                  </a:lnTo>
                  <a:lnTo>
                    <a:pt x="3711" y="190"/>
                  </a:lnTo>
                  <a:lnTo>
                    <a:pt x="3590" y="224"/>
                  </a:lnTo>
                  <a:lnTo>
                    <a:pt x="3473" y="265"/>
                  </a:lnTo>
                  <a:lnTo>
                    <a:pt x="3353" y="305"/>
                  </a:lnTo>
                  <a:lnTo>
                    <a:pt x="3236" y="350"/>
                  </a:lnTo>
                  <a:lnTo>
                    <a:pt x="3119" y="398"/>
                  </a:lnTo>
                  <a:lnTo>
                    <a:pt x="3004" y="449"/>
                  </a:lnTo>
                  <a:lnTo>
                    <a:pt x="2890" y="503"/>
                  </a:lnTo>
                  <a:lnTo>
                    <a:pt x="2777" y="560"/>
                  </a:lnTo>
                  <a:lnTo>
                    <a:pt x="2666" y="618"/>
                  </a:lnTo>
                  <a:lnTo>
                    <a:pt x="2555" y="681"/>
                  </a:lnTo>
                  <a:lnTo>
                    <a:pt x="2446" y="748"/>
                  </a:lnTo>
                  <a:lnTo>
                    <a:pt x="2339" y="814"/>
                  </a:lnTo>
                  <a:lnTo>
                    <a:pt x="2232" y="885"/>
                  </a:lnTo>
                  <a:lnTo>
                    <a:pt x="2232" y="885"/>
                  </a:lnTo>
                  <a:lnTo>
                    <a:pt x="2126" y="960"/>
                  </a:lnTo>
                  <a:lnTo>
                    <a:pt x="2023" y="1035"/>
                  </a:lnTo>
                  <a:lnTo>
                    <a:pt x="1922" y="1114"/>
                  </a:lnTo>
                  <a:lnTo>
                    <a:pt x="1823" y="1196"/>
                  </a:lnTo>
                  <a:lnTo>
                    <a:pt x="1726" y="1281"/>
                  </a:lnTo>
                  <a:lnTo>
                    <a:pt x="1631" y="1368"/>
                  </a:lnTo>
                  <a:lnTo>
                    <a:pt x="1538" y="1457"/>
                  </a:lnTo>
                  <a:lnTo>
                    <a:pt x="1447" y="1550"/>
                  </a:lnTo>
                  <a:lnTo>
                    <a:pt x="1358" y="1643"/>
                  </a:lnTo>
                  <a:lnTo>
                    <a:pt x="1273" y="1740"/>
                  </a:lnTo>
                  <a:lnTo>
                    <a:pt x="1189" y="1839"/>
                  </a:lnTo>
                  <a:lnTo>
                    <a:pt x="1108" y="1940"/>
                  </a:lnTo>
                  <a:lnTo>
                    <a:pt x="1027" y="2045"/>
                  </a:lnTo>
                  <a:lnTo>
                    <a:pt x="950" y="2151"/>
                  </a:lnTo>
                  <a:lnTo>
                    <a:pt x="877" y="2258"/>
                  </a:lnTo>
                  <a:lnTo>
                    <a:pt x="805" y="2367"/>
                  </a:lnTo>
                  <a:lnTo>
                    <a:pt x="736" y="2478"/>
                  </a:lnTo>
                  <a:lnTo>
                    <a:pt x="669" y="2591"/>
                  </a:lnTo>
                  <a:lnTo>
                    <a:pt x="606" y="2706"/>
                  </a:lnTo>
                  <a:lnTo>
                    <a:pt x="546" y="2824"/>
                  </a:lnTo>
                  <a:lnTo>
                    <a:pt x="487" y="2943"/>
                  </a:lnTo>
                  <a:lnTo>
                    <a:pt x="433" y="3062"/>
                  </a:lnTo>
                  <a:lnTo>
                    <a:pt x="382" y="3183"/>
                  </a:lnTo>
                  <a:lnTo>
                    <a:pt x="332" y="3307"/>
                  </a:lnTo>
                  <a:lnTo>
                    <a:pt x="287" y="3430"/>
                  </a:lnTo>
                  <a:lnTo>
                    <a:pt x="245" y="3555"/>
                  </a:lnTo>
                  <a:lnTo>
                    <a:pt x="204" y="3683"/>
                  </a:lnTo>
                  <a:lnTo>
                    <a:pt x="170" y="3810"/>
                  </a:lnTo>
                  <a:lnTo>
                    <a:pt x="137" y="3939"/>
                  </a:lnTo>
                  <a:lnTo>
                    <a:pt x="107" y="4069"/>
                  </a:lnTo>
                  <a:lnTo>
                    <a:pt x="81" y="4200"/>
                  </a:lnTo>
                  <a:lnTo>
                    <a:pt x="59" y="4333"/>
                  </a:lnTo>
                  <a:lnTo>
                    <a:pt x="59" y="4333"/>
                  </a:lnTo>
                  <a:lnTo>
                    <a:pt x="49" y="4392"/>
                  </a:lnTo>
                  <a:lnTo>
                    <a:pt x="36" y="4465"/>
                  </a:lnTo>
                  <a:lnTo>
                    <a:pt x="26" y="4546"/>
                  </a:lnTo>
                  <a:lnTo>
                    <a:pt x="16" y="4637"/>
                  </a:lnTo>
                  <a:lnTo>
                    <a:pt x="8" y="4732"/>
                  </a:lnTo>
                  <a:lnTo>
                    <a:pt x="4" y="4827"/>
                  </a:lnTo>
                  <a:lnTo>
                    <a:pt x="0" y="4922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2" y="5013"/>
                  </a:lnTo>
                  <a:lnTo>
                    <a:pt x="6" y="4930"/>
                  </a:lnTo>
                  <a:lnTo>
                    <a:pt x="12" y="4845"/>
                  </a:lnTo>
                  <a:lnTo>
                    <a:pt x="20" y="4762"/>
                  </a:lnTo>
                  <a:lnTo>
                    <a:pt x="28" y="4679"/>
                  </a:lnTo>
                  <a:lnTo>
                    <a:pt x="38" y="4594"/>
                  </a:lnTo>
                  <a:lnTo>
                    <a:pt x="49" y="4511"/>
                  </a:lnTo>
                  <a:lnTo>
                    <a:pt x="61" y="4430"/>
                  </a:lnTo>
                  <a:lnTo>
                    <a:pt x="75" y="4348"/>
                  </a:lnTo>
                  <a:lnTo>
                    <a:pt x="89" y="4265"/>
                  </a:lnTo>
                  <a:lnTo>
                    <a:pt x="105" y="4184"/>
                  </a:lnTo>
                  <a:lnTo>
                    <a:pt x="123" y="4103"/>
                  </a:lnTo>
                  <a:lnTo>
                    <a:pt x="142" y="4022"/>
                  </a:lnTo>
                  <a:lnTo>
                    <a:pt x="162" y="3941"/>
                  </a:lnTo>
                  <a:lnTo>
                    <a:pt x="182" y="3860"/>
                  </a:lnTo>
                  <a:lnTo>
                    <a:pt x="204" y="3782"/>
                  </a:lnTo>
                  <a:lnTo>
                    <a:pt x="228" y="3703"/>
                  </a:lnTo>
                  <a:lnTo>
                    <a:pt x="253" y="3624"/>
                  </a:lnTo>
                  <a:lnTo>
                    <a:pt x="279" y="3545"/>
                  </a:lnTo>
                  <a:lnTo>
                    <a:pt x="307" y="3468"/>
                  </a:lnTo>
                  <a:lnTo>
                    <a:pt x="336" y="3392"/>
                  </a:lnTo>
                  <a:lnTo>
                    <a:pt x="364" y="3315"/>
                  </a:lnTo>
                  <a:lnTo>
                    <a:pt x="396" y="3238"/>
                  </a:lnTo>
                  <a:lnTo>
                    <a:pt x="427" y="3163"/>
                  </a:lnTo>
                  <a:lnTo>
                    <a:pt x="461" y="3088"/>
                  </a:lnTo>
                  <a:lnTo>
                    <a:pt x="493" y="3014"/>
                  </a:lnTo>
                  <a:lnTo>
                    <a:pt x="530" y="2939"/>
                  </a:lnTo>
                  <a:lnTo>
                    <a:pt x="566" y="2866"/>
                  </a:lnTo>
                  <a:lnTo>
                    <a:pt x="602" y="2793"/>
                  </a:lnTo>
                  <a:lnTo>
                    <a:pt x="643" y="2723"/>
                  </a:lnTo>
                  <a:lnTo>
                    <a:pt x="681" y="2652"/>
                  </a:lnTo>
                  <a:lnTo>
                    <a:pt x="722" y="2581"/>
                  </a:lnTo>
                  <a:lnTo>
                    <a:pt x="764" y="2512"/>
                  </a:lnTo>
                  <a:lnTo>
                    <a:pt x="764" y="2512"/>
                  </a:lnTo>
                  <a:lnTo>
                    <a:pt x="807" y="2444"/>
                  </a:lnTo>
                  <a:lnTo>
                    <a:pt x="851" y="2375"/>
                  </a:lnTo>
                  <a:lnTo>
                    <a:pt x="895" y="2308"/>
                  </a:lnTo>
                  <a:lnTo>
                    <a:pt x="942" y="2241"/>
                  </a:lnTo>
                  <a:lnTo>
                    <a:pt x="988" y="2175"/>
                  </a:lnTo>
                  <a:lnTo>
                    <a:pt x="1035" y="2110"/>
                  </a:lnTo>
                  <a:lnTo>
                    <a:pt x="1083" y="2045"/>
                  </a:lnTo>
                  <a:lnTo>
                    <a:pt x="1134" y="1983"/>
                  </a:lnTo>
                  <a:lnTo>
                    <a:pt x="1185" y="1920"/>
                  </a:lnTo>
                  <a:lnTo>
                    <a:pt x="1235" y="1857"/>
                  </a:lnTo>
                  <a:lnTo>
                    <a:pt x="1288" y="1797"/>
                  </a:lnTo>
                  <a:lnTo>
                    <a:pt x="1342" y="1738"/>
                  </a:lnTo>
                  <a:lnTo>
                    <a:pt x="1395" y="1680"/>
                  </a:lnTo>
                  <a:lnTo>
                    <a:pt x="1449" y="1621"/>
                  </a:lnTo>
                  <a:lnTo>
                    <a:pt x="1506" y="1562"/>
                  </a:lnTo>
                  <a:lnTo>
                    <a:pt x="1562" y="1508"/>
                  </a:lnTo>
                  <a:lnTo>
                    <a:pt x="1619" y="1451"/>
                  </a:lnTo>
                  <a:lnTo>
                    <a:pt x="1678" y="1397"/>
                  </a:lnTo>
                  <a:lnTo>
                    <a:pt x="1736" y="1344"/>
                  </a:lnTo>
                  <a:lnTo>
                    <a:pt x="1797" y="1291"/>
                  </a:lnTo>
                  <a:lnTo>
                    <a:pt x="1858" y="1239"/>
                  </a:lnTo>
                  <a:lnTo>
                    <a:pt x="1918" y="1188"/>
                  </a:lnTo>
                  <a:lnTo>
                    <a:pt x="1981" y="1140"/>
                  </a:lnTo>
                  <a:lnTo>
                    <a:pt x="2044" y="1091"/>
                  </a:lnTo>
                  <a:lnTo>
                    <a:pt x="2106" y="1043"/>
                  </a:lnTo>
                  <a:lnTo>
                    <a:pt x="2169" y="996"/>
                  </a:lnTo>
                  <a:lnTo>
                    <a:pt x="2234" y="950"/>
                  </a:lnTo>
                  <a:lnTo>
                    <a:pt x="2300" y="905"/>
                  </a:lnTo>
                  <a:lnTo>
                    <a:pt x="2365" y="863"/>
                  </a:lnTo>
                  <a:lnTo>
                    <a:pt x="2432" y="821"/>
                  </a:lnTo>
                  <a:lnTo>
                    <a:pt x="2498" y="778"/>
                  </a:lnTo>
                  <a:lnTo>
                    <a:pt x="2567" y="740"/>
                  </a:lnTo>
                  <a:lnTo>
                    <a:pt x="2567" y="740"/>
                  </a:lnTo>
                  <a:lnTo>
                    <a:pt x="2640" y="697"/>
                  </a:lnTo>
                  <a:lnTo>
                    <a:pt x="2713" y="655"/>
                  </a:lnTo>
                  <a:lnTo>
                    <a:pt x="2787" y="616"/>
                  </a:lnTo>
                  <a:lnTo>
                    <a:pt x="2862" y="578"/>
                  </a:lnTo>
                  <a:lnTo>
                    <a:pt x="2937" y="540"/>
                  </a:lnTo>
                  <a:lnTo>
                    <a:pt x="3014" y="505"/>
                  </a:lnTo>
                  <a:lnTo>
                    <a:pt x="3091" y="471"/>
                  </a:lnTo>
                  <a:lnTo>
                    <a:pt x="3167" y="437"/>
                  </a:lnTo>
                  <a:lnTo>
                    <a:pt x="3244" y="406"/>
                  </a:lnTo>
                  <a:lnTo>
                    <a:pt x="3321" y="376"/>
                  </a:lnTo>
                  <a:lnTo>
                    <a:pt x="3400" y="348"/>
                  </a:lnTo>
                  <a:lnTo>
                    <a:pt x="3479" y="319"/>
                  </a:lnTo>
                  <a:lnTo>
                    <a:pt x="3557" y="293"/>
                  </a:lnTo>
                  <a:lnTo>
                    <a:pt x="3636" y="269"/>
                  </a:lnTo>
                  <a:lnTo>
                    <a:pt x="3717" y="244"/>
                  </a:lnTo>
                  <a:lnTo>
                    <a:pt x="3796" y="222"/>
                  </a:lnTo>
                  <a:lnTo>
                    <a:pt x="3877" y="202"/>
                  </a:lnTo>
                  <a:lnTo>
                    <a:pt x="3958" y="182"/>
                  </a:lnTo>
                  <a:lnTo>
                    <a:pt x="4039" y="164"/>
                  </a:lnTo>
                  <a:lnTo>
                    <a:pt x="4119" y="147"/>
                  </a:lnTo>
                  <a:lnTo>
                    <a:pt x="4200" y="133"/>
                  </a:lnTo>
                  <a:lnTo>
                    <a:pt x="4281" y="119"/>
                  </a:lnTo>
                  <a:lnTo>
                    <a:pt x="4364" y="105"/>
                  </a:lnTo>
                  <a:lnTo>
                    <a:pt x="4445" y="95"/>
                  </a:lnTo>
                  <a:lnTo>
                    <a:pt x="4528" y="85"/>
                  </a:lnTo>
                  <a:lnTo>
                    <a:pt x="4609" y="75"/>
                  </a:lnTo>
                  <a:lnTo>
                    <a:pt x="4691" y="69"/>
                  </a:lnTo>
                  <a:lnTo>
                    <a:pt x="4772" y="63"/>
                  </a:lnTo>
                  <a:lnTo>
                    <a:pt x="4855" y="59"/>
                  </a:lnTo>
                  <a:lnTo>
                    <a:pt x="4938" y="54"/>
                  </a:lnTo>
                  <a:lnTo>
                    <a:pt x="5019" y="52"/>
                  </a:lnTo>
                  <a:lnTo>
                    <a:pt x="5102" y="52"/>
                  </a:lnTo>
                  <a:lnTo>
                    <a:pt x="5102" y="52"/>
                  </a:lnTo>
                  <a:lnTo>
                    <a:pt x="5245" y="54"/>
                  </a:lnTo>
                  <a:lnTo>
                    <a:pt x="5387" y="61"/>
                  </a:lnTo>
                  <a:lnTo>
                    <a:pt x="5530" y="71"/>
                  </a:lnTo>
                  <a:lnTo>
                    <a:pt x="5672" y="85"/>
                  </a:lnTo>
                  <a:lnTo>
                    <a:pt x="5811" y="103"/>
                  </a:lnTo>
                  <a:lnTo>
                    <a:pt x="5953" y="123"/>
                  </a:lnTo>
                  <a:lnTo>
                    <a:pt x="6092" y="149"/>
                  </a:lnTo>
                  <a:lnTo>
                    <a:pt x="6230" y="180"/>
                  </a:lnTo>
                  <a:lnTo>
                    <a:pt x="6367" y="214"/>
                  </a:lnTo>
                  <a:lnTo>
                    <a:pt x="6502" y="253"/>
                  </a:lnTo>
                  <a:lnTo>
                    <a:pt x="6638" y="295"/>
                  </a:lnTo>
                  <a:lnTo>
                    <a:pt x="6771" y="342"/>
                  </a:lnTo>
                  <a:lnTo>
                    <a:pt x="6903" y="392"/>
                  </a:lnTo>
                  <a:lnTo>
                    <a:pt x="7034" y="447"/>
                  </a:lnTo>
                  <a:lnTo>
                    <a:pt x="7161" y="503"/>
                  </a:lnTo>
                  <a:lnTo>
                    <a:pt x="7289" y="566"/>
                  </a:lnTo>
                  <a:lnTo>
                    <a:pt x="7289" y="566"/>
                  </a:lnTo>
                  <a:lnTo>
                    <a:pt x="7396" y="622"/>
                  </a:lnTo>
                  <a:lnTo>
                    <a:pt x="7501" y="683"/>
                  </a:lnTo>
                  <a:lnTo>
                    <a:pt x="7604" y="746"/>
                  </a:lnTo>
                  <a:lnTo>
                    <a:pt x="7707" y="810"/>
                  </a:lnTo>
                  <a:lnTo>
                    <a:pt x="7808" y="877"/>
                  </a:lnTo>
                  <a:lnTo>
                    <a:pt x="7907" y="946"/>
                  </a:lnTo>
                  <a:lnTo>
                    <a:pt x="8004" y="1019"/>
                  </a:lnTo>
                  <a:lnTo>
                    <a:pt x="8099" y="1093"/>
                  </a:lnTo>
                  <a:lnTo>
                    <a:pt x="8192" y="1168"/>
                  </a:lnTo>
                  <a:lnTo>
                    <a:pt x="8283" y="1247"/>
                  </a:lnTo>
                  <a:lnTo>
                    <a:pt x="8374" y="1328"/>
                  </a:lnTo>
                  <a:lnTo>
                    <a:pt x="8459" y="1411"/>
                  </a:lnTo>
                  <a:lnTo>
                    <a:pt x="8544" y="1496"/>
                  </a:lnTo>
                  <a:lnTo>
                    <a:pt x="8627" y="1581"/>
                  </a:lnTo>
                  <a:lnTo>
                    <a:pt x="8706" y="1669"/>
                  </a:lnTo>
                  <a:lnTo>
                    <a:pt x="8782" y="1758"/>
                  </a:lnTo>
                  <a:lnTo>
                    <a:pt x="8782" y="1758"/>
                  </a:lnTo>
                  <a:lnTo>
                    <a:pt x="8845" y="1833"/>
                  </a:lnTo>
                  <a:lnTo>
                    <a:pt x="8845" y="1833"/>
                  </a:lnTo>
                  <a:lnTo>
                    <a:pt x="8833" y="1817"/>
                  </a:lnTo>
                  <a:lnTo>
                    <a:pt x="8833" y="1817"/>
                  </a:lnTo>
                  <a:lnTo>
                    <a:pt x="8782" y="1740"/>
                  </a:lnTo>
                  <a:lnTo>
                    <a:pt x="8732" y="1665"/>
                  </a:lnTo>
                  <a:lnTo>
                    <a:pt x="8679" y="1593"/>
                  </a:lnTo>
                  <a:lnTo>
                    <a:pt x="8623" y="1520"/>
                  </a:lnTo>
                  <a:lnTo>
                    <a:pt x="8564" y="1445"/>
                  </a:lnTo>
                  <a:lnTo>
                    <a:pt x="8500" y="1372"/>
                  </a:lnTo>
                  <a:lnTo>
                    <a:pt x="8431" y="1296"/>
                  </a:lnTo>
                  <a:lnTo>
                    <a:pt x="8356" y="1219"/>
                  </a:lnTo>
                  <a:lnTo>
                    <a:pt x="8356" y="1219"/>
                  </a:lnTo>
                  <a:lnTo>
                    <a:pt x="8299" y="1166"/>
                  </a:lnTo>
                  <a:lnTo>
                    <a:pt x="8241" y="1114"/>
                  </a:lnTo>
                  <a:lnTo>
                    <a:pt x="8180" y="1063"/>
                  </a:lnTo>
                  <a:lnTo>
                    <a:pt x="8120" y="1013"/>
                  </a:lnTo>
                  <a:lnTo>
                    <a:pt x="8057" y="964"/>
                  </a:lnTo>
                  <a:lnTo>
                    <a:pt x="7992" y="916"/>
                  </a:lnTo>
                  <a:lnTo>
                    <a:pt x="7927" y="869"/>
                  </a:lnTo>
                  <a:lnTo>
                    <a:pt x="7859" y="823"/>
                  </a:lnTo>
                  <a:lnTo>
                    <a:pt x="7792" y="778"/>
                  </a:lnTo>
                  <a:lnTo>
                    <a:pt x="7721" y="734"/>
                  </a:lnTo>
                  <a:lnTo>
                    <a:pt x="7651" y="693"/>
                  </a:lnTo>
                  <a:lnTo>
                    <a:pt x="7580" y="651"/>
                  </a:lnTo>
                  <a:lnTo>
                    <a:pt x="7507" y="610"/>
                  </a:lnTo>
                  <a:lnTo>
                    <a:pt x="7432" y="572"/>
                  </a:lnTo>
                  <a:lnTo>
                    <a:pt x="7357" y="536"/>
                  </a:lnTo>
                  <a:lnTo>
                    <a:pt x="7283" y="499"/>
                  </a:lnTo>
                  <a:lnTo>
                    <a:pt x="7206" y="463"/>
                  </a:lnTo>
                  <a:lnTo>
                    <a:pt x="7129" y="428"/>
                  </a:lnTo>
                  <a:lnTo>
                    <a:pt x="7052" y="396"/>
                  </a:lnTo>
                  <a:lnTo>
                    <a:pt x="6973" y="366"/>
                  </a:lnTo>
                  <a:lnTo>
                    <a:pt x="6895" y="335"/>
                  </a:lnTo>
                  <a:lnTo>
                    <a:pt x="6814" y="305"/>
                  </a:lnTo>
                  <a:lnTo>
                    <a:pt x="6735" y="279"/>
                  </a:lnTo>
                  <a:lnTo>
                    <a:pt x="6654" y="253"/>
                  </a:lnTo>
                  <a:lnTo>
                    <a:pt x="6573" y="226"/>
                  </a:lnTo>
                  <a:lnTo>
                    <a:pt x="6492" y="204"/>
                  </a:lnTo>
                  <a:lnTo>
                    <a:pt x="6412" y="182"/>
                  </a:lnTo>
                  <a:lnTo>
                    <a:pt x="6331" y="160"/>
                  </a:lnTo>
                  <a:lnTo>
                    <a:pt x="6250" y="141"/>
                  </a:lnTo>
                  <a:lnTo>
                    <a:pt x="6167" y="121"/>
                  </a:lnTo>
                  <a:lnTo>
                    <a:pt x="6086" y="105"/>
                  </a:lnTo>
                  <a:lnTo>
                    <a:pt x="6005" y="89"/>
                  </a:lnTo>
                  <a:lnTo>
                    <a:pt x="6005" y="89"/>
                  </a:lnTo>
                  <a:lnTo>
                    <a:pt x="5890" y="69"/>
                  </a:lnTo>
                  <a:lnTo>
                    <a:pt x="5775" y="50"/>
                  </a:lnTo>
                  <a:lnTo>
                    <a:pt x="5658" y="36"/>
                  </a:lnTo>
                  <a:lnTo>
                    <a:pt x="5542" y="22"/>
                  </a:lnTo>
                  <a:lnTo>
                    <a:pt x="5425" y="14"/>
                  </a:lnTo>
                  <a:lnTo>
                    <a:pt x="5306" y="6"/>
                  </a:lnTo>
                  <a:lnTo>
                    <a:pt x="5189" y="2"/>
                  </a:lnTo>
                  <a:lnTo>
                    <a:pt x="50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-1805040" y="24765120"/>
              <a:ext cx="4030560" cy="4103640"/>
            </a:xfrm>
            <a:custGeom>
              <a:avLst/>
              <a:gdLst>
                <a:gd name="textAreaLeft" fmla="*/ 0 w 4030560"/>
                <a:gd name="textAreaRight" fmla="*/ 4030920 w 4030560"/>
                <a:gd name="textAreaTop" fmla="*/ 0 h 4103640"/>
                <a:gd name="textAreaBottom" fmla="*/ 4104000 h 4103640"/>
              </a:gdLst>
              <a:ahLst/>
              <a:rect l="textAreaLeft" t="textAreaTop" r="textAreaRight" b="textAreaBottom"/>
              <a:pathLst>
                <a:path w="2539" h="2585">
                  <a:moveTo>
                    <a:pt x="0" y="0"/>
                  </a:moveTo>
                  <a:lnTo>
                    <a:pt x="0" y="0"/>
                  </a:lnTo>
                  <a:lnTo>
                    <a:pt x="53" y="119"/>
                  </a:lnTo>
                  <a:lnTo>
                    <a:pt x="109" y="238"/>
                  </a:lnTo>
                  <a:lnTo>
                    <a:pt x="168" y="356"/>
                  </a:lnTo>
                  <a:lnTo>
                    <a:pt x="231" y="471"/>
                  </a:lnTo>
                  <a:lnTo>
                    <a:pt x="295" y="586"/>
                  </a:lnTo>
                  <a:lnTo>
                    <a:pt x="364" y="699"/>
                  </a:lnTo>
                  <a:lnTo>
                    <a:pt x="437" y="812"/>
                  </a:lnTo>
                  <a:lnTo>
                    <a:pt x="511" y="922"/>
                  </a:lnTo>
                  <a:lnTo>
                    <a:pt x="590" y="1031"/>
                  </a:lnTo>
                  <a:lnTo>
                    <a:pt x="673" y="1138"/>
                  </a:lnTo>
                  <a:lnTo>
                    <a:pt x="758" y="1243"/>
                  </a:lnTo>
                  <a:lnTo>
                    <a:pt x="845" y="1346"/>
                  </a:lnTo>
                  <a:lnTo>
                    <a:pt x="938" y="1447"/>
                  </a:lnTo>
                  <a:lnTo>
                    <a:pt x="1031" y="1546"/>
                  </a:lnTo>
                  <a:lnTo>
                    <a:pt x="1130" y="1643"/>
                  </a:lnTo>
                  <a:lnTo>
                    <a:pt x="1231" y="1738"/>
                  </a:lnTo>
                  <a:lnTo>
                    <a:pt x="1231" y="1738"/>
                  </a:lnTo>
                  <a:lnTo>
                    <a:pt x="1306" y="1803"/>
                  </a:lnTo>
                  <a:lnTo>
                    <a:pt x="1385" y="1865"/>
                  </a:lnTo>
                  <a:lnTo>
                    <a:pt x="1461" y="1926"/>
                  </a:lnTo>
                  <a:lnTo>
                    <a:pt x="1540" y="1985"/>
                  </a:lnTo>
                  <a:lnTo>
                    <a:pt x="1621" y="2043"/>
                  </a:lnTo>
                  <a:lnTo>
                    <a:pt x="1702" y="2100"/>
                  </a:lnTo>
                  <a:lnTo>
                    <a:pt x="1783" y="2157"/>
                  </a:lnTo>
                  <a:lnTo>
                    <a:pt x="1866" y="2209"/>
                  </a:lnTo>
                  <a:lnTo>
                    <a:pt x="1949" y="2262"/>
                  </a:lnTo>
                  <a:lnTo>
                    <a:pt x="2031" y="2312"/>
                  </a:lnTo>
                  <a:lnTo>
                    <a:pt x="2114" y="2361"/>
                  </a:lnTo>
                  <a:lnTo>
                    <a:pt x="2199" y="2409"/>
                  </a:lnTo>
                  <a:lnTo>
                    <a:pt x="2284" y="2456"/>
                  </a:lnTo>
                  <a:lnTo>
                    <a:pt x="2369" y="2500"/>
                  </a:lnTo>
                  <a:lnTo>
                    <a:pt x="2454" y="2543"/>
                  </a:lnTo>
                  <a:lnTo>
                    <a:pt x="2539" y="2585"/>
                  </a:lnTo>
                  <a:lnTo>
                    <a:pt x="2539" y="2585"/>
                  </a:lnTo>
                  <a:lnTo>
                    <a:pt x="2462" y="2543"/>
                  </a:lnTo>
                  <a:lnTo>
                    <a:pt x="2383" y="2496"/>
                  </a:lnTo>
                  <a:lnTo>
                    <a:pt x="2302" y="2448"/>
                  </a:lnTo>
                  <a:lnTo>
                    <a:pt x="2219" y="2397"/>
                  </a:lnTo>
                  <a:lnTo>
                    <a:pt x="2135" y="2345"/>
                  </a:lnTo>
                  <a:lnTo>
                    <a:pt x="2052" y="2290"/>
                  </a:lnTo>
                  <a:lnTo>
                    <a:pt x="1967" y="2233"/>
                  </a:lnTo>
                  <a:lnTo>
                    <a:pt x="1882" y="2175"/>
                  </a:lnTo>
                  <a:lnTo>
                    <a:pt x="1797" y="2114"/>
                  </a:lnTo>
                  <a:lnTo>
                    <a:pt x="1714" y="2053"/>
                  </a:lnTo>
                  <a:lnTo>
                    <a:pt x="1631" y="1991"/>
                  </a:lnTo>
                  <a:lnTo>
                    <a:pt x="1552" y="1928"/>
                  </a:lnTo>
                  <a:lnTo>
                    <a:pt x="1474" y="1863"/>
                  </a:lnTo>
                  <a:lnTo>
                    <a:pt x="1397" y="1801"/>
                  </a:lnTo>
                  <a:lnTo>
                    <a:pt x="1324" y="1736"/>
                  </a:lnTo>
                  <a:lnTo>
                    <a:pt x="1253" y="1671"/>
                  </a:lnTo>
                  <a:lnTo>
                    <a:pt x="1253" y="1671"/>
                  </a:lnTo>
                  <a:lnTo>
                    <a:pt x="1156" y="1583"/>
                  </a:lnTo>
                  <a:lnTo>
                    <a:pt x="1061" y="1492"/>
                  </a:lnTo>
                  <a:lnTo>
                    <a:pt x="968" y="1397"/>
                  </a:lnTo>
                  <a:lnTo>
                    <a:pt x="877" y="1302"/>
                  </a:lnTo>
                  <a:lnTo>
                    <a:pt x="790" y="1203"/>
                  </a:lnTo>
                  <a:lnTo>
                    <a:pt x="706" y="1103"/>
                  </a:lnTo>
                  <a:lnTo>
                    <a:pt x="623" y="1000"/>
                  </a:lnTo>
                  <a:lnTo>
                    <a:pt x="542" y="895"/>
                  </a:lnTo>
                  <a:lnTo>
                    <a:pt x="463" y="790"/>
                  </a:lnTo>
                  <a:lnTo>
                    <a:pt x="388" y="681"/>
                  </a:lnTo>
                  <a:lnTo>
                    <a:pt x="317" y="572"/>
                  </a:lnTo>
                  <a:lnTo>
                    <a:pt x="247" y="461"/>
                  </a:lnTo>
                  <a:lnTo>
                    <a:pt x="180" y="348"/>
                  </a:lnTo>
                  <a:lnTo>
                    <a:pt x="117" y="232"/>
                  </a:lnTo>
                  <a:lnTo>
                    <a:pt x="57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5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-1805040" y="24765120"/>
              <a:ext cx="4030560" cy="4103640"/>
            </a:xfrm>
            <a:custGeom>
              <a:avLst/>
              <a:gdLst>
                <a:gd name="textAreaLeft" fmla="*/ 0 w 4030560"/>
                <a:gd name="textAreaRight" fmla="*/ 4030920 w 4030560"/>
                <a:gd name="textAreaTop" fmla="*/ 0 h 4103640"/>
                <a:gd name="textAreaBottom" fmla="*/ 4104000 h 4103640"/>
              </a:gdLst>
              <a:ahLst/>
              <a:rect l="textAreaLeft" t="textAreaTop" r="textAreaRight" b="textAreaBottom"/>
              <a:pathLst>
                <a:path w="2539" h="2585">
                  <a:moveTo>
                    <a:pt x="0" y="0"/>
                  </a:moveTo>
                  <a:lnTo>
                    <a:pt x="0" y="0"/>
                  </a:lnTo>
                  <a:lnTo>
                    <a:pt x="53" y="119"/>
                  </a:lnTo>
                  <a:lnTo>
                    <a:pt x="109" y="238"/>
                  </a:lnTo>
                  <a:lnTo>
                    <a:pt x="168" y="356"/>
                  </a:lnTo>
                  <a:lnTo>
                    <a:pt x="231" y="471"/>
                  </a:lnTo>
                  <a:lnTo>
                    <a:pt x="295" y="586"/>
                  </a:lnTo>
                  <a:lnTo>
                    <a:pt x="364" y="699"/>
                  </a:lnTo>
                  <a:lnTo>
                    <a:pt x="437" y="812"/>
                  </a:lnTo>
                  <a:lnTo>
                    <a:pt x="511" y="922"/>
                  </a:lnTo>
                  <a:lnTo>
                    <a:pt x="590" y="1031"/>
                  </a:lnTo>
                  <a:lnTo>
                    <a:pt x="673" y="1138"/>
                  </a:lnTo>
                  <a:lnTo>
                    <a:pt x="758" y="1243"/>
                  </a:lnTo>
                  <a:lnTo>
                    <a:pt x="845" y="1346"/>
                  </a:lnTo>
                  <a:lnTo>
                    <a:pt x="938" y="1447"/>
                  </a:lnTo>
                  <a:lnTo>
                    <a:pt x="1031" y="1546"/>
                  </a:lnTo>
                  <a:lnTo>
                    <a:pt x="1130" y="1643"/>
                  </a:lnTo>
                  <a:lnTo>
                    <a:pt x="1231" y="1738"/>
                  </a:lnTo>
                  <a:lnTo>
                    <a:pt x="1231" y="1738"/>
                  </a:lnTo>
                  <a:lnTo>
                    <a:pt x="1306" y="1803"/>
                  </a:lnTo>
                  <a:lnTo>
                    <a:pt x="1385" y="1865"/>
                  </a:lnTo>
                  <a:lnTo>
                    <a:pt x="1461" y="1926"/>
                  </a:lnTo>
                  <a:lnTo>
                    <a:pt x="1540" y="1985"/>
                  </a:lnTo>
                  <a:lnTo>
                    <a:pt x="1621" y="2043"/>
                  </a:lnTo>
                  <a:lnTo>
                    <a:pt x="1702" y="2100"/>
                  </a:lnTo>
                  <a:lnTo>
                    <a:pt x="1783" y="2157"/>
                  </a:lnTo>
                  <a:lnTo>
                    <a:pt x="1866" y="2209"/>
                  </a:lnTo>
                  <a:lnTo>
                    <a:pt x="1949" y="2262"/>
                  </a:lnTo>
                  <a:lnTo>
                    <a:pt x="2031" y="2312"/>
                  </a:lnTo>
                  <a:lnTo>
                    <a:pt x="2114" y="2361"/>
                  </a:lnTo>
                  <a:lnTo>
                    <a:pt x="2199" y="2409"/>
                  </a:lnTo>
                  <a:lnTo>
                    <a:pt x="2284" y="2456"/>
                  </a:lnTo>
                  <a:lnTo>
                    <a:pt x="2369" y="2500"/>
                  </a:lnTo>
                  <a:lnTo>
                    <a:pt x="2454" y="2543"/>
                  </a:lnTo>
                  <a:lnTo>
                    <a:pt x="2539" y="2585"/>
                  </a:lnTo>
                  <a:lnTo>
                    <a:pt x="2539" y="2585"/>
                  </a:lnTo>
                  <a:lnTo>
                    <a:pt x="2462" y="2543"/>
                  </a:lnTo>
                  <a:lnTo>
                    <a:pt x="2383" y="2496"/>
                  </a:lnTo>
                  <a:lnTo>
                    <a:pt x="2302" y="2448"/>
                  </a:lnTo>
                  <a:lnTo>
                    <a:pt x="2219" y="2397"/>
                  </a:lnTo>
                  <a:lnTo>
                    <a:pt x="2135" y="2345"/>
                  </a:lnTo>
                  <a:lnTo>
                    <a:pt x="2052" y="2290"/>
                  </a:lnTo>
                  <a:lnTo>
                    <a:pt x="1967" y="2233"/>
                  </a:lnTo>
                  <a:lnTo>
                    <a:pt x="1882" y="2175"/>
                  </a:lnTo>
                  <a:lnTo>
                    <a:pt x="1797" y="2114"/>
                  </a:lnTo>
                  <a:lnTo>
                    <a:pt x="1714" y="2053"/>
                  </a:lnTo>
                  <a:lnTo>
                    <a:pt x="1631" y="1991"/>
                  </a:lnTo>
                  <a:lnTo>
                    <a:pt x="1552" y="1928"/>
                  </a:lnTo>
                  <a:lnTo>
                    <a:pt x="1474" y="1863"/>
                  </a:lnTo>
                  <a:lnTo>
                    <a:pt x="1397" y="1801"/>
                  </a:lnTo>
                  <a:lnTo>
                    <a:pt x="1324" y="1736"/>
                  </a:lnTo>
                  <a:lnTo>
                    <a:pt x="1253" y="1671"/>
                  </a:lnTo>
                  <a:lnTo>
                    <a:pt x="1253" y="1671"/>
                  </a:lnTo>
                  <a:lnTo>
                    <a:pt x="1156" y="1583"/>
                  </a:lnTo>
                  <a:lnTo>
                    <a:pt x="1061" y="1492"/>
                  </a:lnTo>
                  <a:lnTo>
                    <a:pt x="968" y="1397"/>
                  </a:lnTo>
                  <a:lnTo>
                    <a:pt x="877" y="1302"/>
                  </a:lnTo>
                  <a:lnTo>
                    <a:pt x="790" y="1203"/>
                  </a:lnTo>
                  <a:lnTo>
                    <a:pt x="706" y="1103"/>
                  </a:lnTo>
                  <a:lnTo>
                    <a:pt x="623" y="1000"/>
                  </a:lnTo>
                  <a:lnTo>
                    <a:pt x="542" y="895"/>
                  </a:lnTo>
                  <a:lnTo>
                    <a:pt x="463" y="790"/>
                  </a:lnTo>
                  <a:lnTo>
                    <a:pt x="388" y="681"/>
                  </a:lnTo>
                  <a:lnTo>
                    <a:pt x="317" y="572"/>
                  </a:lnTo>
                  <a:lnTo>
                    <a:pt x="247" y="461"/>
                  </a:lnTo>
                  <a:lnTo>
                    <a:pt x="180" y="348"/>
                  </a:lnTo>
                  <a:lnTo>
                    <a:pt x="117" y="232"/>
                  </a:lnTo>
                  <a:lnTo>
                    <a:pt x="57" y="1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-2575080" y="20944080"/>
              <a:ext cx="769680" cy="382104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3821040"/>
                <a:gd name="textAreaBottom" fmla="*/ 3821400 h 3821040"/>
              </a:gdLst>
              <a:ahLst/>
              <a:rect l="textAreaLeft" t="textAreaTop" r="textAreaRight" b="textAreaBottom"/>
              <a:pathLst>
                <a:path w="485" h="240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107"/>
                  </a:lnTo>
                  <a:lnTo>
                    <a:pt x="0" y="214"/>
                  </a:lnTo>
                  <a:lnTo>
                    <a:pt x="2" y="323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10" y="555"/>
                  </a:lnTo>
                  <a:lnTo>
                    <a:pt x="18" y="681"/>
                  </a:lnTo>
                  <a:lnTo>
                    <a:pt x="30" y="806"/>
                  </a:lnTo>
                  <a:lnTo>
                    <a:pt x="46" y="931"/>
                  </a:lnTo>
                  <a:lnTo>
                    <a:pt x="65" y="1057"/>
                  </a:lnTo>
                  <a:lnTo>
                    <a:pt x="87" y="1182"/>
                  </a:lnTo>
                  <a:lnTo>
                    <a:pt x="113" y="1307"/>
                  </a:lnTo>
                  <a:lnTo>
                    <a:pt x="141" y="1433"/>
                  </a:lnTo>
                  <a:lnTo>
                    <a:pt x="172" y="1558"/>
                  </a:lnTo>
                  <a:lnTo>
                    <a:pt x="208" y="1681"/>
                  </a:lnTo>
                  <a:lnTo>
                    <a:pt x="245" y="1805"/>
                  </a:lnTo>
                  <a:lnTo>
                    <a:pt x="287" y="1926"/>
                  </a:lnTo>
                  <a:lnTo>
                    <a:pt x="331" y="2047"/>
                  </a:lnTo>
                  <a:lnTo>
                    <a:pt x="380" y="2168"/>
                  </a:lnTo>
                  <a:lnTo>
                    <a:pt x="431" y="2288"/>
                  </a:lnTo>
                  <a:lnTo>
                    <a:pt x="485" y="2407"/>
                  </a:lnTo>
                  <a:lnTo>
                    <a:pt x="485" y="2407"/>
                  </a:lnTo>
                  <a:lnTo>
                    <a:pt x="441" y="2302"/>
                  </a:lnTo>
                  <a:lnTo>
                    <a:pt x="400" y="2195"/>
                  </a:lnTo>
                  <a:lnTo>
                    <a:pt x="362" y="2088"/>
                  </a:lnTo>
                  <a:lnTo>
                    <a:pt x="325" y="1980"/>
                  </a:lnTo>
                  <a:lnTo>
                    <a:pt x="291" y="1873"/>
                  </a:lnTo>
                  <a:lnTo>
                    <a:pt x="261" y="1764"/>
                  </a:lnTo>
                  <a:lnTo>
                    <a:pt x="232" y="1655"/>
                  </a:lnTo>
                  <a:lnTo>
                    <a:pt x="204" y="1546"/>
                  </a:lnTo>
                  <a:lnTo>
                    <a:pt x="204" y="1546"/>
                  </a:lnTo>
                  <a:lnTo>
                    <a:pt x="172" y="1390"/>
                  </a:lnTo>
                  <a:lnTo>
                    <a:pt x="141" y="1233"/>
                  </a:lnTo>
                  <a:lnTo>
                    <a:pt x="117" y="1075"/>
                  </a:lnTo>
                  <a:lnTo>
                    <a:pt x="99" y="917"/>
                  </a:lnTo>
                  <a:lnTo>
                    <a:pt x="83" y="760"/>
                  </a:lnTo>
                  <a:lnTo>
                    <a:pt x="73" y="600"/>
                  </a:lnTo>
                  <a:lnTo>
                    <a:pt x="67" y="442"/>
                  </a:lnTo>
                  <a:lnTo>
                    <a:pt x="67" y="283"/>
                  </a:lnTo>
                  <a:lnTo>
                    <a:pt x="67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59" y="281"/>
                  </a:lnTo>
                  <a:lnTo>
                    <a:pt x="51" y="274"/>
                  </a:lnTo>
                  <a:lnTo>
                    <a:pt x="44" y="264"/>
                  </a:lnTo>
                  <a:lnTo>
                    <a:pt x="38" y="250"/>
                  </a:lnTo>
                  <a:lnTo>
                    <a:pt x="38" y="250"/>
                  </a:lnTo>
                  <a:lnTo>
                    <a:pt x="32" y="230"/>
                  </a:lnTo>
                  <a:lnTo>
                    <a:pt x="26" y="208"/>
                  </a:lnTo>
                  <a:lnTo>
                    <a:pt x="18" y="149"/>
                  </a:lnTo>
                  <a:lnTo>
                    <a:pt x="10" y="8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5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-2575080" y="20944080"/>
              <a:ext cx="769680" cy="382104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3821040"/>
                <a:gd name="textAreaBottom" fmla="*/ 3821400 h 3821040"/>
              </a:gdLst>
              <a:ahLst/>
              <a:rect l="textAreaLeft" t="textAreaTop" r="textAreaRight" b="textAreaBottom"/>
              <a:pathLst>
                <a:path w="485" h="240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" y="107"/>
                  </a:lnTo>
                  <a:lnTo>
                    <a:pt x="0" y="214"/>
                  </a:lnTo>
                  <a:lnTo>
                    <a:pt x="2" y="323"/>
                  </a:lnTo>
                  <a:lnTo>
                    <a:pt x="4" y="432"/>
                  </a:lnTo>
                  <a:lnTo>
                    <a:pt x="4" y="432"/>
                  </a:lnTo>
                  <a:lnTo>
                    <a:pt x="10" y="555"/>
                  </a:lnTo>
                  <a:lnTo>
                    <a:pt x="18" y="681"/>
                  </a:lnTo>
                  <a:lnTo>
                    <a:pt x="30" y="806"/>
                  </a:lnTo>
                  <a:lnTo>
                    <a:pt x="46" y="931"/>
                  </a:lnTo>
                  <a:lnTo>
                    <a:pt x="65" y="1057"/>
                  </a:lnTo>
                  <a:lnTo>
                    <a:pt x="87" y="1182"/>
                  </a:lnTo>
                  <a:lnTo>
                    <a:pt x="113" y="1307"/>
                  </a:lnTo>
                  <a:lnTo>
                    <a:pt x="141" y="1433"/>
                  </a:lnTo>
                  <a:lnTo>
                    <a:pt x="172" y="1558"/>
                  </a:lnTo>
                  <a:lnTo>
                    <a:pt x="208" y="1681"/>
                  </a:lnTo>
                  <a:lnTo>
                    <a:pt x="245" y="1805"/>
                  </a:lnTo>
                  <a:lnTo>
                    <a:pt x="287" y="1926"/>
                  </a:lnTo>
                  <a:lnTo>
                    <a:pt x="331" y="2047"/>
                  </a:lnTo>
                  <a:lnTo>
                    <a:pt x="380" y="2168"/>
                  </a:lnTo>
                  <a:lnTo>
                    <a:pt x="431" y="2288"/>
                  </a:lnTo>
                  <a:lnTo>
                    <a:pt x="485" y="2407"/>
                  </a:lnTo>
                  <a:lnTo>
                    <a:pt x="485" y="2407"/>
                  </a:lnTo>
                  <a:lnTo>
                    <a:pt x="441" y="2302"/>
                  </a:lnTo>
                  <a:lnTo>
                    <a:pt x="400" y="2195"/>
                  </a:lnTo>
                  <a:lnTo>
                    <a:pt x="362" y="2088"/>
                  </a:lnTo>
                  <a:lnTo>
                    <a:pt x="325" y="1980"/>
                  </a:lnTo>
                  <a:lnTo>
                    <a:pt x="291" y="1873"/>
                  </a:lnTo>
                  <a:lnTo>
                    <a:pt x="261" y="1764"/>
                  </a:lnTo>
                  <a:lnTo>
                    <a:pt x="232" y="1655"/>
                  </a:lnTo>
                  <a:lnTo>
                    <a:pt x="204" y="1546"/>
                  </a:lnTo>
                  <a:lnTo>
                    <a:pt x="204" y="1546"/>
                  </a:lnTo>
                  <a:lnTo>
                    <a:pt x="172" y="1390"/>
                  </a:lnTo>
                  <a:lnTo>
                    <a:pt x="141" y="1233"/>
                  </a:lnTo>
                  <a:lnTo>
                    <a:pt x="117" y="1075"/>
                  </a:lnTo>
                  <a:lnTo>
                    <a:pt x="99" y="917"/>
                  </a:lnTo>
                  <a:lnTo>
                    <a:pt x="83" y="760"/>
                  </a:lnTo>
                  <a:lnTo>
                    <a:pt x="73" y="600"/>
                  </a:lnTo>
                  <a:lnTo>
                    <a:pt x="67" y="442"/>
                  </a:lnTo>
                  <a:lnTo>
                    <a:pt x="67" y="283"/>
                  </a:lnTo>
                  <a:lnTo>
                    <a:pt x="67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59" y="281"/>
                  </a:lnTo>
                  <a:lnTo>
                    <a:pt x="51" y="274"/>
                  </a:lnTo>
                  <a:lnTo>
                    <a:pt x="44" y="264"/>
                  </a:lnTo>
                  <a:lnTo>
                    <a:pt x="38" y="250"/>
                  </a:lnTo>
                  <a:lnTo>
                    <a:pt x="38" y="250"/>
                  </a:lnTo>
                  <a:lnTo>
                    <a:pt x="32" y="230"/>
                  </a:lnTo>
                  <a:lnTo>
                    <a:pt x="26" y="208"/>
                  </a:lnTo>
                  <a:lnTo>
                    <a:pt x="18" y="149"/>
                  </a:lnTo>
                  <a:lnTo>
                    <a:pt x="10" y="8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-1458720" y="14317560"/>
              <a:ext cx="13965480" cy="13976280"/>
            </a:xfrm>
            <a:custGeom>
              <a:avLst/>
              <a:gdLst>
                <a:gd name="textAreaLeft" fmla="*/ 0 w 13965480"/>
                <a:gd name="textAreaRight" fmla="*/ 13965840 w 13965480"/>
                <a:gd name="textAreaTop" fmla="*/ 0 h 13976280"/>
                <a:gd name="textAreaBottom" fmla="*/ 13976640 h 13976280"/>
              </a:gdLst>
              <a:ahLst/>
              <a:rect l="textAreaLeft" t="textAreaTop" r="textAreaRight" b="textAreaBottom"/>
              <a:pathLst>
                <a:path w="8797" h="8804">
                  <a:moveTo>
                    <a:pt x="0" y="4948"/>
                  </a:moveTo>
                  <a:lnTo>
                    <a:pt x="0" y="4948"/>
                  </a:lnTo>
                  <a:lnTo>
                    <a:pt x="15" y="5053"/>
                  </a:lnTo>
                  <a:lnTo>
                    <a:pt x="31" y="5156"/>
                  </a:lnTo>
                  <a:lnTo>
                    <a:pt x="51" y="5261"/>
                  </a:lnTo>
                  <a:lnTo>
                    <a:pt x="73" y="5362"/>
                  </a:lnTo>
                  <a:lnTo>
                    <a:pt x="97" y="5465"/>
                  </a:lnTo>
                  <a:lnTo>
                    <a:pt x="124" y="5566"/>
                  </a:lnTo>
                  <a:lnTo>
                    <a:pt x="152" y="5667"/>
                  </a:lnTo>
                  <a:lnTo>
                    <a:pt x="184" y="5768"/>
                  </a:lnTo>
                  <a:lnTo>
                    <a:pt x="184" y="5768"/>
                  </a:lnTo>
                  <a:lnTo>
                    <a:pt x="168" y="5718"/>
                  </a:lnTo>
                  <a:lnTo>
                    <a:pt x="168" y="5718"/>
                  </a:lnTo>
                  <a:lnTo>
                    <a:pt x="140" y="5625"/>
                  </a:lnTo>
                  <a:lnTo>
                    <a:pt x="114" y="5532"/>
                  </a:lnTo>
                  <a:lnTo>
                    <a:pt x="89" y="5437"/>
                  </a:lnTo>
                  <a:lnTo>
                    <a:pt x="67" y="5340"/>
                  </a:lnTo>
                  <a:lnTo>
                    <a:pt x="47" y="5243"/>
                  </a:lnTo>
                  <a:lnTo>
                    <a:pt x="31" y="5146"/>
                  </a:lnTo>
                  <a:lnTo>
                    <a:pt x="15" y="5047"/>
                  </a:lnTo>
                  <a:lnTo>
                    <a:pt x="0" y="4948"/>
                  </a:lnTo>
                  <a:close/>
                  <a:moveTo>
                    <a:pt x="1844" y="962"/>
                  </a:moveTo>
                  <a:lnTo>
                    <a:pt x="1844" y="962"/>
                  </a:lnTo>
                  <a:lnTo>
                    <a:pt x="1844" y="962"/>
                  </a:lnTo>
                  <a:close/>
                  <a:moveTo>
                    <a:pt x="1933" y="1010"/>
                  </a:moveTo>
                  <a:lnTo>
                    <a:pt x="1933" y="1010"/>
                  </a:lnTo>
                  <a:lnTo>
                    <a:pt x="1933" y="1010"/>
                  </a:lnTo>
                  <a:lnTo>
                    <a:pt x="2014" y="952"/>
                  </a:lnTo>
                  <a:lnTo>
                    <a:pt x="2096" y="895"/>
                  </a:lnTo>
                  <a:lnTo>
                    <a:pt x="2179" y="841"/>
                  </a:lnTo>
                  <a:lnTo>
                    <a:pt x="2264" y="788"/>
                  </a:lnTo>
                  <a:lnTo>
                    <a:pt x="2351" y="737"/>
                  </a:lnTo>
                  <a:lnTo>
                    <a:pt x="2438" y="689"/>
                  </a:lnTo>
                  <a:lnTo>
                    <a:pt x="2527" y="640"/>
                  </a:lnTo>
                  <a:lnTo>
                    <a:pt x="2618" y="596"/>
                  </a:lnTo>
                  <a:lnTo>
                    <a:pt x="2709" y="554"/>
                  </a:lnTo>
                  <a:lnTo>
                    <a:pt x="2802" y="513"/>
                  </a:lnTo>
                  <a:lnTo>
                    <a:pt x="2895" y="475"/>
                  </a:lnTo>
                  <a:lnTo>
                    <a:pt x="2990" y="438"/>
                  </a:lnTo>
                  <a:lnTo>
                    <a:pt x="3085" y="404"/>
                  </a:lnTo>
                  <a:lnTo>
                    <a:pt x="3182" y="372"/>
                  </a:lnTo>
                  <a:lnTo>
                    <a:pt x="3279" y="343"/>
                  </a:lnTo>
                  <a:lnTo>
                    <a:pt x="3376" y="315"/>
                  </a:lnTo>
                  <a:lnTo>
                    <a:pt x="3376" y="315"/>
                  </a:lnTo>
                  <a:lnTo>
                    <a:pt x="3305" y="337"/>
                  </a:lnTo>
                  <a:lnTo>
                    <a:pt x="3243" y="355"/>
                  </a:lnTo>
                  <a:lnTo>
                    <a:pt x="3192" y="372"/>
                  </a:lnTo>
                  <a:lnTo>
                    <a:pt x="3156" y="386"/>
                  </a:lnTo>
                  <a:lnTo>
                    <a:pt x="3156" y="386"/>
                  </a:lnTo>
                  <a:lnTo>
                    <a:pt x="3034" y="428"/>
                  </a:lnTo>
                  <a:lnTo>
                    <a:pt x="2919" y="473"/>
                  </a:lnTo>
                  <a:lnTo>
                    <a:pt x="2806" y="519"/>
                  </a:lnTo>
                  <a:lnTo>
                    <a:pt x="2699" y="566"/>
                  </a:lnTo>
                  <a:lnTo>
                    <a:pt x="2596" y="616"/>
                  </a:lnTo>
                  <a:lnTo>
                    <a:pt x="2497" y="665"/>
                  </a:lnTo>
                  <a:lnTo>
                    <a:pt x="2402" y="715"/>
                  </a:lnTo>
                  <a:lnTo>
                    <a:pt x="2313" y="768"/>
                  </a:lnTo>
                  <a:lnTo>
                    <a:pt x="2226" y="818"/>
                  </a:lnTo>
                  <a:lnTo>
                    <a:pt x="2145" y="869"/>
                  </a:lnTo>
                  <a:lnTo>
                    <a:pt x="2070" y="919"/>
                  </a:lnTo>
                  <a:lnTo>
                    <a:pt x="1997" y="968"/>
                  </a:lnTo>
                  <a:lnTo>
                    <a:pt x="1931" y="1016"/>
                  </a:lnTo>
                  <a:lnTo>
                    <a:pt x="1868" y="1063"/>
                  </a:lnTo>
                  <a:lnTo>
                    <a:pt x="1757" y="1150"/>
                  </a:lnTo>
                  <a:lnTo>
                    <a:pt x="1757" y="1150"/>
                  </a:lnTo>
                  <a:lnTo>
                    <a:pt x="1672" y="1223"/>
                  </a:lnTo>
                  <a:lnTo>
                    <a:pt x="1587" y="1297"/>
                  </a:lnTo>
                  <a:lnTo>
                    <a:pt x="1504" y="1376"/>
                  </a:lnTo>
                  <a:lnTo>
                    <a:pt x="1425" y="1457"/>
                  </a:lnTo>
                  <a:lnTo>
                    <a:pt x="1349" y="1538"/>
                  </a:lnTo>
                  <a:lnTo>
                    <a:pt x="1274" y="1621"/>
                  </a:lnTo>
                  <a:lnTo>
                    <a:pt x="1201" y="1708"/>
                  </a:lnTo>
                  <a:lnTo>
                    <a:pt x="1132" y="1795"/>
                  </a:lnTo>
                  <a:lnTo>
                    <a:pt x="1064" y="1884"/>
                  </a:lnTo>
                  <a:lnTo>
                    <a:pt x="999" y="1972"/>
                  </a:lnTo>
                  <a:lnTo>
                    <a:pt x="936" y="2065"/>
                  </a:lnTo>
                  <a:lnTo>
                    <a:pt x="876" y="2158"/>
                  </a:lnTo>
                  <a:lnTo>
                    <a:pt x="819" y="2253"/>
                  </a:lnTo>
                  <a:lnTo>
                    <a:pt x="764" y="2348"/>
                  </a:lnTo>
                  <a:lnTo>
                    <a:pt x="712" y="2445"/>
                  </a:lnTo>
                  <a:lnTo>
                    <a:pt x="663" y="2542"/>
                  </a:lnTo>
                  <a:lnTo>
                    <a:pt x="663" y="2542"/>
                  </a:lnTo>
                  <a:lnTo>
                    <a:pt x="611" y="2654"/>
                  </a:lnTo>
                  <a:lnTo>
                    <a:pt x="560" y="2767"/>
                  </a:lnTo>
                  <a:lnTo>
                    <a:pt x="516" y="2880"/>
                  </a:lnTo>
                  <a:lnTo>
                    <a:pt x="473" y="2995"/>
                  </a:lnTo>
                  <a:lnTo>
                    <a:pt x="435" y="3110"/>
                  </a:lnTo>
                  <a:lnTo>
                    <a:pt x="399" y="3226"/>
                  </a:lnTo>
                  <a:lnTo>
                    <a:pt x="366" y="3343"/>
                  </a:lnTo>
                  <a:lnTo>
                    <a:pt x="338" y="3460"/>
                  </a:lnTo>
                  <a:lnTo>
                    <a:pt x="312" y="3577"/>
                  </a:lnTo>
                  <a:lnTo>
                    <a:pt x="289" y="3695"/>
                  </a:lnTo>
                  <a:lnTo>
                    <a:pt x="271" y="3812"/>
                  </a:lnTo>
                  <a:lnTo>
                    <a:pt x="255" y="3931"/>
                  </a:lnTo>
                  <a:lnTo>
                    <a:pt x="243" y="4050"/>
                  </a:lnTo>
                  <a:lnTo>
                    <a:pt x="235" y="4168"/>
                  </a:lnTo>
                  <a:lnTo>
                    <a:pt x="229" y="4285"/>
                  </a:lnTo>
                  <a:lnTo>
                    <a:pt x="227" y="4404"/>
                  </a:lnTo>
                  <a:lnTo>
                    <a:pt x="227" y="4404"/>
                  </a:lnTo>
                  <a:lnTo>
                    <a:pt x="223" y="4315"/>
                  </a:lnTo>
                  <a:lnTo>
                    <a:pt x="221" y="4222"/>
                  </a:lnTo>
                  <a:lnTo>
                    <a:pt x="223" y="4127"/>
                  </a:lnTo>
                  <a:lnTo>
                    <a:pt x="227" y="4028"/>
                  </a:lnTo>
                  <a:lnTo>
                    <a:pt x="235" y="3925"/>
                  </a:lnTo>
                  <a:lnTo>
                    <a:pt x="245" y="3820"/>
                  </a:lnTo>
                  <a:lnTo>
                    <a:pt x="259" y="3713"/>
                  </a:lnTo>
                  <a:lnTo>
                    <a:pt x="277" y="3602"/>
                  </a:lnTo>
                  <a:lnTo>
                    <a:pt x="300" y="3490"/>
                  </a:lnTo>
                  <a:lnTo>
                    <a:pt x="326" y="3377"/>
                  </a:lnTo>
                  <a:lnTo>
                    <a:pt x="354" y="3262"/>
                  </a:lnTo>
                  <a:lnTo>
                    <a:pt x="388" y="3145"/>
                  </a:lnTo>
                  <a:lnTo>
                    <a:pt x="427" y="3028"/>
                  </a:lnTo>
                  <a:lnTo>
                    <a:pt x="469" y="2910"/>
                  </a:lnTo>
                  <a:lnTo>
                    <a:pt x="518" y="2791"/>
                  </a:lnTo>
                  <a:lnTo>
                    <a:pt x="568" y="2672"/>
                  </a:lnTo>
                  <a:lnTo>
                    <a:pt x="568" y="2672"/>
                  </a:lnTo>
                  <a:lnTo>
                    <a:pt x="625" y="2555"/>
                  </a:lnTo>
                  <a:lnTo>
                    <a:pt x="686" y="2437"/>
                  </a:lnTo>
                  <a:lnTo>
                    <a:pt x="750" y="2320"/>
                  </a:lnTo>
                  <a:lnTo>
                    <a:pt x="819" y="2205"/>
                  </a:lnTo>
                  <a:lnTo>
                    <a:pt x="892" y="2092"/>
                  </a:lnTo>
                  <a:lnTo>
                    <a:pt x="971" y="1979"/>
                  </a:lnTo>
                  <a:lnTo>
                    <a:pt x="1051" y="1869"/>
                  </a:lnTo>
                  <a:lnTo>
                    <a:pt x="1136" y="1762"/>
                  </a:lnTo>
                  <a:lnTo>
                    <a:pt x="1225" y="1657"/>
                  </a:lnTo>
                  <a:lnTo>
                    <a:pt x="1318" y="1554"/>
                  </a:lnTo>
                  <a:lnTo>
                    <a:pt x="1413" y="1455"/>
                  </a:lnTo>
                  <a:lnTo>
                    <a:pt x="1510" y="1358"/>
                  </a:lnTo>
                  <a:lnTo>
                    <a:pt x="1613" y="1267"/>
                  </a:lnTo>
                  <a:lnTo>
                    <a:pt x="1716" y="1176"/>
                  </a:lnTo>
                  <a:lnTo>
                    <a:pt x="1824" y="1091"/>
                  </a:lnTo>
                  <a:lnTo>
                    <a:pt x="1933" y="1010"/>
                  </a:lnTo>
                  <a:lnTo>
                    <a:pt x="1933" y="1010"/>
                  </a:lnTo>
                  <a:lnTo>
                    <a:pt x="1933" y="1010"/>
                  </a:lnTo>
                  <a:close/>
                  <a:moveTo>
                    <a:pt x="504" y="2361"/>
                  </a:moveTo>
                  <a:lnTo>
                    <a:pt x="504" y="2361"/>
                  </a:lnTo>
                  <a:lnTo>
                    <a:pt x="554" y="2270"/>
                  </a:lnTo>
                  <a:lnTo>
                    <a:pt x="607" y="2181"/>
                  </a:lnTo>
                  <a:lnTo>
                    <a:pt x="661" y="2094"/>
                  </a:lnTo>
                  <a:lnTo>
                    <a:pt x="718" y="2009"/>
                  </a:lnTo>
                  <a:lnTo>
                    <a:pt x="777" y="1924"/>
                  </a:lnTo>
                  <a:lnTo>
                    <a:pt x="837" y="1841"/>
                  </a:lnTo>
                  <a:lnTo>
                    <a:pt x="900" y="1760"/>
                  </a:lnTo>
                  <a:lnTo>
                    <a:pt x="965" y="1679"/>
                  </a:lnTo>
                  <a:lnTo>
                    <a:pt x="1029" y="1601"/>
                  </a:lnTo>
                  <a:lnTo>
                    <a:pt x="1098" y="1524"/>
                  </a:lnTo>
                  <a:lnTo>
                    <a:pt x="1167" y="1449"/>
                  </a:lnTo>
                  <a:lnTo>
                    <a:pt x="1237" y="1376"/>
                  </a:lnTo>
                  <a:lnTo>
                    <a:pt x="1310" y="1305"/>
                  </a:lnTo>
                  <a:lnTo>
                    <a:pt x="1385" y="1235"/>
                  </a:lnTo>
                  <a:lnTo>
                    <a:pt x="1462" y="1166"/>
                  </a:lnTo>
                  <a:lnTo>
                    <a:pt x="1539" y="1101"/>
                  </a:lnTo>
                  <a:lnTo>
                    <a:pt x="1617" y="1037"/>
                  </a:lnTo>
                  <a:lnTo>
                    <a:pt x="1696" y="974"/>
                  </a:lnTo>
                  <a:lnTo>
                    <a:pt x="1777" y="913"/>
                  </a:lnTo>
                  <a:lnTo>
                    <a:pt x="1860" y="855"/>
                  </a:lnTo>
                  <a:lnTo>
                    <a:pt x="1945" y="798"/>
                  </a:lnTo>
                  <a:lnTo>
                    <a:pt x="2030" y="742"/>
                  </a:lnTo>
                  <a:lnTo>
                    <a:pt x="2117" y="689"/>
                  </a:lnTo>
                  <a:lnTo>
                    <a:pt x="2204" y="638"/>
                  </a:lnTo>
                  <a:lnTo>
                    <a:pt x="2291" y="590"/>
                  </a:lnTo>
                  <a:lnTo>
                    <a:pt x="2381" y="543"/>
                  </a:lnTo>
                  <a:lnTo>
                    <a:pt x="2470" y="499"/>
                  </a:lnTo>
                  <a:lnTo>
                    <a:pt x="2561" y="457"/>
                  </a:lnTo>
                  <a:lnTo>
                    <a:pt x="2654" y="416"/>
                  </a:lnTo>
                  <a:lnTo>
                    <a:pt x="2747" y="378"/>
                  </a:lnTo>
                  <a:lnTo>
                    <a:pt x="2840" y="343"/>
                  </a:lnTo>
                  <a:lnTo>
                    <a:pt x="2935" y="309"/>
                  </a:lnTo>
                  <a:lnTo>
                    <a:pt x="2935" y="309"/>
                  </a:lnTo>
                  <a:lnTo>
                    <a:pt x="3022" y="279"/>
                  </a:lnTo>
                  <a:lnTo>
                    <a:pt x="3109" y="252"/>
                  </a:lnTo>
                  <a:lnTo>
                    <a:pt x="3198" y="226"/>
                  </a:lnTo>
                  <a:lnTo>
                    <a:pt x="3287" y="202"/>
                  </a:lnTo>
                  <a:lnTo>
                    <a:pt x="3376" y="180"/>
                  </a:lnTo>
                  <a:lnTo>
                    <a:pt x="3465" y="159"/>
                  </a:lnTo>
                  <a:lnTo>
                    <a:pt x="3556" y="143"/>
                  </a:lnTo>
                  <a:lnTo>
                    <a:pt x="3645" y="127"/>
                  </a:lnTo>
                  <a:lnTo>
                    <a:pt x="3736" y="113"/>
                  </a:lnTo>
                  <a:lnTo>
                    <a:pt x="3827" y="101"/>
                  </a:lnTo>
                  <a:lnTo>
                    <a:pt x="3916" y="89"/>
                  </a:lnTo>
                  <a:lnTo>
                    <a:pt x="4007" y="81"/>
                  </a:lnTo>
                  <a:lnTo>
                    <a:pt x="4098" y="75"/>
                  </a:lnTo>
                  <a:lnTo>
                    <a:pt x="4188" y="70"/>
                  </a:lnTo>
                  <a:lnTo>
                    <a:pt x="4279" y="66"/>
                  </a:lnTo>
                  <a:lnTo>
                    <a:pt x="4370" y="66"/>
                  </a:lnTo>
                  <a:lnTo>
                    <a:pt x="4370" y="66"/>
                  </a:lnTo>
                  <a:lnTo>
                    <a:pt x="4476" y="68"/>
                  </a:lnTo>
                  <a:lnTo>
                    <a:pt x="4583" y="70"/>
                  </a:lnTo>
                  <a:lnTo>
                    <a:pt x="4688" y="79"/>
                  </a:lnTo>
                  <a:lnTo>
                    <a:pt x="4793" y="87"/>
                  </a:lnTo>
                  <a:lnTo>
                    <a:pt x="4898" y="99"/>
                  </a:lnTo>
                  <a:lnTo>
                    <a:pt x="5003" y="111"/>
                  </a:lnTo>
                  <a:lnTo>
                    <a:pt x="5108" y="129"/>
                  </a:lnTo>
                  <a:lnTo>
                    <a:pt x="5211" y="147"/>
                  </a:lnTo>
                  <a:lnTo>
                    <a:pt x="5314" y="167"/>
                  </a:lnTo>
                  <a:lnTo>
                    <a:pt x="5417" y="192"/>
                  </a:lnTo>
                  <a:lnTo>
                    <a:pt x="5518" y="218"/>
                  </a:lnTo>
                  <a:lnTo>
                    <a:pt x="5620" y="246"/>
                  </a:lnTo>
                  <a:lnTo>
                    <a:pt x="5719" y="279"/>
                  </a:lnTo>
                  <a:lnTo>
                    <a:pt x="5818" y="311"/>
                  </a:lnTo>
                  <a:lnTo>
                    <a:pt x="5917" y="347"/>
                  </a:lnTo>
                  <a:lnTo>
                    <a:pt x="6014" y="386"/>
                  </a:lnTo>
                  <a:lnTo>
                    <a:pt x="6014" y="386"/>
                  </a:lnTo>
                  <a:lnTo>
                    <a:pt x="6103" y="422"/>
                  </a:lnTo>
                  <a:lnTo>
                    <a:pt x="6192" y="461"/>
                  </a:lnTo>
                  <a:lnTo>
                    <a:pt x="6278" y="503"/>
                  </a:lnTo>
                  <a:lnTo>
                    <a:pt x="6365" y="545"/>
                  </a:lnTo>
                  <a:lnTo>
                    <a:pt x="6450" y="590"/>
                  </a:lnTo>
                  <a:lnTo>
                    <a:pt x="6533" y="636"/>
                  </a:lnTo>
                  <a:lnTo>
                    <a:pt x="6616" y="685"/>
                  </a:lnTo>
                  <a:lnTo>
                    <a:pt x="6699" y="735"/>
                  </a:lnTo>
                  <a:lnTo>
                    <a:pt x="6778" y="788"/>
                  </a:lnTo>
                  <a:lnTo>
                    <a:pt x="6859" y="841"/>
                  </a:lnTo>
                  <a:lnTo>
                    <a:pt x="6935" y="895"/>
                  </a:lnTo>
                  <a:lnTo>
                    <a:pt x="7012" y="954"/>
                  </a:lnTo>
                  <a:lnTo>
                    <a:pt x="7087" y="1012"/>
                  </a:lnTo>
                  <a:lnTo>
                    <a:pt x="7162" y="1071"/>
                  </a:lnTo>
                  <a:lnTo>
                    <a:pt x="7235" y="1134"/>
                  </a:lnTo>
                  <a:lnTo>
                    <a:pt x="7305" y="1196"/>
                  </a:lnTo>
                  <a:lnTo>
                    <a:pt x="7374" y="1261"/>
                  </a:lnTo>
                  <a:lnTo>
                    <a:pt x="7443" y="1328"/>
                  </a:lnTo>
                  <a:lnTo>
                    <a:pt x="7509" y="1394"/>
                  </a:lnTo>
                  <a:lnTo>
                    <a:pt x="7574" y="1463"/>
                  </a:lnTo>
                  <a:lnTo>
                    <a:pt x="7637" y="1534"/>
                  </a:lnTo>
                  <a:lnTo>
                    <a:pt x="7699" y="1605"/>
                  </a:lnTo>
                  <a:lnTo>
                    <a:pt x="7758" y="1677"/>
                  </a:lnTo>
                  <a:lnTo>
                    <a:pt x="7817" y="1752"/>
                  </a:lnTo>
                  <a:lnTo>
                    <a:pt x="7873" y="1827"/>
                  </a:lnTo>
                  <a:lnTo>
                    <a:pt x="7930" y="1904"/>
                  </a:lnTo>
                  <a:lnTo>
                    <a:pt x="7982" y="1981"/>
                  </a:lnTo>
                  <a:lnTo>
                    <a:pt x="8033" y="2059"/>
                  </a:lnTo>
                  <a:lnTo>
                    <a:pt x="8083" y="2138"/>
                  </a:lnTo>
                  <a:lnTo>
                    <a:pt x="8130" y="2219"/>
                  </a:lnTo>
                  <a:lnTo>
                    <a:pt x="8176" y="2302"/>
                  </a:lnTo>
                  <a:lnTo>
                    <a:pt x="8221" y="2385"/>
                  </a:lnTo>
                  <a:lnTo>
                    <a:pt x="8221" y="2385"/>
                  </a:lnTo>
                  <a:lnTo>
                    <a:pt x="8263" y="2468"/>
                  </a:lnTo>
                  <a:lnTo>
                    <a:pt x="8304" y="2551"/>
                  </a:lnTo>
                  <a:lnTo>
                    <a:pt x="8342" y="2635"/>
                  </a:lnTo>
                  <a:lnTo>
                    <a:pt x="8379" y="2722"/>
                  </a:lnTo>
                  <a:lnTo>
                    <a:pt x="8415" y="2809"/>
                  </a:lnTo>
                  <a:lnTo>
                    <a:pt x="8447" y="2896"/>
                  </a:lnTo>
                  <a:lnTo>
                    <a:pt x="8478" y="2983"/>
                  </a:lnTo>
                  <a:lnTo>
                    <a:pt x="8506" y="3072"/>
                  </a:lnTo>
                  <a:lnTo>
                    <a:pt x="8534" y="3159"/>
                  </a:lnTo>
                  <a:lnTo>
                    <a:pt x="8558" y="3250"/>
                  </a:lnTo>
                  <a:lnTo>
                    <a:pt x="8583" y="3339"/>
                  </a:lnTo>
                  <a:lnTo>
                    <a:pt x="8603" y="3428"/>
                  </a:lnTo>
                  <a:lnTo>
                    <a:pt x="8623" y="3519"/>
                  </a:lnTo>
                  <a:lnTo>
                    <a:pt x="8639" y="3610"/>
                  </a:lnTo>
                  <a:lnTo>
                    <a:pt x="8656" y="3701"/>
                  </a:lnTo>
                  <a:lnTo>
                    <a:pt x="8668" y="3792"/>
                  </a:lnTo>
                  <a:lnTo>
                    <a:pt x="8680" y="3885"/>
                  </a:lnTo>
                  <a:lnTo>
                    <a:pt x="8688" y="3976"/>
                  </a:lnTo>
                  <a:lnTo>
                    <a:pt x="8696" y="4066"/>
                  </a:lnTo>
                  <a:lnTo>
                    <a:pt x="8702" y="4159"/>
                  </a:lnTo>
                  <a:lnTo>
                    <a:pt x="8704" y="4250"/>
                  </a:lnTo>
                  <a:lnTo>
                    <a:pt x="8706" y="4341"/>
                  </a:lnTo>
                  <a:lnTo>
                    <a:pt x="8706" y="4434"/>
                  </a:lnTo>
                  <a:lnTo>
                    <a:pt x="8702" y="4525"/>
                  </a:lnTo>
                  <a:lnTo>
                    <a:pt x="8698" y="4616"/>
                  </a:lnTo>
                  <a:lnTo>
                    <a:pt x="8692" y="4709"/>
                  </a:lnTo>
                  <a:lnTo>
                    <a:pt x="8682" y="4800"/>
                  </a:lnTo>
                  <a:lnTo>
                    <a:pt x="8672" y="4891"/>
                  </a:lnTo>
                  <a:lnTo>
                    <a:pt x="8660" y="4980"/>
                  </a:lnTo>
                  <a:lnTo>
                    <a:pt x="8643" y="5071"/>
                  </a:lnTo>
                  <a:lnTo>
                    <a:pt x="8627" y="5160"/>
                  </a:lnTo>
                  <a:lnTo>
                    <a:pt x="8609" y="5251"/>
                  </a:lnTo>
                  <a:lnTo>
                    <a:pt x="8609" y="5251"/>
                  </a:lnTo>
                  <a:lnTo>
                    <a:pt x="8625" y="5136"/>
                  </a:lnTo>
                  <a:lnTo>
                    <a:pt x="8639" y="5020"/>
                  </a:lnTo>
                  <a:lnTo>
                    <a:pt x="8649" y="4903"/>
                  </a:lnTo>
                  <a:lnTo>
                    <a:pt x="8658" y="4786"/>
                  </a:lnTo>
                  <a:lnTo>
                    <a:pt x="8664" y="4669"/>
                  </a:lnTo>
                  <a:lnTo>
                    <a:pt x="8666" y="4552"/>
                  </a:lnTo>
                  <a:lnTo>
                    <a:pt x="8664" y="4432"/>
                  </a:lnTo>
                  <a:lnTo>
                    <a:pt x="8660" y="4313"/>
                  </a:lnTo>
                  <a:lnTo>
                    <a:pt x="8660" y="4313"/>
                  </a:lnTo>
                  <a:lnTo>
                    <a:pt x="8656" y="4230"/>
                  </a:lnTo>
                  <a:lnTo>
                    <a:pt x="8651" y="4145"/>
                  </a:lnTo>
                  <a:lnTo>
                    <a:pt x="8643" y="4060"/>
                  </a:lnTo>
                  <a:lnTo>
                    <a:pt x="8635" y="3978"/>
                  </a:lnTo>
                  <a:lnTo>
                    <a:pt x="8623" y="3895"/>
                  </a:lnTo>
                  <a:lnTo>
                    <a:pt x="8611" y="3812"/>
                  </a:lnTo>
                  <a:lnTo>
                    <a:pt x="8599" y="3729"/>
                  </a:lnTo>
                  <a:lnTo>
                    <a:pt x="8583" y="3646"/>
                  </a:lnTo>
                  <a:lnTo>
                    <a:pt x="8567" y="3565"/>
                  </a:lnTo>
                  <a:lnTo>
                    <a:pt x="8548" y="3484"/>
                  </a:lnTo>
                  <a:lnTo>
                    <a:pt x="8528" y="3404"/>
                  </a:lnTo>
                  <a:lnTo>
                    <a:pt x="8506" y="3323"/>
                  </a:lnTo>
                  <a:lnTo>
                    <a:pt x="8484" y="3244"/>
                  </a:lnTo>
                  <a:lnTo>
                    <a:pt x="8459" y="3165"/>
                  </a:lnTo>
                  <a:lnTo>
                    <a:pt x="8433" y="3086"/>
                  </a:lnTo>
                  <a:lnTo>
                    <a:pt x="8407" y="3007"/>
                  </a:lnTo>
                  <a:lnTo>
                    <a:pt x="8407" y="3007"/>
                  </a:lnTo>
                  <a:lnTo>
                    <a:pt x="8360" y="2880"/>
                  </a:lnTo>
                  <a:lnTo>
                    <a:pt x="8314" y="2753"/>
                  </a:lnTo>
                  <a:lnTo>
                    <a:pt x="8261" y="2625"/>
                  </a:lnTo>
                  <a:lnTo>
                    <a:pt x="8205" y="2502"/>
                  </a:lnTo>
                  <a:lnTo>
                    <a:pt x="8146" y="2381"/>
                  </a:lnTo>
                  <a:lnTo>
                    <a:pt x="8081" y="2259"/>
                  </a:lnTo>
                  <a:lnTo>
                    <a:pt x="8015" y="2142"/>
                  </a:lnTo>
                  <a:lnTo>
                    <a:pt x="7944" y="2027"/>
                  </a:lnTo>
                  <a:lnTo>
                    <a:pt x="7869" y="1914"/>
                  </a:lnTo>
                  <a:lnTo>
                    <a:pt x="7790" y="1803"/>
                  </a:lnTo>
                  <a:lnTo>
                    <a:pt x="7708" y="1694"/>
                  </a:lnTo>
                  <a:lnTo>
                    <a:pt x="7623" y="1586"/>
                  </a:lnTo>
                  <a:lnTo>
                    <a:pt x="7532" y="1483"/>
                  </a:lnTo>
                  <a:lnTo>
                    <a:pt x="7439" y="1382"/>
                  </a:lnTo>
                  <a:lnTo>
                    <a:pt x="7342" y="1283"/>
                  </a:lnTo>
                  <a:lnTo>
                    <a:pt x="7241" y="1188"/>
                  </a:lnTo>
                  <a:lnTo>
                    <a:pt x="7241" y="1188"/>
                  </a:lnTo>
                  <a:lnTo>
                    <a:pt x="7136" y="1097"/>
                  </a:lnTo>
                  <a:lnTo>
                    <a:pt x="7083" y="1051"/>
                  </a:lnTo>
                  <a:lnTo>
                    <a:pt x="7028" y="1008"/>
                  </a:lnTo>
                  <a:lnTo>
                    <a:pt x="6972" y="964"/>
                  </a:lnTo>
                  <a:lnTo>
                    <a:pt x="6915" y="921"/>
                  </a:lnTo>
                  <a:lnTo>
                    <a:pt x="6859" y="881"/>
                  </a:lnTo>
                  <a:lnTo>
                    <a:pt x="6800" y="841"/>
                  </a:lnTo>
                  <a:lnTo>
                    <a:pt x="6741" y="800"/>
                  </a:lnTo>
                  <a:lnTo>
                    <a:pt x="6681" y="762"/>
                  </a:lnTo>
                  <a:lnTo>
                    <a:pt x="6620" y="723"/>
                  </a:lnTo>
                  <a:lnTo>
                    <a:pt x="6559" y="687"/>
                  </a:lnTo>
                  <a:lnTo>
                    <a:pt x="6497" y="651"/>
                  </a:lnTo>
                  <a:lnTo>
                    <a:pt x="6432" y="616"/>
                  </a:lnTo>
                  <a:lnTo>
                    <a:pt x="6369" y="582"/>
                  </a:lnTo>
                  <a:lnTo>
                    <a:pt x="6303" y="550"/>
                  </a:lnTo>
                  <a:lnTo>
                    <a:pt x="6238" y="519"/>
                  </a:lnTo>
                  <a:lnTo>
                    <a:pt x="6171" y="489"/>
                  </a:lnTo>
                  <a:lnTo>
                    <a:pt x="6105" y="459"/>
                  </a:lnTo>
                  <a:lnTo>
                    <a:pt x="6036" y="430"/>
                  </a:lnTo>
                  <a:lnTo>
                    <a:pt x="5967" y="404"/>
                  </a:lnTo>
                  <a:lnTo>
                    <a:pt x="5896" y="378"/>
                  </a:lnTo>
                  <a:lnTo>
                    <a:pt x="5826" y="353"/>
                  </a:lnTo>
                  <a:lnTo>
                    <a:pt x="5755" y="329"/>
                  </a:lnTo>
                  <a:lnTo>
                    <a:pt x="5682" y="309"/>
                  </a:lnTo>
                  <a:lnTo>
                    <a:pt x="5609" y="287"/>
                  </a:lnTo>
                  <a:lnTo>
                    <a:pt x="5537" y="269"/>
                  </a:lnTo>
                  <a:lnTo>
                    <a:pt x="5462" y="250"/>
                  </a:lnTo>
                  <a:lnTo>
                    <a:pt x="5387" y="234"/>
                  </a:lnTo>
                  <a:lnTo>
                    <a:pt x="5312" y="218"/>
                  </a:lnTo>
                  <a:lnTo>
                    <a:pt x="5236" y="204"/>
                  </a:lnTo>
                  <a:lnTo>
                    <a:pt x="5159" y="192"/>
                  </a:lnTo>
                  <a:lnTo>
                    <a:pt x="5159" y="192"/>
                  </a:lnTo>
                  <a:lnTo>
                    <a:pt x="5276" y="214"/>
                  </a:lnTo>
                  <a:lnTo>
                    <a:pt x="5391" y="238"/>
                  </a:lnTo>
                  <a:lnTo>
                    <a:pt x="5502" y="267"/>
                  </a:lnTo>
                  <a:lnTo>
                    <a:pt x="5609" y="299"/>
                  </a:lnTo>
                  <a:lnTo>
                    <a:pt x="5713" y="331"/>
                  </a:lnTo>
                  <a:lnTo>
                    <a:pt x="5814" y="368"/>
                  </a:lnTo>
                  <a:lnTo>
                    <a:pt x="5913" y="406"/>
                  </a:lnTo>
                  <a:lnTo>
                    <a:pt x="6008" y="446"/>
                  </a:lnTo>
                  <a:lnTo>
                    <a:pt x="6101" y="489"/>
                  </a:lnTo>
                  <a:lnTo>
                    <a:pt x="6192" y="535"/>
                  </a:lnTo>
                  <a:lnTo>
                    <a:pt x="6278" y="582"/>
                  </a:lnTo>
                  <a:lnTo>
                    <a:pt x="6365" y="630"/>
                  </a:lnTo>
                  <a:lnTo>
                    <a:pt x="6448" y="681"/>
                  </a:lnTo>
                  <a:lnTo>
                    <a:pt x="6527" y="731"/>
                  </a:lnTo>
                  <a:lnTo>
                    <a:pt x="6606" y="784"/>
                  </a:lnTo>
                  <a:lnTo>
                    <a:pt x="6683" y="839"/>
                  </a:lnTo>
                  <a:lnTo>
                    <a:pt x="6683" y="839"/>
                  </a:lnTo>
                  <a:lnTo>
                    <a:pt x="6604" y="790"/>
                  </a:lnTo>
                  <a:lnTo>
                    <a:pt x="6523" y="742"/>
                  </a:lnTo>
                  <a:lnTo>
                    <a:pt x="6442" y="695"/>
                  </a:lnTo>
                  <a:lnTo>
                    <a:pt x="6361" y="651"/>
                  </a:lnTo>
                  <a:lnTo>
                    <a:pt x="6278" y="608"/>
                  </a:lnTo>
                  <a:lnTo>
                    <a:pt x="6194" y="568"/>
                  </a:lnTo>
                  <a:lnTo>
                    <a:pt x="6109" y="529"/>
                  </a:lnTo>
                  <a:lnTo>
                    <a:pt x="6022" y="491"/>
                  </a:lnTo>
                  <a:lnTo>
                    <a:pt x="5935" y="457"/>
                  </a:lnTo>
                  <a:lnTo>
                    <a:pt x="5848" y="422"/>
                  </a:lnTo>
                  <a:lnTo>
                    <a:pt x="5759" y="390"/>
                  </a:lnTo>
                  <a:lnTo>
                    <a:pt x="5670" y="362"/>
                  </a:lnTo>
                  <a:lnTo>
                    <a:pt x="5579" y="333"/>
                  </a:lnTo>
                  <a:lnTo>
                    <a:pt x="5488" y="307"/>
                  </a:lnTo>
                  <a:lnTo>
                    <a:pt x="5397" y="283"/>
                  </a:lnTo>
                  <a:lnTo>
                    <a:pt x="5304" y="260"/>
                  </a:lnTo>
                  <a:lnTo>
                    <a:pt x="5304" y="260"/>
                  </a:lnTo>
                  <a:lnTo>
                    <a:pt x="5116" y="234"/>
                  </a:lnTo>
                  <a:lnTo>
                    <a:pt x="4936" y="212"/>
                  </a:lnTo>
                  <a:lnTo>
                    <a:pt x="4936" y="212"/>
                  </a:lnTo>
                  <a:lnTo>
                    <a:pt x="4866" y="204"/>
                  </a:lnTo>
                  <a:lnTo>
                    <a:pt x="4795" y="196"/>
                  </a:lnTo>
                  <a:lnTo>
                    <a:pt x="4724" y="192"/>
                  </a:lnTo>
                  <a:lnTo>
                    <a:pt x="4653" y="186"/>
                  </a:lnTo>
                  <a:lnTo>
                    <a:pt x="4653" y="186"/>
                  </a:lnTo>
                  <a:lnTo>
                    <a:pt x="4536" y="176"/>
                  </a:lnTo>
                  <a:lnTo>
                    <a:pt x="4421" y="167"/>
                  </a:lnTo>
                  <a:lnTo>
                    <a:pt x="4304" y="161"/>
                  </a:lnTo>
                  <a:lnTo>
                    <a:pt x="4188" y="159"/>
                  </a:lnTo>
                  <a:lnTo>
                    <a:pt x="4188" y="159"/>
                  </a:lnTo>
                  <a:lnTo>
                    <a:pt x="4106" y="161"/>
                  </a:lnTo>
                  <a:lnTo>
                    <a:pt x="4023" y="163"/>
                  </a:lnTo>
                  <a:lnTo>
                    <a:pt x="3938" y="167"/>
                  </a:lnTo>
                  <a:lnTo>
                    <a:pt x="3855" y="176"/>
                  </a:lnTo>
                  <a:lnTo>
                    <a:pt x="3855" y="176"/>
                  </a:lnTo>
                  <a:lnTo>
                    <a:pt x="3726" y="190"/>
                  </a:lnTo>
                  <a:lnTo>
                    <a:pt x="3598" y="210"/>
                  </a:lnTo>
                  <a:lnTo>
                    <a:pt x="3473" y="234"/>
                  </a:lnTo>
                  <a:lnTo>
                    <a:pt x="3346" y="260"/>
                  </a:lnTo>
                  <a:lnTo>
                    <a:pt x="3222" y="291"/>
                  </a:lnTo>
                  <a:lnTo>
                    <a:pt x="3099" y="325"/>
                  </a:lnTo>
                  <a:lnTo>
                    <a:pt x="2976" y="364"/>
                  </a:lnTo>
                  <a:lnTo>
                    <a:pt x="2854" y="406"/>
                  </a:lnTo>
                  <a:lnTo>
                    <a:pt x="2735" y="450"/>
                  </a:lnTo>
                  <a:lnTo>
                    <a:pt x="2616" y="499"/>
                  </a:lnTo>
                  <a:lnTo>
                    <a:pt x="2499" y="552"/>
                  </a:lnTo>
                  <a:lnTo>
                    <a:pt x="2383" y="608"/>
                  </a:lnTo>
                  <a:lnTo>
                    <a:pt x="2270" y="667"/>
                  </a:lnTo>
                  <a:lnTo>
                    <a:pt x="2157" y="729"/>
                  </a:lnTo>
                  <a:lnTo>
                    <a:pt x="2046" y="794"/>
                  </a:lnTo>
                  <a:lnTo>
                    <a:pt x="1937" y="863"/>
                  </a:lnTo>
                  <a:lnTo>
                    <a:pt x="1830" y="934"/>
                  </a:lnTo>
                  <a:lnTo>
                    <a:pt x="1725" y="1010"/>
                  </a:lnTo>
                  <a:lnTo>
                    <a:pt x="1623" y="1087"/>
                  </a:lnTo>
                  <a:lnTo>
                    <a:pt x="1522" y="1168"/>
                  </a:lnTo>
                  <a:lnTo>
                    <a:pt x="1423" y="1253"/>
                  </a:lnTo>
                  <a:lnTo>
                    <a:pt x="1326" y="1340"/>
                  </a:lnTo>
                  <a:lnTo>
                    <a:pt x="1233" y="1429"/>
                  </a:lnTo>
                  <a:lnTo>
                    <a:pt x="1140" y="1522"/>
                  </a:lnTo>
                  <a:lnTo>
                    <a:pt x="1051" y="1617"/>
                  </a:lnTo>
                  <a:lnTo>
                    <a:pt x="965" y="1716"/>
                  </a:lnTo>
                  <a:lnTo>
                    <a:pt x="882" y="1817"/>
                  </a:lnTo>
                  <a:lnTo>
                    <a:pt x="799" y="1920"/>
                  </a:lnTo>
                  <a:lnTo>
                    <a:pt x="722" y="2027"/>
                  </a:lnTo>
                  <a:lnTo>
                    <a:pt x="645" y="2134"/>
                  </a:lnTo>
                  <a:lnTo>
                    <a:pt x="572" y="2247"/>
                  </a:lnTo>
                  <a:lnTo>
                    <a:pt x="504" y="2361"/>
                  </a:lnTo>
                  <a:close/>
                  <a:moveTo>
                    <a:pt x="4391" y="0"/>
                  </a:moveTo>
                  <a:lnTo>
                    <a:pt x="4391" y="0"/>
                  </a:lnTo>
                  <a:lnTo>
                    <a:pt x="4294" y="2"/>
                  </a:lnTo>
                  <a:lnTo>
                    <a:pt x="4197" y="4"/>
                  </a:lnTo>
                  <a:lnTo>
                    <a:pt x="4102" y="10"/>
                  </a:lnTo>
                  <a:lnTo>
                    <a:pt x="4005" y="16"/>
                  </a:lnTo>
                  <a:lnTo>
                    <a:pt x="3910" y="26"/>
                  </a:lnTo>
                  <a:lnTo>
                    <a:pt x="3813" y="36"/>
                  </a:lnTo>
                  <a:lnTo>
                    <a:pt x="3718" y="50"/>
                  </a:lnTo>
                  <a:lnTo>
                    <a:pt x="3623" y="66"/>
                  </a:lnTo>
                  <a:lnTo>
                    <a:pt x="3526" y="83"/>
                  </a:lnTo>
                  <a:lnTo>
                    <a:pt x="3431" y="103"/>
                  </a:lnTo>
                  <a:lnTo>
                    <a:pt x="3338" y="125"/>
                  </a:lnTo>
                  <a:lnTo>
                    <a:pt x="3243" y="147"/>
                  </a:lnTo>
                  <a:lnTo>
                    <a:pt x="3150" y="174"/>
                  </a:lnTo>
                  <a:lnTo>
                    <a:pt x="3057" y="202"/>
                  </a:lnTo>
                  <a:lnTo>
                    <a:pt x="2964" y="230"/>
                  </a:lnTo>
                  <a:lnTo>
                    <a:pt x="2871" y="262"/>
                  </a:lnTo>
                  <a:lnTo>
                    <a:pt x="2871" y="262"/>
                  </a:lnTo>
                  <a:lnTo>
                    <a:pt x="2788" y="293"/>
                  </a:lnTo>
                  <a:lnTo>
                    <a:pt x="2707" y="323"/>
                  </a:lnTo>
                  <a:lnTo>
                    <a:pt x="2624" y="357"/>
                  </a:lnTo>
                  <a:lnTo>
                    <a:pt x="2543" y="392"/>
                  </a:lnTo>
                  <a:lnTo>
                    <a:pt x="2543" y="392"/>
                  </a:lnTo>
                  <a:lnTo>
                    <a:pt x="2533" y="402"/>
                  </a:lnTo>
                  <a:lnTo>
                    <a:pt x="2527" y="412"/>
                  </a:lnTo>
                  <a:lnTo>
                    <a:pt x="2525" y="420"/>
                  </a:lnTo>
                  <a:lnTo>
                    <a:pt x="2527" y="426"/>
                  </a:lnTo>
                  <a:lnTo>
                    <a:pt x="2527" y="426"/>
                  </a:lnTo>
                  <a:lnTo>
                    <a:pt x="2402" y="483"/>
                  </a:lnTo>
                  <a:lnTo>
                    <a:pt x="2278" y="545"/>
                  </a:lnTo>
                  <a:lnTo>
                    <a:pt x="2157" y="610"/>
                  </a:lnTo>
                  <a:lnTo>
                    <a:pt x="2036" y="677"/>
                  </a:lnTo>
                  <a:lnTo>
                    <a:pt x="1919" y="750"/>
                  </a:lnTo>
                  <a:lnTo>
                    <a:pt x="1803" y="824"/>
                  </a:lnTo>
                  <a:lnTo>
                    <a:pt x="1690" y="903"/>
                  </a:lnTo>
                  <a:lnTo>
                    <a:pt x="1579" y="984"/>
                  </a:lnTo>
                  <a:lnTo>
                    <a:pt x="1579" y="984"/>
                  </a:lnTo>
                  <a:lnTo>
                    <a:pt x="1524" y="1029"/>
                  </a:lnTo>
                  <a:lnTo>
                    <a:pt x="1524" y="1029"/>
                  </a:lnTo>
                  <a:lnTo>
                    <a:pt x="1450" y="1093"/>
                  </a:lnTo>
                  <a:lnTo>
                    <a:pt x="1377" y="1160"/>
                  </a:lnTo>
                  <a:lnTo>
                    <a:pt x="1306" y="1227"/>
                  </a:lnTo>
                  <a:lnTo>
                    <a:pt x="1237" y="1297"/>
                  </a:lnTo>
                  <a:lnTo>
                    <a:pt x="1169" y="1368"/>
                  </a:lnTo>
                  <a:lnTo>
                    <a:pt x="1104" y="1441"/>
                  </a:lnTo>
                  <a:lnTo>
                    <a:pt x="1039" y="1514"/>
                  </a:lnTo>
                  <a:lnTo>
                    <a:pt x="977" y="1588"/>
                  </a:lnTo>
                  <a:lnTo>
                    <a:pt x="916" y="1665"/>
                  </a:lnTo>
                  <a:lnTo>
                    <a:pt x="857" y="1744"/>
                  </a:lnTo>
                  <a:lnTo>
                    <a:pt x="801" y="1823"/>
                  </a:lnTo>
                  <a:lnTo>
                    <a:pt x="746" y="1904"/>
                  </a:lnTo>
                  <a:lnTo>
                    <a:pt x="694" y="1985"/>
                  </a:lnTo>
                  <a:lnTo>
                    <a:pt x="643" y="2065"/>
                  </a:lnTo>
                  <a:lnTo>
                    <a:pt x="595" y="2150"/>
                  </a:lnTo>
                  <a:lnTo>
                    <a:pt x="548" y="2233"/>
                  </a:lnTo>
                  <a:lnTo>
                    <a:pt x="548" y="2233"/>
                  </a:lnTo>
                  <a:lnTo>
                    <a:pt x="483" y="2356"/>
                  </a:lnTo>
                  <a:lnTo>
                    <a:pt x="411" y="2496"/>
                  </a:lnTo>
                  <a:lnTo>
                    <a:pt x="334" y="2644"/>
                  </a:lnTo>
                  <a:lnTo>
                    <a:pt x="298" y="2722"/>
                  </a:lnTo>
                  <a:lnTo>
                    <a:pt x="261" y="2801"/>
                  </a:lnTo>
                  <a:lnTo>
                    <a:pt x="261" y="2801"/>
                  </a:lnTo>
                  <a:lnTo>
                    <a:pt x="235" y="2862"/>
                  </a:lnTo>
                  <a:lnTo>
                    <a:pt x="235" y="2862"/>
                  </a:lnTo>
                  <a:lnTo>
                    <a:pt x="203" y="2955"/>
                  </a:lnTo>
                  <a:lnTo>
                    <a:pt x="172" y="3048"/>
                  </a:lnTo>
                  <a:lnTo>
                    <a:pt x="144" y="3141"/>
                  </a:lnTo>
                  <a:lnTo>
                    <a:pt x="118" y="3236"/>
                  </a:lnTo>
                  <a:lnTo>
                    <a:pt x="93" y="3331"/>
                  </a:lnTo>
                  <a:lnTo>
                    <a:pt x="71" y="3426"/>
                  </a:lnTo>
                  <a:lnTo>
                    <a:pt x="51" y="3521"/>
                  </a:lnTo>
                  <a:lnTo>
                    <a:pt x="33" y="3618"/>
                  </a:lnTo>
                  <a:lnTo>
                    <a:pt x="33" y="3618"/>
                  </a:lnTo>
                  <a:lnTo>
                    <a:pt x="51" y="3531"/>
                  </a:lnTo>
                  <a:lnTo>
                    <a:pt x="71" y="3446"/>
                  </a:lnTo>
                  <a:lnTo>
                    <a:pt x="71" y="3446"/>
                  </a:lnTo>
                  <a:lnTo>
                    <a:pt x="89" y="3371"/>
                  </a:lnTo>
                  <a:lnTo>
                    <a:pt x="110" y="3298"/>
                  </a:lnTo>
                  <a:lnTo>
                    <a:pt x="130" y="3224"/>
                  </a:lnTo>
                  <a:lnTo>
                    <a:pt x="152" y="3151"/>
                  </a:lnTo>
                  <a:lnTo>
                    <a:pt x="176" y="3078"/>
                  </a:lnTo>
                  <a:lnTo>
                    <a:pt x="201" y="3005"/>
                  </a:lnTo>
                  <a:lnTo>
                    <a:pt x="227" y="2935"/>
                  </a:lnTo>
                  <a:lnTo>
                    <a:pt x="253" y="2862"/>
                  </a:lnTo>
                  <a:lnTo>
                    <a:pt x="281" y="2791"/>
                  </a:lnTo>
                  <a:lnTo>
                    <a:pt x="312" y="2722"/>
                  </a:lnTo>
                  <a:lnTo>
                    <a:pt x="342" y="2652"/>
                  </a:lnTo>
                  <a:lnTo>
                    <a:pt x="374" y="2583"/>
                  </a:lnTo>
                  <a:lnTo>
                    <a:pt x="409" y="2514"/>
                  </a:lnTo>
                  <a:lnTo>
                    <a:pt x="443" y="2445"/>
                  </a:lnTo>
                  <a:lnTo>
                    <a:pt x="477" y="2379"/>
                  </a:lnTo>
                  <a:lnTo>
                    <a:pt x="514" y="2312"/>
                  </a:lnTo>
                  <a:lnTo>
                    <a:pt x="514" y="2312"/>
                  </a:lnTo>
                  <a:lnTo>
                    <a:pt x="494" y="2365"/>
                  </a:lnTo>
                  <a:lnTo>
                    <a:pt x="471" y="2423"/>
                  </a:lnTo>
                  <a:lnTo>
                    <a:pt x="423" y="2553"/>
                  </a:lnTo>
                  <a:lnTo>
                    <a:pt x="374" y="2690"/>
                  </a:lnTo>
                  <a:lnTo>
                    <a:pt x="328" y="2821"/>
                  </a:lnTo>
                  <a:lnTo>
                    <a:pt x="328" y="2821"/>
                  </a:lnTo>
                  <a:lnTo>
                    <a:pt x="298" y="2898"/>
                  </a:lnTo>
                  <a:lnTo>
                    <a:pt x="269" y="2975"/>
                  </a:lnTo>
                  <a:lnTo>
                    <a:pt x="243" y="3054"/>
                  </a:lnTo>
                  <a:lnTo>
                    <a:pt x="217" y="3131"/>
                  </a:lnTo>
                  <a:lnTo>
                    <a:pt x="192" y="3211"/>
                  </a:lnTo>
                  <a:lnTo>
                    <a:pt x="170" y="3290"/>
                  </a:lnTo>
                  <a:lnTo>
                    <a:pt x="148" y="3371"/>
                  </a:lnTo>
                  <a:lnTo>
                    <a:pt x="128" y="3454"/>
                  </a:lnTo>
                  <a:lnTo>
                    <a:pt x="110" y="3535"/>
                  </a:lnTo>
                  <a:lnTo>
                    <a:pt x="91" y="3618"/>
                  </a:lnTo>
                  <a:lnTo>
                    <a:pt x="75" y="3701"/>
                  </a:lnTo>
                  <a:lnTo>
                    <a:pt x="61" y="3783"/>
                  </a:lnTo>
                  <a:lnTo>
                    <a:pt x="49" y="3866"/>
                  </a:lnTo>
                  <a:lnTo>
                    <a:pt x="37" y="3949"/>
                  </a:lnTo>
                  <a:lnTo>
                    <a:pt x="27" y="4032"/>
                  </a:lnTo>
                  <a:lnTo>
                    <a:pt x="21" y="4115"/>
                  </a:lnTo>
                  <a:lnTo>
                    <a:pt x="21" y="4115"/>
                  </a:lnTo>
                  <a:lnTo>
                    <a:pt x="13" y="4200"/>
                  </a:lnTo>
                  <a:lnTo>
                    <a:pt x="8" y="4283"/>
                  </a:lnTo>
                  <a:lnTo>
                    <a:pt x="6" y="4366"/>
                  </a:lnTo>
                  <a:lnTo>
                    <a:pt x="4" y="4448"/>
                  </a:lnTo>
                  <a:lnTo>
                    <a:pt x="4" y="4531"/>
                  </a:lnTo>
                  <a:lnTo>
                    <a:pt x="6" y="4612"/>
                  </a:lnTo>
                  <a:lnTo>
                    <a:pt x="11" y="4693"/>
                  </a:lnTo>
                  <a:lnTo>
                    <a:pt x="17" y="4774"/>
                  </a:lnTo>
                  <a:lnTo>
                    <a:pt x="23" y="4855"/>
                  </a:lnTo>
                  <a:lnTo>
                    <a:pt x="31" y="4934"/>
                  </a:lnTo>
                  <a:lnTo>
                    <a:pt x="41" y="5012"/>
                  </a:lnTo>
                  <a:lnTo>
                    <a:pt x="53" y="5091"/>
                  </a:lnTo>
                  <a:lnTo>
                    <a:pt x="65" y="5168"/>
                  </a:lnTo>
                  <a:lnTo>
                    <a:pt x="81" y="5243"/>
                  </a:lnTo>
                  <a:lnTo>
                    <a:pt x="95" y="5318"/>
                  </a:lnTo>
                  <a:lnTo>
                    <a:pt x="114" y="5390"/>
                  </a:lnTo>
                  <a:lnTo>
                    <a:pt x="114" y="5390"/>
                  </a:lnTo>
                  <a:lnTo>
                    <a:pt x="103" y="5318"/>
                  </a:lnTo>
                  <a:lnTo>
                    <a:pt x="93" y="5243"/>
                  </a:lnTo>
                  <a:lnTo>
                    <a:pt x="85" y="5168"/>
                  </a:lnTo>
                  <a:lnTo>
                    <a:pt x="79" y="5095"/>
                  </a:lnTo>
                  <a:lnTo>
                    <a:pt x="75" y="5020"/>
                  </a:lnTo>
                  <a:lnTo>
                    <a:pt x="71" y="4948"/>
                  </a:lnTo>
                  <a:lnTo>
                    <a:pt x="65" y="4798"/>
                  </a:lnTo>
                  <a:lnTo>
                    <a:pt x="65" y="4649"/>
                  </a:lnTo>
                  <a:lnTo>
                    <a:pt x="69" y="4497"/>
                  </a:lnTo>
                  <a:lnTo>
                    <a:pt x="75" y="4343"/>
                  </a:lnTo>
                  <a:lnTo>
                    <a:pt x="85" y="4186"/>
                  </a:lnTo>
                  <a:lnTo>
                    <a:pt x="85" y="4186"/>
                  </a:lnTo>
                  <a:lnTo>
                    <a:pt x="95" y="4018"/>
                  </a:lnTo>
                  <a:lnTo>
                    <a:pt x="99" y="3929"/>
                  </a:lnTo>
                  <a:lnTo>
                    <a:pt x="106" y="3838"/>
                  </a:lnTo>
                  <a:lnTo>
                    <a:pt x="112" y="3749"/>
                  </a:lnTo>
                  <a:lnTo>
                    <a:pt x="122" y="3662"/>
                  </a:lnTo>
                  <a:lnTo>
                    <a:pt x="130" y="3620"/>
                  </a:lnTo>
                  <a:lnTo>
                    <a:pt x="136" y="3579"/>
                  </a:lnTo>
                  <a:lnTo>
                    <a:pt x="144" y="3541"/>
                  </a:lnTo>
                  <a:lnTo>
                    <a:pt x="154" y="3503"/>
                  </a:lnTo>
                  <a:lnTo>
                    <a:pt x="154" y="3503"/>
                  </a:lnTo>
                  <a:lnTo>
                    <a:pt x="178" y="3410"/>
                  </a:lnTo>
                  <a:lnTo>
                    <a:pt x="205" y="3317"/>
                  </a:lnTo>
                  <a:lnTo>
                    <a:pt x="231" y="3226"/>
                  </a:lnTo>
                  <a:lnTo>
                    <a:pt x="259" y="3137"/>
                  </a:lnTo>
                  <a:lnTo>
                    <a:pt x="287" y="3048"/>
                  </a:lnTo>
                  <a:lnTo>
                    <a:pt x="318" y="2961"/>
                  </a:lnTo>
                  <a:lnTo>
                    <a:pt x="350" y="2876"/>
                  </a:lnTo>
                  <a:lnTo>
                    <a:pt x="382" y="2791"/>
                  </a:lnTo>
                  <a:lnTo>
                    <a:pt x="417" y="2708"/>
                  </a:lnTo>
                  <a:lnTo>
                    <a:pt x="453" y="2625"/>
                  </a:lnTo>
                  <a:lnTo>
                    <a:pt x="490" y="2544"/>
                  </a:lnTo>
                  <a:lnTo>
                    <a:pt x="528" y="2466"/>
                  </a:lnTo>
                  <a:lnTo>
                    <a:pt x="568" y="2387"/>
                  </a:lnTo>
                  <a:lnTo>
                    <a:pt x="609" y="2310"/>
                  </a:lnTo>
                  <a:lnTo>
                    <a:pt x="651" y="2233"/>
                  </a:lnTo>
                  <a:lnTo>
                    <a:pt x="694" y="2158"/>
                  </a:lnTo>
                  <a:lnTo>
                    <a:pt x="694" y="2158"/>
                  </a:lnTo>
                  <a:lnTo>
                    <a:pt x="740" y="2084"/>
                  </a:lnTo>
                  <a:lnTo>
                    <a:pt x="787" y="2011"/>
                  </a:lnTo>
                  <a:lnTo>
                    <a:pt x="833" y="1938"/>
                  </a:lnTo>
                  <a:lnTo>
                    <a:pt x="884" y="1867"/>
                  </a:lnTo>
                  <a:lnTo>
                    <a:pt x="934" y="1797"/>
                  </a:lnTo>
                  <a:lnTo>
                    <a:pt x="989" y="1728"/>
                  </a:lnTo>
                  <a:lnTo>
                    <a:pt x="1043" y="1659"/>
                  </a:lnTo>
                  <a:lnTo>
                    <a:pt x="1100" y="1592"/>
                  </a:lnTo>
                  <a:lnTo>
                    <a:pt x="1159" y="1526"/>
                  </a:lnTo>
                  <a:lnTo>
                    <a:pt x="1217" y="1461"/>
                  </a:lnTo>
                  <a:lnTo>
                    <a:pt x="1280" y="1398"/>
                  </a:lnTo>
                  <a:lnTo>
                    <a:pt x="1345" y="1336"/>
                  </a:lnTo>
                  <a:lnTo>
                    <a:pt x="1411" y="1275"/>
                  </a:lnTo>
                  <a:lnTo>
                    <a:pt x="1478" y="1214"/>
                  </a:lnTo>
                  <a:lnTo>
                    <a:pt x="1549" y="1156"/>
                  </a:lnTo>
                  <a:lnTo>
                    <a:pt x="1621" y="1099"/>
                  </a:lnTo>
                  <a:lnTo>
                    <a:pt x="1621" y="1099"/>
                  </a:lnTo>
                  <a:lnTo>
                    <a:pt x="1648" y="1081"/>
                  </a:lnTo>
                  <a:lnTo>
                    <a:pt x="1672" y="1065"/>
                  </a:lnTo>
                  <a:lnTo>
                    <a:pt x="1723" y="1037"/>
                  </a:lnTo>
                  <a:lnTo>
                    <a:pt x="1769" y="1012"/>
                  </a:lnTo>
                  <a:lnTo>
                    <a:pt x="1793" y="998"/>
                  </a:lnTo>
                  <a:lnTo>
                    <a:pt x="1820" y="982"/>
                  </a:lnTo>
                  <a:lnTo>
                    <a:pt x="1820" y="982"/>
                  </a:lnTo>
                  <a:lnTo>
                    <a:pt x="1737" y="1045"/>
                  </a:lnTo>
                  <a:lnTo>
                    <a:pt x="1656" y="1109"/>
                  </a:lnTo>
                  <a:lnTo>
                    <a:pt x="1577" y="1176"/>
                  </a:lnTo>
                  <a:lnTo>
                    <a:pt x="1502" y="1245"/>
                  </a:lnTo>
                  <a:lnTo>
                    <a:pt x="1427" y="1314"/>
                  </a:lnTo>
                  <a:lnTo>
                    <a:pt x="1357" y="1384"/>
                  </a:lnTo>
                  <a:lnTo>
                    <a:pt x="1286" y="1457"/>
                  </a:lnTo>
                  <a:lnTo>
                    <a:pt x="1219" y="1532"/>
                  </a:lnTo>
                  <a:lnTo>
                    <a:pt x="1153" y="1607"/>
                  </a:lnTo>
                  <a:lnTo>
                    <a:pt x="1090" y="1683"/>
                  </a:lnTo>
                  <a:lnTo>
                    <a:pt x="1027" y="1762"/>
                  </a:lnTo>
                  <a:lnTo>
                    <a:pt x="969" y="1841"/>
                  </a:lnTo>
                  <a:lnTo>
                    <a:pt x="910" y="1922"/>
                  </a:lnTo>
                  <a:lnTo>
                    <a:pt x="855" y="2005"/>
                  </a:lnTo>
                  <a:lnTo>
                    <a:pt x="801" y="2088"/>
                  </a:lnTo>
                  <a:lnTo>
                    <a:pt x="748" y="2171"/>
                  </a:lnTo>
                  <a:lnTo>
                    <a:pt x="748" y="2171"/>
                  </a:lnTo>
                  <a:lnTo>
                    <a:pt x="698" y="2259"/>
                  </a:lnTo>
                  <a:lnTo>
                    <a:pt x="649" y="2346"/>
                  </a:lnTo>
                  <a:lnTo>
                    <a:pt x="603" y="2435"/>
                  </a:lnTo>
                  <a:lnTo>
                    <a:pt x="556" y="2526"/>
                  </a:lnTo>
                  <a:lnTo>
                    <a:pt x="514" y="2619"/>
                  </a:lnTo>
                  <a:lnTo>
                    <a:pt x="473" y="2712"/>
                  </a:lnTo>
                  <a:lnTo>
                    <a:pt x="433" y="2805"/>
                  </a:lnTo>
                  <a:lnTo>
                    <a:pt x="397" y="2900"/>
                  </a:lnTo>
                  <a:lnTo>
                    <a:pt x="360" y="2997"/>
                  </a:lnTo>
                  <a:lnTo>
                    <a:pt x="328" y="3094"/>
                  </a:lnTo>
                  <a:lnTo>
                    <a:pt x="296" y="3193"/>
                  </a:lnTo>
                  <a:lnTo>
                    <a:pt x="267" y="3294"/>
                  </a:lnTo>
                  <a:lnTo>
                    <a:pt x="239" y="3395"/>
                  </a:lnTo>
                  <a:lnTo>
                    <a:pt x="213" y="3498"/>
                  </a:lnTo>
                  <a:lnTo>
                    <a:pt x="190" y="3602"/>
                  </a:lnTo>
                  <a:lnTo>
                    <a:pt x="168" y="3707"/>
                  </a:lnTo>
                  <a:lnTo>
                    <a:pt x="168" y="3707"/>
                  </a:lnTo>
                  <a:lnTo>
                    <a:pt x="140" y="3836"/>
                  </a:lnTo>
                  <a:lnTo>
                    <a:pt x="118" y="3955"/>
                  </a:lnTo>
                  <a:lnTo>
                    <a:pt x="99" y="4071"/>
                  </a:lnTo>
                  <a:lnTo>
                    <a:pt x="85" y="4186"/>
                  </a:lnTo>
                  <a:lnTo>
                    <a:pt x="85" y="4186"/>
                  </a:lnTo>
                  <a:lnTo>
                    <a:pt x="83" y="4307"/>
                  </a:lnTo>
                  <a:lnTo>
                    <a:pt x="85" y="4420"/>
                  </a:lnTo>
                  <a:lnTo>
                    <a:pt x="89" y="4630"/>
                  </a:lnTo>
                  <a:lnTo>
                    <a:pt x="89" y="4630"/>
                  </a:lnTo>
                  <a:lnTo>
                    <a:pt x="93" y="4758"/>
                  </a:lnTo>
                  <a:lnTo>
                    <a:pt x="101" y="4879"/>
                  </a:lnTo>
                  <a:lnTo>
                    <a:pt x="112" y="4992"/>
                  </a:lnTo>
                  <a:lnTo>
                    <a:pt x="128" y="5099"/>
                  </a:lnTo>
                  <a:lnTo>
                    <a:pt x="144" y="5200"/>
                  </a:lnTo>
                  <a:lnTo>
                    <a:pt x="164" y="5297"/>
                  </a:lnTo>
                  <a:lnTo>
                    <a:pt x="186" y="5388"/>
                  </a:lnTo>
                  <a:lnTo>
                    <a:pt x="209" y="5475"/>
                  </a:lnTo>
                  <a:lnTo>
                    <a:pt x="209" y="5475"/>
                  </a:lnTo>
                  <a:lnTo>
                    <a:pt x="233" y="5556"/>
                  </a:lnTo>
                  <a:lnTo>
                    <a:pt x="259" y="5635"/>
                  </a:lnTo>
                  <a:lnTo>
                    <a:pt x="285" y="5710"/>
                  </a:lnTo>
                  <a:lnTo>
                    <a:pt x="314" y="5783"/>
                  </a:lnTo>
                  <a:lnTo>
                    <a:pt x="342" y="5853"/>
                  </a:lnTo>
                  <a:lnTo>
                    <a:pt x="370" y="5920"/>
                  </a:lnTo>
                  <a:lnTo>
                    <a:pt x="431" y="6051"/>
                  </a:lnTo>
                  <a:lnTo>
                    <a:pt x="431" y="6051"/>
                  </a:lnTo>
                  <a:lnTo>
                    <a:pt x="498" y="6179"/>
                  </a:lnTo>
                  <a:lnTo>
                    <a:pt x="564" y="6308"/>
                  </a:lnTo>
                  <a:lnTo>
                    <a:pt x="637" y="6439"/>
                  </a:lnTo>
                  <a:lnTo>
                    <a:pt x="718" y="6579"/>
                  </a:lnTo>
                  <a:lnTo>
                    <a:pt x="807" y="6726"/>
                  </a:lnTo>
                  <a:lnTo>
                    <a:pt x="908" y="6886"/>
                  </a:lnTo>
                  <a:lnTo>
                    <a:pt x="1025" y="7060"/>
                  </a:lnTo>
                  <a:lnTo>
                    <a:pt x="1159" y="7250"/>
                  </a:lnTo>
                  <a:lnTo>
                    <a:pt x="1159" y="7250"/>
                  </a:lnTo>
                  <a:lnTo>
                    <a:pt x="1086" y="7157"/>
                  </a:lnTo>
                  <a:lnTo>
                    <a:pt x="1013" y="7060"/>
                  </a:lnTo>
                  <a:lnTo>
                    <a:pt x="936" y="6955"/>
                  </a:lnTo>
                  <a:lnTo>
                    <a:pt x="857" y="6846"/>
                  </a:lnTo>
                  <a:lnTo>
                    <a:pt x="781" y="6732"/>
                  </a:lnTo>
                  <a:lnTo>
                    <a:pt x="706" y="6617"/>
                  </a:lnTo>
                  <a:lnTo>
                    <a:pt x="631" y="6498"/>
                  </a:lnTo>
                  <a:lnTo>
                    <a:pt x="560" y="6377"/>
                  </a:lnTo>
                  <a:lnTo>
                    <a:pt x="560" y="6377"/>
                  </a:lnTo>
                  <a:lnTo>
                    <a:pt x="496" y="6257"/>
                  </a:lnTo>
                  <a:lnTo>
                    <a:pt x="433" y="6138"/>
                  </a:lnTo>
                  <a:lnTo>
                    <a:pt x="376" y="6021"/>
                  </a:lnTo>
                  <a:lnTo>
                    <a:pt x="326" y="5910"/>
                  </a:lnTo>
                  <a:lnTo>
                    <a:pt x="279" y="5803"/>
                  </a:lnTo>
                  <a:lnTo>
                    <a:pt x="239" y="5704"/>
                  </a:lnTo>
                  <a:lnTo>
                    <a:pt x="205" y="5613"/>
                  </a:lnTo>
                  <a:lnTo>
                    <a:pt x="174" y="5532"/>
                  </a:lnTo>
                  <a:lnTo>
                    <a:pt x="174" y="5532"/>
                  </a:lnTo>
                  <a:lnTo>
                    <a:pt x="194" y="5607"/>
                  </a:lnTo>
                  <a:lnTo>
                    <a:pt x="217" y="5688"/>
                  </a:lnTo>
                  <a:lnTo>
                    <a:pt x="243" y="5770"/>
                  </a:lnTo>
                  <a:lnTo>
                    <a:pt x="273" y="5855"/>
                  </a:lnTo>
                  <a:lnTo>
                    <a:pt x="306" y="5944"/>
                  </a:lnTo>
                  <a:lnTo>
                    <a:pt x="340" y="6035"/>
                  </a:lnTo>
                  <a:lnTo>
                    <a:pt x="378" y="6128"/>
                  </a:lnTo>
                  <a:lnTo>
                    <a:pt x="421" y="6223"/>
                  </a:lnTo>
                  <a:lnTo>
                    <a:pt x="465" y="6320"/>
                  </a:lnTo>
                  <a:lnTo>
                    <a:pt x="514" y="6417"/>
                  </a:lnTo>
                  <a:lnTo>
                    <a:pt x="566" y="6514"/>
                  </a:lnTo>
                  <a:lnTo>
                    <a:pt x="621" y="6611"/>
                  </a:lnTo>
                  <a:lnTo>
                    <a:pt x="678" y="6708"/>
                  </a:lnTo>
                  <a:lnTo>
                    <a:pt x="738" y="6805"/>
                  </a:lnTo>
                  <a:lnTo>
                    <a:pt x="803" y="6902"/>
                  </a:lnTo>
                  <a:lnTo>
                    <a:pt x="870" y="6997"/>
                  </a:lnTo>
                  <a:lnTo>
                    <a:pt x="870" y="6997"/>
                  </a:lnTo>
                  <a:lnTo>
                    <a:pt x="938" y="7090"/>
                  </a:lnTo>
                  <a:lnTo>
                    <a:pt x="1011" y="7181"/>
                  </a:lnTo>
                  <a:lnTo>
                    <a:pt x="1084" y="7272"/>
                  </a:lnTo>
                  <a:lnTo>
                    <a:pt x="1161" y="7359"/>
                  </a:lnTo>
                  <a:lnTo>
                    <a:pt x="1237" y="7442"/>
                  </a:lnTo>
                  <a:lnTo>
                    <a:pt x="1316" y="7525"/>
                  </a:lnTo>
                  <a:lnTo>
                    <a:pt x="1397" y="7604"/>
                  </a:lnTo>
                  <a:lnTo>
                    <a:pt x="1478" y="7678"/>
                  </a:lnTo>
                  <a:lnTo>
                    <a:pt x="1559" y="7753"/>
                  </a:lnTo>
                  <a:lnTo>
                    <a:pt x="1640" y="7822"/>
                  </a:lnTo>
                  <a:lnTo>
                    <a:pt x="1718" y="7889"/>
                  </a:lnTo>
                  <a:lnTo>
                    <a:pt x="1799" y="7953"/>
                  </a:lnTo>
                  <a:lnTo>
                    <a:pt x="1878" y="8014"/>
                  </a:lnTo>
                  <a:lnTo>
                    <a:pt x="1955" y="8071"/>
                  </a:lnTo>
                  <a:lnTo>
                    <a:pt x="2030" y="8123"/>
                  </a:lnTo>
                  <a:lnTo>
                    <a:pt x="2105" y="8174"/>
                  </a:lnTo>
                  <a:lnTo>
                    <a:pt x="2105" y="8174"/>
                  </a:lnTo>
                  <a:lnTo>
                    <a:pt x="2191" y="8228"/>
                  </a:lnTo>
                  <a:lnTo>
                    <a:pt x="2272" y="8279"/>
                  </a:lnTo>
                  <a:lnTo>
                    <a:pt x="2347" y="8323"/>
                  </a:lnTo>
                  <a:lnTo>
                    <a:pt x="2420" y="8364"/>
                  </a:lnTo>
                  <a:lnTo>
                    <a:pt x="2487" y="8400"/>
                  </a:lnTo>
                  <a:lnTo>
                    <a:pt x="2551" y="8432"/>
                  </a:lnTo>
                  <a:lnTo>
                    <a:pt x="2610" y="8461"/>
                  </a:lnTo>
                  <a:lnTo>
                    <a:pt x="2666" y="8487"/>
                  </a:lnTo>
                  <a:lnTo>
                    <a:pt x="2721" y="8511"/>
                  </a:lnTo>
                  <a:lnTo>
                    <a:pt x="2772" y="8531"/>
                  </a:lnTo>
                  <a:lnTo>
                    <a:pt x="2865" y="8566"/>
                  </a:lnTo>
                  <a:lnTo>
                    <a:pt x="2951" y="8596"/>
                  </a:lnTo>
                  <a:lnTo>
                    <a:pt x="3034" y="8622"/>
                  </a:lnTo>
                  <a:lnTo>
                    <a:pt x="3034" y="8622"/>
                  </a:lnTo>
                  <a:lnTo>
                    <a:pt x="3198" y="8667"/>
                  </a:lnTo>
                  <a:lnTo>
                    <a:pt x="3289" y="8689"/>
                  </a:lnTo>
                  <a:lnTo>
                    <a:pt x="3386" y="8709"/>
                  </a:lnTo>
                  <a:lnTo>
                    <a:pt x="3497" y="8731"/>
                  </a:lnTo>
                  <a:lnTo>
                    <a:pt x="3625" y="8752"/>
                  </a:lnTo>
                  <a:lnTo>
                    <a:pt x="3770" y="8774"/>
                  </a:lnTo>
                  <a:lnTo>
                    <a:pt x="3940" y="8794"/>
                  </a:lnTo>
                  <a:lnTo>
                    <a:pt x="3940" y="8794"/>
                  </a:lnTo>
                  <a:lnTo>
                    <a:pt x="3984" y="8798"/>
                  </a:lnTo>
                  <a:lnTo>
                    <a:pt x="4043" y="8802"/>
                  </a:lnTo>
                  <a:lnTo>
                    <a:pt x="4112" y="8804"/>
                  </a:lnTo>
                  <a:lnTo>
                    <a:pt x="4193" y="8804"/>
                  </a:lnTo>
                  <a:lnTo>
                    <a:pt x="4193" y="8804"/>
                  </a:lnTo>
                  <a:lnTo>
                    <a:pt x="4290" y="8804"/>
                  </a:lnTo>
                  <a:lnTo>
                    <a:pt x="4395" y="8800"/>
                  </a:lnTo>
                  <a:lnTo>
                    <a:pt x="4508" y="8792"/>
                  </a:lnTo>
                  <a:lnTo>
                    <a:pt x="4623" y="8780"/>
                  </a:lnTo>
                  <a:lnTo>
                    <a:pt x="4623" y="8780"/>
                  </a:lnTo>
                  <a:lnTo>
                    <a:pt x="4736" y="8768"/>
                  </a:lnTo>
                  <a:lnTo>
                    <a:pt x="4851" y="8750"/>
                  </a:lnTo>
                  <a:lnTo>
                    <a:pt x="4963" y="8729"/>
                  </a:lnTo>
                  <a:lnTo>
                    <a:pt x="5072" y="8707"/>
                  </a:lnTo>
                  <a:lnTo>
                    <a:pt x="5177" y="8685"/>
                  </a:lnTo>
                  <a:lnTo>
                    <a:pt x="5276" y="8661"/>
                  </a:lnTo>
                  <a:lnTo>
                    <a:pt x="5367" y="8636"/>
                  </a:lnTo>
                  <a:lnTo>
                    <a:pt x="5450" y="8612"/>
                  </a:lnTo>
                  <a:lnTo>
                    <a:pt x="5450" y="8612"/>
                  </a:lnTo>
                  <a:lnTo>
                    <a:pt x="5296" y="8645"/>
                  </a:lnTo>
                  <a:lnTo>
                    <a:pt x="5149" y="8673"/>
                  </a:lnTo>
                  <a:lnTo>
                    <a:pt x="5007" y="8695"/>
                  </a:lnTo>
                  <a:lnTo>
                    <a:pt x="4872" y="8711"/>
                  </a:lnTo>
                  <a:lnTo>
                    <a:pt x="4740" y="8725"/>
                  </a:lnTo>
                  <a:lnTo>
                    <a:pt x="4613" y="8734"/>
                  </a:lnTo>
                  <a:lnTo>
                    <a:pt x="4492" y="8740"/>
                  </a:lnTo>
                  <a:lnTo>
                    <a:pt x="4376" y="8742"/>
                  </a:lnTo>
                  <a:lnTo>
                    <a:pt x="4376" y="8742"/>
                  </a:lnTo>
                  <a:lnTo>
                    <a:pt x="4300" y="8740"/>
                  </a:lnTo>
                  <a:lnTo>
                    <a:pt x="4225" y="8738"/>
                  </a:lnTo>
                  <a:lnTo>
                    <a:pt x="4154" y="8734"/>
                  </a:lnTo>
                  <a:lnTo>
                    <a:pt x="4083" y="8729"/>
                  </a:lnTo>
                  <a:lnTo>
                    <a:pt x="4019" y="8723"/>
                  </a:lnTo>
                  <a:lnTo>
                    <a:pt x="3954" y="8715"/>
                  </a:lnTo>
                  <a:lnTo>
                    <a:pt x="3893" y="8707"/>
                  </a:lnTo>
                  <a:lnTo>
                    <a:pt x="3835" y="8697"/>
                  </a:lnTo>
                  <a:lnTo>
                    <a:pt x="3835" y="8697"/>
                  </a:lnTo>
                  <a:lnTo>
                    <a:pt x="3722" y="8683"/>
                  </a:lnTo>
                  <a:lnTo>
                    <a:pt x="3608" y="8663"/>
                  </a:lnTo>
                  <a:lnTo>
                    <a:pt x="3493" y="8641"/>
                  </a:lnTo>
                  <a:lnTo>
                    <a:pt x="3378" y="8614"/>
                  </a:lnTo>
                  <a:lnTo>
                    <a:pt x="3263" y="8584"/>
                  </a:lnTo>
                  <a:lnTo>
                    <a:pt x="3148" y="8552"/>
                  </a:lnTo>
                  <a:lnTo>
                    <a:pt x="3032" y="8515"/>
                  </a:lnTo>
                  <a:lnTo>
                    <a:pt x="2919" y="8475"/>
                  </a:lnTo>
                  <a:lnTo>
                    <a:pt x="2806" y="8432"/>
                  </a:lnTo>
                  <a:lnTo>
                    <a:pt x="2695" y="8386"/>
                  </a:lnTo>
                  <a:lnTo>
                    <a:pt x="2588" y="8337"/>
                  </a:lnTo>
                  <a:lnTo>
                    <a:pt x="2481" y="8287"/>
                  </a:lnTo>
                  <a:lnTo>
                    <a:pt x="2377" y="8234"/>
                  </a:lnTo>
                  <a:lnTo>
                    <a:pt x="2278" y="8178"/>
                  </a:lnTo>
                  <a:lnTo>
                    <a:pt x="2181" y="8121"/>
                  </a:lnTo>
                  <a:lnTo>
                    <a:pt x="2088" y="8062"/>
                  </a:lnTo>
                  <a:lnTo>
                    <a:pt x="2088" y="8062"/>
                  </a:lnTo>
                  <a:lnTo>
                    <a:pt x="1999" y="8004"/>
                  </a:lnTo>
                  <a:lnTo>
                    <a:pt x="1913" y="7943"/>
                  </a:lnTo>
                  <a:lnTo>
                    <a:pt x="1832" y="7883"/>
                  </a:lnTo>
                  <a:lnTo>
                    <a:pt x="1755" y="7824"/>
                  </a:lnTo>
                  <a:lnTo>
                    <a:pt x="1684" y="7765"/>
                  </a:lnTo>
                  <a:lnTo>
                    <a:pt x="1615" y="7709"/>
                  </a:lnTo>
                  <a:lnTo>
                    <a:pt x="1553" y="7652"/>
                  </a:lnTo>
                  <a:lnTo>
                    <a:pt x="1494" y="7598"/>
                  </a:lnTo>
                  <a:lnTo>
                    <a:pt x="1442" y="7547"/>
                  </a:lnTo>
                  <a:lnTo>
                    <a:pt x="1393" y="7499"/>
                  </a:lnTo>
                  <a:lnTo>
                    <a:pt x="1310" y="7412"/>
                  </a:lnTo>
                  <a:lnTo>
                    <a:pt x="1248" y="7343"/>
                  </a:lnTo>
                  <a:lnTo>
                    <a:pt x="1205" y="7294"/>
                  </a:lnTo>
                  <a:lnTo>
                    <a:pt x="1205" y="7294"/>
                  </a:lnTo>
                  <a:lnTo>
                    <a:pt x="1187" y="7270"/>
                  </a:lnTo>
                  <a:lnTo>
                    <a:pt x="1183" y="7262"/>
                  </a:lnTo>
                  <a:lnTo>
                    <a:pt x="1183" y="7262"/>
                  </a:lnTo>
                  <a:lnTo>
                    <a:pt x="1203" y="7282"/>
                  </a:lnTo>
                  <a:lnTo>
                    <a:pt x="1262" y="7343"/>
                  </a:lnTo>
                  <a:lnTo>
                    <a:pt x="1262" y="7343"/>
                  </a:lnTo>
                  <a:lnTo>
                    <a:pt x="1343" y="7424"/>
                  </a:lnTo>
                  <a:lnTo>
                    <a:pt x="1395" y="7474"/>
                  </a:lnTo>
                  <a:lnTo>
                    <a:pt x="1456" y="7533"/>
                  </a:lnTo>
                  <a:lnTo>
                    <a:pt x="1526" y="7596"/>
                  </a:lnTo>
                  <a:lnTo>
                    <a:pt x="1605" y="7666"/>
                  </a:lnTo>
                  <a:lnTo>
                    <a:pt x="1696" y="7741"/>
                  </a:lnTo>
                  <a:lnTo>
                    <a:pt x="1799" y="7822"/>
                  </a:lnTo>
                  <a:lnTo>
                    <a:pt x="1799" y="7822"/>
                  </a:lnTo>
                  <a:lnTo>
                    <a:pt x="1915" y="7905"/>
                  </a:lnTo>
                  <a:lnTo>
                    <a:pt x="1977" y="7949"/>
                  </a:lnTo>
                  <a:lnTo>
                    <a:pt x="2042" y="7992"/>
                  </a:lnTo>
                  <a:lnTo>
                    <a:pt x="2113" y="8036"/>
                  </a:lnTo>
                  <a:lnTo>
                    <a:pt x="2185" y="8083"/>
                  </a:lnTo>
                  <a:lnTo>
                    <a:pt x="2262" y="8127"/>
                  </a:lnTo>
                  <a:lnTo>
                    <a:pt x="2341" y="8172"/>
                  </a:lnTo>
                  <a:lnTo>
                    <a:pt x="2426" y="8216"/>
                  </a:lnTo>
                  <a:lnTo>
                    <a:pt x="2515" y="8261"/>
                  </a:lnTo>
                  <a:lnTo>
                    <a:pt x="2606" y="8305"/>
                  </a:lnTo>
                  <a:lnTo>
                    <a:pt x="2703" y="8347"/>
                  </a:lnTo>
                  <a:lnTo>
                    <a:pt x="2804" y="8390"/>
                  </a:lnTo>
                  <a:lnTo>
                    <a:pt x="2909" y="8428"/>
                  </a:lnTo>
                  <a:lnTo>
                    <a:pt x="3018" y="8469"/>
                  </a:lnTo>
                  <a:lnTo>
                    <a:pt x="3131" y="8505"/>
                  </a:lnTo>
                  <a:lnTo>
                    <a:pt x="3131" y="8505"/>
                  </a:lnTo>
                  <a:lnTo>
                    <a:pt x="3267" y="8544"/>
                  </a:lnTo>
                  <a:lnTo>
                    <a:pt x="3336" y="8562"/>
                  </a:lnTo>
                  <a:lnTo>
                    <a:pt x="3408" y="8580"/>
                  </a:lnTo>
                  <a:lnTo>
                    <a:pt x="3481" y="8596"/>
                  </a:lnTo>
                  <a:lnTo>
                    <a:pt x="3556" y="8612"/>
                  </a:lnTo>
                  <a:lnTo>
                    <a:pt x="3631" y="8626"/>
                  </a:lnTo>
                  <a:lnTo>
                    <a:pt x="3707" y="8641"/>
                  </a:lnTo>
                  <a:lnTo>
                    <a:pt x="3786" y="8653"/>
                  </a:lnTo>
                  <a:lnTo>
                    <a:pt x="3867" y="8663"/>
                  </a:lnTo>
                  <a:lnTo>
                    <a:pt x="3948" y="8673"/>
                  </a:lnTo>
                  <a:lnTo>
                    <a:pt x="4031" y="8679"/>
                  </a:lnTo>
                  <a:lnTo>
                    <a:pt x="4116" y="8685"/>
                  </a:lnTo>
                  <a:lnTo>
                    <a:pt x="4201" y="8691"/>
                  </a:lnTo>
                  <a:lnTo>
                    <a:pt x="4288" y="8693"/>
                  </a:lnTo>
                  <a:lnTo>
                    <a:pt x="4376" y="8693"/>
                  </a:lnTo>
                  <a:lnTo>
                    <a:pt x="4376" y="8693"/>
                  </a:lnTo>
                  <a:lnTo>
                    <a:pt x="4508" y="8691"/>
                  </a:lnTo>
                  <a:lnTo>
                    <a:pt x="4643" y="8685"/>
                  </a:lnTo>
                  <a:lnTo>
                    <a:pt x="4783" y="8675"/>
                  </a:lnTo>
                  <a:lnTo>
                    <a:pt x="4922" y="8657"/>
                  </a:lnTo>
                  <a:lnTo>
                    <a:pt x="4993" y="8649"/>
                  </a:lnTo>
                  <a:lnTo>
                    <a:pt x="5064" y="8636"/>
                  </a:lnTo>
                  <a:lnTo>
                    <a:pt x="5136" y="8624"/>
                  </a:lnTo>
                  <a:lnTo>
                    <a:pt x="5209" y="8610"/>
                  </a:lnTo>
                  <a:lnTo>
                    <a:pt x="5282" y="8594"/>
                  </a:lnTo>
                  <a:lnTo>
                    <a:pt x="5355" y="8576"/>
                  </a:lnTo>
                  <a:lnTo>
                    <a:pt x="5430" y="8558"/>
                  </a:lnTo>
                  <a:lnTo>
                    <a:pt x="5502" y="8537"/>
                  </a:lnTo>
                  <a:lnTo>
                    <a:pt x="5502" y="8537"/>
                  </a:lnTo>
                  <a:lnTo>
                    <a:pt x="5458" y="8548"/>
                  </a:lnTo>
                  <a:lnTo>
                    <a:pt x="5383" y="8564"/>
                  </a:lnTo>
                  <a:lnTo>
                    <a:pt x="5284" y="8582"/>
                  </a:lnTo>
                  <a:lnTo>
                    <a:pt x="5161" y="8602"/>
                  </a:lnTo>
                  <a:lnTo>
                    <a:pt x="5019" y="8622"/>
                  </a:lnTo>
                  <a:lnTo>
                    <a:pt x="4944" y="8630"/>
                  </a:lnTo>
                  <a:lnTo>
                    <a:pt x="4864" y="8639"/>
                  </a:lnTo>
                  <a:lnTo>
                    <a:pt x="4783" y="8645"/>
                  </a:lnTo>
                  <a:lnTo>
                    <a:pt x="4698" y="8649"/>
                  </a:lnTo>
                  <a:lnTo>
                    <a:pt x="4611" y="8653"/>
                  </a:lnTo>
                  <a:lnTo>
                    <a:pt x="4522" y="8655"/>
                  </a:lnTo>
                  <a:lnTo>
                    <a:pt x="4522" y="8655"/>
                  </a:lnTo>
                  <a:lnTo>
                    <a:pt x="4419" y="8653"/>
                  </a:lnTo>
                  <a:lnTo>
                    <a:pt x="4314" y="8647"/>
                  </a:lnTo>
                  <a:lnTo>
                    <a:pt x="4314" y="8647"/>
                  </a:lnTo>
                  <a:lnTo>
                    <a:pt x="4211" y="8641"/>
                  </a:lnTo>
                  <a:lnTo>
                    <a:pt x="4110" y="8632"/>
                  </a:lnTo>
                  <a:lnTo>
                    <a:pt x="4011" y="8620"/>
                  </a:lnTo>
                  <a:lnTo>
                    <a:pt x="3916" y="8606"/>
                  </a:lnTo>
                  <a:lnTo>
                    <a:pt x="3823" y="8592"/>
                  </a:lnTo>
                  <a:lnTo>
                    <a:pt x="3734" y="8574"/>
                  </a:lnTo>
                  <a:lnTo>
                    <a:pt x="3651" y="8558"/>
                  </a:lnTo>
                  <a:lnTo>
                    <a:pt x="3572" y="8539"/>
                  </a:lnTo>
                  <a:lnTo>
                    <a:pt x="3501" y="8521"/>
                  </a:lnTo>
                  <a:lnTo>
                    <a:pt x="3435" y="8503"/>
                  </a:lnTo>
                  <a:lnTo>
                    <a:pt x="3327" y="8471"/>
                  </a:lnTo>
                  <a:lnTo>
                    <a:pt x="3255" y="8444"/>
                  </a:lnTo>
                  <a:lnTo>
                    <a:pt x="3232" y="8436"/>
                  </a:lnTo>
                  <a:lnTo>
                    <a:pt x="3222" y="8430"/>
                  </a:lnTo>
                  <a:lnTo>
                    <a:pt x="3222" y="8430"/>
                  </a:lnTo>
                  <a:lnTo>
                    <a:pt x="3220" y="8428"/>
                  </a:lnTo>
                  <a:lnTo>
                    <a:pt x="3222" y="8428"/>
                  </a:lnTo>
                  <a:lnTo>
                    <a:pt x="3222" y="8428"/>
                  </a:lnTo>
                  <a:lnTo>
                    <a:pt x="3238" y="8432"/>
                  </a:lnTo>
                  <a:lnTo>
                    <a:pt x="3267" y="8438"/>
                  </a:lnTo>
                  <a:lnTo>
                    <a:pt x="3364" y="8465"/>
                  </a:lnTo>
                  <a:lnTo>
                    <a:pt x="3505" y="8499"/>
                  </a:lnTo>
                  <a:lnTo>
                    <a:pt x="3590" y="8517"/>
                  </a:lnTo>
                  <a:lnTo>
                    <a:pt x="3685" y="8537"/>
                  </a:lnTo>
                  <a:lnTo>
                    <a:pt x="3685" y="8537"/>
                  </a:lnTo>
                  <a:lnTo>
                    <a:pt x="3772" y="8554"/>
                  </a:lnTo>
                  <a:lnTo>
                    <a:pt x="3865" y="8568"/>
                  </a:lnTo>
                  <a:lnTo>
                    <a:pt x="3962" y="8582"/>
                  </a:lnTo>
                  <a:lnTo>
                    <a:pt x="4063" y="8594"/>
                  </a:lnTo>
                  <a:lnTo>
                    <a:pt x="4166" y="8602"/>
                  </a:lnTo>
                  <a:lnTo>
                    <a:pt x="4275" y="8610"/>
                  </a:lnTo>
                  <a:lnTo>
                    <a:pt x="4385" y="8614"/>
                  </a:lnTo>
                  <a:lnTo>
                    <a:pt x="4498" y="8616"/>
                  </a:lnTo>
                  <a:lnTo>
                    <a:pt x="4498" y="8616"/>
                  </a:lnTo>
                  <a:lnTo>
                    <a:pt x="4566" y="8614"/>
                  </a:lnTo>
                  <a:lnTo>
                    <a:pt x="4635" y="8614"/>
                  </a:lnTo>
                  <a:lnTo>
                    <a:pt x="4704" y="8610"/>
                  </a:lnTo>
                  <a:lnTo>
                    <a:pt x="4775" y="8606"/>
                  </a:lnTo>
                  <a:lnTo>
                    <a:pt x="4775" y="8606"/>
                  </a:lnTo>
                  <a:lnTo>
                    <a:pt x="4849" y="8600"/>
                  </a:lnTo>
                  <a:lnTo>
                    <a:pt x="4922" y="8594"/>
                  </a:lnTo>
                  <a:lnTo>
                    <a:pt x="4997" y="8584"/>
                  </a:lnTo>
                  <a:lnTo>
                    <a:pt x="5070" y="8574"/>
                  </a:lnTo>
                  <a:lnTo>
                    <a:pt x="5141" y="8564"/>
                  </a:lnTo>
                  <a:lnTo>
                    <a:pt x="5211" y="8552"/>
                  </a:lnTo>
                  <a:lnTo>
                    <a:pt x="5351" y="8523"/>
                  </a:lnTo>
                  <a:lnTo>
                    <a:pt x="5484" y="8493"/>
                  </a:lnTo>
                  <a:lnTo>
                    <a:pt x="5609" y="8459"/>
                  </a:lnTo>
                  <a:lnTo>
                    <a:pt x="5727" y="8424"/>
                  </a:lnTo>
                  <a:lnTo>
                    <a:pt x="5836" y="8386"/>
                  </a:lnTo>
                  <a:lnTo>
                    <a:pt x="5836" y="8386"/>
                  </a:lnTo>
                  <a:lnTo>
                    <a:pt x="5931" y="8351"/>
                  </a:lnTo>
                  <a:lnTo>
                    <a:pt x="6016" y="8317"/>
                  </a:lnTo>
                  <a:lnTo>
                    <a:pt x="6088" y="8287"/>
                  </a:lnTo>
                  <a:lnTo>
                    <a:pt x="6151" y="8259"/>
                  </a:lnTo>
                  <a:lnTo>
                    <a:pt x="6200" y="8236"/>
                  </a:lnTo>
                  <a:lnTo>
                    <a:pt x="6234" y="8218"/>
                  </a:lnTo>
                  <a:lnTo>
                    <a:pt x="6254" y="8208"/>
                  </a:lnTo>
                  <a:lnTo>
                    <a:pt x="6260" y="8204"/>
                  </a:lnTo>
                  <a:lnTo>
                    <a:pt x="6260" y="8204"/>
                  </a:lnTo>
                  <a:lnTo>
                    <a:pt x="6258" y="8204"/>
                  </a:lnTo>
                  <a:lnTo>
                    <a:pt x="6258" y="8204"/>
                  </a:lnTo>
                  <a:lnTo>
                    <a:pt x="6216" y="8216"/>
                  </a:lnTo>
                  <a:lnTo>
                    <a:pt x="6145" y="8238"/>
                  </a:lnTo>
                  <a:lnTo>
                    <a:pt x="6050" y="8271"/>
                  </a:lnTo>
                  <a:lnTo>
                    <a:pt x="5935" y="8307"/>
                  </a:lnTo>
                  <a:lnTo>
                    <a:pt x="5801" y="8345"/>
                  </a:lnTo>
                  <a:lnTo>
                    <a:pt x="5729" y="8364"/>
                  </a:lnTo>
                  <a:lnTo>
                    <a:pt x="5654" y="8382"/>
                  </a:lnTo>
                  <a:lnTo>
                    <a:pt x="5577" y="8400"/>
                  </a:lnTo>
                  <a:lnTo>
                    <a:pt x="5496" y="8416"/>
                  </a:lnTo>
                  <a:lnTo>
                    <a:pt x="5415" y="8432"/>
                  </a:lnTo>
                  <a:lnTo>
                    <a:pt x="5333" y="8444"/>
                  </a:lnTo>
                  <a:lnTo>
                    <a:pt x="5333" y="8444"/>
                  </a:lnTo>
                  <a:lnTo>
                    <a:pt x="5246" y="8459"/>
                  </a:lnTo>
                  <a:lnTo>
                    <a:pt x="5159" y="8469"/>
                  </a:lnTo>
                  <a:lnTo>
                    <a:pt x="5074" y="8479"/>
                  </a:lnTo>
                  <a:lnTo>
                    <a:pt x="4989" y="8485"/>
                  </a:lnTo>
                  <a:lnTo>
                    <a:pt x="4906" y="8489"/>
                  </a:lnTo>
                  <a:lnTo>
                    <a:pt x="4825" y="8493"/>
                  </a:lnTo>
                  <a:lnTo>
                    <a:pt x="4746" y="8495"/>
                  </a:lnTo>
                  <a:lnTo>
                    <a:pt x="4672" y="8495"/>
                  </a:lnTo>
                  <a:lnTo>
                    <a:pt x="4672" y="8495"/>
                  </a:lnTo>
                  <a:lnTo>
                    <a:pt x="4546" y="8493"/>
                  </a:lnTo>
                  <a:lnTo>
                    <a:pt x="4437" y="8489"/>
                  </a:lnTo>
                  <a:lnTo>
                    <a:pt x="4348" y="8485"/>
                  </a:lnTo>
                  <a:lnTo>
                    <a:pt x="4286" y="8481"/>
                  </a:lnTo>
                  <a:lnTo>
                    <a:pt x="4286" y="8481"/>
                  </a:lnTo>
                  <a:lnTo>
                    <a:pt x="4259" y="8481"/>
                  </a:lnTo>
                  <a:lnTo>
                    <a:pt x="4259" y="8481"/>
                  </a:lnTo>
                  <a:lnTo>
                    <a:pt x="4191" y="8479"/>
                  </a:lnTo>
                  <a:lnTo>
                    <a:pt x="4191" y="8479"/>
                  </a:lnTo>
                  <a:lnTo>
                    <a:pt x="4130" y="8477"/>
                  </a:lnTo>
                  <a:lnTo>
                    <a:pt x="4130" y="8477"/>
                  </a:lnTo>
                  <a:lnTo>
                    <a:pt x="4108" y="8479"/>
                  </a:lnTo>
                  <a:lnTo>
                    <a:pt x="4087" y="8481"/>
                  </a:lnTo>
                  <a:lnTo>
                    <a:pt x="4069" y="8483"/>
                  </a:lnTo>
                  <a:lnTo>
                    <a:pt x="4055" y="8489"/>
                  </a:lnTo>
                  <a:lnTo>
                    <a:pt x="4055" y="8489"/>
                  </a:lnTo>
                  <a:lnTo>
                    <a:pt x="3920" y="8471"/>
                  </a:lnTo>
                  <a:lnTo>
                    <a:pt x="3790" y="8449"/>
                  </a:lnTo>
                  <a:lnTo>
                    <a:pt x="3663" y="8424"/>
                  </a:lnTo>
                  <a:lnTo>
                    <a:pt x="3538" y="8398"/>
                  </a:lnTo>
                  <a:lnTo>
                    <a:pt x="3412" y="8366"/>
                  </a:lnTo>
                  <a:lnTo>
                    <a:pt x="3285" y="8331"/>
                  </a:lnTo>
                  <a:lnTo>
                    <a:pt x="3156" y="8289"/>
                  </a:lnTo>
                  <a:lnTo>
                    <a:pt x="3020" y="8242"/>
                  </a:lnTo>
                  <a:lnTo>
                    <a:pt x="3020" y="8242"/>
                  </a:lnTo>
                  <a:lnTo>
                    <a:pt x="2933" y="8208"/>
                  </a:lnTo>
                  <a:lnTo>
                    <a:pt x="2846" y="8174"/>
                  </a:lnTo>
                  <a:lnTo>
                    <a:pt x="2759" y="8137"/>
                  </a:lnTo>
                  <a:lnTo>
                    <a:pt x="2675" y="8099"/>
                  </a:lnTo>
                  <a:lnTo>
                    <a:pt x="2590" y="8060"/>
                  </a:lnTo>
                  <a:lnTo>
                    <a:pt x="2505" y="8018"/>
                  </a:lnTo>
                  <a:lnTo>
                    <a:pt x="2422" y="7974"/>
                  </a:lnTo>
                  <a:lnTo>
                    <a:pt x="2339" y="7927"/>
                  </a:lnTo>
                  <a:lnTo>
                    <a:pt x="2258" y="7881"/>
                  </a:lnTo>
                  <a:lnTo>
                    <a:pt x="2179" y="7830"/>
                  </a:lnTo>
                  <a:lnTo>
                    <a:pt x="2098" y="7779"/>
                  </a:lnTo>
                  <a:lnTo>
                    <a:pt x="2022" y="7725"/>
                  </a:lnTo>
                  <a:lnTo>
                    <a:pt x="1945" y="7670"/>
                  </a:lnTo>
                  <a:lnTo>
                    <a:pt x="1870" y="7612"/>
                  </a:lnTo>
                  <a:lnTo>
                    <a:pt x="1795" y="7551"/>
                  </a:lnTo>
                  <a:lnTo>
                    <a:pt x="1723" y="7490"/>
                  </a:lnTo>
                  <a:lnTo>
                    <a:pt x="1723" y="7490"/>
                  </a:lnTo>
                  <a:lnTo>
                    <a:pt x="1652" y="7426"/>
                  </a:lnTo>
                  <a:lnTo>
                    <a:pt x="1581" y="7359"/>
                  </a:lnTo>
                  <a:lnTo>
                    <a:pt x="1512" y="7292"/>
                  </a:lnTo>
                  <a:lnTo>
                    <a:pt x="1448" y="7222"/>
                  </a:lnTo>
                  <a:lnTo>
                    <a:pt x="1383" y="7149"/>
                  </a:lnTo>
                  <a:lnTo>
                    <a:pt x="1320" y="7074"/>
                  </a:lnTo>
                  <a:lnTo>
                    <a:pt x="1260" y="6997"/>
                  </a:lnTo>
                  <a:lnTo>
                    <a:pt x="1201" y="6918"/>
                  </a:lnTo>
                  <a:lnTo>
                    <a:pt x="1144" y="6838"/>
                  </a:lnTo>
                  <a:lnTo>
                    <a:pt x="1090" y="6757"/>
                  </a:lnTo>
                  <a:lnTo>
                    <a:pt x="1039" y="6672"/>
                  </a:lnTo>
                  <a:lnTo>
                    <a:pt x="991" y="6585"/>
                  </a:lnTo>
                  <a:lnTo>
                    <a:pt x="944" y="6496"/>
                  </a:lnTo>
                  <a:lnTo>
                    <a:pt x="900" y="6407"/>
                  </a:lnTo>
                  <a:lnTo>
                    <a:pt x="859" y="6316"/>
                  </a:lnTo>
                  <a:lnTo>
                    <a:pt x="821" y="6221"/>
                  </a:lnTo>
                  <a:lnTo>
                    <a:pt x="821" y="6221"/>
                  </a:lnTo>
                  <a:lnTo>
                    <a:pt x="803" y="6185"/>
                  </a:lnTo>
                  <a:lnTo>
                    <a:pt x="781" y="6140"/>
                  </a:lnTo>
                  <a:lnTo>
                    <a:pt x="726" y="6033"/>
                  </a:lnTo>
                  <a:lnTo>
                    <a:pt x="669" y="5922"/>
                  </a:lnTo>
                  <a:lnTo>
                    <a:pt x="645" y="5871"/>
                  </a:lnTo>
                  <a:lnTo>
                    <a:pt x="627" y="5829"/>
                  </a:lnTo>
                  <a:lnTo>
                    <a:pt x="627" y="5829"/>
                  </a:lnTo>
                  <a:lnTo>
                    <a:pt x="603" y="5758"/>
                  </a:lnTo>
                  <a:lnTo>
                    <a:pt x="583" y="5688"/>
                  </a:lnTo>
                  <a:lnTo>
                    <a:pt x="562" y="5617"/>
                  </a:lnTo>
                  <a:lnTo>
                    <a:pt x="544" y="5544"/>
                  </a:lnTo>
                  <a:lnTo>
                    <a:pt x="526" y="5473"/>
                  </a:lnTo>
                  <a:lnTo>
                    <a:pt x="512" y="5400"/>
                  </a:lnTo>
                  <a:lnTo>
                    <a:pt x="498" y="5328"/>
                  </a:lnTo>
                  <a:lnTo>
                    <a:pt x="486" y="5255"/>
                  </a:lnTo>
                  <a:lnTo>
                    <a:pt x="475" y="5182"/>
                  </a:lnTo>
                  <a:lnTo>
                    <a:pt x="465" y="5109"/>
                  </a:lnTo>
                  <a:lnTo>
                    <a:pt x="457" y="5037"/>
                  </a:lnTo>
                  <a:lnTo>
                    <a:pt x="451" y="4962"/>
                  </a:lnTo>
                  <a:lnTo>
                    <a:pt x="445" y="4889"/>
                  </a:lnTo>
                  <a:lnTo>
                    <a:pt x="443" y="4814"/>
                  </a:lnTo>
                  <a:lnTo>
                    <a:pt x="441" y="4742"/>
                  </a:lnTo>
                  <a:lnTo>
                    <a:pt x="439" y="4667"/>
                  </a:lnTo>
                  <a:lnTo>
                    <a:pt x="439" y="4592"/>
                  </a:lnTo>
                  <a:lnTo>
                    <a:pt x="441" y="4519"/>
                  </a:lnTo>
                  <a:lnTo>
                    <a:pt x="445" y="4444"/>
                  </a:lnTo>
                  <a:lnTo>
                    <a:pt x="449" y="4370"/>
                  </a:lnTo>
                  <a:lnTo>
                    <a:pt x="459" y="4222"/>
                  </a:lnTo>
                  <a:lnTo>
                    <a:pt x="477" y="4075"/>
                  </a:lnTo>
                  <a:lnTo>
                    <a:pt x="498" y="3927"/>
                  </a:lnTo>
                  <a:lnTo>
                    <a:pt x="522" y="3779"/>
                  </a:lnTo>
                  <a:lnTo>
                    <a:pt x="552" y="3634"/>
                  </a:lnTo>
                  <a:lnTo>
                    <a:pt x="585" y="3488"/>
                  </a:lnTo>
                  <a:lnTo>
                    <a:pt x="585" y="3488"/>
                  </a:lnTo>
                  <a:lnTo>
                    <a:pt x="609" y="3397"/>
                  </a:lnTo>
                  <a:lnTo>
                    <a:pt x="635" y="3311"/>
                  </a:lnTo>
                  <a:lnTo>
                    <a:pt x="665" y="3222"/>
                  </a:lnTo>
                  <a:lnTo>
                    <a:pt x="698" y="3135"/>
                  </a:lnTo>
                  <a:lnTo>
                    <a:pt x="734" y="3048"/>
                  </a:lnTo>
                  <a:lnTo>
                    <a:pt x="773" y="2963"/>
                  </a:lnTo>
                  <a:lnTo>
                    <a:pt x="813" y="2878"/>
                  </a:lnTo>
                  <a:lnTo>
                    <a:pt x="855" y="2795"/>
                  </a:lnTo>
                  <a:lnTo>
                    <a:pt x="900" y="2712"/>
                  </a:lnTo>
                  <a:lnTo>
                    <a:pt x="946" y="2631"/>
                  </a:lnTo>
                  <a:lnTo>
                    <a:pt x="993" y="2551"/>
                  </a:lnTo>
                  <a:lnTo>
                    <a:pt x="1041" y="2472"/>
                  </a:lnTo>
                  <a:lnTo>
                    <a:pt x="1092" y="2393"/>
                  </a:lnTo>
                  <a:lnTo>
                    <a:pt x="1142" y="2316"/>
                  </a:lnTo>
                  <a:lnTo>
                    <a:pt x="1246" y="2164"/>
                  </a:lnTo>
                  <a:lnTo>
                    <a:pt x="1246" y="2164"/>
                  </a:lnTo>
                  <a:lnTo>
                    <a:pt x="1308" y="2076"/>
                  </a:lnTo>
                  <a:lnTo>
                    <a:pt x="1373" y="1989"/>
                  </a:lnTo>
                  <a:lnTo>
                    <a:pt x="1440" y="1902"/>
                  </a:lnTo>
                  <a:lnTo>
                    <a:pt x="1510" y="1819"/>
                  </a:lnTo>
                  <a:lnTo>
                    <a:pt x="1583" y="1738"/>
                  </a:lnTo>
                  <a:lnTo>
                    <a:pt x="1660" y="1661"/>
                  </a:lnTo>
                  <a:lnTo>
                    <a:pt x="1737" y="1584"/>
                  </a:lnTo>
                  <a:lnTo>
                    <a:pt x="1818" y="1510"/>
                  </a:lnTo>
                  <a:lnTo>
                    <a:pt x="1898" y="1439"/>
                  </a:lnTo>
                  <a:lnTo>
                    <a:pt x="1983" y="1370"/>
                  </a:lnTo>
                  <a:lnTo>
                    <a:pt x="2070" y="1303"/>
                  </a:lnTo>
                  <a:lnTo>
                    <a:pt x="2159" y="1239"/>
                  </a:lnTo>
                  <a:lnTo>
                    <a:pt x="2250" y="1178"/>
                  </a:lnTo>
                  <a:lnTo>
                    <a:pt x="2341" y="1119"/>
                  </a:lnTo>
                  <a:lnTo>
                    <a:pt x="2436" y="1063"/>
                  </a:lnTo>
                  <a:lnTo>
                    <a:pt x="2531" y="1008"/>
                  </a:lnTo>
                  <a:lnTo>
                    <a:pt x="2628" y="958"/>
                  </a:lnTo>
                  <a:lnTo>
                    <a:pt x="2727" y="909"/>
                  </a:lnTo>
                  <a:lnTo>
                    <a:pt x="2826" y="863"/>
                  </a:lnTo>
                  <a:lnTo>
                    <a:pt x="2929" y="820"/>
                  </a:lnTo>
                  <a:lnTo>
                    <a:pt x="3030" y="782"/>
                  </a:lnTo>
                  <a:lnTo>
                    <a:pt x="3135" y="744"/>
                  </a:lnTo>
                  <a:lnTo>
                    <a:pt x="3238" y="709"/>
                  </a:lnTo>
                  <a:lnTo>
                    <a:pt x="3346" y="679"/>
                  </a:lnTo>
                  <a:lnTo>
                    <a:pt x="3451" y="651"/>
                  </a:lnTo>
                  <a:lnTo>
                    <a:pt x="3560" y="626"/>
                  </a:lnTo>
                  <a:lnTo>
                    <a:pt x="3667" y="604"/>
                  </a:lnTo>
                  <a:lnTo>
                    <a:pt x="3776" y="584"/>
                  </a:lnTo>
                  <a:lnTo>
                    <a:pt x="3885" y="568"/>
                  </a:lnTo>
                  <a:lnTo>
                    <a:pt x="3994" y="556"/>
                  </a:lnTo>
                  <a:lnTo>
                    <a:pt x="4106" y="545"/>
                  </a:lnTo>
                  <a:lnTo>
                    <a:pt x="4215" y="539"/>
                  </a:lnTo>
                  <a:lnTo>
                    <a:pt x="4215" y="539"/>
                  </a:lnTo>
                  <a:lnTo>
                    <a:pt x="4213" y="531"/>
                  </a:lnTo>
                  <a:lnTo>
                    <a:pt x="4213" y="525"/>
                  </a:lnTo>
                  <a:lnTo>
                    <a:pt x="4219" y="519"/>
                  </a:lnTo>
                  <a:lnTo>
                    <a:pt x="4227" y="513"/>
                  </a:lnTo>
                  <a:lnTo>
                    <a:pt x="4241" y="509"/>
                  </a:lnTo>
                  <a:lnTo>
                    <a:pt x="4255" y="503"/>
                  </a:lnTo>
                  <a:lnTo>
                    <a:pt x="4294" y="497"/>
                  </a:lnTo>
                  <a:lnTo>
                    <a:pt x="4342" y="491"/>
                  </a:lnTo>
                  <a:lnTo>
                    <a:pt x="4395" y="487"/>
                  </a:lnTo>
                  <a:lnTo>
                    <a:pt x="4453" y="485"/>
                  </a:lnTo>
                  <a:lnTo>
                    <a:pt x="4510" y="483"/>
                  </a:lnTo>
                  <a:lnTo>
                    <a:pt x="4510" y="483"/>
                  </a:lnTo>
                  <a:lnTo>
                    <a:pt x="4564" y="485"/>
                  </a:lnTo>
                  <a:lnTo>
                    <a:pt x="4615" y="485"/>
                  </a:lnTo>
                  <a:lnTo>
                    <a:pt x="4659" y="489"/>
                  </a:lnTo>
                  <a:lnTo>
                    <a:pt x="4696" y="493"/>
                  </a:lnTo>
                  <a:lnTo>
                    <a:pt x="4696" y="493"/>
                  </a:lnTo>
                  <a:lnTo>
                    <a:pt x="4811" y="499"/>
                  </a:lnTo>
                  <a:lnTo>
                    <a:pt x="4926" y="509"/>
                  </a:lnTo>
                  <a:lnTo>
                    <a:pt x="5039" y="521"/>
                  </a:lnTo>
                  <a:lnTo>
                    <a:pt x="5153" y="539"/>
                  </a:lnTo>
                  <a:lnTo>
                    <a:pt x="5264" y="558"/>
                  </a:lnTo>
                  <a:lnTo>
                    <a:pt x="5375" y="582"/>
                  </a:lnTo>
                  <a:lnTo>
                    <a:pt x="5486" y="608"/>
                  </a:lnTo>
                  <a:lnTo>
                    <a:pt x="5595" y="636"/>
                  </a:lnTo>
                  <a:lnTo>
                    <a:pt x="5702" y="669"/>
                  </a:lnTo>
                  <a:lnTo>
                    <a:pt x="5810" y="705"/>
                  </a:lnTo>
                  <a:lnTo>
                    <a:pt x="5915" y="744"/>
                  </a:lnTo>
                  <a:lnTo>
                    <a:pt x="6018" y="784"/>
                  </a:lnTo>
                  <a:lnTo>
                    <a:pt x="6121" y="828"/>
                  </a:lnTo>
                  <a:lnTo>
                    <a:pt x="6222" y="875"/>
                  </a:lnTo>
                  <a:lnTo>
                    <a:pt x="6319" y="925"/>
                  </a:lnTo>
                  <a:lnTo>
                    <a:pt x="6416" y="976"/>
                  </a:lnTo>
                  <a:lnTo>
                    <a:pt x="6416" y="976"/>
                  </a:lnTo>
                  <a:lnTo>
                    <a:pt x="6511" y="1031"/>
                  </a:lnTo>
                  <a:lnTo>
                    <a:pt x="6604" y="1087"/>
                  </a:lnTo>
                  <a:lnTo>
                    <a:pt x="6695" y="1148"/>
                  </a:lnTo>
                  <a:lnTo>
                    <a:pt x="6782" y="1208"/>
                  </a:lnTo>
                  <a:lnTo>
                    <a:pt x="6869" y="1271"/>
                  </a:lnTo>
                  <a:lnTo>
                    <a:pt x="6952" y="1338"/>
                  </a:lnTo>
                  <a:lnTo>
                    <a:pt x="7034" y="1404"/>
                  </a:lnTo>
                  <a:lnTo>
                    <a:pt x="7113" y="1473"/>
                  </a:lnTo>
                  <a:lnTo>
                    <a:pt x="7190" y="1544"/>
                  </a:lnTo>
                  <a:lnTo>
                    <a:pt x="7265" y="1617"/>
                  </a:lnTo>
                  <a:lnTo>
                    <a:pt x="7338" y="1692"/>
                  </a:lnTo>
                  <a:lnTo>
                    <a:pt x="7406" y="1766"/>
                  </a:lnTo>
                  <a:lnTo>
                    <a:pt x="7475" y="1845"/>
                  </a:lnTo>
                  <a:lnTo>
                    <a:pt x="7538" y="1922"/>
                  </a:lnTo>
                  <a:lnTo>
                    <a:pt x="7600" y="2003"/>
                  </a:lnTo>
                  <a:lnTo>
                    <a:pt x="7661" y="2082"/>
                  </a:lnTo>
                  <a:lnTo>
                    <a:pt x="7661" y="2082"/>
                  </a:lnTo>
                  <a:lnTo>
                    <a:pt x="7720" y="2160"/>
                  </a:lnTo>
                  <a:lnTo>
                    <a:pt x="7776" y="2241"/>
                  </a:lnTo>
                  <a:lnTo>
                    <a:pt x="7831" y="2322"/>
                  </a:lnTo>
                  <a:lnTo>
                    <a:pt x="7883" y="2405"/>
                  </a:lnTo>
                  <a:lnTo>
                    <a:pt x="7934" y="2488"/>
                  </a:lnTo>
                  <a:lnTo>
                    <a:pt x="7980" y="2571"/>
                  </a:lnTo>
                  <a:lnTo>
                    <a:pt x="8027" y="2658"/>
                  </a:lnTo>
                  <a:lnTo>
                    <a:pt x="8071" y="2745"/>
                  </a:lnTo>
                  <a:lnTo>
                    <a:pt x="8112" y="2831"/>
                  </a:lnTo>
                  <a:lnTo>
                    <a:pt x="8152" y="2920"/>
                  </a:lnTo>
                  <a:lnTo>
                    <a:pt x="8189" y="3011"/>
                  </a:lnTo>
                  <a:lnTo>
                    <a:pt x="8223" y="3102"/>
                  </a:lnTo>
                  <a:lnTo>
                    <a:pt x="8255" y="3195"/>
                  </a:lnTo>
                  <a:lnTo>
                    <a:pt x="8286" y="3290"/>
                  </a:lnTo>
                  <a:lnTo>
                    <a:pt x="8314" y="3385"/>
                  </a:lnTo>
                  <a:lnTo>
                    <a:pt x="8340" y="3482"/>
                  </a:lnTo>
                  <a:lnTo>
                    <a:pt x="8340" y="3482"/>
                  </a:lnTo>
                  <a:lnTo>
                    <a:pt x="8364" y="3581"/>
                  </a:lnTo>
                  <a:lnTo>
                    <a:pt x="8385" y="3680"/>
                  </a:lnTo>
                  <a:lnTo>
                    <a:pt x="8403" y="3779"/>
                  </a:lnTo>
                  <a:lnTo>
                    <a:pt x="8417" y="3876"/>
                  </a:lnTo>
                  <a:lnTo>
                    <a:pt x="8429" y="3973"/>
                  </a:lnTo>
                  <a:lnTo>
                    <a:pt x="8439" y="4071"/>
                  </a:lnTo>
                  <a:lnTo>
                    <a:pt x="8445" y="4168"/>
                  </a:lnTo>
                  <a:lnTo>
                    <a:pt x="8449" y="4263"/>
                  </a:lnTo>
                  <a:lnTo>
                    <a:pt x="8451" y="4358"/>
                  </a:lnTo>
                  <a:lnTo>
                    <a:pt x="8449" y="4453"/>
                  </a:lnTo>
                  <a:lnTo>
                    <a:pt x="8447" y="4548"/>
                  </a:lnTo>
                  <a:lnTo>
                    <a:pt x="8441" y="4641"/>
                  </a:lnTo>
                  <a:lnTo>
                    <a:pt x="8433" y="4733"/>
                  </a:lnTo>
                  <a:lnTo>
                    <a:pt x="8423" y="4826"/>
                  </a:lnTo>
                  <a:lnTo>
                    <a:pt x="8413" y="4917"/>
                  </a:lnTo>
                  <a:lnTo>
                    <a:pt x="8399" y="5008"/>
                  </a:lnTo>
                  <a:lnTo>
                    <a:pt x="8399" y="5008"/>
                  </a:lnTo>
                  <a:lnTo>
                    <a:pt x="8383" y="5099"/>
                  </a:lnTo>
                  <a:lnTo>
                    <a:pt x="8364" y="5190"/>
                  </a:lnTo>
                  <a:lnTo>
                    <a:pt x="8344" y="5279"/>
                  </a:lnTo>
                  <a:lnTo>
                    <a:pt x="8322" y="5368"/>
                  </a:lnTo>
                  <a:lnTo>
                    <a:pt x="8298" y="5457"/>
                  </a:lnTo>
                  <a:lnTo>
                    <a:pt x="8271" y="5546"/>
                  </a:lnTo>
                  <a:lnTo>
                    <a:pt x="8245" y="5633"/>
                  </a:lnTo>
                  <a:lnTo>
                    <a:pt x="8215" y="5720"/>
                  </a:lnTo>
                  <a:lnTo>
                    <a:pt x="8185" y="5807"/>
                  </a:lnTo>
                  <a:lnTo>
                    <a:pt x="8150" y="5892"/>
                  </a:lnTo>
                  <a:lnTo>
                    <a:pt x="8116" y="5979"/>
                  </a:lnTo>
                  <a:lnTo>
                    <a:pt x="8079" y="6063"/>
                  </a:lnTo>
                  <a:lnTo>
                    <a:pt x="8039" y="6148"/>
                  </a:lnTo>
                  <a:lnTo>
                    <a:pt x="7999" y="6231"/>
                  </a:lnTo>
                  <a:lnTo>
                    <a:pt x="7956" y="6316"/>
                  </a:lnTo>
                  <a:lnTo>
                    <a:pt x="7914" y="6399"/>
                  </a:lnTo>
                  <a:lnTo>
                    <a:pt x="7914" y="6399"/>
                  </a:lnTo>
                  <a:lnTo>
                    <a:pt x="7853" y="6506"/>
                  </a:lnTo>
                  <a:lnTo>
                    <a:pt x="7790" y="6611"/>
                  </a:lnTo>
                  <a:lnTo>
                    <a:pt x="7726" y="6712"/>
                  </a:lnTo>
                  <a:lnTo>
                    <a:pt x="7655" y="6813"/>
                  </a:lnTo>
                  <a:lnTo>
                    <a:pt x="7582" y="6910"/>
                  </a:lnTo>
                  <a:lnTo>
                    <a:pt x="7505" y="7005"/>
                  </a:lnTo>
                  <a:lnTo>
                    <a:pt x="7427" y="7098"/>
                  </a:lnTo>
                  <a:lnTo>
                    <a:pt x="7342" y="7189"/>
                  </a:lnTo>
                  <a:lnTo>
                    <a:pt x="7255" y="7276"/>
                  </a:lnTo>
                  <a:lnTo>
                    <a:pt x="7166" y="7363"/>
                  </a:lnTo>
                  <a:lnTo>
                    <a:pt x="7071" y="7444"/>
                  </a:lnTo>
                  <a:lnTo>
                    <a:pt x="6974" y="7525"/>
                  </a:lnTo>
                  <a:lnTo>
                    <a:pt x="6871" y="7600"/>
                  </a:lnTo>
                  <a:lnTo>
                    <a:pt x="6766" y="7674"/>
                  </a:lnTo>
                  <a:lnTo>
                    <a:pt x="6658" y="7745"/>
                  </a:lnTo>
                  <a:lnTo>
                    <a:pt x="6545" y="7812"/>
                  </a:lnTo>
                  <a:lnTo>
                    <a:pt x="6545" y="7812"/>
                  </a:lnTo>
                  <a:lnTo>
                    <a:pt x="6394" y="7899"/>
                  </a:lnTo>
                  <a:lnTo>
                    <a:pt x="6321" y="7941"/>
                  </a:lnTo>
                  <a:lnTo>
                    <a:pt x="6256" y="7982"/>
                  </a:lnTo>
                  <a:lnTo>
                    <a:pt x="6204" y="8016"/>
                  </a:lnTo>
                  <a:lnTo>
                    <a:pt x="6167" y="8042"/>
                  </a:lnTo>
                  <a:lnTo>
                    <a:pt x="6155" y="8052"/>
                  </a:lnTo>
                  <a:lnTo>
                    <a:pt x="6149" y="8060"/>
                  </a:lnTo>
                  <a:lnTo>
                    <a:pt x="6149" y="8062"/>
                  </a:lnTo>
                  <a:lnTo>
                    <a:pt x="6149" y="8064"/>
                  </a:lnTo>
                  <a:lnTo>
                    <a:pt x="6155" y="8067"/>
                  </a:lnTo>
                  <a:lnTo>
                    <a:pt x="6155" y="8067"/>
                  </a:lnTo>
                  <a:lnTo>
                    <a:pt x="6169" y="8064"/>
                  </a:lnTo>
                  <a:lnTo>
                    <a:pt x="6192" y="8058"/>
                  </a:lnTo>
                  <a:lnTo>
                    <a:pt x="6192" y="8058"/>
                  </a:lnTo>
                  <a:lnTo>
                    <a:pt x="6281" y="8026"/>
                  </a:lnTo>
                  <a:lnTo>
                    <a:pt x="6369" y="7992"/>
                  </a:lnTo>
                  <a:lnTo>
                    <a:pt x="6460" y="7953"/>
                  </a:lnTo>
                  <a:lnTo>
                    <a:pt x="6549" y="7911"/>
                  </a:lnTo>
                  <a:lnTo>
                    <a:pt x="6549" y="7911"/>
                  </a:lnTo>
                  <a:lnTo>
                    <a:pt x="6665" y="7844"/>
                  </a:lnTo>
                  <a:lnTo>
                    <a:pt x="6780" y="7775"/>
                  </a:lnTo>
                  <a:lnTo>
                    <a:pt x="6893" y="7701"/>
                  </a:lnTo>
                  <a:lnTo>
                    <a:pt x="7004" y="7622"/>
                  </a:lnTo>
                  <a:lnTo>
                    <a:pt x="7115" y="7539"/>
                  </a:lnTo>
                  <a:lnTo>
                    <a:pt x="7222" y="7452"/>
                  </a:lnTo>
                  <a:lnTo>
                    <a:pt x="7277" y="7406"/>
                  </a:lnTo>
                  <a:lnTo>
                    <a:pt x="7330" y="7359"/>
                  </a:lnTo>
                  <a:lnTo>
                    <a:pt x="7380" y="7313"/>
                  </a:lnTo>
                  <a:lnTo>
                    <a:pt x="7431" y="7264"/>
                  </a:lnTo>
                  <a:lnTo>
                    <a:pt x="7481" y="7216"/>
                  </a:lnTo>
                  <a:lnTo>
                    <a:pt x="7532" y="7165"/>
                  </a:lnTo>
                  <a:lnTo>
                    <a:pt x="7580" y="7114"/>
                  </a:lnTo>
                  <a:lnTo>
                    <a:pt x="7627" y="7062"/>
                  </a:lnTo>
                  <a:lnTo>
                    <a:pt x="7673" y="7009"/>
                  </a:lnTo>
                  <a:lnTo>
                    <a:pt x="7718" y="6955"/>
                  </a:lnTo>
                  <a:lnTo>
                    <a:pt x="7762" y="6900"/>
                  </a:lnTo>
                  <a:lnTo>
                    <a:pt x="7807" y="6844"/>
                  </a:lnTo>
                  <a:lnTo>
                    <a:pt x="7847" y="6787"/>
                  </a:lnTo>
                  <a:lnTo>
                    <a:pt x="7887" y="6730"/>
                  </a:lnTo>
                  <a:lnTo>
                    <a:pt x="7928" y="6672"/>
                  </a:lnTo>
                  <a:lnTo>
                    <a:pt x="7966" y="6611"/>
                  </a:lnTo>
                  <a:lnTo>
                    <a:pt x="8003" y="6551"/>
                  </a:lnTo>
                  <a:lnTo>
                    <a:pt x="8037" y="6490"/>
                  </a:lnTo>
                  <a:lnTo>
                    <a:pt x="8071" y="6427"/>
                  </a:lnTo>
                  <a:lnTo>
                    <a:pt x="8104" y="6365"/>
                  </a:lnTo>
                  <a:lnTo>
                    <a:pt x="8104" y="6365"/>
                  </a:lnTo>
                  <a:lnTo>
                    <a:pt x="8152" y="6276"/>
                  </a:lnTo>
                  <a:lnTo>
                    <a:pt x="8197" y="6183"/>
                  </a:lnTo>
                  <a:lnTo>
                    <a:pt x="8241" y="6086"/>
                  </a:lnTo>
                  <a:lnTo>
                    <a:pt x="8280" y="5987"/>
                  </a:lnTo>
                  <a:lnTo>
                    <a:pt x="8318" y="5884"/>
                  </a:lnTo>
                  <a:lnTo>
                    <a:pt x="8350" y="5778"/>
                  </a:lnTo>
                  <a:lnTo>
                    <a:pt x="8381" y="5673"/>
                  </a:lnTo>
                  <a:lnTo>
                    <a:pt x="8409" y="5566"/>
                  </a:lnTo>
                  <a:lnTo>
                    <a:pt x="8409" y="5566"/>
                  </a:lnTo>
                  <a:lnTo>
                    <a:pt x="8423" y="5516"/>
                  </a:lnTo>
                  <a:lnTo>
                    <a:pt x="8439" y="5457"/>
                  </a:lnTo>
                  <a:lnTo>
                    <a:pt x="8472" y="5322"/>
                  </a:lnTo>
                  <a:lnTo>
                    <a:pt x="8490" y="5255"/>
                  </a:lnTo>
                  <a:lnTo>
                    <a:pt x="8506" y="5190"/>
                  </a:lnTo>
                  <a:lnTo>
                    <a:pt x="8524" y="5136"/>
                  </a:lnTo>
                  <a:lnTo>
                    <a:pt x="8532" y="5113"/>
                  </a:lnTo>
                  <a:lnTo>
                    <a:pt x="8540" y="5093"/>
                  </a:lnTo>
                  <a:lnTo>
                    <a:pt x="8540" y="5093"/>
                  </a:lnTo>
                  <a:lnTo>
                    <a:pt x="8528" y="5176"/>
                  </a:lnTo>
                  <a:lnTo>
                    <a:pt x="8514" y="5259"/>
                  </a:lnTo>
                  <a:lnTo>
                    <a:pt x="8498" y="5340"/>
                  </a:lnTo>
                  <a:lnTo>
                    <a:pt x="8480" y="5423"/>
                  </a:lnTo>
                  <a:lnTo>
                    <a:pt x="8459" y="5504"/>
                  </a:lnTo>
                  <a:lnTo>
                    <a:pt x="8439" y="5584"/>
                  </a:lnTo>
                  <a:lnTo>
                    <a:pt x="8415" y="5665"/>
                  </a:lnTo>
                  <a:lnTo>
                    <a:pt x="8391" y="5746"/>
                  </a:lnTo>
                  <a:lnTo>
                    <a:pt x="8364" y="5825"/>
                  </a:lnTo>
                  <a:lnTo>
                    <a:pt x="8336" y="5904"/>
                  </a:lnTo>
                  <a:lnTo>
                    <a:pt x="8308" y="5983"/>
                  </a:lnTo>
                  <a:lnTo>
                    <a:pt x="8278" y="6059"/>
                  </a:lnTo>
                  <a:lnTo>
                    <a:pt x="8245" y="6136"/>
                  </a:lnTo>
                  <a:lnTo>
                    <a:pt x="8211" y="6213"/>
                  </a:lnTo>
                  <a:lnTo>
                    <a:pt x="8174" y="6290"/>
                  </a:lnTo>
                  <a:lnTo>
                    <a:pt x="8138" y="6365"/>
                  </a:lnTo>
                  <a:lnTo>
                    <a:pt x="8100" y="6437"/>
                  </a:lnTo>
                  <a:lnTo>
                    <a:pt x="8059" y="6510"/>
                  </a:lnTo>
                  <a:lnTo>
                    <a:pt x="8017" y="6583"/>
                  </a:lnTo>
                  <a:lnTo>
                    <a:pt x="7974" y="6656"/>
                  </a:lnTo>
                  <a:lnTo>
                    <a:pt x="7930" y="6724"/>
                  </a:lnTo>
                  <a:lnTo>
                    <a:pt x="7885" y="6795"/>
                  </a:lnTo>
                  <a:lnTo>
                    <a:pt x="7837" y="6864"/>
                  </a:lnTo>
                  <a:lnTo>
                    <a:pt x="7788" y="6931"/>
                  </a:lnTo>
                  <a:lnTo>
                    <a:pt x="7740" y="6997"/>
                  </a:lnTo>
                  <a:lnTo>
                    <a:pt x="7687" y="7062"/>
                  </a:lnTo>
                  <a:lnTo>
                    <a:pt x="7635" y="7127"/>
                  </a:lnTo>
                  <a:lnTo>
                    <a:pt x="7580" y="7191"/>
                  </a:lnTo>
                  <a:lnTo>
                    <a:pt x="7526" y="7252"/>
                  </a:lnTo>
                  <a:lnTo>
                    <a:pt x="7469" y="7313"/>
                  </a:lnTo>
                  <a:lnTo>
                    <a:pt x="7410" y="7373"/>
                  </a:lnTo>
                  <a:lnTo>
                    <a:pt x="7352" y="7430"/>
                  </a:lnTo>
                  <a:lnTo>
                    <a:pt x="7352" y="7430"/>
                  </a:lnTo>
                  <a:lnTo>
                    <a:pt x="7382" y="7412"/>
                  </a:lnTo>
                  <a:lnTo>
                    <a:pt x="7414" y="7391"/>
                  </a:lnTo>
                  <a:lnTo>
                    <a:pt x="7429" y="7379"/>
                  </a:lnTo>
                  <a:lnTo>
                    <a:pt x="7445" y="7367"/>
                  </a:lnTo>
                  <a:lnTo>
                    <a:pt x="7461" y="7351"/>
                  </a:lnTo>
                  <a:lnTo>
                    <a:pt x="7477" y="7331"/>
                  </a:lnTo>
                  <a:lnTo>
                    <a:pt x="7477" y="7331"/>
                  </a:lnTo>
                  <a:lnTo>
                    <a:pt x="7473" y="7375"/>
                  </a:lnTo>
                  <a:lnTo>
                    <a:pt x="7473" y="7375"/>
                  </a:lnTo>
                  <a:lnTo>
                    <a:pt x="7473" y="7375"/>
                  </a:lnTo>
                  <a:lnTo>
                    <a:pt x="7513" y="7335"/>
                  </a:lnTo>
                  <a:lnTo>
                    <a:pt x="7556" y="7294"/>
                  </a:lnTo>
                  <a:lnTo>
                    <a:pt x="7602" y="7246"/>
                  </a:lnTo>
                  <a:lnTo>
                    <a:pt x="7602" y="7246"/>
                  </a:lnTo>
                  <a:lnTo>
                    <a:pt x="7590" y="7266"/>
                  </a:lnTo>
                  <a:lnTo>
                    <a:pt x="7574" y="7288"/>
                  </a:lnTo>
                  <a:lnTo>
                    <a:pt x="7554" y="7315"/>
                  </a:lnTo>
                  <a:lnTo>
                    <a:pt x="7530" y="7341"/>
                  </a:lnTo>
                  <a:lnTo>
                    <a:pt x="7479" y="7395"/>
                  </a:lnTo>
                  <a:lnTo>
                    <a:pt x="7425" y="7450"/>
                  </a:lnTo>
                  <a:lnTo>
                    <a:pt x="7330" y="7543"/>
                  </a:lnTo>
                  <a:lnTo>
                    <a:pt x="7303" y="7571"/>
                  </a:lnTo>
                  <a:lnTo>
                    <a:pt x="7295" y="7577"/>
                  </a:lnTo>
                  <a:lnTo>
                    <a:pt x="7295" y="7579"/>
                  </a:lnTo>
                  <a:lnTo>
                    <a:pt x="7295" y="7581"/>
                  </a:lnTo>
                  <a:lnTo>
                    <a:pt x="7295" y="7581"/>
                  </a:lnTo>
                  <a:lnTo>
                    <a:pt x="7305" y="7575"/>
                  </a:lnTo>
                  <a:lnTo>
                    <a:pt x="7326" y="7561"/>
                  </a:lnTo>
                  <a:lnTo>
                    <a:pt x="7326" y="7561"/>
                  </a:lnTo>
                  <a:lnTo>
                    <a:pt x="7386" y="7513"/>
                  </a:lnTo>
                  <a:lnTo>
                    <a:pt x="7443" y="7464"/>
                  </a:lnTo>
                  <a:lnTo>
                    <a:pt x="7501" y="7414"/>
                  </a:lnTo>
                  <a:lnTo>
                    <a:pt x="7558" y="7361"/>
                  </a:lnTo>
                  <a:lnTo>
                    <a:pt x="7613" y="7309"/>
                  </a:lnTo>
                  <a:lnTo>
                    <a:pt x="7665" y="7252"/>
                  </a:lnTo>
                  <a:lnTo>
                    <a:pt x="7718" y="7195"/>
                  </a:lnTo>
                  <a:lnTo>
                    <a:pt x="7768" y="7137"/>
                  </a:lnTo>
                  <a:lnTo>
                    <a:pt x="7819" y="7078"/>
                  </a:lnTo>
                  <a:lnTo>
                    <a:pt x="7867" y="7017"/>
                  </a:lnTo>
                  <a:lnTo>
                    <a:pt x="7914" y="6955"/>
                  </a:lnTo>
                  <a:lnTo>
                    <a:pt x="7960" y="6892"/>
                  </a:lnTo>
                  <a:lnTo>
                    <a:pt x="8005" y="6827"/>
                  </a:lnTo>
                  <a:lnTo>
                    <a:pt x="8047" y="6763"/>
                  </a:lnTo>
                  <a:lnTo>
                    <a:pt x="8090" y="6696"/>
                  </a:lnTo>
                  <a:lnTo>
                    <a:pt x="8130" y="6629"/>
                  </a:lnTo>
                  <a:lnTo>
                    <a:pt x="8130" y="6629"/>
                  </a:lnTo>
                  <a:lnTo>
                    <a:pt x="8189" y="6540"/>
                  </a:lnTo>
                  <a:lnTo>
                    <a:pt x="8247" y="6450"/>
                  </a:lnTo>
                  <a:lnTo>
                    <a:pt x="8247" y="6450"/>
                  </a:lnTo>
                  <a:lnTo>
                    <a:pt x="8187" y="6526"/>
                  </a:lnTo>
                  <a:lnTo>
                    <a:pt x="8187" y="6526"/>
                  </a:lnTo>
                  <a:lnTo>
                    <a:pt x="8237" y="6427"/>
                  </a:lnTo>
                  <a:lnTo>
                    <a:pt x="8288" y="6324"/>
                  </a:lnTo>
                  <a:lnTo>
                    <a:pt x="8288" y="6324"/>
                  </a:lnTo>
                  <a:lnTo>
                    <a:pt x="8342" y="6221"/>
                  </a:lnTo>
                  <a:lnTo>
                    <a:pt x="8395" y="6116"/>
                  </a:lnTo>
                  <a:lnTo>
                    <a:pt x="8395" y="6116"/>
                  </a:lnTo>
                  <a:lnTo>
                    <a:pt x="8385" y="6130"/>
                  </a:lnTo>
                  <a:lnTo>
                    <a:pt x="8385" y="6130"/>
                  </a:lnTo>
                  <a:lnTo>
                    <a:pt x="8423" y="6055"/>
                  </a:lnTo>
                  <a:lnTo>
                    <a:pt x="8423" y="6055"/>
                  </a:lnTo>
                  <a:lnTo>
                    <a:pt x="8476" y="5930"/>
                  </a:lnTo>
                  <a:lnTo>
                    <a:pt x="8526" y="5805"/>
                  </a:lnTo>
                  <a:lnTo>
                    <a:pt x="8573" y="5677"/>
                  </a:lnTo>
                  <a:lnTo>
                    <a:pt x="8615" y="5548"/>
                  </a:lnTo>
                  <a:lnTo>
                    <a:pt x="8651" y="5417"/>
                  </a:lnTo>
                  <a:lnTo>
                    <a:pt x="8686" y="5283"/>
                  </a:lnTo>
                  <a:lnTo>
                    <a:pt x="8714" y="5150"/>
                  </a:lnTo>
                  <a:lnTo>
                    <a:pt x="8740" y="5014"/>
                  </a:lnTo>
                  <a:lnTo>
                    <a:pt x="8761" y="4879"/>
                  </a:lnTo>
                  <a:lnTo>
                    <a:pt x="8777" y="4742"/>
                  </a:lnTo>
                  <a:lnTo>
                    <a:pt x="8787" y="4604"/>
                  </a:lnTo>
                  <a:lnTo>
                    <a:pt x="8795" y="4465"/>
                  </a:lnTo>
                  <a:lnTo>
                    <a:pt x="8797" y="4327"/>
                  </a:lnTo>
                  <a:lnTo>
                    <a:pt x="8795" y="4188"/>
                  </a:lnTo>
                  <a:lnTo>
                    <a:pt x="8787" y="4048"/>
                  </a:lnTo>
                  <a:lnTo>
                    <a:pt x="8777" y="3909"/>
                  </a:lnTo>
                  <a:lnTo>
                    <a:pt x="8777" y="3909"/>
                  </a:lnTo>
                  <a:lnTo>
                    <a:pt x="8767" y="3830"/>
                  </a:lnTo>
                  <a:lnTo>
                    <a:pt x="8757" y="3751"/>
                  </a:lnTo>
                  <a:lnTo>
                    <a:pt x="8746" y="3672"/>
                  </a:lnTo>
                  <a:lnTo>
                    <a:pt x="8732" y="3593"/>
                  </a:lnTo>
                  <a:lnTo>
                    <a:pt x="8718" y="3515"/>
                  </a:lnTo>
                  <a:lnTo>
                    <a:pt x="8702" y="3436"/>
                  </a:lnTo>
                  <a:lnTo>
                    <a:pt x="8684" y="3359"/>
                  </a:lnTo>
                  <a:lnTo>
                    <a:pt x="8666" y="3280"/>
                  </a:lnTo>
                  <a:lnTo>
                    <a:pt x="8643" y="3203"/>
                  </a:lnTo>
                  <a:lnTo>
                    <a:pt x="8621" y="3127"/>
                  </a:lnTo>
                  <a:lnTo>
                    <a:pt x="8599" y="3050"/>
                  </a:lnTo>
                  <a:lnTo>
                    <a:pt x="8573" y="2973"/>
                  </a:lnTo>
                  <a:lnTo>
                    <a:pt x="8546" y="2896"/>
                  </a:lnTo>
                  <a:lnTo>
                    <a:pt x="8518" y="2821"/>
                  </a:lnTo>
                  <a:lnTo>
                    <a:pt x="8490" y="2745"/>
                  </a:lnTo>
                  <a:lnTo>
                    <a:pt x="8459" y="2670"/>
                  </a:lnTo>
                  <a:lnTo>
                    <a:pt x="8427" y="2597"/>
                  </a:lnTo>
                  <a:lnTo>
                    <a:pt x="8393" y="2522"/>
                  </a:lnTo>
                  <a:lnTo>
                    <a:pt x="8358" y="2449"/>
                  </a:lnTo>
                  <a:lnTo>
                    <a:pt x="8322" y="2377"/>
                  </a:lnTo>
                  <a:lnTo>
                    <a:pt x="8284" y="2304"/>
                  </a:lnTo>
                  <a:lnTo>
                    <a:pt x="8245" y="2233"/>
                  </a:lnTo>
                  <a:lnTo>
                    <a:pt x="8205" y="2162"/>
                  </a:lnTo>
                  <a:lnTo>
                    <a:pt x="8162" y="2094"/>
                  </a:lnTo>
                  <a:lnTo>
                    <a:pt x="8120" y="2023"/>
                  </a:lnTo>
                  <a:lnTo>
                    <a:pt x="8073" y="1956"/>
                  </a:lnTo>
                  <a:lnTo>
                    <a:pt x="8029" y="1888"/>
                  </a:lnTo>
                  <a:lnTo>
                    <a:pt x="7980" y="1821"/>
                  </a:lnTo>
                  <a:lnTo>
                    <a:pt x="7932" y="1754"/>
                  </a:lnTo>
                  <a:lnTo>
                    <a:pt x="7883" y="1689"/>
                  </a:lnTo>
                  <a:lnTo>
                    <a:pt x="7831" y="1627"/>
                  </a:lnTo>
                  <a:lnTo>
                    <a:pt x="7778" y="1562"/>
                  </a:lnTo>
                  <a:lnTo>
                    <a:pt x="7778" y="1562"/>
                  </a:lnTo>
                  <a:lnTo>
                    <a:pt x="7726" y="1499"/>
                  </a:lnTo>
                  <a:lnTo>
                    <a:pt x="7671" y="1439"/>
                  </a:lnTo>
                  <a:lnTo>
                    <a:pt x="7615" y="1378"/>
                  </a:lnTo>
                  <a:lnTo>
                    <a:pt x="7558" y="1320"/>
                  </a:lnTo>
                  <a:lnTo>
                    <a:pt x="7499" y="1261"/>
                  </a:lnTo>
                  <a:lnTo>
                    <a:pt x="7439" y="1204"/>
                  </a:lnTo>
                  <a:lnTo>
                    <a:pt x="7378" y="1148"/>
                  </a:lnTo>
                  <a:lnTo>
                    <a:pt x="7317" y="1093"/>
                  </a:lnTo>
                  <a:lnTo>
                    <a:pt x="7253" y="1039"/>
                  </a:lnTo>
                  <a:lnTo>
                    <a:pt x="7190" y="986"/>
                  </a:lnTo>
                  <a:lnTo>
                    <a:pt x="7125" y="936"/>
                  </a:lnTo>
                  <a:lnTo>
                    <a:pt x="7059" y="885"/>
                  </a:lnTo>
                  <a:lnTo>
                    <a:pt x="6992" y="837"/>
                  </a:lnTo>
                  <a:lnTo>
                    <a:pt x="6923" y="788"/>
                  </a:lnTo>
                  <a:lnTo>
                    <a:pt x="6855" y="742"/>
                  </a:lnTo>
                  <a:lnTo>
                    <a:pt x="6784" y="695"/>
                  </a:lnTo>
                  <a:lnTo>
                    <a:pt x="6713" y="653"/>
                  </a:lnTo>
                  <a:lnTo>
                    <a:pt x="6642" y="608"/>
                  </a:lnTo>
                  <a:lnTo>
                    <a:pt x="6570" y="568"/>
                  </a:lnTo>
                  <a:lnTo>
                    <a:pt x="6497" y="527"/>
                  </a:lnTo>
                  <a:lnTo>
                    <a:pt x="6422" y="489"/>
                  </a:lnTo>
                  <a:lnTo>
                    <a:pt x="6347" y="450"/>
                  </a:lnTo>
                  <a:lnTo>
                    <a:pt x="6272" y="416"/>
                  </a:lnTo>
                  <a:lnTo>
                    <a:pt x="6196" y="382"/>
                  </a:lnTo>
                  <a:lnTo>
                    <a:pt x="6119" y="347"/>
                  </a:lnTo>
                  <a:lnTo>
                    <a:pt x="6040" y="315"/>
                  </a:lnTo>
                  <a:lnTo>
                    <a:pt x="5963" y="285"/>
                  </a:lnTo>
                  <a:lnTo>
                    <a:pt x="5882" y="256"/>
                  </a:lnTo>
                  <a:lnTo>
                    <a:pt x="5803" y="230"/>
                  </a:lnTo>
                  <a:lnTo>
                    <a:pt x="5723" y="204"/>
                  </a:lnTo>
                  <a:lnTo>
                    <a:pt x="5644" y="180"/>
                  </a:lnTo>
                  <a:lnTo>
                    <a:pt x="5561" y="155"/>
                  </a:lnTo>
                  <a:lnTo>
                    <a:pt x="5561" y="155"/>
                  </a:lnTo>
                  <a:lnTo>
                    <a:pt x="5490" y="137"/>
                  </a:lnTo>
                  <a:lnTo>
                    <a:pt x="5419" y="119"/>
                  </a:lnTo>
                  <a:lnTo>
                    <a:pt x="5347" y="103"/>
                  </a:lnTo>
                  <a:lnTo>
                    <a:pt x="5274" y="89"/>
                  </a:lnTo>
                  <a:lnTo>
                    <a:pt x="5201" y="75"/>
                  </a:lnTo>
                  <a:lnTo>
                    <a:pt x="5128" y="60"/>
                  </a:lnTo>
                  <a:lnTo>
                    <a:pt x="5056" y="50"/>
                  </a:lnTo>
                  <a:lnTo>
                    <a:pt x="4983" y="40"/>
                  </a:lnTo>
                  <a:lnTo>
                    <a:pt x="4908" y="30"/>
                  </a:lnTo>
                  <a:lnTo>
                    <a:pt x="4835" y="22"/>
                  </a:lnTo>
                  <a:lnTo>
                    <a:pt x="4761" y="16"/>
                  </a:lnTo>
                  <a:lnTo>
                    <a:pt x="4688" y="10"/>
                  </a:lnTo>
                  <a:lnTo>
                    <a:pt x="4613" y="6"/>
                  </a:lnTo>
                  <a:lnTo>
                    <a:pt x="4538" y="2"/>
                  </a:lnTo>
                  <a:lnTo>
                    <a:pt x="4463" y="0"/>
                  </a:lnTo>
                  <a:lnTo>
                    <a:pt x="4391" y="0"/>
                  </a:lnTo>
                  <a:close/>
                </a:path>
              </a:pathLst>
            </a:custGeom>
            <a:solidFill>
              <a:srgbClr val="fd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-1458720" y="22172760"/>
              <a:ext cx="291960" cy="13017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84" h="820">
                  <a:moveTo>
                    <a:pt x="0" y="0"/>
                  </a:moveTo>
                  <a:lnTo>
                    <a:pt x="0" y="0"/>
                  </a:lnTo>
                  <a:lnTo>
                    <a:pt x="15" y="105"/>
                  </a:lnTo>
                  <a:lnTo>
                    <a:pt x="31" y="208"/>
                  </a:lnTo>
                  <a:lnTo>
                    <a:pt x="51" y="313"/>
                  </a:lnTo>
                  <a:lnTo>
                    <a:pt x="73" y="414"/>
                  </a:lnTo>
                  <a:lnTo>
                    <a:pt x="97" y="517"/>
                  </a:lnTo>
                  <a:lnTo>
                    <a:pt x="124" y="618"/>
                  </a:lnTo>
                  <a:lnTo>
                    <a:pt x="152" y="719"/>
                  </a:lnTo>
                  <a:lnTo>
                    <a:pt x="184" y="820"/>
                  </a:lnTo>
                  <a:lnTo>
                    <a:pt x="184" y="820"/>
                  </a:lnTo>
                  <a:lnTo>
                    <a:pt x="168" y="770"/>
                  </a:lnTo>
                  <a:lnTo>
                    <a:pt x="168" y="770"/>
                  </a:lnTo>
                  <a:lnTo>
                    <a:pt x="140" y="677"/>
                  </a:lnTo>
                  <a:lnTo>
                    <a:pt x="114" y="584"/>
                  </a:lnTo>
                  <a:lnTo>
                    <a:pt x="89" y="489"/>
                  </a:lnTo>
                  <a:lnTo>
                    <a:pt x="67" y="392"/>
                  </a:lnTo>
                  <a:lnTo>
                    <a:pt x="47" y="295"/>
                  </a:lnTo>
                  <a:lnTo>
                    <a:pt x="31" y="198"/>
                  </a:lnTo>
                  <a:lnTo>
                    <a:pt x="15" y="9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468080" y="15845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-1108080" y="14817600"/>
              <a:ext cx="5008680" cy="6491160"/>
            </a:xfrm>
            <a:custGeom>
              <a:avLst/>
              <a:gdLst>
                <a:gd name="textAreaLeft" fmla="*/ 0 w 5008680"/>
                <a:gd name="textAreaRight" fmla="*/ 5009040 w 5008680"/>
                <a:gd name="textAreaTop" fmla="*/ 0 h 6491160"/>
                <a:gd name="textAreaBottom" fmla="*/ 6491520 h 6491160"/>
              </a:gdLst>
              <a:ahLst/>
              <a:rect l="textAreaLeft" t="textAreaTop" r="textAreaRight" b="textAreaBottom"/>
              <a:pathLst>
                <a:path w="3155" h="4089">
                  <a:moveTo>
                    <a:pt x="1712" y="695"/>
                  </a:moveTo>
                  <a:lnTo>
                    <a:pt x="1712" y="695"/>
                  </a:lnTo>
                  <a:lnTo>
                    <a:pt x="1712" y="695"/>
                  </a:lnTo>
                  <a:lnTo>
                    <a:pt x="1793" y="637"/>
                  </a:lnTo>
                  <a:lnTo>
                    <a:pt x="1875" y="580"/>
                  </a:lnTo>
                  <a:lnTo>
                    <a:pt x="1958" y="526"/>
                  </a:lnTo>
                  <a:lnTo>
                    <a:pt x="2043" y="473"/>
                  </a:lnTo>
                  <a:lnTo>
                    <a:pt x="2130" y="422"/>
                  </a:lnTo>
                  <a:lnTo>
                    <a:pt x="2217" y="374"/>
                  </a:lnTo>
                  <a:lnTo>
                    <a:pt x="2306" y="325"/>
                  </a:lnTo>
                  <a:lnTo>
                    <a:pt x="2397" y="281"/>
                  </a:lnTo>
                  <a:lnTo>
                    <a:pt x="2488" y="239"/>
                  </a:lnTo>
                  <a:lnTo>
                    <a:pt x="2581" y="198"/>
                  </a:lnTo>
                  <a:lnTo>
                    <a:pt x="2674" y="160"/>
                  </a:lnTo>
                  <a:lnTo>
                    <a:pt x="2769" y="123"/>
                  </a:lnTo>
                  <a:lnTo>
                    <a:pt x="2864" y="89"/>
                  </a:lnTo>
                  <a:lnTo>
                    <a:pt x="2961" y="57"/>
                  </a:lnTo>
                  <a:lnTo>
                    <a:pt x="3058" y="28"/>
                  </a:lnTo>
                  <a:lnTo>
                    <a:pt x="3155" y="0"/>
                  </a:lnTo>
                  <a:lnTo>
                    <a:pt x="3155" y="0"/>
                  </a:lnTo>
                  <a:lnTo>
                    <a:pt x="3084" y="22"/>
                  </a:lnTo>
                  <a:lnTo>
                    <a:pt x="3022" y="40"/>
                  </a:lnTo>
                  <a:lnTo>
                    <a:pt x="2971" y="57"/>
                  </a:lnTo>
                  <a:lnTo>
                    <a:pt x="2935" y="71"/>
                  </a:lnTo>
                  <a:lnTo>
                    <a:pt x="2935" y="71"/>
                  </a:lnTo>
                  <a:lnTo>
                    <a:pt x="2813" y="113"/>
                  </a:lnTo>
                  <a:lnTo>
                    <a:pt x="2698" y="158"/>
                  </a:lnTo>
                  <a:lnTo>
                    <a:pt x="2585" y="204"/>
                  </a:lnTo>
                  <a:lnTo>
                    <a:pt x="2478" y="251"/>
                  </a:lnTo>
                  <a:lnTo>
                    <a:pt x="2375" y="301"/>
                  </a:lnTo>
                  <a:lnTo>
                    <a:pt x="2276" y="350"/>
                  </a:lnTo>
                  <a:lnTo>
                    <a:pt x="2181" y="400"/>
                  </a:lnTo>
                  <a:lnTo>
                    <a:pt x="2092" y="453"/>
                  </a:lnTo>
                  <a:lnTo>
                    <a:pt x="2005" y="503"/>
                  </a:lnTo>
                  <a:lnTo>
                    <a:pt x="1924" y="554"/>
                  </a:lnTo>
                  <a:lnTo>
                    <a:pt x="1849" y="604"/>
                  </a:lnTo>
                  <a:lnTo>
                    <a:pt x="1776" y="653"/>
                  </a:lnTo>
                  <a:lnTo>
                    <a:pt x="1710" y="701"/>
                  </a:lnTo>
                  <a:lnTo>
                    <a:pt x="1647" y="748"/>
                  </a:lnTo>
                  <a:lnTo>
                    <a:pt x="1536" y="835"/>
                  </a:lnTo>
                  <a:lnTo>
                    <a:pt x="1536" y="835"/>
                  </a:lnTo>
                  <a:lnTo>
                    <a:pt x="1451" y="908"/>
                  </a:lnTo>
                  <a:lnTo>
                    <a:pt x="1366" y="982"/>
                  </a:lnTo>
                  <a:lnTo>
                    <a:pt x="1283" y="1061"/>
                  </a:lnTo>
                  <a:lnTo>
                    <a:pt x="1204" y="1142"/>
                  </a:lnTo>
                  <a:lnTo>
                    <a:pt x="1128" y="1223"/>
                  </a:lnTo>
                  <a:lnTo>
                    <a:pt x="1053" y="1306"/>
                  </a:lnTo>
                  <a:lnTo>
                    <a:pt x="980" y="1393"/>
                  </a:lnTo>
                  <a:lnTo>
                    <a:pt x="911" y="1480"/>
                  </a:lnTo>
                  <a:lnTo>
                    <a:pt x="843" y="1569"/>
                  </a:lnTo>
                  <a:lnTo>
                    <a:pt x="778" y="1657"/>
                  </a:lnTo>
                  <a:lnTo>
                    <a:pt x="715" y="1750"/>
                  </a:lnTo>
                  <a:lnTo>
                    <a:pt x="655" y="1843"/>
                  </a:lnTo>
                  <a:lnTo>
                    <a:pt x="598" y="1938"/>
                  </a:lnTo>
                  <a:lnTo>
                    <a:pt x="543" y="2033"/>
                  </a:lnTo>
                  <a:lnTo>
                    <a:pt x="491" y="2130"/>
                  </a:lnTo>
                  <a:lnTo>
                    <a:pt x="442" y="2227"/>
                  </a:lnTo>
                  <a:lnTo>
                    <a:pt x="442" y="2227"/>
                  </a:lnTo>
                  <a:lnTo>
                    <a:pt x="390" y="2339"/>
                  </a:lnTo>
                  <a:lnTo>
                    <a:pt x="339" y="2452"/>
                  </a:lnTo>
                  <a:lnTo>
                    <a:pt x="295" y="2565"/>
                  </a:lnTo>
                  <a:lnTo>
                    <a:pt x="252" y="2680"/>
                  </a:lnTo>
                  <a:lnTo>
                    <a:pt x="214" y="2795"/>
                  </a:lnTo>
                  <a:lnTo>
                    <a:pt x="178" y="2911"/>
                  </a:lnTo>
                  <a:lnTo>
                    <a:pt x="145" y="3028"/>
                  </a:lnTo>
                  <a:lnTo>
                    <a:pt x="117" y="3145"/>
                  </a:lnTo>
                  <a:lnTo>
                    <a:pt x="91" y="3262"/>
                  </a:lnTo>
                  <a:lnTo>
                    <a:pt x="68" y="3380"/>
                  </a:lnTo>
                  <a:lnTo>
                    <a:pt x="50" y="3497"/>
                  </a:lnTo>
                  <a:lnTo>
                    <a:pt x="34" y="3616"/>
                  </a:lnTo>
                  <a:lnTo>
                    <a:pt x="22" y="3735"/>
                  </a:lnTo>
                  <a:lnTo>
                    <a:pt x="14" y="3853"/>
                  </a:lnTo>
                  <a:lnTo>
                    <a:pt x="8" y="3970"/>
                  </a:lnTo>
                  <a:lnTo>
                    <a:pt x="6" y="4089"/>
                  </a:lnTo>
                  <a:lnTo>
                    <a:pt x="6" y="4089"/>
                  </a:lnTo>
                  <a:lnTo>
                    <a:pt x="2" y="4000"/>
                  </a:lnTo>
                  <a:lnTo>
                    <a:pt x="0" y="3907"/>
                  </a:lnTo>
                  <a:lnTo>
                    <a:pt x="2" y="3812"/>
                  </a:lnTo>
                  <a:lnTo>
                    <a:pt x="6" y="3713"/>
                  </a:lnTo>
                  <a:lnTo>
                    <a:pt x="14" y="3610"/>
                  </a:lnTo>
                  <a:lnTo>
                    <a:pt x="24" y="3505"/>
                  </a:lnTo>
                  <a:lnTo>
                    <a:pt x="38" y="3398"/>
                  </a:lnTo>
                  <a:lnTo>
                    <a:pt x="56" y="3287"/>
                  </a:lnTo>
                  <a:lnTo>
                    <a:pt x="79" y="3175"/>
                  </a:lnTo>
                  <a:lnTo>
                    <a:pt x="105" y="3062"/>
                  </a:lnTo>
                  <a:lnTo>
                    <a:pt x="133" y="2947"/>
                  </a:lnTo>
                  <a:lnTo>
                    <a:pt x="167" y="2830"/>
                  </a:lnTo>
                  <a:lnTo>
                    <a:pt x="206" y="2713"/>
                  </a:lnTo>
                  <a:lnTo>
                    <a:pt x="248" y="2595"/>
                  </a:lnTo>
                  <a:lnTo>
                    <a:pt x="297" y="2476"/>
                  </a:lnTo>
                  <a:lnTo>
                    <a:pt x="347" y="2357"/>
                  </a:lnTo>
                  <a:lnTo>
                    <a:pt x="347" y="2357"/>
                  </a:lnTo>
                  <a:lnTo>
                    <a:pt x="404" y="2240"/>
                  </a:lnTo>
                  <a:lnTo>
                    <a:pt x="465" y="2122"/>
                  </a:lnTo>
                  <a:lnTo>
                    <a:pt x="529" y="2005"/>
                  </a:lnTo>
                  <a:lnTo>
                    <a:pt x="598" y="1890"/>
                  </a:lnTo>
                  <a:lnTo>
                    <a:pt x="671" y="1777"/>
                  </a:lnTo>
                  <a:lnTo>
                    <a:pt x="750" y="1664"/>
                  </a:lnTo>
                  <a:lnTo>
                    <a:pt x="830" y="1554"/>
                  </a:lnTo>
                  <a:lnTo>
                    <a:pt x="915" y="1447"/>
                  </a:lnTo>
                  <a:lnTo>
                    <a:pt x="1004" y="1342"/>
                  </a:lnTo>
                  <a:lnTo>
                    <a:pt x="1097" y="1239"/>
                  </a:lnTo>
                  <a:lnTo>
                    <a:pt x="1192" y="1140"/>
                  </a:lnTo>
                  <a:lnTo>
                    <a:pt x="1289" y="1043"/>
                  </a:lnTo>
                  <a:lnTo>
                    <a:pt x="1392" y="952"/>
                  </a:lnTo>
                  <a:lnTo>
                    <a:pt x="1495" y="861"/>
                  </a:lnTo>
                  <a:lnTo>
                    <a:pt x="1603" y="776"/>
                  </a:lnTo>
                  <a:lnTo>
                    <a:pt x="1712" y="695"/>
                  </a:lnTo>
                  <a:lnTo>
                    <a:pt x="1712" y="695"/>
                  </a:lnTo>
                  <a:lnTo>
                    <a:pt x="1712" y="6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-658800" y="14422320"/>
              <a:ext cx="13020840" cy="8231040"/>
            </a:xfrm>
            <a:custGeom>
              <a:avLst/>
              <a:gdLst>
                <a:gd name="textAreaLeft" fmla="*/ 0 w 13020840"/>
                <a:gd name="textAreaRight" fmla="*/ 13021200 w 13020840"/>
                <a:gd name="textAreaTop" fmla="*/ 0 h 8231040"/>
                <a:gd name="textAreaBottom" fmla="*/ 8231400 h 8231040"/>
              </a:gdLst>
              <a:ahLst/>
              <a:rect l="textAreaLeft" t="textAreaTop" r="textAreaRight" b="textAreaBottom"/>
              <a:pathLst>
                <a:path w="8202" h="5185">
                  <a:moveTo>
                    <a:pt x="0" y="2295"/>
                  </a:moveTo>
                  <a:lnTo>
                    <a:pt x="0" y="2295"/>
                  </a:lnTo>
                  <a:lnTo>
                    <a:pt x="50" y="2204"/>
                  </a:lnTo>
                  <a:lnTo>
                    <a:pt x="103" y="2115"/>
                  </a:lnTo>
                  <a:lnTo>
                    <a:pt x="157" y="2028"/>
                  </a:lnTo>
                  <a:lnTo>
                    <a:pt x="214" y="1943"/>
                  </a:lnTo>
                  <a:lnTo>
                    <a:pt x="273" y="1858"/>
                  </a:lnTo>
                  <a:lnTo>
                    <a:pt x="333" y="1775"/>
                  </a:lnTo>
                  <a:lnTo>
                    <a:pt x="396" y="1694"/>
                  </a:lnTo>
                  <a:lnTo>
                    <a:pt x="461" y="1613"/>
                  </a:lnTo>
                  <a:lnTo>
                    <a:pt x="525" y="1535"/>
                  </a:lnTo>
                  <a:lnTo>
                    <a:pt x="594" y="1458"/>
                  </a:lnTo>
                  <a:lnTo>
                    <a:pt x="663" y="1383"/>
                  </a:lnTo>
                  <a:lnTo>
                    <a:pt x="733" y="1310"/>
                  </a:lnTo>
                  <a:lnTo>
                    <a:pt x="806" y="1239"/>
                  </a:lnTo>
                  <a:lnTo>
                    <a:pt x="881" y="1169"/>
                  </a:lnTo>
                  <a:lnTo>
                    <a:pt x="958" y="1100"/>
                  </a:lnTo>
                  <a:lnTo>
                    <a:pt x="1035" y="1035"/>
                  </a:lnTo>
                  <a:lnTo>
                    <a:pt x="1113" y="971"/>
                  </a:lnTo>
                  <a:lnTo>
                    <a:pt x="1192" y="908"/>
                  </a:lnTo>
                  <a:lnTo>
                    <a:pt x="1273" y="847"/>
                  </a:lnTo>
                  <a:lnTo>
                    <a:pt x="1356" y="789"/>
                  </a:lnTo>
                  <a:lnTo>
                    <a:pt x="1441" y="732"/>
                  </a:lnTo>
                  <a:lnTo>
                    <a:pt x="1526" y="676"/>
                  </a:lnTo>
                  <a:lnTo>
                    <a:pt x="1613" y="623"/>
                  </a:lnTo>
                  <a:lnTo>
                    <a:pt x="1700" y="572"/>
                  </a:lnTo>
                  <a:lnTo>
                    <a:pt x="1787" y="524"/>
                  </a:lnTo>
                  <a:lnTo>
                    <a:pt x="1877" y="477"/>
                  </a:lnTo>
                  <a:lnTo>
                    <a:pt x="1966" y="433"/>
                  </a:lnTo>
                  <a:lnTo>
                    <a:pt x="2057" y="391"/>
                  </a:lnTo>
                  <a:lnTo>
                    <a:pt x="2150" y="350"/>
                  </a:lnTo>
                  <a:lnTo>
                    <a:pt x="2243" y="312"/>
                  </a:lnTo>
                  <a:lnTo>
                    <a:pt x="2336" y="277"/>
                  </a:lnTo>
                  <a:lnTo>
                    <a:pt x="2431" y="243"/>
                  </a:lnTo>
                  <a:lnTo>
                    <a:pt x="2431" y="243"/>
                  </a:lnTo>
                  <a:lnTo>
                    <a:pt x="2518" y="213"/>
                  </a:lnTo>
                  <a:lnTo>
                    <a:pt x="2605" y="186"/>
                  </a:lnTo>
                  <a:lnTo>
                    <a:pt x="2694" y="160"/>
                  </a:lnTo>
                  <a:lnTo>
                    <a:pt x="2783" y="136"/>
                  </a:lnTo>
                  <a:lnTo>
                    <a:pt x="2872" y="114"/>
                  </a:lnTo>
                  <a:lnTo>
                    <a:pt x="2961" y="93"/>
                  </a:lnTo>
                  <a:lnTo>
                    <a:pt x="3052" y="77"/>
                  </a:lnTo>
                  <a:lnTo>
                    <a:pt x="3141" y="61"/>
                  </a:lnTo>
                  <a:lnTo>
                    <a:pt x="3232" y="47"/>
                  </a:lnTo>
                  <a:lnTo>
                    <a:pt x="3323" y="35"/>
                  </a:lnTo>
                  <a:lnTo>
                    <a:pt x="3412" y="23"/>
                  </a:lnTo>
                  <a:lnTo>
                    <a:pt x="3503" y="15"/>
                  </a:lnTo>
                  <a:lnTo>
                    <a:pt x="3594" y="9"/>
                  </a:lnTo>
                  <a:lnTo>
                    <a:pt x="3684" y="4"/>
                  </a:lnTo>
                  <a:lnTo>
                    <a:pt x="3775" y="0"/>
                  </a:lnTo>
                  <a:lnTo>
                    <a:pt x="3866" y="0"/>
                  </a:lnTo>
                  <a:lnTo>
                    <a:pt x="3866" y="0"/>
                  </a:lnTo>
                  <a:lnTo>
                    <a:pt x="3972" y="2"/>
                  </a:lnTo>
                  <a:lnTo>
                    <a:pt x="4079" y="4"/>
                  </a:lnTo>
                  <a:lnTo>
                    <a:pt x="4184" y="13"/>
                  </a:lnTo>
                  <a:lnTo>
                    <a:pt x="4289" y="21"/>
                  </a:lnTo>
                  <a:lnTo>
                    <a:pt x="4394" y="33"/>
                  </a:lnTo>
                  <a:lnTo>
                    <a:pt x="4499" y="45"/>
                  </a:lnTo>
                  <a:lnTo>
                    <a:pt x="4604" y="63"/>
                  </a:lnTo>
                  <a:lnTo>
                    <a:pt x="4707" y="81"/>
                  </a:lnTo>
                  <a:lnTo>
                    <a:pt x="4810" y="101"/>
                  </a:lnTo>
                  <a:lnTo>
                    <a:pt x="4913" y="126"/>
                  </a:lnTo>
                  <a:lnTo>
                    <a:pt x="5014" y="152"/>
                  </a:lnTo>
                  <a:lnTo>
                    <a:pt x="5116" y="180"/>
                  </a:lnTo>
                  <a:lnTo>
                    <a:pt x="5215" y="213"/>
                  </a:lnTo>
                  <a:lnTo>
                    <a:pt x="5314" y="245"/>
                  </a:lnTo>
                  <a:lnTo>
                    <a:pt x="5413" y="281"/>
                  </a:lnTo>
                  <a:lnTo>
                    <a:pt x="5510" y="320"/>
                  </a:lnTo>
                  <a:lnTo>
                    <a:pt x="5510" y="320"/>
                  </a:lnTo>
                  <a:lnTo>
                    <a:pt x="5599" y="356"/>
                  </a:lnTo>
                  <a:lnTo>
                    <a:pt x="5688" y="395"/>
                  </a:lnTo>
                  <a:lnTo>
                    <a:pt x="5774" y="437"/>
                  </a:lnTo>
                  <a:lnTo>
                    <a:pt x="5861" y="479"/>
                  </a:lnTo>
                  <a:lnTo>
                    <a:pt x="5946" y="524"/>
                  </a:lnTo>
                  <a:lnTo>
                    <a:pt x="6029" y="570"/>
                  </a:lnTo>
                  <a:lnTo>
                    <a:pt x="6112" y="619"/>
                  </a:lnTo>
                  <a:lnTo>
                    <a:pt x="6195" y="669"/>
                  </a:lnTo>
                  <a:lnTo>
                    <a:pt x="6274" y="722"/>
                  </a:lnTo>
                  <a:lnTo>
                    <a:pt x="6355" y="775"/>
                  </a:lnTo>
                  <a:lnTo>
                    <a:pt x="6431" y="829"/>
                  </a:lnTo>
                  <a:lnTo>
                    <a:pt x="6508" y="888"/>
                  </a:lnTo>
                  <a:lnTo>
                    <a:pt x="6583" y="946"/>
                  </a:lnTo>
                  <a:lnTo>
                    <a:pt x="6658" y="1005"/>
                  </a:lnTo>
                  <a:lnTo>
                    <a:pt x="6731" y="1068"/>
                  </a:lnTo>
                  <a:lnTo>
                    <a:pt x="6801" y="1130"/>
                  </a:lnTo>
                  <a:lnTo>
                    <a:pt x="6870" y="1195"/>
                  </a:lnTo>
                  <a:lnTo>
                    <a:pt x="6939" y="1262"/>
                  </a:lnTo>
                  <a:lnTo>
                    <a:pt x="7005" y="1328"/>
                  </a:lnTo>
                  <a:lnTo>
                    <a:pt x="7070" y="1397"/>
                  </a:lnTo>
                  <a:lnTo>
                    <a:pt x="7133" y="1468"/>
                  </a:lnTo>
                  <a:lnTo>
                    <a:pt x="7195" y="1539"/>
                  </a:lnTo>
                  <a:lnTo>
                    <a:pt x="7254" y="1611"/>
                  </a:lnTo>
                  <a:lnTo>
                    <a:pt x="7313" y="1686"/>
                  </a:lnTo>
                  <a:lnTo>
                    <a:pt x="7369" y="1761"/>
                  </a:lnTo>
                  <a:lnTo>
                    <a:pt x="7426" y="1838"/>
                  </a:lnTo>
                  <a:lnTo>
                    <a:pt x="7478" y="1915"/>
                  </a:lnTo>
                  <a:lnTo>
                    <a:pt x="7529" y="1993"/>
                  </a:lnTo>
                  <a:lnTo>
                    <a:pt x="7579" y="2072"/>
                  </a:lnTo>
                  <a:lnTo>
                    <a:pt x="7626" y="2153"/>
                  </a:lnTo>
                  <a:lnTo>
                    <a:pt x="7672" y="2236"/>
                  </a:lnTo>
                  <a:lnTo>
                    <a:pt x="7717" y="2319"/>
                  </a:lnTo>
                  <a:lnTo>
                    <a:pt x="7717" y="2319"/>
                  </a:lnTo>
                  <a:lnTo>
                    <a:pt x="7759" y="2402"/>
                  </a:lnTo>
                  <a:lnTo>
                    <a:pt x="7800" y="2485"/>
                  </a:lnTo>
                  <a:lnTo>
                    <a:pt x="7838" y="2569"/>
                  </a:lnTo>
                  <a:lnTo>
                    <a:pt x="7875" y="2656"/>
                  </a:lnTo>
                  <a:lnTo>
                    <a:pt x="7911" y="2743"/>
                  </a:lnTo>
                  <a:lnTo>
                    <a:pt x="7943" y="2830"/>
                  </a:lnTo>
                  <a:lnTo>
                    <a:pt x="7974" y="2917"/>
                  </a:lnTo>
                  <a:lnTo>
                    <a:pt x="8002" y="3006"/>
                  </a:lnTo>
                  <a:lnTo>
                    <a:pt x="8030" y="3093"/>
                  </a:lnTo>
                  <a:lnTo>
                    <a:pt x="8054" y="3184"/>
                  </a:lnTo>
                  <a:lnTo>
                    <a:pt x="8079" y="3273"/>
                  </a:lnTo>
                  <a:lnTo>
                    <a:pt x="8099" y="3362"/>
                  </a:lnTo>
                  <a:lnTo>
                    <a:pt x="8119" y="3453"/>
                  </a:lnTo>
                  <a:lnTo>
                    <a:pt x="8135" y="3544"/>
                  </a:lnTo>
                  <a:lnTo>
                    <a:pt x="8152" y="3635"/>
                  </a:lnTo>
                  <a:lnTo>
                    <a:pt x="8164" y="3726"/>
                  </a:lnTo>
                  <a:lnTo>
                    <a:pt x="8176" y="3819"/>
                  </a:lnTo>
                  <a:lnTo>
                    <a:pt x="8184" y="3910"/>
                  </a:lnTo>
                  <a:lnTo>
                    <a:pt x="8192" y="4000"/>
                  </a:lnTo>
                  <a:lnTo>
                    <a:pt x="8198" y="4093"/>
                  </a:lnTo>
                  <a:lnTo>
                    <a:pt x="8200" y="4184"/>
                  </a:lnTo>
                  <a:lnTo>
                    <a:pt x="8202" y="4275"/>
                  </a:lnTo>
                  <a:lnTo>
                    <a:pt x="8202" y="4368"/>
                  </a:lnTo>
                  <a:lnTo>
                    <a:pt x="8198" y="4459"/>
                  </a:lnTo>
                  <a:lnTo>
                    <a:pt x="8194" y="4550"/>
                  </a:lnTo>
                  <a:lnTo>
                    <a:pt x="8188" y="4643"/>
                  </a:lnTo>
                  <a:lnTo>
                    <a:pt x="8178" y="4734"/>
                  </a:lnTo>
                  <a:lnTo>
                    <a:pt x="8168" y="4825"/>
                  </a:lnTo>
                  <a:lnTo>
                    <a:pt x="8156" y="4914"/>
                  </a:lnTo>
                  <a:lnTo>
                    <a:pt x="8139" y="5005"/>
                  </a:lnTo>
                  <a:lnTo>
                    <a:pt x="8123" y="5094"/>
                  </a:lnTo>
                  <a:lnTo>
                    <a:pt x="8105" y="5185"/>
                  </a:lnTo>
                  <a:lnTo>
                    <a:pt x="8105" y="5185"/>
                  </a:lnTo>
                  <a:lnTo>
                    <a:pt x="8121" y="5070"/>
                  </a:lnTo>
                  <a:lnTo>
                    <a:pt x="8135" y="4954"/>
                  </a:lnTo>
                  <a:lnTo>
                    <a:pt x="8145" y="4837"/>
                  </a:lnTo>
                  <a:lnTo>
                    <a:pt x="8154" y="4720"/>
                  </a:lnTo>
                  <a:lnTo>
                    <a:pt x="8160" y="4603"/>
                  </a:lnTo>
                  <a:lnTo>
                    <a:pt x="8162" y="4486"/>
                  </a:lnTo>
                  <a:lnTo>
                    <a:pt x="8160" y="4366"/>
                  </a:lnTo>
                  <a:lnTo>
                    <a:pt x="8156" y="4247"/>
                  </a:lnTo>
                  <a:lnTo>
                    <a:pt x="8156" y="4247"/>
                  </a:lnTo>
                  <a:lnTo>
                    <a:pt x="8152" y="4164"/>
                  </a:lnTo>
                  <a:lnTo>
                    <a:pt x="8147" y="4079"/>
                  </a:lnTo>
                  <a:lnTo>
                    <a:pt x="8139" y="3994"/>
                  </a:lnTo>
                  <a:lnTo>
                    <a:pt x="8131" y="3912"/>
                  </a:lnTo>
                  <a:lnTo>
                    <a:pt x="8119" y="3829"/>
                  </a:lnTo>
                  <a:lnTo>
                    <a:pt x="8107" y="3746"/>
                  </a:lnTo>
                  <a:lnTo>
                    <a:pt x="8095" y="3663"/>
                  </a:lnTo>
                  <a:lnTo>
                    <a:pt x="8079" y="3580"/>
                  </a:lnTo>
                  <a:lnTo>
                    <a:pt x="8063" y="3499"/>
                  </a:lnTo>
                  <a:lnTo>
                    <a:pt x="8044" y="3418"/>
                  </a:lnTo>
                  <a:lnTo>
                    <a:pt x="8024" y="3338"/>
                  </a:lnTo>
                  <a:lnTo>
                    <a:pt x="8002" y="3257"/>
                  </a:lnTo>
                  <a:lnTo>
                    <a:pt x="7980" y="3178"/>
                  </a:lnTo>
                  <a:lnTo>
                    <a:pt x="7955" y="3099"/>
                  </a:lnTo>
                  <a:lnTo>
                    <a:pt x="7929" y="3020"/>
                  </a:lnTo>
                  <a:lnTo>
                    <a:pt x="7903" y="2941"/>
                  </a:lnTo>
                  <a:lnTo>
                    <a:pt x="7903" y="2941"/>
                  </a:lnTo>
                  <a:lnTo>
                    <a:pt x="7856" y="2814"/>
                  </a:lnTo>
                  <a:lnTo>
                    <a:pt x="7810" y="2687"/>
                  </a:lnTo>
                  <a:lnTo>
                    <a:pt x="7757" y="2559"/>
                  </a:lnTo>
                  <a:lnTo>
                    <a:pt x="7701" y="2436"/>
                  </a:lnTo>
                  <a:lnTo>
                    <a:pt x="7642" y="2315"/>
                  </a:lnTo>
                  <a:lnTo>
                    <a:pt x="7577" y="2193"/>
                  </a:lnTo>
                  <a:lnTo>
                    <a:pt x="7511" y="2076"/>
                  </a:lnTo>
                  <a:lnTo>
                    <a:pt x="7440" y="1961"/>
                  </a:lnTo>
                  <a:lnTo>
                    <a:pt x="7365" y="1848"/>
                  </a:lnTo>
                  <a:lnTo>
                    <a:pt x="7286" y="1737"/>
                  </a:lnTo>
                  <a:lnTo>
                    <a:pt x="7204" y="1628"/>
                  </a:lnTo>
                  <a:lnTo>
                    <a:pt x="7119" y="1520"/>
                  </a:lnTo>
                  <a:lnTo>
                    <a:pt x="7028" y="1417"/>
                  </a:lnTo>
                  <a:lnTo>
                    <a:pt x="6935" y="1316"/>
                  </a:lnTo>
                  <a:lnTo>
                    <a:pt x="6838" y="1217"/>
                  </a:lnTo>
                  <a:lnTo>
                    <a:pt x="6737" y="1122"/>
                  </a:lnTo>
                  <a:lnTo>
                    <a:pt x="6737" y="1122"/>
                  </a:lnTo>
                  <a:lnTo>
                    <a:pt x="6632" y="1031"/>
                  </a:lnTo>
                  <a:lnTo>
                    <a:pt x="6579" y="985"/>
                  </a:lnTo>
                  <a:lnTo>
                    <a:pt x="6524" y="942"/>
                  </a:lnTo>
                  <a:lnTo>
                    <a:pt x="6468" y="898"/>
                  </a:lnTo>
                  <a:lnTo>
                    <a:pt x="6411" y="855"/>
                  </a:lnTo>
                  <a:lnTo>
                    <a:pt x="6355" y="815"/>
                  </a:lnTo>
                  <a:lnTo>
                    <a:pt x="6296" y="775"/>
                  </a:lnTo>
                  <a:lnTo>
                    <a:pt x="6237" y="734"/>
                  </a:lnTo>
                  <a:lnTo>
                    <a:pt x="6177" y="696"/>
                  </a:lnTo>
                  <a:lnTo>
                    <a:pt x="6116" y="657"/>
                  </a:lnTo>
                  <a:lnTo>
                    <a:pt x="6055" y="621"/>
                  </a:lnTo>
                  <a:lnTo>
                    <a:pt x="5993" y="585"/>
                  </a:lnTo>
                  <a:lnTo>
                    <a:pt x="5928" y="550"/>
                  </a:lnTo>
                  <a:lnTo>
                    <a:pt x="5865" y="516"/>
                  </a:lnTo>
                  <a:lnTo>
                    <a:pt x="5799" y="484"/>
                  </a:lnTo>
                  <a:lnTo>
                    <a:pt x="5734" y="453"/>
                  </a:lnTo>
                  <a:lnTo>
                    <a:pt x="5667" y="423"/>
                  </a:lnTo>
                  <a:lnTo>
                    <a:pt x="5601" y="393"/>
                  </a:lnTo>
                  <a:lnTo>
                    <a:pt x="5532" y="364"/>
                  </a:lnTo>
                  <a:lnTo>
                    <a:pt x="5463" y="338"/>
                  </a:lnTo>
                  <a:lnTo>
                    <a:pt x="5392" y="312"/>
                  </a:lnTo>
                  <a:lnTo>
                    <a:pt x="5322" y="287"/>
                  </a:lnTo>
                  <a:lnTo>
                    <a:pt x="5251" y="263"/>
                  </a:lnTo>
                  <a:lnTo>
                    <a:pt x="5178" y="243"/>
                  </a:lnTo>
                  <a:lnTo>
                    <a:pt x="5105" y="221"/>
                  </a:lnTo>
                  <a:lnTo>
                    <a:pt x="5033" y="203"/>
                  </a:lnTo>
                  <a:lnTo>
                    <a:pt x="4958" y="184"/>
                  </a:lnTo>
                  <a:lnTo>
                    <a:pt x="4883" y="168"/>
                  </a:lnTo>
                  <a:lnTo>
                    <a:pt x="4808" y="152"/>
                  </a:lnTo>
                  <a:lnTo>
                    <a:pt x="4732" y="138"/>
                  </a:lnTo>
                  <a:lnTo>
                    <a:pt x="4655" y="126"/>
                  </a:lnTo>
                  <a:lnTo>
                    <a:pt x="4655" y="126"/>
                  </a:lnTo>
                  <a:lnTo>
                    <a:pt x="4772" y="148"/>
                  </a:lnTo>
                  <a:lnTo>
                    <a:pt x="4887" y="172"/>
                  </a:lnTo>
                  <a:lnTo>
                    <a:pt x="4998" y="201"/>
                  </a:lnTo>
                  <a:lnTo>
                    <a:pt x="5105" y="233"/>
                  </a:lnTo>
                  <a:lnTo>
                    <a:pt x="5209" y="265"/>
                  </a:lnTo>
                  <a:lnTo>
                    <a:pt x="5310" y="302"/>
                  </a:lnTo>
                  <a:lnTo>
                    <a:pt x="5409" y="340"/>
                  </a:lnTo>
                  <a:lnTo>
                    <a:pt x="5504" y="380"/>
                  </a:lnTo>
                  <a:lnTo>
                    <a:pt x="5597" y="423"/>
                  </a:lnTo>
                  <a:lnTo>
                    <a:pt x="5688" y="469"/>
                  </a:lnTo>
                  <a:lnTo>
                    <a:pt x="5774" y="516"/>
                  </a:lnTo>
                  <a:lnTo>
                    <a:pt x="5861" y="564"/>
                  </a:lnTo>
                  <a:lnTo>
                    <a:pt x="5944" y="615"/>
                  </a:lnTo>
                  <a:lnTo>
                    <a:pt x="6023" y="665"/>
                  </a:lnTo>
                  <a:lnTo>
                    <a:pt x="6102" y="718"/>
                  </a:lnTo>
                  <a:lnTo>
                    <a:pt x="6179" y="773"/>
                  </a:lnTo>
                  <a:lnTo>
                    <a:pt x="6179" y="773"/>
                  </a:lnTo>
                  <a:lnTo>
                    <a:pt x="6100" y="724"/>
                  </a:lnTo>
                  <a:lnTo>
                    <a:pt x="6019" y="676"/>
                  </a:lnTo>
                  <a:lnTo>
                    <a:pt x="5938" y="629"/>
                  </a:lnTo>
                  <a:lnTo>
                    <a:pt x="5857" y="585"/>
                  </a:lnTo>
                  <a:lnTo>
                    <a:pt x="5774" y="542"/>
                  </a:lnTo>
                  <a:lnTo>
                    <a:pt x="5690" y="502"/>
                  </a:lnTo>
                  <a:lnTo>
                    <a:pt x="5605" y="463"/>
                  </a:lnTo>
                  <a:lnTo>
                    <a:pt x="5518" y="425"/>
                  </a:lnTo>
                  <a:lnTo>
                    <a:pt x="5431" y="391"/>
                  </a:lnTo>
                  <a:lnTo>
                    <a:pt x="5344" y="356"/>
                  </a:lnTo>
                  <a:lnTo>
                    <a:pt x="5255" y="324"/>
                  </a:lnTo>
                  <a:lnTo>
                    <a:pt x="5166" y="296"/>
                  </a:lnTo>
                  <a:lnTo>
                    <a:pt x="5075" y="267"/>
                  </a:lnTo>
                  <a:lnTo>
                    <a:pt x="4984" y="241"/>
                  </a:lnTo>
                  <a:lnTo>
                    <a:pt x="4893" y="217"/>
                  </a:lnTo>
                  <a:lnTo>
                    <a:pt x="4800" y="194"/>
                  </a:lnTo>
                  <a:lnTo>
                    <a:pt x="4800" y="194"/>
                  </a:lnTo>
                  <a:lnTo>
                    <a:pt x="4612" y="168"/>
                  </a:lnTo>
                  <a:lnTo>
                    <a:pt x="4432" y="146"/>
                  </a:lnTo>
                  <a:lnTo>
                    <a:pt x="4432" y="146"/>
                  </a:lnTo>
                  <a:lnTo>
                    <a:pt x="4362" y="138"/>
                  </a:lnTo>
                  <a:lnTo>
                    <a:pt x="4291" y="130"/>
                  </a:lnTo>
                  <a:lnTo>
                    <a:pt x="4220" y="126"/>
                  </a:lnTo>
                  <a:lnTo>
                    <a:pt x="4149" y="120"/>
                  </a:lnTo>
                  <a:lnTo>
                    <a:pt x="4149" y="120"/>
                  </a:lnTo>
                  <a:lnTo>
                    <a:pt x="4032" y="110"/>
                  </a:lnTo>
                  <a:lnTo>
                    <a:pt x="3917" y="101"/>
                  </a:lnTo>
                  <a:lnTo>
                    <a:pt x="3800" y="95"/>
                  </a:lnTo>
                  <a:lnTo>
                    <a:pt x="3684" y="93"/>
                  </a:lnTo>
                  <a:lnTo>
                    <a:pt x="3684" y="93"/>
                  </a:lnTo>
                  <a:lnTo>
                    <a:pt x="3602" y="95"/>
                  </a:lnTo>
                  <a:lnTo>
                    <a:pt x="3519" y="97"/>
                  </a:lnTo>
                  <a:lnTo>
                    <a:pt x="3434" y="101"/>
                  </a:lnTo>
                  <a:lnTo>
                    <a:pt x="3351" y="110"/>
                  </a:lnTo>
                  <a:lnTo>
                    <a:pt x="3351" y="110"/>
                  </a:lnTo>
                  <a:lnTo>
                    <a:pt x="3222" y="124"/>
                  </a:lnTo>
                  <a:lnTo>
                    <a:pt x="3094" y="144"/>
                  </a:lnTo>
                  <a:lnTo>
                    <a:pt x="2969" y="168"/>
                  </a:lnTo>
                  <a:lnTo>
                    <a:pt x="2842" y="194"/>
                  </a:lnTo>
                  <a:lnTo>
                    <a:pt x="2718" y="225"/>
                  </a:lnTo>
                  <a:lnTo>
                    <a:pt x="2595" y="259"/>
                  </a:lnTo>
                  <a:lnTo>
                    <a:pt x="2472" y="298"/>
                  </a:lnTo>
                  <a:lnTo>
                    <a:pt x="2350" y="340"/>
                  </a:lnTo>
                  <a:lnTo>
                    <a:pt x="2231" y="384"/>
                  </a:lnTo>
                  <a:lnTo>
                    <a:pt x="2112" y="433"/>
                  </a:lnTo>
                  <a:lnTo>
                    <a:pt x="1995" y="486"/>
                  </a:lnTo>
                  <a:lnTo>
                    <a:pt x="1879" y="542"/>
                  </a:lnTo>
                  <a:lnTo>
                    <a:pt x="1766" y="601"/>
                  </a:lnTo>
                  <a:lnTo>
                    <a:pt x="1653" y="663"/>
                  </a:lnTo>
                  <a:lnTo>
                    <a:pt x="1542" y="728"/>
                  </a:lnTo>
                  <a:lnTo>
                    <a:pt x="1433" y="797"/>
                  </a:lnTo>
                  <a:lnTo>
                    <a:pt x="1326" y="868"/>
                  </a:lnTo>
                  <a:lnTo>
                    <a:pt x="1221" y="944"/>
                  </a:lnTo>
                  <a:lnTo>
                    <a:pt x="1119" y="1021"/>
                  </a:lnTo>
                  <a:lnTo>
                    <a:pt x="1018" y="1102"/>
                  </a:lnTo>
                  <a:lnTo>
                    <a:pt x="919" y="1187"/>
                  </a:lnTo>
                  <a:lnTo>
                    <a:pt x="822" y="1274"/>
                  </a:lnTo>
                  <a:lnTo>
                    <a:pt x="729" y="1363"/>
                  </a:lnTo>
                  <a:lnTo>
                    <a:pt x="636" y="1456"/>
                  </a:lnTo>
                  <a:lnTo>
                    <a:pt x="547" y="1551"/>
                  </a:lnTo>
                  <a:lnTo>
                    <a:pt x="461" y="1650"/>
                  </a:lnTo>
                  <a:lnTo>
                    <a:pt x="378" y="1751"/>
                  </a:lnTo>
                  <a:lnTo>
                    <a:pt x="295" y="1854"/>
                  </a:lnTo>
                  <a:lnTo>
                    <a:pt x="218" y="1961"/>
                  </a:lnTo>
                  <a:lnTo>
                    <a:pt x="141" y="2068"/>
                  </a:lnTo>
                  <a:lnTo>
                    <a:pt x="68" y="2181"/>
                  </a:lnTo>
                  <a:lnTo>
                    <a:pt x="0" y="22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-1452600" y="14317560"/>
              <a:ext cx="13959000" cy="13976280"/>
            </a:xfrm>
            <a:custGeom>
              <a:avLst/>
              <a:gdLst>
                <a:gd name="textAreaLeft" fmla="*/ 0 w 13959000"/>
                <a:gd name="textAreaRight" fmla="*/ 13959360 w 13959000"/>
                <a:gd name="textAreaTop" fmla="*/ 0 h 13976280"/>
                <a:gd name="textAreaBottom" fmla="*/ 13976640 h 13976280"/>
              </a:gdLst>
              <a:ahLst/>
              <a:rect l="textAreaLeft" t="textAreaTop" r="textAreaRight" b="textAreaBottom"/>
              <a:pathLst>
                <a:path w="8793" h="8804">
                  <a:moveTo>
                    <a:pt x="4387" y="0"/>
                  </a:moveTo>
                  <a:lnTo>
                    <a:pt x="4387" y="0"/>
                  </a:lnTo>
                  <a:lnTo>
                    <a:pt x="4290" y="2"/>
                  </a:lnTo>
                  <a:lnTo>
                    <a:pt x="4193" y="4"/>
                  </a:lnTo>
                  <a:lnTo>
                    <a:pt x="4098" y="10"/>
                  </a:lnTo>
                  <a:lnTo>
                    <a:pt x="4001" y="16"/>
                  </a:lnTo>
                  <a:lnTo>
                    <a:pt x="3906" y="26"/>
                  </a:lnTo>
                  <a:lnTo>
                    <a:pt x="3809" y="36"/>
                  </a:lnTo>
                  <a:lnTo>
                    <a:pt x="3714" y="50"/>
                  </a:lnTo>
                  <a:lnTo>
                    <a:pt x="3619" y="66"/>
                  </a:lnTo>
                  <a:lnTo>
                    <a:pt x="3522" y="83"/>
                  </a:lnTo>
                  <a:lnTo>
                    <a:pt x="3427" y="103"/>
                  </a:lnTo>
                  <a:lnTo>
                    <a:pt x="3334" y="125"/>
                  </a:lnTo>
                  <a:lnTo>
                    <a:pt x="3239" y="147"/>
                  </a:lnTo>
                  <a:lnTo>
                    <a:pt x="3146" y="174"/>
                  </a:lnTo>
                  <a:lnTo>
                    <a:pt x="3053" y="202"/>
                  </a:lnTo>
                  <a:lnTo>
                    <a:pt x="2960" y="230"/>
                  </a:lnTo>
                  <a:lnTo>
                    <a:pt x="2867" y="262"/>
                  </a:lnTo>
                  <a:lnTo>
                    <a:pt x="2867" y="262"/>
                  </a:lnTo>
                  <a:lnTo>
                    <a:pt x="2784" y="293"/>
                  </a:lnTo>
                  <a:lnTo>
                    <a:pt x="2703" y="323"/>
                  </a:lnTo>
                  <a:lnTo>
                    <a:pt x="2620" y="357"/>
                  </a:lnTo>
                  <a:lnTo>
                    <a:pt x="2539" y="392"/>
                  </a:lnTo>
                  <a:lnTo>
                    <a:pt x="2539" y="392"/>
                  </a:lnTo>
                  <a:lnTo>
                    <a:pt x="2529" y="402"/>
                  </a:lnTo>
                  <a:lnTo>
                    <a:pt x="2523" y="412"/>
                  </a:lnTo>
                  <a:lnTo>
                    <a:pt x="2521" y="420"/>
                  </a:lnTo>
                  <a:lnTo>
                    <a:pt x="2523" y="426"/>
                  </a:lnTo>
                  <a:lnTo>
                    <a:pt x="2523" y="426"/>
                  </a:lnTo>
                  <a:lnTo>
                    <a:pt x="2398" y="483"/>
                  </a:lnTo>
                  <a:lnTo>
                    <a:pt x="2274" y="545"/>
                  </a:lnTo>
                  <a:lnTo>
                    <a:pt x="2153" y="610"/>
                  </a:lnTo>
                  <a:lnTo>
                    <a:pt x="2032" y="677"/>
                  </a:lnTo>
                  <a:lnTo>
                    <a:pt x="1915" y="750"/>
                  </a:lnTo>
                  <a:lnTo>
                    <a:pt x="1799" y="824"/>
                  </a:lnTo>
                  <a:lnTo>
                    <a:pt x="1686" y="903"/>
                  </a:lnTo>
                  <a:lnTo>
                    <a:pt x="1575" y="984"/>
                  </a:lnTo>
                  <a:lnTo>
                    <a:pt x="1575" y="984"/>
                  </a:lnTo>
                  <a:lnTo>
                    <a:pt x="1520" y="1029"/>
                  </a:lnTo>
                  <a:lnTo>
                    <a:pt x="1520" y="1029"/>
                  </a:lnTo>
                  <a:lnTo>
                    <a:pt x="1446" y="1093"/>
                  </a:lnTo>
                  <a:lnTo>
                    <a:pt x="1373" y="1160"/>
                  </a:lnTo>
                  <a:lnTo>
                    <a:pt x="1302" y="1227"/>
                  </a:lnTo>
                  <a:lnTo>
                    <a:pt x="1233" y="1297"/>
                  </a:lnTo>
                  <a:lnTo>
                    <a:pt x="1165" y="1368"/>
                  </a:lnTo>
                  <a:lnTo>
                    <a:pt x="1100" y="1441"/>
                  </a:lnTo>
                  <a:lnTo>
                    <a:pt x="1035" y="1514"/>
                  </a:lnTo>
                  <a:lnTo>
                    <a:pt x="973" y="1588"/>
                  </a:lnTo>
                  <a:lnTo>
                    <a:pt x="912" y="1665"/>
                  </a:lnTo>
                  <a:lnTo>
                    <a:pt x="853" y="1744"/>
                  </a:lnTo>
                  <a:lnTo>
                    <a:pt x="797" y="1823"/>
                  </a:lnTo>
                  <a:lnTo>
                    <a:pt x="742" y="1904"/>
                  </a:lnTo>
                  <a:lnTo>
                    <a:pt x="690" y="1985"/>
                  </a:lnTo>
                  <a:lnTo>
                    <a:pt x="639" y="2065"/>
                  </a:lnTo>
                  <a:lnTo>
                    <a:pt x="591" y="2150"/>
                  </a:lnTo>
                  <a:lnTo>
                    <a:pt x="544" y="2233"/>
                  </a:lnTo>
                  <a:lnTo>
                    <a:pt x="544" y="2233"/>
                  </a:lnTo>
                  <a:lnTo>
                    <a:pt x="479" y="2356"/>
                  </a:lnTo>
                  <a:lnTo>
                    <a:pt x="407" y="2496"/>
                  </a:lnTo>
                  <a:lnTo>
                    <a:pt x="330" y="2644"/>
                  </a:lnTo>
                  <a:lnTo>
                    <a:pt x="294" y="2722"/>
                  </a:lnTo>
                  <a:lnTo>
                    <a:pt x="257" y="2801"/>
                  </a:lnTo>
                  <a:lnTo>
                    <a:pt x="257" y="2801"/>
                  </a:lnTo>
                  <a:lnTo>
                    <a:pt x="231" y="2862"/>
                  </a:lnTo>
                  <a:lnTo>
                    <a:pt x="231" y="2862"/>
                  </a:lnTo>
                  <a:lnTo>
                    <a:pt x="199" y="2955"/>
                  </a:lnTo>
                  <a:lnTo>
                    <a:pt x="168" y="3048"/>
                  </a:lnTo>
                  <a:lnTo>
                    <a:pt x="140" y="3141"/>
                  </a:lnTo>
                  <a:lnTo>
                    <a:pt x="114" y="3236"/>
                  </a:lnTo>
                  <a:lnTo>
                    <a:pt x="89" y="3331"/>
                  </a:lnTo>
                  <a:lnTo>
                    <a:pt x="67" y="3426"/>
                  </a:lnTo>
                  <a:lnTo>
                    <a:pt x="47" y="3521"/>
                  </a:lnTo>
                  <a:lnTo>
                    <a:pt x="29" y="3618"/>
                  </a:lnTo>
                  <a:lnTo>
                    <a:pt x="29" y="3618"/>
                  </a:lnTo>
                  <a:lnTo>
                    <a:pt x="47" y="3531"/>
                  </a:lnTo>
                  <a:lnTo>
                    <a:pt x="67" y="3446"/>
                  </a:lnTo>
                  <a:lnTo>
                    <a:pt x="67" y="3446"/>
                  </a:lnTo>
                  <a:lnTo>
                    <a:pt x="85" y="3371"/>
                  </a:lnTo>
                  <a:lnTo>
                    <a:pt x="106" y="3298"/>
                  </a:lnTo>
                  <a:lnTo>
                    <a:pt x="126" y="3224"/>
                  </a:lnTo>
                  <a:lnTo>
                    <a:pt x="148" y="3151"/>
                  </a:lnTo>
                  <a:lnTo>
                    <a:pt x="172" y="3078"/>
                  </a:lnTo>
                  <a:lnTo>
                    <a:pt x="197" y="3005"/>
                  </a:lnTo>
                  <a:lnTo>
                    <a:pt x="223" y="2935"/>
                  </a:lnTo>
                  <a:lnTo>
                    <a:pt x="249" y="2862"/>
                  </a:lnTo>
                  <a:lnTo>
                    <a:pt x="277" y="2791"/>
                  </a:lnTo>
                  <a:lnTo>
                    <a:pt x="308" y="2722"/>
                  </a:lnTo>
                  <a:lnTo>
                    <a:pt x="338" y="2652"/>
                  </a:lnTo>
                  <a:lnTo>
                    <a:pt x="370" y="2583"/>
                  </a:lnTo>
                  <a:lnTo>
                    <a:pt x="405" y="2514"/>
                  </a:lnTo>
                  <a:lnTo>
                    <a:pt x="439" y="2445"/>
                  </a:lnTo>
                  <a:lnTo>
                    <a:pt x="473" y="2379"/>
                  </a:lnTo>
                  <a:lnTo>
                    <a:pt x="510" y="2312"/>
                  </a:lnTo>
                  <a:lnTo>
                    <a:pt x="510" y="2312"/>
                  </a:lnTo>
                  <a:lnTo>
                    <a:pt x="490" y="2365"/>
                  </a:lnTo>
                  <a:lnTo>
                    <a:pt x="467" y="2423"/>
                  </a:lnTo>
                  <a:lnTo>
                    <a:pt x="419" y="2553"/>
                  </a:lnTo>
                  <a:lnTo>
                    <a:pt x="370" y="2690"/>
                  </a:lnTo>
                  <a:lnTo>
                    <a:pt x="324" y="2821"/>
                  </a:lnTo>
                  <a:lnTo>
                    <a:pt x="324" y="2821"/>
                  </a:lnTo>
                  <a:lnTo>
                    <a:pt x="294" y="2898"/>
                  </a:lnTo>
                  <a:lnTo>
                    <a:pt x="265" y="2975"/>
                  </a:lnTo>
                  <a:lnTo>
                    <a:pt x="239" y="3054"/>
                  </a:lnTo>
                  <a:lnTo>
                    <a:pt x="213" y="3131"/>
                  </a:lnTo>
                  <a:lnTo>
                    <a:pt x="188" y="3211"/>
                  </a:lnTo>
                  <a:lnTo>
                    <a:pt x="166" y="3290"/>
                  </a:lnTo>
                  <a:lnTo>
                    <a:pt x="144" y="3371"/>
                  </a:lnTo>
                  <a:lnTo>
                    <a:pt x="124" y="3454"/>
                  </a:lnTo>
                  <a:lnTo>
                    <a:pt x="106" y="3535"/>
                  </a:lnTo>
                  <a:lnTo>
                    <a:pt x="87" y="3618"/>
                  </a:lnTo>
                  <a:lnTo>
                    <a:pt x="71" y="3701"/>
                  </a:lnTo>
                  <a:lnTo>
                    <a:pt x="57" y="3783"/>
                  </a:lnTo>
                  <a:lnTo>
                    <a:pt x="45" y="3866"/>
                  </a:lnTo>
                  <a:lnTo>
                    <a:pt x="33" y="3949"/>
                  </a:lnTo>
                  <a:lnTo>
                    <a:pt x="23" y="4032"/>
                  </a:lnTo>
                  <a:lnTo>
                    <a:pt x="17" y="4115"/>
                  </a:lnTo>
                  <a:lnTo>
                    <a:pt x="17" y="4115"/>
                  </a:lnTo>
                  <a:lnTo>
                    <a:pt x="9" y="4200"/>
                  </a:lnTo>
                  <a:lnTo>
                    <a:pt x="4" y="4283"/>
                  </a:lnTo>
                  <a:lnTo>
                    <a:pt x="2" y="4366"/>
                  </a:lnTo>
                  <a:lnTo>
                    <a:pt x="0" y="4448"/>
                  </a:lnTo>
                  <a:lnTo>
                    <a:pt x="0" y="4531"/>
                  </a:lnTo>
                  <a:lnTo>
                    <a:pt x="2" y="4612"/>
                  </a:lnTo>
                  <a:lnTo>
                    <a:pt x="7" y="4693"/>
                  </a:lnTo>
                  <a:lnTo>
                    <a:pt x="13" y="4774"/>
                  </a:lnTo>
                  <a:lnTo>
                    <a:pt x="19" y="4855"/>
                  </a:lnTo>
                  <a:lnTo>
                    <a:pt x="27" y="4934"/>
                  </a:lnTo>
                  <a:lnTo>
                    <a:pt x="37" y="5012"/>
                  </a:lnTo>
                  <a:lnTo>
                    <a:pt x="49" y="5091"/>
                  </a:lnTo>
                  <a:lnTo>
                    <a:pt x="61" y="5168"/>
                  </a:lnTo>
                  <a:lnTo>
                    <a:pt x="77" y="5243"/>
                  </a:lnTo>
                  <a:lnTo>
                    <a:pt x="91" y="5318"/>
                  </a:lnTo>
                  <a:lnTo>
                    <a:pt x="110" y="5390"/>
                  </a:lnTo>
                  <a:lnTo>
                    <a:pt x="110" y="5390"/>
                  </a:lnTo>
                  <a:lnTo>
                    <a:pt x="99" y="5318"/>
                  </a:lnTo>
                  <a:lnTo>
                    <a:pt x="89" y="5243"/>
                  </a:lnTo>
                  <a:lnTo>
                    <a:pt x="81" y="5168"/>
                  </a:lnTo>
                  <a:lnTo>
                    <a:pt x="75" y="5095"/>
                  </a:lnTo>
                  <a:lnTo>
                    <a:pt x="71" y="5020"/>
                  </a:lnTo>
                  <a:lnTo>
                    <a:pt x="67" y="4948"/>
                  </a:lnTo>
                  <a:lnTo>
                    <a:pt x="61" y="4798"/>
                  </a:lnTo>
                  <a:lnTo>
                    <a:pt x="61" y="4649"/>
                  </a:lnTo>
                  <a:lnTo>
                    <a:pt x="65" y="4497"/>
                  </a:lnTo>
                  <a:lnTo>
                    <a:pt x="71" y="4343"/>
                  </a:lnTo>
                  <a:lnTo>
                    <a:pt x="81" y="4186"/>
                  </a:lnTo>
                  <a:lnTo>
                    <a:pt x="81" y="4186"/>
                  </a:lnTo>
                  <a:lnTo>
                    <a:pt x="91" y="4018"/>
                  </a:lnTo>
                  <a:lnTo>
                    <a:pt x="95" y="3929"/>
                  </a:lnTo>
                  <a:lnTo>
                    <a:pt x="102" y="3838"/>
                  </a:lnTo>
                  <a:lnTo>
                    <a:pt x="108" y="3749"/>
                  </a:lnTo>
                  <a:lnTo>
                    <a:pt x="118" y="3662"/>
                  </a:lnTo>
                  <a:lnTo>
                    <a:pt x="126" y="3620"/>
                  </a:lnTo>
                  <a:lnTo>
                    <a:pt x="132" y="3579"/>
                  </a:lnTo>
                  <a:lnTo>
                    <a:pt x="140" y="3541"/>
                  </a:lnTo>
                  <a:lnTo>
                    <a:pt x="150" y="3503"/>
                  </a:lnTo>
                  <a:lnTo>
                    <a:pt x="150" y="3503"/>
                  </a:lnTo>
                  <a:lnTo>
                    <a:pt x="174" y="3410"/>
                  </a:lnTo>
                  <a:lnTo>
                    <a:pt x="201" y="3317"/>
                  </a:lnTo>
                  <a:lnTo>
                    <a:pt x="227" y="3226"/>
                  </a:lnTo>
                  <a:lnTo>
                    <a:pt x="255" y="3137"/>
                  </a:lnTo>
                  <a:lnTo>
                    <a:pt x="283" y="3048"/>
                  </a:lnTo>
                  <a:lnTo>
                    <a:pt x="314" y="2961"/>
                  </a:lnTo>
                  <a:lnTo>
                    <a:pt x="346" y="2876"/>
                  </a:lnTo>
                  <a:lnTo>
                    <a:pt x="378" y="2791"/>
                  </a:lnTo>
                  <a:lnTo>
                    <a:pt x="413" y="2708"/>
                  </a:lnTo>
                  <a:lnTo>
                    <a:pt x="449" y="2625"/>
                  </a:lnTo>
                  <a:lnTo>
                    <a:pt x="486" y="2544"/>
                  </a:lnTo>
                  <a:lnTo>
                    <a:pt x="524" y="2466"/>
                  </a:lnTo>
                  <a:lnTo>
                    <a:pt x="564" y="2387"/>
                  </a:lnTo>
                  <a:lnTo>
                    <a:pt x="605" y="2310"/>
                  </a:lnTo>
                  <a:lnTo>
                    <a:pt x="647" y="2233"/>
                  </a:lnTo>
                  <a:lnTo>
                    <a:pt x="690" y="2158"/>
                  </a:lnTo>
                  <a:lnTo>
                    <a:pt x="690" y="2158"/>
                  </a:lnTo>
                  <a:lnTo>
                    <a:pt x="736" y="2084"/>
                  </a:lnTo>
                  <a:lnTo>
                    <a:pt x="783" y="2011"/>
                  </a:lnTo>
                  <a:lnTo>
                    <a:pt x="829" y="1938"/>
                  </a:lnTo>
                  <a:lnTo>
                    <a:pt x="880" y="1867"/>
                  </a:lnTo>
                  <a:lnTo>
                    <a:pt x="930" y="1797"/>
                  </a:lnTo>
                  <a:lnTo>
                    <a:pt x="985" y="1728"/>
                  </a:lnTo>
                  <a:lnTo>
                    <a:pt x="1039" y="1659"/>
                  </a:lnTo>
                  <a:lnTo>
                    <a:pt x="1096" y="1592"/>
                  </a:lnTo>
                  <a:lnTo>
                    <a:pt x="1155" y="1526"/>
                  </a:lnTo>
                  <a:lnTo>
                    <a:pt x="1213" y="1461"/>
                  </a:lnTo>
                  <a:lnTo>
                    <a:pt x="1276" y="1398"/>
                  </a:lnTo>
                  <a:lnTo>
                    <a:pt x="1341" y="1336"/>
                  </a:lnTo>
                  <a:lnTo>
                    <a:pt x="1407" y="1275"/>
                  </a:lnTo>
                  <a:lnTo>
                    <a:pt x="1474" y="1214"/>
                  </a:lnTo>
                  <a:lnTo>
                    <a:pt x="1545" y="1156"/>
                  </a:lnTo>
                  <a:lnTo>
                    <a:pt x="1617" y="1099"/>
                  </a:lnTo>
                  <a:lnTo>
                    <a:pt x="1617" y="1099"/>
                  </a:lnTo>
                  <a:lnTo>
                    <a:pt x="1644" y="1081"/>
                  </a:lnTo>
                  <a:lnTo>
                    <a:pt x="1668" y="1065"/>
                  </a:lnTo>
                  <a:lnTo>
                    <a:pt x="1719" y="1037"/>
                  </a:lnTo>
                  <a:lnTo>
                    <a:pt x="1765" y="1012"/>
                  </a:lnTo>
                  <a:lnTo>
                    <a:pt x="1789" y="998"/>
                  </a:lnTo>
                  <a:lnTo>
                    <a:pt x="1816" y="982"/>
                  </a:lnTo>
                  <a:lnTo>
                    <a:pt x="1816" y="982"/>
                  </a:lnTo>
                  <a:lnTo>
                    <a:pt x="1733" y="1045"/>
                  </a:lnTo>
                  <a:lnTo>
                    <a:pt x="1652" y="1109"/>
                  </a:lnTo>
                  <a:lnTo>
                    <a:pt x="1573" y="1176"/>
                  </a:lnTo>
                  <a:lnTo>
                    <a:pt x="1498" y="1245"/>
                  </a:lnTo>
                  <a:lnTo>
                    <a:pt x="1423" y="1314"/>
                  </a:lnTo>
                  <a:lnTo>
                    <a:pt x="1353" y="1384"/>
                  </a:lnTo>
                  <a:lnTo>
                    <a:pt x="1282" y="1457"/>
                  </a:lnTo>
                  <a:lnTo>
                    <a:pt x="1215" y="1532"/>
                  </a:lnTo>
                  <a:lnTo>
                    <a:pt x="1149" y="1607"/>
                  </a:lnTo>
                  <a:lnTo>
                    <a:pt x="1086" y="1683"/>
                  </a:lnTo>
                  <a:lnTo>
                    <a:pt x="1023" y="1762"/>
                  </a:lnTo>
                  <a:lnTo>
                    <a:pt x="965" y="1841"/>
                  </a:lnTo>
                  <a:lnTo>
                    <a:pt x="906" y="1922"/>
                  </a:lnTo>
                  <a:lnTo>
                    <a:pt x="851" y="2005"/>
                  </a:lnTo>
                  <a:lnTo>
                    <a:pt x="797" y="2088"/>
                  </a:lnTo>
                  <a:lnTo>
                    <a:pt x="744" y="2171"/>
                  </a:lnTo>
                  <a:lnTo>
                    <a:pt x="744" y="2171"/>
                  </a:lnTo>
                  <a:lnTo>
                    <a:pt x="694" y="2259"/>
                  </a:lnTo>
                  <a:lnTo>
                    <a:pt x="645" y="2346"/>
                  </a:lnTo>
                  <a:lnTo>
                    <a:pt x="599" y="2435"/>
                  </a:lnTo>
                  <a:lnTo>
                    <a:pt x="552" y="2526"/>
                  </a:lnTo>
                  <a:lnTo>
                    <a:pt x="510" y="2619"/>
                  </a:lnTo>
                  <a:lnTo>
                    <a:pt x="469" y="2712"/>
                  </a:lnTo>
                  <a:lnTo>
                    <a:pt x="429" y="2805"/>
                  </a:lnTo>
                  <a:lnTo>
                    <a:pt x="393" y="2900"/>
                  </a:lnTo>
                  <a:lnTo>
                    <a:pt x="356" y="2997"/>
                  </a:lnTo>
                  <a:lnTo>
                    <a:pt x="324" y="3094"/>
                  </a:lnTo>
                  <a:lnTo>
                    <a:pt x="292" y="3193"/>
                  </a:lnTo>
                  <a:lnTo>
                    <a:pt x="263" y="3294"/>
                  </a:lnTo>
                  <a:lnTo>
                    <a:pt x="235" y="3395"/>
                  </a:lnTo>
                  <a:lnTo>
                    <a:pt x="209" y="3498"/>
                  </a:lnTo>
                  <a:lnTo>
                    <a:pt x="186" y="3602"/>
                  </a:lnTo>
                  <a:lnTo>
                    <a:pt x="164" y="3707"/>
                  </a:lnTo>
                  <a:lnTo>
                    <a:pt x="164" y="3707"/>
                  </a:lnTo>
                  <a:lnTo>
                    <a:pt x="136" y="3836"/>
                  </a:lnTo>
                  <a:lnTo>
                    <a:pt x="114" y="3955"/>
                  </a:lnTo>
                  <a:lnTo>
                    <a:pt x="95" y="4071"/>
                  </a:lnTo>
                  <a:lnTo>
                    <a:pt x="81" y="4186"/>
                  </a:lnTo>
                  <a:lnTo>
                    <a:pt x="81" y="4186"/>
                  </a:lnTo>
                  <a:lnTo>
                    <a:pt x="79" y="4307"/>
                  </a:lnTo>
                  <a:lnTo>
                    <a:pt x="81" y="4420"/>
                  </a:lnTo>
                  <a:lnTo>
                    <a:pt x="85" y="4630"/>
                  </a:lnTo>
                  <a:lnTo>
                    <a:pt x="85" y="4630"/>
                  </a:lnTo>
                  <a:lnTo>
                    <a:pt x="89" y="4758"/>
                  </a:lnTo>
                  <a:lnTo>
                    <a:pt x="97" y="4879"/>
                  </a:lnTo>
                  <a:lnTo>
                    <a:pt x="108" y="4992"/>
                  </a:lnTo>
                  <a:lnTo>
                    <a:pt x="124" y="5099"/>
                  </a:lnTo>
                  <a:lnTo>
                    <a:pt x="140" y="5200"/>
                  </a:lnTo>
                  <a:lnTo>
                    <a:pt x="160" y="5297"/>
                  </a:lnTo>
                  <a:lnTo>
                    <a:pt x="182" y="5388"/>
                  </a:lnTo>
                  <a:lnTo>
                    <a:pt x="205" y="5475"/>
                  </a:lnTo>
                  <a:lnTo>
                    <a:pt x="205" y="5475"/>
                  </a:lnTo>
                  <a:lnTo>
                    <a:pt x="229" y="5556"/>
                  </a:lnTo>
                  <a:lnTo>
                    <a:pt x="255" y="5635"/>
                  </a:lnTo>
                  <a:lnTo>
                    <a:pt x="281" y="5710"/>
                  </a:lnTo>
                  <a:lnTo>
                    <a:pt x="310" y="5783"/>
                  </a:lnTo>
                  <a:lnTo>
                    <a:pt x="338" y="5853"/>
                  </a:lnTo>
                  <a:lnTo>
                    <a:pt x="366" y="5920"/>
                  </a:lnTo>
                  <a:lnTo>
                    <a:pt x="427" y="6051"/>
                  </a:lnTo>
                  <a:lnTo>
                    <a:pt x="427" y="6051"/>
                  </a:lnTo>
                  <a:lnTo>
                    <a:pt x="494" y="6179"/>
                  </a:lnTo>
                  <a:lnTo>
                    <a:pt x="560" y="6308"/>
                  </a:lnTo>
                  <a:lnTo>
                    <a:pt x="633" y="6439"/>
                  </a:lnTo>
                  <a:lnTo>
                    <a:pt x="714" y="6579"/>
                  </a:lnTo>
                  <a:lnTo>
                    <a:pt x="803" y="6726"/>
                  </a:lnTo>
                  <a:lnTo>
                    <a:pt x="904" y="6886"/>
                  </a:lnTo>
                  <a:lnTo>
                    <a:pt x="1021" y="7060"/>
                  </a:lnTo>
                  <a:lnTo>
                    <a:pt x="1155" y="7250"/>
                  </a:lnTo>
                  <a:lnTo>
                    <a:pt x="1155" y="7250"/>
                  </a:lnTo>
                  <a:lnTo>
                    <a:pt x="1082" y="7157"/>
                  </a:lnTo>
                  <a:lnTo>
                    <a:pt x="1009" y="7060"/>
                  </a:lnTo>
                  <a:lnTo>
                    <a:pt x="932" y="6955"/>
                  </a:lnTo>
                  <a:lnTo>
                    <a:pt x="853" y="6846"/>
                  </a:lnTo>
                  <a:lnTo>
                    <a:pt x="777" y="6732"/>
                  </a:lnTo>
                  <a:lnTo>
                    <a:pt x="702" y="6617"/>
                  </a:lnTo>
                  <a:lnTo>
                    <a:pt x="627" y="6498"/>
                  </a:lnTo>
                  <a:lnTo>
                    <a:pt x="556" y="6377"/>
                  </a:lnTo>
                  <a:lnTo>
                    <a:pt x="556" y="6377"/>
                  </a:lnTo>
                  <a:lnTo>
                    <a:pt x="492" y="6257"/>
                  </a:lnTo>
                  <a:lnTo>
                    <a:pt x="429" y="6138"/>
                  </a:lnTo>
                  <a:lnTo>
                    <a:pt x="372" y="6021"/>
                  </a:lnTo>
                  <a:lnTo>
                    <a:pt x="322" y="5910"/>
                  </a:lnTo>
                  <a:lnTo>
                    <a:pt x="275" y="5803"/>
                  </a:lnTo>
                  <a:lnTo>
                    <a:pt x="235" y="5704"/>
                  </a:lnTo>
                  <a:lnTo>
                    <a:pt x="201" y="5613"/>
                  </a:lnTo>
                  <a:lnTo>
                    <a:pt x="170" y="5532"/>
                  </a:lnTo>
                  <a:lnTo>
                    <a:pt x="170" y="5532"/>
                  </a:lnTo>
                  <a:lnTo>
                    <a:pt x="190" y="5607"/>
                  </a:lnTo>
                  <a:lnTo>
                    <a:pt x="213" y="5688"/>
                  </a:lnTo>
                  <a:lnTo>
                    <a:pt x="239" y="5770"/>
                  </a:lnTo>
                  <a:lnTo>
                    <a:pt x="269" y="5855"/>
                  </a:lnTo>
                  <a:lnTo>
                    <a:pt x="302" y="5944"/>
                  </a:lnTo>
                  <a:lnTo>
                    <a:pt x="336" y="6035"/>
                  </a:lnTo>
                  <a:lnTo>
                    <a:pt x="374" y="6128"/>
                  </a:lnTo>
                  <a:lnTo>
                    <a:pt x="417" y="6223"/>
                  </a:lnTo>
                  <a:lnTo>
                    <a:pt x="461" y="6320"/>
                  </a:lnTo>
                  <a:lnTo>
                    <a:pt x="510" y="6417"/>
                  </a:lnTo>
                  <a:lnTo>
                    <a:pt x="562" y="6514"/>
                  </a:lnTo>
                  <a:lnTo>
                    <a:pt x="617" y="6611"/>
                  </a:lnTo>
                  <a:lnTo>
                    <a:pt x="674" y="6708"/>
                  </a:lnTo>
                  <a:lnTo>
                    <a:pt x="734" y="6805"/>
                  </a:lnTo>
                  <a:lnTo>
                    <a:pt x="799" y="6902"/>
                  </a:lnTo>
                  <a:lnTo>
                    <a:pt x="866" y="6997"/>
                  </a:lnTo>
                  <a:lnTo>
                    <a:pt x="866" y="6997"/>
                  </a:lnTo>
                  <a:lnTo>
                    <a:pt x="934" y="7090"/>
                  </a:lnTo>
                  <a:lnTo>
                    <a:pt x="1007" y="7181"/>
                  </a:lnTo>
                  <a:lnTo>
                    <a:pt x="1080" y="7272"/>
                  </a:lnTo>
                  <a:lnTo>
                    <a:pt x="1157" y="7359"/>
                  </a:lnTo>
                  <a:lnTo>
                    <a:pt x="1233" y="7442"/>
                  </a:lnTo>
                  <a:lnTo>
                    <a:pt x="1312" y="7525"/>
                  </a:lnTo>
                  <a:lnTo>
                    <a:pt x="1393" y="7604"/>
                  </a:lnTo>
                  <a:lnTo>
                    <a:pt x="1474" y="7678"/>
                  </a:lnTo>
                  <a:lnTo>
                    <a:pt x="1555" y="7753"/>
                  </a:lnTo>
                  <a:lnTo>
                    <a:pt x="1636" y="7822"/>
                  </a:lnTo>
                  <a:lnTo>
                    <a:pt x="1714" y="7889"/>
                  </a:lnTo>
                  <a:lnTo>
                    <a:pt x="1795" y="7953"/>
                  </a:lnTo>
                  <a:lnTo>
                    <a:pt x="1874" y="8014"/>
                  </a:lnTo>
                  <a:lnTo>
                    <a:pt x="1951" y="8071"/>
                  </a:lnTo>
                  <a:lnTo>
                    <a:pt x="2026" y="8123"/>
                  </a:lnTo>
                  <a:lnTo>
                    <a:pt x="2101" y="8174"/>
                  </a:lnTo>
                  <a:lnTo>
                    <a:pt x="2101" y="8174"/>
                  </a:lnTo>
                  <a:lnTo>
                    <a:pt x="2187" y="8228"/>
                  </a:lnTo>
                  <a:lnTo>
                    <a:pt x="2268" y="8279"/>
                  </a:lnTo>
                  <a:lnTo>
                    <a:pt x="2343" y="8323"/>
                  </a:lnTo>
                  <a:lnTo>
                    <a:pt x="2416" y="8364"/>
                  </a:lnTo>
                  <a:lnTo>
                    <a:pt x="2483" y="8400"/>
                  </a:lnTo>
                  <a:lnTo>
                    <a:pt x="2547" y="8432"/>
                  </a:lnTo>
                  <a:lnTo>
                    <a:pt x="2606" y="8461"/>
                  </a:lnTo>
                  <a:lnTo>
                    <a:pt x="2662" y="8487"/>
                  </a:lnTo>
                  <a:lnTo>
                    <a:pt x="2717" y="8511"/>
                  </a:lnTo>
                  <a:lnTo>
                    <a:pt x="2768" y="8531"/>
                  </a:lnTo>
                  <a:lnTo>
                    <a:pt x="2861" y="8566"/>
                  </a:lnTo>
                  <a:lnTo>
                    <a:pt x="2947" y="8596"/>
                  </a:lnTo>
                  <a:lnTo>
                    <a:pt x="3030" y="8622"/>
                  </a:lnTo>
                  <a:lnTo>
                    <a:pt x="3030" y="8622"/>
                  </a:lnTo>
                  <a:lnTo>
                    <a:pt x="3194" y="8667"/>
                  </a:lnTo>
                  <a:lnTo>
                    <a:pt x="3285" y="8689"/>
                  </a:lnTo>
                  <a:lnTo>
                    <a:pt x="3382" y="8709"/>
                  </a:lnTo>
                  <a:lnTo>
                    <a:pt x="3493" y="8731"/>
                  </a:lnTo>
                  <a:lnTo>
                    <a:pt x="3621" y="8752"/>
                  </a:lnTo>
                  <a:lnTo>
                    <a:pt x="3766" y="8774"/>
                  </a:lnTo>
                  <a:lnTo>
                    <a:pt x="3936" y="8794"/>
                  </a:lnTo>
                  <a:lnTo>
                    <a:pt x="3936" y="8794"/>
                  </a:lnTo>
                  <a:lnTo>
                    <a:pt x="3980" y="8798"/>
                  </a:lnTo>
                  <a:lnTo>
                    <a:pt x="4039" y="8802"/>
                  </a:lnTo>
                  <a:lnTo>
                    <a:pt x="4108" y="8804"/>
                  </a:lnTo>
                  <a:lnTo>
                    <a:pt x="4189" y="8804"/>
                  </a:lnTo>
                  <a:lnTo>
                    <a:pt x="4189" y="8804"/>
                  </a:lnTo>
                  <a:lnTo>
                    <a:pt x="4286" y="8804"/>
                  </a:lnTo>
                  <a:lnTo>
                    <a:pt x="4391" y="8800"/>
                  </a:lnTo>
                  <a:lnTo>
                    <a:pt x="4504" y="8792"/>
                  </a:lnTo>
                  <a:lnTo>
                    <a:pt x="4619" y="8780"/>
                  </a:lnTo>
                  <a:lnTo>
                    <a:pt x="4619" y="8780"/>
                  </a:lnTo>
                  <a:lnTo>
                    <a:pt x="4732" y="8768"/>
                  </a:lnTo>
                  <a:lnTo>
                    <a:pt x="4847" y="8750"/>
                  </a:lnTo>
                  <a:lnTo>
                    <a:pt x="4959" y="8729"/>
                  </a:lnTo>
                  <a:lnTo>
                    <a:pt x="5068" y="8707"/>
                  </a:lnTo>
                  <a:lnTo>
                    <a:pt x="5173" y="8685"/>
                  </a:lnTo>
                  <a:lnTo>
                    <a:pt x="5272" y="8661"/>
                  </a:lnTo>
                  <a:lnTo>
                    <a:pt x="5363" y="8636"/>
                  </a:lnTo>
                  <a:lnTo>
                    <a:pt x="5446" y="8612"/>
                  </a:lnTo>
                  <a:lnTo>
                    <a:pt x="5446" y="8612"/>
                  </a:lnTo>
                  <a:lnTo>
                    <a:pt x="5292" y="8645"/>
                  </a:lnTo>
                  <a:lnTo>
                    <a:pt x="5145" y="8673"/>
                  </a:lnTo>
                  <a:lnTo>
                    <a:pt x="5003" y="8695"/>
                  </a:lnTo>
                  <a:lnTo>
                    <a:pt x="4868" y="8711"/>
                  </a:lnTo>
                  <a:lnTo>
                    <a:pt x="4736" y="8725"/>
                  </a:lnTo>
                  <a:lnTo>
                    <a:pt x="4609" y="8734"/>
                  </a:lnTo>
                  <a:lnTo>
                    <a:pt x="4488" y="8740"/>
                  </a:lnTo>
                  <a:lnTo>
                    <a:pt x="4372" y="8742"/>
                  </a:lnTo>
                  <a:lnTo>
                    <a:pt x="4372" y="8742"/>
                  </a:lnTo>
                  <a:lnTo>
                    <a:pt x="4296" y="8740"/>
                  </a:lnTo>
                  <a:lnTo>
                    <a:pt x="4221" y="8738"/>
                  </a:lnTo>
                  <a:lnTo>
                    <a:pt x="4150" y="8734"/>
                  </a:lnTo>
                  <a:lnTo>
                    <a:pt x="4079" y="8729"/>
                  </a:lnTo>
                  <a:lnTo>
                    <a:pt x="4015" y="8723"/>
                  </a:lnTo>
                  <a:lnTo>
                    <a:pt x="3950" y="8715"/>
                  </a:lnTo>
                  <a:lnTo>
                    <a:pt x="3889" y="8707"/>
                  </a:lnTo>
                  <a:lnTo>
                    <a:pt x="3831" y="8697"/>
                  </a:lnTo>
                  <a:lnTo>
                    <a:pt x="3831" y="8697"/>
                  </a:lnTo>
                  <a:lnTo>
                    <a:pt x="3718" y="8683"/>
                  </a:lnTo>
                  <a:lnTo>
                    <a:pt x="3604" y="8663"/>
                  </a:lnTo>
                  <a:lnTo>
                    <a:pt x="3489" y="8641"/>
                  </a:lnTo>
                  <a:lnTo>
                    <a:pt x="3374" y="8614"/>
                  </a:lnTo>
                  <a:lnTo>
                    <a:pt x="3259" y="8584"/>
                  </a:lnTo>
                  <a:lnTo>
                    <a:pt x="3144" y="8552"/>
                  </a:lnTo>
                  <a:lnTo>
                    <a:pt x="3028" y="8515"/>
                  </a:lnTo>
                  <a:lnTo>
                    <a:pt x="2915" y="8475"/>
                  </a:lnTo>
                  <a:lnTo>
                    <a:pt x="2802" y="8432"/>
                  </a:lnTo>
                  <a:lnTo>
                    <a:pt x="2691" y="8386"/>
                  </a:lnTo>
                  <a:lnTo>
                    <a:pt x="2584" y="8337"/>
                  </a:lnTo>
                  <a:lnTo>
                    <a:pt x="2477" y="8287"/>
                  </a:lnTo>
                  <a:lnTo>
                    <a:pt x="2373" y="8234"/>
                  </a:lnTo>
                  <a:lnTo>
                    <a:pt x="2274" y="8178"/>
                  </a:lnTo>
                  <a:lnTo>
                    <a:pt x="2177" y="8121"/>
                  </a:lnTo>
                  <a:lnTo>
                    <a:pt x="2084" y="8062"/>
                  </a:lnTo>
                  <a:lnTo>
                    <a:pt x="2084" y="8062"/>
                  </a:lnTo>
                  <a:lnTo>
                    <a:pt x="1995" y="8004"/>
                  </a:lnTo>
                  <a:lnTo>
                    <a:pt x="1909" y="7943"/>
                  </a:lnTo>
                  <a:lnTo>
                    <a:pt x="1828" y="7883"/>
                  </a:lnTo>
                  <a:lnTo>
                    <a:pt x="1751" y="7824"/>
                  </a:lnTo>
                  <a:lnTo>
                    <a:pt x="1680" y="7765"/>
                  </a:lnTo>
                  <a:lnTo>
                    <a:pt x="1611" y="7709"/>
                  </a:lnTo>
                  <a:lnTo>
                    <a:pt x="1549" y="7652"/>
                  </a:lnTo>
                  <a:lnTo>
                    <a:pt x="1490" y="7598"/>
                  </a:lnTo>
                  <a:lnTo>
                    <a:pt x="1438" y="7547"/>
                  </a:lnTo>
                  <a:lnTo>
                    <a:pt x="1389" y="7499"/>
                  </a:lnTo>
                  <a:lnTo>
                    <a:pt x="1306" y="7412"/>
                  </a:lnTo>
                  <a:lnTo>
                    <a:pt x="1244" y="7343"/>
                  </a:lnTo>
                  <a:lnTo>
                    <a:pt x="1201" y="7294"/>
                  </a:lnTo>
                  <a:lnTo>
                    <a:pt x="1201" y="7294"/>
                  </a:lnTo>
                  <a:lnTo>
                    <a:pt x="1183" y="7270"/>
                  </a:lnTo>
                  <a:lnTo>
                    <a:pt x="1179" y="7262"/>
                  </a:lnTo>
                  <a:lnTo>
                    <a:pt x="1179" y="7262"/>
                  </a:lnTo>
                  <a:lnTo>
                    <a:pt x="1199" y="7282"/>
                  </a:lnTo>
                  <a:lnTo>
                    <a:pt x="1258" y="7343"/>
                  </a:lnTo>
                  <a:lnTo>
                    <a:pt x="1258" y="7343"/>
                  </a:lnTo>
                  <a:lnTo>
                    <a:pt x="1339" y="7424"/>
                  </a:lnTo>
                  <a:lnTo>
                    <a:pt x="1391" y="7474"/>
                  </a:lnTo>
                  <a:lnTo>
                    <a:pt x="1452" y="7533"/>
                  </a:lnTo>
                  <a:lnTo>
                    <a:pt x="1522" y="7596"/>
                  </a:lnTo>
                  <a:lnTo>
                    <a:pt x="1601" y="7666"/>
                  </a:lnTo>
                  <a:lnTo>
                    <a:pt x="1692" y="7741"/>
                  </a:lnTo>
                  <a:lnTo>
                    <a:pt x="1795" y="7822"/>
                  </a:lnTo>
                  <a:lnTo>
                    <a:pt x="1795" y="7822"/>
                  </a:lnTo>
                  <a:lnTo>
                    <a:pt x="1911" y="7905"/>
                  </a:lnTo>
                  <a:lnTo>
                    <a:pt x="1973" y="7949"/>
                  </a:lnTo>
                  <a:lnTo>
                    <a:pt x="2038" y="7992"/>
                  </a:lnTo>
                  <a:lnTo>
                    <a:pt x="2109" y="8036"/>
                  </a:lnTo>
                  <a:lnTo>
                    <a:pt x="2181" y="8083"/>
                  </a:lnTo>
                  <a:lnTo>
                    <a:pt x="2258" y="8127"/>
                  </a:lnTo>
                  <a:lnTo>
                    <a:pt x="2337" y="8172"/>
                  </a:lnTo>
                  <a:lnTo>
                    <a:pt x="2422" y="8216"/>
                  </a:lnTo>
                  <a:lnTo>
                    <a:pt x="2511" y="8261"/>
                  </a:lnTo>
                  <a:lnTo>
                    <a:pt x="2602" y="8305"/>
                  </a:lnTo>
                  <a:lnTo>
                    <a:pt x="2699" y="8347"/>
                  </a:lnTo>
                  <a:lnTo>
                    <a:pt x="2800" y="8390"/>
                  </a:lnTo>
                  <a:lnTo>
                    <a:pt x="2905" y="8428"/>
                  </a:lnTo>
                  <a:lnTo>
                    <a:pt x="3014" y="8469"/>
                  </a:lnTo>
                  <a:lnTo>
                    <a:pt x="3127" y="8505"/>
                  </a:lnTo>
                  <a:lnTo>
                    <a:pt x="3127" y="8505"/>
                  </a:lnTo>
                  <a:lnTo>
                    <a:pt x="3263" y="8544"/>
                  </a:lnTo>
                  <a:lnTo>
                    <a:pt x="3332" y="8562"/>
                  </a:lnTo>
                  <a:lnTo>
                    <a:pt x="3404" y="8580"/>
                  </a:lnTo>
                  <a:lnTo>
                    <a:pt x="3477" y="8596"/>
                  </a:lnTo>
                  <a:lnTo>
                    <a:pt x="3552" y="8612"/>
                  </a:lnTo>
                  <a:lnTo>
                    <a:pt x="3627" y="8626"/>
                  </a:lnTo>
                  <a:lnTo>
                    <a:pt x="3703" y="8641"/>
                  </a:lnTo>
                  <a:lnTo>
                    <a:pt x="3782" y="8653"/>
                  </a:lnTo>
                  <a:lnTo>
                    <a:pt x="3863" y="8663"/>
                  </a:lnTo>
                  <a:lnTo>
                    <a:pt x="3944" y="8673"/>
                  </a:lnTo>
                  <a:lnTo>
                    <a:pt x="4027" y="8679"/>
                  </a:lnTo>
                  <a:lnTo>
                    <a:pt x="4112" y="8685"/>
                  </a:lnTo>
                  <a:lnTo>
                    <a:pt x="4197" y="8691"/>
                  </a:lnTo>
                  <a:lnTo>
                    <a:pt x="4284" y="8693"/>
                  </a:lnTo>
                  <a:lnTo>
                    <a:pt x="4372" y="8693"/>
                  </a:lnTo>
                  <a:lnTo>
                    <a:pt x="4372" y="8693"/>
                  </a:lnTo>
                  <a:lnTo>
                    <a:pt x="4504" y="8691"/>
                  </a:lnTo>
                  <a:lnTo>
                    <a:pt x="4639" y="8685"/>
                  </a:lnTo>
                  <a:lnTo>
                    <a:pt x="4779" y="8675"/>
                  </a:lnTo>
                  <a:lnTo>
                    <a:pt x="4918" y="8657"/>
                  </a:lnTo>
                  <a:lnTo>
                    <a:pt x="4989" y="8649"/>
                  </a:lnTo>
                  <a:lnTo>
                    <a:pt x="5060" y="8636"/>
                  </a:lnTo>
                  <a:lnTo>
                    <a:pt x="5132" y="8624"/>
                  </a:lnTo>
                  <a:lnTo>
                    <a:pt x="5205" y="8610"/>
                  </a:lnTo>
                  <a:lnTo>
                    <a:pt x="5278" y="8594"/>
                  </a:lnTo>
                  <a:lnTo>
                    <a:pt x="5351" y="8576"/>
                  </a:lnTo>
                  <a:lnTo>
                    <a:pt x="5426" y="8558"/>
                  </a:lnTo>
                  <a:lnTo>
                    <a:pt x="5498" y="8537"/>
                  </a:lnTo>
                  <a:lnTo>
                    <a:pt x="5498" y="8537"/>
                  </a:lnTo>
                  <a:lnTo>
                    <a:pt x="5454" y="8548"/>
                  </a:lnTo>
                  <a:lnTo>
                    <a:pt x="5379" y="8564"/>
                  </a:lnTo>
                  <a:lnTo>
                    <a:pt x="5280" y="8582"/>
                  </a:lnTo>
                  <a:lnTo>
                    <a:pt x="5157" y="8602"/>
                  </a:lnTo>
                  <a:lnTo>
                    <a:pt x="5015" y="8622"/>
                  </a:lnTo>
                  <a:lnTo>
                    <a:pt x="4940" y="8630"/>
                  </a:lnTo>
                  <a:lnTo>
                    <a:pt x="4860" y="8639"/>
                  </a:lnTo>
                  <a:lnTo>
                    <a:pt x="4779" y="8645"/>
                  </a:lnTo>
                  <a:lnTo>
                    <a:pt x="4694" y="8649"/>
                  </a:lnTo>
                  <a:lnTo>
                    <a:pt x="4607" y="8653"/>
                  </a:lnTo>
                  <a:lnTo>
                    <a:pt x="4518" y="8655"/>
                  </a:lnTo>
                  <a:lnTo>
                    <a:pt x="4518" y="8655"/>
                  </a:lnTo>
                  <a:lnTo>
                    <a:pt x="4415" y="8653"/>
                  </a:lnTo>
                  <a:lnTo>
                    <a:pt x="4310" y="8647"/>
                  </a:lnTo>
                  <a:lnTo>
                    <a:pt x="4310" y="8647"/>
                  </a:lnTo>
                  <a:lnTo>
                    <a:pt x="4207" y="8641"/>
                  </a:lnTo>
                  <a:lnTo>
                    <a:pt x="4106" y="8632"/>
                  </a:lnTo>
                  <a:lnTo>
                    <a:pt x="4007" y="8620"/>
                  </a:lnTo>
                  <a:lnTo>
                    <a:pt x="3912" y="8606"/>
                  </a:lnTo>
                  <a:lnTo>
                    <a:pt x="3819" y="8592"/>
                  </a:lnTo>
                  <a:lnTo>
                    <a:pt x="3730" y="8574"/>
                  </a:lnTo>
                  <a:lnTo>
                    <a:pt x="3647" y="8558"/>
                  </a:lnTo>
                  <a:lnTo>
                    <a:pt x="3568" y="8539"/>
                  </a:lnTo>
                  <a:lnTo>
                    <a:pt x="3497" y="8521"/>
                  </a:lnTo>
                  <a:lnTo>
                    <a:pt x="3431" y="8503"/>
                  </a:lnTo>
                  <a:lnTo>
                    <a:pt x="3323" y="8471"/>
                  </a:lnTo>
                  <a:lnTo>
                    <a:pt x="3251" y="8444"/>
                  </a:lnTo>
                  <a:lnTo>
                    <a:pt x="3228" y="8436"/>
                  </a:lnTo>
                  <a:lnTo>
                    <a:pt x="3218" y="8430"/>
                  </a:lnTo>
                  <a:lnTo>
                    <a:pt x="3218" y="8430"/>
                  </a:lnTo>
                  <a:lnTo>
                    <a:pt x="3216" y="8428"/>
                  </a:lnTo>
                  <a:lnTo>
                    <a:pt x="3218" y="8428"/>
                  </a:lnTo>
                  <a:lnTo>
                    <a:pt x="3218" y="8428"/>
                  </a:lnTo>
                  <a:lnTo>
                    <a:pt x="3234" y="8432"/>
                  </a:lnTo>
                  <a:lnTo>
                    <a:pt x="3263" y="8438"/>
                  </a:lnTo>
                  <a:lnTo>
                    <a:pt x="3360" y="8465"/>
                  </a:lnTo>
                  <a:lnTo>
                    <a:pt x="3501" y="8499"/>
                  </a:lnTo>
                  <a:lnTo>
                    <a:pt x="3586" y="8517"/>
                  </a:lnTo>
                  <a:lnTo>
                    <a:pt x="3681" y="8537"/>
                  </a:lnTo>
                  <a:lnTo>
                    <a:pt x="3681" y="8537"/>
                  </a:lnTo>
                  <a:lnTo>
                    <a:pt x="3768" y="8554"/>
                  </a:lnTo>
                  <a:lnTo>
                    <a:pt x="3861" y="8568"/>
                  </a:lnTo>
                  <a:lnTo>
                    <a:pt x="3958" y="8582"/>
                  </a:lnTo>
                  <a:lnTo>
                    <a:pt x="4059" y="8594"/>
                  </a:lnTo>
                  <a:lnTo>
                    <a:pt x="4162" y="8602"/>
                  </a:lnTo>
                  <a:lnTo>
                    <a:pt x="4271" y="8610"/>
                  </a:lnTo>
                  <a:lnTo>
                    <a:pt x="4381" y="8614"/>
                  </a:lnTo>
                  <a:lnTo>
                    <a:pt x="4494" y="8616"/>
                  </a:lnTo>
                  <a:lnTo>
                    <a:pt x="4494" y="8616"/>
                  </a:lnTo>
                  <a:lnTo>
                    <a:pt x="4562" y="8614"/>
                  </a:lnTo>
                  <a:lnTo>
                    <a:pt x="4631" y="8614"/>
                  </a:lnTo>
                  <a:lnTo>
                    <a:pt x="4700" y="8610"/>
                  </a:lnTo>
                  <a:lnTo>
                    <a:pt x="4771" y="8606"/>
                  </a:lnTo>
                  <a:lnTo>
                    <a:pt x="4771" y="8606"/>
                  </a:lnTo>
                  <a:lnTo>
                    <a:pt x="4845" y="8600"/>
                  </a:lnTo>
                  <a:lnTo>
                    <a:pt x="4918" y="8594"/>
                  </a:lnTo>
                  <a:lnTo>
                    <a:pt x="4993" y="8584"/>
                  </a:lnTo>
                  <a:lnTo>
                    <a:pt x="5066" y="8574"/>
                  </a:lnTo>
                  <a:lnTo>
                    <a:pt x="5137" y="8564"/>
                  </a:lnTo>
                  <a:lnTo>
                    <a:pt x="5207" y="8552"/>
                  </a:lnTo>
                  <a:lnTo>
                    <a:pt x="5347" y="8523"/>
                  </a:lnTo>
                  <a:lnTo>
                    <a:pt x="5480" y="8493"/>
                  </a:lnTo>
                  <a:lnTo>
                    <a:pt x="5605" y="8459"/>
                  </a:lnTo>
                  <a:lnTo>
                    <a:pt x="5723" y="8424"/>
                  </a:lnTo>
                  <a:lnTo>
                    <a:pt x="5832" y="8386"/>
                  </a:lnTo>
                  <a:lnTo>
                    <a:pt x="5832" y="8386"/>
                  </a:lnTo>
                  <a:lnTo>
                    <a:pt x="5927" y="8351"/>
                  </a:lnTo>
                  <a:lnTo>
                    <a:pt x="6012" y="8317"/>
                  </a:lnTo>
                  <a:lnTo>
                    <a:pt x="6084" y="8287"/>
                  </a:lnTo>
                  <a:lnTo>
                    <a:pt x="6147" y="8259"/>
                  </a:lnTo>
                  <a:lnTo>
                    <a:pt x="6196" y="8236"/>
                  </a:lnTo>
                  <a:lnTo>
                    <a:pt x="6230" y="8218"/>
                  </a:lnTo>
                  <a:lnTo>
                    <a:pt x="6250" y="8208"/>
                  </a:lnTo>
                  <a:lnTo>
                    <a:pt x="6256" y="8204"/>
                  </a:lnTo>
                  <a:lnTo>
                    <a:pt x="6256" y="8204"/>
                  </a:lnTo>
                  <a:lnTo>
                    <a:pt x="6254" y="8204"/>
                  </a:lnTo>
                  <a:lnTo>
                    <a:pt x="6254" y="8204"/>
                  </a:lnTo>
                  <a:lnTo>
                    <a:pt x="6212" y="8216"/>
                  </a:lnTo>
                  <a:lnTo>
                    <a:pt x="6141" y="8238"/>
                  </a:lnTo>
                  <a:lnTo>
                    <a:pt x="6046" y="8271"/>
                  </a:lnTo>
                  <a:lnTo>
                    <a:pt x="5931" y="8307"/>
                  </a:lnTo>
                  <a:lnTo>
                    <a:pt x="5797" y="8345"/>
                  </a:lnTo>
                  <a:lnTo>
                    <a:pt x="5725" y="8364"/>
                  </a:lnTo>
                  <a:lnTo>
                    <a:pt x="5650" y="8382"/>
                  </a:lnTo>
                  <a:lnTo>
                    <a:pt x="5573" y="8400"/>
                  </a:lnTo>
                  <a:lnTo>
                    <a:pt x="5492" y="8416"/>
                  </a:lnTo>
                  <a:lnTo>
                    <a:pt x="5411" y="8432"/>
                  </a:lnTo>
                  <a:lnTo>
                    <a:pt x="5329" y="8444"/>
                  </a:lnTo>
                  <a:lnTo>
                    <a:pt x="5329" y="8444"/>
                  </a:lnTo>
                  <a:lnTo>
                    <a:pt x="5242" y="8459"/>
                  </a:lnTo>
                  <a:lnTo>
                    <a:pt x="5155" y="8469"/>
                  </a:lnTo>
                  <a:lnTo>
                    <a:pt x="5070" y="8479"/>
                  </a:lnTo>
                  <a:lnTo>
                    <a:pt x="4985" y="8485"/>
                  </a:lnTo>
                  <a:lnTo>
                    <a:pt x="4902" y="8489"/>
                  </a:lnTo>
                  <a:lnTo>
                    <a:pt x="4821" y="8493"/>
                  </a:lnTo>
                  <a:lnTo>
                    <a:pt x="4742" y="8495"/>
                  </a:lnTo>
                  <a:lnTo>
                    <a:pt x="4668" y="8495"/>
                  </a:lnTo>
                  <a:lnTo>
                    <a:pt x="4668" y="8495"/>
                  </a:lnTo>
                  <a:lnTo>
                    <a:pt x="4542" y="8493"/>
                  </a:lnTo>
                  <a:lnTo>
                    <a:pt x="4433" y="8489"/>
                  </a:lnTo>
                  <a:lnTo>
                    <a:pt x="4344" y="8485"/>
                  </a:lnTo>
                  <a:lnTo>
                    <a:pt x="4282" y="8481"/>
                  </a:lnTo>
                  <a:lnTo>
                    <a:pt x="4282" y="8481"/>
                  </a:lnTo>
                  <a:lnTo>
                    <a:pt x="4255" y="8481"/>
                  </a:lnTo>
                  <a:lnTo>
                    <a:pt x="4255" y="8481"/>
                  </a:lnTo>
                  <a:lnTo>
                    <a:pt x="4187" y="8479"/>
                  </a:lnTo>
                  <a:lnTo>
                    <a:pt x="4187" y="8479"/>
                  </a:lnTo>
                  <a:lnTo>
                    <a:pt x="4126" y="8477"/>
                  </a:lnTo>
                  <a:lnTo>
                    <a:pt x="4126" y="8477"/>
                  </a:lnTo>
                  <a:lnTo>
                    <a:pt x="4104" y="8479"/>
                  </a:lnTo>
                  <a:lnTo>
                    <a:pt x="4083" y="8481"/>
                  </a:lnTo>
                  <a:lnTo>
                    <a:pt x="4065" y="8483"/>
                  </a:lnTo>
                  <a:lnTo>
                    <a:pt x="4051" y="8489"/>
                  </a:lnTo>
                  <a:lnTo>
                    <a:pt x="4051" y="8489"/>
                  </a:lnTo>
                  <a:lnTo>
                    <a:pt x="3916" y="8471"/>
                  </a:lnTo>
                  <a:lnTo>
                    <a:pt x="3786" y="8449"/>
                  </a:lnTo>
                  <a:lnTo>
                    <a:pt x="3659" y="8424"/>
                  </a:lnTo>
                  <a:lnTo>
                    <a:pt x="3534" y="8398"/>
                  </a:lnTo>
                  <a:lnTo>
                    <a:pt x="3408" y="8366"/>
                  </a:lnTo>
                  <a:lnTo>
                    <a:pt x="3281" y="8331"/>
                  </a:lnTo>
                  <a:lnTo>
                    <a:pt x="3152" y="8289"/>
                  </a:lnTo>
                  <a:lnTo>
                    <a:pt x="3016" y="8242"/>
                  </a:lnTo>
                  <a:lnTo>
                    <a:pt x="3016" y="8242"/>
                  </a:lnTo>
                  <a:lnTo>
                    <a:pt x="2929" y="8208"/>
                  </a:lnTo>
                  <a:lnTo>
                    <a:pt x="2842" y="8174"/>
                  </a:lnTo>
                  <a:lnTo>
                    <a:pt x="2755" y="8137"/>
                  </a:lnTo>
                  <a:lnTo>
                    <a:pt x="2671" y="8099"/>
                  </a:lnTo>
                  <a:lnTo>
                    <a:pt x="2586" y="8060"/>
                  </a:lnTo>
                  <a:lnTo>
                    <a:pt x="2501" y="8018"/>
                  </a:lnTo>
                  <a:lnTo>
                    <a:pt x="2418" y="7974"/>
                  </a:lnTo>
                  <a:lnTo>
                    <a:pt x="2335" y="7927"/>
                  </a:lnTo>
                  <a:lnTo>
                    <a:pt x="2254" y="7881"/>
                  </a:lnTo>
                  <a:lnTo>
                    <a:pt x="2175" y="7830"/>
                  </a:lnTo>
                  <a:lnTo>
                    <a:pt x="2094" y="7779"/>
                  </a:lnTo>
                  <a:lnTo>
                    <a:pt x="2018" y="7725"/>
                  </a:lnTo>
                  <a:lnTo>
                    <a:pt x="1941" y="7670"/>
                  </a:lnTo>
                  <a:lnTo>
                    <a:pt x="1866" y="7612"/>
                  </a:lnTo>
                  <a:lnTo>
                    <a:pt x="1791" y="7551"/>
                  </a:lnTo>
                  <a:lnTo>
                    <a:pt x="1719" y="7490"/>
                  </a:lnTo>
                  <a:lnTo>
                    <a:pt x="1719" y="7490"/>
                  </a:lnTo>
                  <a:lnTo>
                    <a:pt x="1648" y="7426"/>
                  </a:lnTo>
                  <a:lnTo>
                    <a:pt x="1577" y="7359"/>
                  </a:lnTo>
                  <a:lnTo>
                    <a:pt x="1508" y="7292"/>
                  </a:lnTo>
                  <a:lnTo>
                    <a:pt x="1444" y="7222"/>
                  </a:lnTo>
                  <a:lnTo>
                    <a:pt x="1379" y="7149"/>
                  </a:lnTo>
                  <a:lnTo>
                    <a:pt x="1316" y="7074"/>
                  </a:lnTo>
                  <a:lnTo>
                    <a:pt x="1256" y="6997"/>
                  </a:lnTo>
                  <a:lnTo>
                    <a:pt x="1197" y="6918"/>
                  </a:lnTo>
                  <a:lnTo>
                    <a:pt x="1140" y="6838"/>
                  </a:lnTo>
                  <a:lnTo>
                    <a:pt x="1086" y="6757"/>
                  </a:lnTo>
                  <a:lnTo>
                    <a:pt x="1035" y="6672"/>
                  </a:lnTo>
                  <a:lnTo>
                    <a:pt x="987" y="6585"/>
                  </a:lnTo>
                  <a:lnTo>
                    <a:pt x="940" y="6496"/>
                  </a:lnTo>
                  <a:lnTo>
                    <a:pt x="896" y="6407"/>
                  </a:lnTo>
                  <a:lnTo>
                    <a:pt x="855" y="6316"/>
                  </a:lnTo>
                  <a:lnTo>
                    <a:pt x="817" y="6221"/>
                  </a:lnTo>
                  <a:lnTo>
                    <a:pt x="817" y="6221"/>
                  </a:lnTo>
                  <a:lnTo>
                    <a:pt x="799" y="6185"/>
                  </a:lnTo>
                  <a:lnTo>
                    <a:pt x="777" y="6140"/>
                  </a:lnTo>
                  <a:lnTo>
                    <a:pt x="722" y="6033"/>
                  </a:lnTo>
                  <a:lnTo>
                    <a:pt x="665" y="5922"/>
                  </a:lnTo>
                  <a:lnTo>
                    <a:pt x="641" y="5871"/>
                  </a:lnTo>
                  <a:lnTo>
                    <a:pt x="623" y="5829"/>
                  </a:lnTo>
                  <a:lnTo>
                    <a:pt x="623" y="5829"/>
                  </a:lnTo>
                  <a:lnTo>
                    <a:pt x="599" y="5758"/>
                  </a:lnTo>
                  <a:lnTo>
                    <a:pt x="579" y="5688"/>
                  </a:lnTo>
                  <a:lnTo>
                    <a:pt x="558" y="5617"/>
                  </a:lnTo>
                  <a:lnTo>
                    <a:pt x="540" y="5544"/>
                  </a:lnTo>
                  <a:lnTo>
                    <a:pt x="522" y="5473"/>
                  </a:lnTo>
                  <a:lnTo>
                    <a:pt x="508" y="5400"/>
                  </a:lnTo>
                  <a:lnTo>
                    <a:pt x="494" y="5328"/>
                  </a:lnTo>
                  <a:lnTo>
                    <a:pt x="482" y="5255"/>
                  </a:lnTo>
                  <a:lnTo>
                    <a:pt x="471" y="5182"/>
                  </a:lnTo>
                  <a:lnTo>
                    <a:pt x="461" y="5109"/>
                  </a:lnTo>
                  <a:lnTo>
                    <a:pt x="453" y="5037"/>
                  </a:lnTo>
                  <a:lnTo>
                    <a:pt x="447" y="4962"/>
                  </a:lnTo>
                  <a:lnTo>
                    <a:pt x="441" y="4889"/>
                  </a:lnTo>
                  <a:lnTo>
                    <a:pt x="439" y="4814"/>
                  </a:lnTo>
                  <a:lnTo>
                    <a:pt x="437" y="4742"/>
                  </a:lnTo>
                  <a:lnTo>
                    <a:pt x="435" y="4667"/>
                  </a:lnTo>
                  <a:lnTo>
                    <a:pt x="435" y="4592"/>
                  </a:lnTo>
                  <a:lnTo>
                    <a:pt x="437" y="4519"/>
                  </a:lnTo>
                  <a:lnTo>
                    <a:pt x="441" y="4444"/>
                  </a:lnTo>
                  <a:lnTo>
                    <a:pt x="445" y="4370"/>
                  </a:lnTo>
                  <a:lnTo>
                    <a:pt x="455" y="4222"/>
                  </a:lnTo>
                  <a:lnTo>
                    <a:pt x="473" y="4075"/>
                  </a:lnTo>
                  <a:lnTo>
                    <a:pt x="494" y="3927"/>
                  </a:lnTo>
                  <a:lnTo>
                    <a:pt x="518" y="3779"/>
                  </a:lnTo>
                  <a:lnTo>
                    <a:pt x="548" y="3634"/>
                  </a:lnTo>
                  <a:lnTo>
                    <a:pt x="581" y="3488"/>
                  </a:lnTo>
                  <a:lnTo>
                    <a:pt x="581" y="3488"/>
                  </a:lnTo>
                  <a:lnTo>
                    <a:pt x="605" y="3397"/>
                  </a:lnTo>
                  <a:lnTo>
                    <a:pt x="631" y="3311"/>
                  </a:lnTo>
                  <a:lnTo>
                    <a:pt x="661" y="3222"/>
                  </a:lnTo>
                  <a:lnTo>
                    <a:pt x="694" y="3135"/>
                  </a:lnTo>
                  <a:lnTo>
                    <a:pt x="730" y="3048"/>
                  </a:lnTo>
                  <a:lnTo>
                    <a:pt x="769" y="2963"/>
                  </a:lnTo>
                  <a:lnTo>
                    <a:pt x="809" y="2878"/>
                  </a:lnTo>
                  <a:lnTo>
                    <a:pt x="851" y="2795"/>
                  </a:lnTo>
                  <a:lnTo>
                    <a:pt x="896" y="2712"/>
                  </a:lnTo>
                  <a:lnTo>
                    <a:pt x="942" y="2631"/>
                  </a:lnTo>
                  <a:lnTo>
                    <a:pt x="989" y="2551"/>
                  </a:lnTo>
                  <a:lnTo>
                    <a:pt x="1037" y="2472"/>
                  </a:lnTo>
                  <a:lnTo>
                    <a:pt x="1088" y="2393"/>
                  </a:lnTo>
                  <a:lnTo>
                    <a:pt x="1138" y="2316"/>
                  </a:lnTo>
                  <a:lnTo>
                    <a:pt x="1242" y="2164"/>
                  </a:lnTo>
                  <a:lnTo>
                    <a:pt x="1242" y="2164"/>
                  </a:lnTo>
                  <a:lnTo>
                    <a:pt x="1304" y="2076"/>
                  </a:lnTo>
                  <a:lnTo>
                    <a:pt x="1369" y="1989"/>
                  </a:lnTo>
                  <a:lnTo>
                    <a:pt x="1436" y="1902"/>
                  </a:lnTo>
                  <a:lnTo>
                    <a:pt x="1506" y="1819"/>
                  </a:lnTo>
                  <a:lnTo>
                    <a:pt x="1579" y="1738"/>
                  </a:lnTo>
                  <a:lnTo>
                    <a:pt x="1656" y="1661"/>
                  </a:lnTo>
                  <a:lnTo>
                    <a:pt x="1733" y="1584"/>
                  </a:lnTo>
                  <a:lnTo>
                    <a:pt x="1814" y="1510"/>
                  </a:lnTo>
                  <a:lnTo>
                    <a:pt x="1894" y="1439"/>
                  </a:lnTo>
                  <a:lnTo>
                    <a:pt x="1979" y="1370"/>
                  </a:lnTo>
                  <a:lnTo>
                    <a:pt x="2066" y="1303"/>
                  </a:lnTo>
                  <a:lnTo>
                    <a:pt x="2155" y="1239"/>
                  </a:lnTo>
                  <a:lnTo>
                    <a:pt x="2246" y="1178"/>
                  </a:lnTo>
                  <a:lnTo>
                    <a:pt x="2337" y="1119"/>
                  </a:lnTo>
                  <a:lnTo>
                    <a:pt x="2432" y="1063"/>
                  </a:lnTo>
                  <a:lnTo>
                    <a:pt x="2527" y="1008"/>
                  </a:lnTo>
                  <a:lnTo>
                    <a:pt x="2624" y="958"/>
                  </a:lnTo>
                  <a:lnTo>
                    <a:pt x="2723" y="909"/>
                  </a:lnTo>
                  <a:lnTo>
                    <a:pt x="2822" y="863"/>
                  </a:lnTo>
                  <a:lnTo>
                    <a:pt x="2925" y="820"/>
                  </a:lnTo>
                  <a:lnTo>
                    <a:pt x="3026" y="782"/>
                  </a:lnTo>
                  <a:lnTo>
                    <a:pt x="3131" y="744"/>
                  </a:lnTo>
                  <a:lnTo>
                    <a:pt x="3234" y="709"/>
                  </a:lnTo>
                  <a:lnTo>
                    <a:pt x="3342" y="679"/>
                  </a:lnTo>
                  <a:lnTo>
                    <a:pt x="3447" y="651"/>
                  </a:lnTo>
                  <a:lnTo>
                    <a:pt x="3556" y="626"/>
                  </a:lnTo>
                  <a:lnTo>
                    <a:pt x="3663" y="604"/>
                  </a:lnTo>
                  <a:lnTo>
                    <a:pt x="3772" y="584"/>
                  </a:lnTo>
                  <a:lnTo>
                    <a:pt x="3881" y="568"/>
                  </a:lnTo>
                  <a:lnTo>
                    <a:pt x="3990" y="556"/>
                  </a:lnTo>
                  <a:lnTo>
                    <a:pt x="4102" y="545"/>
                  </a:lnTo>
                  <a:lnTo>
                    <a:pt x="4211" y="539"/>
                  </a:lnTo>
                  <a:lnTo>
                    <a:pt x="4211" y="539"/>
                  </a:lnTo>
                  <a:lnTo>
                    <a:pt x="4209" y="531"/>
                  </a:lnTo>
                  <a:lnTo>
                    <a:pt x="4209" y="525"/>
                  </a:lnTo>
                  <a:lnTo>
                    <a:pt x="4215" y="519"/>
                  </a:lnTo>
                  <a:lnTo>
                    <a:pt x="4223" y="513"/>
                  </a:lnTo>
                  <a:lnTo>
                    <a:pt x="4237" y="509"/>
                  </a:lnTo>
                  <a:lnTo>
                    <a:pt x="4251" y="503"/>
                  </a:lnTo>
                  <a:lnTo>
                    <a:pt x="4290" y="497"/>
                  </a:lnTo>
                  <a:lnTo>
                    <a:pt x="4338" y="491"/>
                  </a:lnTo>
                  <a:lnTo>
                    <a:pt x="4391" y="487"/>
                  </a:lnTo>
                  <a:lnTo>
                    <a:pt x="4449" y="485"/>
                  </a:lnTo>
                  <a:lnTo>
                    <a:pt x="4506" y="483"/>
                  </a:lnTo>
                  <a:lnTo>
                    <a:pt x="4506" y="483"/>
                  </a:lnTo>
                  <a:lnTo>
                    <a:pt x="4560" y="485"/>
                  </a:lnTo>
                  <a:lnTo>
                    <a:pt x="4611" y="485"/>
                  </a:lnTo>
                  <a:lnTo>
                    <a:pt x="4655" y="489"/>
                  </a:lnTo>
                  <a:lnTo>
                    <a:pt x="4692" y="493"/>
                  </a:lnTo>
                  <a:lnTo>
                    <a:pt x="4692" y="493"/>
                  </a:lnTo>
                  <a:lnTo>
                    <a:pt x="4807" y="499"/>
                  </a:lnTo>
                  <a:lnTo>
                    <a:pt x="4922" y="509"/>
                  </a:lnTo>
                  <a:lnTo>
                    <a:pt x="5035" y="521"/>
                  </a:lnTo>
                  <a:lnTo>
                    <a:pt x="5149" y="539"/>
                  </a:lnTo>
                  <a:lnTo>
                    <a:pt x="5260" y="558"/>
                  </a:lnTo>
                  <a:lnTo>
                    <a:pt x="5371" y="582"/>
                  </a:lnTo>
                  <a:lnTo>
                    <a:pt x="5482" y="608"/>
                  </a:lnTo>
                  <a:lnTo>
                    <a:pt x="5591" y="636"/>
                  </a:lnTo>
                  <a:lnTo>
                    <a:pt x="5698" y="669"/>
                  </a:lnTo>
                  <a:lnTo>
                    <a:pt x="5806" y="705"/>
                  </a:lnTo>
                  <a:lnTo>
                    <a:pt x="5911" y="744"/>
                  </a:lnTo>
                  <a:lnTo>
                    <a:pt x="6014" y="784"/>
                  </a:lnTo>
                  <a:lnTo>
                    <a:pt x="6117" y="828"/>
                  </a:lnTo>
                  <a:lnTo>
                    <a:pt x="6218" y="875"/>
                  </a:lnTo>
                  <a:lnTo>
                    <a:pt x="6315" y="925"/>
                  </a:lnTo>
                  <a:lnTo>
                    <a:pt x="6412" y="976"/>
                  </a:lnTo>
                  <a:lnTo>
                    <a:pt x="6412" y="976"/>
                  </a:lnTo>
                  <a:lnTo>
                    <a:pt x="6507" y="1031"/>
                  </a:lnTo>
                  <a:lnTo>
                    <a:pt x="6600" y="1087"/>
                  </a:lnTo>
                  <a:lnTo>
                    <a:pt x="6691" y="1148"/>
                  </a:lnTo>
                  <a:lnTo>
                    <a:pt x="6778" y="1208"/>
                  </a:lnTo>
                  <a:lnTo>
                    <a:pt x="6865" y="1271"/>
                  </a:lnTo>
                  <a:lnTo>
                    <a:pt x="6948" y="1338"/>
                  </a:lnTo>
                  <a:lnTo>
                    <a:pt x="7030" y="1404"/>
                  </a:lnTo>
                  <a:lnTo>
                    <a:pt x="7109" y="1473"/>
                  </a:lnTo>
                  <a:lnTo>
                    <a:pt x="7186" y="1544"/>
                  </a:lnTo>
                  <a:lnTo>
                    <a:pt x="7261" y="1617"/>
                  </a:lnTo>
                  <a:lnTo>
                    <a:pt x="7334" y="1692"/>
                  </a:lnTo>
                  <a:lnTo>
                    <a:pt x="7402" y="1766"/>
                  </a:lnTo>
                  <a:lnTo>
                    <a:pt x="7471" y="1845"/>
                  </a:lnTo>
                  <a:lnTo>
                    <a:pt x="7534" y="1922"/>
                  </a:lnTo>
                  <a:lnTo>
                    <a:pt x="7596" y="2003"/>
                  </a:lnTo>
                  <a:lnTo>
                    <a:pt x="7657" y="2082"/>
                  </a:lnTo>
                  <a:lnTo>
                    <a:pt x="7657" y="2082"/>
                  </a:lnTo>
                  <a:lnTo>
                    <a:pt x="7716" y="2160"/>
                  </a:lnTo>
                  <a:lnTo>
                    <a:pt x="7772" y="2241"/>
                  </a:lnTo>
                  <a:lnTo>
                    <a:pt x="7827" y="2322"/>
                  </a:lnTo>
                  <a:lnTo>
                    <a:pt x="7879" y="2405"/>
                  </a:lnTo>
                  <a:lnTo>
                    <a:pt x="7930" y="2488"/>
                  </a:lnTo>
                  <a:lnTo>
                    <a:pt x="7976" y="2571"/>
                  </a:lnTo>
                  <a:lnTo>
                    <a:pt x="8023" y="2658"/>
                  </a:lnTo>
                  <a:lnTo>
                    <a:pt x="8067" y="2745"/>
                  </a:lnTo>
                  <a:lnTo>
                    <a:pt x="8108" y="2831"/>
                  </a:lnTo>
                  <a:lnTo>
                    <a:pt x="8148" y="2920"/>
                  </a:lnTo>
                  <a:lnTo>
                    <a:pt x="8185" y="3011"/>
                  </a:lnTo>
                  <a:lnTo>
                    <a:pt x="8219" y="3102"/>
                  </a:lnTo>
                  <a:lnTo>
                    <a:pt x="8251" y="3195"/>
                  </a:lnTo>
                  <a:lnTo>
                    <a:pt x="8282" y="3290"/>
                  </a:lnTo>
                  <a:lnTo>
                    <a:pt x="8310" y="3385"/>
                  </a:lnTo>
                  <a:lnTo>
                    <a:pt x="8336" y="3482"/>
                  </a:lnTo>
                  <a:lnTo>
                    <a:pt x="8336" y="3482"/>
                  </a:lnTo>
                  <a:lnTo>
                    <a:pt x="8360" y="3581"/>
                  </a:lnTo>
                  <a:lnTo>
                    <a:pt x="8381" y="3680"/>
                  </a:lnTo>
                  <a:lnTo>
                    <a:pt x="8399" y="3779"/>
                  </a:lnTo>
                  <a:lnTo>
                    <a:pt x="8413" y="3876"/>
                  </a:lnTo>
                  <a:lnTo>
                    <a:pt x="8425" y="3973"/>
                  </a:lnTo>
                  <a:lnTo>
                    <a:pt x="8435" y="4071"/>
                  </a:lnTo>
                  <a:lnTo>
                    <a:pt x="8441" y="4168"/>
                  </a:lnTo>
                  <a:lnTo>
                    <a:pt x="8445" y="4263"/>
                  </a:lnTo>
                  <a:lnTo>
                    <a:pt x="8447" y="4358"/>
                  </a:lnTo>
                  <a:lnTo>
                    <a:pt x="8445" y="4453"/>
                  </a:lnTo>
                  <a:lnTo>
                    <a:pt x="8443" y="4548"/>
                  </a:lnTo>
                  <a:lnTo>
                    <a:pt x="8437" y="4641"/>
                  </a:lnTo>
                  <a:lnTo>
                    <a:pt x="8429" y="4733"/>
                  </a:lnTo>
                  <a:lnTo>
                    <a:pt x="8419" y="4826"/>
                  </a:lnTo>
                  <a:lnTo>
                    <a:pt x="8409" y="4917"/>
                  </a:lnTo>
                  <a:lnTo>
                    <a:pt x="8395" y="5008"/>
                  </a:lnTo>
                  <a:lnTo>
                    <a:pt x="8395" y="5008"/>
                  </a:lnTo>
                  <a:lnTo>
                    <a:pt x="8379" y="5099"/>
                  </a:lnTo>
                  <a:lnTo>
                    <a:pt x="8360" y="5190"/>
                  </a:lnTo>
                  <a:lnTo>
                    <a:pt x="8340" y="5279"/>
                  </a:lnTo>
                  <a:lnTo>
                    <a:pt x="8318" y="5368"/>
                  </a:lnTo>
                  <a:lnTo>
                    <a:pt x="8294" y="5457"/>
                  </a:lnTo>
                  <a:lnTo>
                    <a:pt x="8267" y="5546"/>
                  </a:lnTo>
                  <a:lnTo>
                    <a:pt x="8241" y="5633"/>
                  </a:lnTo>
                  <a:lnTo>
                    <a:pt x="8211" y="5720"/>
                  </a:lnTo>
                  <a:lnTo>
                    <a:pt x="8181" y="5807"/>
                  </a:lnTo>
                  <a:lnTo>
                    <a:pt x="8146" y="5892"/>
                  </a:lnTo>
                  <a:lnTo>
                    <a:pt x="8112" y="5979"/>
                  </a:lnTo>
                  <a:lnTo>
                    <a:pt x="8075" y="6063"/>
                  </a:lnTo>
                  <a:lnTo>
                    <a:pt x="8035" y="6148"/>
                  </a:lnTo>
                  <a:lnTo>
                    <a:pt x="7995" y="6231"/>
                  </a:lnTo>
                  <a:lnTo>
                    <a:pt x="7952" y="6316"/>
                  </a:lnTo>
                  <a:lnTo>
                    <a:pt x="7910" y="6399"/>
                  </a:lnTo>
                  <a:lnTo>
                    <a:pt x="7910" y="6399"/>
                  </a:lnTo>
                  <a:lnTo>
                    <a:pt x="7849" y="6506"/>
                  </a:lnTo>
                  <a:lnTo>
                    <a:pt x="7786" y="6611"/>
                  </a:lnTo>
                  <a:lnTo>
                    <a:pt x="7722" y="6712"/>
                  </a:lnTo>
                  <a:lnTo>
                    <a:pt x="7651" y="6813"/>
                  </a:lnTo>
                  <a:lnTo>
                    <a:pt x="7578" y="6910"/>
                  </a:lnTo>
                  <a:lnTo>
                    <a:pt x="7501" y="7005"/>
                  </a:lnTo>
                  <a:lnTo>
                    <a:pt x="7423" y="7098"/>
                  </a:lnTo>
                  <a:lnTo>
                    <a:pt x="7338" y="7189"/>
                  </a:lnTo>
                  <a:lnTo>
                    <a:pt x="7251" y="7276"/>
                  </a:lnTo>
                  <a:lnTo>
                    <a:pt x="7162" y="7363"/>
                  </a:lnTo>
                  <a:lnTo>
                    <a:pt x="7067" y="7444"/>
                  </a:lnTo>
                  <a:lnTo>
                    <a:pt x="6970" y="7525"/>
                  </a:lnTo>
                  <a:lnTo>
                    <a:pt x="6867" y="7600"/>
                  </a:lnTo>
                  <a:lnTo>
                    <a:pt x="6762" y="7674"/>
                  </a:lnTo>
                  <a:lnTo>
                    <a:pt x="6654" y="7745"/>
                  </a:lnTo>
                  <a:lnTo>
                    <a:pt x="6541" y="7812"/>
                  </a:lnTo>
                  <a:lnTo>
                    <a:pt x="6541" y="7812"/>
                  </a:lnTo>
                  <a:lnTo>
                    <a:pt x="6390" y="7899"/>
                  </a:lnTo>
                  <a:lnTo>
                    <a:pt x="6317" y="7941"/>
                  </a:lnTo>
                  <a:lnTo>
                    <a:pt x="6252" y="7982"/>
                  </a:lnTo>
                  <a:lnTo>
                    <a:pt x="6200" y="8016"/>
                  </a:lnTo>
                  <a:lnTo>
                    <a:pt x="6163" y="8042"/>
                  </a:lnTo>
                  <a:lnTo>
                    <a:pt x="6151" y="8052"/>
                  </a:lnTo>
                  <a:lnTo>
                    <a:pt x="6145" y="8060"/>
                  </a:lnTo>
                  <a:lnTo>
                    <a:pt x="6145" y="8062"/>
                  </a:lnTo>
                  <a:lnTo>
                    <a:pt x="6145" y="8064"/>
                  </a:lnTo>
                  <a:lnTo>
                    <a:pt x="6151" y="8067"/>
                  </a:lnTo>
                  <a:lnTo>
                    <a:pt x="6151" y="8067"/>
                  </a:lnTo>
                  <a:lnTo>
                    <a:pt x="6165" y="8064"/>
                  </a:lnTo>
                  <a:lnTo>
                    <a:pt x="6188" y="8058"/>
                  </a:lnTo>
                  <a:lnTo>
                    <a:pt x="6188" y="8058"/>
                  </a:lnTo>
                  <a:lnTo>
                    <a:pt x="6277" y="8026"/>
                  </a:lnTo>
                  <a:lnTo>
                    <a:pt x="6365" y="7992"/>
                  </a:lnTo>
                  <a:lnTo>
                    <a:pt x="6456" y="7953"/>
                  </a:lnTo>
                  <a:lnTo>
                    <a:pt x="6545" y="7911"/>
                  </a:lnTo>
                  <a:lnTo>
                    <a:pt x="6545" y="7911"/>
                  </a:lnTo>
                  <a:lnTo>
                    <a:pt x="6661" y="7844"/>
                  </a:lnTo>
                  <a:lnTo>
                    <a:pt x="6776" y="7775"/>
                  </a:lnTo>
                  <a:lnTo>
                    <a:pt x="6889" y="7701"/>
                  </a:lnTo>
                  <a:lnTo>
                    <a:pt x="7000" y="7622"/>
                  </a:lnTo>
                  <a:lnTo>
                    <a:pt x="7111" y="7539"/>
                  </a:lnTo>
                  <a:lnTo>
                    <a:pt x="7218" y="7452"/>
                  </a:lnTo>
                  <a:lnTo>
                    <a:pt x="7273" y="7406"/>
                  </a:lnTo>
                  <a:lnTo>
                    <a:pt x="7326" y="7359"/>
                  </a:lnTo>
                  <a:lnTo>
                    <a:pt x="7376" y="7313"/>
                  </a:lnTo>
                  <a:lnTo>
                    <a:pt x="7427" y="7264"/>
                  </a:lnTo>
                  <a:lnTo>
                    <a:pt x="7477" y="7216"/>
                  </a:lnTo>
                  <a:lnTo>
                    <a:pt x="7528" y="7165"/>
                  </a:lnTo>
                  <a:lnTo>
                    <a:pt x="7576" y="7114"/>
                  </a:lnTo>
                  <a:lnTo>
                    <a:pt x="7623" y="7062"/>
                  </a:lnTo>
                  <a:lnTo>
                    <a:pt x="7669" y="7009"/>
                  </a:lnTo>
                  <a:lnTo>
                    <a:pt x="7714" y="6955"/>
                  </a:lnTo>
                  <a:lnTo>
                    <a:pt x="7758" y="6900"/>
                  </a:lnTo>
                  <a:lnTo>
                    <a:pt x="7803" y="6844"/>
                  </a:lnTo>
                  <a:lnTo>
                    <a:pt x="7843" y="6787"/>
                  </a:lnTo>
                  <a:lnTo>
                    <a:pt x="7883" y="6730"/>
                  </a:lnTo>
                  <a:lnTo>
                    <a:pt x="7924" y="6672"/>
                  </a:lnTo>
                  <a:lnTo>
                    <a:pt x="7962" y="6611"/>
                  </a:lnTo>
                  <a:lnTo>
                    <a:pt x="7999" y="6551"/>
                  </a:lnTo>
                  <a:lnTo>
                    <a:pt x="8033" y="6490"/>
                  </a:lnTo>
                  <a:lnTo>
                    <a:pt x="8067" y="6427"/>
                  </a:lnTo>
                  <a:lnTo>
                    <a:pt x="8100" y="6365"/>
                  </a:lnTo>
                  <a:lnTo>
                    <a:pt x="8100" y="6365"/>
                  </a:lnTo>
                  <a:lnTo>
                    <a:pt x="8148" y="6276"/>
                  </a:lnTo>
                  <a:lnTo>
                    <a:pt x="8193" y="6183"/>
                  </a:lnTo>
                  <a:lnTo>
                    <a:pt x="8237" y="6086"/>
                  </a:lnTo>
                  <a:lnTo>
                    <a:pt x="8276" y="5987"/>
                  </a:lnTo>
                  <a:lnTo>
                    <a:pt x="8314" y="5884"/>
                  </a:lnTo>
                  <a:lnTo>
                    <a:pt x="8346" y="5778"/>
                  </a:lnTo>
                  <a:lnTo>
                    <a:pt x="8377" y="5673"/>
                  </a:lnTo>
                  <a:lnTo>
                    <a:pt x="8405" y="5566"/>
                  </a:lnTo>
                  <a:lnTo>
                    <a:pt x="8405" y="5566"/>
                  </a:lnTo>
                  <a:lnTo>
                    <a:pt x="8419" y="5516"/>
                  </a:lnTo>
                  <a:lnTo>
                    <a:pt x="8435" y="5457"/>
                  </a:lnTo>
                  <a:lnTo>
                    <a:pt x="8468" y="5322"/>
                  </a:lnTo>
                  <a:lnTo>
                    <a:pt x="8486" y="5255"/>
                  </a:lnTo>
                  <a:lnTo>
                    <a:pt x="8502" y="5190"/>
                  </a:lnTo>
                  <a:lnTo>
                    <a:pt x="8520" y="5136"/>
                  </a:lnTo>
                  <a:lnTo>
                    <a:pt x="8528" y="5113"/>
                  </a:lnTo>
                  <a:lnTo>
                    <a:pt x="8536" y="5093"/>
                  </a:lnTo>
                  <a:lnTo>
                    <a:pt x="8536" y="5093"/>
                  </a:lnTo>
                  <a:lnTo>
                    <a:pt x="8524" y="5176"/>
                  </a:lnTo>
                  <a:lnTo>
                    <a:pt x="8510" y="5259"/>
                  </a:lnTo>
                  <a:lnTo>
                    <a:pt x="8494" y="5340"/>
                  </a:lnTo>
                  <a:lnTo>
                    <a:pt x="8476" y="5423"/>
                  </a:lnTo>
                  <a:lnTo>
                    <a:pt x="8455" y="5504"/>
                  </a:lnTo>
                  <a:lnTo>
                    <a:pt x="8435" y="5584"/>
                  </a:lnTo>
                  <a:lnTo>
                    <a:pt x="8411" y="5665"/>
                  </a:lnTo>
                  <a:lnTo>
                    <a:pt x="8387" y="5746"/>
                  </a:lnTo>
                  <a:lnTo>
                    <a:pt x="8360" y="5825"/>
                  </a:lnTo>
                  <a:lnTo>
                    <a:pt x="8332" y="5904"/>
                  </a:lnTo>
                  <a:lnTo>
                    <a:pt x="8304" y="5983"/>
                  </a:lnTo>
                  <a:lnTo>
                    <a:pt x="8274" y="6059"/>
                  </a:lnTo>
                  <a:lnTo>
                    <a:pt x="8241" y="6136"/>
                  </a:lnTo>
                  <a:lnTo>
                    <a:pt x="8207" y="6213"/>
                  </a:lnTo>
                  <a:lnTo>
                    <a:pt x="8170" y="6290"/>
                  </a:lnTo>
                  <a:lnTo>
                    <a:pt x="8134" y="6365"/>
                  </a:lnTo>
                  <a:lnTo>
                    <a:pt x="8096" y="6437"/>
                  </a:lnTo>
                  <a:lnTo>
                    <a:pt x="8055" y="6510"/>
                  </a:lnTo>
                  <a:lnTo>
                    <a:pt x="8013" y="6583"/>
                  </a:lnTo>
                  <a:lnTo>
                    <a:pt x="7970" y="6656"/>
                  </a:lnTo>
                  <a:lnTo>
                    <a:pt x="7926" y="6724"/>
                  </a:lnTo>
                  <a:lnTo>
                    <a:pt x="7881" y="6795"/>
                  </a:lnTo>
                  <a:lnTo>
                    <a:pt x="7833" y="6864"/>
                  </a:lnTo>
                  <a:lnTo>
                    <a:pt x="7784" y="6931"/>
                  </a:lnTo>
                  <a:lnTo>
                    <a:pt x="7736" y="6997"/>
                  </a:lnTo>
                  <a:lnTo>
                    <a:pt x="7683" y="7062"/>
                  </a:lnTo>
                  <a:lnTo>
                    <a:pt x="7631" y="7127"/>
                  </a:lnTo>
                  <a:lnTo>
                    <a:pt x="7576" y="7191"/>
                  </a:lnTo>
                  <a:lnTo>
                    <a:pt x="7522" y="7252"/>
                  </a:lnTo>
                  <a:lnTo>
                    <a:pt x="7465" y="7313"/>
                  </a:lnTo>
                  <a:lnTo>
                    <a:pt x="7406" y="7373"/>
                  </a:lnTo>
                  <a:lnTo>
                    <a:pt x="7348" y="7430"/>
                  </a:lnTo>
                  <a:lnTo>
                    <a:pt x="7348" y="7430"/>
                  </a:lnTo>
                  <a:lnTo>
                    <a:pt x="7378" y="7412"/>
                  </a:lnTo>
                  <a:lnTo>
                    <a:pt x="7410" y="7391"/>
                  </a:lnTo>
                  <a:lnTo>
                    <a:pt x="7425" y="7379"/>
                  </a:lnTo>
                  <a:lnTo>
                    <a:pt x="7441" y="7367"/>
                  </a:lnTo>
                  <a:lnTo>
                    <a:pt x="7457" y="7351"/>
                  </a:lnTo>
                  <a:lnTo>
                    <a:pt x="7473" y="7331"/>
                  </a:lnTo>
                  <a:lnTo>
                    <a:pt x="7473" y="7331"/>
                  </a:lnTo>
                  <a:lnTo>
                    <a:pt x="7469" y="7375"/>
                  </a:lnTo>
                  <a:lnTo>
                    <a:pt x="7469" y="7375"/>
                  </a:lnTo>
                  <a:lnTo>
                    <a:pt x="7469" y="7375"/>
                  </a:lnTo>
                  <a:lnTo>
                    <a:pt x="7509" y="7335"/>
                  </a:lnTo>
                  <a:lnTo>
                    <a:pt x="7552" y="7294"/>
                  </a:lnTo>
                  <a:lnTo>
                    <a:pt x="7598" y="7246"/>
                  </a:lnTo>
                  <a:lnTo>
                    <a:pt x="7598" y="7246"/>
                  </a:lnTo>
                  <a:lnTo>
                    <a:pt x="7586" y="7266"/>
                  </a:lnTo>
                  <a:lnTo>
                    <a:pt x="7570" y="7288"/>
                  </a:lnTo>
                  <a:lnTo>
                    <a:pt x="7550" y="7315"/>
                  </a:lnTo>
                  <a:lnTo>
                    <a:pt x="7526" y="7341"/>
                  </a:lnTo>
                  <a:lnTo>
                    <a:pt x="7475" y="7395"/>
                  </a:lnTo>
                  <a:lnTo>
                    <a:pt x="7421" y="7450"/>
                  </a:lnTo>
                  <a:lnTo>
                    <a:pt x="7326" y="7543"/>
                  </a:lnTo>
                  <a:lnTo>
                    <a:pt x="7299" y="7571"/>
                  </a:lnTo>
                  <a:lnTo>
                    <a:pt x="7291" y="7577"/>
                  </a:lnTo>
                  <a:lnTo>
                    <a:pt x="7291" y="7579"/>
                  </a:lnTo>
                  <a:lnTo>
                    <a:pt x="7291" y="7581"/>
                  </a:lnTo>
                  <a:lnTo>
                    <a:pt x="7291" y="7581"/>
                  </a:lnTo>
                  <a:lnTo>
                    <a:pt x="7301" y="7575"/>
                  </a:lnTo>
                  <a:lnTo>
                    <a:pt x="7322" y="7561"/>
                  </a:lnTo>
                  <a:lnTo>
                    <a:pt x="7322" y="7561"/>
                  </a:lnTo>
                  <a:lnTo>
                    <a:pt x="7382" y="7513"/>
                  </a:lnTo>
                  <a:lnTo>
                    <a:pt x="7439" y="7464"/>
                  </a:lnTo>
                  <a:lnTo>
                    <a:pt x="7497" y="7414"/>
                  </a:lnTo>
                  <a:lnTo>
                    <a:pt x="7554" y="7361"/>
                  </a:lnTo>
                  <a:lnTo>
                    <a:pt x="7609" y="7309"/>
                  </a:lnTo>
                  <a:lnTo>
                    <a:pt x="7661" y="7252"/>
                  </a:lnTo>
                  <a:lnTo>
                    <a:pt x="7714" y="7195"/>
                  </a:lnTo>
                  <a:lnTo>
                    <a:pt x="7764" y="7137"/>
                  </a:lnTo>
                  <a:lnTo>
                    <a:pt x="7815" y="7078"/>
                  </a:lnTo>
                  <a:lnTo>
                    <a:pt x="7863" y="7017"/>
                  </a:lnTo>
                  <a:lnTo>
                    <a:pt x="7910" y="6955"/>
                  </a:lnTo>
                  <a:lnTo>
                    <a:pt x="7956" y="6892"/>
                  </a:lnTo>
                  <a:lnTo>
                    <a:pt x="8001" y="6827"/>
                  </a:lnTo>
                  <a:lnTo>
                    <a:pt x="8043" y="6763"/>
                  </a:lnTo>
                  <a:lnTo>
                    <a:pt x="8086" y="6696"/>
                  </a:lnTo>
                  <a:lnTo>
                    <a:pt x="8126" y="6629"/>
                  </a:lnTo>
                  <a:lnTo>
                    <a:pt x="8126" y="6629"/>
                  </a:lnTo>
                  <a:lnTo>
                    <a:pt x="8185" y="6540"/>
                  </a:lnTo>
                  <a:lnTo>
                    <a:pt x="8243" y="6450"/>
                  </a:lnTo>
                  <a:lnTo>
                    <a:pt x="8243" y="6450"/>
                  </a:lnTo>
                  <a:lnTo>
                    <a:pt x="8183" y="6526"/>
                  </a:lnTo>
                  <a:lnTo>
                    <a:pt x="8183" y="6526"/>
                  </a:lnTo>
                  <a:lnTo>
                    <a:pt x="8233" y="6427"/>
                  </a:lnTo>
                  <a:lnTo>
                    <a:pt x="8284" y="6324"/>
                  </a:lnTo>
                  <a:lnTo>
                    <a:pt x="8284" y="6324"/>
                  </a:lnTo>
                  <a:lnTo>
                    <a:pt x="8338" y="6221"/>
                  </a:lnTo>
                  <a:lnTo>
                    <a:pt x="8391" y="6116"/>
                  </a:lnTo>
                  <a:lnTo>
                    <a:pt x="8391" y="6116"/>
                  </a:lnTo>
                  <a:lnTo>
                    <a:pt x="8381" y="6130"/>
                  </a:lnTo>
                  <a:lnTo>
                    <a:pt x="8381" y="6130"/>
                  </a:lnTo>
                  <a:lnTo>
                    <a:pt x="8419" y="6055"/>
                  </a:lnTo>
                  <a:lnTo>
                    <a:pt x="8419" y="6055"/>
                  </a:lnTo>
                  <a:lnTo>
                    <a:pt x="8472" y="5930"/>
                  </a:lnTo>
                  <a:lnTo>
                    <a:pt x="8522" y="5805"/>
                  </a:lnTo>
                  <a:lnTo>
                    <a:pt x="8569" y="5677"/>
                  </a:lnTo>
                  <a:lnTo>
                    <a:pt x="8611" y="5548"/>
                  </a:lnTo>
                  <a:lnTo>
                    <a:pt x="8647" y="5417"/>
                  </a:lnTo>
                  <a:lnTo>
                    <a:pt x="8682" y="5283"/>
                  </a:lnTo>
                  <a:lnTo>
                    <a:pt x="8710" y="5150"/>
                  </a:lnTo>
                  <a:lnTo>
                    <a:pt x="8736" y="5014"/>
                  </a:lnTo>
                  <a:lnTo>
                    <a:pt x="8757" y="4879"/>
                  </a:lnTo>
                  <a:lnTo>
                    <a:pt x="8773" y="4742"/>
                  </a:lnTo>
                  <a:lnTo>
                    <a:pt x="8783" y="4604"/>
                  </a:lnTo>
                  <a:lnTo>
                    <a:pt x="8791" y="4465"/>
                  </a:lnTo>
                  <a:lnTo>
                    <a:pt x="8793" y="4327"/>
                  </a:lnTo>
                  <a:lnTo>
                    <a:pt x="8791" y="4188"/>
                  </a:lnTo>
                  <a:lnTo>
                    <a:pt x="8783" y="4048"/>
                  </a:lnTo>
                  <a:lnTo>
                    <a:pt x="8773" y="3909"/>
                  </a:lnTo>
                  <a:lnTo>
                    <a:pt x="8773" y="3909"/>
                  </a:lnTo>
                  <a:lnTo>
                    <a:pt x="8763" y="3830"/>
                  </a:lnTo>
                  <a:lnTo>
                    <a:pt x="8753" y="3751"/>
                  </a:lnTo>
                  <a:lnTo>
                    <a:pt x="8742" y="3672"/>
                  </a:lnTo>
                  <a:lnTo>
                    <a:pt x="8728" y="3593"/>
                  </a:lnTo>
                  <a:lnTo>
                    <a:pt x="8714" y="3515"/>
                  </a:lnTo>
                  <a:lnTo>
                    <a:pt x="8698" y="3436"/>
                  </a:lnTo>
                  <a:lnTo>
                    <a:pt x="8680" y="3359"/>
                  </a:lnTo>
                  <a:lnTo>
                    <a:pt x="8662" y="3280"/>
                  </a:lnTo>
                  <a:lnTo>
                    <a:pt x="8639" y="3203"/>
                  </a:lnTo>
                  <a:lnTo>
                    <a:pt x="8617" y="3127"/>
                  </a:lnTo>
                  <a:lnTo>
                    <a:pt x="8595" y="3050"/>
                  </a:lnTo>
                  <a:lnTo>
                    <a:pt x="8569" y="2973"/>
                  </a:lnTo>
                  <a:lnTo>
                    <a:pt x="8542" y="2896"/>
                  </a:lnTo>
                  <a:lnTo>
                    <a:pt x="8514" y="2821"/>
                  </a:lnTo>
                  <a:lnTo>
                    <a:pt x="8486" y="2745"/>
                  </a:lnTo>
                  <a:lnTo>
                    <a:pt x="8455" y="2670"/>
                  </a:lnTo>
                  <a:lnTo>
                    <a:pt x="8423" y="2597"/>
                  </a:lnTo>
                  <a:lnTo>
                    <a:pt x="8389" y="2522"/>
                  </a:lnTo>
                  <a:lnTo>
                    <a:pt x="8354" y="2449"/>
                  </a:lnTo>
                  <a:lnTo>
                    <a:pt x="8318" y="2377"/>
                  </a:lnTo>
                  <a:lnTo>
                    <a:pt x="8280" y="2304"/>
                  </a:lnTo>
                  <a:lnTo>
                    <a:pt x="8241" y="2233"/>
                  </a:lnTo>
                  <a:lnTo>
                    <a:pt x="8201" y="2162"/>
                  </a:lnTo>
                  <a:lnTo>
                    <a:pt x="8158" y="2094"/>
                  </a:lnTo>
                  <a:lnTo>
                    <a:pt x="8116" y="2023"/>
                  </a:lnTo>
                  <a:lnTo>
                    <a:pt x="8069" y="1956"/>
                  </a:lnTo>
                  <a:lnTo>
                    <a:pt x="8025" y="1888"/>
                  </a:lnTo>
                  <a:lnTo>
                    <a:pt x="7976" y="1821"/>
                  </a:lnTo>
                  <a:lnTo>
                    <a:pt x="7928" y="1754"/>
                  </a:lnTo>
                  <a:lnTo>
                    <a:pt x="7879" y="1689"/>
                  </a:lnTo>
                  <a:lnTo>
                    <a:pt x="7827" y="1627"/>
                  </a:lnTo>
                  <a:lnTo>
                    <a:pt x="7774" y="1562"/>
                  </a:lnTo>
                  <a:lnTo>
                    <a:pt x="7774" y="1562"/>
                  </a:lnTo>
                  <a:lnTo>
                    <a:pt x="7722" y="1499"/>
                  </a:lnTo>
                  <a:lnTo>
                    <a:pt x="7667" y="1439"/>
                  </a:lnTo>
                  <a:lnTo>
                    <a:pt x="7611" y="1378"/>
                  </a:lnTo>
                  <a:lnTo>
                    <a:pt x="7554" y="1320"/>
                  </a:lnTo>
                  <a:lnTo>
                    <a:pt x="7495" y="1261"/>
                  </a:lnTo>
                  <a:lnTo>
                    <a:pt x="7435" y="1204"/>
                  </a:lnTo>
                  <a:lnTo>
                    <a:pt x="7374" y="1148"/>
                  </a:lnTo>
                  <a:lnTo>
                    <a:pt x="7313" y="1093"/>
                  </a:lnTo>
                  <a:lnTo>
                    <a:pt x="7249" y="1039"/>
                  </a:lnTo>
                  <a:lnTo>
                    <a:pt x="7186" y="986"/>
                  </a:lnTo>
                  <a:lnTo>
                    <a:pt x="7121" y="936"/>
                  </a:lnTo>
                  <a:lnTo>
                    <a:pt x="7055" y="885"/>
                  </a:lnTo>
                  <a:lnTo>
                    <a:pt x="6988" y="837"/>
                  </a:lnTo>
                  <a:lnTo>
                    <a:pt x="6919" y="788"/>
                  </a:lnTo>
                  <a:lnTo>
                    <a:pt x="6851" y="742"/>
                  </a:lnTo>
                  <a:lnTo>
                    <a:pt x="6780" y="695"/>
                  </a:lnTo>
                  <a:lnTo>
                    <a:pt x="6709" y="653"/>
                  </a:lnTo>
                  <a:lnTo>
                    <a:pt x="6638" y="608"/>
                  </a:lnTo>
                  <a:lnTo>
                    <a:pt x="6566" y="568"/>
                  </a:lnTo>
                  <a:lnTo>
                    <a:pt x="6493" y="527"/>
                  </a:lnTo>
                  <a:lnTo>
                    <a:pt x="6418" y="489"/>
                  </a:lnTo>
                  <a:lnTo>
                    <a:pt x="6343" y="450"/>
                  </a:lnTo>
                  <a:lnTo>
                    <a:pt x="6268" y="416"/>
                  </a:lnTo>
                  <a:lnTo>
                    <a:pt x="6192" y="382"/>
                  </a:lnTo>
                  <a:lnTo>
                    <a:pt x="6115" y="347"/>
                  </a:lnTo>
                  <a:lnTo>
                    <a:pt x="6036" y="315"/>
                  </a:lnTo>
                  <a:lnTo>
                    <a:pt x="5959" y="285"/>
                  </a:lnTo>
                  <a:lnTo>
                    <a:pt x="5878" y="256"/>
                  </a:lnTo>
                  <a:lnTo>
                    <a:pt x="5799" y="230"/>
                  </a:lnTo>
                  <a:lnTo>
                    <a:pt x="5719" y="204"/>
                  </a:lnTo>
                  <a:lnTo>
                    <a:pt x="5640" y="180"/>
                  </a:lnTo>
                  <a:lnTo>
                    <a:pt x="5557" y="155"/>
                  </a:lnTo>
                  <a:lnTo>
                    <a:pt x="5557" y="155"/>
                  </a:lnTo>
                  <a:lnTo>
                    <a:pt x="5486" y="137"/>
                  </a:lnTo>
                  <a:lnTo>
                    <a:pt x="5415" y="119"/>
                  </a:lnTo>
                  <a:lnTo>
                    <a:pt x="5343" y="103"/>
                  </a:lnTo>
                  <a:lnTo>
                    <a:pt x="5270" y="89"/>
                  </a:lnTo>
                  <a:lnTo>
                    <a:pt x="5197" y="75"/>
                  </a:lnTo>
                  <a:lnTo>
                    <a:pt x="5124" y="60"/>
                  </a:lnTo>
                  <a:lnTo>
                    <a:pt x="5052" y="50"/>
                  </a:lnTo>
                  <a:lnTo>
                    <a:pt x="4979" y="40"/>
                  </a:lnTo>
                  <a:lnTo>
                    <a:pt x="4904" y="30"/>
                  </a:lnTo>
                  <a:lnTo>
                    <a:pt x="4831" y="22"/>
                  </a:lnTo>
                  <a:lnTo>
                    <a:pt x="4757" y="16"/>
                  </a:lnTo>
                  <a:lnTo>
                    <a:pt x="4684" y="10"/>
                  </a:lnTo>
                  <a:lnTo>
                    <a:pt x="4609" y="6"/>
                  </a:lnTo>
                  <a:lnTo>
                    <a:pt x="4534" y="2"/>
                  </a:lnTo>
                  <a:lnTo>
                    <a:pt x="4459" y="0"/>
                  </a:lnTo>
                  <a:lnTo>
                    <a:pt x="438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-1569960" y="18861120"/>
              <a:ext cx="2755800" cy="8242200"/>
            </a:xfrm>
            <a:custGeom>
              <a:avLst/>
              <a:gdLst>
                <a:gd name="textAreaLeft" fmla="*/ 0 w 2755800"/>
                <a:gd name="textAreaRight" fmla="*/ 2756160 w 2755800"/>
                <a:gd name="textAreaTop" fmla="*/ 0 h 8242200"/>
                <a:gd name="textAreaBottom" fmla="*/ 8242560 h 8242200"/>
              </a:gdLst>
              <a:ahLst/>
              <a:rect l="textAreaLeft" t="textAreaTop" r="textAreaRight" b="textAreaBottom"/>
              <a:pathLst>
                <a:path w="1736" h="5192">
                  <a:moveTo>
                    <a:pt x="305" y="0"/>
                  </a:moveTo>
                  <a:lnTo>
                    <a:pt x="305" y="0"/>
                  </a:lnTo>
                  <a:lnTo>
                    <a:pt x="275" y="71"/>
                  </a:lnTo>
                  <a:lnTo>
                    <a:pt x="246" y="143"/>
                  </a:lnTo>
                  <a:lnTo>
                    <a:pt x="220" y="214"/>
                  </a:lnTo>
                  <a:lnTo>
                    <a:pt x="196" y="283"/>
                  </a:lnTo>
                  <a:lnTo>
                    <a:pt x="173" y="352"/>
                  </a:lnTo>
                  <a:lnTo>
                    <a:pt x="153" y="418"/>
                  </a:lnTo>
                  <a:lnTo>
                    <a:pt x="137" y="481"/>
                  </a:lnTo>
                  <a:lnTo>
                    <a:pt x="125" y="539"/>
                  </a:lnTo>
                  <a:lnTo>
                    <a:pt x="125" y="539"/>
                  </a:lnTo>
                  <a:lnTo>
                    <a:pt x="93" y="685"/>
                  </a:lnTo>
                  <a:lnTo>
                    <a:pt x="66" y="831"/>
                  </a:lnTo>
                  <a:lnTo>
                    <a:pt x="44" y="976"/>
                  </a:lnTo>
                  <a:lnTo>
                    <a:pt x="26" y="1124"/>
                  </a:lnTo>
                  <a:lnTo>
                    <a:pt x="14" y="1273"/>
                  </a:lnTo>
                  <a:lnTo>
                    <a:pt x="4" y="1421"/>
                  </a:lnTo>
                  <a:lnTo>
                    <a:pt x="0" y="1570"/>
                  </a:lnTo>
                  <a:lnTo>
                    <a:pt x="0" y="1720"/>
                  </a:lnTo>
                  <a:lnTo>
                    <a:pt x="4" y="1869"/>
                  </a:lnTo>
                  <a:lnTo>
                    <a:pt x="14" y="2019"/>
                  </a:lnTo>
                  <a:lnTo>
                    <a:pt x="28" y="2167"/>
                  </a:lnTo>
                  <a:lnTo>
                    <a:pt x="36" y="2241"/>
                  </a:lnTo>
                  <a:lnTo>
                    <a:pt x="46" y="2314"/>
                  </a:lnTo>
                  <a:lnTo>
                    <a:pt x="58" y="2389"/>
                  </a:lnTo>
                  <a:lnTo>
                    <a:pt x="70" y="2462"/>
                  </a:lnTo>
                  <a:lnTo>
                    <a:pt x="85" y="2534"/>
                  </a:lnTo>
                  <a:lnTo>
                    <a:pt x="99" y="2607"/>
                  </a:lnTo>
                  <a:lnTo>
                    <a:pt x="115" y="2680"/>
                  </a:lnTo>
                  <a:lnTo>
                    <a:pt x="133" y="2753"/>
                  </a:lnTo>
                  <a:lnTo>
                    <a:pt x="151" y="2826"/>
                  </a:lnTo>
                  <a:lnTo>
                    <a:pt x="171" y="2896"/>
                  </a:lnTo>
                  <a:lnTo>
                    <a:pt x="171" y="2896"/>
                  </a:lnTo>
                  <a:lnTo>
                    <a:pt x="192" y="2967"/>
                  </a:lnTo>
                  <a:lnTo>
                    <a:pt x="214" y="3038"/>
                  </a:lnTo>
                  <a:lnTo>
                    <a:pt x="236" y="3108"/>
                  </a:lnTo>
                  <a:lnTo>
                    <a:pt x="260" y="3177"/>
                  </a:lnTo>
                  <a:lnTo>
                    <a:pt x="287" y="3246"/>
                  </a:lnTo>
                  <a:lnTo>
                    <a:pt x="313" y="3315"/>
                  </a:lnTo>
                  <a:lnTo>
                    <a:pt x="339" y="3383"/>
                  </a:lnTo>
                  <a:lnTo>
                    <a:pt x="370" y="3450"/>
                  </a:lnTo>
                  <a:lnTo>
                    <a:pt x="398" y="3517"/>
                  </a:lnTo>
                  <a:lnTo>
                    <a:pt x="430" y="3581"/>
                  </a:lnTo>
                  <a:lnTo>
                    <a:pt x="461" y="3648"/>
                  </a:lnTo>
                  <a:lnTo>
                    <a:pt x="495" y="3713"/>
                  </a:lnTo>
                  <a:lnTo>
                    <a:pt x="527" y="3775"/>
                  </a:lnTo>
                  <a:lnTo>
                    <a:pt x="564" y="3838"/>
                  </a:lnTo>
                  <a:lnTo>
                    <a:pt x="598" y="3901"/>
                  </a:lnTo>
                  <a:lnTo>
                    <a:pt x="634" y="3961"/>
                  </a:lnTo>
                  <a:lnTo>
                    <a:pt x="673" y="4022"/>
                  </a:lnTo>
                  <a:lnTo>
                    <a:pt x="711" y="4083"/>
                  </a:lnTo>
                  <a:lnTo>
                    <a:pt x="752" y="4141"/>
                  </a:lnTo>
                  <a:lnTo>
                    <a:pt x="792" y="4200"/>
                  </a:lnTo>
                  <a:lnTo>
                    <a:pt x="832" y="4257"/>
                  </a:lnTo>
                  <a:lnTo>
                    <a:pt x="875" y="4313"/>
                  </a:lnTo>
                  <a:lnTo>
                    <a:pt x="917" y="4368"/>
                  </a:lnTo>
                  <a:lnTo>
                    <a:pt x="962" y="4422"/>
                  </a:lnTo>
                  <a:lnTo>
                    <a:pt x="1006" y="4475"/>
                  </a:lnTo>
                  <a:lnTo>
                    <a:pt x="1051" y="4527"/>
                  </a:lnTo>
                  <a:lnTo>
                    <a:pt x="1097" y="4578"/>
                  </a:lnTo>
                  <a:lnTo>
                    <a:pt x="1144" y="4628"/>
                  </a:lnTo>
                  <a:lnTo>
                    <a:pt x="1190" y="4677"/>
                  </a:lnTo>
                  <a:lnTo>
                    <a:pt x="1239" y="4725"/>
                  </a:lnTo>
                  <a:lnTo>
                    <a:pt x="1287" y="4772"/>
                  </a:lnTo>
                  <a:lnTo>
                    <a:pt x="1336" y="4818"/>
                  </a:lnTo>
                  <a:lnTo>
                    <a:pt x="1336" y="4818"/>
                  </a:lnTo>
                  <a:lnTo>
                    <a:pt x="1433" y="4915"/>
                  </a:lnTo>
                  <a:lnTo>
                    <a:pt x="1530" y="5010"/>
                  </a:lnTo>
                  <a:lnTo>
                    <a:pt x="1631" y="5103"/>
                  </a:lnTo>
                  <a:lnTo>
                    <a:pt x="1736" y="5192"/>
                  </a:lnTo>
                  <a:lnTo>
                    <a:pt x="1736" y="5192"/>
                  </a:lnTo>
                  <a:lnTo>
                    <a:pt x="1617" y="5077"/>
                  </a:lnTo>
                  <a:lnTo>
                    <a:pt x="1499" y="4960"/>
                  </a:lnTo>
                  <a:lnTo>
                    <a:pt x="1384" y="4845"/>
                  </a:lnTo>
                  <a:lnTo>
                    <a:pt x="1279" y="4734"/>
                  </a:lnTo>
                  <a:lnTo>
                    <a:pt x="1279" y="4734"/>
                  </a:lnTo>
                  <a:lnTo>
                    <a:pt x="1257" y="4707"/>
                  </a:lnTo>
                  <a:lnTo>
                    <a:pt x="1243" y="4685"/>
                  </a:lnTo>
                  <a:lnTo>
                    <a:pt x="1243" y="4685"/>
                  </a:lnTo>
                  <a:lnTo>
                    <a:pt x="1190" y="4635"/>
                  </a:lnTo>
                  <a:lnTo>
                    <a:pt x="1156" y="4598"/>
                  </a:lnTo>
                  <a:lnTo>
                    <a:pt x="1156" y="4598"/>
                  </a:lnTo>
                  <a:lnTo>
                    <a:pt x="1043" y="4440"/>
                  </a:lnTo>
                  <a:lnTo>
                    <a:pt x="984" y="4356"/>
                  </a:lnTo>
                  <a:lnTo>
                    <a:pt x="923" y="4267"/>
                  </a:lnTo>
                  <a:lnTo>
                    <a:pt x="863" y="4172"/>
                  </a:lnTo>
                  <a:lnTo>
                    <a:pt x="802" y="4075"/>
                  </a:lnTo>
                  <a:lnTo>
                    <a:pt x="741" y="3974"/>
                  </a:lnTo>
                  <a:lnTo>
                    <a:pt x="681" y="3868"/>
                  </a:lnTo>
                  <a:lnTo>
                    <a:pt x="620" y="3761"/>
                  </a:lnTo>
                  <a:lnTo>
                    <a:pt x="562" y="3648"/>
                  </a:lnTo>
                  <a:lnTo>
                    <a:pt x="505" y="3533"/>
                  </a:lnTo>
                  <a:lnTo>
                    <a:pt x="450" y="3414"/>
                  </a:lnTo>
                  <a:lnTo>
                    <a:pt x="396" y="3292"/>
                  </a:lnTo>
                  <a:lnTo>
                    <a:pt x="345" y="3167"/>
                  </a:lnTo>
                  <a:lnTo>
                    <a:pt x="299" y="3038"/>
                  </a:lnTo>
                  <a:lnTo>
                    <a:pt x="254" y="2906"/>
                  </a:lnTo>
                  <a:lnTo>
                    <a:pt x="254" y="2906"/>
                  </a:lnTo>
                  <a:lnTo>
                    <a:pt x="222" y="2805"/>
                  </a:lnTo>
                  <a:lnTo>
                    <a:pt x="194" y="2704"/>
                  </a:lnTo>
                  <a:lnTo>
                    <a:pt x="167" y="2603"/>
                  </a:lnTo>
                  <a:lnTo>
                    <a:pt x="143" y="2500"/>
                  </a:lnTo>
                  <a:lnTo>
                    <a:pt x="121" y="2399"/>
                  </a:lnTo>
                  <a:lnTo>
                    <a:pt x="101" y="2294"/>
                  </a:lnTo>
                  <a:lnTo>
                    <a:pt x="85" y="2191"/>
                  </a:lnTo>
                  <a:lnTo>
                    <a:pt x="70" y="2086"/>
                  </a:lnTo>
                  <a:lnTo>
                    <a:pt x="70" y="2086"/>
                  </a:lnTo>
                  <a:lnTo>
                    <a:pt x="60" y="2001"/>
                  </a:lnTo>
                  <a:lnTo>
                    <a:pt x="52" y="1916"/>
                  </a:lnTo>
                  <a:lnTo>
                    <a:pt x="46" y="1831"/>
                  </a:lnTo>
                  <a:lnTo>
                    <a:pt x="40" y="1746"/>
                  </a:lnTo>
                  <a:lnTo>
                    <a:pt x="38" y="1661"/>
                  </a:lnTo>
                  <a:lnTo>
                    <a:pt x="36" y="1576"/>
                  </a:lnTo>
                  <a:lnTo>
                    <a:pt x="34" y="1491"/>
                  </a:lnTo>
                  <a:lnTo>
                    <a:pt x="36" y="1409"/>
                  </a:lnTo>
                  <a:lnTo>
                    <a:pt x="38" y="1324"/>
                  </a:lnTo>
                  <a:lnTo>
                    <a:pt x="44" y="1241"/>
                  </a:lnTo>
                  <a:lnTo>
                    <a:pt x="50" y="1158"/>
                  </a:lnTo>
                  <a:lnTo>
                    <a:pt x="56" y="1075"/>
                  </a:lnTo>
                  <a:lnTo>
                    <a:pt x="66" y="994"/>
                  </a:lnTo>
                  <a:lnTo>
                    <a:pt x="76" y="913"/>
                  </a:lnTo>
                  <a:lnTo>
                    <a:pt x="89" y="835"/>
                  </a:lnTo>
                  <a:lnTo>
                    <a:pt x="103" y="756"/>
                  </a:lnTo>
                  <a:lnTo>
                    <a:pt x="103" y="756"/>
                  </a:lnTo>
                  <a:lnTo>
                    <a:pt x="121" y="659"/>
                  </a:lnTo>
                  <a:lnTo>
                    <a:pt x="141" y="564"/>
                  </a:lnTo>
                  <a:lnTo>
                    <a:pt x="163" y="469"/>
                  </a:lnTo>
                  <a:lnTo>
                    <a:pt x="188" y="374"/>
                  </a:lnTo>
                  <a:lnTo>
                    <a:pt x="214" y="279"/>
                  </a:lnTo>
                  <a:lnTo>
                    <a:pt x="242" y="186"/>
                  </a:lnTo>
                  <a:lnTo>
                    <a:pt x="273" y="93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8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-1569960" y="18861120"/>
              <a:ext cx="2755800" cy="8242200"/>
            </a:xfrm>
            <a:custGeom>
              <a:avLst/>
              <a:gdLst>
                <a:gd name="textAreaLeft" fmla="*/ 0 w 2755800"/>
                <a:gd name="textAreaRight" fmla="*/ 2756160 w 2755800"/>
                <a:gd name="textAreaTop" fmla="*/ 0 h 8242200"/>
                <a:gd name="textAreaBottom" fmla="*/ 8242560 h 8242200"/>
              </a:gdLst>
              <a:ahLst/>
              <a:rect l="textAreaLeft" t="textAreaTop" r="textAreaRight" b="textAreaBottom"/>
              <a:pathLst>
                <a:path w="1736" h="5192">
                  <a:moveTo>
                    <a:pt x="305" y="0"/>
                  </a:moveTo>
                  <a:lnTo>
                    <a:pt x="305" y="0"/>
                  </a:lnTo>
                  <a:lnTo>
                    <a:pt x="275" y="71"/>
                  </a:lnTo>
                  <a:lnTo>
                    <a:pt x="246" y="143"/>
                  </a:lnTo>
                  <a:lnTo>
                    <a:pt x="220" y="214"/>
                  </a:lnTo>
                  <a:lnTo>
                    <a:pt x="196" y="283"/>
                  </a:lnTo>
                  <a:lnTo>
                    <a:pt x="173" y="352"/>
                  </a:lnTo>
                  <a:lnTo>
                    <a:pt x="153" y="418"/>
                  </a:lnTo>
                  <a:lnTo>
                    <a:pt x="137" y="481"/>
                  </a:lnTo>
                  <a:lnTo>
                    <a:pt x="125" y="539"/>
                  </a:lnTo>
                  <a:lnTo>
                    <a:pt x="125" y="539"/>
                  </a:lnTo>
                  <a:lnTo>
                    <a:pt x="93" y="685"/>
                  </a:lnTo>
                  <a:lnTo>
                    <a:pt x="66" y="831"/>
                  </a:lnTo>
                  <a:lnTo>
                    <a:pt x="44" y="976"/>
                  </a:lnTo>
                  <a:lnTo>
                    <a:pt x="26" y="1124"/>
                  </a:lnTo>
                  <a:lnTo>
                    <a:pt x="14" y="1273"/>
                  </a:lnTo>
                  <a:lnTo>
                    <a:pt x="4" y="1421"/>
                  </a:lnTo>
                  <a:lnTo>
                    <a:pt x="0" y="1570"/>
                  </a:lnTo>
                  <a:lnTo>
                    <a:pt x="0" y="1720"/>
                  </a:lnTo>
                  <a:lnTo>
                    <a:pt x="4" y="1869"/>
                  </a:lnTo>
                  <a:lnTo>
                    <a:pt x="14" y="2019"/>
                  </a:lnTo>
                  <a:lnTo>
                    <a:pt x="28" y="2167"/>
                  </a:lnTo>
                  <a:lnTo>
                    <a:pt x="36" y="2241"/>
                  </a:lnTo>
                  <a:lnTo>
                    <a:pt x="46" y="2314"/>
                  </a:lnTo>
                  <a:lnTo>
                    <a:pt x="58" y="2389"/>
                  </a:lnTo>
                  <a:lnTo>
                    <a:pt x="70" y="2462"/>
                  </a:lnTo>
                  <a:lnTo>
                    <a:pt x="85" y="2534"/>
                  </a:lnTo>
                  <a:lnTo>
                    <a:pt x="99" y="2607"/>
                  </a:lnTo>
                  <a:lnTo>
                    <a:pt x="115" y="2680"/>
                  </a:lnTo>
                  <a:lnTo>
                    <a:pt x="133" y="2753"/>
                  </a:lnTo>
                  <a:lnTo>
                    <a:pt x="151" y="2826"/>
                  </a:lnTo>
                  <a:lnTo>
                    <a:pt x="171" y="2896"/>
                  </a:lnTo>
                  <a:lnTo>
                    <a:pt x="171" y="2896"/>
                  </a:lnTo>
                  <a:lnTo>
                    <a:pt x="192" y="2967"/>
                  </a:lnTo>
                  <a:lnTo>
                    <a:pt x="214" y="3038"/>
                  </a:lnTo>
                  <a:lnTo>
                    <a:pt x="236" y="3108"/>
                  </a:lnTo>
                  <a:lnTo>
                    <a:pt x="260" y="3177"/>
                  </a:lnTo>
                  <a:lnTo>
                    <a:pt x="287" y="3246"/>
                  </a:lnTo>
                  <a:lnTo>
                    <a:pt x="313" y="3315"/>
                  </a:lnTo>
                  <a:lnTo>
                    <a:pt x="339" y="3383"/>
                  </a:lnTo>
                  <a:lnTo>
                    <a:pt x="370" y="3450"/>
                  </a:lnTo>
                  <a:lnTo>
                    <a:pt x="398" y="3517"/>
                  </a:lnTo>
                  <a:lnTo>
                    <a:pt x="430" y="3581"/>
                  </a:lnTo>
                  <a:lnTo>
                    <a:pt x="461" y="3648"/>
                  </a:lnTo>
                  <a:lnTo>
                    <a:pt x="495" y="3713"/>
                  </a:lnTo>
                  <a:lnTo>
                    <a:pt x="527" y="3775"/>
                  </a:lnTo>
                  <a:lnTo>
                    <a:pt x="564" y="3838"/>
                  </a:lnTo>
                  <a:lnTo>
                    <a:pt x="598" y="3901"/>
                  </a:lnTo>
                  <a:lnTo>
                    <a:pt x="634" y="3961"/>
                  </a:lnTo>
                  <a:lnTo>
                    <a:pt x="673" y="4022"/>
                  </a:lnTo>
                  <a:lnTo>
                    <a:pt x="711" y="4083"/>
                  </a:lnTo>
                  <a:lnTo>
                    <a:pt x="752" y="4141"/>
                  </a:lnTo>
                  <a:lnTo>
                    <a:pt x="792" y="4200"/>
                  </a:lnTo>
                  <a:lnTo>
                    <a:pt x="832" y="4257"/>
                  </a:lnTo>
                  <a:lnTo>
                    <a:pt x="875" y="4313"/>
                  </a:lnTo>
                  <a:lnTo>
                    <a:pt x="917" y="4368"/>
                  </a:lnTo>
                  <a:lnTo>
                    <a:pt x="962" y="4422"/>
                  </a:lnTo>
                  <a:lnTo>
                    <a:pt x="1006" y="4475"/>
                  </a:lnTo>
                  <a:lnTo>
                    <a:pt x="1051" y="4527"/>
                  </a:lnTo>
                  <a:lnTo>
                    <a:pt x="1097" y="4578"/>
                  </a:lnTo>
                  <a:lnTo>
                    <a:pt x="1144" y="4628"/>
                  </a:lnTo>
                  <a:lnTo>
                    <a:pt x="1190" y="4677"/>
                  </a:lnTo>
                  <a:lnTo>
                    <a:pt x="1239" y="4725"/>
                  </a:lnTo>
                  <a:lnTo>
                    <a:pt x="1287" y="4772"/>
                  </a:lnTo>
                  <a:lnTo>
                    <a:pt x="1336" y="4818"/>
                  </a:lnTo>
                  <a:lnTo>
                    <a:pt x="1336" y="4818"/>
                  </a:lnTo>
                  <a:lnTo>
                    <a:pt x="1433" y="4915"/>
                  </a:lnTo>
                  <a:lnTo>
                    <a:pt x="1530" y="5010"/>
                  </a:lnTo>
                  <a:lnTo>
                    <a:pt x="1631" y="5103"/>
                  </a:lnTo>
                  <a:lnTo>
                    <a:pt x="1736" y="5192"/>
                  </a:lnTo>
                  <a:lnTo>
                    <a:pt x="1736" y="5192"/>
                  </a:lnTo>
                  <a:lnTo>
                    <a:pt x="1617" y="5077"/>
                  </a:lnTo>
                  <a:lnTo>
                    <a:pt x="1499" y="4960"/>
                  </a:lnTo>
                  <a:lnTo>
                    <a:pt x="1384" y="4845"/>
                  </a:lnTo>
                  <a:lnTo>
                    <a:pt x="1279" y="4734"/>
                  </a:lnTo>
                  <a:lnTo>
                    <a:pt x="1279" y="4734"/>
                  </a:lnTo>
                  <a:lnTo>
                    <a:pt x="1257" y="4707"/>
                  </a:lnTo>
                  <a:lnTo>
                    <a:pt x="1243" y="4685"/>
                  </a:lnTo>
                  <a:lnTo>
                    <a:pt x="1243" y="4685"/>
                  </a:lnTo>
                  <a:lnTo>
                    <a:pt x="1190" y="4635"/>
                  </a:lnTo>
                  <a:lnTo>
                    <a:pt x="1156" y="4598"/>
                  </a:lnTo>
                  <a:lnTo>
                    <a:pt x="1156" y="4598"/>
                  </a:lnTo>
                  <a:lnTo>
                    <a:pt x="1043" y="4440"/>
                  </a:lnTo>
                  <a:lnTo>
                    <a:pt x="984" y="4356"/>
                  </a:lnTo>
                  <a:lnTo>
                    <a:pt x="923" y="4267"/>
                  </a:lnTo>
                  <a:lnTo>
                    <a:pt x="863" y="4172"/>
                  </a:lnTo>
                  <a:lnTo>
                    <a:pt x="802" y="4075"/>
                  </a:lnTo>
                  <a:lnTo>
                    <a:pt x="741" y="3974"/>
                  </a:lnTo>
                  <a:lnTo>
                    <a:pt x="681" y="3868"/>
                  </a:lnTo>
                  <a:lnTo>
                    <a:pt x="620" y="3761"/>
                  </a:lnTo>
                  <a:lnTo>
                    <a:pt x="562" y="3648"/>
                  </a:lnTo>
                  <a:lnTo>
                    <a:pt x="505" y="3533"/>
                  </a:lnTo>
                  <a:lnTo>
                    <a:pt x="450" y="3414"/>
                  </a:lnTo>
                  <a:lnTo>
                    <a:pt x="396" y="3292"/>
                  </a:lnTo>
                  <a:lnTo>
                    <a:pt x="345" y="3167"/>
                  </a:lnTo>
                  <a:lnTo>
                    <a:pt x="299" y="3038"/>
                  </a:lnTo>
                  <a:lnTo>
                    <a:pt x="254" y="2906"/>
                  </a:lnTo>
                  <a:lnTo>
                    <a:pt x="254" y="2906"/>
                  </a:lnTo>
                  <a:lnTo>
                    <a:pt x="222" y="2805"/>
                  </a:lnTo>
                  <a:lnTo>
                    <a:pt x="194" y="2704"/>
                  </a:lnTo>
                  <a:lnTo>
                    <a:pt x="167" y="2603"/>
                  </a:lnTo>
                  <a:lnTo>
                    <a:pt x="143" y="2500"/>
                  </a:lnTo>
                  <a:lnTo>
                    <a:pt x="121" y="2399"/>
                  </a:lnTo>
                  <a:lnTo>
                    <a:pt x="101" y="2294"/>
                  </a:lnTo>
                  <a:lnTo>
                    <a:pt x="85" y="2191"/>
                  </a:lnTo>
                  <a:lnTo>
                    <a:pt x="70" y="2086"/>
                  </a:lnTo>
                  <a:lnTo>
                    <a:pt x="70" y="2086"/>
                  </a:lnTo>
                  <a:lnTo>
                    <a:pt x="60" y="2001"/>
                  </a:lnTo>
                  <a:lnTo>
                    <a:pt x="52" y="1916"/>
                  </a:lnTo>
                  <a:lnTo>
                    <a:pt x="46" y="1831"/>
                  </a:lnTo>
                  <a:lnTo>
                    <a:pt x="40" y="1746"/>
                  </a:lnTo>
                  <a:lnTo>
                    <a:pt x="38" y="1661"/>
                  </a:lnTo>
                  <a:lnTo>
                    <a:pt x="36" y="1576"/>
                  </a:lnTo>
                  <a:lnTo>
                    <a:pt x="34" y="1491"/>
                  </a:lnTo>
                  <a:lnTo>
                    <a:pt x="36" y="1409"/>
                  </a:lnTo>
                  <a:lnTo>
                    <a:pt x="38" y="1324"/>
                  </a:lnTo>
                  <a:lnTo>
                    <a:pt x="44" y="1241"/>
                  </a:lnTo>
                  <a:lnTo>
                    <a:pt x="50" y="1158"/>
                  </a:lnTo>
                  <a:lnTo>
                    <a:pt x="56" y="1075"/>
                  </a:lnTo>
                  <a:lnTo>
                    <a:pt x="66" y="994"/>
                  </a:lnTo>
                  <a:lnTo>
                    <a:pt x="76" y="913"/>
                  </a:lnTo>
                  <a:lnTo>
                    <a:pt x="89" y="835"/>
                  </a:lnTo>
                  <a:lnTo>
                    <a:pt x="103" y="756"/>
                  </a:lnTo>
                  <a:lnTo>
                    <a:pt x="103" y="756"/>
                  </a:lnTo>
                  <a:lnTo>
                    <a:pt x="121" y="659"/>
                  </a:lnTo>
                  <a:lnTo>
                    <a:pt x="141" y="564"/>
                  </a:lnTo>
                  <a:lnTo>
                    <a:pt x="163" y="469"/>
                  </a:lnTo>
                  <a:lnTo>
                    <a:pt x="188" y="374"/>
                  </a:lnTo>
                  <a:lnTo>
                    <a:pt x="214" y="279"/>
                  </a:lnTo>
                  <a:lnTo>
                    <a:pt x="242" y="186"/>
                  </a:lnTo>
                  <a:lnTo>
                    <a:pt x="273" y="93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874440" y="15921000"/>
              <a:ext cx="10758600" cy="12068280"/>
            </a:xfrm>
            <a:custGeom>
              <a:avLst/>
              <a:gdLst>
                <a:gd name="textAreaLeft" fmla="*/ 0 w 10758600"/>
                <a:gd name="textAreaRight" fmla="*/ 10758960 w 10758600"/>
                <a:gd name="textAreaTop" fmla="*/ 0 h 12068280"/>
                <a:gd name="textAreaBottom" fmla="*/ 12068640 h 12068280"/>
              </a:gdLst>
              <a:ahLst/>
              <a:rect l="textAreaLeft" t="textAreaTop" r="textAreaRight" b="textAreaBottom"/>
              <a:pathLst>
                <a:path w="6777" h="7602">
                  <a:moveTo>
                    <a:pt x="3980" y="7602"/>
                  </a:moveTo>
                  <a:lnTo>
                    <a:pt x="3980" y="7602"/>
                  </a:lnTo>
                  <a:lnTo>
                    <a:pt x="3980" y="7602"/>
                  </a:lnTo>
                  <a:close/>
                  <a:moveTo>
                    <a:pt x="6777" y="5440"/>
                  </a:moveTo>
                  <a:lnTo>
                    <a:pt x="6777" y="5440"/>
                  </a:lnTo>
                  <a:lnTo>
                    <a:pt x="6777" y="5440"/>
                  </a:lnTo>
                  <a:close/>
                  <a:moveTo>
                    <a:pt x="463" y="0"/>
                  </a:moveTo>
                  <a:lnTo>
                    <a:pt x="463" y="0"/>
                  </a:lnTo>
                  <a:lnTo>
                    <a:pt x="463" y="0"/>
                  </a:lnTo>
                  <a:lnTo>
                    <a:pt x="370" y="69"/>
                  </a:lnTo>
                  <a:lnTo>
                    <a:pt x="291" y="134"/>
                  </a:lnTo>
                  <a:lnTo>
                    <a:pt x="220" y="190"/>
                  </a:lnTo>
                  <a:lnTo>
                    <a:pt x="162" y="241"/>
                  </a:lnTo>
                  <a:lnTo>
                    <a:pt x="73" y="320"/>
                  </a:lnTo>
                  <a:lnTo>
                    <a:pt x="20" y="370"/>
                  </a:lnTo>
                  <a:lnTo>
                    <a:pt x="20" y="370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28" y="364"/>
                  </a:lnTo>
                  <a:lnTo>
                    <a:pt x="115" y="285"/>
                  </a:lnTo>
                  <a:lnTo>
                    <a:pt x="115" y="285"/>
                  </a:lnTo>
                  <a:lnTo>
                    <a:pt x="192" y="219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374" y="69"/>
                  </a:lnTo>
                  <a:lnTo>
                    <a:pt x="463" y="0"/>
                  </a:lnTo>
                  <a:close/>
                </a:path>
              </a:pathLst>
            </a:custGeom>
            <a:solidFill>
              <a:srgbClr val="fd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7192800" y="27989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1633040" y="24557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874440" y="15921000"/>
              <a:ext cx="734760" cy="61884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463" h="390">
                  <a:moveTo>
                    <a:pt x="463" y="0"/>
                  </a:moveTo>
                  <a:lnTo>
                    <a:pt x="463" y="0"/>
                  </a:lnTo>
                  <a:lnTo>
                    <a:pt x="463" y="0"/>
                  </a:lnTo>
                  <a:lnTo>
                    <a:pt x="370" y="69"/>
                  </a:lnTo>
                  <a:lnTo>
                    <a:pt x="291" y="134"/>
                  </a:lnTo>
                  <a:lnTo>
                    <a:pt x="220" y="190"/>
                  </a:lnTo>
                  <a:lnTo>
                    <a:pt x="162" y="241"/>
                  </a:lnTo>
                  <a:lnTo>
                    <a:pt x="73" y="320"/>
                  </a:lnTo>
                  <a:lnTo>
                    <a:pt x="20" y="370"/>
                  </a:lnTo>
                  <a:lnTo>
                    <a:pt x="20" y="370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28" y="364"/>
                  </a:lnTo>
                  <a:lnTo>
                    <a:pt x="115" y="285"/>
                  </a:lnTo>
                  <a:lnTo>
                    <a:pt x="115" y="285"/>
                  </a:lnTo>
                  <a:lnTo>
                    <a:pt x="192" y="219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374" y="69"/>
                  </a:lnTo>
                  <a:lnTo>
                    <a:pt x="4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2873160" y="14195520"/>
              <a:ext cx="9771120" cy="9853560"/>
            </a:xfrm>
            <a:custGeom>
              <a:avLst/>
              <a:gdLst>
                <a:gd name="textAreaLeft" fmla="*/ 0 w 9771120"/>
                <a:gd name="textAreaRight" fmla="*/ 9771480 w 9771120"/>
                <a:gd name="textAreaTop" fmla="*/ 0 h 9853560"/>
                <a:gd name="textAreaBottom" fmla="*/ 9853920 h 9853560"/>
              </a:gdLst>
              <a:ahLst/>
              <a:rect l="textAreaLeft" t="textAreaTop" r="textAreaRight" b="textAreaBottom"/>
              <a:pathLst>
                <a:path w="6155" h="6207">
                  <a:moveTo>
                    <a:pt x="1726" y="0"/>
                  </a:moveTo>
                  <a:lnTo>
                    <a:pt x="1726" y="0"/>
                  </a:lnTo>
                  <a:lnTo>
                    <a:pt x="1579" y="4"/>
                  </a:lnTo>
                  <a:lnTo>
                    <a:pt x="1506" y="6"/>
                  </a:lnTo>
                  <a:lnTo>
                    <a:pt x="1431" y="10"/>
                  </a:lnTo>
                  <a:lnTo>
                    <a:pt x="1358" y="16"/>
                  </a:lnTo>
                  <a:lnTo>
                    <a:pt x="1286" y="22"/>
                  </a:lnTo>
                  <a:lnTo>
                    <a:pt x="1211" y="30"/>
                  </a:lnTo>
                  <a:lnTo>
                    <a:pt x="1138" y="40"/>
                  </a:lnTo>
                  <a:lnTo>
                    <a:pt x="1065" y="50"/>
                  </a:lnTo>
                  <a:lnTo>
                    <a:pt x="993" y="63"/>
                  </a:lnTo>
                  <a:lnTo>
                    <a:pt x="920" y="75"/>
                  </a:lnTo>
                  <a:lnTo>
                    <a:pt x="847" y="89"/>
                  </a:lnTo>
                  <a:lnTo>
                    <a:pt x="774" y="105"/>
                  </a:lnTo>
                  <a:lnTo>
                    <a:pt x="702" y="121"/>
                  </a:lnTo>
                  <a:lnTo>
                    <a:pt x="629" y="139"/>
                  </a:lnTo>
                  <a:lnTo>
                    <a:pt x="558" y="158"/>
                  </a:lnTo>
                  <a:lnTo>
                    <a:pt x="558" y="158"/>
                  </a:lnTo>
                  <a:lnTo>
                    <a:pt x="507" y="170"/>
                  </a:lnTo>
                  <a:lnTo>
                    <a:pt x="445" y="188"/>
                  </a:lnTo>
                  <a:lnTo>
                    <a:pt x="376" y="208"/>
                  </a:lnTo>
                  <a:lnTo>
                    <a:pt x="301" y="232"/>
                  </a:lnTo>
                  <a:lnTo>
                    <a:pt x="224" y="261"/>
                  </a:lnTo>
                  <a:lnTo>
                    <a:pt x="146" y="289"/>
                  </a:lnTo>
                  <a:lnTo>
                    <a:pt x="71" y="321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101" y="315"/>
                  </a:lnTo>
                  <a:lnTo>
                    <a:pt x="204" y="279"/>
                  </a:lnTo>
                  <a:lnTo>
                    <a:pt x="307" y="244"/>
                  </a:lnTo>
                  <a:lnTo>
                    <a:pt x="412" y="212"/>
                  </a:lnTo>
                  <a:lnTo>
                    <a:pt x="518" y="184"/>
                  </a:lnTo>
                  <a:lnTo>
                    <a:pt x="623" y="158"/>
                  </a:lnTo>
                  <a:lnTo>
                    <a:pt x="728" y="133"/>
                  </a:lnTo>
                  <a:lnTo>
                    <a:pt x="833" y="111"/>
                  </a:lnTo>
                  <a:lnTo>
                    <a:pt x="940" y="93"/>
                  </a:lnTo>
                  <a:lnTo>
                    <a:pt x="1045" y="77"/>
                  </a:lnTo>
                  <a:lnTo>
                    <a:pt x="1152" y="63"/>
                  </a:lnTo>
                  <a:lnTo>
                    <a:pt x="1259" y="52"/>
                  </a:lnTo>
                  <a:lnTo>
                    <a:pt x="1367" y="42"/>
                  </a:lnTo>
                  <a:lnTo>
                    <a:pt x="1474" y="36"/>
                  </a:lnTo>
                  <a:lnTo>
                    <a:pt x="1579" y="32"/>
                  </a:lnTo>
                  <a:lnTo>
                    <a:pt x="1686" y="32"/>
                  </a:lnTo>
                  <a:lnTo>
                    <a:pt x="1686" y="32"/>
                  </a:lnTo>
                  <a:lnTo>
                    <a:pt x="1827" y="34"/>
                  </a:lnTo>
                  <a:lnTo>
                    <a:pt x="1967" y="40"/>
                  </a:lnTo>
                  <a:lnTo>
                    <a:pt x="2106" y="50"/>
                  </a:lnTo>
                  <a:lnTo>
                    <a:pt x="2246" y="67"/>
                  </a:lnTo>
                  <a:lnTo>
                    <a:pt x="2246" y="67"/>
                  </a:lnTo>
                  <a:lnTo>
                    <a:pt x="2385" y="87"/>
                  </a:lnTo>
                  <a:lnTo>
                    <a:pt x="2523" y="109"/>
                  </a:lnTo>
                  <a:lnTo>
                    <a:pt x="2660" y="137"/>
                  </a:lnTo>
                  <a:lnTo>
                    <a:pt x="2796" y="170"/>
                  </a:lnTo>
                  <a:lnTo>
                    <a:pt x="2931" y="206"/>
                  </a:lnTo>
                  <a:lnTo>
                    <a:pt x="3062" y="247"/>
                  </a:lnTo>
                  <a:lnTo>
                    <a:pt x="3194" y="291"/>
                  </a:lnTo>
                  <a:lnTo>
                    <a:pt x="3323" y="339"/>
                  </a:lnTo>
                  <a:lnTo>
                    <a:pt x="3452" y="392"/>
                  </a:lnTo>
                  <a:lnTo>
                    <a:pt x="3578" y="449"/>
                  </a:lnTo>
                  <a:lnTo>
                    <a:pt x="3701" y="507"/>
                  </a:lnTo>
                  <a:lnTo>
                    <a:pt x="3824" y="572"/>
                  </a:lnTo>
                  <a:lnTo>
                    <a:pt x="3944" y="639"/>
                  </a:lnTo>
                  <a:lnTo>
                    <a:pt x="4061" y="709"/>
                  </a:lnTo>
                  <a:lnTo>
                    <a:pt x="4176" y="782"/>
                  </a:lnTo>
                  <a:lnTo>
                    <a:pt x="4287" y="859"/>
                  </a:lnTo>
                  <a:lnTo>
                    <a:pt x="4287" y="859"/>
                  </a:lnTo>
                  <a:lnTo>
                    <a:pt x="4398" y="940"/>
                  </a:lnTo>
                  <a:lnTo>
                    <a:pt x="4506" y="1025"/>
                  </a:lnTo>
                  <a:lnTo>
                    <a:pt x="4611" y="1112"/>
                  </a:lnTo>
                  <a:lnTo>
                    <a:pt x="4712" y="1201"/>
                  </a:lnTo>
                  <a:lnTo>
                    <a:pt x="4811" y="1294"/>
                  </a:lnTo>
                  <a:lnTo>
                    <a:pt x="4906" y="1391"/>
                  </a:lnTo>
                  <a:lnTo>
                    <a:pt x="4997" y="1490"/>
                  </a:lnTo>
                  <a:lnTo>
                    <a:pt x="5086" y="1591"/>
                  </a:lnTo>
                  <a:lnTo>
                    <a:pt x="5171" y="1694"/>
                  </a:lnTo>
                  <a:lnTo>
                    <a:pt x="5251" y="1801"/>
                  </a:lnTo>
                  <a:lnTo>
                    <a:pt x="5330" y="1910"/>
                  </a:lnTo>
                  <a:lnTo>
                    <a:pt x="5405" y="2021"/>
                  </a:lnTo>
                  <a:lnTo>
                    <a:pt x="5478" y="2134"/>
                  </a:lnTo>
                  <a:lnTo>
                    <a:pt x="5544" y="2250"/>
                  </a:lnTo>
                  <a:lnTo>
                    <a:pt x="5609" y="2367"/>
                  </a:lnTo>
                  <a:lnTo>
                    <a:pt x="5670" y="2484"/>
                  </a:lnTo>
                  <a:lnTo>
                    <a:pt x="5726" y="2605"/>
                  </a:lnTo>
                  <a:lnTo>
                    <a:pt x="5779" y="2727"/>
                  </a:lnTo>
                  <a:lnTo>
                    <a:pt x="5829" y="2850"/>
                  </a:lnTo>
                  <a:lnTo>
                    <a:pt x="5874" y="2975"/>
                  </a:lnTo>
                  <a:lnTo>
                    <a:pt x="5916" y="3101"/>
                  </a:lnTo>
                  <a:lnTo>
                    <a:pt x="5955" y="3228"/>
                  </a:lnTo>
                  <a:lnTo>
                    <a:pt x="5987" y="3355"/>
                  </a:lnTo>
                  <a:lnTo>
                    <a:pt x="6017" y="3483"/>
                  </a:lnTo>
                  <a:lnTo>
                    <a:pt x="6042" y="3612"/>
                  </a:lnTo>
                  <a:lnTo>
                    <a:pt x="6064" y="3741"/>
                  </a:lnTo>
                  <a:lnTo>
                    <a:pt x="6082" y="3873"/>
                  </a:lnTo>
                  <a:lnTo>
                    <a:pt x="6094" y="4004"/>
                  </a:lnTo>
                  <a:lnTo>
                    <a:pt x="6102" y="4133"/>
                  </a:lnTo>
                  <a:lnTo>
                    <a:pt x="6108" y="4265"/>
                  </a:lnTo>
                  <a:lnTo>
                    <a:pt x="6108" y="4396"/>
                  </a:lnTo>
                  <a:lnTo>
                    <a:pt x="6104" y="4528"/>
                  </a:lnTo>
                  <a:lnTo>
                    <a:pt x="6104" y="4528"/>
                  </a:lnTo>
                  <a:lnTo>
                    <a:pt x="6096" y="4633"/>
                  </a:lnTo>
                  <a:lnTo>
                    <a:pt x="6086" y="4736"/>
                  </a:lnTo>
                  <a:lnTo>
                    <a:pt x="6074" y="4841"/>
                  </a:lnTo>
                  <a:lnTo>
                    <a:pt x="6060" y="4946"/>
                  </a:lnTo>
                  <a:lnTo>
                    <a:pt x="6044" y="5049"/>
                  </a:lnTo>
                  <a:lnTo>
                    <a:pt x="6024" y="5152"/>
                  </a:lnTo>
                  <a:lnTo>
                    <a:pt x="6001" y="5253"/>
                  </a:lnTo>
                  <a:lnTo>
                    <a:pt x="5977" y="5356"/>
                  </a:lnTo>
                  <a:lnTo>
                    <a:pt x="5949" y="5455"/>
                  </a:lnTo>
                  <a:lnTo>
                    <a:pt x="5920" y="5556"/>
                  </a:lnTo>
                  <a:lnTo>
                    <a:pt x="5888" y="5655"/>
                  </a:lnTo>
                  <a:lnTo>
                    <a:pt x="5854" y="5752"/>
                  </a:lnTo>
                  <a:lnTo>
                    <a:pt x="5817" y="5849"/>
                  </a:lnTo>
                  <a:lnTo>
                    <a:pt x="5779" y="5944"/>
                  </a:lnTo>
                  <a:lnTo>
                    <a:pt x="5737" y="6039"/>
                  </a:lnTo>
                  <a:lnTo>
                    <a:pt x="5694" y="6132"/>
                  </a:lnTo>
                  <a:lnTo>
                    <a:pt x="5694" y="6132"/>
                  </a:lnTo>
                  <a:lnTo>
                    <a:pt x="5656" y="6207"/>
                  </a:lnTo>
                  <a:lnTo>
                    <a:pt x="5656" y="6207"/>
                  </a:lnTo>
                  <a:lnTo>
                    <a:pt x="5666" y="6193"/>
                  </a:lnTo>
                  <a:lnTo>
                    <a:pt x="5666" y="6193"/>
                  </a:lnTo>
                  <a:lnTo>
                    <a:pt x="5708" y="6126"/>
                  </a:lnTo>
                  <a:lnTo>
                    <a:pt x="5749" y="6058"/>
                  </a:lnTo>
                  <a:lnTo>
                    <a:pt x="5787" y="5991"/>
                  </a:lnTo>
                  <a:lnTo>
                    <a:pt x="5825" y="5920"/>
                  </a:lnTo>
                  <a:lnTo>
                    <a:pt x="5862" y="5847"/>
                  </a:lnTo>
                  <a:lnTo>
                    <a:pt x="5898" y="5771"/>
                  </a:lnTo>
                  <a:lnTo>
                    <a:pt x="5933" y="5690"/>
                  </a:lnTo>
                  <a:lnTo>
                    <a:pt x="5967" y="5603"/>
                  </a:lnTo>
                  <a:lnTo>
                    <a:pt x="5967" y="5603"/>
                  </a:lnTo>
                  <a:lnTo>
                    <a:pt x="5989" y="5538"/>
                  </a:lnTo>
                  <a:lnTo>
                    <a:pt x="6009" y="5473"/>
                  </a:lnTo>
                  <a:lnTo>
                    <a:pt x="6030" y="5409"/>
                  </a:lnTo>
                  <a:lnTo>
                    <a:pt x="6048" y="5342"/>
                  </a:lnTo>
                  <a:lnTo>
                    <a:pt x="6064" y="5275"/>
                  </a:lnTo>
                  <a:lnTo>
                    <a:pt x="6078" y="5207"/>
                  </a:lnTo>
                  <a:lnTo>
                    <a:pt x="6092" y="5140"/>
                  </a:lnTo>
                  <a:lnTo>
                    <a:pt x="6104" y="5069"/>
                  </a:lnTo>
                  <a:lnTo>
                    <a:pt x="6114" y="5000"/>
                  </a:lnTo>
                  <a:lnTo>
                    <a:pt x="6125" y="4930"/>
                  </a:lnTo>
                  <a:lnTo>
                    <a:pt x="6133" y="4859"/>
                  </a:lnTo>
                  <a:lnTo>
                    <a:pt x="6141" y="4788"/>
                  </a:lnTo>
                  <a:lnTo>
                    <a:pt x="6147" y="4715"/>
                  </a:lnTo>
                  <a:lnTo>
                    <a:pt x="6151" y="4645"/>
                  </a:lnTo>
                  <a:lnTo>
                    <a:pt x="6153" y="4572"/>
                  </a:lnTo>
                  <a:lnTo>
                    <a:pt x="6155" y="4499"/>
                  </a:lnTo>
                  <a:lnTo>
                    <a:pt x="6155" y="4426"/>
                  </a:lnTo>
                  <a:lnTo>
                    <a:pt x="6155" y="4354"/>
                  </a:lnTo>
                  <a:lnTo>
                    <a:pt x="6153" y="4281"/>
                  </a:lnTo>
                  <a:lnTo>
                    <a:pt x="6151" y="4206"/>
                  </a:lnTo>
                  <a:lnTo>
                    <a:pt x="6141" y="4061"/>
                  </a:lnTo>
                  <a:lnTo>
                    <a:pt x="6127" y="3915"/>
                  </a:lnTo>
                  <a:lnTo>
                    <a:pt x="6106" y="3770"/>
                  </a:lnTo>
                  <a:lnTo>
                    <a:pt x="6084" y="3626"/>
                  </a:lnTo>
                  <a:lnTo>
                    <a:pt x="6056" y="3485"/>
                  </a:lnTo>
                  <a:lnTo>
                    <a:pt x="6024" y="3343"/>
                  </a:lnTo>
                  <a:lnTo>
                    <a:pt x="6024" y="3343"/>
                  </a:lnTo>
                  <a:lnTo>
                    <a:pt x="5999" y="3244"/>
                  </a:lnTo>
                  <a:lnTo>
                    <a:pt x="5971" y="3143"/>
                  </a:lnTo>
                  <a:lnTo>
                    <a:pt x="5941" y="3044"/>
                  </a:lnTo>
                  <a:lnTo>
                    <a:pt x="5908" y="2945"/>
                  </a:lnTo>
                  <a:lnTo>
                    <a:pt x="5874" y="2848"/>
                  </a:lnTo>
                  <a:lnTo>
                    <a:pt x="5836" y="2749"/>
                  </a:lnTo>
                  <a:lnTo>
                    <a:pt x="5797" y="2652"/>
                  </a:lnTo>
                  <a:lnTo>
                    <a:pt x="5755" y="2557"/>
                  </a:lnTo>
                  <a:lnTo>
                    <a:pt x="5708" y="2462"/>
                  </a:lnTo>
                  <a:lnTo>
                    <a:pt x="5662" y="2367"/>
                  </a:lnTo>
                  <a:lnTo>
                    <a:pt x="5611" y="2274"/>
                  </a:lnTo>
                  <a:lnTo>
                    <a:pt x="5559" y="2181"/>
                  </a:lnTo>
                  <a:lnTo>
                    <a:pt x="5504" y="2090"/>
                  </a:lnTo>
                  <a:lnTo>
                    <a:pt x="5447" y="1999"/>
                  </a:lnTo>
                  <a:lnTo>
                    <a:pt x="5387" y="1910"/>
                  </a:lnTo>
                  <a:lnTo>
                    <a:pt x="5326" y="1823"/>
                  </a:lnTo>
                  <a:lnTo>
                    <a:pt x="5262" y="1736"/>
                  </a:lnTo>
                  <a:lnTo>
                    <a:pt x="5197" y="1651"/>
                  </a:lnTo>
                  <a:lnTo>
                    <a:pt x="5128" y="1568"/>
                  </a:lnTo>
                  <a:lnTo>
                    <a:pt x="5057" y="1486"/>
                  </a:lnTo>
                  <a:lnTo>
                    <a:pt x="4985" y="1405"/>
                  </a:lnTo>
                  <a:lnTo>
                    <a:pt x="4910" y="1328"/>
                  </a:lnTo>
                  <a:lnTo>
                    <a:pt x="4833" y="1251"/>
                  </a:lnTo>
                  <a:lnTo>
                    <a:pt x="4754" y="1174"/>
                  </a:lnTo>
                  <a:lnTo>
                    <a:pt x="4673" y="1102"/>
                  </a:lnTo>
                  <a:lnTo>
                    <a:pt x="4590" y="1031"/>
                  </a:lnTo>
                  <a:lnTo>
                    <a:pt x="4506" y="962"/>
                  </a:lnTo>
                  <a:lnTo>
                    <a:pt x="4419" y="895"/>
                  </a:lnTo>
                  <a:lnTo>
                    <a:pt x="4330" y="829"/>
                  </a:lnTo>
                  <a:lnTo>
                    <a:pt x="4239" y="766"/>
                  </a:lnTo>
                  <a:lnTo>
                    <a:pt x="4146" y="705"/>
                  </a:lnTo>
                  <a:lnTo>
                    <a:pt x="4053" y="647"/>
                  </a:lnTo>
                  <a:lnTo>
                    <a:pt x="4053" y="647"/>
                  </a:lnTo>
                  <a:lnTo>
                    <a:pt x="3988" y="608"/>
                  </a:lnTo>
                  <a:lnTo>
                    <a:pt x="3923" y="572"/>
                  </a:lnTo>
                  <a:lnTo>
                    <a:pt x="3857" y="536"/>
                  </a:lnTo>
                  <a:lnTo>
                    <a:pt x="3790" y="499"/>
                  </a:lnTo>
                  <a:lnTo>
                    <a:pt x="3723" y="465"/>
                  </a:lnTo>
                  <a:lnTo>
                    <a:pt x="3655" y="432"/>
                  </a:lnTo>
                  <a:lnTo>
                    <a:pt x="3586" y="400"/>
                  </a:lnTo>
                  <a:lnTo>
                    <a:pt x="3517" y="370"/>
                  </a:lnTo>
                  <a:lnTo>
                    <a:pt x="3446" y="339"/>
                  </a:lnTo>
                  <a:lnTo>
                    <a:pt x="3376" y="311"/>
                  </a:lnTo>
                  <a:lnTo>
                    <a:pt x="3305" y="285"/>
                  </a:lnTo>
                  <a:lnTo>
                    <a:pt x="3234" y="259"/>
                  </a:lnTo>
                  <a:lnTo>
                    <a:pt x="3161" y="234"/>
                  </a:lnTo>
                  <a:lnTo>
                    <a:pt x="3089" y="210"/>
                  </a:lnTo>
                  <a:lnTo>
                    <a:pt x="3016" y="188"/>
                  </a:lnTo>
                  <a:lnTo>
                    <a:pt x="2943" y="168"/>
                  </a:lnTo>
                  <a:lnTo>
                    <a:pt x="2868" y="147"/>
                  </a:lnTo>
                  <a:lnTo>
                    <a:pt x="2796" y="129"/>
                  </a:lnTo>
                  <a:lnTo>
                    <a:pt x="2721" y="111"/>
                  </a:lnTo>
                  <a:lnTo>
                    <a:pt x="2646" y="95"/>
                  </a:lnTo>
                  <a:lnTo>
                    <a:pt x="2569" y="81"/>
                  </a:lnTo>
                  <a:lnTo>
                    <a:pt x="2494" y="67"/>
                  </a:lnTo>
                  <a:lnTo>
                    <a:pt x="2418" y="54"/>
                  </a:lnTo>
                  <a:lnTo>
                    <a:pt x="2343" y="42"/>
                  </a:lnTo>
                  <a:lnTo>
                    <a:pt x="2266" y="32"/>
                  </a:lnTo>
                  <a:lnTo>
                    <a:pt x="2189" y="24"/>
                  </a:lnTo>
                  <a:lnTo>
                    <a:pt x="2112" y="18"/>
                  </a:lnTo>
                  <a:lnTo>
                    <a:pt x="2036" y="12"/>
                  </a:lnTo>
                  <a:lnTo>
                    <a:pt x="1959" y="6"/>
                  </a:lnTo>
                  <a:lnTo>
                    <a:pt x="1880" y="4"/>
                  </a:lnTo>
                  <a:lnTo>
                    <a:pt x="1803" y="2"/>
                  </a:lnTo>
                  <a:lnTo>
                    <a:pt x="1726" y="0"/>
                  </a:lnTo>
                  <a:close/>
                </a:path>
              </a:pathLst>
            </a:custGeom>
            <a:solidFill>
              <a:srgbClr val="fd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2873160" y="14195520"/>
              <a:ext cx="9771120" cy="9853560"/>
            </a:xfrm>
            <a:custGeom>
              <a:avLst/>
              <a:gdLst>
                <a:gd name="textAreaLeft" fmla="*/ 0 w 9771120"/>
                <a:gd name="textAreaRight" fmla="*/ 9771480 w 9771120"/>
                <a:gd name="textAreaTop" fmla="*/ 0 h 9853560"/>
                <a:gd name="textAreaBottom" fmla="*/ 9853920 h 9853560"/>
              </a:gdLst>
              <a:ahLst/>
              <a:rect l="textAreaLeft" t="textAreaTop" r="textAreaRight" b="textAreaBottom"/>
              <a:pathLst>
                <a:path w="6155" h="6207">
                  <a:moveTo>
                    <a:pt x="1726" y="0"/>
                  </a:moveTo>
                  <a:lnTo>
                    <a:pt x="1726" y="0"/>
                  </a:lnTo>
                  <a:lnTo>
                    <a:pt x="1579" y="4"/>
                  </a:lnTo>
                  <a:lnTo>
                    <a:pt x="1506" y="6"/>
                  </a:lnTo>
                  <a:lnTo>
                    <a:pt x="1431" y="10"/>
                  </a:lnTo>
                  <a:lnTo>
                    <a:pt x="1358" y="16"/>
                  </a:lnTo>
                  <a:lnTo>
                    <a:pt x="1286" y="22"/>
                  </a:lnTo>
                  <a:lnTo>
                    <a:pt x="1211" y="30"/>
                  </a:lnTo>
                  <a:lnTo>
                    <a:pt x="1138" y="40"/>
                  </a:lnTo>
                  <a:lnTo>
                    <a:pt x="1065" y="50"/>
                  </a:lnTo>
                  <a:lnTo>
                    <a:pt x="993" y="63"/>
                  </a:lnTo>
                  <a:lnTo>
                    <a:pt x="920" y="75"/>
                  </a:lnTo>
                  <a:lnTo>
                    <a:pt x="847" y="89"/>
                  </a:lnTo>
                  <a:lnTo>
                    <a:pt x="774" y="105"/>
                  </a:lnTo>
                  <a:lnTo>
                    <a:pt x="702" y="121"/>
                  </a:lnTo>
                  <a:lnTo>
                    <a:pt x="629" y="139"/>
                  </a:lnTo>
                  <a:lnTo>
                    <a:pt x="558" y="158"/>
                  </a:lnTo>
                  <a:lnTo>
                    <a:pt x="558" y="158"/>
                  </a:lnTo>
                  <a:lnTo>
                    <a:pt x="507" y="170"/>
                  </a:lnTo>
                  <a:lnTo>
                    <a:pt x="445" y="188"/>
                  </a:lnTo>
                  <a:lnTo>
                    <a:pt x="376" y="208"/>
                  </a:lnTo>
                  <a:lnTo>
                    <a:pt x="301" y="232"/>
                  </a:lnTo>
                  <a:lnTo>
                    <a:pt x="224" y="261"/>
                  </a:lnTo>
                  <a:lnTo>
                    <a:pt x="146" y="289"/>
                  </a:lnTo>
                  <a:lnTo>
                    <a:pt x="71" y="321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101" y="315"/>
                  </a:lnTo>
                  <a:lnTo>
                    <a:pt x="204" y="279"/>
                  </a:lnTo>
                  <a:lnTo>
                    <a:pt x="307" y="244"/>
                  </a:lnTo>
                  <a:lnTo>
                    <a:pt x="412" y="212"/>
                  </a:lnTo>
                  <a:lnTo>
                    <a:pt x="518" y="184"/>
                  </a:lnTo>
                  <a:lnTo>
                    <a:pt x="623" y="158"/>
                  </a:lnTo>
                  <a:lnTo>
                    <a:pt x="728" y="133"/>
                  </a:lnTo>
                  <a:lnTo>
                    <a:pt x="833" y="111"/>
                  </a:lnTo>
                  <a:lnTo>
                    <a:pt x="940" y="93"/>
                  </a:lnTo>
                  <a:lnTo>
                    <a:pt x="1045" y="77"/>
                  </a:lnTo>
                  <a:lnTo>
                    <a:pt x="1152" y="63"/>
                  </a:lnTo>
                  <a:lnTo>
                    <a:pt x="1259" y="52"/>
                  </a:lnTo>
                  <a:lnTo>
                    <a:pt x="1367" y="42"/>
                  </a:lnTo>
                  <a:lnTo>
                    <a:pt x="1474" y="36"/>
                  </a:lnTo>
                  <a:lnTo>
                    <a:pt x="1579" y="32"/>
                  </a:lnTo>
                  <a:lnTo>
                    <a:pt x="1686" y="32"/>
                  </a:lnTo>
                  <a:lnTo>
                    <a:pt x="1686" y="32"/>
                  </a:lnTo>
                  <a:lnTo>
                    <a:pt x="1827" y="34"/>
                  </a:lnTo>
                  <a:lnTo>
                    <a:pt x="1967" y="40"/>
                  </a:lnTo>
                  <a:lnTo>
                    <a:pt x="2106" y="50"/>
                  </a:lnTo>
                  <a:lnTo>
                    <a:pt x="2246" y="67"/>
                  </a:lnTo>
                  <a:lnTo>
                    <a:pt x="2246" y="67"/>
                  </a:lnTo>
                  <a:lnTo>
                    <a:pt x="2385" y="87"/>
                  </a:lnTo>
                  <a:lnTo>
                    <a:pt x="2523" y="109"/>
                  </a:lnTo>
                  <a:lnTo>
                    <a:pt x="2660" y="137"/>
                  </a:lnTo>
                  <a:lnTo>
                    <a:pt x="2796" y="170"/>
                  </a:lnTo>
                  <a:lnTo>
                    <a:pt x="2931" y="206"/>
                  </a:lnTo>
                  <a:lnTo>
                    <a:pt x="3062" y="247"/>
                  </a:lnTo>
                  <a:lnTo>
                    <a:pt x="3194" y="291"/>
                  </a:lnTo>
                  <a:lnTo>
                    <a:pt x="3323" y="339"/>
                  </a:lnTo>
                  <a:lnTo>
                    <a:pt x="3452" y="392"/>
                  </a:lnTo>
                  <a:lnTo>
                    <a:pt x="3578" y="449"/>
                  </a:lnTo>
                  <a:lnTo>
                    <a:pt x="3701" y="507"/>
                  </a:lnTo>
                  <a:lnTo>
                    <a:pt x="3824" y="572"/>
                  </a:lnTo>
                  <a:lnTo>
                    <a:pt x="3944" y="639"/>
                  </a:lnTo>
                  <a:lnTo>
                    <a:pt x="4061" y="709"/>
                  </a:lnTo>
                  <a:lnTo>
                    <a:pt x="4176" y="782"/>
                  </a:lnTo>
                  <a:lnTo>
                    <a:pt x="4287" y="859"/>
                  </a:lnTo>
                  <a:lnTo>
                    <a:pt x="4287" y="859"/>
                  </a:lnTo>
                  <a:lnTo>
                    <a:pt x="4398" y="940"/>
                  </a:lnTo>
                  <a:lnTo>
                    <a:pt x="4506" y="1025"/>
                  </a:lnTo>
                  <a:lnTo>
                    <a:pt x="4611" y="1112"/>
                  </a:lnTo>
                  <a:lnTo>
                    <a:pt x="4712" y="1201"/>
                  </a:lnTo>
                  <a:lnTo>
                    <a:pt x="4811" y="1294"/>
                  </a:lnTo>
                  <a:lnTo>
                    <a:pt x="4906" y="1391"/>
                  </a:lnTo>
                  <a:lnTo>
                    <a:pt x="4997" y="1490"/>
                  </a:lnTo>
                  <a:lnTo>
                    <a:pt x="5086" y="1591"/>
                  </a:lnTo>
                  <a:lnTo>
                    <a:pt x="5171" y="1694"/>
                  </a:lnTo>
                  <a:lnTo>
                    <a:pt x="5251" y="1801"/>
                  </a:lnTo>
                  <a:lnTo>
                    <a:pt x="5330" y="1910"/>
                  </a:lnTo>
                  <a:lnTo>
                    <a:pt x="5405" y="2021"/>
                  </a:lnTo>
                  <a:lnTo>
                    <a:pt x="5478" y="2134"/>
                  </a:lnTo>
                  <a:lnTo>
                    <a:pt x="5544" y="2250"/>
                  </a:lnTo>
                  <a:lnTo>
                    <a:pt x="5609" y="2367"/>
                  </a:lnTo>
                  <a:lnTo>
                    <a:pt x="5670" y="2484"/>
                  </a:lnTo>
                  <a:lnTo>
                    <a:pt x="5726" y="2605"/>
                  </a:lnTo>
                  <a:lnTo>
                    <a:pt x="5779" y="2727"/>
                  </a:lnTo>
                  <a:lnTo>
                    <a:pt x="5829" y="2850"/>
                  </a:lnTo>
                  <a:lnTo>
                    <a:pt x="5874" y="2975"/>
                  </a:lnTo>
                  <a:lnTo>
                    <a:pt x="5916" y="3101"/>
                  </a:lnTo>
                  <a:lnTo>
                    <a:pt x="5955" y="3228"/>
                  </a:lnTo>
                  <a:lnTo>
                    <a:pt x="5987" y="3355"/>
                  </a:lnTo>
                  <a:lnTo>
                    <a:pt x="6017" y="3483"/>
                  </a:lnTo>
                  <a:lnTo>
                    <a:pt x="6042" y="3612"/>
                  </a:lnTo>
                  <a:lnTo>
                    <a:pt x="6064" y="3741"/>
                  </a:lnTo>
                  <a:lnTo>
                    <a:pt x="6082" y="3873"/>
                  </a:lnTo>
                  <a:lnTo>
                    <a:pt x="6094" y="4004"/>
                  </a:lnTo>
                  <a:lnTo>
                    <a:pt x="6102" y="4133"/>
                  </a:lnTo>
                  <a:lnTo>
                    <a:pt x="6108" y="4265"/>
                  </a:lnTo>
                  <a:lnTo>
                    <a:pt x="6108" y="4396"/>
                  </a:lnTo>
                  <a:lnTo>
                    <a:pt x="6104" y="4528"/>
                  </a:lnTo>
                  <a:lnTo>
                    <a:pt x="6104" y="4528"/>
                  </a:lnTo>
                  <a:lnTo>
                    <a:pt x="6096" y="4633"/>
                  </a:lnTo>
                  <a:lnTo>
                    <a:pt x="6086" y="4736"/>
                  </a:lnTo>
                  <a:lnTo>
                    <a:pt x="6074" y="4841"/>
                  </a:lnTo>
                  <a:lnTo>
                    <a:pt x="6060" y="4946"/>
                  </a:lnTo>
                  <a:lnTo>
                    <a:pt x="6044" y="5049"/>
                  </a:lnTo>
                  <a:lnTo>
                    <a:pt x="6024" y="5152"/>
                  </a:lnTo>
                  <a:lnTo>
                    <a:pt x="6001" y="5253"/>
                  </a:lnTo>
                  <a:lnTo>
                    <a:pt x="5977" y="5356"/>
                  </a:lnTo>
                  <a:lnTo>
                    <a:pt x="5949" y="5455"/>
                  </a:lnTo>
                  <a:lnTo>
                    <a:pt x="5920" y="5556"/>
                  </a:lnTo>
                  <a:lnTo>
                    <a:pt x="5888" y="5655"/>
                  </a:lnTo>
                  <a:lnTo>
                    <a:pt x="5854" y="5752"/>
                  </a:lnTo>
                  <a:lnTo>
                    <a:pt x="5817" y="5849"/>
                  </a:lnTo>
                  <a:lnTo>
                    <a:pt x="5779" y="5944"/>
                  </a:lnTo>
                  <a:lnTo>
                    <a:pt x="5737" y="6039"/>
                  </a:lnTo>
                  <a:lnTo>
                    <a:pt x="5694" y="6132"/>
                  </a:lnTo>
                  <a:lnTo>
                    <a:pt x="5694" y="6132"/>
                  </a:lnTo>
                  <a:lnTo>
                    <a:pt x="5656" y="6207"/>
                  </a:lnTo>
                  <a:lnTo>
                    <a:pt x="5656" y="6207"/>
                  </a:lnTo>
                  <a:lnTo>
                    <a:pt x="5666" y="6193"/>
                  </a:lnTo>
                  <a:lnTo>
                    <a:pt x="5666" y="6193"/>
                  </a:lnTo>
                  <a:lnTo>
                    <a:pt x="5708" y="6126"/>
                  </a:lnTo>
                  <a:lnTo>
                    <a:pt x="5749" y="6058"/>
                  </a:lnTo>
                  <a:lnTo>
                    <a:pt x="5787" y="5991"/>
                  </a:lnTo>
                  <a:lnTo>
                    <a:pt x="5825" y="5920"/>
                  </a:lnTo>
                  <a:lnTo>
                    <a:pt x="5862" y="5847"/>
                  </a:lnTo>
                  <a:lnTo>
                    <a:pt x="5898" y="5771"/>
                  </a:lnTo>
                  <a:lnTo>
                    <a:pt x="5933" y="5690"/>
                  </a:lnTo>
                  <a:lnTo>
                    <a:pt x="5967" y="5603"/>
                  </a:lnTo>
                  <a:lnTo>
                    <a:pt x="5967" y="5603"/>
                  </a:lnTo>
                  <a:lnTo>
                    <a:pt x="5989" y="5538"/>
                  </a:lnTo>
                  <a:lnTo>
                    <a:pt x="6009" y="5473"/>
                  </a:lnTo>
                  <a:lnTo>
                    <a:pt x="6030" y="5409"/>
                  </a:lnTo>
                  <a:lnTo>
                    <a:pt x="6048" y="5342"/>
                  </a:lnTo>
                  <a:lnTo>
                    <a:pt x="6064" y="5275"/>
                  </a:lnTo>
                  <a:lnTo>
                    <a:pt x="6078" y="5207"/>
                  </a:lnTo>
                  <a:lnTo>
                    <a:pt x="6092" y="5140"/>
                  </a:lnTo>
                  <a:lnTo>
                    <a:pt x="6104" y="5069"/>
                  </a:lnTo>
                  <a:lnTo>
                    <a:pt x="6114" y="5000"/>
                  </a:lnTo>
                  <a:lnTo>
                    <a:pt x="6125" y="4930"/>
                  </a:lnTo>
                  <a:lnTo>
                    <a:pt x="6133" y="4859"/>
                  </a:lnTo>
                  <a:lnTo>
                    <a:pt x="6141" y="4788"/>
                  </a:lnTo>
                  <a:lnTo>
                    <a:pt x="6147" y="4715"/>
                  </a:lnTo>
                  <a:lnTo>
                    <a:pt x="6151" y="4645"/>
                  </a:lnTo>
                  <a:lnTo>
                    <a:pt x="6153" y="4572"/>
                  </a:lnTo>
                  <a:lnTo>
                    <a:pt x="6155" y="4499"/>
                  </a:lnTo>
                  <a:lnTo>
                    <a:pt x="6155" y="4426"/>
                  </a:lnTo>
                  <a:lnTo>
                    <a:pt x="6155" y="4354"/>
                  </a:lnTo>
                  <a:lnTo>
                    <a:pt x="6153" y="4281"/>
                  </a:lnTo>
                  <a:lnTo>
                    <a:pt x="6151" y="4206"/>
                  </a:lnTo>
                  <a:lnTo>
                    <a:pt x="6141" y="4061"/>
                  </a:lnTo>
                  <a:lnTo>
                    <a:pt x="6127" y="3915"/>
                  </a:lnTo>
                  <a:lnTo>
                    <a:pt x="6106" y="3770"/>
                  </a:lnTo>
                  <a:lnTo>
                    <a:pt x="6084" y="3626"/>
                  </a:lnTo>
                  <a:lnTo>
                    <a:pt x="6056" y="3485"/>
                  </a:lnTo>
                  <a:lnTo>
                    <a:pt x="6024" y="3343"/>
                  </a:lnTo>
                  <a:lnTo>
                    <a:pt x="6024" y="3343"/>
                  </a:lnTo>
                  <a:lnTo>
                    <a:pt x="5999" y="3244"/>
                  </a:lnTo>
                  <a:lnTo>
                    <a:pt x="5971" y="3143"/>
                  </a:lnTo>
                  <a:lnTo>
                    <a:pt x="5941" y="3044"/>
                  </a:lnTo>
                  <a:lnTo>
                    <a:pt x="5908" y="2945"/>
                  </a:lnTo>
                  <a:lnTo>
                    <a:pt x="5874" y="2848"/>
                  </a:lnTo>
                  <a:lnTo>
                    <a:pt x="5836" y="2749"/>
                  </a:lnTo>
                  <a:lnTo>
                    <a:pt x="5797" y="2652"/>
                  </a:lnTo>
                  <a:lnTo>
                    <a:pt x="5755" y="2557"/>
                  </a:lnTo>
                  <a:lnTo>
                    <a:pt x="5708" y="2462"/>
                  </a:lnTo>
                  <a:lnTo>
                    <a:pt x="5662" y="2367"/>
                  </a:lnTo>
                  <a:lnTo>
                    <a:pt x="5611" y="2274"/>
                  </a:lnTo>
                  <a:lnTo>
                    <a:pt x="5559" y="2181"/>
                  </a:lnTo>
                  <a:lnTo>
                    <a:pt x="5504" y="2090"/>
                  </a:lnTo>
                  <a:lnTo>
                    <a:pt x="5447" y="1999"/>
                  </a:lnTo>
                  <a:lnTo>
                    <a:pt x="5387" y="1910"/>
                  </a:lnTo>
                  <a:lnTo>
                    <a:pt x="5326" y="1823"/>
                  </a:lnTo>
                  <a:lnTo>
                    <a:pt x="5262" y="1736"/>
                  </a:lnTo>
                  <a:lnTo>
                    <a:pt x="5197" y="1651"/>
                  </a:lnTo>
                  <a:lnTo>
                    <a:pt x="5128" y="1568"/>
                  </a:lnTo>
                  <a:lnTo>
                    <a:pt x="5057" y="1486"/>
                  </a:lnTo>
                  <a:lnTo>
                    <a:pt x="4985" y="1405"/>
                  </a:lnTo>
                  <a:lnTo>
                    <a:pt x="4910" y="1328"/>
                  </a:lnTo>
                  <a:lnTo>
                    <a:pt x="4833" y="1251"/>
                  </a:lnTo>
                  <a:lnTo>
                    <a:pt x="4754" y="1174"/>
                  </a:lnTo>
                  <a:lnTo>
                    <a:pt x="4673" y="1102"/>
                  </a:lnTo>
                  <a:lnTo>
                    <a:pt x="4590" y="1031"/>
                  </a:lnTo>
                  <a:lnTo>
                    <a:pt x="4506" y="962"/>
                  </a:lnTo>
                  <a:lnTo>
                    <a:pt x="4419" y="895"/>
                  </a:lnTo>
                  <a:lnTo>
                    <a:pt x="4330" y="829"/>
                  </a:lnTo>
                  <a:lnTo>
                    <a:pt x="4239" y="766"/>
                  </a:lnTo>
                  <a:lnTo>
                    <a:pt x="4146" y="705"/>
                  </a:lnTo>
                  <a:lnTo>
                    <a:pt x="4053" y="647"/>
                  </a:lnTo>
                  <a:lnTo>
                    <a:pt x="4053" y="647"/>
                  </a:lnTo>
                  <a:lnTo>
                    <a:pt x="3988" y="608"/>
                  </a:lnTo>
                  <a:lnTo>
                    <a:pt x="3923" y="572"/>
                  </a:lnTo>
                  <a:lnTo>
                    <a:pt x="3857" y="536"/>
                  </a:lnTo>
                  <a:lnTo>
                    <a:pt x="3790" y="499"/>
                  </a:lnTo>
                  <a:lnTo>
                    <a:pt x="3723" y="465"/>
                  </a:lnTo>
                  <a:lnTo>
                    <a:pt x="3655" y="432"/>
                  </a:lnTo>
                  <a:lnTo>
                    <a:pt x="3586" y="400"/>
                  </a:lnTo>
                  <a:lnTo>
                    <a:pt x="3517" y="370"/>
                  </a:lnTo>
                  <a:lnTo>
                    <a:pt x="3446" y="339"/>
                  </a:lnTo>
                  <a:lnTo>
                    <a:pt x="3376" y="311"/>
                  </a:lnTo>
                  <a:lnTo>
                    <a:pt x="3305" y="285"/>
                  </a:lnTo>
                  <a:lnTo>
                    <a:pt x="3234" y="259"/>
                  </a:lnTo>
                  <a:lnTo>
                    <a:pt x="3161" y="234"/>
                  </a:lnTo>
                  <a:lnTo>
                    <a:pt x="3089" y="210"/>
                  </a:lnTo>
                  <a:lnTo>
                    <a:pt x="3016" y="188"/>
                  </a:lnTo>
                  <a:lnTo>
                    <a:pt x="2943" y="168"/>
                  </a:lnTo>
                  <a:lnTo>
                    <a:pt x="2868" y="147"/>
                  </a:lnTo>
                  <a:lnTo>
                    <a:pt x="2796" y="129"/>
                  </a:lnTo>
                  <a:lnTo>
                    <a:pt x="2721" y="111"/>
                  </a:lnTo>
                  <a:lnTo>
                    <a:pt x="2646" y="95"/>
                  </a:lnTo>
                  <a:lnTo>
                    <a:pt x="2569" y="81"/>
                  </a:lnTo>
                  <a:lnTo>
                    <a:pt x="2494" y="67"/>
                  </a:lnTo>
                  <a:lnTo>
                    <a:pt x="2418" y="54"/>
                  </a:lnTo>
                  <a:lnTo>
                    <a:pt x="2343" y="42"/>
                  </a:lnTo>
                  <a:lnTo>
                    <a:pt x="2266" y="32"/>
                  </a:lnTo>
                  <a:lnTo>
                    <a:pt x="2189" y="24"/>
                  </a:lnTo>
                  <a:lnTo>
                    <a:pt x="2112" y="18"/>
                  </a:lnTo>
                  <a:lnTo>
                    <a:pt x="2036" y="12"/>
                  </a:lnTo>
                  <a:lnTo>
                    <a:pt x="1959" y="6"/>
                  </a:lnTo>
                  <a:lnTo>
                    <a:pt x="1880" y="4"/>
                  </a:lnTo>
                  <a:lnTo>
                    <a:pt x="1803" y="2"/>
                  </a:lnTo>
                  <a:lnTo>
                    <a:pt x="17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-1044360" y="16718040"/>
              <a:ext cx="1171440" cy="1911240"/>
            </a:xfrm>
            <a:custGeom>
              <a:avLst/>
              <a:gdLst>
                <a:gd name="textAreaLeft" fmla="*/ 0 w 1171440"/>
                <a:gd name="textAreaRight" fmla="*/ 1171440 w 117144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738" h="1204">
                  <a:moveTo>
                    <a:pt x="738" y="0"/>
                  </a:moveTo>
                  <a:lnTo>
                    <a:pt x="738" y="0"/>
                  </a:lnTo>
                  <a:lnTo>
                    <a:pt x="647" y="101"/>
                  </a:lnTo>
                  <a:lnTo>
                    <a:pt x="558" y="206"/>
                  </a:lnTo>
                  <a:lnTo>
                    <a:pt x="473" y="315"/>
                  </a:lnTo>
                  <a:lnTo>
                    <a:pt x="390" y="426"/>
                  </a:lnTo>
                  <a:lnTo>
                    <a:pt x="311" y="541"/>
                  </a:lnTo>
                  <a:lnTo>
                    <a:pt x="237" y="659"/>
                  </a:lnTo>
                  <a:lnTo>
                    <a:pt x="164" y="778"/>
                  </a:lnTo>
                  <a:lnTo>
                    <a:pt x="95" y="901"/>
                  </a:lnTo>
                  <a:lnTo>
                    <a:pt x="95" y="901"/>
                  </a:lnTo>
                  <a:lnTo>
                    <a:pt x="57" y="994"/>
                  </a:lnTo>
                  <a:lnTo>
                    <a:pt x="41" y="1039"/>
                  </a:lnTo>
                  <a:lnTo>
                    <a:pt x="26" y="1081"/>
                  </a:lnTo>
                  <a:lnTo>
                    <a:pt x="14" y="1119"/>
                  </a:lnTo>
                  <a:lnTo>
                    <a:pt x="6" y="1154"/>
                  </a:lnTo>
                  <a:lnTo>
                    <a:pt x="2" y="1182"/>
                  </a:lnTo>
                  <a:lnTo>
                    <a:pt x="0" y="1194"/>
                  </a:lnTo>
                  <a:lnTo>
                    <a:pt x="2" y="1204"/>
                  </a:lnTo>
                  <a:lnTo>
                    <a:pt x="2" y="1204"/>
                  </a:lnTo>
                  <a:lnTo>
                    <a:pt x="37" y="1121"/>
                  </a:lnTo>
                  <a:lnTo>
                    <a:pt x="73" y="1041"/>
                  </a:lnTo>
                  <a:lnTo>
                    <a:pt x="111" y="960"/>
                  </a:lnTo>
                  <a:lnTo>
                    <a:pt x="150" y="881"/>
                  </a:lnTo>
                  <a:lnTo>
                    <a:pt x="192" y="802"/>
                  </a:lnTo>
                  <a:lnTo>
                    <a:pt x="235" y="725"/>
                  </a:lnTo>
                  <a:lnTo>
                    <a:pt x="277" y="646"/>
                  </a:lnTo>
                  <a:lnTo>
                    <a:pt x="324" y="572"/>
                  </a:lnTo>
                  <a:lnTo>
                    <a:pt x="370" y="497"/>
                  </a:lnTo>
                  <a:lnTo>
                    <a:pt x="419" y="422"/>
                  </a:lnTo>
                  <a:lnTo>
                    <a:pt x="469" y="349"/>
                  </a:lnTo>
                  <a:lnTo>
                    <a:pt x="520" y="277"/>
                  </a:lnTo>
                  <a:lnTo>
                    <a:pt x="572" y="206"/>
                  </a:lnTo>
                  <a:lnTo>
                    <a:pt x="627" y="135"/>
                  </a:lnTo>
                  <a:lnTo>
                    <a:pt x="681" y="66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fd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-1044360" y="16718040"/>
              <a:ext cx="1171440" cy="1911240"/>
            </a:xfrm>
            <a:custGeom>
              <a:avLst/>
              <a:gdLst>
                <a:gd name="textAreaLeft" fmla="*/ 0 w 1171440"/>
                <a:gd name="textAreaRight" fmla="*/ 1171440 w 117144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738" h="1204">
                  <a:moveTo>
                    <a:pt x="738" y="0"/>
                  </a:moveTo>
                  <a:lnTo>
                    <a:pt x="738" y="0"/>
                  </a:lnTo>
                  <a:lnTo>
                    <a:pt x="647" y="101"/>
                  </a:lnTo>
                  <a:lnTo>
                    <a:pt x="558" y="206"/>
                  </a:lnTo>
                  <a:lnTo>
                    <a:pt x="473" y="315"/>
                  </a:lnTo>
                  <a:lnTo>
                    <a:pt x="390" y="426"/>
                  </a:lnTo>
                  <a:lnTo>
                    <a:pt x="311" y="541"/>
                  </a:lnTo>
                  <a:lnTo>
                    <a:pt x="237" y="659"/>
                  </a:lnTo>
                  <a:lnTo>
                    <a:pt x="164" y="778"/>
                  </a:lnTo>
                  <a:lnTo>
                    <a:pt x="95" y="901"/>
                  </a:lnTo>
                  <a:lnTo>
                    <a:pt x="95" y="901"/>
                  </a:lnTo>
                  <a:lnTo>
                    <a:pt x="57" y="994"/>
                  </a:lnTo>
                  <a:lnTo>
                    <a:pt x="41" y="1039"/>
                  </a:lnTo>
                  <a:lnTo>
                    <a:pt x="26" y="1081"/>
                  </a:lnTo>
                  <a:lnTo>
                    <a:pt x="14" y="1119"/>
                  </a:lnTo>
                  <a:lnTo>
                    <a:pt x="6" y="1154"/>
                  </a:lnTo>
                  <a:lnTo>
                    <a:pt x="2" y="1182"/>
                  </a:lnTo>
                  <a:lnTo>
                    <a:pt x="0" y="1194"/>
                  </a:lnTo>
                  <a:lnTo>
                    <a:pt x="2" y="1204"/>
                  </a:lnTo>
                  <a:lnTo>
                    <a:pt x="2" y="1204"/>
                  </a:lnTo>
                  <a:lnTo>
                    <a:pt x="37" y="1121"/>
                  </a:lnTo>
                  <a:lnTo>
                    <a:pt x="73" y="1041"/>
                  </a:lnTo>
                  <a:lnTo>
                    <a:pt x="111" y="960"/>
                  </a:lnTo>
                  <a:lnTo>
                    <a:pt x="150" y="881"/>
                  </a:lnTo>
                  <a:lnTo>
                    <a:pt x="192" y="802"/>
                  </a:lnTo>
                  <a:lnTo>
                    <a:pt x="235" y="725"/>
                  </a:lnTo>
                  <a:lnTo>
                    <a:pt x="277" y="646"/>
                  </a:lnTo>
                  <a:lnTo>
                    <a:pt x="324" y="572"/>
                  </a:lnTo>
                  <a:lnTo>
                    <a:pt x="370" y="497"/>
                  </a:lnTo>
                  <a:lnTo>
                    <a:pt x="419" y="422"/>
                  </a:lnTo>
                  <a:lnTo>
                    <a:pt x="469" y="349"/>
                  </a:lnTo>
                  <a:lnTo>
                    <a:pt x="520" y="277"/>
                  </a:lnTo>
                  <a:lnTo>
                    <a:pt x="572" y="206"/>
                  </a:lnTo>
                  <a:lnTo>
                    <a:pt x="627" y="135"/>
                  </a:lnTo>
                  <a:lnTo>
                    <a:pt x="681" y="66"/>
                  </a:lnTo>
                  <a:lnTo>
                    <a:pt x="7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-1682640" y="18148320"/>
              <a:ext cx="788760" cy="321156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497" h="2023">
                  <a:moveTo>
                    <a:pt x="497" y="0"/>
                  </a:moveTo>
                  <a:lnTo>
                    <a:pt x="497" y="0"/>
                  </a:lnTo>
                  <a:lnTo>
                    <a:pt x="455" y="83"/>
                  </a:lnTo>
                  <a:lnTo>
                    <a:pt x="414" y="166"/>
                  </a:lnTo>
                  <a:lnTo>
                    <a:pt x="374" y="251"/>
                  </a:lnTo>
                  <a:lnTo>
                    <a:pt x="337" y="336"/>
                  </a:lnTo>
                  <a:lnTo>
                    <a:pt x="301" y="423"/>
                  </a:lnTo>
                  <a:lnTo>
                    <a:pt x="267" y="509"/>
                  </a:lnTo>
                  <a:lnTo>
                    <a:pt x="234" y="600"/>
                  </a:lnTo>
                  <a:lnTo>
                    <a:pt x="204" y="689"/>
                  </a:lnTo>
                  <a:lnTo>
                    <a:pt x="204" y="689"/>
                  </a:lnTo>
                  <a:lnTo>
                    <a:pt x="180" y="772"/>
                  </a:lnTo>
                  <a:lnTo>
                    <a:pt x="158" y="855"/>
                  </a:lnTo>
                  <a:lnTo>
                    <a:pt x="137" y="938"/>
                  </a:lnTo>
                  <a:lnTo>
                    <a:pt x="119" y="1023"/>
                  </a:lnTo>
                  <a:lnTo>
                    <a:pt x="101" y="1106"/>
                  </a:lnTo>
                  <a:lnTo>
                    <a:pt x="85" y="1191"/>
                  </a:lnTo>
                  <a:lnTo>
                    <a:pt x="71" y="1273"/>
                  </a:lnTo>
                  <a:lnTo>
                    <a:pt x="57" y="1358"/>
                  </a:lnTo>
                  <a:lnTo>
                    <a:pt x="46" y="1441"/>
                  </a:lnTo>
                  <a:lnTo>
                    <a:pt x="34" y="1526"/>
                  </a:lnTo>
                  <a:lnTo>
                    <a:pt x="26" y="1609"/>
                  </a:lnTo>
                  <a:lnTo>
                    <a:pt x="18" y="1692"/>
                  </a:lnTo>
                  <a:lnTo>
                    <a:pt x="12" y="1777"/>
                  </a:lnTo>
                  <a:lnTo>
                    <a:pt x="6" y="1860"/>
                  </a:lnTo>
                  <a:lnTo>
                    <a:pt x="2" y="1943"/>
                  </a:lnTo>
                  <a:lnTo>
                    <a:pt x="0" y="2023"/>
                  </a:lnTo>
                  <a:lnTo>
                    <a:pt x="0" y="2023"/>
                  </a:lnTo>
                  <a:lnTo>
                    <a:pt x="14" y="1870"/>
                  </a:lnTo>
                  <a:lnTo>
                    <a:pt x="34" y="1704"/>
                  </a:lnTo>
                  <a:lnTo>
                    <a:pt x="61" y="1534"/>
                  </a:lnTo>
                  <a:lnTo>
                    <a:pt x="91" y="1358"/>
                  </a:lnTo>
                  <a:lnTo>
                    <a:pt x="109" y="1271"/>
                  </a:lnTo>
                  <a:lnTo>
                    <a:pt x="127" y="1183"/>
                  </a:lnTo>
                  <a:lnTo>
                    <a:pt x="147" y="1096"/>
                  </a:lnTo>
                  <a:lnTo>
                    <a:pt x="168" y="1011"/>
                  </a:lnTo>
                  <a:lnTo>
                    <a:pt x="190" y="926"/>
                  </a:lnTo>
                  <a:lnTo>
                    <a:pt x="214" y="843"/>
                  </a:lnTo>
                  <a:lnTo>
                    <a:pt x="238" y="762"/>
                  </a:lnTo>
                  <a:lnTo>
                    <a:pt x="265" y="683"/>
                  </a:lnTo>
                  <a:lnTo>
                    <a:pt x="265" y="683"/>
                  </a:lnTo>
                  <a:lnTo>
                    <a:pt x="297" y="586"/>
                  </a:lnTo>
                  <a:lnTo>
                    <a:pt x="329" y="491"/>
                  </a:lnTo>
                  <a:lnTo>
                    <a:pt x="366" y="396"/>
                  </a:lnTo>
                  <a:lnTo>
                    <a:pt x="404" y="303"/>
                  </a:lnTo>
                  <a:lnTo>
                    <a:pt x="404" y="303"/>
                  </a:lnTo>
                  <a:lnTo>
                    <a:pt x="402" y="293"/>
                  </a:lnTo>
                  <a:lnTo>
                    <a:pt x="404" y="281"/>
                  </a:lnTo>
                  <a:lnTo>
                    <a:pt x="408" y="253"/>
                  </a:lnTo>
                  <a:lnTo>
                    <a:pt x="416" y="218"/>
                  </a:lnTo>
                  <a:lnTo>
                    <a:pt x="428" y="180"/>
                  </a:lnTo>
                  <a:lnTo>
                    <a:pt x="443" y="138"/>
                  </a:lnTo>
                  <a:lnTo>
                    <a:pt x="459" y="93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f8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-1682640" y="18148320"/>
              <a:ext cx="788760" cy="3211560"/>
            </a:xfrm>
            <a:custGeom>
              <a:avLst/>
              <a:gdLst>
                <a:gd name="textAreaLeft" fmla="*/ 0 w 788760"/>
                <a:gd name="textAreaRight" fmla="*/ 789120 w 788760"/>
                <a:gd name="textAreaTop" fmla="*/ 0 h 3211560"/>
                <a:gd name="textAreaBottom" fmla="*/ 3211920 h 3211560"/>
              </a:gdLst>
              <a:ahLst/>
              <a:rect l="textAreaLeft" t="textAreaTop" r="textAreaRight" b="textAreaBottom"/>
              <a:pathLst>
                <a:path w="497" h="2023">
                  <a:moveTo>
                    <a:pt x="497" y="0"/>
                  </a:moveTo>
                  <a:lnTo>
                    <a:pt x="497" y="0"/>
                  </a:lnTo>
                  <a:lnTo>
                    <a:pt x="455" y="83"/>
                  </a:lnTo>
                  <a:lnTo>
                    <a:pt x="414" y="166"/>
                  </a:lnTo>
                  <a:lnTo>
                    <a:pt x="374" y="251"/>
                  </a:lnTo>
                  <a:lnTo>
                    <a:pt x="337" y="336"/>
                  </a:lnTo>
                  <a:lnTo>
                    <a:pt x="301" y="423"/>
                  </a:lnTo>
                  <a:lnTo>
                    <a:pt x="267" y="509"/>
                  </a:lnTo>
                  <a:lnTo>
                    <a:pt x="234" y="600"/>
                  </a:lnTo>
                  <a:lnTo>
                    <a:pt x="204" y="689"/>
                  </a:lnTo>
                  <a:lnTo>
                    <a:pt x="204" y="689"/>
                  </a:lnTo>
                  <a:lnTo>
                    <a:pt x="180" y="772"/>
                  </a:lnTo>
                  <a:lnTo>
                    <a:pt x="158" y="855"/>
                  </a:lnTo>
                  <a:lnTo>
                    <a:pt x="137" y="938"/>
                  </a:lnTo>
                  <a:lnTo>
                    <a:pt x="119" y="1023"/>
                  </a:lnTo>
                  <a:lnTo>
                    <a:pt x="101" y="1106"/>
                  </a:lnTo>
                  <a:lnTo>
                    <a:pt x="85" y="1191"/>
                  </a:lnTo>
                  <a:lnTo>
                    <a:pt x="71" y="1273"/>
                  </a:lnTo>
                  <a:lnTo>
                    <a:pt x="57" y="1358"/>
                  </a:lnTo>
                  <a:lnTo>
                    <a:pt x="46" y="1441"/>
                  </a:lnTo>
                  <a:lnTo>
                    <a:pt x="34" y="1526"/>
                  </a:lnTo>
                  <a:lnTo>
                    <a:pt x="26" y="1609"/>
                  </a:lnTo>
                  <a:lnTo>
                    <a:pt x="18" y="1692"/>
                  </a:lnTo>
                  <a:lnTo>
                    <a:pt x="12" y="1777"/>
                  </a:lnTo>
                  <a:lnTo>
                    <a:pt x="6" y="1860"/>
                  </a:lnTo>
                  <a:lnTo>
                    <a:pt x="2" y="1943"/>
                  </a:lnTo>
                  <a:lnTo>
                    <a:pt x="0" y="2023"/>
                  </a:lnTo>
                  <a:lnTo>
                    <a:pt x="0" y="2023"/>
                  </a:lnTo>
                  <a:lnTo>
                    <a:pt x="14" y="1870"/>
                  </a:lnTo>
                  <a:lnTo>
                    <a:pt x="34" y="1704"/>
                  </a:lnTo>
                  <a:lnTo>
                    <a:pt x="61" y="1534"/>
                  </a:lnTo>
                  <a:lnTo>
                    <a:pt x="91" y="1358"/>
                  </a:lnTo>
                  <a:lnTo>
                    <a:pt x="109" y="1271"/>
                  </a:lnTo>
                  <a:lnTo>
                    <a:pt x="127" y="1183"/>
                  </a:lnTo>
                  <a:lnTo>
                    <a:pt x="147" y="1096"/>
                  </a:lnTo>
                  <a:lnTo>
                    <a:pt x="168" y="1011"/>
                  </a:lnTo>
                  <a:lnTo>
                    <a:pt x="190" y="926"/>
                  </a:lnTo>
                  <a:lnTo>
                    <a:pt x="214" y="843"/>
                  </a:lnTo>
                  <a:lnTo>
                    <a:pt x="238" y="762"/>
                  </a:lnTo>
                  <a:lnTo>
                    <a:pt x="265" y="683"/>
                  </a:lnTo>
                  <a:lnTo>
                    <a:pt x="265" y="683"/>
                  </a:lnTo>
                  <a:lnTo>
                    <a:pt x="297" y="586"/>
                  </a:lnTo>
                  <a:lnTo>
                    <a:pt x="329" y="491"/>
                  </a:lnTo>
                  <a:lnTo>
                    <a:pt x="366" y="396"/>
                  </a:lnTo>
                  <a:lnTo>
                    <a:pt x="404" y="303"/>
                  </a:lnTo>
                  <a:lnTo>
                    <a:pt x="404" y="303"/>
                  </a:lnTo>
                  <a:lnTo>
                    <a:pt x="402" y="293"/>
                  </a:lnTo>
                  <a:lnTo>
                    <a:pt x="404" y="281"/>
                  </a:lnTo>
                  <a:lnTo>
                    <a:pt x="408" y="253"/>
                  </a:lnTo>
                  <a:lnTo>
                    <a:pt x="416" y="218"/>
                  </a:lnTo>
                  <a:lnTo>
                    <a:pt x="428" y="180"/>
                  </a:lnTo>
                  <a:lnTo>
                    <a:pt x="443" y="138"/>
                  </a:lnTo>
                  <a:lnTo>
                    <a:pt x="459" y="93"/>
                  </a:lnTo>
                  <a:lnTo>
                    <a:pt x="49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26720" y="14760720"/>
              <a:ext cx="2746440" cy="19573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1957320"/>
                <a:gd name="textAreaBottom" fmla="*/ 1957320 h 1957320"/>
              </a:gdLst>
              <a:ahLst/>
              <a:rect l="textAreaLeft" t="textAreaTop" r="textAreaRight" b="textAreaBottom"/>
              <a:pathLst>
                <a:path w="1730" h="1233">
                  <a:moveTo>
                    <a:pt x="1730" y="0"/>
                  </a:moveTo>
                  <a:lnTo>
                    <a:pt x="1730" y="0"/>
                  </a:lnTo>
                  <a:lnTo>
                    <a:pt x="1643" y="34"/>
                  </a:lnTo>
                  <a:lnTo>
                    <a:pt x="1558" y="70"/>
                  </a:lnTo>
                  <a:lnTo>
                    <a:pt x="1473" y="109"/>
                  </a:lnTo>
                  <a:lnTo>
                    <a:pt x="1389" y="151"/>
                  </a:lnTo>
                  <a:lnTo>
                    <a:pt x="1389" y="151"/>
                  </a:lnTo>
                  <a:lnTo>
                    <a:pt x="1292" y="200"/>
                  </a:lnTo>
                  <a:lnTo>
                    <a:pt x="1197" y="250"/>
                  </a:lnTo>
                  <a:lnTo>
                    <a:pt x="1102" y="305"/>
                  </a:lnTo>
                  <a:lnTo>
                    <a:pt x="1009" y="361"/>
                  </a:lnTo>
                  <a:lnTo>
                    <a:pt x="916" y="422"/>
                  </a:lnTo>
                  <a:lnTo>
                    <a:pt x="825" y="483"/>
                  </a:lnTo>
                  <a:lnTo>
                    <a:pt x="734" y="547"/>
                  </a:lnTo>
                  <a:lnTo>
                    <a:pt x="647" y="614"/>
                  </a:lnTo>
                  <a:lnTo>
                    <a:pt x="560" y="685"/>
                  </a:lnTo>
                  <a:lnTo>
                    <a:pt x="473" y="756"/>
                  </a:lnTo>
                  <a:lnTo>
                    <a:pt x="390" y="830"/>
                  </a:lnTo>
                  <a:lnTo>
                    <a:pt x="307" y="905"/>
                  </a:lnTo>
                  <a:lnTo>
                    <a:pt x="228" y="984"/>
                  </a:lnTo>
                  <a:lnTo>
                    <a:pt x="149" y="1065"/>
                  </a:lnTo>
                  <a:lnTo>
                    <a:pt x="73" y="1148"/>
                  </a:lnTo>
                  <a:lnTo>
                    <a:pt x="0" y="1233"/>
                  </a:lnTo>
                  <a:lnTo>
                    <a:pt x="0" y="1233"/>
                  </a:lnTo>
                  <a:lnTo>
                    <a:pt x="67" y="1162"/>
                  </a:lnTo>
                  <a:lnTo>
                    <a:pt x="135" y="1091"/>
                  </a:lnTo>
                  <a:lnTo>
                    <a:pt x="206" y="1022"/>
                  </a:lnTo>
                  <a:lnTo>
                    <a:pt x="279" y="956"/>
                  </a:lnTo>
                  <a:lnTo>
                    <a:pt x="352" y="891"/>
                  </a:lnTo>
                  <a:lnTo>
                    <a:pt x="426" y="826"/>
                  </a:lnTo>
                  <a:lnTo>
                    <a:pt x="501" y="766"/>
                  </a:lnTo>
                  <a:lnTo>
                    <a:pt x="580" y="705"/>
                  </a:lnTo>
                  <a:lnTo>
                    <a:pt x="580" y="705"/>
                  </a:lnTo>
                  <a:lnTo>
                    <a:pt x="691" y="624"/>
                  </a:lnTo>
                  <a:lnTo>
                    <a:pt x="804" y="545"/>
                  </a:lnTo>
                  <a:lnTo>
                    <a:pt x="920" y="471"/>
                  </a:lnTo>
                  <a:lnTo>
                    <a:pt x="1037" y="398"/>
                  </a:lnTo>
                  <a:lnTo>
                    <a:pt x="1158" y="331"/>
                  </a:lnTo>
                  <a:lnTo>
                    <a:pt x="1279" y="266"/>
                  </a:lnTo>
                  <a:lnTo>
                    <a:pt x="1403" y="204"/>
                  </a:lnTo>
                  <a:lnTo>
                    <a:pt x="1528" y="147"/>
                  </a:lnTo>
                  <a:lnTo>
                    <a:pt x="1528" y="147"/>
                  </a:lnTo>
                  <a:lnTo>
                    <a:pt x="1526" y="141"/>
                  </a:lnTo>
                  <a:lnTo>
                    <a:pt x="1528" y="133"/>
                  </a:lnTo>
                  <a:lnTo>
                    <a:pt x="1534" y="123"/>
                  </a:lnTo>
                  <a:lnTo>
                    <a:pt x="1544" y="113"/>
                  </a:lnTo>
                  <a:lnTo>
                    <a:pt x="1544" y="113"/>
                  </a:lnTo>
                  <a:lnTo>
                    <a:pt x="1556" y="101"/>
                  </a:lnTo>
                  <a:lnTo>
                    <a:pt x="1572" y="89"/>
                  </a:lnTo>
                  <a:lnTo>
                    <a:pt x="1615" y="60"/>
                  </a:lnTo>
                  <a:lnTo>
                    <a:pt x="1667" y="30"/>
                  </a:lnTo>
                  <a:lnTo>
                    <a:pt x="1730" y="0"/>
                  </a:lnTo>
                  <a:close/>
                </a:path>
              </a:pathLst>
            </a:custGeom>
            <a:solidFill>
              <a:srgbClr val="fd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26720" y="14760720"/>
              <a:ext cx="2746440" cy="19573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1957320"/>
                <a:gd name="textAreaBottom" fmla="*/ 1957320 h 1957320"/>
              </a:gdLst>
              <a:ahLst/>
              <a:rect l="textAreaLeft" t="textAreaTop" r="textAreaRight" b="textAreaBottom"/>
              <a:pathLst>
                <a:path w="1730" h="1233">
                  <a:moveTo>
                    <a:pt x="1730" y="0"/>
                  </a:moveTo>
                  <a:lnTo>
                    <a:pt x="1730" y="0"/>
                  </a:lnTo>
                  <a:lnTo>
                    <a:pt x="1643" y="34"/>
                  </a:lnTo>
                  <a:lnTo>
                    <a:pt x="1558" y="70"/>
                  </a:lnTo>
                  <a:lnTo>
                    <a:pt x="1473" y="109"/>
                  </a:lnTo>
                  <a:lnTo>
                    <a:pt x="1389" y="151"/>
                  </a:lnTo>
                  <a:lnTo>
                    <a:pt x="1389" y="151"/>
                  </a:lnTo>
                  <a:lnTo>
                    <a:pt x="1292" y="200"/>
                  </a:lnTo>
                  <a:lnTo>
                    <a:pt x="1197" y="250"/>
                  </a:lnTo>
                  <a:lnTo>
                    <a:pt x="1102" y="305"/>
                  </a:lnTo>
                  <a:lnTo>
                    <a:pt x="1009" y="361"/>
                  </a:lnTo>
                  <a:lnTo>
                    <a:pt x="916" y="422"/>
                  </a:lnTo>
                  <a:lnTo>
                    <a:pt x="825" y="483"/>
                  </a:lnTo>
                  <a:lnTo>
                    <a:pt x="734" y="547"/>
                  </a:lnTo>
                  <a:lnTo>
                    <a:pt x="647" y="614"/>
                  </a:lnTo>
                  <a:lnTo>
                    <a:pt x="560" y="685"/>
                  </a:lnTo>
                  <a:lnTo>
                    <a:pt x="473" y="756"/>
                  </a:lnTo>
                  <a:lnTo>
                    <a:pt x="390" y="830"/>
                  </a:lnTo>
                  <a:lnTo>
                    <a:pt x="307" y="905"/>
                  </a:lnTo>
                  <a:lnTo>
                    <a:pt x="228" y="984"/>
                  </a:lnTo>
                  <a:lnTo>
                    <a:pt x="149" y="1065"/>
                  </a:lnTo>
                  <a:lnTo>
                    <a:pt x="73" y="1148"/>
                  </a:lnTo>
                  <a:lnTo>
                    <a:pt x="0" y="1233"/>
                  </a:lnTo>
                  <a:lnTo>
                    <a:pt x="0" y="1233"/>
                  </a:lnTo>
                  <a:lnTo>
                    <a:pt x="67" y="1162"/>
                  </a:lnTo>
                  <a:lnTo>
                    <a:pt x="135" y="1091"/>
                  </a:lnTo>
                  <a:lnTo>
                    <a:pt x="206" y="1022"/>
                  </a:lnTo>
                  <a:lnTo>
                    <a:pt x="279" y="956"/>
                  </a:lnTo>
                  <a:lnTo>
                    <a:pt x="352" y="891"/>
                  </a:lnTo>
                  <a:lnTo>
                    <a:pt x="426" y="826"/>
                  </a:lnTo>
                  <a:lnTo>
                    <a:pt x="501" y="766"/>
                  </a:lnTo>
                  <a:lnTo>
                    <a:pt x="580" y="705"/>
                  </a:lnTo>
                  <a:lnTo>
                    <a:pt x="580" y="705"/>
                  </a:lnTo>
                  <a:lnTo>
                    <a:pt x="691" y="624"/>
                  </a:lnTo>
                  <a:lnTo>
                    <a:pt x="804" y="545"/>
                  </a:lnTo>
                  <a:lnTo>
                    <a:pt x="920" y="471"/>
                  </a:lnTo>
                  <a:lnTo>
                    <a:pt x="1037" y="398"/>
                  </a:lnTo>
                  <a:lnTo>
                    <a:pt x="1158" y="331"/>
                  </a:lnTo>
                  <a:lnTo>
                    <a:pt x="1279" y="266"/>
                  </a:lnTo>
                  <a:lnTo>
                    <a:pt x="1403" y="204"/>
                  </a:lnTo>
                  <a:lnTo>
                    <a:pt x="1528" y="147"/>
                  </a:lnTo>
                  <a:lnTo>
                    <a:pt x="1528" y="147"/>
                  </a:lnTo>
                  <a:lnTo>
                    <a:pt x="1526" y="141"/>
                  </a:lnTo>
                  <a:lnTo>
                    <a:pt x="1528" y="133"/>
                  </a:lnTo>
                  <a:lnTo>
                    <a:pt x="1534" y="123"/>
                  </a:lnTo>
                  <a:lnTo>
                    <a:pt x="1544" y="113"/>
                  </a:lnTo>
                  <a:lnTo>
                    <a:pt x="1544" y="113"/>
                  </a:lnTo>
                  <a:lnTo>
                    <a:pt x="1556" y="101"/>
                  </a:lnTo>
                  <a:lnTo>
                    <a:pt x="1572" y="89"/>
                  </a:lnTo>
                  <a:lnTo>
                    <a:pt x="1615" y="60"/>
                  </a:lnTo>
                  <a:lnTo>
                    <a:pt x="1667" y="30"/>
                  </a:lnTo>
                  <a:lnTo>
                    <a:pt x="17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グループ化 44"/>
          <p:cNvGrpSpPr/>
          <p:nvPr/>
        </p:nvGrpSpPr>
        <p:grpSpPr>
          <a:xfrm>
            <a:off x="52560" y="282600"/>
            <a:ext cx="10402560" cy="5751360"/>
            <a:chOff x="52560" y="282600"/>
            <a:chExt cx="10402560" cy="5751360"/>
          </a:xfrm>
        </p:grpSpPr>
        <p:sp>
          <p:nvSpPr>
            <p:cNvPr id="79" name="Freeform 5"/>
            <p:cNvSpPr/>
            <p:nvPr/>
          </p:nvSpPr>
          <p:spPr>
            <a:xfrm>
              <a:off x="8039160" y="4098960"/>
              <a:ext cx="1933560" cy="1935000"/>
            </a:xfrm>
            <a:custGeom>
              <a:avLst/>
              <a:gdLst>
                <a:gd name="textAreaLeft" fmla="*/ 0 w 1933560"/>
                <a:gd name="textAreaRight" fmla="*/ 1933920 w 193356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218" h="1219">
                  <a:moveTo>
                    <a:pt x="608" y="1219"/>
                  </a:moveTo>
                  <a:lnTo>
                    <a:pt x="608" y="1219"/>
                  </a:lnTo>
                  <a:lnTo>
                    <a:pt x="606" y="1137"/>
                  </a:lnTo>
                  <a:lnTo>
                    <a:pt x="602" y="1061"/>
                  </a:lnTo>
                  <a:lnTo>
                    <a:pt x="598" y="1025"/>
                  </a:lnTo>
                  <a:lnTo>
                    <a:pt x="592" y="991"/>
                  </a:lnTo>
                  <a:lnTo>
                    <a:pt x="586" y="959"/>
                  </a:lnTo>
                  <a:lnTo>
                    <a:pt x="578" y="929"/>
                  </a:lnTo>
                  <a:lnTo>
                    <a:pt x="570" y="901"/>
                  </a:lnTo>
                  <a:lnTo>
                    <a:pt x="560" y="873"/>
                  </a:lnTo>
                  <a:lnTo>
                    <a:pt x="550" y="847"/>
                  </a:lnTo>
                  <a:lnTo>
                    <a:pt x="538" y="823"/>
                  </a:lnTo>
                  <a:lnTo>
                    <a:pt x="524" y="800"/>
                  </a:lnTo>
                  <a:lnTo>
                    <a:pt x="510" y="778"/>
                  </a:lnTo>
                  <a:lnTo>
                    <a:pt x="494" y="760"/>
                  </a:lnTo>
                  <a:lnTo>
                    <a:pt x="478" y="740"/>
                  </a:lnTo>
                  <a:lnTo>
                    <a:pt x="458" y="724"/>
                  </a:lnTo>
                  <a:lnTo>
                    <a:pt x="438" y="708"/>
                  </a:lnTo>
                  <a:lnTo>
                    <a:pt x="418" y="694"/>
                  </a:lnTo>
                  <a:lnTo>
                    <a:pt x="394" y="680"/>
                  </a:lnTo>
                  <a:lnTo>
                    <a:pt x="370" y="668"/>
                  </a:lnTo>
                  <a:lnTo>
                    <a:pt x="346" y="658"/>
                  </a:lnTo>
                  <a:lnTo>
                    <a:pt x="318" y="648"/>
                  </a:lnTo>
                  <a:lnTo>
                    <a:pt x="290" y="640"/>
                  </a:lnTo>
                  <a:lnTo>
                    <a:pt x="258" y="632"/>
                  </a:lnTo>
                  <a:lnTo>
                    <a:pt x="226" y="626"/>
                  </a:lnTo>
                  <a:lnTo>
                    <a:pt x="194" y="620"/>
                  </a:lnTo>
                  <a:lnTo>
                    <a:pt x="158" y="616"/>
                  </a:lnTo>
                  <a:lnTo>
                    <a:pt x="82" y="610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82" y="608"/>
                  </a:lnTo>
                  <a:lnTo>
                    <a:pt x="158" y="602"/>
                  </a:lnTo>
                  <a:lnTo>
                    <a:pt x="194" y="598"/>
                  </a:lnTo>
                  <a:lnTo>
                    <a:pt x="226" y="592"/>
                  </a:lnTo>
                  <a:lnTo>
                    <a:pt x="258" y="586"/>
                  </a:lnTo>
                  <a:lnTo>
                    <a:pt x="290" y="578"/>
                  </a:lnTo>
                  <a:lnTo>
                    <a:pt x="318" y="570"/>
                  </a:lnTo>
                  <a:lnTo>
                    <a:pt x="346" y="560"/>
                  </a:lnTo>
                  <a:lnTo>
                    <a:pt x="370" y="550"/>
                  </a:lnTo>
                  <a:lnTo>
                    <a:pt x="394" y="538"/>
                  </a:lnTo>
                  <a:lnTo>
                    <a:pt x="418" y="524"/>
                  </a:lnTo>
                  <a:lnTo>
                    <a:pt x="438" y="510"/>
                  </a:lnTo>
                  <a:lnTo>
                    <a:pt x="458" y="494"/>
                  </a:lnTo>
                  <a:lnTo>
                    <a:pt x="478" y="478"/>
                  </a:lnTo>
                  <a:lnTo>
                    <a:pt x="494" y="460"/>
                  </a:lnTo>
                  <a:lnTo>
                    <a:pt x="510" y="440"/>
                  </a:lnTo>
                  <a:lnTo>
                    <a:pt x="524" y="418"/>
                  </a:lnTo>
                  <a:lnTo>
                    <a:pt x="538" y="396"/>
                  </a:lnTo>
                  <a:lnTo>
                    <a:pt x="550" y="372"/>
                  </a:lnTo>
                  <a:lnTo>
                    <a:pt x="560" y="346"/>
                  </a:lnTo>
                  <a:lnTo>
                    <a:pt x="570" y="318"/>
                  </a:lnTo>
                  <a:lnTo>
                    <a:pt x="578" y="290"/>
                  </a:lnTo>
                  <a:lnTo>
                    <a:pt x="586" y="260"/>
                  </a:lnTo>
                  <a:lnTo>
                    <a:pt x="592" y="228"/>
                  </a:lnTo>
                  <a:lnTo>
                    <a:pt x="598" y="194"/>
                  </a:lnTo>
                  <a:lnTo>
                    <a:pt x="602" y="158"/>
                  </a:lnTo>
                  <a:lnTo>
                    <a:pt x="606" y="82"/>
                  </a:lnTo>
                  <a:lnTo>
                    <a:pt x="608" y="0"/>
                  </a:lnTo>
                  <a:lnTo>
                    <a:pt x="608" y="0"/>
                  </a:lnTo>
                  <a:lnTo>
                    <a:pt x="610" y="82"/>
                  </a:lnTo>
                  <a:lnTo>
                    <a:pt x="616" y="158"/>
                  </a:lnTo>
                  <a:lnTo>
                    <a:pt x="620" y="194"/>
                  </a:lnTo>
                  <a:lnTo>
                    <a:pt x="626" y="228"/>
                  </a:lnTo>
                  <a:lnTo>
                    <a:pt x="632" y="260"/>
                  </a:lnTo>
                  <a:lnTo>
                    <a:pt x="638" y="290"/>
                  </a:lnTo>
                  <a:lnTo>
                    <a:pt x="648" y="318"/>
                  </a:lnTo>
                  <a:lnTo>
                    <a:pt x="656" y="346"/>
                  </a:lnTo>
                  <a:lnTo>
                    <a:pt x="668" y="372"/>
                  </a:lnTo>
                  <a:lnTo>
                    <a:pt x="680" y="396"/>
                  </a:lnTo>
                  <a:lnTo>
                    <a:pt x="692" y="418"/>
                  </a:lnTo>
                  <a:lnTo>
                    <a:pt x="708" y="440"/>
                  </a:lnTo>
                  <a:lnTo>
                    <a:pt x="724" y="460"/>
                  </a:lnTo>
                  <a:lnTo>
                    <a:pt x="740" y="478"/>
                  </a:lnTo>
                  <a:lnTo>
                    <a:pt x="758" y="494"/>
                  </a:lnTo>
                  <a:lnTo>
                    <a:pt x="778" y="510"/>
                  </a:lnTo>
                  <a:lnTo>
                    <a:pt x="800" y="524"/>
                  </a:lnTo>
                  <a:lnTo>
                    <a:pt x="822" y="538"/>
                  </a:lnTo>
                  <a:lnTo>
                    <a:pt x="846" y="550"/>
                  </a:lnTo>
                  <a:lnTo>
                    <a:pt x="872" y="560"/>
                  </a:lnTo>
                  <a:lnTo>
                    <a:pt x="900" y="570"/>
                  </a:lnTo>
                  <a:lnTo>
                    <a:pt x="928" y="578"/>
                  </a:lnTo>
                  <a:lnTo>
                    <a:pt x="958" y="586"/>
                  </a:lnTo>
                  <a:lnTo>
                    <a:pt x="990" y="592"/>
                  </a:lnTo>
                  <a:lnTo>
                    <a:pt x="1024" y="598"/>
                  </a:lnTo>
                  <a:lnTo>
                    <a:pt x="1060" y="602"/>
                  </a:lnTo>
                  <a:lnTo>
                    <a:pt x="1136" y="608"/>
                  </a:lnTo>
                  <a:lnTo>
                    <a:pt x="1218" y="610"/>
                  </a:lnTo>
                  <a:lnTo>
                    <a:pt x="1218" y="610"/>
                  </a:lnTo>
                  <a:lnTo>
                    <a:pt x="1136" y="610"/>
                  </a:lnTo>
                  <a:lnTo>
                    <a:pt x="1060" y="616"/>
                  </a:lnTo>
                  <a:lnTo>
                    <a:pt x="1024" y="620"/>
                  </a:lnTo>
                  <a:lnTo>
                    <a:pt x="990" y="626"/>
                  </a:lnTo>
                  <a:lnTo>
                    <a:pt x="958" y="632"/>
                  </a:lnTo>
                  <a:lnTo>
                    <a:pt x="928" y="640"/>
                  </a:lnTo>
                  <a:lnTo>
                    <a:pt x="900" y="648"/>
                  </a:lnTo>
                  <a:lnTo>
                    <a:pt x="872" y="658"/>
                  </a:lnTo>
                  <a:lnTo>
                    <a:pt x="846" y="668"/>
                  </a:lnTo>
                  <a:lnTo>
                    <a:pt x="822" y="680"/>
                  </a:lnTo>
                  <a:lnTo>
                    <a:pt x="800" y="694"/>
                  </a:lnTo>
                  <a:lnTo>
                    <a:pt x="778" y="708"/>
                  </a:lnTo>
                  <a:lnTo>
                    <a:pt x="758" y="724"/>
                  </a:lnTo>
                  <a:lnTo>
                    <a:pt x="740" y="740"/>
                  </a:lnTo>
                  <a:lnTo>
                    <a:pt x="724" y="760"/>
                  </a:lnTo>
                  <a:lnTo>
                    <a:pt x="708" y="778"/>
                  </a:lnTo>
                  <a:lnTo>
                    <a:pt x="692" y="800"/>
                  </a:lnTo>
                  <a:lnTo>
                    <a:pt x="680" y="823"/>
                  </a:lnTo>
                  <a:lnTo>
                    <a:pt x="668" y="847"/>
                  </a:lnTo>
                  <a:lnTo>
                    <a:pt x="656" y="873"/>
                  </a:lnTo>
                  <a:lnTo>
                    <a:pt x="648" y="901"/>
                  </a:lnTo>
                  <a:lnTo>
                    <a:pt x="638" y="929"/>
                  </a:lnTo>
                  <a:lnTo>
                    <a:pt x="632" y="959"/>
                  </a:lnTo>
                  <a:lnTo>
                    <a:pt x="626" y="991"/>
                  </a:lnTo>
                  <a:lnTo>
                    <a:pt x="620" y="1025"/>
                  </a:lnTo>
                  <a:lnTo>
                    <a:pt x="616" y="1061"/>
                  </a:lnTo>
                  <a:lnTo>
                    <a:pt x="610" y="1137"/>
                  </a:lnTo>
                  <a:lnTo>
                    <a:pt x="608" y="1219"/>
                  </a:lnTo>
                  <a:lnTo>
                    <a:pt x="608" y="1219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52560" y="288720"/>
              <a:ext cx="1936440" cy="1933560"/>
            </a:xfrm>
            <a:custGeom>
              <a:avLst/>
              <a:gdLst>
                <a:gd name="textAreaLeft" fmla="*/ 0 w 1936440"/>
                <a:gd name="textAreaRight" fmla="*/ 1936800 w 1936440"/>
                <a:gd name="textAreaTop" fmla="*/ 0 h 1933560"/>
                <a:gd name="textAreaBottom" fmla="*/ 1933920 h 1933560"/>
              </a:gdLst>
              <a:ahLst/>
              <a:rect l="textAreaLeft" t="textAreaTop" r="textAreaRight" b="textAreaBottom"/>
              <a:pathLst>
                <a:path w="1220" h="1218">
                  <a:moveTo>
                    <a:pt x="610" y="1218"/>
                  </a:moveTo>
                  <a:lnTo>
                    <a:pt x="610" y="1218"/>
                  </a:lnTo>
                  <a:lnTo>
                    <a:pt x="608" y="1136"/>
                  </a:lnTo>
                  <a:lnTo>
                    <a:pt x="602" y="1060"/>
                  </a:lnTo>
                  <a:lnTo>
                    <a:pt x="598" y="1024"/>
                  </a:lnTo>
                  <a:lnTo>
                    <a:pt x="594" y="990"/>
                  </a:lnTo>
                  <a:lnTo>
                    <a:pt x="588" y="958"/>
                  </a:lnTo>
                  <a:lnTo>
                    <a:pt x="580" y="928"/>
                  </a:lnTo>
                  <a:lnTo>
                    <a:pt x="572" y="900"/>
                  </a:lnTo>
                  <a:lnTo>
                    <a:pt x="562" y="872"/>
                  </a:lnTo>
                  <a:lnTo>
                    <a:pt x="550" y="846"/>
                  </a:lnTo>
                  <a:lnTo>
                    <a:pt x="538" y="822"/>
                  </a:lnTo>
                  <a:lnTo>
                    <a:pt x="526" y="800"/>
                  </a:lnTo>
                  <a:lnTo>
                    <a:pt x="512" y="778"/>
                  </a:lnTo>
                  <a:lnTo>
                    <a:pt x="496" y="760"/>
                  </a:lnTo>
                  <a:lnTo>
                    <a:pt x="478" y="740"/>
                  </a:lnTo>
                  <a:lnTo>
                    <a:pt x="460" y="724"/>
                  </a:lnTo>
                  <a:lnTo>
                    <a:pt x="440" y="708"/>
                  </a:lnTo>
                  <a:lnTo>
                    <a:pt x="420" y="694"/>
                  </a:lnTo>
                  <a:lnTo>
                    <a:pt x="396" y="680"/>
                  </a:lnTo>
                  <a:lnTo>
                    <a:pt x="372" y="668"/>
                  </a:lnTo>
                  <a:lnTo>
                    <a:pt x="346" y="658"/>
                  </a:lnTo>
                  <a:lnTo>
                    <a:pt x="320" y="648"/>
                  </a:lnTo>
                  <a:lnTo>
                    <a:pt x="290" y="640"/>
                  </a:lnTo>
                  <a:lnTo>
                    <a:pt x="260" y="632"/>
                  </a:lnTo>
                  <a:lnTo>
                    <a:pt x="228" y="626"/>
                  </a:lnTo>
                  <a:lnTo>
                    <a:pt x="194" y="620"/>
                  </a:lnTo>
                  <a:lnTo>
                    <a:pt x="160" y="616"/>
                  </a:lnTo>
                  <a:lnTo>
                    <a:pt x="84" y="610"/>
                  </a:lnTo>
                  <a:lnTo>
                    <a:pt x="0" y="610"/>
                  </a:lnTo>
                  <a:lnTo>
                    <a:pt x="0" y="610"/>
                  </a:lnTo>
                  <a:lnTo>
                    <a:pt x="84" y="608"/>
                  </a:lnTo>
                  <a:lnTo>
                    <a:pt x="160" y="602"/>
                  </a:lnTo>
                  <a:lnTo>
                    <a:pt x="194" y="598"/>
                  </a:lnTo>
                  <a:lnTo>
                    <a:pt x="228" y="592"/>
                  </a:lnTo>
                  <a:lnTo>
                    <a:pt x="260" y="586"/>
                  </a:lnTo>
                  <a:lnTo>
                    <a:pt x="290" y="578"/>
                  </a:lnTo>
                  <a:lnTo>
                    <a:pt x="320" y="570"/>
                  </a:lnTo>
                  <a:lnTo>
                    <a:pt x="346" y="560"/>
                  </a:lnTo>
                  <a:lnTo>
                    <a:pt x="372" y="550"/>
                  </a:lnTo>
                  <a:lnTo>
                    <a:pt x="396" y="538"/>
                  </a:lnTo>
                  <a:lnTo>
                    <a:pt x="420" y="524"/>
                  </a:lnTo>
                  <a:lnTo>
                    <a:pt x="440" y="510"/>
                  </a:lnTo>
                  <a:lnTo>
                    <a:pt x="460" y="494"/>
                  </a:lnTo>
                  <a:lnTo>
                    <a:pt x="478" y="478"/>
                  </a:lnTo>
                  <a:lnTo>
                    <a:pt x="496" y="460"/>
                  </a:lnTo>
                  <a:lnTo>
                    <a:pt x="512" y="440"/>
                  </a:lnTo>
                  <a:lnTo>
                    <a:pt x="526" y="418"/>
                  </a:lnTo>
                  <a:lnTo>
                    <a:pt x="538" y="396"/>
                  </a:lnTo>
                  <a:lnTo>
                    <a:pt x="550" y="372"/>
                  </a:lnTo>
                  <a:lnTo>
                    <a:pt x="562" y="346"/>
                  </a:lnTo>
                  <a:lnTo>
                    <a:pt x="572" y="318"/>
                  </a:lnTo>
                  <a:lnTo>
                    <a:pt x="580" y="290"/>
                  </a:lnTo>
                  <a:lnTo>
                    <a:pt x="588" y="260"/>
                  </a:lnTo>
                  <a:lnTo>
                    <a:pt x="594" y="228"/>
                  </a:lnTo>
                  <a:lnTo>
                    <a:pt x="598" y="194"/>
                  </a:lnTo>
                  <a:lnTo>
                    <a:pt x="602" y="158"/>
                  </a:lnTo>
                  <a:lnTo>
                    <a:pt x="608" y="82"/>
                  </a:lnTo>
                  <a:lnTo>
                    <a:pt x="610" y="0"/>
                  </a:lnTo>
                  <a:lnTo>
                    <a:pt x="610" y="0"/>
                  </a:lnTo>
                  <a:lnTo>
                    <a:pt x="612" y="82"/>
                  </a:lnTo>
                  <a:lnTo>
                    <a:pt x="618" y="158"/>
                  </a:lnTo>
                  <a:lnTo>
                    <a:pt x="622" y="194"/>
                  </a:lnTo>
                  <a:lnTo>
                    <a:pt x="626" y="228"/>
                  </a:lnTo>
                  <a:lnTo>
                    <a:pt x="632" y="260"/>
                  </a:lnTo>
                  <a:lnTo>
                    <a:pt x="640" y="290"/>
                  </a:lnTo>
                  <a:lnTo>
                    <a:pt x="648" y="318"/>
                  </a:lnTo>
                  <a:lnTo>
                    <a:pt x="658" y="346"/>
                  </a:lnTo>
                  <a:lnTo>
                    <a:pt x="670" y="372"/>
                  </a:lnTo>
                  <a:lnTo>
                    <a:pt x="682" y="396"/>
                  </a:lnTo>
                  <a:lnTo>
                    <a:pt x="694" y="418"/>
                  </a:lnTo>
                  <a:lnTo>
                    <a:pt x="708" y="440"/>
                  </a:lnTo>
                  <a:lnTo>
                    <a:pt x="724" y="460"/>
                  </a:lnTo>
                  <a:lnTo>
                    <a:pt x="742" y="478"/>
                  </a:lnTo>
                  <a:lnTo>
                    <a:pt x="760" y="494"/>
                  </a:lnTo>
                  <a:lnTo>
                    <a:pt x="780" y="510"/>
                  </a:lnTo>
                  <a:lnTo>
                    <a:pt x="802" y="524"/>
                  </a:lnTo>
                  <a:lnTo>
                    <a:pt x="824" y="538"/>
                  </a:lnTo>
                  <a:lnTo>
                    <a:pt x="848" y="550"/>
                  </a:lnTo>
                  <a:lnTo>
                    <a:pt x="874" y="560"/>
                  </a:lnTo>
                  <a:lnTo>
                    <a:pt x="900" y="570"/>
                  </a:lnTo>
                  <a:lnTo>
                    <a:pt x="930" y="578"/>
                  </a:lnTo>
                  <a:lnTo>
                    <a:pt x="960" y="586"/>
                  </a:lnTo>
                  <a:lnTo>
                    <a:pt x="992" y="592"/>
                  </a:lnTo>
                  <a:lnTo>
                    <a:pt x="1026" y="598"/>
                  </a:lnTo>
                  <a:lnTo>
                    <a:pt x="1060" y="602"/>
                  </a:lnTo>
                  <a:lnTo>
                    <a:pt x="1136" y="608"/>
                  </a:lnTo>
                  <a:lnTo>
                    <a:pt x="1220" y="610"/>
                  </a:lnTo>
                  <a:lnTo>
                    <a:pt x="1220" y="610"/>
                  </a:lnTo>
                  <a:lnTo>
                    <a:pt x="1136" y="610"/>
                  </a:lnTo>
                  <a:lnTo>
                    <a:pt x="1060" y="616"/>
                  </a:lnTo>
                  <a:lnTo>
                    <a:pt x="1026" y="620"/>
                  </a:lnTo>
                  <a:lnTo>
                    <a:pt x="992" y="626"/>
                  </a:lnTo>
                  <a:lnTo>
                    <a:pt x="960" y="632"/>
                  </a:lnTo>
                  <a:lnTo>
                    <a:pt x="930" y="640"/>
                  </a:lnTo>
                  <a:lnTo>
                    <a:pt x="900" y="648"/>
                  </a:lnTo>
                  <a:lnTo>
                    <a:pt x="874" y="658"/>
                  </a:lnTo>
                  <a:lnTo>
                    <a:pt x="848" y="668"/>
                  </a:lnTo>
                  <a:lnTo>
                    <a:pt x="824" y="680"/>
                  </a:lnTo>
                  <a:lnTo>
                    <a:pt x="802" y="694"/>
                  </a:lnTo>
                  <a:lnTo>
                    <a:pt x="780" y="708"/>
                  </a:lnTo>
                  <a:lnTo>
                    <a:pt x="760" y="724"/>
                  </a:lnTo>
                  <a:lnTo>
                    <a:pt x="742" y="740"/>
                  </a:lnTo>
                  <a:lnTo>
                    <a:pt x="724" y="760"/>
                  </a:lnTo>
                  <a:lnTo>
                    <a:pt x="708" y="778"/>
                  </a:lnTo>
                  <a:lnTo>
                    <a:pt x="694" y="800"/>
                  </a:lnTo>
                  <a:lnTo>
                    <a:pt x="682" y="822"/>
                  </a:lnTo>
                  <a:lnTo>
                    <a:pt x="670" y="846"/>
                  </a:lnTo>
                  <a:lnTo>
                    <a:pt x="658" y="872"/>
                  </a:lnTo>
                  <a:lnTo>
                    <a:pt x="648" y="900"/>
                  </a:lnTo>
                  <a:lnTo>
                    <a:pt x="640" y="928"/>
                  </a:lnTo>
                  <a:lnTo>
                    <a:pt x="632" y="958"/>
                  </a:lnTo>
                  <a:lnTo>
                    <a:pt x="626" y="990"/>
                  </a:lnTo>
                  <a:lnTo>
                    <a:pt x="622" y="1024"/>
                  </a:lnTo>
                  <a:lnTo>
                    <a:pt x="618" y="1060"/>
                  </a:lnTo>
                  <a:lnTo>
                    <a:pt x="612" y="1136"/>
                  </a:lnTo>
                  <a:lnTo>
                    <a:pt x="610" y="1218"/>
                  </a:lnTo>
                  <a:lnTo>
                    <a:pt x="610" y="121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9124920" y="3432240"/>
              <a:ext cx="1330200" cy="133020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38" h="838">
                  <a:moveTo>
                    <a:pt x="420" y="838"/>
                  </a:moveTo>
                  <a:lnTo>
                    <a:pt x="420" y="838"/>
                  </a:lnTo>
                  <a:lnTo>
                    <a:pt x="418" y="782"/>
                  </a:lnTo>
                  <a:lnTo>
                    <a:pt x="414" y="730"/>
                  </a:lnTo>
                  <a:lnTo>
                    <a:pt x="408" y="682"/>
                  </a:lnTo>
                  <a:lnTo>
                    <a:pt x="398" y="640"/>
                  </a:lnTo>
                  <a:lnTo>
                    <a:pt x="386" y="600"/>
                  </a:lnTo>
                  <a:lnTo>
                    <a:pt x="370" y="566"/>
                  </a:lnTo>
                  <a:lnTo>
                    <a:pt x="362" y="550"/>
                  </a:lnTo>
                  <a:lnTo>
                    <a:pt x="352" y="536"/>
                  </a:lnTo>
                  <a:lnTo>
                    <a:pt x="342" y="522"/>
                  </a:lnTo>
                  <a:lnTo>
                    <a:pt x="330" y="510"/>
                  </a:lnTo>
                  <a:lnTo>
                    <a:pt x="316" y="498"/>
                  </a:lnTo>
                  <a:lnTo>
                    <a:pt x="304" y="488"/>
                  </a:lnTo>
                  <a:lnTo>
                    <a:pt x="288" y="478"/>
                  </a:lnTo>
                  <a:lnTo>
                    <a:pt x="272" y="468"/>
                  </a:lnTo>
                  <a:lnTo>
                    <a:pt x="238" y="452"/>
                  </a:lnTo>
                  <a:lnTo>
                    <a:pt x="200" y="440"/>
                  </a:lnTo>
                  <a:lnTo>
                    <a:pt x="158" y="432"/>
                  </a:lnTo>
                  <a:lnTo>
                    <a:pt x="110" y="424"/>
                  </a:lnTo>
                  <a:lnTo>
                    <a:pt x="58" y="420"/>
                  </a:lnTo>
                  <a:lnTo>
                    <a:pt x="0" y="420"/>
                  </a:lnTo>
                  <a:lnTo>
                    <a:pt x="0" y="420"/>
                  </a:lnTo>
                  <a:lnTo>
                    <a:pt x="58" y="418"/>
                  </a:lnTo>
                  <a:lnTo>
                    <a:pt x="110" y="414"/>
                  </a:lnTo>
                  <a:lnTo>
                    <a:pt x="158" y="408"/>
                  </a:lnTo>
                  <a:lnTo>
                    <a:pt x="200" y="398"/>
                  </a:lnTo>
                  <a:lnTo>
                    <a:pt x="238" y="386"/>
                  </a:lnTo>
                  <a:lnTo>
                    <a:pt x="272" y="370"/>
                  </a:lnTo>
                  <a:lnTo>
                    <a:pt x="288" y="362"/>
                  </a:lnTo>
                  <a:lnTo>
                    <a:pt x="304" y="352"/>
                  </a:lnTo>
                  <a:lnTo>
                    <a:pt x="316" y="340"/>
                  </a:lnTo>
                  <a:lnTo>
                    <a:pt x="330" y="330"/>
                  </a:lnTo>
                  <a:lnTo>
                    <a:pt x="342" y="316"/>
                  </a:lnTo>
                  <a:lnTo>
                    <a:pt x="352" y="302"/>
                  </a:lnTo>
                  <a:lnTo>
                    <a:pt x="362" y="288"/>
                  </a:lnTo>
                  <a:lnTo>
                    <a:pt x="370" y="272"/>
                  </a:lnTo>
                  <a:lnTo>
                    <a:pt x="386" y="238"/>
                  </a:lnTo>
                  <a:lnTo>
                    <a:pt x="398" y="200"/>
                  </a:lnTo>
                  <a:lnTo>
                    <a:pt x="408" y="158"/>
                  </a:lnTo>
                  <a:lnTo>
                    <a:pt x="414" y="110"/>
                  </a:lnTo>
                  <a:lnTo>
                    <a:pt x="418" y="58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22" y="58"/>
                  </a:lnTo>
                  <a:lnTo>
                    <a:pt x="424" y="110"/>
                  </a:lnTo>
                  <a:lnTo>
                    <a:pt x="432" y="158"/>
                  </a:lnTo>
                  <a:lnTo>
                    <a:pt x="440" y="200"/>
                  </a:lnTo>
                  <a:lnTo>
                    <a:pt x="454" y="238"/>
                  </a:lnTo>
                  <a:lnTo>
                    <a:pt x="468" y="272"/>
                  </a:lnTo>
                  <a:lnTo>
                    <a:pt x="478" y="288"/>
                  </a:lnTo>
                  <a:lnTo>
                    <a:pt x="488" y="302"/>
                  </a:lnTo>
                  <a:lnTo>
                    <a:pt x="498" y="316"/>
                  </a:lnTo>
                  <a:lnTo>
                    <a:pt x="510" y="330"/>
                  </a:lnTo>
                  <a:lnTo>
                    <a:pt x="522" y="340"/>
                  </a:lnTo>
                  <a:lnTo>
                    <a:pt x="536" y="352"/>
                  </a:lnTo>
                  <a:lnTo>
                    <a:pt x="552" y="362"/>
                  </a:lnTo>
                  <a:lnTo>
                    <a:pt x="566" y="370"/>
                  </a:lnTo>
                  <a:lnTo>
                    <a:pt x="600" y="386"/>
                  </a:lnTo>
                  <a:lnTo>
                    <a:pt x="640" y="398"/>
                  </a:lnTo>
                  <a:lnTo>
                    <a:pt x="682" y="408"/>
                  </a:lnTo>
                  <a:lnTo>
                    <a:pt x="730" y="414"/>
                  </a:lnTo>
                  <a:lnTo>
                    <a:pt x="782" y="418"/>
                  </a:lnTo>
                  <a:lnTo>
                    <a:pt x="838" y="420"/>
                  </a:lnTo>
                  <a:lnTo>
                    <a:pt x="838" y="420"/>
                  </a:lnTo>
                  <a:lnTo>
                    <a:pt x="782" y="420"/>
                  </a:lnTo>
                  <a:lnTo>
                    <a:pt x="730" y="424"/>
                  </a:lnTo>
                  <a:lnTo>
                    <a:pt x="682" y="432"/>
                  </a:lnTo>
                  <a:lnTo>
                    <a:pt x="640" y="440"/>
                  </a:lnTo>
                  <a:lnTo>
                    <a:pt x="600" y="452"/>
                  </a:lnTo>
                  <a:lnTo>
                    <a:pt x="566" y="468"/>
                  </a:lnTo>
                  <a:lnTo>
                    <a:pt x="552" y="478"/>
                  </a:lnTo>
                  <a:lnTo>
                    <a:pt x="536" y="488"/>
                  </a:lnTo>
                  <a:lnTo>
                    <a:pt x="522" y="498"/>
                  </a:lnTo>
                  <a:lnTo>
                    <a:pt x="510" y="510"/>
                  </a:lnTo>
                  <a:lnTo>
                    <a:pt x="498" y="522"/>
                  </a:lnTo>
                  <a:lnTo>
                    <a:pt x="488" y="536"/>
                  </a:lnTo>
                  <a:lnTo>
                    <a:pt x="478" y="550"/>
                  </a:lnTo>
                  <a:lnTo>
                    <a:pt x="468" y="566"/>
                  </a:lnTo>
                  <a:lnTo>
                    <a:pt x="454" y="600"/>
                  </a:lnTo>
                  <a:lnTo>
                    <a:pt x="440" y="640"/>
                  </a:lnTo>
                  <a:lnTo>
                    <a:pt x="432" y="682"/>
                  </a:lnTo>
                  <a:lnTo>
                    <a:pt x="424" y="730"/>
                  </a:lnTo>
                  <a:lnTo>
                    <a:pt x="422" y="782"/>
                  </a:lnTo>
                  <a:lnTo>
                    <a:pt x="420" y="838"/>
                  </a:lnTo>
                  <a:lnTo>
                    <a:pt x="420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1795320" y="282600"/>
              <a:ext cx="977760" cy="9777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16" h="616">
                  <a:moveTo>
                    <a:pt x="308" y="616"/>
                  </a:moveTo>
                  <a:lnTo>
                    <a:pt x="308" y="616"/>
                  </a:lnTo>
                  <a:lnTo>
                    <a:pt x="308" y="574"/>
                  </a:lnTo>
                  <a:lnTo>
                    <a:pt x="306" y="536"/>
                  </a:lnTo>
                  <a:lnTo>
                    <a:pt x="300" y="502"/>
                  </a:lnTo>
                  <a:lnTo>
                    <a:pt x="294" y="470"/>
                  </a:lnTo>
                  <a:lnTo>
                    <a:pt x="284" y="442"/>
                  </a:lnTo>
                  <a:lnTo>
                    <a:pt x="272" y="416"/>
                  </a:lnTo>
                  <a:lnTo>
                    <a:pt x="258" y="394"/>
                  </a:lnTo>
                  <a:lnTo>
                    <a:pt x="242" y="374"/>
                  </a:lnTo>
                  <a:lnTo>
                    <a:pt x="224" y="358"/>
                  </a:lnTo>
                  <a:lnTo>
                    <a:pt x="200" y="344"/>
                  </a:lnTo>
                  <a:lnTo>
                    <a:pt x="176" y="332"/>
                  </a:lnTo>
                  <a:lnTo>
                    <a:pt x="148" y="324"/>
                  </a:lnTo>
                  <a:lnTo>
                    <a:pt x="116" y="316"/>
                  </a:lnTo>
                  <a:lnTo>
                    <a:pt x="82" y="312"/>
                  </a:lnTo>
                  <a:lnTo>
                    <a:pt x="42" y="310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42" y="308"/>
                  </a:lnTo>
                  <a:lnTo>
                    <a:pt x="82" y="304"/>
                  </a:lnTo>
                  <a:lnTo>
                    <a:pt x="116" y="300"/>
                  </a:lnTo>
                  <a:lnTo>
                    <a:pt x="148" y="294"/>
                  </a:lnTo>
                  <a:lnTo>
                    <a:pt x="176" y="284"/>
                  </a:lnTo>
                  <a:lnTo>
                    <a:pt x="200" y="272"/>
                  </a:lnTo>
                  <a:lnTo>
                    <a:pt x="224" y="258"/>
                  </a:lnTo>
                  <a:lnTo>
                    <a:pt x="242" y="242"/>
                  </a:lnTo>
                  <a:lnTo>
                    <a:pt x="258" y="222"/>
                  </a:lnTo>
                  <a:lnTo>
                    <a:pt x="272" y="200"/>
                  </a:lnTo>
                  <a:lnTo>
                    <a:pt x="284" y="176"/>
                  </a:lnTo>
                  <a:lnTo>
                    <a:pt x="294" y="146"/>
                  </a:lnTo>
                  <a:lnTo>
                    <a:pt x="300" y="116"/>
                  </a:lnTo>
                  <a:lnTo>
                    <a:pt x="306" y="80"/>
                  </a:lnTo>
                  <a:lnTo>
                    <a:pt x="308" y="4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10" y="42"/>
                  </a:lnTo>
                  <a:lnTo>
                    <a:pt x="312" y="80"/>
                  </a:lnTo>
                  <a:lnTo>
                    <a:pt x="318" y="116"/>
                  </a:lnTo>
                  <a:lnTo>
                    <a:pt x="324" y="146"/>
                  </a:lnTo>
                  <a:lnTo>
                    <a:pt x="334" y="176"/>
                  </a:lnTo>
                  <a:lnTo>
                    <a:pt x="344" y="200"/>
                  </a:lnTo>
                  <a:lnTo>
                    <a:pt x="358" y="222"/>
                  </a:lnTo>
                  <a:lnTo>
                    <a:pt x="376" y="242"/>
                  </a:lnTo>
                  <a:lnTo>
                    <a:pt x="394" y="258"/>
                  </a:lnTo>
                  <a:lnTo>
                    <a:pt x="416" y="272"/>
                  </a:lnTo>
                  <a:lnTo>
                    <a:pt x="442" y="284"/>
                  </a:lnTo>
                  <a:lnTo>
                    <a:pt x="470" y="294"/>
                  </a:lnTo>
                  <a:lnTo>
                    <a:pt x="502" y="300"/>
                  </a:lnTo>
                  <a:lnTo>
                    <a:pt x="536" y="304"/>
                  </a:lnTo>
                  <a:lnTo>
                    <a:pt x="574" y="308"/>
                  </a:lnTo>
                  <a:lnTo>
                    <a:pt x="616" y="308"/>
                  </a:lnTo>
                  <a:lnTo>
                    <a:pt x="616" y="308"/>
                  </a:lnTo>
                  <a:lnTo>
                    <a:pt x="574" y="310"/>
                  </a:lnTo>
                  <a:lnTo>
                    <a:pt x="536" y="312"/>
                  </a:lnTo>
                  <a:lnTo>
                    <a:pt x="502" y="316"/>
                  </a:lnTo>
                  <a:lnTo>
                    <a:pt x="470" y="324"/>
                  </a:lnTo>
                  <a:lnTo>
                    <a:pt x="442" y="332"/>
                  </a:lnTo>
                  <a:lnTo>
                    <a:pt x="416" y="344"/>
                  </a:lnTo>
                  <a:lnTo>
                    <a:pt x="394" y="358"/>
                  </a:lnTo>
                  <a:lnTo>
                    <a:pt x="376" y="374"/>
                  </a:lnTo>
                  <a:lnTo>
                    <a:pt x="358" y="394"/>
                  </a:lnTo>
                  <a:lnTo>
                    <a:pt x="344" y="416"/>
                  </a:lnTo>
                  <a:lnTo>
                    <a:pt x="334" y="442"/>
                  </a:lnTo>
                  <a:lnTo>
                    <a:pt x="324" y="470"/>
                  </a:lnTo>
                  <a:lnTo>
                    <a:pt x="318" y="502"/>
                  </a:lnTo>
                  <a:lnTo>
                    <a:pt x="312" y="536"/>
                  </a:lnTo>
                  <a:lnTo>
                    <a:pt x="310" y="574"/>
                  </a:lnTo>
                  <a:lnTo>
                    <a:pt x="308" y="616"/>
                  </a:lnTo>
                  <a:lnTo>
                    <a:pt x="308" y="61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954000" y="4819680"/>
              <a:ext cx="977760" cy="97920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616" h="617">
                  <a:moveTo>
                    <a:pt x="308" y="617"/>
                  </a:moveTo>
                  <a:lnTo>
                    <a:pt x="308" y="617"/>
                  </a:lnTo>
                  <a:lnTo>
                    <a:pt x="308" y="575"/>
                  </a:lnTo>
                  <a:lnTo>
                    <a:pt x="306" y="537"/>
                  </a:lnTo>
                  <a:lnTo>
                    <a:pt x="300" y="501"/>
                  </a:lnTo>
                  <a:lnTo>
                    <a:pt x="294" y="469"/>
                  </a:lnTo>
                  <a:lnTo>
                    <a:pt x="284" y="441"/>
                  </a:lnTo>
                  <a:lnTo>
                    <a:pt x="272" y="417"/>
                  </a:lnTo>
                  <a:lnTo>
                    <a:pt x="258" y="395"/>
                  </a:lnTo>
                  <a:lnTo>
                    <a:pt x="242" y="375"/>
                  </a:lnTo>
                  <a:lnTo>
                    <a:pt x="222" y="358"/>
                  </a:lnTo>
                  <a:lnTo>
                    <a:pt x="200" y="344"/>
                  </a:lnTo>
                  <a:lnTo>
                    <a:pt x="176" y="332"/>
                  </a:lnTo>
                  <a:lnTo>
                    <a:pt x="148" y="322"/>
                  </a:lnTo>
                  <a:lnTo>
                    <a:pt x="116" y="316"/>
                  </a:lnTo>
                  <a:lnTo>
                    <a:pt x="80" y="312"/>
                  </a:lnTo>
                  <a:lnTo>
                    <a:pt x="42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42" y="306"/>
                  </a:lnTo>
                  <a:lnTo>
                    <a:pt x="80" y="304"/>
                  </a:lnTo>
                  <a:lnTo>
                    <a:pt x="116" y="300"/>
                  </a:lnTo>
                  <a:lnTo>
                    <a:pt x="148" y="292"/>
                  </a:lnTo>
                  <a:lnTo>
                    <a:pt x="176" y="284"/>
                  </a:lnTo>
                  <a:lnTo>
                    <a:pt x="200" y="272"/>
                  </a:lnTo>
                  <a:lnTo>
                    <a:pt x="222" y="258"/>
                  </a:lnTo>
                  <a:lnTo>
                    <a:pt x="242" y="242"/>
                  </a:lnTo>
                  <a:lnTo>
                    <a:pt x="258" y="222"/>
                  </a:lnTo>
                  <a:lnTo>
                    <a:pt x="272" y="200"/>
                  </a:lnTo>
                  <a:lnTo>
                    <a:pt x="284" y="174"/>
                  </a:lnTo>
                  <a:lnTo>
                    <a:pt x="294" y="146"/>
                  </a:lnTo>
                  <a:lnTo>
                    <a:pt x="300" y="114"/>
                  </a:lnTo>
                  <a:lnTo>
                    <a:pt x="306" y="80"/>
                  </a:lnTo>
                  <a:lnTo>
                    <a:pt x="308" y="4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10" y="42"/>
                  </a:lnTo>
                  <a:lnTo>
                    <a:pt x="312" y="80"/>
                  </a:lnTo>
                  <a:lnTo>
                    <a:pt x="318" y="114"/>
                  </a:lnTo>
                  <a:lnTo>
                    <a:pt x="324" y="146"/>
                  </a:lnTo>
                  <a:lnTo>
                    <a:pt x="334" y="174"/>
                  </a:lnTo>
                  <a:lnTo>
                    <a:pt x="344" y="200"/>
                  </a:lnTo>
                  <a:lnTo>
                    <a:pt x="358" y="222"/>
                  </a:lnTo>
                  <a:lnTo>
                    <a:pt x="376" y="242"/>
                  </a:lnTo>
                  <a:lnTo>
                    <a:pt x="394" y="258"/>
                  </a:lnTo>
                  <a:lnTo>
                    <a:pt x="416" y="272"/>
                  </a:lnTo>
                  <a:lnTo>
                    <a:pt x="442" y="284"/>
                  </a:lnTo>
                  <a:lnTo>
                    <a:pt x="470" y="292"/>
                  </a:lnTo>
                  <a:lnTo>
                    <a:pt x="502" y="300"/>
                  </a:lnTo>
                  <a:lnTo>
                    <a:pt x="536" y="304"/>
                  </a:lnTo>
                  <a:lnTo>
                    <a:pt x="574" y="306"/>
                  </a:lnTo>
                  <a:lnTo>
                    <a:pt x="616" y="308"/>
                  </a:lnTo>
                  <a:lnTo>
                    <a:pt x="616" y="308"/>
                  </a:lnTo>
                  <a:lnTo>
                    <a:pt x="574" y="308"/>
                  </a:lnTo>
                  <a:lnTo>
                    <a:pt x="536" y="312"/>
                  </a:lnTo>
                  <a:lnTo>
                    <a:pt x="502" y="316"/>
                  </a:lnTo>
                  <a:lnTo>
                    <a:pt x="470" y="322"/>
                  </a:lnTo>
                  <a:lnTo>
                    <a:pt x="442" y="332"/>
                  </a:lnTo>
                  <a:lnTo>
                    <a:pt x="416" y="344"/>
                  </a:lnTo>
                  <a:lnTo>
                    <a:pt x="394" y="358"/>
                  </a:lnTo>
                  <a:lnTo>
                    <a:pt x="376" y="375"/>
                  </a:lnTo>
                  <a:lnTo>
                    <a:pt x="358" y="395"/>
                  </a:lnTo>
                  <a:lnTo>
                    <a:pt x="344" y="417"/>
                  </a:lnTo>
                  <a:lnTo>
                    <a:pt x="334" y="441"/>
                  </a:lnTo>
                  <a:lnTo>
                    <a:pt x="324" y="469"/>
                  </a:lnTo>
                  <a:lnTo>
                    <a:pt x="318" y="501"/>
                  </a:lnTo>
                  <a:lnTo>
                    <a:pt x="312" y="537"/>
                  </a:lnTo>
                  <a:lnTo>
                    <a:pt x="310" y="575"/>
                  </a:lnTo>
                  <a:lnTo>
                    <a:pt x="308" y="617"/>
                  </a:lnTo>
                  <a:lnTo>
                    <a:pt x="308" y="61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109440" y="2279520"/>
              <a:ext cx="977760" cy="9777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16" h="616">
                  <a:moveTo>
                    <a:pt x="308" y="616"/>
                  </a:moveTo>
                  <a:lnTo>
                    <a:pt x="308" y="616"/>
                  </a:lnTo>
                  <a:lnTo>
                    <a:pt x="306" y="574"/>
                  </a:lnTo>
                  <a:lnTo>
                    <a:pt x="304" y="536"/>
                  </a:lnTo>
                  <a:lnTo>
                    <a:pt x="298" y="500"/>
                  </a:lnTo>
                  <a:lnTo>
                    <a:pt x="292" y="468"/>
                  </a:lnTo>
                  <a:lnTo>
                    <a:pt x="282" y="440"/>
                  </a:lnTo>
                  <a:lnTo>
                    <a:pt x="272" y="416"/>
                  </a:lnTo>
                  <a:lnTo>
                    <a:pt x="258" y="394"/>
                  </a:lnTo>
                  <a:lnTo>
                    <a:pt x="240" y="374"/>
                  </a:lnTo>
                  <a:lnTo>
                    <a:pt x="222" y="358"/>
                  </a:lnTo>
                  <a:lnTo>
                    <a:pt x="200" y="344"/>
                  </a:lnTo>
                  <a:lnTo>
                    <a:pt x="174" y="332"/>
                  </a:lnTo>
                  <a:lnTo>
                    <a:pt x="146" y="322"/>
                  </a:lnTo>
                  <a:lnTo>
                    <a:pt x="114" y="316"/>
                  </a:lnTo>
                  <a:lnTo>
                    <a:pt x="80" y="312"/>
                  </a:lnTo>
                  <a:lnTo>
                    <a:pt x="42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42" y="306"/>
                  </a:lnTo>
                  <a:lnTo>
                    <a:pt x="80" y="304"/>
                  </a:lnTo>
                  <a:lnTo>
                    <a:pt x="114" y="300"/>
                  </a:lnTo>
                  <a:lnTo>
                    <a:pt x="146" y="292"/>
                  </a:lnTo>
                  <a:lnTo>
                    <a:pt x="174" y="284"/>
                  </a:lnTo>
                  <a:lnTo>
                    <a:pt x="200" y="272"/>
                  </a:lnTo>
                  <a:lnTo>
                    <a:pt x="222" y="258"/>
                  </a:lnTo>
                  <a:lnTo>
                    <a:pt x="240" y="242"/>
                  </a:lnTo>
                  <a:lnTo>
                    <a:pt x="258" y="222"/>
                  </a:lnTo>
                  <a:lnTo>
                    <a:pt x="272" y="200"/>
                  </a:lnTo>
                  <a:lnTo>
                    <a:pt x="282" y="174"/>
                  </a:lnTo>
                  <a:lnTo>
                    <a:pt x="292" y="146"/>
                  </a:lnTo>
                  <a:lnTo>
                    <a:pt x="298" y="114"/>
                  </a:lnTo>
                  <a:lnTo>
                    <a:pt x="304" y="80"/>
                  </a:lnTo>
                  <a:lnTo>
                    <a:pt x="306" y="4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42"/>
                  </a:lnTo>
                  <a:lnTo>
                    <a:pt x="312" y="80"/>
                  </a:lnTo>
                  <a:lnTo>
                    <a:pt x="316" y="114"/>
                  </a:lnTo>
                  <a:lnTo>
                    <a:pt x="322" y="146"/>
                  </a:lnTo>
                  <a:lnTo>
                    <a:pt x="332" y="174"/>
                  </a:lnTo>
                  <a:lnTo>
                    <a:pt x="344" y="200"/>
                  </a:lnTo>
                  <a:lnTo>
                    <a:pt x="358" y="222"/>
                  </a:lnTo>
                  <a:lnTo>
                    <a:pt x="374" y="242"/>
                  </a:lnTo>
                  <a:lnTo>
                    <a:pt x="394" y="258"/>
                  </a:lnTo>
                  <a:lnTo>
                    <a:pt x="416" y="272"/>
                  </a:lnTo>
                  <a:lnTo>
                    <a:pt x="440" y="284"/>
                  </a:lnTo>
                  <a:lnTo>
                    <a:pt x="468" y="292"/>
                  </a:lnTo>
                  <a:lnTo>
                    <a:pt x="500" y="300"/>
                  </a:lnTo>
                  <a:lnTo>
                    <a:pt x="536" y="304"/>
                  </a:lnTo>
                  <a:lnTo>
                    <a:pt x="574" y="306"/>
                  </a:lnTo>
                  <a:lnTo>
                    <a:pt x="616" y="308"/>
                  </a:lnTo>
                  <a:lnTo>
                    <a:pt x="616" y="308"/>
                  </a:lnTo>
                  <a:lnTo>
                    <a:pt x="574" y="308"/>
                  </a:lnTo>
                  <a:lnTo>
                    <a:pt x="536" y="312"/>
                  </a:lnTo>
                  <a:lnTo>
                    <a:pt x="500" y="316"/>
                  </a:lnTo>
                  <a:lnTo>
                    <a:pt x="468" y="322"/>
                  </a:lnTo>
                  <a:lnTo>
                    <a:pt x="440" y="332"/>
                  </a:lnTo>
                  <a:lnTo>
                    <a:pt x="416" y="344"/>
                  </a:lnTo>
                  <a:lnTo>
                    <a:pt x="394" y="358"/>
                  </a:lnTo>
                  <a:lnTo>
                    <a:pt x="374" y="374"/>
                  </a:lnTo>
                  <a:lnTo>
                    <a:pt x="358" y="394"/>
                  </a:lnTo>
                  <a:lnTo>
                    <a:pt x="344" y="416"/>
                  </a:lnTo>
                  <a:lnTo>
                    <a:pt x="332" y="440"/>
                  </a:lnTo>
                  <a:lnTo>
                    <a:pt x="322" y="468"/>
                  </a:lnTo>
                  <a:lnTo>
                    <a:pt x="316" y="500"/>
                  </a:lnTo>
                  <a:lnTo>
                    <a:pt x="312" y="536"/>
                  </a:lnTo>
                  <a:lnTo>
                    <a:pt x="308" y="574"/>
                  </a:lnTo>
                  <a:lnTo>
                    <a:pt x="308" y="616"/>
                  </a:lnTo>
                  <a:lnTo>
                    <a:pt x="308" y="6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9121680" y="768240"/>
              <a:ext cx="977760" cy="9777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16" h="616">
                  <a:moveTo>
                    <a:pt x="308" y="616"/>
                  </a:moveTo>
                  <a:lnTo>
                    <a:pt x="308" y="616"/>
                  </a:lnTo>
                  <a:lnTo>
                    <a:pt x="306" y="574"/>
                  </a:lnTo>
                  <a:lnTo>
                    <a:pt x="304" y="534"/>
                  </a:lnTo>
                  <a:lnTo>
                    <a:pt x="300" y="500"/>
                  </a:lnTo>
                  <a:lnTo>
                    <a:pt x="292" y="468"/>
                  </a:lnTo>
                  <a:lnTo>
                    <a:pt x="284" y="440"/>
                  </a:lnTo>
                  <a:lnTo>
                    <a:pt x="272" y="416"/>
                  </a:lnTo>
                  <a:lnTo>
                    <a:pt x="258" y="392"/>
                  </a:lnTo>
                  <a:lnTo>
                    <a:pt x="242" y="374"/>
                  </a:lnTo>
                  <a:lnTo>
                    <a:pt x="222" y="356"/>
                  </a:lnTo>
                  <a:lnTo>
                    <a:pt x="200" y="344"/>
                  </a:lnTo>
                  <a:lnTo>
                    <a:pt x="174" y="332"/>
                  </a:lnTo>
                  <a:lnTo>
                    <a:pt x="146" y="322"/>
                  </a:lnTo>
                  <a:lnTo>
                    <a:pt x="114" y="316"/>
                  </a:lnTo>
                  <a:lnTo>
                    <a:pt x="80" y="310"/>
                  </a:lnTo>
                  <a:lnTo>
                    <a:pt x="42" y="308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42" y="306"/>
                  </a:lnTo>
                  <a:lnTo>
                    <a:pt x="80" y="304"/>
                  </a:lnTo>
                  <a:lnTo>
                    <a:pt x="114" y="298"/>
                  </a:lnTo>
                  <a:lnTo>
                    <a:pt x="146" y="292"/>
                  </a:lnTo>
                  <a:lnTo>
                    <a:pt x="174" y="282"/>
                  </a:lnTo>
                  <a:lnTo>
                    <a:pt x="200" y="272"/>
                  </a:lnTo>
                  <a:lnTo>
                    <a:pt x="222" y="258"/>
                  </a:lnTo>
                  <a:lnTo>
                    <a:pt x="242" y="240"/>
                  </a:lnTo>
                  <a:lnTo>
                    <a:pt x="258" y="222"/>
                  </a:lnTo>
                  <a:lnTo>
                    <a:pt x="272" y="200"/>
                  </a:lnTo>
                  <a:lnTo>
                    <a:pt x="284" y="174"/>
                  </a:lnTo>
                  <a:lnTo>
                    <a:pt x="292" y="146"/>
                  </a:lnTo>
                  <a:lnTo>
                    <a:pt x="300" y="114"/>
                  </a:lnTo>
                  <a:lnTo>
                    <a:pt x="304" y="80"/>
                  </a:lnTo>
                  <a:lnTo>
                    <a:pt x="306" y="4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42"/>
                  </a:lnTo>
                  <a:lnTo>
                    <a:pt x="312" y="80"/>
                  </a:lnTo>
                  <a:lnTo>
                    <a:pt x="316" y="114"/>
                  </a:lnTo>
                  <a:lnTo>
                    <a:pt x="322" y="146"/>
                  </a:lnTo>
                  <a:lnTo>
                    <a:pt x="332" y="174"/>
                  </a:lnTo>
                  <a:lnTo>
                    <a:pt x="344" y="200"/>
                  </a:lnTo>
                  <a:lnTo>
                    <a:pt x="358" y="222"/>
                  </a:lnTo>
                  <a:lnTo>
                    <a:pt x="374" y="240"/>
                  </a:lnTo>
                  <a:lnTo>
                    <a:pt x="394" y="258"/>
                  </a:lnTo>
                  <a:lnTo>
                    <a:pt x="416" y="272"/>
                  </a:lnTo>
                  <a:lnTo>
                    <a:pt x="440" y="282"/>
                  </a:lnTo>
                  <a:lnTo>
                    <a:pt x="468" y="292"/>
                  </a:lnTo>
                  <a:lnTo>
                    <a:pt x="500" y="298"/>
                  </a:lnTo>
                  <a:lnTo>
                    <a:pt x="536" y="304"/>
                  </a:lnTo>
                  <a:lnTo>
                    <a:pt x="574" y="306"/>
                  </a:lnTo>
                  <a:lnTo>
                    <a:pt x="616" y="308"/>
                  </a:lnTo>
                  <a:lnTo>
                    <a:pt x="616" y="308"/>
                  </a:lnTo>
                  <a:lnTo>
                    <a:pt x="574" y="308"/>
                  </a:lnTo>
                  <a:lnTo>
                    <a:pt x="536" y="310"/>
                  </a:lnTo>
                  <a:lnTo>
                    <a:pt x="500" y="316"/>
                  </a:lnTo>
                  <a:lnTo>
                    <a:pt x="468" y="322"/>
                  </a:lnTo>
                  <a:lnTo>
                    <a:pt x="440" y="332"/>
                  </a:lnTo>
                  <a:lnTo>
                    <a:pt x="416" y="344"/>
                  </a:lnTo>
                  <a:lnTo>
                    <a:pt x="394" y="356"/>
                  </a:lnTo>
                  <a:lnTo>
                    <a:pt x="374" y="374"/>
                  </a:lnTo>
                  <a:lnTo>
                    <a:pt x="358" y="392"/>
                  </a:lnTo>
                  <a:lnTo>
                    <a:pt x="344" y="416"/>
                  </a:lnTo>
                  <a:lnTo>
                    <a:pt x="332" y="440"/>
                  </a:lnTo>
                  <a:lnTo>
                    <a:pt x="322" y="468"/>
                  </a:lnTo>
                  <a:lnTo>
                    <a:pt x="316" y="500"/>
                  </a:lnTo>
                  <a:lnTo>
                    <a:pt x="312" y="534"/>
                  </a:lnTo>
                  <a:lnTo>
                    <a:pt x="308" y="574"/>
                  </a:lnTo>
                  <a:lnTo>
                    <a:pt x="308" y="616"/>
                  </a:lnTo>
                  <a:lnTo>
                    <a:pt x="308" y="6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グループ化 52"/>
          <p:cNvGrpSpPr/>
          <p:nvPr/>
        </p:nvGrpSpPr>
        <p:grpSpPr>
          <a:xfrm>
            <a:off x="509760" y="5618160"/>
            <a:ext cx="9574200" cy="6562800"/>
            <a:chOff x="509760" y="5618160"/>
            <a:chExt cx="9574200" cy="6562800"/>
          </a:xfrm>
        </p:grpSpPr>
        <p:sp>
          <p:nvSpPr>
            <p:cNvPr id="87" name="Freeform 12"/>
            <p:cNvSpPr/>
            <p:nvPr/>
          </p:nvSpPr>
          <p:spPr>
            <a:xfrm>
              <a:off x="585720" y="5697360"/>
              <a:ext cx="9418680" cy="6404040"/>
            </a:xfrm>
            <a:custGeom>
              <a:avLst/>
              <a:gdLst>
                <a:gd name="textAreaLeft" fmla="*/ 0 w 9418680"/>
                <a:gd name="textAreaRight" fmla="*/ 9419040 w 9418680"/>
                <a:gd name="textAreaTop" fmla="*/ 0 h 6404040"/>
                <a:gd name="textAreaBottom" fmla="*/ 6404400 h 6404040"/>
              </a:gdLst>
              <a:ahLst/>
              <a:rect l="textAreaLeft" t="textAreaTop" r="textAreaRight" b="textAreaBottom"/>
              <a:pathLst>
                <a:path w="5933" h="4034">
                  <a:moveTo>
                    <a:pt x="5933" y="2402"/>
                  </a:moveTo>
                  <a:lnTo>
                    <a:pt x="5933" y="2402"/>
                  </a:lnTo>
                  <a:lnTo>
                    <a:pt x="5933" y="2368"/>
                  </a:lnTo>
                  <a:lnTo>
                    <a:pt x="5931" y="2334"/>
                  </a:lnTo>
                  <a:lnTo>
                    <a:pt x="5927" y="2300"/>
                  </a:lnTo>
                  <a:lnTo>
                    <a:pt x="5923" y="2268"/>
                  </a:lnTo>
                  <a:lnTo>
                    <a:pt x="5917" y="2234"/>
                  </a:lnTo>
                  <a:lnTo>
                    <a:pt x="5911" y="2202"/>
                  </a:lnTo>
                  <a:lnTo>
                    <a:pt x="5901" y="2170"/>
                  </a:lnTo>
                  <a:lnTo>
                    <a:pt x="5893" y="2140"/>
                  </a:lnTo>
                  <a:lnTo>
                    <a:pt x="5881" y="2108"/>
                  </a:lnTo>
                  <a:lnTo>
                    <a:pt x="5869" y="2078"/>
                  </a:lnTo>
                  <a:lnTo>
                    <a:pt x="5857" y="2048"/>
                  </a:lnTo>
                  <a:lnTo>
                    <a:pt x="5843" y="2018"/>
                  </a:lnTo>
                  <a:lnTo>
                    <a:pt x="5827" y="1988"/>
                  </a:lnTo>
                  <a:lnTo>
                    <a:pt x="5811" y="1960"/>
                  </a:lnTo>
                  <a:lnTo>
                    <a:pt x="5775" y="1906"/>
                  </a:lnTo>
                  <a:lnTo>
                    <a:pt x="5735" y="1852"/>
                  </a:lnTo>
                  <a:lnTo>
                    <a:pt x="5691" y="1802"/>
                  </a:lnTo>
                  <a:lnTo>
                    <a:pt x="5643" y="1756"/>
                  </a:lnTo>
                  <a:lnTo>
                    <a:pt x="5593" y="1710"/>
                  </a:lnTo>
                  <a:lnTo>
                    <a:pt x="5539" y="1670"/>
                  </a:lnTo>
                  <a:lnTo>
                    <a:pt x="5483" y="1632"/>
                  </a:lnTo>
                  <a:lnTo>
                    <a:pt x="5423" y="1596"/>
                  </a:lnTo>
                  <a:lnTo>
                    <a:pt x="5359" y="1566"/>
                  </a:lnTo>
                  <a:lnTo>
                    <a:pt x="5359" y="1566"/>
                  </a:lnTo>
                  <a:lnTo>
                    <a:pt x="5367" y="1522"/>
                  </a:lnTo>
                  <a:lnTo>
                    <a:pt x="5373" y="1480"/>
                  </a:lnTo>
                  <a:lnTo>
                    <a:pt x="5377" y="1436"/>
                  </a:lnTo>
                  <a:lnTo>
                    <a:pt x="5377" y="1392"/>
                  </a:lnTo>
                  <a:lnTo>
                    <a:pt x="5377" y="1392"/>
                  </a:lnTo>
                  <a:lnTo>
                    <a:pt x="5377" y="1342"/>
                  </a:lnTo>
                  <a:lnTo>
                    <a:pt x="5373" y="1296"/>
                  </a:lnTo>
                  <a:lnTo>
                    <a:pt x="5365" y="1248"/>
                  </a:lnTo>
                  <a:lnTo>
                    <a:pt x="5357" y="1202"/>
                  </a:lnTo>
                  <a:lnTo>
                    <a:pt x="5345" y="1156"/>
                  </a:lnTo>
                  <a:lnTo>
                    <a:pt x="5331" y="1112"/>
                  </a:lnTo>
                  <a:lnTo>
                    <a:pt x="5313" y="1068"/>
                  </a:lnTo>
                  <a:lnTo>
                    <a:pt x="5295" y="1026"/>
                  </a:lnTo>
                  <a:lnTo>
                    <a:pt x="5273" y="984"/>
                  </a:lnTo>
                  <a:lnTo>
                    <a:pt x="5251" y="944"/>
                  </a:lnTo>
                  <a:lnTo>
                    <a:pt x="5225" y="904"/>
                  </a:lnTo>
                  <a:lnTo>
                    <a:pt x="5197" y="866"/>
                  </a:lnTo>
                  <a:lnTo>
                    <a:pt x="5167" y="830"/>
                  </a:lnTo>
                  <a:lnTo>
                    <a:pt x="5137" y="794"/>
                  </a:lnTo>
                  <a:lnTo>
                    <a:pt x="5103" y="760"/>
                  </a:lnTo>
                  <a:lnTo>
                    <a:pt x="5069" y="728"/>
                  </a:lnTo>
                  <a:lnTo>
                    <a:pt x="5031" y="696"/>
                  </a:lnTo>
                  <a:lnTo>
                    <a:pt x="4993" y="666"/>
                  </a:lnTo>
                  <a:lnTo>
                    <a:pt x="4953" y="638"/>
                  </a:lnTo>
                  <a:lnTo>
                    <a:pt x="4911" y="612"/>
                  </a:lnTo>
                  <a:lnTo>
                    <a:pt x="4869" y="588"/>
                  </a:lnTo>
                  <a:lnTo>
                    <a:pt x="4825" y="566"/>
                  </a:lnTo>
                  <a:lnTo>
                    <a:pt x="4779" y="544"/>
                  </a:lnTo>
                  <a:lnTo>
                    <a:pt x="4733" y="526"/>
                  </a:lnTo>
                  <a:lnTo>
                    <a:pt x="4685" y="510"/>
                  </a:lnTo>
                  <a:lnTo>
                    <a:pt x="4635" y="494"/>
                  </a:lnTo>
                  <a:lnTo>
                    <a:pt x="4585" y="482"/>
                  </a:lnTo>
                  <a:lnTo>
                    <a:pt x="4535" y="472"/>
                  </a:lnTo>
                  <a:lnTo>
                    <a:pt x="4483" y="462"/>
                  </a:lnTo>
                  <a:lnTo>
                    <a:pt x="4429" y="456"/>
                  </a:lnTo>
                  <a:lnTo>
                    <a:pt x="4375" y="454"/>
                  </a:lnTo>
                  <a:lnTo>
                    <a:pt x="4321" y="452"/>
                  </a:lnTo>
                  <a:lnTo>
                    <a:pt x="4321" y="452"/>
                  </a:lnTo>
                  <a:lnTo>
                    <a:pt x="4257" y="454"/>
                  </a:lnTo>
                  <a:lnTo>
                    <a:pt x="4193" y="458"/>
                  </a:lnTo>
                  <a:lnTo>
                    <a:pt x="4131" y="468"/>
                  </a:lnTo>
                  <a:lnTo>
                    <a:pt x="4069" y="480"/>
                  </a:lnTo>
                  <a:lnTo>
                    <a:pt x="4009" y="494"/>
                  </a:lnTo>
                  <a:lnTo>
                    <a:pt x="3951" y="512"/>
                  </a:lnTo>
                  <a:lnTo>
                    <a:pt x="3893" y="532"/>
                  </a:lnTo>
                  <a:lnTo>
                    <a:pt x="3839" y="556"/>
                  </a:lnTo>
                  <a:lnTo>
                    <a:pt x="3839" y="556"/>
                  </a:lnTo>
                  <a:lnTo>
                    <a:pt x="3795" y="494"/>
                  </a:lnTo>
                  <a:lnTo>
                    <a:pt x="3747" y="436"/>
                  </a:lnTo>
                  <a:lnTo>
                    <a:pt x="3697" y="380"/>
                  </a:lnTo>
                  <a:lnTo>
                    <a:pt x="3643" y="328"/>
                  </a:lnTo>
                  <a:lnTo>
                    <a:pt x="3587" y="278"/>
                  </a:lnTo>
                  <a:lnTo>
                    <a:pt x="3527" y="232"/>
                  </a:lnTo>
                  <a:lnTo>
                    <a:pt x="3465" y="190"/>
                  </a:lnTo>
                  <a:lnTo>
                    <a:pt x="3398" y="152"/>
                  </a:lnTo>
                  <a:lnTo>
                    <a:pt x="3330" y="118"/>
                  </a:lnTo>
                  <a:lnTo>
                    <a:pt x="3260" y="86"/>
                  </a:lnTo>
                  <a:lnTo>
                    <a:pt x="3188" y="60"/>
                  </a:lnTo>
                  <a:lnTo>
                    <a:pt x="3152" y="50"/>
                  </a:lnTo>
                  <a:lnTo>
                    <a:pt x="3114" y="38"/>
                  </a:lnTo>
                  <a:lnTo>
                    <a:pt x="3076" y="30"/>
                  </a:lnTo>
                  <a:lnTo>
                    <a:pt x="3038" y="22"/>
                  </a:lnTo>
                  <a:lnTo>
                    <a:pt x="3000" y="14"/>
                  </a:lnTo>
                  <a:lnTo>
                    <a:pt x="2960" y="10"/>
                  </a:lnTo>
                  <a:lnTo>
                    <a:pt x="2920" y="4"/>
                  </a:lnTo>
                  <a:lnTo>
                    <a:pt x="2880" y="2"/>
                  </a:lnTo>
                  <a:lnTo>
                    <a:pt x="2840" y="0"/>
                  </a:lnTo>
                  <a:lnTo>
                    <a:pt x="2800" y="0"/>
                  </a:lnTo>
                  <a:lnTo>
                    <a:pt x="2800" y="0"/>
                  </a:lnTo>
                  <a:lnTo>
                    <a:pt x="2728" y="2"/>
                  </a:lnTo>
                  <a:lnTo>
                    <a:pt x="2656" y="8"/>
                  </a:lnTo>
                  <a:lnTo>
                    <a:pt x="2586" y="18"/>
                  </a:lnTo>
                  <a:lnTo>
                    <a:pt x="2518" y="32"/>
                  </a:lnTo>
                  <a:lnTo>
                    <a:pt x="2450" y="50"/>
                  </a:lnTo>
                  <a:lnTo>
                    <a:pt x="2384" y="70"/>
                  </a:lnTo>
                  <a:lnTo>
                    <a:pt x="2320" y="96"/>
                  </a:lnTo>
                  <a:lnTo>
                    <a:pt x="2258" y="124"/>
                  </a:lnTo>
                  <a:lnTo>
                    <a:pt x="2196" y="154"/>
                  </a:lnTo>
                  <a:lnTo>
                    <a:pt x="2138" y="190"/>
                  </a:lnTo>
                  <a:lnTo>
                    <a:pt x="2082" y="226"/>
                  </a:lnTo>
                  <a:lnTo>
                    <a:pt x="2028" y="268"/>
                  </a:lnTo>
                  <a:lnTo>
                    <a:pt x="1976" y="310"/>
                  </a:lnTo>
                  <a:lnTo>
                    <a:pt x="1926" y="356"/>
                  </a:lnTo>
                  <a:lnTo>
                    <a:pt x="1880" y="406"/>
                  </a:lnTo>
                  <a:lnTo>
                    <a:pt x="1836" y="456"/>
                  </a:lnTo>
                  <a:lnTo>
                    <a:pt x="1836" y="456"/>
                  </a:lnTo>
                  <a:lnTo>
                    <a:pt x="1772" y="454"/>
                  </a:lnTo>
                  <a:lnTo>
                    <a:pt x="1706" y="452"/>
                  </a:lnTo>
                  <a:lnTo>
                    <a:pt x="1706" y="452"/>
                  </a:lnTo>
                  <a:lnTo>
                    <a:pt x="1636" y="454"/>
                  </a:lnTo>
                  <a:lnTo>
                    <a:pt x="1566" y="458"/>
                  </a:lnTo>
                  <a:lnTo>
                    <a:pt x="1498" y="464"/>
                  </a:lnTo>
                  <a:lnTo>
                    <a:pt x="1430" y="472"/>
                  </a:lnTo>
                  <a:lnTo>
                    <a:pt x="1364" y="484"/>
                  </a:lnTo>
                  <a:lnTo>
                    <a:pt x="1298" y="498"/>
                  </a:lnTo>
                  <a:lnTo>
                    <a:pt x="1234" y="514"/>
                  </a:lnTo>
                  <a:lnTo>
                    <a:pt x="1172" y="532"/>
                  </a:lnTo>
                  <a:lnTo>
                    <a:pt x="1112" y="552"/>
                  </a:lnTo>
                  <a:lnTo>
                    <a:pt x="1052" y="574"/>
                  </a:lnTo>
                  <a:lnTo>
                    <a:pt x="996" y="598"/>
                  </a:lnTo>
                  <a:lnTo>
                    <a:pt x="940" y="624"/>
                  </a:lnTo>
                  <a:lnTo>
                    <a:pt x="886" y="652"/>
                  </a:lnTo>
                  <a:lnTo>
                    <a:pt x="834" y="682"/>
                  </a:lnTo>
                  <a:lnTo>
                    <a:pt x="784" y="714"/>
                  </a:lnTo>
                  <a:lnTo>
                    <a:pt x="736" y="748"/>
                  </a:lnTo>
                  <a:lnTo>
                    <a:pt x="690" y="784"/>
                  </a:lnTo>
                  <a:lnTo>
                    <a:pt x="648" y="820"/>
                  </a:lnTo>
                  <a:lnTo>
                    <a:pt x="608" y="858"/>
                  </a:lnTo>
                  <a:lnTo>
                    <a:pt x="568" y="898"/>
                  </a:lnTo>
                  <a:lnTo>
                    <a:pt x="534" y="938"/>
                  </a:lnTo>
                  <a:lnTo>
                    <a:pt x="500" y="980"/>
                  </a:lnTo>
                  <a:lnTo>
                    <a:pt x="470" y="1024"/>
                  </a:lnTo>
                  <a:lnTo>
                    <a:pt x="442" y="1070"/>
                  </a:lnTo>
                  <a:lnTo>
                    <a:pt x="418" y="1114"/>
                  </a:lnTo>
                  <a:lnTo>
                    <a:pt x="396" y="1162"/>
                  </a:lnTo>
                  <a:lnTo>
                    <a:pt x="378" y="1210"/>
                  </a:lnTo>
                  <a:lnTo>
                    <a:pt x="362" y="1258"/>
                  </a:lnTo>
                  <a:lnTo>
                    <a:pt x="350" y="1308"/>
                  </a:lnTo>
                  <a:lnTo>
                    <a:pt x="342" y="1358"/>
                  </a:lnTo>
                  <a:lnTo>
                    <a:pt x="336" y="1410"/>
                  </a:lnTo>
                  <a:lnTo>
                    <a:pt x="334" y="1462"/>
                  </a:lnTo>
                  <a:lnTo>
                    <a:pt x="334" y="1462"/>
                  </a:lnTo>
                  <a:lnTo>
                    <a:pt x="336" y="1494"/>
                  </a:lnTo>
                  <a:lnTo>
                    <a:pt x="338" y="1524"/>
                  </a:lnTo>
                  <a:lnTo>
                    <a:pt x="340" y="1554"/>
                  </a:lnTo>
                  <a:lnTo>
                    <a:pt x="344" y="1584"/>
                  </a:lnTo>
                  <a:lnTo>
                    <a:pt x="350" y="1614"/>
                  </a:lnTo>
                  <a:lnTo>
                    <a:pt x="358" y="1644"/>
                  </a:lnTo>
                  <a:lnTo>
                    <a:pt x="374" y="1704"/>
                  </a:lnTo>
                  <a:lnTo>
                    <a:pt x="374" y="1704"/>
                  </a:lnTo>
                  <a:lnTo>
                    <a:pt x="332" y="1732"/>
                  </a:lnTo>
                  <a:lnTo>
                    <a:pt x="292" y="1764"/>
                  </a:lnTo>
                  <a:lnTo>
                    <a:pt x="256" y="1798"/>
                  </a:lnTo>
                  <a:lnTo>
                    <a:pt x="220" y="1832"/>
                  </a:lnTo>
                  <a:lnTo>
                    <a:pt x="188" y="1870"/>
                  </a:lnTo>
                  <a:lnTo>
                    <a:pt x="156" y="1908"/>
                  </a:lnTo>
                  <a:lnTo>
                    <a:pt x="128" y="1948"/>
                  </a:lnTo>
                  <a:lnTo>
                    <a:pt x="102" y="1990"/>
                  </a:lnTo>
                  <a:lnTo>
                    <a:pt x="80" y="2034"/>
                  </a:lnTo>
                  <a:lnTo>
                    <a:pt x="60" y="2078"/>
                  </a:lnTo>
                  <a:lnTo>
                    <a:pt x="42" y="2124"/>
                  </a:lnTo>
                  <a:lnTo>
                    <a:pt x="28" y="2170"/>
                  </a:lnTo>
                  <a:lnTo>
                    <a:pt x="16" y="2218"/>
                  </a:lnTo>
                  <a:lnTo>
                    <a:pt x="8" y="2268"/>
                  </a:lnTo>
                  <a:lnTo>
                    <a:pt x="2" y="2318"/>
                  </a:lnTo>
                  <a:lnTo>
                    <a:pt x="0" y="2368"/>
                  </a:lnTo>
                  <a:lnTo>
                    <a:pt x="0" y="2368"/>
                  </a:lnTo>
                  <a:lnTo>
                    <a:pt x="2" y="2400"/>
                  </a:lnTo>
                  <a:lnTo>
                    <a:pt x="4" y="2430"/>
                  </a:lnTo>
                  <a:lnTo>
                    <a:pt x="6" y="2460"/>
                  </a:lnTo>
                  <a:lnTo>
                    <a:pt x="12" y="2492"/>
                  </a:lnTo>
                  <a:lnTo>
                    <a:pt x="16" y="2520"/>
                  </a:lnTo>
                  <a:lnTo>
                    <a:pt x="24" y="2550"/>
                  </a:lnTo>
                  <a:lnTo>
                    <a:pt x="32" y="2580"/>
                  </a:lnTo>
                  <a:lnTo>
                    <a:pt x="40" y="2608"/>
                  </a:lnTo>
                  <a:lnTo>
                    <a:pt x="62" y="2664"/>
                  </a:lnTo>
                  <a:lnTo>
                    <a:pt x="88" y="2720"/>
                  </a:lnTo>
                  <a:lnTo>
                    <a:pt x="118" y="2772"/>
                  </a:lnTo>
                  <a:lnTo>
                    <a:pt x="152" y="2822"/>
                  </a:lnTo>
                  <a:lnTo>
                    <a:pt x="190" y="2870"/>
                  </a:lnTo>
                  <a:lnTo>
                    <a:pt x="232" y="2914"/>
                  </a:lnTo>
                  <a:lnTo>
                    <a:pt x="276" y="2956"/>
                  </a:lnTo>
                  <a:lnTo>
                    <a:pt x="324" y="2996"/>
                  </a:lnTo>
                  <a:lnTo>
                    <a:pt x="374" y="3032"/>
                  </a:lnTo>
                  <a:lnTo>
                    <a:pt x="428" y="3066"/>
                  </a:lnTo>
                  <a:lnTo>
                    <a:pt x="484" y="3096"/>
                  </a:lnTo>
                  <a:lnTo>
                    <a:pt x="544" y="3124"/>
                  </a:lnTo>
                  <a:lnTo>
                    <a:pt x="544" y="3124"/>
                  </a:lnTo>
                  <a:lnTo>
                    <a:pt x="550" y="3170"/>
                  </a:lnTo>
                  <a:lnTo>
                    <a:pt x="558" y="3218"/>
                  </a:lnTo>
                  <a:lnTo>
                    <a:pt x="570" y="3264"/>
                  </a:lnTo>
                  <a:lnTo>
                    <a:pt x="582" y="3310"/>
                  </a:lnTo>
                  <a:lnTo>
                    <a:pt x="598" y="3354"/>
                  </a:lnTo>
                  <a:lnTo>
                    <a:pt x="616" y="3398"/>
                  </a:lnTo>
                  <a:lnTo>
                    <a:pt x="636" y="3440"/>
                  </a:lnTo>
                  <a:lnTo>
                    <a:pt x="658" y="3482"/>
                  </a:lnTo>
                  <a:lnTo>
                    <a:pt x="684" y="3522"/>
                  </a:lnTo>
                  <a:lnTo>
                    <a:pt x="710" y="3562"/>
                  </a:lnTo>
                  <a:lnTo>
                    <a:pt x="738" y="3600"/>
                  </a:lnTo>
                  <a:lnTo>
                    <a:pt x="768" y="3636"/>
                  </a:lnTo>
                  <a:lnTo>
                    <a:pt x="800" y="3672"/>
                  </a:lnTo>
                  <a:lnTo>
                    <a:pt x="834" y="3706"/>
                  </a:lnTo>
                  <a:lnTo>
                    <a:pt x="868" y="3740"/>
                  </a:lnTo>
                  <a:lnTo>
                    <a:pt x="906" y="3770"/>
                  </a:lnTo>
                  <a:lnTo>
                    <a:pt x="944" y="3800"/>
                  </a:lnTo>
                  <a:lnTo>
                    <a:pt x="984" y="3830"/>
                  </a:lnTo>
                  <a:lnTo>
                    <a:pt x="1026" y="3856"/>
                  </a:lnTo>
                  <a:lnTo>
                    <a:pt x="1068" y="3882"/>
                  </a:lnTo>
                  <a:lnTo>
                    <a:pt x="1112" y="3904"/>
                  </a:lnTo>
                  <a:lnTo>
                    <a:pt x="1158" y="3926"/>
                  </a:lnTo>
                  <a:lnTo>
                    <a:pt x="1204" y="3946"/>
                  </a:lnTo>
                  <a:lnTo>
                    <a:pt x="1252" y="3964"/>
                  </a:lnTo>
                  <a:lnTo>
                    <a:pt x="1302" y="3980"/>
                  </a:lnTo>
                  <a:lnTo>
                    <a:pt x="1352" y="3994"/>
                  </a:lnTo>
                  <a:lnTo>
                    <a:pt x="1402" y="4006"/>
                  </a:lnTo>
                  <a:lnTo>
                    <a:pt x="1454" y="4016"/>
                  </a:lnTo>
                  <a:lnTo>
                    <a:pt x="1506" y="4024"/>
                  </a:lnTo>
                  <a:lnTo>
                    <a:pt x="1560" y="4030"/>
                  </a:lnTo>
                  <a:lnTo>
                    <a:pt x="1614" y="4034"/>
                  </a:lnTo>
                  <a:lnTo>
                    <a:pt x="1670" y="4034"/>
                  </a:lnTo>
                  <a:lnTo>
                    <a:pt x="1670" y="4034"/>
                  </a:lnTo>
                  <a:lnTo>
                    <a:pt x="1722" y="4034"/>
                  </a:lnTo>
                  <a:lnTo>
                    <a:pt x="1772" y="4030"/>
                  </a:lnTo>
                  <a:lnTo>
                    <a:pt x="1824" y="4026"/>
                  </a:lnTo>
                  <a:lnTo>
                    <a:pt x="1874" y="4018"/>
                  </a:lnTo>
                  <a:lnTo>
                    <a:pt x="1922" y="4010"/>
                  </a:lnTo>
                  <a:lnTo>
                    <a:pt x="1972" y="3998"/>
                  </a:lnTo>
                  <a:lnTo>
                    <a:pt x="2018" y="3986"/>
                  </a:lnTo>
                  <a:lnTo>
                    <a:pt x="2066" y="3972"/>
                  </a:lnTo>
                  <a:lnTo>
                    <a:pt x="2112" y="3956"/>
                  </a:lnTo>
                  <a:lnTo>
                    <a:pt x="2156" y="3938"/>
                  </a:lnTo>
                  <a:lnTo>
                    <a:pt x="2200" y="3918"/>
                  </a:lnTo>
                  <a:lnTo>
                    <a:pt x="2242" y="3896"/>
                  </a:lnTo>
                  <a:lnTo>
                    <a:pt x="2284" y="3874"/>
                  </a:lnTo>
                  <a:lnTo>
                    <a:pt x="2324" y="3850"/>
                  </a:lnTo>
                  <a:lnTo>
                    <a:pt x="2362" y="3824"/>
                  </a:lnTo>
                  <a:lnTo>
                    <a:pt x="2400" y="3796"/>
                  </a:lnTo>
                  <a:lnTo>
                    <a:pt x="2400" y="3796"/>
                  </a:lnTo>
                  <a:lnTo>
                    <a:pt x="2462" y="3828"/>
                  </a:lnTo>
                  <a:lnTo>
                    <a:pt x="2526" y="3854"/>
                  </a:lnTo>
                  <a:lnTo>
                    <a:pt x="2592" y="3878"/>
                  </a:lnTo>
                  <a:lnTo>
                    <a:pt x="2660" y="3898"/>
                  </a:lnTo>
                  <a:lnTo>
                    <a:pt x="2728" y="3912"/>
                  </a:lnTo>
                  <a:lnTo>
                    <a:pt x="2800" y="3924"/>
                  </a:lnTo>
                  <a:lnTo>
                    <a:pt x="2874" y="3930"/>
                  </a:lnTo>
                  <a:lnTo>
                    <a:pt x="2948" y="3932"/>
                  </a:lnTo>
                  <a:lnTo>
                    <a:pt x="2948" y="3932"/>
                  </a:lnTo>
                  <a:lnTo>
                    <a:pt x="2990" y="3932"/>
                  </a:lnTo>
                  <a:lnTo>
                    <a:pt x="3030" y="3930"/>
                  </a:lnTo>
                  <a:lnTo>
                    <a:pt x="3070" y="3926"/>
                  </a:lnTo>
                  <a:lnTo>
                    <a:pt x="3108" y="3922"/>
                  </a:lnTo>
                  <a:lnTo>
                    <a:pt x="3148" y="3916"/>
                  </a:lnTo>
                  <a:lnTo>
                    <a:pt x="3186" y="3908"/>
                  </a:lnTo>
                  <a:lnTo>
                    <a:pt x="3224" y="3900"/>
                  </a:lnTo>
                  <a:lnTo>
                    <a:pt x="3262" y="3890"/>
                  </a:lnTo>
                  <a:lnTo>
                    <a:pt x="3298" y="3880"/>
                  </a:lnTo>
                  <a:lnTo>
                    <a:pt x="3334" y="3868"/>
                  </a:lnTo>
                  <a:lnTo>
                    <a:pt x="3370" y="3856"/>
                  </a:lnTo>
                  <a:lnTo>
                    <a:pt x="3404" y="3840"/>
                  </a:lnTo>
                  <a:lnTo>
                    <a:pt x="3439" y="3826"/>
                  </a:lnTo>
                  <a:lnTo>
                    <a:pt x="3473" y="3810"/>
                  </a:lnTo>
                  <a:lnTo>
                    <a:pt x="3505" y="3792"/>
                  </a:lnTo>
                  <a:lnTo>
                    <a:pt x="3537" y="3774"/>
                  </a:lnTo>
                  <a:lnTo>
                    <a:pt x="3537" y="3774"/>
                  </a:lnTo>
                  <a:lnTo>
                    <a:pt x="3589" y="3794"/>
                  </a:lnTo>
                  <a:lnTo>
                    <a:pt x="3643" y="3812"/>
                  </a:lnTo>
                  <a:lnTo>
                    <a:pt x="3697" y="3828"/>
                  </a:lnTo>
                  <a:lnTo>
                    <a:pt x="3753" y="3840"/>
                  </a:lnTo>
                  <a:lnTo>
                    <a:pt x="3811" y="3850"/>
                  </a:lnTo>
                  <a:lnTo>
                    <a:pt x="3869" y="3858"/>
                  </a:lnTo>
                  <a:lnTo>
                    <a:pt x="3927" y="3862"/>
                  </a:lnTo>
                  <a:lnTo>
                    <a:pt x="3987" y="3864"/>
                  </a:lnTo>
                  <a:lnTo>
                    <a:pt x="3987" y="3864"/>
                  </a:lnTo>
                  <a:lnTo>
                    <a:pt x="4027" y="3862"/>
                  </a:lnTo>
                  <a:lnTo>
                    <a:pt x="4065" y="3860"/>
                  </a:lnTo>
                  <a:lnTo>
                    <a:pt x="4103" y="3858"/>
                  </a:lnTo>
                  <a:lnTo>
                    <a:pt x="4141" y="3854"/>
                  </a:lnTo>
                  <a:lnTo>
                    <a:pt x="4177" y="3848"/>
                  </a:lnTo>
                  <a:lnTo>
                    <a:pt x="4215" y="3842"/>
                  </a:lnTo>
                  <a:lnTo>
                    <a:pt x="4287" y="3824"/>
                  </a:lnTo>
                  <a:lnTo>
                    <a:pt x="4357" y="3804"/>
                  </a:lnTo>
                  <a:lnTo>
                    <a:pt x="4425" y="3780"/>
                  </a:lnTo>
                  <a:lnTo>
                    <a:pt x="4491" y="3750"/>
                  </a:lnTo>
                  <a:lnTo>
                    <a:pt x="4553" y="3718"/>
                  </a:lnTo>
                  <a:lnTo>
                    <a:pt x="4613" y="3682"/>
                  </a:lnTo>
                  <a:lnTo>
                    <a:pt x="4669" y="3642"/>
                  </a:lnTo>
                  <a:lnTo>
                    <a:pt x="4723" y="3598"/>
                  </a:lnTo>
                  <a:lnTo>
                    <a:pt x="4773" y="3552"/>
                  </a:lnTo>
                  <a:lnTo>
                    <a:pt x="4819" y="3502"/>
                  </a:lnTo>
                  <a:lnTo>
                    <a:pt x="4863" y="3450"/>
                  </a:lnTo>
                  <a:lnTo>
                    <a:pt x="4883" y="3424"/>
                  </a:lnTo>
                  <a:lnTo>
                    <a:pt x="4901" y="3396"/>
                  </a:lnTo>
                  <a:lnTo>
                    <a:pt x="4919" y="3368"/>
                  </a:lnTo>
                  <a:lnTo>
                    <a:pt x="4935" y="3340"/>
                  </a:lnTo>
                  <a:lnTo>
                    <a:pt x="4935" y="3340"/>
                  </a:lnTo>
                  <a:lnTo>
                    <a:pt x="4987" y="3336"/>
                  </a:lnTo>
                  <a:lnTo>
                    <a:pt x="5039" y="3330"/>
                  </a:lnTo>
                  <a:lnTo>
                    <a:pt x="5089" y="3322"/>
                  </a:lnTo>
                  <a:lnTo>
                    <a:pt x="5139" y="3312"/>
                  </a:lnTo>
                  <a:lnTo>
                    <a:pt x="5187" y="3300"/>
                  </a:lnTo>
                  <a:lnTo>
                    <a:pt x="5235" y="3286"/>
                  </a:lnTo>
                  <a:lnTo>
                    <a:pt x="5281" y="3270"/>
                  </a:lnTo>
                  <a:lnTo>
                    <a:pt x="5327" y="3252"/>
                  </a:lnTo>
                  <a:lnTo>
                    <a:pt x="5371" y="3232"/>
                  </a:lnTo>
                  <a:lnTo>
                    <a:pt x="5413" y="3210"/>
                  </a:lnTo>
                  <a:lnTo>
                    <a:pt x="5455" y="3188"/>
                  </a:lnTo>
                  <a:lnTo>
                    <a:pt x="5495" y="3162"/>
                  </a:lnTo>
                  <a:lnTo>
                    <a:pt x="5535" y="3136"/>
                  </a:lnTo>
                  <a:lnTo>
                    <a:pt x="5573" y="3108"/>
                  </a:lnTo>
                  <a:lnTo>
                    <a:pt x="5609" y="3080"/>
                  </a:lnTo>
                  <a:lnTo>
                    <a:pt x="5643" y="3048"/>
                  </a:lnTo>
                  <a:lnTo>
                    <a:pt x="5677" y="3016"/>
                  </a:lnTo>
                  <a:lnTo>
                    <a:pt x="5707" y="2982"/>
                  </a:lnTo>
                  <a:lnTo>
                    <a:pt x="5737" y="2948"/>
                  </a:lnTo>
                  <a:lnTo>
                    <a:pt x="5765" y="2912"/>
                  </a:lnTo>
                  <a:lnTo>
                    <a:pt x="5791" y="2874"/>
                  </a:lnTo>
                  <a:lnTo>
                    <a:pt x="5815" y="2836"/>
                  </a:lnTo>
                  <a:lnTo>
                    <a:pt x="5837" y="2796"/>
                  </a:lnTo>
                  <a:lnTo>
                    <a:pt x="5857" y="2756"/>
                  </a:lnTo>
                  <a:lnTo>
                    <a:pt x="5873" y="2714"/>
                  </a:lnTo>
                  <a:lnTo>
                    <a:pt x="5889" y="2672"/>
                  </a:lnTo>
                  <a:lnTo>
                    <a:pt x="5903" y="2628"/>
                  </a:lnTo>
                  <a:lnTo>
                    <a:pt x="5913" y="2584"/>
                  </a:lnTo>
                  <a:lnTo>
                    <a:pt x="5923" y="2540"/>
                  </a:lnTo>
                  <a:lnTo>
                    <a:pt x="5929" y="2494"/>
                  </a:lnTo>
                  <a:lnTo>
                    <a:pt x="5933" y="2448"/>
                  </a:lnTo>
                  <a:lnTo>
                    <a:pt x="5933" y="2402"/>
                  </a:lnTo>
                  <a:lnTo>
                    <a:pt x="5933" y="24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509760" y="5618160"/>
              <a:ext cx="9574200" cy="6562800"/>
            </a:xfrm>
            <a:custGeom>
              <a:avLst/>
              <a:gdLst>
                <a:gd name="textAreaLeft" fmla="*/ 0 w 9574200"/>
                <a:gd name="textAreaRight" fmla="*/ 9574560 w 9574200"/>
                <a:gd name="textAreaTop" fmla="*/ 0 h 6562800"/>
                <a:gd name="textAreaBottom" fmla="*/ 6563160 h 6562800"/>
              </a:gdLst>
              <a:ahLst/>
              <a:rect l="textAreaLeft" t="textAreaTop" r="textAreaRight" b="textAreaBottom"/>
              <a:pathLst>
                <a:path w="6031" h="4134">
                  <a:moveTo>
                    <a:pt x="1718" y="4134"/>
                  </a:moveTo>
                  <a:lnTo>
                    <a:pt x="1718" y="4134"/>
                  </a:lnTo>
                  <a:lnTo>
                    <a:pt x="1662" y="4132"/>
                  </a:lnTo>
                  <a:lnTo>
                    <a:pt x="1608" y="4130"/>
                  </a:lnTo>
                  <a:lnTo>
                    <a:pt x="1554" y="4124"/>
                  </a:lnTo>
                  <a:lnTo>
                    <a:pt x="1500" y="4116"/>
                  </a:lnTo>
                  <a:lnTo>
                    <a:pt x="1446" y="4106"/>
                  </a:lnTo>
                  <a:lnTo>
                    <a:pt x="1394" y="4094"/>
                  </a:lnTo>
                  <a:lnTo>
                    <a:pt x="1342" y="4080"/>
                  </a:lnTo>
                  <a:lnTo>
                    <a:pt x="1290" y="4062"/>
                  </a:lnTo>
                  <a:lnTo>
                    <a:pt x="1240" y="4044"/>
                  </a:lnTo>
                  <a:lnTo>
                    <a:pt x="1192" y="4024"/>
                  </a:lnTo>
                  <a:lnTo>
                    <a:pt x="1144" y="4002"/>
                  </a:lnTo>
                  <a:lnTo>
                    <a:pt x="1096" y="3976"/>
                  </a:lnTo>
                  <a:lnTo>
                    <a:pt x="1052" y="3950"/>
                  </a:lnTo>
                  <a:lnTo>
                    <a:pt x="1006" y="3922"/>
                  </a:lnTo>
                  <a:lnTo>
                    <a:pt x="964" y="3892"/>
                  </a:lnTo>
                  <a:lnTo>
                    <a:pt x="922" y="3858"/>
                  </a:lnTo>
                  <a:lnTo>
                    <a:pt x="922" y="3858"/>
                  </a:lnTo>
                  <a:lnTo>
                    <a:pt x="884" y="3826"/>
                  </a:lnTo>
                  <a:lnTo>
                    <a:pt x="848" y="3792"/>
                  </a:lnTo>
                  <a:lnTo>
                    <a:pt x="812" y="3756"/>
                  </a:lnTo>
                  <a:lnTo>
                    <a:pt x="780" y="3720"/>
                  </a:lnTo>
                  <a:lnTo>
                    <a:pt x="748" y="3682"/>
                  </a:lnTo>
                  <a:lnTo>
                    <a:pt x="720" y="3644"/>
                  </a:lnTo>
                  <a:lnTo>
                    <a:pt x="694" y="3604"/>
                  </a:lnTo>
                  <a:lnTo>
                    <a:pt x="668" y="3562"/>
                  </a:lnTo>
                  <a:lnTo>
                    <a:pt x="646" y="3520"/>
                  </a:lnTo>
                  <a:lnTo>
                    <a:pt x="624" y="3478"/>
                  </a:lnTo>
                  <a:lnTo>
                    <a:pt x="606" y="3434"/>
                  </a:lnTo>
                  <a:lnTo>
                    <a:pt x="590" y="3390"/>
                  </a:lnTo>
                  <a:lnTo>
                    <a:pt x="576" y="3346"/>
                  </a:lnTo>
                  <a:lnTo>
                    <a:pt x="564" y="3300"/>
                  </a:lnTo>
                  <a:lnTo>
                    <a:pt x="554" y="3254"/>
                  </a:lnTo>
                  <a:lnTo>
                    <a:pt x="546" y="3206"/>
                  </a:lnTo>
                  <a:lnTo>
                    <a:pt x="546" y="3206"/>
                  </a:lnTo>
                  <a:lnTo>
                    <a:pt x="486" y="3178"/>
                  </a:lnTo>
                  <a:lnTo>
                    <a:pt x="428" y="3144"/>
                  </a:lnTo>
                  <a:lnTo>
                    <a:pt x="372" y="3108"/>
                  </a:lnTo>
                  <a:lnTo>
                    <a:pt x="320" y="3068"/>
                  </a:lnTo>
                  <a:lnTo>
                    <a:pt x="272" y="3026"/>
                  </a:lnTo>
                  <a:lnTo>
                    <a:pt x="228" y="2980"/>
                  </a:lnTo>
                  <a:lnTo>
                    <a:pt x="186" y="2932"/>
                  </a:lnTo>
                  <a:lnTo>
                    <a:pt x="148" y="2882"/>
                  </a:lnTo>
                  <a:lnTo>
                    <a:pt x="114" y="2830"/>
                  </a:lnTo>
                  <a:lnTo>
                    <a:pt x="84" y="2776"/>
                  </a:lnTo>
                  <a:lnTo>
                    <a:pt x="60" y="2720"/>
                  </a:lnTo>
                  <a:lnTo>
                    <a:pt x="38" y="2662"/>
                  </a:lnTo>
                  <a:lnTo>
                    <a:pt x="22" y="2602"/>
                  </a:lnTo>
                  <a:lnTo>
                    <a:pt x="16" y="2572"/>
                  </a:lnTo>
                  <a:lnTo>
                    <a:pt x="10" y="2542"/>
                  </a:lnTo>
                  <a:lnTo>
                    <a:pt x="6" y="2512"/>
                  </a:lnTo>
                  <a:lnTo>
                    <a:pt x="2" y="2480"/>
                  </a:lnTo>
                  <a:lnTo>
                    <a:pt x="0" y="2450"/>
                  </a:lnTo>
                  <a:lnTo>
                    <a:pt x="0" y="2418"/>
                  </a:lnTo>
                  <a:lnTo>
                    <a:pt x="0" y="2418"/>
                  </a:lnTo>
                  <a:lnTo>
                    <a:pt x="2" y="2368"/>
                  </a:lnTo>
                  <a:lnTo>
                    <a:pt x="6" y="2318"/>
                  </a:lnTo>
                  <a:lnTo>
                    <a:pt x="14" y="2270"/>
                  </a:lnTo>
                  <a:lnTo>
                    <a:pt x="24" y="2222"/>
                  </a:lnTo>
                  <a:lnTo>
                    <a:pt x="38" y="2174"/>
                  </a:lnTo>
                  <a:lnTo>
                    <a:pt x="54" y="2128"/>
                  </a:lnTo>
                  <a:lnTo>
                    <a:pt x="74" y="2082"/>
                  </a:lnTo>
                  <a:lnTo>
                    <a:pt x="96" y="2038"/>
                  </a:lnTo>
                  <a:lnTo>
                    <a:pt x="120" y="1994"/>
                  </a:lnTo>
                  <a:lnTo>
                    <a:pt x="148" y="1954"/>
                  </a:lnTo>
                  <a:lnTo>
                    <a:pt x="178" y="1912"/>
                  </a:lnTo>
                  <a:lnTo>
                    <a:pt x="210" y="1874"/>
                  </a:lnTo>
                  <a:lnTo>
                    <a:pt x="244" y="1836"/>
                  </a:lnTo>
                  <a:lnTo>
                    <a:pt x="282" y="1800"/>
                  </a:lnTo>
                  <a:lnTo>
                    <a:pt x="322" y="1766"/>
                  </a:lnTo>
                  <a:lnTo>
                    <a:pt x="364" y="1734"/>
                  </a:lnTo>
                  <a:lnTo>
                    <a:pt x="364" y="1734"/>
                  </a:lnTo>
                  <a:lnTo>
                    <a:pt x="352" y="1678"/>
                  </a:lnTo>
                  <a:lnTo>
                    <a:pt x="342" y="1624"/>
                  </a:lnTo>
                  <a:lnTo>
                    <a:pt x="336" y="1568"/>
                  </a:lnTo>
                  <a:lnTo>
                    <a:pt x="334" y="1512"/>
                  </a:lnTo>
                  <a:lnTo>
                    <a:pt x="334" y="1512"/>
                  </a:lnTo>
                  <a:lnTo>
                    <a:pt x="336" y="1458"/>
                  </a:lnTo>
                  <a:lnTo>
                    <a:pt x="340" y="1406"/>
                  </a:lnTo>
                  <a:lnTo>
                    <a:pt x="350" y="1354"/>
                  </a:lnTo>
                  <a:lnTo>
                    <a:pt x="362" y="1302"/>
                  </a:lnTo>
                  <a:lnTo>
                    <a:pt x="376" y="1252"/>
                  </a:lnTo>
                  <a:lnTo>
                    <a:pt x="396" y="1200"/>
                  </a:lnTo>
                  <a:lnTo>
                    <a:pt x="418" y="1152"/>
                  </a:lnTo>
                  <a:lnTo>
                    <a:pt x="442" y="1104"/>
                  </a:lnTo>
                  <a:lnTo>
                    <a:pt x="470" y="1056"/>
                  </a:lnTo>
                  <a:lnTo>
                    <a:pt x="502" y="1010"/>
                  </a:lnTo>
                  <a:lnTo>
                    <a:pt x="536" y="964"/>
                  </a:lnTo>
                  <a:lnTo>
                    <a:pt x="574" y="920"/>
                  </a:lnTo>
                  <a:lnTo>
                    <a:pt x="616" y="878"/>
                  </a:lnTo>
                  <a:lnTo>
                    <a:pt x="660" y="836"/>
                  </a:lnTo>
                  <a:lnTo>
                    <a:pt x="706" y="796"/>
                  </a:lnTo>
                  <a:lnTo>
                    <a:pt x="756" y="758"/>
                  </a:lnTo>
                  <a:lnTo>
                    <a:pt x="756" y="758"/>
                  </a:lnTo>
                  <a:lnTo>
                    <a:pt x="806" y="722"/>
                  </a:lnTo>
                  <a:lnTo>
                    <a:pt x="860" y="688"/>
                  </a:lnTo>
                  <a:lnTo>
                    <a:pt x="914" y="658"/>
                  </a:lnTo>
                  <a:lnTo>
                    <a:pt x="972" y="628"/>
                  </a:lnTo>
                  <a:lnTo>
                    <a:pt x="1030" y="600"/>
                  </a:lnTo>
                  <a:lnTo>
                    <a:pt x="1090" y="576"/>
                  </a:lnTo>
                  <a:lnTo>
                    <a:pt x="1152" y="552"/>
                  </a:lnTo>
                  <a:lnTo>
                    <a:pt x="1214" y="532"/>
                  </a:lnTo>
                  <a:lnTo>
                    <a:pt x="1278" y="514"/>
                  </a:lnTo>
                  <a:lnTo>
                    <a:pt x="1344" y="498"/>
                  </a:lnTo>
                  <a:lnTo>
                    <a:pt x="1410" y="484"/>
                  </a:lnTo>
                  <a:lnTo>
                    <a:pt x="1476" y="474"/>
                  </a:lnTo>
                  <a:lnTo>
                    <a:pt x="1546" y="464"/>
                  </a:lnTo>
                  <a:lnTo>
                    <a:pt x="1614" y="458"/>
                  </a:lnTo>
                  <a:lnTo>
                    <a:pt x="1684" y="454"/>
                  </a:lnTo>
                  <a:lnTo>
                    <a:pt x="1754" y="452"/>
                  </a:lnTo>
                  <a:lnTo>
                    <a:pt x="1754" y="452"/>
                  </a:lnTo>
                  <a:lnTo>
                    <a:pt x="1808" y="454"/>
                  </a:lnTo>
                  <a:lnTo>
                    <a:pt x="1862" y="456"/>
                  </a:lnTo>
                  <a:lnTo>
                    <a:pt x="1862" y="456"/>
                  </a:lnTo>
                  <a:lnTo>
                    <a:pt x="1910" y="404"/>
                  </a:lnTo>
                  <a:lnTo>
                    <a:pt x="1960" y="354"/>
                  </a:lnTo>
                  <a:lnTo>
                    <a:pt x="2012" y="306"/>
                  </a:lnTo>
                  <a:lnTo>
                    <a:pt x="2066" y="262"/>
                  </a:lnTo>
                  <a:lnTo>
                    <a:pt x="2122" y="222"/>
                  </a:lnTo>
                  <a:lnTo>
                    <a:pt x="2182" y="184"/>
                  </a:lnTo>
                  <a:lnTo>
                    <a:pt x="2242" y="150"/>
                  </a:lnTo>
                  <a:lnTo>
                    <a:pt x="2304" y="120"/>
                  </a:lnTo>
                  <a:lnTo>
                    <a:pt x="2368" y="92"/>
                  </a:lnTo>
                  <a:lnTo>
                    <a:pt x="2434" y="68"/>
                  </a:lnTo>
                  <a:lnTo>
                    <a:pt x="2500" y="48"/>
                  </a:lnTo>
                  <a:lnTo>
                    <a:pt x="2568" y="30"/>
                  </a:lnTo>
                  <a:lnTo>
                    <a:pt x="2636" y="18"/>
                  </a:lnTo>
                  <a:lnTo>
                    <a:pt x="2706" y="8"/>
                  </a:lnTo>
                  <a:lnTo>
                    <a:pt x="2776" y="2"/>
                  </a:lnTo>
                  <a:lnTo>
                    <a:pt x="2848" y="0"/>
                  </a:lnTo>
                  <a:lnTo>
                    <a:pt x="2848" y="0"/>
                  </a:lnTo>
                  <a:lnTo>
                    <a:pt x="2926" y="2"/>
                  </a:lnTo>
                  <a:lnTo>
                    <a:pt x="3004" y="10"/>
                  </a:lnTo>
                  <a:lnTo>
                    <a:pt x="3082" y="22"/>
                  </a:lnTo>
                  <a:lnTo>
                    <a:pt x="3156" y="38"/>
                  </a:lnTo>
                  <a:lnTo>
                    <a:pt x="3230" y="58"/>
                  </a:lnTo>
                  <a:lnTo>
                    <a:pt x="3304" y="82"/>
                  </a:lnTo>
                  <a:lnTo>
                    <a:pt x="3374" y="112"/>
                  </a:lnTo>
                  <a:lnTo>
                    <a:pt x="3442" y="144"/>
                  </a:lnTo>
                  <a:lnTo>
                    <a:pt x="3511" y="182"/>
                  </a:lnTo>
                  <a:lnTo>
                    <a:pt x="3575" y="222"/>
                  </a:lnTo>
                  <a:lnTo>
                    <a:pt x="3637" y="266"/>
                  </a:lnTo>
                  <a:lnTo>
                    <a:pt x="3697" y="316"/>
                  </a:lnTo>
                  <a:lnTo>
                    <a:pt x="3753" y="368"/>
                  </a:lnTo>
                  <a:lnTo>
                    <a:pt x="3807" y="422"/>
                  </a:lnTo>
                  <a:lnTo>
                    <a:pt x="3857" y="482"/>
                  </a:lnTo>
                  <a:lnTo>
                    <a:pt x="3903" y="544"/>
                  </a:lnTo>
                  <a:lnTo>
                    <a:pt x="3903" y="544"/>
                  </a:lnTo>
                  <a:lnTo>
                    <a:pt x="3959" y="524"/>
                  </a:lnTo>
                  <a:lnTo>
                    <a:pt x="4015" y="504"/>
                  </a:lnTo>
                  <a:lnTo>
                    <a:pt x="4073" y="488"/>
                  </a:lnTo>
                  <a:lnTo>
                    <a:pt x="4131" y="476"/>
                  </a:lnTo>
                  <a:lnTo>
                    <a:pt x="4189" y="466"/>
                  </a:lnTo>
                  <a:lnTo>
                    <a:pt x="4249" y="458"/>
                  </a:lnTo>
                  <a:lnTo>
                    <a:pt x="4309" y="454"/>
                  </a:lnTo>
                  <a:lnTo>
                    <a:pt x="4369" y="454"/>
                  </a:lnTo>
                  <a:lnTo>
                    <a:pt x="4369" y="454"/>
                  </a:lnTo>
                  <a:lnTo>
                    <a:pt x="4427" y="454"/>
                  </a:lnTo>
                  <a:lnTo>
                    <a:pt x="4483" y="458"/>
                  </a:lnTo>
                  <a:lnTo>
                    <a:pt x="4537" y="464"/>
                  </a:lnTo>
                  <a:lnTo>
                    <a:pt x="4591" y="474"/>
                  </a:lnTo>
                  <a:lnTo>
                    <a:pt x="4645" y="484"/>
                  </a:lnTo>
                  <a:lnTo>
                    <a:pt x="4697" y="498"/>
                  </a:lnTo>
                  <a:lnTo>
                    <a:pt x="4749" y="514"/>
                  </a:lnTo>
                  <a:lnTo>
                    <a:pt x="4799" y="530"/>
                  </a:lnTo>
                  <a:lnTo>
                    <a:pt x="4849" y="550"/>
                  </a:lnTo>
                  <a:lnTo>
                    <a:pt x="4895" y="572"/>
                  </a:lnTo>
                  <a:lnTo>
                    <a:pt x="4943" y="596"/>
                  </a:lnTo>
                  <a:lnTo>
                    <a:pt x="4987" y="622"/>
                  </a:lnTo>
                  <a:lnTo>
                    <a:pt x="5031" y="650"/>
                  </a:lnTo>
                  <a:lnTo>
                    <a:pt x="5073" y="678"/>
                  </a:lnTo>
                  <a:lnTo>
                    <a:pt x="5113" y="710"/>
                  </a:lnTo>
                  <a:lnTo>
                    <a:pt x="5151" y="742"/>
                  </a:lnTo>
                  <a:lnTo>
                    <a:pt x="5187" y="778"/>
                  </a:lnTo>
                  <a:lnTo>
                    <a:pt x="5223" y="812"/>
                  </a:lnTo>
                  <a:lnTo>
                    <a:pt x="5255" y="850"/>
                  </a:lnTo>
                  <a:lnTo>
                    <a:pt x="5285" y="890"/>
                  </a:lnTo>
                  <a:lnTo>
                    <a:pt x="5315" y="930"/>
                  </a:lnTo>
                  <a:lnTo>
                    <a:pt x="5341" y="970"/>
                  </a:lnTo>
                  <a:lnTo>
                    <a:pt x="5365" y="1014"/>
                  </a:lnTo>
                  <a:lnTo>
                    <a:pt x="5387" y="1056"/>
                  </a:lnTo>
                  <a:lnTo>
                    <a:pt x="5407" y="1102"/>
                  </a:lnTo>
                  <a:lnTo>
                    <a:pt x="5425" y="1148"/>
                  </a:lnTo>
                  <a:lnTo>
                    <a:pt x="5441" y="1194"/>
                  </a:lnTo>
                  <a:lnTo>
                    <a:pt x="5453" y="1242"/>
                  </a:lnTo>
                  <a:lnTo>
                    <a:pt x="5463" y="1290"/>
                  </a:lnTo>
                  <a:lnTo>
                    <a:pt x="5469" y="1340"/>
                  </a:lnTo>
                  <a:lnTo>
                    <a:pt x="5473" y="1390"/>
                  </a:lnTo>
                  <a:lnTo>
                    <a:pt x="5475" y="1442"/>
                  </a:lnTo>
                  <a:lnTo>
                    <a:pt x="5475" y="1442"/>
                  </a:lnTo>
                  <a:lnTo>
                    <a:pt x="5475" y="1478"/>
                  </a:lnTo>
                  <a:lnTo>
                    <a:pt x="5471" y="1514"/>
                  </a:lnTo>
                  <a:lnTo>
                    <a:pt x="5469" y="1552"/>
                  </a:lnTo>
                  <a:lnTo>
                    <a:pt x="5463" y="1588"/>
                  </a:lnTo>
                  <a:lnTo>
                    <a:pt x="5463" y="1588"/>
                  </a:lnTo>
                  <a:lnTo>
                    <a:pt x="5527" y="1622"/>
                  </a:lnTo>
                  <a:lnTo>
                    <a:pt x="5589" y="1660"/>
                  </a:lnTo>
                  <a:lnTo>
                    <a:pt x="5645" y="1702"/>
                  </a:lnTo>
                  <a:lnTo>
                    <a:pt x="5699" y="1746"/>
                  </a:lnTo>
                  <a:lnTo>
                    <a:pt x="5751" y="1792"/>
                  </a:lnTo>
                  <a:lnTo>
                    <a:pt x="5797" y="1842"/>
                  </a:lnTo>
                  <a:lnTo>
                    <a:pt x="5839" y="1894"/>
                  </a:lnTo>
                  <a:lnTo>
                    <a:pt x="5879" y="1950"/>
                  </a:lnTo>
                  <a:lnTo>
                    <a:pt x="5913" y="2006"/>
                  </a:lnTo>
                  <a:lnTo>
                    <a:pt x="5943" y="2066"/>
                  </a:lnTo>
                  <a:lnTo>
                    <a:pt x="5971" y="2126"/>
                  </a:lnTo>
                  <a:lnTo>
                    <a:pt x="5981" y="2158"/>
                  </a:lnTo>
                  <a:lnTo>
                    <a:pt x="5991" y="2188"/>
                  </a:lnTo>
                  <a:lnTo>
                    <a:pt x="6001" y="2220"/>
                  </a:lnTo>
                  <a:lnTo>
                    <a:pt x="6009" y="2252"/>
                  </a:lnTo>
                  <a:lnTo>
                    <a:pt x="6015" y="2284"/>
                  </a:lnTo>
                  <a:lnTo>
                    <a:pt x="6021" y="2318"/>
                  </a:lnTo>
                  <a:lnTo>
                    <a:pt x="6025" y="2350"/>
                  </a:lnTo>
                  <a:lnTo>
                    <a:pt x="6029" y="2384"/>
                  </a:lnTo>
                  <a:lnTo>
                    <a:pt x="6031" y="2418"/>
                  </a:lnTo>
                  <a:lnTo>
                    <a:pt x="6031" y="2452"/>
                  </a:lnTo>
                  <a:lnTo>
                    <a:pt x="6031" y="2452"/>
                  </a:lnTo>
                  <a:lnTo>
                    <a:pt x="6029" y="2500"/>
                  </a:lnTo>
                  <a:lnTo>
                    <a:pt x="6025" y="2548"/>
                  </a:lnTo>
                  <a:lnTo>
                    <a:pt x="6019" y="2594"/>
                  </a:lnTo>
                  <a:lnTo>
                    <a:pt x="6011" y="2640"/>
                  </a:lnTo>
                  <a:lnTo>
                    <a:pt x="5999" y="2686"/>
                  </a:lnTo>
                  <a:lnTo>
                    <a:pt x="5987" y="2730"/>
                  </a:lnTo>
                  <a:lnTo>
                    <a:pt x="5971" y="2774"/>
                  </a:lnTo>
                  <a:lnTo>
                    <a:pt x="5953" y="2818"/>
                  </a:lnTo>
                  <a:lnTo>
                    <a:pt x="5933" y="2860"/>
                  </a:lnTo>
                  <a:lnTo>
                    <a:pt x="5911" y="2900"/>
                  </a:lnTo>
                  <a:lnTo>
                    <a:pt x="5887" y="2940"/>
                  </a:lnTo>
                  <a:lnTo>
                    <a:pt x="5859" y="2980"/>
                  </a:lnTo>
                  <a:lnTo>
                    <a:pt x="5831" y="3018"/>
                  </a:lnTo>
                  <a:lnTo>
                    <a:pt x="5803" y="3054"/>
                  </a:lnTo>
                  <a:lnTo>
                    <a:pt x="5771" y="3090"/>
                  </a:lnTo>
                  <a:lnTo>
                    <a:pt x="5737" y="3122"/>
                  </a:lnTo>
                  <a:lnTo>
                    <a:pt x="5701" y="3156"/>
                  </a:lnTo>
                  <a:lnTo>
                    <a:pt x="5665" y="3186"/>
                  </a:lnTo>
                  <a:lnTo>
                    <a:pt x="5627" y="3216"/>
                  </a:lnTo>
                  <a:lnTo>
                    <a:pt x="5587" y="3244"/>
                  </a:lnTo>
                  <a:lnTo>
                    <a:pt x="5545" y="3270"/>
                  </a:lnTo>
                  <a:lnTo>
                    <a:pt x="5503" y="3294"/>
                  </a:lnTo>
                  <a:lnTo>
                    <a:pt x="5459" y="3318"/>
                  </a:lnTo>
                  <a:lnTo>
                    <a:pt x="5413" y="3338"/>
                  </a:lnTo>
                  <a:lnTo>
                    <a:pt x="5367" y="3358"/>
                  </a:lnTo>
                  <a:lnTo>
                    <a:pt x="5319" y="3376"/>
                  </a:lnTo>
                  <a:lnTo>
                    <a:pt x="5271" y="3390"/>
                  </a:lnTo>
                  <a:lnTo>
                    <a:pt x="5221" y="3404"/>
                  </a:lnTo>
                  <a:lnTo>
                    <a:pt x="5171" y="3416"/>
                  </a:lnTo>
                  <a:lnTo>
                    <a:pt x="5119" y="3424"/>
                  </a:lnTo>
                  <a:lnTo>
                    <a:pt x="5067" y="3432"/>
                  </a:lnTo>
                  <a:lnTo>
                    <a:pt x="5013" y="3436"/>
                  </a:lnTo>
                  <a:lnTo>
                    <a:pt x="5013" y="3436"/>
                  </a:lnTo>
                  <a:lnTo>
                    <a:pt x="4977" y="3492"/>
                  </a:lnTo>
                  <a:lnTo>
                    <a:pt x="4937" y="3546"/>
                  </a:lnTo>
                  <a:lnTo>
                    <a:pt x="4893" y="3598"/>
                  </a:lnTo>
                  <a:lnTo>
                    <a:pt x="4847" y="3646"/>
                  </a:lnTo>
                  <a:lnTo>
                    <a:pt x="4795" y="3692"/>
                  </a:lnTo>
                  <a:lnTo>
                    <a:pt x="4741" y="3734"/>
                  </a:lnTo>
                  <a:lnTo>
                    <a:pt x="4685" y="3774"/>
                  </a:lnTo>
                  <a:lnTo>
                    <a:pt x="4625" y="3810"/>
                  </a:lnTo>
                  <a:lnTo>
                    <a:pt x="4625" y="3810"/>
                  </a:lnTo>
                  <a:lnTo>
                    <a:pt x="4591" y="3828"/>
                  </a:lnTo>
                  <a:lnTo>
                    <a:pt x="4557" y="3846"/>
                  </a:lnTo>
                  <a:lnTo>
                    <a:pt x="4523" y="3862"/>
                  </a:lnTo>
                  <a:lnTo>
                    <a:pt x="4487" y="3876"/>
                  </a:lnTo>
                  <a:lnTo>
                    <a:pt x="4453" y="3890"/>
                  </a:lnTo>
                  <a:lnTo>
                    <a:pt x="4417" y="3902"/>
                  </a:lnTo>
                  <a:lnTo>
                    <a:pt x="4379" y="3914"/>
                  </a:lnTo>
                  <a:lnTo>
                    <a:pt x="4343" y="3924"/>
                  </a:lnTo>
                  <a:lnTo>
                    <a:pt x="4305" y="3932"/>
                  </a:lnTo>
                  <a:lnTo>
                    <a:pt x="4267" y="3940"/>
                  </a:lnTo>
                  <a:lnTo>
                    <a:pt x="4229" y="3946"/>
                  </a:lnTo>
                  <a:lnTo>
                    <a:pt x="4191" y="3952"/>
                  </a:lnTo>
                  <a:lnTo>
                    <a:pt x="4153" y="3956"/>
                  </a:lnTo>
                  <a:lnTo>
                    <a:pt x="4113" y="3960"/>
                  </a:lnTo>
                  <a:lnTo>
                    <a:pt x="4075" y="3962"/>
                  </a:lnTo>
                  <a:lnTo>
                    <a:pt x="4035" y="3962"/>
                  </a:lnTo>
                  <a:lnTo>
                    <a:pt x="4035" y="3962"/>
                  </a:lnTo>
                  <a:lnTo>
                    <a:pt x="3977" y="3960"/>
                  </a:lnTo>
                  <a:lnTo>
                    <a:pt x="3921" y="3956"/>
                  </a:lnTo>
                  <a:lnTo>
                    <a:pt x="3863" y="3950"/>
                  </a:lnTo>
                  <a:lnTo>
                    <a:pt x="3807" y="3942"/>
                  </a:lnTo>
                  <a:lnTo>
                    <a:pt x="3751" y="3930"/>
                  </a:lnTo>
                  <a:lnTo>
                    <a:pt x="3697" y="3914"/>
                  </a:lnTo>
                  <a:lnTo>
                    <a:pt x="3643" y="3898"/>
                  </a:lnTo>
                  <a:lnTo>
                    <a:pt x="3589" y="3878"/>
                  </a:lnTo>
                  <a:lnTo>
                    <a:pt x="3589" y="3878"/>
                  </a:lnTo>
                  <a:lnTo>
                    <a:pt x="3555" y="3896"/>
                  </a:lnTo>
                  <a:lnTo>
                    <a:pt x="3521" y="3914"/>
                  </a:lnTo>
                  <a:lnTo>
                    <a:pt x="3487" y="3930"/>
                  </a:lnTo>
                  <a:lnTo>
                    <a:pt x="3450" y="3944"/>
                  </a:lnTo>
                  <a:lnTo>
                    <a:pt x="3416" y="3958"/>
                  </a:lnTo>
                  <a:lnTo>
                    <a:pt x="3378" y="3972"/>
                  </a:lnTo>
                  <a:lnTo>
                    <a:pt x="3342" y="3982"/>
                  </a:lnTo>
                  <a:lnTo>
                    <a:pt x="3306" y="3992"/>
                  </a:lnTo>
                  <a:lnTo>
                    <a:pt x="3268" y="4002"/>
                  </a:lnTo>
                  <a:lnTo>
                    <a:pt x="3230" y="4010"/>
                  </a:lnTo>
                  <a:lnTo>
                    <a:pt x="3192" y="4016"/>
                  </a:lnTo>
                  <a:lnTo>
                    <a:pt x="3154" y="4022"/>
                  </a:lnTo>
                  <a:lnTo>
                    <a:pt x="3114" y="4026"/>
                  </a:lnTo>
                  <a:lnTo>
                    <a:pt x="3076" y="4030"/>
                  </a:lnTo>
                  <a:lnTo>
                    <a:pt x="3036" y="4032"/>
                  </a:lnTo>
                  <a:lnTo>
                    <a:pt x="2996" y="4032"/>
                  </a:lnTo>
                  <a:lnTo>
                    <a:pt x="2996" y="4032"/>
                  </a:lnTo>
                  <a:lnTo>
                    <a:pt x="2924" y="4030"/>
                  </a:lnTo>
                  <a:lnTo>
                    <a:pt x="2854" y="4024"/>
                  </a:lnTo>
                  <a:lnTo>
                    <a:pt x="2784" y="4014"/>
                  </a:lnTo>
                  <a:lnTo>
                    <a:pt x="2714" y="4000"/>
                  </a:lnTo>
                  <a:lnTo>
                    <a:pt x="2646" y="3982"/>
                  </a:lnTo>
                  <a:lnTo>
                    <a:pt x="2580" y="3960"/>
                  </a:lnTo>
                  <a:lnTo>
                    <a:pt x="2516" y="3934"/>
                  </a:lnTo>
                  <a:lnTo>
                    <a:pt x="2452" y="3904"/>
                  </a:lnTo>
                  <a:lnTo>
                    <a:pt x="2452" y="3904"/>
                  </a:lnTo>
                  <a:lnTo>
                    <a:pt x="2412" y="3932"/>
                  </a:lnTo>
                  <a:lnTo>
                    <a:pt x="2372" y="3956"/>
                  </a:lnTo>
                  <a:lnTo>
                    <a:pt x="2330" y="3980"/>
                  </a:lnTo>
                  <a:lnTo>
                    <a:pt x="2288" y="4002"/>
                  </a:lnTo>
                  <a:lnTo>
                    <a:pt x="2244" y="4024"/>
                  </a:lnTo>
                  <a:lnTo>
                    <a:pt x="2198" y="4042"/>
                  </a:lnTo>
                  <a:lnTo>
                    <a:pt x="2154" y="4060"/>
                  </a:lnTo>
                  <a:lnTo>
                    <a:pt x="2108" y="4074"/>
                  </a:lnTo>
                  <a:lnTo>
                    <a:pt x="2060" y="4088"/>
                  </a:lnTo>
                  <a:lnTo>
                    <a:pt x="2012" y="4100"/>
                  </a:lnTo>
                  <a:lnTo>
                    <a:pt x="1964" y="4110"/>
                  </a:lnTo>
                  <a:lnTo>
                    <a:pt x="1916" y="4118"/>
                  </a:lnTo>
                  <a:lnTo>
                    <a:pt x="1866" y="4126"/>
                  </a:lnTo>
                  <a:lnTo>
                    <a:pt x="1818" y="4130"/>
                  </a:lnTo>
                  <a:lnTo>
                    <a:pt x="1768" y="4132"/>
                  </a:lnTo>
                  <a:lnTo>
                    <a:pt x="1718" y="4134"/>
                  </a:lnTo>
                  <a:lnTo>
                    <a:pt x="1718" y="4134"/>
                  </a:lnTo>
                  <a:close/>
                  <a:moveTo>
                    <a:pt x="1754" y="552"/>
                  </a:moveTo>
                  <a:lnTo>
                    <a:pt x="1754" y="552"/>
                  </a:lnTo>
                  <a:lnTo>
                    <a:pt x="1686" y="552"/>
                  </a:lnTo>
                  <a:lnTo>
                    <a:pt x="1620" y="556"/>
                  </a:lnTo>
                  <a:lnTo>
                    <a:pt x="1554" y="562"/>
                  </a:lnTo>
                  <a:lnTo>
                    <a:pt x="1488" y="570"/>
                  </a:lnTo>
                  <a:lnTo>
                    <a:pt x="1424" y="582"/>
                  </a:lnTo>
                  <a:lnTo>
                    <a:pt x="1362" y="594"/>
                  </a:lnTo>
                  <a:lnTo>
                    <a:pt x="1300" y="610"/>
                  </a:lnTo>
                  <a:lnTo>
                    <a:pt x="1240" y="626"/>
                  </a:lnTo>
                  <a:lnTo>
                    <a:pt x="1182" y="646"/>
                  </a:lnTo>
                  <a:lnTo>
                    <a:pt x="1124" y="668"/>
                  </a:lnTo>
                  <a:lnTo>
                    <a:pt x="1070" y="690"/>
                  </a:lnTo>
                  <a:lnTo>
                    <a:pt x="1016" y="716"/>
                  </a:lnTo>
                  <a:lnTo>
                    <a:pt x="964" y="742"/>
                  </a:lnTo>
                  <a:lnTo>
                    <a:pt x="914" y="770"/>
                  </a:lnTo>
                  <a:lnTo>
                    <a:pt x="866" y="802"/>
                  </a:lnTo>
                  <a:lnTo>
                    <a:pt x="820" y="832"/>
                  </a:lnTo>
                  <a:lnTo>
                    <a:pt x="776" y="866"/>
                  </a:lnTo>
                  <a:lnTo>
                    <a:pt x="734" y="902"/>
                  </a:lnTo>
                  <a:lnTo>
                    <a:pt x="694" y="938"/>
                  </a:lnTo>
                  <a:lnTo>
                    <a:pt x="658" y="976"/>
                  </a:lnTo>
                  <a:lnTo>
                    <a:pt x="624" y="1014"/>
                  </a:lnTo>
                  <a:lnTo>
                    <a:pt x="592" y="1054"/>
                  </a:lnTo>
                  <a:lnTo>
                    <a:pt x="562" y="1096"/>
                  </a:lnTo>
                  <a:lnTo>
                    <a:pt x="536" y="1138"/>
                  </a:lnTo>
                  <a:lnTo>
                    <a:pt x="512" y="1182"/>
                  </a:lnTo>
                  <a:lnTo>
                    <a:pt x="492" y="1226"/>
                  </a:lnTo>
                  <a:lnTo>
                    <a:pt x="474" y="1272"/>
                  </a:lnTo>
                  <a:lnTo>
                    <a:pt x="458" y="1318"/>
                  </a:lnTo>
                  <a:lnTo>
                    <a:pt x="446" y="1366"/>
                  </a:lnTo>
                  <a:lnTo>
                    <a:pt x="438" y="1414"/>
                  </a:lnTo>
                  <a:lnTo>
                    <a:pt x="434" y="1462"/>
                  </a:lnTo>
                  <a:lnTo>
                    <a:pt x="432" y="1512"/>
                  </a:lnTo>
                  <a:lnTo>
                    <a:pt x="432" y="1512"/>
                  </a:lnTo>
                  <a:lnTo>
                    <a:pt x="434" y="1570"/>
                  </a:lnTo>
                  <a:lnTo>
                    <a:pt x="440" y="1626"/>
                  </a:lnTo>
                  <a:lnTo>
                    <a:pt x="452" y="1682"/>
                  </a:lnTo>
                  <a:lnTo>
                    <a:pt x="468" y="1738"/>
                  </a:lnTo>
                  <a:lnTo>
                    <a:pt x="480" y="1774"/>
                  </a:lnTo>
                  <a:lnTo>
                    <a:pt x="450" y="1794"/>
                  </a:lnTo>
                  <a:lnTo>
                    <a:pt x="450" y="1794"/>
                  </a:lnTo>
                  <a:lnTo>
                    <a:pt x="408" y="1822"/>
                  </a:lnTo>
                  <a:lnTo>
                    <a:pt x="370" y="1854"/>
                  </a:lnTo>
                  <a:lnTo>
                    <a:pt x="334" y="1886"/>
                  </a:lnTo>
                  <a:lnTo>
                    <a:pt x="300" y="1920"/>
                  </a:lnTo>
                  <a:lnTo>
                    <a:pt x="268" y="1956"/>
                  </a:lnTo>
                  <a:lnTo>
                    <a:pt x="240" y="1992"/>
                  </a:lnTo>
                  <a:lnTo>
                    <a:pt x="214" y="2030"/>
                  </a:lnTo>
                  <a:lnTo>
                    <a:pt x="190" y="2070"/>
                  </a:lnTo>
                  <a:lnTo>
                    <a:pt x="168" y="2110"/>
                  </a:lnTo>
                  <a:lnTo>
                    <a:pt x="150" y="2152"/>
                  </a:lnTo>
                  <a:lnTo>
                    <a:pt x="134" y="2194"/>
                  </a:lnTo>
                  <a:lnTo>
                    <a:pt x="122" y="2238"/>
                  </a:lnTo>
                  <a:lnTo>
                    <a:pt x="112" y="2282"/>
                  </a:lnTo>
                  <a:lnTo>
                    <a:pt x="104" y="2326"/>
                  </a:lnTo>
                  <a:lnTo>
                    <a:pt x="100" y="2372"/>
                  </a:lnTo>
                  <a:lnTo>
                    <a:pt x="98" y="2418"/>
                  </a:lnTo>
                  <a:lnTo>
                    <a:pt x="98" y="2418"/>
                  </a:lnTo>
                  <a:lnTo>
                    <a:pt x="100" y="2474"/>
                  </a:lnTo>
                  <a:lnTo>
                    <a:pt x="108" y="2530"/>
                  </a:lnTo>
                  <a:lnTo>
                    <a:pt x="118" y="2584"/>
                  </a:lnTo>
                  <a:lnTo>
                    <a:pt x="134" y="2638"/>
                  </a:lnTo>
                  <a:lnTo>
                    <a:pt x="154" y="2690"/>
                  </a:lnTo>
                  <a:lnTo>
                    <a:pt x="178" y="2742"/>
                  </a:lnTo>
                  <a:lnTo>
                    <a:pt x="206" y="2790"/>
                  </a:lnTo>
                  <a:lnTo>
                    <a:pt x="238" y="2838"/>
                  </a:lnTo>
                  <a:lnTo>
                    <a:pt x="272" y="2884"/>
                  </a:lnTo>
                  <a:lnTo>
                    <a:pt x="312" y="2926"/>
                  </a:lnTo>
                  <a:lnTo>
                    <a:pt x="354" y="2968"/>
                  </a:lnTo>
                  <a:lnTo>
                    <a:pt x="398" y="3006"/>
                  </a:lnTo>
                  <a:lnTo>
                    <a:pt x="448" y="3040"/>
                  </a:lnTo>
                  <a:lnTo>
                    <a:pt x="498" y="3072"/>
                  </a:lnTo>
                  <a:lnTo>
                    <a:pt x="554" y="3102"/>
                  </a:lnTo>
                  <a:lnTo>
                    <a:pt x="610" y="3128"/>
                  </a:lnTo>
                  <a:lnTo>
                    <a:pt x="638" y="3138"/>
                  </a:lnTo>
                  <a:lnTo>
                    <a:pt x="640" y="3168"/>
                  </a:lnTo>
                  <a:lnTo>
                    <a:pt x="640" y="3168"/>
                  </a:lnTo>
                  <a:lnTo>
                    <a:pt x="646" y="3214"/>
                  </a:lnTo>
                  <a:lnTo>
                    <a:pt x="654" y="3260"/>
                  </a:lnTo>
                  <a:lnTo>
                    <a:pt x="666" y="3304"/>
                  </a:lnTo>
                  <a:lnTo>
                    <a:pt x="678" y="3348"/>
                  </a:lnTo>
                  <a:lnTo>
                    <a:pt x="694" y="3390"/>
                  </a:lnTo>
                  <a:lnTo>
                    <a:pt x="710" y="3432"/>
                  </a:lnTo>
                  <a:lnTo>
                    <a:pt x="730" y="3472"/>
                  </a:lnTo>
                  <a:lnTo>
                    <a:pt x="750" y="3512"/>
                  </a:lnTo>
                  <a:lnTo>
                    <a:pt x="774" y="3550"/>
                  </a:lnTo>
                  <a:lnTo>
                    <a:pt x="800" y="3588"/>
                  </a:lnTo>
                  <a:lnTo>
                    <a:pt x="826" y="3624"/>
                  </a:lnTo>
                  <a:lnTo>
                    <a:pt x="856" y="3660"/>
                  </a:lnTo>
                  <a:lnTo>
                    <a:pt x="886" y="3694"/>
                  </a:lnTo>
                  <a:lnTo>
                    <a:pt x="918" y="3726"/>
                  </a:lnTo>
                  <a:lnTo>
                    <a:pt x="952" y="3758"/>
                  </a:lnTo>
                  <a:lnTo>
                    <a:pt x="986" y="3788"/>
                  </a:lnTo>
                  <a:lnTo>
                    <a:pt x="1024" y="3816"/>
                  </a:lnTo>
                  <a:lnTo>
                    <a:pt x="1062" y="3842"/>
                  </a:lnTo>
                  <a:lnTo>
                    <a:pt x="1102" y="3868"/>
                  </a:lnTo>
                  <a:lnTo>
                    <a:pt x="1142" y="3892"/>
                  </a:lnTo>
                  <a:lnTo>
                    <a:pt x="1184" y="3914"/>
                  </a:lnTo>
                  <a:lnTo>
                    <a:pt x="1228" y="3934"/>
                  </a:lnTo>
                  <a:lnTo>
                    <a:pt x="1274" y="3952"/>
                  </a:lnTo>
                  <a:lnTo>
                    <a:pt x="1318" y="3970"/>
                  </a:lnTo>
                  <a:lnTo>
                    <a:pt x="1366" y="3984"/>
                  </a:lnTo>
                  <a:lnTo>
                    <a:pt x="1414" y="3998"/>
                  </a:lnTo>
                  <a:lnTo>
                    <a:pt x="1462" y="4010"/>
                  </a:lnTo>
                  <a:lnTo>
                    <a:pt x="1512" y="4018"/>
                  </a:lnTo>
                  <a:lnTo>
                    <a:pt x="1562" y="4026"/>
                  </a:lnTo>
                  <a:lnTo>
                    <a:pt x="1614" y="4032"/>
                  </a:lnTo>
                  <a:lnTo>
                    <a:pt x="1664" y="4034"/>
                  </a:lnTo>
                  <a:lnTo>
                    <a:pt x="1718" y="4036"/>
                  </a:lnTo>
                  <a:lnTo>
                    <a:pt x="1718" y="4036"/>
                  </a:lnTo>
                  <a:lnTo>
                    <a:pt x="1766" y="4034"/>
                  </a:lnTo>
                  <a:lnTo>
                    <a:pt x="1814" y="4032"/>
                  </a:lnTo>
                  <a:lnTo>
                    <a:pt x="1860" y="4028"/>
                  </a:lnTo>
                  <a:lnTo>
                    <a:pt x="1908" y="4020"/>
                  </a:lnTo>
                  <a:lnTo>
                    <a:pt x="1954" y="4012"/>
                  </a:lnTo>
                  <a:lnTo>
                    <a:pt x="2000" y="4002"/>
                  </a:lnTo>
                  <a:lnTo>
                    <a:pt x="2046" y="3990"/>
                  </a:lnTo>
                  <a:lnTo>
                    <a:pt x="2092" y="3976"/>
                  </a:lnTo>
                  <a:lnTo>
                    <a:pt x="2136" y="3962"/>
                  </a:lnTo>
                  <a:lnTo>
                    <a:pt x="2178" y="3944"/>
                  </a:lnTo>
                  <a:lnTo>
                    <a:pt x="2222" y="3926"/>
                  </a:lnTo>
                  <a:lnTo>
                    <a:pt x="2262" y="3906"/>
                  </a:lnTo>
                  <a:lnTo>
                    <a:pt x="2304" y="3884"/>
                  </a:lnTo>
                  <a:lnTo>
                    <a:pt x="2344" y="3860"/>
                  </a:lnTo>
                  <a:lnTo>
                    <a:pt x="2382" y="3834"/>
                  </a:lnTo>
                  <a:lnTo>
                    <a:pt x="2418" y="3808"/>
                  </a:lnTo>
                  <a:lnTo>
                    <a:pt x="2444" y="3788"/>
                  </a:lnTo>
                  <a:lnTo>
                    <a:pt x="2472" y="3804"/>
                  </a:lnTo>
                  <a:lnTo>
                    <a:pt x="2472" y="3804"/>
                  </a:lnTo>
                  <a:lnTo>
                    <a:pt x="2532" y="3834"/>
                  </a:lnTo>
                  <a:lnTo>
                    <a:pt x="2594" y="3860"/>
                  </a:lnTo>
                  <a:lnTo>
                    <a:pt x="2658" y="3882"/>
                  </a:lnTo>
                  <a:lnTo>
                    <a:pt x="2724" y="3900"/>
                  </a:lnTo>
                  <a:lnTo>
                    <a:pt x="2790" y="3914"/>
                  </a:lnTo>
                  <a:lnTo>
                    <a:pt x="2858" y="3926"/>
                  </a:lnTo>
                  <a:lnTo>
                    <a:pt x="2928" y="3932"/>
                  </a:lnTo>
                  <a:lnTo>
                    <a:pt x="2996" y="3934"/>
                  </a:lnTo>
                  <a:lnTo>
                    <a:pt x="2996" y="3934"/>
                  </a:lnTo>
                  <a:lnTo>
                    <a:pt x="3034" y="3934"/>
                  </a:lnTo>
                  <a:lnTo>
                    <a:pt x="3072" y="3932"/>
                  </a:lnTo>
                  <a:lnTo>
                    <a:pt x="3110" y="3928"/>
                  </a:lnTo>
                  <a:lnTo>
                    <a:pt x="3146" y="3924"/>
                  </a:lnTo>
                  <a:lnTo>
                    <a:pt x="3182" y="3918"/>
                  </a:lnTo>
                  <a:lnTo>
                    <a:pt x="3220" y="3912"/>
                  </a:lnTo>
                  <a:lnTo>
                    <a:pt x="3256" y="3904"/>
                  </a:lnTo>
                  <a:lnTo>
                    <a:pt x="3292" y="3894"/>
                  </a:lnTo>
                  <a:lnTo>
                    <a:pt x="3326" y="3884"/>
                  </a:lnTo>
                  <a:lnTo>
                    <a:pt x="3362" y="3874"/>
                  </a:lnTo>
                  <a:lnTo>
                    <a:pt x="3396" y="3862"/>
                  </a:lnTo>
                  <a:lnTo>
                    <a:pt x="3430" y="3848"/>
                  </a:lnTo>
                  <a:lnTo>
                    <a:pt x="3462" y="3832"/>
                  </a:lnTo>
                  <a:lnTo>
                    <a:pt x="3497" y="3816"/>
                  </a:lnTo>
                  <a:lnTo>
                    <a:pt x="3529" y="3800"/>
                  </a:lnTo>
                  <a:lnTo>
                    <a:pt x="3561" y="3782"/>
                  </a:lnTo>
                  <a:lnTo>
                    <a:pt x="3581" y="3770"/>
                  </a:lnTo>
                  <a:lnTo>
                    <a:pt x="3605" y="3778"/>
                  </a:lnTo>
                  <a:lnTo>
                    <a:pt x="3605" y="3778"/>
                  </a:lnTo>
                  <a:lnTo>
                    <a:pt x="3655" y="3798"/>
                  </a:lnTo>
                  <a:lnTo>
                    <a:pt x="3707" y="3816"/>
                  </a:lnTo>
                  <a:lnTo>
                    <a:pt x="3761" y="3830"/>
                  </a:lnTo>
                  <a:lnTo>
                    <a:pt x="3815" y="3842"/>
                  </a:lnTo>
                  <a:lnTo>
                    <a:pt x="3869" y="3852"/>
                  </a:lnTo>
                  <a:lnTo>
                    <a:pt x="3923" y="3858"/>
                  </a:lnTo>
                  <a:lnTo>
                    <a:pt x="3979" y="3862"/>
                  </a:lnTo>
                  <a:lnTo>
                    <a:pt x="4035" y="3864"/>
                  </a:lnTo>
                  <a:lnTo>
                    <a:pt x="4035" y="3864"/>
                  </a:lnTo>
                  <a:lnTo>
                    <a:pt x="4107" y="3862"/>
                  </a:lnTo>
                  <a:lnTo>
                    <a:pt x="4179" y="3856"/>
                  </a:lnTo>
                  <a:lnTo>
                    <a:pt x="4249" y="3844"/>
                  </a:lnTo>
                  <a:lnTo>
                    <a:pt x="4317" y="3830"/>
                  </a:lnTo>
                  <a:lnTo>
                    <a:pt x="4383" y="3810"/>
                  </a:lnTo>
                  <a:lnTo>
                    <a:pt x="4447" y="3788"/>
                  </a:lnTo>
                  <a:lnTo>
                    <a:pt x="4509" y="3760"/>
                  </a:lnTo>
                  <a:lnTo>
                    <a:pt x="4569" y="3730"/>
                  </a:lnTo>
                  <a:lnTo>
                    <a:pt x="4627" y="3696"/>
                  </a:lnTo>
                  <a:lnTo>
                    <a:pt x="4681" y="3658"/>
                  </a:lnTo>
                  <a:lnTo>
                    <a:pt x="4733" y="3618"/>
                  </a:lnTo>
                  <a:lnTo>
                    <a:pt x="4781" y="3572"/>
                  </a:lnTo>
                  <a:lnTo>
                    <a:pt x="4827" y="3526"/>
                  </a:lnTo>
                  <a:lnTo>
                    <a:pt x="4869" y="3476"/>
                  </a:lnTo>
                  <a:lnTo>
                    <a:pt x="4889" y="3448"/>
                  </a:lnTo>
                  <a:lnTo>
                    <a:pt x="4907" y="3422"/>
                  </a:lnTo>
                  <a:lnTo>
                    <a:pt x="4925" y="3394"/>
                  </a:lnTo>
                  <a:lnTo>
                    <a:pt x="4941" y="3366"/>
                  </a:lnTo>
                  <a:lnTo>
                    <a:pt x="4953" y="3342"/>
                  </a:lnTo>
                  <a:lnTo>
                    <a:pt x="4981" y="3340"/>
                  </a:lnTo>
                  <a:lnTo>
                    <a:pt x="4981" y="3340"/>
                  </a:lnTo>
                  <a:lnTo>
                    <a:pt x="5031" y="3336"/>
                  </a:lnTo>
                  <a:lnTo>
                    <a:pt x="5079" y="3332"/>
                  </a:lnTo>
                  <a:lnTo>
                    <a:pt x="5127" y="3324"/>
                  </a:lnTo>
                  <a:lnTo>
                    <a:pt x="5175" y="3314"/>
                  </a:lnTo>
                  <a:lnTo>
                    <a:pt x="5221" y="3302"/>
                  </a:lnTo>
                  <a:lnTo>
                    <a:pt x="5267" y="3290"/>
                  </a:lnTo>
                  <a:lnTo>
                    <a:pt x="5311" y="3274"/>
                  </a:lnTo>
                  <a:lnTo>
                    <a:pt x="5355" y="3256"/>
                  </a:lnTo>
                  <a:lnTo>
                    <a:pt x="5397" y="3238"/>
                  </a:lnTo>
                  <a:lnTo>
                    <a:pt x="5439" y="3218"/>
                  </a:lnTo>
                  <a:lnTo>
                    <a:pt x="5479" y="3196"/>
                  </a:lnTo>
                  <a:lnTo>
                    <a:pt x="5517" y="3172"/>
                  </a:lnTo>
                  <a:lnTo>
                    <a:pt x="5555" y="3148"/>
                  </a:lnTo>
                  <a:lnTo>
                    <a:pt x="5589" y="3120"/>
                  </a:lnTo>
                  <a:lnTo>
                    <a:pt x="5625" y="3092"/>
                  </a:lnTo>
                  <a:lnTo>
                    <a:pt x="5657" y="3064"/>
                  </a:lnTo>
                  <a:lnTo>
                    <a:pt x="5689" y="3032"/>
                  </a:lnTo>
                  <a:lnTo>
                    <a:pt x="5719" y="3000"/>
                  </a:lnTo>
                  <a:lnTo>
                    <a:pt x="5747" y="2968"/>
                  </a:lnTo>
                  <a:lnTo>
                    <a:pt x="5773" y="2934"/>
                  </a:lnTo>
                  <a:lnTo>
                    <a:pt x="5797" y="2898"/>
                  </a:lnTo>
                  <a:lnTo>
                    <a:pt x="5819" y="2862"/>
                  </a:lnTo>
                  <a:lnTo>
                    <a:pt x="5841" y="2824"/>
                  </a:lnTo>
                  <a:lnTo>
                    <a:pt x="5859" y="2786"/>
                  </a:lnTo>
                  <a:lnTo>
                    <a:pt x="5877" y="2746"/>
                  </a:lnTo>
                  <a:lnTo>
                    <a:pt x="5891" y="2706"/>
                  </a:lnTo>
                  <a:lnTo>
                    <a:pt x="5903" y="2666"/>
                  </a:lnTo>
                  <a:lnTo>
                    <a:pt x="5913" y="2624"/>
                  </a:lnTo>
                  <a:lnTo>
                    <a:pt x="5923" y="2582"/>
                  </a:lnTo>
                  <a:lnTo>
                    <a:pt x="5929" y="2538"/>
                  </a:lnTo>
                  <a:lnTo>
                    <a:pt x="5931" y="2496"/>
                  </a:lnTo>
                  <a:lnTo>
                    <a:pt x="5933" y="2452"/>
                  </a:lnTo>
                  <a:lnTo>
                    <a:pt x="5933" y="2452"/>
                  </a:lnTo>
                  <a:lnTo>
                    <a:pt x="5933" y="2420"/>
                  </a:lnTo>
                  <a:lnTo>
                    <a:pt x="5931" y="2390"/>
                  </a:lnTo>
                  <a:lnTo>
                    <a:pt x="5927" y="2358"/>
                  </a:lnTo>
                  <a:lnTo>
                    <a:pt x="5923" y="2328"/>
                  </a:lnTo>
                  <a:lnTo>
                    <a:pt x="5911" y="2268"/>
                  </a:lnTo>
                  <a:lnTo>
                    <a:pt x="5895" y="2208"/>
                  </a:lnTo>
                  <a:lnTo>
                    <a:pt x="5875" y="2150"/>
                  </a:lnTo>
                  <a:lnTo>
                    <a:pt x="5849" y="2094"/>
                  </a:lnTo>
                  <a:lnTo>
                    <a:pt x="5819" y="2040"/>
                  </a:lnTo>
                  <a:lnTo>
                    <a:pt x="5787" y="1988"/>
                  </a:lnTo>
                  <a:lnTo>
                    <a:pt x="5749" y="1938"/>
                  </a:lnTo>
                  <a:lnTo>
                    <a:pt x="5707" y="1890"/>
                  </a:lnTo>
                  <a:lnTo>
                    <a:pt x="5663" y="1844"/>
                  </a:lnTo>
                  <a:lnTo>
                    <a:pt x="5615" y="1802"/>
                  </a:lnTo>
                  <a:lnTo>
                    <a:pt x="5563" y="1762"/>
                  </a:lnTo>
                  <a:lnTo>
                    <a:pt x="5507" y="1724"/>
                  </a:lnTo>
                  <a:lnTo>
                    <a:pt x="5449" y="1690"/>
                  </a:lnTo>
                  <a:lnTo>
                    <a:pt x="5387" y="1660"/>
                  </a:lnTo>
                  <a:lnTo>
                    <a:pt x="5351" y="1644"/>
                  </a:lnTo>
                  <a:lnTo>
                    <a:pt x="5359" y="1606"/>
                  </a:lnTo>
                  <a:lnTo>
                    <a:pt x="5359" y="1606"/>
                  </a:lnTo>
                  <a:lnTo>
                    <a:pt x="5367" y="1564"/>
                  </a:lnTo>
                  <a:lnTo>
                    <a:pt x="5373" y="1524"/>
                  </a:lnTo>
                  <a:lnTo>
                    <a:pt x="5375" y="1482"/>
                  </a:lnTo>
                  <a:lnTo>
                    <a:pt x="5377" y="1442"/>
                  </a:lnTo>
                  <a:lnTo>
                    <a:pt x="5377" y="1442"/>
                  </a:lnTo>
                  <a:lnTo>
                    <a:pt x="5375" y="1396"/>
                  </a:lnTo>
                  <a:lnTo>
                    <a:pt x="5371" y="1350"/>
                  </a:lnTo>
                  <a:lnTo>
                    <a:pt x="5365" y="1306"/>
                  </a:lnTo>
                  <a:lnTo>
                    <a:pt x="5357" y="1262"/>
                  </a:lnTo>
                  <a:lnTo>
                    <a:pt x="5345" y="1220"/>
                  </a:lnTo>
                  <a:lnTo>
                    <a:pt x="5331" y="1176"/>
                  </a:lnTo>
                  <a:lnTo>
                    <a:pt x="5315" y="1136"/>
                  </a:lnTo>
                  <a:lnTo>
                    <a:pt x="5297" y="1096"/>
                  </a:lnTo>
                  <a:lnTo>
                    <a:pt x="5277" y="1056"/>
                  </a:lnTo>
                  <a:lnTo>
                    <a:pt x="5255" y="1018"/>
                  </a:lnTo>
                  <a:lnTo>
                    <a:pt x="5231" y="980"/>
                  </a:lnTo>
                  <a:lnTo>
                    <a:pt x="5205" y="944"/>
                  </a:lnTo>
                  <a:lnTo>
                    <a:pt x="5177" y="908"/>
                  </a:lnTo>
                  <a:lnTo>
                    <a:pt x="5147" y="876"/>
                  </a:lnTo>
                  <a:lnTo>
                    <a:pt x="5115" y="844"/>
                  </a:lnTo>
                  <a:lnTo>
                    <a:pt x="5081" y="812"/>
                  </a:lnTo>
                  <a:lnTo>
                    <a:pt x="5047" y="782"/>
                  </a:lnTo>
                  <a:lnTo>
                    <a:pt x="5009" y="754"/>
                  </a:lnTo>
                  <a:lnTo>
                    <a:pt x="4971" y="728"/>
                  </a:lnTo>
                  <a:lnTo>
                    <a:pt x="4933" y="704"/>
                  </a:lnTo>
                  <a:lnTo>
                    <a:pt x="4891" y="680"/>
                  </a:lnTo>
                  <a:lnTo>
                    <a:pt x="4849" y="658"/>
                  </a:lnTo>
                  <a:lnTo>
                    <a:pt x="4805" y="640"/>
                  </a:lnTo>
                  <a:lnTo>
                    <a:pt x="4761" y="622"/>
                  </a:lnTo>
                  <a:lnTo>
                    <a:pt x="4715" y="606"/>
                  </a:lnTo>
                  <a:lnTo>
                    <a:pt x="4669" y="592"/>
                  </a:lnTo>
                  <a:lnTo>
                    <a:pt x="4621" y="580"/>
                  </a:lnTo>
                  <a:lnTo>
                    <a:pt x="4573" y="570"/>
                  </a:lnTo>
                  <a:lnTo>
                    <a:pt x="4523" y="562"/>
                  </a:lnTo>
                  <a:lnTo>
                    <a:pt x="4473" y="556"/>
                  </a:lnTo>
                  <a:lnTo>
                    <a:pt x="4421" y="552"/>
                  </a:lnTo>
                  <a:lnTo>
                    <a:pt x="4369" y="552"/>
                  </a:lnTo>
                  <a:lnTo>
                    <a:pt x="4369" y="552"/>
                  </a:lnTo>
                  <a:lnTo>
                    <a:pt x="4309" y="552"/>
                  </a:lnTo>
                  <a:lnTo>
                    <a:pt x="4249" y="558"/>
                  </a:lnTo>
                  <a:lnTo>
                    <a:pt x="4189" y="566"/>
                  </a:lnTo>
                  <a:lnTo>
                    <a:pt x="4131" y="576"/>
                  </a:lnTo>
                  <a:lnTo>
                    <a:pt x="4073" y="590"/>
                  </a:lnTo>
                  <a:lnTo>
                    <a:pt x="4017" y="606"/>
                  </a:lnTo>
                  <a:lnTo>
                    <a:pt x="3961" y="628"/>
                  </a:lnTo>
                  <a:lnTo>
                    <a:pt x="3907" y="650"/>
                  </a:lnTo>
                  <a:lnTo>
                    <a:pt x="3869" y="668"/>
                  </a:lnTo>
                  <a:lnTo>
                    <a:pt x="3845" y="632"/>
                  </a:lnTo>
                  <a:lnTo>
                    <a:pt x="3845" y="632"/>
                  </a:lnTo>
                  <a:lnTo>
                    <a:pt x="3803" y="572"/>
                  </a:lnTo>
                  <a:lnTo>
                    <a:pt x="3755" y="514"/>
                  </a:lnTo>
                  <a:lnTo>
                    <a:pt x="3705" y="460"/>
                  </a:lnTo>
                  <a:lnTo>
                    <a:pt x="3653" y="408"/>
                  </a:lnTo>
                  <a:lnTo>
                    <a:pt x="3597" y="360"/>
                  </a:lnTo>
                  <a:lnTo>
                    <a:pt x="3539" y="316"/>
                  </a:lnTo>
                  <a:lnTo>
                    <a:pt x="3479" y="276"/>
                  </a:lnTo>
                  <a:lnTo>
                    <a:pt x="3414" y="240"/>
                  </a:lnTo>
                  <a:lnTo>
                    <a:pt x="3348" y="208"/>
                  </a:lnTo>
                  <a:lnTo>
                    <a:pt x="3282" y="180"/>
                  </a:lnTo>
                  <a:lnTo>
                    <a:pt x="3212" y="154"/>
                  </a:lnTo>
                  <a:lnTo>
                    <a:pt x="3142" y="134"/>
                  </a:lnTo>
                  <a:lnTo>
                    <a:pt x="3070" y="118"/>
                  </a:lnTo>
                  <a:lnTo>
                    <a:pt x="2998" y="108"/>
                  </a:lnTo>
                  <a:lnTo>
                    <a:pt x="2924" y="100"/>
                  </a:lnTo>
                  <a:lnTo>
                    <a:pt x="2848" y="98"/>
                  </a:lnTo>
                  <a:lnTo>
                    <a:pt x="2848" y="98"/>
                  </a:lnTo>
                  <a:lnTo>
                    <a:pt x="2780" y="100"/>
                  </a:lnTo>
                  <a:lnTo>
                    <a:pt x="2714" y="106"/>
                  </a:lnTo>
                  <a:lnTo>
                    <a:pt x="2648" y="114"/>
                  </a:lnTo>
                  <a:lnTo>
                    <a:pt x="2584" y="128"/>
                  </a:lnTo>
                  <a:lnTo>
                    <a:pt x="2520" y="144"/>
                  </a:lnTo>
                  <a:lnTo>
                    <a:pt x="2456" y="164"/>
                  </a:lnTo>
                  <a:lnTo>
                    <a:pt x="2396" y="186"/>
                  </a:lnTo>
                  <a:lnTo>
                    <a:pt x="2336" y="214"/>
                  </a:lnTo>
                  <a:lnTo>
                    <a:pt x="2276" y="242"/>
                  </a:lnTo>
                  <a:lnTo>
                    <a:pt x="2220" y="276"/>
                  </a:lnTo>
                  <a:lnTo>
                    <a:pt x="2164" y="312"/>
                  </a:lnTo>
                  <a:lnTo>
                    <a:pt x="2112" y="352"/>
                  </a:lnTo>
                  <a:lnTo>
                    <a:pt x="2060" y="394"/>
                  </a:lnTo>
                  <a:lnTo>
                    <a:pt x="2012" y="438"/>
                  </a:lnTo>
                  <a:lnTo>
                    <a:pt x="1966" y="486"/>
                  </a:lnTo>
                  <a:lnTo>
                    <a:pt x="1922" y="538"/>
                  </a:lnTo>
                  <a:lnTo>
                    <a:pt x="1906" y="558"/>
                  </a:lnTo>
                  <a:lnTo>
                    <a:pt x="1880" y="556"/>
                  </a:lnTo>
                  <a:lnTo>
                    <a:pt x="1880" y="556"/>
                  </a:lnTo>
                  <a:lnTo>
                    <a:pt x="1816" y="552"/>
                  </a:lnTo>
                  <a:lnTo>
                    <a:pt x="1754" y="552"/>
                  </a:lnTo>
                  <a:lnTo>
                    <a:pt x="1754" y="552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>
              <a:off x="817560" y="5852880"/>
              <a:ext cx="8958240" cy="6093000"/>
            </a:xfrm>
            <a:custGeom>
              <a:avLst/>
              <a:gdLst>
                <a:gd name="textAreaLeft" fmla="*/ 0 w 8958240"/>
                <a:gd name="textAreaRight" fmla="*/ 8958600 w 8958240"/>
                <a:gd name="textAreaTop" fmla="*/ 0 h 6093000"/>
                <a:gd name="textAreaBottom" fmla="*/ 6093360 h 6093000"/>
              </a:gdLst>
              <a:ahLst/>
              <a:rect l="textAreaLeft" t="textAreaTop" r="textAreaRight" b="textAreaBottom"/>
              <a:pathLst>
                <a:path w="5643" h="3838">
                  <a:moveTo>
                    <a:pt x="5643" y="2284"/>
                  </a:moveTo>
                  <a:lnTo>
                    <a:pt x="5643" y="2284"/>
                  </a:lnTo>
                  <a:lnTo>
                    <a:pt x="5643" y="2252"/>
                  </a:lnTo>
                  <a:lnTo>
                    <a:pt x="5641" y="2220"/>
                  </a:lnTo>
                  <a:lnTo>
                    <a:pt x="5637" y="2188"/>
                  </a:lnTo>
                  <a:lnTo>
                    <a:pt x="5633" y="2158"/>
                  </a:lnTo>
                  <a:lnTo>
                    <a:pt x="5627" y="2126"/>
                  </a:lnTo>
                  <a:lnTo>
                    <a:pt x="5621" y="2096"/>
                  </a:lnTo>
                  <a:lnTo>
                    <a:pt x="5613" y="2064"/>
                  </a:lnTo>
                  <a:lnTo>
                    <a:pt x="5603" y="2036"/>
                  </a:lnTo>
                  <a:lnTo>
                    <a:pt x="5581" y="1976"/>
                  </a:lnTo>
                  <a:lnTo>
                    <a:pt x="5555" y="1920"/>
                  </a:lnTo>
                  <a:lnTo>
                    <a:pt x="5525" y="1866"/>
                  </a:lnTo>
                  <a:lnTo>
                    <a:pt x="5491" y="1812"/>
                  </a:lnTo>
                  <a:lnTo>
                    <a:pt x="5453" y="1762"/>
                  </a:lnTo>
                  <a:lnTo>
                    <a:pt x="5413" y="1714"/>
                  </a:lnTo>
                  <a:lnTo>
                    <a:pt x="5367" y="1670"/>
                  </a:lnTo>
                  <a:lnTo>
                    <a:pt x="5319" y="1628"/>
                  </a:lnTo>
                  <a:lnTo>
                    <a:pt x="5267" y="1588"/>
                  </a:lnTo>
                  <a:lnTo>
                    <a:pt x="5213" y="1552"/>
                  </a:lnTo>
                  <a:lnTo>
                    <a:pt x="5157" y="1520"/>
                  </a:lnTo>
                  <a:lnTo>
                    <a:pt x="5097" y="1490"/>
                  </a:lnTo>
                  <a:lnTo>
                    <a:pt x="5097" y="1490"/>
                  </a:lnTo>
                  <a:lnTo>
                    <a:pt x="5105" y="1448"/>
                  </a:lnTo>
                  <a:lnTo>
                    <a:pt x="5109" y="1408"/>
                  </a:lnTo>
                  <a:lnTo>
                    <a:pt x="5113" y="1366"/>
                  </a:lnTo>
                  <a:lnTo>
                    <a:pt x="5115" y="1324"/>
                  </a:lnTo>
                  <a:lnTo>
                    <a:pt x="5115" y="1324"/>
                  </a:lnTo>
                  <a:lnTo>
                    <a:pt x="5113" y="1278"/>
                  </a:lnTo>
                  <a:lnTo>
                    <a:pt x="5109" y="1232"/>
                  </a:lnTo>
                  <a:lnTo>
                    <a:pt x="5103" y="1188"/>
                  </a:lnTo>
                  <a:lnTo>
                    <a:pt x="5093" y="1144"/>
                  </a:lnTo>
                  <a:lnTo>
                    <a:pt x="5083" y="1100"/>
                  </a:lnTo>
                  <a:lnTo>
                    <a:pt x="5069" y="1058"/>
                  </a:lnTo>
                  <a:lnTo>
                    <a:pt x="5053" y="1016"/>
                  </a:lnTo>
                  <a:lnTo>
                    <a:pt x="5035" y="976"/>
                  </a:lnTo>
                  <a:lnTo>
                    <a:pt x="5015" y="936"/>
                  </a:lnTo>
                  <a:lnTo>
                    <a:pt x="4993" y="898"/>
                  </a:lnTo>
                  <a:lnTo>
                    <a:pt x="4969" y="860"/>
                  </a:lnTo>
                  <a:lnTo>
                    <a:pt x="4943" y="824"/>
                  </a:lnTo>
                  <a:lnTo>
                    <a:pt x="4915" y="790"/>
                  </a:lnTo>
                  <a:lnTo>
                    <a:pt x="4885" y="756"/>
                  </a:lnTo>
                  <a:lnTo>
                    <a:pt x="4853" y="724"/>
                  </a:lnTo>
                  <a:lnTo>
                    <a:pt x="4819" y="692"/>
                  </a:lnTo>
                  <a:lnTo>
                    <a:pt x="4785" y="662"/>
                  </a:lnTo>
                  <a:lnTo>
                    <a:pt x="4749" y="634"/>
                  </a:lnTo>
                  <a:lnTo>
                    <a:pt x="4711" y="608"/>
                  </a:lnTo>
                  <a:lnTo>
                    <a:pt x="4671" y="584"/>
                  </a:lnTo>
                  <a:lnTo>
                    <a:pt x="4631" y="560"/>
                  </a:lnTo>
                  <a:lnTo>
                    <a:pt x="4589" y="538"/>
                  </a:lnTo>
                  <a:lnTo>
                    <a:pt x="4545" y="518"/>
                  </a:lnTo>
                  <a:lnTo>
                    <a:pt x="4501" y="500"/>
                  </a:lnTo>
                  <a:lnTo>
                    <a:pt x="4455" y="484"/>
                  </a:lnTo>
                  <a:lnTo>
                    <a:pt x="4409" y="470"/>
                  </a:lnTo>
                  <a:lnTo>
                    <a:pt x="4361" y="458"/>
                  </a:lnTo>
                  <a:lnTo>
                    <a:pt x="4311" y="448"/>
                  </a:lnTo>
                  <a:lnTo>
                    <a:pt x="4263" y="440"/>
                  </a:lnTo>
                  <a:lnTo>
                    <a:pt x="4211" y="436"/>
                  </a:lnTo>
                  <a:lnTo>
                    <a:pt x="4161" y="432"/>
                  </a:lnTo>
                  <a:lnTo>
                    <a:pt x="4109" y="430"/>
                  </a:lnTo>
                  <a:lnTo>
                    <a:pt x="4109" y="430"/>
                  </a:lnTo>
                  <a:lnTo>
                    <a:pt x="4047" y="432"/>
                  </a:lnTo>
                  <a:lnTo>
                    <a:pt x="3987" y="436"/>
                  </a:lnTo>
                  <a:lnTo>
                    <a:pt x="3927" y="446"/>
                  </a:lnTo>
                  <a:lnTo>
                    <a:pt x="3869" y="456"/>
                  </a:lnTo>
                  <a:lnTo>
                    <a:pt x="3813" y="470"/>
                  </a:lnTo>
                  <a:lnTo>
                    <a:pt x="3757" y="488"/>
                  </a:lnTo>
                  <a:lnTo>
                    <a:pt x="3703" y="506"/>
                  </a:lnTo>
                  <a:lnTo>
                    <a:pt x="3649" y="528"/>
                  </a:lnTo>
                  <a:lnTo>
                    <a:pt x="3649" y="528"/>
                  </a:lnTo>
                  <a:lnTo>
                    <a:pt x="3609" y="470"/>
                  </a:lnTo>
                  <a:lnTo>
                    <a:pt x="3563" y="414"/>
                  </a:lnTo>
                  <a:lnTo>
                    <a:pt x="3515" y="362"/>
                  </a:lnTo>
                  <a:lnTo>
                    <a:pt x="3465" y="312"/>
                  </a:lnTo>
                  <a:lnTo>
                    <a:pt x="3411" y="264"/>
                  </a:lnTo>
                  <a:lnTo>
                    <a:pt x="3353" y="222"/>
                  </a:lnTo>
                  <a:lnTo>
                    <a:pt x="3295" y="182"/>
                  </a:lnTo>
                  <a:lnTo>
                    <a:pt x="3232" y="144"/>
                  </a:lnTo>
                  <a:lnTo>
                    <a:pt x="3166" y="112"/>
                  </a:lnTo>
                  <a:lnTo>
                    <a:pt x="3100" y="84"/>
                  </a:lnTo>
                  <a:lnTo>
                    <a:pt x="3032" y="58"/>
                  </a:lnTo>
                  <a:lnTo>
                    <a:pt x="2960" y="38"/>
                  </a:lnTo>
                  <a:lnTo>
                    <a:pt x="2888" y="22"/>
                  </a:lnTo>
                  <a:lnTo>
                    <a:pt x="2814" y="10"/>
                  </a:lnTo>
                  <a:lnTo>
                    <a:pt x="2776" y="6"/>
                  </a:lnTo>
                  <a:lnTo>
                    <a:pt x="2740" y="2"/>
                  </a:lnTo>
                  <a:lnTo>
                    <a:pt x="2700" y="0"/>
                  </a:lnTo>
                  <a:lnTo>
                    <a:pt x="2662" y="0"/>
                  </a:lnTo>
                  <a:lnTo>
                    <a:pt x="2662" y="0"/>
                  </a:lnTo>
                  <a:lnTo>
                    <a:pt x="2594" y="2"/>
                  </a:lnTo>
                  <a:lnTo>
                    <a:pt x="2526" y="8"/>
                  </a:lnTo>
                  <a:lnTo>
                    <a:pt x="2458" y="18"/>
                  </a:lnTo>
                  <a:lnTo>
                    <a:pt x="2394" y="30"/>
                  </a:lnTo>
                  <a:lnTo>
                    <a:pt x="2330" y="48"/>
                  </a:lnTo>
                  <a:lnTo>
                    <a:pt x="2266" y="68"/>
                  </a:lnTo>
                  <a:lnTo>
                    <a:pt x="2206" y="90"/>
                  </a:lnTo>
                  <a:lnTo>
                    <a:pt x="2146" y="118"/>
                  </a:lnTo>
                  <a:lnTo>
                    <a:pt x="2088" y="148"/>
                  </a:lnTo>
                  <a:lnTo>
                    <a:pt x="2032" y="180"/>
                  </a:lnTo>
                  <a:lnTo>
                    <a:pt x="1980" y="216"/>
                  </a:lnTo>
                  <a:lnTo>
                    <a:pt x="1928" y="254"/>
                  </a:lnTo>
                  <a:lnTo>
                    <a:pt x="1878" y="296"/>
                  </a:lnTo>
                  <a:lnTo>
                    <a:pt x="1832" y="340"/>
                  </a:lnTo>
                  <a:lnTo>
                    <a:pt x="1786" y="386"/>
                  </a:lnTo>
                  <a:lnTo>
                    <a:pt x="1746" y="434"/>
                  </a:lnTo>
                  <a:lnTo>
                    <a:pt x="1746" y="434"/>
                  </a:lnTo>
                  <a:lnTo>
                    <a:pt x="1684" y="432"/>
                  </a:lnTo>
                  <a:lnTo>
                    <a:pt x="1622" y="430"/>
                  </a:lnTo>
                  <a:lnTo>
                    <a:pt x="1622" y="430"/>
                  </a:lnTo>
                  <a:lnTo>
                    <a:pt x="1554" y="432"/>
                  </a:lnTo>
                  <a:lnTo>
                    <a:pt x="1488" y="436"/>
                  </a:lnTo>
                  <a:lnTo>
                    <a:pt x="1424" y="442"/>
                  </a:lnTo>
                  <a:lnTo>
                    <a:pt x="1358" y="450"/>
                  </a:lnTo>
                  <a:lnTo>
                    <a:pt x="1296" y="460"/>
                  </a:lnTo>
                  <a:lnTo>
                    <a:pt x="1234" y="474"/>
                  </a:lnTo>
                  <a:lnTo>
                    <a:pt x="1174" y="488"/>
                  </a:lnTo>
                  <a:lnTo>
                    <a:pt x="1114" y="506"/>
                  </a:lnTo>
                  <a:lnTo>
                    <a:pt x="1056" y="526"/>
                  </a:lnTo>
                  <a:lnTo>
                    <a:pt x="1000" y="546"/>
                  </a:lnTo>
                  <a:lnTo>
                    <a:pt x="946" y="570"/>
                  </a:lnTo>
                  <a:lnTo>
                    <a:pt x="892" y="594"/>
                  </a:lnTo>
                  <a:lnTo>
                    <a:pt x="842" y="622"/>
                  </a:lnTo>
                  <a:lnTo>
                    <a:pt x="792" y="650"/>
                  </a:lnTo>
                  <a:lnTo>
                    <a:pt x="744" y="680"/>
                  </a:lnTo>
                  <a:lnTo>
                    <a:pt x="700" y="712"/>
                  </a:lnTo>
                  <a:lnTo>
                    <a:pt x="656" y="746"/>
                  </a:lnTo>
                  <a:lnTo>
                    <a:pt x="616" y="780"/>
                  </a:lnTo>
                  <a:lnTo>
                    <a:pt x="576" y="816"/>
                  </a:lnTo>
                  <a:lnTo>
                    <a:pt x="540" y="854"/>
                  </a:lnTo>
                  <a:lnTo>
                    <a:pt x="506" y="894"/>
                  </a:lnTo>
                  <a:lnTo>
                    <a:pt x="474" y="934"/>
                  </a:lnTo>
                  <a:lnTo>
                    <a:pt x="446" y="974"/>
                  </a:lnTo>
                  <a:lnTo>
                    <a:pt x="420" y="1018"/>
                  </a:lnTo>
                  <a:lnTo>
                    <a:pt x="396" y="1060"/>
                  </a:lnTo>
                  <a:lnTo>
                    <a:pt x="376" y="1106"/>
                  </a:lnTo>
                  <a:lnTo>
                    <a:pt x="358" y="1152"/>
                  </a:lnTo>
                  <a:lnTo>
                    <a:pt x="344" y="1198"/>
                  </a:lnTo>
                  <a:lnTo>
                    <a:pt x="332" y="1246"/>
                  </a:lnTo>
                  <a:lnTo>
                    <a:pt x="324" y="1294"/>
                  </a:lnTo>
                  <a:lnTo>
                    <a:pt x="318" y="1342"/>
                  </a:lnTo>
                  <a:lnTo>
                    <a:pt x="318" y="1392"/>
                  </a:lnTo>
                  <a:lnTo>
                    <a:pt x="318" y="1392"/>
                  </a:lnTo>
                  <a:lnTo>
                    <a:pt x="318" y="1420"/>
                  </a:lnTo>
                  <a:lnTo>
                    <a:pt x="320" y="1450"/>
                  </a:lnTo>
                  <a:lnTo>
                    <a:pt x="326" y="1508"/>
                  </a:lnTo>
                  <a:lnTo>
                    <a:pt x="338" y="1564"/>
                  </a:lnTo>
                  <a:lnTo>
                    <a:pt x="354" y="1620"/>
                  </a:lnTo>
                  <a:lnTo>
                    <a:pt x="354" y="1620"/>
                  </a:lnTo>
                  <a:lnTo>
                    <a:pt x="316" y="1648"/>
                  </a:lnTo>
                  <a:lnTo>
                    <a:pt x="278" y="1678"/>
                  </a:lnTo>
                  <a:lnTo>
                    <a:pt x="242" y="1710"/>
                  </a:lnTo>
                  <a:lnTo>
                    <a:pt x="208" y="1744"/>
                  </a:lnTo>
                  <a:lnTo>
                    <a:pt x="176" y="1780"/>
                  </a:lnTo>
                  <a:lnTo>
                    <a:pt x="148" y="1816"/>
                  </a:lnTo>
                  <a:lnTo>
                    <a:pt x="120" y="1854"/>
                  </a:lnTo>
                  <a:lnTo>
                    <a:pt x="96" y="1894"/>
                  </a:lnTo>
                  <a:lnTo>
                    <a:pt x="74" y="1936"/>
                  </a:lnTo>
                  <a:lnTo>
                    <a:pt x="56" y="1978"/>
                  </a:lnTo>
                  <a:lnTo>
                    <a:pt x="38" y="2020"/>
                  </a:lnTo>
                  <a:lnTo>
                    <a:pt x="24" y="2066"/>
                  </a:lnTo>
                  <a:lnTo>
                    <a:pt x="14" y="2110"/>
                  </a:lnTo>
                  <a:lnTo>
                    <a:pt x="6" y="2158"/>
                  </a:lnTo>
                  <a:lnTo>
                    <a:pt x="2" y="2204"/>
                  </a:lnTo>
                  <a:lnTo>
                    <a:pt x="0" y="2252"/>
                  </a:lnTo>
                  <a:lnTo>
                    <a:pt x="0" y="2252"/>
                  </a:lnTo>
                  <a:lnTo>
                    <a:pt x="0" y="2282"/>
                  </a:lnTo>
                  <a:lnTo>
                    <a:pt x="2" y="2312"/>
                  </a:lnTo>
                  <a:lnTo>
                    <a:pt x="6" y="2342"/>
                  </a:lnTo>
                  <a:lnTo>
                    <a:pt x="10" y="2370"/>
                  </a:lnTo>
                  <a:lnTo>
                    <a:pt x="22" y="2426"/>
                  </a:lnTo>
                  <a:lnTo>
                    <a:pt x="38" y="2482"/>
                  </a:lnTo>
                  <a:lnTo>
                    <a:pt x="58" y="2536"/>
                  </a:lnTo>
                  <a:lnTo>
                    <a:pt x="82" y="2586"/>
                  </a:lnTo>
                  <a:lnTo>
                    <a:pt x="112" y="2636"/>
                  </a:lnTo>
                  <a:lnTo>
                    <a:pt x="144" y="2684"/>
                  </a:lnTo>
                  <a:lnTo>
                    <a:pt x="180" y="2730"/>
                  </a:lnTo>
                  <a:lnTo>
                    <a:pt x="218" y="2772"/>
                  </a:lnTo>
                  <a:lnTo>
                    <a:pt x="262" y="2812"/>
                  </a:lnTo>
                  <a:lnTo>
                    <a:pt x="306" y="2850"/>
                  </a:lnTo>
                  <a:lnTo>
                    <a:pt x="354" y="2886"/>
                  </a:lnTo>
                  <a:lnTo>
                    <a:pt x="406" y="2918"/>
                  </a:lnTo>
                  <a:lnTo>
                    <a:pt x="460" y="2946"/>
                  </a:lnTo>
                  <a:lnTo>
                    <a:pt x="516" y="2972"/>
                  </a:lnTo>
                  <a:lnTo>
                    <a:pt x="516" y="2972"/>
                  </a:lnTo>
                  <a:lnTo>
                    <a:pt x="522" y="3016"/>
                  </a:lnTo>
                  <a:lnTo>
                    <a:pt x="530" y="3060"/>
                  </a:lnTo>
                  <a:lnTo>
                    <a:pt x="540" y="3104"/>
                  </a:lnTo>
                  <a:lnTo>
                    <a:pt x="554" y="3148"/>
                  </a:lnTo>
                  <a:lnTo>
                    <a:pt x="568" y="3190"/>
                  </a:lnTo>
                  <a:lnTo>
                    <a:pt x="586" y="3232"/>
                  </a:lnTo>
                  <a:lnTo>
                    <a:pt x="604" y="3272"/>
                  </a:lnTo>
                  <a:lnTo>
                    <a:pt x="626" y="3312"/>
                  </a:lnTo>
                  <a:lnTo>
                    <a:pt x="648" y="3350"/>
                  </a:lnTo>
                  <a:lnTo>
                    <a:pt x="674" y="3388"/>
                  </a:lnTo>
                  <a:lnTo>
                    <a:pt x="700" y="3424"/>
                  </a:lnTo>
                  <a:lnTo>
                    <a:pt x="728" y="3460"/>
                  </a:lnTo>
                  <a:lnTo>
                    <a:pt x="760" y="3494"/>
                  </a:lnTo>
                  <a:lnTo>
                    <a:pt x="792" y="3526"/>
                  </a:lnTo>
                  <a:lnTo>
                    <a:pt x="824" y="3558"/>
                  </a:lnTo>
                  <a:lnTo>
                    <a:pt x="860" y="3588"/>
                  </a:lnTo>
                  <a:lnTo>
                    <a:pt x="896" y="3616"/>
                  </a:lnTo>
                  <a:lnTo>
                    <a:pt x="934" y="3642"/>
                  </a:lnTo>
                  <a:lnTo>
                    <a:pt x="974" y="3668"/>
                  </a:lnTo>
                  <a:lnTo>
                    <a:pt x="1014" y="3692"/>
                  </a:lnTo>
                  <a:lnTo>
                    <a:pt x="1056" y="3714"/>
                  </a:lnTo>
                  <a:lnTo>
                    <a:pt x="1100" y="3736"/>
                  </a:lnTo>
                  <a:lnTo>
                    <a:pt x="1144" y="3754"/>
                  </a:lnTo>
                  <a:lnTo>
                    <a:pt x="1190" y="3772"/>
                  </a:lnTo>
                  <a:lnTo>
                    <a:pt x="1236" y="3786"/>
                  </a:lnTo>
                  <a:lnTo>
                    <a:pt x="1284" y="3800"/>
                  </a:lnTo>
                  <a:lnTo>
                    <a:pt x="1332" y="3812"/>
                  </a:lnTo>
                  <a:lnTo>
                    <a:pt x="1382" y="3822"/>
                  </a:lnTo>
                  <a:lnTo>
                    <a:pt x="1432" y="3828"/>
                  </a:lnTo>
                  <a:lnTo>
                    <a:pt x="1482" y="3834"/>
                  </a:lnTo>
                  <a:lnTo>
                    <a:pt x="1534" y="3838"/>
                  </a:lnTo>
                  <a:lnTo>
                    <a:pt x="1586" y="3838"/>
                  </a:lnTo>
                  <a:lnTo>
                    <a:pt x="1586" y="3838"/>
                  </a:lnTo>
                  <a:lnTo>
                    <a:pt x="1636" y="3838"/>
                  </a:lnTo>
                  <a:lnTo>
                    <a:pt x="1684" y="3834"/>
                  </a:lnTo>
                  <a:lnTo>
                    <a:pt x="1734" y="3830"/>
                  </a:lnTo>
                  <a:lnTo>
                    <a:pt x="1780" y="3822"/>
                  </a:lnTo>
                  <a:lnTo>
                    <a:pt x="1828" y="3814"/>
                  </a:lnTo>
                  <a:lnTo>
                    <a:pt x="1874" y="3804"/>
                  </a:lnTo>
                  <a:lnTo>
                    <a:pt x="1920" y="3792"/>
                  </a:lnTo>
                  <a:lnTo>
                    <a:pt x="1964" y="3778"/>
                  </a:lnTo>
                  <a:lnTo>
                    <a:pt x="2006" y="3762"/>
                  </a:lnTo>
                  <a:lnTo>
                    <a:pt x="2050" y="3746"/>
                  </a:lnTo>
                  <a:lnTo>
                    <a:pt x="2090" y="3726"/>
                  </a:lnTo>
                  <a:lnTo>
                    <a:pt x="2132" y="3706"/>
                  </a:lnTo>
                  <a:lnTo>
                    <a:pt x="2170" y="3686"/>
                  </a:lnTo>
                  <a:lnTo>
                    <a:pt x="2210" y="3662"/>
                  </a:lnTo>
                  <a:lnTo>
                    <a:pt x="2246" y="3638"/>
                  </a:lnTo>
                  <a:lnTo>
                    <a:pt x="2282" y="3612"/>
                  </a:lnTo>
                  <a:lnTo>
                    <a:pt x="2282" y="3612"/>
                  </a:lnTo>
                  <a:lnTo>
                    <a:pt x="2340" y="3640"/>
                  </a:lnTo>
                  <a:lnTo>
                    <a:pt x="2400" y="3666"/>
                  </a:lnTo>
                  <a:lnTo>
                    <a:pt x="2464" y="3688"/>
                  </a:lnTo>
                  <a:lnTo>
                    <a:pt x="2528" y="3708"/>
                  </a:lnTo>
                  <a:lnTo>
                    <a:pt x="2594" y="3722"/>
                  </a:lnTo>
                  <a:lnTo>
                    <a:pt x="2662" y="3732"/>
                  </a:lnTo>
                  <a:lnTo>
                    <a:pt x="2732" y="3740"/>
                  </a:lnTo>
                  <a:lnTo>
                    <a:pt x="2804" y="3742"/>
                  </a:lnTo>
                  <a:lnTo>
                    <a:pt x="2804" y="3742"/>
                  </a:lnTo>
                  <a:lnTo>
                    <a:pt x="2842" y="3740"/>
                  </a:lnTo>
                  <a:lnTo>
                    <a:pt x="2880" y="3738"/>
                  </a:lnTo>
                  <a:lnTo>
                    <a:pt x="2918" y="3736"/>
                  </a:lnTo>
                  <a:lnTo>
                    <a:pt x="2956" y="3732"/>
                  </a:lnTo>
                  <a:lnTo>
                    <a:pt x="2992" y="3726"/>
                  </a:lnTo>
                  <a:lnTo>
                    <a:pt x="3030" y="3718"/>
                  </a:lnTo>
                  <a:lnTo>
                    <a:pt x="3066" y="3710"/>
                  </a:lnTo>
                  <a:lnTo>
                    <a:pt x="3100" y="3702"/>
                  </a:lnTo>
                  <a:lnTo>
                    <a:pt x="3136" y="3692"/>
                  </a:lnTo>
                  <a:lnTo>
                    <a:pt x="3170" y="3680"/>
                  </a:lnTo>
                  <a:lnTo>
                    <a:pt x="3204" y="3668"/>
                  </a:lnTo>
                  <a:lnTo>
                    <a:pt x="3238" y="3654"/>
                  </a:lnTo>
                  <a:lnTo>
                    <a:pt x="3303" y="3624"/>
                  </a:lnTo>
                  <a:lnTo>
                    <a:pt x="3363" y="3590"/>
                  </a:lnTo>
                  <a:lnTo>
                    <a:pt x="3363" y="3590"/>
                  </a:lnTo>
                  <a:lnTo>
                    <a:pt x="3413" y="3610"/>
                  </a:lnTo>
                  <a:lnTo>
                    <a:pt x="3463" y="3626"/>
                  </a:lnTo>
                  <a:lnTo>
                    <a:pt x="3515" y="3640"/>
                  </a:lnTo>
                  <a:lnTo>
                    <a:pt x="3569" y="3652"/>
                  </a:lnTo>
                  <a:lnTo>
                    <a:pt x="3623" y="3662"/>
                  </a:lnTo>
                  <a:lnTo>
                    <a:pt x="3679" y="3670"/>
                  </a:lnTo>
                  <a:lnTo>
                    <a:pt x="3735" y="3674"/>
                  </a:lnTo>
                  <a:lnTo>
                    <a:pt x="3791" y="3674"/>
                  </a:lnTo>
                  <a:lnTo>
                    <a:pt x="3791" y="3674"/>
                  </a:lnTo>
                  <a:lnTo>
                    <a:pt x="3865" y="3672"/>
                  </a:lnTo>
                  <a:lnTo>
                    <a:pt x="3937" y="3666"/>
                  </a:lnTo>
                  <a:lnTo>
                    <a:pt x="4007" y="3654"/>
                  </a:lnTo>
                  <a:lnTo>
                    <a:pt x="4077" y="3638"/>
                  </a:lnTo>
                  <a:lnTo>
                    <a:pt x="4143" y="3618"/>
                  </a:lnTo>
                  <a:lnTo>
                    <a:pt x="4207" y="3596"/>
                  </a:lnTo>
                  <a:lnTo>
                    <a:pt x="4269" y="3568"/>
                  </a:lnTo>
                  <a:lnTo>
                    <a:pt x="4329" y="3536"/>
                  </a:lnTo>
                  <a:lnTo>
                    <a:pt x="4387" y="3502"/>
                  </a:lnTo>
                  <a:lnTo>
                    <a:pt x="4441" y="3464"/>
                  </a:lnTo>
                  <a:lnTo>
                    <a:pt x="4491" y="3422"/>
                  </a:lnTo>
                  <a:lnTo>
                    <a:pt x="4539" y="3378"/>
                  </a:lnTo>
                  <a:lnTo>
                    <a:pt x="4583" y="3332"/>
                  </a:lnTo>
                  <a:lnTo>
                    <a:pt x="4623" y="3282"/>
                  </a:lnTo>
                  <a:lnTo>
                    <a:pt x="4661" y="3230"/>
                  </a:lnTo>
                  <a:lnTo>
                    <a:pt x="4693" y="3176"/>
                  </a:lnTo>
                  <a:lnTo>
                    <a:pt x="4693" y="3176"/>
                  </a:lnTo>
                  <a:lnTo>
                    <a:pt x="4743" y="3174"/>
                  </a:lnTo>
                  <a:lnTo>
                    <a:pt x="4791" y="3168"/>
                  </a:lnTo>
                  <a:lnTo>
                    <a:pt x="4839" y="3160"/>
                  </a:lnTo>
                  <a:lnTo>
                    <a:pt x="4887" y="3150"/>
                  </a:lnTo>
                  <a:lnTo>
                    <a:pt x="4933" y="3138"/>
                  </a:lnTo>
                  <a:lnTo>
                    <a:pt x="4977" y="3126"/>
                  </a:lnTo>
                  <a:lnTo>
                    <a:pt x="5021" y="3110"/>
                  </a:lnTo>
                  <a:lnTo>
                    <a:pt x="5065" y="3094"/>
                  </a:lnTo>
                  <a:lnTo>
                    <a:pt x="5107" y="3074"/>
                  </a:lnTo>
                  <a:lnTo>
                    <a:pt x="5149" y="3054"/>
                  </a:lnTo>
                  <a:lnTo>
                    <a:pt x="5189" y="3032"/>
                  </a:lnTo>
                  <a:lnTo>
                    <a:pt x="5227" y="3008"/>
                  </a:lnTo>
                  <a:lnTo>
                    <a:pt x="5263" y="2984"/>
                  </a:lnTo>
                  <a:lnTo>
                    <a:pt x="5299" y="2958"/>
                  </a:lnTo>
                  <a:lnTo>
                    <a:pt x="5333" y="2930"/>
                  </a:lnTo>
                  <a:lnTo>
                    <a:pt x="5367" y="2900"/>
                  </a:lnTo>
                  <a:lnTo>
                    <a:pt x="5399" y="2870"/>
                  </a:lnTo>
                  <a:lnTo>
                    <a:pt x="5427" y="2838"/>
                  </a:lnTo>
                  <a:lnTo>
                    <a:pt x="5455" y="2804"/>
                  </a:lnTo>
                  <a:lnTo>
                    <a:pt x="5483" y="2770"/>
                  </a:lnTo>
                  <a:lnTo>
                    <a:pt x="5507" y="2734"/>
                  </a:lnTo>
                  <a:lnTo>
                    <a:pt x="5529" y="2698"/>
                  </a:lnTo>
                  <a:lnTo>
                    <a:pt x="5551" y="2660"/>
                  </a:lnTo>
                  <a:lnTo>
                    <a:pt x="5569" y="2622"/>
                  </a:lnTo>
                  <a:lnTo>
                    <a:pt x="5587" y="2582"/>
                  </a:lnTo>
                  <a:lnTo>
                    <a:pt x="5601" y="2542"/>
                  </a:lnTo>
                  <a:lnTo>
                    <a:pt x="5613" y="2500"/>
                  </a:lnTo>
                  <a:lnTo>
                    <a:pt x="5625" y="2458"/>
                  </a:lnTo>
                  <a:lnTo>
                    <a:pt x="5633" y="2416"/>
                  </a:lnTo>
                  <a:lnTo>
                    <a:pt x="5639" y="2372"/>
                  </a:lnTo>
                  <a:lnTo>
                    <a:pt x="5641" y="2330"/>
                  </a:lnTo>
                  <a:lnTo>
                    <a:pt x="5643" y="2284"/>
                  </a:lnTo>
                  <a:lnTo>
                    <a:pt x="5643" y="22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766800" y="5802120"/>
              <a:ext cx="9060120" cy="6194520"/>
            </a:xfrm>
            <a:custGeom>
              <a:avLst/>
              <a:gdLst>
                <a:gd name="textAreaLeft" fmla="*/ 0 w 9060120"/>
                <a:gd name="textAreaRight" fmla="*/ 9060480 w 9060120"/>
                <a:gd name="textAreaTop" fmla="*/ 0 h 6194520"/>
                <a:gd name="textAreaBottom" fmla="*/ 6194880 h 6194520"/>
              </a:gdLst>
              <a:ahLst/>
              <a:rect l="textAreaLeft" t="textAreaTop" r="textAreaRight" b="textAreaBottom"/>
              <a:pathLst>
                <a:path w="5707" h="3902">
                  <a:moveTo>
                    <a:pt x="1618" y="3902"/>
                  </a:moveTo>
                  <a:lnTo>
                    <a:pt x="1618" y="3902"/>
                  </a:lnTo>
                  <a:lnTo>
                    <a:pt x="1566" y="3900"/>
                  </a:lnTo>
                  <a:lnTo>
                    <a:pt x="1516" y="3898"/>
                  </a:lnTo>
                  <a:lnTo>
                    <a:pt x="1464" y="3892"/>
                  </a:lnTo>
                  <a:lnTo>
                    <a:pt x="1414" y="3884"/>
                  </a:lnTo>
                  <a:lnTo>
                    <a:pt x="1364" y="3876"/>
                  </a:lnTo>
                  <a:lnTo>
                    <a:pt x="1314" y="3864"/>
                  </a:lnTo>
                  <a:lnTo>
                    <a:pt x="1266" y="3850"/>
                  </a:lnTo>
                  <a:lnTo>
                    <a:pt x="1218" y="3836"/>
                  </a:lnTo>
                  <a:lnTo>
                    <a:pt x="1172" y="3818"/>
                  </a:lnTo>
                  <a:lnTo>
                    <a:pt x="1126" y="3798"/>
                  </a:lnTo>
                  <a:lnTo>
                    <a:pt x="1080" y="3778"/>
                  </a:lnTo>
                  <a:lnTo>
                    <a:pt x="1036" y="3754"/>
                  </a:lnTo>
                  <a:lnTo>
                    <a:pt x="994" y="3730"/>
                  </a:lnTo>
                  <a:lnTo>
                    <a:pt x="952" y="3702"/>
                  </a:lnTo>
                  <a:lnTo>
                    <a:pt x="912" y="3674"/>
                  </a:lnTo>
                  <a:lnTo>
                    <a:pt x="872" y="3644"/>
                  </a:lnTo>
                  <a:lnTo>
                    <a:pt x="872" y="3644"/>
                  </a:lnTo>
                  <a:lnTo>
                    <a:pt x="836" y="3612"/>
                  </a:lnTo>
                  <a:lnTo>
                    <a:pt x="802" y="3580"/>
                  </a:lnTo>
                  <a:lnTo>
                    <a:pt x="768" y="3546"/>
                  </a:lnTo>
                  <a:lnTo>
                    <a:pt x="738" y="3512"/>
                  </a:lnTo>
                  <a:lnTo>
                    <a:pt x="708" y="3476"/>
                  </a:lnTo>
                  <a:lnTo>
                    <a:pt x="680" y="3440"/>
                  </a:lnTo>
                  <a:lnTo>
                    <a:pt x="656" y="3402"/>
                  </a:lnTo>
                  <a:lnTo>
                    <a:pt x="632" y="3362"/>
                  </a:lnTo>
                  <a:lnTo>
                    <a:pt x="610" y="3322"/>
                  </a:lnTo>
                  <a:lnTo>
                    <a:pt x="592" y="3282"/>
                  </a:lnTo>
                  <a:lnTo>
                    <a:pt x="574" y="3240"/>
                  </a:lnTo>
                  <a:lnTo>
                    <a:pt x="558" y="3198"/>
                  </a:lnTo>
                  <a:lnTo>
                    <a:pt x="546" y="3156"/>
                  </a:lnTo>
                  <a:lnTo>
                    <a:pt x="534" y="3112"/>
                  </a:lnTo>
                  <a:lnTo>
                    <a:pt x="526" y="3070"/>
                  </a:lnTo>
                  <a:lnTo>
                    <a:pt x="518" y="3024"/>
                  </a:lnTo>
                  <a:lnTo>
                    <a:pt x="518" y="3024"/>
                  </a:lnTo>
                  <a:lnTo>
                    <a:pt x="460" y="2998"/>
                  </a:lnTo>
                  <a:lnTo>
                    <a:pt x="406" y="2966"/>
                  </a:lnTo>
                  <a:lnTo>
                    <a:pt x="354" y="2932"/>
                  </a:lnTo>
                  <a:lnTo>
                    <a:pt x="304" y="2896"/>
                  </a:lnTo>
                  <a:lnTo>
                    <a:pt x="258" y="2856"/>
                  </a:lnTo>
                  <a:lnTo>
                    <a:pt x="216" y="2814"/>
                  </a:lnTo>
                  <a:lnTo>
                    <a:pt x="176" y="2768"/>
                  </a:lnTo>
                  <a:lnTo>
                    <a:pt x="142" y="2722"/>
                  </a:lnTo>
                  <a:lnTo>
                    <a:pt x="110" y="2672"/>
                  </a:lnTo>
                  <a:lnTo>
                    <a:pt x="82" y="2620"/>
                  </a:lnTo>
                  <a:lnTo>
                    <a:pt x="56" y="2568"/>
                  </a:lnTo>
                  <a:lnTo>
                    <a:pt x="36" y="2514"/>
                  </a:lnTo>
                  <a:lnTo>
                    <a:pt x="22" y="2458"/>
                  </a:lnTo>
                  <a:lnTo>
                    <a:pt x="10" y="2402"/>
                  </a:lnTo>
                  <a:lnTo>
                    <a:pt x="2" y="2344"/>
                  </a:lnTo>
                  <a:lnTo>
                    <a:pt x="0" y="2284"/>
                  </a:lnTo>
                  <a:lnTo>
                    <a:pt x="0" y="2284"/>
                  </a:lnTo>
                  <a:lnTo>
                    <a:pt x="2" y="2238"/>
                  </a:lnTo>
                  <a:lnTo>
                    <a:pt x="6" y="2190"/>
                  </a:lnTo>
                  <a:lnTo>
                    <a:pt x="14" y="2144"/>
                  </a:lnTo>
                  <a:lnTo>
                    <a:pt x="24" y="2100"/>
                  </a:lnTo>
                  <a:lnTo>
                    <a:pt x="36" y="2054"/>
                  </a:lnTo>
                  <a:lnTo>
                    <a:pt x="52" y="2010"/>
                  </a:lnTo>
                  <a:lnTo>
                    <a:pt x="70" y="1968"/>
                  </a:lnTo>
                  <a:lnTo>
                    <a:pt x="92" y="1926"/>
                  </a:lnTo>
                  <a:lnTo>
                    <a:pt x="116" y="1886"/>
                  </a:lnTo>
                  <a:lnTo>
                    <a:pt x="142" y="1846"/>
                  </a:lnTo>
                  <a:lnTo>
                    <a:pt x="170" y="1808"/>
                  </a:lnTo>
                  <a:lnTo>
                    <a:pt x="202" y="1772"/>
                  </a:lnTo>
                  <a:lnTo>
                    <a:pt x="234" y="1736"/>
                  </a:lnTo>
                  <a:lnTo>
                    <a:pt x="270" y="1702"/>
                  </a:lnTo>
                  <a:lnTo>
                    <a:pt x="310" y="1670"/>
                  </a:lnTo>
                  <a:lnTo>
                    <a:pt x="350" y="1640"/>
                  </a:lnTo>
                  <a:lnTo>
                    <a:pt x="350" y="1640"/>
                  </a:lnTo>
                  <a:lnTo>
                    <a:pt x="336" y="1586"/>
                  </a:lnTo>
                  <a:lnTo>
                    <a:pt x="326" y="1532"/>
                  </a:lnTo>
                  <a:lnTo>
                    <a:pt x="320" y="1478"/>
                  </a:lnTo>
                  <a:lnTo>
                    <a:pt x="318" y="1424"/>
                  </a:lnTo>
                  <a:lnTo>
                    <a:pt x="318" y="1424"/>
                  </a:lnTo>
                  <a:lnTo>
                    <a:pt x="320" y="1374"/>
                  </a:lnTo>
                  <a:lnTo>
                    <a:pt x="324" y="1324"/>
                  </a:lnTo>
                  <a:lnTo>
                    <a:pt x="332" y="1276"/>
                  </a:lnTo>
                  <a:lnTo>
                    <a:pt x="344" y="1228"/>
                  </a:lnTo>
                  <a:lnTo>
                    <a:pt x="358" y="1180"/>
                  </a:lnTo>
                  <a:lnTo>
                    <a:pt x="376" y="1132"/>
                  </a:lnTo>
                  <a:lnTo>
                    <a:pt x="396" y="1086"/>
                  </a:lnTo>
                  <a:lnTo>
                    <a:pt x="420" y="1042"/>
                  </a:lnTo>
                  <a:lnTo>
                    <a:pt x="446" y="996"/>
                  </a:lnTo>
                  <a:lnTo>
                    <a:pt x="476" y="954"/>
                  </a:lnTo>
                  <a:lnTo>
                    <a:pt x="508" y="912"/>
                  </a:lnTo>
                  <a:lnTo>
                    <a:pt x="544" y="870"/>
                  </a:lnTo>
                  <a:lnTo>
                    <a:pt x="582" y="830"/>
                  </a:lnTo>
                  <a:lnTo>
                    <a:pt x="622" y="792"/>
                  </a:lnTo>
                  <a:lnTo>
                    <a:pt x="666" y="754"/>
                  </a:lnTo>
                  <a:lnTo>
                    <a:pt x="712" y="718"/>
                  </a:lnTo>
                  <a:lnTo>
                    <a:pt x="712" y="718"/>
                  </a:lnTo>
                  <a:lnTo>
                    <a:pt x="760" y="684"/>
                  </a:lnTo>
                  <a:lnTo>
                    <a:pt x="810" y="652"/>
                  </a:lnTo>
                  <a:lnTo>
                    <a:pt x="862" y="624"/>
                  </a:lnTo>
                  <a:lnTo>
                    <a:pt x="916" y="596"/>
                  </a:lnTo>
                  <a:lnTo>
                    <a:pt x="972" y="570"/>
                  </a:lnTo>
                  <a:lnTo>
                    <a:pt x="1028" y="546"/>
                  </a:lnTo>
                  <a:lnTo>
                    <a:pt x="1086" y="524"/>
                  </a:lnTo>
                  <a:lnTo>
                    <a:pt x="1144" y="506"/>
                  </a:lnTo>
                  <a:lnTo>
                    <a:pt x="1204" y="488"/>
                  </a:lnTo>
                  <a:lnTo>
                    <a:pt x="1266" y="474"/>
                  </a:lnTo>
                  <a:lnTo>
                    <a:pt x="1328" y="460"/>
                  </a:lnTo>
                  <a:lnTo>
                    <a:pt x="1392" y="450"/>
                  </a:lnTo>
                  <a:lnTo>
                    <a:pt x="1456" y="442"/>
                  </a:lnTo>
                  <a:lnTo>
                    <a:pt x="1522" y="436"/>
                  </a:lnTo>
                  <a:lnTo>
                    <a:pt x="1588" y="432"/>
                  </a:lnTo>
                  <a:lnTo>
                    <a:pt x="1654" y="432"/>
                  </a:lnTo>
                  <a:lnTo>
                    <a:pt x="1654" y="432"/>
                  </a:lnTo>
                  <a:lnTo>
                    <a:pt x="1708" y="432"/>
                  </a:lnTo>
                  <a:lnTo>
                    <a:pt x="1764" y="434"/>
                  </a:lnTo>
                  <a:lnTo>
                    <a:pt x="1764" y="434"/>
                  </a:lnTo>
                  <a:lnTo>
                    <a:pt x="1808" y="384"/>
                  </a:lnTo>
                  <a:lnTo>
                    <a:pt x="1854" y="336"/>
                  </a:lnTo>
                  <a:lnTo>
                    <a:pt x="1904" y="292"/>
                  </a:lnTo>
                  <a:lnTo>
                    <a:pt x="1956" y="250"/>
                  </a:lnTo>
                  <a:lnTo>
                    <a:pt x="2008" y="212"/>
                  </a:lnTo>
                  <a:lnTo>
                    <a:pt x="2064" y="176"/>
                  </a:lnTo>
                  <a:lnTo>
                    <a:pt x="2122" y="144"/>
                  </a:lnTo>
                  <a:lnTo>
                    <a:pt x="2180" y="114"/>
                  </a:lnTo>
                  <a:lnTo>
                    <a:pt x="2240" y="88"/>
                  </a:lnTo>
                  <a:lnTo>
                    <a:pt x="2302" y="64"/>
                  </a:lnTo>
                  <a:lnTo>
                    <a:pt x="2364" y="46"/>
                  </a:lnTo>
                  <a:lnTo>
                    <a:pt x="2428" y="30"/>
                  </a:lnTo>
                  <a:lnTo>
                    <a:pt x="2494" y="16"/>
                  </a:lnTo>
                  <a:lnTo>
                    <a:pt x="2560" y="8"/>
                  </a:lnTo>
                  <a:lnTo>
                    <a:pt x="2626" y="2"/>
                  </a:lnTo>
                  <a:lnTo>
                    <a:pt x="2694" y="0"/>
                  </a:lnTo>
                  <a:lnTo>
                    <a:pt x="2694" y="0"/>
                  </a:lnTo>
                  <a:lnTo>
                    <a:pt x="2768" y="2"/>
                  </a:lnTo>
                  <a:lnTo>
                    <a:pt x="2842" y="10"/>
                  </a:lnTo>
                  <a:lnTo>
                    <a:pt x="2916" y="20"/>
                  </a:lnTo>
                  <a:lnTo>
                    <a:pt x="2986" y="36"/>
                  </a:lnTo>
                  <a:lnTo>
                    <a:pt x="3058" y="56"/>
                  </a:lnTo>
                  <a:lnTo>
                    <a:pt x="3126" y="80"/>
                  </a:lnTo>
                  <a:lnTo>
                    <a:pt x="3192" y="106"/>
                  </a:lnTo>
                  <a:lnTo>
                    <a:pt x="3258" y="138"/>
                  </a:lnTo>
                  <a:lnTo>
                    <a:pt x="3323" y="174"/>
                  </a:lnTo>
                  <a:lnTo>
                    <a:pt x="3383" y="212"/>
                  </a:lnTo>
                  <a:lnTo>
                    <a:pt x="3441" y="256"/>
                  </a:lnTo>
                  <a:lnTo>
                    <a:pt x="3497" y="302"/>
                  </a:lnTo>
                  <a:lnTo>
                    <a:pt x="3551" y="352"/>
                  </a:lnTo>
                  <a:lnTo>
                    <a:pt x="3601" y="406"/>
                  </a:lnTo>
                  <a:lnTo>
                    <a:pt x="3649" y="462"/>
                  </a:lnTo>
                  <a:lnTo>
                    <a:pt x="3693" y="522"/>
                  </a:lnTo>
                  <a:lnTo>
                    <a:pt x="3693" y="522"/>
                  </a:lnTo>
                  <a:lnTo>
                    <a:pt x="3747" y="500"/>
                  </a:lnTo>
                  <a:lnTo>
                    <a:pt x="3801" y="482"/>
                  </a:lnTo>
                  <a:lnTo>
                    <a:pt x="3855" y="466"/>
                  </a:lnTo>
                  <a:lnTo>
                    <a:pt x="3911" y="454"/>
                  </a:lnTo>
                  <a:lnTo>
                    <a:pt x="3967" y="444"/>
                  </a:lnTo>
                  <a:lnTo>
                    <a:pt x="4025" y="436"/>
                  </a:lnTo>
                  <a:lnTo>
                    <a:pt x="4083" y="432"/>
                  </a:lnTo>
                  <a:lnTo>
                    <a:pt x="4141" y="432"/>
                  </a:lnTo>
                  <a:lnTo>
                    <a:pt x="4141" y="432"/>
                  </a:lnTo>
                  <a:lnTo>
                    <a:pt x="4195" y="432"/>
                  </a:lnTo>
                  <a:lnTo>
                    <a:pt x="4247" y="436"/>
                  </a:lnTo>
                  <a:lnTo>
                    <a:pt x="4299" y="442"/>
                  </a:lnTo>
                  <a:lnTo>
                    <a:pt x="4349" y="450"/>
                  </a:lnTo>
                  <a:lnTo>
                    <a:pt x="4399" y="460"/>
                  </a:lnTo>
                  <a:lnTo>
                    <a:pt x="4449" y="472"/>
                  </a:lnTo>
                  <a:lnTo>
                    <a:pt x="4497" y="488"/>
                  </a:lnTo>
                  <a:lnTo>
                    <a:pt x="4545" y="504"/>
                  </a:lnTo>
                  <a:lnTo>
                    <a:pt x="4591" y="522"/>
                  </a:lnTo>
                  <a:lnTo>
                    <a:pt x="4635" y="542"/>
                  </a:lnTo>
                  <a:lnTo>
                    <a:pt x="4679" y="566"/>
                  </a:lnTo>
                  <a:lnTo>
                    <a:pt x="4721" y="590"/>
                  </a:lnTo>
                  <a:lnTo>
                    <a:pt x="4761" y="614"/>
                  </a:lnTo>
                  <a:lnTo>
                    <a:pt x="4801" y="642"/>
                  </a:lnTo>
                  <a:lnTo>
                    <a:pt x="4837" y="672"/>
                  </a:lnTo>
                  <a:lnTo>
                    <a:pt x="4873" y="702"/>
                  </a:lnTo>
                  <a:lnTo>
                    <a:pt x="4909" y="734"/>
                  </a:lnTo>
                  <a:lnTo>
                    <a:pt x="4941" y="768"/>
                  </a:lnTo>
                  <a:lnTo>
                    <a:pt x="4971" y="802"/>
                  </a:lnTo>
                  <a:lnTo>
                    <a:pt x="5001" y="840"/>
                  </a:lnTo>
                  <a:lnTo>
                    <a:pt x="5027" y="876"/>
                  </a:lnTo>
                  <a:lnTo>
                    <a:pt x="5053" y="916"/>
                  </a:lnTo>
                  <a:lnTo>
                    <a:pt x="5075" y="956"/>
                  </a:lnTo>
                  <a:lnTo>
                    <a:pt x="5097" y="996"/>
                  </a:lnTo>
                  <a:lnTo>
                    <a:pt x="5115" y="1038"/>
                  </a:lnTo>
                  <a:lnTo>
                    <a:pt x="5131" y="1082"/>
                  </a:lnTo>
                  <a:lnTo>
                    <a:pt x="5145" y="1124"/>
                  </a:lnTo>
                  <a:lnTo>
                    <a:pt x="5157" y="1170"/>
                  </a:lnTo>
                  <a:lnTo>
                    <a:pt x="5165" y="1216"/>
                  </a:lnTo>
                  <a:lnTo>
                    <a:pt x="5173" y="1262"/>
                  </a:lnTo>
                  <a:lnTo>
                    <a:pt x="5177" y="1308"/>
                  </a:lnTo>
                  <a:lnTo>
                    <a:pt x="5177" y="1356"/>
                  </a:lnTo>
                  <a:lnTo>
                    <a:pt x="5177" y="1356"/>
                  </a:lnTo>
                  <a:lnTo>
                    <a:pt x="5177" y="1392"/>
                  </a:lnTo>
                  <a:lnTo>
                    <a:pt x="5175" y="1430"/>
                  </a:lnTo>
                  <a:lnTo>
                    <a:pt x="5171" y="1466"/>
                  </a:lnTo>
                  <a:lnTo>
                    <a:pt x="5165" y="1504"/>
                  </a:lnTo>
                  <a:lnTo>
                    <a:pt x="5165" y="1504"/>
                  </a:lnTo>
                  <a:lnTo>
                    <a:pt x="5225" y="1536"/>
                  </a:lnTo>
                  <a:lnTo>
                    <a:pt x="5283" y="1572"/>
                  </a:lnTo>
                  <a:lnTo>
                    <a:pt x="5339" y="1610"/>
                  </a:lnTo>
                  <a:lnTo>
                    <a:pt x="5391" y="1652"/>
                  </a:lnTo>
                  <a:lnTo>
                    <a:pt x="5439" y="1696"/>
                  </a:lnTo>
                  <a:lnTo>
                    <a:pt x="5483" y="1742"/>
                  </a:lnTo>
                  <a:lnTo>
                    <a:pt x="5525" y="1792"/>
                  </a:lnTo>
                  <a:lnTo>
                    <a:pt x="5561" y="1842"/>
                  </a:lnTo>
                  <a:lnTo>
                    <a:pt x="5595" y="1896"/>
                  </a:lnTo>
                  <a:lnTo>
                    <a:pt x="5623" y="1952"/>
                  </a:lnTo>
                  <a:lnTo>
                    <a:pt x="5649" y="2010"/>
                  </a:lnTo>
                  <a:lnTo>
                    <a:pt x="5669" y="2068"/>
                  </a:lnTo>
                  <a:lnTo>
                    <a:pt x="5685" y="2128"/>
                  </a:lnTo>
                  <a:lnTo>
                    <a:pt x="5697" y="2190"/>
                  </a:lnTo>
                  <a:lnTo>
                    <a:pt x="5705" y="2254"/>
                  </a:lnTo>
                  <a:lnTo>
                    <a:pt x="5707" y="2284"/>
                  </a:lnTo>
                  <a:lnTo>
                    <a:pt x="5707" y="2316"/>
                  </a:lnTo>
                  <a:lnTo>
                    <a:pt x="5707" y="2316"/>
                  </a:lnTo>
                  <a:lnTo>
                    <a:pt x="5705" y="2362"/>
                  </a:lnTo>
                  <a:lnTo>
                    <a:pt x="5701" y="2406"/>
                  </a:lnTo>
                  <a:lnTo>
                    <a:pt x="5695" y="2450"/>
                  </a:lnTo>
                  <a:lnTo>
                    <a:pt x="5687" y="2494"/>
                  </a:lnTo>
                  <a:lnTo>
                    <a:pt x="5677" y="2538"/>
                  </a:lnTo>
                  <a:lnTo>
                    <a:pt x="5665" y="2580"/>
                  </a:lnTo>
                  <a:lnTo>
                    <a:pt x="5649" y="2620"/>
                  </a:lnTo>
                  <a:lnTo>
                    <a:pt x="5633" y="2662"/>
                  </a:lnTo>
                  <a:lnTo>
                    <a:pt x="5613" y="2700"/>
                  </a:lnTo>
                  <a:lnTo>
                    <a:pt x="5593" y="2740"/>
                  </a:lnTo>
                  <a:lnTo>
                    <a:pt x="5569" y="2776"/>
                  </a:lnTo>
                  <a:lnTo>
                    <a:pt x="5545" y="2814"/>
                  </a:lnTo>
                  <a:lnTo>
                    <a:pt x="5519" y="2848"/>
                  </a:lnTo>
                  <a:lnTo>
                    <a:pt x="5489" y="2882"/>
                  </a:lnTo>
                  <a:lnTo>
                    <a:pt x="5459" y="2916"/>
                  </a:lnTo>
                  <a:lnTo>
                    <a:pt x="5429" y="2948"/>
                  </a:lnTo>
                  <a:lnTo>
                    <a:pt x="5395" y="2978"/>
                  </a:lnTo>
                  <a:lnTo>
                    <a:pt x="5361" y="3006"/>
                  </a:lnTo>
                  <a:lnTo>
                    <a:pt x="5325" y="3034"/>
                  </a:lnTo>
                  <a:lnTo>
                    <a:pt x="5287" y="3060"/>
                  </a:lnTo>
                  <a:lnTo>
                    <a:pt x="5247" y="3084"/>
                  </a:lnTo>
                  <a:lnTo>
                    <a:pt x="5207" y="3108"/>
                  </a:lnTo>
                  <a:lnTo>
                    <a:pt x="5165" y="3130"/>
                  </a:lnTo>
                  <a:lnTo>
                    <a:pt x="5123" y="3148"/>
                  </a:lnTo>
                  <a:lnTo>
                    <a:pt x="5079" y="3166"/>
                  </a:lnTo>
                  <a:lnTo>
                    <a:pt x="5035" y="3182"/>
                  </a:lnTo>
                  <a:lnTo>
                    <a:pt x="4987" y="3198"/>
                  </a:lnTo>
                  <a:lnTo>
                    <a:pt x="4941" y="3210"/>
                  </a:lnTo>
                  <a:lnTo>
                    <a:pt x="4893" y="3220"/>
                  </a:lnTo>
                  <a:lnTo>
                    <a:pt x="4845" y="3228"/>
                  </a:lnTo>
                  <a:lnTo>
                    <a:pt x="4795" y="3234"/>
                  </a:lnTo>
                  <a:lnTo>
                    <a:pt x="4745" y="3238"/>
                  </a:lnTo>
                  <a:lnTo>
                    <a:pt x="4745" y="3238"/>
                  </a:lnTo>
                  <a:lnTo>
                    <a:pt x="4711" y="3292"/>
                  </a:lnTo>
                  <a:lnTo>
                    <a:pt x="4673" y="3344"/>
                  </a:lnTo>
                  <a:lnTo>
                    <a:pt x="4631" y="3392"/>
                  </a:lnTo>
                  <a:lnTo>
                    <a:pt x="4587" y="3440"/>
                  </a:lnTo>
                  <a:lnTo>
                    <a:pt x="4539" y="3482"/>
                  </a:lnTo>
                  <a:lnTo>
                    <a:pt x="4489" y="3524"/>
                  </a:lnTo>
                  <a:lnTo>
                    <a:pt x="4433" y="3562"/>
                  </a:lnTo>
                  <a:lnTo>
                    <a:pt x="4377" y="3596"/>
                  </a:lnTo>
                  <a:lnTo>
                    <a:pt x="4377" y="3596"/>
                  </a:lnTo>
                  <a:lnTo>
                    <a:pt x="4313" y="3628"/>
                  </a:lnTo>
                  <a:lnTo>
                    <a:pt x="4249" y="3658"/>
                  </a:lnTo>
                  <a:lnTo>
                    <a:pt x="4181" y="3682"/>
                  </a:lnTo>
                  <a:lnTo>
                    <a:pt x="4113" y="3702"/>
                  </a:lnTo>
                  <a:lnTo>
                    <a:pt x="4041" y="3718"/>
                  </a:lnTo>
                  <a:lnTo>
                    <a:pt x="3969" y="3730"/>
                  </a:lnTo>
                  <a:lnTo>
                    <a:pt x="3897" y="3736"/>
                  </a:lnTo>
                  <a:lnTo>
                    <a:pt x="3823" y="3738"/>
                  </a:lnTo>
                  <a:lnTo>
                    <a:pt x="3823" y="3738"/>
                  </a:lnTo>
                  <a:lnTo>
                    <a:pt x="3769" y="3738"/>
                  </a:lnTo>
                  <a:lnTo>
                    <a:pt x="3713" y="3734"/>
                  </a:lnTo>
                  <a:lnTo>
                    <a:pt x="3659" y="3726"/>
                  </a:lnTo>
                  <a:lnTo>
                    <a:pt x="3605" y="3718"/>
                  </a:lnTo>
                  <a:lnTo>
                    <a:pt x="3553" y="3706"/>
                  </a:lnTo>
                  <a:lnTo>
                    <a:pt x="3501" y="3692"/>
                  </a:lnTo>
                  <a:lnTo>
                    <a:pt x="3449" y="3676"/>
                  </a:lnTo>
                  <a:lnTo>
                    <a:pt x="3399" y="3658"/>
                  </a:lnTo>
                  <a:lnTo>
                    <a:pt x="3399" y="3658"/>
                  </a:lnTo>
                  <a:lnTo>
                    <a:pt x="3367" y="3674"/>
                  </a:lnTo>
                  <a:lnTo>
                    <a:pt x="3335" y="3692"/>
                  </a:lnTo>
                  <a:lnTo>
                    <a:pt x="3300" y="3706"/>
                  </a:lnTo>
                  <a:lnTo>
                    <a:pt x="3268" y="3720"/>
                  </a:lnTo>
                  <a:lnTo>
                    <a:pt x="3234" y="3734"/>
                  </a:lnTo>
                  <a:lnTo>
                    <a:pt x="3198" y="3746"/>
                  </a:lnTo>
                  <a:lnTo>
                    <a:pt x="3128" y="3768"/>
                  </a:lnTo>
                  <a:lnTo>
                    <a:pt x="3058" y="3784"/>
                  </a:lnTo>
                  <a:lnTo>
                    <a:pt x="2984" y="3796"/>
                  </a:lnTo>
                  <a:lnTo>
                    <a:pt x="2910" y="3802"/>
                  </a:lnTo>
                  <a:lnTo>
                    <a:pt x="2836" y="3804"/>
                  </a:lnTo>
                  <a:lnTo>
                    <a:pt x="2836" y="3804"/>
                  </a:lnTo>
                  <a:lnTo>
                    <a:pt x="2768" y="3802"/>
                  </a:lnTo>
                  <a:lnTo>
                    <a:pt x="2700" y="3796"/>
                  </a:lnTo>
                  <a:lnTo>
                    <a:pt x="2632" y="3786"/>
                  </a:lnTo>
                  <a:lnTo>
                    <a:pt x="2566" y="3774"/>
                  </a:lnTo>
                  <a:lnTo>
                    <a:pt x="2502" y="3756"/>
                  </a:lnTo>
                  <a:lnTo>
                    <a:pt x="2438" y="3734"/>
                  </a:lnTo>
                  <a:lnTo>
                    <a:pt x="2376" y="3710"/>
                  </a:lnTo>
                  <a:lnTo>
                    <a:pt x="2316" y="3680"/>
                  </a:lnTo>
                  <a:lnTo>
                    <a:pt x="2316" y="3680"/>
                  </a:lnTo>
                  <a:lnTo>
                    <a:pt x="2280" y="3706"/>
                  </a:lnTo>
                  <a:lnTo>
                    <a:pt x="2240" y="3732"/>
                  </a:lnTo>
                  <a:lnTo>
                    <a:pt x="2202" y="3754"/>
                  </a:lnTo>
                  <a:lnTo>
                    <a:pt x="2160" y="3776"/>
                  </a:lnTo>
                  <a:lnTo>
                    <a:pt x="2118" y="3796"/>
                  </a:lnTo>
                  <a:lnTo>
                    <a:pt x="2076" y="3814"/>
                  </a:lnTo>
                  <a:lnTo>
                    <a:pt x="2034" y="3830"/>
                  </a:lnTo>
                  <a:lnTo>
                    <a:pt x="1990" y="3844"/>
                  </a:lnTo>
                  <a:lnTo>
                    <a:pt x="1944" y="3858"/>
                  </a:lnTo>
                  <a:lnTo>
                    <a:pt x="1900" y="3870"/>
                  </a:lnTo>
                  <a:lnTo>
                    <a:pt x="1854" y="3880"/>
                  </a:lnTo>
                  <a:lnTo>
                    <a:pt x="1808" y="3888"/>
                  </a:lnTo>
                  <a:lnTo>
                    <a:pt x="1760" y="3894"/>
                  </a:lnTo>
                  <a:lnTo>
                    <a:pt x="1714" y="3898"/>
                  </a:lnTo>
                  <a:lnTo>
                    <a:pt x="1666" y="3900"/>
                  </a:lnTo>
                  <a:lnTo>
                    <a:pt x="1618" y="3902"/>
                  </a:lnTo>
                  <a:lnTo>
                    <a:pt x="1618" y="3902"/>
                  </a:lnTo>
                  <a:close/>
                  <a:moveTo>
                    <a:pt x="1654" y="494"/>
                  </a:moveTo>
                  <a:lnTo>
                    <a:pt x="1654" y="494"/>
                  </a:lnTo>
                  <a:lnTo>
                    <a:pt x="1588" y="496"/>
                  </a:lnTo>
                  <a:lnTo>
                    <a:pt x="1524" y="498"/>
                  </a:lnTo>
                  <a:lnTo>
                    <a:pt x="1460" y="504"/>
                  </a:lnTo>
                  <a:lnTo>
                    <a:pt x="1398" y="512"/>
                  </a:lnTo>
                  <a:lnTo>
                    <a:pt x="1336" y="524"/>
                  </a:lnTo>
                  <a:lnTo>
                    <a:pt x="1276" y="536"/>
                  </a:lnTo>
                  <a:lnTo>
                    <a:pt x="1216" y="550"/>
                  </a:lnTo>
                  <a:lnTo>
                    <a:pt x="1158" y="568"/>
                  </a:lnTo>
                  <a:lnTo>
                    <a:pt x="1102" y="586"/>
                  </a:lnTo>
                  <a:lnTo>
                    <a:pt x="1048" y="606"/>
                  </a:lnTo>
                  <a:lnTo>
                    <a:pt x="994" y="628"/>
                  </a:lnTo>
                  <a:lnTo>
                    <a:pt x="942" y="652"/>
                  </a:lnTo>
                  <a:lnTo>
                    <a:pt x="892" y="678"/>
                  </a:lnTo>
                  <a:lnTo>
                    <a:pt x="844" y="706"/>
                  </a:lnTo>
                  <a:lnTo>
                    <a:pt x="798" y="736"/>
                  </a:lnTo>
                  <a:lnTo>
                    <a:pt x="754" y="766"/>
                  </a:lnTo>
                  <a:lnTo>
                    <a:pt x="712" y="798"/>
                  </a:lnTo>
                  <a:lnTo>
                    <a:pt x="672" y="832"/>
                  </a:lnTo>
                  <a:lnTo>
                    <a:pt x="634" y="868"/>
                  </a:lnTo>
                  <a:lnTo>
                    <a:pt x="598" y="904"/>
                  </a:lnTo>
                  <a:lnTo>
                    <a:pt x="566" y="942"/>
                  </a:lnTo>
                  <a:lnTo>
                    <a:pt x="534" y="980"/>
                  </a:lnTo>
                  <a:lnTo>
                    <a:pt x="506" y="1020"/>
                  </a:lnTo>
                  <a:lnTo>
                    <a:pt x="480" y="1062"/>
                  </a:lnTo>
                  <a:lnTo>
                    <a:pt x="458" y="1104"/>
                  </a:lnTo>
                  <a:lnTo>
                    <a:pt x="438" y="1148"/>
                  </a:lnTo>
                  <a:lnTo>
                    <a:pt x="420" y="1192"/>
                  </a:lnTo>
                  <a:lnTo>
                    <a:pt x="406" y="1236"/>
                  </a:lnTo>
                  <a:lnTo>
                    <a:pt x="396" y="1282"/>
                  </a:lnTo>
                  <a:lnTo>
                    <a:pt x="388" y="1328"/>
                  </a:lnTo>
                  <a:lnTo>
                    <a:pt x="382" y="1376"/>
                  </a:lnTo>
                  <a:lnTo>
                    <a:pt x="380" y="1424"/>
                  </a:lnTo>
                  <a:lnTo>
                    <a:pt x="380" y="1424"/>
                  </a:lnTo>
                  <a:lnTo>
                    <a:pt x="382" y="1478"/>
                  </a:lnTo>
                  <a:lnTo>
                    <a:pt x="390" y="1534"/>
                  </a:lnTo>
                  <a:lnTo>
                    <a:pt x="400" y="1588"/>
                  </a:lnTo>
                  <a:lnTo>
                    <a:pt x="416" y="1642"/>
                  </a:lnTo>
                  <a:lnTo>
                    <a:pt x="424" y="1666"/>
                  </a:lnTo>
                  <a:lnTo>
                    <a:pt x="404" y="1678"/>
                  </a:lnTo>
                  <a:lnTo>
                    <a:pt x="404" y="1678"/>
                  </a:lnTo>
                  <a:lnTo>
                    <a:pt x="364" y="1706"/>
                  </a:lnTo>
                  <a:lnTo>
                    <a:pt x="328" y="1736"/>
                  </a:lnTo>
                  <a:lnTo>
                    <a:pt x="292" y="1768"/>
                  </a:lnTo>
                  <a:lnTo>
                    <a:pt x="260" y="1800"/>
                  </a:lnTo>
                  <a:lnTo>
                    <a:pt x="230" y="1836"/>
                  </a:lnTo>
                  <a:lnTo>
                    <a:pt x="202" y="1872"/>
                  </a:lnTo>
                  <a:lnTo>
                    <a:pt x="176" y="1908"/>
                  </a:lnTo>
                  <a:lnTo>
                    <a:pt x="152" y="1946"/>
                  </a:lnTo>
                  <a:lnTo>
                    <a:pt x="132" y="1986"/>
                  </a:lnTo>
                  <a:lnTo>
                    <a:pt x="114" y="2026"/>
                  </a:lnTo>
                  <a:lnTo>
                    <a:pt x="98" y="2068"/>
                  </a:lnTo>
                  <a:lnTo>
                    <a:pt x="86" y="2110"/>
                  </a:lnTo>
                  <a:lnTo>
                    <a:pt x="76" y="2152"/>
                  </a:lnTo>
                  <a:lnTo>
                    <a:pt x="68" y="2196"/>
                  </a:lnTo>
                  <a:lnTo>
                    <a:pt x="64" y="2240"/>
                  </a:lnTo>
                  <a:lnTo>
                    <a:pt x="64" y="2284"/>
                  </a:lnTo>
                  <a:lnTo>
                    <a:pt x="64" y="2284"/>
                  </a:lnTo>
                  <a:lnTo>
                    <a:pt x="66" y="2340"/>
                  </a:lnTo>
                  <a:lnTo>
                    <a:pt x="72" y="2394"/>
                  </a:lnTo>
                  <a:lnTo>
                    <a:pt x="84" y="2448"/>
                  </a:lnTo>
                  <a:lnTo>
                    <a:pt x="98" y="2500"/>
                  </a:lnTo>
                  <a:lnTo>
                    <a:pt x="118" y="2550"/>
                  </a:lnTo>
                  <a:lnTo>
                    <a:pt x="140" y="2600"/>
                  </a:lnTo>
                  <a:lnTo>
                    <a:pt x="168" y="2648"/>
                  </a:lnTo>
                  <a:lnTo>
                    <a:pt x="198" y="2694"/>
                  </a:lnTo>
                  <a:lnTo>
                    <a:pt x="232" y="2738"/>
                  </a:lnTo>
                  <a:lnTo>
                    <a:pt x="270" y="2778"/>
                  </a:lnTo>
                  <a:lnTo>
                    <a:pt x="310" y="2818"/>
                  </a:lnTo>
                  <a:lnTo>
                    <a:pt x="354" y="2856"/>
                  </a:lnTo>
                  <a:lnTo>
                    <a:pt x="402" y="2890"/>
                  </a:lnTo>
                  <a:lnTo>
                    <a:pt x="452" y="2920"/>
                  </a:lnTo>
                  <a:lnTo>
                    <a:pt x="504" y="2948"/>
                  </a:lnTo>
                  <a:lnTo>
                    <a:pt x="560" y="2974"/>
                  </a:lnTo>
                  <a:lnTo>
                    <a:pt x="578" y="2982"/>
                  </a:lnTo>
                  <a:lnTo>
                    <a:pt x="580" y="3000"/>
                  </a:lnTo>
                  <a:lnTo>
                    <a:pt x="580" y="3000"/>
                  </a:lnTo>
                  <a:lnTo>
                    <a:pt x="584" y="3044"/>
                  </a:lnTo>
                  <a:lnTo>
                    <a:pt x="592" y="3088"/>
                  </a:lnTo>
                  <a:lnTo>
                    <a:pt x="604" y="3132"/>
                  </a:lnTo>
                  <a:lnTo>
                    <a:pt x="616" y="3174"/>
                  </a:lnTo>
                  <a:lnTo>
                    <a:pt x="630" y="3214"/>
                  </a:lnTo>
                  <a:lnTo>
                    <a:pt x="646" y="3254"/>
                  </a:lnTo>
                  <a:lnTo>
                    <a:pt x="666" y="3294"/>
                  </a:lnTo>
                  <a:lnTo>
                    <a:pt x="686" y="3332"/>
                  </a:lnTo>
                  <a:lnTo>
                    <a:pt x="708" y="3370"/>
                  </a:lnTo>
                  <a:lnTo>
                    <a:pt x="732" y="3406"/>
                  </a:lnTo>
                  <a:lnTo>
                    <a:pt x="758" y="3442"/>
                  </a:lnTo>
                  <a:lnTo>
                    <a:pt x="786" y="3476"/>
                  </a:lnTo>
                  <a:lnTo>
                    <a:pt x="816" y="3508"/>
                  </a:lnTo>
                  <a:lnTo>
                    <a:pt x="846" y="3540"/>
                  </a:lnTo>
                  <a:lnTo>
                    <a:pt x="880" y="3570"/>
                  </a:lnTo>
                  <a:lnTo>
                    <a:pt x="914" y="3598"/>
                  </a:lnTo>
                  <a:lnTo>
                    <a:pt x="950" y="3626"/>
                  </a:lnTo>
                  <a:lnTo>
                    <a:pt x="986" y="3652"/>
                  </a:lnTo>
                  <a:lnTo>
                    <a:pt x="1024" y="3676"/>
                  </a:lnTo>
                  <a:lnTo>
                    <a:pt x="1064" y="3700"/>
                  </a:lnTo>
                  <a:lnTo>
                    <a:pt x="1104" y="3720"/>
                  </a:lnTo>
                  <a:lnTo>
                    <a:pt x="1146" y="3740"/>
                  </a:lnTo>
                  <a:lnTo>
                    <a:pt x="1190" y="3758"/>
                  </a:lnTo>
                  <a:lnTo>
                    <a:pt x="1234" y="3776"/>
                  </a:lnTo>
                  <a:lnTo>
                    <a:pt x="1280" y="3790"/>
                  </a:lnTo>
                  <a:lnTo>
                    <a:pt x="1326" y="3802"/>
                  </a:lnTo>
                  <a:lnTo>
                    <a:pt x="1372" y="3814"/>
                  </a:lnTo>
                  <a:lnTo>
                    <a:pt x="1420" y="3822"/>
                  </a:lnTo>
                  <a:lnTo>
                    <a:pt x="1468" y="3830"/>
                  </a:lnTo>
                  <a:lnTo>
                    <a:pt x="1518" y="3834"/>
                  </a:lnTo>
                  <a:lnTo>
                    <a:pt x="1568" y="3838"/>
                  </a:lnTo>
                  <a:lnTo>
                    <a:pt x="1618" y="3838"/>
                  </a:lnTo>
                  <a:lnTo>
                    <a:pt x="1618" y="3838"/>
                  </a:lnTo>
                  <a:lnTo>
                    <a:pt x="1666" y="3838"/>
                  </a:lnTo>
                  <a:lnTo>
                    <a:pt x="1712" y="3836"/>
                  </a:lnTo>
                  <a:lnTo>
                    <a:pt x="1756" y="3830"/>
                  </a:lnTo>
                  <a:lnTo>
                    <a:pt x="1802" y="3824"/>
                  </a:lnTo>
                  <a:lnTo>
                    <a:pt x="1848" y="3816"/>
                  </a:lnTo>
                  <a:lnTo>
                    <a:pt x="1892" y="3806"/>
                  </a:lnTo>
                  <a:lnTo>
                    <a:pt x="1936" y="3796"/>
                  </a:lnTo>
                  <a:lnTo>
                    <a:pt x="1980" y="3782"/>
                  </a:lnTo>
                  <a:lnTo>
                    <a:pt x="2022" y="3768"/>
                  </a:lnTo>
                  <a:lnTo>
                    <a:pt x="2064" y="3750"/>
                  </a:lnTo>
                  <a:lnTo>
                    <a:pt x="2104" y="3732"/>
                  </a:lnTo>
                  <a:lnTo>
                    <a:pt x="2144" y="3714"/>
                  </a:lnTo>
                  <a:lnTo>
                    <a:pt x="2184" y="3692"/>
                  </a:lnTo>
                  <a:lnTo>
                    <a:pt x="2222" y="3668"/>
                  </a:lnTo>
                  <a:lnTo>
                    <a:pt x="2260" y="3644"/>
                  </a:lnTo>
                  <a:lnTo>
                    <a:pt x="2296" y="3618"/>
                  </a:lnTo>
                  <a:lnTo>
                    <a:pt x="2312" y="3606"/>
                  </a:lnTo>
                  <a:lnTo>
                    <a:pt x="2328" y="3616"/>
                  </a:lnTo>
                  <a:lnTo>
                    <a:pt x="2328" y="3616"/>
                  </a:lnTo>
                  <a:lnTo>
                    <a:pt x="2386" y="3646"/>
                  </a:lnTo>
                  <a:lnTo>
                    <a:pt x="2448" y="3670"/>
                  </a:lnTo>
                  <a:lnTo>
                    <a:pt x="2508" y="3692"/>
                  </a:lnTo>
                  <a:lnTo>
                    <a:pt x="2572" y="3710"/>
                  </a:lnTo>
                  <a:lnTo>
                    <a:pt x="2636" y="3724"/>
                  </a:lnTo>
                  <a:lnTo>
                    <a:pt x="2702" y="3734"/>
                  </a:lnTo>
                  <a:lnTo>
                    <a:pt x="2768" y="3740"/>
                  </a:lnTo>
                  <a:lnTo>
                    <a:pt x="2836" y="3742"/>
                  </a:lnTo>
                  <a:lnTo>
                    <a:pt x="2836" y="3742"/>
                  </a:lnTo>
                  <a:lnTo>
                    <a:pt x="2908" y="3740"/>
                  </a:lnTo>
                  <a:lnTo>
                    <a:pt x="2980" y="3732"/>
                  </a:lnTo>
                  <a:lnTo>
                    <a:pt x="3050" y="3720"/>
                  </a:lnTo>
                  <a:lnTo>
                    <a:pt x="3120" y="3704"/>
                  </a:lnTo>
                  <a:lnTo>
                    <a:pt x="3188" y="3684"/>
                  </a:lnTo>
                  <a:lnTo>
                    <a:pt x="3220" y="3672"/>
                  </a:lnTo>
                  <a:lnTo>
                    <a:pt x="3254" y="3658"/>
                  </a:lnTo>
                  <a:lnTo>
                    <a:pt x="3286" y="3644"/>
                  </a:lnTo>
                  <a:lnTo>
                    <a:pt x="3319" y="3628"/>
                  </a:lnTo>
                  <a:lnTo>
                    <a:pt x="3349" y="3612"/>
                  </a:lnTo>
                  <a:lnTo>
                    <a:pt x="3379" y="3596"/>
                  </a:lnTo>
                  <a:lnTo>
                    <a:pt x="3393" y="3586"/>
                  </a:lnTo>
                  <a:lnTo>
                    <a:pt x="3407" y="3594"/>
                  </a:lnTo>
                  <a:lnTo>
                    <a:pt x="3407" y="3594"/>
                  </a:lnTo>
                  <a:lnTo>
                    <a:pt x="3457" y="3612"/>
                  </a:lnTo>
                  <a:lnTo>
                    <a:pt x="3507" y="3630"/>
                  </a:lnTo>
                  <a:lnTo>
                    <a:pt x="3559" y="3644"/>
                  </a:lnTo>
                  <a:lnTo>
                    <a:pt x="3611" y="3654"/>
                  </a:lnTo>
                  <a:lnTo>
                    <a:pt x="3663" y="3664"/>
                  </a:lnTo>
                  <a:lnTo>
                    <a:pt x="3715" y="3670"/>
                  </a:lnTo>
                  <a:lnTo>
                    <a:pt x="3769" y="3674"/>
                  </a:lnTo>
                  <a:lnTo>
                    <a:pt x="3823" y="3676"/>
                  </a:lnTo>
                  <a:lnTo>
                    <a:pt x="3823" y="3676"/>
                  </a:lnTo>
                  <a:lnTo>
                    <a:pt x="3893" y="3674"/>
                  </a:lnTo>
                  <a:lnTo>
                    <a:pt x="3961" y="3666"/>
                  </a:lnTo>
                  <a:lnTo>
                    <a:pt x="4029" y="3656"/>
                  </a:lnTo>
                  <a:lnTo>
                    <a:pt x="4095" y="3642"/>
                  </a:lnTo>
                  <a:lnTo>
                    <a:pt x="4159" y="3624"/>
                  </a:lnTo>
                  <a:lnTo>
                    <a:pt x="4221" y="3602"/>
                  </a:lnTo>
                  <a:lnTo>
                    <a:pt x="4281" y="3576"/>
                  </a:lnTo>
                  <a:lnTo>
                    <a:pt x="4339" y="3546"/>
                  </a:lnTo>
                  <a:lnTo>
                    <a:pt x="4395" y="3512"/>
                  </a:lnTo>
                  <a:lnTo>
                    <a:pt x="4447" y="3476"/>
                  </a:lnTo>
                  <a:lnTo>
                    <a:pt x="4497" y="3436"/>
                  </a:lnTo>
                  <a:lnTo>
                    <a:pt x="4545" y="3394"/>
                  </a:lnTo>
                  <a:lnTo>
                    <a:pt x="4587" y="3348"/>
                  </a:lnTo>
                  <a:lnTo>
                    <a:pt x="4629" y="3300"/>
                  </a:lnTo>
                  <a:lnTo>
                    <a:pt x="4665" y="3248"/>
                  </a:lnTo>
                  <a:lnTo>
                    <a:pt x="4697" y="3194"/>
                  </a:lnTo>
                  <a:lnTo>
                    <a:pt x="4707" y="3178"/>
                  </a:lnTo>
                  <a:lnTo>
                    <a:pt x="4723" y="3178"/>
                  </a:lnTo>
                  <a:lnTo>
                    <a:pt x="4723" y="3178"/>
                  </a:lnTo>
                  <a:lnTo>
                    <a:pt x="4771" y="3174"/>
                  </a:lnTo>
                  <a:lnTo>
                    <a:pt x="4819" y="3168"/>
                  </a:lnTo>
                  <a:lnTo>
                    <a:pt x="4865" y="3162"/>
                  </a:lnTo>
                  <a:lnTo>
                    <a:pt x="4911" y="3152"/>
                  </a:lnTo>
                  <a:lnTo>
                    <a:pt x="4957" y="3140"/>
                  </a:lnTo>
                  <a:lnTo>
                    <a:pt x="5001" y="3128"/>
                  </a:lnTo>
                  <a:lnTo>
                    <a:pt x="5043" y="3114"/>
                  </a:lnTo>
                  <a:lnTo>
                    <a:pt x="5085" y="3096"/>
                  </a:lnTo>
                  <a:lnTo>
                    <a:pt x="5127" y="3078"/>
                  </a:lnTo>
                  <a:lnTo>
                    <a:pt x="5165" y="3058"/>
                  </a:lnTo>
                  <a:lnTo>
                    <a:pt x="5205" y="3038"/>
                  </a:lnTo>
                  <a:lnTo>
                    <a:pt x="5241" y="3014"/>
                  </a:lnTo>
                  <a:lnTo>
                    <a:pt x="5277" y="2990"/>
                  </a:lnTo>
                  <a:lnTo>
                    <a:pt x="5313" y="2964"/>
                  </a:lnTo>
                  <a:lnTo>
                    <a:pt x="5345" y="2938"/>
                  </a:lnTo>
                  <a:lnTo>
                    <a:pt x="5377" y="2910"/>
                  </a:lnTo>
                  <a:lnTo>
                    <a:pt x="5407" y="2880"/>
                  </a:lnTo>
                  <a:lnTo>
                    <a:pt x="5437" y="2848"/>
                  </a:lnTo>
                  <a:lnTo>
                    <a:pt x="5463" y="2816"/>
                  </a:lnTo>
                  <a:lnTo>
                    <a:pt x="5489" y="2784"/>
                  </a:lnTo>
                  <a:lnTo>
                    <a:pt x="5513" y="2750"/>
                  </a:lnTo>
                  <a:lnTo>
                    <a:pt x="5535" y="2714"/>
                  </a:lnTo>
                  <a:lnTo>
                    <a:pt x="5555" y="2678"/>
                  </a:lnTo>
                  <a:lnTo>
                    <a:pt x="5573" y="2640"/>
                  </a:lnTo>
                  <a:lnTo>
                    <a:pt x="5589" y="2602"/>
                  </a:lnTo>
                  <a:lnTo>
                    <a:pt x="5603" y="2564"/>
                  </a:lnTo>
                  <a:lnTo>
                    <a:pt x="5615" y="2524"/>
                  </a:lnTo>
                  <a:lnTo>
                    <a:pt x="5625" y="2484"/>
                  </a:lnTo>
                  <a:lnTo>
                    <a:pt x="5633" y="2444"/>
                  </a:lnTo>
                  <a:lnTo>
                    <a:pt x="5639" y="2402"/>
                  </a:lnTo>
                  <a:lnTo>
                    <a:pt x="5643" y="2360"/>
                  </a:lnTo>
                  <a:lnTo>
                    <a:pt x="5643" y="2316"/>
                  </a:lnTo>
                  <a:lnTo>
                    <a:pt x="5643" y="2316"/>
                  </a:lnTo>
                  <a:lnTo>
                    <a:pt x="5641" y="2256"/>
                  </a:lnTo>
                  <a:lnTo>
                    <a:pt x="5635" y="2196"/>
                  </a:lnTo>
                  <a:lnTo>
                    <a:pt x="5623" y="2138"/>
                  </a:lnTo>
                  <a:lnTo>
                    <a:pt x="5607" y="2082"/>
                  </a:lnTo>
                  <a:lnTo>
                    <a:pt x="5587" y="2026"/>
                  </a:lnTo>
                  <a:lnTo>
                    <a:pt x="5563" y="1970"/>
                  </a:lnTo>
                  <a:lnTo>
                    <a:pt x="5535" y="1918"/>
                  </a:lnTo>
                  <a:lnTo>
                    <a:pt x="5501" y="1868"/>
                  </a:lnTo>
                  <a:lnTo>
                    <a:pt x="5465" y="1820"/>
                  </a:lnTo>
                  <a:lnTo>
                    <a:pt x="5425" y="1772"/>
                  </a:lnTo>
                  <a:lnTo>
                    <a:pt x="5383" y="1728"/>
                  </a:lnTo>
                  <a:lnTo>
                    <a:pt x="5335" y="1688"/>
                  </a:lnTo>
                  <a:lnTo>
                    <a:pt x="5285" y="1648"/>
                  </a:lnTo>
                  <a:lnTo>
                    <a:pt x="5231" y="1612"/>
                  </a:lnTo>
                  <a:lnTo>
                    <a:pt x="5175" y="1580"/>
                  </a:lnTo>
                  <a:lnTo>
                    <a:pt x="5115" y="1550"/>
                  </a:lnTo>
                  <a:lnTo>
                    <a:pt x="5093" y="1540"/>
                  </a:lnTo>
                  <a:lnTo>
                    <a:pt x="5099" y="1516"/>
                  </a:lnTo>
                  <a:lnTo>
                    <a:pt x="5099" y="1516"/>
                  </a:lnTo>
                  <a:lnTo>
                    <a:pt x="5105" y="1476"/>
                  </a:lnTo>
                  <a:lnTo>
                    <a:pt x="5111" y="1436"/>
                  </a:lnTo>
                  <a:lnTo>
                    <a:pt x="5113" y="1396"/>
                  </a:lnTo>
                  <a:lnTo>
                    <a:pt x="5115" y="1356"/>
                  </a:lnTo>
                  <a:lnTo>
                    <a:pt x="5115" y="1356"/>
                  </a:lnTo>
                  <a:lnTo>
                    <a:pt x="5113" y="1312"/>
                  </a:lnTo>
                  <a:lnTo>
                    <a:pt x="5109" y="1268"/>
                  </a:lnTo>
                  <a:lnTo>
                    <a:pt x="5103" y="1224"/>
                  </a:lnTo>
                  <a:lnTo>
                    <a:pt x="5095" y="1182"/>
                  </a:lnTo>
                  <a:lnTo>
                    <a:pt x="5085" y="1140"/>
                  </a:lnTo>
                  <a:lnTo>
                    <a:pt x="5071" y="1100"/>
                  </a:lnTo>
                  <a:lnTo>
                    <a:pt x="5055" y="1060"/>
                  </a:lnTo>
                  <a:lnTo>
                    <a:pt x="5039" y="1020"/>
                  </a:lnTo>
                  <a:lnTo>
                    <a:pt x="5019" y="982"/>
                  </a:lnTo>
                  <a:lnTo>
                    <a:pt x="4997" y="946"/>
                  </a:lnTo>
                  <a:lnTo>
                    <a:pt x="4973" y="910"/>
                  </a:lnTo>
                  <a:lnTo>
                    <a:pt x="4949" y="874"/>
                  </a:lnTo>
                  <a:lnTo>
                    <a:pt x="4921" y="840"/>
                  </a:lnTo>
                  <a:lnTo>
                    <a:pt x="4893" y="808"/>
                  </a:lnTo>
                  <a:lnTo>
                    <a:pt x="4861" y="776"/>
                  </a:lnTo>
                  <a:lnTo>
                    <a:pt x="4829" y="746"/>
                  </a:lnTo>
                  <a:lnTo>
                    <a:pt x="4795" y="718"/>
                  </a:lnTo>
                  <a:lnTo>
                    <a:pt x="4761" y="690"/>
                  </a:lnTo>
                  <a:lnTo>
                    <a:pt x="4723" y="666"/>
                  </a:lnTo>
                  <a:lnTo>
                    <a:pt x="4685" y="642"/>
                  </a:lnTo>
                  <a:lnTo>
                    <a:pt x="4645" y="618"/>
                  </a:lnTo>
                  <a:lnTo>
                    <a:pt x="4605" y="598"/>
                  </a:lnTo>
                  <a:lnTo>
                    <a:pt x="4563" y="580"/>
                  </a:lnTo>
                  <a:lnTo>
                    <a:pt x="4519" y="562"/>
                  </a:lnTo>
                  <a:lnTo>
                    <a:pt x="4475" y="546"/>
                  </a:lnTo>
                  <a:lnTo>
                    <a:pt x="4431" y="532"/>
                  </a:lnTo>
                  <a:lnTo>
                    <a:pt x="4385" y="522"/>
                  </a:lnTo>
                  <a:lnTo>
                    <a:pt x="4337" y="512"/>
                  </a:lnTo>
                  <a:lnTo>
                    <a:pt x="4289" y="504"/>
                  </a:lnTo>
                  <a:lnTo>
                    <a:pt x="4241" y="498"/>
                  </a:lnTo>
                  <a:lnTo>
                    <a:pt x="4191" y="496"/>
                  </a:lnTo>
                  <a:lnTo>
                    <a:pt x="4141" y="494"/>
                  </a:lnTo>
                  <a:lnTo>
                    <a:pt x="4141" y="494"/>
                  </a:lnTo>
                  <a:lnTo>
                    <a:pt x="4083" y="496"/>
                  </a:lnTo>
                  <a:lnTo>
                    <a:pt x="4025" y="500"/>
                  </a:lnTo>
                  <a:lnTo>
                    <a:pt x="3967" y="508"/>
                  </a:lnTo>
                  <a:lnTo>
                    <a:pt x="3911" y="518"/>
                  </a:lnTo>
                  <a:lnTo>
                    <a:pt x="3855" y="532"/>
                  </a:lnTo>
                  <a:lnTo>
                    <a:pt x="3801" y="548"/>
                  </a:lnTo>
                  <a:lnTo>
                    <a:pt x="3747" y="568"/>
                  </a:lnTo>
                  <a:lnTo>
                    <a:pt x="3695" y="590"/>
                  </a:lnTo>
                  <a:lnTo>
                    <a:pt x="3671" y="600"/>
                  </a:lnTo>
                  <a:lnTo>
                    <a:pt x="3655" y="578"/>
                  </a:lnTo>
                  <a:lnTo>
                    <a:pt x="3655" y="578"/>
                  </a:lnTo>
                  <a:lnTo>
                    <a:pt x="3613" y="520"/>
                  </a:lnTo>
                  <a:lnTo>
                    <a:pt x="3569" y="464"/>
                  </a:lnTo>
                  <a:lnTo>
                    <a:pt x="3521" y="410"/>
                  </a:lnTo>
                  <a:lnTo>
                    <a:pt x="3469" y="362"/>
                  </a:lnTo>
                  <a:lnTo>
                    <a:pt x="3417" y="316"/>
                  </a:lnTo>
                  <a:lnTo>
                    <a:pt x="3361" y="274"/>
                  </a:lnTo>
                  <a:lnTo>
                    <a:pt x="3300" y="234"/>
                  </a:lnTo>
                  <a:lnTo>
                    <a:pt x="3240" y="200"/>
                  </a:lnTo>
                  <a:lnTo>
                    <a:pt x="3176" y="168"/>
                  </a:lnTo>
                  <a:lnTo>
                    <a:pt x="3112" y="142"/>
                  </a:lnTo>
                  <a:lnTo>
                    <a:pt x="3046" y="118"/>
                  </a:lnTo>
                  <a:lnTo>
                    <a:pt x="2978" y="98"/>
                  </a:lnTo>
                  <a:lnTo>
                    <a:pt x="2908" y="84"/>
                  </a:lnTo>
                  <a:lnTo>
                    <a:pt x="2838" y="72"/>
                  </a:lnTo>
                  <a:lnTo>
                    <a:pt x="2766" y="66"/>
                  </a:lnTo>
                  <a:lnTo>
                    <a:pt x="2694" y="64"/>
                  </a:lnTo>
                  <a:lnTo>
                    <a:pt x="2694" y="64"/>
                  </a:lnTo>
                  <a:lnTo>
                    <a:pt x="2630" y="64"/>
                  </a:lnTo>
                  <a:lnTo>
                    <a:pt x="2566" y="70"/>
                  </a:lnTo>
                  <a:lnTo>
                    <a:pt x="2502" y="80"/>
                  </a:lnTo>
                  <a:lnTo>
                    <a:pt x="2438" y="92"/>
                  </a:lnTo>
                  <a:lnTo>
                    <a:pt x="2378" y="108"/>
                  </a:lnTo>
                  <a:lnTo>
                    <a:pt x="2316" y="126"/>
                  </a:lnTo>
                  <a:lnTo>
                    <a:pt x="2258" y="148"/>
                  </a:lnTo>
                  <a:lnTo>
                    <a:pt x="2200" y="174"/>
                  </a:lnTo>
                  <a:lnTo>
                    <a:pt x="2144" y="202"/>
                  </a:lnTo>
                  <a:lnTo>
                    <a:pt x="2088" y="234"/>
                  </a:lnTo>
                  <a:lnTo>
                    <a:pt x="2036" y="270"/>
                  </a:lnTo>
                  <a:lnTo>
                    <a:pt x="1984" y="306"/>
                  </a:lnTo>
                  <a:lnTo>
                    <a:pt x="1936" y="348"/>
                  </a:lnTo>
                  <a:lnTo>
                    <a:pt x="1888" y="392"/>
                  </a:lnTo>
                  <a:lnTo>
                    <a:pt x="1844" y="438"/>
                  </a:lnTo>
                  <a:lnTo>
                    <a:pt x="1802" y="486"/>
                  </a:lnTo>
                  <a:lnTo>
                    <a:pt x="1792" y="500"/>
                  </a:lnTo>
                  <a:lnTo>
                    <a:pt x="1774" y="498"/>
                  </a:lnTo>
                  <a:lnTo>
                    <a:pt x="1774" y="498"/>
                  </a:lnTo>
                  <a:lnTo>
                    <a:pt x="1714" y="494"/>
                  </a:lnTo>
                  <a:lnTo>
                    <a:pt x="1654" y="494"/>
                  </a:lnTo>
                  <a:lnTo>
                    <a:pt x="1654" y="49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グループ化 57"/>
          <p:cNvGrpSpPr/>
          <p:nvPr/>
        </p:nvGrpSpPr>
        <p:grpSpPr>
          <a:xfrm>
            <a:off x="8763120" y="10723680"/>
            <a:ext cx="5654520" cy="3225600"/>
            <a:chOff x="8763120" y="10723680"/>
            <a:chExt cx="5654520" cy="3225600"/>
          </a:xfrm>
        </p:grpSpPr>
        <p:sp>
          <p:nvSpPr>
            <p:cNvPr id="92" name="Freeform 16"/>
            <p:cNvSpPr/>
            <p:nvPr/>
          </p:nvSpPr>
          <p:spPr>
            <a:xfrm>
              <a:off x="8804160" y="10764720"/>
              <a:ext cx="5568840" cy="3143160"/>
            </a:xfrm>
            <a:custGeom>
              <a:avLst/>
              <a:gdLst>
                <a:gd name="textAreaLeft" fmla="*/ 0 w 5568840"/>
                <a:gd name="textAreaRight" fmla="*/ 5568840 w 5568840"/>
                <a:gd name="textAreaTop" fmla="*/ 0 h 3143160"/>
                <a:gd name="textAreaBottom" fmla="*/ 3143520 h 3143160"/>
              </a:gdLst>
              <a:ahLst/>
              <a:rect l="textAreaLeft" t="textAreaTop" r="textAreaRight" b="textAreaBottom"/>
              <a:pathLst>
                <a:path w="3508" h="1980">
                  <a:moveTo>
                    <a:pt x="3508" y="1178"/>
                  </a:moveTo>
                  <a:lnTo>
                    <a:pt x="3508" y="1178"/>
                  </a:lnTo>
                  <a:lnTo>
                    <a:pt x="3506" y="1146"/>
                  </a:lnTo>
                  <a:lnTo>
                    <a:pt x="3502" y="1112"/>
                  </a:lnTo>
                  <a:lnTo>
                    <a:pt x="3494" y="1082"/>
                  </a:lnTo>
                  <a:lnTo>
                    <a:pt x="3484" y="1050"/>
                  </a:lnTo>
                  <a:lnTo>
                    <a:pt x="3470" y="1020"/>
                  </a:lnTo>
                  <a:lnTo>
                    <a:pt x="3454" y="990"/>
                  </a:lnTo>
                  <a:lnTo>
                    <a:pt x="3436" y="962"/>
                  </a:lnTo>
                  <a:lnTo>
                    <a:pt x="3414" y="936"/>
                  </a:lnTo>
                  <a:lnTo>
                    <a:pt x="3390" y="910"/>
                  </a:lnTo>
                  <a:lnTo>
                    <a:pt x="3364" y="884"/>
                  </a:lnTo>
                  <a:lnTo>
                    <a:pt x="3336" y="862"/>
                  </a:lnTo>
                  <a:lnTo>
                    <a:pt x="3306" y="840"/>
                  </a:lnTo>
                  <a:lnTo>
                    <a:pt x="3274" y="820"/>
                  </a:lnTo>
                  <a:lnTo>
                    <a:pt x="3242" y="802"/>
                  </a:lnTo>
                  <a:lnTo>
                    <a:pt x="3206" y="784"/>
                  </a:lnTo>
                  <a:lnTo>
                    <a:pt x="3168" y="768"/>
                  </a:lnTo>
                  <a:lnTo>
                    <a:pt x="3168" y="768"/>
                  </a:lnTo>
                  <a:lnTo>
                    <a:pt x="3174" y="748"/>
                  </a:lnTo>
                  <a:lnTo>
                    <a:pt x="3176" y="726"/>
                  </a:lnTo>
                  <a:lnTo>
                    <a:pt x="3178" y="706"/>
                  </a:lnTo>
                  <a:lnTo>
                    <a:pt x="3180" y="684"/>
                  </a:lnTo>
                  <a:lnTo>
                    <a:pt x="3180" y="684"/>
                  </a:lnTo>
                  <a:lnTo>
                    <a:pt x="3178" y="660"/>
                  </a:lnTo>
                  <a:lnTo>
                    <a:pt x="3176" y="636"/>
                  </a:lnTo>
                  <a:lnTo>
                    <a:pt x="3172" y="614"/>
                  </a:lnTo>
                  <a:lnTo>
                    <a:pt x="3166" y="590"/>
                  </a:lnTo>
                  <a:lnTo>
                    <a:pt x="3160" y="568"/>
                  </a:lnTo>
                  <a:lnTo>
                    <a:pt x="3152" y="546"/>
                  </a:lnTo>
                  <a:lnTo>
                    <a:pt x="3142" y="524"/>
                  </a:lnTo>
                  <a:lnTo>
                    <a:pt x="3130" y="504"/>
                  </a:lnTo>
                  <a:lnTo>
                    <a:pt x="3118" y="484"/>
                  </a:lnTo>
                  <a:lnTo>
                    <a:pt x="3104" y="464"/>
                  </a:lnTo>
                  <a:lnTo>
                    <a:pt x="3090" y="444"/>
                  </a:lnTo>
                  <a:lnTo>
                    <a:pt x="3072" y="426"/>
                  </a:lnTo>
                  <a:lnTo>
                    <a:pt x="3056" y="408"/>
                  </a:lnTo>
                  <a:lnTo>
                    <a:pt x="3036" y="390"/>
                  </a:lnTo>
                  <a:lnTo>
                    <a:pt x="3018" y="374"/>
                  </a:lnTo>
                  <a:lnTo>
                    <a:pt x="2996" y="358"/>
                  </a:lnTo>
                  <a:lnTo>
                    <a:pt x="2952" y="328"/>
                  </a:lnTo>
                  <a:lnTo>
                    <a:pt x="2904" y="302"/>
                  </a:lnTo>
                  <a:lnTo>
                    <a:pt x="2852" y="278"/>
                  </a:lnTo>
                  <a:lnTo>
                    <a:pt x="2798" y="258"/>
                  </a:lnTo>
                  <a:lnTo>
                    <a:pt x="2740" y="244"/>
                  </a:lnTo>
                  <a:lnTo>
                    <a:pt x="2680" y="232"/>
                  </a:lnTo>
                  <a:lnTo>
                    <a:pt x="2618" y="224"/>
                  </a:lnTo>
                  <a:lnTo>
                    <a:pt x="2586" y="224"/>
                  </a:lnTo>
                  <a:lnTo>
                    <a:pt x="2554" y="222"/>
                  </a:lnTo>
                  <a:lnTo>
                    <a:pt x="2554" y="222"/>
                  </a:lnTo>
                  <a:lnTo>
                    <a:pt x="2516" y="224"/>
                  </a:lnTo>
                  <a:lnTo>
                    <a:pt x="2478" y="226"/>
                  </a:lnTo>
                  <a:lnTo>
                    <a:pt x="2442" y="230"/>
                  </a:lnTo>
                  <a:lnTo>
                    <a:pt x="2406" y="236"/>
                  </a:lnTo>
                  <a:lnTo>
                    <a:pt x="2370" y="242"/>
                  </a:lnTo>
                  <a:lnTo>
                    <a:pt x="2336" y="252"/>
                  </a:lnTo>
                  <a:lnTo>
                    <a:pt x="2302" y="262"/>
                  </a:lnTo>
                  <a:lnTo>
                    <a:pt x="2270" y="274"/>
                  </a:lnTo>
                  <a:lnTo>
                    <a:pt x="2270" y="274"/>
                  </a:lnTo>
                  <a:lnTo>
                    <a:pt x="2244" y="244"/>
                  </a:lnTo>
                  <a:lnTo>
                    <a:pt x="2216" y="214"/>
                  </a:lnTo>
                  <a:lnTo>
                    <a:pt x="2186" y="188"/>
                  </a:lnTo>
                  <a:lnTo>
                    <a:pt x="2154" y="162"/>
                  </a:lnTo>
                  <a:lnTo>
                    <a:pt x="2120" y="138"/>
                  </a:lnTo>
                  <a:lnTo>
                    <a:pt x="2084" y="114"/>
                  </a:lnTo>
                  <a:lnTo>
                    <a:pt x="2048" y="94"/>
                  </a:lnTo>
                  <a:lnTo>
                    <a:pt x="2010" y="76"/>
                  </a:lnTo>
                  <a:lnTo>
                    <a:pt x="1970" y="58"/>
                  </a:lnTo>
                  <a:lnTo>
                    <a:pt x="1928" y="44"/>
                  </a:lnTo>
                  <a:lnTo>
                    <a:pt x="1884" y="30"/>
                  </a:lnTo>
                  <a:lnTo>
                    <a:pt x="1840" y="20"/>
                  </a:lnTo>
                  <a:lnTo>
                    <a:pt x="1796" y="12"/>
                  </a:lnTo>
                  <a:lnTo>
                    <a:pt x="1750" y="6"/>
                  </a:lnTo>
                  <a:lnTo>
                    <a:pt x="1704" y="2"/>
                  </a:lnTo>
                  <a:lnTo>
                    <a:pt x="1656" y="0"/>
                  </a:lnTo>
                  <a:lnTo>
                    <a:pt x="1656" y="0"/>
                  </a:lnTo>
                  <a:lnTo>
                    <a:pt x="1612" y="2"/>
                  </a:lnTo>
                  <a:lnTo>
                    <a:pt x="1570" y="4"/>
                  </a:lnTo>
                  <a:lnTo>
                    <a:pt x="1528" y="10"/>
                  </a:lnTo>
                  <a:lnTo>
                    <a:pt x="1488" y="16"/>
                  </a:lnTo>
                  <a:lnTo>
                    <a:pt x="1448" y="24"/>
                  </a:lnTo>
                  <a:lnTo>
                    <a:pt x="1410" y="36"/>
                  </a:lnTo>
                  <a:lnTo>
                    <a:pt x="1372" y="48"/>
                  </a:lnTo>
                  <a:lnTo>
                    <a:pt x="1334" y="62"/>
                  </a:lnTo>
                  <a:lnTo>
                    <a:pt x="1298" y="76"/>
                  </a:lnTo>
                  <a:lnTo>
                    <a:pt x="1264" y="94"/>
                  </a:lnTo>
                  <a:lnTo>
                    <a:pt x="1230" y="112"/>
                  </a:lnTo>
                  <a:lnTo>
                    <a:pt x="1198" y="132"/>
                  </a:lnTo>
                  <a:lnTo>
                    <a:pt x="1168" y="154"/>
                  </a:lnTo>
                  <a:lnTo>
                    <a:pt x="1138" y="176"/>
                  </a:lnTo>
                  <a:lnTo>
                    <a:pt x="1110" y="200"/>
                  </a:lnTo>
                  <a:lnTo>
                    <a:pt x="1084" y="224"/>
                  </a:lnTo>
                  <a:lnTo>
                    <a:pt x="1084" y="224"/>
                  </a:lnTo>
                  <a:lnTo>
                    <a:pt x="1008" y="222"/>
                  </a:lnTo>
                  <a:lnTo>
                    <a:pt x="1008" y="222"/>
                  </a:lnTo>
                  <a:lnTo>
                    <a:pt x="966" y="224"/>
                  </a:lnTo>
                  <a:lnTo>
                    <a:pt x="926" y="224"/>
                  </a:lnTo>
                  <a:lnTo>
                    <a:pt x="884" y="228"/>
                  </a:lnTo>
                  <a:lnTo>
                    <a:pt x="844" y="232"/>
                  </a:lnTo>
                  <a:lnTo>
                    <a:pt x="806" y="238"/>
                  </a:lnTo>
                  <a:lnTo>
                    <a:pt x="768" y="244"/>
                  </a:lnTo>
                  <a:lnTo>
                    <a:pt x="730" y="252"/>
                  </a:lnTo>
                  <a:lnTo>
                    <a:pt x="692" y="262"/>
                  </a:lnTo>
                  <a:lnTo>
                    <a:pt x="656" y="272"/>
                  </a:lnTo>
                  <a:lnTo>
                    <a:pt x="622" y="282"/>
                  </a:lnTo>
                  <a:lnTo>
                    <a:pt x="588" y="294"/>
                  </a:lnTo>
                  <a:lnTo>
                    <a:pt x="554" y="308"/>
                  </a:lnTo>
                  <a:lnTo>
                    <a:pt x="522" y="320"/>
                  </a:lnTo>
                  <a:lnTo>
                    <a:pt x="492" y="336"/>
                  </a:lnTo>
                  <a:lnTo>
                    <a:pt x="462" y="352"/>
                  </a:lnTo>
                  <a:lnTo>
                    <a:pt x="434" y="368"/>
                  </a:lnTo>
                  <a:lnTo>
                    <a:pt x="408" y="384"/>
                  </a:lnTo>
                  <a:lnTo>
                    <a:pt x="382" y="402"/>
                  </a:lnTo>
                  <a:lnTo>
                    <a:pt x="358" y="422"/>
                  </a:lnTo>
                  <a:lnTo>
                    <a:pt x="336" y="440"/>
                  </a:lnTo>
                  <a:lnTo>
                    <a:pt x="314" y="462"/>
                  </a:lnTo>
                  <a:lnTo>
                    <a:pt x="294" y="482"/>
                  </a:lnTo>
                  <a:lnTo>
                    <a:pt x="276" y="504"/>
                  </a:lnTo>
                  <a:lnTo>
                    <a:pt x="260" y="526"/>
                  </a:lnTo>
                  <a:lnTo>
                    <a:pt x="246" y="548"/>
                  </a:lnTo>
                  <a:lnTo>
                    <a:pt x="234" y="570"/>
                  </a:lnTo>
                  <a:lnTo>
                    <a:pt x="222" y="594"/>
                  </a:lnTo>
                  <a:lnTo>
                    <a:pt x="214" y="618"/>
                  </a:lnTo>
                  <a:lnTo>
                    <a:pt x="206" y="642"/>
                  </a:lnTo>
                  <a:lnTo>
                    <a:pt x="202" y="668"/>
                  </a:lnTo>
                  <a:lnTo>
                    <a:pt x="198" y="692"/>
                  </a:lnTo>
                  <a:lnTo>
                    <a:pt x="196" y="718"/>
                  </a:lnTo>
                  <a:lnTo>
                    <a:pt x="196" y="718"/>
                  </a:lnTo>
                  <a:lnTo>
                    <a:pt x="198" y="748"/>
                  </a:lnTo>
                  <a:lnTo>
                    <a:pt x="202" y="778"/>
                  </a:lnTo>
                  <a:lnTo>
                    <a:pt x="210" y="808"/>
                  </a:lnTo>
                  <a:lnTo>
                    <a:pt x="220" y="836"/>
                  </a:lnTo>
                  <a:lnTo>
                    <a:pt x="220" y="836"/>
                  </a:lnTo>
                  <a:lnTo>
                    <a:pt x="196" y="850"/>
                  </a:lnTo>
                  <a:lnTo>
                    <a:pt x="172" y="866"/>
                  </a:lnTo>
                  <a:lnTo>
                    <a:pt x="150" y="882"/>
                  </a:lnTo>
                  <a:lnTo>
                    <a:pt x="130" y="900"/>
                  </a:lnTo>
                  <a:lnTo>
                    <a:pt x="110" y="918"/>
                  </a:lnTo>
                  <a:lnTo>
                    <a:pt x="92" y="938"/>
                  </a:lnTo>
                  <a:lnTo>
                    <a:pt x="74" y="956"/>
                  </a:lnTo>
                  <a:lnTo>
                    <a:pt x="60" y="978"/>
                  </a:lnTo>
                  <a:lnTo>
                    <a:pt x="46" y="998"/>
                  </a:lnTo>
                  <a:lnTo>
                    <a:pt x="34" y="1020"/>
                  </a:lnTo>
                  <a:lnTo>
                    <a:pt x="24" y="1042"/>
                  </a:lnTo>
                  <a:lnTo>
                    <a:pt x="16" y="1066"/>
                  </a:lnTo>
                  <a:lnTo>
                    <a:pt x="8" y="1090"/>
                  </a:lnTo>
                  <a:lnTo>
                    <a:pt x="4" y="1114"/>
                  </a:lnTo>
                  <a:lnTo>
                    <a:pt x="0" y="1138"/>
                  </a:lnTo>
                  <a:lnTo>
                    <a:pt x="0" y="1162"/>
                  </a:lnTo>
                  <a:lnTo>
                    <a:pt x="0" y="1162"/>
                  </a:lnTo>
                  <a:lnTo>
                    <a:pt x="0" y="1192"/>
                  </a:lnTo>
                  <a:lnTo>
                    <a:pt x="6" y="1222"/>
                  </a:lnTo>
                  <a:lnTo>
                    <a:pt x="12" y="1252"/>
                  </a:lnTo>
                  <a:lnTo>
                    <a:pt x="22" y="1280"/>
                  </a:lnTo>
                  <a:lnTo>
                    <a:pt x="36" y="1308"/>
                  </a:lnTo>
                  <a:lnTo>
                    <a:pt x="52" y="1334"/>
                  </a:lnTo>
                  <a:lnTo>
                    <a:pt x="68" y="1360"/>
                  </a:lnTo>
                  <a:lnTo>
                    <a:pt x="88" y="1384"/>
                  </a:lnTo>
                  <a:lnTo>
                    <a:pt x="112" y="1408"/>
                  </a:lnTo>
                  <a:lnTo>
                    <a:pt x="136" y="1430"/>
                  </a:lnTo>
                  <a:lnTo>
                    <a:pt x="162" y="1452"/>
                  </a:lnTo>
                  <a:lnTo>
                    <a:pt x="190" y="1470"/>
                  </a:lnTo>
                  <a:lnTo>
                    <a:pt x="220" y="1488"/>
                  </a:lnTo>
                  <a:lnTo>
                    <a:pt x="252" y="1504"/>
                  </a:lnTo>
                  <a:lnTo>
                    <a:pt x="286" y="1520"/>
                  </a:lnTo>
                  <a:lnTo>
                    <a:pt x="320" y="1532"/>
                  </a:lnTo>
                  <a:lnTo>
                    <a:pt x="320" y="1532"/>
                  </a:lnTo>
                  <a:lnTo>
                    <a:pt x="324" y="1556"/>
                  </a:lnTo>
                  <a:lnTo>
                    <a:pt x="330" y="1580"/>
                  </a:lnTo>
                  <a:lnTo>
                    <a:pt x="336" y="1602"/>
                  </a:lnTo>
                  <a:lnTo>
                    <a:pt x="344" y="1624"/>
                  </a:lnTo>
                  <a:lnTo>
                    <a:pt x="354" y="1646"/>
                  </a:lnTo>
                  <a:lnTo>
                    <a:pt x="364" y="1668"/>
                  </a:lnTo>
                  <a:lnTo>
                    <a:pt x="376" y="1688"/>
                  </a:lnTo>
                  <a:lnTo>
                    <a:pt x="388" y="1708"/>
                  </a:lnTo>
                  <a:lnTo>
                    <a:pt x="404" y="1728"/>
                  </a:lnTo>
                  <a:lnTo>
                    <a:pt x="418" y="1748"/>
                  </a:lnTo>
                  <a:lnTo>
                    <a:pt x="436" y="1766"/>
                  </a:lnTo>
                  <a:lnTo>
                    <a:pt x="452" y="1784"/>
                  </a:lnTo>
                  <a:lnTo>
                    <a:pt x="492" y="1818"/>
                  </a:lnTo>
                  <a:lnTo>
                    <a:pt x="534" y="1850"/>
                  </a:lnTo>
                  <a:lnTo>
                    <a:pt x="580" y="1880"/>
                  </a:lnTo>
                  <a:lnTo>
                    <a:pt x="630" y="1904"/>
                  </a:lnTo>
                  <a:lnTo>
                    <a:pt x="684" y="1926"/>
                  </a:lnTo>
                  <a:lnTo>
                    <a:pt x="740" y="1946"/>
                  </a:lnTo>
                  <a:lnTo>
                    <a:pt x="798" y="1960"/>
                  </a:lnTo>
                  <a:lnTo>
                    <a:pt x="858" y="1972"/>
                  </a:lnTo>
                  <a:lnTo>
                    <a:pt x="922" y="1978"/>
                  </a:lnTo>
                  <a:lnTo>
                    <a:pt x="986" y="1980"/>
                  </a:lnTo>
                  <a:lnTo>
                    <a:pt x="986" y="1980"/>
                  </a:lnTo>
                  <a:lnTo>
                    <a:pt x="1048" y="1978"/>
                  </a:lnTo>
                  <a:lnTo>
                    <a:pt x="1108" y="1972"/>
                  </a:lnTo>
                  <a:lnTo>
                    <a:pt x="1164" y="1962"/>
                  </a:lnTo>
                  <a:lnTo>
                    <a:pt x="1220" y="1948"/>
                  </a:lnTo>
                  <a:lnTo>
                    <a:pt x="1274" y="1932"/>
                  </a:lnTo>
                  <a:lnTo>
                    <a:pt x="1326" y="1912"/>
                  </a:lnTo>
                  <a:lnTo>
                    <a:pt x="1374" y="1890"/>
                  </a:lnTo>
                  <a:lnTo>
                    <a:pt x="1418" y="1864"/>
                  </a:lnTo>
                  <a:lnTo>
                    <a:pt x="1418" y="1864"/>
                  </a:lnTo>
                  <a:lnTo>
                    <a:pt x="1454" y="1878"/>
                  </a:lnTo>
                  <a:lnTo>
                    <a:pt x="1492" y="1892"/>
                  </a:lnTo>
                  <a:lnTo>
                    <a:pt x="1532" y="1902"/>
                  </a:lnTo>
                  <a:lnTo>
                    <a:pt x="1572" y="1912"/>
                  </a:lnTo>
                  <a:lnTo>
                    <a:pt x="1614" y="1920"/>
                  </a:lnTo>
                  <a:lnTo>
                    <a:pt x="1656" y="1926"/>
                  </a:lnTo>
                  <a:lnTo>
                    <a:pt x="1698" y="1928"/>
                  </a:lnTo>
                  <a:lnTo>
                    <a:pt x="1744" y="1930"/>
                  </a:lnTo>
                  <a:lnTo>
                    <a:pt x="1744" y="1930"/>
                  </a:lnTo>
                  <a:lnTo>
                    <a:pt x="1790" y="1928"/>
                  </a:lnTo>
                  <a:lnTo>
                    <a:pt x="1838" y="1924"/>
                  </a:lnTo>
                  <a:lnTo>
                    <a:pt x="1884" y="1918"/>
                  </a:lnTo>
                  <a:lnTo>
                    <a:pt x="1928" y="1910"/>
                  </a:lnTo>
                  <a:lnTo>
                    <a:pt x="1972" y="1898"/>
                  </a:lnTo>
                  <a:lnTo>
                    <a:pt x="2012" y="1884"/>
                  </a:lnTo>
                  <a:lnTo>
                    <a:pt x="2052" y="1870"/>
                  </a:lnTo>
                  <a:lnTo>
                    <a:pt x="2092" y="1852"/>
                  </a:lnTo>
                  <a:lnTo>
                    <a:pt x="2092" y="1852"/>
                  </a:lnTo>
                  <a:lnTo>
                    <a:pt x="2122" y="1862"/>
                  </a:lnTo>
                  <a:lnTo>
                    <a:pt x="2154" y="1870"/>
                  </a:lnTo>
                  <a:lnTo>
                    <a:pt x="2186" y="1878"/>
                  </a:lnTo>
                  <a:lnTo>
                    <a:pt x="2218" y="1884"/>
                  </a:lnTo>
                  <a:lnTo>
                    <a:pt x="2252" y="1890"/>
                  </a:lnTo>
                  <a:lnTo>
                    <a:pt x="2286" y="1892"/>
                  </a:lnTo>
                  <a:lnTo>
                    <a:pt x="2322" y="1896"/>
                  </a:lnTo>
                  <a:lnTo>
                    <a:pt x="2358" y="1896"/>
                  </a:lnTo>
                  <a:lnTo>
                    <a:pt x="2358" y="1896"/>
                  </a:lnTo>
                  <a:lnTo>
                    <a:pt x="2402" y="1894"/>
                  </a:lnTo>
                  <a:lnTo>
                    <a:pt x="2448" y="1892"/>
                  </a:lnTo>
                  <a:lnTo>
                    <a:pt x="2492" y="1886"/>
                  </a:lnTo>
                  <a:lnTo>
                    <a:pt x="2534" y="1878"/>
                  </a:lnTo>
                  <a:lnTo>
                    <a:pt x="2576" y="1866"/>
                  </a:lnTo>
                  <a:lnTo>
                    <a:pt x="2616" y="1854"/>
                  </a:lnTo>
                  <a:lnTo>
                    <a:pt x="2654" y="1840"/>
                  </a:lnTo>
                  <a:lnTo>
                    <a:pt x="2692" y="1824"/>
                  </a:lnTo>
                  <a:lnTo>
                    <a:pt x="2726" y="1806"/>
                  </a:lnTo>
                  <a:lnTo>
                    <a:pt x="2760" y="1788"/>
                  </a:lnTo>
                  <a:lnTo>
                    <a:pt x="2792" y="1766"/>
                  </a:lnTo>
                  <a:lnTo>
                    <a:pt x="2822" y="1744"/>
                  </a:lnTo>
                  <a:lnTo>
                    <a:pt x="2850" y="1720"/>
                  </a:lnTo>
                  <a:lnTo>
                    <a:pt x="2874" y="1694"/>
                  </a:lnTo>
                  <a:lnTo>
                    <a:pt x="2898" y="1666"/>
                  </a:lnTo>
                  <a:lnTo>
                    <a:pt x="2918" y="1638"/>
                  </a:lnTo>
                  <a:lnTo>
                    <a:pt x="2918" y="1638"/>
                  </a:lnTo>
                  <a:lnTo>
                    <a:pt x="2978" y="1634"/>
                  </a:lnTo>
                  <a:lnTo>
                    <a:pt x="3038" y="1626"/>
                  </a:lnTo>
                  <a:lnTo>
                    <a:pt x="3094" y="1612"/>
                  </a:lnTo>
                  <a:lnTo>
                    <a:pt x="3150" y="1596"/>
                  </a:lnTo>
                  <a:lnTo>
                    <a:pt x="3200" y="1576"/>
                  </a:lnTo>
                  <a:lnTo>
                    <a:pt x="3250" y="1552"/>
                  </a:lnTo>
                  <a:lnTo>
                    <a:pt x="3294" y="1526"/>
                  </a:lnTo>
                  <a:lnTo>
                    <a:pt x="3336" y="1496"/>
                  </a:lnTo>
                  <a:lnTo>
                    <a:pt x="3374" y="1464"/>
                  </a:lnTo>
                  <a:lnTo>
                    <a:pt x="3408" y="1428"/>
                  </a:lnTo>
                  <a:lnTo>
                    <a:pt x="3424" y="1410"/>
                  </a:lnTo>
                  <a:lnTo>
                    <a:pt x="3438" y="1392"/>
                  </a:lnTo>
                  <a:lnTo>
                    <a:pt x="3450" y="1372"/>
                  </a:lnTo>
                  <a:lnTo>
                    <a:pt x="3462" y="1352"/>
                  </a:lnTo>
                  <a:lnTo>
                    <a:pt x="3474" y="1332"/>
                  </a:lnTo>
                  <a:lnTo>
                    <a:pt x="3482" y="1312"/>
                  </a:lnTo>
                  <a:lnTo>
                    <a:pt x="3490" y="1290"/>
                  </a:lnTo>
                  <a:lnTo>
                    <a:pt x="3496" y="1268"/>
                  </a:lnTo>
                  <a:lnTo>
                    <a:pt x="3502" y="1246"/>
                  </a:lnTo>
                  <a:lnTo>
                    <a:pt x="3506" y="1224"/>
                  </a:lnTo>
                  <a:lnTo>
                    <a:pt x="3508" y="1202"/>
                  </a:lnTo>
                  <a:lnTo>
                    <a:pt x="3508" y="1178"/>
                  </a:lnTo>
                  <a:lnTo>
                    <a:pt x="3508" y="1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8763120" y="10723680"/>
              <a:ext cx="5654520" cy="3225600"/>
            </a:xfrm>
            <a:custGeom>
              <a:avLst/>
              <a:gdLst>
                <a:gd name="textAreaLeft" fmla="*/ 0 w 5654520"/>
                <a:gd name="textAreaRight" fmla="*/ 5654880 w 5654520"/>
                <a:gd name="textAreaTop" fmla="*/ 0 h 3225600"/>
                <a:gd name="textAreaBottom" fmla="*/ 3225960 h 3225600"/>
              </a:gdLst>
              <a:ahLst/>
              <a:rect l="textAreaLeft" t="textAreaTop" r="textAreaRight" b="textAreaBottom"/>
              <a:pathLst>
                <a:path w="3562" h="2032">
                  <a:moveTo>
                    <a:pt x="1012" y="2032"/>
                  </a:moveTo>
                  <a:lnTo>
                    <a:pt x="1012" y="2032"/>
                  </a:lnTo>
                  <a:lnTo>
                    <a:pt x="948" y="2030"/>
                  </a:lnTo>
                  <a:lnTo>
                    <a:pt x="884" y="2024"/>
                  </a:lnTo>
                  <a:lnTo>
                    <a:pt x="822" y="2012"/>
                  </a:lnTo>
                  <a:lnTo>
                    <a:pt x="762" y="1998"/>
                  </a:lnTo>
                  <a:lnTo>
                    <a:pt x="704" y="1978"/>
                  </a:lnTo>
                  <a:lnTo>
                    <a:pt x="648" y="1956"/>
                  </a:lnTo>
                  <a:lnTo>
                    <a:pt x="596" y="1930"/>
                  </a:lnTo>
                  <a:lnTo>
                    <a:pt x="570" y="1914"/>
                  </a:lnTo>
                  <a:lnTo>
                    <a:pt x="546" y="1898"/>
                  </a:lnTo>
                  <a:lnTo>
                    <a:pt x="546" y="1898"/>
                  </a:lnTo>
                  <a:lnTo>
                    <a:pt x="502" y="1866"/>
                  </a:lnTo>
                  <a:lnTo>
                    <a:pt x="462" y="1830"/>
                  </a:lnTo>
                  <a:lnTo>
                    <a:pt x="444" y="1812"/>
                  </a:lnTo>
                  <a:lnTo>
                    <a:pt x="426" y="1792"/>
                  </a:lnTo>
                  <a:lnTo>
                    <a:pt x="410" y="1774"/>
                  </a:lnTo>
                  <a:lnTo>
                    <a:pt x="396" y="1754"/>
                  </a:lnTo>
                  <a:lnTo>
                    <a:pt x="382" y="1732"/>
                  </a:lnTo>
                  <a:lnTo>
                    <a:pt x="370" y="1712"/>
                  </a:lnTo>
                  <a:lnTo>
                    <a:pt x="358" y="1690"/>
                  </a:lnTo>
                  <a:lnTo>
                    <a:pt x="348" y="1668"/>
                  </a:lnTo>
                  <a:lnTo>
                    <a:pt x="340" y="1646"/>
                  </a:lnTo>
                  <a:lnTo>
                    <a:pt x="334" y="1624"/>
                  </a:lnTo>
                  <a:lnTo>
                    <a:pt x="328" y="1602"/>
                  </a:lnTo>
                  <a:lnTo>
                    <a:pt x="322" y="1578"/>
                  </a:lnTo>
                  <a:lnTo>
                    <a:pt x="322" y="1578"/>
                  </a:lnTo>
                  <a:lnTo>
                    <a:pt x="286" y="1564"/>
                  </a:lnTo>
                  <a:lnTo>
                    <a:pt x="252" y="1548"/>
                  </a:lnTo>
                  <a:lnTo>
                    <a:pt x="220" y="1530"/>
                  </a:lnTo>
                  <a:lnTo>
                    <a:pt x="188" y="1510"/>
                  </a:lnTo>
                  <a:lnTo>
                    <a:pt x="160" y="1488"/>
                  </a:lnTo>
                  <a:lnTo>
                    <a:pt x="134" y="1466"/>
                  </a:lnTo>
                  <a:lnTo>
                    <a:pt x="110" y="1442"/>
                  </a:lnTo>
                  <a:lnTo>
                    <a:pt x="86" y="1418"/>
                  </a:lnTo>
                  <a:lnTo>
                    <a:pt x="66" y="1392"/>
                  </a:lnTo>
                  <a:lnTo>
                    <a:pt x="50" y="1366"/>
                  </a:lnTo>
                  <a:lnTo>
                    <a:pt x="34" y="1338"/>
                  </a:lnTo>
                  <a:lnTo>
                    <a:pt x="22" y="1308"/>
                  </a:lnTo>
                  <a:lnTo>
                    <a:pt x="12" y="1280"/>
                  </a:lnTo>
                  <a:lnTo>
                    <a:pt x="4" y="1250"/>
                  </a:lnTo>
                  <a:lnTo>
                    <a:pt x="0" y="1220"/>
                  </a:lnTo>
                  <a:lnTo>
                    <a:pt x="0" y="1188"/>
                  </a:lnTo>
                  <a:lnTo>
                    <a:pt x="0" y="1188"/>
                  </a:lnTo>
                  <a:lnTo>
                    <a:pt x="0" y="1164"/>
                  </a:lnTo>
                  <a:lnTo>
                    <a:pt x="2" y="1140"/>
                  </a:lnTo>
                  <a:lnTo>
                    <a:pt x="8" y="1114"/>
                  </a:lnTo>
                  <a:lnTo>
                    <a:pt x="14" y="1092"/>
                  </a:lnTo>
                  <a:lnTo>
                    <a:pt x="22" y="1068"/>
                  </a:lnTo>
                  <a:lnTo>
                    <a:pt x="30" y="1044"/>
                  </a:lnTo>
                  <a:lnTo>
                    <a:pt x="42" y="1022"/>
                  </a:lnTo>
                  <a:lnTo>
                    <a:pt x="56" y="1000"/>
                  </a:lnTo>
                  <a:lnTo>
                    <a:pt x="70" y="980"/>
                  </a:lnTo>
                  <a:lnTo>
                    <a:pt x="86" y="958"/>
                  </a:lnTo>
                  <a:lnTo>
                    <a:pt x="104" y="938"/>
                  </a:lnTo>
                  <a:lnTo>
                    <a:pt x="122" y="920"/>
                  </a:lnTo>
                  <a:lnTo>
                    <a:pt x="144" y="902"/>
                  </a:lnTo>
                  <a:lnTo>
                    <a:pt x="166" y="884"/>
                  </a:lnTo>
                  <a:lnTo>
                    <a:pt x="188" y="866"/>
                  </a:lnTo>
                  <a:lnTo>
                    <a:pt x="214" y="850"/>
                  </a:lnTo>
                  <a:lnTo>
                    <a:pt x="214" y="850"/>
                  </a:lnTo>
                  <a:lnTo>
                    <a:pt x="206" y="824"/>
                  </a:lnTo>
                  <a:lnTo>
                    <a:pt x="200" y="798"/>
                  </a:lnTo>
                  <a:lnTo>
                    <a:pt x="198" y="770"/>
                  </a:lnTo>
                  <a:lnTo>
                    <a:pt x="196" y="744"/>
                  </a:lnTo>
                  <a:lnTo>
                    <a:pt x="196" y="744"/>
                  </a:lnTo>
                  <a:lnTo>
                    <a:pt x="198" y="718"/>
                  </a:lnTo>
                  <a:lnTo>
                    <a:pt x="200" y="692"/>
                  </a:lnTo>
                  <a:lnTo>
                    <a:pt x="206" y="666"/>
                  </a:lnTo>
                  <a:lnTo>
                    <a:pt x="212" y="640"/>
                  </a:lnTo>
                  <a:lnTo>
                    <a:pt x="222" y="614"/>
                  </a:lnTo>
                  <a:lnTo>
                    <a:pt x="234" y="590"/>
                  </a:lnTo>
                  <a:lnTo>
                    <a:pt x="246" y="566"/>
                  </a:lnTo>
                  <a:lnTo>
                    <a:pt x="262" y="542"/>
                  </a:lnTo>
                  <a:lnTo>
                    <a:pt x="278" y="518"/>
                  </a:lnTo>
                  <a:lnTo>
                    <a:pt x="296" y="494"/>
                  </a:lnTo>
                  <a:lnTo>
                    <a:pt x="318" y="472"/>
                  </a:lnTo>
                  <a:lnTo>
                    <a:pt x="340" y="450"/>
                  </a:lnTo>
                  <a:lnTo>
                    <a:pt x="364" y="430"/>
                  </a:lnTo>
                  <a:lnTo>
                    <a:pt x="390" y="410"/>
                  </a:lnTo>
                  <a:lnTo>
                    <a:pt x="418" y="390"/>
                  </a:lnTo>
                  <a:lnTo>
                    <a:pt x="446" y="372"/>
                  </a:lnTo>
                  <a:lnTo>
                    <a:pt x="446" y="372"/>
                  </a:lnTo>
                  <a:lnTo>
                    <a:pt x="476" y="354"/>
                  </a:lnTo>
                  <a:lnTo>
                    <a:pt x="508" y="338"/>
                  </a:lnTo>
                  <a:lnTo>
                    <a:pt x="540" y="322"/>
                  </a:lnTo>
                  <a:lnTo>
                    <a:pt x="574" y="308"/>
                  </a:lnTo>
                  <a:lnTo>
                    <a:pt x="608" y="294"/>
                  </a:lnTo>
                  <a:lnTo>
                    <a:pt x="644" y="282"/>
                  </a:lnTo>
                  <a:lnTo>
                    <a:pt x="680" y="270"/>
                  </a:lnTo>
                  <a:lnTo>
                    <a:pt x="716" y="260"/>
                  </a:lnTo>
                  <a:lnTo>
                    <a:pt x="754" y="252"/>
                  </a:lnTo>
                  <a:lnTo>
                    <a:pt x="792" y="244"/>
                  </a:lnTo>
                  <a:lnTo>
                    <a:pt x="832" y="238"/>
                  </a:lnTo>
                  <a:lnTo>
                    <a:pt x="872" y="232"/>
                  </a:lnTo>
                  <a:lnTo>
                    <a:pt x="912" y="228"/>
                  </a:lnTo>
                  <a:lnTo>
                    <a:pt x="952" y="224"/>
                  </a:lnTo>
                  <a:lnTo>
                    <a:pt x="992" y="222"/>
                  </a:lnTo>
                  <a:lnTo>
                    <a:pt x="1034" y="222"/>
                  </a:lnTo>
                  <a:lnTo>
                    <a:pt x="1034" y="222"/>
                  </a:lnTo>
                  <a:lnTo>
                    <a:pt x="1100" y="224"/>
                  </a:lnTo>
                  <a:lnTo>
                    <a:pt x="1100" y="224"/>
                  </a:lnTo>
                  <a:lnTo>
                    <a:pt x="1128" y="198"/>
                  </a:lnTo>
                  <a:lnTo>
                    <a:pt x="1158" y="174"/>
                  </a:lnTo>
                  <a:lnTo>
                    <a:pt x="1188" y="150"/>
                  </a:lnTo>
                  <a:lnTo>
                    <a:pt x="1220" y="128"/>
                  </a:lnTo>
                  <a:lnTo>
                    <a:pt x="1254" y="108"/>
                  </a:lnTo>
                  <a:lnTo>
                    <a:pt x="1288" y="90"/>
                  </a:lnTo>
                  <a:lnTo>
                    <a:pt x="1324" y="74"/>
                  </a:lnTo>
                  <a:lnTo>
                    <a:pt x="1362" y="58"/>
                  </a:lnTo>
                  <a:lnTo>
                    <a:pt x="1398" y="44"/>
                  </a:lnTo>
                  <a:lnTo>
                    <a:pt x="1438" y="34"/>
                  </a:lnTo>
                  <a:lnTo>
                    <a:pt x="1476" y="24"/>
                  </a:lnTo>
                  <a:lnTo>
                    <a:pt x="1516" y="14"/>
                  </a:lnTo>
                  <a:lnTo>
                    <a:pt x="1556" y="8"/>
                  </a:lnTo>
                  <a:lnTo>
                    <a:pt x="1598" y="4"/>
                  </a:lnTo>
                  <a:lnTo>
                    <a:pt x="1640" y="0"/>
                  </a:lnTo>
                  <a:lnTo>
                    <a:pt x="1682" y="0"/>
                  </a:lnTo>
                  <a:lnTo>
                    <a:pt x="1682" y="0"/>
                  </a:lnTo>
                  <a:lnTo>
                    <a:pt x="1728" y="2"/>
                  </a:lnTo>
                  <a:lnTo>
                    <a:pt x="1774" y="4"/>
                  </a:lnTo>
                  <a:lnTo>
                    <a:pt x="1818" y="10"/>
                  </a:lnTo>
                  <a:lnTo>
                    <a:pt x="1864" y="18"/>
                  </a:lnTo>
                  <a:lnTo>
                    <a:pt x="1906" y="28"/>
                  </a:lnTo>
                  <a:lnTo>
                    <a:pt x="1950" y="40"/>
                  </a:lnTo>
                  <a:lnTo>
                    <a:pt x="1992" y="54"/>
                  </a:lnTo>
                  <a:lnTo>
                    <a:pt x="2032" y="70"/>
                  </a:lnTo>
                  <a:lnTo>
                    <a:pt x="2072" y="90"/>
                  </a:lnTo>
                  <a:lnTo>
                    <a:pt x="2110" y="110"/>
                  </a:lnTo>
                  <a:lnTo>
                    <a:pt x="2146" y="132"/>
                  </a:lnTo>
                  <a:lnTo>
                    <a:pt x="2182" y="156"/>
                  </a:lnTo>
                  <a:lnTo>
                    <a:pt x="2214" y="180"/>
                  </a:lnTo>
                  <a:lnTo>
                    <a:pt x="2246" y="208"/>
                  </a:lnTo>
                  <a:lnTo>
                    <a:pt x="2276" y="238"/>
                  </a:lnTo>
                  <a:lnTo>
                    <a:pt x="2304" y="268"/>
                  </a:lnTo>
                  <a:lnTo>
                    <a:pt x="2304" y="268"/>
                  </a:lnTo>
                  <a:lnTo>
                    <a:pt x="2336" y="258"/>
                  </a:lnTo>
                  <a:lnTo>
                    <a:pt x="2370" y="248"/>
                  </a:lnTo>
                  <a:lnTo>
                    <a:pt x="2404" y="240"/>
                  </a:lnTo>
                  <a:lnTo>
                    <a:pt x="2438" y="234"/>
                  </a:lnTo>
                  <a:lnTo>
                    <a:pt x="2474" y="228"/>
                  </a:lnTo>
                  <a:lnTo>
                    <a:pt x="2508" y="224"/>
                  </a:lnTo>
                  <a:lnTo>
                    <a:pt x="2544" y="222"/>
                  </a:lnTo>
                  <a:lnTo>
                    <a:pt x="2580" y="222"/>
                  </a:lnTo>
                  <a:lnTo>
                    <a:pt x="2580" y="222"/>
                  </a:lnTo>
                  <a:lnTo>
                    <a:pt x="2614" y="222"/>
                  </a:lnTo>
                  <a:lnTo>
                    <a:pt x="2648" y="224"/>
                  </a:lnTo>
                  <a:lnTo>
                    <a:pt x="2680" y="228"/>
                  </a:lnTo>
                  <a:lnTo>
                    <a:pt x="2712" y="232"/>
                  </a:lnTo>
                  <a:lnTo>
                    <a:pt x="2744" y="238"/>
                  </a:lnTo>
                  <a:lnTo>
                    <a:pt x="2774" y="244"/>
                  </a:lnTo>
                  <a:lnTo>
                    <a:pt x="2804" y="252"/>
                  </a:lnTo>
                  <a:lnTo>
                    <a:pt x="2834" y="260"/>
                  </a:lnTo>
                  <a:lnTo>
                    <a:pt x="2862" y="270"/>
                  </a:lnTo>
                  <a:lnTo>
                    <a:pt x="2890" y="280"/>
                  </a:lnTo>
                  <a:lnTo>
                    <a:pt x="2918" y="292"/>
                  </a:lnTo>
                  <a:lnTo>
                    <a:pt x="2944" y="306"/>
                  </a:lnTo>
                  <a:lnTo>
                    <a:pt x="2970" y="318"/>
                  </a:lnTo>
                  <a:lnTo>
                    <a:pt x="2994" y="334"/>
                  </a:lnTo>
                  <a:lnTo>
                    <a:pt x="3018" y="348"/>
                  </a:lnTo>
                  <a:lnTo>
                    <a:pt x="3042" y="364"/>
                  </a:lnTo>
                  <a:lnTo>
                    <a:pt x="3062" y="382"/>
                  </a:lnTo>
                  <a:lnTo>
                    <a:pt x="3084" y="400"/>
                  </a:lnTo>
                  <a:lnTo>
                    <a:pt x="3102" y="418"/>
                  </a:lnTo>
                  <a:lnTo>
                    <a:pt x="3120" y="436"/>
                  </a:lnTo>
                  <a:lnTo>
                    <a:pt x="3138" y="456"/>
                  </a:lnTo>
                  <a:lnTo>
                    <a:pt x="3154" y="478"/>
                  </a:lnTo>
                  <a:lnTo>
                    <a:pt x="3168" y="498"/>
                  </a:lnTo>
                  <a:lnTo>
                    <a:pt x="3180" y="520"/>
                  </a:lnTo>
                  <a:lnTo>
                    <a:pt x="3192" y="542"/>
                  </a:lnTo>
                  <a:lnTo>
                    <a:pt x="3202" y="564"/>
                  </a:lnTo>
                  <a:lnTo>
                    <a:pt x="3212" y="588"/>
                  </a:lnTo>
                  <a:lnTo>
                    <a:pt x="3218" y="612"/>
                  </a:lnTo>
                  <a:lnTo>
                    <a:pt x="3224" y="636"/>
                  </a:lnTo>
                  <a:lnTo>
                    <a:pt x="3228" y="660"/>
                  </a:lnTo>
                  <a:lnTo>
                    <a:pt x="3232" y="684"/>
                  </a:lnTo>
                  <a:lnTo>
                    <a:pt x="3232" y="710"/>
                  </a:lnTo>
                  <a:lnTo>
                    <a:pt x="3232" y="710"/>
                  </a:lnTo>
                  <a:lnTo>
                    <a:pt x="3230" y="744"/>
                  </a:lnTo>
                  <a:lnTo>
                    <a:pt x="3226" y="778"/>
                  </a:lnTo>
                  <a:lnTo>
                    <a:pt x="3226" y="778"/>
                  </a:lnTo>
                  <a:lnTo>
                    <a:pt x="3264" y="796"/>
                  </a:lnTo>
                  <a:lnTo>
                    <a:pt x="3300" y="814"/>
                  </a:lnTo>
                  <a:lnTo>
                    <a:pt x="3334" y="834"/>
                  </a:lnTo>
                  <a:lnTo>
                    <a:pt x="3366" y="856"/>
                  </a:lnTo>
                  <a:lnTo>
                    <a:pt x="3396" y="880"/>
                  </a:lnTo>
                  <a:lnTo>
                    <a:pt x="3422" y="904"/>
                  </a:lnTo>
                  <a:lnTo>
                    <a:pt x="3448" y="930"/>
                  </a:lnTo>
                  <a:lnTo>
                    <a:pt x="3472" y="956"/>
                  </a:lnTo>
                  <a:lnTo>
                    <a:pt x="3492" y="984"/>
                  </a:lnTo>
                  <a:lnTo>
                    <a:pt x="3510" y="1014"/>
                  </a:lnTo>
                  <a:lnTo>
                    <a:pt x="3524" y="1044"/>
                  </a:lnTo>
                  <a:lnTo>
                    <a:pt x="3538" y="1074"/>
                  </a:lnTo>
                  <a:lnTo>
                    <a:pt x="3548" y="1106"/>
                  </a:lnTo>
                  <a:lnTo>
                    <a:pt x="3556" y="1138"/>
                  </a:lnTo>
                  <a:lnTo>
                    <a:pt x="3560" y="1172"/>
                  </a:lnTo>
                  <a:lnTo>
                    <a:pt x="3562" y="1204"/>
                  </a:lnTo>
                  <a:lnTo>
                    <a:pt x="3562" y="1204"/>
                  </a:lnTo>
                  <a:lnTo>
                    <a:pt x="3560" y="1228"/>
                  </a:lnTo>
                  <a:lnTo>
                    <a:pt x="3558" y="1252"/>
                  </a:lnTo>
                  <a:lnTo>
                    <a:pt x="3554" y="1276"/>
                  </a:lnTo>
                  <a:lnTo>
                    <a:pt x="3550" y="1298"/>
                  </a:lnTo>
                  <a:lnTo>
                    <a:pt x="3542" y="1320"/>
                  </a:lnTo>
                  <a:lnTo>
                    <a:pt x="3534" y="1342"/>
                  </a:lnTo>
                  <a:lnTo>
                    <a:pt x="3526" y="1364"/>
                  </a:lnTo>
                  <a:lnTo>
                    <a:pt x="3514" y="1386"/>
                  </a:lnTo>
                  <a:lnTo>
                    <a:pt x="3502" y="1406"/>
                  </a:lnTo>
                  <a:lnTo>
                    <a:pt x="3490" y="1426"/>
                  </a:lnTo>
                  <a:lnTo>
                    <a:pt x="3476" y="1446"/>
                  </a:lnTo>
                  <a:lnTo>
                    <a:pt x="3460" y="1466"/>
                  </a:lnTo>
                  <a:lnTo>
                    <a:pt x="3444" y="1484"/>
                  </a:lnTo>
                  <a:lnTo>
                    <a:pt x="3426" y="1502"/>
                  </a:lnTo>
                  <a:lnTo>
                    <a:pt x="3386" y="1536"/>
                  </a:lnTo>
                  <a:lnTo>
                    <a:pt x="3344" y="1568"/>
                  </a:lnTo>
                  <a:lnTo>
                    <a:pt x="3298" y="1596"/>
                  </a:lnTo>
                  <a:lnTo>
                    <a:pt x="3248" y="1622"/>
                  </a:lnTo>
                  <a:lnTo>
                    <a:pt x="3196" y="1642"/>
                  </a:lnTo>
                  <a:lnTo>
                    <a:pt x="3140" y="1660"/>
                  </a:lnTo>
                  <a:lnTo>
                    <a:pt x="3082" y="1674"/>
                  </a:lnTo>
                  <a:lnTo>
                    <a:pt x="3020" y="1684"/>
                  </a:lnTo>
                  <a:lnTo>
                    <a:pt x="2958" y="1690"/>
                  </a:lnTo>
                  <a:lnTo>
                    <a:pt x="2958" y="1690"/>
                  </a:lnTo>
                  <a:lnTo>
                    <a:pt x="2936" y="1720"/>
                  </a:lnTo>
                  <a:lnTo>
                    <a:pt x="2910" y="1748"/>
                  </a:lnTo>
                  <a:lnTo>
                    <a:pt x="2884" y="1774"/>
                  </a:lnTo>
                  <a:lnTo>
                    <a:pt x="2854" y="1798"/>
                  </a:lnTo>
                  <a:lnTo>
                    <a:pt x="2824" y="1820"/>
                  </a:lnTo>
                  <a:lnTo>
                    <a:pt x="2790" y="1842"/>
                  </a:lnTo>
                  <a:lnTo>
                    <a:pt x="2756" y="1862"/>
                  </a:lnTo>
                  <a:lnTo>
                    <a:pt x="2720" y="1880"/>
                  </a:lnTo>
                  <a:lnTo>
                    <a:pt x="2682" y="1894"/>
                  </a:lnTo>
                  <a:lnTo>
                    <a:pt x="2642" y="1908"/>
                  </a:lnTo>
                  <a:lnTo>
                    <a:pt x="2602" y="1920"/>
                  </a:lnTo>
                  <a:lnTo>
                    <a:pt x="2560" y="1930"/>
                  </a:lnTo>
                  <a:lnTo>
                    <a:pt x="2516" y="1938"/>
                  </a:lnTo>
                  <a:lnTo>
                    <a:pt x="2472" y="1944"/>
                  </a:lnTo>
                  <a:lnTo>
                    <a:pt x="2428" y="1948"/>
                  </a:lnTo>
                  <a:lnTo>
                    <a:pt x="2384" y="1948"/>
                  </a:lnTo>
                  <a:lnTo>
                    <a:pt x="2384" y="1948"/>
                  </a:lnTo>
                  <a:lnTo>
                    <a:pt x="2348" y="1948"/>
                  </a:lnTo>
                  <a:lnTo>
                    <a:pt x="2314" y="1946"/>
                  </a:lnTo>
                  <a:lnTo>
                    <a:pt x="2282" y="1942"/>
                  </a:lnTo>
                  <a:lnTo>
                    <a:pt x="2248" y="1938"/>
                  </a:lnTo>
                  <a:lnTo>
                    <a:pt x="2214" y="1932"/>
                  </a:lnTo>
                  <a:lnTo>
                    <a:pt x="2182" y="1924"/>
                  </a:lnTo>
                  <a:lnTo>
                    <a:pt x="2150" y="1916"/>
                  </a:lnTo>
                  <a:lnTo>
                    <a:pt x="2118" y="1906"/>
                  </a:lnTo>
                  <a:lnTo>
                    <a:pt x="2118" y="1906"/>
                  </a:lnTo>
                  <a:lnTo>
                    <a:pt x="2078" y="1924"/>
                  </a:lnTo>
                  <a:lnTo>
                    <a:pt x="2038" y="1940"/>
                  </a:lnTo>
                  <a:lnTo>
                    <a:pt x="1996" y="1952"/>
                  </a:lnTo>
                  <a:lnTo>
                    <a:pt x="1952" y="1964"/>
                  </a:lnTo>
                  <a:lnTo>
                    <a:pt x="1906" y="1972"/>
                  </a:lnTo>
                  <a:lnTo>
                    <a:pt x="1862" y="1978"/>
                  </a:lnTo>
                  <a:lnTo>
                    <a:pt x="1816" y="1982"/>
                  </a:lnTo>
                  <a:lnTo>
                    <a:pt x="1770" y="1982"/>
                  </a:lnTo>
                  <a:lnTo>
                    <a:pt x="1770" y="1982"/>
                  </a:lnTo>
                  <a:lnTo>
                    <a:pt x="1726" y="1982"/>
                  </a:lnTo>
                  <a:lnTo>
                    <a:pt x="1684" y="1978"/>
                  </a:lnTo>
                  <a:lnTo>
                    <a:pt x="1644" y="1974"/>
                  </a:lnTo>
                  <a:lnTo>
                    <a:pt x="1602" y="1966"/>
                  </a:lnTo>
                  <a:lnTo>
                    <a:pt x="1562" y="1958"/>
                  </a:lnTo>
                  <a:lnTo>
                    <a:pt x="1522" y="1946"/>
                  </a:lnTo>
                  <a:lnTo>
                    <a:pt x="1484" y="1934"/>
                  </a:lnTo>
                  <a:lnTo>
                    <a:pt x="1446" y="1918"/>
                  </a:lnTo>
                  <a:lnTo>
                    <a:pt x="1446" y="1918"/>
                  </a:lnTo>
                  <a:lnTo>
                    <a:pt x="1400" y="1944"/>
                  </a:lnTo>
                  <a:lnTo>
                    <a:pt x="1350" y="1968"/>
                  </a:lnTo>
                  <a:lnTo>
                    <a:pt x="1296" y="1988"/>
                  </a:lnTo>
                  <a:lnTo>
                    <a:pt x="1242" y="2004"/>
                  </a:lnTo>
                  <a:lnTo>
                    <a:pt x="1186" y="2016"/>
                  </a:lnTo>
                  <a:lnTo>
                    <a:pt x="1130" y="2026"/>
                  </a:lnTo>
                  <a:lnTo>
                    <a:pt x="1072" y="2030"/>
                  </a:lnTo>
                  <a:lnTo>
                    <a:pt x="1012" y="2032"/>
                  </a:lnTo>
                  <a:lnTo>
                    <a:pt x="1012" y="2032"/>
                  </a:lnTo>
                  <a:close/>
                  <a:moveTo>
                    <a:pt x="1034" y="274"/>
                  </a:moveTo>
                  <a:lnTo>
                    <a:pt x="1034" y="274"/>
                  </a:lnTo>
                  <a:lnTo>
                    <a:pt x="994" y="276"/>
                  </a:lnTo>
                  <a:lnTo>
                    <a:pt x="954" y="278"/>
                  </a:lnTo>
                  <a:lnTo>
                    <a:pt x="914" y="280"/>
                  </a:lnTo>
                  <a:lnTo>
                    <a:pt x="876" y="284"/>
                  </a:lnTo>
                  <a:lnTo>
                    <a:pt x="802" y="296"/>
                  </a:lnTo>
                  <a:lnTo>
                    <a:pt x="730" y="312"/>
                  </a:lnTo>
                  <a:lnTo>
                    <a:pt x="660" y="332"/>
                  </a:lnTo>
                  <a:lnTo>
                    <a:pt x="628" y="342"/>
                  </a:lnTo>
                  <a:lnTo>
                    <a:pt x="596" y="356"/>
                  </a:lnTo>
                  <a:lnTo>
                    <a:pt x="564" y="368"/>
                  </a:lnTo>
                  <a:lnTo>
                    <a:pt x="536" y="382"/>
                  </a:lnTo>
                  <a:lnTo>
                    <a:pt x="506" y="396"/>
                  </a:lnTo>
                  <a:lnTo>
                    <a:pt x="480" y="412"/>
                  </a:lnTo>
                  <a:lnTo>
                    <a:pt x="454" y="428"/>
                  </a:lnTo>
                  <a:lnTo>
                    <a:pt x="428" y="446"/>
                  </a:lnTo>
                  <a:lnTo>
                    <a:pt x="406" y="464"/>
                  </a:lnTo>
                  <a:lnTo>
                    <a:pt x="384" y="482"/>
                  </a:lnTo>
                  <a:lnTo>
                    <a:pt x="364" y="500"/>
                  </a:lnTo>
                  <a:lnTo>
                    <a:pt x="344" y="520"/>
                  </a:lnTo>
                  <a:lnTo>
                    <a:pt x="326" y="540"/>
                  </a:lnTo>
                  <a:lnTo>
                    <a:pt x="312" y="562"/>
                  </a:lnTo>
                  <a:lnTo>
                    <a:pt x="296" y="582"/>
                  </a:lnTo>
                  <a:lnTo>
                    <a:pt x="284" y="604"/>
                  </a:lnTo>
                  <a:lnTo>
                    <a:pt x="274" y="626"/>
                  </a:lnTo>
                  <a:lnTo>
                    <a:pt x="266" y="650"/>
                  </a:lnTo>
                  <a:lnTo>
                    <a:pt x="258" y="672"/>
                  </a:lnTo>
                  <a:lnTo>
                    <a:pt x="254" y="696"/>
                  </a:lnTo>
                  <a:lnTo>
                    <a:pt x="250" y="720"/>
                  </a:lnTo>
                  <a:lnTo>
                    <a:pt x="250" y="744"/>
                  </a:lnTo>
                  <a:lnTo>
                    <a:pt x="250" y="744"/>
                  </a:lnTo>
                  <a:lnTo>
                    <a:pt x="250" y="772"/>
                  </a:lnTo>
                  <a:lnTo>
                    <a:pt x="254" y="798"/>
                  </a:lnTo>
                  <a:lnTo>
                    <a:pt x="262" y="826"/>
                  </a:lnTo>
                  <a:lnTo>
                    <a:pt x="270" y="852"/>
                  </a:lnTo>
                  <a:lnTo>
                    <a:pt x="280" y="874"/>
                  </a:lnTo>
                  <a:lnTo>
                    <a:pt x="258" y="886"/>
                  </a:lnTo>
                  <a:lnTo>
                    <a:pt x="258" y="886"/>
                  </a:lnTo>
                  <a:lnTo>
                    <a:pt x="234" y="900"/>
                  </a:lnTo>
                  <a:lnTo>
                    <a:pt x="212" y="914"/>
                  </a:lnTo>
                  <a:lnTo>
                    <a:pt x="190" y="930"/>
                  </a:lnTo>
                  <a:lnTo>
                    <a:pt x="172" y="946"/>
                  </a:lnTo>
                  <a:lnTo>
                    <a:pt x="152" y="964"/>
                  </a:lnTo>
                  <a:lnTo>
                    <a:pt x="136" y="982"/>
                  </a:lnTo>
                  <a:lnTo>
                    <a:pt x="120" y="1000"/>
                  </a:lnTo>
                  <a:lnTo>
                    <a:pt x="106" y="1020"/>
                  </a:lnTo>
                  <a:lnTo>
                    <a:pt x="94" y="1040"/>
                  </a:lnTo>
                  <a:lnTo>
                    <a:pt x="82" y="1060"/>
                  </a:lnTo>
                  <a:lnTo>
                    <a:pt x="74" y="1080"/>
                  </a:lnTo>
                  <a:lnTo>
                    <a:pt x="66" y="1100"/>
                  </a:lnTo>
                  <a:lnTo>
                    <a:pt x="60" y="1122"/>
                  </a:lnTo>
                  <a:lnTo>
                    <a:pt x="56" y="1144"/>
                  </a:lnTo>
                  <a:lnTo>
                    <a:pt x="52" y="1166"/>
                  </a:lnTo>
                  <a:lnTo>
                    <a:pt x="52" y="1188"/>
                  </a:lnTo>
                  <a:lnTo>
                    <a:pt x="52" y="1188"/>
                  </a:lnTo>
                  <a:lnTo>
                    <a:pt x="54" y="1216"/>
                  </a:lnTo>
                  <a:lnTo>
                    <a:pt x="58" y="1242"/>
                  </a:lnTo>
                  <a:lnTo>
                    <a:pt x="64" y="1270"/>
                  </a:lnTo>
                  <a:lnTo>
                    <a:pt x="74" y="1296"/>
                  </a:lnTo>
                  <a:lnTo>
                    <a:pt x="86" y="1320"/>
                  </a:lnTo>
                  <a:lnTo>
                    <a:pt x="100" y="1346"/>
                  </a:lnTo>
                  <a:lnTo>
                    <a:pt x="116" y="1370"/>
                  </a:lnTo>
                  <a:lnTo>
                    <a:pt x="134" y="1392"/>
                  </a:lnTo>
                  <a:lnTo>
                    <a:pt x="156" y="1414"/>
                  </a:lnTo>
                  <a:lnTo>
                    <a:pt x="178" y="1436"/>
                  </a:lnTo>
                  <a:lnTo>
                    <a:pt x="204" y="1456"/>
                  </a:lnTo>
                  <a:lnTo>
                    <a:pt x="230" y="1474"/>
                  </a:lnTo>
                  <a:lnTo>
                    <a:pt x="258" y="1492"/>
                  </a:lnTo>
                  <a:lnTo>
                    <a:pt x="290" y="1506"/>
                  </a:lnTo>
                  <a:lnTo>
                    <a:pt x="322" y="1522"/>
                  </a:lnTo>
                  <a:lnTo>
                    <a:pt x="354" y="1534"/>
                  </a:lnTo>
                  <a:lnTo>
                    <a:pt x="370" y="1540"/>
                  </a:lnTo>
                  <a:lnTo>
                    <a:pt x="372" y="1556"/>
                  </a:lnTo>
                  <a:lnTo>
                    <a:pt x="372" y="1556"/>
                  </a:lnTo>
                  <a:lnTo>
                    <a:pt x="376" y="1576"/>
                  </a:lnTo>
                  <a:lnTo>
                    <a:pt x="380" y="1598"/>
                  </a:lnTo>
                  <a:lnTo>
                    <a:pt x="386" y="1618"/>
                  </a:lnTo>
                  <a:lnTo>
                    <a:pt x="394" y="1640"/>
                  </a:lnTo>
                  <a:lnTo>
                    <a:pt x="402" y="1660"/>
                  </a:lnTo>
                  <a:lnTo>
                    <a:pt x="412" y="1680"/>
                  </a:lnTo>
                  <a:lnTo>
                    <a:pt x="424" y="1700"/>
                  </a:lnTo>
                  <a:lnTo>
                    <a:pt x="436" y="1718"/>
                  </a:lnTo>
                  <a:lnTo>
                    <a:pt x="450" y="1738"/>
                  </a:lnTo>
                  <a:lnTo>
                    <a:pt x="464" y="1756"/>
                  </a:lnTo>
                  <a:lnTo>
                    <a:pt x="496" y="1790"/>
                  </a:lnTo>
                  <a:lnTo>
                    <a:pt x="534" y="1824"/>
                  </a:lnTo>
                  <a:lnTo>
                    <a:pt x="576" y="1854"/>
                  </a:lnTo>
                  <a:lnTo>
                    <a:pt x="576" y="1854"/>
                  </a:lnTo>
                  <a:lnTo>
                    <a:pt x="622" y="1884"/>
                  </a:lnTo>
                  <a:lnTo>
                    <a:pt x="670" y="1908"/>
                  </a:lnTo>
                  <a:lnTo>
                    <a:pt x="724" y="1930"/>
                  </a:lnTo>
                  <a:lnTo>
                    <a:pt x="778" y="1948"/>
                  </a:lnTo>
                  <a:lnTo>
                    <a:pt x="834" y="1962"/>
                  </a:lnTo>
                  <a:lnTo>
                    <a:pt x="892" y="1972"/>
                  </a:lnTo>
                  <a:lnTo>
                    <a:pt x="952" y="1978"/>
                  </a:lnTo>
                  <a:lnTo>
                    <a:pt x="1012" y="1980"/>
                  </a:lnTo>
                  <a:lnTo>
                    <a:pt x="1012" y="1980"/>
                  </a:lnTo>
                  <a:lnTo>
                    <a:pt x="1070" y="1978"/>
                  </a:lnTo>
                  <a:lnTo>
                    <a:pt x="1126" y="1972"/>
                  </a:lnTo>
                  <a:lnTo>
                    <a:pt x="1182" y="1964"/>
                  </a:lnTo>
                  <a:lnTo>
                    <a:pt x="1236" y="1950"/>
                  </a:lnTo>
                  <a:lnTo>
                    <a:pt x="1288" y="1934"/>
                  </a:lnTo>
                  <a:lnTo>
                    <a:pt x="1338" y="1916"/>
                  </a:lnTo>
                  <a:lnTo>
                    <a:pt x="1386" y="1892"/>
                  </a:lnTo>
                  <a:lnTo>
                    <a:pt x="1430" y="1866"/>
                  </a:lnTo>
                  <a:lnTo>
                    <a:pt x="1442" y="1860"/>
                  </a:lnTo>
                  <a:lnTo>
                    <a:pt x="1456" y="1866"/>
                  </a:lnTo>
                  <a:lnTo>
                    <a:pt x="1456" y="1866"/>
                  </a:lnTo>
                  <a:lnTo>
                    <a:pt x="1492" y="1880"/>
                  </a:lnTo>
                  <a:lnTo>
                    <a:pt x="1528" y="1892"/>
                  </a:lnTo>
                  <a:lnTo>
                    <a:pt x="1566" y="1904"/>
                  </a:lnTo>
                  <a:lnTo>
                    <a:pt x="1606" y="1914"/>
                  </a:lnTo>
                  <a:lnTo>
                    <a:pt x="1646" y="1920"/>
                  </a:lnTo>
                  <a:lnTo>
                    <a:pt x="1686" y="1926"/>
                  </a:lnTo>
                  <a:lnTo>
                    <a:pt x="1728" y="1928"/>
                  </a:lnTo>
                  <a:lnTo>
                    <a:pt x="1770" y="1930"/>
                  </a:lnTo>
                  <a:lnTo>
                    <a:pt x="1770" y="1930"/>
                  </a:lnTo>
                  <a:lnTo>
                    <a:pt x="1814" y="1928"/>
                  </a:lnTo>
                  <a:lnTo>
                    <a:pt x="1858" y="1924"/>
                  </a:lnTo>
                  <a:lnTo>
                    <a:pt x="1902" y="1918"/>
                  </a:lnTo>
                  <a:lnTo>
                    <a:pt x="1946" y="1910"/>
                  </a:lnTo>
                  <a:lnTo>
                    <a:pt x="1986" y="1900"/>
                  </a:lnTo>
                  <a:lnTo>
                    <a:pt x="2028" y="1886"/>
                  </a:lnTo>
                  <a:lnTo>
                    <a:pt x="2068" y="1872"/>
                  </a:lnTo>
                  <a:lnTo>
                    <a:pt x="2106" y="1854"/>
                  </a:lnTo>
                  <a:lnTo>
                    <a:pt x="2116" y="1850"/>
                  </a:lnTo>
                  <a:lnTo>
                    <a:pt x="2126" y="1854"/>
                  </a:lnTo>
                  <a:lnTo>
                    <a:pt x="2126" y="1854"/>
                  </a:lnTo>
                  <a:lnTo>
                    <a:pt x="2156" y="1862"/>
                  </a:lnTo>
                  <a:lnTo>
                    <a:pt x="2188" y="1872"/>
                  </a:lnTo>
                  <a:lnTo>
                    <a:pt x="2218" y="1878"/>
                  </a:lnTo>
                  <a:lnTo>
                    <a:pt x="2252" y="1884"/>
                  </a:lnTo>
                  <a:lnTo>
                    <a:pt x="2284" y="1890"/>
                  </a:lnTo>
                  <a:lnTo>
                    <a:pt x="2316" y="1892"/>
                  </a:lnTo>
                  <a:lnTo>
                    <a:pt x="2350" y="1894"/>
                  </a:lnTo>
                  <a:lnTo>
                    <a:pt x="2384" y="1896"/>
                  </a:lnTo>
                  <a:lnTo>
                    <a:pt x="2384" y="1896"/>
                  </a:lnTo>
                  <a:lnTo>
                    <a:pt x="2426" y="1894"/>
                  </a:lnTo>
                  <a:lnTo>
                    <a:pt x="2468" y="1890"/>
                  </a:lnTo>
                  <a:lnTo>
                    <a:pt x="2508" y="1886"/>
                  </a:lnTo>
                  <a:lnTo>
                    <a:pt x="2550" y="1878"/>
                  </a:lnTo>
                  <a:lnTo>
                    <a:pt x="2588" y="1868"/>
                  </a:lnTo>
                  <a:lnTo>
                    <a:pt x="2628" y="1858"/>
                  </a:lnTo>
                  <a:lnTo>
                    <a:pt x="2664" y="1844"/>
                  </a:lnTo>
                  <a:lnTo>
                    <a:pt x="2700" y="1828"/>
                  </a:lnTo>
                  <a:lnTo>
                    <a:pt x="2734" y="1812"/>
                  </a:lnTo>
                  <a:lnTo>
                    <a:pt x="2768" y="1794"/>
                  </a:lnTo>
                  <a:lnTo>
                    <a:pt x="2798" y="1774"/>
                  </a:lnTo>
                  <a:lnTo>
                    <a:pt x="2828" y="1752"/>
                  </a:lnTo>
                  <a:lnTo>
                    <a:pt x="2854" y="1728"/>
                  </a:lnTo>
                  <a:lnTo>
                    <a:pt x="2880" y="1704"/>
                  </a:lnTo>
                  <a:lnTo>
                    <a:pt x="2902" y="1678"/>
                  </a:lnTo>
                  <a:lnTo>
                    <a:pt x="2922" y="1650"/>
                  </a:lnTo>
                  <a:lnTo>
                    <a:pt x="2930" y="1638"/>
                  </a:lnTo>
                  <a:lnTo>
                    <a:pt x="2942" y="1638"/>
                  </a:lnTo>
                  <a:lnTo>
                    <a:pt x="2942" y="1638"/>
                  </a:lnTo>
                  <a:lnTo>
                    <a:pt x="3002" y="1634"/>
                  </a:lnTo>
                  <a:lnTo>
                    <a:pt x="3058" y="1626"/>
                  </a:lnTo>
                  <a:lnTo>
                    <a:pt x="3112" y="1614"/>
                  </a:lnTo>
                  <a:lnTo>
                    <a:pt x="3164" y="1598"/>
                  </a:lnTo>
                  <a:lnTo>
                    <a:pt x="3214" y="1578"/>
                  </a:lnTo>
                  <a:lnTo>
                    <a:pt x="3262" y="1556"/>
                  </a:lnTo>
                  <a:lnTo>
                    <a:pt x="3304" y="1532"/>
                  </a:lnTo>
                  <a:lnTo>
                    <a:pt x="3344" y="1504"/>
                  </a:lnTo>
                  <a:lnTo>
                    <a:pt x="3380" y="1472"/>
                  </a:lnTo>
                  <a:lnTo>
                    <a:pt x="3412" y="1440"/>
                  </a:lnTo>
                  <a:lnTo>
                    <a:pt x="3440" y="1404"/>
                  </a:lnTo>
                  <a:lnTo>
                    <a:pt x="3454" y="1386"/>
                  </a:lnTo>
                  <a:lnTo>
                    <a:pt x="3464" y="1368"/>
                  </a:lnTo>
                  <a:lnTo>
                    <a:pt x="3474" y="1348"/>
                  </a:lnTo>
                  <a:lnTo>
                    <a:pt x="3484" y="1330"/>
                  </a:lnTo>
                  <a:lnTo>
                    <a:pt x="3490" y="1310"/>
                  </a:lnTo>
                  <a:lnTo>
                    <a:pt x="3496" y="1290"/>
                  </a:lnTo>
                  <a:lnTo>
                    <a:pt x="3502" y="1268"/>
                  </a:lnTo>
                  <a:lnTo>
                    <a:pt x="3506" y="1248"/>
                  </a:lnTo>
                  <a:lnTo>
                    <a:pt x="3508" y="1226"/>
                  </a:lnTo>
                  <a:lnTo>
                    <a:pt x="3508" y="1204"/>
                  </a:lnTo>
                  <a:lnTo>
                    <a:pt x="3508" y="1204"/>
                  </a:lnTo>
                  <a:lnTo>
                    <a:pt x="3506" y="1174"/>
                  </a:lnTo>
                  <a:lnTo>
                    <a:pt x="3502" y="1144"/>
                  </a:lnTo>
                  <a:lnTo>
                    <a:pt x="3496" y="1116"/>
                  </a:lnTo>
                  <a:lnTo>
                    <a:pt x="3486" y="1086"/>
                  </a:lnTo>
                  <a:lnTo>
                    <a:pt x="3474" y="1058"/>
                  </a:lnTo>
                  <a:lnTo>
                    <a:pt x="3458" y="1032"/>
                  </a:lnTo>
                  <a:lnTo>
                    <a:pt x="3442" y="1006"/>
                  </a:lnTo>
                  <a:lnTo>
                    <a:pt x="3422" y="980"/>
                  </a:lnTo>
                  <a:lnTo>
                    <a:pt x="3400" y="956"/>
                  </a:lnTo>
                  <a:lnTo>
                    <a:pt x="3374" y="932"/>
                  </a:lnTo>
                  <a:lnTo>
                    <a:pt x="3348" y="910"/>
                  </a:lnTo>
                  <a:lnTo>
                    <a:pt x="3320" y="888"/>
                  </a:lnTo>
                  <a:lnTo>
                    <a:pt x="3290" y="870"/>
                  </a:lnTo>
                  <a:lnTo>
                    <a:pt x="3256" y="852"/>
                  </a:lnTo>
                  <a:lnTo>
                    <a:pt x="3222" y="834"/>
                  </a:lnTo>
                  <a:lnTo>
                    <a:pt x="3186" y="820"/>
                  </a:lnTo>
                  <a:lnTo>
                    <a:pt x="3164" y="812"/>
                  </a:lnTo>
                  <a:lnTo>
                    <a:pt x="3170" y="788"/>
                  </a:lnTo>
                  <a:lnTo>
                    <a:pt x="3170" y="788"/>
                  </a:lnTo>
                  <a:lnTo>
                    <a:pt x="3174" y="768"/>
                  </a:lnTo>
                  <a:lnTo>
                    <a:pt x="3176" y="748"/>
                  </a:lnTo>
                  <a:lnTo>
                    <a:pt x="3178" y="728"/>
                  </a:lnTo>
                  <a:lnTo>
                    <a:pt x="3180" y="710"/>
                  </a:lnTo>
                  <a:lnTo>
                    <a:pt x="3180" y="710"/>
                  </a:lnTo>
                  <a:lnTo>
                    <a:pt x="3178" y="686"/>
                  </a:lnTo>
                  <a:lnTo>
                    <a:pt x="3176" y="664"/>
                  </a:lnTo>
                  <a:lnTo>
                    <a:pt x="3172" y="644"/>
                  </a:lnTo>
                  <a:lnTo>
                    <a:pt x="3166" y="622"/>
                  </a:lnTo>
                  <a:lnTo>
                    <a:pt x="3160" y="600"/>
                  </a:lnTo>
                  <a:lnTo>
                    <a:pt x="3152" y="580"/>
                  </a:lnTo>
                  <a:lnTo>
                    <a:pt x="3142" y="560"/>
                  </a:lnTo>
                  <a:lnTo>
                    <a:pt x="3132" y="540"/>
                  </a:lnTo>
                  <a:lnTo>
                    <a:pt x="3120" y="522"/>
                  </a:lnTo>
                  <a:lnTo>
                    <a:pt x="3106" y="502"/>
                  </a:lnTo>
                  <a:lnTo>
                    <a:pt x="3092" y="484"/>
                  </a:lnTo>
                  <a:lnTo>
                    <a:pt x="3076" y="466"/>
                  </a:lnTo>
                  <a:lnTo>
                    <a:pt x="3042" y="434"/>
                  </a:lnTo>
                  <a:lnTo>
                    <a:pt x="3004" y="402"/>
                  </a:lnTo>
                  <a:lnTo>
                    <a:pt x="2962" y="374"/>
                  </a:lnTo>
                  <a:lnTo>
                    <a:pt x="2916" y="350"/>
                  </a:lnTo>
                  <a:lnTo>
                    <a:pt x="2866" y="328"/>
                  </a:lnTo>
                  <a:lnTo>
                    <a:pt x="2814" y="310"/>
                  </a:lnTo>
                  <a:lnTo>
                    <a:pt x="2758" y="294"/>
                  </a:lnTo>
                  <a:lnTo>
                    <a:pt x="2702" y="284"/>
                  </a:lnTo>
                  <a:lnTo>
                    <a:pt x="2642" y="278"/>
                  </a:lnTo>
                  <a:lnTo>
                    <a:pt x="2580" y="274"/>
                  </a:lnTo>
                  <a:lnTo>
                    <a:pt x="2580" y="274"/>
                  </a:lnTo>
                  <a:lnTo>
                    <a:pt x="2544" y="276"/>
                  </a:lnTo>
                  <a:lnTo>
                    <a:pt x="2508" y="278"/>
                  </a:lnTo>
                  <a:lnTo>
                    <a:pt x="2474" y="282"/>
                  </a:lnTo>
                  <a:lnTo>
                    <a:pt x="2438" y="288"/>
                  </a:lnTo>
                  <a:lnTo>
                    <a:pt x="2404" y="294"/>
                  </a:lnTo>
                  <a:lnTo>
                    <a:pt x="2370" y="302"/>
                  </a:lnTo>
                  <a:lnTo>
                    <a:pt x="2338" y="312"/>
                  </a:lnTo>
                  <a:lnTo>
                    <a:pt x="2304" y="324"/>
                  </a:lnTo>
                  <a:lnTo>
                    <a:pt x="2286" y="330"/>
                  </a:lnTo>
                  <a:lnTo>
                    <a:pt x="2274" y="316"/>
                  </a:lnTo>
                  <a:lnTo>
                    <a:pt x="2274" y="316"/>
                  </a:lnTo>
                  <a:lnTo>
                    <a:pt x="2248" y="286"/>
                  </a:lnTo>
                  <a:lnTo>
                    <a:pt x="2220" y="258"/>
                  </a:lnTo>
                  <a:lnTo>
                    <a:pt x="2192" y="230"/>
                  </a:lnTo>
                  <a:lnTo>
                    <a:pt x="2160" y="206"/>
                  </a:lnTo>
                  <a:lnTo>
                    <a:pt x="2126" y="182"/>
                  </a:lnTo>
                  <a:lnTo>
                    <a:pt x="2092" y="160"/>
                  </a:lnTo>
                  <a:lnTo>
                    <a:pt x="2056" y="140"/>
                  </a:lnTo>
                  <a:lnTo>
                    <a:pt x="2018" y="122"/>
                  </a:lnTo>
                  <a:lnTo>
                    <a:pt x="1980" y="106"/>
                  </a:lnTo>
                  <a:lnTo>
                    <a:pt x="1940" y="92"/>
                  </a:lnTo>
                  <a:lnTo>
                    <a:pt x="1898" y="80"/>
                  </a:lnTo>
                  <a:lnTo>
                    <a:pt x="1856" y="70"/>
                  </a:lnTo>
                  <a:lnTo>
                    <a:pt x="1814" y="62"/>
                  </a:lnTo>
                  <a:lnTo>
                    <a:pt x="1770" y="58"/>
                  </a:lnTo>
                  <a:lnTo>
                    <a:pt x="1726" y="54"/>
                  </a:lnTo>
                  <a:lnTo>
                    <a:pt x="1682" y="52"/>
                  </a:lnTo>
                  <a:lnTo>
                    <a:pt x="1682" y="52"/>
                  </a:lnTo>
                  <a:lnTo>
                    <a:pt x="1642" y="54"/>
                  </a:lnTo>
                  <a:lnTo>
                    <a:pt x="1602" y="56"/>
                  </a:lnTo>
                  <a:lnTo>
                    <a:pt x="1562" y="60"/>
                  </a:lnTo>
                  <a:lnTo>
                    <a:pt x="1524" y="68"/>
                  </a:lnTo>
                  <a:lnTo>
                    <a:pt x="1486" y="76"/>
                  </a:lnTo>
                  <a:lnTo>
                    <a:pt x="1448" y="84"/>
                  </a:lnTo>
                  <a:lnTo>
                    <a:pt x="1412" y="96"/>
                  </a:lnTo>
                  <a:lnTo>
                    <a:pt x="1376" y="110"/>
                  </a:lnTo>
                  <a:lnTo>
                    <a:pt x="1340" y="124"/>
                  </a:lnTo>
                  <a:lnTo>
                    <a:pt x="1308" y="140"/>
                  </a:lnTo>
                  <a:lnTo>
                    <a:pt x="1274" y="158"/>
                  </a:lnTo>
                  <a:lnTo>
                    <a:pt x="1242" y="178"/>
                  </a:lnTo>
                  <a:lnTo>
                    <a:pt x="1212" y="198"/>
                  </a:lnTo>
                  <a:lnTo>
                    <a:pt x="1184" y="220"/>
                  </a:lnTo>
                  <a:lnTo>
                    <a:pt x="1156" y="244"/>
                  </a:lnTo>
                  <a:lnTo>
                    <a:pt x="1130" y="270"/>
                  </a:lnTo>
                  <a:lnTo>
                    <a:pt x="1122" y="278"/>
                  </a:lnTo>
                  <a:lnTo>
                    <a:pt x="1110" y="278"/>
                  </a:lnTo>
                  <a:lnTo>
                    <a:pt x="1110" y="278"/>
                  </a:lnTo>
                  <a:lnTo>
                    <a:pt x="1034" y="274"/>
                  </a:lnTo>
                  <a:lnTo>
                    <a:pt x="1034" y="274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9121680" y="10945800"/>
              <a:ext cx="4933800" cy="2784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2784600"/>
                <a:gd name="textAreaBottom" fmla="*/ 2784960 h 2784600"/>
              </a:gdLst>
              <a:ahLst/>
              <a:rect l="textAreaLeft" t="textAreaTop" r="textAreaRight" b="textAreaBottom"/>
              <a:pathLst>
                <a:path w="3108" h="1754">
                  <a:moveTo>
                    <a:pt x="3108" y="1044"/>
                  </a:moveTo>
                  <a:lnTo>
                    <a:pt x="3108" y="1044"/>
                  </a:lnTo>
                  <a:lnTo>
                    <a:pt x="3108" y="1014"/>
                  </a:lnTo>
                  <a:lnTo>
                    <a:pt x="3104" y="984"/>
                  </a:lnTo>
                  <a:lnTo>
                    <a:pt x="3096" y="956"/>
                  </a:lnTo>
                  <a:lnTo>
                    <a:pt x="3086" y="930"/>
                  </a:lnTo>
                  <a:lnTo>
                    <a:pt x="3074" y="902"/>
                  </a:lnTo>
                  <a:lnTo>
                    <a:pt x="3060" y="876"/>
                  </a:lnTo>
                  <a:lnTo>
                    <a:pt x="3044" y="852"/>
                  </a:lnTo>
                  <a:lnTo>
                    <a:pt x="3026" y="828"/>
                  </a:lnTo>
                  <a:lnTo>
                    <a:pt x="3004" y="804"/>
                  </a:lnTo>
                  <a:lnTo>
                    <a:pt x="2982" y="782"/>
                  </a:lnTo>
                  <a:lnTo>
                    <a:pt x="2956" y="762"/>
                  </a:lnTo>
                  <a:lnTo>
                    <a:pt x="2930" y="744"/>
                  </a:lnTo>
                  <a:lnTo>
                    <a:pt x="2902" y="726"/>
                  </a:lnTo>
                  <a:lnTo>
                    <a:pt x="2872" y="708"/>
                  </a:lnTo>
                  <a:lnTo>
                    <a:pt x="2840" y="694"/>
                  </a:lnTo>
                  <a:lnTo>
                    <a:pt x="2808" y="680"/>
                  </a:lnTo>
                  <a:lnTo>
                    <a:pt x="2808" y="680"/>
                  </a:lnTo>
                  <a:lnTo>
                    <a:pt x="2814" y="642"/>
                  </a:lnTo>
                  <a:lnTo>
                    <a:pt x="2816" y="624"/>
                  </a:lnTo>
                  <a:lnTo>
                    <a:pt x="2818" y="604"/>
                  </a:lnTo>
                  <a:lnTo>
                    <a:pt x="2818" y="604"/>
                  </a:lnTo>
                  <a:lnTo>
                    <a:pt x="2816" y="584"/>
                  </a:lnTo>
                  <a:lnTo>
                    <a:pt x="2814" y="562"/>
                  </a:lnTo>
                  <a:lnTo>
                    <a:pt x="2810" y="542"/>
                  </a:lnTo>
                  <a:lnTo>
                    <a:pt x="2806" y="522"/>
                  </a:lnTo>
                  <a:lnTo>
                    <a:pt x="2800" y="502"/>
                  </a:lnTo>
                  <a:lnTo>
                    <a:pt x="2792" y="482"/>
                  </a:lnTo>
                  <a:lnTo>
                    <a:pt x="2784" y="464"/>
                  </a:lnTo>
                  <a:lnTo>
                    <a:pt x="2774" y="446"/>
                  </a:lnTo>
                  <a:lnTo>
                    <a:pt x="2762" y="428"/>
                  </a:lnTo>
                  <a:lnTo>
                    <a:pt x="2750" y="410"/>
                  </a:lnTo>
                  <a:lnTo>
                    <a:pt x="2722" y="376"/>
                  </a:lnTo>
                  <a:lnTo>
                    <a:pt x="2690" y="344"/>
                  </a:lnTo>
                  <a:lnTo>
                    <a:pt x="2654" y="316"/>
                  </a:lnTo>
                  <a:lnTo>
                    <a:pt x="2616" y="290"/>
                  </a:lnTo>
                  <a:lnTo>
                    <a:pt x="2572" y="266"/>
                  </a:lnTo>
                  <a:lnTo>
                    <a:pt x="2528" y="246"/>
                  </a:lnTo>
                  <a:lnTo>
                    <a:pt x="2478" y="228"/>
                  </a:lnTo>
                  <a:lnTo>
                    <a:pt x="2428" y="214"/>
                  </a:lnTo>
                  <a:lnTo>
                    <a:pt x="2374" y="204"/>
                  </a:lnTo>
                  <a:lnTo>
                    <a:pt x="2320" y="198"/>
                  </a:lnTo>
                  <a:lnTo>
                    <a:pt x="2264" y="196"/>
                  </a:lnTo>
                  <a:lnTo>
                    <a:pt x="2264" y="196"/>
                  </a:lnTo>
                  <a:lnTo>
                    <a:pt x="2230" y="196"/>
                  </a:lnTo>
                  <a:lnTo>
                    <a:pt x="2196" y="198"/>
                  </a:lnTo>
                  <a:lnTo>
                    <a:pt x="2164" y="202"/>
                  </a:lnTo>
                  <a:lnTo>
                    <a:pt x="2132" y="208"/>
                  </a:lnTo>
                  <a:lnTo>
                    <a:pt x="2100" y="214"/>
                  </a:lnTo>
                  <a:lnTo>
                    <a:pt x="2068" y="222"/>
                  </a:lnTo>
                  <a:lnTo>
                    <a:pt x="2040" y="230"/>
                  </a:lnTo>
                  <a:lnTo>
                    <a:pt x="2010" y="242"/>
                  </a:lnTo>
                  <a:lnTo>
                    <a:pt x="2010" y="242"/>
                  </a:lnTo>
                  <a:lnTo>
                    <a:pt x="1988" y="214"/>
                  </a:lnTo>
                  <a:lnTo>
                    <a:pt x="1962" y="188"/>
                  </a:lnTo>
                  <a:lnTo>
                    <a:pt x="1936" y="164"/>
                  </a:lnTo>
                  <a:lnTo>
                    <a:pt x="1908" y="142"/>
                  </a:lnTo>
                  <a:lnTo>
                    <a:pt x="1878" y="120"/>
                  </a:lnTo>
                  <a:lnTo>
                    <a:pt x="1848" y="100"/>
                  </a:lnTo>
                  <a:lnTo>
                    <a:pt x="1814" y="82"/>
                  </a:lnTo>
                  <a:lnTo>
                    <a:pt x="1780" y="66"/>
                  </a:lnTo>
                  <a:lnTo>
                    <a:pt x="1744" y="50"/>
                  </a:lnTo>
                  <a:lnTo>
                    <a:pt x="1708" y="38"/>
                  </a:lnTo>
                  <a:lnTo>
                    <a:pt x="1670" y="26"/>
                  </a:lnTo>
                  <a:lnTo>
                    <a:pt x="1632" y="16"/>
                  </a:lnTo>
                  <a:lnTo>
                    <a:pt x="1592" y="8"/>
                  </a:lnTo>
                  <a:lnTo>
                    <a:pt x="1550" y="4"/>
                  </a:lnTo>
                  <a:lnTo>
                    <a:pt x="1508" y="0"/>
                  </a:lnTo>
                  <a:lnTo>
                    <a:pt x="1466" y="0"/>
                  </a:lnTo>
                  <a:lnTo>
                    <a:pt x="1466" y="0"/>
                  </a:lnTo>
                  <a:lnTo>
                    <a:pt x="1428" y="0"/>
                  </a:lnTo>
                  <a:lnTo>
                    <a:pt x="1392" y="2"/>
                  </a:lnTo>
                  <a:lnTo>
                    <a:pt x="1354" y="8"/>
                  </a:lnTo>
                  <a:lnTo>
                    <a:pt x="1318" y="14"/>
                  </a:lnTo>
                  <a:lnTo>
                    <a:pt x="1284" y="20"/>
                  </a:lnTo>
                  <a:lnTo>
                    <a:pt x="1248" y="30"/>
                  </a:lnTo>
                  <a:lnTo>
                    <a:pt x="1214" y="40"/>
                  </a:lnTo>
                  <a:lnTo>
                    <a:pt x="1182" y="54"/>
                  </a:lnTo>
                  <a:lnTo>
                    <a:pt x="1150" y="66"/>
                  </a:lnTo>
                  <a:lnTo>
                    <a:pt x="1120" y="82"/>
                  </a:lnTo>
                  <a:lnTo>
                    <a:pt x="1090" y="98"/>
                  </a:lnTo>
                  <a:lnTo>
                    <a:pt x="1062" y="116"/>
                  </a:lnTo>
                  <a:lnTo>
                    <a:pt x="1034" y="134"/>
                  </a:lnTo>
                  <a:lnTo>
                    <a:pt x="1008" y="154"/>
                  </a:lnTo>
                  <a:lnTo>
                    <a:pt x="984" y="176"/>
                  </a:lnTo>
                  <a:lnTo>
                    <a:pt x="962" y="198"/>
                  </a:lnTo>
                  <a:lnTo>
                    <a:pt x="962" y="198"/>
                  </a:lnTo>
                  <a:lnTo>
                    <a:pt x="894" y="196"/>
                  </a:lnTo>
                  <a:lnTo>
                    <a:pt x="894" y="196"/>
                  </a:lnTo>
                  <a:lnTo>
                    <a:pt x="820" y="198"/>
                  </a:lnTo>
                  <a:lnTo>
                    <a:pt x="748" y="204"/>
                  </a:lnTo>
                  <a:lnTo>
                    <a:pt x="680" y="216"/>
                  </a:lnTo>
                  <a:lnTo>
                    <a:pt x="614" y="230"/>
                  </a:lnTo>
                  <a:lnTo>
                    <a:pt x="550" y="248"/>
                  </a:lnTo>
                  <a:lnTo>
                    <a:pt x="492" y="270"/>
                  </a:lnTo>
                  <a:lnTo>
                    <a:pt x="436" y="296"/>
                  </a:lnTo>
                  <a:lnTo>
                    <a:pt x="384" y="324"/>
                  </a:lnTo>
                  <a:lnTo>
                    <a:pt x="362" y="340"/>
                  </a:lnTo>
                  <a:lnTo>
                    <a:pt x="338" y="356"/>
                  </a:lnTo>
                  <a:lnTo>
                    <a:pt x="318" y="372"/>
                  </a:lnTo>
                  <a:lnTo>
                    <a:pt x="298" y="390"/>
                  </a:lnTo>
                  <a:lnTo>
                    <a:pt x="278" y="408"/>
                  </a:lnTo>
                  <a:lnTo>
                    <a:pt x="262" y="426"/>
                  </a:lnTo>
                  <a:lnTo>
                    <a:pt x="246" y="444"/>
                  </a:lnTo>
                  <a:lnTo>
                    <a:pt x="230" y="464"/>
                  </a:lnTo>
                  <a:lnTo>
                    <a:pt x="218" y="484"/>
                  </a:lnTo>
                  <a:lnTo>
                    <a:pt x="206" y="504"/>
                  </a:lnTo>
                  <a:lnTo>
                    <a:pt x="196" y="526"/>
                  </a:lnTo>
                  <a:lnTo>
                    <a:pt x="188" y="546"/>
                  </a:lnTo>
                  <a:lnTo>
                    <a:pt x="182" y="568"/>
                  </a:lnTo>
                  <a:lnTo>
                    <a:pt x="178" y="590"/>
                  </a:lnTo>
                  <a:lnTo>
                    <a:pt x="176" y="612"/>
                  </a:lnTo>
                  <a:lnTo>
                    <a:pt x="174" y="636"/>
                  </a:lnTo>
                  <a:lnTo>
                    <a:pt x="174" y="636"/>
                  </a:lnTo>
                  <a:lnTo>
                    <a:pt x="176" y="662"/>
                  </a:lnTo>
                  <a:lnTo>
                    <a:pt x="180" y="688"/>
                  </a:lnTo>
                  <a:lnTo>
                    <a:pt x="186" y="714"/>
                  </a:lnTo>
                  <a:lnTo>
                    <a:pt x="194" y="740"/>
                  </a:lnTo>
                  <a:lnTo>
                    <a:pt x="194" y="740"/>
                  </a:lnTo>
                  <a:lnTo>
                    <a:pt x="174" y="752"/>
                  </a:lnTo>
                  <a:lnTo>
                    <a:pt x="152" y="766"/>
                  </a:lnTo>
                  <a:lnTo>
                    <a:pt x="132" y="780"/>
                  </a:lnTo>
                  <a:lnTo>
                    <a:pt x="114" y="796"/>
                  </a:lnTo>
                  <a:lnTo>
                    <a:pt x="96" y="812"/>
                  </a:lnTo>
                  <a:lnTo>
                    <a:pt x="80" y="830"/>
                  </a:lnTo>
                  <a:lnTo>
                    <a:pt x="66" y="846"/>
                  </a:lnTo>
                  <a:lnTo>
                    <a:pt x="52" y="864"/>
                  </a:lnTo>
                  <a:lnTo>
                    <a:pt x="40" y="884"/>
                  </a:lnTo>
                  <a:lnTo>
                    <a:pt x="30" y="902"/>
                  </a:lnTo>
                  <a:lnTo>
                    <a:pt x="20" y="922"/>
                  </a:lnTo>
                  <a:lnTo>
                    <a:pt x="14" y="944"/>
                  </a:lnTo>
                  <a:lnTo>
                    <a:pt x="8" y="964"/>
                  </a:lnTo>
                  <a:lnTo>
                    <a:pt x="2" y="986"/>
                  </a:lnTo>
                  <a:lnTo>
                    <a:pt x="0" y="1006"/>
                  </a:lnTo>
                  <a:lnTo>
                    <a:pt x="0" y="1028"/>
                  </a:lnTo>
                  <a:lnTo>
                    <a:pt x="0" y="1028"/>
                  </a:lnTo>
                  <a:lnTo>
                    <a:pt x="0" y="1056"/>
                  </a:lnTo>
                  <a:lnTo>
                    <a:pt x="4" y="1082"/>
                  </a:lnTo>
                  <a:lnTo>
                    <a:pt x="12" y="1108"/>
                  </a:lnTo>
                  <a:lnTo>
                    <a:pt x="20" y="1134"/>
                  </a:lnTo>
                  <a:lnTo>
                    <a:pt x="32" y="1158"/>
                  </a:lnTo>
                  <a:lnTo>
                    <a:pt x="46" y="1182"/>
                  </a:lnTo>
                  <a:lnTo>
                    <a:pt x="60" y="1204"/>
                  </a:lnTo>
                  <a:lnTo>
                    <a:pt x="78" y="1226"/>
                  </a:lnTo>
                  <a:lnTo>
                    <a:pt x="98" y="1246"/>
                  </a:lnTo>
                  <a:lnTo>
                    <a:pt x="120" y="1266"/>
                  </a:lnTo>
                  <a:lnTo>
                    <a:pt x="144" y="1284"/>
                  </a:lnTo>
                  <a:lnTo>
                    <a:pt x="168" y="1302"/>
                  </a:lnTo>
                  <a:lnTo>
                    <a:pt x="196" y="1318"/>
                  </a:lnTo>
                  <a:lnTo>
                    <a:pt x="224" y="1332"/>
                  </a:lnTo>
                  <a:lnTo>
                    <a:pt x="252" y="1346"/>
                  </a:lnTo>
                  <a:lnTo>
                    <a:pt x="284" y="1356"/>
                  </a:lnTo>
                  <a:lnTo>
                    <a:pt x="284" y="1356"/>
                  </a:lnTo>
                  <a:lnTo>
                    <a:pt x="288" y="1378"/>
                  </a:lnTo>
                  <a:lnTo>
                    <a:pt x="292" y="1398"/>
                  </a:lnTo>
                  <a:lnTo>
                    <a:pt x="298" y="1418"/>
                  </a:lnTo>
                  <a:lnTo>
                    <a:pt x="304" y="1438"/>
                  </a:lnTo>
                  <a:lnTo>
                    <a:pt x="312" y="1458"/>
                  </a:lnTo>
                  <a:lnTo>
                    <a:pt x="322" y="1476"/>
                  </a:lnTo>
                  <a:lnTo>
                    <a:pt x="344" y="1512"/>
                  </a:lnTo>
                  <a:lnTo>
                    <a:pt x="370" y="1548"/>
                  </a:lnTo>
                  <a:lnTo>
                    <a:pt x="402" y="1580"/>
                  </a:lnTo>
                  <a:lnTo>
                    <a:pt x="436" y="1610"/>
                  </a:lnTo>
                  <a:lnTo>
                    <a:pt x="474" y="1638"/>
                  </a:lnTo>
                  <a:lnTo>
                    <a:pt x="514" y="1664"/>
                  </a:lnTo>
                  <a:lnTo>
                    <a:pt x="558" y="1686"/>
                  </a:lnTo>
                  <a:lnTo>
                    <a:pt x="606" y="1706"/>
                  </a:lnTo>
                  <a:lnTo>
                    <a:pt x="656" y="1722"/>
                  </a:lnTo>
                  <a:lnTo>
                    <a:pt x="708" y="1736"/>
                  </a:lnTo>
                  <a:lnTo>
                    <a:pt x="760" y="1746"/>
                  </a:lnTo>
                  <a:lnTo>
                    <a:pt x="816" y="1752"/>
                  </a:lnTo>
                  <a:lnTo>
                    <a:pt x="874" y="1754"/>
                  </a:lnTo>
                  <a:lnTo>
                    <a:pt x="874" y="1754"/>
                  </a:lnTo>
                  <a:lnTo>
                    <a:pt x="928" y="1752"/>
                  </a:lnTo>
                  <a:lnTo>
                    <a:pt x="980" y="1746"/>
                  </a:lnTo>
                  <a:lnTo>
                    <a:pt x="1032" y="1738"/>
                  </a:lnTo>
                  <a:lnTo>
                    <a:pt x="1082" y="1726"/>
                  </a:lnTo>
                  <a:lnTo>
                    <a:pt x="1128" y="1710"/>
                  </a:lnTo>
                  <a:lnTo>
                    <a:pt x="1174" y="1694"/>
                  </a:lnTo>
                  <a:lnTo>
                    <a:pt x="1216" y="1672"/>
                  </a:lnTo>
                  <a:lnTo>
                    <a:pt x="1256" y="1650"/>
                  </a:lnTo>
                  <a:lnTo>
                    <a:pt x="1256" y="1650"/>
                  </a:lnTo>
                  <a:lnTo>
                    <a:pt x="1288" y="1664"/>
                  </a:lnTo>
                  <a:lnTo>
                    <a:pt x="1322" y="1674"/>
                  </a:lnTo>
                  <a:lnTo>
                    <a:pt x="1356" y="1684"/>
                  </a:lnTo>
                  <a:lnTo>
                    <a:pt x="1392" y="1694"/>
                  </a:lnTo>
                  <a:lnTo>
                    <a:pt x="1430" y="1700"/>
                  </a:lnTo>
                  <a:lnTo>
                    <a:pt x="1466" y="1704"/>
                  </a:lnTo>
                  <a:lnTo>
                    <a:pt x="1506" y="1708"/>
                  </a:lnTo>
                  <a:lnTo>
                    <a:pt x="1544" y="1708"/>
                  </a:lnTo>
                  <a:lnTo>
                    <a:pt x="1544" y="1708"/>
                  </a:lnTo>
                  <a:lnTo>
                    <a:pt x="1586" y="1708"/>
                  </a:lnTo>
                  <a:lnTo>
                    <a:pt x="1628" y="1704"/>
                  </a:lnTo>
                  <a:lnTo>
                    <a:pt x="1668" y="1698"/>
                  </a:lnTo>
                  <a:lnTo>
                    <a:pt x="1708" y="1690"/>
                  </a:lnTo>
                  <a:lnTo>
                    <a:pt x="1746" y="1680"/>
                  </a:lnTo>
                  <a:lnTo>
                    <a:pt x="1784" y="1670"/>
                  </a:lnTo>
                  <a:lnTo>
                    <a:pt x="1818" y="1656"/>
                  </a:lnTo>
                  <a:lnTo>
                    <a:pt x="1852" y="1640"/>
                  </a:lnTo>
                  <a:lnTo>
                    <a:pt x="1852" y="1640"/>
                  </a:lnTo>
                  <a:lnTo>
                    <a:pt x="1880" y="1648"/>
                  </a:lnTo>
                  <a:lnTo>
                    <a:pt x="1908" y="1656"/>
                  </a:lnTo>
                  <a:lnTo>
                    <a:pt x="1936" y="1664"/>
                  </a:lnTo>
                  <a:lnTo>
                    <a:pt x="1966" y="1668"/>
                  </a:lnTo>
                  <a:lnTo>
                    <a:pt x="1996" y="1672"/>
                  </a:lnTo>
                  <a:lnTo>
                    <a:pt x="2026" y="1676"/>
                  </a:lnTo>
                  <a:lnTo>
                    <a:pt x="2058" y="1678"/>
                  </a:lnTo>
                  <a:lnTo>
                    <a:pt x="2088" y="1678"/>
                  </a:lnTo>
                  <a:lnTo>
                    <a:pt x="2088" y="1678"/>
                  </a:lnTo>
                  <a:lnTo>
                    <a:pt x="2128" y="1678"/>
                  </a:lnTo>
                  <a:lnTo>
                    <a:pt x="2168" y="1674"/>
                  </a:lnTo>
                  <a:lnTo>
                    <a:pt x="2208" y="1670"/>
                  </a:lnTo>
                  <a:lnTo>
                    <a:pt x="2246" y="1662"/>
                  </a:lnTo>
                  <a:lnTo>
                    <a:pt x="2282" y="1652"/>
                  </a:lnTo>
                  <a:lnTo>
                    <a:pt x="2318" y="1642"/>
                  </a:lnTo>
                  <a:lnTo>
                    <a:pt x="2352" y="1630"/>
                  </a:lnTo>
                  <a:lnTo>
                    <a:pt x="2384" y="1616"/>
                  </a:lnTo>
                  <a:lnTo>
                    <a:pt x="2416" y="1600"/>
                  </a:lnTo>
                  <a:lnTo>
                    <a:pt x="2446" y="1582"/>
                  </a:lnTo>
                  <a:lnTo>
                    <a:pt x="2474" y="1564"/>
                  </a:lnTo>
                  <a:lnTo>
                    <a:pt x="2500" y="1544"/>
                  </a:lnTo>
                  <a:lnTo>
                    <a:pt x="2524" y="1522"/>
                  </a:lnTo>
                  <a:lnTo>
                    <a:pt x="2546" y="1500"/>
                  </a:lnTo>
                  <a:lnTo>
                    <a:pt x="2568" y="1476"/>
                  </a:lnTo>
                  <a:lnTo>
                    <a:pt x="2586" y="1450"/>
                  </a:lnTo>
                  <a:lnTo>
                    <a:pt x="2586" y="1450"/>
                  </a:lnTo>
                  <a:lnTo>
                    <a:pt x="2640" y="1446"/>
                  </a:lnTo>
                  <a:lnTo>
                    <a:pt x="2692" y="1438"/>
                  </a:lnTo>
                  <a:lnTo>
                    <a:pt x="2742" y="1428"/>
                  </a:lnTo>
                  <a:lnTo>
                    <a:pt x="2790" y="1412"/>
                  </a:lnTo>
                  <a:lnTo>
                    <a:pt x="2836" y="1396"/>
                  </a:lnTo>
                  <a:lnTo>
                    <a:pt x="2880" y="1374"/>
                  </a:lnTo>
                  <a:lnTo>
                    <a:pt x="2920" y="1350"/>
                  </a:lnTo>
                  <a:lnTo>
                    <a:pt x="2956" y="1324"/>
                  </a:lnTo>
                  <a:lnTo>
                    <a:pt x="2990" y="1296"/>
                  </a:lnTo>
                  <a:lnTo>
                    <a:pt x="3020" y="1264"/>
                  </a:lnTo>
                  <a:lnTo>
                    <a:pt x="3046" y="1232"/>
                  </a:lnTo>
                  <a:lnTo>
                    <a:pt x="3068" y="1198"/>
                  </a:lnTo>
                  <a:lnTo>
                    <a:pt x="3078" y="1180"/>
                  </a:lnTo>
                  <a:lnTo>
                    <a:pt x="3086" y="1160"/>
                  </a:lnTo>
                  <a:lnTo>
                    <a:pt x="3092" y="1142"/>
                  </a:lnTo>
                  <a:lnTo>
                    <a:pt x="3098" y="1122"/>
                  </a:lnTo>
                  <a:lnTo>
                    <a:pt x="3102" y="1104"/>
                  </a:lnTo>
                  <a:lnTo>
                    <a:pt x="3106" y="1084"/>
                  </a:lnTo>
                  <a:lnTo>
                    <a:pt x="3108" y="1064"/>
                  </a:lnTo>
                  <a:lnTo>
                    <a:pt x="3108" y="1044"/>
                  </a:lnTo>
                  <a:lnTo>
                    <a:pt x="3108" y="10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9096480" y="10920240"/>
              <a:ext cx="4984920" cy="2835360"/>
            </a:xfrm>
            <a:custGeom>
              <a:avLst/>
              <a:gdLst>
                <a:gd name="textAreaLeft" fmla="*/ 0 w 4984920"/>
                <a:gd name="textAreaRight" fmla="*/ 4985280 w 498492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3140" h="1786">
                  <a:moveTo>
                    <a:pt x="890" y="1786"/>
                  </a:moveTo>
                  <a:lnTo>
                    <a:pt x="890" y="1786"/>
                  </a:lnTo>
                  <a:lnTo>
                    <a:pt x="832" y="1784"/>
                  </a:lnTo>
                  <a:lnTo>
                    <a:pt x="776" y="1778"/>
                  </a:lnTo>
                  <a:lnTo>
                    <a:pt x="722" y="1768"/>
                  </a:lnTo>
                  <a:lnTo>
                    <a:pt x="668" y="1754"/>
                  </a:lnTo>
                  <a:lnTo>
                    <a:pt x="618" y="1738"/>
                  </a:lnTo>
                  <a:lnTo>
                    <a:pt x="570" y="1718"/>
                  </a:lnTo>
                  <a:lnTo>
                    <a:pt x="526" y="1696"/>
                  </a:lnTo>
                  <a:lnTo>
                    <a:pt x="484" y="1670"/>
                  </a:lnTo>
                  <a:lnTo>
                    <a:pt x="446" y="1642"/>
                  </a:lnTo>
                  <a:lnTo>
                    <a:pt x="410" y="1612"/>
                  </a:lnTo>
                  <a:lnTo>
                    <a:pt x="378" y="1578"/>
                  </a:lnTo>
                  <a:lnTo>
                    <a:pt x="350" y="1544"/>
                  </a:lnTo>
                  <a:lnTo>
                    <a:pt x="328" y="1506"/>
                  </a:lnTo>
                  <a:lnTo>
                    <a:pt x="318" y="1488"/>
                  </a:lnTo>
                  <a:lnTo>
                    <a:pt x="308" y="1468"/>
                  </a:lnTo>
                  <a:lnTo>
                    <a:pt x="302" y="1448"/>
                  </a:lnTo>
                  <a:lnTo>
                    <a:pt x="294" y="1426"/>
                  </a:lnTo>
                  <a:lnTo>
                    <a:pt x="290" y="1406"/>
                  </a:lnTo>
                  <a:lnTo>
                    <a:pt x="286" y="1384"/>
                  </a:lnTo>
                  <a:lnTo>
                    <a:pt x="286" y="1384"/>
                  </a:lnTo>
                  <a:lnTo>
                    <a:pt x="254" y="1372"/>
                  </a:lnTo>
                  <a:lnTo>
                    <a:pt x="224" y="1358"/>
                  </a:lnTo>
                  <a:lnTo>
                    <a:pt x="194" y="1342"/>
                  </a:lnTo>
                  <a:lnTo>
                    <a:pt x="168" y="1326"/>
                  </a:lnTo>
                  <a:lnTo>
                    <a:pt x="142" y="1308"/>
                  </a:lnTo>
                  <a:lnTo>
                    <a:pt x="118" y="1288"/>
                  </a:lnTo>
                  <a:lnTo>
                    <a:pt x="96" y="1268"/>
                  </a:lnTo>
                  <a:lnTo>
                    <a:pt x="78" y="1246"/>
                  </a:lnTo>
                  <a:lnTo>
                    <a:pt x="60" y="1222"/>
                  </a:lnTo>
                  <a:lnTo>
                    <a:pt x="44" y="1200"/>
                  </a:lnTo>
                  <a:lnTo>
                    <a:pt x="30" y="1174"/>
                  </a:lnTo>
                  <a:lnTo>
                    <a:pt x="20" y="1150"/>
                  </a:lnTo>
                  <a:lnTo>
                    <a:pt x="12" y="1124"/>
                  </a:lnTo>
                  <a:lnTo>
                    <a:pt x="4" y="1098"/>
                  </a:lnTo>
                  <a:lnTo>
                    <a:pt x="0" y="1072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2" y="1002"/>
                  </a:lnTo>
                  <a:lnTo>
                    <a:pt x="6" y="980"/>
                  </a:lnTo>
                  <a:lnTo>
                    <a:pt x="12" y="960"/>
                  </a:lnTo>
                  <a:lnTo>
                    <a:pt x="20" y="938"/>
                  </a:lnTo>
                  <a:lnTo>
                    <a:pt x="28" y="918"/>
                  </a:lnTo>
                  <a:lnTo>
                    <a:pt x="38" y="900"/>
                  </a:lnTo>
                  <a:lnTo>
                    <a:pt x="50" y="880"/>
                  </a:lnTo>
                  <a:lnTo>
                    <a:pt x="62" y="862"/>
                  </a:lnTo>
                  <a:lnTo>
                    <a:pt x="78" y="844"/>
                  </a:lnTo>
                  <a:lnTo>
                    <a:pt x="92" y="826"/>
                  </a:lnTo>
                  <a:lnTo>
                    <a:pt x="110" y="810"/>
                  </a:lnTo>
                  <a:lnTo>
                    <a:pt x="128" y="792"/>
                  </a:lnTo>
                  <a:lnTo>
                    <a:pt x="148" y="778"/>
                  </a:lnTo>
                  <a:lnTo>
                    <a:pt x="170" y="762"/>
                  </a:lnTo>
                  <a:lnTo>
                    <a:pt x="192" y="748"/>
                  </a:lnTo>
                  <a:lnTo>
                    <a:pt x="192" y="748"/>
                  </a:lnTo>
                  <a:lnTo>
                    <a:pt x="184" y="724"/>
                  </a:lnTo>
                  <a:lnTo>
                    <a:pt x="178" y="700"/>
                  </a:lnTo>
                  <a:lnTo>
                    <a:pt x="176" y="676"/>
                  </a:lnTo>
                  <a:lnTo>
                    <a:pt x="174" y="652"/>
                  </a:lnTo>
                  <a:lnTo>
                    <a:pt x="174" y="652"/>
                  </a:lnTo>
                  <a:lnTo>
                    <a:pt x="176" y="628"/>
                  </a:lnTo>
                  <a:lnTo>
                    <a:pt x="178" y="604"/>
                  </a:lnTo>
                  <a:lnTo>
                    <a:pt x="182" y="582"/>
                  </a:lnTo>
                  <a:lnTo>
                    <a:pt x="190" y="560"/>
                  </a:lnTo>
                  <a:lnTo>
                    <a:pt x="198" y="538"/>
                  </a:lnTo>
                  <a:lnTo>
                    <a:pt x="208" y="516"/>
                  </a:lnTo>
                  <a:lnTo>
                    <a:pt x="220" y="494"/>
                  </a:lnTo>
                  <a:lnTo>
                    <a:pt x="232" y="474"/>
                  </a:lnTo>
                  <a:lnTo>
                    <a:pt x="248" y="454"/>
                  </a:lnTo>
                  <a:lnTo>
                    <a:pt x="264" y="434"/>
                  </a:lnTo>
                  <a:lnTo>
                    <a:pt x="282" y="416"/>
                  </a:lnTo>
                  <a:lnTo>
                    <a:pt x="300" y="396"/>
                  </a:lnTo>
                  <a:lnTo>
                    <a:pt x="320" y="380"/>
                  </a:lnTo>
                  <a:lnTo>
                    <a:pt x="342" y="362"/>
                  </a:lnTo>
                  <a:lnTo>
                    <a:pt x="366" y="346"/>
                  </a:lnTo>
                  <a:lnTo>
                    <a:pt x="390" y="330"/>
                  </a:lnTo>
                  <a:lnTo>
                    <a:pt x="416" y="314"/>
                  </a:lnTo>
                  <a:lnTo>
                    <a:pt x="442" y="300"/>
                  </a:lnTo>
                  <a:lnTo>
                    <a:pt x="498" y="274"/>
                  </a:lnTo>
                  <a:lnTo>
                    <a:pt x="560" y="252"/>
                  </a:lnTo>
                  <a:lnTo>
                    <a:pt x="624" y="232"/>
                  </a:lnTo>
                  <a:lnTo>
                    <a:pt x="692" y="216"/>
                  </a:lnTo>
                  <a:lnTo>
                    <a:pt x="762" y="206"/>
                  </a:lnTo>
                  <a:lnTo>
                    <a:pt x="834" y="198"/>
                  </a:lnTo>
                  <a:lnTo>
                    <a:pt x="910" y="196"/>
                  </a:lnTo>
                  <a:lnTo>
                    <a:pt x="910" y="196"/>
                  </a:lnTo>
                  <a:lnTo>
                    <a:pt x="972" y="198"/>
                  </a:lnTo>
                  <a:lnTo>
                    <a:pt x="972" y="198"/>
                  </a:lnTo>
                  <a:lnTo>
                    <a:pt x="996" y="174"/>
                  </a:lnTo>
                  <a:lnTo>
                    <a:pt x="1022" y="152"/>
                  </a:lnTo>
                  <a:lnTo>
                    <a:pt x="1048" y="132"/>
                  </a:lnTo>
                  <a:lnTo>
                    <a:pt x="1076" y="114"/>
                  </a:lnTo>
                  <a:lnTo>
                    <a:pt x="1106" y="96"/>
                  </a:lnTo>
                  <a:lnTo>
                    <a:pt x="1136" y="80"/>
                  </a:lnTo>
                  <a:lnTo>
                    <a:pt x="1168" y="64"/>
                  </a:lnTo>
                  <a:lnTo>
                    <a:pt x="1200" y="52"/>
                  </a:lnTo>
                  <a:lnTo>
                    <a:pt x="1234" y="40"/>
                  </a:lnTo>
                  <a:lnTo>
                    <a:pt x="1268" y="28"/>
                  </a:lnTo>
                  <a:lnTo>
                    <a:pt x="1302" y="20"/>
                  </a:lnTo>
                  <a:lnTo>
                    <a:pt x="1336" y="12"/>
                  </a:lnTo>
                  <a:lnTo>
                    <a:pt x="1372" y="6"/>
                  </a:lnTo>
                  <a:lnTo>
                    <a:pt x="1408" y="2"/>
                  </a:lnTo>
                  <a:lnTo>
                    <a:pt x="1446" y="0"/>
                  </a:lnTo>
                  <a:lnTo>
                    <a:pt x="1482" y="0"/>
                  </a:lnTo>
                  <a:lnTo>
                    <a:pt x="1482" y="0"/>
                  </a:lnTo>
                  <a:lnTo>
                    <a:pt x="1524" y="0"/>
                  </a:lnTo>
                  <a:lnTo>
                    <a:pt x="1564" y="4"/>
                  </a:lnTo>
                  <a:lnTo>
                    <a:pt x="1604" y="8"/>
                  </a:lnTo>
                  <a:lnTo>
                    <a:pt x="1644" y="16"/>
                  </a:lnTo>
                  <a:lnTo>
                    <a:pt x="1682" y="24"/>
                  </a:lnTo>
                  <a:lnTo>
                    <a:pt x="1720" y="36"/>
                  </a:lnTo>
                  <a:lnTo>
                    <a:pt x="1756" y="48"/>
                  </a:lnTo>
                  <a:lnTo>
                    <a:pt x="1792" y="62"/>
                  </a:lnTo>
                  <a:lnTo>
                    <a:pt x="1828" y="78"/>
                  </a:lnTo>
                  <a:lnTo>
                    <a:pt x="1860" y="96"/>
                  </a:lnTo>
                  <a:lnTo>
                    <a:pt x="1894" y="116"/>
                  </a:lnTo>
                  <a:lnTo>
                    <a:pt x="1924" y="138"/>
                  </a:lnTo>
                  <a:lnTo>
                    <a:pt x="1954" y="160"/>
                  </a:lnTo>
                  <a:lnTo>
                    <a:pt x="1980" y="186"/>
                  </a:lnTo>
                  <a:lnTo>
                    <a:pt x="2008" y="210"/>
                  </a:lnTo>
                  <a:lnTo>
                    <a:pt x="2032" y="238"/>
                  </a:lnTo>
                  <a:lnTo>
                    <a:pt x="2032" y="238"/>
                  </a:lnTo>
                  <a:lnTo>
                    <a:pt x="2060" y="228"/>
                  </a:lnTo>
                  <a:lnTo>
                    <a:pt x="2090" y="220"/>
                  </a:lnTo>
                  <a:lnTo>
                    <a:pt x="2122" y="212"/>
                  </a:lnTo>
                  <a:lnTo>
                    <a:pt x="2152" y="206"/>
                  </a:lnTo>
                  <a:lnTo>
                    <a:pt x="2184" y="202"/>
                  </a:lnTo>
                  <a:lnTo>
                    <a:pt x="2214" y="198"/>
                  </a:lnTo>
                  <a:lnTo>
                    <a:pt x="2246" y="196"/>
                  </a:lnTo>
                  <a:lnTo>
                    <a:pt x="2280" y="196"/>
                  </a:lnTo>
                  <a:lnTo>
                    <a:pt x="2280" y="196"/>
                  </a:lnTo>
                  <a:lnTo>
                    <a:pt x="2338" y="198"/>
                  </a:lnTo>
                  <a:lnTo>
                    <a:pt x="2394" y="204"/>
                  </a:lnTo>
                  <a:lnTo>
                    <a:pt x="2448" y="216"/>
                  </a:lnTo>
                  <a:lnTo>
                    <a:pt x="2500" y="230"/>
                  </a:lnTo>
                  <a:lnTo>
                    <a:pt x="2550" y="248"/>
                  </a:lnTo>
                  <a:lnTo>
                    <a:pt x="2598" y="268"/>
                  </a:lnTo>
                  <a:lnTo>
                    <a:pt x="2642" y="294"/>
                  </a:lnTo>
                  <a:lnTo>
                    <a:pt x="2682" y="320"/>
                  </a:lnTo>
                  <a:lnTo>
                    <a:pt x="2718" y="350"/>
                  </a:lnTo>
                  <a:lnTo>
                    <a:pt x="2752" y="384"/>
                  </a:lnTo>
                  <a:lnTo>
                    <a:pt x="2766" y="400"/>
                  </a:lnTo>
                  <a:lnTo>
                    <a:pt x="2780" y="418"/>
                  </a:lnTo>
                  <a:lnTo>
                    <a:pt x="2792" y="436"/>
                  </a:lnTo>
                  <a:lnTo>
                    <a:pt x="2804" y="456"/>
                  </a:lnTo>
                  <a:lnTo>
                    <a:pt x="2814" y="474"/>
                  </a:lnTo>
                  <a:lnTo>
                    <a:pt x="2824" y="494"/>
                  </a:lnTo>
                  <a:lnTo>
                    <a:pt x="2830" y="514"/>
                  </a:lnTo>
                  <a:lnTo>
                    <a:pt x="2838" y="534"/>
                  </a:lnTo>
                  <a:lnTo>
                    <a:pt x="2842" y="556"/>
                  </a:lnTo>
                  <a:lnTo>
                    <a:pt x="2846" y="576"/>
                  </a:lnTo>
                  <a:lnTo>
                    <a:pt x="2848" y="598"/>
                  </a:lnTo>
                  <a:lnTo>
                    <a:pt x="2848" y="620"/>
                  </a:lnTo>
                  <a:lnTo>
                    <a:pt x="2848" y="620"/>
                  </a:lnTo>
                  <a:lnTo>
                    <a:pt x="2848" y="654"/>
                  </a:lnTo>
                  <a:lnTo>
                    <a:pt x="2842" y="686"/>
                  </a:lnTo>
                  <a:lnTo>
                    <a:pt x="2842" y="686"/>
                  </a:lnTo>
                  <a:lnTo>
                    <a:pt x="2876" y="702"/>
                  </a:lnTo>
                  <a:lnTo>
                    <a:pt x="2908" y="718"/>
                  </a:lnTo>
                  <a:lnTo>
                    <a:pt x="2938" y="734"/>
                  </a:lnTo>
                  <a:lnTo>
                    <a:pt x="2966" y="754"/>
                  </a:lnTo>
                  <a:lnTo>
                    <a:pt x="2992" y="774"/>
                  </a:lnTo>
                  <a:lnTo>
                    <a:pt x="3018" y="796"/>
                  </a:lnTo>
                  <a:lnTo>
                    <a:pt x="3040" y="818"/>
                  </a:lnTo>
                  <a:lnTo>
                    <a:pt x="3060" y="842"/>
                  </a:lnTo>
                  <a:lnTo>
                    <a:pt x="3078" y="866"/>
                  </a:lnTo>
                  <a:lnTo>
                    <a:pt x="3094" y="892"/>
                  </a:lnTo>
                  <a:lnTo>
                    <a:pt x="3108" y="918"/>
                  </a:lnTo>
                  <a:lnTo>
                    <a:pt x="3120" y="946"/>
                  </a:lnTo>
                  <a:lnTo>
                    <a:pt x="3128" y="972"/>
                  </a:lnTo>
                  <a:lnTo>
                    <a:pt x="3136" y="1002"/>
                  </a:lnTo>
                  <a:lnTo>
                    <a:pt x="3140" y="1030"/>
                  </a:lnTo>
                  <a:lnTo>
                    <a:pt x="3140" y="1060"/>
                  </a:lnTo>
                  <a:lnTo>
                    <a:pt x="3140" y="1060"/>
                  </a:lnTo>
                  <a:lnTo>
                    <a:pt x="3140" y="1080"/>
                  </a:lnTo>
                  <a:lnTo>
                    <a:pt x="3138" y="1100"/>
                  </a:lnTo>
                  <a:lnTo>
                    <a:pt x="3134" y="1120"/>
                  </a:lnTo>
                  <a:lnTo>
                    <a:pt x="3130" y="1140"/>
                  </a:lnTo>
                  <a:lnTo>
                    <a:pt x="3124" y="1160"/>
                  </a:lnTo>
                  <a:lnTo>
                    <a:pt x="3118" y="1180"/>
                  </a:lnTo>
                  <a:lnTo>
                    <a:pt x="3108" y="1198"/>
                  </a:lnTo>
                  <a:lnTo>
                    <a:pt x="3100" y="1218"/>
                  </a:lnTo>
                  <a:lnTo>
                    <a:pt x="3078" y="1254"/>
                  </a:lnTo>
                  <a:lnTo>
                    <a:pt x="3052" y="1288"/>
                  </a:lnTo>
                  <a:lnTo>
                    <a:pt x="3020" y="1320"/>
                  </a:lnTo>
                  <a:lnTo>
                    <a:pt x="2986" y="1348"/>
                  </a:lnTo>
                  <a:lnTo>
                    <a:pt x="2950" y="1376"/>
                  </a:lnTo>
                  <a:lnTo>
                    <a:pt x="2908" y="1400"/>
                  </a:lnTo>
                  <a:lnTo>
                    <a:pt x="2866" y="1422"/>
                  </a:lnTo>
                  <a:lnTo>
                    <a:pt x="2818" y="1442"/>
                  </a:lnTo>
                  <a:lnTo>
                    <a:pt x="2770" y="1456"/>
                  </a:lnTo>
                  <a:lnTo>
                    <a:pt x="2718" y="1468"/>
                  </a:lnTo>
                  <a:lnTo>
                    <a:pt x="2664" y="1478"/>
                  </a:lnTo>
                  <a:lnTo>
                    <a:pt x="2610" y="1482"/>
                  </a:lnTo>
                  <a:lnTo>
                    <a:pt x="2610" y="1482"/>
                  </a:lnTo>
                  <a:lnTo>
                    <a:pt x="2590" y="1508"/>
                  </a:lnTo>
                  <a:lnTo>
                    <a:pt x="2568" y="1532"/>
                  </a:lnTo>
                  <a:lnTo>
                    <a:pt x="2544" y="1556"/>
                  </a:lnTo>
                  <a:lnTo>
                    <a:pt x="2520" y="1578"/>
                  </a:lnTo>
                  <a:lnTo>
                    <a:pt x="2492" y="1598"/>
                  </a:lnTo>
                  <a:lnTo>
                    <a:pt x="2464" y="1616"/>
                  </a:lnTo>
                  <a:lnTo>
                    <a:pt x="2432" y="1634"/>
                  </a:lnTo>
                  <a:lnTo>
                    <a:pt x="2400" y="1650"/>
                  </a:lnTo>
                  <a:lnTo>
                    <a:pt x="2368" y="1664"/>
                  </a:lnTo>
                  <a:lnTo>
                    <a:pt x="2332" y="1676"/>
                  </a:lnTo>
                  <a:lnTo>
                    <a:pt x="2296" y="1686"/>
                  </a:lnTo>
                  <a:lnTo>
                    <a:pt x="2260" y="1694"/>
                  </a:lnTo>
                  <a:lnTo>
                    <a:pt x="2222" y="1702"/>
                  </a:lnTo>
                  <a:lnTo>
                    <a:pt x="2184" y="1706"/>
                  </a:lnTo>
                  <a:lnTo>
                    <a:pt x="2144" y="1710"/>
                  </a:lnTo>
                  <a:lnTo>
                    <a:pt x="2104" y="1710"/>
                  </a:lnTo>
                  <a:lnTo>
                    <a:pt x="2104" y="1710"/>
                  </a:lnTo>
                  <a:lnTo>
                    <a:pt x="2044" y="1708"/>
                  </a:lnTo>
                  <a:lnTo>
                    <a:pt x="2014" y="1706"/>
                  </a:lnTo>
                  <a:lnTo>
                    <a:pt x="1984" y="1700"/>
                  </a:lnTo>
                  <a:lnTo>
                    <a:pt x="1954" y="1696"/>
                  </a:lnTo>
                  <a:lnTo>
                    <a:pt x="1926" y="1690"/>
                  </a:lnTo>
                  <a:lnTo>
                    <a:pt x="1898" y="1682"/>
                  </a:lnTo>
                  <a:lnTo>
                    <a:pt x="1870" y="1672"/>
                  </a:lnTo>
                  <a:lnTo>
                    <a:pt x="1870" y="1672"/>
                  </a:lnTo>
                  <a:lnTo>
                    <a:pt x="1834" y="1688"/>
                  </a:lnTo>
                  <a:lnTo>
                    <a:pt x="1798" y="1702"/>
                  </a:lnTo>
                  <a:lnTo>
                    <a:pt x="1760" y="1714"/>
                  </a:lnTo>
                  <a:lnTo>
                    <a:pt x="1722" y="1724"/>
                  </a:lnTo>
                  <a:lnTo>
                    <a:pt x="1682" y="1730"/>
                  </a:lnTo>
                  <a:lnTo>
                    <a:pt x="1642" y="1736"/>
                  </a:lnTo>
                  <a:lnTo>
                    <a:pt x="1602" y="1740"/>
                  </a:lnTo>
                  <a:lnTo>
                    <a:pt x="1560" y="1740"/>
                  </a:lnTo>
                  <a:lnTo>
                    <a:pt x="1560" y="1740"/>
                  </a:lnTo>
                  <a:lnTo>
                    <a:pt x="1522" y="1740"/>
                  </a:lnTo>
                  <a:lnTo>
                    <a:pt x="1486" y="1738"/>
                  </a:lnTo>
                  <a:lnTo>
                    <a:pt x="1448" y="1732"/>
                  </a:lnTo>
                  <a:lnTo>
                    <a:pt x="1412" y="1726"/>
                  </a:lnTo>
                  <a:lnTo>
                    <a:pt x="1376" y="1718"/>
                  </a:lnTo>
                  <a:lnTo>
                    <a:pt x="1342" y="1708"/>
                  </a:lnTo>
                  <a:lnTo>
                    <a:pt x="1308" y="1696"/>
                  </a:lnTo>
                  <a:lnTo>
                    <a:pt x="1274" y="1684"/>
                  </a:lnTo>
                  <a:lnTo>
                    <a:pt x="1274" y="1684"/>
                  </a:lnTo>
                  <a:lnTo>
                    <a:pt x="1232" y="1706"/>
                  </a:lnTo>
                  <a:lnTo>
                    <a:pt x="1188" y="1728"/>
                  </a:lnTo>
                  <a:lnTo>
                    <a:pt x="1142" y="1744"/>
                  </a:lnTo>
                  <a:lnTo>
                    <a:pt x="1094" y="1758"/>
                  </a:lnTo>
                  <a:lnTo>
                    <a:pt x="1044" y="1770"/>
                  </a:lnTo>
                  <a:lnTo>
                    <a:pt x="994" y="1778"/>
                  </a:lnTo>
                  <a:lnTo>
                    <a:pt x="942" y="1784"/>
                  </a:lnTo>
                  <a:lnTo>
                    <a:pt x="890" y="1786"/>
                  </a:lnTo>
                  <a:lnTo>
                    <a:pt x="890" y="1786"/>
                  </a:lnTo>
                  <a:close/>
                  <a:moveTo>
                    <a:pt x="910" y="228"/>
                  </a:moveTo>
                  <a:lnTo>
                    <a:pt x="910" y="228"/>
                  </a:lnTo>
                  <a:lnTo>
                    <a:pt x="838" y="230"/>
                  </a:lnTo>
                  <a:lnTo>
                    <a:pt x="768" y="236"/>
                  </a:lnTo>
                  <a:lnTo>
                    <a:pt x="700" y="246"/>
                  </a:lnTo>
                  <a:lnTo>
                    <a:pt x="636" y="262"/>
                  </a:lnTo>
                  <a:lnTo>
                    <a:pt x="574" y="278"/>
                  </a:lnTo>
                  <a:lnTo>
                    <a:pt x="516" y="300"/>
                  </a:lnTo>
                  <a:lnTo>
                    <a:pt x="462" y="324"/>
                  </a:lnTo>
                  <a:lnTo>
                    <a:pt x="412" y="352"/>
                  </a:lnTo>
                  <a:lnTo>
                    <a:pt x="388" y="366"/>
                  </a:lnTo>
                  <a:lnTo>
                    <a:pt x="366" y="382"/>
                  </a:lnTo>
                  <a:lnTo>
                    <a:pt x="346" y="398"/>
                  </a:lnTo>
                  <a:lnTo>
                    <a:pt x="326" y="414"/>
                  </a:lnTo>
                  <a:lnTo>
                    <a:pt x="308" y="432"/>
                  </a:lnTo>
                  <a:lnTo>
                    <a:pt x="292" y="450"/>
                  </a:lnTo>
                  <a:lnTo>
                    <a:pt x="276" y="468"/>
                  </a:lnTo>
                  <a:lnTo>
                    <a:pt x="262" y="486"/>
                  </a:lnTo>
                  <a:lnTo>
                    <a:pt x="248" y="506"/>
                  </a:lnTo>
                  <a:lnTo>
                    <a:pt x="238" y="526"/>
                  </a:lnTo>
                  <a:lnTo>
                    <a:pt x="228" y="546"/>
                  </a:lnTo>
                  <a:lnTo>
                    <a:pt x="220" y="566"/>
                  </a:lnTo>
                  <a:lnTo>
                    <a:pt x="214" y="586"/>
                  </a:lnTo>
                  <a:lnTo>
                    <a:pt x="210" y="608"/>
                  </a:lnTo>
                  <a:lnTo>
                    <a:pt x="206" y="630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08" y="676"/>
                  </a:lnTo>
                  <a:lnTo>
                    <a:pt x="210" y="700"/>
                  </a:lnTo>
                  <a:lnTo>
                    <a:pt x="218" y="726"/>
                  </a:lnTo>
                  <a:lnTo>
                    <a:pt x="226" y="750"/>
                  </a:lnTo>
                  <a:lnTo>
                    <a:pt x="230" y="762"/>
                  </a:lnTo>
                  <a:lnTo>
                    <a:pt x="218" y="770"/>
                  </a:lnTo>
                  <a:lnTo>
                    <a:pt x="218" y="770"/>
                  </a:lnTo>
                  <a:lnTo>
                    <a:pt x="196" y="782"/>
                  </a:lnTo>
                  <a:lnTo>
                    <a:pt x="176" y="796"/>
                  </a:lnTo>
                  <a:lnTo>
                    <a:pt x="158" y="810"/>
                  </a:lnTo>
                  <a:lnTo>
                    <a:pt x="140" y="826"/>
                  </a:lnTo>
                  <a:lnTo>
                    <a:pt x="122" y="840"/>
                  </a:lnTo>
                  <a:lnTo>
                    <a:pt x="106" y="858"/>
                  </a:lnTo>
                  <a:lnTo>
                    <a:pt x="92" y="874"/>
                  </a:lnTo>
                  <a:lnTo>
                    <a:pt x="80" y="892"/>
                  </a:lnTo>
                  <a:lnTo>
                    <a:pt x="68" y="910"/>
                  </a:lnTo>
                  <a:lnTo>
                    <a:pt x="60" y="928"/>
                  </a:lnTo>
                  <a:lnTo>
                    <a:pt x="50" y="946"/>
                  </a:lnTo>
                  <a:lnTo>
                    <a:pt x="44" y="966"/>
                  </a:lnTo>
                  <a:lnTo>
                    <a:pt x="38" y="984"/>
                  </a:lnTo>
                  <a:lnTo>
                    <a:pt x="34" y="1004"/>
                  </a:lnTo>
                  <a:lnTo>
                    <a:pt x="32" y="1024"/>
                  </a:lnTo>
                  <a:lnTo>
                    <a:pt x="32" y="1044"/>
                  </a:lnTo>
                  <a:lnTo>
                    <a:pt x="32" y="1044"/>
                  </a:lnTo>
                  <a:lnTo>
                    <a:pt x="32" y="1070"/>
                  </a:lnTo>
                  <a:lnTo>
                    <a:pt x="36" y="1094"/>
                  </a:lnTo>
                  <a:lnTo>
                    <a:pt x="42" y="1118"/>
                  </a:lnTo>
                  <a:lnTo>
                    <a:pt x="50" y="1142"/>
                  </a:lnTo>
                  <a:lnTo>
                    <a:pt x="62" y="1166"/>
                  </a:lnTo>
                  <a:lnTo>
                    <a:pt x="74" y="1188"/>
                  </a:lnTo>
                  <a:lnTo>
                    <a:pt x="88" y="1210"/>
                  </a:lnTo>
                  <a:lnTo>
                    <a:pt x="106" y="1230"/>
                  </a:lnTo>
                  <a:lnTo>
                    <a:pt x="124" y="1250"/>
                  </a:lnTo>
                  <a:lnTo>
                    <a:pt x="146" y="1270"/>
                  </a:lnTo>
                  <a:lnTo>
                    <a:pt x="168" y="1286"/>
                  </a:lnTo>
                  <a:lnTo>
                    <a:pt x="192" y="1304"/>
                  </a:lnTo>
                  <a:lnTo>
                    <a:pt x="218" y="1320"/>
                  </a:lnTo>
                  <a:lnTo>
                    <a:pt x="246" y="1334"/>
                  </a:lnTo>
                  <a:lnTo>
                    <a:pt x="274" y="1346"/>
                  </a:lnTo>
                  <a:lnTo>
                    <a:pt x="304" y="1358"/>
                  </a:lnTo>
                  <a:lnTo>
                    <a:pt x="314" y="1362"/>
                  </a:lnTo>
                  <a:lnTo>
                    <a:pt x="316" y="1370"/>
                  </a:lnTo>
                  <a:lnTo>
                    <a:pt x="316" y="1370"/>
                  </a:lnTo>
                  <a:lnTo>
                    <a:pt x="318" y="1390"/>
                  </a:lnTo>
                  <a:lnTo>
                    <a:pt x="322" y="1410"/>
                  </a:lnTo>
                  <a:lnTo>
                    <a:pt x="334" y="1446"/>
                  </a:lnTo>
                  <a:lnTo>
                    <a:pt x="352" y="1484"/>
                  </a:lnTo>
                  <a:lnTo>
                    <a:pt x="372" y="1518"/>
                  </a:lnTo>
                  <a:lnTo>
                    <a:pt x="398" y="1552"/>
                  </a:lnTo>
                  <a:lnTo>
                    <a:pt x="428" y="1584"/>
                  </a:lnTo>
                  <a:lnTo>
                    <a:pt x="460" y="1614"/>
                  </a:lnTo>
                  <a:lnTo>
                    <a:pt x="498" y="1642"/>
                  </a:lnTo>
                  <a:lnTo>
                    <a:pt x="498" y="1642"/>
                  </a:lnTo>
                  <a:lnTo>
                    <a:pt x="540" y="1666"/>
                  </a:lnTo>
                  <a:lnTo>
                    <a:pt x="584" y="1690"/>
                  </a:lnTo>
                  <a:lnTo>
                    <a:pt x="630" y="1708"/>
                  </a:lnTo>
                  <a:lnTo>
                    <a:pt x="680" y="1724"/>
                  </a:lnTo>
                  <a:lnTo>
                    <a:pt x="730" y="1738"/>
                  </a:lnTo>
                  <a:lnTo>
                    <a:pt x="782" y="1746"/>
                  </a:lnTo>
                  <a:lnTo>
                    <a:pt x="836" y="1752"/>
                  </a:lnTo>
                  <a:lnTo>
                    <a:pt x="890" y="1754"/>
                  </a:lnTo>
                  <a:lnTo>
                    <a:pt x="890" y="1754"/>
                  </a:lnTo>
                  <a:lnTo>
                    <a:pt x="942" y="1752"/>
                  </a:lnTo>
                  <a:lnTo>
                    <a:pt x="992" y="1746"/>
                  </a:lnTo>
                  <a:lnTo>
                    <a:pt x="1042" y="1738"/>
                  </a:lnTo>
                  <a:lnTo>
                    <a:pt x="1090" y="1728"/>
                  </a:lnTo>
                  <a:lnTo>
                    <a:pt x="1136" y="1714"/>
                  </a:lnTo>
                  <a:lnTo>
                    <a:pt x="1182" y="1696"/>
                  </a:lnTo>
                  <a:lnTo>
                    <a:pt x="1224" y="1676"/>
                  </a:lnTo>
                  <a:lnTo>
                    <a:pt x="1264" y="1652"/>
                  </a:lnTo>
                  <a:lnTo>
                    <a:pt x="1272" y="1648"/>
                  </a:lnTo>
                  <a:lnTo>
                    <a:pt x="1280" y="1652"/>
                  </a:lnTo>
                  <a:lnTo>
                    <a:pt x="1280" y="1652"/>
                  </a:lnTo>
                  <a:lnTo>
                    <a:pt x="1312" y="1664"/>
                  </a:lnTo>
                  <a:lnTo>
                    <a:pt x="1344" y="1676"/>
                  </a:lnTo>
                  <a:lnTo>
                    <a:pt x="1380" y="1686"/>
                  </a:lnTo>
                  <a:lnTo>
                    <a:pt x="1414" y="1694"/>
                  </a:lnTo>
                  <a:lnTo>
                    <a:pt x="1450" y="1700"/>
                  </a:lnTo>
                  <a:lnTo>
                    <a:pt x="1486" y="1706"/>
                  </a:lnTo>
                  <a:lnTo>
                    <a:pt x="1524" y="1708"/>
                  </a:lnTo>
                  <a:lnTo>
                    <a:pt x="1560" y="1710"/>
                  </a:lnTo>
                  <a:lnTo>
                    <a:pt x="1560" y="1710"/>
                  </a:lnTo>
                  <a:lnTo>
                    <a:pt x="1600" y="1708"/>
                  </a:lnTo>
                  <a:lnTo>
                    <a:pt x="1640" y="1704"/>
                  </a:lnTo>
                  <a:lnTo>
                    <a:pt x="1680" y="1700"/>
                  </a:lnTo>
                  <a:lnTo>
                    <a:pt x="1718" y="1692"/>
                  </a:lnTo>
                  <a:lnTo>
                    <a:pt x="1756" y="1682"/>
                  </a:lnTo>
                  <a:lnTo>
                    <a:pt x="1792" y="1670"/>
                  </a:lnTo>
                  <a:lnTo>
                    <a:pt x="1828" y="1658"/>
                  </a:lnTo>
                  <a:lnTo>
                    <a:pt x="1862" y="1642"/>
                  </a:lnTo>
                  <a:lnTo>
                    <a:pt x="1868" y="1638"/>
                  </a:lnTo>
                  <a:lnTo>
                    <a:pt x="1874" y="1640"/>
                  </a:lnTo>
                  <a:lnTo>
                    <a:pt x="1874" y="1640"/>
                  </a:lnTo>
                  <a:lnTo>
                    <a:pt x="1902" y="1650"/>
                  </a:lnTo>
                  <a:lnTo>
                    <a:pt x="1930" y="1658"/>
                  </a:lnTo>
                  <a:lnTo>
                    <a:pt x="1958" y="1664"/>
                  </a:lnTo>
                  <a:lnTo>
                    <a:pt x="1986" y="1670"/>
                  </a:lnTo>
                  <a:lnTo>
                    <a:pt x="2016" y="1674"/>
                  </a:lnTo>
                  <a:lnTo>
                    <a:pt x="2044" y="1676"/>
                  </a:lnTo>
                  <a:lnTo>
                    <a:pt x="2074" y="1678"/>
                  </a:lnTo>
                  <a:lnTo>
                    <a:pt x="2104" y="1678"/>
                  </a:lnTo>
                  <a:lnTo>
                    <a:pt x="2104" y="1678"/>
                  </a:lnTo>
                  <a:lnTo>
                    <a:pt x="2142" y="1678"/>
                  </a:lnTo>
                  <a:lnTo>
                    <a:pt x="2180" y="1674"/>
                  </a:lnTo>
                  <a:lnTo>
                    <a:pt x="2218" y="1670"/>
                  </a:lnTo>
                  <a:lnTo>
                    <a:pt x="2254" y="1664"/>
                  </a:lnTo>
                  <a:lnTo>
                    <a:pt x="2290" y="1656"/>
                  </a:lnTo>
                  <a:lnTo>
                    <a:pt x="2324" y="1644"/>
                  </a:lnTo>
                  <a:lnTo>
                    <a:pt x="2358" y="1634"/>
                  </a:lnTo>
                  <a:lnTo>
                    <a:pt x="2390" y="1620"/>
                  </a:lnTo>
                  <a:lnTo>
                    <a:pt x="2420" y="1604"/>
                  </a:lnTo>
                  <a:lnTo>
                    <a:pt x="2450" y="1588"/>
                  </a:lnTo>
                  <a:lnTo>
                    <a:pt x="2478" y="1570"/>
                  </a:lnTo>
                  <a:lnTo>
                    <a:pt x="2504" y="1550"/>
                  </a:lnTo>
                  <a:lnTo>
                    <a:pt x="2528" y="1530"/>
                  </a:lnTo>
                  <a:lnTo>
                    <a:pt x="2550" y="1506"/>
                  </a:lnTo>
                  <a:lnTo>
                    <a:pt x="2570" y="1484"/>
                  </a:lnTo>
                  <a:lnTo>
                    <a:pt x="2588" y="1458"/>
                  </a:lnTo>
                  <a:lnTo>
                    <a:pt x="2592" y="1452"/>
                  </a:lnTo>
                  <a:lnTo>
                    <a:pt x="2600" y="1452"/>
                  </a:lnTo>
                  <a:lnTo>
                    <a:pt x="2600" y="1452"/>
                  </a:lnTo>
                  <a:lnTo>
                    <a:pt x="2654" y="1448"/>
                  </a:lnTo>
                  <a:lnTo>
                    <a:pt x="2704" y="1440"/>
                  </a:lnTo>
                  <a:lnTo>
                    <a:pt x="2754" y="1428"/>
                  </a:lnTo>
                  <a:lnTo>
                    <a:pt x="2800" y="1414"/>
                  </a:lnTo>
                  <a:lnTo>
                    <a:pt x="2844" y="1398"/>
                  </a:lnTo>
                  <a:lnTo>
                    <a:pt x="2886" y="1378"/>
                  </a:lnTo>
                  <a:lnTo>
                    <a:pt x="2926" y="1354"/>
                  </a:lnTo>
                  <a:lnTo>
                    <a:pt x="2962" y="1330"/>
                  </a:lnTo>
                  <a:lnTo>
                    <a:pt x="2994" y="1302"/>
                  </a:lnTo>
                  <a:lnTo>
                    <a:pt x="3024" y="1272"/>
                  </a:lnTo>
                  <a:lnTo>
                    <a:pt x="3048" y="1240"/>
                  </a:lnTo>
                  <a:lnTo>
                    <a:pt x="3070" y="1206"/>
                  </a:lnTo>
                  <a:lnTo>
                    <a:pt x="3086" y="1172"/>
                  </a:lnTo>
                  <a:lnTo>
                    <a:pt x="3094" y="1154"/>
                  </a:lnTo>
                  <a:lnTo>
                    <a:pt x="3098" y="1136"/>
                  </a:lnTo>
                  <a:lnTo>
                    <a:pt x="3104" y="1116"/>
                  </a:lnTo>
                  <a:lnTo>
                    <a:pt x="3106" y="1098"/>
                  </a:lnTo>
                  <a:lnTo>
                    <a:pt x="3108" y="1078"/>
                  </a:lnTo>
                  <a:lnTo>
                    <a:pt x="3108" y="1060"/>
                  </a:lnTo>
                  <a:lnTo>
                    <a:pt x="3108" y="1060"/>
                  </a:lnTo>
                  <a:lnTo>
                    <a:pt x="3108" y="1032"/>
                  </a:lnTo>
                  <a:lnTo>
                    <a:pt x="3104" y="1004"/>
                  </a:lnTo>
                  <a:lnTo>
                    <a:pt x="3098" y="978"/>
                  </a:lnTo>
                  <a:lnTo>
                    <a:pt x="3088" y="952"/>
                  </a:lnTo>
                  <a:lnTo>
                    <a:pt x="3078" y="928"/>
                  </a:lnTo>
                  <a:lnTo>
                    <a:pt x="3064" y="902"/>
                  </a:lnTo>
                  <a:lnTo>
                    <a:pt x="3048" y="878"/>
                  </a:lnTo>
                  <a:lnTo>
                    <a:pt x="3030" y="856"/>
                  </a:lnTo>
                  <a:lnTo>
                    <a:pt x="3010" y="834"/>
                  </a:lnTo>
                  <a:lnTo>
                    <a:pt x="2988" y="812"/>
                  </a:lnTo>
                  <a:lnTo>
                    <a:pt x="2964" y="792"/>
                  </a:lnTo>
                  <a:lnTo>
                    <a:pt x="2940" y="774"/>
                  </a:lnTo>
                  <a:lnTo>
                    <a:pt x="2912" y="756"/>
                  </a:lnTo>
                  <a:lnTo>
                    <a:pt x="2882" y="740"/>
                  </a:lnTo>
                  <a:lnTo>
                    <a:pt x="2850" y="724"/>
                  </a:lnTo>
                  <a:lnTo>
                    <a:pt x="2818" y="710"/>
                  </a:lnTo>
                  <a:lnTo>
                    <a:pt x="2804" y="706"/>
                  </a:lnTo>
                  <a:lnTo>
                    <a:pt x="2808" y="692"/>
                  </a:lnTo>
                  <a:lnTo>
                    <a:pt x="2808" y="692"/>
                  </a:lnTo>
                  <a:lnTo>
                    <a:pt x="2816" y="656"/>
                  </a:lnTo>
                  <a:lnTo>
                    <a:pt x="2818" y="620"/>
                  </a:lnTo>
                  <a:lnTo>
                    <a:pt x="2818" y="620"/>
                  </a:lnTo>
                  <a:lnTo>
                    <a:pt x="2816" y="600"/>
                  </a:lnTo>
                  <a:lnTo>
                    <a:pt x="2814" y="580"/>
                  </a:lnTo>
                  <a:lnTo>
                    <a:pt x="2812" y="560"/>
                  </a:lnTo>
                  <a:lnTo>
                    <a:pt x="2806" y="542"/>
                  </a:lnTo>
                  <a:lnTo>
                    <a:pt x="2800" y="522"/>
                  </a:lnTo>
                  <a:lnTo>
                    <a:pt x="2794" y="504"/>
                  </a:lnTo>
                  <a:lnTo>
                    <a:pt x="2784" y="486"/>
                  </a:lnTo>
                  <a:lnTo>
                    <a:pt x="2776" y="468"/>
                  </a:lnTo>
                  <a:lnTo>
                    <a:pt x="2752" y="434"/>
                  </a:lnTo>
                  <a:lnTo>
                    <a:pt x="2726" y="400"/>
                  </a:lnTo>
                  <a:lnTo>
                    <a:pt x="2694" y="370"/>
                  </a:lnTo>
                  <a:lnTo>
                    <a:pt x="2660" y="342"/>
                  </a:lnTo>
                  <a:lnTo>
                    <a:pt x="2622" y="318"/>
                  </a:lnTo>
                  <a:lnTo>
                    <a:pt x="2580" y="294"/>
                  </a:lnTo>
                  <a:lnTo>
                    <a:pt x="2536" y="276"/>
                  </a:lnTo>
                  <a:lnTo>
                    <a:pt x="2488" y="258"/>
                  </a:lnTo>
                  <a:lnTo>
                    <a:pt x="2440" y="246"/>
                  </a:lnTo>
                  <a:lnTo>
                    <a:pt x="2388" y="236"/>
                  </a:lnTo>
                  <a:lnTo>
                    <a:pt x="2334" y="230"/>
                  </a:lnTo>
                  <a:lnTo>
                    <a:pt x="2280" y="228"/>
                  </a:lnTo>
                  <a:lnTo>
                    <a:pt x="2280" y="228"/>
                  </a:lnTo>
                  <a:lnTo>
                    <a:pt x="2246" y="228"/>
                  </a:lnTo>
                  <a:lnTo>
                    <a:pt x="2214" y="230"/>
                  </a:lnTo>
                  <a:lnTo>
                    <a:pt x="2184" y="234"/>
                  </a:lnTo>
                  <a:lnTo>
                    <a:pt x="2152" y="238"/>
                  </a:lnTo>
                  <a:lnTo>
                    <a:pt x="2122" y="244"/>
                  </a:lnTo>
                  <a:lnTo>
                    <a:pt x="2090" y="252"/>
                  </a:lnTo>
                  <a:lnTo>
                    <a:pt x="2062" y="262"/>
                  </a:lnTo>
                  <a:lnTo>
                    <a:pt x="2032" y="272"/>
                  </a:lnTo>
                  <a:lnTo>
                    <a:pt x="2022" y="276"/>
                  </a:lnTo>
                  <a:lnTo>
                    <a:pt x="2014" y="266"/>
                  </a:lnTo>
                  <a:lnTo>
                    <a:pt x="2014" y="266"/>
                  </a:lnTo>
                  <a:lnTo>
                    <a:pt x="1990" y="240"/>
                  </a:lnTo>
                  <a:lnTo>
                    <a:pt x="1966" y="214"/>
                  </a:lnTo>
                  <a:lnTo>
                    <a:pt x="1940" y="190"/>
                  </a:lnTo>
                  <a:lnTo>
                    <a:pt x="1912" y="168"/>
                  </a:lnTo>
                  <a:lnTo>
                    <a:pt x="1882" y="146"/>
                  </a:lnTo>
                  <a:lnTo>
                    <a:pt x="1850" y="128"/>
                  </a:lnTo>
                  <a:lnTo>
                    <a:pt x="1818" y="110"/>
                  </a:lnTo>
                  <a:lnTo>
                    <a:pt x="1784" y="94"/>
                  </a:lnTo>
                  <a:lnTo>
                    <a:pt x="1750" y="80"/>
                  </a:lnTo>
                  <a:lnTo>
                    <a:pt x="1714" y="66"/>
                  </a:lnTo>
                  <a:lnTo>
                    <a:pt x="1678" y="56"/>
                  </a:lnTo>
                  <a:lnTo>
                    <a:pt x="1640" y="46"/>
                  </a:lnTo>
                  <a:lnTo>
                    <a:pt x="1602" y="40"/>
                  </a:lnTo>
                  <a:lnTo>
                    <a:pt x="1562" y="34"/>
                  </a:lnTo>
                  <a:lnTo>
                    <a:pt x="1522" y="32"/>
                  </a:lnTo>
                  <a:lnTo>
                    <a:pt x="1482" y="30"/>
                  </a:lnTo>
                  <a:lnTo>
                    <a:pt x="1482" y="30"/>
                  </a:lnTo>
                  <a:lnTo>
                    <a:pt x="1446" y="32"/>
                  </a:lnTo>
                  <a:lnTo>
                    <a:pt x="1412" y="34"/>
                  </a:lnTo>
                  <a:lnTo>
                    <a:pt x="1376" y="38"/>
                  </a:lnTo>
                  <a:lnTo>
                    <a:pt x="1342" y="44"/>
                  </a:lnTo>
                  <a:lnTo>
                    <a:pt x="1308" y="52"/>
                  </a:lnTo>
                  <a:lnTo>
                    <a:pt x="1274" y="60"/>
                  </a:lnTo>
                  <a:lnTo>
                    <a:pt x="1240" y="70"/>
                  </a:lnTo>
                  <a:lnTo>
                    <a:pt x="1208" y="82"/>
                  </a:lnTo>
                  <a:lnTo>
                    <a:pt x="1178" y="94"/>
                  </a:lnTo>
                  <a:lnTo>
                    <a:pt x="1148" y="110"/>
                  </a:lnTo>
                  <a:lnTo>
                    <a:pt x="1118" y="126"/>
                  </a:lnTo>
                  <a:lnTo>
                    <a:pt x="1090" y="142"/>
                  </a:lnTo>
                  <a:lnTo>
                    <a:pt x="1062" y="162"/>
                  </a:lnTo>
                  <a:lnTo>
                    <a:pt x="1036" y="182"/>
                  </a:lnTo>
                  <a:lnTo>
                    <a:pt x="1012" y="202"/>
                  </a:lnTo>
                  <a:lnTo>
                    <a:pt x="988" y="224"/>
                  </a:lnTo>
                  <a:lnTo>
                    <a:pt x="984" y="230"/>
                  </a:lnTo>
                  <a:lnTo>
                    <a:pt x="976" y="230"/>
                  </a:lnTo>
                  <a:lnTo>
                    <a:pt x="976" y="230"/>
                  </a:lnTo>
                  <a:lnTo>
                    <a:pt x="910" y="228"/>
                  </a:lnTo>
                  <a:lnTo>
                    <a:pt x="910" y="22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62"/>
          <p:cNvGrpSpPr/>
          <p:nvPr/>
        </p:nvGrpSpPr>
        <p:grpSpPr>
          <a:xfrm>
            <a:off x="-2357280" y="11279160"/>
            <a:ext cx="4305240" cy="2457360"/>
            <a:chOff x="-2357280" y="11279160"/>
            <a:chExt cx="4305240" cy="2457360"/>
          </a:xfrm>
        </p:grpSpPr>
        <p:sp>
          <p:nvSpPr>
            <p:cNvPr id="97" name="Freeform 20"/>
            <p:cNvSpPr/>
            <p:nvPr/>
          </p:nvSpPr>
          <p:spPr>
            <a:xfrm>
              <a:off x="-2325240" y="11310840"/>
              <a:ext cx="4241880" cy="2394000"/>
            </a:xfrm>
            <a:custGeom>
              <a:avLst/>
              <a:gdLst>
                <a:gd name="textAreaLeft" fmla="*/ 0 w 4241880"/>
                <a:gd name="textAreaRight" fmla="*/ 4242240 w 424188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672" h="1508">
                  <a:moveTo>
                    <a:pt x="2672" y="896"/>
                  </a:moveTo>
                  <a:lnTo>
                    <a:pt x="2672" y="896"/>
                  </a:lnTo>
                  <a:lnTo>
                    <a:pt x="2672" y="872"/>
                  </a:lnTo>
                  <a:lnTo>
                    <a:pt x="2668" y="846"/>
                  </a:lnTo>
                  <a:lnTo>
                    <a:pt x="2662" y="822"/>
                  </a:lnTo>
                  <a:lnTo>
                    <a:pt x="2654" y="798"/>
                  </a:lnTo>
                  <a:lnTo>
                    <a:pt x="2644" y="776"/>
                  </a:lnTo>
                  <a:lnTo>
                    <a:pt x="2632" y="754"/>
                  </a:lnTo>
                  <a:lnTo>
                    <a:pt x="2618" y="732"/>
                  </a:lnTo>
                  <a:lnTo>
                    <a:pt x="2600" y="712"/>
                  </a:lnTo>
                  <a:lnTo>
                    <a:pt x="2584" y="692"/>
                  </a:lnTo>
                  <a:lnTo>
                    <a:pt x="2564" y="674"/>
                  </a:lnTo>
                  <a:lnTo>
                    <a:pt x="2542" y="656"/>
                  </a:lnTo>
                  <a:lnTo>
                    <a:pt x="2520" y="638"/>
                  </a:lnTo>
                  <a:lnTo>
                    <a:pt x="2494" y="624"/>
                  </a:lnTo>
                  <a:lnTo>
                    <a:pt x="2470" y="610"/>
                  </a:lnTo>
                  <a:lnTo>
                    <a:pt x="2442" y="596"/>
                  </a:lnTo>
                  <a:lnTo>
                    <a:pt x="2414" y="584"/>
                  </a:lnTo>
                  <a:lnTo>
                    <a:pt x="2414" y="584"/>
                  </a:lnTo>
                  <a:lnTo>
                    <a:pt x="2420" y="552"/>
                  </a:lnTo>
                  <a:lnTo>
                    <a:pt x="2422" y="520"/>
                  </a:lnTo>
                  <a:lnTo>
                    <a:pt x="2422" y="520"/>
                  </a:lnTo>
                  <a:lnTo>
                    <a:pt x="2422" y="502"/>
                  </a:lnTo>
                  <a:lnTo>
                    <a:pt x="2420" y="484"/>
                  </a:lnTo>
                  <a:lnTo>
                    <a:pt x="2416" y="466"/>
                  </a:lnTo>
                  <a:lnTo>
                    <a:pt x="2412" y="448"/>
                  </a:lnTo>
                  <a:lnTo>
                    <a:pt x="2400" y="414"/>
                  </a:lnTo>
                  <a:lnTo>
                    <a:pt x="2384" y="382"/>
                  </a:lnTo>
                  <a:lnTo>
                    <a:pt x="2364" y="352"/>
                  </a:lnTo>
                  <a:lnTo>
                    <a:pt x="2340" y="324"/>
                  </a:lnTo>
                  <a:lnTo>
                    <a:pt x="2314" y="296"/>
                  </a:lnTo>
                  <a:lnTo>
                    <a:pt x="2282" y="272"/>
                  </a:lnTo>
                  <a:lnTo>
                    <a:pt x="2248" y="248"/>
                  </a:lnTo>
                  <a:lnTo>
                    <a:pt x="2212" y="228"/>
                  </a:lnTo>
                  <a:lnTo>
                    <a:pt x="2174" y="210"/>
                  </a:lnTo>
                  <a:lnTo>
                    <a:pt x="2132" y="196"/>
                  </a:lnTo>
                  <a:lnTo>
                    <a:pt x="2088" y="184"/>
                  </a:lnTo>
                  <a:lnTo>
                    <a:pt x="2042" y="176"/>
                  </a:lnTo>
                  <a:lnTo>
                    <a:pt x="1994" y="170"/>
                  </a:lnTo>
                  <a:lnTo>
                    <a:pt x="1946" y="168"/>
                  </a:lnTo>
                  <a:lnTo>
                    <a:pt x="1946" y="168"/>
                  </a:lnTo>
                  <a:lnTo>
                    <a:pt x="1916" y="170"/>
                  </a:lnTo>
                  <a:lnTo>
                    <a:pt x="1888" y="170"/>
                  </a:lnTo>
                  <a:lnTo>
                    <a:pt x="1860" y="174"/>
                  </a:lnTo>
                  <a:lnTo>
                    <a:pt x="1832" y="178"/>
                  </a:lnTo>
                  <a:lnTo>
                    <a:pt x="1806" y="184"/>
                  </a:lnTo>
                  <a:lnTo>
                    <a:pt x="1780" y="190"/>
                  </a:lnTo>
                  <a:lnTo>
                    <a:pt x="1754" y="198"/>
                  </a:lnTo>
                  <a:lnTo>
                    <a:pt x="1728" y="208"/>
                  </a:lnTo>
                  <a:lnTo>
                    <a:pt x="1728" y="208"/>
                  </a:lnTo>
                  <a:lnTo>
                    <a:pt x="1708" y="184"/>
                  </a:lnTo>
                  <a:lnTo>
                    <a:pt x="1688" y="162"/>
                  </a:lnTo>
                  <a:lnTo>
                    <a:pt x="1666" y="142"/>
                  </a:lnTo>
                  <a:lnTo>
                    <a:pt x="1640" y="122"/>
                  </a:lnTo>
                  <a:lnTo>
                    <a:pt x="1616" y="104"/>
                  </a:lnTo>
                  <a:lnTo>
                    <a:pt x="1588" y="86"/>
                  </a:lnTo>
                  <a:lnTo>
                    <a:pt x="1560" y="70"/>
                  </a:lnTo>
                  <a:lnTo>
                    <a:pt x="1530" y="56"/>
                  </a:lnTo>
                  <a:lnTo>
                    <a:pt x="1500" y="44"/>
                  </a:lnTo>
                  <a:lnTo>
                    <a:pt x="1468" y="32"/>
                  </a:lnTo>
                  <a:lnTo>
                    <a:pt x="1436" y="22"/>
                  </a:lnTo>
                  <a:lnTo>
                    <a:pt x="1402" y="14"/>
                  </a:lnTo>
                  <a:lnTo>
                    <a:pt x="1368" y="8"/>
                  </a:lnTo>
                  <a:lnTo>
                    <a:pt x="1334" y="2"/>
                  </a:lnTo>
                  <a:lnTo>
                    <a:pt x="1298" y="0"/>
                  </a:lnTo>
                  <a:lnTo>
                    <a:pt x="1262" y="0"/>
                  </a:lnTo>
                  <a:lnTo>
                    <a:pt x="1262" y="0"/>
                  </a:lnTo>
                  <a:lnTo>
                    <a:pt x="1228" y="0"/>
                  </a:lnTo>
                  <a:lnTo>
                    <a:pt x="1196" y="2"/>
                  </a:lnTo>
                  <a:lnTo>
                    <a:pt x="1164" y="6"/>
                  </a:lnTo>
                  <a:lnTo>
                    <a:pt x="1134" y="12"/>
                  </a:lnTo>
                  <a:lnTo>
                    <a:pt x="1104" y="18"/>
                  </a:lnTo>
                  <a:lnTo>
                    <a:pt x="1074" y="26"/>
                  </a:lnTo>
                  <a:lnTo>
                    <a:pt x="1044" y="34"/>
                  </a:lnTo>
                  <a:lnTo>
                    <a:pt x="1016" y="46"/>
                  </a:lnTo>
                  <a:lnTo>
                    <a:pt x="990" y="58"/>
                  </a:lnTo>
                  <a:lnTo>
                    <a:pt x="964" y="70"/>
                  </a:lnTo>
                  <a:lnTo>
                    <a:pt x="938" y="84"/>
                  </a:lnTo>
                  <a:lnTo>
                    <a:pt x="914" y="100"/>
                  </a:lnTo>
                  <a:lnTo>
                    <a:pt x="890" y="116"/>
                  </a:lnTo>
                  <a:lnTo>
                    <a:pt x="868" y="132"/>
                  </a:lnTo>
                  <a:lnTo>
                    <a:pt x="846" y="150"/>
                  </a:lnTo>
                  <a:lnTo>
                    <a:pt x="826" y="170"/>
                  </a:lnTo>
                  <a:lnTo>
                    <a:pt x="826" y="170"/>
                  </a:lnTo>
                  <a:lnTo>
                    <a:pt x="768" y="168"/>
                  </a:lnTo>
                  <a:lnTo>
                    <a:pt x="768" y="168"/>
                  </a:lnTo>
                  <a:lnTo>
                    <a:pt x="706" y="170"/>
                  </a:lnTo>
                  <a:lnTo>
                    <a:pt x="644" y="176"/>
                  </a:lnTo>
                  <a:lnTo>
                    <a:pt x="584" y="186"/>
                  </a:lnTo>
                  <a:lnTo>
                    <a:pt x="528" y="198"/>
                  </a:lnTo>
                  <a:lnTo>
                    <a:pt x="474" y="214"/>
                  </a:lnTo>
                  <a:lnTo>
                    <a:pt x="422" y="232"/>
                  </a:lnTo>
                  <a:lnTo>
                    <a:pt x="376" y="254"/>
                  </a:lnTo>
                  <a:lnTo>
                    <a:pt x="332" y="278"/>
                  </a:lnTo>
                  <a:lnTo>
                    <a:pt x="292" y="306"/>
                  </a:lnTo>
                  <a:lnTo>
                    <a:pt x="256" y="334"/>
                  </a:lnTo>
                  <a:lnTo>
                    <a:pt x="224" y="366"/>
                  </a:lnTo>
                  <a:lnTo>
                    <a:pt x="212" y="382"/>
                  </a:lnTo>
                  <a:lnTo>
                    <a:pt x="198" y="398"/>
                  </a:lnTo>
                  <a:lnTo>
                    <a:pt x="188" y="416"/>
                  </a:lnTo>
                  <a:lnTo>
                    <a:pt x="178" y="434"/>
                  </a:lnTo>
                  <a:lnTo>
                    <a:pt x="170" y="452"/>
                  </a:lnTo>
                  <a:lnTo>
                    <a:pt x="162" y="470"/>
                  </a:lnTo>
                  <a:lnTo>
                    <a:pt x="158" y="488"/>
                  </a:lnTo>
                  <a:lnTo>
                    <a:pt x="154" y="508"/>
                  </a:lnTo>
                  <a:lnTo>
                    <a:pt x="152" y="526"/>
                  </a:lnTo>
                  <a:lnTo>
                    <a:pt x="150" y="546"/>
                  </a:lnTo>
                  <a:lnTo>
                    <a:pt x="150" y="546"/>
                  </a:lnTo>
                  <a:lnTo>
                    <a:pt x="152" y="568"/>
                  </a:lnTo>
                  <a:lnTo>
                    <a:pt x="154" y="592"/>
                  </a:lnTo>
                  <a:lnTo>
                    <a:pt x="160" y="614"/>
                  </a:lnTo>
                  <a:lnTo>
                    <a:pt x="168" y="636"/>
                  </a:lnTo>
                  <a:lnTo>
                    <a:pt x="168" y="636"/>
                  </a:lnTo>
                  <a:lnTo>
                    <a:pt x="132" y="658"/>
                  </a:lnTo>
                  <a:lnTo>
                    <a:pt x="98" y="684"/>
                  </a:lnTo>
                  <a:lnTo>
                    <a:pt x="70" y="712"/>
                  </a:lnTo>
                  <a:lnTo>
                    <a:pt x="58" y="728"/>
                  </a:lnTo>
                  <a:lnTo>
                    <a:pt x="46" y="744"/>
                  </a:lnTo>
                  <a:lnTo>
                    <a:pt x="36" y="760"/>
                  </a:lnTo>
                  <a:lnTo>
                    <a:pt x="26" y="776"/>
                  </a:lnTo>
                  <a:lnTo>
                    <a:pt x="18" y="794"/>
                  </a:lnTo>
                  <a:lnTo>
                    <a:pt x="12" y="810"/>
                  </a:lnTo>
                  <a:lnTo>
                    <a:pt x="6" y="828"/>
                  </a:lnTo>
                  <a:lnTo>
                    <a:pt x="2" y="846"/>
                  </a:lnTo>
                  <a:lnTo>
                    <a:pt x="0" y="866"/>
                  </a:lnTo>
                  <a:lnTo>
                    <a:pt x="0" y="884"/>
                  </a:lnTo>
                  <a:lnTo>
                    <a:pt x="0" y="884"/>
                  </a:lnTo>
                  <a:lnTo>
                    <a:pt x="2" y="908"/>
                  </a:lnTo>
                  <a:lnTo>
                    <a:pt x="4" y="930"/>
                  </a:lnTo>
                  <a:lnTo>
                    <a:pt x="10" y="952"/>
                  </a:lnTo>
                  <a:lnTo>
                    <a:pt x="18" y="974"/>
                  </a:lnTo>
                  <a:lnTo>
                    <a:pt x="28" y="996"/>
                  </a:lnTo>
                  <a:lnTo>
                    <a:pt x="40" y="1016"/>
                  </a:lnTo>
                  <a:lnTo>
                    <a:pt x="52" y="1034"/>
                  </a:lnTo>
                  <a:lnTo>
                    <a:pt x="68" y="1054"/>
                  </a:lnTo>
                  <a:lnTo>
                    <a:pt x="86" y="1072"/>
                  </a:lnTo>
                  <a:lnTo>
                    <a:pt x="104" y="1088"/>
                  </a:lnTo>
                  <a:lnTo>
                    <a:pt x="124" y="1104"/>
                  </a:lnTo>
                  <a:lnTo>
                    <a:pt x="146" y="1120"/>
                  </a:lnTo>
                  <a:lnTo>
                    <a:pt x="168" y="1132"/>
                  </a:lnTo>
                  <a:lnTo>
                    <a:pt x="192" y="1146"/>
                  </a:lnTo>
                  <a:lnTo>
                    <a:pt x="218" y="1156"/>
                  </a:lnTo>
                  <a:lnTo>
                    <a:pt x="244" y="1166"/>
                  </a:lnTo>
                  <a:lnTo>
                    <a:pt x="244" y="1166"/>
                  </a:lnTo>
                  <a:lnTo>
                    <a:pt x="252" y="1202"/>
                  </a:lnTo>
                  <a:lnTo>
                    <a:pt x="262" y="1236"/>
                  </a:lnTo>
                  <a:lnTo>
                    <a:pt x="278" y="1268"/>
                  </a:lnTo>
                  <a:lnTo>
                    <a:pt x="296" y="1300"/>
                  </a:lnTo>
                  <a:lnTo>
                    <a:pt x="320" y="1330"/>
                  </a:lnTo>
                  <a:lnTo>
                    <a:pt x="346" y="1358"/>
                  </a:lnTo>
                  <a:lnTo>
                    <a:pt x="374" y="1384"/>
                  </a:lnTo>
                  <a:lnTo>
                    <a:pt x="408" y="1408"/>
                  </a:lnTo>
                  <a:lnTo>
                    <a:pt x="442" y="1430"/>
                  </a:lnTo>
                  <a:lnTo>
                    <a:pt x="480" y="1450"/>
                  </a:lnTo>
                  <a:lnTo>
                    <a:pt x="522" y="1466"/>
                  </a:lnTo>
                  <a:lnTo>
                    <a:pt x="564" y="1480"/>
                  </a:lnTo>
                  <a:lnTo>
                    <a:pt x="608" y="1492"/>
                  </a:lnTo>
                  <a:lnTo>
                    <a:pt x="654" y="1500"/>
                  </a:lnTo>
                  <a:lnTo>
                    <a:pt x="702" y="1506"/>
                  </a:lnTo>
                  <a:lnTo>
                    <a:pt x="752" y="1508"/>
                  </a:lnTo>
                  <a:lnTo>
                    <a:pt x="752" y="1508"/>
                  </a:lnTo>
                  <a:lnTo>
                    <a:pt x="798" y="1506"/>
                  </a:lnTo>
                  <a:lnTo>
                    <a:pt x="844" y="1502"/>
                  </a:lnTo>
                  <a:lnTo>
                    <a:pt x="888" y="1494"/>
                  </a:lnTo>
                  <a:lnTo>
                    <a:pt x="930" y="1484"/>
                  </a:lnTo>
                  <a:lnTo>
                    <a:pt x="970" y="1470"/>
                  </a:lnTo>
                  <a:lnTo>
                    <a:pt x="1010" y="1456"/>
                  </a:lnTo>
                  <a:lnTo>
                    <a:pt x="1046" y="1438"/>
                  </a:lnTo>
                  <a:lnTo>
                    <a:pt x="1080" y="1418"/>
                  </a:lnTo>
                  <a:lnTo>
                    <a:pt x="1080" y="1418"/>
                  </a:lnTo>
                  <a:lnTo>
                    <a:pt x="1108" y="1430"/>
                  </a:lnTo>
                  <a:lnTo>
                    <a:pt x="1138" y="1440"/>
                  </a:lnTo>
                  <a:lnTo>
                    <a:pt x="1166" y="1448"/>
                  </a:lnTo>
                  <a:lnTo>
                    <a:pt x="1198" y="1456"/>
                  </a:lnTo>
                  <a:lnTo>
                    <a:pt x="1230" y="1462"/>
                  </a:lnTo>
                  <a:lnTo>
                    <a:pt x="1262" y="1466"/>
                  </a:lnTo>
                  <a:lnTo>
                    <a:pt x="1294" y="1468"/>
                  </a:lnTo>
                  <a:lnTo>
                    <a:pt x="1328" y="1468"/>
                  </a:lnTo>
                  <a:lnTo>
                    <a:pt x="1328" y="1468"/>
                  </a:lnTo>
                  <a:lnTo>
                    <a:pt x="1364" y="1468"/>
                  </a:lnTo>
                  <a:lnTo>
                    <a:pt x="1400" y="1464"/>
                  </a:lnTo>
                  <a:lnTo>
                    <a:pt x="1436" y="1460"/>
                  </a:lnTo>
                  <a:lnTo>
                    <a:pt x="1468" y="1454"/>
                  </a:lnTo>
                  <a:lnTo>
                    <a:pt x="1502" y="1444"/>
                  </a:lnTo>
                  <a:lnTo>
                    <a:pt x="1534" y="1434"/>
                  </a:lnTo>
                  <a:lnTo>
                    <a:pt x="1564" y="1422"/>
                  </a:lnTo>
                  <a:lnTo>
                    <a:pt x="1594" y="1410"/>
                  </a:lnTo>
                  <a:lnTo>
                    <a:pt x="1594" y="1410"/>
                  </a:lnTo>
                  <a:lnTo>
                    <a:pt x="1640" y="1424"/>
                  </a:lnTo>
                  <a:lnTo>
                    <a:pt x="1690" y="1434"/>
                  </a:lnTo>
                  <a:lnTo>
                    <a:pt x="1742" y="1440"/>
                  </a:lnTo>
                  <a:lnTo>
                    <a:pt x="1796" y="1442"/>
                  </a:lnTo>
                  <a:lnTo>
                    <a:pt x="1796" y="1442"/>
                  </a:lnTo>
                  <a:lnTo>
                    <a:pt x="1830" y="1442"/>
                  </a:lnTo>
                  <a:lnTo>
                    <a:pt x="1864" y="1440"/>
                  </a:lnTo>
                  <a:lnTo>
                    <a:pt x="1898" y="1434"/>
                  </a:lnTo>
                  <a:lnTo>
                    <a:pt x="1930" y="1428"/>
                  </a:lnTo>
                  <a:lnTo>
                    <a:pt x="1962" y="1420"/>
                  </a:lnTo>
                  <a:lnTo>
                    <a:pt x="1992" y="1412"/>
                  </a:lnTo>
                  <a:lnTo>
                    <a:pt x="2022" y="1400"/>
                  </a:lnTo>
                  <a:lnTo>
                    <a:pt x="2050" y="1388"/>
                  </a:lnTo>
                  <a:lnTo>
                    <a:pt x="2078" y="1374"/>
                  </a:lnTo>
                  <a:lnTo>
                    <a:pt x="2102" y="1360"/>
                  </a:lnTo>
                  <a:lnTo>
                    <a:pt x="2128" y="1344"/>
                  </a:lnTo>
                  <a:lnTo>
                    <a:pt x="2150" y="1326"/>
                  </a:lnTo>
                  <a:lnTo>
                    <a:pt x="2170" y="1308"/>
                  </a:lnTo>
                  <a:lnTo>
                    <a:pt x="2190" y="1288"/>
                  </a:lnTo>
                  <a:lnTo>
                    <a:pt x="2208" y="1268"/>
                  </a:lnTo>
                  <a:lnTo>
                    <a:pt x="2222" y="1248"/>
                  </a:lnTo>
                  <a:lnTo>
                    <a:pt x="2222" y="1248"/>
                  </a:lnTo>
                  <a:lnTo>
                    <a:pt x="2270" y="1244"/>
                  </a:lnTo>
                  <a:lnTo>
                    <a:pt x="2314" y="1236"/>
                  </a:lnTo>
                  <a:lnTo>
                    <a:pt x="2358" y="1228"/>
                  </a:lnTo>
                  <a:lnTo>
                    <a:pt x="2398" y="1214"/>
                  </a:lnTo>
                  <a:lnTo>
                    <a:pt x="2438" y="1200"/>
                  </a:lnTo>
                  <a:lnTo>
                    <a:pt x="2476" y="1182"/>
                  </a:lnTo>
                  <a:lnTo>
                    <a:pt x="2510" y="1160"/>
                  </a:lnTo>
                  <a:lnTo>
                    <a:pt x="2542" y="1138"/>
                  </a:lnTo>
                  <a:lnTo>
                    <a:pt x="2570" y="1114"/>
                  </a:lnTo>
                  <a:lnTo>
                    <a:pt x="2596" y="1088"/>
                  </a:lnTo>
                  <a:lnTo>
                    <a:pt x="2618" y="1060"/>
                  </a:lnTo>
                  <a:lnTo>
                    <a:pt x="2638" y="1030"/>
                  </a:lnTo>
                  <a:lnTo>
                    <a:pt x="2652" y="998"/>
                  </a:lnTo>
                  <a:lnTo>
                    <a:pt x="2664" y="966"/>
                  </a:lnTo>
                  <a:lnTo>
                    <a:pt x="2670" y="932"/>
                  </a:lnTo>
                  <a:lnTo>
                    <a:pt x="2672" y="896"/>
                  </a:lnTo>
                  <a:lnTo>
                    <a:pt x="2672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-2357280" y="11279160"/>
              <a:ext cx="4305240" cy="2457360"/>
            </a:xfrm>
            <a:custGeom>
              <a:avLst/>
              <a:gdLst>
                <a:gd name="textAreaLeft" fmla="*/ 0 w 4305240"/>
                <a:gd name="textAreaRight" fmla="*/ 4305600 w 430524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2712" h="1548">
                  <a:moveTo>
                    <a:pt x="772" y="1548"/>
                  </a:moveTo>
                  <a:lnTo>
                    <a:pt x="772" y="1548"/>
                  </a:lnTo>
                  <a:lnTo>
                    <a:pt x="722" y="1546"/>
                  </a:lnTo>
                  <a:lnTo>
                    <a:pt x="674" y="1540"/>
                  </a:lnTo>
                  <a:lnTo>
                    <a:pt x="626" y="1532"/>
                  </a:lnTo>
                  <a:lnTo>
                    <a:pt x="580" y="1522"/>
                  </a:lnTo>
                  <a:lnTo>
                    <a:pt x="538" y="1506"/>
                  </a:lnTo>
                  <a:lnTo>
                    <a:pt x="496" y="1490"/>
                  </a:lnTo>
                  <a:lnTo>
                    <a:pt x="456" y="1470"/>
                  </a:lnTo>
                  <a:lnTo>
                    <a:pt x="420" y="1448"/>
                  </a:lnTo>
                  <a:lnTo>
                    <a:pt x="386" y="1424"/>
                  </a:lnTo>
                  <a:lnTo>
                    <a:pt x="356" y="1398"/>
                  </a:lnTo>
                  <a:lnTo>
                    <a:pt x="328" y="1370"/>
                  </a:lnTo>
                  <a:lnTo>
                    <a:pt x="304" y="1338"/>
                  </a:lnTo>
                  <a:lnTo>
                    <a:pt x="284" y="1306"/>
                  </a:lnTo>
                  <a:lnTo>
                    <a:pt x="268" y="1274"/>
                  </a:lnTo>
                  <a:lnTo>
                    <a:pt x="254" y="1238"/>
                  </a:lnTo>
                  <a:lnTo>
                    <a:pt x="246" y="1202"/>
                  </a:lnTo>
                  <a:lnTo>
                    <a:pt x="246" y="1202"/>
                  </a:lnTo>
                  <a:lnTo>
                    <a:pt x="218" y="1190"/>
                  </a:lnTo>
                  <a:lnTo>
                    <a:pt x="192" y="1178"/>
                  </a:lnTo>
                  <a:lnTo>
                    <a:pt x="168" y="1164"/>
                  </a:lnTo>
                  <a:lnTo>
                    <a:pt x="144" y="1150"/>
                  </a:lnTo>
                  <a:lnTo>
                    <a:pt x="122" y="1134"/>
                  </a:lnTo>
                  <a:lnTo>
                    <a:pt x="102" y="1116"/>
                  </a:lnTo>
                  <a:lnTo>
                    <a:pt x="84" y="1098"/>
                  </a:lnTo>
                  <a:lnTo>
                    <a:pt x="66" y="1080"/>
                  </a:lnTo>
                  <a:lnTo>
                    <a:pt x="52" y="1060"/>
                  </a:lnTo>
                  <a:lnTo>
                    <a:pt x="38" y="1040"/>
                  </a:lnTo>
                  <a:lnTo>
                    <a:pt x="26" y="1018"/>
                  </a:lnTo>
                  <a:lnTo>
                    <a:pt x="18" y="996"/>
                  </a:lnTo>
                  <a:lnTo>
                    <a:pt x="10" y="974"/>
                  </a:lnTo>
                  <a:lnTo>
                    <a:pt x="4" y="950"/>
                  </a:lnTo>
                  <a:lnTo>
                    <a:pt x="0" y="928"/>
                  </a:lnTo>
                  <a:lnTo>
                    <a:pt x="0" y="904"/>
                  </a:lnTo>
                  <a:lnTo>
                    <a:pt x="0" y="904"/>
                  </a:lnTo>
                  <a:lnTo>
                    <a:pt x="0" y="886"/>
                  </a:lnTo>
                  <a:lnTo>
                    <a:pt x="2" y="866"/>
                  </a:lnTo>
                  <a:lnTo>
                    <a:pt x="6" y="848"/>
                  </a:lnTo>
                  <a:lnTo>
                    <a:pt x="10" y="830"/>
                  </a:lnTo>
                  <a:lnTo>
                    <a:pt x="16" y="812"/>
                  </a:lnTo>
                  <a:lnTo>
                    <a:pt x="24" y="794"/>
                  </a:lnTo>
                  <a:lnTo>
                    <a:pt x="32" y="778"/>
                  </a:lnTo>
                  <a:lnTo>
                    <a:pt x="42" y="762"/>
                  </a:lnTo>
                  <a:lnTo>
                    <a:pt x="54" y="746"/>
                  </a:lnTo>
                  <a:lnTo>
                    <a:pt x="66" y="730"/>
                  </a:lnTo>
                  <a:lnTo>
                    <a:pt x="80" y="714"/>
                  </a:lnTo>
                  <a:lnTo>
                    <a:pt x="94" y="700"/>
                  </a:lnTo>
                  <a:lnTo>
                    <a:pt x="126" y="672"/>
                  </a:lnTo>
                  <a:lnTo>
                    <a:pt x="164" y="646"/>
                  </a:lnTo>
                  <a:lnTo>
                    <a:pt x="164" y="646"/>
                  </a:lnTo>
                  <a:lnTo>
                    <a:pt x="158" y="626"/>
                  </a:lnTo>
                  <a:lnTo>
                    <a:pt x="154" y="606"/>
                  </a:lnTo>
                  <a:lnTo>
                    <a:pt x="150" y="586"/>
                  </a:lnTo>
                  <a:lnTo>
                    <a:pt x="150" y="566"/>
                  </a:lnTo>
                  <a:lnTo>
                    <a:pt x="150" y="566"/>
                  </a:lnTo>
                  <a:lnTo>
                    <a:pt x="150" y="546"/>
                  </a:lnTo>
                  <a:lnTo>
                    <a:pt x="154" y="526"/>
                  </a:lnTo>
                  <a:lnTo>
                    <a:pt x="158" y="506"/>
                  </a:lnTo>
                  <a:lnTo>
                    <a:pt x="164" y="486"/>
                  </a:lnTo>
                  <a:lnTo>
                    <a:pt x="170" y="466"/>
                  </a:lnTo>
                  <a:lnTo>
                    <a:pt x="178" y="448"/>
                  </a:lnTo>
                  <a:lnTo>
                    <a:pt x="188" y="430"/>
                  </a:lnTo>
                  <a:lnTo>
                    <a:pt x="200" y="412"/>
                  </a:lnTo>
                  <a:lnTo>
                    <a:pt x="214" y="394"/>
                  </a:lnTo>
                  <a:lnTo>
                    <a:pt x="228" y="376"/>
                  </a:lnTo>
                  <a:lnTo>
                    <a:pt x="242" y="360"/>
                  </a:lnTo>
                  <a:lnTo>
                    <a:pt x="260" y="344"/>
                  </a:lnTo>
                  <a:lnTo>
                    <a:pt x="296" y="314"/>
                  </a:lnTo>
                  <a:lnTo>
                    <a:pt x="338" y="284"/>
                  </a:lnTo>
                  <a:lnTo>
                    <a:pt x="382" y="260"/>
                  </a:lnTo>
                  <a:lnTo>
                    <a:pt x="432" y="236"/>
                  </a:lnTo>
                  <a:lnTo>
                    <a:pt x="484" y="216"/>
                  </a:lnTo>
                  <a:lnTo>
                    <a:pt x="540" y="200"/>
                  </a:lnTo>
                  <a:lnTo>
                    <a:pt x="598" y="186"/>
                  </a:lnTo>
                  <a:lnTo>
                    <a:pt x="660" y="176"/>
                  </a:lnTo>
                  <a:lnTo>
                    <a:pt x="724" y="170"/>
                  </a:lnTo>
                  <a:lnTo>
                    <a:pt x="788" y="168"/>
                  </a:lnTo>
                  <a:lnTo>
                    <a:pt x="788" y="168"/>
                  </a:lnTo>
                  <a:lnTo>
                    <a:pt x="838" y="170"/>
                  </a:lnTo>
                  <a:lnTo>
                    <a:pt x="838" y="170"/>
                  </a:lnTo>
                  <a:lnTo>
                    <a:pt x="860" y="150"/>
                  </a:lnTo>
                  <a:lnTo>
                    <a:pt x="882" y="132"/>
                  </a:lnTo>
                  <a:lnTo>
                    <a:pt x="906" y="114"/>
                  </a:lnTo>
                  <a:lnTo>
                    <a:pt x="930" y="98"/>
                  </a:lnTo>
                  <a:lnTo>
                    <a:pt x="956" y="82"/>
                  </a:lnTo>
                  <a:lnTo>
                    <a:pt x="982" y="68"/>
                  </a:lnTo>
                  <a:lnTo>
                    <a:pt x="1010" y="56"/>
                  </a:lnTo>
                  <a:lnTo>
                    <a:pt x="1038" y="44"/>
                  </a:lnTo>
                  <a:lnTo>
                    <a:pt x="1066" y="34"/>
                  </a:lnTo>
                  <a:lnTo>
                    <a:pt x="1096" y="24"/>
                  </a:lnTo>
                  <a:lnTo>
                    <a:pt x="1124" y="16"/>
                  </a:lnTo>
                  <a:lnTo>
                    <a:pt x="1156" y="10"/>
                  </a:lnTo>
                  <a:lnTo>
                    <a:pt x="1186" y="6"/>
                  </a:lnTo>
                  <a:lnTo>
                    <a:pt x="1218" y="2"/>
                  </a:lnTo>
                  <a:lnTo>
                    <a:pt x="1250" y="0"/>
                  </a:lnTo>
                  <a:lnTo>
                    <a:pt x="1282" y="0"/>
                  </a:lnTo>
                  <a:lnTo>
                    <a:pt x="1282" y="0"/>
                  </a:lnTo>
                  <a:lnTo>
                    <a:pt x="1316" y="0"/>
                  </a:lnTo>
                  <a:lnTo>
                    <a:pt x="1352" y="2"/>
                  </a:lnTo>
                  <a:lnTo>
                    <a:pt x="1386" y="6"/>
                  </a:lnTo>
                  <a:lnTo>
                    <a:pt x="1420" y="12"/>
                  </a:lnTo>
                  <a:lnTo>
                    <a:pt x="1454" y="20"/>
                  </a:lnTo>
                  <a:lnTo>
                    <a:pt x="1486" y="30"/>
                  </a:lnTo>
                  <a:lnTo>
                    <a:pt x="1518" y="40"/>
                  </a:lnTo>
                  <a:lnTo>
                    <a:pt x="1548" y="54"/>
                  </a:lnTo>
                  <a:lnTo>
                    <a:pt x="1578" y="66"/>
                  </a:lnTo>
                  <a:lnTo>
                    <a:pt x="1608" y="82"/>
                  </a:lnTo>
                  <a:lnTo>
                    <a:pt x="1636" y="100"/>
                  </a:lnTo>
                  <a:lnTo>
                    <a:pt x="1662" y="118"/>
                  </a:lnTo>
                  <a:lnTo>
                    <a:pt x="1688" y="136"/>
                  </a:lnTo>
                  <a:lnTo>
                    <a:pt x="1712" y="158"/>
                  </a:lnTo>
                  <a:lnTo>
                    <a:pt x="1734" y="180"/>
                  </a:lnTo>
                  <a:lnTo>
                    <a:pt x="1756" y="204"/>
                  </a:lnTo>
                  <a:lnTo>
                    <a:pt x="1756" y="204"/>
                  </a:lnTo>
                  <a:lnTo>
                    <a:pt x="1806" y="188"/>
                  </a:lnTo>
                  <a:lnTo>
                    <a:pt x="1858" y="178"/>
                  </a:lnTo>
                  <a:lnTo>
                    <a:pt x="1912" y="170"/>
                  </a:lnTo>
                  <a:lnTo>
                    <a:pt x="1966" y="168"/>
                  </a:lnTo>
                  <a:lnTo>
                    <a:pt x="1966" y="168"/>
                  </a:lnTo>
                  <a:lnTo>
                    <a:pt x="2016" y="170"/>
                  </a:lnTo>
                  <a:lnTo>
                    <a:pt x="2066" y="176"/>
                  </a:lnTo>
                  <a:lnTo>
                    <a:pt x="2114" y="184"/>
                  </a:lnTo>
                  <a:lnTo>
                    <a:pt x="2160" y="198"/>
                  </a:lnTo>
                  <a:lnTo>
                    <a:pt x="2202" y="214"/>
                  </a:lnTo>
                  <a:lnTo>
                    <a:pt x="2244" y="232"/>
                  </a:lnTo>
                  <a:lnTo>
                    <a:pt x="2282" y="254"/>
                  </a:lnTo>
                  <a:lnTo>
                    <a:pt x="2316" y="278"/>
                  </a:lnTo>
                  <a:lnTo>
                    <a:pt x="2348" y="304"/>
                  </a:lnTo>
                  <a:lnTo>
                    <a:pt x="2378" y="332"/>
                  </a:lnTo>
                  <a:lnTo>
                    <a:pt x="2402" y="362"/>
                  </a:lnTo>
                  <a:lnTo>
                    <a:pt x="2424" y="394"/>
                  </a:lnTo>
                  <a:lnTo>
                    <a:pt x="2440" y="430"/>
                  </a:lnTo>
                  <a:lnTo>
                    <a:pt x="2446" y="446"/>
                  </a:lnTo>
                  <a:lnTo>
                    <a:pt x="2452" y="464"/>
                  </a:lnTo>
                  <a:lnTo>
                    <a:pt x="2456" y="482"/>
                  </a:lnTo>
                  <a:lnTo>
                    <a:pt x="2460" y="502"/>
                  </a:lnTo>
                  <a:lnTo>
                    <a:pt x="2462" y="520"/>
                  </a:lnTo>
                  <a:lnTo>
                    <a:pt x="2462" y="540"/>
                  </a:lnTo>
                  <a:lnTo>
                    <a:pt x="2462" y="540"/>
                  </a:lnTo>
                  <a:lnTo>
                    <a:pt x="2462" y="566"/>
                  </a:lnTo>
                  <a:lnTo>
                    <a:pt x="2458" y="592"/>
                  </a:lnTo>
                  <a:lnTo>
                    <a:pt x="2458" y="592"/>
                  </a:lnTo>
                  <a:lnTo>
                    <a:pt x="2486" y="606"/>
                  </a:lnTo>
                  <a:lnTo>
                    <a:pt x="2514" y="620"/>
                  </a:lnTo>
                  <a:lnTo>
                    <a:pt x="2540" y="634"/>
                  </a:lnTo>
                  <a:lnTo>
                    <a:pt x="2564" y="652"/>
                  </a:lnTo>
                  <a:lnTo>
                    <a:pt x="2586" y="668"/>
                  </a:lnTo>
                  <a:lnTo>
                    <a:pt x="2608" y="688"/>
                  </a:lnTo>
                  <a:lnTo>
                    <a:pt x="2626" y="708"/>
                  </a:lnTo>
                  <a:lnTo>
                    <a:pt x="2644" y="728"/>
                  </a:lnTo>
                  <a:lnTo>
                    <a:pt x="2660" y="750"/>
                  </a:lnTo>
                  <a:lnTo>
                    <a:pt x="2674" y="772"/>
                  </a:lnTo>
                  <a:lnTo>
                    <a:pt x="2686" y="794"/>
                  </a:lnTo>
                  <a:lnTo>
                    <a:pt x="2696" y="818"/>
                  </a:lnTo>
                  <a:lnTo>
                    <a:pt x="2702" y="842"/>
                  </a:lnTo>
                  <a:lnTo>
                    <a:pt x="2708" y="866"/>
                  </a:lnTo>
                  <a:lnTo>
                    <a:pt x="2712" y="892"/>
                  </a:lnTo>
                  <a:lnTo>
                    <a:pt x="2712" y="916"/>
                  </a:lnTo>
                  <a:lnTo>
                    <a:pt x="2712" y="916"/>
                  </a:lnTo>
                  <a:lnTo>
                    <a:pt x="2710" y="952"/>
                  </a:lnTo>
                  <a:lnTo>
                    <a:pt x="2704" y="988"/>
                  </a:lnTo>
                  <a:lnTo>
                    <a:pt x="2692" y="1022"/>
                  </a:lnTo>
                  <a:lnTo>
                    <a:pt x="2678" y="1054"/>
                  </a:lnTo>
                  <a:lnTo>
                    <a:pt x="2658" y="1086"/>
                  </a:lnTo>
                  <a:lnTo>
                    <a:pt x="2636" y="1116"/>
                  </a:lnTo>
                  <a:lnTo>
                    <a:pt x="2610" y="1144"/>
                  </a:lnTo>
                  <a:lnTo>
                    <a:pt x="2580" y="1170"/>
                  </a:lnTo>
                  <a:lnTo>
                    <a:pt x="2548" y="1194"/>
                  </a:lnTo>
                  <a:lnTo>
                    <a:pt x="2512" y="1214"/>
                  </a:lnTo>
                  <a:lnTo>
                    <a:pt x="2474" y="1234"/>
                  </a:lnTo>
                  <a:lnTo>
                    <a:pt x="2434" y="1250"/>
                  </a:lnTo>
                  <a:lnTo>
                    <a:pt x="2392" y="1264"/>
                  </a:lnTo>
                  <a:lnTo>
                    <a:pt x="2348" y="1274"/>
                  </a:lnTo>
                  <a:lnTo>
                    <a:pt x="2302" y="1282"/>
                  </a:lnTo>
                  <a:lnTo>
                    <a:pt x="2254" y="1286"/>
                  </a:lnTo>
                  <a:lnTo>
                    <a:pt x="2254" y="1286"/>
                  </a:lnTo>
                  <a:lnTo>
                    <a:pt x="2236" y="1308"/>
                  </a:lnTo>
                  <a:lnTo>
                    <a:pt x="2218" y="1330"/>
                  </a:lnTo>
                  <a:lnTo>
                    <a:pt x="2198" y="1350"/>
                  </a:lnTo>
                  <a:lnTo>
                    <a:pt x="2174" y="1368"/>
                  </a:lnTo>
                  <a:lnTo>
                    <a:pt x="2152" y="1386"/>
                  </a:lnTo>
                  <a:lnTo>
                    <a:pt x="2126" y="1402"/>
                  </a:lnTo>
                  <a:lnTo>
                    <a:pt x="2100" y="1418"/>
                  </a:lnTo>
                  <a:lnTo>
                    <a:pt x="2072" y="1430"/>
                  </a:lnTo>
                  <a:lnTo>
                    <a:pt x="2042" y="1442"/>
                  </a:lnTo>
                  <a:lnTo>
                    <a:pt x="2012" y="1452"/>
                  </a:lnTo>
                  <a:lnTo>
                    <a:pt x="1982" y="1462"/>
                  </a:lnTo>
                  <a:lnTo>
                    <a:pt x="1950" y="1470"/>
                  </a:lnTo>
                  <a:lnTo>
                    <a:pt x="1918" y="1476"/>
                  </a:lnTo>
                  <a:lnTo>
                    <a:pt x="1884" y="1480"/>
                  </a:lnTo>
                  <a:lnTo>
                    <a:pt x="1850" y="1482"/>
                  </a:lnTo>
                  <a:lnTo>
                    <a:pt x="1816" y="1484"/>
                  </a:lnTo>
                  <a:lnTo>
                    <a:pt x="1816" y="1484"/>
                  </a:lnTo>
                  <a:lnTo>
                    <a:pt x="1764" y="1482"/>
                  </a:lnTo>
                  <a:lnTo>
                    <a:pt x="1712" y="1476"/>
                  </a:lnTo>
                  <a:lnTo>
                    <a:pt x="1662" y="1466"/>
                  </a:lnTo>
                  <a:lnTo>
                    <a:pt x="1614" y="1452"/>
                  </a:lnTo>
                  <a:lnTo>
                    <a:pt x="1614" y="1452"/>
                  </a:lnTo>
                  <a:lnTo>
                    <a:pt x="1584" y="1464"/>
                  </a:lnTo>
                  <a:lnTo>
                    <a:pt x="1552" y="1476"/>
                  </a:lnTo>
                  <a:lnTo>
                    <a:pt x="1520" y="1486"/>
                  </a:lnTo>
                  <a:lnTo>
                    <a:pt x="1486" y="1494"/>
                  </a:lnTo>
                  <a:lnTo>
                    <a:pt x="1454" y="1500"/>
                  </a:lnTo>
                  <a:lnTo>
                    <a:pt x="1418" y="1506"/>
                  </a:lnTo>
                  <a:lnTo>
                    <a:pt x="1384" y="1508"/>
                  </a:lnTo>
                  <a:lnTo>
                    <a:pt x="1348" y="1510"/>
                  </a:lnTo>
                  <a:lnTo>
                    <a:pt x="1348" y="1510"/>
                  </a:lnTo>
                  <a:lnTo>
                    <a:pt x="1316" y="1508"/>
                  </a:lnTo>
                  <a:lnTo>
                    <a:pt x="1284" y="1506"/>
                  </a:lnTo>
                  <a:lnTo>
                    <a:pt x="1252" y="1502"/>
                  </a:lnTo>
                  <a:lnTo>
                    <a:pt x="1220" y="1496"/>
                  </a:lnTo>
                  <a:lnTo>
                    <a:pt x="1190" y="1490"/>
                  </a:lnTo>
                  <a:lnTo>
                    <a:pt x="1160" y="1482"/>
                  </a:lnTo>
                  <a:lnTo>
                    <a:pt x="1130" y="1472"/>
                  </a:lnTo>
                  <a:lnTo>
                    <a:pt x="1102" y="1460"/>
                  </a:lnTo>
                  <a:lnTo>
                    <a:pt x="1102" y="1460"/>
                  </a:lnTo>
                  <a:lnTo>
                    <a:pt x="1066" y="1480"/>
                  </a:lnTo>
                  <a:lnTo>
                    <a:pt x="1028" y="1498"/>
                  </a:lnTo>
                  <a:lnTo>
                    <a:pt x="988" y="1512"/>
                  </a:lnTo>
                  <a:lnTo>
                    <a:pt x="948" y="1524"/>
                  </a:lnTo>
                  <a:lnTo>
                    <a:pt x="904" y="1534"/>
                  </a:lnTo>
                  <a:lnTo>
                    <a:pt x="860" y="1542"/>
                  </a:lnTo>
                  <a:lnTo>
                    <a:pt x="816" y="1546"/>
                  </a:lnTo>
                  <a:lnTo>
                    <a:pt x="772" y="1548"/>
                  </a:lnTo>
                  <a:lnTo>
                    <a:pt x="772" y="1548"/>
                  </a:lnTo>
                  <a:close/>
                  <a:moveTo>
                    <a:pt x="788" y="208"/>
                  </a:moveTo>
                  <a:lnTo>
                    <a:pt x="788" y="208"/>
                  </a:lnTo>
                  <a:lnTo>
                    <a:pt x="728" y="210"/>
                  </a:lnTo>
                  <a:lnTo>
                    <a:pt x="668" y="216"/>
                  </a:lnTo>
                  <a:lnTo>
                    <a:pt x="610" y="224"/>
                  </a:lnTo>
                  <a:lnTo>
                    <a:pt x="556" y="236"/>
                  </a:lnTo>
                  <a:lnTo>
                    <a:pt x="504" y="252"/>
                  </a:lnTo>
                  <a:lnTo>
                    <a:pt x="454" y="270"/>
                  </a:lnTo>
                  <a:lnTo>
                    <a:pt x="408" y="290"/>
                  </a:lnTo>
                  <a:lnTo>
                    <a:pt x="366" y="314"/>
                  </a:lnTo>
                  <a:lnTo>
                    <a:pt x="328" y="338"/>
                  </a:lnTo>
                  <a:lnTo>
                    <a:pt x="292" y="366"/>
                  </a:lnTo>
                  <a:lnTo>
                    <a:pt x="262" y="396"/>
                  </a:lnTo>
                  <a:lnTo>
                    <a:pt x="250" y="412"/>
                  </a:lnTo>
                  <a:lnTo>
                    <a:pt x="238" y="426"/>
                  </a:lnTo>
                  <a:lnTo>
                    <a:pt x="226" y="444"/>
                  </a:lnTo>
                  <a:lnTo>
                    <a:pt x="218" y="460"/>
                  </a:lnTo>
                  <a:lnTo>
                    <a:pt x="210" y="476"/>
                  </a:lnTo>
                  <a:lnTo>
                    <a:pt x="202" y="494"/>
                  </a:lnTo>
                  <a:lnTo>
                    <a:pt x="198" y="512"/>
                  </a:lnTo>
                  <a:lnTo>
                    <a:pt x="194" y="530"/>
                  </a:lnTo>
                  <a:lnTo>
                    <a:pt x="192" y="548"/>
                  </a:lnTo>
                  <a:lnTo>
                    <a:pt x="190" y="566"/>
                  </a:lnTo>
                  <a:lnTo>
                    <a:pt x="190" y="566"/>
                  </a:lnTo>
                  <a:lnTo>
                    <a:pt x="192" y="586"/>
                  </a:lnTo>
                  <a:lnTo>
                    <a:pt x="194" y="608"/>
                  </a:lnTo>
                  <a:lnTo>
                    <a:pt x="200" y="628"/>
                  </a:lnTo>
                  <a:lnTo>
                    <a:pt x="206" y="648"/>
                  </a:lnTo>
                  <a:lnTo>
                    <a:pt x="214" y="664"/>
                  </a:lnTo>
                  <a:lnTo>
                    <a:pt x="198" y="674"/>
                  </a:lnTo>
                  <a:lnTo>
                    <a:pt x="198" y="674"/>
                  </a:lnTo>
                  <a:lnTo>
                    <a:pt x="162" y="696"/>
                  </a:lnTo>
                  <a:lnTo>
                    <a:pt x="130" y="720"/>
                  </a:lnTo>
                  <a:lnTo>
                    <a:pt x="104" y="748"/>
                  </a:lnTo>
                  <a:lnTo>
                    <a:pt x="82" y="776"/>
                  </a:lnTo>
                  <a:lnTo>
                    <a:pt x="72" y="790"/>
                  </a:lnTo>
                  <a:lnTo>
                    <a:pt x="64" y="806"/>
                  </a:lnTo>
                  <a:lnTo>
                    <a:pt x="56" y="822"/>
                  </a:lnTo>
                  <a:lnTo>
                    <a:pt x="50" y="838"/>
                  </a:lnTo>
                  <a:lnTo>
                    <a:pt x="46" y="854"/>
                  </a:lnTo>
                  <a:lnTo>
                    <a:pt x="42" y="870"/>
                  </a:lnTo>
                  <a:lnTo>
                    <a:pt x="40" y="888"/>
                  </a:lnTo>
                  <a:lnTo>
                    <a:pt x="40" y="904"/>
                  </a:lnTo>
                  <a:lnTo>
                    <a:pt x="40" y="904"/>
                  </a:lnTo>
                  <a:lnTo>
                    <a:pt x="42" y="926"/>
                  </a:lnTo>
                  <a:lnTo>
                    <a:pt x="44" y="946"/>
                  </a:lnTo>
                  <a:lnTo>
                    <a:pt x="50" y="966"/>
                  </a:lnTo>
                  <a:lnTo>
                    <a:pt x="56" y="986"/>
                  </a:lnTo>
                  <a:lnTo>
                    <a:pt x="66" y="1006"/>
                  </a:lnTo>
                  <a:lnTo>
                    <a:pt x="76" y="1024"/>
                  </a:lnTo>
                  <a:lnTo>
                    <a:pt x="88" y="1042"/>
                  </a:lnTo>
                  <a:lnTo>
                    <a:pt x="102" y="1060"/>
                  </a:lnTo>
                  <a:lnTo>
                    <a:pt x="118" y="1076"/>
                  </a:lnTo>
                  <a:lnTo>
                    <a:pt x="136" y="1092"/>
                  </a:lnTo>
                  <a:lnTo>
                    <a:pt x="156" y="1108"/>
                  </a:lnTo>
                  <a:lnTo>
                    <a:pt x="176" y="1122"/>
                  </a:lnTo>
                  <a:lnTo>
                    <a:pt x="198" y="1134"/>
                  </a:lnTo>
                  <a:lnTo>
                    <a:pt x="220" y="1146"/>
                  </a:lnTo>
                  <a:lnTo>
                    <a:pt x="246" y="1158"/>
                  </a:lnTo>
                  <a:lnTo>
                    <a:pt x="270" y="1168"/>
                  </a:lnTo>
                  <a:lnTo>
                    <a:pt x="282" y="1172"/>
                  </a:lnTo>
                  <a:lnTo>
                    <a:pt x="284" y="1184"/>
                  </a:lnTo>
                  <a:lnTo>
                    <a:pt x="284" y="1184"/>
                  </a:lnTo>
                  <a:lnTo>
                    <a:pt x="290" y="1218"/>
                  </a:lnTo>
                  <a:lnTo>
                    <a:pt x="302" y="1250"/>
                  </a:lnTo>
                  <a:lnTo>
                    <a:pt x="316" y="1280"/>
                  </a:lnTo>
                  <a:lnTo>
                    <a:pt x="334" y="1310"/>
                  </a:lnTo>
                  <a:lnTo>
                    <a:pt x="356" y="1340"/>
                  </a:lnTo>
                  <a:lnTo>
                    <a:pt x="382" y="1366"/>
                  </a:lnTo>
                  <a:lnTo>
                    <a:pt x="412" y="1390"/>
                  </a:lnTo>
                  <a:lnTo>
                    <a:pt x="442" y="1414"/>
                  </a:lnTo>
                  <a:lnTo>
                    <a:pt x="476" y="1434"/>
                  </a:lnTo>
                  <a:lnTo>
                    <a:pt x="514" y="1452"/>
                  </a:lnTo>
                  <a:lnTo>
                    <a:pt x="552" y="1468"/>
                  </a:lnTo>
                  <a:lnTo>
                    <a:pt x="592" y="1482"/>
                  </a:lnTo>
                  <a:lnTo>
                    <a:pt x="636" y="1492"/>
                  </a:lnTo>
                  <a:lnTo>
                    <a:pt x="680" y="1500"/>
                  </a:lnTo>
                  <a:lnTo>
                    <a:pt x="726" y="1506"/>
                  </a:lnTo>
                  <a:lnTo>
                    <a:pt x="772" y="1508"/>
                  </a:lnTo>
                  <a:lnTo>
                    <a:pt x="772" y="1508"/>
                  </a:lnTo>
                  <a:lnTo>
                    <a:pt x="816" y="1506"/>
                  </a:lnTo>
                  <a:lnTo>
                    <a:pt x="858" y="1502"/>
                  </a:lnTo>
                  <a:lnTo>
                    <a:pt x="900" y="1494"/>
                  </a:lnTo>
                  <a:lnTo>
                    <a:pt x="942" y="1484"/>
                  </a:lnTo>
                  <a:lnTo>
                    <a:pt x="982" y="1472"/>
                  </a:lnTo>
                  <a:lnTo>
                    <a:pt x="1020" y="1458"/>
                  </a:lnTo>
                  <a:lnTo>
                    <a:pt x="1056" y="1440"/>
                  </a:lnTo>
                  <a:lnTo>
                    <a:pt x="1090" y="1422"/>
                  </a:lnTo>
                  <a:lnTo>
                    <a:pt x="1100" y="1416"/>
                  </a:lnTo>
                  <a:lnTo>
                    <a:pt x="1110" y="1420"/>
                  </a:lnTo>
                  <a:lnTo>
                    <a:pt x="1110" y="1420"/>
                  </a:lnTo>
                  <a:lnTo>
                    <a:pt x="1136" y="1432"/>
                  </a:lnTo>
                  <a:lnTo>
                    <a:pt x="1164" y="1440"/>
                  </a:lnTo>
                  <a:lnTo>
                    <a:pt x="1194" y="1450"/>
                  </a:lnTo>
                  <a:lnTo>
                    <a:pt x="1224" y="1456"/>
                  </a:lnTo>
                  <a:lnTo>
                    <a:pt x="1254" y="1462"/>
                  </a:lnTo>
                  <a:lnTo>
                    <a:pt x="1286" y="1466"/>
                  </a:lnTo>
                  <a:lnTo>
                    <a:pt x="1316" y="1468"/>
                  </a:lnTo>
                  <a:lnTo>
                    <a:pt x="1348" y="1468"/>
                  </a:lnTo>
                  <a:lnTo>
                    <a:pt x="1348" y="1468"/>
                  </a:lnTo>
                  <a:lnTo>
                    <a:pt x="1382" y="1468"/>
                  </a:lnTo>
                  <a:lnTo>
                    <a:pt x="1416" y="1466"/>
                  </a:lnTo>
                  <a:lnTo>
                    <a:pt x="1450" y="1460"/>
                  </a:lnTo>
                  <a:lnTo>
                    <a:pt x="1482" y="1454"/>
                  </a:lnTo>
                  <a:lnTo>
                    <a:pt x="1514" y="1446"/>
                  </a:lnTo>
                  <a:lnTo>
                    <a:pt x="1546" y="1436"/>
                  </a:lnTo>
                  <a:lnTo>
                    <a:pt x="1576" y="1424"/>
                  </a:lnTo>
                  <a:lnTo>
                    <a:pt x="1604" y="1412"/>
                  </a:lnTo>
                  <a:lnTo>
                    <a:pt x="1612" y="1408"/>
                  </a:lnTo>
                  <a:lnTo>
                    <a:pt x="1620" y="1410"/>
                  </a:lnTo>
                  <a:lnTo>
                    <a:pt x="1620" y="1410"/>
                  </a:lnTo>
                  <a:lnTo>
                    <a:pt x="1666" y="1424"/>
                  </a:lnTo>
                  <a:lnTo>
                    <a:pt x="1716" y="1434"/>
                  </a:lnTo>
                  <a:lnTo>
                    <a:pt x="1764" y="1440"/>
                  </a:lnTo>
                  <a:lnTo>
                    <a:pt x="1816" y="1442"/>
                  </a:lnTo>
                  <a:lnTo>
                    <a:pt x="1816" y="1442"/>
                  </a:lnTo>
                  <a:lnTo>
                    <a:pt x="1848" y="1442"/>
                  </a:lnTo>
                  <a:lnTo>
                    <a:pt x="1880" y="1440"/>
                  </a:lnTo>
                  <a:lnTo>
                    <a:pt x="1912" y="1436"/>
                  </a:lnTo>
                  <a:lnTo>
                    <a:pt x="1942" y="1430"/>
                  </a:lnTo>
                  <a:lnTo>
                    <a:pt x="1972" y="1422"/>
                  </a:lnTo>
                  <a:lnTo>
                    <a:pt x="2002" y="1414"/>
                  </a:lnTo>
                  <a:lnTo>
                    <a:pt x="2030" y="1404"/>
                  </a:lnTo>
                  <a:lnTo>
                    <a:pt x="2058" y="1392"/>
                  </a:lnTo>
                  <a:lnTo>
                    <a:pt x="2084" y="1380"/>
                  </a:lnTo>
                  <a:lnTo>
                    <a:pt x="2108" y="1364"/>
                  </a:lnTo>
                  <a:lnTo>
                    <a:pt x="2132" y="1350"/>
                  </a:lnTo>
                  <a:lnTo>
                    <a:pt x="2154" y="1334"/>
                  </a:lnTo>
                  <a:lnTo>
                    <a:pt x="2174" y="1316"/>
                  </a:lnTo>
                  <a:lnTo>
                    <a:pt x="2194" y="1296"/>
                  </a:lnTo>
                  <a:lnTo>
                    <a:pt x="2210" y="1276"/>
                  </a:lnTo>
                  <a:lnTo>
                    <a:pt x="2226" y="1256"/>
                  </a:lnTo>
                  <a:lnTo>
                    <a:pt x="2232" y="1248"/>
                  </a:lnTo>
                  <a:lnTo>
                    <a:pt x="2242" y="1248"/>
                  </a:lnTo>
                  <a:lnTo>
                    <a:pt x="2242" y="1248"/>
                  </a:lnTo>
                  <a:lnTo>
                    <a:pt x="2286" y="1244"/>
                  </a:lnTo>
                  <a:lnTo>
                    <a:pt x="2330" y="1238"/>
                  </a:lnTo>
                  <a:lnTo>
                    <a:pt x="2372" y="1228"/>
                  </a:lnTo>
                  <a:lnTo>
                    <a:pt x="2412" y="1216"/>
                  </a:lnTo>
                  <a:lnTo>
                    <a:pt x="2448" y="1202"/>
                  </a:lnTo>
                  <a:lnTo>
                    <a:pt x="2484" y="1184"/>
                  </a:lnTo>
                  <a:lnTo>
                    <a:pt x="2518" y="1166"/>
                  </a:lnTo>
                  <a:lnTo>
                    <a:pt x="2548" y="1144"/>
                  </a:lnTo>
                  <a:lnTo>
                    <a:pt x="2576" y="1120"/>
                  </a:lnTo>
                  <a:lnTo>
                    <a:pt x="2600" y="1096"/>
                  </a:lnTo>
                  <a:lnTo>
                    <a:pt x="2622" y="1070"/>
                  </a:lnTo>
                  <a:lnTo>
                    <a:pt x="2640" y="1042"/>
                  </a:lnTo>
                  <a:lnTo>
                    <a:pt x="2654" y="1012"/>
                  </a:lnTo>
                  <a:lnTo>
                    <a:pt x="2664" y="980"/>
                  </a:lnTo>
                  <a:lnTo>
                    <a:pt x="2670" y="950"/>
                  </a:lnTo>
                  <a:lnTo>
                    <a:pt x="2672" y="916"/>
                  </a:lnTo>
                  <a:lnTo>
                    <a:pt x="2672" y="916"/>
                  </a:lnTo>
                  <a:lnTo>
                    <a:pt x="2672" y="894"/>
                  </a:lnTo>
                  <a:lnTo>
                    <a:pt x="2668" y="872"/>
                  </a:lnTo>
                  <a:lnTo>
                    <a:pt x="2662" y="848"/>
                  </a:lnTo>
                  <a:lnTo>
                    <a:pt x="2656" y="826"/>
                  </a:lnTo>
                  <a:lnTo>
                    <a:pt x="2646" y="806"/>
                  </a:lnTo>
                  <a:lnTo>
                    <a:pt x="2634" y="784"/>
                  </a:lnTo>
                  <a:lnTo>
                    <a:pt x="2622" y="764"/>
                  </a:lnTo>
                  <a:lnTo>
                    <a:pt x="2606" y="746"/>
                  </a:lnTo>
                  <a:lnTo>
                    <a:pt x="2590" y="726"/>
                  </a:lnTo>
                  <a:lnTo>
                    <a:pt x="2572" y="708"/>
                  </a:lnTo>
                  <a:lnTo>
                    <a:pt x="2552" y="692"/>
                  </a:lnTo>
                  <a:lnTo>
                    <a:pt x="2530" y="676"/>
                  </a:lnTo>
                  <a:lnTo>
                    <a:pt x="2506" y="662"/>
                  </a:lnTo>
                  <a:lnTo>
                    <a:pt x="2480" y="648"/>
                  </a:lnTo>
                  <a:lnTo>
                    <a:pt x="2454" y="634"/>
                  </a:lnTo>
                  <a:lnTo>
                    <a:pt x="2426" y="624"/>
                  </a:lnTo>
                  <a:lnTo>
                    <a:pt x="2410" y="616"/>
                  </a:lnTo>
                  <a:lnTo>
                    <a:pt x="2414" y="600"/>
                  </a:lnTo>
                  <a:lnTo>
                    <a:pt x="2414" y="600"/>
                  </a:lnTo>
                  <a:lnTo>
                    <a:pt x="2420" y="570"/>
                  </a:lnTo>
                  <a:lnTo>
                    <a:pt x="2422" y="540"/>
                  </a:lnTo>
                  <a:lnTo>
                    <a:pt x="2422" y="540"/>
                  </a:lnTo>
                  <a:lnTo>
                    <a:pt x="2420" y="506"/>
                  </a:lnTo>
                  <a:lnTo>
                    <a:pt x="2412" y="472"/>
                  </a:lnTo>
                  <a:lnTo>
                    <a:pt x="2402" y="442"/>
                  </a:lnTo>
                  <a:lnTo>
                    <a:pt x="2386" y="410"/>
                  </a:lnTo>
                  <a:lnTo>
                    <a:pt x="2366" y="382"/>
                  </a:lnTo>
                  <a:lnTo>
                    <a:pt x="2344" y="354"/>
                  </a:lnTo>
                  <a:lnTo>
                    <a:pt x="2318" y="328"/>
                  </a:lnTo>
                  <a:lnTo>
                    <a:pt x="2288" y="306"/>
                  </a:lnTo>
                  <a:lnTo>
                    <a:pt x="2256" y="284"/>
                  </a:lnTo>
                  <a:lnTo>
                    <a:pt x="2220" y="266"/>
                  </a:lnTo>
                  <a:lnTo>
                    <a:pt x="2184" y="248"/>
                  </a:lnTo>
                  <a:lnTo>
                    <a:pt x="2144" y="234"/>
                  </a:lnTo>
                  <a:lnTo>
                    <a:pt x="2102" y="224"/>
                  </a:lnTo>
                  <a:lnTo>
                    <a:pt x="2058" y="216"/>
                  </a:lnTo>
                  <a:lnTo>
                    <a:pt x="2012" y="210"/>
                  </a:lnTo>
                  <a:lnTo>
                    <a:pt x="1966" y="208"/>
                  </a:lnTo>
                  <a:lnTo>
                    <a:pt x="1966" y="208"/>
                  </a:lnTo>
                  <a:lnTo>
                    <a:pt x="1912" y="210"/>
                  </a:lnTo>
                  <a:lnTo>
                    <a:pt x="1884" y="214"/>
                  </a:lnTo>
                  <a:lnTo>
                    <a:pt x="1858" y="218"/>
                  </a:lnTo>
                  <a:lnTo>
                    <a:pt x="1832" y="224"/>
                  </a:lnTo>
                  <a:lnTo>
                    <a:pt x="1806" y="230"/>
                  </a:lnTo>
                  <a:lnTo>
                    <a:pt x="1780" y="238"/>
                  </a:lnTo>
                  <a:lnTo>
                    <a:pt x="1756" y="246"/>
                  </a:lnTo>
                  <a:lnTo>
                    <a:pt x="1742" y="252"/>
                  </a:lnTo>
                  <a:lnTo>
                    <a:pt x="1732" y="240"/>
                  </a:lnTo>
                  <a:lnTo>
                    <a:pt x="1732" y="240"/>
                  </a:lnTo>
                  <a:lnTo>
                    <a:pt x="1714" y="216"/>
                  </a:lnTo>
                  <a:lnTo>
                    <a:pt x="1692" y="196"/>
                  </a:lnTo>
                  <a:lnTo>
                    <a:pt x="1670" y="174"/>
                  </a:lnTo>
                  <a:lnTo>
                    <a:pt x="1646" y="156"/>
                  </a:lnTo>
                  <a:lnTo>
                    <a:pt x="1620" y="138"/>
                  </a:lnTo>
                  <a:lnTo>
                    <a:pt x="1594" y="122"/>
                  </a:lnTo>
                  <a:lnTo>
                    <a:pt x="1566" y="106"/>
                  </a:lnTo>
                  <a:lnTo>
                    <a:pt x="1538" y="92"/>
                  </a:lnTo>
                  <a:lnTo>
                    <a:pt x="1508" y="80"/>
                  </a:lnTo>
                  <a:lnTo>
                    <a:pt x="1478" y="70"/>
                  </a:lnTo>
                  <a:lnTo>
                    <a:pt x="1446" y="60"/>
                  </a:lnTo>
                  <a:lnTo>
                    <a:pt x="1414" y="52"/>
                  </a:lnTo>
                  <a:lnTo>
                    <a:pt x="1382" y="48"/>
                  </a:lnTo>
                  <a:lnTo>
                    <a:pt x="1348" y="42"/>
                  </a:lnTo>
                  <a:lnTo>
                    <a:pt x="1316" y="40"/>
                  </a:lnTo>
                  <a:lnTo>
                    <a:pt x="1282" y="40"/>
                  </a:lnTo>
                  <a:lnTo>
                    <a:pt x="1282" y="40"/>
                  </a:lnTo>
                  <a:lnTo>
                    <a:pt x="1250" y="40"/>
                  </a:lnTo>
                  <a:lnTo>
                    <a:pt x="1220" y="42"/>
                  </a:lnTo>
                  <a:lnTo>
                    <a:pt x="1190" y="46"/>
                  </a:lnTo>
                  <a:lnTo>
                    <a:pt x="1160" y="50"/>
                  </a:lnTo>
                  <a:lnTo>
                    <a:pt x="1132" y="56"/>
                  </a:lnTo>
                  <a:lnTo>
                    <a:pt x="1104" y="64"/>
                  </a:lnTo>
                  <a:lnTo>
                    <a:pt x="1076" y="72"/>
                  </a:lnTo>
                  <a:lnTo>
                    <a:pt x="1048" y="82"/>
                  </a:lnTo>
                  <a:lnTo>
                    <a:pt x="1022" y="94"/>
                  </a:lnTo>
                  <a:lnTo>
                    <a:pt x="996" y="106"/>
                  </a:lnTo>
                  <a:lnTo>
                    <a:pt x="972" y="120"/>
                  </a:lnTo>
                  <a:lnTo>
                    <a:pt x="948" y="134"/>
                  </a:lnTo>
                  <a:lnTo>
                    <a:pt x="924" y="150"/>
                  </a:lnTo>
                  <a:lnTo>
                    <a:pt x="902" y="168"/>
                  </a:lnTo>
                  <a:lnTo>
                    <a:pt x="880" y="186"/>
                  </a:lnTo>
                  <a:lnTo>
                    <a:pt x="862" y="204"/>
                  </a:lnTo>
                  <a:lnTo>
                    <a:pt x="854" y="210"/>
                  </a:lnTo>
                  <a:lnTo>
                    <a:pt x="846" y="210"/>
                  </a:lnTo>
                  <a:lnTo>
                    <a:pt x="846" y="210"/>
                  </a:lnTo>
                  <a:lnTo>
                    <a:pt x="788" y="208"/>
                  </a:lnTo>
                  <a:lnTo>
                    <a:pt x="788" y="208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-2115720" y="11428200"/>
              <a:ext cx="3822840" cy="2156040"/>
            </a:xfrm>
            <a:custGeom>
              <a:avLst/>
              <a:gdLst>
                <a:gd name="textAreaLeft" fmla="*/ 0 w 3822840"/>
                <a:gd name="textAreaRight" fmla="*/ 3823200 w 3822840"/>
                <a:gd name="textAreaTop" fmla="*/ 0 h 2156040"/>
                <a:gd name="textAreaBottom" fmla="*/ 2156400 h 2156040"/>
              </a:gdLst>
              <a:ahLst/>
              <a:rect l="textAreaLeft" t="textAreaTop" r="textAreaRight" b="textAreaBottom"/>
              <a:pathLst>
                <a:path w="2408" h="1358">
                  <a:moveTo>
                    <a:pt x="2408" y="808"/>
                  </a:moveTo>
                  <a:lnTo>
                    <a:pt x="2408" y="808"/>
                  </a:lnTo>
                  <a:lnTo>
                    <a:pt x="2406" y="786"/>
                  </a:lnTo>
                  <a:lnTo>
                    <a:pt x="2404" y="764"/>
                  </a:lnTo>
                  <a:lnTo>
                    <a:pt x="2398" y="742"/>
                  </a:lnTo>
                  <a:lnTo>
                    <a:pt x="2392" y="720"/>
                  </a:lnTo>
                  <a:lnTo>
                    <a:pt x="2382" y="700"/>
                  </a:lnTo>
                  <a:lnTo>
                    <a:pt x="2370" y="680"/>
                  </a:lnTo>
                  <a:lnTo>
                    <a:pt x="2358" y="660"/>
                  </a:lnTo>
                  <a:lnTo>
                    <a:pt x="2344" y="642"/>
                  </a:lnTo>
                  <a:lnTo>
                    <a:pt x="2328" y="624"/>
                  </a:lnTo>
                  <a:lnTo>
                    <a:pt x="2310" y="606"/>
                  </a:lnTo>
                  <a:lnTo>
                    <a:pt x="2290" y="592"/>
                  </a:lnTo>
                  <a:lnTo>
                    <a:pt x="2270" y="576"/>
                  </a:lnTo>
                  <a:lnTo>
                    <a:pt x="2248" y="562"/>
                  </a:lnTo>
                  <a:lnTo>
                    <a:pt x="2224" y="550"/>
                  </a:lnTo>
                  <a:lnTo>
                    <a:pt x="2200" y="538"/>
                  </a:lnTo>
                  <a:lnTo>
                    <a:pt x="2174" y="528"/>
                  </a:lnTo>
                  <a:lnTo>
                    <a:pt x="2174" y="528"/>
                  </a:lnTo>
                  <a:lnTo>
                    <a:pt x="2180" y="498"/>
                  </a:lnTo>
                  <a:lnTo>
                    <a:pt x="2182" y="468"/>
                  </a:lnTo>
                  <a:lnTo>
                    <a:pt x="2182" y="468"/>
                  </a:lnTo>
                  <a:lnTo>
                    <a:pt x="2180" y="436"/>
                  </a:lnTo>
                  <a:lnTo>
                    <a:pt x="2174" y="404"/>
                  </a:lnTo>
                  <a:lnTo>
                    <a:pt x="2164" y="374"/>
                  </a:lnTo>
                  <a:lnTo>
                    <a:pt x="2148" y="346"/>
                  </a:lnTo>
                  <a:lnTo>
                    <a:pt x="2130" y="318"/>
                  </a:lnTo>
                  <a:lnTo>
                    <a:pt x="2110" y="292"/>
                  </a:lnTo>
                  <a:lnTo>
                    <a:pt x="2084" y="268"/>
                  </a:lnTo>
                  <a:lnTo>
                    <a:pt x="2056" y="246"/>
                  </a:lnTo>
                  <a:lnTo>
                    <a:pt x="2026" y="224"/>
                  </a:lnTo>
                  <a:lnTo>
                    <a:pt x="1994" y="206"/>
                  </a:lnTo>
                  <a:lnTo>
                    <a:pt x="1958" y="190"/>
                  </a:lnTo>
                  <a:lnTo>
                    <a:pt x="1920" y="178"/>
                  </a:lnTo>
                  <a:lnTo>
                    <a:pt x="1882" y="166"/>
                  </a:lnTo>
                  <a:lnTo>
                    <a:pt x="1840" y="158"/>
                  </a:lnTo>
                  <a:lnTo>
                    <a:pt x="1798" y="154"/>
                  </a:lnTo>
                  <a:lnTo>
                    <a:pt x="1754" y="152"/>
                  </a:lnTo>
                  <a:lnTo>
                    <a:pt x="1754" y="152"/>
                  </a:lnTo>
                  <a:lnTo>
                    <a:pt x="1702" y="154"/>
                  </a:lnTo>
                  <a:lnTo>
                    <a:pt x="1652" y="162"/>
                  </a:lnTo>
                  <a:lnTo>
                    <a:pt x="1604" y="172"/>
                  </a:lnTo>
                  <a:lnTo>
                    <a:pt x="1558" y="188"/>
                  </a:lnTo>
                  <a:lnTo>
                    <a:pt x="1558" y="188"/>
                  </a:lnTo>
                  <a:lnTo>
                    <a:pt x="1540" y="166"/>
                  </a:lnTo>
                  <a:lnTo>
                    <a:pt x="1520" y="146"/>
                  </a:lnTo>
                  <a:lnTo>
                    <a:pt x="1500" y="128"/>
                  </a:lnTo>
                  <a:lnTo>
                    <a:pt x="1478" y="110"/>
                  </a:lnTo>
                  <a:lnTo>
                    <a:pt x="1456" y="94"/>
                  </a:lnTo>
                  <a:lnTo>
                    <a:pt x="1432" y="78"/>
                  </a:lnTo>
                  <a:lnTo>
                    <a:pt x="1406" y="64"/>
                  </a:lnTo>
                  <a:lnTo>
                    <a:pt x="1380" y="52"/>
                  </a:lnTo>
                  <a:lnTo>
                    <a:pt x="1352" y="40"/>
                  </a:lnTo>
                  <a:lnTo>
                    <a:pt x="1324" y="30"/>
                  </a:lnTo>
                  <a:lnTo>
                    <a:pt x="1294" y="20"/>
                  </a:lnTo>
                  <a:lnTo>
                    <a:pt x="1264" y="14"/>
                  </a:lnTo>
                  <a:lnTo>
                    <a:pt x="1234" y="8"/>
                  </a:lnTo>
                  <a:lnTo>
                    <a:pt x="1202" y="4"/>
                  </a:lnTo>
                  <a:lnTo>
                    <a:pt x="1170" y="0"/>
                  </a:lnTo>
                  <a:lnTo>
                    <a:pt x="1136" y="0"/>
                  </a:lnTo>
                  <a:lnTo>
                    <a:pt x="1136" y="0"/>
                  </a:lnTo>
                  <a:lnTo>
                    <a:pt x="1108" y="0"/>
                  </a:lnTo>
                  <a:lnTo>
                    <a:pt x="1078" y="2"/>
                  </a:lnTo>
                  <a:lnTo>
                    <a:pt x="1050" y="6"/>
                  </a:lnTo>
                  <a:lnTo>
                    <a:pt x="1022" y="10"/>
                  </a:lnTo>
                  <a:lnTo>
                    <a:pt x="994" y="16"/>
                  </a:lnTo>
                  <a:lnTo>
                    <a:pt x="968" y="24"/>
                  </a:lnTo>
                  <a:lnTo>
                    <a:pt x="942" y="32"/>
                  </a:lnTo>
                  <a:lnTo>
                    <a:pt x="916" y="42"/>
                  </a:lnTo>
                  <a:lnTo>
                    <a:pt x="892" y="52"/>
                  </a:lnTo>
                  <a:lnTo>
                    <a:pt x="868" y="64"/>
                  </a:lnTo>
                  <a:lnTo>
                    <a:pt x="846" y="76"/>
                  </a:lnTo>
                  <a:lnTo>
                    <a:pt x="824" y="90"/>
                  </a:lnTo>
                  <a:lnTo>
                    <a:pt x="802" y="104"/>
                  </a:lnTo>
                  <a:lnTo>
                    <a:pt x="782" y="120"/>
                  </a:lnTo>
                  <a:lnTo>
                    <a:pt x="764" y="136"/>
                  </a:lnTo>
                  <a:lnTo>
                    <a:pt x="746" y="154"/>
                  </a:lnTo>
                  <a:lnTo>
                    <a:pt x="746" y="154"/>
                  </a:lnTo>
                  <a:lnTo>
                    <a:pt x="692" y="152"/>
                  </a:lnTo>
                  <a:lnTo>
                    <a:pt x="692" y="152"/>
                  </a:lnTo>
                  <a:lnTo>
                    <a:pt x="636" y="154"/>
                  </a:lnTo>
                  <a:lnTo>
                    <a:pt x="580" y="160"/>
                  </a:lnTo>
                  <a:lnTo>
                    <a:pt x="528" y="168"/>
                  </a:lnTo>
                  <a:lnTo>
                    <a:pt x="476" y="180"/>
                  </a:lnTo>
                  <a:lnTo>
                    <a:pt x="428" y="194"/>
                  </a:lnTo>
                  <a:lnTo>
                    <a:pt x="382" y="210"/>
                  </a:lnTo>
                  <a:lnTo>
                    <a:pt x="338" y="230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32" y="302"/>
                  </a:lnTo>
                  <a:lnTo>
                    <a:pt x="204" y="330"/>
                  </a:lnTo>
                  <a:lnTo>
                    <a:pt x="180" y="360"/>
                  </a:lnTo>
                  <a:lnTo>
                    <a:pt x="170" y="376"/>
                  </a:lnTo>
                  <a:lnTo>
                    <a:pt x="162" y="392"/>
                  </a:lnTo>
                  <a:lnTo>
                    <a:pt x="154" y="408"/>
                  </a:lnTo>
                  <a:lnTo>
                    <a:pt x="148" y="424"/>
                  </a:lnTo>
                  <a:lnTo>
                    <a:pt x="142" y="440"/>
                  </a:lnTo>
                  <a:lnTo>
                    <a:pt x="138" y="458"/>
                  </a:lnTo>
                  <a:lnTo>
                    <a:pt x="136" y="474"/>
                  </a:lnTo>
                  <a:lnTo>
                    <a:pt x="136" y="492"/>
                  </a:lnTo>
                  <a:lnTo>
                    <a:pt x="136" y="492"/>
                  </a:lnTo>
                  <a:lnTo>
                    <a:pt x="138" y="514"/>
                  </a:lnTo>
                  <a:lnTo>
                    <a:pt x="140" y="534"/>
                  </a:lnTo>
                  <a:lnTo>
                    <a:pt x="146" y="554"/>
                  </a:lnTo>
                  <a:lnTo>
                    <a:pt x="152" y="574"/>
                  </a:lnTo>
                  <a:lnTo>
                    <a:pt x="152" y="574"/>
                  </a:lnTo>
                  <a:lnTo>
                    <a:pt x="120" y="594"/>
                  </a:lnTo>
                  <a:lnTo>
                    <a:pt x="90" y="618"/>
                  </a:lnTo>
                  <a:lnTo>
                    <a:pt x="64" y="642"/>
                  </a:lnTo>
                  <a:lnTo>
                    <a:pt x="42" y="670"/>
                  </a:lnTo>
                  <a:lnTo>
                    <a:pt x="24" y="700"/>
                  </a:lnTo>
                  <a:lnTo>
                    <a:pt x="18" y="716"/>
                  </a:lnTo>
                  <a:lnTo>
                    <a:pt x="12" y="730"/>
                  </a:lnTo>
                  <a:lnTo>
                    <a:pt x="6" y="748"/>
                  </a:lnTo>
                  <a:lnTo>
                    <a:pt x="4" y="764"/>
                  </a:lnTo>
                  <a:lnTo>
                    <a:pt x="2" y="780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2" y="818"/>
                  </a:lnTo>
                  <a:lnTo>
                    <a:pt x="4" y="838"/>
                  </a:lnTo>
                  <a:lnTo>
                    <a:pt x="10" y="858"/>
                  </a:lnTo>
                  <a:lnTo>
                    <a:pt x="16" y="878"/>
                  </a:lnTo>
                  <a:lnTo>
                    <a:pt x="26" y="898"/>
                  </a:lnTo>
                  <a:lnTo>
                    <a:pt x="36" y="916"/>
                  </a:lnTo>
                  <a:lnTo>
                    <a:pt x="48" y="932"/>
                  </a:lnTo>
                  <a:lnTo>
                    <a:pt x="62" y="950"/>
                  </a:lnTo>
                  <a:lnTo>
                    <a:pt x="78" y="966"/>
                  </a:lnTo>
                  <a:lnTo>
                    <a:pt x="94" y="982"/>
                  </a:lnTo>
                  <a:lnTo>
                    <a:pt x="112" y="996"/>
                  </a:lnTo>
                  <a:lnTo>
                    <a:pt x="132" y="1008"/>
                  </a:lnTo>
                  <a:lnTo>
                    <a:pt x="152" y="1022"/>
                  </a:lnTo>
                  <a:lnTo>
                    <a:pt x="174" y="1032"/>
                  </a:lnTo>
                  <a:lnTo>
                    <a:pt x="198" y="1042"/>
                  </a:lnTo>
                  <a:lnTo>
                    <a:pt x="220" y="1052"/>
                  </a:lnTo>
                  <a:lnTo>
                    <a:pt x="220" y="1052"/>
                  </a:lnTo>
                  <a:lnTo>
                    <a:pt x="226" y="1084"/>
                  </a:lnTo>
                  <a:lnTo>
                    <a:pt x="236" y="1114"/>
                  </a:lnTo>
                  <a:lnTo>
                    <a:pt x="250" y="1144"/>
                  </a:lnTo>
                  <a:lnTo>
                    <a:pt x="268" y="1172"/>
                  </a:lnTo>
                  <a:lnTo>
                    <a:pt x="288" y="1198"/>
                  </a:lnTo>
                  <a:lnTo>
                    <a:pt x="312" y="1224"/>
                  </a:lnTo>
                  <a:lnTo>
                    <a:pt x="338" y="1248"/>
                  </a:lnTo>
                  <a:lnTo>
                    <a:pt x="368" y="1270"/>
                  </a:lnTo>
                  <a:lnTo>
                    <a:pt x="400" y="1290"/>
                  </a:lnTo>
                  <a:lnTo>
                    <a:pt x="434" y="1306"/>
                  </a:lnTo>
                  <a:lnTo>
                    <a:pt x="470" y="1322"/>
                  </a:lnTo>
                  <a:lnTo>
                    <a:pt x="508" y="1334"/>
                  </a:lnTo>
                  <a:lnTo>
                    <a:pt x="548" y="1344"/>
                  </a:lnTo>
                  <a:lnTo>
                    <a:pt x="590" y="1352"/>
                  </a:lnTo>
                  <a:lnTo>
                    <a:pt x="634" y="1356"/>
                  </a:lnTo>
                  <a:lnTo>
                    <a:pt x="678" y="1358"/>
                  </a:lnTo>
                  <a:lnTo>
                    <a:pt x="678" y="1358"/>
                  </a:lnTo>
                  <a:lnTo>
                    <a:pt x="720" y="1356"/>
                  </a:lnTo>
                  <a:lnTo>
                    <a:pt x="760" y="1352"/>
                  </a:lnTo>
                  <a:lnTo>
                    <a:pt x="800" y="1346"/>
                  </a:lnTo>
                  <a:lnTo>
                    <a:pt x="838" y="1336"/>
                  </a:lnTo>
                  <a:lnTo>
                    <a:pt x="876" y="1326"/>
                  </a:lnTo>
                  <a:lnTo>
                    <a:pt x="910" y="1312"/>
                  </a:lnTo>
                  <a:lnTo>
                    <a:pt x="944" y="1296"/>
                  </a:lnTo>
                  <a:lnTo>
                    <a:pt x="974" y="1278"/>
                  </a:lnTo>
                  <a:lnTo>
                    <a:pt x="974" y="1278"/>
                  </a:lnTo>
                  <a:lnTo>
                    <a:pt x="1000" y="1288"/>
                  </a:lnTo>
                  <a:lnTo>
                    <a:pt x="1026" y="1298"/>
                  </a:lnTo>
                  <a:lnTo>
                    <a:pt x="1052" y="1306"/>
                  </a:lnTo>
                  <a:lnTo>
                    <a:pt x="1080" y="1312"/>
                  </a:lnTo>
                  <a:lnTo>
                    <a:pt x="1108" y="1318"/>
                  </a:lnTo>
                  <a:lnTo>
                    <a:pt x="1136" y="1320"/>
                  </a:lnTo>
                  <a:lnTo>
                    <a:pt x="1166" y="1324"/>
                  </a:lnTo>
                  <a:lnTo>
                    <a:pt x="1196" y="1324"/>
                  </a:lnTo>
                  <a:lnTo>
                    <a:pt x="1196" y="1324"/>
                  </a:lnTo>
                  <a:lnTo>
                    <a:pt x="1230" y="1322"/>
                  </a:lnTo>
                  <a:lnTo>
                    <a:pt x="1262" y="1320"/>
                  </a:lnTo>
                  <a:lnTo>
                    <a:pt x="1294" y="1316"/>
                  </a:lnTo>
                  <a:lnTo>
                    <a:pt x="1324" y="1310"/>
                  </a:lnTo>
                  <a:lnTo>
                    <a:pt x="1354" y="1302"/>
                  </a:lnTo>
                  <a:lnTo>
                    <a:pt x="1382" y="1292"/>
                  </a:lnTo>
                  <a:lnTo>
                    <a:pt x="1410" y="1282"/>
                  </a:lnTo>
                  <a:lnTo>
                    <a:pt x="1436" y="1270"/>
                  </a:lnTo>
                  <a:lnTo>
                    <a:pt x="1436" y="1270"/>
                  </a:lnTo>
                  <a:lnTo>
                    <a:pt x="1478" y="1284"/>
                  </a:lnTo>
                  <a:lnTo>
                    <a:pt x="1524" y="1292"/>
                  </a:lnTo>
                  <a:lnTo>
                    <a:pt x="1570" y="1298"/>
                  </a:lnTo>
                  <a:lnTo>
                    <a:pt x="1618" y="1300"/>
                  </a:lnTo>
                  <a:lnTo>
                    <a:pt x="1618" y="1300"/>
                  </a:lnTo>
                  <a:lnTo>
                    <a:pt x="1650" y="1300"/>
                  </a:lnTo>
                  <a:lnTo>
                    <a:pt x="1680" y="1298"/>
                  </a:lnTo>
                  <a:lnTo>
                    <a:pt x="1710" y="1294"/>
                  </a:lnTo>
                  <a:lnTo>
                    <a:pt x="1740" y="1288"/>
                  </a:lnTo>
                  <a:lnTo>
                    <a:pt x="1768" y="1280"/>
                  </a:lnTo>
                  <a:lnTo>
                    <a:pt x="1796" y="1272"/>
                  </a:lnTo>
                  <a:lnTo>
                    <a:pt x="1822" y="1262"/>
                  </a:lnTo>
                  <a:lnTo>
                    <a:pt x="1848" y="1252"/>
                  </a:lnTo>
                  <a:lnTo>
                    <a:pt x="1872" y="1240"/>
                  </a:lnTo>
                  <a:lnTo>
                    <a:pt x="1894" y="1226"/>
                  </a:lnTo>
                  <a:lnTo>
                    <a:pt x="1916" y="1212"/>
                  </a:lnTo>
                  <a:lnTo>
                    <a:pt x="1936" y="1196"/>
                  </a:lnTo>
                  <a:lnTo>
                    <a:pt x="1956" y="1180"/>
                  </a:lnTo>
                  <a:lnTo>
                    <a:pt x="1974" y="1162"/>
                  </a:lnTo>
                  <a:lnTo>
                    <a:pt x="1988" y="1144"/>
                  </a:lnTo>
                  <a:lnTo>
                    <a:pt x="2002" y="1124"/>
                  </a:lnTo>
                  <a:lnTo>
                    <a:pt x="2002" y="1124"/>
                  </a:lnTo>
                  <a:lnTo>
                    <a:pt x="2044" y="1120"/>
                  </a:lnTo>
                  <a:lnTo>
                    <a:pt x="2086" y="1114"/>
                  </a:lnTo>
                  <a:lnTo>
                    <a:pt x="2124" y="1106"/>
                  </a:lnTo>
                  <a:lnTo>
                    <a:pt x="2162" y="1094"/>
                  </a:lnTo>
                  <a:lnTo>
                    <a:pt x="2196" y="1080"/>
                  </a:lnTo>
                  <a:lnTo>
                    <a:pt x="2230" y="1064"/>
                  </a:lnTo>
                  <a:lnTo>
                    <a:pt x="2262" y="1046"/>
                  </a:lnTo>
                  <a:lnTo>
                    <a:pt x="2290" y="1026"/>
                  </a:lnTo>
                  <a:lnTo>
                    <a:pt x="2316" y="1004"/>
                  </a:lnTo>
                  <a:lnTo>
                    <a:pt x="2340" y="980"/>
                  </a:lnTo>
                  <a:lnTo>
                    <a:pt x="2360" y="954"/>
                  </a:lnTo>
                  <a:lnTo>
                    <a:pt x="2376" y="928"/>
                  </a:lnTo>
                  <a:lnTo>
                    <a:pt x="2390" y="900"/>
                  </a:lnTo>
                  <a:lnTo>
                    <a:pt x="2400" y="870"/>
                  </a:lnTo>
                  <a:lnTo>
                    <a:pt x="2406" y="840"/>
                  </a:lnTo>
                  <a:lnTo>
                    <a:pt x="2408" y="808"/>
                  </a:lnTo>
                  <a:lnTo>
                    <a:pt x="2408" y="8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-2134800" y="11409120"/>
              <a:ext cx="3861000" cy="2193840"/>
            </a:xfrm>
            <a:custGeom>
              <a:avLst/>
              <a:gdLst>
                <a:gd name="textAreaLeft" fmla="*/ 0 w 3861000"/>
                <a:gd name="textAreaRight" fmla="*/ 3861360 w 3861000"/>
                <a:gd name="textAreaTop" fmla="*/ 0 h 2193840"/>
                <a:gd name="textAreaBottom" fmla="*/ 2194200 h 2193840"/>
              </a:gdLst>
              <a:ahLst/>
              <a:rect l="textAreaLeft" t="textAreaTop" r="textAreaRight" b="textAreaBottom"/>
              <a:pathLst>
                <a:path w="2432" h="1382">
                  <a:moveTo>
                    <a:pt x="690" y="1382"/>
                  </a:moveTo>
                  <a:lnTo>
                    <a:pt x="690" y="1382"/>
                  </a:lnTo>
                  <a:lnTo>
                    <a:pt x="646" y="1380"/>
                  </a:lnTo>
                  <a:lnTo>
                    <a:pt x="602" y="1376"/>
                  </a:lnTo>
                  <a:lnTo>
                    <a:pt x="560" y="1370"/>
                  </a:lnTo>
                  <a:lnTo>
                    <a:pt x="518" y="1358"/>
                  </a:lnTo>
                  <a:lnTo>
                    <a:pt x="480" y="1346"/>
                  </a:lnTo>
                  <a:lnTo>
                    <a:pt x="442" y="1332"/>
                  </a:lnTo>
                  <a:lnTo>
                    <a:pt x="408" y="1314"/>
                  </a:lnTo>
                  <a:lnTo>
                    <a:pt x="376" y="1294"/>
                  </a:lnTo>
                  <a:lnTo>
                    <a:pt x="346" y="1272"/>
                  </a:lnTo>
                  <a:lnTo>
                    <a:pt x="318" y="1248"/>
                  </a:lnTo>
                  <a:lnTo>
                    <a:pt x="294" y="1222"/>
                  </a:lnTo>
                  <a:lnTo>
                    <a:pt x="272" y="1196"/>
                  </a:lnTo>
                  <a:lnTo>
                    <a:pt x="254" y="1166"/>
                  </a:lnTo>
                  <a:lnTo>
                    <a:pt x="240" y="1136"/>
                  </a:lnTo>
                  <a:lnTo>
                    <a:pt x="228" y="1106"/>
                  </a:lnTo>
                  <a:lnTo>
                    <a:pt x="222" y="1072"/>
                  </a:lnTo>
                  <a:lnTo>
                    <a:pt x="222" y="1072"/>
                  </a:lnTo>
                  <a:lnTo>
                    <a:pt x="198" y="1062"/>
                  </a:lnTo>
                  <a:lnTo>
                    <a:pt x="174" y="1052"/>
                  </a:lnTo>
                  <a:lnTo>
                    <a:pt x="152" y="1040"/>
                  </a:lnTo>
                  <a:lnTo>
                    <a:pt x="130" y="1026"/>
                  </a:lnTo>
                  <a:lnTo>
                    <a:pt x="110" y="1012"/>
                  </a:lnTo>
                  <a:lnTo>
                    <a:pt x="92" y="998"/>
                  </a:lnTo>
                  <a:lnTo>
                    <a:pt x="76" y="982"/>
                  </a:lnTo>
                  <a:lnTo>
                    <a:pt x="60" y="964"/>
                  </a:lnTo>
                  <a:lnTo>
                    <a:pt x="48" y="948"/>
                  </a:lnTo>
                  <a:lnTo>
                    <a:pt x="36" y="928"/>
                  </a:lnTo>
                  <a:lnTo>
                    <a:pt x="24" y="910"/>
                  </a:lnTo>
                  <a:lnTo>
                    <a:pt x="16" y="890"/>
                  </a:lnTo>
                  <a:lnTo>
                    <a:pt x="10" y="870"/>
                  </a:lnTo>
                  <a:lnTo>
                    <a:pt x="4" y="850"/>
                  </a:lnTo>
                  <a:lnTo>
                    <a:pt x="2" y="830"/>
                  </a:lnTo>
                  <a:lnTo>
                    <a:pt x="0" y="810"/>
                  </a:lnTo>
                  <a:lnTo>
                    <a:pt x="0" y="810"/>
                  </a:lnTo>
                  <a:lnTo>
                    <a:pt x="2" y="792"/>
                  </a:lnTo>
                  <a:lnTo>
                    <a:pt x="2" y="776"/>
                  </a:lnTo>
                  <a:lnTo>
                    <a:pt x="6" y="760"/>
                  </a:lnTo>
                  <a:lnTo>
                    <a:pt x="10" y="744"/>
                  </a:lnTo>
                  <a:lnTo>
                    <a:pt x="16" y="728"/>
                  </a:lnTo>
                  <a:lnTo>
                    <a:pt x="22" y="712"/>
                  </a:lnTo>
                  <a:lnTo>
                    <a:pt x="40" y="682"/>
                  </a:lnTo>
                  <a:lnTo>
                    <a:pt x="60" y="654"/>
                  </a:lnTo>
                  <a:lnTo>
                    <a:pt x="86" y="626"/>
                  </a:lnTo>
                  <a:lnTo>
                    <a:pt x="116" y="602"/>
                  </a:lnTo>
                  <a:lnTo>
                    <a:pt x="150" y="580"/>
                  </a:lnTo>
                  <a:lnTo>
                    <a:pt x="150" y="580"/>
                  </a:lnTo>
                  <a:lnTo>
                    <a:pt x="144" y="562"/>
                  </a:lnTo>
                  <a:lnTo>
                    <a:pt x="140" y="542"/>
                  </a:lnTo>
                  <a:lnTo>
                    <a:pt x="136" y="524"/>
                  </a:lnTo>
                  <a:lnTo>
                    <a:pt x="136" y="504"/>
                  </a:lnTo>
                  <a:lnTo>
                    <a:pt x="136" y="504"/>
                  </a:lnTo>
                  <a:lnTo>
                    <a:pt x="136" y="486"/>
                  </a:lnTo>
                  <a:lnTo>
                    <a:pt x="138" y="468"/>
                  </a:lnTo>
                  <a:lnTo>
                    <a:pt x="142" y="450"/>
                  </a:lnTo>
                  <a:lnTo>
                    <a:pt x="148" y="434"/>
                  </a:lnTo>
                  <a:lnTo>
                    <a:pt x="154" y="416"/>
                  </a:lnTo>
                  <a:lnTo>
                    <a:pt x="162" y="400"/>
                  </a:lnTo>
                  <a:lnTo>
                    <a:pt x="170" y="384"/>
                  </a:lnTo>
                  <a:lnTo>
                    <a:pt x="180" y="368"/>
                  </a:lnTo>
                  <a:lnTo>
                    <a:pt x="204" y="336"/>
                  </a:lnTo>
                  <a:lnTo>
                    <a:pt x="234" y="308"/>
                  </a:lnTo>
                  <a:lnTo>
                    <a:pt x="266" y="280"/>
                  </a:lnTo>
                  <a:lnTo>
                    <a:pt x="302" y="256"/>
                  </a:lnTo>
                  <a:lnTo>
                    <a:pt x="344" y="232"/>
                  </a:lnTo>
                  <a:lnTo>
                    <a:pt x="386" y="212"/>
                  </a:lnTo>
                  <a:lnTo>
                    <a:pt x="434" y="194"/>
                  </a:lnTo>
                  <a:lnTo>
                    <a:pt x="484" y="180"/>
                  </a:lnTo>
                  <a:lnTo>
                    <a:pt x="536" y="168"/>
                  </a:lnTo>
                  <a:lnTo>
                    <a:pt x="590" y="160"/>
                  </a:lnTo>
                  <a:lnTo>
                    <a:pt x="646" y="154"/>
                  </a:lnTo>
                  <a:lnTo>
                    <a:pt x="704" y="152"/>
                  </a:lnTo>
                  <a:lnTo>
                    <a:pt x="704" y="152"/>
                  </a:lnTo>
                  <a:lnTo>
                    <a:pt x="752" y="154"/>
                  </a:lnTo>
                  <a:lnTo>
                    <a:pt x="752" y="154"/>
                  </a:lnTo>
                  <a:lnTo>
                    <a:pt x="772" y="136"/>
                  </a:lnTo>
                  <a:lnTo>
                    <a:pt x="792" y="118"/>
                  </a:lnTo>
                  <a:lnTo>
                    <a:pt x="812" y="104"/>
                  </a:lnTo>
                  <a:lnTo>
                    <a:pt x="834" y="88"/>
                  </a:lnTo>
                  <a:lnTo>
                    <a:pt x="858" y="74"/>
                  </a:lnTo>
                  <a:lnTo>
                    <a:pt x="880" y="62"/>
                  </a:lnTo>
                  <a:lnTo>
                    <a:pt x="904" y="50"/>
                  </a:lnTo>
                  <a:lnTo>
                    <a:pt x="930" y="40"/>
                  </a:lnTo>
                  <a:lnTo>
                    <a:pt x="956" y="30"/>
                  </a:lnTo>
                  <a:lnTo>
                    <a:pt x="982" y="22"/>
                  </a:lnTo>
                  <a:lnTo>
                    <a:pt x="1008" y="16"/>
                  </a:lnTo>
                  <a:lnTo>
                    <a:pt x="1036" y="10"/>
                  </a:lnTo>
                  <a:lnTo>
                    <a:pt x="1064" y="6"/>
                  </a:lnTo>
                  <a:lnTo>
                    <a:pt x="1092" y="2"/>
                  </a:lnTo>
                  <a:lnTo>
                    <a:pt x="1120" y="0"/>
                  </a:lnTo>
                  <a:lnTo>
                    <a:pt x="1148" y="0"/>
                  </a:lnTo>
                  <a:lnTo>
                    <a:pt x="1148" y="0"/>
                  </a:lnTo>
                  <a:lnTo>
                    <a:pt x="1180" y="0"/>
                  </a:lnTo>
                  <a:lnTo>
                    <a:pt x="1212" y="4"/>
                  </a:lnTo>
                  <a:lnTo>
                    <a:pt x="1242" y="6"/>
                  </a:lnTo>
                  <a:lnTo>
                    <a:pt x="1274" y="12"/>
                  </a:lnTo>
                  <a:lnTo>
                    <a:pt x="1304" y="20"/>
                  </a:lnTo>
                  <a:lnTo>
                    <a:pt x="1332" y="28"/>
                  </a:lnTo>
                  <a:lnTo>
                    <a:pt x="1360" y="38"/>
                  </a:lnTo>
                  <a:lnTo>
                    <a:pt x="1388" y="48"/>
                  </a:lnTo>
                  <a:lnTo>
                    <a:pt x="1416" y="62"/>
                  </a:lnTo>
                  <a:lnTo>
                    <a:pt x="1442" y="76"/>
                  </a:lnTo>
                  <a:lnTo>
                    <a:pt x="1466" y="90"/>
                  </a:lnTo>
                  <a:lnTo>
                    <a:pt x="1490" y="108"/>
                  </a:lnTo>
                  <a:lnTo>
                    <a:pt x="1514" y="124"/>
                  </a:lnTo>
                  <a:lnTo>
                    <a:pt x="1534" y="144"/>
                  </a:lnTo>
                  <a:lnTo>
                    <a:pt x="1554" y="164"/>
                  </a:lnTo>
                  <a:lnTo>
                    <a:pt x="1574" y="184"/>
                  </a:lnTo>
                  <a:lnTo>
                    <a:pt x="1574" y="184"/>
                  </a:lnTo>
                  <a:lnTo>
                    <a:pt x="1620" y="170"/>
                  </a:lnTo>
                  <a:lnTo>
                    <a:pt x="1666" y="160"/>
                  </a:lnTo>
                  <a:lnTo>
                    <a:pt x="1716" y="154"/>
                  </a:lnTo>
                  <a:lnTo>
                    <a:pt x="1766" y="152"/>
                  </a:lnTo>
                  <a:lnTo>
                    <a:pt x="1766" y="152"/>
                  </a:lnTo>
                  <a:lnTo>
                    <a:pt x="1810" y="154"/>
                  </a:lnTo>
                  <a:lnTo>
                    <a:pt x="1854" y="158"/>
                  </a:lnTo>
                  <a:lnTo>
                    <a:pt x="1896" y="168"/>
                  </a:lnTo>
                  <a:lnTo>
                    <a:pt x="1938" y="178"/>
                  </a:lnTo>
                  <a:lnTo>
                    <a:pt x="1976" y="192"/>
                  </a:lnTo>
                  <a:lnTo>
                    <a:pt x="2012" y="208"/>
                  </a:lnTo>
                  <a:lnTo>
                    <a:pt x="2046" y="228"/>
                  </a:lnTo>
                  <a:lnTo>
                    <a:pt x="2078" y="248"/>
                  </a:lnTo>
                  <a:lnTo>
                    <a:pt x="2106" y="272"/>
                  </a:lnTo>
                  <a:lnTo>
                    <a:pt x="2132" y="298"/>
                  </a:lnTo>
                  <a:lnTo>
                    <a:pt x="2154" y="324"/>
                  </a:lnTo>
                  <a:lnTo>
                    <a:pt x="2172" y="352"/>
                  </a:lnTo>
                  <a:lnTo>
                    <a:pt x="2186" y="384"/>
                  </a:lnTo>
                  <a:lnTo>
                    <a:pt x="2198" y="414"/>
                  </a:lnTo>
                  <a:lnTo>
                    <a:pt x="2204" y="448"/>
                  </a:lnTo>
                  <a:lnTo>
                    <a:pt x="2206" y="480"/>
                  </a:lnTo>
                  <a:lnTo>
                    <a:pt x="2206" y="480"/>
                  </a:lnTo>
                  <a:lnTo>
                    <a:pt x="2206" y="506"/>
                  </a:lnTo>
                  <a:lnTo>
                    <a:pt x="2202" y="532"/>
                  </a:lnTo>
                  <a:lnTo>
                    <a:pt x="2202" y="532"/>
                  </a:lnTo>
                  <a:lnTo>
                    <a:pt x="2228" y="544"/>
                  </a:lnTo>
                  <a:lnTo>
                    <a:pt x="2252" y="556"/>
                  </a:lnTo>
                  <a:lnTo>
                    <a:pt x="2276" y="570"/>
                  </a:lnTo>
                  <a:lnTo>
                    <a:pt x="2298" y="584"/>
                  </a:lnTo>
                  <a:lnTo>
                    <a:pt x="2318" y="600"/>
                  </a:lnTo>
                  <a:lnTo>
                    <a:pt x="2338" y="616"/>
                  </a:lnTo>
                  <a:lnTo>
                    <a:pt x="2354" y="634"/>
                  </a:lnTo>
                  <a:lnTo>
                    <a:pt x="2370" y="652"/>
                  </a:lnTo>
                  <a:lnTo>
                    <a:pt x="2384" y="672"/>
                  </a:lnTo>
                  <a:lnTo>
                    <a:pt x="2396" y="690"/>
                  </a:lnTo>
                  <a:lnTo>
                    <a:pt x="2408" y="712"/>
                  </a:lnTo>
                  <a:lnTo>
                    <a:pt x="2416" y="732"/>
                  </a:lnTo>
                  <a:lnTo>
                    <a:pt x="2424" y="754"/>
                  </a:lnTo>
                  <a:lnTo>
                    <a:pt x="2428" y="776"/>
                  </a:lnTo>
                  <a:lnTo>
                    <a:pt x="2432" y="798"/>
                  </a:lnTo>
                  <a:lnTo>
                    <a:pt x="2432" y="820"/>
                  </a:lnTo>
                  <a:lnTo>
                    <a:pt x="2432" y="820"/>
                  </a:lnTo>
                  <a:lnTo>
                    <a:pt x="2430" y="852"/>
                  </a:lnTo>
                  <a:lnTo>
                    <a:pt x="2424" y="884"/>
                  </a:lnTo>
                  <a:lnTo>
                    <a:pt x="2414" y="914"/>
                  </a:lnTo>
                  <a:lnTo>
                    <a:pt x="2400" y="944"/>
                  </a:lnTo>
                  <a:lnTo>
                    <a:pt x="2384" y="970"/>
                  </a:lnTo>
                  <a:lnTo>
                    <a:pt x="2364" y="998"/>
                  </a:lnTo>
                  <a:lnTo>
                    <a:pt x="2340" y="1022"/>
                  </a:lnTo>
                  <a:lnTo>
                    <a:pt x="2314" y="1044"/>
                  </a:lnTo>
                  <a:lnTo>
                    <a:pt x="2284" y="1066"/>
                  </a:lnTo>
                  <a:lnTo>
                    <a:pt x="2252" y="1084"/>
                  </a:lnTo>
                  <a:lnTo>
                    <a:pt x="2218" y="1102"/>
                  </a:lnTo>
                  <a:lnTo>
                    <a:pt x="2184" y="1116"/>
                  </a:lnTo>
                  <a:lnTo>
                    <a:pt x="2146" y="1128"/>
                  </a:lnTo>
                  <a:lnTo>
                    <a:pt x="2106" y="1138"/>
                  </a:lnTo>
                  <a:lnTo>
                    <a:pt x="2064" y="1144"/>
                  </a:lnTo>
                  <a:lnTo>
                    <a:pt x="2022" y="1148"/>
                  </a:lnTo>
                  <a:lnTo>
                    <a:pt x="2022" y="1148"/>
                  </a:lnTo>
                  <a:lnTo>
                    <a:pt x="2006" y="1168"/>
                  </a:lnTo>
                  <a:lnTo>
                    <a:pt x="1990" y="1186"/>
                  </a:lnTo>
                  <a:lnTo>
                    <a:pt x="1972" y="1204"/>
                  </a:lnTo>
                  <a:lnTo>
                    <a:pt x="1952" y="1222"/>
                  </a:lnTo>
                  <a:lnTo>
                    <a:pt x="1930" y="1238"/>
                  </a:lnTo>
                  <a:lnTo>
                    <a:pt x="1908" y="1252"/>
                  </a:lnTo>
                  <a:lnTo>
                    <a:pt x="1884" y="1266"/>
                  </a:lnTo>
                  <a:lnTo>
                    <a:pt x="1860" y="1278"/>
                  </a:lnTo>
                  <a:lnTo>
                    <a:pt x="1834" y="1288"/>
                  </a:lnTo>
                  <a:lnTo>
                    <a:pt x="1806" y="1298"/>
                  </a:lnTo>
                  <a:lnTo>
                    <a:pt x="1780" y="1306"/>
                  </a:lnTo>
                  <a:lnTo>
                    <a:pt x="1750" y="1312"/>
                  </a:lnTo>
                  <a:lnTo>
                    <a:pt x="1722" y="1318"/>
                  </a:lnTo>
                  <a:lnTo>
                    <a:pt x="1692" y="1322"/>
                  </a:lnTo>
                  <a:lnTo>
                    <a:pt x="1662" y="1324"/>
                  </a:lnTo>
                  <a:lnTo>
                    <a:pt x="1630" y="1324"/>
                  </a:lnTo>
                  <a:lnTo>
                    <a:pt x="1630" y="1324"/>
                  </a:lnTo>
                  <a:lnTo>
                    <a:pt x="1584" y="1322"/>
                  </a:lnTo>
                  <a:lnTo>
                    <a:pt x="1538" y="1318"/>
                  </a:lnTo>
                  <a:lnTo>
                    <a:pt x="1492" y="1308"/>
                  </a:lnTo>
                  <a:lnTo>
                    <a:pt x="1448" y="1296"/>
                  </a:lnTo>
                  <a:lnTo>
                    <a:pt x="1448" y="1296"/>
                  </a:lnTo>
                  <a:lnTo>
                    <a:pt x="1422" y="1308"/>
                  </a:lnTo>
                  <a:lnTo>
                    <a:pt x="1392" y="1318"/>
                  </a:lnTo>
                  <a:lnTo>
                    <a:pt x="1364" y="1328"/>
                  </a:lnTo>
                  <a:lnTo>
                    <a:pt x="1334" y="1334"/>
                  </a:lnTo>
                  <a:lnTo>
                    <a:pt x="1304" y="1340"/>
                  </a:lnTo>
                  <a:lnTo>
                    <a:pt x="1272" y="1344"/>
                  </a:lnTo>
                  <a:lnTo>
                    <a:pt x="1240" y="1348"/>
                  </a:lnTo>
                  <a:lnTo>
                    <a:pt x="1208" y="1348"/>
                  </a:lnTo>
                  <a:lnTo>
                    <a:pt x="1208" y="1348"/>
                  </a:lnTo>
                  <a:lnTo>
                    <a:pt x="1180" y="1348"/>
                  </a:lnTo>
                  <a:lnTo>
                    <a:pt x="1150" y="1346"/>
                  </a:lnTo>
                  <a:lnTo>
                    <a:pt x="1122" y="1342"/>
                  </a:lnTo>
                  <a:lnTo>
                    <a:pt x="1094" y="1336"/>
                  </a:lnTo>
                  <a:lnTo>
                    <a:pt x="1066" y="1330"/>
                  </a:lnTo>
                  <a:lnTo>
                    <a:pt x="1040" y="1322"/>
                  </a:lnTo>
                  <a:lnTo>
                    <a:pt x="1012" y="1314"/>
                  </a:lnTo>
                  <a:lnTo>
                    <a:pt x="988" y="1304"/>
                  </a:lnTo>
                  <a:lnTo>
                    <a:pt x="988" y="1304"/>
                  </a:lnTo>
                  <a:lnTo>
                    <a:pt x="954" y="1322"/>
                  </a:lnTo>
                  <a:lnTo>
                    <a:pt x="920" y="1338"/>
                  </a:lnTo>
                  <a:lnTo>
                    <a:pt x="884" y="1352"/>
                  </a:lnTo>
                  <a:lnTo>
                    <a:pt x="848" y="1362"/>
                  </a:lnTo>
                  <a:lnTo>
                    <a:pt x="810" y="1370"/>
                  </a:lnTo>
                  <a:lnTo>
                    <a:pt x="770" y="1378"/>
                  </a:lnTo>
                  <a:lnTo>
                    <a:pt x="730" y="1382"/>
                  </a:lnTo>
                  <a:lnTo>
                    <a:pt x="690" y="1382"/>
                  </a:lnTo>
                  <a:lnTo>
                    <a:pt x="690" y="1382"/>
                  </a:lnTo>
                  <a:close/>
                  <a:moveTo>
                    <a:pt x="704" y="176"/>
                  </a:moveTo>
                  <a:lnTo>
                    <a:pt x="704" y="176"/>
                  </a:lnTo>
                  <a:lnTo>
                    <a:pt x="650" y="178"/>
                  </a:lnTo>
                  <a:lnTo>
                    <a:pt x="596" y="184"/>
                  </a:lnTo>
                  <a:lnTo>
                    <a:pt x="544" y="192"/>
                  </a:lnTo>
                  <a:lnTo>
                    <a:pt x="494" y="202"/>
                  </a:lnTo>
                  <a:lnTo>
                    <a:pt x="446" y="216"/>
                  </a:lnTo>
                  <a:lnTo>
                    <a:pt x="400" y="232"/>
                  </a:lnTo>
                  <a:lnTo>
                    <a:pt x="358" y="252"/>
                  </a:lnTo>
                  <a:lnTo>
                    <a:pt x="320" y="272"/>
                  </a:lnTo>
                  <a:lnTo>
                    <a:pt x="284" y="296"/>
                  </a:lnTo>
                  <a:lnTo>
                    <a:pt x="254" y="322"/>
                  </a:lnTo>
                  <a:lnTo>
                    <a:pt x="226" y="348"/>
                  </a:lnTo>
                  <a:lnTo>
                    <a:pt x="204" y="376"/>
                  </a:lnTo>
                  <a:lnTo>
                    <a:pt x="194" y="392"/>
                  </a:lnTo>
                  <a:lnTo>
                    <a:pt x="184" y="408"/>
                  </a:lnTo>
                  <a:lnTo>
                    <a:pt x="178" y="422"/>
                  </a:lnTo>
                  <a:lnTo>
                    <a:pt x="172" y="438"/>
                  </a:lnTo>
                  <a:lnTo>
                    <a:pt x="166" y="454"/>
                  </a:lnTo>
                  <a:lnTo>
                    <a:pt x="164" y="470"/>
                  </a:lnTo>
                  <a:lnTo>
                    <a:pt x="162" y="488"/>
                  </a:lnTo>
                  <a:lnTo>
                    <a:pt x="160" y="504"/>
                  </a:lnTo>
                  <a:lnTo>
                    <a:pt x="160" y="504"/>
                  </a:lnTo>
                  <a:lnTo>
                    <a:pt x="162" y="524"/>
                  </a:lnTo>
                  <a:lnTo>
                    <a:pt x="164" y="542"/>
                  </a:lnTo>
                  <a:lnTo>
                    <a:pt x="168" y="562"/>
                  </a:lnTo>
                  <a:lnTo>
                    <a:pt x="176" y="580"/>
                  </a:lnTo>
                  <a:lnTo>
                    <a:pt x="180" y="590"/>
                  </a:lnTo>
                  <a:lnTo>
                    <a:pt x="170" y="596"/>
                  </a:lnTo>
                  <a:lnTo>
                    <a:pt x="170" y="596"/>
                  </a:lnTo>
                  <a:lnTo>
                    <a:pt x="138" y="616"/>
                  </a:lnTo>
                  <a:lnTo>
                    <a:pt x="108" y="640"/>
                  </a:lnTo>
                  <a:lnTo>
                    <a:pt x="84" y="664"/>
                  </a:lnTo>
                  <a:lnTo>
                    <a:pt x="62" y="690"/>
                  </a:lnTo>
                  <a:lnTo>
                    <a:pt x="46" y="718"/>
                  </a:lnTo>
                  <a:lnTo>
                    <a:pt x="34" y="748"/>
                  </a:lnTo>
                  <a:lnTo>
                    <a:pt x="30" y="762"/>
                  </a:lnTo>
                  <a:lnTo>
                    <a:pt x="28" y="778"/>
                  </a:lnTo>
                  <a:lnTo>
                    <a:pt x="26" y="794"/>
                  </a:lnTo>
                  <a:lnTo>
                    <a:pt x="24" y="810"/>
                  </a:lnTo>
                  <a:lnTo>
                    <a:pt x="24" y="810"/>
                  </a:lnTo>
                  <a:lnTo>
                    <a:pt x="26" y="828"/>
                  </a:lnTo>
                  <a:lnTo>
                    <a:pt x="28" y="848"/>
                  </a:lnTo>
                  <a:lnTo>
                    <a:pt x="34" y="866"/>
                  </a:lnTo>
                  <a:lnTo>
                    <a:pt x="40" y="884"/>
                  </a:lnTo>
                  <a:lnTo>
                    <a:pt x="48" y="902"/>
                  </a:lnTo>
                  <a:lnTo>
                    <a:pt x="58" y="920"/>
                  </a:lnTo>
                  <a:lnTo>
                    <a:pt x="70" y="936"/>
                  </a:lnTo>
                  <a:lnTo>
                    <a:pt x="82" y="952"/>
                  </a:lnTo>
                  <a:lnTo>
                    <a:pt x="98" y="968"/>
                  </a:lnTo>
                  <a:lnTo>
                    <a:pt x="114" y="982"/>
                  </a:lnTo>
                  <a:lnTo>
                    <a:pt x="130" y="996"/>
                  </a:lnTo>
                  <a:lnTo>
                    <a:pt x="150" y="1010"/>
                  </a:lnTo>
                  <a:lnTo>
                    <a:pt x="170" y="1022"/>
                  </a:lnTo>
                  <a:lnTo>
                    <a:pt x="190" y="1032"/>
                  </a:lnTo>
                  <a:lnTo>
                    <a:pt x="214" y="1042"/>
                  </a:lnTo>
                  <a:lnTo>
                    <a:pt x="236" y="1052"/>
                  </a:lnTo>
                  <a:lnTo>
                    <a:pt x="244" y="1054"/>
                  </a:lnTo>
                  <a:lnTo>
                    <a:pt x="246" y="1062"/>
                  </a:lnTo>
                  <a:lnTo>
                    <a:pt x="246" y="1062"/>
                  </a:lnTo>
                  <a:lnTo>
                    <a:pt x="250" y="1092"/>
                  </a:lnTo>
                  <a:lnTo>
                    <a:pt x="260" y="1122"/>
                  </a:lnTo>
                  <a:lnTo>
                    <a:pt x="274" y="1150"/>
                  </a:lnTo>
                  <a:lnTo>
                    <a:pt x="292" y="1178"/>
                  </a:lnTo>
                  <a:lnTo>
                    <a:pt x="312" y="1204"/>
                  </a:lnTo>
                  <a:lnTo>
                    <a:pt x="334" y="1228"/>
                  </a:lnTo>
                  <a:lnTo>
                    <a:pt x="360" y="1252"/>
                  </a:lnTo>
                  <a:lnTo>
                    <a:pt x="390" y="1272"/>
                  </a:lnTo>
                  <a:lnTo>
                    <a:pt x="420" y="1292"/>
                  </a:lnTo>
                  <a:lnTo>
                    <a:pt x="454" y="1308"/>
                  </a:lnTo>
                  <a:lnTo>
                    <a:pt x="490" y="1322"/>
                  </a:lnTo>
                  <a:lnTo>
                    <a:pt x="526" y="1336"/>
                  </a:lnTo>
                  <a:lnTo>
                    <a:pt x="566" y="1344"/>
                  </a:lnTo>
                  <a:lnTo>
                    <a:pt x="606" y="1352"/>
                  </a:lnTo>
                  <a:lnTo>
                    <a:pt x="648" y="1356"/>
                  </a:lnTo>
                  <a:lnTo>
                    <a:pt x="690" y="1358"/>
                  </a:lnTo>
                  <a:lnTo>
                    <a:pt x="690" y="1358"/>
                  </a:lnTo>
                  <a:lnTo>
                    <a:pt x="730" y="1356"/>
                  </a:lnTo>
                  <a:lnTo>
                    <a:pt x="768" y="1352"/>
                  </a:lnTo>
                  <a:lnTo>
                    <a:pt x="806" y="1346"/>
                  </a:lnTo>
                  <a:lnTo>
                    <a:pt x="844" y="1338"/>
                  </a:lnTo>
                  <a:lnTo>
                    <a:pt x="880" y="1326"/>
                  </a:lnTo>
                  <a:lnTo>
                    <a:pt x="916" y="1314"/>
                  </a:lnTo>
                  <a:lnTo>
                    <a:pt x="948" y="1298"/>
                  </a:lnTo>
                  <a:lnTo>
                    <a:pt x="980" y="1280"/>
                  </a:lnTo>
                  <a:lnTo>
                    <a:pt x="986" y="1276"/>
                  </a:lnTo>
                  <a:lnTo>
                    <a:pt x="992" y="1278"/>
                  </a:lnTo>
                  <a:lnTo>
                    <a:pt x="992" y="1278"/>
                  </a:lnTo>
                  <a:lnTo>
                    <a:pt x="1016" y="1290"/>
                  </a:lnTo>
                  <a:lnTo>
                    <a:pt x="1042" y="1298"/>
                  </a:lnTo>
                  <a:lnTo>
                    <a:pt x="1068" y="1306"/>
                  </a:lnTo>
                  <a:lnTo>
                    <a:pt x="1096" y="1312"/>
                  </a:lnTo>
                  <a:lnTo>
                    <a:pt x="1124" y="1318"/>
                  </a:lnTo>
                  <a:lnTo>
                    <a:pt x="1152" y="1320"/>
                  </a:lnTo>
                  <a:lnTo>
                    <a:pt x="1180" y="1322"/>
                  </a:lnTo>
                  <a:lnTo>
                    <a:pt x="1208" y="1324"/>
                  </a:lnTo>
                  <a:lnTo>
                    <a:pt x="1208" y="1324"/>
                  </a:lnTo>
                  <a:lnTo>
                    <a:pt x="1240" y="1322"/>
                  </a:lnTo>
                  <a:lnTo>
                    <a:pt x="1270" y="1320"/>
                  </a:lnTo>
                  <a:lnTo>
                    <a:pt x="1302" y="1316"/>
                  </a:lnTo>
                  <a:lnTo>
                    <a:pt x="1330" y="1310"/>
                  </a:lnTo>
                  <a:lnTo>
                    <a:pt x="1360" y="1302"/>
                  </a:lnTo>
                  <a:lnTo>
                    <a:pt x="1388" y="1294"/>
                  </a:lnTo>
                  <a:lnTo>
                    <a:pt x="1416" y="1284"/>
                  </a:lnTo>
                  <a:lnTo>
                    <a:pt x="1442" y="1272"/>
                  </a:lnTo>
                  <a:lnTo>
                    <a:pt x="1446" y="1270"/>
                  </a:lnTo>
                  <a:lnTo>
                    <a:pt x="1452" y="1270"/>
                  </a:lnTo>
                  <a:lnTo>
                    <a:pt x="1452" y="1270"/>
                  </a:lnTo>
                  <a:lnTo>
                    <a:pt x="1494" y="1284"/>
                  </a:lnTo>
                  <a:lnTo>
                    <a:pt x="1538" y="1292"/>
                  </a:lnTo>
                  <a:lnTo>
                    <a:pt x="1584" y="1298"/>
                  </a:lnTo>
                  <a:lnTo>
                    <a:pt x="1630" y="1300"/>
                  </a:lnTo>
                  <a:lnTo>
                    <a:pt x="1630" y="1300"/>
                  </a:lnTo>
                  <a:lnTo>
                    <a:pt x="1660" y="1300"/>
                  </a:lnTo>
                  <a:lnTo>
                    <a:pt x="1690" y="1298"/>
                  </a:lnTo>
                  <a:lnTo>
                    <a:pt x="1718" y="1294"/>
                  </a:lnTo>
                  <a:lnTo>
                    <a:pt x="1746" y="1288"/>
                  </a:lnTo>
                  <a:lnTo>
                    <a:pt x="1774" y="1282"/>
                  </a:lnTo>
                  <a:lnTo>
                    <a:pt x="1800" y="1274"/>
                  </a:lnTo>
                  <a:lnTo>
                    <a:pt x="1826" y="1264"/>
                  </a:lnTo>
                  <a:lnTo>
                    <a:pt x="1852" y="1254"/>
                  </a:lnTo>
                  <a:lnTo>
                    <a:pt x="1874" y="1242"/>
                  </a:lnTo>
                  <a:lnTo>
                    <a:pt x="1898" y="1230"/>
                  </a:lnTo>
                  <a:lnTo>
                    <a:pt x="1918" y="1216"/>
                  </a:lnTo>
                  <a:lnTo>
                    <a:pt x="1938" y="1200"/>
                  </a:lnTo>
                  <a:lnTo>
                    <a:pt x="1958" y="1184"/>
                  </a:lnTo>
                  <a:lnTo>
                    <a:pt x="1974" y="1166"/>
                  </a:lnTo>
                  <a:lnTo>
                    <a:pt x="1990" y="1148"/>
                  </a:lnTo>
                  <a:lnTo>
                    <a:pt x="2004" y="1130"/>
                  </a:lnTo>
                  <a:lnTo>
                    <a:pt x="2008" y="1124"/>
                  </a:lnTo>
                  <a:lnTo>
                    <a:pt x="2014" y="1124"/>
                  </a:lnTo>
                  <a:lnTo>
                    <a:pt x="2014" y="1124"/>
                  </a:lnTo>
                  <a:lnTo>
                    <a:pt x="2056" y="1120"/>
                  </a:lnTo>
                  <a:lnTo>
                    <a:pt x="2094" y="1114"/>
                  </a:lnTo>
                  <a:lnTo>
                    <a:pt x="2132" y="1106"/>
                  </a:lnTo>
                  <a:lnTo>
                    <a:pt x="2168" y="1096"/>
                  </a:lnTo>
                  <a:lnTo>
                    <a:pt x="2204" y="1082"/>
                  </a:lnTo>
                  <a:lnTo>
                    <a:pt x="2236" y="1066"/>
                  </a:lnTo>
                  <a:lnTo>
                    <a:pt x="2266" y="1048"/>
                  </a:lnTo>
                  <a:lnTo>
                    <a:pt x="2294" y="1030"/>
                  </a:lnTo>
                  <a:lnTo>
                    <a:pt x="2320" y="1008"/>
                  </a:lnTo>
                  <a:lnTo>
                    <a:pt x="2342" y="986"/>
                  </a:lnTo>
                  <a:lnTo>
                    <a:pt x="2360" y="960"/>
                  </a:lnTo>
                  <a:lnTo>
                    <a:pt x="2378" y="934"/>
                  </a:lnTo>
                  <a:lnTo>
                    <a:pt x="2390" y="908"/>
                  </a:lnTo>
                  <a:lnTo>
                    <a:pt x="2400" y="880"/>
                  </a:lnTo>
                  <a:lnTo>
                    <a:pt x="2406" y="850"/>
                  </a:lnTo>
                  <a:lnTo>
                    <a:pt x="2408" y="820"/>
                  </a:lnTo>
                  <a:lnTo>
                    <a:pt x="2408" y="820"/>
                  </a:lnTo>
                  <a:lnTo>
                    <a:pt x="2406" y="800"/>
                  </a:lnTo>
                  <a:lnTo>
                    <a:pt x="2404" y="778"/>
                  </a:lnTo>
                  <a:lnTo>
                    <a:pt x="2398" y="758"/>
                  </a:lnTo>
                  <a:lnTo>
                    <a:pt x="2392" y="738"/>
                  </a:lnTo>
                  <a:lnTo>
                    <a:pt x="2384" y="718"/>
                  </a:lnTo>
                  <a:lnTo>
                    <a:pt x="2374" y="700"/>
                  </a:lnTo>
                  <a:lnTo>
                    <a:pt x="2362" y="680"/>
                  </a:lnTo>
                  <a:lnTo>
                    <a:pt x="2348" y="662"/>
                  </a:lnTo>
                  <a:lnTo>
                    <a:pt x="2332" y="646"/>
                  </a:lnTo>
                  <a:lnTo>
                    <a:pt x="2314" y="630"/>
                  </a:lnTo>
                  <a:lnTo>
                    <a:pt x="2296" y="614"/>
                  </a:lnTo>
                  <a:lnTo>
                    <a:pt x="2276" y="600"/>
                  </a:lnTo>
                  <a:lnTo>
                    <a:pt x="2254" y="586"/>
                  </a:lnTo>
                  <a:lnTo>
                    <a:pt x="2232" y="572"/>
                  </a:lnTo>
                  <a:lnTo>
                    <a:pt x="2208" y="562"/>
                  </a:lnTo>
                  <a:lnTo>
                    <a:pt x="2182" y="550"/>
                  </a:lnTo>
                  <a:lnTo>
                    <a:pt x="2172" y="546"/>
                  </a:lnTo>
                  <a:lnTo>
                    <a:pt x="2176" y="536"/>
                  </a:lnTo>
                  <a:lnTo>
                    <a:pt x="2176" y="536"/>
                  </a:lnTo>
                  <a:lnTo>
                    <a:pt x="2180" y="508"/>
                  </a:lnTo>
                  <a:lnTo>
                    <a:pt x="2182" y="480"/>
                  </a:lnTo>
                  <a:lnTo>
                    <a:pt x="2182" y="480"/>
                  </a:lnTo>
                  <a:lnTo>
                    <a:pt x="2180" y="450"/>
                  </a:lnTo>
                  <a:lnTo>
                    <a:pt x="2174" y="420"/>
                  </a:lnTo>
                  <a:lnTo>
                    <a:pt x="2164" y="390"/>
                  </a:lnTo>
                  <a:lnTo>
                    <a:pt x="2150" y="362"/>
                  </a:lnTo>
                  <a:lnTo>
                    <a:pt x="2132" y="336"/>
                  </a:lnTo>
                  <a:lnTo>
                    <a:pt x="2110" y="310"/>
                  </a:lnTo>
                  <a:lnTo>
                    <a:pt x="2086" y="288"/>
                  </a:lnTo>
                  <a:lnTo>
                    <a:pt x="2060" y="266"/>
                  </a:lnTo>
                  <a:lnTo>
                    <a:pt x="2030" y="246"/>
                  </a:lnTo>
                  <a:lnTo>
                    <a:pt x="1998" y="228"/>
                  </a:lnTo>
                  <a:lnTo>
                    <a:pt x="1964" y="214"/>
                  </a:lnTo>
                  <a:lnTo>
                    <a:pt x="1928" y="200"/>
                  </a:lnTo>
                  <a:lnTo>
                    <a:pt x="1890" y="190"/>
                  </a:lnTo>
                  <a:lnTo>
                    <a:pt x="1850" y="182"/>
                  </a:lnTo>
                  <a:lnTo>
                    <a:pt x="1808" y="178"/>
                  </a:lnTo>
                  <a:lnTo>
                    <a:pt x="1766" y="176"/>
                  </a:lnTo>
                  <a:lnTo>
                    <a:pt x="1766" y="176"/>
                  </a:lnTo>
                  <a:lnTo>
                    <a:pt x="1716" y="178"/>
                  </a:lnTo>
                  <a:lnTo>
                    <a:pt x="1666" y="186"/>
                  </a:lnTo>
                  <a:lnTo>
                    <a:pt x="1620" y="196"/>
                  </a:lnTo>
                  <a:lnTo>
                    <a:pt x="1574" y="210"/>
                  </a:lnTo>
                  <a:lnTo>
                    <a:pt x="1566" y="214"/>
                  </a:lnTo>
                  <a:lnTo>
                    <a:pt x="1560" y="208"/>
                  </a:lnTo>
                  <a:lnTo>
                    <a:pt x="1560" y="208"/>
                  </a:lnTo>
                  <a:lnTo>
                    <a:pt x="1542" y="186"/>
                  </a:lnTo>
                  <a:lnTo>
                    <a:pt x="1522" y="166"/>
                  </a:lnTo>
                  <a:lnTo>
                    <a:pt x="1502" y="148"/>
                  </a:lnTo>
                  <a:lnTo>
                    <a:pt x="1480" y="130"/>
                  </a:lnTo>
                  <a:lnTo>
                    <a:pt x="1458" y="114"/>
                  </a:lnTo>
                  <a:lnTo>
                    <a:pt x="1434" y="98"/>
                  </a:lnTo>
                  <a:lnTo>
                    <a:pt x="1408" y="86"/>
                  </a:lnTo>
                  <a:lnTo>
                    <a:pt x="1382" y="72"/>
                  </a:lnTo>
                  <a:lnTo>
                    <a:pt x="1356" y="62"/>
                  </a:lnTo>
                  <a:lnTo>
                    <a:pt x="1328" y="52"/>
                  </a:lnTo>
                  <a:lnTo>
                    <a:pt x="1300" y="44"/>
                  </a:lnTo>
                  <a:lnTo>
                    <a:pt x="1270" y="36"/>
                  </a:lnTo>
                  <a:lnTo>
                    <a:pt x="1240" y="32"/>
                  </a:lnTo>
                  <a:lnTo>
                    <a:pt x="1210" y="28"/>
                  </a:lnTo>
                  <a:lnTo>
                    <a:pt x="1180" y="26"/>
                  </a:lnTo>
                  <a:lnTo>
                    <a:pt x="1148" y="24"/>
                  </a:lnTo>
                  <a:lnTo>
                    <a:pt x="1148" y="24"/>
                  </a:lnTo>
                  <a:lnTo>
                    <a:pt x="1120" y="24"/>
                  </a:lnTo>
                  <a:lnTo>
                    <a:pt x="1094" y="26"/>
                  </a:lnTo>
                  <a:lnTo>
                    <a:pt x="1066" y="30"/>
                  </a:lnTo>
                  <a:lnTo>
                    <a:pt x="1040" y="34"/>
                  </a:lnTo>
                  <a:lnTo>
                    <a:pt x="1012" y="40"/>
                  </a:lnTo>
                  <a:lnTo>
                    <a:pt x="986" y="46"/>
                  </a:lnTo>
                  <a:lnTo>
                    <a:pt x="962" y="54"/>
                  </a:lnTo>
                  <a:lnTo>
                    <a:pt x="936" y="64"/>
                  </a:lnTo>
                  <a:lnTo>
                    <a:pt x="912" y="74"/>
                  </a:lnTo>
                  <a:lnTo>
                    <a:pt x="890" y="86"/>
                  </a:lnTo>
                  <a:lnTo>
                    <a:pt x="866" y="98"/>
                  </a:lnTo>
                  <a:lnTo>
                    <a:pt x="844" y="110"/>
                  </a:lnTo>
                  <a:lnTo>
                    <a:pt x="824" y="126"/>
                  </a:lnTo>
                  <a:lnTo>
                    <a:pt x="804" y="140"/>
                  </a:lnTo>
                  <a:lnTo>
                    <a:pt x="784" y="158"/>
                  </a:lnTo>
                  <a:lnTo>
                    <a:pt x="766" y="174"/>
                  </a:lnTo>
                  <a:lnTo>
                    <a:pt x="762" y="178"/>
                  </a:lnTo>
                  <a:lnTo>
                    <a:pt x="756" y="178"/>
                  </a:lnTo>
                  <a:lnTo>
                    <a:pt x="756" y="178"/>
                  </a:lnTo>
                  <a:lnTo>
                    <a:pt x="704" y="176"/>
                  </a:lnTo>
                  <a:lnTo>
                    <a:pt x="704" y="176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グループ化 67"/>
          <p:cNvGrpSpPr/>
          <p:nvPr/>
        </p:nvGrpSpPr>
        <p:grpSpPr>
          <a:xfrm>
            <a:off x="2325600" y="7061040"/>
            <a:ext cx="5597640" cy="4149720"/>
            <a:chOff x="2325600" y="7061040"/>
            <a:chExt cx="5597640" cy="4149720"/>
          </a:xfrm>
        </p:grpSpPr>
        <p:sp>
          <p:nvSpPr>
            <p:cNvPr id="102" name="Freeform 5"/>
            <p:cNvSpPr/>
            <p:nvPr/>
          </p:nvSpPr>
          <p:spPr>
            <a:xfrm>
              <a:off x="2325600" y="7061040"/>
              <a:ext cx="1285920" cy="130176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810" h="820">
                  <a:moveTo>
                    <a:pt x="802" y="734"/>
                  </a:moveTo>
                  <a:lnTo>
                    <a:pt x="802" y="734"/>
                  </a:lnTo>
                  <a:lnTo>
                    <a:pt x="802" y="720"/>
                  </a:lnTo>
                  <a:lnTo>
                    <a:pt x="800" y="708"/>
                  </a:lnTo>
                  <a:lnTo>
                    <a:pt x="796" y="698"/>
                  </a:lnTo>
                  <a:lnTo>
                    <a:pt x="790" y="688"/>
                  </a:lnTo>
                  <a:lnTo>
                    <a:pt x="786" y="680"/>
                  </a:lnTo>
                  <a:lnTo>
                    <a:pt x="778" y="672"/>
                  </a:lnTo>
                  <a:lnTo>
                    <a:pt x="770" y="666"/>
                  </a:lnTo>
                  <a:lnTo>
                    <a:pt x="762" y="660"/>
                  </a:lnTo>
                  <a:lnTo>
                    <a:pt x="742" y="650"/>
                  </a:lnTo>
                  <a:lnTo>
                    <a:pt x="718" y="644"/>
                  </a:lnTo>
                  <a:lnTo>
                    <a:pt x="666" y="632"/>
                  </a:lnTo>
                  <a:lnTo>
                    <a:pt x="666" y="632"/>
                  </a:lnTo>
                  <a:lnTo>
                    <a:pt x="652" y="630"/>
                  </a:lnTo>
                  <a:lnTo>
                    <a:pt x="684" y="630"/>
                  </a:lnTo>
                  <a:lnTo>
                    <a:pt x="684" y="630"/>
                  </a:lnTo>
                  <a:lnTo>
                    <a:pt x="712" y="628"/>
                  </a:lnTo>
                  <a:lnTo>
                    <a:pt x="728" y="624"/>
                  </a:lnTo>
                  <a:lnTo>
                    <a:pt x="746" y="618"/>
                  </a:lnTo>
                  <a:lnTo>
                    <a:pt x="754" y="614"/>
                  </a:lnTo>
                  <a:lnTo>
                    <a:pt x="762" y="608"/>
                  </a:lnTo>
                  <a:lnTo>
                    <a:pt x="770" y="602"/>
                  </a:lnTo>
                  <a:lnTo>
                    <a:pt x="776" y="594"/>
                  </a:lnTo>
                  <a:lnTo>
                    <a:pt x="780" y="584"/>
                  </a:lnTo>
                  <a:lnTo>
                    <a:pt x="784" y="574"/>
                  </a:lnTo>
                  <a:lnTo>
                    <a:pt x="786" y="562"/>
                  </a:lnTo>
                  <a:lnTo>
                    <a:pt x="788" y="546"/>
                  </a:lnTo>
                  <a:lnTo>
                    <a:pt x="788" y="546"/>
                  </a:lnTo>
                  <a:lnTo>
                    <a:pt x="786" y="530"/>
                  </a:lnTo>
                  <a:lnTo>
                    <a:pt x="782" y="514"/>
                  </a:lnTo>
                  <a:lnTo>
                    <a:pt x="778" y="502"/>
                  </a:lnTo>
                  <a:lnTo>
                    <a:pt x="770" y="492"/>
                  </a:lnTo>
                  <a:lnTo>
                    <a:pt x="770" y="492"/>
                  </a:lnTo>
                  <a:lnTo>
                    <a:pt x="778" y="488"/>
                  </a:lnTo>
                  <a:lnTo>
                    <a:pt x="786" y="484"/>
                  </a:lnTo>
                  <a:lnTo>
                    <a:pt x="792" y="476"/>
                  </a:lnTo>
                  <a:lnTo>
                    <a:pt x="798" y="468"/>
                  </a:lnTo>
                  <a:lnTo>
                    <a:pt x="804" y="460"/>
                  </a:lnTo>
                  <a:lnTo>
                    <a:pt x="808" y="448"/>
                  </a:lnTo>
                  <a:lnTo>
                    <a:pt x="810" y="436"/>
                  </a:lnTo>
                  <a:lnTo>
                    <a:pt x="810" y="422"/>
                  </a:lnTo>
                  <a:lnTo>
                    <a:pt x="810" y="422"/>
                  </a:lnTo>
                  <a:lnTo>
                    <a:pt x="810" y="404"/>
                  </a:lnTo>
                  <a:lnTo>
                    <a:pt x="806" y="388"/>
                  </a:lnTo>
                  <a:lnTo>
                    <a:pt x="800" y="374"/>
                  </a:lnTo>
                  <a:lnTo>
                    <a:pt x="792" y="364"/>
                  </a:lnTo>
                  <a:lnTo>
                    <a:pt x="784" y="356"/>
                  </a:lnTo>
                  <a:lnTo>
                    <a:pt x="774" y="348"/>
                  </a:lnTo>
                  <a:lnTo>
                    <a:pt x="762" y="344"/>
                  </a:lnTo>
                  <a:lnTo>
                    <a:pt x="752" y="340"/>
                  </a:lnTo>
                  <a:lnTo>
                    <a:pt x="752" y="340"/>
                  </a:lnTo>
                  <a:lnTo>
                    <a:pt x="756" y="332"/>
                  </a:lnTo>
                  <a:lnTo>
                    <a:pt x="760" y="320"/>
                  </a:lnTo>
                  <a:lnTo>
                    <a:pt x="762" y="308"/>
                  </a:lnTo>
                  <a:lnTo>
                    <a:pt x="764" y="294"/>
                  </a:lnTo>
                  <a:lnTo>
                    <a:pt x="764" y="294"/>
                  </a:lnTo>
                  <a:lnTo>
                    <a:pt x="762" y="278"/>
                  </a:lnTo>
                  <a:lnTo>
                    <a:pt x="760" y="266"/>
                  </a:lnTo>
                  <a:lnTo>
                    <a:pt x="756" y="254"/>
                  </a:lnTo>
                  <a:lnTo>
                    <a:pt x="750" y="246"/>
                  </a:lnTo>
                  <a:lnTo>
                    <a:pt x="750" y="246"/>
                  </a:lnTo>
                  <a:lnTo>
                    <a:pt x="760" y="242"/>
                  </a:lnTo>
                  <a:lnTo>
                    <a:pt x="768" y="236"/>
                  </a:lnTo>
                  <a:lnTo>
                    <a:pt x="776" y="230"/>
                  </a:lnTo>
                  <a:lnTo>
                    <a:pt x="784" y="222"/>
                  </a:lnTo>
                  <a:lnTo>
                    <a:pt x="790" y="212"/>
                  </a:lnTo>
                  <a:lnTo>
                    <a:pt x="794" y="200"/>
                  </a:lnTo>
                  <a:lnTo>
                    <a:pt x="798" y="186"/>
                  </a:lnTo>
                  <a:lnTo>
                    <a:pt x="798" y="170"/>
                  </a:lnTo>
                  <a:lnTo>
                    <a:pt x="798" y="170"/>
                  </a:lnTo>
                  <a:lnTo>
                    <a:pt x="798" y="156"/>
                  </a:lnTo>
                  <a:lnTo>
                    <a:pt x="796" y="142"/>
                  </a:lnTo>
                  <a:lnTo>
                    <a:pt x="792" y="130"/>
                  </a:lnTo>
                  <a:lnTo>
                    <a:pt x="788" y="122"/>
                  </a:lnTo>
                  <a:lnTo>
                    <a:pt x="782" y="112"/>
                  </a:lnTo>
                  <a:lnTo>
                    <a:pt x="774" y="106"/>
                  </a:lnTo>
                  <a:lnTo>
                    <a:pt x="768" y="100"/>
                  </a:lnTo>
                  <a:lnTo>
                    <a:pt x="760" y="96"/>
                  </a:lnTo>
                  <a:lnTo>
                    <a:pt x="742" y="90"/>
                  </a:lnTo>
                  <a:lnTo>
                    <a:pt x="726" y="86"/>
                  </a:lnTo>
                  <a:lnTo>
                    <a:pt x="708" y="86"/>
                  </a:lnTo>
                  <a:lnTo>
                    <a:pt x="694" y="84"/>
                  </a:lnTo>
                  <a:lnTo>
                    <a:pt x="658" y="84"/>
                  </a:lnTo>
                  <a:lnTo>
                    <a:pt x="658" y="84"/>
                  </a:lnTo>
                  <a:lnTo>
                    <a:pt x="658" y="82"/>
                  </a:lnTo>
                  <a:lnTo>
                    <a:pt x="658" y="82"/>
                  </a:lnTo>
                  <a:lnTo>
                    <a:pt x="656" y="66"/>
                  </a:lnTo>
                  <a:lnTo>
                    <a:pt x="650" y="50"/>
                  </a:lnTo>
                  <a:lnTo>
                    <a:pt x="642" y="36"/>
                  </a:lnTo>
                  <a:lnTo>
                    <a:pt x="630" y="24"/>
                  </a:lnTo>
                  <a:lnTo>
                    <a:pt x="616" y="14"/>
                  </a:lnTo>
                  <a:lnTo>
                    <a:pt x="602" y="6"/>
                  </a:lnTo>
                  <a:lnTo>
                    <a:pt x="588" y="2"/>
                  </a:lnTo>
                  <a:lnTo>
                    <a:pt x="572" y="0"/>
                  </a:lnTo>
                  <a:lnTo>
                    <a:pt x="572" y="0"/>
                  </a:lnTo>
                  <a:lnTo>
                    <a:pt x="558" y="2"/>
                  </a:lnTo>
                  <a:lnTo>
                    <a:pt x="546" y="4"/>
                  </a:lnTo>
                  <a:lnTo>
                    <a:pt x="536" y="10"/>
                  </a:lnTo>
                  <a:lnTo>
                    <a:pt x="526" y="14"/>
                  </a:lnTo>
                  <a:lnTo>
                    <a:pt x="512" y="28"/>
                  </a:lnTo>
                  <a:lnTo>
                    <a:pt x="502" y="40"/>
                  </a:lnTo>
                  <a:lnTo>
                    <a:pt x="502" y="40"/>
                  </a:lnTo>
                  <a:lnTo>
                    <a:pt x="500" y="42"/>
                  </a:lnTo>
                  <a:lnTo>
                    <a:pt x="500" y="42"/>
                  </a:lnTo>
                  <a:lnTo>
                    <a:pt x="470" y="84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332" y="48"/>
                  </a:lnTo>
                  <a:lnTo>
                    <a:pt x="320" y="34"/>
                  </a:lnTo>
                  <a:lnTo>
                    <a:pt x="308" y="22"/>
                  </a:lnTo>
                  <a:lnTo>
                    <a:pt x="294" y="12"/>
                  </a:lnTo>
                  <a:lnTo>
                    <a:pt x="280" y="4"/>
                  </a:lnTo>
                  <a:lnTo>
                    <a:pt x="266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36" y="0"/>
                  </a:lnTo>
                  <a:lnTo>
                    <a:pt x="220" y="6"/>
                  </a:lnTo>
                  <a:lnTo>
                    <a:pt x="206" y="12"/>
                  </a:lnTo>
                  <a:lnTo>
                    <a:pt x="194" y="22"/>
                  </a:lnTo>
                  <a:lnTo>
                    <a:pt x="182" y="36"/>
                  </a:lnTo>
                  <a:lnTo>
                    <a:pt x="174" y="50"/>
                  </a:lnTo>
                  <a:lnTo>
                    <a:pt x="168" y="66"/>
                  </a:lnTo>
                  <a:lnTo>
                    <a:pt x="166" y="84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00" y="86"/>
                  </a:lnTo>
                  <a:lnTo>
                    <a:pt x="82" y="90"/>
                  </a:lnTo>
                  <a:lnTo>
                    <a:pt x="64" y="96"/>
                  </a:lnTo>
                  <a:lnTo>
                    <a:pt x="56" y="100"/>
                  </a:lnTo>
                  <a:lnTo>
                    <a:pt x="48" y="104"/>
                  </a:lnTo>
                  <a:lnTo>
                    <a:pt x="42" y="112"/>
                  </a:lnTo>
                  <a:lnTo>
                    <a:pt x="36" y="120"/>
                  </a:lnTo>
                  <a:lnTo>
                    <a:pt x="30" y="128"/>
                  </a:lnTo>
                  <a:lnTo>
                    <a:pt x="26" y="140"/>
                  </a:lnTo>
                  <a:lnTo>
                    <a:pt x="24" y="152"/>
                  </a:lnTo>
                  <a:lnTo>
                    <a:pt x="24" y="166"/>
                  </a:lnTo>
                  <a:lnTo>
                    <a:pt x="24" y="166"/>
                  </a:lnTo>
                  <a:lnTo>
                    <a:pt x="24" y="184"/>
                  </a:lnTo>
                  <a:lnTo>
                    <a:pt x="28" y="198"/>
                  </a:lnTo>
                  <a:lnTo>
                    <a:pt x="32" y="210"/>
                  </a:lnTo>
                  <a:lnTo>
                    <a:pt x="38" y="220"/>
                  </a:lnTo>
                  <a:lnTo>
                    <a:pt x="46" y="230"/>
                  </a:lnTo>
                  <a:lnTo>
                    <a:pt x="54" y="236"/>
                  </a:lnTo>
                  <a:lnTo>
                    <a:pt x="64" y="242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68" y="254"/>
                  </a:lnTo>
                  <a:lnTo>
                    <a:pt x="64" y="266"/>
                  </a:lnTo>
                  <a:lnTo>
                    <a:pt x="60" y="278"/>
                  </a:lnTo>
                  <a:lnTo>
                    <a:pt x="60" y="294"/>
                  </a:lnTo>
                  <a:lnTo>
                    <a:pt x="60" y="294"/>
                  </a:lnTo>
                  <a:lnTo>
                    <a:pt x="60" y="308"/>
                  </a:lnTo>
                  <a:lnTo>
                    <a:pt x="62" y="320"/>
                  </a:lnTo>
                  <a:lnTo>
                    <a:pt x="66" y="332"/>
                  </a:lnTo>
                  <a:lnTo>
                    <a:pt x="72" y="340"/>
                  </a:lnTo>
                  <a:lnTo>
                    <a:pt x="72" y="340"/>
                  </a:lnTo>
                  <a:lnTo>
                    <a:pt x="60" y="344"/>
                  </a:lnTo>
                  <a:lnTo>
                    <a:pt x="48" y="348"/>
                  </a:lnTo>
                  <a:lnTo>
                    <a:pt x="38" y="354"/>
                  </a:lnTo>
                  <a:lnTo>
                    <a:pt x="28" y="362"/>
                  </a:lnTo>
                  <a:lnTo>
                    <a:pt x="20" y="372"/>
                  </a:lnTo>
                  <a:lnTo>
                    <a:pt x="14" y="384"/>
                  </a:lnTo>
                  <a:lnTo>
                    <a:pt x="10" y="400"/>
                  </a:lnTo>
                  <a:lnTo>
                    <a:pt x="10" y="418"/>
                  </a:lnTo>
                  <a:lnTo>
                    <a:pt x="10" y="418"/>
                  </a:lnTo>
                  <a:lnTo>
                    <a:pt x="10" y="432"/>
                  </a:lnTo>
                  <a:lnTo>
                    <a:pt x="12" y="444"/>
                  </a:lnTo>
                  <a:lnTo>
                    <a:pt x="14" y="456"/>
                  </a:lnTo>
                  <a:lnTo>
                    <a:pt x="20" y="464"/>
                  </a:lnTo>
                  <a:lnTo>
                    <a:pt x="24" y="472"/>
                  </a:lnTo>
                  <a:lnTo>
                    <a:pt x="30" y="480"/>
                  </a:lnTo>
                  <a:lnTo>
                    <a:pt x="44" y="490"/>
                  </a:lnTo>
                  <a:lnTo>
                    <a:pt x="44" y="490"/>
                  </a:lnTo>
                  <a:lnTo>
                    <a:pt x="36" y="500"/>
                  </a:lnTo>
                  <a:lnTo>
                    <a:pt x="30" y="512"/>
                  </a:lnTo>
                  <a:lnTo>
                    <a:pt x="24" y="528"/>
                  </a:lnTo>
                  <a:lnTo>
                    <a:pt x="24" y="548"/>
                  </a:lnTo>
                  <a:lnTo>
                    <a:pt x="24" y="548"/>
                  </a:lnTo>
                  <a:lnTo>
                    <a:pt x="24" y="562"/>
                  </a:lnTo>
                  <a:lnTo>
                    <a:pt x="26" y="574"/>
                  </a:lnTo>
                  <a:lnTo>
                    <a:pt x="30" y="586"/>
                  </a:lnTo>
                  <a:lnTo>
                    <a:pt x="36" y="594"/>
                  </a:lnTo>
                  <a:lnTo>
                    <a:pt x="42" y="602"/>
                  </a:lnTo>
                  <a:lnTo>
                    <a:pt x="48" y="610"/>
                  </a:lnTo>
                  <a:lnTo>
                    <a:pt x="56" y="614"/>
                  </a:lnTo>
                  <a:lnTo>
                    <a:pt x="64" y="618"/>
                  </a:lnTo>
                  <a:lnTo>
                    <a:pt x="82" y="624"/>
                  </a:lnTo>
                  <a:lnTo>
                    <a:pt x="100" y="628"/>
                  </a:lnTo>
                  <a:lnTo>
                    <a:pt x="128" y="630"/>
                  </a:lnTo>
                  <a:lnTo>
                    <a:pt x="162" y="630"/>
                  </a:lnTo>
                  <a:lnTo>
                    <a:pt x="162" y="630"/>
                  </a:lnTo>
                  <a:lnTo>
                    <a:pt x="132" y="636"/>
                  </a:lnTo>
                  <a:lnTo>
                    <a:pt x="98" y="642"/>
                  </a:lnTo>
                  <a:lnTo>
                    <a:pt x="98" y="642"/>
                  </a:lnTo>
                  <a:lnTo>
                    <a:pt x="76" y="646"/>
                  </a:lnTo>
                  <a:lnTo>
                    <a:pt x="56" y="654"/>
                  </a:lnTo>
                  <a:lnTo>
                    <a:pt x="40" y="662"/>
                  </a:lnTo>
                  <a:lnTo>
                    <a:pt x="26" y="672"/>
                  </a:lnTo>
                  <a:lnTo>
                    <a:pt x="14" y="686"/>
                  </a:lnTo>
                  <a:lnTo>
                    <a:pt x="6" y="700"/>
                  </a:lnTo>
                  <a:lnTo>
                    <a:pt x="2" y="716"/>
                  </a:lnTo>
                  <a:lnTo>
                    <a:pt x="0" y="734"/>
                  </a:lnTo>
                  <a:lnTo>
                    <a:pt x="0" y="734"/>
                  </a:lnTo>
                  <a:lnTo>
                    <a:pt x="2" y="750"/>
                  </a:lnTo>
                  <a:lnTo>
                    <a:pt x="6" y="766"/>
                  </a:lnTo>
                  <a:lnTo>
                    <a:pt x="14" y="780"/>
                  </a:lnTo>
                  <a:lnTo>
                    <a:pt x="24" y="792"/>
                  </a:lnTo>
                  <a:lnTo>
                    <a:pt x="38" y="802"/>
                  </a:lnTo>
                  <a:lnTo>
                    <a:pt x="52" y="808"/>
                  </a:lnTo>
                  <a:lnTo>
                    <a:pt x="68" y="814"/>
                  </a:lnTo>
                  <a:lnTo>
                    <a:pt x="86" y="816"/>
                  </a:lnTo>
                  <a:lnTo>
                    <a:pt x="86" y="816"/>
                  </a:lnTo>
                  <a:lnTo>
                    <a:pt x="112" y="814"/>
                  </a:lnTo>
                  <a:lnTo>
                    <a:pt x="140" y="810"/>
                  </a:lnTo>
                  <a:lnTo>
                    <a:pt x="178" y="802"/>
                  </a:lnTo>
                  <a:lnTo>
                    <a:pt x="220" y="792"/>
                  </a:lnTo>
                  <a:lnTo>
                    <a:pt x="268" y="776"/>
                  </a:lnTo>
                  <a:lnTo>
                    <a:pt x="292" y="766"/>
                  </a:lnTo>
                  <a:lnTo>
                    <a:pt x="316" y="754"/>
                  </a:lnTo>
                  <a:lnTo>
                    <a:pt x="340" y="742"/>
                  </a:lnTo>
                  <a:lnTo>
                    <a:pt x="364" y="726"/>
                  </a:lnTo>
                  <a:lnTo>
                    <a:pt x="366" y="726"/>
                  </a:lnTo>
                  <a:lnTo>
                    <a:pt x="368" y="724"/>
                  </a:lnTo>
                  <a:lnTo>
                    <a:pt x="368" y="724"/>
                  </a:lnTo>
                  <a:lnTo>
                    <a:pt x="384" y="712"/>
                  </a:lnTo>
                  <a:lnTo>
                    <a:pt x="406" y="694"/>
                  </a:lnTo>
                  <a:lnTo>
                    <a:pt x="406" y="694"/>
                  </a:lnTo>
                  <a:lnTo>
                    <a:pt x="428" y="712"/>
                  </a:lnTo>
                  <a:lnTo>
                    <a:pt x="452" y="728"/>
                  </a:lnTo>
                  <a:lnTo>
                    <a:pt x="476" y="744"/>
                  </a:lnTo>
                  <a:lnTo>
                    <a:pt x="500" y="756"/>
                  </a:lnTo>
                  <a:lnTo>
                    <a:pt x="524" y="768"/>
                  </a:lnTo>
                  <a:lnTo>
                    <a:pt x="548" y="778"/>
                  </a:lnTo>
                  <a:lnTo>
                    <a:pt x="596" y="794"/>
                  </a:lnTo>
                  <a:lnTo>
                    <a:pt x="638" y="806"/>
                  </a:lnTo>
                  <a:lnTo>
                    <a:pt x="674" y="814"/>
                  </a:lnTo>
                  <a:lnTo>
                    <a:pt x="700" y="818"/>
                  </a:lnTo>
                  <a:lnTo>
                    <a:pt x="718" y="820"/>
                  </a:lnTo>
                  <a:lnTo>
                    <a:pt x="718" y="820"/>
                  </a:lnTo>
                  <a:lnTo>
                    <a:pt x="734" y="818"/>
                  </a:lnTo>
                  <a:lnTo>
                    <a:pt x="750" y="812"/>
                  </a:lnTo>
                  <a:lnTo>
                    <a:pt x="766" y="806"/>
                  </a:lnTo>
                  <a:lnTo>
                    <a:pt x="778" y="794"/>
                  </a:lnTo>
                  <a:lnTo>
                    <a:pt x="788" y="782"/>
                  </a:lnTo>
                  <a:lnTo>
                    <a:pt x="796" y="768"/>
                  </a:lnTo>
                  <a:lnTo>
                    <a:pt x="800" y="750"/>
                  </a:lnTo>
                  <a:lnTo>
                    <a:pt x="802" y="734"/>
                  </a:lnTo>
                  <a:lnTo>
                    <a:pt x="802" y="73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3814560" y="7067160"/>
              <a:ext cx="1272960" cy="129204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802" h="814">
                  <a:moveTo>
                    <a:pt x="432" y="710"/>
                  </a:moveTo>
                  <a:lnTo>
                    <a:pt x="432" y="710"/>
                  </a:lnTo>
                  <a:lnTo>
                    <a:pt x="432" y="726"/>
                  </a:lnTo>
                  <a:lnTo>
                    <a:pt x="434" y="744"/>
                  </a:lnTo>
                  <a:lnTo>
                    <a:pt x="436" y="760"/>
                  </a:lnTo>
                  <a:lnTo>
                    <a:pt x="444" y="778"/>
                  </a:lnTo>
                  <a:lnTo>
                    <a:pt x="448" y="784"/>
                  </a:lnTo>
                  <a:lnTo>
                    <a:pt x="454" y="792"/>
                  </a:lnTo>
                  <a:lnTo>
                    <a:pt x="462" y="798"/>
                  </a:lnTo>
                  <a:lnTo>
                    <a:pt x="472" y="804"/>
                  </a:lnTo>
                  <a:lnTo>
                    <a:pt x="482" y="808"/>
                  </a:lnTo>
                  <a:lnTo>
                    <a:pt x="494" y="812"/>
                  </a:lnTo>
                  <a:lnTo>
                    <a:pt x="508" y="814"/>
                  </a:lnTo>
                  <a:lnTo>
                    <a:pt x="524" y="814"/>
                  </a:lnTo>
                  <a:lnTo>
                    <a:pt x="524" y="814"/>
                  </a:lnTo>
                  <a:lnTo>
                    <a:pt x="540" y="814"/>
                  </a:lnTo>
                  <a:lnTo>
                    <a:pt x="552" y="812"/>
                  </a:lnTo>
                  <a:lnTo>
                    <a:pt x="564" y="808"/>
                  </a:lnTo>
                  <a:lnTo>
                    <a:pt x="574" y="802"/>
                  </a:lnTo>
                  <a:lnTo>
                    <a:pt x="582" y="796"/>
                  </a:lnTo>
                  <a:lnTo>
                    <a:pt x="588" y="790"/>
                  </a:lnTo>
                  <a:lnTo>
                    <a:pt x="594" y="782"/>
                  </a:lnTo>
                  <a:lnTo>
                    <a:pt x="598" y="774"/>
                  </a:lnTo>
                  <a:lnTo>
                    <a:pt x="606" y="758"/>
                  </a:lnTo>
                  <a:lnTo>
                    <a:pt x="608" y="740"/>
                  </a:lnTo>
                  <a:lnTo>
                    <a:pt x="610" y="724"/>
                  </a:lnTo>
                  <a:lnTo>
                    <a:pt x="610" y="710"/>
                  </a:lnTo>
                  <a:lnTo>
                    <a:pt x="610" y="674"/>
                  </a:lnTo>
                  <a:lnTo>
                    <a:pt x="610" y="674"/>
                  </a:lnTo>
                  <a:lnTo>
                    <a:pt x="628" y="700"/>
                  </a:lnTo>
                  <a:lnTo>
                    <a:pt x="628" y="702"/>
                  </a:lnTo>
                  <a:lnTo>
                    <a:pt x="628" y="702"/>
                  </a:lnTo>
                  <a:lnTo>
                    <a:pt x="638" y="716"/>
                  </a:lnTo>
                  <a:lnTo>
                    <a:pt x="646" y="724"/>
                  </a:lnTo>
                  <a:lnTo>
                    <a:pt x="656" y="732"/>
                  </a:lnTo>
                  <a:lnTo>
                    <a:pt x="668" y="740"/>
                  </a:lnTo>
                  <a:lnTo>
                    <a:pt x="680" y="748"/>
                  </a:lnTo>
                  <a:lnTo>
                    <a:pt x="696" y="752"/>
                  </a:lnTo>
                  <a:lnTo>
                    <a:pt x="712" y="754"/>
                  </a:lnTo>
                  <a:lnTo>
                    <a:pt x="712" y="754"/>
                  </a:lnTo>
                  <a:lnTo>
                    <a:pt x="730" y="752"/>
                  </a:lnTo>
                  <a:lnTo>
                    <a:pt x="748" y="748"/>
                  </a:lnTo>
                  <a:lnTo>
                    <a:pt x="762" y="740"/>
                  </a:lnTo>
                  <a:lnTo>
                    <a:pt x="776" y="730"/>
                  </a:lnTo>
                  <a:lnTo>
                    <a:pt x="786" y="718"/>
                  </a:lnTo>
                  <a:lnTo>
                    <a:pt x="794" y="704"/>
                  </a:lnTo>
                  <a:lnTo>
                    <a:pt x="800" y="688"/>
                  </a:lnTo>
                  <a:lnTo>
                    <a:pt x="802" y="672"/>
                  </a:lnTo>
                  <a:lnTo>
                    <a:pt x="802" y="672"/>
                  </a:lnTo>
                  <a:lnTo>
                    <a:pt x="800" y="660"/>
                  </a:lnTo>
                  <a:lnTo>
                    <a:pt x="798" y="648"/>
                  </a:lnTo>
                  <a:lnTo>
                    <a:pt x="796" y="638"/>
                  </a:lnTo>
                  <a:lnTo>
                    <a:pt x="790" y="628"/>
                  </a:lnTo>
                  <a:lnTo>
                    <a:pt x="778" y="606"/>
                  </a:lnTo>
                  <a:lnTo>
                    <a:pt x="760" y="582"/>
                  </a:lnTo>
                  <a:lnTo>
                    <a:pt x="760" y="582"/>
                  </a:lnTo>
                  <a:lnTo>
                    <a:pt x="736" y="552"/>
                  </a:lnTo>
                  <a:lnTo>
                    <a:pt x="716" y="520"/>
                  </a:lnTo>
                  <a:lnTo>
                    <a:pt x="696" y="488"/>
                  </a:lnTo>
                  <a:lnTo>
                    <a:pt x="678" y="458"/>
                  </a:lnTo>
                  <a:lnTo>
                    <a:pt x="678" y="458"/>
                  </a:lnTo>
                  <a:lnTo>
                    <a:pt x="678" y="458"/>
                  </a:lnTo>
                  <a:lnTo>
                    <a:pt x="692" y="456"/>
                  </a:lnTo>
                  <a:lnTo>
                    <a:pt x="708" y="456"/>
                  </a:lnTo>
                  <a:lnTo>
                    <a:pt x="726" y="452"/>
                  </a:lnTo>
                  <a:lnTo>
                    <a:pt x="742" y="446"/>
                  </a:lnTo>
                  <a:lnTo>
                    <a:pt x="750" y="442"/>
                  </a:lnTo>
                  <a:lnTo>
                    <a:pt x="758" y="436"/>
                  </a:lnTo>
                  <a:lnTo>
                    <a:pt x="764" y="428"/>
                  </a:lnTo>
                  <a:lnTo>
                    <a:pt x="770" y="420"/>
                  </a:lnTo>
                  <a:lnTo>
                    <a:pt x="776" y="410"/>
                  </a:lnTo>
                  <a:lnTo>
                    <a:pt x="780" y="398"/>
                  </a:lnTo>
                  <a:lnTo>
                    <a:pt x="782" y="386"/>
                  </a:lnTo>
                  <a:lnTo>
                    <a:pt x="782" y="370"/>
                  </a:lnTo>
                  <a:lnTo>
                    <a:pt x="782" y="370"/>
                  </a:lnTo>
                  <a:lnTo>
                    <a:pt x="782" y="356"/>
                  </a:lnTo>
                  <a:lnTo>
                    <a:pt x="778" y="342"/>
                  </a:lnTo>
                  <a:lnTo>
                    <a:pt x="776" y="332"/>
                  </a:lnTo>
                  <a:lnTo>
                    <a:pt x="770" y="322"/>
                  </a:lnTo>
                  <a:lnTo>
                    <a:pt x="764" y="314"/>
                  </a:lnTo>
                  <a:lnTo>
                    <a:pt x="756" y="308"/>
                  </a:lnTo>
                  <a:lnTo>
                    <a:pt x="750" y="302"/>
                  </a:lnTo>
                  <a:lnTo>
                    <a:pt x="740" y="298"/>
                  </a:lnTo>
                  <a:lnTo>
                    <a:pt x="724" y="292"/>
                  </a:lnTo>
                  <a:lnTo>
                    <a:pt x="706" y="290"/>
                  </a:lnTo>
                  <a:lnTo>
                    <a:pt x="678" y="288"/>
                  </a:lnTo>
                  <a:lnTo>
                    <a:pt x="610" y="288"/>
                  </a:lnTo>
                  <a:lnTo>
                    <a:pt x="610" y="262"/>
                  </a:lnTo>
                  <a:lnTo>
                    <a:pt x="660" y="262"/>
                  </a:lnTo>
                  <a:lnTo>
                    <a:pt x="660" y="262"/>
                  </a:lnTo>
                  <a:lnTo>
                    <a:pt x="674" y="262"/>
                  </a:lnTo>
                  <a:lnTo>
                    <a:pt x="692" y="262"/>
                  </a:lnTo>
                  <a:lnTo>
                    <a:pt x="708" y="258"/>
                  </a:lnTo>
                  <a:lnTo>
                    <a:pt x="726" y="252"/>
                  </a:lnTo>
                  <a:lnTo>
                    <a:pt x="734" y="248"/>
                  </a:lnTo>
                  <a:lnTo>
                    <a:pt x="740" y="242"/>
                  </a:lnTo>
                  <a:lnTo>
                    <a:pt x="748" y="236"/>
                  </a:lnTo>
                  <a:lnTo>
                    <a:pt x="754" y="226"/>
                  </a:lnTo>
                  <a:lnTo>
                    <a:pt x="758" y="218"/>
                  </a:lnTo>
                  <a:lnTo>
                    <a:pt x="762" y="206"/>
                  </a:lnTo>
                  <a:lnTo>
                    <a:pt x="764" y="192"/>
                  </a:lnTo>
                  <a:lnTo>
                    <a:pt x="764" y="178"/>
                  </a:lnTo>
                  <a:lnTo>
                    <a:pt x="764" y="178"/>
                  </a:lnTo>
                  <a:lnTo>
                    <a:pt x="764" y="164"/>
                  </a:lnTo>
                  <a:lnTo>
                    <a:pt x="762" y="150"/>
                  </a:lnTo>
                  <a:lnTo>
                    <a:pt x="758" y="140"/>
                  </a:lnTo>
                  <a:lnTo>
                    <a:pt x="752" y="130"/>
                  </a:lnTo>
                  <a:lnTo>
                    <a:pt x="746" y="122"/>
                  </a:lnTo>
                  <a:lnTo>
                    <a:pt x="740" y="116"/>
                  </a:lnTo>
                  <a:lnTo>
                    <a:pt x="732" y="110"/>
                  </a:lnTo>
                  <a:lnTo>
                    <a:pt x="724" y="106"/>
                  </a:lnTo>
                  <a:lnTo>
                    <a:pt x="706" y="100"/>
                  </a:lnTo>
                  <a:lnTo>
                    <a:pt x="688" y="98"/>
                  </a:lnTo>
                  <a:lnTo>
                    <a:pt x="660" y="96"/>
                  </a:lnTo>
                  <a:lnTo>
                    <a:pt x="610" y="96"/>
                  </a:lnTo>
                  <a:lnTo>
                    <a:pt x="610" y="96"/>
                  </a:lnTo>
                  <a:lnTo>
                    <a:pt x="608" y="80"/>
                  </a:lnTo>
                  <a:lnTo>
                    <a:pt x="606" y="64"/>
                  </a:lnTo>
                  <a:lnTo>
                    <a:pt x="602" y="48"/>
                  </a:lnTo>
                  <a:lnTo>
                    <a:pt x="596" y="34"/>
                  </a:lnTo>
                  <a:lnTo>
                    <a:pt x="590" y="26"/>
                  </a:lnTo>
                  <a:lnTo>
                    <a:pt x="584" y="20"/>
                  </a:lnTo>
                  <a:lnTo>
                    <a:pt x="576" y="14"/>
                  </a:lnTo>
                  <a:lnTo>
                    <a:pt x="568" y="10"/>
                  </a:lnTo>
                  <a:lnTo>
                    <a:pt x="558" y="6"/>
                  </a:lnTo>
                  <a:lnTo>
                    <a:pt x="546" y="2"/>
                  </a:lnTo>
                  <a:lnTo>
                    <a:pt x="532" y="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502" y="0"/>
                  </a:lnTo>
                  <a:lnTo>
                    <a:pt x="490" y="2"/>
                  </a:lnTo>
                  <a:lnTo>
                    <a:pt x="480" y="6"/>
                  </a:lnTo>
                  <a:lnTo>
                    <a:pt x="470" y="10"/>
                  </a:lnTo>
                  <a:lnTo>
                    <a:pt x="462" y="16"/>
                  </a:lnTo>
                  <a:lnTo>
                    <a:pt x="456" y="22"/>
                  </a:lnTo>
                  <a:lnTo>
                    <a:pt x="446" y="36"/>
                  </a:lnTo>
                  <a:lnTo>
                    <a:pt x="438" y="50"/>
                  </a:lnTo>
                  <a:lnTo>
                    <a:pt x="434" y="66"/>
                  </a:lnTo>
                  <a:lnTo>
                    <a:pt x="432" y="82"/>
                  </a:lnTo>
                  <a:lnTo>
                    <a:pt x="432" y="96"/>
                  </a:lnTo>
                  <a:lnTo>
                    <a:pt x="376" y="96"/>
                  </a:lnTo>
                  <a:lnTo>
                    <a:pt x="376" y="96"/>
                  </a:lnTo>
                  <a:lnTo>
                    <a:pt x="348" y="98"/>
                  </a:lnTo>
                  <a:lnTo>
                    <a:pt x="330" y="100"/>
                  </a:lnTo>
                  <a:lnTo>
                    <a:pt x="314" y="106"/>
                  </a:lnTo>
                  <a:lnTo>
                    <a:pt x="314" y="106"/>
                  </a:lnTo>
                  <a:lnTo>
                    <a:pt x="308" y="96"/>
                  </a:lnTo>
                  <a:lnTo>
                    <a:pt x="300" y="88"/>
                  </a:lnTo>
                  <a:lnTo>
                    <a:pt x="292" y="82"/>
                  </a:lnTo>
                  <a:lnTo>
                    <a:pt x="282" y="74"/>
                  </a:lnTo>
                  <a:lnTo>
                    <a:pt x="272" y="70"/>
                  </a:lnTo>
                  <a:lnTo>
                    <a:pt x="262" y="66"/>
                  </a:lnTo>
                  <a:lnTo>
                    <a:pt x="250" y="64"/>
                  </a:lnTo>
                  <a:lnTo>
                    <a:pt x="236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2" y="64"/>
                  </a:lnTo>
                  <a:lnTo>
                    <a:pt x="72" y="64"/>
                  </a:lnTo>
                  <a:lnTo>
                    <a:pt x="52" y="72"/>
                  </a:lnTo>
                  <a:lnTo>
                    <a:pt x="36" y="82"/>
                  </a:lnTo>
                  <a:lnTo>
                    <a:pt x="22" y="94"/>
                  </a:lnTo>
                  <a:lnTo>
                    <a:pt x="12" y="110"/>
                  </a:lnTo>
                  <a:lnTo>
                    <a:pt x="6" y="128"/>
                  </a:lnTo>
                  <a:lnTo>
                    <a:pt x="0" y="146"/>
                  </a:lnTo>
                  <a:lnTo>
                    <a:pt x="0" y="164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0" y="608"/>
                  </a:lnTo>
                  <a:lnTo>
                    <a:pt x="6" y="626"/>
                  </a:lnTo>
                  <a:lnTo>
                    <a:pt x="12" y="642"/>
                  </a:lnTo>
                  <a:lnTo>
                    <a:pt x="22" y="658"/>
                  </a:lnTo>
                  <a:lnTo>
                    <a:pt x="36" y="672"/>
                  </a:lnTo>
                  <a:lnTo>
                    <a:pt x="52" y="682"/>
                  </a:lnTo>
                  <a:lnTo>
                    <a:pt x="72" y="688"/>
                  </a:lnTo>
                  <a:lnTo>
                    <a:pt x="82" y="690"/>
                  </a:lnTo>
                  <a:lnTo>
                    <a:pt x="92" y="690"/>
                  </a:lnTo>
                  <a:lnTo>
                    <a:pt x="216" y="690"/>
                  </a:lnTo>
                  <a:lnTo>
                    <a:pt x="216" y="690"/>
                  </a:lnTo>
                  <a:lnTo>
                    <a:pt x="220" y="704"/>
                  </a:lnTo>
                  <a:lnTo>
                    <a:pt x="226" y="716"/>
                  </a:lnTo>
                  <a:lnTo>
                    <a:pt x="234" y="726"/>
                  </a:lnTo>
                  <a:lnTo>
                    <a:pt x="244" y="736"/>
                  </a:lnTo>
                  <a:lnTo>
                    <a:pt x="256" y="744"/>
                  </a:lnTo>
                  <a:lnTo>
                    <a:pt x="272" y="750"/>
                  </a:lnTo>
                  <a:lnTo>
                    <a:pt x="288" y="754"/>
                  </a:lnTo>
                  <a:lnTo>
                    <a:pt x="306" y="756"/>
                  </a:lnTo>
                  <a:lnTo>
                    <a:pt x="306" y="756"/>
                  </a:lnTo>
                  <a:lnTo>
                    <a:pt x="320" y="754"/>
                  </a:lnTo>
                  <a:lnTo>
                    <a:pt x="336" y="748"/>
                  </a:lnTo>
                  <a:lnTo>
                    <a:pt x="352" y="738"/>
                  </a:lnTo>
                  <a:lnTo>
                    <a:pt x="368" y="726"/>
                  </a:lnTo>
                  <a:lnTo>
                    <a:pt x="384" y="710"/>
                  </a:lnTo>
                  <a:lnTo>
                    <a:pt x="400" y="692"/>
                  </a:lnTo>
                  <a:lnTo>
                    <a:pt x="432" y="654"/>
                  </a:lnTo>
                  <a:lnTo>
                    <a:pt x="432" y="710"/>
                  </a:lnTo>
                  <a:close/>
                  <a:moveTo>
                    <a:pt x="356" y="458"/>
                  </a:moveTo>
                  <a:lnTo>
                    <a:pt x="356" y="458"/>
                  </a:lnTo>
                  <a:lnTo>
                    <a:pt x="330" y="500"/>
                  </a:lnTo>
                  <a:lnTo>
                    <a:pt x="330" y="456"/>
                  </a:lnTo>
                  <a:lnTo>
                    <a:pt x="330" y="456"/>
                  </a:lnTo>
                  <a:lnTo>
                    <a:pt x="356" y="458"/>
                  </a:lnTo>
                  <a:lnTo>
                    <a:pt x="356" y="458"/>
                  </a:lnTo>
                  <a:close/>
                  <a:moveTo>
                    <a:pt x="360" y="288"/>
                  </a:moveTo>
                  <a:lnTo>
                    <a:pt x="360" y="288"/>
                  </a:lnTo>
                  <a:lnTo>
                    <a:pt x="346" y="288"/>
                  </a:lnTo>
                  <a:lnTo>
                    <a:pt x="330" y="290"/>
                  </a:lnTo>
                  <a:lnTo>
                    <a:pt x="330" y="258"/>
                  </a:lnTo>
                  <a:lnTo>
                    <a:pt x="330" y="258"/>
                  </a:lnTo>
                  <a:lnTo>
                    <a:pt x="342" y="260"/>
                  </a:lnTo>
                  <a:lnTo>
                    <a:pt x="356" y="262"/>
                  </a:lnTo>
                  <a:lnTo>
                    <a:pt x="376" y="262"/>
                  </a:lnTo>
                  <a:lnTo>
                    <a:pt x="432" y="262"/>
                  </a:lnTo>
                  <a:lnTo>
                    <a:pt x="432" y="288"/>
                  </a:lnTo>
                  <a:lnTo>
                    <a:pt x="360" y="288"/>
                  </a:lnTo>
                  <a:close/>
                  <a:moveTo>
                    <a:pt x="164" y="232"/>
                  </a:moveTo>
                  <a:lnTo>
                    <a:pt x="164" y="522"/>
                  </a:lnTo>
                  <a:lnTo>
                    <a:pt x="162" y="522"/>
                  </a:lnTo>
                  <a:lnTo>
                    <a:pt x="162" y="232"/>
                  </a:lnTo>
                  <a:lnTo>
                    <a:pt x="164" y="232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5411880" y="7127640"/>
              <a:ext cx="1047600" cy="1187280"/>
            </a:xfrm>
            <a:custGeom>
              <a:avLst/>
              <a:gdLst>
                <a:gd name="textAreaLeft" fmla="*/ 0 w 1047600"/>
                <a:gd name="textAreaRight" fmla="*/ 1047600 w 104760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660" h="748">
                  <a:moveTo>
                    <a:pt x="568" y="602"/>
                  </a:moveTo>
                  <a:lnTo>
                    <a:pt x="568" y="602"/>
                  </a:lnTo>
                  <a:lnTo>
                    <a:pt x="570" y="600"/>
                  </a:lnTo>
                  <a:lnTo>
                    <a:pt x="570" y="600"/>
                  </a:lnTo>
                  <a:lnTo>
                    <a:pt x="592" y="574"/>
                  </a:lnTo>
                  <a:lnTo>
                    <a:pt x="610" y="548"/>
                  </a:lnTo>
                  <a:lnTo>
                    <a:pt x="624" y="526"/>
                  </a:lnTo>
                  <a:lnTo>
                    <a:pt x="638" y="502"/>
                  </a:lnTo>
                  <a:lnTo>
                    <a:pt x="648" y="482"/>
                  </a:lnTo>
                  <a:lnTo>
                    <a:pt x="654" y="462"/>
                  </a:lnTo>
                  <a:lnTo>
                    <a:pt x="658" y="442"/>
                  </a:lnTo>
                  <a:lnTo>
                    <a:pt x="660" y="424"/>
                  </a:lnTo>
                  <a:lnTo>
                    <a:pt x="660" y="424"/>
                  </a:lnTo>
                  <a:lnTo>
                    <a:pt x="658" y="404"/>
                  </a:lnTo>
                  <a:lnTo>
                    <a:pt x="652" y="386"/>
                  </a:lnTo>
                  <a:lnTo>
                    <a:pt x="642" y="370"/>
                  </a:lnTo>
                  <a:lnTo>
                    <a:pt x="630" y="358"/>
                  </a:lnTo>
                  <a:lnTo>
                    <a:pt x="614" y="346"/>
                  </a:lnTo>
                  <a:lnTo>
                    <a:pt x="598" y="338"/>
                  </a:lnTo>
                  <a:lnTo>
                    <a:pt x="580" y="334"/>
                  </a:lnTo>
                  <a:lnTo>
                    <a:pt x="562" y="332"/>
                  </a:lnTo>
                  <a:lnTo>
                    <a:pt x="562" y="332"/>
                  </a:lnTo>
                  <a:lnTo>
                    <a:pt x="544" y="334"/>
                  </a:lnTo>
                  <a:lnTo>
                    <a:pt x="528" y="338"/>
                  </a:lnTo>
                  <a:lnTo>
                    <a:pt x="514" y="346"/>
                  </a:lnTo>
                  <a:lnTo>
                    <a:pt x="502" y="356"/>
                  </a:lnTo>
                  <a:lnTo>
                    <a:pt x="492" y="370"/>
                  </a:lnTo>
                  <a:lnTo>
                    <a:pt x="482" y="384"/>
                  </a:lnTo>
                  <a:lnTo>
                    <a:pt x="466" y="418"/>
                  </a:lnTo>
                  <a:lnTo>
                    <a:pt x="466" y="418"/>
                  </a:lnTo>
                  <a:lnTo>
                    <a:pt x="452" y="442"/>
                  </a:lnTo>
                  <a:lnTo>
                    <a:pt x="440" y="462"/>
                  </a:lnTo>
                  <a:lnTo>
                    <a:pt x="426" y="480"/>
                  </a:lnTo>
                  <a:lnTo>
                    <a:pt x="412" y="496"/>
                  </a:lnTo>
                  <a:lnTo>
                    <a:pt x="396" y="510"/>
                  </a:lnTo>
                  <a:lnTo>
                    <a:pt x="382" y="522"/>
                  </a:lnTo>
                  <a:lnTo>
                    <a:pt x="368" y="530"/>
                  </a:lnTo>
                  <a:lnTo>
                    <a:pt x="354" y="538"/>
                  </a:lnTo>
                  <a:lnTo>
                    <a:pt x="326" y="550"/>
                  </a:lnTo>
                  <a:lnTo>
                    <a:pt x="302" y="556"/>
                  </a:lnTo>
                  <a:lnTo>
                    <a:pt x="282" y="560"/>
                  </a:lnTo>
                  <a:lnTo>
                    <a:pt x="268" y="560"/>
                  </a:lnTo>
                  <a:lnTo>
                    <a:pt x="268" y="560"/>
                  </a:lnTo>
                  <a:lnTo>
                    <a:pt x="248" y="560"/>
                  </a:lnTo>
                  <a:lnTo>
                    <a:pt x="232" y="556"/>
                  </a:lnTo>
                  <a:lnTo>
                    <a:pt x="218" y="550"/>
                  </a:lnTo>
                  <a:lnTo>
                    <a:pt x="208" y="542"/>
                  </a:lnTo>
                  <a:lnTo>
                    <a:pt x="208" y="542"/>
                  </a:lnTo>
                  <a:lnTo>
                    <a:pt x="202" y="536"/>
                  </a:lnTo>
                  <a:lnTo>
                    <a:pt x="198" y="526"/>
                  </a:lnTo>
                  <a:lnTo>
                    <a:pt x="194" y="516"/>
                  </a:lnTo>
                  <a:lnTo>
                    <a:pt x="192" y="506"/>
                  </a:lnTo>
                  <a:lnTo>
                    <a:pt x="190" y="482"/>
                  </a:lnTo>
                  <a:lnTo>
                    <a:pt x="190" y="460"/>
                  </a:lnTo>
                  <a:lnTo>
                    <a:pt x="198" y="126"/>
                  </a:lnTo>
                  <a:lnTo>
                    <a:pt x="198" y="126"/>
                  </a:lnTo>
                  <a:lnTo>
                    <a:pt x="198" y="102"/>
                  </a:lnTo>
                  <a:lnTo>
                    <a:pt x="196" y="74"/>
                  </a:lnTo>
                  <a:lnTo>
                    <a:pt x="192" y="62"/>
                  </a:lnTo>
                  <a:lnTo>
                    <a:pt x="188" y="48"/>
                  </a:lnTo>
                  <a:lnTo>
                    <a:pt x="180" y="36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58" y="14"/>
                  </a:lnTo>
                  <a:lnTo>
                    <a:pt x="142" y="6"/>
                  </a:lnTo>
                  <a:lnTo>
                    <a:pt x="122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72" y="4"/>
                  </a:lnTo>
                  <a:lnTo>
                    <a:pt x="58" y="8"/>
                  </a:lnTo>
                  <a:lnTo>
                    <a:pt x="48" y="14"/>
                  </a:lnTo>
                  <a:lnTo>
                    <a:pt x="38" y="20"/>
                  </a:lnTo>
                  <a:lnTo>
                    <a:pt x="32" y="28"/>
                  </a:lnTo>
                  <a:lnTo>
                    <a:pt x="24" y="38"/>
                  </a:lnTo>
                  <a:lnTo>
                    <a:pt x="20" y="46"/>
                  </a:lnTo>
                  <a:lnTo>
                    <a:pt x="12" y="66"/>
                  </a:lnTo>
                  <a:lnTo>
                    <a:pt x="8" y="86"/>
                  </a:lnTo>
                  <a:lnTo>
                    <a:pt x="8" y="106"/>
                  </a:lnTo>
                  <a:lnTo>
                    <a:pt x="6" y="124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0" y="492"/>
                  </a:lnTo>
                  <a:lnTo>
                    <a:pt x="2" y="520"/>
                  </a:lnTo>
                  <a:lnTo>
                    <a:pt x="8" y="552"/>
                  </a:lnTo>
                  <a:lnTo>
                    <a:pt x="16" y="584"/>
                  </a:lnTo>
                  <a:lnTo>
                    <a:pt x="20" y="602"/>
                  </a:lnTo>
                  <a:lnTo>
                    <a:pt x="28" y="618"/>
                  </a:lnTo>
                  <a:lnTo>
                    <a:pt x="36" y="634"/>
                  </a:lnTo>
                  <a:lnTo>
                    <a:pt x="46" y="650"/>
                  </a:lnTo>
                  <a:lnTo>
                    <a:pt x="56" y="666"/>
                  </a:lnTo>
                  <a:lnTo>
                    <a:pt x="70" y="680"/>
                  </a:lnTo>
                  <a:lnTo>
                    <a:pt x="70" y="680"/>
                  </a:lnTo>
                  <a:lnTo>
                    <a:pt x="86" y="696"/>
                  </a:lnTo>
                  <a:lnTo>
                    <a:pt x="106" y="710"/>
                  </a:lnTo>
                  <a:lnTo>
                    <a:pt x="126" y="722"/>
                  </a:lnTo>
                  <a:lnTo>
                    <a:pt x="150" y="730"/>
                  </a:lnTo>
                  <a:lnTo>
                    <a:pt x="174" y="738"/>
                  </a:lnTo>
                  <a:lnTo>
                    <a:pt x="200" y="744"/>
                  </a:lnTo>
                  <a:lnTo>
                    <a:pt x="226" y="746"/>
                  </a:lnTo>
                  <a:lnTo>
                    <a:pt x="256" y="748"/>
                  </a:lnTo>
                  <a:lnTo>
                    <a:pt x="256" y="748"/>
                  </a:lnTo>
                  <a:lnTo>
                    <a:pt x="300" y="746"/>
                  </a:lnTo>
                  <a:lnTo>
                    <a:pt x="344" y="738"/>
                  </a:lnTo>
                  <a:lnTo>
                    <a:pt x="366" y="734"/>
                  </a:lnTo>
                  <a:lnTo>
                    <a:pt x="386" y="728"/>
                  </a:lnTo>
                  <a:lnTo>
                    <a:pt x="406" y="720"/>
                  </a:lnTo>
                  <a:lnTo>
                    <a:pt x="426" y="712"/>
                  </a:lnTo>
                  <a:lnTo>
                    <a:pt x="446" y="702"/>
                  </a:lnTo>
                  <a:lnTo>
                    <a:pt x="464" y="690"/>
                  </a:lnTo>
                  <a:lnTo>
                    <a:pt x="500" y="666"/>
                  </a:lnTo>
                  <a:lnTo>
                    <a:pt x="536" y="636"/>
                  </a:lnTo>
                  <a:lnTo>
                    <a:pt x="568" y="602"/>
                  </a:lnTo>
                  <a:lnTo>
                    <a:pt x="568" y="602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7434360" y="7279920"/>
              <a:ext cx="488880" cy="8190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308" h="516">
                  <a:moveTo>
                    <a:pt x="206" y="76"/>
                  </a:moveTo>
                  <a:lnTo>
                    <a:pt x="206" y="76"/>
                  </a:lnTo>
                  <a:lnTo>
                    <a:pt x="182" y="44"/>
                  </a:lnTo>
                  <a:lnTo>
                    <a:pt x="170" y="32"/>
                  </a:lnTo>
                  <a:lnTo>
                    <a:pt x="156" y="20"/>
                  </a:lnTo>
                  <a:lnTo>
                    <a:pt x="144" y="12"/>
                  </a:lnTo>
                  <a:lnTo>
                    <a:pt x="128" y="6"/>
                  </a:lnTo>
                  <a:lnTo>
                    <a:pt x="114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8" y="2"/>
                  </a:lnTo>
                  <a:lnTo>
                    <a:pt x="62" y="8"/>
                  </a:lnTo>
                  <a:lnTo>
                    <a:pt x="46" y="16"/>
                  </a:lnTo>
                  <a:lnTo>
                    <a:pt x="30" y="26"/>
                  </a:lnTo>
                  <a:lnTo>
                    <a:pt x="18" y="40"/>
                  </a:lnTo>
                  <a:lnTo>
                    <a:pt x="8" y="56"/>
                  </a:lnTo>
                  <a:lnTo>
                    <a:pt x="2" y="7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2" y="116"/>
                  </a:lnTo>
                  <a:lnTo>
                    <a:pt x="6" y="128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34" y="166"/>
                  </a:lnTo>
                  <a:lnTo>
                    <a:pt x="34" y="166"/>
                  </a:lnTo>
                  <a:lnTo>
                    <a:pt x="48" y="184"/>
                  </a:lnTo>
                  <a:lnTo>
                    <a:pt x="48" y="184"/>
                  </a:lnTo>
                  <a:lnTo>
                    <a:pt x="68" y="218"/>
                  </a:lnTo>
                  <a:lnTo>
                    <a:pt x="82" y="250"/>
                  </a:lnTo>
                  <a:lnTo>
                    <a:pt x="94" y="284"/>
                  </a:lnTo>
                  <a:lnTo>
                    <a:pt x="102" y="316"/>
                  </a:lnTo>
                  <a:lnTo>
                    <a:pt x="108" y="344"/>
                  </a:lnTo>
                  <a:lnTo>
                    <a:pt x="110" y="372"/>
                  </a:lnTo>
                  <a:lnTo>
                    <a:pt x="112" y="412"/>
                  </a:lnTo>
                  <a:lnTo>
                    <a:pt x="112" y="416"/>
                  </a:lnTo>
                  <a:lnTo>
                    <a:pt x="112" y="416"/>
                  </a:lnTo>
                  <a:lnTo>
                    <a:pt x="114" y="438"/>
                  </a:lnTo>
                  <a:lnTo>
                    <a:pt x="120" y="458"/>
                  </a:lnTo>
                  <a:lnTo>
                    <a:pt x="128" y="476"/>
                  </a:lnTo>
                  <a:lnTo>
                    <a:pt x="140" y="490"/>
                  </a:lnTo>
                  <a:lnTo>
                    <a:pt x="154" y="502"/>
                  </a:lnTo>
                  <a:lnTo>
                    <a:pt x="170" y="510"/>
                  </a:lnTo>
                  <a:lnTo>
                    <a:pt x="188" y="514"/>
                  </a:lnTo>
                  <a:lnTo>
                    <a:pt x="210" y="516"/>
                  </a:lnTo>
                  <a:lnTo>
                    <a:pt x="210" y="516"/>
                  </a:lnTo>
                  <a:lnTo>
                    <a:pt x="228" y="516"/>
                  </a:lnTo>
                  <a:lnTo>
                    <a:pt x="246" y="512"/>
                  </a:lnTo>
                  <a:lnTo>
                    <a:pt x="262" y="504"/>
                  </a:lnTo>
                  <a:lnTo>
                    <a:pt x="276" y="494"/>
                  </a:lnTo>
                  <a:lnTo>
                    <a:pt x="288" y="478"/>
                  </a:lnTo>
                  <a:lnTo>
                    <a:pt x="298" y="460"/>
                  </a:lnTo>
                  <a:lnTo>
                    <a:pt x="302" y="450"/>
                  </a:lnTo>
                  <a:lnTo>
                    <a:pt x="304" y="438"/>
                  </a:lnTo>
                  <a:lnTo>
                    <a:pt x="306" y="426"/>
                  </a:lnTo>
                  <a:lnTo>
                    <a:pt x="308" y="412"/>
                  </a:lnTo>
                  <a:lnTo>
                    <a:pt x="308" y="412"/>
                  </a:lnTo>
                  <a:lnTo>
                    <a:pt x="306" y="382"/>
                  </a:lnTo>
                  <a:lnTo>
                    <a:pt x="302" y="348"/>
                  </a:lnTo>
                  <a:lnTo>
                    <a:pt x="296" y="308"/>
                  </a:lnTo>
                  <a:lnTo>
                    <a:pt x="286" y="264"/>
                  </a:lnTo>
                  <a:lnTo>
                    <a:pt x="272" y="216"/>
                  </a:lnTo>
                  <a:lnTo>
                    <a:pt x="256" y="168"/>
                  </a:lnTo>
                  <a:lnTo>
                    <a:pt x="244" y="144"/>
                  </a:lnTo>
                  <a:lnTo>
                    <a:pt x="234" y="122"/>
                  </a:lnTo>
                  <a:lnTo>
                    <a:pt x="220" y="98"/>
                  </a:lnTo>
                  <a:lnTo>
                    <a:pt x="206" y="76"/>
                  </a:lnTo>
                  <a:lnTo>
                    <a:pt x="206" y="76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6739200" y="7165800"/>
              <a:ext cx="666720" cy="11113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420" h="700">
                  <a:moveTo>
                    <a:pt x="326" y="440"/>
                  </a:moveTo>
                  <a:lnTo>
                    <a:pt x="326" y="440"/>
                  </a:lnTo>
                  <a:lnTo>
                    <a:pt x="314" y="440"/>
                  </a:lnTo>
                  <a:lnTo>
                    <a:pt x="302" y="442"/>
                  </a:lnTo>
                  <a:lnTo>
                    <a:pt x="290" y="446"/>
                  </a:lnTo>
                  <a:lnTo>
                    <a:pt x="280" y="452"/>
                  </a:lnTo>
                  <a:lnTo>
                    <a:pt x="270" y="458"/>
                  </a:lnTo>
                  <a:lnTo>
                    <a:pt x="262" y="466"/>
                  </a:lnTo>
                  <a:lnTo>
                    <a:pt x="254" y="476"/>
                  </a:lnTo>
                  <a:lnTo>
                    <a:pt x="246" y="486"/>
                  </a:lnTo>
                  <a:lnTo>
                    <a:pt x="244" y="490"/>
                  </a:lnTo>
                  <a:lnTo>
                    <a:pt x="244" y="490"/>
                  </a:lnTo>
                  <a:lnTo>
                    <a:pt x="236" y="502"/>
                  </a:lnTo>
                  <a:lnTo>
                    <a:pt x="236" y="502"/>
                  </a:lnTo>
                  <a:lnTo>
                    <a:pt x="230" y="494"/>
                  </a:lnTo>
                  <a:lnTo>
                    <a:pt x="222" y="480"/>
                  </a:lnTo>
                  <a:lnTo>
                    <a:pt x="214" y="462"/>
                  </a:lnTo>
                  <a:lnTo>
                    <a:pt x="208" y="438"/>
                  </a:lnTo>
                  <a:lnTo>
                    <a:pt x="202" y="412"/>
                  </a:lnTo>
                  <a:lnTo>
                    <a:pt x="196" y="380"/>
                  </a:lnTo>
                  <a:lnTo>
                    <a:pt x="192" y="346"/>
                  </a:lnTo>
                  <a:lnTo>
                    <a:pt x="192" y="308"/>
                  </a:lnTo>
                  <a:lnTo>
                    <a:pt x="192" y="308"/>
                  </a:lnTo>
                  <a:lnTo>
                    <a:pt x="192" y="272"/>
                  </a:lnTo>
                  <a:lnTo>
                    <a:pt x="196" y="230"/>
                  </a:lnTo>
                  <a:lnTo>
                    <a:pt x="204" y="182"/>
                  </a:lnTo>
                  <a:lnTo>
                    <a:pt x="216" y="128"/>
                  </a:lnTo>
                  <a:lnTo>
                    <a:pt x="216" y="128"/>
                  </a:lnTo>
                  <a:lnTo>
                    <a:pt x="220" y="108"/>
                  </a:lnTo>
                  <a:lnTo>
                    <a:pt x="222" y="92"/>
                  </a:lnTo>
                  <a:lnTo>
                    <a:pt x="222" y="92"/>
                  </a:lnTo>
                  <a:lnTo>
                    <a:pt x="220" y="76"/>
                  </a:lnTo>
                  <a:lnTo>
                    <a:pt x="216" y="58"/>
                  </a:lnTo>
                  <a:lnTo>
                    <a:pt x="208" y="44"/>
                  </a:lnTo>
                  <a:lnTo>
                    <a:pt x="198" y="30"/>
                  </a:lnTo>
                  <a:lnTo>
                    <a:pt x="182" y="18"/>
                  </a:lnTo>
                  <a:lnTo>
                    <a:pt x="164" y="8"/>
                  </a:lnTo>
                  <a:lnTo>
                    <a:pt x="140" y="2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4" y="2"/>
                  </a:lnTo>
                  <a:lnTo>
                    <a:pt x="92" y="4"/>
                  </a:lnTo>
                  <a:lnTo>
                    <a:pt x="82" y="8"/>
                  </a:lnTo>
                  <a:lnTo>
                    <a:pt x="70" y="14"/>
                  </a:lnTo>
                  <a:lnTo>
                    <a:pt x="60" y="22"/>
                  </a:lnTo>
                  <a:lnTo>
                    <a:pt x="50" y="32"/>
                  </a:lnTo>
                  <a:lnTo>
                    <a:pt x="40" y="42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28" y="70"/>
                  </a:lnTo>
                  <a:lnTo>
                    <a:pt x="22" y="92"/>
                  </a:lnTo>
                  <a:lnTo>
                    <a:pt x="16" y="116"/>
                  </a:lnTo>
                  <a:lnTo>
                    <a:pt x="10" y="146"/>
                  </a:lnTo>
                  <a:lnTo>
                    <a:pt x="6" y="178"/>
                  </a:lnTo>
                  <a:lnTo>
                    <a:pt x="4" y="214"/>
                  </a:lnTo>
                  <a:lnTo>
                    <a:pt x="2" y="25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" y="340"/>
                  </a:lnTo>
                  <a:lnTo>
                    <a:pt x="6" y="386"/>
                  </a:lnTo>
                  <a:lnTo>
                    <a:pt x="12" y="428"/>
                  </a:lnTo>
                  <a:lnTo>
                    <a:pt x="20" y="468"/>
                  </a:lnTo>
                  <a:lnTo>
                    <a:pt x="32" y="506"/>
                  </a:lnTo>
                  <a:lnTo>
                    <a:pt x="44" y="538"/>
                  </a:lnTo>
                  <a:lnTo>
                    <a:pt x="58" y="570"/>
                  </a:lnTo>
                  <a:lnTo>
                    <a:pt x="74" y="596"/>
                  </a:lnTo>
                  <a:lnTo>
                    <a:pt x="92" y="620"/>
                  </a:lnTo>
                  <a:lnTo>
                    <a:pt x="110" y="642"/>
                  </a:lnTo>
                  <a:lnTo>
                    <a:pt x="130" y="660"/>
                  </a:lnTo>
                  <a:lnTo>
                    <a:pt x="150" y="674"/>
                  </a:lnTo>
                  <a:lnTo>
                    <a:pt x="172" y="686"/>
                  </a:lnTo>
                  <a:lnTo>
                    <a:pt x="194" y="694"/>
                  </a:lnTo>
                  <a:lnTo>
                    <a:pt x="216" y="698"/>
                  </a:lnTo>
                  <a:lnTo>
                    <a:pt x="238" y="700"/>
                  </a:lnTo>
                  <a:lnTo>
                    <a:pt x="238" y="700"/>
                  </a:lnTo>
                  <a:lnTo>
                    <a:pt x="256" y="700"/>
                  </a:lnTo>
                  <a:lnTo>
                    <a:pt x="274" y="696"/>
                  </a:lnTo>
                  <a:lnTo>
                    <a:pt x="290" y="692"/>
                  </a:lnTo>
                  <a:lnTo>
                    <a:pt x="306" y="684"/>
                  </a:lnTo>
                  <a:lnTo>
                    <a:pt x="322" y="676"/>
                  </a:lnTo>
                  <a:lnTo>
                    <a:pt x="338" y="666"/>
                  </a:lnTo>
                  <a:lnTo>
                    <a:pt x="352" y="656"/>
                  </a:lnTo>
                  <a:lnTo>
                    <a:pt x="364" y="644"/>
                  </a:lnTo>
                  <a:lnTo>
                    <a:pt x="376" y="632"/>
                  </a:lnTo>
                  <a:lnTo>
                    <a:pt x="388" y="618"/>
                  </a:lnTo>
                  <a:lnTo>
                    <a:pt x="396" y="604"/>
                  </a:lnTo>
                  <a:lnTo>
                    <a:pt x="404" y="590"/>
                  </a:lnTo>
                  <a:lnTo>
                    <a:pt x="410" y="576"/>
                  </a:lnTo>
                  <a:lnTo>
                    <a:pt x="416" y="562"/>
                  </a:lnTo>
                  <a:lnTo>
                    <a:pt x="418" y="546"/>
                  </a:lnTo>
                  <a:lnTo>
                    <a:pt x="420" y="532"/>
                  </a:lnTo>
                  <a:lnTo>
                    <a:pt x="420" y="532"/>
                  </a:lnTo>
                  <a:lnTo>
                    <a:pt x="418" y="512"/>
                  </a:lnTo>
                  <a:lnTo>
                    <a:pt x="412" y="494"/>
                  </a:lnTo>
                  <a:lnTo>
                    <a:pt x="402" y="478"/>
                  </a:lnTo>
                  <a:lnTo>
                    <a:pt x="390" y="464"/>
                  </a:lnTo>
                  <a:lnTo>
                    <a:pt x="376" y="454"/>
                  </a:lnTo>
                  <a:lnTo>
                    <a:pt x="360" y="446"/>
                  </a:lnTo>
                  <a:lnTo>
                    <a:pt x="344" y="440"/>
                  </a:lnTo>
                  <a:lnTo>
                    <a:pt x="326" y="440"/>
                  </a:lnTo>
                  <a:lnTo>
                    <a:pt x="326" y="44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3049560" y="8550000"/>
              <a:ext cx="1311120" cy="124452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826" h="784">
                  <a:moveTo>
                    <a:pt x="734" y="238"/>
                  </a:moveTo>
                  <a:lnTo>
                    <a:pt x="734" y="238"/>
                  </a:lnTo>
                  <a:lnTo>
                    <a:pt x="766" y="198"/>
                  </a:lnTo>
                  <a:lnTo>
                    <a:pt x="778" y="182"/>
                  </a:lnTo>
                  <a:lnTo>
                    <a:pt x="786" y="166"/>
                  </a:lnTo>
                  <a:lnTo>
                    <a:pt x="794" y="152"/>
                  </a:lnTo>
                  <a:lnTo>
                    <a:pt x="798" y="136"/>
                  </a:lnTo>
                  <a:lnTo>
                    <a:pt x="800" y="122"/>
                  </a:lnTo>
                  <a:lnTo>
                    <a:pt x="802" y="108"/>
                  </a:lnTo>
                  <a:lnTo>
                    <a:pt x="802" y="108"/>
                  </a:lnTo>
                  <a:lnTo>
                    <a:pt x="798" y="84"/>
                  </a:lnTo>
                  <a:lnTo>
                    <a:pt x="792" y="64"/>
                  </a:lnTo>
                  <a:lnTo>
                    <a:pt x="782" y="44"/>
                  </a:lnTo>
                  <a:lnTo>
                    <a:pt x="768" y="30"/>
                  </a:lnTo>
                  <a:lnTo>
                    <a:pt x="752" y="16"/>
                  </a:lnTo>
                  <a:lnTo>
                    <a:pt x="732" y="8"/>
                  </a:lnTo>
                  <a:lnTo>
                    <a:pt x="708" y="2"/>
                  </a:lnTo>
                  <a:lnTo>
                    <a:pt x="682" y="0"/>
                  </a:lnTo>
                  <a:lnTo>
                    <a:pt x="508" y="0"/>
                  </a:lnTo>
                  <a:lnTo>
                    <a:pt x="508" y="0"/>
                  </a:lnTo>
                  <a:lnTo>
                    <a:pt x="490" y="0"/>
                  </a:lnTo>
                  <a:lnTo>
                    <a:pt x="470" y="2"/>
                  </a:lnTo>
                  <a:lnTo>
                    <a:pt x="458" y="6"/>
                  </a:lnTo>
                  <a:lnTo>
                    <a:pt x="448" y="8"/>
                  </a:lnTo>
                  <a:lnTo>
                    <a:pt x="438" y="14"/>
                  </a:lnTo>
                  <a:lnTo>
                    <a:pt x="428" y="22"/>
                  </a:lnTo>
                  <a:lnTo>
                    <a:pt x="428" y="22"/>
                  </a:lnTo>
                  <a:lnTo>
                    <a:pt x="414" y="12"/>
                  </a:lnTo>
                  <a:lnTo>
                    <a:pt x="398" y="6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0"/>
                  </a:lnTo>
                  <a:lnTo>
                    <a:pt x="108" y="2"/>
                  </a:lnTo>
                  <a:lnTo>
                    <a:pt x="96" y="6"/>
                  </a:lnTo>
                  <a:lnTo>
                    <a:pt x="86" y="10"/>
                  </a:lnTo>
                  <a:lnTo>
                    <a:pt x="68" y="22"/>
                  </a:lnTo>
                  <a:lnTo>
                    <a:pt x="52" y="36"/>
                  </a:lnTo>
                  <a:lnTo>
                    <a:pt x="40" y="52"/>
                  </a:lnTo>
                  <a:lnTo>
                    <a:pt x="32" y="70"/>
                  </a:lnTo>
                  <a:lnTo>
                    <a:pt x="26" y="88"/>
                  </a:lnTo>
                  <a:lnTo>
                    <a:pt x="26" y="104"/>
                  </a:lnTo>
                  <a:lnTo>
                    <a:pt x="26" y="360"/>
                  </a:lnTo>
                  <a:lnTo>
                    <a:pt x="26" y="360"/>
                  </a:lnTo>
                  <a:lnTo>
                    <a:pt x="26" y="370"/>
                  </a:lnTo>
                  <a:lnTo>
                    <a:pt x="28" y="382"/>
                  </a:lnTo>
                  <a:lnTo>
                    <a:pt x="32" y="392"/>
                  </a:lnTo>
                  <a:lnTo>
                    <a:pt x="36" y="404"/>
                  </a:lnTo>
                  <a:lnTo>
                    <a:pt x="42" y="416"/>
                  </a:lnTo>
                  <a:lnTo>
                    <a:pt x="50" y="426"/>
                  </a:lnTo>
                  <a:lnTo>
                    <a:pt x="60" y="436"/>
                  </a:lnTo>
                  <a:lnTo>
                    <a:pt x="72" y="446"/>
                  </a:lnTo>
                  <a:lnTo>
                    <a:pt x="72" y="446"/>
                  </a:lnTo>
                  <a:lnTo>
                    <a:pt x="62" y="450"/>
                  </a:lnTo>
                  <a:lnTo>
                    <a:pt x="54" y="454"/>
                  </a:lnTo>
                  <a:lnTo>
                    <a:pt x="46" y="462"/>
                  </a:lnTo>
                  <a:lnTo>
                    <a:pt x="38" y="470"/>
                  </a:lnTo>
                  <a:lnTo>
                    <a:pt x="34" y="480"/>
                  </a:lnTo>
                  <a:lnTo>
                    <a:pt x="28" y="492"/>
                  </a:lnTo>
                  <a:lnTo>
                    <a:pt x="26" y="506"/>
                  </a:lnTo>
                  <a:lnTo>
                    <a:pt x="26" y="522"/>
                  </a:lnTo>
                  <a:lnTo>
                    <a:pt x="26" y="522"/>
                  </a:lnTo>
                  <a:lnTo>
                    <a:pt x="26" y="536"/>
                  </a:lnTo>
                  <a:lnTo>
                    <a:pt x="28" y="548"/>
                  </a:lnTo>
                  <a:lnTo>
                    <a:pt x="32" y="560"/>
                  </a:lnTo>
                  <a:lnTo>
                    <a:pt x="38" y="568"/>
                  </a:lnTo>
                  <a:lnTo>
                    <a:pt x="44" y="576"/>
                  </a:lnTo>
                  <a:lnTo>
                    <a:pt x="50" y="584"/>
                  </a:lnTo>
                  <a:lnTo>
                    <a:pt x="58" y="588"/>
                  </a:lnTo>
                  <a:lnTo>
                    <a:pt x="66" y="592"/>
                  </a:lnTo>
                  <a:lnTo>
                    <a:pt x="84" y="598"/>
                  </a:lnTo>
                  <a:lnTo>
                    <a:pt x="100" y="602"/>
                  </a:lnTo>
                  <a:lnTo>
                    <a:pt x="130" y="604"/>
                  </a:lnTo>
                  <a:lnTo>
                    <a:pt x="144" y="604"/>
                  </a:lnTo>
                  <a:lnTo>
                    <a:pt x="144" y="604"/>
                  </a:lnTo>
                  <a:lnTo>
                    <a:pt x="62" y="608"/>
                  </a:lnTo>
                  <a:lnTo>
                    <a:pt x="62" y="608"/>
                  </a:lnTo>
                  <a:lnTo>
                    <a:pt x="48" y="612"/>
                  </a:lnTo>
                  <a:lnTo>
                    <a:pt x="36" y="618"/>
                  </a:lnTo>
                  <a:lnTo>
                    <a:pt x="26" y="624"/>
                  </a:lnTo>
                  <a:lnTo>
                    <a:pt x="16" y="634"/>
                  </a:lnTo>
                  <a:lnTo>
                    <a:pt x="10" y="646"/>
                  </a:lnTo>
                  <a:lnTo>
                    <a:pt x="4" y="658"/>
                  </a:lnTo>
                  <a:lnTo>
                    <a:pt x="0" y="672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98"/>
                  </a:lnTo>
                  <a:lnTo>
                    <a:pt x="2" y="712"/>
                  </a:lnTo>
                  <a:lnTo>
                    <a:pt x="6" y="726"/>
                  </a:lnTo>
                  <a:lnTo>
                    <a:pt x="12" y="742"/>
                  </a:lnTo>
                  <a:lnTo>
                    <a:pt x="24" y="754"/>
                  </a:lnTo>
                  <a:lnTo>
                    <a:pt x="30" y="760"/>
                  </a:lnTo>
                  <a:lnTo>
                    <a:pt x="38" y="766"/>
                  </a:lnTo>
                  <a:lnTo>
                    <a:pt x="48" y="770"/>
                  </a:lnTo>
                  <a:lnTo>
                    <a:pt x="58" y="774"/>
                  </a:lnTo>
                  <a:lnTo>
                    <a:pt x="70" y="776"/>
                  </a:lnTo>
                  <a:lnTo>
                    <a:pt x="82" y="776"/>
                  </a:lnTo>
                  <a:lnTo>
                    <a:pt x="82" y="776"/>
                  </a:lnTo>
                  <a:lnTo>
                    <a:pt x="120" y="776"/>
                  </a:lnTo>
                  <a:lnTo>
                    <a:pt x="160" y="774"/>
                  </a:lnTo>
                  <a:lnTo>
                    <a:pt x="242" y="768"/>
                  </a:lnTo>
                  <a:lnTo>
                    <a:pt x="312" y="760"/>
                  </a:lnTo>
                  <a:lnTo>
                    <a:pt x="358" y="754"/>
                  </a:lnTo>
                  <a:lnTo>
                    <a:pt x="358" y="754"/>
                  </a:lnTo>
                  <a:lnTo>
                    <a:pt x="394" y="748"/>
                  </a:lnTo>
                  <a:lnTo>
                    <a:pt x="410" y="744"/>
                  </a:lnTo>
                  <a:lnTo>
                    <a:pt x="424" y="740"/>
                  </a:lnTo>
                  <a:lnTo>
                    <a:pt x="424" y="740"/>
                  </a:lnTo>
                  <a:lnTo>
                    <a:pt x="438" y="754"/>
                  </a:lnTo>
                  <a:lnTo>
                    <a:pt x="446" y="760"/>
                  </a:lnTo>
                  <a:lnTo>
                    <a:pt x="454" y="764"/>
                  </a:lnTo>
                  <a:lnTo>
                    <a:pt x="456" y="764"/>
                  </a:lnTo>
                  <a:lnTo>
                    <a:pt x="456" y="764"/>
                  </a:lnTo>
                  <a:lnTo>
                    <a:pt x="480" y="772"/>
                  </a:lnTo>
                  <a:lnTo>
                    <a:pt x="510" y="780"/>
                  </a:lnTo>
                  <a:lnTo>
                    <a:pt x="540" y="784"/>
                  </a:lnTo>
                  <a:lnTo>
                    <a:pt x="570" y="784"/>
                  </a:lnTo>
                  <a:lnTo>
                    <a:pt x="570" y="784"/>
                  </a:lnTo>
                  <a:lnTo>
                    <a:pt x="594" y="782"/>
                  </a:lnTo>
                  <a:lnTo>
                    <a:pt x="614" y="778"/>
                  </a:lnTo>
                  <a:lnTo>
                    <a:pt x="632" y="768"/>
                  </a:lnTo>
                  <a:lnTo>
                    <a:pt x="648" y="756"/>
                  </a:lnTo>
                  <a:lnTo>
                    <a:pt x="660" y="740"/>
                  </a:lnTo>
                  <a:lnTo>
                    <a:pt x="670" y="720"/>
                  </a:lnTo>
                  <a:lnTo>
                    <a:pt x="676" y="698"/>
                  </a:lnTo>
                  <a:lnTo>
                    <a:pt x="678" y="674"/>
                  </a:lnTo>
                  <a:lnTo>
                    <a:pt x="678" y="562"/>
                  </a:lnTo>
                  <a:lnTo>
                    <a:pt x="678" y="562"/>
                  </a:lnTo>
                  <a:lnTo>
                    <a:pt x="688" y="564"/>
                  </a:lnTo>
                  <a:lnTo>
                    <a:pt x="702" y="566"/>
                  </a:lnTo>
                  <a:lnTo>
                    <a:pt x="702" y="566"/>
                  </a:lnTo>
                  <a:lnTo>
                    <a:pt x="712" y="564"/>
                  </a:lnTo>
                  <a:lnTo>
                    <a:pt x="722" y="562"/>
                  </a:lnTo>
                  <a:lnTo>
                    <a:pt x="730" y="560"/>
                  </a:lnTo>
                  <a:lnTo>
                    <a:pt x="740" y="556"/>
                  </a:lnTo>
                  <a:lnTo>
                    <a:pt x="748" y="550"/>
                  </a:lnTo>
                  <a:lnTo>
                    <a:pt x="756" y="544"/>
                  </a:lnTo>
                  <a:lnTo>
                    <a:pt x="762" y="538"/>
                  </a:lnTo>
                  <a:lnTo>
                    <a:pt x="768" y="530"/>
                  </a:lnTo>
                  <a:lnTo>
                    <a:pt x="768" y="530"/>
                  </a:lnTo>
                  <a:lnTo>
                    <a:pt x="776" y="516"/>
                  </a:lnTo>
                  <a:lnTo>
                    <a:pt x="786" y="496"/>
                  </a:lnTo>
                  <a:lnTo>
                    <a:pt x="804" y="448"/>
                  </a:lnTo>
                  <a:lnTo>
                    <a:pt x="812" y="422"/>
                  </a:lnTo>
                  <a:lnTo>
                    <a:pt x="820" y="396"/>
                  </a:lnTo>
                  <a:lnTo>
                    <a:pt x="824" y="372"/>
                  </a:lnTo>
                  <a:lnTo>
                    <a:pt x="826" y="350"/>
                  </a:lnTo>
                  <a:lnTo>
                    <a:pt x="826" y="350"/>
                  </a:lnTo>
                  <a:lnTo>
                    <a:pt x="824" y="326"/>
                  </a:lnTo>
                  <a:lnTo>
                    <a:pt x="820" y="306"/>
                  </a:lnTo>
                  <a:lnTo>
                    <a:pt x="812" y="288"/>
                  </a:lnTo>
                  <a:lnTo>
                    <a:pt x="802" y="272"/>
                  </a:lnTo>
                  <a:lnTo>
                    <a:pt x="788" y="260"/>
                  </a:lnTo>
                  <a:lnTo>
                    <a:pt x="772" y="250"/>
                  </a:lnTo>
                  <a:lnTo>
                    <a:pt x="754" y="242"/>
                  </a:lnTo>
                  <a:lnTo>
                    <a:pt x="734" y="238"/>
                  </a:lnTo>
                  <a:lnTo>
                    <a:pt x="734" y="238"/>
                  </a:lnTo>
                  <a:close/>
                  <a:moveTo>
                    <a:pt x="434" y="586"/>
                  </a:moveTo>
                  <a:lnTo>
                    <a:pt x="434" y="586"/>
                  </a:lnTo>
                  <a:lnTo>
                    <a:pt x="444" y="576"/>
                  </a:lnTo>
                  <a:lnTo>
                    <a:pt x="454" y="560"/>
                  </a:lnTo>
                  <a:lnTo>
                    <a:pt x="458" y="552"/>
                  </a:lnTo>
                  <a:lnTo>
                    <a:pt x="460" y="542"/>
                  </a:lnTo>
                  <a:lnTo>
                    <a:pt x="462" y="530"/>
                  </a:lnTo>
                  <a:lnTo>
                    <a:pt x="462" y="518"/>
                  </a:lnTo>
                  <a:lnTo>
                    <a:pt x="462" y="518"/>
                  </a:lnTo>
                  <a:lnTo>
                    <a:pt x="462" y="504"/>
                  </a:lnTo>
                  <a:lnTo>
                    <a:pt x="460" y="492"/>
                  </a:lnTo>
                  <a:lnTo>
                    <a:pt x="456" y="480"/>
                  </a:lnTo>
                  <a:lnTo>
                    <a:pt x="450" y="470"/>
                  </a:lnTo>
                  <a:lnTo>
                    <a:pt x="444" y="464"/>
                  </a:lnTo>
                  <a:lnTo>
                    <a:pt x="436" y="456"/>
                  </a:lnTo>
                  <a:lnTo>
                    <a:pt x="428" y="452"/>
                  </a:lnTo>
                  <a:lnTo>
                    <a:pt x="420" y="448"/>
                  </a:lnTo>
                  <a:lnTo>
                    <a:pt x="420" y="448"/>
                  </a:lnTo>
                  <a:lnTo>
                    <a:pt x="432" y="438"/>
                  </a:lnTo>
                  <a:lnTo>
                    <a:pt x="442" y="430"/>
                  </a:lnTo>
                  <a:lnTo>
                    <a:pt x="450" y="418"/>
                  </a:lnTo>
                  <a:lnTo>
                    <a:pt x="456" y="408"/>
                  </a:lnTo>
                  <a:lnTo>
                    <a:pt x="456" y="408"/>
                  </a:lnTo>
                  <a:lnTo>
                    <a:pt x="482" y="408"/>
                  </a:lnTo>
                  <a:lnTo>
                    <a:pt x="508" y="408"/>
                  </a:lnTo>
                  <a:lnTo>
                    <a:pt x="508" y="608"/>
                  </a:lnTo>
                  <a:lnTo>
                    <a:pt x="508" y="608"/>
                  </a:lnTo>
                  <a:lnTo>
                    <a:pt x="488" y="606"/>
                  </a:lnTo>
                  <a:lnTo>
                    <a:pt x="488" y="606"/>
                  </a:lnTo>
                  <a:lnTo>
                    <a:pt x="474" y="608"/>
                  </a:lnTo>
                  <a:lnTo>
                    <a:pt x="460" y="612"/>
                  </a:lnTo>
                  <a:lnTo>
                    <a:pt x="460" y="612"/>
                  </a:lnTo>
                  <a:lnTo>
                    <a:pt x="454" y="604"/>
                  </a:lnTo>
                  <a:lnTo>
                    <a:pt x="448" y="596"/>
                  </a:lnTo>
                  <a:lnTo>
                    <a:pt x="442" y="590"/>
                  </a:lnTo>
                  <a:lnTo>
                    <a:pt x="434" y="586"/>
                  </a:lnTo>
                  <a:lnTo>
                    <a:pt x="434" y="586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4500360" y="8511840"/>
              <a:ext cx="1288800" cy="128268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12" h="808">
                  <a:moveTo>
                    <a:pt x="812" y="530"/>
                  </a:moveTo>
                  <a:lnTo>
                    <a:pt x="812" y="530"/>
                  </a:lnTo>
                  <a:lnTo>
                    <a:pt x="810" y="516"/>
                  </a:lnTo>
                  <a:lnTo>
                    <a:pt x="808" y="504"/>
                  </a:lnTo>
                  <a:lnTo>
                    <a:pt x="804" y="492"/>
                  </a:lnTo>
                  <a:lnTo>
                    <a:pt x="798" y="484"/>
                  </a:lnTo>
                  <a:lnTo>
                    <a:pt x="792" y="476"/>
                  </a:lnTo>
                  <a:lnTo>
                    <a:pt x="786" y="468"/>
                  </a:lnTo>
                  <a:lnTo>
                    <a:pt x="778" y="464"/>
                  </a:lnTo>
                  <a:lnTo>
                    <a:pt x="770" y="458"/>
                  </a:lnTo>
                  <a:lnTo>
                    <a:pt x="752" y="452"/>
                  </a:lnTo>
                  <a:lnTo>
                    <a:pt x="736" y="450"/>
                  </a:lnTo>
                  <a:lnTo>
                    <a:pt x="708" y="448"/>
                  </a:lnTo>
                  <a:lnTo>
                    <a:pt x="684" y="448"/>
                  </a:lnTo>
                  <a:lnTo>
                    <a:pt x="684" y="448"/>
                  </a:lnTo>
                  <a:lnTo>
                    <a:pt x="688" y="444"/>
                  </a:lnTo>
                  <a:lnTo>
                    <a:pt x="688" y="444"/>
                  </a:lnTo>
                  <a:lnTo>
                    <a:pt x="714" y="410"/>
                  </a:lnTo>
                  <a:lnTo>
                    <a:pt x="722" y="398"/>
                  </a:lnTo>
                  <a:lnTo>
                    <a:pt x="730" y="386"/>
                  </a:lnTo>
                  <a:lnTo>
                    <a:pt x="734" y="376"/>
                  </a:lnTo>
                  <a:lnTo>
                    <a:pt x="736" y="366"/>
                  </a:lnTo>
                  <a:lnTo>
                    <a:pt x="738" y="346"/>
                  </a:lnTo>
                  <a:lnTo>
                    <a:pt x="738" y="346"/>
                  </a:lnTo>
                  <a:lnTo>
                    <a:pt x="738" y="336"/>
                  </a:lnTo>
                  <a:lnTo>
                    <a:pt x="736" y="326"/>
                  </a:lnTo>
                  <a:lnTo>
                    <a:pt x="730" y="308"/>
                  </a:lnTo>
                  <a:lnTo>
                    <a:pt x="730" y="308"/>
                  </a:lnTo>
                  <a:lnTo>
                    <a:pt x="740" y="300"/>
                  </a:lnTo>
                  <a:lnTo>
                    <a:pt x="748" y="292"/>
                  </a:lnTo>
                  <a:lnTo>
                    <a:pt x="754" y="282"/>
                  </a:lnTo>
                  <a:lnTo>
                    <a:pt x="758" y="274"/>
                  </a:lnTo>
                  <a:lnTo>
                    <a:pt x="764" y="256"/>
                  </a:lnTo>
                  <a:lnTo>
                    <a:pt x="764" y="240"/>
                  </a:lnTo>
                  <a:lnTo>
                    <a:pt x="764" y="240"/>
                  </a:lnTo>
                  <a:lnTo>
                    <a:pt x="762" y="222"/>
                  </a:lnTo>
                  <a:lnTo>
                    <a:pt x="756" y="206"/>
                  </a:lnTo>
                  <a:lnTo>
                    <a:pt x="756" y="206"/>
                  </a:lnTo>
                  <a:lnTo>
                    <a:pt x="766" y="202"/>
                  </a:lnTo>
                  <a:lnTo>
                    <a:pt x="776" y="196"/>
                  </a:lnTo>
                  <a:lnTo>
                    <a:pt x="786" y="190"/>
                  </a:lnTo>
                  <a:lnTo>
                    <a:pt x="794" y="182"/>
                  </a:lnTo>
                  <a:lnTo>
                    <a:pt x="800" y="172"/>
                  </a:lnTo>
                  <a:lnTo>
                    <a:pt x="806" y="158"/>
                  </a:lnTo>
                  <a:lnTo>
                    <a:pt x="808" y="144"/>
                  </a:lnTo>
                  <a:lnTo>
                    <a:pt x="810" y="126"/>
                  </a:lnTo>
                  <a:lnTo>
                    <a:pt x="810" y="126"/>
                  </a:lnTo>
                  <a:lnTo>
                    <a:pt x="808" y="112"/>
                  </a:lnTo>
                  <a:lnTo>
                    <a:pt x="806" y="100"/>
                  </a:lnTo>
                  <a:lnTo>
                    <a:pt x="802" y="90"/>
                  </a:lnTo>
                  <a:lnTo>
                    <a:pt x="798" y="80"/>
                  </a:lnTo>
                  <a:lnTo>
                    <a:pt x="792" y="72"/>
                  </a:lnTo>
                  <a:lnTo>
                    <a:pt x="784" y="66"/>
                  </a:lnTo>
                  <a:lnTo>
                    <a:pt x="776" y="60"/>
                  </a:lnTo>
                  <a:lnTo>
                    <a:pt x="768" y="56"/>
                  </a:lnTo>
                  <a:lnTo>
                    <a:pt x="750" y="50"/>
                  </a:lnTo>
                  <a:lnTo>
                    <a:pt x="734" y="46"/>
                  </a:lnTo>
                  <a:lnTo>
                    <a:pt x="706" y="46"/>
                  </a:lnTo>
                  <a:lnTo>
                    <a:pt x="624" y="46"/>
                  </a:lnTo>
                  <a:lnTo>
                    <a:pt x="624" y="46"/>
                  </a:lnTo>
                  <a:lnTo>
                    <a:pt x="618" y="36"/>
                  </a:lnTo>
                  <a:lnTo>
                    <a:pt x="612" y="28"/>
                  </a:lnTo>
                  <a:lnTo>
                    <a:pt x="606" y="20"/>
                  </a:lnTo>
                  <a:lnTo>
                    <a:pt x="596" y="14"/>
                  </a:lnTo>
                  <a:lnTo>
                    <a:pt x="586" y="8"/>
                  </a:lnTo>
                  <a:lnTo>
                    <a:pt x="574" y="4"/>
                  </a:lnTo>
                  <a:lnTo>
                    <a:pt x="558" y="2"/>
                  </a:lnTo>
                  <a:lnTo>
                    <a:pt x="542" y="0"/>
                  </a:lnTo>
                  <a:lnTo>
                    <a:pt x="542" y="0"/>
                  </a:lnTo>
                  <a:lnTo>
                    <a:pt x="524" y="2"/>
                  </a:lnTo>
                  <a:lnTo>
                    <a:pt x="514" y="4"/>
                  </a:lnTo>
                  <a:lnTo>
                    <a:pt x="504" y="8"/>
                  </a:lnTo>
                  <a:lnTo>
                    <a:pt x="492" y="14"/>
                  </a:lnTo>
                  <a:lnTo>
                    <a:pt x="482" y="22"/>
                  </a:lnTo>
                  <a:lnTo>
                    <a:pt x="474" y="32"/>
                  </a:lnTo>
                  <a:lnTo>
                    <a:pt x="466" y="46"/>
                  </a:lnTo>
                  <a:lnTo>
                    <a:pt x="352" y="46"/>
                  </a:lnTo>
                  <a:lnTo>
                    <a:pt x="352" y="46"/>
                  </a:lnTo>
                  <a:lnTo>
                    <a:pt x="344" y="32"/>
                  </a:lnTo>
                  <a:lnTo>
                    <a:pt x="336" y="22"/>
                  </a:lnTo>
                  <a:lnTo>
                    <a:pt x="326" y="14"/>
                  </a:lnTo>
                  <a:lnTo>
                    <a:pt x="316" y="8"/>
                  </a:lnTo>
                  <a:lnTo>
                    <a:pt x="304" y="4"/>
                  </a:lnTo>
                  <a:lnTo>
                    <a:pt x="294" y="2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6" y="2"/>
                  </a:lnTo>
                  <a:lnTo>
                    <a:pt x="246" y="4"/>
                  </a:lnTo>
                  <a:lnTo>
                    <a:pt x="236" y="8"/>
                  </a:lnTo>
                  <a:lnTo>
                    <a:pt x="226" y="14"/>
                  </a:lnTo>
                  <a:lnTo>
                    <a:pt x="216" y="22"/>
                  </a:lnTo>
                  <a:lnTo>
                    <a:pt x="206" y="32"/>
                  </a:lnTo>
                  <a:lnTo>
                    <a:pt x="200" y="46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00" y="46"/>
                  </a:lnTo>
                  <a:lnTo>
                    <a:pt x="84" y="46"/>
                  </a:lnTo>
                  <a:lnTo>
                    <a:pt x="68" y="50"/>
                  </a:lnTo>
                  <a:lnTo>
                    <a:pt x="50" y="56"/>
                  </a:lnTo>
                  <a:lnTo>
                    <a:pt x="42" y="60"/>
                  </a:lnTo>
                  <a:lnTo>
                    <a:pt x="34" y="66"/>
                  </a:lnTo>
                  <a:lnTo>
                    <a:pt x="28" y="72"/>
                  </a:lnTo>
                  <a:lnTo>
                    <a:pt x="22" y="82"/>
                  </a:lnTo>
                  <a:lnTo>
                    <a:pt x="18" y="90"/>
                  </a:lnTo>
                  <a:lnTo>
                    <a:pt x="14" y="102"/>
                  </a:lnTo>
                  <a:lnTo>
                    <a:pt x="12" y="116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2" y="146"/>
                  </a:lnTo>
                  <a:lnTo>
                    <a:pt x="14" y="158"/>
                  </a:lnTo>
                  <a:lnTo>
                    <a:pt x="18" y="170"/>
                  </a:lnTo>
                  <a:lnTo>
                    <a:pt x="24" y="180"/>
                  </a:lnTo>
                  <a:lnTo>
                    <a:pt x="32" y="188"/>
                  </a:lnTo>
                  <a:lnTo>
                    <a:pt x="38" y="194"/>
                  </a:lnTo>
                  <a:lnTo>
                    <a:pt x="48" y="198"/>
                  </a:lnTo>
                  <a:lnTo>
                    <a:pt x="56" y="202"/>
                  </a:lnTo>
                  <a:lnTo>
                    <a:pt x="56" y="202"/>
                  </a:lnTo>
                  <a:lnTo>
                    <a:pt x="46" y="210"/>
                  </a:lnTo>
                  <a:lnTo>
                    <a:pt x="38" y="220"/>
                  </a:lnTo>
                  <a:lnTo>
                    <a:pt x="32" y="228"/>
                  </a:lnTo>
                  <a:lnTo>
                    <a:pt x="28" y="238"/>
                  </a:lnTo>
                  <a:lnTo>
                    <a:pt x="24" y="256"/>
                  </a:lnTo>
                  <a:lnTo>
                    <a:pt x="22" y="270"/>
                  </a:lnTo>
                  <a:lnTo>
                    <a:pt x="22" y="270"/>
                  </a:lnTo>
                  <a:lnTo>
                    <a:pt x="22" y="280"/>
                  </a:lnTo>
                  <a:lnTo>
                    <a:pt x="26" y="292"/>
                  </a:lnTo>
                  <a:lnTo>
                    <a:pt x="28" y="302"/>
                  </a:lnTo>
                  <a:lnTo>
                    <a:pt x="32" y="312"/>
                  </a:lnTo>
                  <a:lnTo>
                    <a:pt x="38" y="320"/>
                  </a:lnTo>
                  <a:lnTo>
                    <a:pt x="46" y="328"/>
                  </a:lnTo>
                  <a:lnTo>
                    <a:pt x="54" y="334"/>
                  </a:lnTo>
                  <a:lnTo>
                    <a:pt x="62" y="340"/>
                  </a:lnTo>
                  <a:lnTo>
                    <a:pt x="62" y="340"/>
                  </a:lnTo>
                  <a:lnTo>
                    <a:pt x="72" y="344"/>
                  </a:lnTo>
                  <a:lnTo>
                    <a:pt x="86" y="346"/>
                  </a:lnTo>
                  <a:lnTo>
                    <a:pt x="86" y="346"/>
                  </a:lnTo>
                  <a:lnTo>
                    <a:pt x="84" y="364"/>
                  </a:lnTo>
                  <a:lnTo>
                    <a:pt x="84" y="364"/>
                  </a:lnTo>
                  <a:lnTo>
                    <a:pt x="84" y="376"/>
                  </a:lnTo>
                  <a:lnTo>
                    <a:pt x="86" y="386"/>
                  </a:lnTo>
                  <a:lnTo>
                    <a:pt x="90" y="394"/>
                  </a:lnTo>
                  <a:lnTo>
                    <a:pt x="94" y="404"/>
                  </a:lnTo>
                  <a:lnTo>
                    <a:pt x="106" y="422"/>
                  </a:lnTo>
                  <a:lnTo>
                    <a:pt x="128" y="448"/>
                  </a:lnTo>
                  <a:lnTo>
                    <a:pt x="128" y="448"/>
                  </a:lnTo>
                  <a:lnTo>
                    <a:pt x="110" y="448"/>
                  </a:lnTo>
                  <a:lnTo>
                    <a:pt x="110" y="448"/>
                  </a:lnTo>
                  <a:lnTo>
                    <a:pt x="82" y="450"/>
                  </a:lnTo>
                  <a:lnTo>
                    <a:pt x="64" y="452"/>
                  </a:lnTo>
                  <a:lnTo>
                    <a:pt x="46" y="458"/>
                  </a:lnTo>
                  <a:lnTo>
                    <a:pt x="38" y="464"/>
                  </a:lnTo>
                  <a:lnTo>
                    <a:pt x="30" y="468"/>
                  </a:lnTo>
                  <a:lnTo>
                    <a:pt x="24" y="476"/>
                  </a:lnTo>
                  <a:lnTo>
                    <a:pt x="18" y="484"/>
                  </a:lnTo>
                  <a:lnTo>
                    <a:pt x="12" y="492"/>
                  </a:lnTo>
                  <a:lnTo>
                    <a:pt x="8" y="504"/>
                  </a:lnTo>
                  <a:lnTo>
                    <a:pt x="6" y="516"/>
                  </a:lnTo>
                  <a:lnTo>
                    <a:pt x="6" y="530"/>
                  </a:lnTo>
                  <a:lnTo>
                    <a:pt x="6" y="530"/>
                  </a:lnTo>
                  <a:lnTo>
                    <a:pt x="6" y="544"/>
                  </a:lnTo>
                  <a:lnTo>
                    <a:pt x="8" y="558"/>
                  </a:lnTo>
                  <a:lnTo>
                    <a:pt x="12" y="568"/>
                  </a:lnTo>
                  <a:lnTo>
                    <a:pt x="18" y="578"/>
                  </a:lnTo>
                  <a:lnTo>
                    <a:pt x="24" y="586"/>
                  </a:lnTo>
                  <a:lnTo>
                    <a:pt x="30" y="592"/>
                  </a:lnTo>
                  <a:lnTo>
                    <a:pt x="38" y="598"/>
                  </a:lnTo>
                  <a:lnTo>
                    <a:pt x="46" y="602"/>
                  </a:lnTo>
                  <a:lnTo>
                    <a:pt x="64" y="608"/>
                  </a:lnTo>
                  <a:lnTo>
                    <a:pt x="82" y="610"/>
                  </a:lnTo>
                  <a:lnTo>
                    <a:pt x="110" y="612"/>
                  </a:lnTo>
                  <a:lnTo>
                    <a:pt x="118" y="612"/>
                  </a:lnTo>
                  <a:lnTo>
                    <a:pt x="118" y="612"/>
                  </a:lnTo>
                  <a:lnTo>
                    <a:pt x="94" y="622"/>
                  </a:lnTo>
                  <a:lnTo>
                    <a:pt x="66" y="632"/>
                  </a:lnTo>
                  <a:lnTo>
                    <a:pt x="66" y="632"/>
                  </a:lnTo>
                  <a:lnTo>
                    <a:pt x="46" y="640"/>
                  </a:lnTo>
                  <a:lnTo>
                    <a:pt x="36" y="644"/>
                  </a:lnTo>
                  <a:lnTo>
                    <a:pt x="26" y="652"/>
                  </a:lnTo>
                  <a:lnTo>
                    <a:pt x="16" y="664"/>
                  </a:lnTo>
                  <a:lnTo>
                    <a:pt x="8" y="676"/>
                  </a:lnTo>
                  <a:lnTo>
                    <a:pt x="2" y="694"/>
                  </a:lnTo>
                  <a:lnTo>
                    <a:pt x="0" y="714"/>
                  </a:lnTo>
                  <a:lnTo>
                    <a:pt x="0" y="714"/>
                  </a:lnTo>
                  <a:lnTo>
                    <a:pt x="2" y="732"/>
                  </a:lnTo>
                  <a:lnTo>
                    <a:pt x="6" y="748"/>
                  </a:lnTo>
                  <a:lnTo>
                    <a:pt x="14" y="762"/>
                  </a:lnTo>
                  <a:lnTo>
                    <a:pt x="24" y="774"/>
                  </a:lnTo>
                  <a:lnTo>
                    <a:pt x="36" y="784"/>
                  </a:lnTo>
                  <a:lnTo>
                    <a:pt x="50" y="792"/>
                  </a:lnTo>
                  <a:lnTo>
                    <a:pt x="66" y="796"/>
                  </a:lnTo>
                  <a:lnTo>
                    <a:pt x="84" y="798"/>
                  </a:lnTo>
                  <a:lnTo>
                    <a:pt x="84" y="798"/>
                  </a:lnTo>
                  <a:lnTo>
                    <a:pt x="102" y="796"/>
                  </a:lnTo>
                  <a:lnTo>
                    <a:pt x="124" y="790"/>
                  </a:lnTo>
                  <a:lnTo>
                    <a:pt x="152" y="782"/>
                  </a:lnTo>
                  <a:lnTo>
                    <a:pt x="184" y="768"/>
                  </a:lnTo>
                  <a:lnTo>
                    <a:pt x="218" y="752"/>
                  </a:lnTo>
                  <a:lnTo>
                    <a:pt x="252" y="734"/>
                  </a:lnTo>
                  <a:lnTo>
                    <a:pt x="288" y="714"/>
                  </a:lnTo>
                  <a:lnTo>
                    <a:pt x="324" y="690"/>
                  </a:lnTo>
                  <a:lnTo>
                    <a:pt x="324" y="704"/>
                  </a:lnTo>
                  <a:lnTo>
                    <a:pt x="324" y="704"/>
                  </a:lnTo>
                  <a:lnTo>
                    <a:pt x="324" y="720"/>
                  </a:lnTo>
                  <a:lnTo>
                    <a:pt x="326" y="736"/>
                  </a:lnTo>
                  <a:lnTo>
                    <a:pt x="328" y="754"/>
                  </a:lnTo>
                  <a:lnTo>
                    <a:pt x="336" y="770"/>
                  </a:lnTo>
                  <a:lnTo>
                    <a:pt x="340" y="778"/>
                  </a:lnTo>
                  <a:lnTo>
                    <a:pt x="346" y="786"/>
                  </a:lnTo>
                  <a:lnTo>
                    <a:pt x="352" y="792"/>
                  </a:lnTo>
                  <a:lnTo>
                    <a:pt x="362" y="798"/>
                  </a:lnTo>
                  <a:lnTo>
                    <a:pt x="372" y="802"/>
                  </a:lnTo>
                  <a:lnTo>
                    <a:pt x="384" y="806"/>
                  </a:lnTo>
                  <a:lnTo>
                    <a:pt x="398" y="808"/>
                  </a:lnTo>
                  <a:lnTo>
                    <a:pt x="414" y="808"/>
                  </a:lnTo>
                  <a:lnTo>
                    <a:pt x="414" y="808"/>
                  </a:lnTo>
                  <a:lnTo>
                    <a:pt x="428" y="808"/>
                  </a:lnTo>
                  <a:lnTo>
                    <a:pt x="440" y="806"/>
                  </a:lnTo>
                  <a:lnTo>
                    <a:pt x="452" y="802"/>
                  </a:lnTo>
                  <a:lnTo>
                    <a:pt x="462" y="796"/>
                  </a:lnTo>
                  <a:lnTo>
                    <a:pt x="470" y="790"/>
                  </a:lnTo>
                  <a:lnTo>
                    <a:pt x="476" y="784"/>
                  </a:lnTo>
                  <a:lnTo>
                    <a:pt x="482" y="776"/>
                  </a:lnTo>
                  <a:lnTo>
                    <a:pt x="486" y="768"/>
                  </a:lnTo>
                  <a:lnTo>
                    <a:pt x="492" y="752"/>
                  </a:lnTo>
                  <a:lnTo>
                    <a:pt x="496" y="734"/>
                  </a:lnTo>
                  <a:lnTo>
                    <a:pt x="496" y="718"/>
                  </a:lnTo>
                  <a:lnTo>
                    <a:pt x="496" y="704"/>
                  </a:lnTo>
                  <a:lnTo>
                    <a:pt x="496" y="692"/>
                  </a:lnTo>
                  <a:lnTo>
                    <a:pt x="496" y="692"/>
                  </a:lnTo>
                  <a:lnTo>
                    <a:pt x="532" y="720"/>
                  </a:lnTo>
                  <a:lnTo>
                    <a:pt x="566" y="742"/>
                  </a:lnTo>
                  <a:lnTo>
                    <a:pt x="600" y="762"/>
                  </a:lnTo>
                  <a:lnTo>
                    <a:pt x="632" y="778"/>
                  </a:lnTo>
                  <a:lnTo>
                    <a:pt x="660" y="790"/>
                  </a:lnTo>
                  <a:lnTo>
                    <a:pt x="686" y="798"/>
                  </a:lnTo>
                  <a:lnTo>
                    <a:pt x="708" y="802"/>
                  </a:lnTo>
                  <a:lnTo>
                    <a:pt x="724" y="804"/>
                  </a:lnTo>
                  <a:lnTo>
                    <a:pt x="724" y="804"/>
                  </a:lnTo>
                  <a:lnTo>
                    <a:pt x="740" y="802"/>
                  </a:lnTo>
                  <a:lnTo>
                    <a:pt x="758" y="796"/>
                  </a:lnTo>
                  <a:lnTo>
                    <a:pt x="772" y="788"/>
                  </a:lnTo>
                  <a:lnTo>
                    <a:pt x="786" y="776"/>
                  </a:lnTo>
                  <a:lnTo>
                    <a:pt x="796" y="762"/>
                  </a:lnTo>
                  <a:lnTo>
                    <a:pt x="804" y="748"/>
                  </a:lnTo>
                  <a:lnTo>
                    <a:pt x="810" y="730"/>
                  </a:lnTo>
                  <a:lnTo>
                    <a:pt x="812" y="712"/>
                  </a:lnTo>
                  <a:lnTo>
                    <a:pt x="812" y="712"/>
                  </a:lnTo>
                  <a:lnTo>
                    <a:pt x="810" y="692"/>
                  </a:lnTo>
                  <a:lnTo>
                    <a:pt x="804" y="676"/>
                  </a:lnTo>
                  <a:lnTo>
                    <a:pt x="796" y="664"/>
                  </a:lnTo>
                  <a:lnTo>
                    <a:pt x="788" y="652"/>
                  </a:lnTo>
                  <a:lnTo>
                    <a:pt x="778" y="644"/>
                  </a:lnTo>
                  <a:lnTo>
                    <a:pt x="768" y="638"/>
                  </a:lnTo>
                  <a:lnTo>
                    <a:pt x="748" y="630"/>
                  </a:lnTo>
                  <a:lnTo>
                    <a:pt x="748" y="630"/>
                  </a:lnTo>
                  <a:lnTo>
                    <a:pt x="702" y="612"/>
                  </a:lnTo>
                  <a:lnTo>
                    <a:pt x="708" y="612"/>
                  </a:lnTo>
                  <a:lnTo>
                    <a:pt x="708" y="612"/>
                  </a:lnTo>
                  <a:lnTo>
                    <a:pt x="736" y="610"/>
                  </a:lnTo>
                  <a:lnTo>
                    <a:pt x="752" y="608"/>
                  </a:lnTo>
                  <a:lnTo>
                    <a:pt x="770" y="602"/>
                  </a:lnTo>
                  <a:lnTo>
                    <a:pt x="778" y="598"/>
                  </a:lnTo>
                  <a:lnTo>
                    <a:pt x="786" y="592"/>
                  </a:lnTo>
                  <a:lnTo>
                    <a:pt x="792" y="586"/>
                  </a:lnTo>
                  <a:lnTo>
                    <a:pt x="798" y="578"/>
                  </a:lnTo>
                  <a:lnTo>
                    <a:pt x="804" y="568"/>
                  </a:lnTo>
                  <a:lnTo>
                    <a:pt x="808" y="558"/>
                  </a:lnTo>
                  <a:lnTo>
                    <a:pt x="810" y="544"/>
                  </a:lnTo>
                  <a:lnTo>
                    <a:pt x="812" y="530"/>
                  </a:lnTo>
                  <a:lnTo>
                    <a:pt x="812" y="530"/>
                  </a:lnTo>
                  <a:close/>
                  <a:moveTo>
                    <a:pt x="274" y="350"/>
                  </a:moveTo>
                  <a:lnTo>
                    <a:pt x="274" y="350"/>
                  </a:lnTo>
                  <a:lnTo>
                    <a:pt x="280" y="350"/>
                  </a:lnTo>
                  <a:lnTo>
                    <a:pt x="280" y="350"/>
                  </a:lnTo>
                  <a:lnTo>
                    <a:pt x="280" y="358"/>
                  </a:lnTo>
                  <a:lnTo>
                    <a:pt x="280" y="358"/>
                  </a:lnTo>
                  <a:lnTo>
                    <a:pt x="274" y="350"/>
                  </a:lnTo>
                  <a:lnTo>
                    <a:pt x="274" y="350"/>
                  </a:lnTo>
                  <a:close/>
                  <a:moveTo>
                    <a:pt x="466" y="342"/>
                  </a:moveTo>
                  <a:lnTo>
                    <a:pt x="466" y="342"/>
                  </a:lnTo>
                  <a:lnTo>
                    <a:pt x="546" y="336"/>
                  </a:lnTo>
                  <a:lnTo>
                    <a:pt x="546" y="336"/>
                  </a:lnTo>
                  <a:lnTo>
                    <a:pt x="530" y="352"/>
                  </a:lnTo>
                  <a:lnTo>
                    <a:pt x="530" y="352"/>
                  </a:lnTo>
                  <a:lnTo>
                    <a:pt x="512" y="372"/>
                  </a:lnTo>
                  <a:lnTo>
                    <a:pt x="498" y="388"/>
                  </a:lnTo>
                  <a:lnTo>
                    <a:pt x="488" y="402"/>
                  </a:lnTo>
                  <a:lnTo>
                    <a:pt x="482" y="416"/>
                  </a:lnTo>
                  <a:lnTo>
                    <a:pt x="482" y="416"/>
                  </a:lnTo>
                  <a:lnTo>
                    <a:pt x="484" y="402"/>
                  </a:lnTo>
                  <a:lnTo>
                    <a:pt x="484" y="402"/>
                  </a:lnTo>
                  <a:lnTo>
                    <a:pt x="482" y="390"/>
                  </a:lnTo>
                  <a:lnTo>
                    <a:pt x="478" y="374"/>
                  </a:lnTo>
                  <a:lnTo>
                    <a:pt x="472" y="360"/>
                  </a:lnTo>
                  <a:lnTo>
                    <a:pt x="466" y="342"/>
                  </a:lnTo>
                  <a:lnTo>
                    <a:pt x="466" y="342"/>
                  </a:lnTo>
                  <a:close/>
                  <a:moveTo>
                    <a:pt x="314" y="438"/>
                  </a:moveTo>
                  <a:lnTo>
                    <a:pt x="314" y="438"/>
                  </a:lnTo>
                  <a:lnTo>
                    <a:pt x="320" y="448"/>
                  </a:lnTo>
                  <a:lnTo>
                    <a:pt x="312" y="448"/>
                  </a:lnTo>
                  <a:lnTo>
                    <a:pt x="312" y="448"/>
                  </a:lnTo>
                  <a:lnTo>
                    <a:pt x="314" y="438"/>
                  </a:lnTo>
                  <a:lnTo>
                    <a:pt x="314" y="43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5986440" y="8518320"/>
              <a:ext cx="1222200" cy="124452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70" h="784">
                  <a:moveTo>
                    <a:pt x="96" y="560"/>
                  </a:moveTo>
                  <a:lnTo>
                    <a:pt x="96" y="560"/>
                  </a:lnTo>
                  <a:lnTo>
                    <a:pt x="108" y="560"/>
                  </a:lnTo>
                  <a:lnTo>
                    <a:pt x="120" y="558"/>
                  </a:lnTo>
                  <a:lnTo>
                    <a:pt x="130" y="554"/>
                  </a:lnTo>
                  <a:lnTo>
                    <a:pt x="140" y="548"/>
                  </a:lnTo>
                  <a:lnTo>
                    <a:pt x="160" y="534"/>
                  </a:lnTo>
                  <a:lnTo>
                    <a:pt x="180" y="516"/>
                  </a:lnTo>
                  <a:lnTo>
                    <a:pt x="180" y="516"/>
                  </a:lnTo>
                  <a:lnTo>
                    <a:pt x="190" y="508"/>
                  </a:lnTo>
                  <a:lnTo>
                    <a:pt x="190" y="508"/>
                  </a:lnTo>
                  <a:lnTo>
                    <a:pt x="176" y="530"/>
                  </a:lnTo>
                  <a:lnTo>
                    <a:pt x="166" y="554"/>
                  </a:lnTo>
                  <a:lnTo>
                    <a:pt x="160" y="578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22"/>
                  </a:lnTo>
                  <a:lnTo>
                    <a:pt x="164" y="640"/>
                  </a:lnTo>
                  <a:lnTo>
                    <a:pt x="168" y="658"/>
                  </a:lnTo>
                  <a:lnTo>
                    <a:pt x="176" y="674"/>
                  </a:lnTo>
                  <a:lnTo>
                    <a:pt x="184" y="692"/>
                  </a:lnTo>
                  <a:lnTo>
                    <a:pt x="196" y="706"/>
                  </a:lnTo>
                  <a:lnTo>
                    <a:pt x="208" y="720"/>
                  </a:lnTo>
                  <a:lnTo>
                    <a:pt x="222" y="734"/>
                  </a:lnTo>
                  <a:lnTo>
                    <a:pt x="222" y="734"/>
                  </a:lnTo>
                  <a:lnTo>
                    <a:pt x="240" y="746"/>
                  </a:lnTo>
                  <a:lnTo>
                    <a:pt x="258" y="756"/>
                  </a:lnTo>
                  <a:lnTo>
                    <a:pt x="282" y="764"/>
                  </a:lnTo>
                  <a:lnTo>
                    <a:pt x="306" y="772"/>
                  </a:lnTo>
                  <a:lnTo>
                    <a:pt x="334" y="776"/>
                  </a:lnTo>
                  <a:lnTo>
                    <a:pt x="364" y="780"/>
                  </a:lnTo>
                  <a:lnTo>
                    <a:pt x="398" y="784"/>
                  </a:lnTo>
                  <a:lnTo>
                    <a:pt x="436" y="784"/>
                  </a:lnTo>
                  <a:lnTo>
                    <a:pt x="436" y="784"/>
                  </a:lnTo>
                  <a:lnTo>
                    <a:pt x="532" y="782"/>
                  </a:lnTo>
                  <a:lnTo>
                    <a:pt x="566" y="780"/>
                  </a:lnTo>
                  <a:lnTo>
                    <a:pt x="594" y="776"/>
                  </a:lnTo>
                  <a:lnTo>
                    <a:pt x="616" y="774"/>
                  </a:lnTo>
                  <a:lnTo>
                    <a:pt x="634" y="770"/>
                  </a:lnTo>
                  <a:lnTo>
                    <a:pt x="654" y="764"/>
                  </a:lnTo>
                  <a:lnTo>
                    <a:pt x="654" y="764"/>
                  </a:lnTo>
                  <a:lnTo>
                    <a:pt x="668" y="756"/>
                  </a:lnTo>
                  <a:lnTo>
                    <a:pt x="680" y="746"/>
                  </a:lnTo>
                  <a:lnTo>
                    <a:pt x="690" y="736"/>
                  </a:lnTo>
                  <a:lnTo>
                    <a:pt x="698" y="726"/>
                  </a:lnTo>
                  <a:lnTo>
                    <a:pt x="704" y="714"/>
                  </a:lnTo>
                  <a:lnTo>
                    <a:pt x="708" y="702"/>
                  </a:lnTo>
                  <a:lnTo>
                    <a:pt x="710" y="692"/>
                  </a:lnTo>
                  <a:lnTo>
                    <a:pt x="712" y="680"/>
                  </a:lnTo>
                  <a:lnTo>
                    <a:pt x="712" y="680"/>
                  </a:lnTo>
                  <a:lnTo>
                    <a:pt x="710" y="660"/>
                  </a:lnTo>
                  <a:lnTo>
                    <a:pt x="704" y="642"/>
                  </a:lnTo>
                  <a:lnTo>
                    <a:pt x="696" y="626"/>
                  </a:lnTo>
                  <a:lnTo>
                    <a:pt x="684" y="612"/>
                  </a:lnTo>
                  <a:lnTo>
                    <a:pt x="670" y="600"/>
                  </a:lnTo>
                  <a:lnTo>
                    <a:pt x="656" y="592"/>
                  </a:lnTo>
                  <a:lnTo>
                    <a:pt x="638" y="586"/>
                  </a:lnTo>
                  <a:lnTo>
                    <a:pt x="620" y="584"/>
                  </a:lnTo>
                  <a:lnTo>
                    <a:pt x="620" y="584"/>
                  </a:lnTo>
                  <a:lnTo>
                    <a:pt x="600" y="586"/>
                  </a:lnTo>
                  <a:lnTo>
                    <a:pt x="582" y="590"/>
                  </a:lnTo>
                  <a:lnTo>
                    <a:pt x="582" y="590"/>
                  </a:lnTo>
                  <a:lnTo>
                    <a:pt x="580" y="590"/>
                  </a:lnTo>
                  <a:lnTo>
                    <a:pt x="580" y="590"/>
                  </a:lnTo>
                  <a:lnTo>
                    <a:pt x="572" y="592"/>
                  </a:lnTo>
                  <a:lnTo>
                    <a:pt x="572" y="592"/>
                  </a:lnTo>
                  <a:lnTo>
                    <a:pt x="544" y="596"/>
                  </a:lnTo>
                  <a:lnTo>
                    <a:pt x="544" y="596"/>
                  </a:lnTo>
                  <a:lnTo>
                    <a:pt x="552" y="582"/>
                  </a:lnTo>
                  <a:lnTo>
                    <a:pt x="558" y="564"/>
                  </a:lnTo>
                  <a:lnTo>
                    <a:pt x="564" y="544"/>
                  </a:lnTo>
                  <a:lnTo>
                    <a:pt x="564" y="520"/>
                  </a:lnTo>
                  <a:lnTo>
                    <a:pt x="564" y="520"/>
                  </a:lnTo>
                  <a:lnTo>
                    <a:pt x="564" y="482"/>
                  </a:lnTo>
                  <a:lnTo>
                    <a:pt x="564" y="482"/>
                  </a:lnTo>
                  <a:lnTo>
                    <a:pt x="622" y="464"/>
                  </a:lnTo>
                  <a:lnTo>
                    <a:pt x="692" y="444"/>
                  </a:lnTo>
                  <a:lnTo>
                    <a:pt x="692" y="444"/>
                  </a:lnTo>
                  <a:lnTo>
                    <a:pt x="714" y="436"/>
                  </a:lnTo>
                  <a:lnTo>
                    <a:pt x="726" y="430"/>
                  </a:lnTo>
                  <a:lnTo>
                    <a:pt x="740" y="422"/>
                  </a:lnTo>
                  <a:lnTo>
                    <a:pt x="752" y="410"/>
                  </a:lnTo>
                  <a:lnTo>
                    <a:pt x="762" y="396"/>
                  </a:lnTo>
                  <a:lnTo>
                    <a:pt x="766" y="388"/>
                  </a:lnTo>
                  <a:lnTo>
                    <a:pt x="768" y="378"/>
                  </a:lnTo>
                  <a:lnTo>
                    <a:pt x="770" y="368"/>
                  </a:lnTo>
                  <a:lnTo>
                    <a:pt x="770" y="356"/>
                  </a:lnTo>
                  <a:lnTo>
                    <a:pt x="770" y="356"/>
                  </a:lnTo>
                  <a:lnTo>
                    <a:pt x="768" y="334"/>
                  </a:lnTo>
                  <a:lnTo>
                    <a:pt x="762" y="316"/>
                  </a:lnTo>
                  <a:lnTo>
                    <a:pt x="754" y="300"/>
                  </a:lnTo>
                  <a:lnTo>
                    <a:pt x="742" y="286"/>
                  </a:lnTo>
                  <a:lnTo>
                    <a:pt x="730" y="276"/>
                  </a:lnTo>
                  <a:lnTo>
                    <a:pt x="714" y="268"/>
                  </a:lnTo>
                  <a:lnTo>
                    <a:pt x="698" y="264"/>
                  </a:lnTo>
                  <a:lnTo>
                    <a:pt x="684" y="262"/>
                  </a:lnTo>
                  <a:lnTo>
                    <a:pt x="684" y="262"/>
                  </a:lnTo>
                  <a:lnTo>
                    <a:pt x="672" y="264"/>
                  </a:lnTo>
                  <a:lnTo>
                    <a:pt x="656" y="268"/>
                  </a:lnTo>
                  <a:lnTo>
                    <a:pt x="614" y="280"/>
                  </a:lnTo>
                  <a:lnTo>
                    <a:pt x="518" y="312"/>
                  </a:lnTo>
                  <a:lnTo>
                    <a:pt x="518" y="312"/>
                  </a:lnTo>
                  <a:lnTo>
                    <a:pt x="510" y="300"/>
                  </a:lnTo>
                  <a:lnTo>
                    <a:pt x="500" y="290"/>
                  </a:lnTo>
                  <a:lnTo>
                    <a:pt x="488" y="282"/>
                  </a:lnTo>
                  <a:lnTo>
                    <a:pt x="478" y="274"/>
                  </a:lnTo>
                  <a:lnTo>
                    <a:pt x="478" y="274"/>
                  </a:lnTo>
                  <a:lnTo>
                    <a:pt x="526" y="270"/>
                  </a:lnTo>
                  <a:lnTo>
                    <a:pt x="560" y="266"/>
                  </a:lnTo>
                  <a:lnTo>
                    <a:pt x="560" y="266"/>
                  </a:lnTo>
                  <a:lnTo>
                    <a:pt x="560" y="266"/>
                  </a:lnTo>
                  <a:lnTo>
                    <a:pt x="580" y="258"/>
                  </a:lnTo>
                  <a:lnTo>
                    <a:pt x="594" y="250"/>
                  </a:lnTo>
                  <a:lnTo>
                    <a:pt x="606" y="238"/>
                  </a:lnTo>
                  <a:lnTo>
                    <a:pt x="614" y="226"/>
                  </a:lnTo>
                  <a:lnTo>
                    <a:pt x="620" y="214"/>
                  </a:lnTo>
                  <a:lnTo>
                    <a:pt x="622" y="200"/>
                  </a:lnTo>
                  <a:lnTo>
                    <a:pt x="624" y="188"/>
                  </a:lnTo>
                  <a:lnTo>
                    <a:pt x="624" y="178"/>
                  </a:lnTo>
                  <a:lnTo>
                    <a:pt x="624" y="178"/>
                  </a:lnTo>
                  <a:lnTo>
                    <a:pt x="624" y="158"/>
                  </a:lnTo>
                  <a:lnTo>
                    <a:pt x="618" y="142"/>
                  </a:lnTo>
                  <a:lnTo>
                    <a:pt x="610" y="126"/>
                  </a:lnTo>
                  <a:lnTo>
                    <a:pt x="600" y="114"/>
                  </a:lnTo>
                  <a:lnTo>
                    <a:pt x="588" y="104"/>
                  </a:lnTo>
                  <a:lnTo>
                    <a:pt x="572" y="96"/>
                  </a:lnTo>
                  <a:lnTo>
                    <a:pt x="554" y="92"/>
                  </a:lnTo>
                  <a:lnTo>
                    <a:pt x="534" y="90"/>
                  </a:lnTo>
                  <a:lnTo>
                    <a:pt x="534" y="90"/>
                  </a:lnTo>
                  <a:lnTo>
                    <a:pt x="506" y="92"/>
                  </a:lnTo>
                  <a:lnTo>
                    <a:pt x="506" y="92"/>
                  </a:lnTo>
                  <a:lnTo>
                    <a:pt x="506" y="92"/>
                  </a:lnTo>
                  <a:lnTo>
                    <a:pt x="444" y="96"/>
                  </a:lnTo>
                  <a:lnTo>
                    <a:pt x="444" y="96"/>
                  </a:lnTo>
                  <a:lnTo>
                    <a:pt x="444" y="90"/>
                  </a:lnTo>
                  <a:lnTo>
                    <a:pt x="444" y="90"/>
                  </a:lnTo>
                  <a:lnTo>
                    <a:pt x="442" y="72"/>
                  </a:lnTo>
                  <a:lnTo>
                    <a:pt x="436" y="56"/>
                  </a:lnTo>
                  <a:lnTo>
                    <a:pt x="426" y="40"/>
                  </a:lnTo>
                  <a:lnTo>
                    <a:pt x="416" y="28"/>
                  </a:lnTo>
                  <a:lnTo>
                    <a:pt x="400" y="16"/>
                  </a:lnTo>
                  <a:lnTo>
                    <a:pt x="384" y="8"/>
                  </a:lnTo>
                  <a:lnTo>
                    <a:pt x="366" y="2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28" y="2"/>
                  </a:lnTo>
                  <a:lnTo>
                    <a:pt x="318" y="6"/>
                  </a:lnTo>
                  <a:lnTo>
                    <a:pt x="306" y="10"/>
                  </a:lnTo>
                  <a:lnTo>
                    <a:pt x="296" y="16"/>
                  </a:lnTo>
                  <a:lnTo>
                    <a:pt x="286" y="24"/>
                  </a:lnTo>
                  <a:lnTo>
                    <a:pt x="278" y="34"/>
                  </a:lnTo>
                  <a:lnTo>
                    <a:pt x="270" y="46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60" y="66"/>
                  </a:lnTo>
                  <a:lnTo>
                    <a:pt x="248" y="104"/>
                  </a:lnTo>
                  <a:lnTo>
                    <a:pt x="248" y="106"/>
                  </a:lnTo>
                  <a:lnTo>
                    <a:pt x="248" y="106"/>
                  </a:lnTo>
                  <a:lnTo>
                    <a:pt x="138" y="108"/>
                  </a:lnTo>
                  <a:lnTo>
                    <a:pt x="138" y="108"/>
                  </a:lnTo>
                  <a:lnTo>
                    <a:pt x="122" y="108"/>
                  </a:lnTo>
                  <a:lnTo>
                    <a:pt x="108" y="110"/>
                  </a:lnTo>
                  <a:lnTo>
                    <a:pt x="94" y="114"/>
                  </a:lnTo>
                  <a:lnTo>
                    <a:pt x="84" y="118"/>
                  </a:lnTo>
                  <a:lnTo>
                    <a:pt x="74" y="124"/>
                  </a:lnTo>
                  <a:lnTo>
                    <a:pt x="66" y="128"/>
                  </a:lnTo>
                  <a:lnTo>
                    <a:pt x="58" y="136"/>
                  </a:lnTo>
                  <a:lnTo>
                    <a:pt x="54" y="142"/>
                  </a:lnTo>
                  <a:lnTo>
                    <a:pt x="44" y="156"/>
                  </a:lnTo>
                  <a:lnTo>
                    <a:pt x="40" y="172"/>
                  </a:lnTo>
                  <a:lnTo>
                    <a:pt x="38" y="186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38" y="208"/>
                  </a:lnTo>
                  <a:lnTo>
                    <a:pt x="40" y="222"/>
                  </a:lnTo>
                  <a:lnTo>
                    <a:pt x="46" y="236"/>
                  </a:lnTo>
                  <a:lnTo>
                    <a:pt x="54" y="252"/>
                  </a:lnTo>
                  <a:lnTo>
                    <a:pt x="60" y="258"/>
                  </a:lnTo>
                  <a:lnTo>
                    <a:pt x="68" y="264"/>
                  </a:lnTo>
                  <a:lnTo>
                    <a:pt x="78" y="270"/>
                  </a:lnTo>
                  <a:lnTo>
                    <a:pt x="88" y="276"/>
                  </a:lnTo>
                  <a:lnTo>
                    <a:pt x="100" y="280"/>
                  </a:lnTo>
                  <a:lnTo>
                    <a:pt x="114" y="284"/>
                  </a:lnTo>
                  <a:lnTo>
                    <a:pt x="128" y="286"/>
                  </a:lnTo>
                  <a:lnTo>
                    <a:pt x="146" y="286"/>
                  </a:lnTo>
                  <a:lnTo>
                    <a:pt x="146" y="286"/>
                  </a:lnTo>
                  <a:lnTo>
                    <a:pt x="152" y="286"/>
                  </a:lnTo>
                  <a:lnTo>
                    <a:pt x="152" y="286"/>
                  </a:lnTo>
                  <a:lnTo>
                    <a:pt x="132" y="308"/>
                  </a:lnTo>
                  <a:lnTo>
                    <a:pt x="106" y="332"/>
                  </a:lnTo>
                  <a:lnTo>
                    <a:pt x="36" y="396"/>
                  </a:lnTo>
                  <a:lnTo>
                    <a:pt x="36" y="396"/>
                  </a:lnTo>
                  <a:lnTo>
                    <a:pt x="24" y="408"/>
                  </a:lnTo>
                  <a:lnTo>
                    <a:pt x="12" y="424"/>
                  </a:lnTo>
                  <a:lnTo>
                    <a:pt x="8" y="432"/>
                  </a:lnTo>
                  <a:lnTo>
                    <a:pt x="4" y="442"/>
                  </a:lnTo>
                  <a:lnTo>
                    <a:pt x="2" y="454"/>
                  </a:lnTo>
                  <a:lnTo>
                    <a:pt x="0" y="466"/>
                  </a:lnTo>
                  <a:lnTo>
                    <a:pt x="0" y="466"/>
                  </a:lnTo>
                  <a:lnTo>
                    <a:pt x="2" y="484"/>
                  </a:lnTo>
                  <a:lnTo>
                    <a:pt x="8" y="500"/>
                  </a:lnTo>
                  <a:lnTo>
                    <a:pt x="16" y="516"/>
                  </a:lnTo>
                  <a:lnTo>
                    <a:pt x="26" y="530"/>
                  </a:lnTo>
                  <a:lnTo>
                    <a:pt x="40" y="542"/>
                  </a:lnTo>
                  <a:lnTo>
                    <a:pt x="56" y="552"/>
                  </a:lnTo>
                  <a:lnTo>
                    <a:pt x="74" y="558"/>
                  </a:lnTo>
                  <a:lnTo>
                    <a:pt x="96" y="560"/>
                  </a:lnTo>
                  <a:lnTo>
                    <a:pt x="96" y="560"/>
                  </a:lnTo>
                  <a:close/>
                  <a:moveTo>
                    <a:pt x="404" y="600"/>
                  </a:moveTo>
                  <a:lnTo>
                    <a:pt x="404" y="600"/>
                  </a:lnTo>
                  <a:lnTo>
                    <a:pt x="382" y="598"/>
                  </a:lnTo>
                  <a:lnTo>
                    <a:pt x="366" y="594"/>
                  </a:lnTo>
                  <a:lnTo>
                    <a:pt x="356" y="592"/>
                  </a:lnTo>
                  <a:lnTo>
                    <a:pt x="350" y="590"/>
                  </a:lnTo>
                  <a:lnTo>
                    <a:pt x="350" y="590"/>
                  </a:lnTo>
                  <a:lnTo>
                    <a:pt x="354" y="584"/>
                  </a:lnTo>
                  <a:lnTo>
                    <a:pt x="360" y="578"/>
                  </a:lnTo>
                  <a:lnTo>
                    <a:pt x="384" y="562"/>
                  </a:lnTo>
                  <a:lnTo>
                    <a:pt x="384" y="562"/>
                  </a:lnTo>
                  <a:lnTo>
                    <a:pt x="388" y="574"/>
                  </a:lnTo>
                  <a:lnTo>
                    <a:pt x="392" y="584"/>
                  </a:lnTo>
                  <a:lnTo>
                    <a:pt x="398" y="592"/>
                  </a:lnTo>
                  <a:lnTo>
                    <a:pt x="404" y="600"/>
                  </a:lnTo>
                  <a:lnTo>
                    <a:pt x="404" y="60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3100320" y="9959760"/>
              <a:ext cx="1244520" cy="124452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784" h="784">
                  <a:moveTo>
                    <a:pt x="784" y="262"/>
                  </a:moveTo>
                  <a:lnTo>
                    <a:pt x="784" y="262"/>
                  </a:lnTo>
                  <a:lnTo>
                    <a:pt x="782" y="252"/>
                  </a:lnTo>
                  <a:lnTo>
                    <a:pt x="780" y="242"/>
                  </a:lnTo>
                  <a:lnTo>
                    <a:pt x="776" y="230"/>
                  </a:lnTo>
                  <a:lnTo>
                    <a:pt x="770" y="218"/>
                  </a:lnTo>
                  <a:lnTo>
                    <a:pt x="750" y="186"/>
                  </a:lnTo>
                  <a:lnTo>
                    <a:pt x="722" y="142"/>
                  </a:lnTo>
                  <a:lnTo>
                    <a:pt x="722" y="142"/>
                  </a:lnTo>
                  <a:lnTo>
                    <a:pt x="700" y="114"/>
                  </a:lnTo>
                  <a:lnTo>
                    <a:pt x="682" y="90"/>
                  </a:lnTo>
                  <a:lnTo>
                    <a:pt x="664" y="72"/>
                  </a:lnTo>
                  <a:lnTo>
                    <a:pt x="648" y="56"/>
                  </a:lnTo>
                  <a:lnTo>
                    <a:pt x="632" y="46"/>
                  </a:lnTo>
                  <a:lnTo>
                    <a:pt x="618" y="38"/>
                  </a:lnTo>
                  <a:lnTo>
                    <a:pt x="604" y="34"/>
                  </a:lnTo>
                  <a:lnTo>
                    <a:pt x="588" y="34"/>
                  </a:lnTo>
                  <a:lnTo>
                    <a:pt x="588" y="34"/>
                  </a:lnTo>
                  <a:lnTo>
                    <a:pt x="572" y="34"/>
                  </a:lnTo>
                  <a:lnTo>
                    <a:pt x="558" y="38"/>
                  </a:lnTo>
                  <a:lnTo>
                    <a:pt x="544" y="46"/>
                  </a:lnTo>
                  <a:lnTo>
                    <a:pt x="530" y="54"/>
                  </a:lnTo>
                  <a:lnTo>
                    <a:pt x="518" y="66"/>
                  </a:lnTo>
                  <a:lnTo>
                    <a:pt x="510" y="78"/>
                  </a:lnTo>
                  <a:lnTo>
                    <a:pt x="502" y="94"/>
                  </a:lnTo>
                  <a:lnTo>
                    <a:pt x="498" y="110"/>
                  </a:lnTo>
                  <a:lnTo>
                    <a:pt x="498" y="110"/>
                  </a:lnTo>
                  <a:lnTo>
                    <a:pt x="480" y="106"/>
                  </a:lnTo>
                  <a:lnTo>
                    <a:pt x="460" y="104"/>
                  </a:lnTo>
                  <a:lnTo>
                    <a:pt x="460" y="104"/>
                  </a:lnTo>
                  <a:lnTo>
                    <a:pt x="440" y="104"/>
                  </a:lnTo>
                  <a:lnTo>
                    <a:pt x="396" y="106"/>
                  </a:lnTo>
                  <a:lnTo>
                    <a:pt x="396" y="106"/>
                  </a:lnTo>
                  <a:lnTo>
                    <a:pt x="396" y="90"/>
                  </a:lnTo>
                  <a:lnTo>
                    <a:pt x="392" y="72"/>
                  </a:lnTo>
                  <a:lnTo>
                    <a:pt x="388" y="54"/>
                  </a:lnTo>
                  <a:lnTo>
                    <a:pt x="380" y="38"/>
                  </a:lnTo>
                  <a:lnTo>
                    <a:pt x="368" y="22"/>
                  </a:lnTo>
                  <a:lnTo>
                    <a:pt x="360" y="16"/>
                  </a:lnTo>
                  <a:lnTo>
                    <a:pt x="352" y="12"/>
                  </a:lnTo>
                  <a:lnTo>
                    <a:pt x="342" y="6"/>
                  </a:lnTo>
                  <a:lnTo>
                    <a:pt x="330" y="4"/>
                  </a:lnTo>
                  <a:lnTo>
                    <a:pt x="318" y="2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90" y="2"/>
                  </a:lnTo>
                  <a:lnTo>
                    <a:pt x="276" y="4"/>
                  </a:lnTo>
                  <a:lnTo>
                    <a:pt x="266" y="8"/>
                  </a:lnTo>
                  <a:lnTo>
                    <a:pt x="256" y="12"/>
                  </a:lnTo>
                  <a:lnTo>
                    <a:pt x="246" y="18"/>
                  </a:lnTo>
                  <a:lnTo>
                    <a:pt x="240" y="24"/>
                  </a:lnTo>
                  <a:lnTo>
                    <a:pt x="232" y="32"/>
                  </a:lnTo>
                  <a:lnTo>
                    <a:pt x="228" y="40"/>
                  </a:lnTo>
                  <a:lnTo>
                    <a:pt x="220" y="58"/>
                  </a:lnTo>
                  <a:lnTo>
                    <a:pt x="216" y="76"/>
                  </a:lnTo>
                  <a:lnTo>
                    <a:pt x="212" y="94"/>
                  </a:lnTo>
                  <a:lnTo>
                    <a:pt x="212" y="112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88" y="118"/>
                  </a:lnTo>
                  <a:lnTo>
                    <a:pt x="76" y="120"/>
                  </a:lnTo>
                  <a:lnTo>
                    <a:pt x="66" y="124"/>
                  </a:lnTo>
                  <a:lnTo>
                    <a:pt x="56" y="128"/>
                  </a:lnTo>
                  <a:lnTo>
                    <a:pt x="48" y="134"/>
                  </a:lnTo>
                  <a:lnTo>
                    <a:pt x="34" y="146"/>
                  </a:lnTo>
                  <a:lnTo>
                    <a:pt x="24" y="160"/>
                  </a:lnTo>
                  <a:lnTo>
                    <a:pt x="18" y="176"/>
                  </a:lnTo>
                  <a:lnTo>
                    <a:pt x="14" y="190"/>
                  </a:lnTo>
                  <a:lnTo>
                    <a:pt x="14" y="206"/>
                  </a:lnTo>
                  <a:lnTo>
                    <a:pt x="14" y="206"/>
                  </a:lnTo>
                  <a:lnTo>
                    <a:pt x="14" y="216"/>
                  </a:lnTo>
                  <a:lnTo>
                    <a:pt x="16" y="228"/>
                  </a:lnTo>
                  <a:lnTo>
                    <a:pt x="22" y="242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40" y="272"/>
                  </a:lnTo>
                  <a:lnTo>
                    <a:pt x="48" y="278"/>
                  </a:lnTo>
                  <a:lnTo>
                    <a:pt x="58" y="284"/>
                  </a:lnTo>
                  <a:lnTo>
                    <a:pt x="68" y="290"/>
                  </a:lnTo>
                  <a:lnTo>
                    <a:pt x="80" y="294"/>
                  </a:lnTo>
                  <a:lnTo>
                    <a:pt x="94" y="296"/>
                  </a:lnTo>
                  <a:lnTo>
                    <a:pt x="110" y="296"/>
                  </a:lnTo>
                  <a:lnTo>
                    <a:pt x="110" y="296"/>
                  </a:lnTo>
                  <a:lnTo>
                    <a:pt x="116" y="296"/>
                  </a:lnTo>
                  <a:lnTo>
                    <a:pt x="212" y="294"/>
                  </a:lnTo>
                  <a:lnTo>
                    <a:pt x="212" y="302"/>
                  </a:lnTo>
                  <a:lnTo>
                    <a:pt x="212" y="302"/>
                  </a:lnTo>
                  <a:lnTo>
                    <a:pt x="172" y="320"/>
                  </a:lnTo>
                  <a:lnTo>
                    <a:pt x="134" y="340"/>
                  </a:lnTo>
                  <a:lnTo>
                    <a:pt x="116" y="352"/>
                  </a:lnTo>
                  <a:lnTo>
                    <a:pt x="98" y="366"/>
                  </a:lnTo>
                  <a:lnTo>
                    <a:pt x="82" y="380"/>
                  </a:lnTo>
                  <a:lnTo>
                    <a:pt x="66" y="394"/>
                  </a:lnTo>
                  <a:lnTo>
                    <a:pt x="52" y="410"/>
                  </a:lnTo>
                  <a:lnTo>
                    <a:pt x="38" y="428"/>
                  </a:lnTo>
                  <a:lnTo>
                    <a:pt x="28" y="446"/>
                  </a:lnTo>
                  <a:lnTo>
                    <a:pt x="18" y="466"/>
                  </a:lnTo>
                  <a:lnTo>
                    <a:pt x="10" y="486"/>
                  </a:lnTo>
                  <a:lnTo>
                    <a:pt x="4" y="508"/>
                  </a:lnTo>
                  <a:lnTo>
                    <a:pt x="2" y="530"/>
                  </a:lnTo>
                  <a:lnTo>
                    <a:pt x="0" y="554"/>
                  </a:lnTo>
                  <a:lnTo>
                    <a:pt x="0" y="554"/>
                  </a:lnTo>
                  <a:lnTo>
                    <a:pt x="2" y="578"/>
                  </a:lnTo>
                  <a:lnTo>
                    <a:pt x="6" y="600"/>
                  </a:lnTo>
                  <a:lnTo>
                    <a:pt x="10" y="622"/>
                  </a:lnTo>
                  <a:lnTo>
                    <a:pt x="18" y="644"/>
                  </a:lnTo>
                  <a:lnTo>
                    <a:pt x="28" y="664"/>
                  </a:lnTo>
                  <a:lnTo>
                    <a:pt x="40" y="682"/>
                  </a:lnTo>
                  <a:lnTo>
                    <a:pt x="54" y="700"/>
                  </a:lnTo>
                  <a:lnTo>
                    <a:pt x="70" y="716"/>
                  </a:lnTo>
                  <a:lnTo>
                    <a:pt x="88" y="732"/>
                  </a:lnTo>
                  <a:lnTo>
                    <a:pt x="106" y="744"/>
                  </a:lnTo>
                  <a:lnTo>
                    <a:pt x="126" y="756"/>
                  </a:lnTo>
                  <a:lnTo>
                    <a:pt x="146" y="766"/>
                  </a:lnTo>
                  <a:lnTo>
                    <a:pt x="168" y="772"/>
                  </a:lnTo>
                  <a:lnTo>
                    <a:pt x="192" y="778"/>
                  </a:lnTo>
                  <a:lnTo>
                    <a:pt x="216" y="782"/>
                  </a:lnTo>
                  <a:lnTo>
                    <a:pt x="242" y="784"/>
                  </a:lnTo>
                  <a:lnTo>
                    <a:pt x="242" y="784"/>
                  </a:lnTo>
                  <a:lnTo>
                    <a:pt x="260" y="782"/>
                  </a:lnTo>
                  <a:lnTo>
                    <a:pt x="280" y="780"/>
                  </a:lnTo>
                  <a:lnTo>
                    <a:pt x="296" y="776"/>
                  </a:lnTo>
                  <a:lnTo>
                    <a:pt x="314" y="770"/>
                  </a:lnTo>
                  <a:lnTo>
                    <a:pt x="330" y="764"/>
                  </a:lnTo>
                  <a:lnTo>
                    <a:pt x="344" y="754"/>
                  </a:lnTo>
                  <a:lnTo>
                    <a:pt x="356" y="746"/>
                  </a:lnTo>
                  <a:lnTo>
                    <a:pt x="368" y="734"/>
                  </a:lnTo>
                  <a:lnTo>
                    <a:pt x="368" y="734"/>
                  </a:lnTo>
                  <a:lnTo>
                    <a:pt x="374" y="746"/>
                  </a:lnTo>
                  <a:lnTo>
                    <a:pt x="382" y="756"/>
                  </a:lnTo>
                  <a:lnTo>
                    <a:pt x="392" y="764"/>
                  </a:lnTo>
                  <a:lnTo>
                    <a:pt x="402" y="772"/>
                  </a:lnTo>
                  <a:lnTo>
                    <a:pt x="414" y="778"/>
                  </a:lnTo>
                  <a:lnTo>
                    <a:pt x="428" y="782"/>
                  </a:lnTo>
                  <a:lnTo>
                    <a:pt x="442" y="784"/>
                  </a:lnTo>
                  <a:lnTo>
                    <a:pt x="458" y="784"/>
                  </a:lnTo>
                  <a:lnTo>
                    <a:pt x="458" y="784"/>
                  </a:lnTo>
                  <a:lnTo>
                    <a:pt x="490" y="784"/>
                  </a:lnTo>
                  <a:lnTo>
                    <a:pt x="520" y="780"/>
                  </a:lnTo>
                  <a:lnTo>
                    <a:pt x="550" y="774"/>
                  </a:lnTo>
                  <a:lnTo>
                    <a:pt x="578" y="764"/>
                  </a:lnTo>
                  <a:lnTo>
                    <a:pt x="604" y="754"/>
                  </a:lnTo>
                  <a:lnTo>
                    <a:pt x="630" y="742"/>
                  </a:lnTo>
                  <a:lnTo>
                    <a:pt x="652" y="726"/>
                  </a:lnTo>
                  <a:lnTo>
                    <a:pt x="674" y="710"/>
                  </a:lnTo>
                  <a:lnTo>
                    <a:pt x="692" y="692"/>
                  </a:lnTo>
                  <a:lnTo>
                    <a:pt x="710" y="670"/>
                  </a:lnTo>
                  <a:lnTo>
                    <a:pt x="724" y="650"/>
                  </a:lnTo>
                  <a:lnTo>
                    <a:pt x="738" y="626"/>
                  </a:lnTo>
                  <a:lnTo>
                    <a:pt x="748" y="602"/>
                  </a:lnTo>
                  <a:lnTo>
                    <a:pt x="754" y="576"/>
                  </a:lnTo>
                  <a:lnTo>
                    <a:pt x="758" y="550"/>
                  </a:lnTo>
                  <a:lnTo>
                    <a:pt x="760" y="522"/>
                  </a:lnTo>
                  <a:lnTo>
                    <a:pt x="760" y="522"/>
                  </a:lnTo>
                  <a:lnTo>
                    <a:pt x="760" y="498"/>
                  </a:lnTo>
                  <a:lnTo>
                    <a:pt x="756" y="474"/>
                  </a:lnTo>
                  <a:lnTo>
                    <a:pt x="750" y="452"/>
                  </a:lnTo>
                  <a:lnTo>
                    <a:pt x="742" y="432"/>
                  </a:lnTo>
                  <a:lnTo>
                    <a:pt x="732" y="412"/>
                  </a:lnTo>
                  <a:lnTo>
                    <a:pt x="720" y="392"/>
                  </a:lnTo>
                  <a:lnTo>
                    <a:pt x="706" y="374"/>
                  </a:lnTo>
                  <a:lnTo>
                    <a:pt x="690" y="358"/>
                  </a:lnTo>
                  <a:lnTo>
                    <a:pt x="690" y="358"/>
                  </a:lnTo>
                  <a:lnTo>
                    <a:pt x="704" y="356"/>
                  </a:lnTo>
                  <a:lnTo>
                    <a:pt x="720" y="352"/>
                  </a:lnTo>
                  <a:lnTo>
                    <a:pt x="736" y="346"/>
                  </a:lnTo>
                  <a:lnTo>
                    <a:pt x="750" y="336"/>
                  </a:lnTo>
                  <a:lnTo>
                    <a:pt x="764" y="322"/>
                  </a:lnTo>
                  <a:lnTo>
                    <a:pt x="774" y="306"/>
                  </a:lnTo>
                  <a:lnTo>
                    <a:pt x="778" y="296"/>
                  </a:lnTo>
                  <a:lnTo>
                    <a:pt x="780" y="286"/>
                  </a:lnTo>
                  <a:lnTo>
                    <a:pt x="782" y="274"/>
                  </a:lnTo>
                  <a:lnTo>
                    <a:pt x="784" y="262"/>
                  </a:lnTo>
                  <a:lnTo>
                    <a:pt x="784" y="262"/>
                  </a:lnTo>
                  <a:close/>
                  <a:moveTo>
                    <a:pt x="212" y="510"/>
                  </a:moveTo>
                  <a:lnTo>
                    <a:pt x="212" y="586"/>
                  </a:lnTo>
                  <a:lnTo>
                    <a:pt x="212" y="586"/>
                  </a:lnTo>
                  <a:lnTo>
                    <a:pt x="204" y="580"/>
                  </a:lnTo>
                  <a:lnTo>
                    <a:pt x="200" y="572"/>
                  </a:lnTo>
                  <a:lnTo>
                    <a:pt x="196" y="562"/>
                  </a:lnTo>
                  <a:lnTo>
                    <a:pt x="194" y="550"/>
                  </a:lnTo>
                  <a:lnTo>
                    <a:pt x="194" y="550"/>
                  </a:lnTo>
                  <a:lnTo>
                    <a:pt x="194" y="542"/>
                  </a:lnTo>
                  <a:lnTo>
                    <a:pt x="198" y="532"/>
                  </a:lnTo>
                  <a:lnTo>
                    <a:pt x="202" y="522"/>
                  </a:lnTo>
                  <a:lnTo>
                    <a:pt x="212" y="510"/>
                  </a:lnTo>
                  <a:lnTo>
                    <a:pt x="212" y="510"/>
                  </a:lnTo>
                  <a:close/>
                  <a:moveTo>
                    <a:pt x="550" y="224"/>
                  </a:moveTo>
                  <a:lnTo>
                    <a:pt x="550" y="224"/>
                  </a:lnTo>
                  <a:lnTo>
                    <a:pt x="570" y="252"/>
                  </a:lnTo>
                  <a:lnTo>
                    <a:pt x="582" y="268"/>
                  </a:lnTo>
                  <a:lnTo>
                    <a:pt x="582" y="268"/>
                  </a:lnTo>
                  <a:lnTo>
                    <a:pt x="604" y="304"/>
                  </a:lnTo>
                  <a:lnTo>
                    <a:pt x="604" y="304"/>
                  </a:lnTo>
                  <a:lnTo>
                    <a:pt x="580" y="294"/>
                  </a:lnTo>
                  <a:lnTo>
                    <a:pt x="556" y="286"/>
                  </a:lnTo>
                  <a:lnTo>
                    <a:pt x="530" y="280"/>
                  </a:lnTo>
                  <a:lnTo>
                    <a:pt x="502" y="276"/>
                  </a:lnTo>
                  <a:lnTo>
                    <a:pt x="502" y="276"/>
                  </a:lnTo>
                  <a:lnTo>
                    <a:pt x="512" y="270"/>
                  </a:lnTo>
                  <a:lnTo>
                    <a:pt x="520" y="266"/>
                  </a:lnTo>
                  <a:lnTo>
                    <a:pt x="534" y="252"/>
                  </a:lnTo>
                  <a:lnTo>
                    <a:pt x="544" y="238"/>
                  </a:lnTo>
                  <a:lnTo>
                    <a:pt x="550" y="224"/>
                  </a:lnTo>
                  <a:lnTo>
                    <a:pt x="550" y="224"/>
                  </a:lnTo>
                  <a:close/>
                  <a:moveTo>
                    <a:pt x="398" y="454"/>
                  </a:moveTo>
                  <a:lnTo>
                    <a:pt x="398" y="454"/>
                  </a:lnTo>
                  <a:lnTo>
                    <a:pt x="420" y="454"/>
                  </a:lnTo>
                  <a:lnTo>
                    <a:pt x="420" y="454"/>
                  </a:lnTo>
                  <a:lnTo>
                    <a:pt x="438" y="454"/>
                  </a:lnTo>
                  <a:lnTo>
                    <a:pt x="460" y="456"/>
                  </a:lnTo>
                  <a:lnTo>
                    <a:pt x="484" y="460"/>
                  </a:lnTo>
                  <a:lnTo>
                    <a:pt x="508" y="466"/>
                  </a:lnTo>
                  <a:lnTo>
                    <a:pt x="530" y="474"/>
                  </a:lnTo>
                  <a:lnTo>
                    <a:pt x="540" y="480"/>
                  </a:lnTo>
                  <a:lnTo>
                    <a:pt x="548" y="486"/>
                  </a:lnTo>
                  <a:lnTo>
                    <a:pt x="554" y="494"/>
                  </a:lnTo>
                  <a:lnTo>
                    <a:pt x="560" y="502"/>
                  </a:lnTo>
                  <a:lnTo>
                    <a:pt x="564" y="512"/>
                  </a:lnTo>
                  <a:lnTo>
                    <a:pt x="564" y="524"/>
                  </a:lnTo>
                  <a:lnTo>
                    <a:pt x="564" y="524"/>
                  </a:lnTo>
                  <a:lnTo>
                    <a:pt x="564" y="530"/>
                  </a:lnTo>
                  <a:lnTo>
                    <a:pt x="562" y="538"/>
                  </a:lnTo>
                  <a:lnTo>
                    <a:pt x="560" y="548"/>
                  </a:lnTo>
                  <a:lnTo>
                    <a:pt x="552" y="558"/>
                  </a:lnTo>
                  <a:lnTo>
                    <a:pt x="542" y="568"/>
                  </a:lnTo>
                  <a:lnTo>
                    <a:pt x="524" y="578"/>
                  </a:lnTo>
                  <a:lnTo>
                    <a:pt x="502" y="586"/>
                  </a:lnTo>
                  <a:lnTo>
                    <a:pt x="470" y="592"/>
                  </a:lnTo>
                  <a:lnTo>
                    <a:pt x="470" y="592"/>
                  </a:lnTo>
                  <a:lnTo>
                    <a:pt x="470" y="592"/>
                  </a:lnTo>
                  <a:lnTo>
                    <a:pt x="452" y="596"/>
                  </a:lnTo>
                  <a:lnTo>
                    <a:pt x="434" y="598"/>
                  </a:lnTo>
                  <a:lnTo>
                    <a:pt x="416" y="604"/>
                  </a:lnTo>
                  <a:lnTo>
                    <a:pt x="398" y="614"/>
                  </a:lnTo>
                  <a:lnTo>
                    <a:pt x="398" y="45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4506840" y="9982080"/>
              <a:ext cx="1244520" cy="122220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w="784" h="770">
                  <a:moveTo>
                    <a:pt x="670" y="0"/>
                  </a:moveTo>
                  <a:lnTo>
                    <a:pt x="164" y="0"/>
                  </a:lnTo>
                  <a:lnTo>
                    <a:pt x="164" y="0"/>
                  </a:lnTo>
                  <a:lnTo>
                    <a:pt x="146" y="2"/>
                  </a:lnTo>
                  <a:lnTo>
                    <a:pt x="128" y="6"/>
                  </a:lnTo>
                  <a:lnTo>
                    <a:pt x="114" y="10"/>
                  </a:lnTo>
                  <a:lnTo>
                    <a:pt x="100" y="18"/>
                  </a:lnTo>
                  <a:lnTo>
                    <a:pt x="90" y="26"/>
                  </a:lnTo>
                  <a:lnTo>
                    <a:pt x="80" y="34"/>
                  </a:lnTo>
                  <a:lnTo>
                    <a:pt x="72" y="46"/>
                  </a:lnTo>
                  <a:lnTo>
                    <a:pt x="66" y="56"/>
                  </a:lnTo>
                  <a:lnTo>
                    <a:pt x="62" y="68"/>
                  </a:lnTo>
                  <a:lnTo>
                    <a:pt x="58" y="80"/>
                  </a:lnTo>
                  <a:lnTo>
                    <a:pt x="54" y="102"/>
                  </a:lnTo>
                  <a:lnTo>
                    <a:pt x="52" y="124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52" y="144"/>
                  </a:lnTo>
                  <a:lnTo>
                    <a:pt x="50" y="272"/>
                  </a:lnTo>
                  <a:lnTo>
                    <a:pt x="48" y="398"/>
                  </a:lnTo>
                  <a:lnTo>
                    <a:pt x="48" y="398"/>
                  </a:lnTo>
                  <a:lnTo>
                    <a:pt x="46" y="438"/>
                  </a:lnTo>
                  <a:lnTo>
                    <a:pt x="44" y="472"/>
                  </a:lnTo>
                  <a:lnTo>
                    <a:pt x="34" y="532"/>
                  </a:lnTo>
                  <a:lnTo>
                    <a:pt x="24" y="580"/>
                  </a:lnTo>
                  <a:lnTo>
                    <a:pt x="14" y="618"/>
                  </a:lnTo>
                  <a:lnTo>
                    <a:pt x="12" y="628"/>
                  </a:lnTo>
                  <a:lnTo>
                    <a:pt x="12" y="628"/>
                  </a:lnTo>
                  <a:lnTo>
                    <a:pt x="4" y="662"/>
                  </a:lnTo>
                  <a:lnTo>
                    <a:pt x="0" y="678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2" y="708"/>
                  </a:lnTo>
                  <a:lnTo>
                    <a:pt x="8" y="726"/>
                  </a:lnTo>
                  <a:lnTo>
                    <a:pt x="16" y="738"/>
                  </a:lnTo>
                  <a:lnTo>
                    <a:pt x="28" y="750"/>
                  </a:lnTo>
                  <a:lnTo>
                    <a:pt x="40" y="758"/>
                  </a:lnTo>
                  <a:lnTo>
                    <a:pt x="56" y="766"/>
                  </a:lnTo>
                  <a:lnTo>
                    <a:pt x="72" y="770"/>
                  </a:lnTo>
                  <a:lnTo>
                    <a:pt x="88" y="770"/>
                  </a:lnTo>
                  <a:lnTo>
                    <a:pt x="88" y="770"/>
                  </a:lnTo>
                  <a:lnTo>
                    <a:pt x="108" y="768"/>
                  </a:lnTo>
                  <a:lnTo>
                    <a:pt x="124" y="764"/>
                  </a:lnTo>
                  <a:lnTo>
                    <a:pt x="140" y="754"/>
                  </a:lnTo>
                  <a:lnTo>
                    <a:pt x="152" y="742"/>
                  </a:lnTo>
                  <a:lnTo>
                    <a:pt x="162" y="724"/>
                  </a:lnTo>
                  <a:lnTo>
                    <a:pt x="172" y="704"/>
                  </a:lnTo>
                  <a:lnTo>
                    <a:pt x="180" y="678"/>
                  </a:lnTo>
                  <a:lnTo>
                    <a:pt x="188" y="650"/>
                  </a:lnTo>
                  <a:lnTo>
                    <a:pt x="188" y="670"/>
                  </a:lnTo>
                  <a:lnTo>
                    <a:pt x="188" y="670"/>
                  </a:lnTo>
                  <a:lnTo>
                    <a:pt x="190" y="692"/>
                  </a:lnTo>
                  <a:lnTo>
                    <a:pt x="196" y="710"/>
                  </a:lnTo>
                  <a:lnTo>
                    <a:pt x="206" y="728"/>
                  </a:lnTo>
                  <a:lnTo>
                    <a:pt x="220" y="742"/>
                  </a:lnTo>
                  <a:lnTo>
                    <a:pt x="236" y="754"/>
                  </a:lnTo>
                  <a:lnTo>
                    <a:pt x="256" y="762"/>
                  </a:lnTo>
                  <a:lnTo>
                    <a:pt x="276" y="768"/>
                  </a:lnTo>
                  <a:lnTo>
                    <a:pt x="300" y="770"/>
                  </a:lnTo>
                  <a:lnTo>
                    <a:pt x="680" y="770"/>
                  </a:lnTo>
                  <a:lnTo>
                    <a:pt x="680" y="770"/>
                  </a:lnTo>
                  <a:lnTo>
                    <a:pt x="692" y="770"/>
                  </a:lnTo>
                  <a:lnTo>
                    <a:pt x="704" y="768"/>
                  </a:lnTo>
                  <a:lnTo>
                    <a:pt x="714" y="764"/>
                  </a:lnTo>
                  <a:lnTo>
                    <a:pt x="724" y="760"/>
                  </a:lnTo>
                  <a:lnTo>
                    <a:pt x="742" y="748"/>
                  </a:lnTo>
                  <a:lnTo>
                    <a:pt x="756" y="734"/>
                  </a:lnTo>
                  <a:lnTo>
                    <a:pt x="768" y="716"/>
                  </a:lnTo>
                  <a:lnTo>
                    <a:pt x="778" y="698"/>
                  </a:lnTo>
                  <a:lnTo>
                    <a:pt x="782" y="678"/>
                  </a:lnTo>
                  <a:lnTo>
                    <a:pt x="784" y="658"/>
                  </a:lnTo>
                  <a:lnTo>
                    <a:pt x="784" y="414"/>
                  </a:lnTo>
                  <a:lnTo>
                    <a:pt x="784" y="414"/>
                  </a:lnTo>
                  <a:lnTo>
                    <a:pt x="782" y="390"/>
                  </a:lnTo>
                  <a:lnTo>
                    <a:pt x="776" y="370"/>
                  </a:lnTo>
                  <a:lnTo>
                    <a:pt x="766" y="352"/>
                  </a:lnTo>
                  <a:lnTo>
                    <a:pt x="752" y="336"/>
                  </a:lnTo>
                  <a:lnTo>
                    <a:pt x="734" y="324"/>
                  </a:lnTo>
                  <a:lnTo>
                    <a:pt x="714" y="316"/>
                  </a:lnTo>
                  <a:lnTo>
                    <a:pt x="690" y="310"/>
                  </a:lnTo>
                  <a:lnTo>
                    <a:pt x="664" y="308"/>
                  </a:lnTo>
                  <a:lnTo>
                    <a:pt x="572" y="308"/>
                  </a:lnTo>
                  <a:lnTo>
                    <a:pt x="572" y="308"/>
                  </a:lnTo>
                  <a:lnTo>
                    <a:pt x="572" y="298"/>
                  </a:lnTo>
                  <a:lnTo>
                    <a:pt x="670" y="298"/>
                  </a:lnTo>
                  <a:lnTo>
                    <a:pt x="670" y="298"/>
                  </a:lnTo>
                  <a:lnTo>
                    <a:pt x="698" y="296"/>
                  </a:lnTo>
                  <a:lnTo>
                    <a:pt x="722" y="292"/>
                  </a:lnTo>
                  <a:lnTo>
                    <a:pt x="742" y="284"/>
                  </a:lnTo>
                  <a:lnTo>
                    <a:pt x="750" y="278"/>
                  </a:lnTo>
                  <a:lnTo>
                    <a:pt x="758" y="272"/>
                  </a:lnTo>
                  <a:lnTo>
                    <a:pt x="764" y="264"/>
                  </a:lnTo>
                  <a:lnTo>
                    <a:pt x="770" y="256"/>
                  </a:lnTo>
                  <a:lnTo>
                    <a:pt x="774" y="248"/>
                  </a:lnTo>
                  <a:lnTo>
                    <a:pt x="778" y="238"/>
                  </a:lnTo>
                  <a:lnTo>
                    <a:pt x="784" y="214"/>
                  </a:lnTo>
                  <a:lnTo>
                    <a:pt x="784" y="188"/>
                  </a:lnTo>
                  <a:lnTo>
                    <a:pt x="784" y="112"/>
                  </a:lnTo>
                  <a:lnTo>
                    <a:pt x="784" y="112"/>
                  </a:lnTo>
                  <a:lnTo>
                    <a:pt x="784" y="84"/>
                  </a:lnTo>
                  <a:lnTo>
                    <a:pt x="778" y="62"/>
                  </a:lnTo>
                  <a:lnTo>
                    <a:pt x="774" y="52"/>
                  </a:lnTo>
                  <a:lnTo>
                    <a:pt x="770" y="42"/>
                  </a:lnTo>
                  <a:lnTo>
                    <a:pt x="764" y="34"/>
                  </a:lnTo>
                  <a:lnTo>
                    <a:pt x="758" y="28"/>
                  </a:lnTo>
                  <a:lnTo>
                    <a:pt x="750" y="20"/>
                  </a:lnTo>
                  <a:lnTo>
                    <a:pt x="742" y="16"/>
                  </a:lnTo>
                  <a:lnTo>
                    <a:pt x="722" y="8"/>
                  </a:lnTo>
                  <a:lnTo>
                    <a:pt x="698" y="2"/>
                  </a:lnTo>
                  <a:lnTo>
                    <a:pt x="670" y="0"/>
                  </a:lnTo>
                  <a:lnTo>
                    <a:pt x="670" y="0"/>
                  </a:lnTo>
                  <a:close/>
                  <a:moveTo>
                    <a:pt x="222" y="308"/>
                  </a:moveTo>
                  <a:lnTo>
                    <a:pt x="222" y="308"/>
                  </a:lnTo>
                  <a:lnTo>
                    <a:pt x="222" y="298"/>
                  </a:lnTo>
                  <a:lnTo>
                    <a:pt x="400" y="298"/>
                  </a:lnTo>
                  <a:lnTo>
                    <a:pt x="400" y="298"/>
                  </a:lnTo>
                  <a:lnTo>
                    <a:pt x="400" y="308"/>
                  </a:lnTo>
                  <a:lnTo>
                    <a:pt x="306" y="308"/>
                  </a:lnTo>
                  <a:lnTo>
                    <a:pt x="306" y="308"/>
                  </a:lnTo>
                  <a:lnTo>
                    <a:pt x="280" y="310"/>
                  </a:lnTo>
                  <a:lnTo>
                    <a:pt x="256" y="316"/>
                  </a:lnTo>
                  <a:lnTo>
                    <a:pt x="238" y="326"/>
                  </a:lnTo>
                  <a:lnTo>
                    <a:pt x="222" y="338"/>
                  </a:lnTo>
                  <a:lnTo>
                    <a:pt x="222" y="338"/>
                  </a:lnTo>
                  <a:lnTo>
                    <a:pt x="222" y="308"/>
                  </a:lnTo>
                  <a:lnTo>
                    <a:pt x="222" y="30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5"/>
            <p:cNvSpPr/>
            <p:nvPr/>
          </p:nvSpPr>
          <p:spPr>
            <a:xfrm>
              <a:off x="6329520" y="9975600"/>
              <a:ext cx="888840" cy="123516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35160"/>
                <a:gd name="textAreaBottom" fmla="*/ 1235160 h 1235160"/>
              </a:gdLst>
              <a:ahLst/>
              <a:rect l="textAreaLeft" t="textAreaTop" r="textAreaRight" b="textAreaBottom"/>
              <a:pathLst>
                <a:path w="560" h="778">
                  <a:moveTo>
                    <a:pt x="470" y="158"/>
                  </a:moveTo>
                  <a:lnTo>
                    <a:pt x="470" y="158"/>
                  </a:lnTo>
                  <a:lnTo>
                    <a:pt x="434" y="160"/>
                  </a:lnTo>
                  <a:lnTo>
                    <a:pt x="434" y="160"/>
                  </a:lnTo>
                  <a:lnTo>
                    <a:pt x="432" y="94"/>
                  </a:lnTo>
                  <a:lnTo>
                    <a:pt x="428" y="70"/>
                  </a:lnTo>
                  <a:lnTo>
                    <a:pt x="428" y="68"/>
                  </a:lnTo>
                  <a:lnTo>
                    <a:pt x="428" y="68"/>
                  </a:lnTo>
                  <a:lnTo>
                    <a:pt x="424" y="54"/>
                  </a:lnTo>
                  <a:lnTo>
                    <a:pt x="416" y="40"/>
                  </a:lnTo>
                  <a:lnTo>
                    <a:pt x="406" y="28"/>
                  </a:lnTo>
                  <a:lnTo>
                    <a:pt x="396" y="18"/>
                  </a:lnTo>
                  <a:lnTo>
                    <a:pt x="384" y="10"/>
                  </a:lnTo>
                  <a:lnTo>
                    <a:pt x="370" y="6"/>
                  </a:lnTo>
                  <a:lnTo>
                    <a:pt x="354" y="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18" y="2"/>
                  </a:lnTo>
                  <a:lnTo>
                    <a:pt x="300" y="8"/>
                  </a:lnTo>
                  <a:lnTo>
                    <a:pt x="284" y="16"/>
                  </a:lnTo>
                  <a:lnTo>
                    <a:pt x="270" y="26"/>
                  </a:lnTo>
                  <a:lnTo>
                    <a:pt x="258" y="40"/>
                  </a:lnTo>
                  <a:lnTo>
                    <a:pt x="250" y="56"/>
                  </a:lnTo>
                  <a:lnTo>
                    <a:pt x="244" y="74"/>
                  </a:lnTo>
                  <a:lnTo>
                    <a:pt x="244" y="92"/>
                  </a:lnTo>
                  <a:lnTo>
                    <a:pt x="244" y="92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6" y="166"/>
                  </a:lnTo>
                  <a:lnTo>
                    <a:pt x="246" y="16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190" y="166"/>
                  </a:lnTo>
                  <a:lnTo>
                    <a:pt x="190" y="166"/>
                  </a:lnTo>
                  <a:lnTo>
                    <a:pt x="126" y="164"/>
                  </a:lnTo>
                  <a:lnTo>
                    <a:pt x="126" y="164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72" y="166"/>
                  </a:lnTo>
                  <a:lnTo>
                    <a:pt x="56" y="170"/>
                  </a:lnTo>
                  <a:lnTo>
                    <a:pt x="40" y="178"/>
                  </a:lnTo>
                  <a:lnTo>
                    <a:pt x="26" y="190"/>
                  </a:lnTo>
                  <a:lnTo>
                    <a:pt x="14" y="204"/>
                  </a:lnTo>
                  <a:lnTo>
                    <a:pt x="6" y="220"/>
                  </a:lnTo>
                  <a:lnTo>
                    <a:pt x="2" y="238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0" y="274"/>
                  </a:lnTo>
                  <a:lnTo>
                    <a:pt x="4" y="290"/>
                  </a:lnTo>
                  <a:lnTo>
                    <a:pt x="8" y="302"/>
                  </a:lnTo>
                  <a:lnTo>
                    <a:pt x="14" y="314"/>
                  </a:lnTo>
                  <a:lnTo>
                    <a:pt x="22" y="322"/>
                  </a:lnTo>
                  <a:lnTo>
                    <a:pt x="32" y="330"/>
                  </a:lnTo>
                  <a:lnTo>
                    <a:pt x="42" y="338"/>
                  </a:lnTo>
                  <a:lnTo>
                    <a:pt x="52" y="342"/>
                  </a:lnTo>
                  <a:lnTo>
                    <a:pt x="66" y="346"/>
                  </a:lnTo>
                  <a:lnTo>
                    <a:pt x="78" y="350"/>
                  </a:lnTo>
                  <a:lnTo>
                    <a:pt x="108" y="354"/>
                  </a:lnTo>
                  <a:lnTo>
                    <a:pt x="140" y="354"/>
                  </a:lnTo>
                  <a:lnTo>
                    <a:pt x="172" y="354"/>
                  </a:lnTo>
                  <a:lnTo>
                    <a:pt x="172" y="354"/>
                  </a:lnTo>
                  <a:lnTo>
                    <a:pt x="216" y="354"/>
                  </a:lnTo>
                  <a:lnTo>
                    <a:pt x="216" y="354"/>
                  </a:lnTo>
                  <a:lnTo>
                    <a:pt x="254" y="354"/>
                  </a:lnTo>
                  <a:lnTo>
                    <a:pt x="254" y="354"/>
                  </a:lnTo>
                  <a:lnTo>
                    <a:pt x="254" y="392"/>
                  </a:lnTo>
                  <a:lnTo>
                    <a:pt x="252" y="424"/>
                  </a:lnTo>
                  <a:lnTo>
                    <a:pt x="248" y="468"/>
                  </a:lnTo>
                  <a:lnTo>
                    <a:pt x="248" y="472"/>
                  </a:lnTo>
                  <a:lnTo>
                    <a:pt x="248" y="472"/>
                  </a:lnTo>
                  <a:lnTo>
                    <a:pt x="244" y="490"/>
                  </a:lnTo>
                  <a:lnTo>
                    <a:pt x="238" y="508"/>
                  </a:lnTo>
                  <a:lnTo>
                    <a:pt x="230" y="524"/>
                  </a:lnTo>
                  <a:lnTo>
                    <a:pt x="218" y="540"/>
                  </a:lnTo>
                  <a:lnTo>
                    <a:pt x="206" y="556"/>
                  </a:lnTo>
                  <a:lnTo>
                    <a:pt x="190" y="568"/>
                  </a:lnTo>
                  <a:lnTo>
                    <a:pt x="172" y="580"/>
                  </a:lnTo>
                  <a:lnTo>
                    <a:pt x="154" y="590"/>
                  </a:lnTo>
                  <a:lnTo>
                    <a:pt x="154" y="590"/>
                  </a:lnTo>
                  <a:lnTo>
                    <a:pt x="130" y="602"/>
                  </a:lnTo>
                  <a:lnTo>
                    <a:pt x="118" y="610"/>
                  </a:lnTo>
                  <a:lnTo>
                    <a:pt x="106" y="620"/>
                  </a:lnTo>
                  <a:lnTo>
                    <a:pt x="96" y="630"/>
                  </a:lnTo>
                  <a:lnTo>
                    <a:pt x="88" y="644"/>
                  </a:lnTo>
                  <a:lnTo>
                    <a:pt x="84" y="662"/>
                  </a:lnTo>
                  <a:lnTo>
                    <a:pt x="82" y="682"/>
                  </a:lnTo>
                  <a:lnTo>
                    <a:pt x="82" y="682"/>
                  </a:lnTo>
                  <a:lnTo>
                    <a:pt x="84" y="702"/>
                  </a:lnTo>
                  <a:lnTo>
                    <a:pt x="88" y="720"/>
                  </a:lnTo>
                  <a:lnTo>
                    <a:pt x="96" y="738"/>
                  </a:lnTo>
                  <a:lnTo>
                    <a:pt x="108" y="752"/>
                  </a:lnTo>
                  <a:lnTo>
                    <a:pt x="122" y="762"/>
                  </a:lnTo>
                  <a:lnTo>
                    <a:pt x="138" y="772"/>
                  </a:lnTo>
                  <a:lnTo>
                    <a:pt x="156" y="776"/>
                  </a:lnTo>
                  <a:lnTo>
                    <a:pt x="174" y="778"/>
                  </a:lnTo>
                  <a:lnTo>
                    <a:pt x="174" y="778"/>
                  </a:lnTo>
                  <a:lnTo>
                    <a:pt x="194" y="776"/>
                  </a:lnTo>
                  <a:lnTo>
                    <a:pt x="220" y="770"/>
                  </a:lnTo>
                  <a:lnTo>
                    <a:pt x="248" y="758"/>
                  </a:lnTo>
                  <a:lnTo>
                    <a:pt x="278" y="740"/>
                  </a:lnTo>
                  <a:lnTo>
                    <a:pt x="310" y="718"/>
                  </a:lnTo>
                  <a:lnTo>
                    <a:pt x="326" y="706"/>
                  </a:lnTo>
                  <a:lnTo>
                    <a:pt x="342" y="692"/>
                  </a:lnTo>
                  <a:lnTo>
                    <a:pt x="356" y="676"/>
                  </a:lnTo>
                  <a:lnTo>
                    <a:pt x="372" y="658"/>
                  </a:lnTo>
                  <a:lnTo>
                    <a:pt x="384" y="638"/>
                  </a:lnTo>
                  <a:lnTo>
                    <a:pt x="398" y="618"/>
                  </a:lnTo>
                  <a:lnTo>
                    <a:pt x="398" y="618"/>
                  </a:lnTo>
                  <a:lnTo>
                    <a:pt x="408" y="600"/>
                  </a:lnTo>
                  <a:lnTo>
                    <a:pt x="416" y="578"/>
                  </a:lnTo>
                  <a:lnTo>
                    <a:pt x="424" y="554"/>
                  </a:lnTo>
                  <a:lnTo>
                    <a:pt x="430" y="526"/>
                  </a:lnTo>
                  <a:lnTo>
                    <a:pt x="434" y="492"/>
                  </a:lnTo>
                  <a:lnTo>
                    <a:pt x="438" y="452"/>
                  </a:lnTo>
                  <a:lnTo>
                    <a:pt x="438" y="404"/>
                  </a:lnTo>
                  <a:lnTo>
                    <a:pt x="438" y="346"/>
                  </a:lnTo>
                  <a:lnTo>
                    <a:pt x="438" y="346"/>
                  </a:lnTo>
                  <a:lnTo>
                    <a:pt x="462" y="344"/>
                  </a:lnTo>
                  <a:lnTo>
                    <a:pt x="482" y="340"/>
                  </a:lnTo>
                  <a:lnTo>
                    <a:pt x="504" y="334"/>
                  </a:lnTo>
                  <a:lnTo>
                    <a:pt x="522" y="326"/>
                  </a:lnTo>
                  <a:lnTo>
                    <a:pt x="530" y="320"/>
                  </a:lnTo>
                  <a:lnTo>
                    <a:pt x="536" y="312"/>
                  </a:lnTo>
                  <a:lnTo>
                    <a:pt x="544" y="306"/>
                  </a:lnTo>
                  <a:lnTo>
                    <a:pt x="548" y="296"/>
                  </a:lnTo>
                  <a:lnTo>
                    <a:pt x="554" y="286"/>
                  </a:lnTo>
                  <a:lnTo>
                    <a:pt x="556" y="276"/>
                  </a:lnTo>
                  <a:lnTo>
                    <a:pt x="558" y="262"/>
                  </a:lnTo>
                  <a:lnTo>
                    <a:pt x="560" y="250"/>
                  </a:lnTo>
                  <a:lnTo>
                    <a:pt x="560" y="250"/>
                  </a:lnTo>
                  <a:lnTo>
                    <a:pt x="558" y="230"/>
                  </a:lnTo>
                  <a:lnTo>
                    <a:pt x="552" y="212"/>
                  </a:lnTo>
                  <a:lnTo>
                    <a:pt x="546" y="196"/>
                  </a:lnTo>
                  <a:lnTo>
                    <a:pt x="534" y="182"/>
                  </a:lnTo>
                  <a:lnTo>
                    <a:pt x="522" y="172"/>
                  </a:lnTo>
                  <a:lnTo>
                    <a:pt x="506" y="164"/>
                  </a:lnTo>
                  <a:lnTo>
                    <a:pt x="488" y="160"/>
                  </a:lnTo>
                  <a:lnTo>
                    <a:pt x="470" y="158"/>
                  </a:lnTo>
                  <a:lnTo>
                    <a:pt x="470" y="15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6024600" y="10004400"/>
              <a:ext cx="431640" cy="11048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272" h="696">
                  <a:moveTo>
                    <a:pt x="194" y="358"/>
                  </a:moveTo>
                  <a:lnTo>
                    <a:pt x="194" y="358"/>
                  </a:lnTo>
                  <a:lnTo>
                    <a:pt x="186" y="358"/>
                  </a:lnTo>
                  <a:lnTo>
                    <a:pt x="186" y="358"/>
                  </a:lnTo>
                  <a:lnTo>
                    <a:pt x="188" y="290"/>
                  </a:lnTo>
                  <a:lnTo>
                    <a:pt x="190" y="210"/>
                  </a:lnTo>
                  <a:lnTo>
                    <a:pt x="190" y="210"/>
                  </a:lnTo>
                  <a:lnTo>
                    <a:pt x="198" y="148"/>
                  </a:lnTo>
                  <a:lnTo>
                    <a:pt x="198" y="148"/>
                  </a:lnTo>
                  <a:lnTo>
                    <a:pt x="206" y="92"/>
                  </a:lnTo>
                  <a:lnTo>
                    <a:pt x="206" y="92"/>
                  </a:lnTo>
                  <a:lnTo>
                    <a:pt x="204" y="74"/>
                  </a:lnTo>
                  <a:lnTo>
                    <a:pt x="198" y="56"/>
                  </a:lnTo>
                  <a:lnTo>
                    <a:pt x="190" y="40"/>
                  </a:lnTo>
                  <a:lnTo>
                    <a:pt x="178" y="26"/>
                  </a:lnTo>
                  <a:lnTo>
                    <a:pt x="164" y="16"/>
                  </a:lnTo>
                  <a:lnTo>
                    <a:pt x="146" y="6"/>
                  </a:lnTo>
                  <a:lnTo>
                    <a:pt x="128" y="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2" y="4"/>
                  </a:lnTo>
                  <a:lnTo>
                    <a:pt x="70" y="8"/>
                  </a:lnTo>
                  <a:lnTo>
                    <a:pt x="56" y="16"/>
                  </a:lnTo>
                  <a:lnTo>
                    <a:pt x="44" y="26"/>
                  </a:lnTo>
                  <a:lnTo>
                    <a:pt x="34" y="38"/>
                  </a:lnTo>
                  <a:lnTo>
                    <a:pt x="26" y="54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6" y="94"/>
                  </a:lnTo>
                  <a:lnTo>
                    <a:pt x="12" y="122"/>
                  </a:lnTo>
                  <a:lnTo>
                    <a:pt x="6" y="192"/>
                  </a:lnTo>
                  <a:lnTo>
                    <a:pt x="2" y="268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70"/>
                  </a:lnTo>
                  <a:lnTo>
                    <a:pt x="2" y="446"/>
                  </a:lnTo>
                  <a:lnTo>
                    <a:pt x="6" y="490"/>
                  </a:lnTo>
                  <a:lnTo>
                    <a:pt x="8" y="534"/>
                  </a:lnTo>
                  <a:lnTo>
                    <a:pt x="14" y="574"/>
                  </a:lnTo>
                  <a:lnTo>
                    <a:pt x="20" y="606"/>
                  </a:lnTo>
                  <a:lnTo>
                    <a:pt x="20" y="606"/>
                  </a:lnTo>
                  <a:lnTo>
                    <a:pt x="30" y="628"/>
                  </a:lnTo>
                  <a:lnTo>
                    <a:pt x="36" y="644"/>
                  </a:lnTo>
                  <a:lnTo>
                    <a:pt x="46" y="660"/>
                  </a:lnTo>
                  <a:lnTo>
                    <a:pt x="60" y="674"/>
                  </a:lnTo>
                  <a:lnTo>
                    <a:pt x="68" y="680"/>
                  </a:lnTo>
                  <a:lnTo>
                    <a:pt x="78" y="686"/>
                  </a:lnTo>
                  <a:lnTo>
                    <a:pt x="88" y="690"/>
                  </a:lnTo>
                  <a:lnTo>
                    <a:pt x="98" y="694"/>
                  </a:lnTo>
                  <a:lnTo>
                    <a:pt x="112" y="696"/>
                  </a:lnTo>
                  <a:lnTo>
                    <a:pt x="124" y="696"/>
                  </a:lnTo>
                  <a:lnTo>
                    <a:pt x="124" y="696"/>
                  </a:lnTo>
                  <a:lnTo>
                    <a:pt x="138" y="696"/>
                  </a:lnTo>
                  <a:lnTo>
                    <a:pt x="152" y="694"/>
                  </a:lnTo>
                  <a:lnTo>
                    <a:pt x="164" y="690"/>
                  </a:lnTo>
                  <a:lnTo>
                    <a:pt x="176" y="684"/>
                  </a:lnTo>
                  <a:lnTo>
                    <a:pt x="186" y="678"/>
                  </a:lnTo>
                  <a:lnTo>
                    <a:pt x="196" y="670"/>
                  </a:lnTo>
                  <a:lnTo>
                    <a:pt x="204" y="662"/>
                  </a:lnTo>
                  <a:lnTo>
                    <a:pt x="212" y="652"/>
                  </a:lnTo>
                  <a:lnTo>
                    <a:pt x="212" y="650"/>
                  </a:lnTo>
                  <a:lnTo>
                    <a:pt x="212" y="650"/>
                  </a:lnTo>
                  <a:lnTo>
                    <a:pt x="218" y="640"/>
                  </a:lnTo>
                  <a:lnTo>
                    <a:pt x="222" y="624"/>
                  </a:lnTo>
                  <a:lnTo>
                    <a:pt x="234" y="568"/>
                  </a:lnTo>
                  <a:lnTo>
                    <a:pt x="234" y="568"/>
                  </a:lnTo>
                  <a:lnTo>
                    <a:pt x="238" y="550"/>
                  </a:lnTo>
                  <a:lnTo>
                    <a:pt x="238" y="550"/>
                  </a:lnTo>
                  <a:lnTo>
                    <a:pt x="246" y="522"/>
                  </a:lnTo>
                  <a:lnTo>
                    <a:pt x="246" y="522"/>
                  </a:lnTo>
                  <a:lnTo>
                    <a:pt x="266" y="466"/>
                  </a:lnTo>
                  <a:lnTo>
                    <a:pt x="270" y="448"/>
                  </a:lnTo>
                  <a:lnTo>
                    <a:pt x="272" y="434"/>
                  </a:lnTo>
                  <a:lnTo>
                    <a:pt x="272" y="434"/>
                  </a:lnTo>
                  <a:lnTo>
                    <a:pt x="270" y="416"/>
                  </a:lnTo>
                  <a:lnTo>
                    <a:pt x="264" y="402"/>
                  </a:lnTo>
                  <a:lnTo>
                    <a:pt x="256" y="388"/>
                  </a:lnTo>
                  <a:lnTo>
                    <a:pt x="246" y="378"/>
                  </a:lnTo>
                  <a:lnTo>
                    <a:pt x="234" y="370"/>
                  </a:lnTo>
                  <a:lnTo>
                    <a:pt x="222" y="364"/>
                  </a:lnTo>
                  <a:lnTo>
                    <a:pt x="208" y="360"/>
                  </a:lnTo>
                  <a:lnTo>
                    <a:pt x="194" y="358"/>
                  </a:lnTo>
                  <a:lnTo>
                    <a:pt x="194" y="358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グループ化 80"/>
          <p:cNvGrpSpPr/>
          <p:nvPr/>
        </p:nvGrpSpPr>
        <p:grpSpPr>
          <a:xfrm>
            <a:off x="-485640" y="14962320"/>
            <a:ext cx="11596680" cy="12496680"/>
            <a:chOff x="-485640" y="14962320"/>
            <a:chExt cx="11596680" cy="12496680"/>
          </a:xfrm>
        </p:grpSpPr>
        <p:sp>
          <p:nvSpPr>
            <p:cNvPr id="115" name="Freeform 5"/>
            <p:cNvSpPr/>
            <p:nvPr/>
          </p:nvSpPr>
          <p:spPr>
            <a:xfrm>
              <a:off x="4537080" y="14962320"/>
              <a:ext cx="5402160" cy="5325840"/>
            </a:xfrm>
            <a:custGeom>
              <a:avLst/>
              <a:gdLst>
                <a:gd name="textAreaLeft" fmla="*/ 0 w 5402160"/>
                <a:gd name="textAreaRight" fmla="*/ 5402520 w 5402160"/>
                <a:gd name="textAreaTop" fmla="*/ 0 h 5325840"/>
                <a:gd name="textAreaBottom" fmla="*/ 5326200 h 5325840"/>
              </a:gdLst>
              <a:ahLst/>
              <a:rect l="textAreaLeft" t="textAreaTop" r="textAreaRight" b="textAreaBottom"/>
              <a:pathLst>
                <a:path w="3403" h="3355">
                  <a:moveTo>
                    <a:pt x="90" y="1761"/>
                  </a:moveTo>
                  <a:lnTo>
                    <a:pt x="90" y="1761"/>
                  </a:lnTo>
                  <a:lnTo>
                    <a:pt x="94" y="1777"/>
                  </a:lnTo>
                  <a:lnTo>
                    <a:pt x="100" y="1791"/>
                  </a:lnTo>
                  <a:lnTo>
                    <a:pt x="108" y="1807"/>
                  </a:lnTo>
                  <a:lnTo>
                    <a:pt x="116" y="1819"/>
                  </a:lnTo>
                  <a:lnTo>
                    <a:pt x="126" y="1833"/>
                  </a:lnTo>
                  <a:lnTo>
                    <a:pt x="138" y="1843"/>
                  </a:lnTo>
                  <a:lnTo>
                    <a:pt x="150" y="1853"/>
                  </a:lnTo>
                  <a:lnTo>
                    <a:pt x="162" y="1863"/>
                  </a:lnTo>
                  <a:lnTo>
                    <a:pt x="176" y="1871"/>
                  </a:lnTo>
                  <a:lnTo>
                    <a:pt x="190" y="1877"/>
                  </a:lnTo>
                  <a:lnTo>
                    <a:pt x="206" y="1883"/>
                  </a:lnTo>
                  <a:lnTo>
                    <a:pt x="222" y="1885"/>
                  </a:lnTo>
                  <a:lnTo>
                    <a:pt x="238" y="1887"/>
                  </a:lnTo>
                  <a:lnTo>
                    <a:pt x="254" y="1889"/>
                  </a:lnTo>
                  <a:lnTo>
                    <a:pt x="270" y="1887"/>
                  </a:lnTo>
                  <a:lnTo>
                    <a:pt x="286" y="1885"/>
                  </a:lnTo>
                  <a:lnTo>
                    <a:pt x="370" y="1865"/>
                  </a:lnTo>
                  <a:lnTo>
                    <a:pt x="519" y="2523"/>
                  </a:lnTo>
                  <a:lnTo>
                    <a:pt x="519" y="2523"/>
                  </a:lnTo>
                  <a:lnTo>
                    <a:pt x="444" y="2557"/>
                  </a:lnTo>
                  <a:lnTo>
                    <a:pt x="342" y="2605"/>
                  </a:lnTo>
                  <a:lnTo>
                    <a:pt x="342" y="2605"/>
                  </a:lnTo>
                  <a:lnTo>
                    <a:pt x="326" y="2613"/>
                  </a:lnTo>
                  <a:lnTo>
                    <a:pt x="312" y="2621"/>
                  </a:lnTo>
                  <a:lnTo>
                    <a:pt x="300" y="2631"/>
                  </a:lnTo>
                  <a:lnTo>
                    <a:pt x="288" y="2643"/>
                  </a:lnTo>
                  <a:lnTo>
                    <a:pt x="278" y="2657"/>
                  </a:lnTo>
                  <a:lnTo>
                    <a:pt x="268" y="2671"/>
                  </a:lnTo>
                  <a:lnTo>
                    <a:pt x="260" y="2685"/>
                  </a:lnTo>
                  <a:lnTo>
                    <a:pt x="254" y="2701"/>
                  </a:lnTo>
                  <a:lnTo>
                    <a:pt x="254" y="2701"/>
                  </a:lnTo>
                  <a:lnTo>
                    <a:pt x="248" y="2717"/>
                  </a:lnTo>
                  <a:lnTo>
                    <a:pt x="246" y="2733"/>
                  </a:lnTo>
                  <a:lnTo>
                    <a:pt x="244" y="2751"/>
                  </a:lnTo>
                  <a:lnTo>
                    <a:pt x="246" y="2767"/>
                  </a:lnTo>
                  <a:lnTo>
                    <a:pt x="248" y="2783"/>
                  </a:lnTo>
                  <a:lnTo>
                    <a:pt x="250" y="2799"/>
                  </a:lnTo>
                  <a:lnTo>
                    <a:pt x="256" y="2815"/>
                  </a:lnTo>
                  <a:lnTo>
                    <a:pt x="264" y="2831"/>
                  </a:lnTo>
                  <a:lnTo>
                    <a:pt x="470" y="3225"/>
                  </a:lnTo>
                  <a:lnTo>
                    <a:pt x="470" y="3225"/>
                  </a:lnTo>
                  <a:lnTo>
                    <a:pt x="480" y="3245"/>
                  </a:lnTo>
                  <a:lnTo>
                    <a:pt x="493" y="3263"/>
                  </a:lnTo>
                  <a:lnTo>
                    <a:pt x="505" y="3279"/>
                  </a:lnTo>
                  <a:lnTo>
                    <a:pt x="519" y="3293"/>
                  </a:lnTo>
                  <a:lnTo>
                    <a:pt x="531" y="3305"/>
                  </a:lnTo>
                  <a:lnTo>
                    <a:pt x="545" y="3317"/>
                  </a:lnTo>
                  <a:lnTo>
                    <a:pt x="557" y="3325"/>
                  </a:lnTo>
                  <a:lnTo>
                    <a:pt x="571" y="3333"/>
                  </a:lnTo>
                  <a:lnTo>
                    <a:pt x="597" y="3345"/>
                  </a:lnTo>
                  <a:lnTo>
                    <a:pt x="621" y="3351"/>
                  </a:lnTo>
                  <a:lnTo>
                    <a:pt x="643" y="3355"/>
                  </a:lnTo>
                  <a:lnTo>
                    <a:pt x="663" y="3355"/>
                  </a:lnTo>
                  <a:lnTo>
                    <a:pt x="663" y="3355"/>
                  </a:lnTo>
                  <a:lnTo>
                    <a:pt x="685" y="3355"/>
                  </a:lnTo>
                  <a:lnTo>
                    <a:pt x="709" y="3351"/>
                  </a:lnTo>
                  <a:lnTo>
                    <a:pt x="709" y="3351"/>
                  </a:lnTo>
                  <a:lnTo>
                    <a:pt x="733" y="3343"/>
                  </a:lnTo>
                  <a:lnTo>
                    <a:pt x="755" y="3333"/>
                  </a:lnTo>
                  <a:lnTo>
                    <a:pt x="777" y="3321"/>
                  </a:lnTo>
                  <a:lnTo>
                    <a:pt x="795" y="3305"/>
                  </a:lnTo>
                  <a:lnTo>
                    <a:pt x="813" y="3287"/>
                  </a:lnTo>
                  <a:lnTo>
                    <a:pt x="827" y="3267"/>
                  </a:lnTo>
                  <a:lnTo>
                    <a:pt x="839" y="3245"/>
                  </a:lnTo>
                  <a:lnTo>
                    <a:pt x="849" y="3219"/>
                  </a:lnTo>
                  <a:lnTo>
                    <a:pt x="849" y="3219"/>
                  </a:lnTo>
                  <a:lnTo>
                    <a:pt x="855" y="3203"/>
                  </a:lnTo>
                  <a:lnTo>
                    <a:pt x="855" y="3203"/>
                  </a:lnTo>
                  <a:lnTo>
                    <a:pt x="989" y="3125"/>
                  </a:lnTo>
                  <a:lnTo>
                    <a:pt x="1153" y="3027"/>
                  </a:lnTo>
                  <a:lnTo>
                    <a:pt x="1327" y="2923"/>
                  </a:lnTo>
                  <a:lnTo>
                    <a:pt x="1409" y="2871"/>
                  </a:lnTo>
                  <a:lnTo>
                    <a:pt x="1485" y="2821"/>
                  </a:lnTo>
                  <a:lnTo>
                    <a:pt x="1485" y="2821"/>
                  </a:lnTo>
                  <a:lnTo>
                    <a:pt x="1501" y="2855"/>
                  </a:lnTo>
                  <a:lnTo>
                    <a:pt x="1521" y="2887"/>
                  </a:lnTo>
                  <a:lnTo>
                    <a:pt x="1541" y="2917"/>
                  </a:lnTo>
                  <a:lnTo>
                    <a:pt x="1561" y="2945"/>
                  </a:lnTo>
                  <a:lnTo>
                    <a:pt x="1585" y="2971"/>
                  </a:lnTo>
                  <a:lnTo>
                    <a:pt x="1609" y="2993"/>
                  </a:lnTo>
                  <a:lnTo>
                    <a:pt x="1635" y="3015"/>
                  </a:lnTo>
                  <a:lnTo>
                    <a:pt x="1663" y="3035"/>
                  </a:lnTo>
                  <a:lnTo>
                    <a:pt x="1693" y="3051"/>
                  </a:lnTo>
                  <a:lnTo>
                    <a:pt x="1723" y="3067"/>
                  </a:lnTo>
                  <a:lnTo>
                    <a:pt x="1755" y="3079"/>
                  </a:lnTo>
                  <a:lnTo>
                    <a:pt x="1787" y="3089"/>
                  </a:lnTo>
                  <a:lnTo>
                    <a:pt x="1823" y="3097"/>
                  </a:lnTo>
                  <a:lnTo>
                    <a:pt x="1859" y="3103"/>
                  </a:lnTo>
                  <a:lnTo>
                    <a:pt x="1895" y="3107"/>
                  </a:lnTo>
                  <a:lnTo>
                    <a:pt x="1933" y="3107"/>
                  </a:lnTo>
                  <a:lnTo>
                    <a:pt x="1933" y="3107"/>
                  </a:lnTo>
                  <a:lnTo>
                    <a:pt x="1965" y="3107"/>
                  </a:lnTo>
                  <a:lnTo>
                    <a:pt x="1995" y="3105"/>
                  </a:lnTo>
                  <a:lnTo>
                    <a:pt x="2055" y="3099"/>
                  </a:lnTo>
                  <a:lnTo>
                    <a:pt x="2109" y="3089"/>
                  </a:lnTo>
                  <a:lnTo>
                    <a:pt x="2159" y="3079"/>
                  </a:lnTo>
                  <a:lnTo>
                    <a:pt x="2839" y="2925"/>
                  </a:lnTo>
                  <a:lnTo>
                    <a:pt x="2839" y="2925"/>
                  </a:lnTo>
                  <a:lnTo>
                    <a:pt x="2899" y="2909"/>
                  </a:lnTo>
                  <a:lnTo>
                    <a:pt x="2961" y="2893"/>
                  </a:lnTo>
                  <a:lnTo>
                    <a:pt x="3021" y="2873"/>
                  </a:lnTo>
                  <a:lnTo>
                    <a:pt x="3049" y="2861"/>
                  </a:lnTo>
                  <a:lnTo>
                    <a:pt x="3079" y="2849"/>
                  </a:lnTo>
                  <a:lnTo>
                    <a:pt x="3107" y="2835"/>
                  </a:lnTo>
                  <a:lnTo>
                    <a:pt x="3133" y="2819"/>
                  </a:lnTo>
                  <a:lnTo>
                    <a:pt x="3161" y="2803"/>
                  </a:lnTo>
                  <a:lnTo>
                    <a:pt x="3187" y="2785"/>
                  </a:lnTo>
                  <a:lnTo>
                    <a:pt x="3211" y="2765"/>
                  </a:lnTo>
                  <a:lnTo>
                    <a:pt x="3235" y="2745"/>
                  </a:lnTo>
                  <a:lnTo>
                    <a:pt x="3257" y="2721"/>
                  </a:lnTo>
                  <a:lnTo>
                    <a:pt x="3277" y="2697"/>
                  </a:lnTo>
                  <a:lnTo>
                    <a:pt x="3277" y="2697"/>
                  </a:lnTo>
                  <a:lnTo>
                    <a:pt x="3295" y="2673"/>
                  </a:lnTo>
                  <a:lnTo>
                    <a:pt x="3311" y="2649"/>
                  </a:lnTo>
                  <a:lnTo>
                    <a:pt x="3327" y="2623"/>
                  </a:lnTo>
                  <a:lnTo>
                    <a:pt x="3339" y="2595"/>
                  </a:lnTo>
                  <a:lnTo>
                    <a:pt x="3351" y="2567"/>
                  </a:lnTo>
                  <a:lnTo>
                    <a:pt x="3363" y="2537"/>
                  </a:lnTo>
                  <a:lnTo>
                    <a:pt x="3373" y="2507"/>
                  </a:lnTo>
                  <a:lnTo>
                    <a:pt x="3381" y="2473"/>
                  </a:lnTo>
                  <a:lnTo>
                    <a:pt x="3387" y="2439"/>
                  </a:lnTo>
                  <a:lnTo>
                    <a:pt x="3393" y="2403"/>
                  </a:lnTo>
                  <a:lnTo>
                    <a:pt x="3397" y="2367"/>
                  </a:lnTo>
                  <a:lnTo>
                    <a:pt x="3401" y="2327"/>
                  </a:lnTo>
                  <a:lnTo>
                    <a:pt x="3403" y="2285"/>
                  </a:lnTo>
                  <a:lnTo>
                    <a:pt x="3403" y="2243"/>
                  </a:lnTo>
                  <a:lnTo>
                    <a:pt x="3401" y="2151"/>
                  </a:lnTo>
                  <a:lnTo>
                    <a:pt x="3401" y="2151"/>
                  </a:lnTo>
                  <a:lnTo>
                    <a:pt x="3399" y="2137"/>
                  </a:lnTo>
                  <a:lnTo>
                    <a:pt x="3397" y="2123"/>
                  </a:lnTo>
                  <a:lnTo>
                    <a:pt x="3393" y="2109"/>
                  </a:lnTo>
                  <a:lnTo>
                    <a:pt x="3389" y="2097"/>
                  </a:lnTo>
                  <a:lnTo>
                    <a:pt x="3377" y="2071"/>
                  </a:lnTo>
                  <a:lnTo>
                    <a:pt x="3359" y="2049"/>
                  </a:lnTo>
                  <a:lnTo>
                    <a:pt x="3341" y="2031"/>
                  </a:lnTo>
                  <a:lnTo>
                    <a:pt x="3317" y="2015"/>
                  </a:lnTo>
                  <a:lnTo>
                    <a:pt x="3305" y="2009"/>
                  </a:lnTo>
                  <a:lnTo>
                    <a:pt x="3291" y="2003"/>
                  </a:lnTo>
                  <a:lnTo>
                    <a:pt x="3279" y="1999"/>
                  </a:lnTo>
                  <a:lnTo>
                    <a:pt x="3263" y="1997"/>
                  </a:lnTo>
                  <a:lnTo>
                    <a:pt x="3263" y="1997"/>
                  </a:lnTo>
                  <a:lnTo>
                    <a:pt x="3181" y="1981"/>
                  </a:lnTo>
                  <a:lnTo>
                    <a:pt x="3181" y="1981"/>
                  </a:lnTo>
                  <a:lnTo>
                    <a:pt x="3187" y="1959"/>
                  </a:lnTo>
                  <a:lnTo>
                    <a:pt x="3193" y="1937"/>
                  </a:lnTo>
                  <a:lnTo>
                    <a:pt x="3199" y="1891"/>
                  </a:lnTo>
                  <a:lnTo>
                    <a:pt x="3201" y="1849"/>
                  </a:lnTo>
                  <a:lnTo>
                    <a:pt x="3201" y="1809"/>
                  </a:lnTo>
                  <a:lnTo>
                    <a:pt x="3197" y="1771"/>
                  </a:lnTo>
                  <a:lnTo>
                    <a:pt x="3191" y="1737"/>
                  </a:lnTo>
                  <a:lnTo>
                    <a:pt x="3181" y="1683"/>
                  </a:lnTo>
                  <a:lnTo>
                    <a:pt x="2939" y="612"/>
                  </a:lnTo>
                  <a:lnTo>
                    <a:pt x="2939" y="612"/>
                  </a:lnTo>
                  <a:lnTo>
                    <a:pt x="2931" y="588"/>
                  </a:lnTo>
                  <a:lnTo>
                    <a:pt x="2921" y="568"/>
                  </a:lnTo>
                  <a:lnTo>
                    <a:pt x="2909" y="548"/>
                  </a:lnTo>
                  <a:lnTo>
                    <a:pt x="2895" y="532"/>
                  </a:lnTo>
                  <a:lnTo>
                    <a:pt x="2877" y="516"/>
                  </a:lnTo>
                  <a:lnTo>
                    <a:pt x="2857" y="504"/>
                  </a:lnTo>
                  <a:lnTo>
                    <a:pt x="2837" y="494"/>
                  </a:lnTo>
                  <a:lnTo>
                    <a:pt x="2815" y="488"/>
                  </a:lnTo>
                  <a:lnTo>
                    <a:pt x="2615" y="442"/>
                  </a:lnTo>
                  <a:lnTo>
                    <a:pt x="2615" y="442"/>
                  </a:lnTo>
                  <a:lnTo>
                    <a:pt x="2599" y="440"/>
                  </a:lnTo>
                  <a:lnTo>
                    <a:pt x="2581" y="438"/>
                  </a:lnTo>
                  <a:lnTo>
                    <a:pt x="2563" y="440"/>
                  </a:lnTo>
                  <a:lnTo>
                    <a:pt x="2547" y="442"/>
                  </a:lnTo>
                  <a:lnTo>
                    <a:pt x="2531" y="446"/>
                  </a:lnTo>
                  <a:lnTo>
                    <a:pt x="2515" y="452"/>
                  </a:lnTo>
                  <a:lnTo>
                    <a:pt x="2499" y="460"/>
                  </a:lnTo>
                  <a:lnTo>
                    <a:pt x="2483" y="470"/>
                  </a:lnTo>
                  <a:lnTo>
                    <a:pt x="2323" y="584"/>
                  </a:lnTo>
                  <a:lnTo>
                    <a:pt x="2263" y="318"/>
                  </a:lnTo>
                  <a:lnTo>
                    <a:pt x="2263" y="318"/>
                  </a:lnTo>
                  <a:lnTo>
                    <a:pt x="2277" y="300"/>
                  </a:lnTo>
                  <a:lnTo>
                    <a:pt x="2287" y="280"/>
                  </a:lnTo>
                  <a:lnTo>
                    <a:pt x="2295" y="260"/>
                  </a:lnTo>
                  <a:lnTo>
                    <a:pt x="2301" y="240"/>
                  </a:lnTo>
                  <a:lnTo>
                    <a:pt x="2305" y="218"/>
                  </a:lnTo>
                  <a:lnTo>
                    <a:pt x="2305" y="198"/>
                  </a:lnTo>
                  <a:lnTo>
                    <a:pt x="2303" y="176"/>
                  </a:lnTo>
                  <a:lnTo>
                    <a:pt x="2301" y="154"/>
                  </a:lnTo>
                  <a:lnTo>
                    <a:pt x="2301" y="154"/>
                  </a:lnTo>
                  <a:lnTo>
                    <a:pt x="2295" y="136"/>
                  </a:lnTo>
                  <a:lnTo>
                    <a:pt x="2289" y="120"/>
                  </a:lnTo>
                  <a:lnTo>
                    <a:pt x="2283" y="106"/>
                  </a:lnTo>
                  <a:lnTo>
                    <a:pt x="2275" y="90"/>
                  </a:lnTo>
                  <a:lnTo>
                    <a:pt x="2265" y="78"/>
                  </a:lnTo>
                  <a:lnTo>
                    <a:pt x="2255" y="64"/>
                  </a:lnTo>
                  <a:lnTo>
                    <a:pt x="2243" y="54"/>
                  </a:lnTo>
                  <a:lnTo>
                    <a:pt x="2231" y="42"/>
                  </a:lnTo>
                  <a:lnTo>
                    <a:pt x="2217" y="34"/>
                  </a:lnTo>
                  <a:lnTo>
                    <a:pt x="2203" y="26"/>
                  </a:lnTo>
                  <a:lnTo>
                    <a:pt x="2187" y="18"/>
                  </a:lnTo>
                  <a:lnTo>
                    <a:pt x="2171" y="12"/>
                  </a:lnTo>
                  <a:lnTo>
                    <a:pt x="2155" y="8"/>
                  </a:lnTo>
                  <a:lnTo>
                    <a:pt x="2137" y="4"/>
                  </a:lnTo>
                  <a:lnTo>
                    <a:pt x="2121" y="2"/>
                  </a:lnTo>
                  <a:lnTo>
                    <a:pt x="2103" y="0"/>
                  </a:lnTo>
                  <a:lnTo>
                    <a:pt x="2103" y="0"/>
                  </a:lnTo>
                  <a:lnTo>
                    <a:pt x="2081" y="2"/>
                  </a:lnTo>
                  <a:lnTo>
                    <a:pt x="2059" y="6"/>
                  </a:lnTo>
                  <a:lnTo>
                    <a:pt x="1623" y="76"/>
                  </a:lnTo>
                  <a:lnTo>
                    <a:pt x="1623" y="76"/>
                  </a:lnTo>
                  <a:lnTo>
                    <a:pt x="1607" y="80"/>
                  </a:lnTo>
                  <a:lnTo>
                    <a:pt x="1591" y="84"/>
                  </a:lnTo>
                  <a:lnTo>
                    <a:pt x="1575" y="92"/>
                  </a:lnTo>
                  <a:lnTo>
                    <a:pt x="1561" y="100"/>
                  </a:lnTo>
                  <a:lnTo>
                    <a:pt x="1547" y="110"/>
                  </a:lnTo>
                  <a:lnTo>
                    <a:pt x="1535" y="120"/>
                  </a:lnTo>
                  <a:lnTo>
                    <a:pt x="1523" y="132"/>
                  </a:lnTo>
                  <a:lnTo>
                    <a:pt x="1513" y="146"/>
                  </a:lnTo>
                  <a:lnTo>
                    <a:pt x="1513" y="146"/>
                  </a:lnTo>
                  <a:lnTo>
                    <a:pt x="1505" y="160"/>
                  </a:lnTo>
                  <a:lnTo>
                    <a:pt x="1497" y="176"/>
                  </a:lnTo>
                  <a:lnTo>
                    <a:pt x="1493" y="192"/>
                  </a:lnTo>
                  <a:lnTo>
                    <a:pt x="1489" y="208"/>
                  </a:lnTo>
                  <a:lnTo>
                    <a:pt x="1485" y="224"/>
                  </a:lnTo>
                  <a:lnTo>
                    <a:pt x="1485" y="242"/>
                  </a:lnTo>
                  <a:lnTo>
                    <a:pt x="1487" y="258"/>
                  </a:lnTo>
                  <a:lnTo>
                    <a:pt x="1489" y="274"/>
                  </a:lnTo>
                  <a:lnTo>
                    <a:pt x="1505" y="342"/>
                  </a:lnTo>
                  <a:lnTo>
                    <a:pt x="1103" y="404"/>
                  </a:lnTo>
                  <a:lnTo>
                    <a:pt x="1103" y="404"/>
                  </a:lnTo>
                  <a:lnTo>
                    <a:pt x="1087" y="408"/>
                  </a:lnTo>
                  <a:lnTo>
                    <a:pt x="1069" y="412"/>
                  </a:lnTo>
                  <a:lnTo>
                    <a:pt x="1055" y="420"/>
                  </a:lnTo>
                  <a:lnTo>
                    <a:pt x="1039" y="428"/>
                  </a:lnTo>
                  <a:lnTo>
                    <a:pt x="1027" y="436"/>
                  </a:lnTo>
                  <a:lnTo>
                    <a:pt x="1013" y="448"/>
                  </a:lnTo>
                  <a:lnTo>
                    <a:pt x="1001" y="460"/>
                  </a:lnTo>
                  <a:lnTo>
                    <a:pt x="991" y="474"/>
                  </a:lnTo>
                  <a:lnTo>
                    <a:pt x="991" y="474"/>
                  </a:lnTo>
                  <a:lnTo>
                    <a:pt x="983" y="488"/>
                  </a:lnTo>
                  <a:lnTo>
                    <a:pt x="975" y="504"/>
                  </a:lnTo>
                  <a:lnTo>
                    <a:pt x="969" y="520"/>
                  </a:lnTo>
                  <a:lnTo>
                    <a:pt x="965" y="536"/>
                  </a:lnTo>
                  <a:lnTo>
                    <a:pt x="963" y="552"/>
                  </a:lnTo>
                  <a:lnTo>
                    <a:pt x="963" y="570"/>
                  </a:lnTo>
                  <a:lnTo>
                    <a:pt x="965" y="586"/>
                  </a:lnTo>
                  <a:lnTo>
                    <a:pt x="967" y="602"/>
                  </a:lnTo>
                  <a:lnTo>
                    <a:pt x="1051" y="973"/>
                  </a:lnTo>
                  <a:lnTo>
                    <a:pt x="965" y="991"/>
                  </a:lnTo>
                  <a:lnTo>
                    <a:pt x="895" y="678"/>
                  </a:lnTo>
                  <a:lnTo>
                    <a:pt x="895" y="678"/>
                  </a:lnTo>
                  <a:lnTo>
                    <a:pt x="911" y="660"/>
                  </a:lnTo>
                  <a:lnTo>
                    <a:pt x="923" y="640"/>
                  </a:lnTo>
                  <a:lnTo>
                    <a:pt x="933" y="618"/>
                  </a:lnTo>
                  <a:lnTo>
                    <a:pt x="941" y="596"/>
                  </a:lnTo>
                  <a:lnTo>
                    <a:pt x="945" y="574"/>
                  </a:lnTo>
                  <a:lnTo>
                    <a:pt x="947" y="550"/>
                  </a:lnTo>
                  <a:lnTo>
                    <a:pt x="945" y="528"/>
                  </a:lnTo>
                  <a:lnTo>
                    <a:pt x="941" y="504"/>
                  </a:lnTo>
                  <a:lnTo>
                    <a:pt x="941" y="504"/>
                  </a:lnTo>
                  <a:lnTo>
                    <a:pt x="937" y="486"/>
                  </a:lnTo>
                  <a:lnTo>
                    <a:pt x="931" y="470"/>
                  </a:lnTo>
                  <a:lnTo>
                    <a:pt x="925" y="456"/>
                  </a:lnTo>
                  <a:lnTo>
                    <a:pt x="917" y="442"/>
                  </a:lnTo>
                  <a:lnTo>
                    <a:pt x="907" y="428"/>
                  </a:lnTo>
                  <a:lnTo>
                    <a:pt x="897" y="416"/>
                  </a:lnTo>
                  <a:lnTo>
                    <a:pt x="885" y="404"/>
                  </a:lnTo>
                  <a:lnTo>
                    <a:pt x="873" y="392"/>
                  </a:lnTo>
                  <a:lnTo>
                    <a:pt x="859" y="384"/>
                  </a:lnTo>
                  <a:lnTo>
                    <a:pt x="845" y="374"/>
                  </a:lnTo>
                  <a:lnTo>
                    <a:pt x="831" y="368"/>
                  </a:lnTo>
                  <a:lnTo>
                    <a:pt x="815" y="362"/>
                  </a:lnTo>
                  <a:lnTo>
                    <a:pt x="799" y="356"/>
                  </a:lnTo>
                  <a:lnTo>
                    <a:pt x="781" y="352"/>
                  </a:lnTo>
                  <a:lnTo>
                    <a:pt x="765" y="350"/>
                  </a:lnTo>
                  <a:lnTo>
                    <a:pt x="747" y="350"/>
                  </a:lnTo>
                  <a:lnTo>
                    <a:pt x="747" y="350"/>
                  </a:lnTo>
                  <a:lnTo>
                    <a:pt x="727" y="352"/>
                  </a:lnTo>
                  <a:lnTo>
                    <a:pt x="707" y="354"/>
                  </a:lnTo>
                  <a:lnTo>
                    <a:pt x="226" y="432"/>
                  </a:lnTo>
                  <a:lnTo>
                    <a:pt x="226" y="432"/>
                  </a:lnTo>
                  <a:lnTo>
                    <a:pt x="208" y="436"/>
                  </a:lnTo>
                  <a:lnTo>
                    <a:pt x="192" y="440"/>
                  </a:lnTo>
                  <a:lnTo>
                    <a:pt x="178" y="448"/>
                  </a:lnTo>
                  <a:lnTo>
                    <a:pt x="164" y="456"/>
                  </a:lnTo>
                  <a:lnTo>
                    <a:pt x="150" y="466"/>
                  </a:lnTo>
                  <a:lnTo>
                    <a:pt x="138" y="476"/>
                  </a:lnTo>
                  <a:lnTo>
                    <a:pt x="126" y="488"/>
                  </a:lnTo>
                  <a:lnTo>
                    <a:pt x="116" y="502"/>
                  </a:lnTo>
                  <a:lnTo>
                    <a:pt x="116" y="502"/>
                  </a:lnTo>
                  <a:lnTo>
                    <a:pt x="106" y="516"/>
                  </a:lnTo>
                  <a:lnTo>
                    <a:pt x="100" y="532"/>
                  </a:lnTo>
                  <a:lnTo>
                    <a:pt x="94" y="548"/>
                  </a:lnTo>
                  <a:lnTo>
                    <a:pt x="90" y="564"/>
                  </a:lnTo>
                  <a:lnTo>
                    <a:pt x="88" y="580"/>
                  </a:lnTo>
                  <a:lnTo>
                    <a:pt x="88" y="598"/>
                  </a:lnTo>
                  <a:lnTo>
                    <a:pt x="88" y="614"/>
                  </a:lnTo>
                  <a:lnTo>
                    <a:pt x="92" y="630"/>
                  </a:lnTo>
                  <a:lnTo>
                    <a:pt x="212" y="1163"/>
                  </a:lnTo>
                  <a:lnTo>
                    <a:pt x="128" y="1181"/>
                  </a:lnTo>
                  <a:lnTo>
                    <a:pt x="128" y="1181"/>
                  </a:lnTo>
                  <a:lnTo>
                    <a:pt x="112" y="1185"/>
                  </a:lnTo>
                  <a:lnTo>
                    <a:pt x="96" y="1191"/>
                  </a:lnTo>
                  <a:lnTo>
                    <a:pt x="82" y="1199"/>
                  </a:lnTo>
                  <a:lnTo>
                    <a:pt x="68" y="1207"/>
                  </a:lnTo>
                  <a:lnTo>
                    <a:pt x="56" y="1217"/>
                  </a:lnTo>
                  <a:lnTo>
                    <a:pt x="44" y="1229"/>
                  </a:lnTo>
                  <a:lnTo>
                    <a:pt x="34" y="1241"/>
                  </a:lnTo>
                  <a:lnTo>
                    <a:pt x="24" y="1253"/>
                  </a:lnTo>
                  <a:lnTo>
                    <a:pt x="24" y="1253"/>
                  </a:lnTo>
                  <a:lnTo>
                    <a:pt x="16" y="1267"/>
                  </a:lnTo>
                  <a:lnTo>
                    <a:pt x="10" y="1283"/>
                  </a:lnTo>
                  <a:lnTo>
                    <a:pt x="6" y="1297"/>
                  </a:lnTo>
                  <a:lnTo>
                    <a:pt x="2" y="1313"/>
                  </a:lnTo>
                  <a:lnTo>
                    <a:pt x="0" y="1329"/>
                  </a:lnTo>
                  <a:lnTo>
                    <a:pt x="0" y="1345"/>
                  </a:lnTo>
                  <a:lnTo>
                    <a:pt x="0" y="1361"/>
                  </a:lnTo>
                  <a:lnTo>
                    <a:pt x="4" y="1377"/>
                  </a:lnTo>
                  <a:lnTo>
                    <a:pt x="90" y="1761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5361120" y="20739240"/>
              <a:ext cx="5749920" cy="5607000"/>
            </a:xfrm>
            <a:custGeom>
              <a:avLst/>
              <a:gdLst>
                <a:gd name="textAreaLeft" fmla="*/ 0 w 5749920"/>
                <a:gd name="textAreaRight" fmla="*/ 5750280 w 5749920"/>
                <a:gd name="textAreaTop" fmla="*/ 0 h 5607000"/>
                <a:gd name="textAreaBottom" fmla="*/ 5607000 h 5607000"/>
              </a:gdLst>
              <a:ahLst/>
              <a:rect l="textAreaLeft" t="textAreaTop" r="textAreaRight" b="textAreaBottom"/>
              <a:pathLst>
                <a:path w="3622" h="3532">
                  <a:moveTo>
                    <a:pt x="3568" y="2194"/>
                  </a:moveTo>
                  <a:lnTo>
                    <a:pt x="3568" y="2194"/>
                  </a:lnTo>
                  <a:lnTo>
                    <a:pt x="3550" y="2178"/>
                  </a:lnTo>
                  <a:lnTo>
                    <a:pt x="3530" y="2168"/>
                  </a:lnTo>
                  <a:lnTo>
                    <a:pt x="3510" y="2158"/>
                  </a:lnTo>
                  <a:lnTo>
                    <a:pt x="3488" y="2154"/>
                  </a:lnTo>
                  <a:lnTo>
                    <a:pt x="3464" y="2150"/>
                  </a:lnTo>
                  <a:lnTo>
                    <a:pt x="3442" y="2152"/>
                  </a:lnTo>
                  <a:lnTo>
                    <a:pt x="3420" y="2156"/>
                  </a:lnTo>
                  <a:lnTo>
                    <a:pt x="3396" y="2162"/>
                  </a:lnTo>
                  <a:lnTo>
                    <a:pt x="3396" y="2162"/>
                  </a:lnTo>
                  <a:lnTo>
                    <a:pt x="3324" y="2190"/>
                  </a:lnTo>
                  <a:lnTo>
                    <a:pt x="3324" y="2190"/>
                  </a:lnTo>
                  <a:lnTo>
                    <a:pt x="3376" y="2128"/>
                  </a:lnTo>
                  <a:lnTo>
                    <a:pt x="3376" y="2128"/>
                  </a:lnTo>
                  <a:lnTo>
                    <a:pt x="3388" y="2110"/>
                  </a:lnTo>
                  <a:lnTo>
                    <a:pt x="3400" y="2092"/>
                  </a:lnTo>
                  <a:lnTo>
                    <a:pt x="3408" y="2070"/>
                  </a:lnTo>
                  <a:lnTo>
                    <a:pt x="3412" y="2048"/>
                  </a:lnTo>
                  <a:lnTo>
                    <a:pt x="3414" y="2026"/>
                  </a:lnTo>
                  <a:lnTo>
                    <a:pt x="3414" y="2004"/>
                  </a:lnTo>
                  <a:lnTo>
                    <a:pt x="3410" y="1982"/>
                  </a:lnTo>
                  <a:lnTo>
                    <a:pt x="3402" y="1962"/>
                  </a:lnTo>
                  <a:lnTo>
                    <a:pt x="3402" y="1962"/>
                  </a:lnTo>
                  <a:lnTo>
                    <a:pt x="3392" y="1940"/>
                  </a:lnTo>
                  <a:lnTo>
                    <a:pt x="3380" y="1922"/>
                  </a:lnTo>
                  <a:lnTo>
                    <a:pt x="3366" y="1906"/>
                  </a:lnTo>
                  <a:lnTo>
                    <a:pt x="3350" y="1890"/>
                  </a:lnTo>
                  <a:lnTo>
                    <a:pt x="3330" y="1878"/>
                  </a:lnTo>
                  <a:lnTo>
                    <a:pt x="3310" y="1870"/>
                  </a:lnTo>
                  <a:lnTo>
                    <a:pt x="3290" y="1862"/>
                  </a:lnTo>
                  <a:lnTo>
                    <a:pt x="3266" y="1858"/>
                  </a:lnTo>
                  <a:lnTo>
                    <a:pt x="3266" y="1858"/>
                  </a:lnTo>
                  <a:lnTo>
                    <a:pt x="3220" y="1854"/>
                  </a:lnTo>
                  <a:lnTo>
                    <a:pt x="3172" y="1846"/>
                  </a:lnTo>
                  <a:lnTo>
                    <a:pt x="3122" y="1838"/>
                  </a:lnTo>
                  <a:lnTo>
                    <a:pt x="3072" y="1826"/>
                  </a:lnTo>
                  <a:lnTo>
                    <a:pt x="3020" y="1814"/>
                  </a:lnTo>
                  <a:lnTo>
                    <a:pt x="2968" y="1796"/>
                  </a:lnTo>
                  <a:lnTo>
                    <a:pt x="2916" y="1776"/>
                  </a:lnTo>
                  <a:lnTo>
                    <a:pt x="2862" y="1754"/>
                  </a:lnTo>
                  <a:lnTo>
                    <a:pt x="3170" y="1684"/>
                  </a:lnTo>
                  <a:lnTo>
                    <a:pt x="3170" y="1684"/>
                  </a:lnTo>
                  <a:lnTo>
                    <a:pt x="3186" y="1680"/>
                  </a:lnTo>
                  <a:lnTo>
                    <a:pt x="3200" y="1674"/>
                  </a:lnTo>
                  <a:lnTo>
                    <a:pt x="3216" y="1666"/>
                  </a:lnTo>
                  <a:lnTo>
                    <a:pt x="3228" y="1658"/>
                  </a:lnTo>
                  <a:lnTo>
                    <a:pt x="3242" y="1648"/>
                  </a:lnTo>
                  <a:lnTo>
                    <a:pt x="3254" y="1636"/>
                  </a:lnTo>
                  <a:lnTo>
                    <a:pt x="3264" y="1624"/>
                  </a:lnTo>
                  <a:lnTo>
                    <a:pt x="3274" y="1610"/>
                  </a:lnTo>
                  <a:lnTo>
                    <a:pt x="3274" y="1610"/>
                  </a:lnTo>
                  <a:lnTo>
                    <a:pt x="3282" y="1596"/>
                  </a:lnTo>
                  <a:lnTo>
                    <a:pt x="3288" y="1582"/>
                  </a:lnTo>
                  <a:lnTo>
                    <a:pt x="3292" y="1566"/>
                  </a:lnTo>
                  <a:lnTo>
                    <a:pt x="3296" y="1550"/>
                  </a:lnTo>
                  <a:lnTo>
                    <a:pt x="3298" y="1534"/>
                  </a:lnTo>
                  <a:lnTo>
                    <a:pt x="3298" y="1518"/>
                  </a:lnTo>
                  <a:lnTo>
                    <a:pt x="3298" y="1502"/>
                  </a:lnTo>
                  <a:lnTo>
                    <a:pt x="3294" y="1486"/>
                  </a:lnTo>
                  <a:lnTo>
                    <a:pt x="3206" y="1098"/>
                  </a:lnTo>
                  <a:lnTo>
                    <a:pt x="3206" y="1098"/>
                  </a:lnTo>
                  <a:lnTo>
                    <a:pt x="3202" y="1082"/>
                  </a:lnTo>
                  <a:lnTo>
                    <a:pt x="3196" y="1068"/>
                  </a:lnTo>
                  <a:lnTo>
                    <a:pt x="3190" y="1054"/>
                  </a:lnTo>
                  <a:lnTo>
                    <a:pt x="3180" y="1040"/>
                  </a:lnTo>
                  <a:lnTo>
                    <a:pt x="3172" y="1028"/>
                  </a:lnTo>
                  <a:lnTo>
                    <a:pt x="3160" y="1016"/>
                  </a:lnTo>
                  <a:lnTo>
                    <a:pt x="3150" y="1006"/>
                  </a:lnTo>
                  <a:lnTo>
                    <a:pt x="3136" y="998"/>
                  </a:lnTo>
                  <a:lnTo>
                    <a:pt x="3124" y="990"/>
                  </a:lnTo>
                  <a:lnTo>
                    <a:pt x="3110" y="982"/>
                  </a:lnTo>
                  <a:lnTo>
                    <a:pt x="3096" y="978"/>
                  </a:lnTo>
                  <a:lnTo>
                    <a:pt x="3080" y="974"/>
                  </a:lnTo>
                  <a:lnTo>
                    <a:pt x="3064" y="972"/>
                  </a:lnTo>
                  <a:lnTo>
                    <a:pt x="3048" y="970"/>
                  </a:lnTo>
                  <a:lnTo>
                    <a:pt x="3032" y="970"/>
                  </a:lnTo>
                  <a:lnTo>
                    <a:pt x="3016" y="972"/>
                  </a:lnTo>
                  <a:lnTo>
                    <a:pt x="3016" y="972"/>
                  </a:lnTo>
                  <a:lnTo>
                    <a:pt x="3014" y="956"/>
                  </a:lnTo>
                  <a:lnTo>
                    <a:pt x="2932" y="594"/>
                  </a:lnTo>
                  <a:lnTo>
                    <a:pt x="2932" y="594"/>
                  </a:lnTo>
                  <a:lnTo>
                    <a:pt x="2928" y="578"/>
                  </a:lnTo>
                  <a:lnTo>
                    <a:pt x="2922" y="564"/>
                  </a:lnTo>
                  <a:lnTo>
                    <a:pt x="2914" y="548"/>
                  </a:lnTo>
                  <a:lnTo>
                    <a:pt x="2906" y="536"/>
                  </a:lnTo>
                  <a:lnTo>
                    <a:pt x="2896" y="522"/>
                  </a:lnTo>
                  <a:lnTo>
                    <a:pt x="2884" y="512"/>
                  </a:lnTo>
                  <a:lnTo>
                    <a:pt x="2872" y="502"/>
                  </a:lnTo>
                  <a:lnTo>
                    <a:pt x="2860" y="492"/>
                  </a:lnTo>
                  <a:lnTo>
                    <a:pt x="2846" y="484"/>
                  </a:lnTo>
                  <a:lnTo>
                    <a:pt x="2832" y="478"/>
                  </a:lnTo>
                  <a:lnTo>
                    <a:pt x="2816" y="472"/>
                  </a:lnTo>
                  <a:lnTo>
                    <a:pt x="2800" y="470"/>
                  </a:lnTo>
                  <a:lnTo>
                    <a:pt x="2784" y="468"/>
                  </a:lnTo>
                  <a:lnTo>
                    <a:pt x="2768" y="466"/>
                  </a:lnTo>
                  <a:lnTo>
                    <a:pt x="2752" y="468"/>
                  </a:lnTo>
                  <a:lnTo>
                    <a:pt x="2736" y="470"/>
                  </a:lnTo>
                  <a:lnTo>
                    <a:pt x="2694" y="480"/>
                  </a:lnTo>
                  <a:lnTo>
                    <a:pt x="2694" y="480"/>
                  </a:lnTo>
                  <a:lnTo>
                    <a:pt x="2710" y="422"/>
                  </a:lnTo>
                  <a:lnTo>
                    <a:pt x="2710" y="422"/>
                  </a:lnTo>
                  <a:lnTo>
                    <a:pt x="2730" y="408"/>
                  </a:lnTo>
                  <a:lnTo>
                    <a:pt x="2730" y="408"/>
                  </a:lnTo>
                  <a:lnTo>
                    <a:pt x="2752" y="386"/>
                  </a:lnTo>
                  <a:lnTo>
                    <a:pt x="2772" y="364"/>
                  </a:lnTo>
                  <a:lnTo>
                    <a:pt x="2786" y="338"/>
                  </a:lnTo>
                  <a:lnTo>
                    <a:pt x="2798" y="312"/>
                  </a:lnTo>
                  <a:lnTo>
                    <a:pt x="2806" y="284"/>
                  </a:lnTo>
                  <a:lnTo>
                    <a:pt x="2810" y="256"/>
                  </a:lnTo>
                  <a:lnTo>
                    <a:pt x="2810" y="226"/>
                  </a:lnTo>
                  <a:lnTo>
                    <a:pt x="2806" y="198"/>
                  </a:lnTo>
                  <a:lnTo>
                    <a:pt x="2806" y="198"/>
                  </a:lnTo>
                  <a:lnTo>
                    <a:pt x="2798" y="174"/>
                  </a:lnTo>
                  <a:lnTo>
                    <a:pt x="2790" y="152"/>
                  </a:lnTo>
                  <a:lnTo>
                    <a:pt x="2778" y="132"/>
                  </a:lnTo>
                  <a:lnTo>
                    <a:pt x="2764" y="114"/>
                  </a:lnTo>
                  <a:lnTo>
                    <a:pt x="2748" y="96"/>
                  </a:lnTo>
                  <a:lnTo>
                    <a:pt x="2730" y="82"/>
                  </a:lnTo>
                  <a:lnTo>
                    <a:pt x="2710" y="70"/>
                  </a:lnTo>
                  <a:lnTo>
                    <a:pt x="2688" y="60"/>
                  </a:lnTo>
                  <a:lnTo>
                    <a:pt x="2688" y="60"/>
                  </a:lnTo>
                  <a:lnTo>
                    <a:pt x="2666" y="52"/>
                  </a:lnTo>
                  <a:lnTo>
                    <a:pt x="2644" y="46"/>
                  </a:lnTo>
                  <a:lnTo>
                    <a:pt x="2608" y="42"/>
                  </a:lnTo>
                  <a:lnTo>
                    <a:pt x="2184" y="0"/>
                  </a:lnTo>
                  <a:lnTo>
                    <a:pt x="2184" y="0"/>
                  </a:lnTo>
                  <a:lnTo>
                    <a:pt x="2168" y="0"/>
                  </a:lnTo>
                  <a:lnTo>
                    <a:pt x="2152" y="0"/>
                  </a:lnTo>
                  <a:lnTo>
                    <a:pt x="2138" y="4"/>
                  </a:lnTo>
                  <a:lnTo>
                    <a:pt x="2122" y="6"/>
                  </a:lnTo>
                  <a:lnTo>
                    <a:pt x="2108" y="12"/>
                  </a:lnTo>
                  <a:lnTo>
                    <a:pt x="2094" y="18"/>
                  </a:lnTo>
                  <a:lnTo>
                    <a:pt x="2082" y="24"/>
                  </a:lnTo>
                  <a:lnTo>
                    <a:pt x="2070" y="34"/>
                  </a:lnTo>
                  <a:lnTo>
                    <a:pt x="2058" y="44"/>
                  </a:lnTo>
                  <a:lnTo>
                    <a:pt x="2046" y="54"/>
                  </a:lnTo>
                  <a:lnTo>
                    <a:pt x="2038" y="66"/>
                  </a:lnTo>
                  <a:lnTo>
                    <a:pt x="2028" y="78"/>
                  </a:lnTo>
                  <a:lnTo>
                    <a:pt x="2022" y="92"/>
                  </a:lnTo>
                  <a:lnTo>
                    <a:pt x="2014" y="106"/>
                  </a:lnTo>
                  <a:lnTo>
                    <a:pt x="2010" y="120"/>
                  </a:lnTo>
                  <a:lnTo>
                    <a:pt x="2006" y="136"/>
                  </a:lnTo>
                  <a:lnTo>
                    <a:pt x="2006" y="136"/>
                  </a:lnTo>
                  <a:lnTo>
                    <a:pt x="1984" y="248"/>
                  </a:lnTo>
                  <a:lnTo>
                    <a:pt x="1960" y="354"/>
                  </a:lnTo>
                  <a:lnTo>
                    <a:pt x="1930" y="454"/>
                  </a:lnTo>
                  <a:lnTo>
                    <a:pt x="1900" y="550"/>
                  </a:lnTo>
                  <a:lnTo>
                    <a:pt x="1900" y="550"/>
                  </a:lnTo>
                  <a:lnTo>
                    <a:pt x="1848" y="502"/>
                  </a:lnTo>
                  <a:lnTo>
                    <a:pt x="1796" y="456"/>
                  </a:lnTo>
                  <a:lnTo>
                    <a:pt x="1740" y="410"/>
                  </a:lnTo>
                  <a:lnTo>
                    <a:pt x="1684" y="364"/>
                  </a:lnTo>
                  <a:lnTo>
                    <a:pt x="1626" y="320"/>
                  </a:lnTo>
                  <a:lnTo>
                    <a:pt x="1566" y="278"/>
                  </a:lnTo>
                  <a:lnTo>
                    <a:pt x="1506" y="238"/>
                  </a:lnTo>
                  <a:lnTo>
                    <a:pt x="1448" y="200"/>
                  </a:lnTo>
                  <a:lnTo>
                    <a:pt x="1448" y="200"/>
                  </a:lnTo>
                  <a:lnTo>
                    <a:pt x="1434" y="194"/>
                  </a:lnTo>
                  <a:lnTo>
                    <a:pt x="1420" y="188"/>
                  </a:lnTo>
                  <a:lnTo>
                    <a:pt x="1406" y="182"/>
                  </a:lnTo>
                  <a:lnTo>
                    <a:pt x="1392" y="180"/>
                  </a:lnTo>
                  <a:lnTo>
                    <a:pt x="1378" y="178"/>
                  </a:lnTo>
                  <a:lnTo>
                    <a:pt x="1362" y="176"/>
                  </a:lnTo>
                  <a:lnTo>
                    <a:pt x="1348" y="176"/>
                  </a:lnTo>
                  <a:lnTo>
                    <a:pt x="1334" y="178"/>
                  </a:lnTo>
                  <a:lnTo>
                    <a:pt x="1320" y="182"/>
                  </a:lnTo>
                  <a:lnTo>
                    <a:pt x="1306" y="186"/>
                  </a:lnTo>
                  <a:lnTo>
                    <a:pt x="1292" y="192"/>
                  </a:lnTo>
                  <a:lnTo>
                    <a:pt x="1280" y="198"/>
                  </a:lnTo>
                  <a:lnTo>
                    <a:pt x="1268" y="206"/>
                  </a:lnTo>
                  <a:lnTo>
                    <a:pt x="1256" y="216"/>
                  </a:lnTo>
                  <a:lnTo>
                    <a:pt x="1244" y="226"/>
                  </a:lnTo>
                  <a:lnTo>
                    <a:pt x="1234" y="236"/>
                  </a:lnTo>
                  <a:lnTo>
                    <a:pt x="982" y="544"/>
                  </a:lnTo>
                  <a:lnTo>
                    <a:pt x="982" y="544"/>
                  </a:lnTo>
                  <a:lnTo>
                    <a:pt x="972" y="558"/>
                  </a:lnTo>
                  <a:lnTo>
                    <a:pt x="964" y="572"/>
                  </a:lnTo>
                  <a:lnTo>
                    <a:pt x="956" y="588"/>
                  </a:lnTo>
                  <a:lnTo>
                    <a:pt x="952" y="604"/>
                  </a:lnTo>
                  <a:lnTo>
                    <a:pt x="948" y="620"/>
                  </a:lnTo>
                  <a:lnTo>
                    <a:pt x="946" y="636"/>
                  </a:lnTo>
                  <a:lnTo>
                    <a:pt x="944" y="652"/>
                  </a:lnTo>
                  <a:lnTo>
                    <a:pt x="946" y="670"/>
                  </a:lnTo>
                  <a:lnTo>
                    <a:pt x="946" y="670"/>
                  </a:lnTo>
                  <a:lnTo>
                    <a:pt x="952" y="694"/>
                  </a:lnTo>
                  <a:lnTo>
                    <a:pt x="960" y="718"/>
                  </a:lnTo>
                  <a:lnTo>
                    <a:pt x="960" y="718"/>
                  </a:lnTo>
                  <a:lnTo>
                    <a:pt x="902" y="682"/>
                  </a:lnTo>
                  <a:lnTo>
                    <a:pt x="844" y="646"/>
                  </a:lnTo>
                  <a:lnTo>
                    <a:pt x="784" y="610"/>
                  </a:lnTo>
                  <a:lnTo>
                    <a:pt x="724" y="576"/>
                  </a:lnTo>
                  <a:lnTo>
                    <a:pt x="608" y="514"/>
                  </a:lnTo>
                  <a:lnTo>
                    <a:pt x="504" y="460"/>
                  </a:lnTo>
                  <a:lnTo>
                    <a:pt x="484" y="450"/>
                  </a:lnTo>
                  <a:lnTo>
                    <a:pt x="484" y="450"/>
                  </a:lnTo>
                  <a:lnTo>
                    <a:pt x="470" y="444"/>
                  </a:lnTo>
                  <a:lnTo>
                    <a:pt x="456" y="440"/>
                  </a:lnTo>
                  <a:lnTo>
                    <a:pt x="442" y="436"/>
                  </a:lnTo>
                  <a:lnTo>
                    <a:pt x="428" y="434"/>
                  </a:lnTo>
                  <a:lnTo>
                    <a:pt x="414" y="432"/>
                  </a:lnTo>
                  <a:lnTo>
                    <a:pt x="398" y="432"/>
                  </a:lnTo>
                  <a:lnTo>
                    <a:pt x="384" y="434"/>
                  </a:lnTo>
                  <a:lnTo>
                    <a:pt x="370" y="436"/>
                  </a:lnTo>
                  <a:lnTo>
                    <a:pt x="356" y="440"/>
                  </a:lnTo>
                  <a:lnTo>
                    <a:pt x="344" y="446"/>
                  </a:lnTo>
                  <a:lnTo>
                    <a:pt x="330" y="452"/>
                  </a:lnTo>
                  <a:lnTo>
                    <a:pt x="318" y="460"/>
                  </a:lnTo>
                  <a:lnTo>
                    <a:pt x="306" y="468"/>
                  </a:lnTo>
                  <a:lnTo>
                    <a:pt x="296" y="478"/>
                  </a:lnTo>
                  <a:lnTo>
                    <a:pt x="284" y="488"/>
                  </a:lnTo>
                  <a:lnTo>
                    <a:pt x="276" y="500"/>
                  </a:lnTo>
                  <a:lnTo>
                    <a:pt x="32" y="832"/>
                  </a:lnTo>
                  <a:lnTo>
                    <a:pt x="32" y="832"/>
                  </a:lnTo>
                  <a:lnTo>
                    <a:pt x="22" y="848"/>
                  </a:lnTo>
                  <a:lnTo>
                    <a:pt x="14" y="864"/>
                  </a:lnTo>
                  <a:lnTo>
                    <a:pt x="8" y="880"/>
                  </a:lnTo>
                  <a:lnTo>
                    <a:pt x="4" y="898"/>
                  </a:lnTo>
                  <a:lnTo>
                    <a:pt x="2" y="916"/>
                  </a:lnTo>
                  <a:lnTo>
                    <a:pt x="0" y="934"/>
                  </a:lnTo>
                  <a:lnTo>
                    <a:pt x="2" y="952"/>
                  </a:lnTo>
                  <a:lnTo>
                    <a:pt x="6" y="970"/>
                  </a:lnTo>
                  <a:lnTo>
                    <a:pt x="6" y="970"/>
                  </a:lnTo>
                  <a:lnTo>
                    <a:pt x="10" y="986"/>
                  </a:lnTo>
                  <a:lnTo>
                    <a:pt x="18" y="1004"/>
                  </a:lnTo>
                  <a:lnTo>
                    <a:pt x="26" y="1018"/>
                  </a:lnTo>
                  <a:lnTo>
                    <a:pt x="38" y="1034"/>
                  </a:lnTo>
                  <a:lnTo>
                    <a:pt x="48" y="1046"/>
                  </a:lnTo>
                  <a:lnTo>
                    <a:pt x="62" y="1058"/>
                  </a:lnTo>
                  <a:lnTo>
                    <a:pt x="76" y="1068"/>
                  </a:lnTo>
                  <a:lnTo>
                    <a:pt x="92" y="1078"/>
                  </a:lnTo>
                  <a:lnTo>
                    <a:pt x="92" y="1078"/>
                  </a:lnTo>
                  <a:lnTo>
                    <a:pt x="170" y="1118"/>
                  </a:lnTo>
                  <a:lnTo>
                    <a:pt x="246" y="1162"/>
                  </a:lnTo>
                  <a:lnTo>
                    <a:pt x="320" y="1208"/>
                  </a:lnTo>
                  <a:lnTo>
                    <a:pt x="392" y="1254"/>
                  </a:lnTo>
                  <a:lnTo>
                    <a:pt x="460" y="1300"/>
                  </a:lnTo>
                  <a:lnTo>
                    <a:pt x="520" y="1342"/>
                  </a:lnTo>
                  <a:lnTo>
                    <a:pt x="612" y="1408"/>
                  </a:lnTo>
                  <a:lnTo>
                    <a:pt x="632" y="1424"/>
                  </a:lnTo>
                  <a:lnTo>
                    <a:pt x="632" y="1424"/>
                  </a:lnTo>
                  <a:lnTo>
                    <a:pt x="646" y="1432"/>
                  </a:lnTo>
                  <a:lnTo>
                    <a:pt x="660" y="1440"/>
                  </a:lnTo>
                  <a:lnTo>
                    <a:pt x="676" y="1446"/>
                  </a:lnTo>
                  <a:lnTo>
                    <a:pt x="690" y="1450"/>
                  </a:lnTo>
                  <a:lnTo>
                    <a:pt x="706" y="1454"/>
                  </a:lnTo>
                  <a:lnTo>
                    <a:pt x="722" y="1456"/>
                  </a:lnTo>
                  <a:lnTo>
                    <a:pt x="738" y="1456"/>
                  </a:lnTo>
                  <a:lnTo>
                    <a:pt x="756" y="1454"/>
                  </a:lnTo>
                  <a:lnTo>
                    <a:pt x="756" y="1454"/>
                  </a:lnTo>
                  <a:lnTo>
                    <a:pt x="772" y="1450"/>
                  </a:lnTo>
                  <a:lnTo>
                    <a:pt x="786" y="1444"/>
                  </a:lnTo>
                  <a:lnTo>
                    <a:pt x="802" y="1438"/>
                  </a:lnTo>
                  <a:lnTo>
                    <a:pt x="816" y="1430"/>
                  </a:lnTo>
                  <a:lnTo>
                    <a:pt x="828" y="1422"/>
                  </a:lnTo>
                  <a:lnTo>
                    <a:pt x="842" y="1412"/>
                  </a:lnTo>
                  <a:lnTo>
                    <a:pt x="852" y="1400"/>
                  </a:lnTo>
                  <a:lnTo>
                    <a:pt x="862" y="1386"/>
                  </a:lnTo>
                  <a:lnTo>
                    <a:pt x="862" y="1386"/>
                  </a:lnTo>
                  <a:lnTo>
                    <a:pt x="952" y="1264"/>
                  </a:lnTo>
                  <a:lnTo>
                    <a:pt x="1048" y="1138"/>
                  </a:lnTo>
                  <a:lnTo>
                    <a:pt x="1048" y="1138"/>
                  </a:lnTo>
                  <a:lnTo>
                    <a:pt x="1050" y="1134"/>
                  </a:lnTo>
                  <a:lnTo>
                    <a:pt x="1108" y="1388"/>
                  </a:lnTo>
                  <a:lnTo>
                    <a:pt x="1108" y="1388"/>
                  </a:lnTo>
                  <a:lnTo>
                    <a:pt x="1112" y="1402"/>
                  </a:lnTo>
                  <a:lnTo>
                    <a:pt x="1116" y="1414"/>
                  </a:lnTo>
                  <a:lnTo>
                    <a:pt x="1116" y="1414"/>
                  </a:lnTo>
                  <a:lnTo>
                    <a:pt x="1106" y="1422"/>
                  </a:lnTo>
                  <a:lnTo>
                    <a:pt x="1106" y="1422"/>
                  </a:lnTo>
                  <a:lnTo>
                    <a:pt x="1088" y="1418"/>
                  </a:lnTo>
                  <a:lnTo>
                    <a:pt x="1070" y="1418"/>
                  </a:lnTo>
                  <a:lnTo>
                    <a:pt x="1050" y="1418"/>
                  </a:lnTo>
                  <a:lnTo>
                    <a:pt x="1030" y="1422"/>
                  </a:lnTo>
                  <a:lnTo>
                    <a:pt x="330" y="1580"/>
                  </a:lnTo>
                  <a:lnTo>
                    <a:pt x="330" y="1580"/>
                  </a:lnTo>
                  <a:lnTo>
                    <a:pt x="314" y="1584"/>
                  </a:lnTo>
                  <a:lnTo>
                    <a:pt x="300" y="1590"/>
                  </a:lnTo>
                  <a:lnTo>
                    <a:pt x="286" y="1598"/>
                  </a:lnTo>
                  <a:lnTo>
                    <a:pt x="272" y="1606"/>
                  </a:lnTo>
                  <a:lnTo>
                    <a:pt x="260" y="1616"/>
                  </a:lnTo>
                  <a:lnTo>
                    <a:pt x="248" y="1628"/>
                  </a:lnTo>
                  <a:lnTo>
                    <a:pt x="238" y="1640"/>
                  </a:lnTo>
                  <a:lnTo>
                    <a:pt x="228" y="1652"/>
                  </a:lnTo>
                  <a:lnTo>
                    <a:pt x="228" y="1652"/>
                  </a:lnTo>
                  <a:lnTo>
                    <a:pt x="220" y="1666"/>
                  </a:lnTo>
                  <a:lnTo>
                    <a:pt x="214" y="1682"/>
                  </a:lnTo>
                  <a:lnTo>
                    <a:pt x="208" y="1696"/>
                  </a:lnTo>
                  <a:lnTo>
                    <a:pt x="204" y="1712"/>
                  </a:lnTo>
                  <a:lnTo>
                    <a:pt x="202" y="1728"/>
                  </a:lnTo>
                  <a:lnTo>
                    <a:pt x="202" y="1744"/>
                  </a:lnTo>
                  <a:lnTo>
                    <a:pt x="204" y="1760"/>
                  </a:lnTo>
                  <a:lnTo>
                    <a:pt x="206" y="1776"/>
                  </a:lnTo>
                  <a:lnTo>
                    <a:pt x="294" y="2164"/>
                  </a:lnTo>
                  <a:lnTo>
                    <a:pt x="294" y="2164"/>
                  </a:lnTo>
                  <a:lnTo>
                    <a:pt x="298" y="2182"/>
                  </a:lnTo>
                  <a:lnTo>
                    <a:pt x="304" y="2196"/>
                  </a:lnTo>
                  <a:lnTo>
                    <a:pt x="312" y="2212"/>
                  </a:lnTo>
                  <a:lnTo>
                    <a:pt x="320" y="2224"/>
                  </a:lnTo>
                  <a:lnTo>
                    <a:pt x="330" y="2238"/>
                  </a:lnTo>
                  <a:lnTo>
                    <a:pt x="342" y="2248"/>
                  </a:lnTo>
                  <a:lnTo>
                    <a:pt x="354" y="2258"/>
                  </a:lnTo>
                  <a:lnTo>
                    <a:pt x="366" y="2268"/>
                  </a:lnTo>
                  <a:lnTo>
                    <a:pt x="380" y="2276"/>
                  </a:lnTo>
                  <a:lnTo>
                    <a:pt x="396" y="2282"/>
                  </a:lnTo>
                  <a:lnTo>
                    <a:pt x="410" y="2288"/>
                  </a:lnTo>
                  <a:lnTo>
                    <a:pt x="426" y="2290"/>
                  </a:lnTo>
                  <a:lnTo>
                    <a:pt x="442" y="2292"/>
                  </a:lnTo>
                  <a:lnTo>
                    <a:pt x="458" y="2294"/>
                  </a:lnTo>
                  <a:lnTo>
                    <a:pt x="474" y="2292"/>
                  </a:lnTo>
                  <a:lnTo>
                    <a:pt x="492" y="2290"/>
                  </a:lnTo>
                  <a:lnTo>
                    <a:pt x="592" y="2266"/>
                  </a:lnTo>
                  <a:lnTo>
                    <a:pt x="686" y="2684"/>
                  </a:lnTo>
                  <a:lnTo>
                    <a:pt x="686" y="2684"/>
                  </a:lnTo>
                  <a:lnTo>
                    <a:pt x="652" y="2718"/>
                  </a:lnTo>
                  <a:lnTo>
                    <a:pt x="620" y="2748"/>
                  </a:lnTo>
                  <a:lnTo>
                    <a:pt x="562" y="2800"/>
                  </a:lnTo>
                  <a:lnTo>
                    <a:pt x="512" y="2838"/>
                  </a:lnTo>
                  <a:lnTo>
                    <a:pt x="478" y="2864"/>
                  </a:lnTo>
                  <a:lnTo>
                    <a:pt x="478" y="2864"/>
                  </a:lnTo>
                  <a:lnTo>
                    <a:pt x="464" y="2876"/>
                  </a:lnTo>
                  <a:lnTo>
                    <a:pt x="452" y="2888"/>
                  </a:lnTo>
                  <a:lnTo>
                    <a:pt x="442" y="2900"/>
                  </a:lnTo>
                  <a:lnTo>
                    <a:pt x="432" y="2914"/>
                  </a:lnTo>
                  <a:lnTo>
                    <a:pt x="424" y="2930"/>
                  </a:lnTo>
                  <a:lnTo>
                    <a:pt x="418" y="2946"/>
                  </a:lnTo>
                  <a:lnTo>
                    <a:pt x="414" y="2962"/>
                  </a:lnTo>
                  <a:lnTo>
                    <a:pt x="410" y="2978"/>
                  </a:lnTo>
                  <a:lnTo>
                    <a:pt x="410" y="2978"/>
                  </a:lnTo>
                  <a:lnTo>
                    <a:pt x="410" y="2996"/>
                  </a:lnTo>
                  <a:lnTo>
                    <a:pt x="410" y="3012"/>
                  </a:lnTo>
                  <a:lnTo>
                    <a:pt x="412" y="3028"/>
                  </a:lnTo>
                  <a:lnTo>
                    <a:pt x="416" y="3046"/>
                  </a:lnTo>
                  <a:lnTo>
                    <a:pt x="422" y="3060"/>
                  </a:lnTo>
                  <a:lnTo>
                    <a:pt x="430" y="3076"/>
                  </a:lnTo>
                  <a:lnTo>
                    <a:pt x="438" y="3090"/>
                  </a:lnTo>
                  <a:lnTo>
                    <a:pt x="448" y="3104"/>
                  </a:lnTo>
                  <a:lnTo>
                    <a:pt x="736" y="3446"/>
                  </a:lnTo>
                  <a:lnTo>
                    <a:pt x="736" y="3446"/>
                  </a:lnTo>
                  <a:lnTo>
                    <a:pt x="752" y="3464"/>
                  </a:lnTo>
                  <a:lnTo>
                    <a:pt x="770" y="3482"/>
                  </a:lnTo>
                  <a:lnTo>
                    <a:pt x="790" y="3496"/>
                  </a:lnTo>
                  <a:lnTo>
                    <a:pt x="810" y="3510"/>
                  </a:lnTo>
                  <a:lnTo>
                    <a:pt x="834" y="3520"/>
                  </a:lnTo>
                  <a:lnTo>
                    <a:pt x="856" y="3526"/>
                  </a:lnTo>
                  <a:lnTo>
                    <a:pt x="880" y="3530"/>
                  </a:lnTo>
                  <a:lnTo>
                    <a:pt x="904" y="3532"/>
                  </a:lnTo>
                  <a:lnTo>
                    <a:pt x="904" y="3532"/>
                  </a:lnTo>
                  <a:lnTo>
                    <a:pt x="928" y="3530"/>
                  </a:lnTo>
                  <a:lnTo>
                    <a:pt x="950" y="3526"/>
                  </a:lnTo>
                  <a:lnTo>
                    <a:pt x="950" y="3526"/>
                  </a:lnTo>
                  <a:lnTo>
                    <a:pt x="966" y="3522"/>
                  </a:lnTo>
                  <a:lnTo>
                    <a:pt x="982" y="3518"/>
                  </a:lnTo>
                  <a:lnTo>
                    <a:pt x="998" y="3510"/>
                  </a:lnTo>
                  <a:lnTo>
                    <a:pt x="1012" y="3502"/>
                  </a:lnTo>
                  <a:lnTo>
                    <a:pt x="1024" y="3494"/>
                  </a:lnTo>
                  <a:lnTo>
                    <a:pt x="1038" y="3484"/>
                  </a:lnTo>
                  <a:lnTo>
                    <a:pt x="1050" y="3474"/>
                  </a:lnTo>
                  <a:lnTo>
                    <a:pt x="1060" y="3462"/>
                  </a:lnTo>
                  <a:lnTo>
                    <a:pt x="1070" y="3450"/>
                  </a:lnTo>
                  <a:lnTo>
                    <a:pt x="1078" y="3436"/>
                  </a:lnTo>
                  <a:lnTo>
                    <a:pt x="1086" y="3422"/>
                  </a:lnTo>
                  <a:lnTo>
                    <a:pt x="1092" y="3408"/>
                  </a:lnTo>
                  <a:lnTo>
                    <a:pt x="1098" y="3392"/>
                  </a:lnTo>
                  <a:lnTo>
                    <a:pt x="1102" y="3376"/>
                  </a:lnTo>
                  <a:lnTo>
                    <a:pt x="1106" y="3360"/>
                  </a:lnTo>
                  <a:lnTo>
                    <a:pt x="1108" y="3342"/>
                  </a:lnTo>
                  <a:lnTo>
                    <a:pt x="1108" y="3342"/>
                  </a:lnTo>
                  <a:lnTo>
                    <a:pt x="1108" y="3316"/>
                  </a:lnTo>
                  <a:lnTo>
                    <a:pt x="1108" y="3316"/>
                  </a:lnTo>
                  <a:lnTo>
                    <a:pt x="1168" y="3248"/>
                  </a:lnTo>
                  <a:lnTo>
                    <a:pt x="1168" y="3248"/>
                  </a:lnTo>
                  <a:lnTo>
                    <a:pt x="1210" y="3198"/>
                  </a:lnTo>
                  <a:lnTo>
                    <a:pt x="1210" y="3198"/>
                  </a:lnTo>
                  <a:lnTo>
                    <a:pt x="1260" y="3222"/>
                  </a:lnTo>
                  <a:lnTo>
                    <a:pt x="1310" y="3242"/>
                  </a:lnTo>
                  <a:lnTo>
                    <a:pt x="1362" y="3258"/>
                  </a:lnTo>
                  <a:lnTo>
                    <a:pt x="1414" y="3272"/>
                  </a:lnTo>
                  <a:lnTo>
                    <a:pt x="1470" y="3284"/>
                  </a:lnTo>
                  <a:lnTo>
                    <a:pt x="1526" y="3292"/>
                  </a:lnTo>
                  <a:lnTo>
                    <a:pt x="1584" y="3296"/>
                  </a:lnTo>
                  <a:lnTo>
                    <a:pt x="1644" y="3298"/>
                  </a:lnTo>
                  <a:lnTo>
                    <a:pt x="1644" y="3298"/>
                  </a:lnTo>
                  <a:lnTo>
                    <a:pt x="1708" y="3296"/>
                  </a:lnTo>
                  <a:lnTo>
                    <a:pt x="1770" y="3292"/>
                  </a:lnTo>
                  <a:lnTo>
                    <a:pt x="1830" y="3284"/>
                  </a:lnTo>
                  <a:lnTo>
                    <a:pt x="1888" y="3276"/>
                  </a:lnTo>
                  <a:lnTo>
                    <a:pt x="1946" y="3266"/>
                  </a:lnTo>
                  <a:lnTo>
                    <a:pt x="2000" y="3254"/>
                  </a:lnTo>
                  <a:lnTo>
                    <a:pt x="2102" y="3232"/>
                  </a:lnTo>
                  <a:lnTo>
                    <a:pt x="3452" y="2928"/>
                  </a:lnTo>
                  <a:lnTo>
                    <a:pt x="3452" y="2928"/>
                  </a:lnTo>
                  <a:lnTo>
                    <a:pt x="3468" y="2922"/>
                  </a:lnTo>
                  <a:lnTo>
                    <a:pt x="3484" y="2916"/>
                  </a:lnTo>
                  <a:lnTo>
                    <a:pt x="3498" y="2910"/>
                  </a:lnTo>
                  <a:lnTo>
                    <a:pt x="3512" y="2900"/>
                  </a:lnTo>
                  <a:lnTo>
                    <a:pt x="3524" y="2890"/>
                  </a:lnTo>
                  <a:lnTo>
                    <a:pt x="3534" y="2880"/>
                  </a:lnTo>
                  <a:lnTo>
                    <a:pt x="3546" y="2868"/>
                  </a:lnTo>
                  <a:lnTo>
                    <a:pt x="3554" y="2854"/>
                  </a:lnTo>
                  <a:lnTo>
                    <a:pt x="3562" y="2842"/>
                  </a:lnTo>
                  <a:lnTo>
                    <a:pt x="3568" y="2826"/>
                  </a:lnTo>
                  <a:lnTo>
                    <a:pt x="3574" y="2812"/>
                  </a:lnTo>
                  <a:lnTo>
                    <a:pt x="3578" y="2796"/>
                  </a:lnTo>
                  <a:lnTo>
                    <a:pt x="3580" y="2780"/>
                  </a:lnTo>
                  <a:lnTo>
                    <a:pt x="3580" y="2764"/>
                  </a:lnTo>
                  <a:lnTo>
                    <a:pt x="3578" y="2748"/>
                  </a:lnTo>
                  <a:lnTo>
                    <a:pt x="3576" y="2730"/>
                  </a:lnTo>
                  <a:lnTo>
                    <a:pt x="3576" y="2730"/>
                  </a:lnTo>
                  <a:lnTo>
                    <a:pt x="3568" y="2694"/>
                  </a:lnTo>
                  <a:lnTo>
                    <a:pt x="3564" y="2660"/>
                  </a:lnTo>
                  <a:lnTo>
                    <a:pt x="3562" y="2626"/>
                  </a:lnTo>
                  <a:lnTo>
                    <a:pt x="3564" y="2590"/>
                  </a:lnTo>
                  <a:lnTo>
                    <a:pt x="3570" y="2546"/>
                  </a:lnTo>
                  <a:lnTo>
                    <a:pt x="3580" y="2496"/>
                  </a:lnTo>
                  <a:lnTo>
                    <a:pt x="3596" y="2436"/>
                  </a:lnTo>
                  <a:lnTo>
                    <a:pt x="3616" y="2360"/>
                  </a:lnTo>
                  <a:lnTo>
                    <a:pt x="3616" y="2360"/>
                  </a:lnTo>
                  <a:lnTo>
                    <a:pt x="3622" y="2338"/>
                  </a:lnTo>
                  <a:lnTo>
                    <a:pt x="3622" y="2314"/>
                  </a:lnTo>
                  <a:lnTo>
                    <a:pt x="3622" y="2292"/>
                  </a:lnTo>
                  <a:lnTo>
                    <a:pt x="3616" y="2270"/>
                  </a:lnTo>
                  <a:lnTo>
                    <a:pt x="3608" y="2248"/>
                  </a:lnTo>
                  <a:lnTo>
                    <a:pt x="3598" y="2228"/>
                  </a:lnTo>
                  <a:lnTo>
                    <a:pt x="3584" y="2210"/>
                  </a:lnTo>
                  <a:lnTo>
                    <a:pt x="3568" y="2194"/>
                  </a:lnTo>
                  <a:lnTo>
                    <a:pt x="3568" y="2194"/>
                  </a:lnTo>
                  <a:close/>
                  <a:moveTo>
                    <a:pt x="1602" y="2038"/>
                  </a:moveTo>
                  <a:lnTo>
                    <a:pt x="1602" y="2038"/>
                  </a:lnTo>
                  <a:lnTo>
                    <a:pt x="1582" y="2064"/>
                  </a:lnTo>
                  <a:lnTo>
                    <a:pt x="1560" y="2090"/>
                  </a:lnTo>
                  <a:lnTo>
                    <a:pt x="1536" y="2116"/>
                  </a:lnTo>
                  <a:lnTo>
                    <a:pt x="1510" y="2140"/>
                  </a:lnTo>
                  <a:lnTo>
                    <a:pt x="1452" y="2192"/>
                  </a:lnTo>
                  <a:lnTo>
                    <a:pt x="1386" y="2246"/>
                  </a:lnTo>
                  <a:lnTo>
                    <a:pt x="1352" y="2094"/>
                  </a:lnTo>
                  <a:lnTo>
                    <a:pt x="1602" y="2038"/>
                  </a:lnTo>
                  <a:close/>
                  <a:moveTo>
                    <a:pt x="2562" y="2410"/>
                  </a:moveTo>
                  <a:lnTo>
                    <a:pt x="2562" y="2410"/>
                  </a:lnTo>
                  <a:lnTo>
                    <a:pt x="2376" y="2456"/>
                  </a:lnTo>
                  <a:lnTo>
                    <a:pt x="2160" y="2506"/>
                  </a:lnTo>
                  <a:lnTo>
                    <a:pt x="2160" y="2506"/>
                  </a:lnTo>
                  <a:lnTo>
                    <a:pt x="2206" y="2446"/>
                  </a:lnTo>
                  <a:lnTo>
                    <a:pt x="2250" y="2386"/>
                  </a:lnTo>
                  <a:lnTo>
                    <a:pt x="2288" y="2324"/>
                  </a:lnTo>
                  <a:lnTo>
                    <a:pt x="2324" y="2260"/>
                  </a:lnTo>
                  <a:lnTo>
                    <a:pt x="2324" y="2260"/>
                  </a:lnTo>
                  <a:lnTo>
                    <a:pt x="2376" y="2298"/>
                  </a:lnTo>
                  <a:lnTo>
                    <a:pt x="2434" y="2336"/>
                  </a:lnTo>
                  <a:lnTo>
                    <a:pt x="2496" y="2374"/>
                  </a:lnTo>
                  <a:lnTo>
                    <a:pt x="2562" y="2410"/>
                  </a:lnTo>
                  <a:lnTo>
                    <a:pt x="2562" y="241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-485640" y="16130520"/>
              <a:ext cx="5394240" cy="5437080"/>
            </a:xfrm>
            <a:custGeom>
              <a:avLst/>
              <a:gdLst>
                <a:gd name="textAreaLeft" fmla="*/ 0 w 5394240"/>
                <a:gd name="textAreaRight" fmla="*/ 5394240 w 5394240"/>
                <a:gd name="textAreaTop" fmla="*/ 0 h 5437080"/>
                <a:gd name="textAreaBottom" fmla="*/ 5437440 h 5437080"/>
              </a:gdLst>
              <a:ahLst/>
              <a:rect l="textAreaLeft" t="textAreaTop" r="textAreaRight" b="textAreaBottom"/>
              <a:pathLst>
                <a:path w="3398" h="3425">
                  <a:moveTo>
                    <a:pt x="828" y="3425"/>
                  </a:moveTo>
                  <a:lnTo>
                    <a:pt x="828" y="3425"/>
                  </a:lnTo>
                  <a:lnTo>
                    <a:pt x="852" y="3423"/>
                  </a:lnTo>
                  <a:lnTo>
                    <a:pt x="874" y="3419"/>
                  </a:lnTo>
                  <a:lnTo>
                    <a:pt x="896" y="3411"/>
                  </a:lnTo>
                  <a:lnTo>
                    <a:pt x="916" y="3399"/>
                  </a:lnTo>
                  <a:lnTo>
                    <a:pt x="934" y="3387"/>
                  </a:lnTo>
                  <a:lnTo>
                    <a:pt x="952" y="3371"/>
                  </a:lnTo>
                  <a:lnTo>
                    <a:pt x="966" y="3351"/>
                  </a:lnTo>
                  <a:lnTo>
                    <a:pt x="978" y="3331"/>
                  </a:lnTo>
                  <a:lnTo>
                    <a:pt x="978" y="3331"/>
                  </a:lnTo>
                  <a:lnTo>
                    <a:pt x="994" y="3295"/>
                  </a:lnTo>
                  <a:lnTo>
                    <a:pt x="1008" y="3259"/>
                  </a:lnTo>
                  <a:lnTo>
                    <a:pt x="1008" y="3259"/>
                  </a:lnTo>
                  <a:lnTo>
                    <a:pt x="1032" y="3267"/>
                  </a:lnTo>
                  <a:lnTo>
                    <a:pt x="1056" y="3271"/>
                  </a:lnTo>
                  <a:lnTo>
                    <a:pt x="1080" y="3271"/>
                  </a:lnTo>
                  <a:lnTo>
                    <a:pt x="1106" y="3267"/>
                  </a:lnTo>
                  <a:lnTo>
                    <a:pt x="3270" y="2779"/>
                  </a:lnTo>
                  <a:lnTo>
                    <a:pt x="3270" y="2779"/>
                  </a:lnTo>
                  <a:lnTo>
                    <a:pt x="3286" y="2773"/>
                  </a:lnTo>
                  <a:lnTo>
                    <a:pt x="3302" y="2767"/>
                  </a:lnTo>
                  <a:lnTo>
                    <a:pt x="3316" y="2761"/>
                  </a:lnTo>
                  <a:lnTo>
                    <a:pt x="3328" y="2751"/>
                  </a:lnTo>
                  <a:lnTo>
                    <a:pt x="3342" y="2743"/>
                  </a:lnTo>
                  <a:lnTo>
                    <a:pt x="3354" y="2731"/>
                  </a:lnTo>
                  <a:lnTo>
                    <a:pt x="3364" y="2719"/>
                  </a:lnTo>
                  <a:lnTo>
                    <a:pt x="3374" y="2705"/>
                  </a:lnTo>
                  <a:lnTo>
                    <a:pt x="3374" y="2705"/>
                  </a:lnTo>
                  <a:lnTo>
                    <a:pt x="3382" y="2691"/>
                  </a:lnTo>
                  <a:lnTo>
                    <a:pt x="3388" y="2677"/>
                  </a:lnTo>
                  <a:lnTo>
                    <a:pt x="3392" y="2661"/>
                  </a:lnTo>
                  <a:lnTo>
                    <a:pt x="3396" y="2645"/>
                  </a:lnTo>
                  <a:lnTo>
                    <a:pt x="3398" y="2629"/>
                  </a:lnTo>
                  <a:lnTo>
                    <a:pt x="3398" y="2613"/>
                  </a:lnTo>
                  <a:lnTo>
                    <a:pt x="3398" y="2597"/>
                  </a:lnTo>
                  <a:lnTo>
                    <a:pt x="3394" y="2581"/>
                  </a:lnTo>
                  <a:lnTo>
                    <a:pt x="3318" y="2245"/>
                  </a:lnTo>
                  <a:lnTo>
                    <a:pt x="3318" y="2245"/>
                  </a:lnTo>
                  <a:lnTo>
                    <a:pt x="3314" y="2229"/>
                  </a:lnTo>
                  <a:lnTo>
                    <a:pt x="3308" y="2215"/>
                  </a:lnTo>
                  <a:lnTo>
                    <a:pt x="3300" y="2199"/>
                  </a:lnTo>
                  <a:lnTo>
                    <a:pt x="3292" y="2187"/>
                  </a:lnTo>
                  <a:lnTo>
                    <a:pt x="3282" y="2173"/>
                  </a:lnTo>
                  <a:lnTo>
                    <a:pt x="3270" y="2163"/>
                  </a:lnTo>
                  <a:lnTo>
                    <a:pt x="3258" y="2153"/>
                  </a:lnTo>
                  <a:lnTo>
                    <a:pt x="3246" y="2143"/>
                  </a:lnTo>
                  <a:lnTo>
                    <a:pt x="3232" y="2135"/>
                  </a:lnTo>
                  <a:lnTo>
                    <a:pt x="3218" y="2129"/>
                  </a:lnTo>
                  <a:lnTo>
                    <a:pt x="3202" y="2123"/>
                  </a:lnTo>
                  <a:lnTo>
                    <a:pt x="3188" y="2121"/>
                  </a:lnTo>
                  <a:lnTo>
                    <a:pt x="3172" y="2119"/>
                  </a:lnTo>
                  <a:lnTo>
                    <a:pt x="3154" y="2117"/>
                  </a:lnTo>
                  <a:lnTo>
                    <a:pt x="3138" y="2119"/>
                  </a:lnTo>
                  <a:lnTo>
                    <a:pt x="3122" y="2121"/>
                  </a:lnTo>
                  <a:lnTo>
                    <a:pt x="2952" y="2159"/>
                  </a:lnTo>
                  <a:lnTo>
                    <a:pt x="2952" y="2159"/>
                  </a:lnTo>
                  <a:lnTo>
                    <a:pt x="2950" y="2149"/>
                  </a:lnTo>
                  <a:lnTo>
                    <a:pt x="2878" y="1825"/>
                  </a:lnTo>
                  <a:lnTo>
                    <a:pt x="2894" y="1821"/>
                  </a:lnTo>
                  <a:lnTo>
                    <a:pt x="2894" y="1821"/>
                  </a:lnTo>
                  <a:lnTo>
                    <a:pt x="2908" y="1817"/>
                  </a:lnTo>
                  <a:lnTo>
                    <a:pt x="2924" y="1811"/>
                  </a:lnTo>
                  <a:lnTo>
                    <a:pt x="2938" y="1805"/>
                  </a:lnTo>
                  <a:lnTo>
                    <a:pt x="2952" y="1795"/>
                  </a:lnTo>
                  <a:lnTo>
                    <a:pt x="2964" y="1785"/>
                  </a:lnTo>
                  <a:lnTo>
                    <a:pt x="2976" y="1775"/>
                  </a:lnTo>
                  <a:lnTo>
                    <a:pt x="2986" y="1763"/>
                  </a:lnTo>
                  <a:lnTo>
                    <a:pt x="2996" y="1749"/>
                  </a:lnTo>
                  <a:lnTo>
                    <a:pt x="2996" y="1749"/>
                  </a:lnTo>
                  <a:lnTo>
                    <a:pt x="3004" y="1735"/>
                  </a:lnTo>
                  <a:lnTo>
                    <a:pt x="3010" y="1719"/>
                  </a:lnTo>
                  <a:lnTo>
                    <a:pt x="3016" y="1705"/>
                  </a:lnTo>
                  <a:lnTo>
                    <a:pt x="3020" y="1689"/>
                  </a:lnTo>
                  <a:lnTo>
                    <a:pt x="3022" y="1673"/>
                  </a:lnTo>
                  <a:lnTo>
                    <a:pt x="3022" y="1657"/>
                  </a:lnTo>
                  <a:lnTo>
                    <a:pt x="3020" y="1641"/>
                  </a:lnTo>
                  <a:lnTo>
                    <a:pt x="3018" y="1625"/>
                  </a:lnTo>
                  <a:lnTo>
                    <a:pt x="2944" y="1295"/>
                  </a:lnTo>
                  <a:lnTo>
                    <a:pt x="2944" y="1295"/>
                  </a:lnTo>
                  <a:lnTo>
                    <a:pt x="2934" y="1269"/>
                  </a:lnTo>
                  <a:lnTo>
                    <a:pt x="2922" y="1245"/>
                  </a:lnTo>
                  <a:lnTo>
                    <a:pt x="2922" y="1245"/>
                  </a:lnTo>
                  <a:lnTo>
                    <a:pt x="2942" y="1233"/>
                  </a:lnTo>
                  <a:lnTo>
                    <a:pt x="2960" y="1219"/>
                  </a:lnTo>
                  <a:lnTo>
                    <a:pt x="2976" y="1203"/>
                  </a:lnTo>
                  <a:lnTo>
                    <a:pt x="2990" y="1185"/>
                  </a:lnTo>
                  <a:lnTo>
                    <a:pt x="2990" y="1185"/>
                  </a:lnTo>
                  <a:lnTo>
                    <a:pt x="2998" y="1171"/>
                  </a:lnTo>
                  <a:lnTo>
                    <a:pt x="3004" y="1155"/>
                  </a:lnTo>
                  <a:lnTo>
                    <a:pt x="3008" y="1141"/>
                  </a:lnTo>
                  <a:lnTo>
                    <a:pt x="3012" y="1125"/>
                  </a:lnTo>
                  <a:lnTo>
                    <a:pt x="3014" y="1109"/>
                  </a:lnTo>
                  <a:lnTo>
                    <a:pt x="3014" y="1093"/>
                  </a:lnTo>
                  <a:lnTo>
                    <a:pt x="3014" y="1077"/>
                  </a:lnTo>
                  <a:lnTo>
                    <a:pt x="3010" y="1061"/>
                  </a:lnTo>
                  <a:lnTo>
                    <a:pt x="2932" y="713"/>
                  </a:lnTo>
                  <a:lnTo>
                    <a:pt x="2932" y="713"/>
                  </a:lnTo>
                  <a:lnTo>
                    <a:pt x="2926" y="693"/>
                  </a:lnTo>
                  <a:lnTo>
                    <a:pt x="2916" y="673"/>
                  </a:lnTo>
                  <a:lnTo>
                    <a:pt x="2906" y="655"/>
                  </a:lnTo>
                  <a:lnTo>
                    <a:pt x="2892" y="639"/>
                  </a:lnTo>
                  <a:lnTo>
                    <a:pt x="2878" y="623"/>
                  </a:lnTo>
                  <a:lnTo>
                    <a:pt x="2860" y="611"/>
                  </a:lnTo>
                  <a:lnTo>
                    <a:pt x="2842" y="601"/>
                  </a:lnTo>
                  <a:lnTo>
                    <a:pt x="2822" y="593"/>
                  </a:lnTo>
                  <a:lnTo>
                    <a:pt x="2822" y="593"/>
                  </a:lnTo>
                  <a:lnTo>
                    <a:pt x="2830" y="579"/>
                  </a:lnTo>
                  <a:lnTo>
                    <a:pt x="2838" y="565"/>
                  </a:lnTo>
                  <a:lnTo>
                    <a:pt x="2844" y="549"/>
                  </a:lnTo>
                  <a:lnTo>
                    <a:pt x="2846" y="533"/>
                  </a:lnTo>
                  <a:lnTo>
                    <a:pt x="2850" y="517"/>
                  </a:lnTo>
                  <a:lnTo>
                    <a:pt x="2850" y="501"/>
                  </a:lnTo>
                  <a:lnTo>
                    <a:pt x="2848" y="485"/>
                  </a:lnTo>
                  <a:lnTo>
                    <a:pt x="2846" y="467"/>
                  </a:lnTo>
                  <a:lnTo>
                    <a:pt x="2770" y="129"/>
                  </a:lnTo>
                  <a:lnTo>
                    <a:pt x="2770" y="129"/>
                  </a:lnTo>
                  <a:lnTo>
                    <a:pt x="2764" y="113"/>
                  </a:lnTo>
                  <a:lnTo>
                    <a:pt x="2758" y="99"/>
                  </a:lnTo>
                  <a:lnTo>
                    <a:pt x="2752" y="85"/>
                  </a:lnTo>
                  <a:lnTo>
                    <a:pt x="2742" y="71"/>
                  </a:lnTo>
                  <a:lnTo>
                    <a:pt x="2734" y="57"/>
                  </a:lnTo>
                  <a:lnTo>
                    <a:pt x="2722" y="47"/>
                  </a:lnTo>
                  <a:lnTo>
                    <a:pt x="2710" y="34"/>
                  </a:lnTo>
                  <a:lnTo>
                    <a:pt x="2696" y="26"/>
                  </a:lnTo>
                  <a:lnTo>
                    <a:pt x="2696" y="26"/>
                  </a:lnTo>
                  <a:lnTo>
                    <a:pt x="2682" y="18"/>
                  </a:lnTo>
                  <a:lnTo>
                    <a:pt x="2668" y="10"/>
                  </a:lnTo>
                  <a:lnTo>
                    <a:pt x="2652" y="6"/>
                  </a:lnTo>
                  <a:lnTo>
                    <a:pt x="2636" y="2"/>
                  </a:lnTo>
                  <a:lnTo>
                    <a:pt x="2620" y="0"/>
                  </a:lnTo>
                  <a:lnTo>
                    <a:pt x="2604" y="0"/>
                  </a:lnTo>
                  <a:lnTo>
                    <a:pt x="2588" y="2"/>
                  </a:lnTo>
                  <a:lnTo>
                    <a:pt x="2572" y="4"/>
                  </a:lnTo>
                  <a:lnTo>
                    <a:pt x="1792" y="181"/>
                  </a:lnTo>
                  <a:lnTo>
                    <a:pt x="1792" y="181"/>
                  </a:lnTo>
                  <a:lnTo>
                    <a:pt x="1790" y="177"/>
                  </a:lnTo>
                  <a:lnTo>
                    <a:pt x="1790" y="177"/>
                  </a:lnTo>
                  <a:lnTo>
                    <a:pt x="1786" y="161"/>
                  </a:lnTo>
                  <a:lnTo>
                    <a:pt x="1780" y="145"/>
                  </a:lnTo>
                  <a:lnTo>
                    <a:pt x="1774" y="131"/>
                  </a:lnTo>
                  <a:lnTo>
                    <a:pt x="1766" y="117"/>
                  </a:lnTo>
                  <a:lnTo>
                    <a:pt x="1756" y="103"/>
                  </a:lnTo>
                  <a:lnTo>
                    <a:pt x="1746" y="91"/>
                  </a:lnTo>
                  <a:lnTo>
                    <a:pt x="1734" y="79"/>
                  </a:lnTo>
                  <a:lnTo>
                    <a:pt x="1722" y="69"/>
                  </a:lnTo>
                  <a:lnTo>
                    <a:pt x="1710" y="59"/>
                  </a:lnTo>
                  <a:lnTo>
                    <a:pt x="1696" y="51"/>
                  </a:lnTo>
                  <a:lnTo>
                    <a:pt x="1680" y="44"/>
                  </a:lnTo>
                  <a:lnTo>
                    <a:pt x="1664" y="38"/>
                  </a:lnTo>
                  <a:lnTo>
                    <a:pt x="1648" y="32"/>
                  </a:lnTo>
                  <a:lnTo>
                    <a:pt x="1632" y="30"/>
                  </a:lnTo>
                  <a:lnTo>
                    <a:pt x="1614" y="28"/>
                  </a:lnTo>
                  <a:lnTo>
                    <a:pt x="1598" y="26"/>
                  </a:lnTo>
                  <a:lnTo>
                    <a:pt x="1598" y="26"/>
                  </a:lnTo>
                  <a:lnTo>
                    <a:pt x="1572" y="28"/>
                  </a:lnTo>
                  <a:lnTo>
                    <a:pt x="1544" y="32"/>
                  </a:lnTo>
                  <a:lnTo>
                    <a:pt x="1078" y="117"/>
                  </a:lnTo>
                  <a:lnTo>
                    <a:pt x="1078" y="117"/>
                  </a:lnTo>
                  <a:lnTo>
                    <a:pt x="1062" y="121"/>
                  </a:lnTo>
                  <a:lnTo>
                    <a:pt x="1046" y="127"/>
                  </a:lnTo>
                  <a:lnTo>
                    <a:pt x="1030" y="133"/>
                  </a:lnTo>
                  <a:lnTo>
                    <a:pt x="1016" y="141"/>
                  </a:lnTo>
                  <a:lnTo>
                    <a:pt x="1004" y="151"/>
                  </a:lnTo>
                  <a:lnTo>
                    <a:pt x="992" y="163"/>
                  </a:lnTo>
                  <a:lnTo>
                    <a:pt x="980" y="175"/>
                  </a:lnTo>
                  <a:lnTo>
                    <a:pt x="970" y="189"/>
                  </a:lnTo>
                  <a:lnTo>
                    <a:pt x="970" y="189"/>
                  </a:lnTo>
                  <a:lnTo>
                    <a:pt x="962" y="203"/>
                  </a:lnTo>
                  <a:lnTo>
                    <a:pt x="954" y="217"/>
                  </a:lnTo>
                  <a:lnTo>
                    <a:pt x="950" y="233"/>
                  </a:lnTo>
                  <a:lnTo>
                    <a:pt x="946" y="249"/>
                  </a:lnTo>
                  <a:lnTo>
                    <a:pt x="944" y="265"/>
                  </a:lnTo>
                  <a:lnTo>
                    <a:pt x="942" y="283"/>
                  </a:lnTo>
                  <a:lnTo>
                    <a:pt x="944" y="299"/>
                  </a:lnTo>
                  <a:lnTo>
                    <a:pt x="946" y="315"/>
                  </a:lnTo>
                  <a:lnTo>
                    <a:pt x="958" y="369"/>
                  </a:lnTo>
                  <a:lnTo>
                    <a:pt x="128" y="557"/>
                  </a:lnTo>
                  <a:lnTo>
                    <a:pt x="128" y="557"/>
                  </a:lnTo>
                  <a:lnTo>
                    <a:pt x="112" y="561"/>
                  </a:lnTo>
                  <a:lnTo>
                    <a:pt x="98" y="567"/>
                  </a:lnTo>
                  <a:lnTo>
                    <a:pt x="84" y="575"/>
                  </a:lnTo>
                  <a:lnTo>
                    <a:pt x="70" y="583"/>
                  </a:lnTo>
                  <a:lnTo>
                    <a:pt x="58" y="593"/>
                  </a:lnTo>
                  <a:lnTo>
                    <a:pt x="46" y="605"/>
                  </a:lnTo>
                  <a:lnTo>
                    <a:pt x="34" y="617"/>
                  </a:lnTo>
                  <a:lnTo>
                    <a:pt x="26" y="631"/>
                  </a:lnTo>
                  <a:lnTo>
                    <a:pt x="26" y="631"/>
                  </a:lnTo>
                  <a:lnTo>
                    <a:pt x="18" y="645"/>
                  </a:lnTo>
                  <a:lnTo>
                    <a:pt x="10" y="659"/>
                  </a:lnTo>
                  <a:lnTo>
                    <a:pt x="6" y="675"/>
                  </a:lnTo>
                  <a:lnTo>
                    <a:pt x="2" y="691"/>
                  </a:lnTo>
                  <a:lnTo>
                    <a:pt x="0" y="705"/>
                  </a:lnTo>
                  <a:lnTo>
                    <a:pt x="0" y="723"/>
                  </a:lnTo>
                  <a:lnTo>
                    <a:pt x="2" y="739"/>
                  </a:lnTo>
                  <a:lnTo>
                    <a:pt x="4" y="755"/>
                  </a:lnTo>
                  <a:lnTo>
                    <a:pt x="80" y="1093"/>
                  </a:lnTo>
                  <a:lnTo>
                    <a:pt x="80" y="1093"/>
                  </a:lnTo>
                  <a:lnTo>
                    <a:pt x="86" y="1111"/>
                  </a:lnTo>
                  <a:lnTo>
                    <a:pt x="94" y="1129"/>
                  </a:lnTo>
                  <a:lnTo>
                    <a:pt x="102" y="1145"/>
                  </a:lnTo>
                  <a:lnTo>
                    <a:pt x="114" y="1161"/>
                  </a:lnTo>
                  <a:lnTo>
                    <a:pt x="126" y="1173"/>
                  </a:lnTo>
                  <a:lnTo>
                    <a:pt x="140" y="1185"/>
                  </a:lnTo>
                  <a:lnTo>
                    <a:pt x="154" y="1197"/>
                  </a:lnTo>
                  <a:lnTo>
                    <a:pt x="170" y="1205"/>
                  </a:lnTo>
                  <a:lnTo>
                    <a:pt x="170" y="1205"/>
                  </a:lnTo>
                  <a:lnTo>
                    <a:pt x="160" y="1219"/>
                  </a:lnTo>
                  <a:lnTo>
                    <a:pt x="150" y="1235"/>
                  </a:lnTo>
                  <a:lnTo>
                    <a:pt x="144" y="1253"/>
                  </a:lnTo>
                  <a:lnTo>
                    <a:pt x="138" y="1271"/>
                  </a:lnTo>
                  <a:lnTo>
                    <a:pt x="134" y="1289"/>
                  </a:lnTo>
                  <a:lnTo>
                    <a:pt x="134" y="1307"/>
                  </a:lnTo>
                  <a:lnTo>
                    <a:pt x="134" y="1327"/>
                  </a:lnTo>
                  <a:lnTo>
                    <a:pt x="138" y="1345"/>
                  </a:lnTo>
                  <a:lnTo>
                    <a:pt x="294" y="2033"/>
                  </a:lnTo>
                  <a:lnTo>
                    <a:pt x="294" y="2033"/>
                  </a:lnTo>
                  <a:lnTo>
                    <a:pt x="316" y="2135"/>
                  </a:lnTo>
                  <a:lnTo>
                    <a:pt x="340" y="2255"/>
                  </a:lnTo>
                  <a:lnTo>
                    <a:pt x="350" y="2321"/>
                  </a:lnTo>
                  <a:lnTo>
                    <a:pt x="360" y="2389"/>
                  </a:lnTo>
                  <a:lnTo>
                    <a:pt x="370" y="2459"/>
                  </a:lnTo>
                  <a:lnTo>
                    <a:pt x="376" y="2531"/>
                  </a:lnTo>
                  <a:lnTo>
                    <a:pt x="380" y="2605"/>
                  </a:lnTo>
                  <a:lnTo>
                    <a:pt x="380" y="2677"/>
                  </a:lnTo>
                  <a:lnTo>
                    <a:pt x="376" y="2749"/>
                  </a:lnTo>
                  <a:lnTo>
                    <a:pt x="368" y="2819"/>
                  </a:lnTo>
                  <a:lnTo>
                    <a:pt x="364" y="2855"/>
                  </a:lnTo>
                  <a:lnTo>
                    <a:pt x="356" y="2889"/>
                  </a:lnTo>
                  <a:lnTo>
                    <a:pt x="348" y="2923"/>
                  </a:lnTo>
                  <a:lnTo>
                    <a:pt x="338" y="2955"/>
                  </a:lnTo>
                  <a:lnTo>
                    <a:pt x="328" y="2987"/>
                  </a:lnTo>
                  <a:lnTo>
                    <a:pt x="316" y="3017"/>
                  </a:lnTo>
                  <a:lnTo>
                    <a:pt x="302" y="3047"/>
                  </a:lnTo>
                  <a:lnTo>
                    <a:pt x="286" y="3077"/>
                  </a:lnTo>
                  <a:lnTo>
                    <a:pt x="286" y="3077"/>
                  </a:lnTo>
                  <a:lnTo>
                    <a:pt x="278" y="3095"/>
                  </a:lnTo>
                  <a:lnTo>
                    <a:pt x="270" y="3115"/>
                  </a:lnTo>
                  <a:lnTo>
                    <a:pt x="266" y="3135"/>
                  </a:lnTo>
                  <a:lnTo>
                    <a:pt x="264" y="3155"/>
                  </a:lnTo>
                  <a:lnTo>
                    <a:pt x="266" y="3175"/>
                  </a:lnTo>
                  <a:lnTo>
                    <a:pt x="268" y="3195"/>
                  </a:lnTo>
                  <a:lnTo>
                    <a:pt x="274" y="3215"/>
                  </a:lnTo>
                  <a:lnTo>
                    <a:pt x="282" y="3233"/>
                  </a:lnTo>
                  <a:lnTo>
                    <a:pt x="282" y="3233"/>
                  </a:lnTo>
                  <a:lnTo>
                    <a:pt x="292" y="3251"/>
                  </a:lnTo>
                  <a:lnTo>
                    <a:pt x="304" y="3267"/>
                  </a:lnTo>
                  <a:lnTo>
                    <a:pt x="318" y="3281"/>
                  </a:lnTo>
                  <a:lnTo>
                    <a:pt x="334" y="3293"/>
                  </a:lnTo>
                  <a:lnTo>
                    <a:pt x="352" y="3305"/>
                  </a:lnTo>
                  <a:lnTo>
                    <a:pt x="370" y="3313"/>
                  </a:lnTo>
                  <a:lnTo>
                    <a:pt x="390" y="3319"/>
                  </a:lnTo>
                  <a:lnTo>
                    <a:pt x="410" y="3323"/>
                  </a:lnTo>
                  <a:lnTo>
                    <a:pt x="410" y="3323"/>
                  </a:lnTo>
                  <a:lnTo>
                    <a:pt x="466" y="3329"/>
                  </a:lnTo>
                  <a:lnTo>
                    <a:pt x="518" y="3339"/>
                  </a:lnTo>
                  <a:lnTo>
                    <a:pt x="564" y="3347"/>
                  </a:lnTo>
                  <a:lnTo>
                    <a:pt x="608" y="3359"/>
                  </a:lnTo>
                  <a:lnTo>
                    <a:pt x="648" y="3369"/>
                  </a:lnTo>
                  <a:lnTo>
                    <a:pt x="688" y="3383"/>
                  </a:lnTo>
                  <a:lnTo>
                    <a:pt x="768" y="3413"/>
                  </a:lnTo>
                  <a:lnTo>
                    <a:pt x="768" y="3413"/>
                  </a:lnTo>
                  <a:lnTo>
                    <a:pt x="782" y="3419"/>
                  </a:lnTo>
                  <a:lnTo>
                    <a:pt x="798" y="3421"/>
                  </a:lnTo>
                  <a:lnTo>
                    <a:pt x="814" y="3425"/>
                  </a:lnTo>
                  <a:lnTo>
                    <a:pt x="828" y="3425"/>
                  </a:lnTo>
                  <a:lnTo>
                    <a:pt x="828" y="3425"/>
                  </a:lnTo>
                  <a:close/>
                  <a:moveTo>
                    <a:pt x="1150" y="2557"/>
                  </a:moveTo>
                  <a:lnTo>
                    <a:pt x="1150" y="2557"/>
                  </a:lnTo>
                  <a:lnTo>
                    <a:pt x="1154" y="2567"/>
                  </a:lnTo>
                  <a:lnTo>
                    <a:pt x="1118" y="2575"/>
                  </a:lnTo>
                  <a:lnTo>
                    <a:pt x="1118" y="2575"/>
                  </a:lnTo>
                  <a:lnTo>
                    <a:pt x="1114" y="2471"/>
                  </a:lnTo>
                  <a:lnTo>
                    <a:pt x="1106" y="2363"/>
                  </a:lnTo>
                  <a:lnTo>
                    <a:pt x="1150" y="2557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380880" y="22079160"/>
              <a:ext cx="5608800" cy="5379840"/>
            </a:xfrm>
            <a:custGeom>
              <a:avLst/>
              <a:gdLst>
                <a:gd name="textAreaLeft" fmla="*/ 0 w 5608800"/>
                <a:gd name="textAreaRight" fmla="*/ 5609160 w 5608800"/>
                <a:gd name="textAreaTop" fmla="*/ 0 h 5379840"/>
                <a:gd name="textAreaBottom" fmla="*/ 5380200 h 5379840"/>
              </a:gdLst>
              <a:ahLst/>
              <a:rect l="textAreaLeft" t="textAreaTop" r="textAreaRight" b="textAreaBottom"/>
              <a:pathLst>
                <a:path w="3533" h="3389">
                  <a:moveTo>
                    <a:pt x="3449" y="2154"/>
                  </a:moveTo>
                  <a:lnTo>
                    <a:pt x="3449" y="2154"/>
                  </a:lnTo>
                  <a:lnTo>
                    <a:pt x="3443" y="2138"/>
                  </a:lnTo>
                  <a:lnTo>
                    <a:pt x="3437" y="2124"/>
                  </a:lnTo>
                  <a:lnTo>
                    <a:pt x="3431" y="2108"/>
                  </a:lnTo>
                  <a:lnTo>
                    <a:pt x="3421" y="2096"/>
                  </a:lnTo>
                  <a:lnTo>
                    <a:pt x="3411" y="2082"/>
                  </a:lnTo>
                  <a:lnTo>
                    <a:pt x="3401" y="2072"/>
                  </a:lnTo>
                  <a:lnTo>
                    <a:pt x="3389" y="2060"/>
                  </a:lnTo>
                  <a:lnTo>
                    <a:pt x="3375" y="2052"/>
                  </a:lnTo>
                  <a:lnTo>
                    <a:pt x="3363" y="2044"/>
                  </a:lnTo>
                  <a:lnTo>
                    <a:pt x="3347" y="2038"/>
                  </a:lnTo>
                  <a:lnTo>
                    <a:pt x="3333" y="2032"/>
                  </a:lnTo>
                  <a:lnTo>
                    <a:pt x="3317" y="2028"/>
                  </a:lnTo>
                  <a:lnTo>
                    <a:pt x="3301" y="2026"/>
                  </a:lnTo>
                  <a:lnTo>
                    <a:pt x="3285" y="2026"/>
                  </a:lnTo>
                  <a:lnTo>
                    <a:pt x="3269" y="2028"/>
                  </a:lnTo>
                  <a:lnTo>
                    <a:pt x="3251" y="2030"/>
                  </a:lnTo>
                  <a:lnTo>
                    <a:pt x="3102" y="2064"/>
                  </a:lnTo>
                  <a:lnTo>
                    <a:pt x="2796" y="708"/>
                  </a:lnTo>
                  <a:lnTo>
                    <a:pt x="2944" y="676"/>
                  </a:lnTo>
                  <a:lnTo>
                    <a:pt x="2944" y="676"/>
                  </a:lnTo>
                  <a:lnTo>
                    <a:pt x="2960" y="670"/>
                  </a:lnTo>
                  <a:lnTo>
                    <a:pt x="2976" y="664"/>
                  </a:lnTo>
                  <a:lnTo>
                    <a:pt x="2990" y="658"/>
                  </a:lnTo>
                  <a:lnTo>
                    <a:pt x="3004" y="648"/>
                  </a:lnTo>
                  <a:lnTo>
                    <a:pt x="3016" y="638"/>
                  </a:lnTo>
                  <a:lnTo>
                    <a:pt x="3028" y="628"/>
                  </a:lnTo>
                  <a:lnTo>
                    <a:pt x="3038" y="616"/>
                  </a:lnTo>
                  <a:lnTo>
                    <a:pt x="3048" y="602"/>
                  </a:lnTo>
                  <a:lnTo>
                    <a:pt x="3054" y="588"/>
                  </a:lnTo>
                  <a:lnTo>
                    <a:pt x="3062" y="574"/>
                  </a:lnTo>
                  <a:lnTo>
                    <a:pt x="3066" y="560"/>
                  </a:lnTo>
                  <a:lnTo>
                    <a:pt x="3070" y="544"/>
                  </a:lnTo>
                  <a:lnTo>
                    <a:pt x="3072" y="528"/>
                  </a:lnTo>
                  <a:lnTo>
                    <a:pt x="3072" y="512"/>
                  </a:lnTo>
                  <a:lnTo>
                    <a:pt x="3072" y="496"/>
                  </a:lnTo>
                  <a:lnTo>
                    <a:pt x="3068" y="478"/>
                  </a:lnTo>
                  <a:lnTo>
                    <a:pt x="2990" y="128"/>
                  </a:lnTo>
                  <a:lnTo>
                    <a:pt x="2990" y="128"/>
                  </a:lnTo>
                  <a:lnTo>
                    <a:pt x="2986" y="112"/>
                  </a:lnTo>
                  <a:lnTo>
                    <a:pt x="2980" y="98"/>
                  </a:lnTo>
                  <a:lnTo>
                    <a:pt x="2972" y="84"/>
                  </a:lnTo>
                  <a:lnTo>
                    <a:pt x="2964" y="70"/>
                  </a:lnTo>
                  <a:lnTo>
                    <a:pt x="2954" y="58"/>
                  </a:lnTo>
                  <a:lnTo>
                    <a:pt x="2942" y="46"/>
                  </a:lnTo>
                  <a:lnTo>
                    <a:pt x="2930" y="34"/>
                  </a:lnTo>
                  <a:lnTo>
                    <a:pt x="2916" y="26"/>
                  </a:lnTo>
                  <a:lnTo>
                    <a:pt x="2916" y="26"/>
                  </a:lnTo>
                  <a:lnTo>
                    <a:pt x="2902" y="18"/>
                  </a:lnTo>
                  <a:lnTo>
                    <a:pt x="2888" y="12"/>
                  </a:lnTo>
                  <a:lnTo>
                    <a:pt x="2872" y="6"/>
                  </a:lnTo>
                  <a:lnTo>
                    <a:pt x="2856" y="2"/>
                  </a:lnTo>
                  <a:lnTo>
                    <a:pt x="2840" y="0"/>
                  </a:lnTo>
                  <a:lnTo>
                    <a:pt x="2824" y="0"/>
                  </a:lnTo>
                  <a:lnTo>
                    <a:pt x="2808" y="2"/>
                  </a:lnTo>
                  <a:lnTo>
                    <a:pt x="2792" y="4"/>
                  </a:lnTo>
                  <a:lnTo>
                    <a:pt x="1918" y="202"/>
                  </a:lnTo>
                  <a:lnTo>
                    <a:pt x="1918" y="202"/>
                  </a:lnTo>
                  <a:lnTo>
                    <a:pt x="1908" y="178"/>
                  </a:lnTo>
                  <a:lnTo>
                    <a:pt x="1894" y="156"/>
                  </a:lnTo>
                  <a:lnTo>
                    <a:pt x="1874" y="134"/>
                  </a:lnTo>
                  <a:lnTo>
                    <a:pt x="1852" y="114"/>
                  </a:lnTo>
                  <a:lnTo>
                    <a:pt x="1840" y="106"/>
                  </a:lnTo>
                  <a:lnTo>
                    <a:pt x="1826" y="98"/>
                  </a:lnTo>
                  <a:lnTo>
                    <a:pt x="1812" y="92"/>
                  </a:lnTo>
                  <a:lnTo>
                    <a:pt x="1796" y="86"/>
                  </a:lnTo>
                  <a:lnTo>
                    <a:pt x="1780" y="82"/>
                  </a:lnTo>
                  <a:lnTo>
                    <a:pt x="1762" y="78"/>
                  </a:lnTo>
                  <a:lnTo>
                    <a:pt x="1744" y="76"/>
                  </a:lnTo>
                  <a:lnTo>
                    <a:pt x="1724" y="76"/>
                  </a:lnTo>
                  <a:lnTo>
                    <a:pt x="1724" y="76"/>
                  </a:lnTo>
                  <a:lnTo>
                    <a:pt x="1694" y="76"/>
                  </a:lnTo>
                  <a:lnTo>
                    <a:pt x="1670" y="80"/>
                  </a:lnTo>
                  <a:lnTo>
                    <a:pt x="1210" y="134"/>
                  </a:lnTo>
                  <a:lnTo>
                    <a:pt x="1210" y="134"/>
                  </a:lnTo>
                  <a:lnTo>
                    <a:pt x="1194" y="136"/>
                  </a:lnTo>
                  <a:lnTo>
                    <a:pt x="1176" y="142"/>
                  </a:lnTo>
                  <a:lnTo>
                    <a:pt x="1160" y="148"/>
                  </a:lnTo>
                  <a:lnTo>
                    <a:pt x="1146" y="156"/>
                  </a:lnTo>
                  <a:lnTo>
                    <a:pt x="1132" y="166"/>
                  </a:lnTo>
                  <a:lnTo>
                    <a:pt x="1118" y="176"/>
                  </a:lnTo>
                  <a:lnTo>
                    <a:pt x="1106" y="188"/>
                  </a:lnTo>
                  <a:lnTo>
                    <a:pt x="1096" y="202"/>
                  </a:lnTo>
                  <a:lnTo>
                    <a:pt x="1096" y="202"/>
                  </a:lnTo>
                  <a:lnTo>
                    <a:pt x="1086" y="218"/>
                  </a:lnTo>
                  <a:lnTo>
                    <a:pt x="1078" y="232"/>
                  </a:lnTo>
                  <a:lnTo>
                    <a:pt x="1072" y="248"/>
                  </a:lnTo>
                  <a:lnTo>
                    <a:pt x="1068" y="266"/>
                  </a:lnTo>
                  <a:lnTo>
                    <a:pt x="1066" y="282"/>
                  </a:lnTo>
                  <a:lnTo>
                    <a:pt x="1066" y="300"/>
                  </a:lnTo>
                  <a:lnTo>
                    <a:pt x="1066" y="316"/>
                  </a:lnTo>
                  <a:lnTo>
                    <a:pt x="1070" y="334"/>
                  </a:lnTo>
                  <a:lnTo>
                    <a:pt x="1082" y="390"/>
                  </a:lnTo>
                  <a:lnTo>
                    <a:pt x="128" y="606"/>
                  </a:lnTo>
                  <a:lnTo>
                    <a:pt x="128" y="606"/>
                  </a:lnTo>
                  <a:lnTo>
                    <a:pt x="112" y="610"/>
                  </a:lnTo>
                  <a:lnTo>
                    <a:pt x="98" y="616"/>
                  </a:lnTo>
                  <a:lnTo>
                    <a:pt x="84" y="624"/>
                  </a:lnTo>
                  <a:lnTo>
                    <a:pt x="70" y="632"/>
                  </a:lnTo>
                  <a:lnTo>
                    <a:pt x="56" y="642"/>
                  </a:lnTo>
                  <a:lnTo>
                    <a:pt x="46" y="654"/>
                  </a:lnTo>
                  <a:lnTo>
                    <a:pt x="34" y="666"/>
                  </a:lnTo>
                  <a:lnTo>
                    <a:pt x="26" y="680"/>
                  </a:lnTo>
                  <a:lnTo>
                    <a:pt x="26" y="680"/>
                  </a:lnTo>
                  <a:lnTo>
                    <a:pt x="18" y="694"/>
                  </a:lnTo>
                  <a:lnTo>
                    <a:pt x="10" y="708"/>
                  </a:lnTo>
                  <a:lnTo>
                    <a:pt x="6" y="724"/>
                  </a:lnTo>
                  <a:lnTo>
                    <a:pt x="2" y="740"/>
                  </a:lnTo>
                  <a:lnTo>
                    <a:pt x="0" y="756"/>
                  </a:lnTo>
                  <a:lnTo>
                    <a:pt x="0" y="772"/>
                  </a:lnTo>
                  <a:lnTo>
                    <a:pt x="2" y="788"/>
                  </a:lnTo>
                  <a:lnTo>
                    <a:pt x="4" y="804"/>
                  </a:lnTo>
                  <a:lnTo>
                    <a:pt x="84" y="1154"/>
                  </a:lnTo>
                  <a:lnTo>
                    <a:pt x="84" y="1154"/>
                  </a:lnTo>
                  <a:lnTo>
                    <a:pt x="86" y="1168"/>
                  </a:lnTo>
                  <a:lnTo>
                    <a:pt x="92" y="1180"/>
                  </a:lnTo>
                  <a:lnTo>
                    <a:pt x="98" y="1194"/>
                  </a:lnTo>
                  <a:lnTo>
                    <a:pt x="104" y="1206"/>
                  </a:lnTo>
                  <a:lnTo>
                    <a:pt x="122" y="1228"/>
                  </a:lnTo>
                  <a:lnTo>
                    <a:pt x="142" y="1246"/>
                  </a:lnTo>
                  <a:lnTo>
                    <a:pt x="164" y="1262"/>
                  </a:lnTo>
                  <a:lnTo>
                    <a:pt x="190" y="1272"/>
                  </a:lnTo>
                  <a:lnTo>
                    <a:pt x="216" y="1280"/>
                  </a:lnTo>
                  <a:lnTo>
                    <a:pt x="230" y="1282"/>
                  </a:lnTo>
                  <a:lnTo>
                    <a:pt x="244" y="1282"/>
                  </a:lnTo>
                  <a:lnTo>
                    <a:pt x="244" y="1282"/>
                  </a:lnTo>
                  <a:lnTo>
                    <a:pt x="244" y="1308"/>
                  </a:lnTo>
                  <a:lnTo>
                    <a:pt x="248" y="1336"/>
                  </a:lnTo>
                  <a:lnTo>
                    <a:pt x="682" y="3259"/>
                  </a:lnTo>
                  <a:lnTo>
                    <a:pt x="682" y="3259"/>
                  </a:lnTo>
                  <a:lnTo>
                    <a:pt x="686" y="3273"/>
                  </a:lnTo>
                  <a:lnTo>
                    <a:pt x="692" y="3287"/>
                  </a:lnTo>
                  <a:lnTo>
                    <a:pt x="698" y="3301"/>
                  </a:lnTo>
                  <a:lnTo>
                    <a:pt x="704" y="3313"/>
                  </a:lnTo>
                  <a:lnTo>
                    <a:pt x="722" y="3335"/>
                  </a:lnTo>
                  <a:lnTo>
                    <a:pt x="742" y="3353"/>
                  </a:lnTo>
                  <a:lnTo>
                    <a:pt x="764" y="3367"/>
                  </a:lnTo>
                  <a:lnTo>
                    <a:pt x="788" y="3379"/>
                  </a:lnTo>
                  <a:lnTo>
                    <a:pt x="816" y="3385"/>
                  </a:lnTo>
                  <a:lnTo>
                    <a:pt x="830" y="3387"/>
                  </a:lnTo>
                  <a:lnTo>
                    <a:pt x="844" y="3389"/>
                  </a:lnTo>
                  <a:lnTo>
                    <a:pt x="844" y="3389"/>
                  </a:lnTo>
                  <a:lnTo>
                    <a:pt x="862" y="3387"/>
                  </a:lnTo>
                  <a:lnTo>
                    <a:pt x="880" y="3385"/>
                  </a:lnTo>
                  <a:lnTo>
                    <a:pt x="1308" y="3287"/>
                  </a:lnTo>
                  <a:lnTo>
                    <a:pt x="1308" y="3287"/>
                  </a:lnTo>
                  <a:lnTo>
                    <a:pt x="1324" y="3283"/>
                  </a:lnTo>
                  <a:lnTo>
                    <a:pt x="1340" y="3277"/>
                  </a:lnTo>
                  <a:lnTo>
                    <a:pt x="1354" y="3269"/>
                  </a:lnTo>
                  <a:lnTo>
                    <a:pt x="1368" y="3261"/>
                  </a:lnTo>
                  <a:lnTo>
                    <a:pt x="1380" y="3251"/>
                  </a:lnTo>
                  <a:lnTo>
                    <a:pt x="1392" y="3239"/>
                  </a:lnTo>
                  <a:lnTo>
                    <a:pt x="1402" y="3227"/>
                  </a:lnTo>
                  <a:lnTo>
                    <a:pt x="1412" y="3215"/>
                  </a:lnTo>
                  <a:lnTo>
                    <a:pt x="1412" y="3215"/>
                  </a:lnTo>
                  <a:lnTo>
                    <a:pt x="1420" y="3199"/>
                  </a:lnTo>
                  <a:lnTo>
                    <a:pt x="1428" y="3183"/>
                  </a:lnTo>
                  <a:lnTo>
                    <a:pt x="1432" y="3167"/>
                  </a:lnTo>
                  <a:lnTo>
                    <a:pt x="1436" y="3151"/>
                  </a:lnTo>
                  <a:lnTo>
                    <a:pt x="3405" y="2704"/>
                  </a:lnTo>
                  <a:lnTo>
                    <a:pt x="3405" y="2704"/>
                  </a:lnTo>
                  <a:lnTo>
                    <a:pt x="3419" y="2700"/>
                  </a:lnTo>
                  <a:lnTo>
                    <a:pt x="3435" y="2694"/>
                  </a:lnTo>
                  <a:lnTo>
                    <a:pt x="3449" y="2686"/>
                  </a:lnTo>
                  <a:lnTo>
                    <a:pt x="3463" y="2678"/>
                  </a:lnTo>
                  <a:lnTo>
                    <a:pt x="3475" y="2668"/>
                  </a:lnTo>
                  <a:lnTo>
                    <a:pt x="3487" y="2658"/>
                  </a:lnTo>
                  <a:lnTo>
                    <a:pt x="3497" y="2646"/>
                  </a:lnTo>
                  <a:lnTo>
                    <a:pt x="3507" y="2632"/>
                  </a:lnTo>
                  <a:lnTo>
                    <a:pt x="3507" y="2632"/>
                  </a:lnTo>
                  <a:lnTo>
                    <a:pt x="3515" y="2618"/>
                  </a:lnTo>
                  <a:lnTo>
                    <a:pt x="3521" y="2602"/>
                  </a:lnTo>
                  <a:lnTo>
                    <a:pt x="3527" y="2588"/>
                  </a:lnTo>
                  <a:lnTo>
                    <a:pt x="3529" y="2572"/>
                  </a:lnTo>
                  <a:lnTo>
                    <a:pt x="3531" y="2556"/>
                  </a:lnTo>
                  <a:lnTo>
                    <a:pt x="3533" y="2540"/>
                  </a:lnTo>
                  <a:lnTo>
                    <a:pt x="3531" y="2524"/>
                  </a:lnTo>
                  <a:lnTo>
                    <a:pt x="3529" y="2508"/>
                  </a:lnTo>
                  <a:lnTo>
                    <a:pt x="3449" y="2154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4600800" y="15028920"/>
              <a:ext cx="5275080" cy="5195880"/>
            </a:xfrm>
            <a:custGeom>
              <a:avLst/>
              <a:gdLst>
                <a:gd name="textAreaLeft" fmla="*/ 0 w 5275080"/>
                <a:gd name="textAreaRight" fmla="*/ 5275440 w 527508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3323" h="3273">
                  <a:moveTo>
                    <a:pt x="90" y="1709"/>
                  </a:moveTo>
                  <a:lnTo>
                    <a:pt x="90" y="1709"/>
                  </a:lnTo>
                  <a:lnTo>
                    <a:pt x="94" y="1721"/>
                  </a:lnTo>
                  <a:lnTo>
                    <a:pt x="98" y="1733"/>
                  </a:lnTo>
                  <a:lnTo>
                    <a:pt x="104" y="1743"/>
                  </a:lnTo>
                  <a:lnTo>
                    <a:pt x="110" y="1753"/>
                  </a:lnTo>
                  <a:lnTo>
                    <a:pt x="126" y="1771"/>
                  </a:lnTo>
                  <a:lnTo>
                    <a:pt x="144" y="1787"/>
                  </a:lnTo>
                  <a:lnTo>
                    <a:pt x="166" y="1797"/>
                  </a:lnTo>
                  <a:lnTo>
                    <a:pt x="188" y="1803"/>
                  </a:lnTo>
                  <a:lnTo>
                    <a:pt x="200" y="1805"/>
                  </a:lnTo>
                  <a:lnTo>
                    <a:pt x="212" y="1805"/>
                  </a:lnTo>
                  <a:lnTo>
                    <a:pt x="226" y="1805"/>
                  </a:lnTo>
                  <a:lnTo>
                    <a:pt x="238" y="1803"/>
                  </a:lnTo>
                  <a:lnTo>
                    <a:pt x="362" y="1775"/>
                  </a:lnTo>
                  <a:lnTo>
                    <a:pt x="527" y="2503"/>
                  </a:lnTo>
                  <a:lnTo>
                    <a:pt x="527" y="2503"/>
                  </a:lnTo>
                  <a:lnTo>
                    <a:pt x="442" y="2543"/>
                  </a:lnTo>
                  <a:lnTo>
                    <a:pt x="318" y="2599"/>
                  </a:lnTo>
                  <a:lnTo>
                    <a:pt x="318" y="2599"/>
                  </a:lnTo>
                  <a:lnTo>
                    <a:pt x="308" y="2605"/>
                  </a:lnTo>
                  <a:lnTo>
                    <a:pt x="296" y="2613"/>
                  </a:lnTo>
                  <a:lnTo>
                    <a:pt x="286" y="2621"/>
                  </a:lnTo>
                  <a:lnTo>
                    <a:pt x="278" y="2629"/>
                  </a:lnTo>
                  <a:lnTo>
                    <a:pt x="270" y="2639"/>
                  </a:lnTo>
                  <a:lnTo>
                    <a:pt x="264" y="2649"/>
                  </a:lnTo>
                  <a:lnTo>
                    <a:pt x="258" y="2661"/>
                  </a:lnTo>
                  <a:lnTo>
                    <a:pt x="252" y="2673"/>
                  </a:lnTo>
                  <a:lnTo>
                    <a:pt x="252" y="2673"/>
                  </a:lnTo>
                  <a:lnTo>
                    <a:pt x="248" y="2685"/>
                  </a:lnTo>
                  <a:lnTo>
                    <a:pt x="246" y="2697"/>
                  </a:lnTo>
                  <a:lnTo>
                    <a:pt x="246" y="2709"/>
                  </a:lnTo>
                  <a:lnTo>
                    <a:pt x="246" y="2721"/>
                  </a:lnTo>
                  <a:lnTo>
                    <a:pt x="248" y="2735"/>
                  </a:lnTo>
                  <a:lnTo>
                    <a:pt x="250" y="2747"/>
                  </a:lnTo>
                  <a:lnTo>
                    <a:pt x="254" y="2759"/>
                  </a:lnTo>
                  <a:lnTo>
                    <a:pt x="260" y="2769"/>
                  </a:lnTo>
                  <a:lnTo>
                    <a:pt x="467" y="3165"/>
                  </a:lnTo>
                  <a:lnTo>
                    <a:pt x="467" y="3165"/>
                  </a:lnTo>
                  <a:lnTo>
                    <a:pt x="485" y="3195"/>
                  </a:lnTo>
                  <a:lnTo>
                    <a:pt x="505" y="3219"/>
                  </a:lnTo>
                  <a:lnTo>
                    <a:pt x="525" y="3237"/>
                  </a:lnTo>
                  <a:lnTo>
                    <a:pt x="545" y="3251"/>
                  </a:lnTo>
                  <a:lnTo>
                    <a:pt x="565" y="3261"/>
                  </a:lnTo>
                  <a:lnTo>
                    <a:pt x="585" y="3267"/>
                  </a:lnTo>
                  <a:lnTo>
                    <a:pt x="605" y="3271"/>
                  </a:lnTo>
                  <a:lnTo>
                    <a:pt x="623" y="3273"/>
                  </a:lnTo>
                  <a:lnTo>
                    <a:pt x="623" y="3273"/>
                  </a:lnTo>
                  <a:lnTo>
                    <a:pt x="641" y="3271"/>
                  </a:lnTo>
                  <a:lnTo>
                    <a:pt x="659" y="3269"/>
                  </a:lnTo>
                  <a:lnTo>
                    <a:pt x="659" y="3269"/>
                  </a:lnTo>
                  <a:lnTo>
                    <a:pt x="673" y="3265"/>
                  </a:lnTo>
                  <a:lnTo>
                    <a:pt x="687" y="3259"/>
                  </a:lnTo>
                  <a:lnTo>
                    <a:pt x="701" y="3251"/>
                  </a:lnTo>
                  <a:lnTo>
                    <a:pt x="717" y="3241"/>
                  </a:lnTo>
                  <a:lnTo>
                    <a:pt x="733" y="3227"/>
                  </a:lnTo>
                  <a:lnTo>
                    <a:pt x="747" y="3211"/>
                  </a:lnTo>
                  <a:lnTo>
                    <a:pt x="761" y="3189"/>
                  </a:lnTo>
                  <a:lnTo>
                    <a:pt x="771" y="3165"/>
                  </a:lnTo>
                  <a:lnTo>
                    <a:pt x="771" y="3165"/>
                  </a:lnTo>
                  <a:lnTo>
                    <a:pt x="779" y="3133"/>
                  </a:lnTo>
                  <a:lnTo>
                    <a:pt x="779" y="3133"/>
                  </a:lnTo>
                  <a:lnTo>
                    <a:pt x="923" y="3051"/>
                  </a:lnTo>
                  <a:lnTo>
                    <a:pt x="1105" y="2943"/>
                  </a:lnTo>
                  <a:lnTo>
                    <a:pt x="1297" y="2825"/>
                  </a:lnTo>
                  <a:lnTo>
                    <a:pt x="1385" y="2769"/>
                  </a:lnTo>
                  <a:lnTo>
                    <a:pt x="1463" y="2719"/>
                  </a:lnTo>
                  <a:lnTo>
                    <a:pt x="1463" y="2719"/>
                  </a:lnTo>
                  <a:lnTo>
                    <a:pt x="1481" y="2763"/>
                  </a:lnTo>
                  <a:lnTo>
                    <a:pt x="1503" y="2803"/>
                  </a:lnTo>
                  <a:lnTo>
                    <a:pt x="1525" y="2839"/>
                  </a:lnTo>
                  <a:lnTo>
                    <a:pt x="1549" y="2871"/>
                  </a:lnTo>
                  <a:lnTo>
                    <a:pt x="1573" y="2901"/>
                  </a:lnTo>
                  <a:lnTo>
                    <a:pt x="1601" y="2925"/>
                  </a:lnTo>
                  <a:lnTo>
                    <a:pt x="1629" y="2947"/>
                  </a:lnTo>
                  <a:lnTo>
                    <a:pt x="1657" y="2965"/>
                  </a:lnTo>
                  <a:lnTo>
                    <a:pt x="1687" y="2981"/>
                  </a:lnTo>
                  <a:lnTo>
                    <a:pt x="1715" y="2993"/>
                  </a:lnTo>
                  <a:lnTo>
                    <a:pt x="1745" y="3003"/>
                  </a:lnTo>
                  <a:lnTo>
                    <a:pt x="1777" y="3011"/>
                  </a:lnTo>
                  <a:lnTo>
                    <a:pt x="1807" y="3017"/>
                  </a:lnTo>
                  <a:lnTo>
                    <a:pt x="1835" y="3021"/>
                  </a:lnTo>
                  <a:lnTo>
                    <a:pt x="1865" y="3023"/>
                  </a:lnTo>
                  <a:lnTo>
                    <a:pt x="1893" y="3025"/>
                  </a:lnTo>
                  <a:lnTo>
                    <a:pt x="1893" y="3025"/>
                  </a:lnTo>
                  <a:lnTo>
                    <a:pt x="1923" y="3023"/>
                  </a:lnTo>
                  <a:lnTo>
                    <a:pt x="1953" y="3021"/>
                  </a:lnTo>
                  <a:lnTo>
                    <a:pt x="2009" y="3015"/>
                  </a:lnTo>
                  <a:lnTo>
                    <a:pt x="2063" y="3007"/>
                  </a:lnTo>
                  <a:lnTo>
                    <a:pt x="2109" y="2995"/>
                  </a:lnTo>
                  <a:lnTo>
                    <a:pt x="2789" y="2843"/>
                  </a:lnTo>
                  <a:lnTo>
                    <a:pt x="2789" y="2843"/>
                  </a:lnTo>
                  <a:lnTo>
                    <a:pt x="2847" y="2829"/>
                  </a:lnTo>
                  <a:lnTo>
                    <a:pt x="2905" y="2813"/>
                  </a:lnTo>
                  <a:lnTo>
                    <a:pt x="2963" y="2793"/>
                  </a:lnTo>
                  <a:lnTo>
                    <a:pt x="3019" y="2771"/>
                  </a:lnTo>
                  <a:lnTo>
                    <a:pt x="3045" y="2757"/>
                  </a:lnTo>
                  <a:lnTo>
                    <a:pt x="3071" y="2743"/>
                  </a:lnTo>
                  <a:lnTo>
                    <a:pt x="3095" y="2727"/>
                  </a:lnTo>
                  <a:lnTo>
                    <a:pt x="3119" y="2711"/>
                  </a:lnTo>
                  <a:lnTo>
                    <a:pt x="3143" y="2693"/>
                  </a:lnTo>
                  <a:lnTo>
                    <a:pt x="3165" y="2673"/>
                  </a:lnTo>
                  <a:lnTo>
                    <a:pt x="3187" y="2653"/>
                  </a:lnTo>
                  <a:lnTo>
                    <a:pt x="3205" y="2629"/>
                  </a:lnTo>
                  <a:lnTo>
                    <a:pt x="3205" y="2629"/>
                  </a:lnTo>
                  <a:lnTo>
                    <a:pt x="3223" y="2607"/>
                  </a:lnTo>
                  <a:lnTo>
                    <a:pt x="3237" y="2585"/>
                  </a:lnTo>
                  <a:lnTo>
                    <a:pt x="3251" y="2561"/>
                  </a:lnTo>
                  <a:lnTo>
                    <a:pt x="3263" y="2535"/>
                  </a:lnTo>
                  <a:lnTo>
                    <a:pt x="3275" y="2507"/>
                  </a:lnTo>
                  <a:lnTo>
                    <a:pt x="3285" y="2479"/>
                  </a:lnTo>
                  <a:lnTo>
                    <a:pt x="3293" y="2451"/>
                  </a:lnTo>
                  <a:lnTo>
                    <a:pt x="3301" y="2419"/>
                  </a:lnTo>
                  <a:lnTo>
                    <a:pt x="3307" y="2387"/>
                  </a:lnTo>
                  <a:lnTo>
                    <a:pt x="3313" y="2353"/>
                  </a:lnTo>
                  <a:lnTo>
                    <a:pt x="3317" y="2317"/>
                  </a:lnTo>
                  <a:lnTo>
                    <a:pt x="3319" y="2279"/>
                  </a:lnTo>
                  <a:lnTo>
                    <a:pt x="3323" y="2199"/>
                  </a:lnTo>
                  <a:lnTo>
                    <a:pt x="3321" y="2111"/>
                  </a:lnTo>
                  <a:lnTo>
                    <a:pt x="3321" y="2111"/>
                  </a:lnTo>
                  <a:lnTo>
                    <a:pt x="3317" y="2089"/>
                  </a:lnTo>
                  <a:lnTo>
                    <a:pt x="3311" y="2069"/>
                  </a:lnTo>
                  <a:lnTo>
                    <a:pt x="3301" y="2051"/>
                  </a:lnTo>
                  <a:lnTo>
                    <a:pt x="3289" y="2035"/>
                  </a:lnTo>
                  <a:lnTo>
                    <a:pt x="3275" y="2021"/>
                  </a:lnTo>
                  <a:lnTo>
                    <a:pt x="3257" y="2009"/>
                  </a:lnTo>
                  <a:lnTo>
                    <a:pt x="3237" y="2001"/>
                  </a:lnTo>
                  <a:lnTo>
                    <a:pt x="3217" y="1995"/>
                  </a:lnTo>
                  <a:lnTo>
                    <a:pt x="3217" y="1995"/>
                  </a:lnTo>
                  <a:lnTo>
                    <a:pt x="3143" y="1981"/>
                  </a:lnTo>
                  <a:lnTo>
                    <a:pt x="3085" y="1969"/>
                  </a:lnTo>
                  <a:lnTo>
                    <a:pt x="3085" y="1969"/>
                  </a:lnTo>
                  <a:lnTo>
                    <a:pt x="3095" y="1947"/>
                  </a:lnTo>
                  <a:lnTo>
                    <a:pt x="3103" y="1923"/>
                  </a:lnTo>
                  <a:lnTo>
                    <a:pt x="3109" y="1901"/>
                  </a:lnTo>
                  <a:lnTo>
                    <a:pt x="3115" y="1877"/>
                  </a:lnTo>
                  <a:lnTo>
                    <a:pt x="3119" y="1855"/>
                  </a:lnTo>
                  <a:lnTo>
                    <a:pt x="3121" y="1831"/>
                  </a:lnTo>
                  <a:lnTo>
                    <a:pt x="3121" y="1789"/>
                  </a:lnTo>
                  <a:lnTo>
                    <a:pt x="3117" y="1749"/>
                  </a:lnTo>
                  <a:lnTo>
                    <a:pt x="3113" y="1711"/>
                  </a:lnTo>
                  <a:lnTo>
                    <a:pt x="3107" y="1677"/>
                  </a:lnTo>
                  <a:lnTo>
                    <a:pt x="3101" y="1651"/>
                  </a:lnTo>
                  <a:lnTo>
                    <a:pt x="2859" y="578"/>
                  </a:lnTo>
                  <a:lnTo>
                    <a:pt x="2859" y="578"/>
                  </a:lnTo>
                  <a:lnTo>
                    <a:pt x="2853" y="562"/>
                  </a:lnTo>
                  <a:lnTo>
                    <a:pt x="2845" y="546"/>
                  </a:lnTo>
                  <a:lnTo>
                    <a:pt x="2837" y="532"/>
                  </a:lnTo>
                  <a:lnTo>
                    <a:pt x="2825" y="518"/>
                  </a:lnTo>
                  <a:lnTo>
                    <a:pt x="2813" y="508"/>
                  </a:lnTo>
                  <a:lnTo>
                    <a:pt x="2797" y="498"/>
                  </a:lnTo>
                  <a:lnTo>
                    <a:pt x="2783" y="490"/>
                  </a:lnTo>
                  <a:lnTo>
                    <a:pt x="2765" y="486"/>
                  </a:lnTo>
                  <a:lnTo>
                    <a:pt x="2567" y="440"/>
                  </a:lnTo>
                  <a:lnTo>
                    <a:pt x="2567" y="440"/>
                  </a:lnTo>
                  <a:lnTo>
                    <a:pt x="2553" y="438"/>
                  </a:lnTo>
                  <a:lnTo>
                    <a:pt x="2541" y="438"/>
                  </a:lnTo>
                  <a:lnTo>
                    <a:pt x="2527" y="438"/>
                  </a:lnTo>
                  <a:lnTo>
                    <a:pt x="2515" y="440"/>
                  </a:lnTo>
                  <a:lnTo>
                    <a:pt x="2503" y="444"/>
                  </a:lnTo>
                  <a:lnTo>
                    <a:pt x="2491" y="448"/>
                  </a:lnTo>
                  <a:lnTo>
                    <a:pt x="2479" y="454"/>
                  </a:lnTo>
                  <a:lnTo>
                    <a:pt x="2467" y="460"/>
                  </a:lnTo>
                  <a:lnTo>
                    <a:pt x="2257" y="610"/>
                  </a:lnTo>
                  <a:lnTo>
                    <a:pt x="2179" y="264"/>
                  </a:lnTo>
                  <a:lnTo>
                    <a:pt x="2179" y="264"/>
                  </a:lnTo>
                  <a:lnTo>
                    <a:pt x="2183" y="260"/>
                  </a:lnTo>
                  <a:lnTo>
                    <a:pt x="2183" y="260"/>
                  </a:lnTo>
                  <a:lnTo>
                    <a:pt x="2195" y="244"/>
                  </a:lnTo>
                  <a:lnTo>
                    <a:pt x="2205" y="228"/>
                  </a:lnTo>
                  <a:lnTo>
                    <a:pt x="2213" y="212"/>
                  </a:lnTo>
                  <a:lnTo>
                    <a:pt x="2219" y="194"/>
                  </a:lnTo>
                  <a:lnTo>
                    <a:pt x="2223" y="176"/>
                  </a:lnTo>
                  <a:lnTo>
                    <a:pt x="2225" y="158"/>
                  </a:lnTo>
                  <a:lnTo>
                    <a:pt x="2223" y="140"/>
                  </a:lnTo>
                  <a:lnTo>
                    <a:pt x="2221" y="120"/>
                  </a:lnTo>
                  <a:lnTo>
                    <a:pt x="2221" y="120"/>
                  </a:lnTo>
                  <a:lnTo>
                    <a:pt x="2211" y="94"/>
                  </a:lnTo>
                  <a:lnTo>
                    <a:pt x="2199" y="72"/>
                  </a:lnTo>
                  <a:lnTo>
                    <a:pt x="2183" y="50"/>
                  </a:lnTo>
                  <a:lnTo>
                    <a:pt x="2165" y="34"/>
                  </a:lnTo>
                  <a:lnTo>
                    <a:pt x="2143" y="20"/>
                  </a:lnTo>
                  <a:lnTo>
                    <a:pt x="2117" y="8"/>
                  </a:lnTo>
                  <a:lnTo>
                    <a:pt x="2091" y="2"/>
                  </a:lnTo>
                  <a:lnTo>
                    <a:pt x="2063" y="0"/>
                  </a:lnTo>
                  <a:lnTo>
                    <a:pt x="2063" y="0"/>
                  </a:lnTo>
                  <a:lnTo>
                    <a:pt x="2043" y="0"/>
                  </a:lnTo>
                  <a:lnTo>
                    <a:pt x="2025" y="4"/>
                  </a:lnTo>
                  <a:lnTo>
                    <a:pt x="1591" y="74"/>
                  </a:lnTo>
                  <a:lnTo>
                    <a:pt x="1591" y="74"/>
                  </a:lnTo>
                  <a:lnTo>
                    <a:pt x="1577" y="78"/>
                  </a:lnTo>
                  <a:lnTo>
                    <a:pt x="1565" y="80"/>
                  </a:lnTo>
                  <a:lnTo>
                    <a:pt x="1555" y="86"/>
                  </a:lnTo>
                  <a:lnTo>
                    <a:pt x="1543" y="92"/>
                  </a:lnTo>
                  <a:lnTo>
                    <a:pt x="1533" y="100"/>
                  </a:lnTo>
                  <a:lnTo>
                    <a:pt x="1523" y="108"/>
                  </a:lnTo>
                  <a:lnTo>
                    <a:pt x="1515" y="118"/>
                  </a:lnTo>
                  <a:lnTo>
                    <a:pt x="1507" y="128"/>
                  </a:lnTo>
                  <a:lnTo>
                    <a:pt x="1507" y="128"/>
                  </a:lnTo>
                  <a:lnTo>
                    <a:pt x="1501" y="138"/>
                  </a:lnTo>
                  <a:lnTo>
                    <a:pt x="1495" y="150"/>
                  </a:lnTo>
                  <a:lnTo>
                    <a:pt x="1491" y="162"/>
                  </a:lnTo>
                  <a:lnTo>
                    <a:pt x="1489" y="174"/>
                  </a:lnTo>
                  <a:lnTo>
                    <a:pt x="1487" y="186"/>
                  </a:lnTo>
                  <a:lnTo>
                    <a:pt x="1487" y="198"/>
                  </a:lnTo>
                  <a:lnTo>
                    <a:pt x="1487" y="210"/>
                  </a:lnTo>
                  <a:lnTo>
                    <a:pt x="1489" y="224"/>
                  </a:lnTo>
                  <a:lnTo>
                    <a:pt x="1515" y="334"/>
                  </a:lnTo>
                  <a:lnTo>
                    <a:pt x="1069" y="402"/>
                  </a:lnTo>
                  <a:lnTo>
                    <a:pt x="1069" y="402"/>
                  </a:lnTo>
                  <a:lnTo>
                    <a:pt x="1057" y="406"/>
                  </a:lnTo>
                  <a:lnTo>
                    <a:pt x="1045" y="408"/>
                  </a:lnTo>
                  <a:lnTo>
                    <a:pt x="1033" y="414"/>
                  </a:lnTo>
                  <a:lnTo>
                    <a:pt x="1021" y="420"/>
                  </a:lnTo>
                  <a:lnTo>
                    <a:pt x="1011" y="428"/>
                  </a:lnTo>
                  <a:lnTo>
                    <a:pt x="1001" y="436"/>
                  </a:lnTo>
                  <a:lnTo>
                    <a:pt x="993" y="444"/>
                  </a:lnTo>
                  <a:lnTo>
                    <a:pt x="985" y="454"/>
                  </a:lnTo>
                  <a:lnTo>
                    <a:pt x="985" y="454"/>
                  </a:lnTo>
                  <a:lnTo>
                    <a:pt x="979" y="466"/>
                  </a:lnTo>
                  <a:lnTo>
                    <a:pt x="973" y="478"/>
                  </a:lnTo>
                  <a:lnTo>
                    <a:pt x="969" y="490"/>
                  </a:lnTo>
                  <a:lnTo>
                    <a:pt x="967" y="502"/>
                  </a:lnTo>
                  <a:lnTo>
                    <a:pt x="965" y="514"/>
                  </a:lnTo>
                  <a:lnTo>
                    <a:pt x="965" y="526"/>
                  </a:lnTo>
                  <a:lnTo>
                    <a:pt x="965" y="540"/>
                  </a:lnTo>
                  <a:lnTo>
                    <a:pt x="967" y="552"/>
                  </a:lnTo>
                  <a:lnTo>
                    <a:pt x="1061" y="965"/>
                  </a:lnTo>
                  <a:lnTo>
                    <a:pt x="1061" y="965"/>
                  </a:lnTo>
                  <a:lnTo>
                    <a:pt x="1047" y="965"/>
                  </a:lnTo>
                  <a:lnTo>
                    <a:pt x="1035" y="967"/>
                  </a:lnTo>
                  <a:lnTo>
                    <a:pt x="895" y="999"/>
                  </a:lnTo>
                  <a:lnTo>
                    <a:pt x="809" y="622"/>
                  </a:lnTo>
                  <a:lnTo>
                    <a:pt x="809" y="622"/>
                  </a:lnTo>
                  <a:lnTo>
                    <a:pt x="823" y="608"/>
                  </a:lnTo>
                  <a:lnTo>
                    <a:pt x="837" y="594"/>
                  </a:lnTo>
                  <a:lnTo>
                    <a:pt x="847" y="578"/>
                  </a:lnTo>
                  <a:lnTo>
                    <a:pt x="857" y="560"/>
                  </a:lnTo>
                  <a:lnTo>
                    <a:pt x="863" y="540"/>
                  </a:lnTo>
                  <a:lnTo>
                    <a:pt x="865" y="518"/>
                  </a:lnTo>
                  <a:lnTo>
                    <a:pt x="865" y="496"/>
                  </a:lnTo>
                  <a:lnTo>
                    <a:pt x="861" y="470"/>
                  </a:lnTo>
                  <a:lnTo>
                    <a:pt x="861" y="470"/>
                  </a:lnTo>
                  <a:lnTo>
                    <a:pt x="853" y="444"/>
                  </a:lnTo>
                  <a:lnTo>
                    <a:pt x="841" y="422"/>
                  </a:lnTo>
                  <a:lnTo>
                    <a:pt x="825" y="400"/>
                  </a:lnTo>
                  <a:lnTo>
                    <a:pt x="807" y="384"/>
                  </a:lnTo>
                  <a:lnTo>
                    <a:pt x="785" y="368"/>
                  </a:lnTo>
                  <a:lnTo>
                    <a:pt x="761" y="358"/>
                  </a:lnTo>
                  <a:lnTo>
                    <a:pt x="735" y="352"/>
                  </a:lnTo>
                  <a:lnTo>
                    <a:pt x="707" y="350"/>
                  </a:lnTo>
                  <a:lnTo>
                    <a:pt x="707" y="350"/>
                  </a:lnTo>
                  <a:lnTo>
                    <a:pt x="691" y="350"/>
                  </a:lnTo>
                  <a:lnTo>
                    <a:pt x="673" y="352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80" y="434"/>
                  </a:lnTo>
                  <a:lnTo>
                    <a:pt x="168" y="436"/>
                  </a:lnTo>
                  <a:lnTo>
                    <a:pt x="156" y="442"/>
                  </a:lnTo>
                  <a:lnTo>
                    <a:pt x="146" y="448"/>
                  </a:lnTo>
                  <a:lnTo>
                    <a:pt x="136" y="456"/>
                  </a:lnTo>
                  <a:lnTo>
                    <a:pt x="126" y="464"/>
                  </a:lnTo>
                  <a:lnTo>
                    <a:pt x="118" y="474"/>
                  </a:lnTo>
                  <a:lnTo>
                    <a:pt x="110" y="484"/>
                  </a:lnTo>
                  <a:lnTo>
                    <a:pt x="110" y="484"/>
                  </a:lnTo>
                  <a:lnTo>
                    <a:pt x="102" y="494"/>
                  </a:lnTo>
                  <a:lnTo>
                    <a:pt x="98" y="506"/>
                  </a:lnTo>
                  <a:lnTo>
                    <a:pt x="94" y="518"/>
                  </a:lnTo>
                  <a:lnTo>
                    <a:pt x="90" y="530"/>
                  </a:lnTo>
                  <a:lnTo>
                    <a:pt x="88" y="542"/>
                  </a:lnTo>
                  <a:lnTo>
                    <a:pt x="88" y="554"/>
                  </a:lnTo>
                  <a:lnTo>
                    <a:pt x="90" y="566"/>
                  </a:lnTo>
                  <a:lnTo>
                    <a:pt x="92" y="580"/>
                  </a:lnTo>
                  <a:lnTo>
                    <a:pt x="220" y="1151"/>
                  </a:lnTo>
                  <a:lnTo>
                    <a:pt x="96" y="1179"/>
                  </a:lnTo>
                  <a:lnTo>
                    <a:pt x="96" y="1179"/>
                  </a:lnTo>
                  <a:lnTo>
                    <a:pt x="84" y="1183"/>
                  </a:lnTo>
                  <a:lnTo>
                    <a:pt x="74" y="1187"/>
                  </a:lnTo>
                  <a:lnTo>
                    <a:pt x="52" y="1199"/>
                  </a:lnTo>
                  <a:lnTo>
                    <a:pt x="34" y="1215"/>
                  </a:lnTo>
                  <a:lnTo>
                    <a:pt x="26" y="1223"/>
                  </a:lnTo>
                  <a:lnTo>
                    <a:pt x="20" y="1233"/>
                  </a:lnTo>
                  <a:lnTo>
                    <a:pt x="20" y="1233"/>
                  </a:lnTo>
                  <a:lnTo>
                    <a:pt x="14" y="1245"/>
                  </a:lnTo>
                  <a:lnTo>
                    <a:pt x="8" y="1255"/>
                  </a:lnTo>
                  <a:lnTo>
                    <a:pt x="2" y="1279"/>
                  </a:lnTo>
                  <a:lnTo>
                    <a:pt x="0" y="1303"/>
                  </a:lnTo>
                  <a:lnTo>
                    <a:pt x="2" y="1315"/>
                  </a:lnTo>
                  <a:lnTo>
                    <a:pt x="4" y="1327"/>
                  </a:lnTo>
                  <a:lnTo>
                    <a:pt x="90" y="1709"/>
                  </a:lnTo>
                  <a:close/>
                  <a:moveTo>
                    <a:pt x="2545" y="2243"/>
                  </a:moveTo>
                  <a:lnTo>
                    <a:pt x="2545" y="2243"/>
                  </a:lnTo>
                  <a:lnTo>
                    <a:pt x="2563" y="2227"/>
                  </a:lnTo>
                  <a:lnTo>
                    <a:pt x="2563" y="2227"/>
                  </a:lnTo>
                  <a:lnTo>
                    <a:pt x="2585" y="2233"/>
                  </a:lnTo>
                  <a:lnTo>
                    <a:pt x="2585" y="2233"/>
                  </a:lnTo>
                  <a:lnTo>
                    <a:pt x="2559" y="2239"/>
                  </a:lnTo>
                  <a:lnTo>
                    <a:pt x="2545" y="2243"/>
                  </a:lnTo>
                  <a:close/>
                  <a:moveTo>
                    <a:pt x="1179" y="2131"/>
                  </a:moveTo>
                  <a:lnTo>
                    <a:pt x="1179" y="2131"/>
                  </a:lnTo>
                  <a:lnTo>
                    <a:pt x="1201" y="2131"/>
                  </a:lnTo>
                  <a:lnTo>
                    <a:pt x="1201" y="2131"/>
                  </a:lnTo>
                  <a:lnTo>
                    <a:pt x="1201" y="2131"/>
                  </a:lnTo>
                  <a:lnTo>
                    <a:pt x="1157" y="2159"/>
                  </a:lnTo>
                  <a:lnTo>
                    <a:pt x="1149" y="2121"/>
                  </a:lnTo>
                  <a:lnTo>
                    <a:pt x="1149" y="2121"/>
                  </a:lnTo>
                  <a:lnTo>
                    <a:pt x="1163" y="2127"/>
                  </a:lnTo>
                  <a:lnTo>
                    <a:pt x="1179" y="2131"/>
                  </a:lnTo>
                  <a:lnTo>
                    <a:pt x="1179" y="2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5427720" y="20805840"/>
              <a:ext cx="5619600" cy="5473800"/>
            </a:xfrm>
            <a:custGeom>
              <a:avLst/>
              <a:gdLst>
                <a:gd name="textAreaLeft" fmla="*/ 0 w 5619600"/>
                <a:gd name="textAreaRight" fmla="*/ 5619960 w 5619600"/>
                <a:gd name="textAreaTop" fmla="*/ 0 h 5473800"/>
                <a:gd name="textAreaBottom" fmla="*/ 5473800 h 5473800"/>
              </a:gdLst>
              <a:ahLst/>
              <a:rect l="textAreaLeft" t="textAreaTop" r="textAreaRight" b="textAreaBottom"/>
              <a:pathLst>
                <a:path w="3540" h="3448">
                  <a:moveTo>
                    <a:pt x="3500" y="2182"/>
                  </a:moveTo>
                  <a:lnTo>
                    <a:pt x="3500" y="2182"/>
                  </a:lnTo>
                  <a:lnTo>
                    <a:pt x="3486" y="2170"/>
                  </a:lnTo>
                  <a:lnTo>
                    <a:pt x="3470" y="2162"/>
                  </a:lnTo>
                  <a:lnTo>
                    <a:pt x="3454" y="2156"/>
                  </a:lnTo>
                  <a:lnTo>
                    <a:pt x="3438" y="2152"/>
                  </a:lnTo>
                  <a:lnTo>
                    <a:pt x="3422" y="2150"/>
                  </a:lnTo>
                  <a:lnTo>
                    <a:pt x="3404" y="2150"/>
                  </a:lnTo>
                  <a:lnTo>
                    <a:pt x="3386" y="2154"/>
                  </a:lnTo>
                  <a:lnTo>
                    <a:pt x="3370" y="2158"/>
                  </a:lnTo>
                  <a:lnTo>
                    <a:pt x="3370" y="2158"/>
                  </a:lnTo>
                  <a:lnTo>
                    <a:pt x="3278" y="2194"/>
                  </a:lnTo>
                  <a:lnTo>
                    <a:pt x="3176" y="2232"/>
                  </a:lnTo>
                  <a:lnTo>
                    <a:pt x="3176" y="2232"/>
                  </a:lnTo>
                  <a:lnTo>
                    <a:pt x="3202" y="2192"/>
                  </a:lnTo>
                  <a:lnTo>
                    <a:pt x="3230" y="2150"/>
                  </a:lnTo>
                  <a:lnTo>
                    <a:pt x="3264" y="2106"/>
                  </a:lnTo>
                  <a:lnTo>
                    <a:pt x="3302" y="2060"/>
                  </a:lnTo>
                  <a:lnTo>
                    <a:pt x="3302" y="2060"/>
                  </a:lnTo>
                  <a:lnTo>
                    <a:pt x="3312" y="2046"/>
                  </a:lnTo>
                  <a:lnTo>
                    <a:pt x="3320" y="2032"/>
                  </a:lnTo>
                  <a:lnTo>
                    <a:pt x="3326" y="2016"/>
                  </a:lnTo>
                  <a:lnTo>
                    <a:pt x="3330" y="2000"/>
                  </a:lnTo>
                  <a:lnTo>
                    <a:pt x="3332" y="1984"/>
                  </a:lnTo>
                  <a:lnTo>
                    <a:pt x="3330" y="1968"/>
                  </a:lnTo>
                  <a:lnTo>
                    <a:pt x="3328" y="1950"/>
                  </a:lnTo>
                  <a:lnTo>
                    <a:pt x="3322" y="1934"/>
                  </a:lnTo>
                  <a:lnTo>
                    <a:pt x="3322" y="1934"/>
                  </a:lnTo>
                  <a:lnTo>
                    <a:pt x="3316" y="1920"/>
                  </a:lnTo>
                  <a:lnTo>
                    <a:pt x="3306" y="1906"/>
                  </a:lnTo>
                  <a:lnTo>
                    <a:pt x="3294" y="1892"/>
                  </a:lnTo>
                  <a:lnTo>
                    <a:pt x="3282" y="1882"/>
                  </a:lnTo>
                  <a:lnTo>
                    <a:pt x="3268" y="1872"/>
                  </a:lnTo>
                  <a:lnTo>
                    <a:pt x="3254" y="1866"/>
                  </a:lnTo>
                  <a:lnTo>
                    <a:pt x="3238" y="1860"/>
                  </a:lnTo>
                  <a:lnTo>
                    <a:pt x="3220" y="1858"/>
                  </a:lnTo>
                  <a:lnTo>
                    <a:pt x="3220" y="1858"/>
                  </a:lnTo>
                  <a:lnTo>
                    <a:pt x="3164" y="1850"/>
                  </a:lnTo>
                  <a:lnTo>
                    <a:pt x="3104" y="1842"/>
                  </a:lnTo>
                  <a:lnTo>
                    <a:pt x="3042" y="1830"/>
                  </a:lnTo>
                  <a:lnTo>
                    <a:pt x="2978" y="1814"/>
                  </a:lnTo>
                  <a:lnTo>
                    <a:pt x="2912" y="1792"/>
                  </a:lnTo>
                  <a:lnTo>
                    <a:pt x="2878" y="1780"/>
                  </a:lnTo>
                  <a:lnTo>
                    <a:pt x="2844" y="1766"/>
                  </a:lnTo>
                  <a:lnTo>
                    <a:pt x="2808" y="1752"/>
                  </a:lnTo>
                  <a:lnTo>
                    <a:pt x="2774" y="1734"/>
                  </a:lnTo>
                  <a:lnTo>
                    <a:pt x="2738" y="1716"/>
                  </a:lnTo>
                  <a:lnTo>
                    <a:pt x="2702" y="1696"/>
                  </a:lnTo>
                  <a:lnTo>
                    <a:pt x="3120" y="1602"/>
                  </a:lnTo>
                  <a:lnTo>
                    <a:pt x="3120" y="1602"/>
                  </a:lnTo>
                  <a:lnTo>
                    <a:pt x="3130" y="1598"/>
                  </a:lnTo>
                  <a:lnTo>
                    <a:pt x="3142" y="1594"/>
                  </a:lnTo>
                  <a:lnTo>
                    <a:pt x="3164" y="1582"/>
                  </a:lnTo>
                  <a:lnTo>
                    <a:pt x="3182" y="1566"/>
                  </a:lnTo>
                  <a:lnTo>
                    <a:pt x="3190" y="1556"/>
                  </a:lnTo>
                  <a:lnTo>
                    <a:pt x="3196" y="1546"/>
                  </a:lnTo>
                  <a:lnTo>
                    <a:pt x="3196" y="1546"/>
                  </a:lnTo>
                  <a:lnTo>
                    <a:pt x="3202" y="1536"/>
                  </a:lnTo>
                  <a:lnTo>
                    <a:pt x="3208" y="1526"/>
                  </a:lnTo>
                  <a:lnTo>
                    <a:pt x="3214" y="1502"/>
                  </a:lnTo>
                  <a:lnTo>
                    <a:pt x="3216" y="1478"/>
                  </a:lnTo>
                  <a:lnTo>
                    <a:pt x="3214" y="1466"/>
                  </a:lnTo>
                  <a:lnTo>
                    <a:pt x="3212" y="1454"/>
                  </a:lnTo>
                  <a:lnTo>
                    <a:pt x="3124" y="1066"/>
                  </a:lnTo>
                  <a:lnTo>
                    <a:pt x="3124" y="1066"/>
                  </a:lnTo>
                  <a:lnTo>
                    <a:pt x="3122" y="1054"/>
                  </a:lnTo>
                  <a:lnTo>
                    <a:pt x="3116" y="1042"/>
                  </a:lnTo>
                  <a:lnTo>
                    <a:pt x="3112" y="1030"/>
                  </a:lnTo>
                  <a:lnTo>
                    <a:pt x="3104" y="1020"/>
                  </a:lnTo>
                  <a:lnTo>
                    <a:pt x="3088" y="1002"/>
                  </a:lnTo>
                  <a:lnTo>
                    <a:pt x="3070" y="988"/>
                  </a:lnTo>
                  <a:lnTo>
                    <a:pt x="3048" y="978"/>
                  </a:lnTo>
                  <a:lnTo>
                    <a:pt x="3026" y="972"/>
                  </a:lnTo>
                  <a:lnTo>
                    <a:pt x="3014" y="970"/>
                  </a:lnTo>
                  <a:lnTo>
                    <a:pt x="3002" y="970"/>
                  </a:lnTo>
                  <a:lnTo>
                    <a:pt x="2990" y="970"/>
                  </a:lnTo>
                  <a:lnTo>
                    <a:pt x="2976" y="972"/>
                  </a:lnTo>
                  <a:lnTo>
                    <a:pt x="2930" y="982"/>
                  </a:lnTo>
                  <a:lnTo>
                    <a:pt x="2930" y="982"/>
                  </a:lnTo>
                  <a:lnTo>
                    <a:pt x="2934" y="968"/>
                  </a:lnTo>
                  <a:lnTo>
                    <a:pt x="2934" y="954"/>
                  </a:lnTo>
                  <a:lnTo>
                    <a:pt x="2934" y="938"/>
                  </a:lnTo>
                  <a:lnTo>
                    <a:pt x="2932" y="924"/>
                  </a:lnTo>
                  <a:lnTo>
                    <a:pt x="2850" y="562"/>
                  </a:lnTo>
                  <a:lnTo>
                    <a:pt x="2850" y="562"/>
                  </a:lnTo>
                  <a:lnTo>
                    <a:pt x="2846" y="550"/>
                  </a:lnTo>
                  <a:lnTo>
                    <a:pt x="2842" y="538"/>
                  </a:lnTo>
                  <a:lnTo>
                    <a:pt x="2836" y="528"/>
                  </a:lnTo>
                  <a:lnTo>
                    <a:pt x="2830" y="518"/>
                  </a:lnTo>
                  <a:lnTo>
                    <a:pt x="2814" y="500"/>
                  </a:lnTo>
                  <a:lnTo>
                    <a:pt x="2796" y="484"/>
                  </a:lnTo>
                  <a:lnTo>
                    <a:pt x="2774" y="474"/>
                  </a:lnTo>
                  <a:lnTo>
                    <a:pt x="2752" y="468"/>
                  </a:lnTo>
                  <a:lnTo>
                    <a:pt x="2740" y="466"/>
                  </a:lnTo>
                  <a:lnTo>
                    <a:pt x="2728" y="466"/>
                  </a:lnTo>
                  <a:lnTo>
                    <a:pt x="2714" y="466"/>
                  </a:lnTo>
                  <a:lnTo>
                    <a:pt x="2702" y="468"/>
                  </a:lnTo>
                  <a:lnTo>
                    <a:pt x="2594" y="494"/>
                  </a:lnTo>
                  <a:lnTo>
                    <a:pt x="2594" y="494"/>
                  </a:lnTo>
                  <a:lnTo>
                    <a:pt x="2616" y="416"/>
                  </a:lnTo>
                  <a:lnTo>
                    <a:pt x="2630" y="354"/>
                  </a:lnTo>
                  <a:lnTo>
                    <a:pt x="2630" y="354"/>
                  </a:lnTo>
                  <a:lnTo>
                    <a:pt x="2646" y="344"/>
                  </a:lnTo>
                  <a:lnTo>
                    <a:pt x="2662" y="332"/>
                  </a:lnTo>
                  <a:lnTo>
                    <a:pt x="2662" y="332"/>
                  </a:lnTo>
                  <a:lnTo>
                    <a:pt x="2680" y="316"/>
                  </a:lnTo>
                  <a:lnTo>
                    <a:pt x="2696" y="298"/>
                  </a:lnTo>
                  <a:lnTo>
                    <a:pt x="2708" y="278"/>
                  </a:lnTo>
                  <a:lnTo>
                    <a:pt x="2718" y="256"/>
                  </a:lnTo>
                  <a:lnTo>
                    <a:pt x="2724" y="234"/>
                  </a:lnTo>
                  <a:lnTo>
                    <a:pt x="2726" y="212"/>
                  </a:lnTo>
                  <a:lnTo>
                    <a:pt x="2726" y="188"/>
                  </a:lnTo>
                  <a:lnTo>
                    <a:pt x="2722" y="164"/>
                  </a:lnTo>
                  <a:lnTo>
                    <a:pt x="2722" y="164"/>
                  </a:lnTo>
                  <a:lnTo>
                    <a:pt x="2718" y="146"/>
                  </a:lnTo>
                  <a:lnTo>
                    <a:pt x="2710" y="128"/>
                  </a:lnTo>
                  <a:lnTo>
                    <a:pt x="2702" y="112"/>
                  </a:lnTo>
                  <a:lnTo>
                    <a:pt x="2690" y="98"/>
                  </a:lnTo>
                  <a:lnTo>
                    <a:pt x="2678" y="86"/>
                  </a:lnTo>
                  <a:lnTo>
                    <a:pt x="2664" y="74"/>
                  </a:lnTo>
                  <a:lnTo>
                    <a:pt x="2648" y="64"/>
                  </a:lnTo>
                  <a:lnTo>
                    <a:pt x="2630" y="56"/>
                  </a:lnTo>
                  <a:lnTo>
                    <a:pt x="2630" y="56"/>
                  </a:lnTo>
                  <a:lnTo>
                    <a:pt x="2612" y="50"/>
                  </a:lnTo>
                  <a:lnTo>
                    <a:pt x="2594" y="46"/>
                  </a:lnTo>
                  <a:lnTo>
                    <a:pt x="2562" y="42"/>
                  </a:lnTo>
                  <a:lnTo>
                    <a:pt x="2138" y="0"/>
                  </a:lnTo>
                  <a:lnTo>
                    <a:pt x="2138" y="0"/>
                  </a:lnTo>
                  <a:lnTo>
                    <a:pt x="2114" y="0"/>
                  </a:lnTo>
                  <a:lnTo>
                    <a:pt x="2092" y="4"/>
                  </a:lnTo>
                  <a:lnTo>
                    <a:pt x="2072" y="12"/>
                  </a:lnTo>
                  <a:lnTo>
                    <a:pt x="2052" y="24"/>
                  </a:lnTo>
                  <a:lnTo>
                    <a:pt x="2036" y="40"/>
                  </a:lnTo>
                  <a:lnTo>
                    <a:pt x="2022" y="58"/>
                  </a:lnTo>
                  <a:lnTo>
                    <a:pt x="2012" y="78"/>
                  </a:lnTo>
                  <a:lnTo>
                    <a:pt x="2004" y="100"/>
                  </a:lnTo>
                  <a:lnTo>
                    <a:pt x="2004" y="100"/>
                  </a:lnTo>
                  <a:lnTo>
                    <a:pt x="1992" y="168"/>
                  </a:lnTo>
                  <a:lnTo>
                    <a:pt x="1978" y="234"/>
                  </a:lnTo>
                  <a:lnTo>
                    <a:pt x="1964" y="296"/>
                  </a:lnTo>
                  <a:lnTo>
                    <a:pt x="1948" y="358"/>
                  </a:lnTo>
                  <a:lnTo>
                    <a:pt x="1930" y="418"/>
                  </a:lnTo>
                  <a:lnTo>
                    <a:pt x="1912" y="476"/>
                  </a:lnTo>
                  <a:lnTo>
                    <a:pt x="1892" y="532"/>
                  </a:lnTo>
                  <a:lnTo>
                    <a:pt x="1872" y="586"/>
                  </a:lnTo>
                  <a:lnTo>
                    <a:pt x="1872" y="586"/>
                  </a:lnTo>
                  <a:lnTo>
                    <a:pt x="1864" y="574"/>
                  </a:lnTo>
                  <a:lnTo>
                    <a:pt x="1854" y="562"/>
                  </a:lnTo>
                  <a:lnTo>
                    <a:pt x="1854" y="562"/>
                  </a:lnTo>
                  <a:lnTo>
                    <a:pt x="1802" y="512"/>
                  </a:lnTo>
                  <a:lnTo>
                    <a:pt x="1748" y="462"/>
                  </a:lnTo>
                  <a:lnTo>
                    <a:pt x="1690" y="414"/>
                  </a:lnTo>
                  <a:lnTo>
                    <a:pt x="1632" y="366"/>
                  </a:lnTo>
                  <a:lnTo>
                    <a:pt x="1570" y="320"/>
                  </a:lnTo>
                  <a:lnTo>
                    <a:pt x="1508" y="276"/>
                  </a:lnTo>
                  <a:lnTo>
                    <a:pt x="1446" y="234"/>
                  </a:lnTo>
                  <a:lnTo>
                    <a:pt x="1384" y="194"/>
                  </a:lnTo>
                  <a:lnTo>
                    <a:pt x="1384" y="194"/>
                  </a:lnTo>
                  <a:lnTo>
                    <a:pt x="1364" y="184"/>
                  </a:lnTo>
                  <a:lnTo>
                    <a:pt x="1342" y="178"/>
                  </a:lnTo>
                  <a:lnTo>
                    <a:pt x="1320" y="176"/>
                  </a:lnTo>
                  <a:lnTo>
                    <a:pt x="1298" y="178"/>
                  </a:lnTo>
                  <a:lnTo>
                    <a:pt x="1278" y="182"/>
                  </a:lnTo>
                  <a:lnTo>
                    <a:pt x="1258" y="192"/>
                  </a:lnTo>
                  <a:lnTo>
                    <a:pt x="1240" y="204"/>
                  </a:lnTo>
                  <a:lnTo>
                    <a:pt x="1224" y="220"/>
                  </a:lnTo>
                  <a:lnTo>
                    <a:pt x="972" y="528"/>
                  </a:lnTo>
                  <a:lnTo>
                    <a:pt x="972" y="528"/>
                  </a:lnTo>
                  <a:lnTo>
                    <a:pt x="964" y="538"/>
                  </a:lnTo>
                  <a:lnTo>
                    <a:pt x="958" y="550"/>
                  </a:lnTo>
                  <a:lnTo>
                    <a:pt x="952" y="560"/>
                  </a:lnTo>
                  <a:lnTo>
                    <a:pt x="948" y="572"/>
                  </a:lnTo>
                  <a:lnTo>
                    <a:pt x="946" y="584"/>
                  </a:lnTo>
                  <a:lnTo>
                    <a:pt x="944" y="598"/>
                  </a:lnTo>
                  <a:lnTo>
                    <a:pt x="944" y="610"/>
                  </a:lnTo>
                  <a:lnTo>
                    <a:pt x="944" y="622"/>
                  </a:lnTo>
                  <a:lnTo>
                    <a:pt x="944" y="622"/>
                  </a:lnTo>
                  <a:lnTo>
                    <a:pt x="948" y="634"/>
                  </a:lnTo>
                  <a:lnTo>
                    <a:pt x="950" y="646"/>
                  </a:lnTo>
                  <a:lnTo>
                    <a:pt x="956" y="658"/>
                  </a:lnTo>
                  <a:lnTo>
                    <a:pt x="962" y="670"/>
                  </a:lnTo>
                  <a:lnTo>
                    <a:pt x="968" y="680"/>
                  </a:lnTo>
                  <a:lnTo>
                    <a:pt x="976" y="690"/>
                  </a:lnTo>
                  <a:lnTo>
                    <a:pt x="986" y="698"/>
                  </a:lnTo>
                  <a:lnTo>
                    <a:pt x="994" y="706"/>
                  </a:lnTo>
                  <a:lnTo>
                    <a:pt x="994" y="706"/>
                  </a:lnTo>
                  <a:lnTo>
                    <a:pt x="1080" y="768"/>
                  </a:lnTo>
                  <a:lnTo>
                    <a:pt x="1146" y="820"/>
                  </a:lnTo>
                  <a:lnTo>
                    <a:pt x="1118" y="828"/>
                  </a:lnTo>
                  <a:lnTo>
                    <a:pt x="1118" y="828"/>
                  </a:lnTo>
                  <a:lnTo>
                    <a:pt x="1102" y="832"/>
                  </a:lnTo>
                  <a:lnTo>
                    <a:pt x="1086" y="838"/>
                  </a:lnTo>
                  <a:lnTo>
                    <a:pt x="1072" y="846"/>
                  </a:lnTo>
                  <a:lnTo>
                    <a:pt x="1060" y="856"/>
                  </a:lnTo>
                  <a:lnTo>
                    <a:pt x="1060" y="856"/>
                  </a:lnTo>
                  <a:lnTo>
                    <a:pt x="1054" y="842"/>
                  </a:lnTo>
                  <a:lnTo>
                    <a:pt x="1046" y="828"/>
                  </a:lnTo>
                  <a:lnTo>
                    <a:pt x="1036" y="816"/>
                  </a:lnTo>
                  <a:lnTo>
                    <a:pt x="1024" y="804"/>
                  </a:lnTo>
                  <a:lnTo>
                    <a:pt x="1024" y="804"/>
                  </a:lnTo>
                  <a:lnTo>
                    <a:pt x="992" y="780"/>
                  </a:lnTo>
                  <a:lnTo>
                    <a:pt x="958" y="754"/>
                  </a:lnTo>
                  <a:lnTo>
                    <a:pt x="888" y="706"/>
                  </a:lnTo>
                  <a:lnTo>
                    <a:pt x="812" y="658"/>
                  </a:lnTo>
                  <a:lnTo>
                    <a:pt x="734" y="612"/>
                  </a:lnTo>
                  <a:lnTo>
                    <a:pt x="656" y="568"/>
                  </a:lnTo>
                  <a:lnTo>
                    <a:pt x="582" y="528"/>
                  </a:lnTo>
                  <a:lnTo>
                    <a:pt x="444" y="456"/>
                  </a:lnTo>
                  <a:lnTo>
                    <a:pt x="422" y="444"/>
                  </a:lnTo>
                  <a:lnTo>
                    <a:pt x="422" y="444"/>
                  </a:lnTo>
                  <a:lnTo>
                    <a:pt x="402" y="436"/>
                  </a:lnTo>
                  <a:lnTo>
                    <a:pt x="380" y="432"/>
                  </a:lnTo>
                  <a:lnTo>
                    <a:pt x="360" y="432"/>
                  </a:lnTo>
                  <a:lnTo>
                    <a:pt x="338" y="434"/>
                  </a:lnTo>
                  <a:lnTo>
                    <a:pt x="318" y="442"/>
                  </a:lnTo>
                  <a:lnTo>
                    <a:pt x="298" y="452"/>
                  </a:lnTo>
                  <a:lnTo>
                    <a:pt x="282" y="466"/>
                  </a:lnTo>
                  <a:lnTo>
                    <a:pt x="266" y="482"/>
                  </a:lnTo>
                  <a:lnTo>
                    <a:pt x="24" y="816"/>
                  </a:lnTo>
                  <a:lnTo>
                    <a:pt x="24" y="816"/>
                  </a:lnTo>
                  <a:lnTo>
                    <a:pt x="16" y="826"/>
                  </a:lnTo>
                  <a:lnTo>
                    <a:pt x="10" y="838"/>
                  </a:lnTo>
                  <a:lnTo>
                    <a:pt x="6" y="852"/>
                  </a:lnTo>
                  <a:lnTo>
                    <a:pt x="2" y="864"/>
                  </a:lnTo>
                  <a:lnTo>
                    <a:pt x="0" y="878"/>
                  </a:lnTo>
                  <a:lnTo>
                    <a:pt x="0" y="890"/>
                  </a:lnTo>
                  <a:lnTo>
                    <a:pt x="0" y="904"/>
                  </a:lnTo>
                  <a:lnTo>
                    <a:pt x="4" y="918"/>
                  </a:lnTo>
                  <a:lnTo>
                    <a:pt x="4" y="918"/>
                  </a:lnTo>
                  <a:lnTo>
                    <a:pt x="8" y="930"/>
                  </a:lnTo>
                  <a:lnTo>
                    <a:pt x="12" y="942"/>
                  </a:lnTo>
                  <a:lnTo>
                    <a:pt x="20" y="954"/>
                  </a:lnTo>
                  <a:lnTo>
                    <a:pt x="28" y="966"/>
                  </a:lnTo>
                  <a:lnTo>
                    <a:pt x="36" y="976"/>
                  </a:lnTo>
                  <a:lnTo>
                    <a:pt x="46" y="984"/>
                  </a:lnTo>
                  <a:lnTo>
                    <a:pt x="56" y="992"/>
                  </a:lnTo>
                  <a:lnTo>
                    <a:pt x="68" y="998"/>
                  </a:lnTo>
                  <a:lnTo>
                    <a:pt x="68" y="998"/>
                  </a:lnTo>
                  <a:lnTo>
                    <a:pt x="146" y="1040"/>
                  </a:lnTo>
                  <a:lnTo>
                    <a:pt x="224" y="1084"/>
                  </a:lnTo>
                  <a:lnTo>
                    <a:pt x="300" y="1130"/>
                  </a:lnTo>
                  <a:lnTo>
                    <a:pt x="372" y="1178"/>
                  </a:lnTo>
                  <a:lnTo>
                    <a:pt x="440" y="1224"/>
                  </a:lnTo>
                  <a:lnTo>
                    <a:pt x="500" y="1266"/>
                  </a:lnTo>
                  <a:lnTo>
                    <a:pt x="594" y="1334"/>
                  </a:lnTo>
                  <a:lnTo>
                    <a:pt x="614" y="1348"/>
                  </a:lnTo>
                  <a:lnTo>
                    <a:pt x="614" y="1348"/>
                  </a:lnTo>
                  <a:lnTo>
                    <a:pt x="624" y="1356"/>
                  </a:lnTo>
                  <a:lnTo>
                    <a:pt x="636" y="1360"/>
                  </a:lnTo>
                  <a:lnTo>
                    <a:pt x="658" y="1368"/>
                  </a:lnTo>
                  <a:lnTo>
                    <a:pt x="682" y="1372"/>
                  </a:lnTo>
                  <a:lnTo>
                    <a:pt x="694" y="1372"/>
                  </a:lnTo>
                  <a:lnTo>
                    <a:pt x="706" y="1370"/>
                  </a:lnTo>
                  <a:lnTo>
                    <a:pt x="706" y="1370"/>
                  </a:lnTo>
                  <a:lnTo>
                    <a:pt x="718" y="1368"/>
                  </a:lnTo>
                  <a:lnTo>
                    <a:pt x="730" y="1364"/>
                  </a:lnTo>
                  <a:lnTo>
                    <a:pt x="752" y="1354"/>
                  </a:lnTo>
                  <a:lnTo>
                    <a:pt x="772" y="1340"/>
                  </a:lnTo>
                  <a:lnTo>
                    <a:pt x="780" y="1330"/>
                  </a:lnTo>
                  <a:lnTo>
                    <a:pt x="788" y="1320"/>
                  </a:lnTo>
                  <a:lnTo>
                    <a:pt x="788" y="1320"/>
                  </a:lnTo>
                  <a:lnTo>
                    <a:pt x="878" y="1198"/>
                  </a:lnTo>
                  <a:lnTo>
                    <a:pt x="972" y="1070"/>
                  </a:lnTo>
                  <a:lnTo>
                    <a:pt x="972" y="1070"/>
                  </a:lnTo>
                  <a:lnTo>
                    <a:pt x="1028" y="996"/>
                  </a:lnTo>
                  <a:lnTo>
                    <a:pt x="1106" y="1336"/>
                  </a:lnTo>
                  <a:lnTo>
                    <a:pt x="1106" y="1336"/>
                  </a:lnTo>
                  <a:lnTo>
                    <a:pt x="1110" y="1352"/>
                  </a:lnTo>
                  <a:lnTo>
                    <a:pt x="1116" y="1366"/>
                  </a:lnTo>
                  <a:lnTo>
                    <a:pt x="1124" y="1378"/>
                  </a:lnTo>
                  <a:lnTo>
                    <a:pt x="1132" y="1390"/>
                  </a:lnTo>
                  <a:lnTo>
                    <a:pt x="1132" y="1390"/>
                  </a:lnTo>
                  <a:lnTo>
                    <a:pt x="1116" y="1396"/>
                  </a:lnTo>
                  <a:lnTo>
                    <a:pt x="1102" y="1404"/>
                  </a:lnTo>
                  <a:lnTo>
                    <a:pt x="1088" y="1416"/>
                  </a:lnTo>
                  <a:lnTo>
                    <a:pt x="1076" y="1428"/>
                  </a:lnTo>
                  <a:lnTo>
                    <a:pt x="1076" y="1428"/>
                  </a:lnTo>
                  <a:lnTo>
                    <a:pt x="1056" y="1420"/>
                  </a:lnTo>
                  <a:lnTo>
                    <a:pt x="1038" y="1418"/>
                  </a:lnTo>
                  <a:lnTo>
                    <a:pt x="1018" y="1416"/>
                  </a:lnTo>
                  <a:lnTo>
                    <a:pt x="998" y="1420"/>
                  </a:lnTo>
                  <a:lnTo>
                    <a:pt x="298" y="1578"/>
                  </a:lnTo>
                  <a:lnTo>
                    <a:pt x="298" y="1578"/>
                  </a:lnTo>
                  <a:lnTo>
                    <a:pt x="286" y="1582"/>
                  </a:lnTo>
                  <a:lnTo>
                    <a:pt x="274" y="1586"/>
                  </a:lnTo>
                  <a:lnTo>
                    <a:pt x="254" y="1598"/>
                  </a:lnTo>
                  <a:lnTo>
                    <a:pt x="236" y="1614"/>
                  </a:lnTo>
                  <a:lnTo>
                    <a:pt x="228" y="1622"/>
                  </a:lnTo>
                  <a:lnTo>
                    <a:pt x="220" y="1632"/>
                  </a:lnTo>
                  <a:lnTo>
                    <a:pt x="220" y="1632"/>
                  </a:lnTo>
                  <a:lnTo>
                    <a:pt x="214" y="1644"/>
                  </a:lnTo>
                  <a:lnTo>
                    <a:pt x="210" y="1654"/>
                  </a:lnTo>
                  <a:lnTo>
                    <a:pt x="204" y="1678"/>
                  </a:lnTo>
                  <a:lnTo>
                    <a:pt x="202" y="1702"/>
                  </a:lnTo>
                  <a:lnTo>
                    <a:pt x="202" y="1714"/>
                  </a:lnTo>
                  <a:lnTo>
                    <a:pt x="204" y="1726"/>
                  </a:lnTo>
                  <a:lnTo>
                    <a:pt x="292" y="2114"/>
                  </a:lnTo>
                  <a:lnTo>
                    <a:pt x="292" y="2114"/>
                  </a:lnTo>
                  <a:lnTo>
                    <a:pt x="296" y="2126"/>
                  </a:lnTo>
                  <a:lnTo>
                    <a:pt x="300" y="2138"/>
                  </a:lnTo>
                  <a:lnTo>
                    <a:pt x="306" y="2148"/>
                  </a:lnTo>
                  <a:lnTo>
                    <a:pt x="312" y="2158"/>
                  </a:lnTo>
                  <a:lnTo>
                    <a:pt x="328" y="2176"/>
                  </a:lnTo>
                  <a:lnTo>
                    <a:pt x="346" y="2192"/>
                  </a:lnTo>
                  <a:lnTo>
                    <a:pt x="368" y="2202"/>
                  </a:lnTo>
                  <a:lnTo>
                    <a:pt x="390" y="2208"/>
                  </a:lnTo>
                  <a:lnTo>
                    <a:pt x="402" y="2210"/>
                  </a:lnTo>
                  <a:lnTo>
                    <a:pt x="416" y="2210"/>
                  </a:lnTo>
                  <a:lnTo>
                    <a:pt x="428" y="2210"/>
                  </a:lnTo>
                  <a:lnTo>
                    <a:pt x="440" y="2208"/>
                  </a:lnTo>
                  <a:lnTo>
                    <a:pt x="582" y="2176"/>
                  </a:lnTo>
                  <a:lnTo>
                    <a:pt x="690" y="2654"/>
                  </a:lnTo>
                  <a:lnTo>
                    <a:pt x="690" y="2654"/>
                  </a:lnTo>
                  <a:lnTo>
                    <a:pt x="652" y="2694"/>
                  </a:lnTo>
                  <a:lnTo>
                    <a:pt x="616" y="2728"/>
                  </a:lnTo>
                  <a:lnTo>
                    <a:pt x="582" y="2758"/>
                  </a:lnTo>
                  <a:lnTo>
                    <a:pt x="550" y="2786"/>
                  </a:lnTo>
                  <a:lnTo>
                    <a:pt x="496" y="2828"/>
                  </a:lnTo>
                  <a:lnTo>
                    <a:pt x="460" y="2856"/>
                  </a:lnTo>
                  <a:lnTo>
                    <a:pt x="460" y="2856"/>
                  </a:lnTo>
                  <a:lnTo>
                    <a:pt x="450" y="2864"/>
                  </a:lnTo>
                  <a:lnTo>
                    <a:pt x="440" y="2874"/>
                  </a:lnTo>
                  <a:lnTo>
                    <a:pt x="432" y="2882"/>
                  </a:lnTo>
                  <a:lnTo>
                    <a:pt x="426" y="2894"/>
                  </a:lnTo>
                  <a:lnTo>
                    <a:pt x="420" y="2904"/>
                  </a:lnTo>
                  <a:lnTo>
                    <a:pt x="416" y="2916"/>
                  </a:lnTo>
                  <a:lnTo>
                    <a:pt x="412" y="2928"/>
                  </a:lnTo>
                  <a:lnTo>
                    <a:pt x="410" y="2942"/>
                  </a:lnTo>
                  <a:lnTo>
                    <a:pt x="410" y="2942"/>
                  </a:lnTo>
                  <a:lnTo>
                    <a:pt x="408" y="2954"/>
                  </a:lnTo>
                  <a:lnTo>
                    <a:pt x="410" y="2966"/>
                  </a:lnTo>
                  <a:lnTo>
                    <a:pt x="410" y="2980"/>
                  </a:lnTo>
                  <a:lnTo>
                    <a:pt x="414" y="2992"/>
                  </a:lnTo>
                  <a:lnTo>
                    <a:pt x="418" y="3004"/>
                  </a:lnTo>
                  <a:lnTo>
                    <a:pt x="424" y="3014"/>
                  </a:lnTo>
                  <a:lnTo>
                    <a:pt x="430" y="3026"/>
                  </a:lnTo>
                  <a:lnTo>
                    <a:pt x="438" y="3036"/>
                  </a:lnTo>
                  <a:lnTo>
                    <a:pt x="726" y="3378"/>
                  </a:lnTo>
                  <a:lnTo>
                    <a:pt x="726" y="3378"/>
                  </a:lnTo>
                  <a:lnTo>
                    <a:pt x="740" y="3394"/>
                  </a:lnTo>
                  <a:lnTo>
                    <a:pt x="754" y="3408"/>
                  </a:lnTo>
                  <a:lnTo>
                    <a:pt x="770" y="3420"/>
                  </a:lnTo>
                  <a:lnTo>
                    <a:pt x="786" y="3430"/>
                  </a:lnTo>
                  <a:lnTo>
                    <a:pt x="804" y="3438"/>
                  </a:lnTo>
                  <a:lnTo>
                    <a:pt x="824" y="3444"/>
                  </a:lnTo>
                  <a:lnTo>
                    <a:pt x="842" y="3448"/>
                  </a:lnTo>
                  <a:lnTo>
                    <a:pt x="862" y="3448"/>
                  </a:lnTo>
                  <a:lnTo>
                    <a:pt x="862" y="3448"/>
                  </a:lnTo>
                  <a:lnTo>
                    <a:pt x="880" y="3448"/>
                  </a:lnTo>
                  <a:lnTo>
                    <a:pt x="900" y="3444"/>
                  </a:lnTo>
                  <a:lnTo>
                    <a:pt x="900" y="3444"/>
                  </a:lnTo>
                  <a:lnTo>
                    <a:pt x="924" y="3436"/>
                  </a:lnTo>
                  <a:lnTo>
                    <a:pt x="948" y="3426"/>
                  </a:lnTo>
                  <a:lnTo>
                    <a:pt x="970" y="3410"/>
                  </a:lnTo>
                  <a:lnTo>
                    <a:pt x="986" y="3394"/>
                  </a:lnTo>
                  <a:lnTo>
                    <a:pt x="1002" y="3372"/>
                  </a:lnTo>
                  <a:lnTo>
                    <a:pt x="1012" y="3350"/>
                  </a:lnTo>
                  <a:lnTo>
                    <a:pt x="1020" y="3324"/>
                  </a:lnTo>
                  <a:lnTo>
                    <a:pt x="1024" y="3298"/>
                  </a:lnTo>
                  <a:lnTo>
                    <a:pt x="1024" y="3298"/>
                  </a:lnTo>
                  <a:lnTo>
                    <a:pt x="1026" y="3278"/>
                  </a:lnTo>
                  <a:lnTo>
                    <a:pt x="1024" y="3260"/>
                  </a:lnTo>
                  <a:lnTo>
                    <a:pt x="1024" y="3260"/>
                  </a:lnTo>
                  <a:lnTo>
                    <a:pt x="1096" y="3178"/>
                  </a:lnTo>
                  <a:lnTo>
                    <a:pt x="1096" y="3178"/>
                  </a:lnTo>
                  <a:lnTo>
                    <a:pt x="1160" y="3104"/>
                  </a:lnTo>
                  <a:lnTo>
                    <a:pt x="1160" y="3104"/>
                  </a:lnTo>
                  <a:lnTo>
                    <a:pt x="1208" y="3130"/>
                  </a:lnTo>
                  <a:lnTo>
                    <a:pt x="1260" y="3152"/>
                  </a:lnTo>
                  <a:lnTo>
                    <a:pt x="1312" y="3172"/>
                  </a:lnTo>
                  <a:lnTo>
                    <a:pt x="1366" y="3186"/>
                  </a:lnTo>
                  <a:lnTo>
                    <a:pt x="1422" y="3198"/>
                  </a:lnTo>
                  <a:lnTo>
                    <a:pt x="1480" y="3208"/>
                  </a:lnTo>
                  <a:lnTo>
                    <a:pt x="1540" y="3212"/>
                  </a:lnTo>
                  <a:lnTo>
                    <a:pt x="1602" y="3214"/>
                  </a:lnTo>
                  <a:lnTo>
                    <a:pt x="1602" y="3214"/>
                  </a:lnTo>
                  <a:lnTo>
                    <a:pt x="1664" y="3212"/>
                  </a:lnTo>
                  <a:lnTo>
                    <a:pt x="1724" y="3208"/>
                  </a:lnTo>
                  <a:lnTo>
                    <a:pt x="1784" y="3202"/>
                  </a:lnTo>
                  <a:lnTo>
                    <a:pt x="1842" y="3194"/>
                  </a:lnTo>
                  <a:lnTo>
                    <a:pt x="1898" y="3184"/>
                  </a:lnTo>
                  <a:lnTo>
                    <a:pt x="1950" y="3172"/>
                  </a:lnTo>
                  <a:lnTo>
                    <a:pt x="2050" y="3150"/>
                  </a:lnTo>
                  <a:lnTo>
                    <a:pt x="3400" y="2846"/>
                  </a:lnTo>
                  <a:lnTo>
                    <a:pt x="3400" y="2846"/>
                  </a:lnTo>
                  <a:lnTo>
                    <a:pt x="3412" y="2842"/>
                  </a:lnTo>
                  <a:lnTo>
                    <a:pt x="3424" y="2838"/>
                  </a:lnTo>
                  <a:lnTo>
                    <a:pt x="3434" y="2832"/>
                  </a:lnTo>
                  <a:lnTo>
                    <a:pt x="3446" y="2826"/>
                  </a:lnTo>
                  <a:lnTo>
                    <a:pt x="3462" y="2810"/>
                  </a:lnTo>
                  <a:lnTo>
                    <a:pt x="3478" y="2790"/>
                  </a:lnTo>
                  <a:lnTo>
                    <a:pt x="3488" y="2770"/>
                  </a:lnTo>
                  <a:lnTo>
                    <a:pt x="3494" y="2746"/>
                  </a:lnTo>
                  <a:lnTo>
                    <a:pt x="3496" y="2734"/>
                  </a:lnTo>
                  <a:lnTo>
                    <a:pt x="3496" y="2722"/>
                  </a:lnTo>
                  <a:lnTo>
                    <a:pt x="3496" y="2710"/>
                  </a:lnTo>
                  <a:lnTo>
                    <a:pt x="3494" y="2698"/>
                  </a:lnTo>
                  <a:lnTo>
                    <a:pt x="3494" y="2698"/>
                  </a:lnTo>
                  <a:lnTo>
                    <a:pt x="3486" y="2658"/>
                  </a:lnTo>
                  <a:lnTo>
                    <a:pt x="3480" y="2622"/>
                  </a:lnTo>
                  <a:lnTo>
                    <a:pt x="3478" y="2584"/>
                  </a:lnTo>
                  <a:lnTo>
                    <a:pt x="3480" y="2544"/>
                  </a:lnTo>
                  <a:lnTo>
                    <a:pt x="3488" y="2500"/>
                  </a:lnTo>
                  <a:lnTo>
                    <a:pt x="3498" y="2446"/>
                  </a:lnTo>
                  <a:lnTo>
                    <a:pt x="3514" y="2384"/>
                  </a:lnTo>
                  <a:lnTo>
                    <a:pt x="3534" y="2308"/>
                  </a:lnTo>
                  <a:lnTo>
                    <a:pt x="3534" y="2308"/>
                  </a:lnTo>
                  <a:lnTo>
                    <a:pt x="3538" y="2290"/>
                  </a:lnTo>
                  <a:lnTo>
                    <a:pt x="3540" y="2272"/>
                  </a:lnTo>
                  <a:lnTo>
                    <a:pt x="3538" y="2256"/>
                  </a:lnTo>
                  <a:lnTo>
                    <a:pt x="3534" y="2240"/>
                  </a:lnTo>
                  <a:lnTo>
                    <a:pt x="3530" y="2224"/>
                  </a:lnTo>
                  <a:lnTo>
                    <a:pt x="3522" y="2208"/>
                  </a:lnTo>
                  <a:lnTo>
                    <a:pt x="3512" y="2194"/>
                  </a:lnTo>
                  <a:lnTo>
                    <a:pt x="3500" y="2182"/>
                  </a:lnTo>
                  <a:lnTo>
                    <a:pt x="3500" y="2182"/>
                  </a:lnTo>
                  <a:close/>
                  <a:moveTo>
                    <a:pt x="1284" y="2016"/>
                  </a:moveTo>
                  <a:lnTo>
                    <a:pt x="1648" y="1934"/>
                  </a:lnTo>
                  <a:lnTo>
                    <a:pt x="1648" y="1934"/>
                  </a:lnTo>
                  <a:lnTo>
                    <a:pt x="1622" y="1978"/>
                  </a:lnTo>
                  <a:lnTo>
                    <a:pt x="1592" y="2022"/>
                  </a:lnTo>
                  <a:lnTo>
                    <a:pt x="1558" y="2064"/>
                  </a:lnTo>
                  <a:lnTo>
                    <a:pt x="1520" y="2106"/>
                  </a:lnTo>
                  <a:lnTo>
                    <a:pt x="1476" y="2148"/>
                  </a:lnTo>
                  <a:lnTo>
                    <a:pt x="1428" y="2190"/>
                  </a:lnTo>
                  <a:lnTo>
                    <a:pt x="1376" y="2232"/>
                  </a:lnTo>
                  <a:lnTo>
                    <a:pt x="1318" y="2276"/>
                  </a:lnTo>
                  <a:lnTo>
                    <a:pt x="1260" y="2020"/>
                  </a:lnTo>
                  <a:lnTo>
                    <a:pt x="1260" y="2020"/>
                  </a:lnTo>
                  <a:lnTo>
                    <a:pt x="1272" y="2018"/>
                  </a:lnTo>
                  <a:lnTo>
                    <a:pt x="1284" y="2016"/>
                  </a:lnTo>
                  <a:lnTo>
                    <a:pt x="1284" y="2016"/>
                  </a:lnTo>
                  <a:close/>
                  <a:moveTo>
                    <a:pt x="2002" y="2530"/>
                  </a:moveTo>
                  <a:lnTo>
                    <a:pt x="2002" y="2530"/>
                  </a:lnTo>
                  <a:lnTo>
                    <a:pt x="2044" y="2486"/>
                  </a:lnTo>
                  <a:lnTo>
                    <a:pt x="2084" y="2440"/>
                  </a:lnTo>
                  <a:lnTo>
                    <a:pt x="2120" y="2396"/>
                  </a:lnTo>
                  <a:lnTo>
                    <a:pt x="2154" y="2350"/>
                  </a:lnTo>
                  <a:lnTo>
                    <a:pt x="2186" y="2302"/>
                  </a:lnTo>
                  <a:lnTo>
                    <a:pt x="2216" y="2256"/>
                  </a:lnTo>
                  <a:lnTo>
                    <a:pt x="2244" y="2206"/>
                  </a:lnTo>
                  <a:lnTo>
                    <a:pt x="2268" y="2158"/>
                  </a:lnTo>
                  <a:lnTo>
                    <a:pt x="2268" y="2158"/>
                  </a:lnTo>
                  <a:lnTo>
                    <a:pt x="2344" y="2212"/>
                  </a:lnTo>
                  <a:lnTo>
                    <a:pt x="2386" y="2240"/>
                  </a:lnTo>
                  <a:lnTo>
                    <a:pt x="2432" y="2270"/>
                  </a:lnTo>
                  <a:lnTo>
                    <a:pt x="2480" y="2298"/>
                  </a:lnTo>
                  <a:lnTo>
                    <a:pt x="2530" y="2328"/>
                  </a:lnTo>
                  <a:lnTo>
                    <a:pt x="2584" y="2356"/>
                  </a:lnTo>
                  <a:lnTo>
                    <a:pt x="2640" y="2382"/>
                  </a:lnTo>
                  <a:lnTo>
                    <a:pt x="2640" y="2382"/>
                  </a:lnTo>
                  <a:lnTo>
                    <a:pt x="2386" y="2444"/>
                  </a:lnTo>
                  <a:lnTo>
                    <a:pt x="2070" y="2516"/>
                  </a:lnTo>
                  <a:lnTo>
                    <a:pt x="2070" y="2516"/>
                  </a:lnTo>
                  <a:lnTo>
                    <a:pt x="2002" y="2530"/>
                  </a:lnTo>
                  <a:lnTo>
                    <a:pt x="2002" y="25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-418680" y="16197120"/>
              <a:ext cx="5264280" cy="5303880"/>
            </a:xfrm>
            <a:custGeom>
              <a:avLst/>
              <a:gdLst>
                <a:gd name="textAreaLeft" fmla="*/ 0 w 5264280"/>
                <a:gd name="textAreaRight" fmla="*/ 5264280 w 5264280"/>
                <a:gd name="textAreaTop" fmla="*/ 0 h 5303880"/>
                <a:gd name="textAreaBottom" fmla="*/ 5304240 h 5303880"/>
              </a:gdLst>
              <a:ahLst/>
              <a:rect l="textAreaLeft" t="textAreaTop" r="textAreaRight" b="textAreaBottom"/>
              <a:pathLst>
                <a:path w="3316" h="3341">
                  <a:moveTo>
                    <a:pt x="786" y="3341"/>
                  </a:moveTo>
                  <a:lnTo>
                    <a:pt x="786" y="3341"/>
                  </a:lnTo>
                  <a:lnTo>
                    <a:pt x="804" y="3341"/>
                  </a:lnTo>
                  <a:lnTo>
                    <a:pt x="820" y="3337"/>
                  </a:lnTo>
                  <a:lnTo>
                    <a:pt x="838" y="3331"/>
                  </a:lnTo>
                  <a:lnTo>
                    <a:pt x="852" y="3323"/>
                  </a:lnTo>
                  <a:lnTo>
                    <a:pt x="866" y="3313"/>
                  </a:lnTo>
                  <a:lnTo>
                    <a:pt x="878" y="3301"/>
                  </a:lnTo>
                  <a:lnTo>
                    <a:pt x="890" y="3287"/>
                  </a:lnTo>
                  <a:lnTo>
                    <a:pt x="898" y="3271"/>
                  </a:lnTo>
                  <a:lnTo>
                    <a:pt x="898" y="3271"/>
                  </a:lnTo>
                  <a:lnTo>
                    <a:pt x="924" y="3215"/>
                  </a:lnTo>
                  <a:lnTo>
                    <a:pt x="946" y="3157"/>
                  </a:lnTo>
                  <a:lnTo>
                    <a:pt x="946" y="3157"/>
                  </a:lnTo>
                  <a:lnTo>
                    <a:pt x="956" y="3167"/>
                  </a:lnTo>
                  <a:lnTo>
                    <a:pt x="968" y="3173"/>
                  </a:lnTo>
                  <a:lnTo>
                    <a:pt x="982" y="3179"/>
                  </a:lnTo>
                  <a:lnTo>
                    <a:pt x="996" y="3185"/>
                  </a:lnTo>
                  <a:lnTo>
                    <a:pt x="1010" y="3187"/>
                  </a:lnTo>
                  <a:lnTo>
                    <a:pt x="1024" y="3189"/>
                  </a:lnTo>
                  <a:lnTo>
                    <a:pt x="1040" y="3187"/>
                  </a:lnTo>
                  <a:lnTo>
                    <a:pt x="1054" y="3185"/>
                  </a:lnTo>
                  <a:lnTo>
                    <a:pt x="3220" y="2695"/>
                  </a:lnTo>
                  <a:lnTo>
                    <a:pt x="3220" y="2695"/>
                  </a:lnTo>
                  <a:lnTo>
                    <a:pt x="3230" y="2693"/>
                  </a:lnTo>
                  <a:lnTo>
                    <a:pt x="3242" y="2689"/>
                  </a:lnTo>
                  <a:lnTo>
                    <a:pt x="3264" y="2677"/>
                  </a:lnTo>
                  <a:lnTo>
                    <a:pt x="3282" y="2661"/>
                  </a:lnTo>
                  <a:lnTo>
                    <a:pt x="3290" y="2651"/>
                  </a:lnTo>
                  <a:lnTo>
                    <a:pt x="3296" y="2641"/>
                  </a:lnTo>
                  <a:lnTo>
                    <a:pt x="3296" y="2641"/>
                  </a:lnTo>
                  <a:lnTo>
                    <a:pt x="3302" y="2631"/>
                  </a:lnTo>
                  <a:lnTo>
                    <a:pt x="3308" y="2619"/>
                  </a:lnTo>
                  <a:lnTo>
                    <a:pt x="3314" y="2597"/>
                  </a:lnTo>
                  <a:lnTo>
                    <a:pt x="3316" y="2573"/>
                  </a:lnTo>
                  <a:lnTo>
                    <a:pt x="3314" y="2561"/>
                  </a:lnTo>
                  <a:lnTo>
                    <a:pt x="3312" y="2549"/>
                  </a:lnTo>
                  <a:lnTo>
                    <a:pt x="3236" y="2213"/>
                  </a:lnTo>
                  <a:lnTo>
                    <a:pt x="3236" y="2213"/>
                  </a:lnTo>
                  <a:lnTo>
                    <a:pt x="3234" y="2201"/>
                  </a:lnTo>
                  <a:lnTo>
                    <a:pt x="3228" y="2189"/>
                  </a:lnTo>
                  <a:lnTo>
                    <a:pt x="3224" y="2179"/>
                  </a:lnTo>
                  <a:lnTo>
                    <a:pt x="3216" y="2169"/>
                  </a:lnTo>
                  <a:lnTo>
                    <a:pt x="3200" y="2151"/>
                  </a:lnTo>
                  <a:lnTo>
                    <a:pt x="3182" y="2135"/>
                  </a:lnTo>
                  <a:lnTo>
                    <a:pt x="3160" y="2125"/>
                  </a:lnTo>
                  <a:lnTo>
                    <a:pt x="3138" y="2119"/>
                  </a:lnTo>
                  <a:lnTo>
                    <a:pt x="3126" y="2117"/>
                  </a:lnTo>
                  <a:lnTo>
                    <a:pt x="3114" y="2117"/>
                  </a:lnTo>
                  <a:lnTo>
                    <a:pt x="3102" y="2117"/>
                  </a:lnTo>
                  <a:lnTo>
                    <a:pt x="3088" y="2119"/>
                  </a:lnTo>
                  <a:lnTo>
                    <a:pt x="2870" y="2169"/>
                  </a:lnTo>
                  <a:lnTo>
                    <a:pt x="2870" y="2169"/>
                  </a:lnTo>
                  <a:lnTo>
                    <a:pt x="2872" y="2157"/>
                  </a:lnTo>
                  <a:lnTo>
                    <a:pt x="2872" y="2143"/>
                  </a:lnTo>
                  <a:lnTo>
                    <a:pt x="2870" y="2131"/>
                  </a:lnTo>
                  <a:lnTo>
                    <a:pt x="2868" y="2117"/>
                  </a:lnTo>
                  <a:lnTo>
                    <a:pt x="2794" y="1791"/>
                  </a:lnTo>
                  <a:lnTo>
                    <a:pt x="2794" y="1791"/>
                  </a:lnTo>
                  <a:lnTo>
                    <a:pt x="2788" y="1771"/>
                  </a:lnTo>
                  <a:lnTo>
                    <a:pt x="2780" y="1753"/>
                  </a:lnTo>
                  <a:lnTo>
                    <a:pt x="2842" y="1739"/>
                  </a:lnTo>
                  <a:lnTo>
                    <a:pt x="2842" y="1739"/>
                  </a:lnTo>
                  <a:lnTo>
                    <a:pt x="2854" y="1737"/>
                  </a:lnTo>
                  <a:lnTo>
                    <a:pt x="2866" y="1731"/>
                  </a:lnTo>
                  <a:lnTo>
                    <a:pt x="2886" y="1719"/>
                  </a:lnTo>
                  <a:lnTo>
                    <a:pt x="2904" y="1705"/>
                  </a:lnTo>
                  <a:lnTo>
                    <a:pt x="2912" y="1695"/>
                  </a:lnTo>
                  <a:lnTo>
                    <a:pt x="2920" y="1685"/>
                  </a:lnTo>
                  <a:lnTo>
                    <a:pt x="2920" y="1685"/>
                  </a:lnTo>
                  <a:lnTo>
                    <a:pt x="2926" y="1675"/>
                  </a:lnTo>
                  <a:lnTo>
                    <a:pt x="2930" y="1663"/>
                  </a:lnTo>
                  <a:lnTo>
                    <a:pt x="2936" y="1639"/>
                  </a:lnTo>
                  <a:lnTo>
                    <a:pt x="2938" y="1615"/>
                  </a:lnTo>
                  <a:lnTo>
                    <a:pt x="2938" y="1603"/>
                  </a:lnTo>
                  <a:lnTo>
                    <a:pt x="2936" y="1591"/>
                  </a:lnTo>
                  <a:lnTo>
                    <a:pt x="2860" y="1263"/>
                  </a:lnTo>
                  <a:lnTo>
                    <a:pt x="2860" y="1263"/>
                  </a:lnTo>
                  <a:lnTo>
                    <a:pt x="2858" y="1249"/>
                  </a:lnTo>
                  <a:lnTo>
                    <a:pt x="2852" y="1237"/>
                  </a:lnTo>
                  <a:lnTo>
                    <a:pt x="2846" y="1227"/>
                  </a:lnTo>
                  <a:lnTo>
                    <a:pt x="2840" y="1215"/>
                  </a:lnTo>
                  <a:lnTo>
                    <a:pt x="2832" y="1207"/>
                  </a:lnTo>
                  <a:lnTo>
                    <a:pt x="2822" y="1197"/>
                  </a:lnTo>
                  <a:lnTo>
                    <a:pt x="2812" y="1189"/>
                  </a:lnTo>
                  <a:lnTo>
                    <a:pt x="2802" y="1183"/>
                  </a:lnTo>
                  <a:lnTo>
                    <a:pt x="2836" y="1175"/>
                  </a:lnTo>
                  <a:lnTo>
                    <a:pt x="2836" y="1175"/>
                  </a:lnTo>
                  <a:lnTo>
                    <a:pt x="2846" y="1173"/>
                  </a:lnTo>
                  <a:lnTo>
                    <a:pt x="2858" y="1167"/>
                  </a:lnTo>
                  <a:lnTo>
                    <a:pt x="2880" y="1155"/>
                  </a:lnTo>
                  <a:lnTo>
                    <a:pt x="2898" y="1141"/>
                  </a:lnTo>
                  <a:lnTo>
                    <a:pt x="2906" y="1131"/>
                  </a:lnTo>
                  <a:lnTo>
                    <a:pt x="2912" y="1121"/>
                  </a:lnTo>
                  <a:lnTo>
                    <a:pt x="2912" y="1121"/>
                  </a:lnTo>
                  <a:lnTo>
                    <a:pt x="2918" y="1111"/>
                  </a:lnTo>
                  <a:lnTo>
                    <a:pt x="2924" y="1099"/>
                  </a:lnTo>
                  <a:lnTo>
                    <a:pt x="2930" y="1075"/>
                  </a:lnTo>
                  <a:lnTo>
                    <a:pt x="2932" y="1051"/>
                  </a:lnTo>
                  <a:lnTo>
                    <a:pt x="2930" y="1039"/>
                  </a:lnTo>
                  <a:lnTo>
                    <a:pt x="2928" y="1027"/>
                  </a:lnTo>
                  <a:lnTo>
                    <a:pt x="2850" y="681"/>
                  </a:lnTo>
                  <a:lnTo>
                    <a:pt x="2850" y="681"/>
                  </a:lnTo>
                  <a:lnTo>
                    <a:pt x="2846" y="669"/>
                  </a:lnTo>
                  <a:lnTo>
                    <a:pt x="2842" y="657"/>
                  </a:lnTo>
                  <a:lnTo>
                    <a:pt x="2836" y="647"/>
                  </a:lnTo>
                  <a:lnTo>
                    <a:pt x="2830" y="635"/>
                  </a:lnTo>
                  <a:lnTo>
                    <a:pt x="2814" y="619"/>
                  </a:lnTo>
                  <a:lnTo>
                    <a:pt x="2796" y="603"/>
                  </a:lnTo>
                  <a:lnTo>
                    <a:pt x="2774" y="593"/>
                  </a:lnTo>
                  <a:lnTo>
                    <a:pt x="2752" y="587"/>
                  </a:lnTo>
                  <a:lnTo>
                    <a:pt x="2740" y="585"/>
                  </a:lnTo>
                  <a:lnTo>
                    <a:pt x="2728" y="585"/>
                  </a:lnTo>
                  <a:lnTo>
                    <a:pt x="2714" y="585"/>
                  </a:lnTo>
                  <a:lnTo>
                    <a:pt x="2702" y="587"/>
                  </a:lnTo>
                  <a:lnTo>
                    <a:pt x="2364" y="665"/>
                  </a:lnTo>
                  <a:lnTo>
                    <a:pt x="2364" y="665"/>
                  </a:lnTo>
                  <a:lnTo>
                    <a:pt x="2368" y="651"/>
                  </a:lnTo>
                  <a:lnTo>
                    <a:pt x="2670" y="583"/>
                  </a:lnTo>
                  <a:lnTo>
                    <a:pt x="2670" y="583"/>
                  </a:lnTo>
                  <a:lnTo>
                    <a:pt x="2682" y="579"/>
                  </a:lnTo>
                  <a:lnTo>
                    <a:pt x="2694" y="575"/>
                  </a:lnTo>
                  <a:lnTo>
                    <a:pt x="2704" y="569"/>
                  </a:lnTo>
                  <a:lnTo>
                    <a:pt x="2714" y="563"/>
                  </a:lnTo>
                  <a:lnTo>
                    <a:pt x="2732" y="547"/>
                  </a:lnTo>
                  <a:lnTo>
                    <a:pt x="2748" y="527"/>
                  </a:lnTo>
                  <a:lnTo>
                    <a:pt x="2758" y="507"/>
                  </a:lnTo>
                  <a:lnTo>
                    <a:pt x="2764" y="483"/>
                  </a:lnTo>
                  <a:lnTo>
                    <a:pt x="2766" y="471"/>
                  </a:lnTo>
                  <a:lnTo>
                    <a:pt x="2766" y="459"/>
                  </a:lnTo>
                  <a:lnTo>
                    <a:pt x="2766" y="447"/>
                  </a:lnTo>
                  <a:lnTo>
                    <a:pt x="2764" y="435"/>
                  </a:lnTo>
                  <a:lnTo>
                    <a:pt x="2686" y="97"/>
                  </a:lnTo>
                  <a:lnTo>
                    <a:pt x="2686" y="97"/>
                  </a:lnTo>
                  <a:lnTo>
                    <a:pt x="2684" y="85"/>
                  </a:lnTo>
                  <a:lnTo>
                    <a:pt x="2680" y="73"/>
                  </a:lnTo>
                  <a:lnTo>
                    <a:pt x="2668" y="53"/>
                  </a:lnTo>
                  <a:lnTo>
                    <a:pt x="2652" y="35"/>
                  </a:lnTo>
                  <a:lnTo>
                    <a:pt x="2642" y="27"/>
                  </a:lnTo>
                  <a:lnTo>
                    <a:pt x="2632" y="19"/>
                  </a:lnTo>
                  <a:lnTo>
                    <a:pt x="2632" y="19"/>
                  </a:lnTo>
                  <a:lnTo>
                    <a:pt x="2622" y="13"/>
                  </a:lnTo>
                  <a:lnTo>
                    <a:pt x="2610" y="9"/>
                  </a:lnTo>
                  <a:lnTo>
                    <a:pt x="2588" y="0"/>
                  </a:lnTo>
                  <a:lnTo>
                    <a:pt x="2564" y="0"/>
                  </a:lnTo>
                  <a:lnTo>
                    <a:pt x="2552" y="0"/>
                  </a:lnTo>
                  <a:lnTo>
                    <a:pt x="2540" y="2"/>
                  </a:lnTo>
                  <a:lnTo>
                    <a:pt x="1712" y="189"/>
                  </a:lnTo>
                  <a:lnTo>
                    <a:pt x="1712" y="189"/>
                  </a:lnTo>
                  <a:lnTo>
                    <a:pt x="1712" y="169"/>
                  </a:lnTo>
                  <a:lnTo>
                    <a:pt x="1708" y="145"/>
                  </a:lnTo>
                  <a:lnTo>
                    <a:pt x="1708" y="145"/>
                  </a:lnTo>
                  <a:lnTo>
                    <a:pt x="1700" y="119"/>
                  </a:lnTo>
                  <a:lnTo>
                    <a:pt x="1688" y="97"/>
                  </a:lnTo>
                  <a:lnTo>
                    <a:pt x="1674" y="77"/>
                  </a:lnTo>
                  <a:lnTo>
                    <a:pt x="1654" y="59"/>
                  </a:lnTo>
                  <a:lnTo>
                    <a:pt x="1632" y="45"/>
                  </a:lnTo>
                  <a:lnTo>
                    <a:pt x="1608" y="35"/>
                  </a:lnTo>
                  <a:lnTo>
                    <a:pt x="1582" y="29"/>
                  </a:lnTo>
                  <a:lnTo>
                    <a:pt x="1556" y="27"/>
                  </a:lnTo>
                  <a:lnTo>
                    <a:pt x="1556" y="27"/>
                  </a:lnTo>
                  <a:lnTo>
                    <a:pt x="1534" y="29"/>
                  </a:lnTo>
                  <a:lnTo>
                    <a:pt x="1510" y="31"/>
                  </a:lnTo>
                  <a:lnTo>
                    <a:pt x="1044" y="115"/>
                  </a:lnTo>
                  <a:lnTo>
                    <a:pt x="1044" y="115"/>
                  </a:lnTo>
                  <a:lnTo>
                    <a:pt x="1032" y="119"/>
                  </a:lnTo>
                  <a:lnTo>
                    <a:pt x="1020" y="123"/>
                  </a:lnTo>
                  <a:lnTo>
                    <a:pt x="1008" y="127"/>
                  </a:lnTo>
                  <a:lnTo>
                    <a:pt x="998" y="135"/>
                  </a:lnTo>
                  <a:lnTo>
                    <a:pt x="988" y="141"/>
                  </a:lnTo>
                  <a:lnTo>
                    <a:pt x="978" y="149"/>
                  </a:lnTo>
                  <a:lnTo>
                    <a:pt x="970" y="159"/>
                  </a:lnTo>
                  <a:lnTo>
                    <a:pt x="962" y="169"/>
                  </a:lnTo>
                  <a:lnTo>
                    <a:pt x="962" y="169"/>
                  </a:lnTo>
                  <a:lnTo>
                    <a:pt x="956" y="179"/>
                  </a:lnTo>
                  <a:lnTo>
                    <a:pt x="950" y="191"/>
                  </a:lnTo>
                  <a:lnTo>
                    <a:pt x="946" y="203"/>
                  </a:lnTo>
                  <a:lnTo>
                    <a:pt x="944" y="215"/>
                  </a:lnTo>
                  <a:lnTo>
                    <a:pt x="942" y="227"/>
                  </a:lnTo>
                  <a:lnTo>
                    <a:pt x="942" y="239"/>
                  </a:lnTo>
                  <a:lnTo>
                    <a:pt x="942" y="253"/>
                  </a:lnTo>
                  <a:lnTo>
                    <a:pt x="944" y="265"/>
                  </a:lnTo>
                  <a:lnTo>
                    <a:pt x="966" y="359"/>
                  </a:lnTo>
                  <a:lnTo>
                    <a:pt x="96" y="555"/>
                  </a:lnTo>
                  <a:lnTo>
                    <a:pt x="96" y="555"/>
                  </a:lnTo>
                  <a:lnTo>
                    <a:pt x="84" y="559"/>
                  </a:lnTo>
                  <a:lnTo>
                    <a:pt x="72" y="563"/>
                  </a:lnTo>
                  <a:lnTo>
                    <a:pt x="52" y="575"/>
                  </a:lnTo>
                  <a:lnTo>
                    <a:pt x="34" y="591"/>
                  </a:lnTo>
                  <a:lnTo>
                    <a:pt x="26" y="601"/>
                  </a:lnTo>
                  <a:lnTo>
                    <a:pt x="18" y="611"/>
                  </a:lnTo>
                  <a:lnTo>
                    <a:pt x="18" y="611"/>
                  </a:lnTo>
                  <a:lnTo>
                    <a:pt x="12" y="621"/>
                  </a:lnTo>
                  <a:lnTo>
                    <a:pt x="8" y="631"/>
                  </a:lnTo>
                  <a:lnTo>
                    <a:pt x="0" y="655"/>
                  </a:lnTo>
                  <a:lnTo>
                    <a:pt x="0" y="679"/>
                  </a:lnTo>
                  <a:lnTo>
                    <a:pt x="0" y="691"/>
                  </a:lnTo>
                  <a:lnTo>
                    <a:pt x="2" y="703"/>
                  </a:lnTo>
                  <a:lnTo>
                    <a:pt x="78" y="1041"/>
                  </a:lnTo>
                  <a:lnTo>
                    <a:pt x="78" y="1041"/>
                  </a:lnTo>
                  <a:lnTo>
                    <a:pt x="82" y="1053"/>
                  </a:lnTo>
                  <a:lnTo>
                    <a:pt x="86" y="1065"/>
                  </a:lnTo>
                  <a:lnTo>
                    <a:pt x="92" y="1075"/>
                  </a:lnTo>
                  <a:lnTo>
                    <a:pt x="98" y="1087"/>
                  </a:lnTo>
                  <a:lnTo>
                    <a:pt x="114" y="1105"/>
                  </a:lnTo>
                  <a:lnTo>
                    <a:pt x="134" y="1119"/>
                  </a:lnTo>
                  <a:lnTo>
                    <a:pt x="154" y="1129"/>
                  </a:lnTo>
                  <a:lnTo>
                    <a:pt x="178" y="1135"/>
                  </a:lnTo>
                  <a:lnTo>
                    <a:pt x="190" y="1137"/>
                  </a:lnTo>
                  <a:lnTo>
                    <a:pt x="202" y="1137"/>
                  </a:lnTo>
                  <a:lnTo>
                    <a:pt x="214" y="1137"/>
                  </a:lnTo>
                  <a:lnTo>
                    <a:pt x="226" y="1135"/>
                  </a:lnTo>
                  <a:lnTo>
                    <a:pt x="630" y="1043"/>
                  </a:lnTo>
                  <a:lnTo>
                    <a:pt x="630" y="1043"/>
                  </a:lnTo>
                  <a:lnTo>
                    <a:pt x="640" y="1053"/>
                  </a:lnTo>
                  <a:lnTo>
                    <a:pt x="230" y="1147"/>
                  </a:lnTo>
                  <a:lnTo>
                    <a:pt x="230" y="1147"/>
                  </a:lnTo>
                  <a:lnTo>
                    <a:pt x="216" y="1151"/>
                  </a:lnTo>
                  <a:lnTo>
                    <a:pt x="206" y="1155"/>
                  </a:lnTo>
                  <a:lnTo>
                    <a:pt x="194" y="1161"/>
                  </a:lnTo>
                  <a:lnTo>
                    <a:pt x="184" y="1167"/>
                  </a:lnTo>
                  <a:lnTo>
                    <a:pt x="166" y="1183"/>
                  </a:lnTo>
                  <a:lnTo>
                    <a:pt x="152" y="1201"/>
                  </a:lnTo>
                  <a:lnTo>
                    <a:pt x="142" y="1223"/>
                  </a:lnTo>
                  <a:lnTo>
                    <a:pt x="134" y="1245"/>
                  </a:lnTo>
                  <a:lnTo>
                    <a:pt x="134" y="1257"/>
                  </a:lnTo>
                  <a:lnTo>
                    <a:pt x="132" y="1269"/>
                  </a:lnTo>
                  <a:lnTo>
                    <a:pt x="134" y="1281"/>
                  </a:lnTo>
                  <a:lnTo>
                    <a:pt x="136" y="1295"/>
                  </a:lnTo>
                  <a:lnTo>
                    <a:pt x="292" y="1983"/>
                  </a:lnTo>
                  <a:lnTo>
                    <a:pt x="292" y="1983"/>
                  </a:lnTo>
                  <a:lnTo>
                    <a:pt x="314" y="2085"/>
                  </a:lnTo>
                  <a:lnTo>
                    <a:pt x="338" y="2209"/>
                  </a:lnTo>
                  <a:lnTo>
                    <a:pt x="350" y="2277"/>
                  </a:lnTo>
                  <a:lnTo>
                    <a:pt x="360" y="2347"/>
                  </a:lnTo>
                  <a:lnTo>
                    <a:pt x="368" y="2419"/>
                  </a:lnTo>
                  <a:lnTo>
                    <a:pt x="374" y="2493"/>
                  </a:lnTo>
                  <a:lnTo>
                    <a:pt x="378" y="2567"/>
                  </a:lnTo>
                  <a:lnTo>
                    <a:pt x="378" y="2641"/>
                  </a:lnTo>
                  <a:lnTo>
                    <a:pt x="374" y="2715"/>
                  </a:lnTo>
                  <a:lnTo>
                    <a:pt x="372" y="2753"/>
                  </a:lnTo>
                  <a:lnTo>
                    <a:pt x="366" y="2789"/>
                  </a:lnTo>
                  <a:lnTo>
                    <a:pt x="360" y="2825"/>
                  </a:lnTo>
                  <a:lnTo>
                    <a:pt x="354" y="2859"/>
                  </a:lnTo>
                  <a:lnTo>
                    <a:pt x="346" y="2895"/>
                  </a:lnTo>
                  <a:lnTo>
                    <a:pt x="336" y="2929"/>
                  </a:lnTo>
                  <a:lnTo>
                    <a:pt x="324" y="2961"/>
                  </a:lnTo>
                  <a:lnTo>
                    <a:pt x="310" y="2993"/>
                  </a:lnTo>
                  <a:lnTo>
                    <a:pt x="296" y="3025"/>
                  </a:lnTo>
                  <a:lnTo>
                    <a:pt x="280" y="3055"/>
                  </a:lnTo>
                  <a:lnTo>
                    <a:pt x="280" y="3055"/>
                  </a:lnTo>
                  <a:lnTo>
                    <a:pt x="274" y="3069"/>
                  </a:lnTo>
                  <a:lnTo>
                    <a:pt x="268" y="3083"/>
                  </a:lnTo>
                  <a:lnTo>
                    <a:pt x="264" y="3099"/>
                  </a:lnTo>
                  <a:lnTo>
                    <a:pt x="264" y="3113"/>
                  </a:lnTo>
                  <a:lnTo>
                    <a:pt x="264" y="3129"/>
                  </a:lnTo>
                  <a:lnTo>
                    <a:pt x="266" y="3143"/>
                  </a:lnTo>
                  <a:lnTo>
                    <a:pt x="270" y="3159"/>
                  </a:lnTo>
                  <a:lnTo>
                    <a:pt x="276" y="3173"/>
                  </a:lnTo>
                  <a:lnTo>
                    <a:pt x="276" y="3173"/>
                  </a:lnTo>
                  <a:lnTo>
                    <a:pt x="284" y="3185"/>
                  </a:lnTo>
                  <a:lnTo>
                    <a:pt x="294" y="3197"/>
                  </a:lnTo>
                  <a:lnTo>
                    <a:pt x="304" y="3209"/>
                  </a:lnTo>
                  <a:lnTo>
                    <a:pt x="316" y="3219"/>
                  </a:lnTo>
                  <a:lnTo>
                    <a:pt x="330" y="3225"/>
                  </a:lnTo>
                  <a:lnTo>
                    <a:pt x="342" y="3233"/>
                  </a:lnTo>
                  <a:lnTo>
                    <a:pt x="358" y="3237"/>
                  </a:lnTo>
                  <a:lnTo>
                    <a:pt x="372" y="3239"/>
                  </a:lnTo>
                  <a:lnTo>
                    <a:pt x="372" y="3239"/>
                  </a:lnTo>
                  <a:lnTo>
                    <a:pt x="430" y="3247"/>
                  </a:lnTo>
                  <a:lnTo>
                    <a:pt x="484" y="3255"/>
                  </a:lnTo>
                  <a:lnTo>
                    <a:pt x="532" y="3265"/>
                  </a:lnTo>
                  <a:lnTo>
                    <a:pt x="576" y="3277"/>
                  </a:lnTo>
                  <a:lnTo>
                    <a:pt x="618" y="3289"/>
                  </a:lnTo>
                  <a:lnTo>
                    <a:pt x="660" y="3301"/>
                  </a:lnTo>
                  <a:lnTo>
                    <a:pt x="700" y="3317"/>
                  </a:lnTo>
                  <a:lnTo>
                    <a:pt x="740" y="3333"/>
                  </a:lnTo>
                  <a:lnTo>
                    <a:pt x="740" y="3333"/>
                  </a:lnTo>
                  <a:lnTo>
                    <a:pt x="764" y="3339"/>
                  </a:lnTo>
                  <a:lnTo>
                    <a:pt x="786" y="3341"/>
                  </a:lnTo>
                  <a:lnTo>
                    <a:pt x="786" y="3341"/>
                  </a:lnTo>
                  <a:close/>
                  <a:moveTo>
                    <a:pt x="1384" y="873"/>
                  </a:moveTo>
                  <a:lnTo>
                    <a:pt x="1576" y="829"/>
                  </a:lnTo>
                  <a:lnTo>
                    <a:pt x="1576" y="829"/>
                  </a:lnTo>
                  <a:lnTo>
                    <a:pt x="1572" y="843"/>
                  </a:lnTo>
                  <a:lnTo>
                    <a:pt x="1392" y="883"/>
                  </a:lnTo>
                  <a:lnTo>
                    <a:pt x="1392" y="883"/>
                  </a:lnTo>
                  <a:lnTo>
                    <a:pt x="1384" y="873"/>
                  </a:lnTo>
                  <a:lnTo>
                    <a:pt x="1384" y="873"/>
                  </a:lnTo>
                  <a:close/>
                  <a:moveTo>
                    <a:pt x="1098" y="2279"/>
                  </a:moveTo>
                  <a:lnTo>
                    <a:pt x="1148" y="2505"/>
                  </a:lnTo>
                  <a:lnTo>
                    <a:pt x="1148" y="2505"/>
                  </a:lnTo>
                  <a:lnTo>
                    <a:pt x="1152" y="2519"/>
                  </a:lnTo>
                  <a:lnTo>
                    <a:pt x="1158" y="2531"/>
                  </a:lnTo>
                  <a:lnTo>
                    <a:pt x="1164" y="2543"/>
                  </a:lnTo>
                  <a:lnTo>
                    <a:pt x="1170" y="2553"/>
                  </a:lnTo>
                  <a:lnTo>
                    <a:pt x="1034" y="2585"/>
                  </a:lnTo>
                  <a:lnTo>
                    <a:pt x="1034" y="2585"/>
                  </a:lnTo>
                  <a:lnTo>
                    <a:pt x="1034" y="2503"/>
                  </a:lnTo>
                  <a:lnTo>
                    <a:pt x="1030" y="2421"/>
                  </a:lnTo>
                  <a:lnTo>
                    <a:pt x="1024" y="2335"/>
                  </a:lnTo>
                  <a:lnTo>
                    <a:pt x="1016" y="2247"/>
                  </a:lnTo>
                  <a:lnTo>
                    <a:pt x="1016" y="2247"/>
                  </a:lnTo>
                  <a:lnTo>
                    <a:pt x="1058" y="2263"/>
                  </a:lnTo>
                  <a:lnTo>
                    <a:pt x="1098" y="2279"/>
                  </a:lnTo>
                  <a:lnTo>
                    <a:pt x="1098" y="2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447480" y="22145760"/>
              <a:ext cx="5475240" cy="52466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5246640"/>
                <a:gd name="textAreaBottom" fmla="*/ 5246640 h 5246640"/>
              </a:gdLst>
              <a:ahLst/>
              <a:rect l="textAreaLeft" t="textAreaTop" r="textAreaRight" b="textAreaBottom"/>
              <a:pathLst>
                <a:path w="3449" h="3305">
                  <a:moveTo>
                    <a:pt x="3367" y="2122"/>
                  </a:moveTo>
                  <a:lnTo>
                    <a:pt x="3367" y="2122"/>
                  </a:lnTo>
                  <a:lnTo>
                    <a:pt x="3363" y="2110"/>
                  </a:lnTo>
                  <a:lnTo>
                    <a:pt x="3359" y="2098"/>
                  </a:lnTo>
                  <a:lnTo>
                    <a:pt x="3353" y="2088"/>
                  </a:lnTo>
                  <a:lnTo>
                    <a:pt x="3347" y="2078"/>
                  </a:lnTo>
                  <a:lnTo>
                    <a:pt x="3331" y="2060"/>
                  </a:lnTo>
                  <a:lnTo>
                    <a:pt x="3311" y="2044"/>
                  </a:lnTo>
                  <a:lnTo>
                    <a:pt x="3291" y="2034"/>
                  </a:lnTo>
                  <a:lnTo>
                    <a:pt x="3267" y="2028"/>
                  </a:lnTo>
                  <a:lnTo>
                    <a:pt x="3255" y="2026"/>
                  </a:lnTo>
                  <a:lnTo>
                    <a:pt x="3243" y="2026"/>
                  </a:lnTo>
                  <a:lnTo>
                    <a:pt x="3231" y="2026"/>
                  </a:lnTo>
                  <a:lnTo>
                    <a:pt x="3219" y="2028"/>
                  </a:lnTo>
                  <a:lnTo>
                    <a:pt x="3030" y="2072"/>
                  </a:lnTo>
                  <a:lnTo>
                    <a:pt x="2706" y="638"/>
                  </a:lnTo>
                  <a:lnTo>
                    <a:pt x="2706" y="638"/>
                  </a:lnTo>
                  <a:lnTo>
                    <a:pt x="2704" y="636"/>
                  </a:lnTo>
                  <a:lnTo>
                    <a:pt x="2894" y="594"/>
                  </a:lnTo>
                  <a:lnTo>
                    <a:pt x="2894" y="594"/>
                  </a:lnTo>
                  <a:lnTo>
                    <a:pt x="2906" y="590"/>
                  </a:lnTo>
                  <a:lnTo>
                    <a:pt x="2916" y="586"/>
                  </a:lnTo>
                  <a:lnTo>
                    <a:pt x="2928" y="580"/>
                  </a:lnTo>
                  <a:lnTo>
                    <a:pt x="2938" y="574"/>
                  </a:lnTo>
                  <a:lnTo>
                    <a:pt x="2956" y="558"/>
                  </a:lnTo>
                  <a:lnTo>
                    <a:pt x="2970" y="538"/>
                  </a:lnTo>
                  <a:lnTo>
                    <a:pt x="2982" y="518"/>
                  </a:lnTo>
                  <a:lnTo>
                    <a:pt x="2988" y="494"/>
                  </a:lnTo>
                  <a:lnTo>
                    <a:pt x="2990" y="482"/>
                  </a:lnTo>
                  <a:lnTo>
                    <a:pt x="2990" y="470"/>
                  </a:lnTo>
                  <a:lnTo>
                    <a:pt x="2988" y="458"/>
                  </a:lnTo>
                  <a:lnTo>
                    <a:pt x="2986" y="446"/>
                  </a:lnTo>
                  <a:lnTo>
                    <a:pt x="2908" y="96"/>
                  </a:lnTo>
                  <a:lnTo>
                    <a:pt x="2908" y="96"/>
                  </a:lnTo>
                  <a:lnTo>
                    <a:pt x="2904" y="84"/>
                  </a:lnTo>
                  <a:lnTo>
                    <a:pt x="2900" y="72"/>
                  </a:lnTo>
                  <a:lnTo>
                    <a:pt x="2888" y="52"/>
                  </a:lnTo>
                  <a:lnTo>
                    <a:pt x="2872" y="34"/>
                  </a:lnTo>
                  <a:lnTo>
                    <a:pt x="2862" y="26"/>
                  </a:lnTo>
                  <a:lnTo>
                    <a:pt x="2852" y="18"/>
                  </a:lnTo>
                  <a:lnTo>
                    <a:pt x="2852" y="18"/>
                  </a:lnTo>
                  <a:lnTo>
                    <a:pt x="2842" y="12"/>
                  </a:lnTo>
                  <a:lnTo>
                    <a:pt x="2832" y="8"/>
                  </a:lnTo>
                  <a:lnTo>
                    <a:pt x="2808" y="2"/>
                  </a:lnTo>
                  <a:lnTo>
                    <a:pt x="2784" y="0"/>
                  </a:lnTo>
                  <a:lnTo>
                    <a:pt x="2772" y="0"/>
                  </a:lnTo>
                  <a:lnTo>
                    <a:pt x="2760" y="2"/>
                  </a:lnTo>
                  <a:lnTo>
                    <a:pt x="1848" y="208"/>
                  </a:lnTo>
                  <a:lnTo>
                    <a:pt x="1848" y="208"/>
                  </a:lnTo>
                  <a:lnTo>
                    <a:pt x="1846" y="196"/>
                  </a:lnTo>
                  <a:lnTo>
                    <a:pt x="1846" y="196"/>
                  </a:lnTo>
                  <a:lnTo>
                    <a:pt x="1838" y="174"/>
                  </a:lnTo>
                  <a:lnTo>
                    <a:pt x="1828" y="152"/>
                  </a:lnTo>
                  <a:lnTo>
                    <a:pt x="1814" y="132"/>
                  </a:lnTo>
                  <a:lnTo>
                    <a:pt x="1796" y="114"/>
                  </a:lnTo>
                  <a:lnTo>
                    <a:pt x="1786" y="106"/>
                  </a:lnTo>
                  <a:lnTo>
                    <a:pt x="1774" y="98"/>
                  </a:lnTo>
                  <a:lnTo>
                    <a:pt x="1762" y="90"/>
                  </a:lnTo>
                  <a:lnTo>
                    <a:pt x="1748" y="86"/>
                  </a:lnTo>
                  <a:lnTo>
                    <a:pt x="1732" y="80"/>
                  </a:lnTo>
                  <a:lnTo>
                    <a:pt x="1716" y="78"/>
                  </a:lnTo>
                  <a:lnTo>
                    <a:pt x="1700" y="76"/>
                  </a:lnTo>
                  <a:lnTo>
                    <a:pt x="1682" y="74"/>
                  </a:lnTo>
                  <a:lnTo>
                    <a:pt x="1682" y="74"/>
                  </a:lnTo>
                  <a:lnTo>
                    <a:pt x="1656" y="76"/>
                  </a:lnTo>
                  <a:lnTo>
                    <a:pt x="1632" y="78"/>
                  </a:lnTo>
                  <a:lnTo>
                    <a:pt x="1174" y="132"/>
                  </a:lnTo>
                  <a:lnTo>
                    <a:pt x="1174" y="132"/>
                  </a:lnTo>
                  <a:lnTo>
                    <a:pt x="1160" y="136"/>
                  </a:lnTo>
                  <a:lnTo>
                    <a:pt x="1148" y="138"/>
                  </a:lnTo>
                  <a:lnTo>
                    <a:pt x="1136" y="144"/>
                  </a:lnTo>
                  <a:lnTo>
                    <a:pt x="1124" y="150"/>
                  </a:lnTo>
                  <a:lnTo>
                    <a:pt x="1114" y="156"/>
                  </a:lnTo>
                  <a:lnTo>
                    <a:pt x="1104" y="164"/>
                  </a:lnTo>
                  <a:lnTo>
                    <a:pt x="1096" y="174"/>
                  </a:lnTo>
                  <a:lnTo>
                    <a:pt x="1088" y="184"/>
                  </a:lnTo>
                  <a:lnTo>
                    <a:pt x="1088" y="184"/>
                  </a:lnTo>
                  <a:lnTo>
                    <a:pt x="1080" y="196"/>
                  </a:lnTo>
                  <a:lnTo>
                    <a:pt x="1074" y="206"/>
                  </a:lnTo>
                  <a:lnTo>
                    <a:pt x="1070" y="218"/>
                  </a:lnTo>
                  <a:lnTo>
                    <a:pt x="1066" y="232"/>
                  </a:lnTo>
                  <a:lnTo>
                    <a:pt x="1064" y="244"/>
                  </a:lnTo>
                  <a:lnTo>
                    <a:pt x="1064" y="256"/>
                  </a:lnTo>
                  <a:lnTo>
                    <a:pt x="1066" y="270"/>
                  </a:lnTo>
                  <a:lnTo>
                    <a:pt x="1068" y="282"/>
                  </a:lnTo>
                  <a:lnTo>
                    <a:pt x="1090" y="380"/>
                  </a:lnTo>
                  <a:lnTo>
                    <a:pt x="96" y="604"/>
                  </a:lnTo>
                  <a:lnTo>
                    <a:pt x="96" y="604"/>
                  </a:lnTo>
                  <a:lnTo>
                    <a:pt x="84" y="608"/>
                  </a:lnTo>
                  <a:lnTo>
                    <a:pt x="72" y="612"/>
                  </a:lnTo>
                  <a:lnTo>
                    <a:pt x="52" y="624"/>
                  </a:lnTo>
                  <a:lnTo>
                    <a:pt x="32" y="640"/>
                  </a:lnTo>
                  <a:lnTo>
                    <a:pt x="26" y="650"/>
                  </a:lnTo>
                  <a:lnTo>
                    <a:pt x="18" y="660"/>
                  </a:lnTo>
                  <a:lnTo>
                    <a:pt x="18" y="660"/>
                  </a:lnTo>
                  <a:lnTo>
                    <a:pt x="12" y="670"/>
                  </a:lnTo>
                  <a:lnTo>
                    <a:pt x="8" y="680"/>
                  </a:lnTo>
                  <a:lnTo>
                    <a:pt x="0" y="704"/>
                  </a:lnTo>
                  <a:lnTo>
                    <a:pt x="0" y="728"/>
                  </a:lnTo>
                  <a:lnTo>
                    <a:pt x="0" y="740"/>
                  </a:lnTo>
                  <a:lnTo>
                    <a:pt x="2" y="752"/>
                  </a:lnTo>
                  <a:lnTo>
                    <a:pt x="82" y="1102"/>
                  </a:lnTo>
                  <a:lnTo>
                    <a:pt x="82" y="1102"/>
                  </a:lnTo>
                  <a:lnTo>
                    <a:pt x="84" y="1114"/>
                  </a:lnTo>
                  <a:lnTo>
                    <a:pt x="90" y="1126"/>
                  </a:lnTo>
                  <a:lnTo>
                    <a:pt x="94" y="1136"/>
                  </a:lnTo>
                  <a:lnTo>
                    <a:pt x="102" y="1148"/>
                  </a:lnTo>
                  <a:lnTo>
                    <a:pt x="116" y="1164"/>
                  </a:lnTo>
                  <a:lnTo>
                    <a:pt x="136" y="1180"/>
                  </a:lnTo>
                  <a:lnTo>
                    <a:pt x="156" y="1190"/>
                  </a:lnTo>
                  <a:lnTo>
                    <a:pt x="180" y="1196"/>
                  </a:lnTo>
                  <a:lnTo>
                    <a:pt x="192" y="1198"/>
                  </a:lnTo>
                  <a:lnTo>
                    <a:pt x="204" y="1198"/>
                  </a:lnTo>
                  <a:lnTo>
                    <a:pt x="216" y="1198"/>
                  </a:lnTo>
                  <a:lnTo>
                    <a:pt x="228" y="1196"/>
                  </a:lnTo>
                  <a:lnTo>
                    <a:pt x="264" y="1188"/>
                  </a:lnTo>
                  <a:lnTo>
                    <a:pt x="264" y="1188"/>
                  </a:lnTo>
                  <a:lnTo>
                    <a:pt x="264" y="1188"/>
                  </a:lnTo>
                  <a:lnTo>
                    <a:pt x="258" y="1198"/>
                  </a:lnTo>
                  <a:lnTo>
                    <a:pt x="252" y="1210"/>
                  </a:lnTo>
                  <a:lnTo>
                    <a:pt x="248" y="1222"/>
                  </a:lnTo>
                  <a:lnTo>
                    <a:pt x="246" y="1234"/>
                  </a:lnTo>
                  <a:lnTo>
                    <a:pt x="244" y="1246"/>
                  </a:lnTo>
                  <a:lnTo>
                    <a:pt x="242" y="1260"/>
                  </a:lnTo>
                  <a:lnTo>
                    <a:pt x="244" y="1272"/>
                  </a:lnTo>
                  <a:lnTo>
                    <a:pt x="246" y="1284"/>
                  </a:lnTo>
                  <a:lnTo>
                    <a:pt x="680" y="3209"/>
                  </a:lnTo>
                  <a:lnTo>
                    <a:pt x="680" y="3209"/>
                  </a:lnTo>
                  <a:lnTo>
                    <a:pt x="688" y="3229"/>
                  </a:lnTo>
                  <a:lnTo>
                    <a:pt x="698" y="3249"/>
                  </a:lnTo>
                  <a:lnTo>
                    <a:pt x="710" y="3265"/>
                  </a:lnTo>
                  <a:lnTo>
                    <a:pt x="724" y="3279"/>
                  </a:lnTo>
                  <a:lnTo>
                    <a:pt x="742" y="3289"/>
                  </a:lnTo>
                  <a:lnTo>
                    <a:pt x="760" y="3299"/>
                  </a:lnTo>
                  <a:lnTo>
                    <a:pt x="780" y="3303"/>
                  </a:lnTo>
                  <a:lnTo>
                    <a:pt x="802" y="3305"/>
                  </a:lnTo>
                  <a:lnTo>
                    <a:pt x="802" y="3305"/>
                  </a:lnTo>
                  <a:lnTo>
                    <a:pt x="814" y="3305"/>
                  </a:lnTo>
                  <a:lnTo>
                    <a:pt x="828" y="3301"/>
                  </a:lnTo>
                  <a:lnTo>
                    <a:pt x="1258" y="3205"/>
                  </a:lnTo>
                  <a:lnTo>
                    <a:pt x="1258" y="3205"/>
                  </a:lnTo>
                  <a:lnTo>
                    <a:pt x="1270" y="3201"/>
                  </a:lnTo>
                  <a:lnTo>
                    <a:pt x="1280" y="3197"/>
                  </a:lnTo>
                  <a:lnTo>
                    <a:pt x="1302" y="3185"/>
                  </a:lnTo>
                  <a:lnTo>
                    <a:pt x="1320" y="3169"/>
                  </a:lnTo>
                  <a:lnTo>
                    <a:pt x="1328" y="3161"/>
                  </a:lnTo>
                  <a:lnTo>
                    <a:pt x="1334" y="3151"/>
                  </a:lnTo>
                  <a:lnTo>
                    <a:pt x="1334" y="3151"/>
                  </a:lnTo>
                  <a:lnTo>
                    <a:pt x="1344" y="3133"/>
                  </a:lnTo>
                  <a:lnTo>
                    <a:pt x="1350" y="3115"/>
                  </a:lnTo>
                  <a:lnTo>
                    <a:pt x="1354" y="3095"/>
                  </a:lnTo>
                  <a:lnTo>
                    <a:pt x="1354" y="3075"/>
                  </a:lnTo>
                  <a:lnTo>
                    <a:pt x="3353" y="2622"/>
                  </a:lnTo>
                  <a:lnTo>
                    <a:pt x="3353" y="2622"/>
                  </a:lnTo>
                  <a:lnTo>
                    <a:pt x="3365" y="2620"/>
                  </a:lnTo>
                  <a:lnTo>
                    <a:pt x="3377" y="2614"/>
                  </a:lnTo>
                  <a:lnTo>
                    <a:pt x="3397" y="2602"/>
                  </a:lnTo>
                  <a:lnTo>
                    <a:pt x="3415" y="2586"/>
                  </a:lnTo>
                  <a:lnTo>
                    <a:pt x="3423" y="2578"/>
                  </a:lnTo>
                  <a:lnTo>
                    <a:pt x="3431" y="2568"/>
                  </a:lnTo>
                  <a:lnTo>
                    <a:pt x="3431" y="2568"/>
                  </a:lnTo>
                  <a:lnTo>
                    <a:pt x="3437" y="2558"/>
                  </a:lnTo>
                  <a:lnTo>
                    <a:pt x="3441" y="2546"/>
                  </a:lnTo>
                  <a:lnTo>
                    <a:pt x="3447" y="2522"/>
                  </a:lnTo>
                  <a:lnTo>
                    <a:pt x="3449" y="2498"/>
                  </a:lnTo>
                  <a:lnTo>
                    <a:pt x="3449" y="2486"/>
                  </a:lnTo>
                  <a:lnTo>
                    <a:pt x="3447" y="2474"/>
                  </a:lnTo>
                  <a:lnTo>
                    <a:pt x="3367" y="2122"/>
                  </a:lnTo>
                  <a:close/>
                  <a:moveTo>
                    <a:pt x="810" y="1064"/>
                  </a:moveTo>
                  <a:lnTo>
                    <a:pt x="818" y="1062"/>
                  </a:lnTo>
                  <a:lnTo>
                    <a:pt x="818" y="1064"/>
                  </a:lnTo>
                  <a:lnTo>
                    <a:pt x="818" y="1064"/>
                  </a:lnTo>
                  <a:lnTo>
                    <a:pt x="810" y="1064"/>
                  </a:lnTo>
                  <a:lnTo>
                    <a:pt x="810" y="10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4797720" y="15225840"/>
              <a:ext cx="4881600" cy="4802040"/>
            </a:xfrm>
            <a:custGeom>
              <a:avLst/>
              <a:gdLst>
                <a:gd name="textAreaLeft" fmla="*/ 0 w 4881600"/>
                <a:gd name="textAreaRight" fmla="*/ 4881960 w 4881600"/>
                <a:gd name="textAreaTop" fmla="*/ 0 h 4802040"/>
                <a:gd name="textAreaBottom" fmla="*/ 4802400 h 4802040"/>
              </a:gdLst>
              <a:ahLst/>
              <a:rect l="textAreaLeft" t="textAreaTop" r="textAreaRight" b="textAreaBottom"/>
              <a:pathLst>
                <a:path w="3075" h="3025">
                  <a:moveTo>
                    <a:pt x="939" y="963"/>
                  </a:moveTo>
                  <a:lnTo>
                    <a:pt x="1025" y="1345"/>
                  </a:lnTo>
                  <a:lnTo>
                    <a:pt x="763" y="1405"/>
                  </a:lnTo>
                  <a:lnTo>
                    <a:pt x="951" y="2231"/>
                  </a:lnTo>
                  <a:lnTo>
                    <a:pt x="951" y="2231"/>
                  </a:lnTo>
                  <a:lnTo>
                    <a:pt x="1027" y="2185"/>
                  </a:lnTo>
                  <a:lnTo>
                    <a:pt x="1093" y="2143"/>
                  </a:lnTo>
                  <a:lnTo>
                    <a:pt x="1219" y="2063"/>
                  </a:lnTo>
                  <a:lnTo>
                    <a:pt x="1219" y="2063"/>
                  </a:lnTo>
                  <a:lnTo>
                    <a:pt x="1227" y="2157"/>
                  </a:lnTo>
                  <a:lnTo>
                    <a:pt x="1235" y="2237"/>
                  </a:lnTo>
                  <a:lnTo>
                    <a:pt x="1245" y="2311"/>
                  </a:lnTo>
                  <a:lnTo>
                    <a:pt x="1259" y="2381"/>
                  </a:lnTo>
                  <a:lnTo>
                    <a:pt x="1259" y="2381"/>
                  </a:lnTo>
                  <a:lnTo>
                    <a:pt x="1273" y="2431"/>
                  </a:lnTo>
                  <a:lnTo>
                    <a:pt x="1289" y="2479"/>
                  </a:lnTo>
                  <a:lnTo>
                    <a:pt x="1289" y="2479"/>
                  </a:lnTo>
                  <a:lnTo>
                    <a:pt x="1197" y="2539"/>
                  </a:lnTo>
                  <a:lnTo>
                    <a:pt x="1093" y="2607"/>
                  </a:lnTo>
                  <a:lnTo>
                    <a:pt x="979" y="2675"/>
                  </a:lnTo>
                  <a:lnTo>
                    <a:pt x="865" y="2745"/>
                  </a:lnTo>
                  <a:lnTo>
                    <a:pt x="661" y="2863"/>
                  </a:lnTo>
                  <a:lnTo>
                    <a:pt x="541" y="2933"/>
                  </a:lnTo>
                  <a:lnTo>
                    <a:pt x="541" y="2933"/>
                  </a:lnTo>
                  <a:lnTo>
                    <a:pt x="535" y="2975"/>
                  </a:lnTo>
                  <a:lnTo>
                    <a:pt x="529" y="3001"/>
                  </a:lnTo>
                  <a:lnTo>
                    <a:pt x="525" y="3011"/>
                  </a:lnTo>
                  <a:lnTo>
                    <a:pt x="521" y="3017"/>
                  </a:lnTo>
                  <a:lnTo>
                    <a:pt x="515" y="3021"/>
                  </a:lnTo>
                  <a:lnTo>
                    <a:pt x="509" y="3023"/>
                  </a:lnTo>
                  <a:lnTo>
                    <a:pt x="509" y="3023"/>
                  </a:lnTo>
                  <a:lnTo>
                    <a:pt x="499" y="3025"/>
                  </a:lnTo>
                  <a:lnTo>
                    <a:pt x="489" y="3023"/>
                  </a:lnTo>
                  <a:lnTo>
                    <a:pt x="481" y="3019"/>
                  </a:lnTo>
                  <a:lnTo>
                    <a:pt x="473" y="3015"/>
                  </a:lnTo>
                  <a:lnTo>
                    <a:pt x="467" y="3007"/>
                  </a:lnTo>
                  <a:lnTo>
                    <a:pt x="463" y="3001"/>
                  </a:lnTo>
                  <a:lnTo>
                    <a:pt x="453" y="2983"/>
                  </a:lnTo>
                  <a:lnTo>
                    <a:pt x="246" y="2589"/>
                  </a:lnTo>
                  <a:lnTo>
                    <a:pt x="246" y="2589"/>
                  </a:lnTo>
                  <a:lnTo>
                    <a:pt x="361" y="2537"/>
                  </a:lnTo>
                  <a:lnTo>
                    <a:pt x="443" y="2497"/>
                  </a:lnTo>
                  <a:lnTo>
                    <a:pt x="545" y="2447"/>
                  </a:lnTo>
                  <a:lnTo>
                    <a:pt x="331" y="1503"/>
                  </a:lnTo>
                  <a:lnTo>
                    <a:pt x="86" y="1557"/>
                  </a:lnTo>
                  <a:lnTo>
                    <a:pt x="0" y="1175"/>
                  </a:lnTo>
                  <a:lnTo>
                    <a:pt x="244" y="1121"/>
                  </a:lnTo>
                  <a:lnTo>
                    <a:pt x="88" y="428"/>
                  </a:lnTo>
                  <a:lnTo>
                    <a:pt x="571" y="350"/>
                  </a:lnTo>
                  <a:lnTo>
                    <a:pt x="571" y="350"/>
                  </a:lnTo>
                  <a:lnTo>
                    <a:pt x="587" y="348"/>
                  </a:lnTo>
                  <a:lnTo>
                    <a:pt x="595" y="350"/>
                  </a:lnTo>
                  <a:lnTo>
                    <a:pt x="601" y="352"/>
                  </a:lnTo>
                  <a:lnTo>
                    <a:pt x="607" y="356"/>
                  </a:lnTo>
                  <a:lnTo>
                    <a:pt x="611" y="360"/>
                  </a:lnTo>
                  <a:lnTo>
                    <a:pt x="615" y="366"/>
                  </a:lnTo>
                  <a:lnTo>
                    <a:pt x="617" y="374"/>
                  </a:lnTo>
                  <a:lnTo>
                    <a:pt x="617" y="374"/>
                  </a:lnTo>
                  <a:lnTo>
                    <a:pt x="619" y="382"/>
                  </a:lnTo>
                  <a:lnTo>
                    <a:pt x="617" y="390"/>
                  </a:lnTo>
                  <a:lnTo>
                    <a:pt x="613" y="398"/>
                  </a:lnTo>
                  <a:lnTo>
                    <a:pt x="605" y="406"/>
                  </a:lnTo>
                  <a:lnTo>
                    <a:pt x="595" y="414"/>
                  </a:lnTo>
                  <a:lnTo>
                    <a:pt x="583" y="422"/>
                  </a:lnTo>
                  <a:lnTo>
                    <a:pt x="547" y="446"/>
                  </a:lnTo>
                  <a:lnTo>
                    <a:pt x="677" y="1023"/>
                  </a:lnTo>
                  <a:lnTo>
                    <a:pt x="939" y="963"/>
                  </a:lnTo>
                  <a:close/>
                  <a:moveTo>
                    <a:pt x="1685" y="955"/>
                  </a:moveTo>
                  <a:lnTo>
                    <a:pt x="1485" y="72"/>
                  </a:lnTo>
                  <a:lnTo>
                    <a:pt x="1925" y="0"/>
                  </a:lnTo>
                  <a:lnTo>
                    <a:pt x="1925" y="0"/>
                  </a:lnTo>
                  <a:lnTo>
                    <a:pt x="1939" y="0"/>
                  </a:lnTo>
                  <a:lnTo>
                    <a:pt x="1947" y="0"/>
                  </a:lnTo>
                  <a:lnTo>
                    <a:pt x="1955" y="2"/>
                  </a:lnTo>
                  <a:lnTo>
                    <a:pt x="1961" y="4"/>
                  </a:lnTo>
                  <a:lnTo>
                    <a:pt x="1967" y="10"/>
                  </a:lnTo>
                  <a:lnTo>
                    <a:pt x="1973" y="16"/>
                  </a:lnTo>
                  <a:lnTo>
                    <a:pt x="1975" y="24"/>
                  </a:lnTo>
                  <a:lnTo>
                    <a:pt x="1975" y="24"/>
                  </a:lnTo>
                  <a:lnTo>
                    <a:pt x="1977" y="32"/>
                  </a:lnTo>
                  <a:lnTo>
                    <a:pt x="1975" y="38"/>
                  </a:lnTo>
                  <a:lnTo>
                    <a:pt x="1973" y="46"/>
                  </a:lnTo>
                  <a:lnTo>
                    <a:pt x="1967" y="54"/>
                  </a:lnTo>
                  <a:lnTo>
                    <a:pt x="1949" y="70"/>
                  </a:lnTo>
                  <a:lnTo>
                    <a:pt x="1917" y="92"/>
                  </a:lnTo>
                  <a:lnTo>
                    <a:pt x="2053" y="697"/>
                  </a:lnTo>
                  <a:lnTo>
                    <a:pt x="2415" y="438"/>
                  </a:lnTo>
                  <a:lnTo>
                    <a:pt x="2615" y="482"/>
                  </a:lnTo>
                  <a:lnTo>
                    <a:pt x="2857" y="1553"/>
                  </a:lnTo>
                  <a:lnTo>
                    <a:pt x="2857" y="1553"/>
                  </a:lnTo>
                  <a:lnTo>
                    <a:pt x="2863" y="1589"/>
                  </a:lnTo>
                  <a:lnTo>
                    <a:pt x="2871" y="1631"/>
                  </a:lnTo>
                  <a:lnTo>
                    <a:pt x="2873" y="1653"/>
                  </a:lnTo>
                  <a:lnTo>
                    <a:pt x="2873" y="1675"/>
                  </a:lnTo>
                  <a:lnTo>
                    <a:pt x="2873" y="1697"/>
                  </a:lnTo>
                  <a:lnTo>
                    <a:pt x="2871" y="1721"/>
                  </a:lnTo>
                  <a:lnTo>
                    <a:pt x="2867" y="1745"/>
                  </a:lnTo>
                  <a:lnTo>
                    <a:pt x="2859" y="1767"/>
                  </a:lnTo>
                  <a:lnTo>
                    <a:pt x="2849" y="1791"/>
                  </a:lnTo>
                  <a:lnTo>
                    <a:pt x="2837" y="1813"/>
                  </a:lnTo>
                  <a:lnTo>
                    <a:pt x="2821" y="1837"/>
                  </a:lnTo>
                  <a:lnTo>
                    <a:pt x="2801" y="1857"/>
                  </a:lnTo>
                  <a:lnTo>
                    <a:pt x="2777" y="1879"/>
                  </a:lnTo>
                  <a:lnTo>
                    <a:pt x="2749" y="1899"/>
                  </a:lnTo>
                  <a:lnTo>
                    <a:pt x="2749" y="1899"/>
                  </a:lnTo>
                  <a:lnTo>
                    <a:pt x="2787" y="1917"/>
                  </a:lnTo>
                  <a:lnTo>
                    <a:pt x="2821" y="1931"/>
                  </a:lnTo>
                  <a:lnTo>
                    <a:pt x="2855" y="1943"/>
                  </a:lnTo>
                  <a:lnTo>
                    <a:pt x="2891" y="1955"/>
                  </a:lnTo>
                  <a:lnTo>
                    <a:pt x="2929" y="1965"/>
                  </a:lnTo>
                  <a:lnTo>
                    <a:pt x="2971" y="1975"/>
                  </a:lnTo>
                  <a:lnTo>
                    <a:pt x="3073" y="1993"/>
                  </a:lnTo>
                  <a:lnTo>
                    <a:pt x="3073" y="1993"/>
                  </a:lnTo>
                  <a:lnTo>
                    <a:pt x="3075" y="2069"/>
                  </a:lnTo>
                  <a:lnTo>
                    <a:pt x="3073" y="2139"/>
                  </a:lnTo>
                  <a:lnTo>
                    <a:pt x="3067" y="2201"/>
                  </a:lnTo>
                  <a:lnTo>
                    <a:pt x="3059" y="2257"/>
                  </a:lnTo>
                  <a:lnTo>
                    <a:pt x="3053" y="2283"/>
                  </a:lnTo>
                  <a:lnTo>
                    <a:pt x="3047" y="2307"/>
                  </a:lnTo>
                  <a:lnTo>
                    <a:pt x="3039" y="2331"/>
                  </a:lnTo>
                  <a:lnTo>
                    <a:pt x="3029" y="2353"/>
                  </a:lnTo>
                  <a:lnTo>
                    <a:pt x="3021" y="2373"/>
                  </a:lnTo>
                  <a:lnTo>
                    <a:pt x="3009" y="2393"/>
                  </a:lnTo>
                  <a:lnTo>
                    <a:pt x="2997" y="2411"/>
                  </a:lnTo>
                  <a:lnTo>
                    <a:pt x="2985" y="2429"/>
                  </a:lnTo>
                  <a:lnTo>
                    <a:pt x="2971" y="2445"/>
                  </a:lnTo>
                  <a:lnTo>
                    <a:pt x="2957" y="2459"/>
                  </a:lnTo>
                  <a:lnTo>
                    <a:pt x="2941" y="2473"/>
                  </a:lnTo>
                  <a:lnTo>
                    <a:pt x="2925" y="2487"/>
                  </a:lnTo>
                  <a:lnTo>
                    <a:pt x="2907" y="2499"/>
                  </a:lnTo>
                  <a:lnTo>
                    <a:pt x="2887" y="2511"/>
                  </a:lnTo>
                  <a:lnTo>
                    <a:pt x="2847" y="2533"/>
                  </a:lnTo>
                  <a:lnTo>
                    <a:pt x="2801" y="2551"/>
                  </a:lnTo>
                  <a:lnTo>
                    <a:pt x="2751" y="2569"/>
                  </a:lnTo>
                  <a:lnTo>
                    <a:pt x="2697" y="2583"/>
                  </a:lnTo>
                  <a:lnTo>
                    <a:pt x="2637" y="2597"/>
                  </a:lnTo>
                  <a:lnTo>
                    <a:pt x="1959" y="2751"/>
                  </a:lnTo>
                  <a:lnTo>
                    <a:pt x="1959" y="2751"/>
                  </a:lnTo>
                  <a:lnTo>
                    <a:pt x="1921" y="2759"/>
                  </a:lnTo>
                  <a:lnTo>
                    <a:pt x="1883" y="2767"/>
                  </a:lnTo>
                  <a:lnTo>
                    <a:pt x="1845" y="2773"/>
                  </a:lnTo>
                  <a:lnTo>
                    <a:pt x="1805" y="2775"/>
                  </a:lnTo>
                  <a:lnTo>
                    <a:pt x="1767" y="2777"/>
                  </a:lnTo>
                  <a:lnTo>
                    <a:pt x="1727" y="2775"/>
                  </a:lnTo>
                  <a:lnTo>
                    <a:pt x="1689" y="2769"/>
                  </a:lnTo>
                  <a:lnTo>
                    <a:pt x="1653" y="2761"/>
                  </a:lnTo>
                  <a:lnTo>
                    <a:pt x="1633" y="2753"/>
                  </a:lnTo>
                  <a:lnTo>
                    <a:pt x="1617" y="2745"/>
                  </a:lnTo>
                  <a:lnTo>
                    <a:pt x="1599" y="2737"/>
                  </a:lnTo>
                  <a:lnTo>
                    <a:pt x="1583" y="2727"/>
                  </a:lnTo>
                  <a:lnTo>
                    <a:pt x="1565" y="2715"/>
                  </a:lnTo>
                  <a:lnTo>
                    <a:pt x="1549" y="2701"/>
                  </a:lnTo>
                  <a:lnTo>
                    <a:pt x="1535" y="2687"/>
                  </a:lnTo>
                  <a:lnTo>
                    <a:pt x="1519" y="2669"/>
                  </a:lnTo>
                  <a:lnTo>
                    <a:pt x="1507" y="2651"/>
                  </a:lnTo>
                  <a:lnTo>
                    <a:pt x="1493" y="2631"/>
                  </a:lnTo>
                  <a:lnTo>
                    <a:pt x="1481" y="2609"/>
                  </a:lnTo>
                  <a:lnTo>
                    <a:pt x="1469" y="2585"/>
                  </a:lnTo>
                  <a:lnTo>
                    <a:pt x="1457" y="2559"/>
                  </a:lnTo>
                  <a:lnTo>
                    <a:pt x="1447" y="2531"/>
                  </a:lnTo>
                  <a:lnTo>
                    <a:pt x="1439" y="2501"/>
                  </a:lnTo>
                  <a:lnTo>
                    <a:pt x="1431" y="2469"/>
                  </a:lnTo>
                  <a:lnTo>
                    <a:pt x="1269" y="1749"/>
                  </a:lnTo>
                  <a:lnTo>
                    <a:pt x="1077" y="1885"/>
                  </a:lnTo>
                  <a:lnTo>
                    <a:pt x="849" y="1549"/>
                  </a:lnTo>
                  <a:lnTo>
                    <a:pt x="1171" y="1323"/>
                  </a:lnTo>
                  <a:lnTo>
                    <a:pt x="963" y="400"/>
                  </a:lnTo>
                  <a:lnTo>
                    <a:pt x="1427" y="330"/>
                  </a:lnTo>
                  <a:lnTo>
                    <a:pt x="1427" y="330"/>
                  </a:lnTo>
                  <a:lnTo>
                    <a:pt x="1441" y="328"/>
                  </a:lnTo>
                  <a:lnTo>
                    <a:pt x="1449" y="328"/>
                  </a:lnTo>
                  <a:lnTo>
                    <a:pt x="1457" y="328"/>
                  </a:lnTo>
                  <a:lnTo>
                    <a:pt x="1465" y="330"/>
                  </a:lnTo>
                  <a:lnTo>
                    <a:pt x="1471" y="336"/>
                  </a:lnTo>
                  <a:lnTo>
                    <a:pt x="1477" y="342"/>
                  </a:lnTo>
                  <a:lnTo>
                    <a:pt x="1481" y="352"/>
                  </a:lnTo>
                  <a:lnTo>
                    <a:pt x="1481" y="352"/>
                  </a:lnTo>
                  <a:lnTo>
                    <a:pt x="1483" y="360"/>
                  </a:lnTo>
                  <a:lnTo>
                    <a:pt x="1481" y="368"/>
                  </a:lnTo>
                  <a:lnTo>
                    <a:pt x="1479" y="376"/>
                  </a:lnTo>
                  <a:lnTo>
                    <a:pt x="1473" y="382"/>
                  </a:lnTo>
                  <a:lnTo>
                    <a:pt x="1451" y="398"/>
                  </a:lnTo>
                  <a:lnTo>
                    <a:pt x="1417" y="422"/>
                  </a:lnTo>
                  <a:lnTo>
                    <a:pt x="1557" y="1047"/>
                  </a:lnTo>
                  <a:lnTo>
                    <a:pt x="1685" y="955"/>
                  </a:lnTo>
                  <a:close/>
                  <a:moveTo>
                    <a:pt x="1653" y="1473"/>
                  </a:moveTo>
                  <a:lnTo>
                    <a:pt x="1825" y="2225"/>
                  </a:lnTo>
                  <a:lnTo>
                    <a:pt x="1825" y="2225"/>
                  </a:lnTo>
                  <a:lnTo>
                    <a:pt x="1829" y="2249"/>
                  </a:lnTo>
                  <a:lnTo>
                    <a:pt x="1837" y="2275"/>
                  </a:lnTo>
                  <a:lnTo>
                    <a:pt x="1847" y="2297"/>
                  </a:lnTo>
                  <a:lnTo>
                    <a:pt x="1853" y="2309"/>
                  </a:lnTo>
                  <a:lnTo>
                    <a:pt x="1861" y="2319"/>
                  </a:lnTo>
                  <a:lnTo>
                    <a:pt x="1869" y="2327"/>
                  </a:lnTo>
                  <a:lnTo>
                    <a:pt x="1879" y="2335"/>
                  </a:lnTo>
                  <a:lnTo>
                    <a:pt x="1891" y="2343"/>
                  </a:lnTo>
                  <a:lnTo>
                    <a:pt x="1903" y="2347"/>
                  </a:lnTo>
                  <a:lnTo>
                    <a:pt x="1919" y="2351"/>
                  </a:lnTo>
                  <a:lnTo>
                    <a:pt x="1935" y="2351"/>
                  </a:lnTo>
                  <a:lnTo>
                    <a:pt x="1955" y="2349"/>
                  </a:lnTo>
                  <a:lnTo>
                    <a:pt x="1975" y="2345"/>
                  </a:lnTo>
                  <a:lnTo>
                    <a:pt x="2463" y="2235"/>
                  </a:lnTo>
                  <a:lnTo>
                    <a:pt x="2463" y="2235"/>
                  </a:lnTo>
                  <a:lnTo>
                    <a:pt x="2493" y="2229"/>
                  </a:lnTo>
                  <a:lnTo>
                    <a:pt x="2519" y="2221"/>
                  </a:lnTo>
                  <a:lnTo>
                    <a:pt x="2543" y="2211"/>
                  </a:lnTo>
                  <a:lnTo>
                    <a:pt x="2565" y="2201"/>
                  </a:lnTo>
                  <a:lnTo>
                    <a:pt x="2583" y="2189"/>
                  </a:lnTo>
                  <a:lnTo>
                    <a:pt x="2599" y="2175"/>
                  </a:lnTo>
                  <a:lnTo>
                    <a:pt x="2613" y="2161"/>
                  </a:lnTo>
                  <a:lnTo>
                    <a:pt x="2625" y="2145"/>
                  </a:lnTo>
                  <a:lnTo>
                    <a:pt x="2635" y="2127"/>
                  </a:lnTo>
                  <a:lnTo>
                    <a:pt x="2643" y="2107"/>
                  </a:lnTo>
                  <a:lnTo>
                    <a:pt x="2649" y="2085"/>
                  </a:lnTo>
                  <a:lnTo>
                    <a:pt x="2653" y="2061"/>
                  </a:lnTo>
                  <a:lnTo>
                    <a:pt x="2655" y="2035"/>
                  </a:lnTo>
                  <a:lnTo>
                    <a:pt x="2655" y="2005"/>
                  </a:lnTo>
                  <a:lnTo>
                    <a:pt x="2655" y="1973"/>
                  </a:lnTo>
                  <a:lnTo>
                    <a:pt x="2653" y="1939"/>
                  </a:lnTo>
                  <a:lnTo>
                    <a:pt x="2653" y="1939"/>
                  </a:lnTo>
                  <a:lnTo>
                    <a:pt x="2573" y="1965"/>
                  </a:lnTo>
                  <a:lnTo>
                    <a:pt x="2531" y="1975"/>
                  </a:lnTo>
                  <a:lnTo>
                    <a:pt x="2481" y="1987"/>
                  </a:lnTo>
                  <a:lnTo>
                    <a:pt x="2481" y="1987"/>
                  </a:lnTo>
                  <a:lnTo>
                    <a:pt x="2439" y="1881"/>
                  </a:lnTo>
                  <a:lnTo>
                    <a:pt x="2419" y="1835"/>
                  </a:lnTo>
                  <a:lnTo>
                    <a:pt x="2395" y="1789"/>
                  </a:lnTo>
                  <a:lnTo>
                    <a:pt x="2369" y="1745"/>
                  </a:lnTo>
                  <a:lnTo>
                    <a:pt x="2339" y="1701"/>
                  </a:lnTo>
                  <a:lnTo>
                    <a:pt x="2303" y="1655"/>
                  </a:lnTo>
                  <a:lnTo>
                    <a:pt x="2259" y="1607"/>
                  </a:lnTo>
                  <a:lnTo>
                    <a:pt x="2351" y="2017"/>
                  </a:lnTo>
                  <a:lnTo>
                    <a:pt x="1945" y="2109"/>
                  </a:lnTo>
                  <a:lnTo>
                    <a:pt x="1781" y="1381"/>
                  </a:lnTo>
                  <a:lnTo>
                    <a:pt x="1653" y="1473"/>
                  </a:lnTo>
                  <a:close/>
                  <a:moveTo>
                    <a:pt x="2149" y="1119"/>
                  </a:moveTo>
                  <a:lnTo>
                    <a:pt x="2257" y="1599"/>
                  </a:lnTo>
                  <a:lnTo>
                    <a:pt x="2257" y="1599"/>
                  </a:lnTo>
                  <a:lnTo>
                    <a:pt x="2307" y="1595"/>
                  </a:lnTo>
                  <a:lnTo>
                    <a:pt x="2351" y="1587"/>
                  </a:lnTo>
                  <a:lnTo>
                    <a:pt x="2351" y="1587"/>
                  </a:lnTo>
                  <a:lnTo>
                    <a:pt x="2375" y="1579"/>
                  </a:lnTo>
                  <a:lnTo>
                    <a:pt x="2383" y="1575"/>
                  </a:lnTo>
                  <a:lnTo>
                    <a:pt x="2391" y="1571"/>
                  </a:lnTo>
                  <a:lnTo>
                    <a:pt x="2397" y="1565"/>
                  </a:lnTo>
                  <a:lnTo>
                    <a:pt x="2403" y="1559"/>
                  </a:lnTo>
                  <a:lnTo>
                    <a:pt x="2407" y="1553"/>
                  </a:lnTo>
                  <a:lnTo>
                    <a:pt x="2409" y="1545"/>
                  </a:lnTo>
                  <a:lnTo>
                    <a:pt x="2411" y="1531"/>
                  </a:lnTo>
                  <a:lnTo>
                    <a:pt x="2411" y="1513"/>
                  </a:lnTo>
                  <a:lnTo>
                    <a:pt x="2407" y="1495"/>
                  </a:lnTo>
                  <a:lnTo>
                    <a:pt x="2403" y="1477"/>
                  </a:lnTo>
                  <a:lnTo>
                    <a:pt x="2299" y="1015"/>
                  </a:lnTo>
                  <a:lnTo>
                    <a:pt x="2149" y="11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5624640" y="20999520"/>
              <a:ext cx="5226120" cy="5086440"/>
            </a:xfrm>
            <a:custGeom>
              <a:avLst/>
              <a:gdLst>
                <a:gd name="textAreaLeft" fmla="*/ 0 w 5226120"/>
                <a:gd name="textAreaRight" fmla="*/ 5226480 w 5226120"/>
                <a:gd name="textAreaTop" fmla="*/ 0 h 5086440"/>
                <a:gd name="textAreaBottom" fmla="*/ 5086800 h 5086440"/>
              </a:gdLst>
              <a:ahLst/>
              <a:rect l="textAreaLeft" t="textAreaTop" r="textAreaRight" b="textAreaBottom"/>
              <a:pathLst>
                <a:path w="3292" h="3204">
                  <a:moveTo>
                    <a:pt x="242" y="432"/>
                  </a:moveTo>
                  <a:lnTo>
                    <a:pt x="242" y="432"/>
                  </a:lnTo>
                  <a:lnTo>
                    <a:pt x="376" y="502"/>
                  </a:lnTo>
                  <a:lnTo>
                    <a:pt x="452" y="542"/>
                  </a:lnTo>
                  <a:lnTo>
                    <a:pt x="530" y="586"/>
                  </a:lnTo>
                  <a:lnTo>
                    <a:pt x="608" y="632"/>
                  </a:lnTo>
                  <a:lnTo>
                    <a:pt x="686" y="680"/>
                  </a:lnTo>
                  <a:lnTo>
                    <a:pt x="756" y="728"/>
                  </a:lnTo>
                  <a:lnTo>
                    <a:pt x="790" y="754"/>
                  </a:lnTo>
                  <a:lnTo>
                    <a:pt x="822" y="778"/>
                  </a:lnTo>
                  <a:lnTo>
                    <a:pt x="822" y="778"/>
                  </a:lnTo>
                  <a:lnTo>
                    <a:pt x="720" y="914"/>
                  </a:lnTo>
                  <a:lnTo>
                    <a:pt x="638" y="1024"/>
                  </a:lnTo>
                  <a:lnTo>
                    <a:pt x="562" y="1126"/>
                  </a:lnTo>
                  <a:lnTo>
                    <a:pt x="562" y="1126"/>
                  </a:lnTo>
                  <a:lnTo>
                    <a:pt x="474" y="1062"/>
                  </a:lnTo>
                  <a:lnTo>
                    <a:pt x="412" y="1018"/>
                  </a:lnTo>
                  <a:lnTo>
                    <a:pt x="340" y="968"/>
                  </a:lnTo>
                  <a:lnTo>
                    <a:pt x="260" y="916"/>
                  </a:lnTo>
                  <a:lnTo>
                    <a:pt x="174" y="862"/>
                  </a:lnTo>
                  <a:lnTo>
                    <a:pt x="88" y="812"/>
                  </a:lnTo>
                  <a:lnTo>
                    <a:pt x="44" y="788"/>
                  </a:lnTo>
                  <a:lnTo>
                    <a:pt x="0" y="766"/>
                  </a:lnTo>
                  <a:lnTo>
                    <a:pt x="242" y="432"/>
                  </a:lnTo>
                  <a:close/>
                  <a:moveTo>
                    <a:pt x="900" y="1418"/>
                  </a:moveTo>
                  <a:lnTo>
                    <a:pt x="1122" y="2400"/>
                  </a:lnTo>
                  <a:lnTo>
                    <a:pt x="1122" y="2400"/>
                  </a:lnTo>
                  <a:lnTo>
                    <a:pt x="1128" y="2416"/>
                  </a:lnTo>
                  <a:lnTo>
                    <a:pt x="1132" y="2430"/>
                  </a:lnTo>
                  <a:lnTo>
                    <a:pt x="1138" y="2444"/>
                  </a:lnTo>
                  <a:lnTo>
                    <a:pt x="1146" y="2458"/>
                  </a:lnTo>
                  <a:lnTo>
                    <a:pt x="1164" y="2484"/>
                  </a:lnTo>
                  <a:lnTo>
                    <a:pt x="1186" y="2506"/>
                  </a:lnTo>
                  <a:lnTo>
                    <a:pt x="1210" y="2528"/>
                  </a:lnTo>
                  <a:lnTo>
                    <a:pt x="1238" y="2546"/>
                  </a:lnTo>
                  <a:lnTo>
                    <a:pt x="1268" y="2562"/>
                  </a:lnTo>
                  <a:lnTo>
                    <a:pt x="1298" y="2574"/>
                  </a:lnTo>
                  <a:lnTo>
                    <a:pt x="1298" y="2574"/>
                  </a:lnTo>
                  <a:lnTo>
                    <a:pt x="1336" y="2586"/>
                  </a:lnTo>
                  <a:lnTo>
                    <a:pt x="1354" y="2590"/>
                  </a:lnTo>
                  <a:lnTo>
                    <a:pt x="1376" y="2594"/>
                  </a:lnTo>
                  <a:lnTo>
                    <a:pt x="1400" y="2598"/>
                  </a:lnTo>
                  <a:lnTo>
                    <a:pt x="1426" y="2600"/>
                  </a:lnTo>
                  <a:lnTo>
                    <a:pt x="1454" y="2600"/>
                  </a:lnTo>
                  <a:lnTo>
                    <a:pt x="1488" y="2598"/>
                  </a:lnTo>
                  <a:lnTo>
                    <a:pt x="1526" y="2596"/>
                  </a:lnTo>
                  <a:lnTo>
                    <a:pt x="1570" y="2590"/>
                  </a:lnTo>
                  <a:lnTo>
                    <a:pt x="1620" y="2584"/>
                  </a:lnTo>
                  <a:lnTo>
                    <a:pt x="1674" y="2576"/>
                  </a:lnTo>
                  <a:lnTo>
                    <a:pt x="1808" y="2550"/>
                  </a:lnTo>
                  <a:lnTo>
                    <a:pt x="1974" y="2514"/>
                  </a:lnTo>
                  <a:lnTo>
                    <a:pt x="1974" y="2514"/>
                  </a:lnTo>
                  <a:lnTo>
                    <a:pt x="2278" y="2444"/>
                  </a:lnTo>
                  <a:lnTo>
                    <a:pt x="2524" y="2386"/>
                  </a:lnTo>
                  <a:lnTo>
                    <a:pt x="2724" y="2334"/>
                  </a:lnTo>
                  <a:lnTo>
                    <a:pt x="2882" y="2292"/>
                  </a:lnTo>
                  <a:lnTo>
                    <a:pt x="3010" y="2254"/>
                  </a:lnTo>
                  <a:lnTo>
                    <a:pt x="3116" y="2218"/>
                  </a:lnTo>
                  <a:lnTo>
                    <a:pt x="3206" y="2184"/>
                  </a:lnTo>
                  <a:lnTo>
                    <a:pt x="3292" y="2152"/>
                  </a:lnTo>
                  <a:lnTo>
                    <a:pt x="3292" y="2152"/>
                  </a:lnTo>
                  <a:lnTo>
                    <a:pt x="3270" y="2232"/>
                  </a:lnTo>
                  <a:lnTo>
                    <a:pt x="3252" y="2302"/>
                  </a:lnTo>
                  <a:lnTo>
                    <a:pt x="3240" y="2360"/>
                  </a:lnTo>
                  <a:lnTo>
                    <a:pt x="3234" y="2414"/>
                  </a:lnTo>
                  <a:lnTo>
                    <a:pt x="3232" y="2462"/>
                  </a:lnTo>
                  <a:lnTo>
                    <a:pt x="3234" y="2508"/>
                  </a:lnTo>
                  <a:lnTo>
                    <a:pt x="3240" y="2554"/>
                  </a:lnTo>
                  <a:lnTo>
                    <a:pt x="3250" y="2602"/>
                  </a:lnTo>
                  <a:lnTo>
                    <a:pt x="1900" y="2908"/>
                  </a:lnTo>
                  <a:lnTo>
                    <a:pt x="1900" y="2908"/>
                  </a:lnTo>
                  <a:lnTo>
                    <a:pt x="1802" y="2930"/>
                  </a:lnTo>
                  <a:lnTo>
                    <a:pt x="1750" y="2940"/>
                  </a:lnTo>
                  <a:lnTo>
                    <a:pt x="1696" y="2950"/>
                  </a:lnTo>
                  <a:lnTo>
                    <a:pt x="1642" y="2958"/>
                  </a:lnTo>
                  <a:lnTo>
                    <a:pt x="1584" y="2964"/>
                  </a:lnTo>
                  <a:lnTo>
                    <a:pt x="1528" y="2968"/>
                  </a:lnTo>
                  <a:lnTo>
                    <a:pt x="1470" y="2968"/>
                  </a:lnTo>
                  <a:lnTo>
                    <a:pt x="1412" y="2966"/>
                  </a:lnTo>
                  <a:lnTo>
                    <a:pt x="1352" y="2960"/>
                  </a:lnTo>
                  <a:lnTo>
                    <a:pt x="1294" y="2950"/>
                  </a:lnTo>
                  <a:lnTo>
                    <a:pt x="1266" y="2944"/>
                  </a:lnTo>
                  <a:lnTo>
                    <a:pt x="1236" y="2936"/>
                  </a:lnTo>
                  <a:lnTo>
                    <a:pt x="1208" y="2926"/>
                  </a:lnTo>
                  <a:lnTo>
                    <a:pt x="1178" y="2916"/>
                  </a:lnTo>
                  <a:lnTo>
                    <a:pt x="1150" y="2902"/>
                  </a:lnTo>
                  <a:lnTo>
                    <a:pt x="1122" y="2890"/>
                  </a:lnTo>
                  <a:lnTo>
                    <a:pt x="1094" y="2874"/>
                  </a:lnTo>
                  <a:lnTo>
                    <a:pt x="1068" y="2856"/>
                  </a:lnTo>
                  <a:lnTo>
                    <a:pt x="1040" y="2838"/>
                  </a:lnTo>
                  <a:lnTo>
                    <a:pt x="1014" y="2818"/>
                  </a:lnTo>
                  <a:lnTo>
                    <a:pt x="1014" y="2818"/>
                  </a:lnTo>
                  <a:lnTo>
                    <a:pt x="964" y="2876"/>
                  </a:lnTo>
                  <a:lnTo>
                    <a:pt x="890" y="2962"/>
                  </a:lnTo>
                  <a:lnTo>
                    <a:pt x="816" y="3046"/>
                  </a:lnTo>
                  <a:lnTo>
                    <a:pt x="768" y="3102"/>
                  </a:lnTo>
                  <a:lnTo>
                    <a:pt x="768" y="3102"/>
                  </a:lnTo>
                  <a:lnTo>
                    <a:pt x="776" y="3136"/>
                  </a:lnTo>
                  <a:lnTo>
                    <a:pt x="778" y="3152"/>
                  </a:lnTo>
                  <a:lnTo>
                    <a:pt x="778" y="3166"/>
                  </a:lnTo>
                  <a:lnTo>
                    <a:pt x="776" y="3178"/>
                  </a:lnTo>
                  <a:lnTo>
                    <a:pt x="770" y="3190"/>
                  </a:lnTo>
                  <a:lnTo>
                    <a:pt x="760" y="3198"/>
                  </a:lnTo>
                  <a:lnTo>
                    <a:pt x="748" y="3202"/>
                  </a:lnTo>
                  <a:lnTo>
                    <a:pt x="748" y="3202"/>
                  </a:lnTo>
                  <a:lnTo>
                    <a:pt x="740" y="3204"/>
                  </a:lnTo>
                  <a:lnTo>
                    <a:pt x="732" y="3202"/>
                  </a:lnTo>
                  <a:lnTo>
                    <a:pt x="724" y="3202"/>
                  </a:lnTo>
                  <a:lnTo>
                    <a:pt x="718" y="3198"/>
                  </a:lnTo>
                  <a:lnTo>
                    <a:pt x="708" y="3190"/>
                  </a:lnTo>
                  <a:lnTo>
                    <a:pt x="700" y="3180"/>
                  </a:lnTo>
                  <a:lnTo>
                    <a:pt x="408" y="2834"/>
                  </a:lnTo>
                  <a:lnTo>
                    <a:pt x="408" y="2834"/>
                  </a:lnTo>
                  <a:lnTo>
                    <a:pt x="460" y="2796"/>
                  </a:lnTo>
                  <a:lnTo>
                    <a:pt x="492" y="2770"/>
                  </a:lnTo>
                  <a:lnTo>
                    <a:pt x="530" y="2738"/>
                  </a:lnTo>
                  <a:lnTo>
                    <a:pt x="568" y="2704"/>
                  </a:lnTo>
                  <a:lnTo>
                    <a:pt x="610" y="2664"/>
                  </a:lnTo>
                  <a:lnTo>
                    <a:pt x="654" y="2618"/>
                  </a:lnTo>
                  <a:lnTo>
                    <a:pt x="700" y="2568"/>
                  </a:lnTo>
                  <a:lnTo>
                    <a:pt x="550" y="1906"/>
                  </a:lnTo>
                  <a:lnTo>
                    <a:pt x="288" y="1964"/>
                  </a:lnTo>
                  <a:lnTo>
                    <a:pt x="200" y="1576"/>
                  </a:lnTo>
                  <a:lnTo>
                    <a:pt x="900" y="1418"/>
                  </a:lnTo>
                  <a:close/>
                  <a:moveTo>
                    <a:pt x="1132" y="1774"/>
                  </a:moveTo>
                  <a:lnTo>
                    <a:pt x="1046" y="1386"/>
                  </a:lnTo>
                  <a:lnTo>
                    <a:pt x="1698" y="1238"/>
                  </a:lnTo>
                  <a:lnTo>
                    <a:pt x="1658" y="1062"/>
                  </a:lnTo>
                  <a:lnTo>
                    <a:pt x="1102" y="1188"/>
                  </a:lnTo>
                  <a:lnTo>
                    <a:pt x="1020" y="826"/>
                  </a:lnTo>
                  <a:lnTo>
                    <a:pt x="1276" y="768"/>
                  </a:lnTo>
                  <a:lnTo>
                    <a:pt x="1276" y="768"/>
                  </a:lnTo>
                  <a:lnTo>
                    <a:pt x="1202" y="692"/>
                  </a:lnTo>
                  <a:lnTo>
                    <a:pt x="1166" y="660"/>
                  </a:lnTo>
                  <a:lnTo>
                    <a:pt x="1132" y="628"/>
                  </a:lnTo>
                  <a:lnTo>
                    <a:pt x="1092" y="596"/>
                  </a:lnTo>
                  <a:lnTo>
                    <a:pt x="1050" y="564"/>
                  </a:lnTo>
                  <a:lnTo>
                    <a:pt x="944" y="484"/>
                  </a:lnTo>
                  <a:lnTo>
                    <a:pt x="1196" y="178"/>
                  </a:lnTo>
                  <a:lnTo>
                    <a:pt x="1196" y="178"/>
                  </a:lnTo>
                  <a:lnTo>
                    <a:pt x="1252" y="214"/>
                  </a:lnTo>
                  <a:lnTo>
                    <a:pt x="1310" y="252"/>
                  </a:lnTo>
                  <a:lnTo>
                    <a:pt x="1368" y="294"/>
                  </a:lnTo>
                  <a:lnTo>
                    <a:pt x="1426" y="338"/>
                  </a:lnTo>
                  <a:lnTo>
                    <a:pt x="1482" y="384"/>
                  </a:lnTo>
                  <a:lnTo>
                    <a:pt x="1538" y="430"/>
                  </a:lnTo>
                  <a:lnTo>
                    <a:pt x="1592" y="478"/>
                  </a:lnTo>
                  <a:lnTo>
                    <a:pt x="1642" y="528"/>
                  </a:lnTo>
                  <a:lnTo>
                    <a:pt x="1642" y="528"/>
                  </a:lnTo>
                  <a:lnTo>
                    <a:pt x="1614" y="566"/>
                  </a:lnTo>
                  <a:lnTo>
                    <a:pt x="1570" y="624"/>
                  </a:lnTo>
                  <a:lnTo>
                    <a:pt x="1526" y="680"/>
                  </a:lnTo>
                  <a:lnTo>
                    <a:pt x="1500" y="718"/>
                  </a:lnTo>
                  <a:lnTo>
                    <a:pt x="1802" y="648"/>
                  </a:lnTo>
                  <a:lnTo>
                    <a:pt x="1802" y="648"/>
                  </a:lnTo>
                  <a:lnTo>
                    <a:pt x="1826" y="600"/>
                  </a:lnTo>
                  <a:lnTo>
                    <a:pt x="1850" y="542"/>
                  </a:lnTo>
                  <a:lnTo>
                    <a:pt x="1876" y="474"/>
                  </a:lnTo>
                  <a:lnTo>
                    <a:pt x="1904" y="398"/>
                  </a:lnTo>
                  <a:lnTo>
                    <a:pt x="1930" y="314"/>
                  </a:lnTo>
                  <a:lnTo>
                    <a:pt x="1956" y="220"/>
                  </a:lnTo>
                  <a:lnTo>
                    <a:pt x="1980" y="116"/>
                  </a:lnTo>
                  <a:lnTo>
                    <a:pt x="2002" y="0"/>
                  </a:lnTo>
                  <a:lnTo>
                    <a:pt x="2422" y="42"/>
                  </a:lnTo>
                  <a:lnTo>
                    <a:pt x="2422" y="42"/>
                  </a:lnTo>
                  <a:lnTo>
                    <a:pt x="2442" y="44"/>
                  </a:lnTo>
                  <a:lnTo>
                    <a:pt x="2460" y="48"/>
                  </a:lnTo>
                  <a:lnTo>
                    <a:pt x="2466" y="50"/>
                  </a:lnTo>
                  <a:lnTo>
                    <a:pt x="2472" y="56"/>
                  </a:lnTo>
                  <a:lnTo>
                    <a:pt x="2476" y="62"/>
                  </a:lnTo>
                  <a:lnTo>
                    <a:pt x="2478" y="70"/>
                  </a:lnTo>
                  <a:lnTo>
                    <a:pt x="2478" y="70"/>
                  </a:lnTo>
                  <a:lnTo>
                    <a:pt x="2480" y="84"/>
                  </a:lnTo>
                  <a:lnTo>
                    <a:pt x="2476" y="96"/>
                  </a:lnTo>
                  <a:lnTo>
                    <a:pt x="2470" y="106"/>
                  </a:lnTo>
                  <a:lnTo>
                    <a:pt x="2460" y="116"/>
                  </a:lnTo>
                  <a:lnTo>
                    <a:pt x="2446" y="124"/>
                  </a:lnTo>
                  <a:lnTo>
                    <a:pt x="2432" y="132"/>
                  </a:lnTo>
                  <a:lnTo>
                    <a:pt x="2398" y="146"/>
                  </a:lnTo>
                  <a:lnTo>
                    <a:pt x="2398" y="146"/>
                  </a:lnTo>
                  <a:lnTo>
                    <a:pt x="2386" y="206"/>
                  </a:lnTo>
                  <a:lnTo>
                    <a:pt x="2378" y="240"/>
                  </a:lnTo>
                  <a:lnTo>
                    <a:pt x="2368" y="282"/>
                  </a:lnTo>
                  <a:lnTo>
                    <a:pt x="2352" y="332"/>
                  </a:lnTo>
                  <a:lnTo>
                    <a:pt x="2334" y="390"/>
                  </a:lnTo>
                  <a:lnTo>
                    <a:pt x="2310" y="460"/>
                  </a:lnTo>
                  <a:lnTo>
                    <a:pt x="2280" y="540"/>
                  </a:lnTo>
                  <a:lnTo>
                    <a:pt x="2606" y="468"/>
                  </a:lnTo>
                  <a:lnTo>
                    <a:pt x="2688" y="828"/>
                  </a:lnTo>
                  <a:lnTo>
                    <a:pt x="2088" y="964"/>
                  </a:lnTo>
                  <a:lnTo>
                    <a:pt x="2128" y="1140"/>
                  </a:lnTo>
                  <a:lnTo>
                    <a:pt x="2880" y="970"/>
                  </a:lnTo>
                  <a:lnTo>
                    <a:pt x="2968" y="1358"/>
                  </a:lnTo>
                  <a:lnTo>
                    <a:pt x="2292" y="1512"/>
                  </a:lnTo>
                  <a:lnTo>
                    <a:pt x="2292" y="1512"/>
                  </a:lnTo>
                  <a:lnTo>
                    <a:pt x="2344" y="1558"/>
                  </a:lnTo>
                  <a:lnTo>
                    <a:pt x="2398" y="1600"/>
                  </a:lnTo>
                  <a:lnTo>
                    <a:pt x="2450" y="1638"/>
                  </a:lnTo>
                  <a:lnTo>
                    <a:pt x="2504" y="1672"/>
                  </a:lnTo>
                  <a:lnTo>
                    <a:pt x="2556" y="1702"/>
                  </a:lnTo>
                  <a:lnTo>
                    <a:pt x="2608" y="1730"/>
                  </a:lnTo>
                  <a:lnTo>
                    <a:pt x="2660" y="1754"/>
                  </a:lnTo>
                  <a:lnTo>
                    <a:pt x="2710" y="1774"/>
                  </a:lnTo>
                  <a:lnTo>
                    <a:pt x="2760" y="1792"/>
                  </a:lnTo>
                  <a:lnTo>
                    <a:pt x="2810" y="1808"/>
                  </a:lnTo>
                  <a:lnTo>
                    <a:pt x="2858" y="1820"/>
                  </a:lnTo>
                  <a:lnTo>
                    <a:pt x="2906" y="1830"/>
                  </a:lnTo>
                  <a:lnTo>
                    <a:pt x="2952" y="1840"/>
                  </a:lnTo>
                  <a:lnTo>
                    <a:pt x="2996" y="1848"/>
                  </a:lnTo>
                  <a:lnTo>
                    <a:pt x="3084" y="1858"/>
                  </a:lnTo>
                  <a:lnTo>
                    <a:pt x="3084" y="1858"/>
                  </a:lnTo>
                  <a:lnTo>
                    <a:pt x="3058" y="1888"/>
                  </a:lnTo>
                  <a:lnTo>
                    <a:pt x="3028" y="1926"/>
                  </a:lnTo>
                  <a:lnTo>
                    <a:pt x="2996" y="1970"/>
                  </a:lnTo>
                  <a:lnTo>
                    <a:pt x="2962" y="2020"/>
                  </a:lnTo>
                  <a:lnTo>
                    <a:pt x="2930" y="2072"/>
                  </a:lnTo>
                  <a:lnTo>
                    <a:pt x="2916" y="2100"/>
                  </a:lnTo>
                  <a:lnTo>
                    <a:pt x="2904" y="2128"/>
                  </a:lnTo>
                  <a:lnTo>
                    <a:pt x="2892" y="2158"/>
                  </a:lnTo>
                  <a:lnTo>
                    <a:pt x="2882" y="2186"/>
                  </a:lnTo>
                  <a:lnTo>
                    <a:pt x="2876" y="2214"/>
                  </a:lnTo>
                  <a:lnTo>
                    <a:pt x="2872" y="2244"/>
                  </a:lnTo>
                  <a:lnTo>
                    <a:pt x="2872" y="2244"/>
                  </a:lnTo>
                  <a:lnTo>
                    <a:pt x="2836" y="2238"/>
                  </a:lnTo>
                  <a:lnTo>
                    <a:pt x="2800" y="2230"/>
                  </a:lnTo>
                  <a:lnTo>
                    <a:pt x="2732" y="2210"/>
                  </a:lnTo>
                  <a:lnTo>
                    <a:pt x="2664" y="2188"/>
                  </a:lnTo>
                  <a:lnTo>
                    <a:pt x="2598" y="2162"/>
                  </a:lnTo>
                  <a:lnTo>
                    <a:pt x="2536" y="2134"/>
                  </a:lnTo>
                  <a:lnTo>
                    <a:pt x="2474" y="2102"/>
                  </a:lnTo>
                  <a:lnTo>
                    <a:pt x="2418" y="2070"/>
                  </a:lnTo>
                  <a:lnTo>
                    <a:pt x="2364" y="2036"/>
                  </a:lnTo>
                  <a:lnTo>
                    <a:pt x="2314" y="2004"/>
                  </a:lnTo>
                  <a:lnTo>
                    <a:pt x="2266" y="1972"/>
                  </a:lnTo>
                  <a:lnTo>
                    <a:pt x="2226" y="1942"/>
                  </a:lnTo>
                  <a:lnTo>
                    <a:pt x="2188" y="1912"/>
                  </a:lnTo>
                  <a:lnTo>
                    <a:pt x="2130" y="1866"/>
                  </a:lnTo>
                  <a:lnTo>
                    <a:pt x="2096" y="1834"/>
                  </a:lnTo>
                  <a:lnTo>
                    <a:pt x="2096" y="1834"/>
                  </a:lnTo>
                  <a:lnTo>
                    <a:pt x="2076" y="1886"/>
                  </a:lnTo>
                  <a:lnTo>
                    <a:pt x="2056" y="1934"/>
                  </a:lnTo>
                  <a:lnTo>
                    <a:pt x="2032" y="1982"/>
                  </a:lnTo>
                  <a:lnTo>
                    <a:pt x="2008" y="2028"/>
                  </a:lnTo>
                  <a:lnTo>
                    <a:pt x="1982" y="2074"/>
                  </a:lnTo>
                  <a:lnTo>
                    <a:pt x="1954" y="2118"/>
                  </a:lnTo>
                  <a:lnTo>
                    <a:pt x="1924" y="2162"/>
                  </a:lnTo>
                  <a:lnTo>
                    <a:pt x="1892" y="2204"/>
                  </a:lnTo>
                  <a:lnTo>
                    <a:pt x="1860" y="2246"/>
                  </a:lnTo>
                  <a:lnTo>
                    <a:pt x="1824" y="2286"/>
                  </a:lnTo>
                  <a:lnTo>
                    <a:pt x="1786" y="2328"/>
                  </a:lnTo>
                  <a:lnTo>
                    <a:pt x="1744" y="2368"/>
                  </a:lnTo>
                  <a:lnTo>
                    <a:pt x="1702" y="2408"/>
                  </a:lnTo>
                  <a:lnTo>
                    <a:pt x="1658" y="2448"/>
                  </a:lnTo>
                  <a:lnTo>
                    <a:pt x="1610" y="2490"/>
                  </a:lnTo>
                  <a:lnTo>
                    <a:pt x="1560" y="2530"/>
                  </a:lnTo>
                  <a:lnTo>
                    <a:pt x="1560" y="2530"/>
                  </a:lnTo>
                  <a:lnTo>
                    <a:pt x="1504" y="2480"/>
                  </a:lnTo>
                  <a:lnTo>
                    <a:pt x="1456" y="2440"/>
                  </a:lnTo>
                  <a:lnTo>
                    <a:pt x="1414" y="2406"/>
                  </a:lnTo>
                  <a:lnTo>
                    <a:pt x="1376" y="2380"/>
                  </a:lnTo>
                  <a:lnTo>
                    <a:pt x="1336" y="2358"/>
                  </a:lnTo>
                  <a:lnTo>
                    <a:pt x="1296" y="2338"/>
                  </a:lnTo>
                  <a:lnTo>
                    <a:pt x="1248" y="2322"/>
                  </a:lnTo>
                  <a:lnTo>
                    <a:pt x="1194" y="2306"/>
                  </a:lnTo>
                  <a:lnTo>
                    <a:pt x="1194" y="2306"/>
                  </a:lnTo>
                  <a:lnTo>
                    <a:pt x="1296" y="2232"/>
                  </a:lnTo>
                  <a:lnTo>
                    <a:pt x="1344" y="2194"/>
                  </a:lnTo>
                  <a:lnTo>
                    <a:pt x="1388" y="2158"/>
                  </a:lnTo>
                  <a:lnTo>
                    <a:pt x="1430" y="2122"/>
                  </a:lnTo>
                  <a:lnTo>
                    <a:pt x="1468" y="2086"/>
                  </a:lnTo>
                  <a:lnTo>
                    <a:pt x="1506" y="2048"/>
                  </a:lnTo>
                  <a:lnTo>
                    <a:pt x="1538" y="2010"/>
                  </a:lnTo>
                  <a:lnTo>
                    <a:pt x="1570" y="1972"/>
                  </a:lnTo>
                  <a:lnTo>
                    <a:pt x="1598" y="1930"/>
                  </a:lnTo>
                  <a:lnTo>
                    <a:pt x="1622" y="1888"/>
                  </a:lnTo>
                  <a:lnTo>
                    <a:pt x="1646" y="1844"/>
                  </a:lnTo>
                  <a:lnTo>
                    <a:pt x="1666" y="1798"/>
                  </a:lnTo>
                  <a:lnTo>
                    <a:pt x="1682" y="1750"/>
                  </a:lnTo>
                  <a:lnTo>
                    <a:pt x="1698" y="1698"/>
                  </a:lnTo>
                  <a:lnTo>
                    <a:pt x="1710" y="1644"/>
                  </a:lnTo>
                  <a:lnTo>
                    <a:pt x="1132" y="177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-225000" y="16392600"/>
              <a:ext cx="4873680" cy="4914720"/>
            </a:xfrm>
            <a:custGeom>
              <a:avLst/>
              <a:gdLst>
                <a:gd name="textAreaLeft" fmla="*/ 0 w 4873680"/>
                <a:gd name="textAreaRight" fmla="*/ 4873680 w 4873680"/>
                <a:gd name="textAreaTop" fmla="*/ 0 h 4914720"/>
                <a:gd name="textAreaBottom" fmla="*/ 4915080 h 4914720"/>
              </a:gdLst>
              <a:ahLst/>
              <a:rect l="textAreaLeft" t="textAreaTop" r="textAreaRight" b="textAreaBottom"/>
              <a:pathLst>
                <a:path w="3070" h="3096">
                  <a:moveTo>
                    <a:pt x="1510" y="1418"/>
                  </a:moveTo>
                  <a:lnTo>
                    <a:pt x="1464" y="1212"/>
                  </a:lnTo>
                  <a:lnTo>
                    <a:pt x="1890" y="1158"/>
                  </a:lnTo>
                  <a:lnTo>
                    <a:pt x="1890" y="1158"/>
                  </a:lnTo>
                  <a:lnTo>
                    <a:pt x="1906" y="1158"/>
                  </a:lnTo>
                  <a:lnTo>
                    <a:pt x="1920" y="1158"/>
                  </a:lnTo>
                  <a:lnTo>
                    <a:pt x="1928" y="1160"/>
                  </a:lnTo>
                  <a:lnTo>
                    <a:pt x="1934" y="1164"/>
                  </a:lnTo>
                  <a:lnTo>
                    <a:pt x="1938" y="1170"/>
                  </a:lnTo>
                  <a:lnTo>
                    <a:pt x="1940" y="1178"/>
                  </a:lnTo>
                  <a:lnTo>
                    <a:pt x="1940" y="1178"/>
                  </a:lnTo>
                  <a:lnTo>
                    <a:pt x="1942" y="1184"/>
                  </a:lnTo>
                  <a:lnTo>
                    <a:pt x="1940" y="1190"/>
                  </a:lnTo>
                  <a:lnTo>
                    <a:pt x="1934" y="1204"/>
                  </a:lnTo>
                  <a:lnTo>
                    <a:pt x="1922" y="1220"/>
                  </a:lnTo>
                  <a:lnTo>
                    <a:pt x="1908" y="1238"/>
                  </a:lnTo>
                  <a:lnTo>
                    <a:pt x="1928" y="1322"/>
                  </a:lnTo>
                  <a:lnTo>
                    <a:pt x="2618" y="1166"/>
                  </a:lnTo>
                  <a:lnTo>
                    <a:pt x="2692" y="1496"/>
                  </a:lnTo>
                  <a:lnTo>
                    <a:pt x="2002" y="1652"/>
                  </a:lnTo>
                  <a:lnTo>
                    <a:pt x="2038" y="1812"/>
                  </a:lnTo>
                  <a:lnTo>
                    <a:pt x="2552" y="1694"/>
                  </a:lnTo>
                  <a:lnTo>
                    <a:pt x="2626" y="2022"/>
                  </a:lnTo>
                  <a:lnTo>
                    <a:pt x="2112" y="2138"/>
                  </a:lnTo>
                  <a:lnTo>
                    <a:pt x="2150" y="2308"/>
                  </a:lnTo>
                  <a:lnTo>
                    <a:pt x="2994" y="2118"/>
                  </a:lnTo>
                  <a:lnTo>
                    <a:pt x="3070" y="2452"/>
                  </a:lnTo>
                  <a:lnTo>
                    <a:pt x="906" y="2942"/>
                  </a:lnTo>
                  <a:lnTo>
                    <a:pt x="830" y="2606"/>
                  </a:lnTo>
                  <a:lnTo>
                    <a:pt x="1732" y="2402"/>
                  </a:lnTo>
                  <a:lnTo>
                    <a:pt x="1694" y="2232"/>
                  </a:lnTo>
                  <a:lnTo>
                    <a:pt x="1146" y="2356"/>
                  </a:lnTo>
                  <a:lnTo>
                    <a:pt x="1074" y="2030"/>
                  </a:lnTo>
                  <a:lnTo>
                    <a:pt x="1620" y="1906"/>
                  </a:lnTo>
                  <a:lnTo>
                    <a:pt x="1584" y="1746"/>
                  </a:lnTo>
                  <a:lnTo>
                    <a:pt x="1152" y="1844"/>
                  </a:lnTo>
                  <a:lnTo>
                    <a:pt x="1152" y="1844"/>
                  </a:lnTo>
                  <a:lnTo>
                    <a:pt x="1128" y="1904"/>
                  </a:lnTo>
                  <a:lnTo>
                    <a:pt x="1106" y="1956"/>
                  </a:lnTo>
                  <a:lnTo>
                    <a:pt x="1082" y="2004"/>
                  </a:lnTo>
                  <a:lnTo>
                    <a:pt x="1054" y="2056"/>
                  </a:lnTo>
                  <a:lnTo>
                    <a:pt x="1054" y="2056"/>
                  </a:lnTo>
                  <a:lnTo>
                    <a:pt x="994" y="2030"/>
                  </a:lnTo>
                  <a:lnTo>
                    <a:pt x="924" y="2004"/>
                  </a:lnTo>
                  <a:lnTo>
                    <a:pt x="886" y="1992"/>
                  </a:lnTo>
                  <a:lnTo>
                    <a:pt x="844" y="1980"/>
                  </a:lnTo>
                  <a:lnTo>
                    <a:pt x="798" y="1966"/>
                  </a:lnTo>
                  <a:lnTo>
                    <a:pt x="748" y="1954"/>
                  </a:lnTo>
                  <a:lnTo>
                    <a:pt x="748" y="1954"/>
                  </a:lnTo>
                  <a:lnTo>
                    <a:pt x="764" y="2066"/>
                  </a:lnTo>
                  <a:lnTo>
                    <a:pt x="770" y="2128"/>
                  </a:lnTo>
                  <a:lnTo>
                    <a:pt x="778" y="2194"/>
                  </a:lnTo>
                  <a:lnTo>
                    <a:pt x="782" y="2262"/>
                  </a:lnTo>
                  <a:lnTo>
                    <a:pt x="786" y="2334"/>
                  </a:lnTo>
                  <a:lnTo>
                    <a:pt x="788" y="2410"/>
                  </a:lnTo>
                  <a:lnTo>
                    <a:pt x="788" y="2486"/>
                  </a:lnTo>
                  <a:lnTo>
                    <a:pt x="786" y="2562"/>
                  </a:lnTo>
                  <a:lnTo>
                    <a:pt x="780" y="2640"/>
                  </a:lnTo>
                  <a:lnTo>
                    <a:pt x="772" y="2718"/>
                  </a:lnTo>
                  <a:lnTo>
                    <a:pt x="758" y="2796"/>
                  </a:lnTo>
                  <a:lnTo>
                    <a:pt x="742" y="2874"/>
                  </a:lnTo>
                  <a:lnTo>
                    <a:pt x="732" y="2912"/>
                  </a:lnTo>
                  <a:lnTo>
                    <a:pt x="722" y="2950"/>
                  </a:lnTo>
                  <a:lnTo>
                    <a:pt x="710" y="2986"/>
                  </a:lnTo>
                  <a:lnTo>
                    <a:pt x="696" y="3024"/>
                  </a:lnTo>
                  <a:lnTo>
                    <a:pt x="682" y="3060"/>
                  </a:lnTo>
                  <a:lnTo>
                    <a:pt x="666" y="3096"/>
                  </a:lnTo>
                  <a:lnTo>
                    <a:pt x="666" y="3096"/>
                  </a:lnTo>
                  <a:lnTo>
                    <a:pt x="620" y="3078"/>
                  </a:lnTo>
                  <a:lnTo>
                    <a:pt x="574" y="3062"/>
                  </a:lnTo>
                  <a:lnTo>
                    <a:pt x="530" y="3046"/>
                  </a:lnTo>
                  <a:lnTo>
                    <a:pt x="484" y="3034"/>
                  </a:lnTo>
                  <a:lnTo>
                    <a:pt x="434" y="3022"/>
                  </a:lnTo>
                  <a:lnTo>
                    <a:pt x="382" y="3012"/>
                  </a:lnTo>
                  <a:lnTo>
                    <a:pt x="326" y="3002"/>
                  </a:lnTo>
                  <a:lnTo>
                    <a:pt x="266" y="2994"/>
                  </a:lnTo>
                  <a:lnTo>
                    <a:pt x="266" y="2994"/>
                  </a:lnTo>
                  <a:lnTo>
                    <a:pt x="284" y="2960"/>
                  </a:lnTo>
                  <a:lnTo>
                    <a:pt x="300" y="2924"/>
                  </a:lnTo>
                  <a:lnTo>
                    <a:pt x="314" y="2888"/>
                  </a:lnTo>
                  <a:lnTo>
                    <a:pt x="328" y="2852"/>
                  </a:lnTo>
                  <a:lnTo>
                    <a:pt x="340" y="2814"/>
                  </a:lnTo>
                  <a:lnTo>
                    <a:pt x="350" y="2776"/>
                  </a:lnTo>
                  <a:lnTo>
                    <a:pt x="358" y="2738"/>
                  </a:lnTo>
                  <a:lnTo>
                    <a:pt x="364" y="2698"/>
                  </a:lnTo>
                  <a:lnTo>
                    <a:pt x="370" y="2660"/>
                  </a:lnTo>
                  <a:lnTo>
                    <a:pt x="374" y="2620"/>
                  </a:lnTo>
                  <a:lnTo>
                    <a:pt x="380" y="2540"/>
                  </a:lnTo>
                  <a:lnTo>
                    <a:pt x="380" y="2458"/>
                  </a:lnTo>
                  <a:lnTo>
                    <a:pt x="378" y="2378"/>
                  </a:lnTo>
                  <a:lnTo>
                    <a:pt x="372" y="2300"/>
                  </a:lnTo>
                  <a:lnTo>
                    <a:pt x="362" y="2222"/>
                  </a:lnTo>
                  <a:lnTo>
                    <a:pt x="352" y="2148"/>
                  </a:lnTo>
                  <a:lnTo>
                    <a:pt x="340" y="2076"/>
                  </a:lnTo>
                  <a:lnTo>
                    <a:pt x="328" y="2008"/>
                  </a:lnTo>
                  <a:lnTo>
                    <a:pt x="314" y="1944"/>
                  </a:lnTo>
                  <a:lnTo>
                    <a:pt x="290" y="1832"/>
                  </a:lnTo>
                  <a:lnTo>
                    <a:pt x="134" y="1144"/>
                  </a:lnTo>
                  <a:lnTo>
                    <a:pt x="748" y="1006"/>
                  </a:lnTo>
                  <a:lnTo>
                    <a:pt x="748" y="1006"/>
                  </a:lnTo>
                  <a:lnTo>
                    <a:pt x="722" y="972"/>
                  </a:lnTo>
                  <a:lnTo>
                    <a:pt x="680" y="922"/>
                  </a:lnTo>
                  <a:lnTo>
                    <a:pt x="652" y="892"/>
                  </a:lnTo>
                  <a:lnTo>
                    <a:pt x="620" y="858"/>
                  </a:lnTo>
                  <a:lnTo>
                    <a:pt x="584" y="822"/>
                  </a:lnTo>
                  <a:lnTo>
                    <a:pt x="542" y="786"/>
                  </a:lnTo>
                  <a:lnTo>
                    <a:pt x="78" y="892"/>
                  </a:lnTo>
                  <a:lnTo>
                    <a:pt x="0" y="552"/>
                  </a:lnTo>
                  <a:lnTo>
                    <a:pt x="992" y="328"/>
                  </a:lnTo>
                  <a:lnTo>
                    <a:pt x="944" y="114"/>
                  </a:lnTo>
                  <a:lnTo>
                    <a:pt x="1412" y="30"/>
                  </a:lnTo>
                  <a:lnTo>
                    <a:pt x="1412" y="30"/>
                  </a:lnTo>
                  <a:lnTo>
                    <a:pt x="1426" y="28"/>
                  </a:lnTo>
                  <a:lnTo>
                    <a:pt x="1442" y="28"/>
                  </a:lnTo>
                  <a:lnTo>
                    <a:pt x="1450" y="30"/>
                  </a:lnTo>
                  <a:lnTo>
                    <a:pt x="1458" y="34"/>
                  </a:lnTo>
                  <a:lnTo>
                    <a:pt x="1462" y="40"/>
                  </a:lnTo>
                  <a:lnTo>
                    <a:pt x="1466" y="48"/>
                  </a:lnTo>
                  <a:lnTo>
                    <a:pt x="1466" y="48"/>
                  </a:lnTo>
                  <a:lnTo>
                    <a:pt x="1468" y="54"/>
                  </a:lnTo>
                  <a:lnTo>
                    <a:pt x="1466" y="60"/>
                  </a:lnTo>
                  <a:lnTo>
                    <a:pt x="1462" y="72"/>
                  </a:lnTo>
                  <a:lnTo>
                    <a:pt x="1452" y="88"/>
                  </a:lnTo>
                  <a:lnTo>
                    <a:pt x="1434" y="112"/>
                  </a:lnTo>
                  <a:lnTo>
                    <a:pt x="1460" y="224"/>
                  </a:lnTo>
                  <a:lnTo>
                    <a:pt x="2444" y="0"/>
                  </a:lnTo>
                  <a:lnTo>
                    <a:pt x="2520" y="338"/>
                  </a:lnTo>
                  <a:lnTo>
                    <a:pt x="2030" y="450"/>
                  </a:lnTo>
                  <a:lnTo>
                    <a:pt x="2030" y="450"/>
                  </a:lnTo>
                  <a:lnTo>
                    <a:pt x="2076" y="448"/>
                  </a:lnTo>
                  <a:lnTo>
                    <a:pt x="2094" y="448"/>
                  </a:lnTo>
                  <a:lnTo>
                    <a:pt x="2106" y="450"/>
                  </a:lnTo>
                  <a:lnTo>
                    <a:pt x="2116" y="452"/>
                  </a:lnTo>
                  <a:lnTo>
                    <a:pt x="2124" y="456"/>
                  </a:lnTo>
                  <a:lnTo>
                    <a:pt x="2128" y="462"/>
                  </a:lnTo>
                  <a:lnTo>
                    <a:pt x="2130" y="470"/>
                  </a:lnTo>
                  <a:lnTo>
                    <a:pt x="2130" y="470"/>
                  </a:lnTo>
                  <a:lnTo>
                    <a:pt x="2132" y="482"/>
                  </a:lnTo>
                  <a:lnTo>
                    <a:pt x="2128" y="492"/>
                  </a:lnTo>
                  <a:lnTo>
                    <a:pt x="2122" y="502"/>
                  </a:lnTo>
                  <a:lnTo>
                    <a:pt x="2114" y="508"/>
                  </a:lnTo>
                  <a:lnTo>
                    <a:pt x="2106" y="514"/>
                  </a:lnTo>
                  <a:lnTo>
                    <a:pt x="2096" y="518"/>
                  </a:lnTo>
                  <a:lnTo>
                    <a:pt x="2084" y="522"/>
                  </a:lnTo>
                  <a:lnTo>
                    <a:pt x="2084" y="522"/>
                  </a:lnTo>
                  <a:lnTo>
                    <a:pt x="2068" y="586"/>
                  </a:lnTo>
                  <a:lnTo>
                    <a:pt x="2034" y="714"/>
                  </a:lnTo>
                  <a:lnTo>
                    <a:pt x="2608" y="584"/>
                  </a:lnTo>
                  <a:lnTo>
                    <a:pt x="2686" y="932"/>
                  </a:lnTo>
                  <a:lnTo>
                    <a:pt x="1062" y="1298"/>
                  </a:lnTo>
                  <a:lnTo>
                    <a:pt x="1266" y="1324"/>
                  </a:lnTo>
                  <a:lnTo>
                    <a:pt x="1266" y="1324"/>
                  </a:lnTo>
                  <a:lnTo>
                    <a:pt x="1282" y="1328"/>
                  </a:lnTo>
                  <a:lnTo>
                    <a:pt x="1292" y="1332"/>
                  </a:lnTo>
                  <a:lnTo>
                    <a:pt x="1298" y="1334"/>
                  </a:lnTo>
                  <a:lnTo>
                    <a:pt x="1302" y="1338"/>
                  </a:lnTo>
                  <a:lnTo>
                    <a:pt x="1304" y="1344"/>
                  </a:lnTo>
                  <a:lnTo>
                    <a:pt x="1306" y="1350"/>
                  </a:lnTo>
                  <a:lnTo>
                    <a:pt x="1306" y="1350"/>
                  </a:lnTo>
                  <a:lnTo>
                    <a:pt x="1306" y="1356"/>
                  </a:lnTo>
                  <a:lnTo>
                    <a:pt x="1306" y="1362"/>
                  </a:lnTo>
                  <a:lnTo>
                    <a:pt x="1304" y="1368"/>
                  </a:lnTo>
                  <a:lnTo>
                    <a:pt x="1300" y="1374"/>
                  </a:lnTo>
                  <a:lnTo>
                    <a:pt x="1292" y="1380"/>
                  </a:lnTo>
                  <a:lnTo>
                    <a:pt x="1282" y="1386"/>
                  </a:lnTo>
                  <a:lnTo>
                    <a:pt x="1256" y="1400"/>
                  </a:lnTo>
                  <a:lnTo>
                    <a:pt x="1256" y="1400"/>
                  </a:lnTo>
                  <a:lnTo>
                    <a:pt x="1252" y="1444"/>
                  </a:lnTo>
                  <a:lnTo>
                    <a:pt x="1248" y="1476"/>
                  </a:lnTo>
                  <a:lnTo>
                    <a:pt x="1510" y="1418"/>
                  </a:lnTo>
                  <a:close/>
                  <a:moveTo>
                    <a:pt x="714" y="1780"/>
                  </a:moveTo>
                  <a:lnTo>
                    <a:pt x="714" y="1780"/>
                  </a:lnTo>
                  <a:lnTo>
                    <a:pt x="718" y="1804"/>
                  </a:lnTo>
                  <a:lnTo>
                    <a:pt x="726" y="1846"/>
                  </a:lnTo>
                  <a:lnTo>
                    <a:pt x="726" y="1846"/>
                  </a:lnTo>
                  <a:lnTo>
                    <a:pt x="758" y="1786"/>
                  </a:lnTo>
                  <a:lnTo>
                    <a:pt x="788" y="1726"/>
                  </a:lnTo>
                  <a:lnTo>
                    <a:pt x="812" y="1666"/>
                  </a:lnTo>
                  <a:lnTo>
                    <a:pt x="832" y="1604"/>
                  </a:lnTo>
                  <a:lnTo>
                    <a:pt x="848" y="1540"/>
                  </a:lnTo>
                  <a:lnTo>
                    <a:pt x="862" y="1476"/>
                  </a:lnTo>
                  <a:lnTo>
                    <a:pt x="870" y="1410"/>
                  </a:lnTo>
                  <a:lnTo>
                    <a:pt x="878" y="1340"/>
                  </a:lnTo>
                  <a:lnTo>
                    <a:pt x="628" y="1398"/>
                  </a:lnTo>
                  <a:lnTo>
                    <a:pt x="714" y="1780"/>
                  </a:lnTo>
                  <a:close/>
                  <a:moveTo>
                    <a:pt x="1032" y="676"/>
                  </a:moveTo>
                  <a:lnTo>
                    <a:pt x="1032" y="676"/>
                  </a:lnTo>
                  <a:lnTo>
                    <a:pt x="1134" y="788"/>
                  </a:lnTo>
                  <a:lnTo>
                    <a:pt x="1180" y="844"/>
                  </a:lnTo>
                  <a:lnTo>
                    <a:pt x="1200" y="872"/>
                  </a:lnTo>
                  <a:lnTo>
                    <a:pt x="1220" y="898"/>
                  </a:lnTo>
                  <a:lnTo>
                    <a:pt x="1546" y="824"/>
                  </a:lnTo>
                  <a:lnTo>
                    <a:pt x="1546" y="824"/>
                  </a:lnTo>
                  <a:lnTo>
                    <a:pt x="1560" y="784"/>
                  </a:lnTo>
                  <a:lnTo>
                    <a:pt x="1572" y="740"/>
                  </a:lnTo>
                  <a:lnTo>
                    <a:pt x="1594" y="656"/>
                  </a:lnTo>
                  <a:lnTo>
                    <a:pt x="1610" y="586"/>
                  </a:lnTo>
                  <a:lnTo>
                    <a:pt x="1618" y="542"/>
                  </a:lnTo>
                  <a:lnTo>
                    <a:pt x="1032" y="67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641160" y="22339440"/>
              <a:ext cx="5084640" cy="4856040"/>
            </a:xfrm>
            <a:custGeom>
              <a:avLst/>
              <a:gdLst>
                <a:gd name="textAreaLeft" fmla="*/ 0 w 5084640"/>
                <a:gd name="textAreaRight" fmla="*/ 5085000 w 5084640"/>
                <a:gd name="textAreaTop" fmla="*/ 0 h 4856040"/>
                <a:gd name="textAreaBottom" fmla="*/ 4856040 h 4856040"/>
              </a:gdLst>
              <a:ahLst/>
              <a:rect l="textAreaLeft" t="textAreaTop" r="textAreaRight" b="textAreaBottom"/>
              <a:pathLst>
                <a:path w="3203" h="3059">
                  <a:moveTo>
                    <a:pt x="2664" y="0"/>
                  </a:moveTo>
                  <a:lnTo>
                    <a:pt x="2744" y="350"/>
                  </a:lnTo>
                  <a:lnTo>
                    <a:pt x="1626" y="604"/>
                  </a:lnTo>
                  <a:lnTo>
                    <a:pt x="1654" y="726"/>
                  </a:lnTo>
                  <a:lnTo>
                    <a:pt x="2464" y="544"/>
                  </a:lnTo>
                  <a:lnTo>
                    <a:pt x="2792" y="1996"/>
                  </a:lnTo>
                  <a:lnTo>
                    <a:pt x="1144" y="2370"/>
                  </a:lnTo>
                  <a:lnTo>
                    <a:pt x="816" y="916"/>
                  </a:lnTo>
                  <a:lnTo>
                    <a:pt x="1222" y="824"/>
                  </a:lnTo>
                  <a:lnTo>
                    <a:pt x="1194" y="702"/>
                  </a:lnTo>
                  <a:lnTo>
                    <a:pt x="80" y="954"/>
                  </a:lnTo>
                  <a:lnTo>
                    <a:pt x="0" y="604"/>
                  </a:lnTo>
                  <a:lnTo>
                    <a:pt x="1116" y="352"/>
                  </a:lnTo>
                  <a:lnTo>
                    <a:pt x="1066" y="134"/>
                  </a:lnTo>
                  <a:lnTo>
                    <a:pt x="1526" y="78"/>
                  </a:lnTo>
                  <a:lnTo>
                    <a:pt x="1526" y="78"/>
                  </a:lnTo>
                  <a:lnTo>
                    <a:pt x="1552" y="76"/>
                  </a:lnTo>
                  <a:lnTo>
                    <a:pt x="1564" y="76"/>
                  </a:lnTo>
                  <a:lnTo>
                    <a:pt x="1576" y="78"/>
                  </a:lnTo>
                  <a:lnTo>
                    <a:pt x="1586" y="80"/>
                  </a:lnTo>
                  <a:lnTo>
                    <a:pt x="1594" y="86"/>
                  </a:lnTo>
                  <a:lnTo>
                    <a:pt x="1598" y="92"/>
                  </a:lnTo>
                  <a:lnTo>
                    <a:pt x="1602" y="102"/>
                  </a:lnTo>
                  <a:lnTo>
                    <a:pt x="1602" y="102"/>
                  </a:lnTo>
                  <a:lnTo>
                    <a:pt x="1604" y="112"/>
                  </a:lnTo>
                  <a:lnTo>
                    <a:pt x="1604" y="120"/>
                  </a:lnTo>
                  <a:lnTo>
                    <a:pt x="1602" y="128"/>
                  </a:lnTo>
                  <a:lnTo>
                    <a:pt x="1596" y="136"/>
                  </a:lnTo>
                  <a:lnTo>
                    <a:pt x="1586" y="144"/>
                  </a:lnTo>
                  <a:lnTo>
                    <a:pt x="1572" y="154"/>
                  </a:lnTo>
                  <a:lnTo>
                    <a:pt x="1530" y="180"/>
                  </a:lnTo>
                  <a:lnTo>
                    <a:pt x="1548" y="254"/>
                  </a:lnTo>
                  <a:lnTo>
                    <a:pt x="2664" y="0"/>
                  </a:lnTo>
                  <a:close/>
                  <a:moveTo>
                    <a:pt x="3123" y="2026"/>
                  </a:moveTo>
                  <a:lnTo>
                    <a:pt x="3203" y="2380"/>
                  </a:lnTo>
                  <a:lnTo>
                    <a:pt x="1086" y="2858"/>
                  </a:lnTo>
                  <a:lnTo>
                    <a:pt x="1108" y="2963"/>
                  </a:lnTo>
                  <a:lnTo>
                    <a:pt x="680" y="3059"/>
                  </a:lnTo>
                  <a:lnTo>
                    <a:pt x="244" y="1136"/>
                  </a:lnTo>
                  <a:lnTo>
                    <a:pt x="680" y="1068"/>
                  </a:lnTo>
                  <a:lnTo>
                    <a:pt x="680" y="1068"/>
                  </a:lnTo>
                  <a:lnTo>
                    <a:pt x="708" y="1064"/>
                  </a:lnTo>
                  <a:lnTo>
                    <a:pt x="720" y="1064"/>
                  </a:lnTo>
                  <a:lnTo>
                    <a:pt x="732" y="1064"/>
                  </a:lnTo>
                  <a:lnTo>
                    <a:pt x="740" y="1068"/>
                  </a:lnTo>
                  <a:lnTo>
                    <a:pt x="748" y="1072"/>
                  </a:lnTo>
                  <a:lnTo>
                    <a:pt x="754" y="1080"/>
                  </a:lnTo>
                  <a:lnTo>
                    <a:pt x="756" y="1090"/>
                  </a:lnTo>
                  <a:lnTo>
                    <a:pt x="756" y="1090"/>
                  </a:lnTo>
                  <a:lnTo>
                    <a:pt x="758" y="1098"/>
                  </a:lnTo>
                  <a:lnTo>
                    <a:pt x="758" y="1106"/>
                  </a:lnTo>
                  <a:lnTo>
                    <a:pt x="756" y="1112"/>
                  </a:lnTo>
                  <a:lnTo>
                    <a:pt x="752" y="1120"/>
                  </a:lnTo>
                  <a:lnTo>
                    <a:pt x="736" y="1140"/>
                  </a:lnTo>
                  <a:lnTo>
                    <a:pt x="704" y="1170"/>
                  </a:lnTo>
                  <a:lnTo>
                    <a:pt x="1006" y="2506"/>
                  </a:lnTo>
                  <a:lnTo>
                    <a:pt x="3123" y="2026"/>
                  </a:lnTo>
                  <a:close/>
                  <a:moveTo>
                    <a:pt x="1370" y="1230"/>
                  </a:moveTo>
                  <a:lnTo>
                    <a:pt x="2116" y="1062"/>
                  </a:lnTo>
                  <a:lnTo>
                    <a:pt x="2088" y="938"/>
                  </a:lnTo>
                  <a:lnTo>
                    <a:pt x="1342" y="1106"/>
                  </a:lnTo>
                  <a:lnTo>
                    <a:pt x="1370" y="1230"/>
                  </a:lnTo>
                  <a:close/>
                  <a:moveTo>
                    <a:pt x="2170" y="1302"/>
                  </a:moveTo>
                  <a:lnTo>
                    <a:pt x="1424" y="1472"/>
                  </a:lnTo>
                  <a:lnTo>
                    <a:pt x="1452" y="1594"/>
                  </a:lnTo>
                  <a:lnTo>
                    <a:pt x="2198" y="1426"/>
                  </a:lnTo>
                  <a:lnTo>
                    <a:pt x="2170" y="1302"/>
                  </a:lnTo>
                  <a:close/>
                  <a:moveTo>
                    <a:pt x="2254" y="1668"/>
                  </a:moveTo>
                  <a:lnTo>
                    <a:pt x="1506" y="1836"/>
                  </a:lnTo>
                  <a:lnTo>
                    <a:pt x="1534" y="1962"/>
                  </a:lnTo>
                  <a:lnTo>
                    <a:pt x="2282" y="1794"/>
                  </a:lnTo>
                  <a:lnTo>
                    <a:pt x="2254" y="16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グループ化 93"/>
          <p:cNvGrpSpPr/>
          <p:nvPr/>
        </p:nvGrpSpPr>
        <p:grpSpPr>
          <a:xfrm>
            <a:off x="1866960" y="1565280"/>
            <a:ext cx="6630840" cy="3381480"/>
            <a:chOff x="1866960" y="1565280"/>
            <a:chExt cx="6630840" cy="3381480"/>
          </a:xfrm>
        </p:grpSpPr>
        <p:sp>
          <p:nvSpPr>
            <p:cNvPr id="128" name="Freeform 17"/>
            <p:cNvSpPr/>
            <p:nvPr/>
          </p:nvSpPr>
          <p:spPr>
            <a:xfrm>
              <a:off x="1866960" y="1625400"/>
              <a:ext cx="3295440" cy="3311640"/>
            </a:xfrm>
            <a:custGeom>
              <a:avLst/>
              <a:gdLst>
                <a:gd name="textAreaLeft" fmla="*/ 0 w 3295440"/>
                <a:gd name="textAreaRight" fmla="*/ 3295800 w 3295440"/>
                <a:gd name="textAreaTop" fmla="*/ 0 h 3311640"/>
                <a:gd name="textAreaBottom" fmla="*/ 3312000 h 3311640"/>
              </a:gdLst>
              <a:ahLst/>
              <a:rect l="textAreaLeft" t="textAreaTop" r="textAreaRight" b="textAreaBottom"/>
              <a:pathLst>
                <a:path w="2076" h="2086">
                  <a:moveTo>
                    <a:pt x="2076" y="400"/>
                  </a:moveTo>
                  <a:lnTo>
                    <a:pt x="2076" y="400"/>
                  </a:lnTo>
                  <a:lnTo>
                    <a:pt x="2074" y="372"/>
                  </a:lnTo>
                  <a:lnTo>
                    <a:pt x="2068" y="344"/>
                  </a:lnTo>
                  <a:lnTo>
                    <a:pt x="2058" y="318"/>
                  </a:lnTo>
                  <a:lnTo>
                    <a:pt x="2042" y="292"/>
                  </a:lnTo>
                  <a:lnTo>
                    <a:pt x="2042" y="292"/>
                  </a:lnTo>
                  <a:lnTo>
                    <a:pt x="2038" y="284"/>
                  </a:lnTo>
                  <a:lnTo>
                    <a:pt x="1890" y="84"/>
                  </a:lnTo>
                  <a:lnTo>
                    <a:pt x="1890" y="84"/>
                  </a:lnTo>
                  <a:lnTo>
                    <a:pt x="1874" y="64"/>
                  </a:lnTo>
                  <a:lnTo>
                    <a:pt x="1854" y="48"/>
                  </a:lnTo>
                  <a:lnTo>
                    <a:pt x="1834" y="36"/>
                  </a:lnTo>
                  <a:lnTo>
                    <a:pt x="1812" y="28"/>
                  </a:lnTo>
                  <a:lnTo>
                    <a:pt x="1788" y="24"/>
                  </a:lnTo>
                  <a:lnTo>
                    <a:pt x="1764" y="22"/>
                  </a:lnTo>
                  <a:lnTo>
                    <a:pt x="1738" y="26"/>
                  </a:lnTo>
                  <a:lnTo>
                    <a:pt x="1714" y="32"/>
                  </a:lnTo>
                  <a:lnTo>
                    <a:pt x="1714" y="32"/>
                  </a:lnTo>
                  <a:lnTo>
                    <a:pt x="1674" y="48"/>
                  </a:lnTo>
                  <a:lnTo>
                    <a:pt x="1622" y="66"/>
                  </a:lnTo>
                  <a:lnTo>
                    <a:pt x="1564" y="84"/>
                  </a:lnTo>
                  <a:lnTo>
                    <a:pt x="1502" y="100"/>
                  </a:lnTo>
                  <a:lnTo>
                    <a:pt x="1436" y="116"/>
                  </a:lnTo>
                  <a:lnTo>
                    <a:pt x="1372" y="130"/>
                  </a:lnTo>
                  <a:lnTo>
                    <a:pt x="1312" y="138"/>
                  </a:lnTo>
                  <a:lnTo>
                    <a:pt x="1286" y="140"/>
                  </a:lnTo>
                  <a:lnTo>
                    <a:pt x="1260" y="142"/>
                  </a:lnTo>
                  <a:lnTo>
                    <a:pt x="1140" y="128"/>
                  </a:lnTo>
                  <a:lnTo>
                    <a:pt x="1140" y="128"/>
                  </a:lnTo>
                  <a:lnTo>
                    <a:pt x="1124" y="126"/>
                  </a:lnTo>
                  <a:lnTo>
                    <a:pt x="1108" y="128"/>
                  </a:lnTo>
                  <a:lnTo>
                    <a:pt x="1092" y="130"/>
                  </a:lnTo>
                  <a:lnTo>
                    <a:pt x="1078" y="134"/>
                  </a:lnTo>
                  <a:lnTo>
                    <a:pt x="1062" y="138"/>
                  </a:lnTo>
                  <a:lnTo>
                    <a:pt x="1048" y="146"/>
                  </a:lnTo>
                  <a:lnTo>
                    <a:pt x="1036" y="154"/>
                  </a:lnTo>
                  <a:lnTo>
                    <a:pt x="1024" y="164"/>
                  </a:lnTo>
                  <a:lnTo>
                    <a:pt x="1024" y="164"/>
                  </a:lnTo>
                  <a:lnTo>
                    <a:pt x="1012" y="176"/>
                  </a:lnTo>
                  <a:lnTo>
                    <a:pt x="1006" y="176"/>
                  </a:lnTo>
                  <a:lnTo>
                    <a:pt x="1006" y="176"/>
                  </a:lnTo>
                  <a:lnTo>
                    <a:pt x="1004" y="156"/>
                  </a:lnTo>
                  <a:lnTo>
                    <a:pt x="998" y="134"/>
                  </a:lnTo>
                  <a:lnTo>
                    <a:pt x="986" y="110"/>
                  </a:lnTo>
                  <a:lnTo>
                    <a:pt x="980" y="98"/>
                  </a:lnTo>
                  <a:lnTo>
                    <a:pt x="972" y="86"/>
                  </a:lnTo>
                  <a:lnTo>
                    <a:pt x="960" y="74"/>
                  </a:lnTo>
                  <a:lnTo>
                    <a:pt x="948" y="64"/>
                  </a:lnTo>
                  <a:lnTo>
                    <a:pt x="936" y="52"/>
                  </a:lnTo>
                  <a:lnTo>
                    <a:pt x="920" y="44"/>
                  </a:lnTo>
                  <a:lnTo>
                    <a:pt x="902" y="36"/>
                  </a:lnTo>
                  <a:lnTo>
                    <a:pt x="882" y="28"/>
                  </a:lnTo>
                  <a:lnTo>
                    <a:pt x="858" y="24"/>
                  </a:lnTo>
                  <a:lnTo>
                    <a:pt x="834" y="20"/>
                  </a:lnTo>
                  <a:lnTo>
                    <a:pt x="832" y="20"/>
                  </a:lnTo>
                  <a:lnTo>
                    <a:pt x="564" y="2"/>
                  </a:lnTo>
                  <a:lnTo>
                    <a:pt x="564" y="2"/>
                  </a:lnTo>
                  <a:lnTo>
                    <a:pt x="548" y="0"/>
                  </a:lnTo>
                  <a:lnTo>
                    <a:pt x="534" y="2"/>
                  </a:lnTo>
                  <a:lnTo>
                    <a:pt x="518" y="6"/>
                  </a:lnTo>
                  <a:lnTo>
                    <a:pt x="504" y="10"/>
                  </a:lnTo>
                  <a:lnTo>
                    <a:pt x="490" y="16"/>
                  </a:lnTo>
                  <a:lnTo>
                    <a:pt x="476" y="22"/>
                  </a:lnTo>
                  <a:lnTo>
                    <a:pt x="464" y="30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42" y="52"/>
                  </a:lnTo>
                  <a:lnTo>
                    <a:pt x="432" y="64"/>
                  </a:lnTo>
                  <a:lnTo>
                    <a:pt x="424" y="76"/>
                  </a:lnTo>
                  <a:lnTo>
                    <a:pt x="416" y="90"/>
                  </a:lnTo>
                  <a:lnTo>
                    <a:pt x="412" y="104"/>
                  </a:lnTo>
                  <a:lnTo>
                    <a:pt x="408" y="120"/>
                  </a:lnTo>
                  <a:lnTo>
                    <a:pt x="406" y="134"/>
                  </a:lnTo>
                  <a:lnTo>
                    <a:pt x="404" y="150"/>
                  </a:lnTo>
                  <a:lnTo>
                    <a:pt x="404" y="176"/>
                  </a:lnTo>
                  <a:lnTo>
                    <a:pt x="262" y="176"/>
                  </a:lnTo>
                  <a:lnTo>
                    <a:pt x="262" y="176"/>
                  </a:lnTo>
                  <a:lnTo>
                    <a:pt x="248" y="176"/>
                  </a:lnTo>
                  <a:lnTo>
                    <a:pt x="232" y="178"/>
                  </a:lnTo>
                  <a:lnTo>
                    <a:pt x="218" y="182"/>
                  </a:lnTo>
                  <a:lnTo>
                    <a:pt x="204" y="186"/>
                  </a:lnTo>
                  <a:lnTo>
                    <a:pt x="192" y="192"/>
                  </a:lnTo>
                  <a:lnTo>
                    <a:pt x="180" y="200"/>
                  </a:lnTo>
                  <a:lnTo>
                    <a:pt x="168" y="208"/>
                  </a:lnTo>
                  <a:lnTo>
                    <a:pt x="158" y="218"/>
                  </a:lnTo>
                  <a:lnTo>
                    <a:pt x="148" y="230"/>
                  </a:lnTo>
                  <a:lnTo>
                    <a:pt x="138" y="240"/>
                  </a:lnTo>
                  <a:lnTo>
                    <a:pt x="132" y="252"/>
                  </a:lnTo>
                  <a:lnTo>
                    <a:pt x="126" y="266"/>
                  </a:lnTo>
                  <a:lnTo>
                    <a:pt x="120" y="280"/>
                  </a:lnTo>
                  <a:lnTo>
                    <a:pt x="116" y="294"/>
                  </a:lnTo>
                  <a:lnTo>
                    <a:pt x="114" y="308"/>
                  </a:lnTo>
                  <a:lnTo>
                    <a:pt x="114" y="324"/>
                  </a:lnTo>
                  <a:lnTo>
                    <a:pt x="114" y="542"/>
                  </a:lnTo>
                  <a:lnTo>
                    <a:pt x="114" y="542"/>
                  </a:lnTo>
                  <a:lnTo>
                    <a:pt x="114" y="560"/>
                  </a:lnTo>
                  <a:lnTo>
                    <a:pt x="118" y="576"/>
                  </a:lnTo>
                  <a:lnTo>
                    <a:pt x="122" y="592"/>
                  </a:lnTo>
                  <a:lnTo>
                    <a:pt x="128" y="608"/>
                  </a:lnTo>
                  <a:lnTo>
                    <a:pt x="128" y="608"/>
                  </a:lnTo>
                  <a:lnTo>
                    <a:pt x="114" y="618"/>
                  </a:lnTo>
                  <a:lnTo>
                    <a:pt x="98" y="632"/>
                  </a:lnTo>
                  <a:lnTo>
                    <a:pt x="86" y="646"/>
                  </a:lnTo>
                  <a:lnTo>
                    <a:pt x="76" y="662"/>
                  </a:lnTo>
                  <a:lnTo>
                    <a:pt x="68" y="678"/>
                  </a:lnTo>
                  <a:lnTo>
                    <a:pt x="62" y="696"/>
                  </a:lnTo>
                  <a:lnTo>
                    <a:pt x="58" y="716"/>
                  </a:lnTo>
                  <a:lnTo>
                    <a:pt x="56" y="736"/>
                  </a:lnTo>
                  <a:lnTo>
                    <a:pt x="56" y="958"/>
                  </a:lnTo>
                  <a:lnTo>
                    <a:pt x="56" y="958"/>
                  </a:lnTo>
                  <a:lnTo>
                    <a:pt x="58" y="980"/>
                  </a:lnTo>
                  <a:lnTo>
                    <a:pt x="62" y="1002"/>
                  </a:lnTo>
                  <a:lnTo>
                    <a:pt x="70" y="1022"/>
                  </a:lnTo>
                  <a:lnTo>
                    <a:pt x="80" y="1040"/>
                  </a:lnTo>
                  <a:lnTo>
                    <a:pt x="80" y="1040"/>
                  </a:lnTo>
                  <a:lnTo>
                    <a:pt x="80" y="1052"/>
                  </a:lnTo>
                  <a:lnTo>
                    <a:pt x="80" y="1292"/>
                  </a:lnTo>
                  <a:lnTo>
                    <a:pt x="80" y="1292"/>
                  </a:lnTo>
                  <a:lnTo>
                    <a:pt x="82" y="1316"/>
                  </a:lnTo>
                  <a:lnTo>
                    <a:pt x="86" y="1338"/>
                  </a:lnTo>
                  <a:lnTo>
                    <a:pt x="94" y="1358"/>
                  </a:lnTo>
                  <a:lnTo>
                    <a:pt x="106" y="1376"/>
                  </a:lnTo>
                  <a:lnTo>
                    <a:pt x="118" y="1392"/>
                  </a:lnTo>
                  <a:lnTo>
                    <a:pt x="134" y="1408"/>
                  </a:lnTo>
                  <a:lnTo>
                    <a:pt x="152" y="1420"/>
                  </a:lnTo>
                  <a:lnTo>
                    <a:pt x="172" y="1430"/>
                  </a:lnTo>
                  <a:lnTo>
                    <a:pt x="172" y="1430"/>
                  </a:lnTo>
                  <a:lnTo>
                    <a:pt x="144" y="1462"/>
                  </a:lnTo>
                  <a:lnTo>
                    <a:pt x="114" y="1496"/>
                  </a:lnTo>
                  <a:lnTo>
                    <a:pt x="80" y="1532"/>
                  </a:lnTo>
                  <a:lnTo>
                    <a:pt x="46" y="1568"/>
                  </a:lnTo>
                  <a:lnTo>
                    <a:pt x="46" y="1568"/>
                  </a:lnTo>
                  <a:lnTo>
                    <a:pt x="32" y="1580"/>
                  </a:lnTo>
                  <a:lnTo>
                    <a:pt x="22" y="1596"/>
                  </a:lnTo>
                  <a:lnTo>
                    <a:pt x="14" y="1612"/>
                  </a:lnTo>
                  <a:lnTo>
                    <a:pt x="6" y="1628"/>
                  </a:lnTo>
                  <a:lnTo>
                    <a:pt x="2" y="1646"/>
                  </a:lnTo>
                  <a:lnTo>
                    <a:pt x="0" y="1664"/>
                  </a:lnTo>
                  <a:lnTo>
                    <a:pt x="0" y="1682"/>
                  </a:lnTo>
                  <a:lnTo>
                    <a:pt x="2" y="1700"/>
                  </a:lnTo>
                  <a:lnTo>
                    <a:pt x="2" y="1700"/>
                  </a:lnTo>
                  <a:lnTo>
                    <a:pt x="6" y="1718"/>
                  </a:lnTo>
                  <a:lnTo>
                    <a:pt x="14" y="1736"/>
                  </a:lnTo>
                  <a:lnTo>
                    <a:pt x="22" y="1752"/>
                  </a:lnTo>
                  <a:lnTo>
                    <a:pt x="32" y="1766"/>
                  </a:lnTo>
                  <a:lnTo>
                    <a:pt x="44" y="1780"/>
                  </a:lnTo>
                  <a:lnTo>
                    <a:pt x="58" y="1792"/>
                  </a:lnTo>
                  <a:lnTo>
                    <a:pt x="74" y="1802"/>
                  </a:lnTo>
                  <a:lnTo>
                    <a:pt x="90" y="1810"/>
                  </a:lnTo>
                  <a:lnTo>
                    <a:pt x="90" y="1810"/>
                  </a:lnTo>
                  <a:lnTo>
                    <a:pt x="150" y="1838"/>
                  </a:lnTo>
                  <a:lnTo>
                    <a:pt x="196" y="1862"/>
                  </a:lnTo>
                  <a:lnTo>
                    <a:pt x="216" y="1874"/>
                  </a:lnTo>
                  <a:lnTo>
                    <a:pt x="234" y="1888"/>
                  </a:lnTo>
                  <a:lnTo>
                    <a:pt x="274" y="1920"/>
                  </a:lnTo>
                  <a:lnTo>
                    <a:pt x="274" y="1920"/>
                  </a:lnTo>
                  <a:lnTo>
                    <a:pt x="286" y="1930"/>
                  </a:lnTo>
                  <a:lnTo>
                    <a:pt x="298" y="1938"/>
                  </a:lnTo>
                  <a:lnTo>
                    <a:pt x="312" y="1946"/>
                  </a:lnTo>
                  <a:lnTo>
                    <a:pt x="326" y="1950"/>
                  </a:lnTo>
                  <a:lnTo>
                    <a:pt x="342" y="1954"/>
                  </a:lnTo>
                  <a:lnTo>
                    <a:pt x="356" y="1958"/>
                  </a:lnTo>
                  <a:lnTo>
                    <a:pt x="372" y="1958"/>
                  </a:lnTo>
                  <a:lnTo>
                    <a:pt x="386" y="1958"/>
                  </a:lnTo>
                  <a:lnTo>
                    <a:pt x="386" y="1958"/>
                  </a:lnTo>
                  <a:lnTo>
                    <a:pt x="394" y="1982"/>
                  </a:lnTo>
                  <a:lnTo>
                    <a:pt x="404" y="2006"/>
                  </a:lnTo>
                  <a:lnTo>
                    <a:pt x="418" y="2026"/>
                  </a:lnTo>
                  <a:lnTo>
                    <a:pt x="436" y="2044"/>
                  </a:lnTo>
                  <a:lnTo>
                    <a:pt x="458" y="2060"/>
                  </a:lnTo>
                  <a:lnTo>
                    <a:pt x="480" y="2070"/>
                  </a:lnTo>
                  <a:lnTo>
                    <a:pt x="506" y="2078"/>
                  </a:lnTo>
                  <a:lnTo>
                    <a:pt x="518" y="2080"/>
                  </a:lnTo>
                  <a:lnTo>
                    <a:pt x="532" y="2080"/>
                  </a:lnTo>
                  <a:lnTo>
                    <a:pt x="792" y="2080"/>
                  </a:lnTo>
                  <a:lnTo>
                    <a:pt x="792" y="2080"/>
                  </a:lnTo>
                  <a:lnTo>
                    <a:pt x="812" y="2078"/>
                  </a:lnTo>
                  <a:lnTo>
                    <a:pt x="832" y="2074"/>
                  </a:lnTo>
                  <a:lnTo>
                    <a:pt x="852" y="2068"/>
                  </a:lnTo>
                  <a:lnTo>
                    <a:pt x="868" y="2058"/>
                  </a:lnTo>
                  <a:lnTo>
                    <a:pt x="884" y="2048"/>
                  </a:lnTo>
                  <a:lnTo>
                    <a:pt x="898" y="2034"/>
                  </a:lnTo>
                  <a:lnTo>
                    <a:pt x="912" y="2020"/>
                  </a:lnTo>
                  <a:lnTo>
                    <a:pt x="922" y="2002"/>
                  </a:lnTo>
                  <a:lnTo>
                    <a:pt x="922" y="2002"/>
                  </a:lnTo>
                  <a:lnTo>
                    <a:pt x="952" y="2016"/>
                  </a:lnTo>
                  <a:lnTo>
                    <a:pt x="982" y="2030"/>
                  </a:lnTo>
                  <a:lnTo>
                    <a:pt x="1012" y="2046"/>
                  </a:lnTo>
                  <a:lnTo>
                    <a:pt x="1046" y="2064"/>
                  </a:lnTo>
                  <a:lnTo>
                    <a:pt x="1046" y="2064"/>
                  </a:lnTo>
                  <a:lnTo>
                    <a:pt x="1064" y="2074"/>
                  </a:lnTo>
                  <a:lnTo>
                    <a:pt x="1082" y="2080"/>
                  </a:lnTo>
                  <a:lnTo>
                    <a:pt x="1102" y="2084"/>
                  </a:lnTo>
                  <a:lnTo>
                    <a:pt x="1122" y="2086"/>
                  </a:lnTo>
                  <a:lnTo>
                    <a:pt x="1122" y="2086"/>
                  </a:lnTo>
                  <a:lnTo>
                    <a:pt x="1138" y="2084"/>
                  </a:lnTo>
                  <a:lnTo>
                    <a:pt x="1154" y="2082"/>
                  </a:lnTo>
                  <a:lnTo>
                    <a:pt x="1170" y="2078"/>
                  </a:lnTo>
                  <a:lnTo>
                    <a:pt x="1186" y="2072"/>
                  </a:lnTo>
                  <a:lnTo>
                    <a:pt x="1200" y="2064"/>
                  </a:lnTo>
                  <a:lnTo>
                    <a:pt x="1214" y="2054"/>
                  </a:lnTo>
                  <a:lnTo>
                    <a:pt x="1228" y="2042"/>
                  </a:lnTo>
                  <a:lnTo>
                    <a:pt x="1238" y="2028"/>
                  </a:lnTo>
                  <a:lnTo>
                    <a:pt x="1238" y="2028"/>
                  </a:lnTo>
                  <a:lnTo>
                    <a:pt x="1260" y="2000"/>
                  </a:lnTo>
                  <a:lnTo>
                    <a:pt x="1284" y="1966"/>
                  </a:lnTo>
                  <a:lnTo>
                    <a:pt x="1310" y="1924"/>
                  </a:lnTo>
                  <a:lnTo>
                    <a:pt x="1336" y="1876"/>
                  </a:lnTo>
                  <a:lnTo>
                    <a:pt x="1336" y="1932"/>
                  </a:lnTo>
                  <a:lnTo>
                    <a:pt x="1336" y="1932"/>
                  </a:lnTo>
                  <a:lnTo>
                    <a:pt x="1338" y="1946"/>
                  </a:lnTo>
                  <a:lnTo>
                    <a:pt x="1340" y="1962"/>
                  </a:lnTo>
                  <a:lnTo>
                    <a:pt x="1344" y="1976"/>
                  </a:lnTo>
                  <a:lnTo>
                    <a:pt x="1348" y="1990"/>
                  </a:lnTo>
                  <a:lnTo>
                    <a:pt x="1354" y="2002"/>
                  </a:lnTo>
                  <a:lnTo>
                    <a:pt x="1362" y="2014"/>
                  </a:lnTo>
                  <a:lnTo>
                    <a:pt x="1370" y="2026"/>
                  </a:lnTo>
                  <a:lnTo>
                    <a:pt x="1380" y="2036"/>
                  </a:lnTo>
                  <a:lnTo>
                    <a:pt x="1390" y="2046"/>
                  </a:lnTo>
                  <a:lnTo>
                    <a:pt x="1402" y="2054"/>
                  </a:lnTo>
                  <a:lnTo>
                    <a:pt x="1414" y="2062"/>
                  </a:lnTo>
                  <a:lnTo>
                    <a:pt x="1428" y="2068"/>
                  </a:lnTo>
                  <a:lnTo>
                    <a:pt x="1442" y="2074"/>
                  </a:lnTo>
                  <a:lnTo>
                    <a:pt x="1456" y="2076"/>
                  </a:lnTo>
                  <a:lnTo>
                    <a:pt x="1470" y="2080"/>
                  </a:lnTo>
                  <a:lnTo>
                    <a:pt x="1486" y="2080"/>
                  </a:lnTo>
                  <a:lnTo>
                    <a:pt x="1748" y="2080"/>
                  </a:lnTo>
                  <a:lnTo>
                    <a:pt x="1748" y="2080"/>
                  </a:lnTo>
                  <a:lnTo>
                    <a:pt x="1764" y="2080"/>
                  </a:lnTo>
                  <a:lnTo>
                    <a:pt x="1778" y="2076"/>
                  </a:lnTo>
                  <a:lnTo>
                    <a:pt x="1792" y="2074"/>
                  </a:lnTo>
                  <a:lnTo>
                    <a:pt x="1806" y="2068"/>
                  </a:lnTo>
                  <a:lnTo>
                    <a:pt x="1820" y="2062"/>
                  </a:lnTo>
                  <a:lnTo>
                    <a:pt x="1832" y="2054"/>
                  </a:lnTo>
                  <a:lnTo>
                    <a:pt x="1842" y="2046"/>
                  </a:lnTo>
                  <a:lnTo>
                    <a:pt x="1854" y="2036"/>
                  </a:lnTo>
                  <a:lnTo>
                    <a:pt x="1862" y="2026"/>
                  </a:lnTo>
                  <a:lnTo>
                    <a:pt x="1872" y="2014"/>
                  </a:lnTo>
                  <a:lnTo>
                    <a:pt x="1878" y="2002"/>
                  </a:lnTo>
                  <a:lnTo>
                    <a:pt x="1886" y="1990"/>
                  </a:lnTo>
                  <a:lnTo>
                    <a:pt x="1890" y="1976"/>
                  </a:lnTo>
                  <a:lnTo>
                    <a:pt x="1894" y="1962"/>
                  </a:lnTo>
                  <a:lnTo>
                    <a:pt x="1896" y="1946"/>
                  </a:lnTo>
                  <a:lnTo>
                    <a:pt x="1896" y="1932"/>
                  </a:lnTo>
                  <a:lnTo>
                    <a:pt x="1896" y="1122"/>
                  </a:lnTo>
                  <a:lnTo>
                    <a:pt x="1896" y="1122"/>
                  </a:lnTo>
                  <a:lnTo>
                    <a:pt x="1912" y="1122"/>
                  </a:lnTo>
                  <a:lnTo>
                    <a:pt x="1926" y="1118"/>
                  </a:lnTo>
                  <a:lnTo>
                    <a:pt x="1940" y="1114"/>
                  </a:lnTo>
                  <a:lnTo>
                    <a:pt x="1954" y="1110"/>
                  </a:lnTo>
                  <a:lnTo>
                    <a:pt x="1966" y="1104"/>
                  </a:lnTo>
                  <a:lnTo>
                    <a:pt x="1978" y="1096"/>
                  </a:lnTo>
                  <a:lnTo>
                    <a:pt x="1990" y="1088"/>
                  </a:lnTo>
                  <a:lnTo>
                    <a:pt x="2000" y="1078"/>
                  </a:lnTo>
                  <a:lnTo>
                    <a:pt x="2010" y="1068"/>
                  </a:lnTo>
                  <a:lnTo>
                    <a:pt x="2018" y="1056"/>
                  </a:lnTo>
                  <a:lnTo>
                    <a:pt x="2024" y="1044"/>
                  </a:lnTo>
                  <a:lnTo>
                    <a:pt x="2030" y="1030"/>
                  </a:lnTo>
                  <a:lnTo>
                    <a:pt x="2036" y="1018"/>
                  </a:lnTo>
                  <a:lnTo>
                    <a:pt x="2040" y="1004"/>
                  </a:lnTo>
                  <a:lnTo>
                    <a:pt x="2042" y="988"/>
                  </a:lnTo>
                  <a:lnTo>
                    <a:pt x="2042" y="974"/>
                  </a:lnTo>
                  <a:lnTo>
                    <a:pt x="2042" y="716"/>
                  </a:lnTo>
                  <a:lnTo>
                    <a:pt x="2042" y="716"/>
                  </a:lnTo>
                  <a:lnTo>
                    <a:pt x="2040" y="692"/>
                  </a:lnTo>
                  <a:lnTo>
                    <a:pt x="2034" y="668"/>
                  </a:lnTo>
                  <a:lnTo>
                    <a:pt x="2026" y="646"/>
                  </a:lnTo>
                  <a:lnTo>
                    <a:pt x="2012" y="628"/>
                  </a:lnTo>
                  <a:lnTo>
                    <a:pt x="1998" y="610"/>
                  </a:lnTo>
                  <a:lnTo>
                    <a:pt x="1980" y="594"/>
                  </a:lnTo>
                  <a:lnTo>
                    <a:pt x="1960" y="584"/>
                  </a:lnTo>
                  <a:lnTo>
                    <a:pt x="1938" y="574"/>
                  </a:lnTo>
                  <a:lnTo>
                    <a:pt x="1938" y="574"/>
                  </a:lnTo>
                  <a:lnTo>
                    <a:pt x="1952" y="570"/>
                  </a:lnTo>
                  <a:lnTo>
                    <a:pt x="1966" y="566"/>
                  </a:lnTo>
                  <a:lnTo>
                    <a:pt x="1980" y="558"/>
                  </a:lnTo>
                  <a:lnTo>
                    <a:pt x="1992" y="552"/>
                  </a:lnTo>
                  <a:lnTo>
                    <a:pt x="2006" y="544"/>
                  </a:lnTo>
                  <a:lnTo>
                    <a:pt x="2016" y="534"/>
                  </a:lnTo>
                  <a:lnTo>
                    <a:pt x="2026" y="524"/>
                  </a:lnTo>
                  <a:lnTo>
                    <a:pt x="2036" y="512"/>
                  </a:lnTo>
                  <a:lnTo>
                    <a:pt x="2046" y="500"/>
                  </a:lnTo>
                  <a:lnTo>
                    <a:pt x="2054" y="488"/>
                  </a:lnTo>
                  <a:lnTo>
                    <a:pt x="2060" y="474"/>
                  </a:lnTo>
                  <a:lnTo>
                    <a:pt x="2066" y="460"/>
                  </a:lnTo>
                  <a:lnTo>
                    <a:pt x="2070" y="446"/>
                  </a:lnTo>
                  <a:lnTo>
                    <a:pt x="2074" y="430"/>
                  </a:lnTo>
                  <a:lnTo>
                    <a:pt x="2076" y="416"/>
                  </a:lnTo>
                  <a:lnTo>
                    <a:pt x="2076" y="400"/>
                  </a:lnTo>
                  <a:lnTo>
                    <a:pt x="2076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5191200" y="1565280"/>
              <a:ext cx="3306600" cy="3381480"/>
            </a:xfrm>
            <a:custGeom>
              <a:avLst/>
              <a:gdLst>
                <a:gd name="textAreaLeft" fmla="*/ 0 w 3306600"/>
                <a:gd name="textAreaRight" fmla="*/ 3306960 w 3306600"/>
                <a:gd name="textAreaTop" fmla="*/ 0 h 3381480"/>
                <a:gd name="textAreaBottom" fmla="*/ 3381840 h 3381480"/>
              </a:gdLst>
              <a:ahLst/>
              <a:rect l="textAreaLeft" t="textAreaTop" r="textAreaRight" b="textAreaBottom"/>
              <a:pathLst>
                <a:path w="2083" h="2130">
                  <a:moveTo>
                    <a:pt x="2025" y="1200"/>
                  </a:moveTo>
                  <a:lnTo>
                    <a:pt x="2025" y="1200"/>
                  </a:lnTo>
                  <a:lnTo>
                    <a:pt x="2029" y="1180"/>
                  </a:lnTo>
                  <a:lnTo>
                    <a:pt x="2031" y="1158"/>
                  </a:lnTo>
                  <a:lnTo>
                    <a:pt x="2031" y="916"/>
                  </a:lnTo>
                  <a:lnTo>
                    <a:pt x="2031" y="916"/>
                  </a:lnTo>
                  <a:lnTo>
                    <a:pt x="2029" y="896"/>
                  </a:lnTo>
                  <a:lnTo>
                    <a:pt x="2025" y="878"/>
                  </a:lnTo>
                  <a:lnTo>
                    <a:pt x="2025" y="878"/>
                  </a:lnTo>
                  <a:lnTo>
                    <a:pt x="2033" y="868"/>
                  </a:lnTo>
                  <a:lnTo>
                    <a:pt x="2041" y="856"/>
                  </a:lnTo>
                  <a:lnTo>
                    <a:pt x="2047" y="844"/>
                  </a:lnTo>
                  <a:lnTo>
                    <a:pt x="2053" y="832"/>
                  </a:lnTo>
                  <a:lnTo>
                    <a:pt x="2057" y="820"/>
                  </a:lnTo>
                  <a:lnTo>
                    <a:pt x="2061" y="806"/>
                  </a:lnTo>
                  <a:lnTo>
                    <a:pt x="2063" y="792"/>
                  </a:lnTo>
                  <a:lnTo>
                    <a:pt x="2063" y="778"/>
                  </a:lnTo>
                  <a:lnTo>
                    <a:pt x="2063" y="550"/>
                  </a:lnTo>
                  <a:lnTo>
                    <a:pt x="2063" y="550"/>
                  </a:lnTo>
                  <a:lnTo>
                    <a:pt x="2063" y="532"/>
                  </a:lnTo>
                  <a:lnTo>
                    <a:pt x="2059" y="514"/>
                  </a:lnTo>
                  <a:lnTo>
                    <a:pt x="2055" y="498"/>
                  </a:lnTo>
                  <a:lnTo>
                    <a:pt x="2047" y="482"/>
                  </a:lnTo>
                  <a:lnTo>
                    <a:pt x="2039" y="466"/>
                  </a:lnTo>
                  <a:lnTo>
                    <a:pt x="2029" y="452"/>
                  </a:lnTo>
                  <a:lnTo>
                    <a:pt x="2017" y="440"/>
                  </a:lnTo>
                  <a:lnTo>
                    <a:pt x="2003" y="430"/>
                  </a:lnTo>
                  <a:lnTo>
                    <a:pt x="2003" y="430"/>
                  </a:lnTo>
                  <a:lnTo>
                    <a:pt x="2021" y="416"/>
                  </a:lnTo>
                  <a:lnTo>
                    <a:pt x="2035" y="402"/>
                  </a:lnTo>
                  <a:lnTo>
                    <a:pt x="2047" y="384"/>
                  </a:lnTo>
                  <a:lnTo>
                    <a:pt x="2059" y="366"/>
                  </a:lnTo>
                  <a:lnTo>
                    <a:pt x="2067" y="348"/>
                  </a:lnTo>
                  <a:lnTo>
                    <a:pt x="2073" y="328"/>
                  </a:lnTo>
                  <a:lnTo>
                    <a:pt x="2077" y="306"/>
                  </a:lnTo>
                  <a:lnTo>
                    <a:pt x="2079" y="284"/>
                  </a:lnTo>
                  <a:lnTo>
                    <a:pt x="2079" y="284"/>
                  </a:lnTo>
                  <a:lnTo>
                    <a:pt x="2077" y="258"/>
                  </a:lnTo>
                  <a:lnTo>
                    <a:pt x="2071" y="232"/>
                  </a:lnTo>
                  <a:lnTo>
                    <a:pt x="2059" y="208"/>
                  </a:lnTo>
                  <a:lnTo>
                    <a:pt x="2047" y="184"/>
                  </a:lnTo>
                  <a:lnTo>
                    <a:pt x="2029" y="164"/>
                  </a:lnTo>
                  <a:lnTo>
                    <a:pt x="2007" y="146"/>
                  </a:lnTo>
                  <a:lnTo>
                    <a:pt x="1985" y="132"/>
                  </a:lnTo>
                  <a:lnTo>
                    <a:pt x="1957" y="118"/>
                  </a:lnTo>
                  <a:lnTo>
                    <a:pt x="1957" y="118"/>
                  </a:lnTo>
                  <a:lnTo>
                    <a:pt x="1951" y="116"/>
                  </a:lnTo>
                  <a:lnTo>
                    <a:pt x="1691" y="30"/>
                  </a:lnTo>
                  <a:lnTo>
                    <a:pt x="1691" y="30"/>
                  </a:lnTo>
                  <a:lnTo>
                    <a:pt x="1677" y="26"/>
                  </a:lnTo>
                  <a:lnTo>
                    <a:pt x="1661" y="24"/>
                  </a:lnTo>
                  <a:lnTo>
                    <a:pt x="1647" y="24"/>
                  </a:lnTo>
                  <a:lnTo>
                    <a:pt x="1633" y="24"/>
                  </a:lnTo>
                  <a:lnTo>
                    <a:pt x="1617" y="26"/>
                  </a:lnTo>
                  <a:lnTo>
                    <a:pt x="1603" y="30"/>
                  </a:lnTo>
                  <a:lnTo>
                    <a:pt x="1589" y="34"/>
                  </a:lnTo>
                  <a:lnTo>
                    <a:pt x="1575" y="40"/>
                  </a:lnTo>
                  <a:lnTo>
                    <a:pt x="1575" y="40"/>
                  </a:lnTo>
                  <a:lnTo>
                    <a:pt x="1563" y="48"/>
                  </a:lnTo>
                  <a:lnTo>
                    <a:pt x="1551" y="58"/>
                  </a:lnTo>
                  <a:lnTo>
                    <a:pt x="1539" y="68"/>
                  </a:lnTo>
                  <a:lnTo>
                    <a:pt x="1529" y="78"/>
                  </a:lnTo>
                  <a:lnTo>
                    <a:pt x="1521" y="90"/>
                  </a:lnTo>
                  <a:lnTo>
                    <a:pt x="1513" y="104"/>
                  </a:lnTo>
                  <a:lnTo>
                    <a:pt x="1507" y="116"/>
                  </a:lnTo>
                  <a:lnTo>
                    <a:pt x="1501" y="130"/>
                  </a:lnTo>
                  <a:lnTo>
                    <a:pt x="1501" y="130"/>
                  </a:lnTo>
                  <a:lnTo>
                    <a:pt x="1479" y="202"/>
                  </a:lnTo>
                  <a:lnTo>
                    <a:pt x="1479" y="202"/>
                  </a:lnTo>
                  <a:lnTo>
                    <a:pt x="1455" y="170"/>
                  </a:lnTo>
                  <a:lnTo>
                    <a:pt x="1429" y="136"/>
                  </a:lnTo>
                  <a:lnTo>
                    <a:pt x="1399" y="102"/>
                  </a:lnTo>
                  <a:lnTo>
                    <a:pt x="1367" y="66"/>
                  </a:lnTo>
                  <a:lnTo>
                    <a:pt x="1367" y="66"/>
                  </a:lnTo>
                  <a:lnTo>
                    <a:pt x="1349" y="50"/>
                  </a:lnTo>
                  <a:lnTo>
                    <a:pt x="1329" y="36"/>
                  </a:lnTo>
                  <a:lnTo>
                    <a:pt x="1307" y="28"/>
                  </a:lnTo>
                  <a:lnTo>
                    <a:pt x="1283" y="22"/>
                  </a:lnTo>
                  <a:lnTo>
                    <a:pt x="1259" y="20"/>
                  </a:lnTo>
                  <a:lnTo>
                    <a:pt x="1235" y="22"/>
                  </a:lnTo>
                  <a:lnTo>
                    <a:pt x="1211" y="28"/>
                  </a:lnTo>
                  <a:lnTo>
                    <a:pt x="1189" y="38"/>
                  </a:lnTo>
                  <a:lnTo>
                    <a:pt x="965" y="158"/>
                  </a:lnTo>
                  <a:lnTo>
                    <a:pt x="965" y="158"/>
                  </a:lnTo>
                  <a:lnTo>
                    <a:pt x="959" y="160"/>
                  </a:lnTo>
                  <a:lnTo>
                    <a:pt x="959" y="160"/>
                  </a:lnTo>
                  <a:lnTo>
                    <a:pt x="943" y="158"/>
                  </a:lnTo>
                  <a:lnTo>
                    <a:pt x="927" y="156"/>
                  </a:lnTo>
                  <a:lnTo>
                    <a:pt x="887" y="156"/>
                  </a:lnTo>
                  <a:lnTo>
                    <a:pt x="887" y="156"/>
                  </a:lnTo>
                  <a:lnTo>
                    <a:pt x="869" y="136"/>
                  </a:lnTo>
                  <a:lnTo>
                    <a:pt x="849" y="118"/>
                  </a:lnTo>
                  <a:lnTo>
                    <a:pt x="825" y="102"/>
                  </a:lnTo>
                  <a:lnTo>
                    <a:pt x="799" y="92"/>
                  </a:lnTo>
                  <a:lnTo>
                    <a:pt x="799" y="92"/>
                  </a:lnTo>
                  <a:lnTo>
                    <a:pt x="795" y="90"/>
                  </a:lnTo>
                  <a:lnTo>
                    <a:pt x="539" y="8"/>
                  </a:lnTo>
                  <a:lnTo>
                    <a:pt x="539" y="8"/>
                  </a:lnTo>
                  <a:lnTo>
                    <a:pt x="523" y="4"/>
                  </a:lnTo>
                  <a:lnTo>
                    <a:pt x="507" y="0"/>
                  </a:lnTo>
                  <a:lnTo>
                    <a:pt x="491" y="0"/>
                  </a:lnTo>
                  <a:lnTo>
                    <a:pt x="475" y="2"/>
                  </a:lnTo>
                  <a:lnTo>
                    <a:pt x="461" y="4"/>
                  </a:lnTo>
                  <a:lnTo>
                    <a:pt x="445" y="8"/>
                  </a:lnTo>
                  <a:lnTo>
                    <a:pt x="431" y="14"/>
                  </a:lnTo>
                  <a:lnTo>
                    <a:pt x="417" y="20"/>
                  </a:lnTo>
                  <a:lnTo>
                    <a:pt x="417" y="20"/>
                  </a:lnTo>
                  <a:lnTo>
                    <a:pt x="405" y="28"/>
                  </a:lnTo>
                  <a:lnTo>
                    <a:pt x="393" y="38"/>
                  </a:lnTo>
                  <a:lnTo>
                    <a:pt x="383" y="48"/>
                  </a:lnTo>
                  <a:lnTo>
                    <a:pt x="375" y="58"/>
                  </a:lnTo>
                  <a:lnTo>
                    <a:pt x="367" y="70"/>
                  </a:lnTo>
                  <a:lnTo>
                    <a:pt x="359" y="82"/>
                  </a:lnTo>
                  <a:lnTo>
                    <a:pt x="353" y="96"/>
                  </a:lnTo>
                  <a:lnTo>
                    <a:pt x="349" y="110"/>
                  </a:lnTo>
                  <a:lnTo>
                    <a:pt x="349" y="110"/>
                  </a:lnTo>
                  <a:lnTo>
                    <a:pt x="343" y="124"/>
                  </a:lnTo>
                  <a:lnTo>
                    <a:pt x="331" y="150"/>
                  </a:lnTo>
                  <a:lnTo>
                    <a:pt x="311" y="190"/>
                  </a:lnTo>
                  <a:lnTo>
                    <a:pt x="283" y="240"/>
                  </a:lnTo>
                  <a:lnTo>
                    <a:pt x="265" y="268"/>
                  </a:lnTo>
                  <a:lnTo>
                    <a:pt x="243" y="298"/>
                  </a:lnTo>
                  <a:lnTo>
                    <a:pt x="219" y="330"/>
                  </a:lnTo>
                  <a:lnTo>
                    <a:pt x="193" y="362"/>
                  </a:lnTo>
                  <a:lnTo>
                    <a:pt x="163" y="396"/>
                  </a:lnTo>
                  <a:lnTo>
                    <a:pt x="129" y="430"/>
                  </a:lnTo>
                  <a:lnTo>
                    <a:pt x="93" y="464"/>
                  </a:lnTo>
                  <a:lnTo>
                    <a:pt x="52" y="500"/>
                  </a:lnTo>
                  <a:lnTo>
                    <a:pt x="52" y="500"/>
                  </a:lnTo>
                  <a:lnTo>
                    <a:pt x="40" y="512"/>
                  </a:lnTo>
                  <a:lnTo>
                    <a:pt x="30" y="524"/>
                  </a:lnTo>
                  <a:lnTo>
                    <a:pt x="20" y="538"/>
                  </a:lnTo>
                  <a:lnTo>
                    <a:pt x="12" y="554"/>
                  </a:lnTo>
                  <a:lnTo>
                    <a:pt x="6" y="570"/>
                  </a:lnTo>
                  <a:lnTo>
                    <a:pt x="2" y="586"/>
                  </a:lnTo>
                  <a:lnTo>
                    <a:pt x="0" y="604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2" y="638"/>
                  </a:lnTo>
                  <a:lnTo>
                    <a:pt x="6" y="656"/>
                  </a:lnTo>
                  <a:lnTo>
                    <a:pt x="12" y="672"/>
                  </a:lnTo>
                  <a:lnTo>
                    <a:pt x="20" y="686"/>
                  </a:lnTo>
                  <a:lnTo>
                    <a:pt x="28" y="700"/>
                  </a:lnTo>
                  <a:lnTo>
                    <a:pt x="40" y="714"/>
                  </a:lnTo>
                  <a:lnTo>
                    <a:pt x="52" y="726"/>
                  </a:lnTo>
                  <a:lnTo>
                    <a:pt x="66" y="736"/>
                  </a:lnTo>
                  <a:lnTo>
                    <a:pt x="66" y="736"/>
                  </a:lnTo>
                  <a:lnTo>
                    <a:pt x="121" y="774"/>
                  </a:lnTo>
                  <a:lnTo>
                    <a:pt x="137" y="788"/>
                  </a:lnTo>
                  <a:lnTo>
                    <a:pt x="149" y="800"/>
                  </a:lnTo>
                  <a:lnTo>
                    <a:pt x="149" y="1426"/>
                  </a:lnTo>
                  <a:lnTo>
                    <a:pt x="149" y="1426"/>
                  </a:lnTo>
                  <a:lnTo>
                    <a:pt x="151" y="1436"/>
                  </a:lnTo>
                  <a:lnTo>
                    <a:pt x="151" y="1436"/>
                  </a:lnTo>
                  <a:lnTo>
                    <a:pt x="145" y="1484"/>
                  </a:lnTo>
                  <a:lnTo>
                    <a:pt x="135" y="1536"/>
                  </a:lnTo>
                  <a:lnTo>
                    <a:pt x="123" y="1590"/>
                  </a:lnTo>
                  <a:lnTo>
                    <a:pt x="109" y="1646"/>
                  </a:lnTo>
                  <a:lnTo>
                    <a:pt x="91" y="1700"/>
                  </a:lnTo>
                  <a:lnTo>
                    <a:pt x="72" y="1754"/>
                  </a:lnTo>
                  <a:lnTo>
                    <a:pt x="52" y="1802"/>
                  </a:lnTo>
                  <a:lnTo>
                    <a:pt x="30" y="1848"/>
                  </a:lnTo>
                  <a:lnTo>
                    <a:pt x="30" y="1848"/>
                  </a:lnTo>
                  <a:lnTo>
                    <a:pt x="24" y="1864"/>
                  </a:lnTo>
                  <a:lnTo>
                    <a:pt x="18" y="1882"/>
                  </a:lnTo>
                  <a:lnTo>
                    <a:pt x="16" y="1900"/>
                  </a:lnTo>
                  <a:lnTo>
                    <a:pt x="14" y="1920"/>
                  </a:lnTo>
                  <a:lnTo>
                    <a:pt x="16" y="1938"/>
                  </a:lnTo>
                  <a:lnTo>
                    <a:pt x="20" y="1956"/>
                  </a:lnTo>
                  <a:lnTo>
                    <a:pt x="26" y="1972"/>
                  </a:lnTo>
                  <a:lnTo>
                    <a:pt x="34" y="1990"/>
                  </a:lnTo>
                  <a:lnTo>
                    <a:pt x="34" y="1990"/>
                  </a:lnTo>
                  <a:lnTo>
                    <a:pt x="46" y="2006"/>
                  </a:lnTo>
                  <a:lnTo>
                    <a:pt x="58" y="2020"/>
                  </a:lnTo>
                  <a:lnTo>
                    <a:pt x="70" y="2032"/>
                  </a:lnTo>
                  <a:lnTo>
                    <a:pt x="87" y="2042"/>
                  </a:lnTo>
                  <a:lnTo>
                    <a:pt x="103" y="2050"/>
                  </a:lnTo>
                  <a:lnTo>
                    <a:pt x="121" y="2058"/>
                  </a:lnTo>
                  <a:lnTo>
                    <a:pt x="139" y="2062"/>
                  </a:lnTo>
                  <a:lnTo>
                    <a:pt x="157" y="2064"/>
                  </a:lnTo>
                  <a:lnTo>
                    <a:pt x="157" y="2064"/>
                  </a:lnTo>
                  <a:lnTo>
                    <a:pt x="195" y="2068"/>
                  </a:lnTo>
                  <a:lnTo>
                    <a:pt x="213" y="2072"/>
                  </a:lnTo>
                  <a:lnTo>
                    <a:pt x="231" y="2076"/>
                  </a:lnTo>
                  <a:lnTo>
                    <a:pt x="269" y="2092"/>
                  </a:lnTo>
                  <a:lnTo>
                    <a:pt x="313" y="2112"/>
                  </a:lnTo>
                  <a:lnTo>
                    <a:pt x="313" y="2112"/>
                  </a:lnTo>
                  <a:lnTo>
                    <a:pt x="329" y="2120"/>
                  </a:lnTo>
                  <a:lnTo>
                    <a:pt x="347" y="2126"/>
                  </a:lnTo>
                  <a:lnTo>
                    <a:pt x="365" y="2128"/>
                  </a:lnTo>
                  <a:lnTo>
                    <a:pt x="383" y="2130"/>
                  </a:lnTo>
                  <a:lnTo>
                    <a:pt x="383" y="2130"/>
                  </a:lnTo>
                  <a:lnTo>
                    <a:pt x="397" y="2128"/>
                  </a:lnTo>
                  <a:lnTo>
                    <a:pt x="411" y="2126"/>
                  </a:lnTo>
                  <a:lnTo>
                    <a:pt x="423" y="2124"/>
                  </a:lnTo>
                  <a:lnTo>
                    <a:pt x="437" y="2118"/>
                  </a:lnTo>
                  <a:lnTo>
                    <a:pt x="437" y="2118"/>
                  </a:lnTo>
                  <a:lnTo>
                    <a:pt x="459" y="2108"/>
                  </a:lnTo>
                  <a:lnTo>
                    <a:pt x="479" y="2094"/>
                  </a:lnTo>
                  <a:lnTo>
                    <a:pt x="495" y="2076"/>
                  </a:lnTo>
                  <a:lnTo>
                    <a:pt x="509" y="2058"/>
                  </a:lnTo>
                  <a:lnTo>
                    <a:pt x="509" y="2058"/>
                  </a:lnTo>
                  <a:lnTo>
                    <a:pt x="525" y="2056"/>
                  </a:lnTo>
                  <a:lnTo>
                    <a:pt x="539" y="2052"/>
                  </a:lnTo>
                  <a:lnTo>
                    <a:pt x="539" y="2052"/>
                  </a:lnTo>
                  <a:lnTo>
                    <a:pt x="561" y="2046"/>
                  </a:lnTo>
                  <a:lnTo>
                    <a:pt x="579" y="2042"/>
                  </a:lnTo>
                  <a:lnTo>
                    <a:pt x="599" y="2040"/>
                  </a:lnTo>
                  <a:lnTo>
                    <a:pt x="625" y="2040"/>
                  </a:lnTo>
                  <a:lnTo>
                    <a:pt x="625" y="2040"/>
                  </a:lnTo>
                  <a:lnTo>
                    <a:pt x="675" y="2040"/>
                  </a:lnTo>
                  <a:lnTo>
                    <a:pt x="675" y="2040"/>
                  </a:lnTo>
                  <a:lnTo>
                    <a:pt x="689" y="2040"/>
                  </a:lnTo>
                  <a:lnTo>
                    <a:pt x="689" y="2040"/>
                  </a:lnTo>
                  <a:lnTo>
                    <a:pt x="709" y="2044"/>
                  </a:lnTo>
                  <a:lnTo>
                    <a:pt x="729" y="2044"/>
                  </a:lnTo>
                  <a:lnTo>
                    <a:pt x="749" y="2042"/>
                  </a:lnTo>
                  <a:lnTo>
                    <a:pt x="769" y="2038"/>
                  </a:lnTo>
                  <a:lnTo>
                    <a:pt x="769" y="2038"/>
                  </a:lnTo>
                  <a:lnTo>
                    <a:pt x="805" y="2028"/>
                  </a:lnTo>
                  <a:lnTo>
                    <a:pt x="837" y="2020"/>
                  </a:lnTo>
                  <a:lnTo>
                    <a:pt x="871" y="2014"/>
                  </a:lnTo>
                  <a:lnTo>
                    <a:pt x="911" y="2012"/>
                  </a:lnTo>
                  <a:lnTo>
                    <a:pt x="911" y="2012"/>
                  </a:lnTo>
                  <a:lnTo>
                    <a:pt x="927" y="2010"/>
                  </a:lnTo>
                  <a:lnTo>
                    <a:pt x="943" y="2006"/>
                  </a:lnTo>
                  <a:lnTo>
                    <a:pt x="943" y="2006"/>
                  </a:lnTo>
                  <a:lnTo>
                    <a:pt x="959" y="2006"/>
                  </a:lnTo>
                  <a:lnTo>
                    <a:pt x="973" y="2004"/>
                  </a:lnTo>
                  <a:lnTo>
                    <a:pt x="989" y="2000"/>
                  </a:lnTo>
                  <a:lnTo>
                    <a:pt x="1003" y="1994"/>
                  </a:lnTo>
                  <a:lnTo>
                    <a:pt x="1003" y="1994"/>
                  </a:lnTo>
                  <a:lnTo>
                    <a:pt x="1031" y="1984"/>
                  </a:lnTo>
                  <a:lnTo>
                    <a:pt x="1063" y="1974"/>
                  </a:lnTo>
                  <a:lnTo>
                    <a:pt x="1101" y="1962"/>
                  </a:lnTo>
                  <a:lnTo>
                    <a:pt x="1147" y="1952"/>
                  </a:lnTo>
                  <a:lnTo>
                    <a:pt x="1147" y="1952"/>
                  </a:lnTo>
                  <a:lnTo>
                    <a:pt x="1169" y="1948"/>
                  </a:lnTo>
                  <a:lnTo>
                    <a:pt x="1189" y="1940"/>
                  </a:lnTo>
                  <a:lnTo>
                    <a:pt x="1205" y="1928"/>
                  </a:lnTo>
                  <a:lnTo>
                    <a:pt x="1221" y="1916"/>
                  </a:lnTo>
                  <a:lnTo>
                    <a:pt x="1221" y="1964"/>
                  </a:lnTo>
                  <a:lnTo>
                    <a:pt x="1221" y="1964"/>
                  </a:lnTo>
                  <a:lnTo>
                    <a:pt x="1223" y="1978"/>
                  </a:lnTo>
                  <a:lnTo>
                    <a:pt x="1225" y="1994"/>
                  </a:lnTo>
                  <a:lnTo>
                    <a:pt x="1229" y="2008"/>
                  </a:lnTo>
                  <a:lnTo>
                    <a:pt x="1233" y="2022"/>
                  </a:lnTo>
                  <a:lnTo>
                    <a:pt x="1239" y="2034"/>
                  </a:lnTo>
                  <a:lnTo>
                    <a:pt x="1247" y="2046"/>
                  </a:lnTo>
                  <a:lnTo>
                    <a:pt x="1255" y="2058"/>
                  </a:lnTo>
                  <a:lnTo>
                    <a:pt x="1265" y="2068"/>
                  </a:lnTo>
                  <a:lnTo>
                    <a:pt x="1277" y="2078"/>
                  </a:lnTo>
                  <a:lnTo>
                    <a:pt x="1287" y="2086"/>
                  </a:lnTo>
                  <a:lnTo>
                    <a:pt x="1299" y="2094"/>
                  </a:lnTo>
                  <a:lnTo>
                    <a:pt x="1313" y="2100"/>
                  </a:lnTo>
                  <a:lnTo>
                    <a:pt x="1327" y="2106"/>
                  </a:lnTo>
                  <a:lnTo>
                    <a:pt x="1341" y="2110"/>
                  </a:lnTo>
                  <a:lnTo>
                    <a:pt x="1355" y="2112"/>
                  </a:lnTo>
                  <a:lnTo>
                    <a:pt x="1371" y="2112"/>
                  </a:lnTo>
                  <a:lnTo>
                    <a:pt x="1633" y="2112"/>
                  </a:lnTo>
                  <a:lnTo>
                    <a:pt x="1633" y="2112"/>
                  </a:lnTo>
                  <a:lnTo>
                    <a:pt x="1649" y="2112"/>
                  </a:lnTo>
                  <a:lnTo>
                    <a:pt x="1663" y="2110"/>
                  </a:lnTo>
                  <a:lnTo>
                    <a:pt x="1677" y="2106"/>
                  </a:lnTo>
                  <a:lnTo>
                    <a:pt x="1691" y="2100"/>
                  </a:lnTo>
                  <a:lnTo>
                    <a:pt x="1705" y="2094"/>
                  </a:lnTo>
                  <a:lnTo>
                    <a:pt x="1717" y="2086"/>
                  </a:lnTo>
                  <a:lnTo>
                    <a:pt x="1727" y="2078"/>
                  </a:lnTo>
                  <a:lnTo>
                    <a:pt x="1739" y="2068"/>
                  </a:lnTo>
                  <a:lnTo>
                    <a:pt x="1749" y="2058"/>
                  </a:lnTo>
                  <a:lnTo>
                    <a:pt x="1757" y="2046"/>
                  </a:lnTo>
                  <a:lnTo>
                    <a:pt x="1765" y="2034"/>
                  </a:lnTo>
                  <a:lnTo>
                    <a:pt x="1771" y="2022"/>
                  </a:lnTo>
                  <a:lnTo>
                    <a:pt x="1775" y="2008"/>
                  </a:lnTo>
                  <a:lnTo>
                    <a:pt x="1779" y="1994"/>
                  </a:lnTo>
                  <a:lnTo>
                    <a:pt x="1781" y="1978"/>
                  </a:lnTo>
                  <a:lnTo>
                    <a:pt x="1783" y="1964"/>
                  </a:lnTo>
                  <a:lnTo>
                    <a:pt x="1783" y="1706"/>
                  </a:lnTo>
                  <a:lnTo>
                    <a:pt x="1933" y="1706"/>
                  </a:lnTo>
                  <a:lnTo>
                    <a:pt x="1933" y="1706"/>
                  </a:lnTo>
                  <a:lnTo>
                    <a:pt x="1949" y="1706"/>
                  </a:lnTo>
                  <a:lnTo>
                    <a:pt x="1963" y="1702"/>
                  </a:lnTo>
                  <a:lnTo>
                    <a:pt x="1977" y="1700"/>
                  </a:lnTo>
                  <a:lnTo>
                    <a:pt x="1991" y="1694"/>
                  </a:lnTo>
                  <a:lnTo>
                    <a:pt x="2005" y="1688"/>
                  </a:lnTo>
                  <a:lnTo>
                    <a:pt x="2017" y="1680"/>
                  </a:lnTo>
                  <a:lnTo>
                    <a:pt x="2029" y="1672"/>
                  </a:lnTo>
                  <a:lnTo>
                    <a:pt x="2039" y="1662"/>
                  </a:lnTo>
                  <a:lnTo>
                    <a:pt x="2049" y="1652"/>
                  </a:lnTo>
                  <a:lnTo>
                    <a:pt x="2057" y="1640"/>
                  </a:lnTo>
                  <a:lnTo>
                    <a:pt x="2065" y="1628"/>
                  </a:lnTo>
                  <a:lnTo>
                    <a:pt x="2071" y="1616"/>
                  </a:lnTo>
                  <a:lnTo>
                    <a:pt x="2075" y="1602"/>
                  </a:lnTo>
                  <a:lnTo>
                    <a:pt x="2079" y="1588"/>
                  </a:lnTo>
                  <a:lnTo>
                    <a:pt x="2081" y="1572"/>
                  </a:lnTo>
                  <a:lnTo>
                    <a:pt x="2083" y="1558"/>
                  </a:lnTo>
                  <a:lnTo>
                    <a:pt x="2083" y="1318"/>
                  </a:lnTo>
                  <a:lnTo>
                    <a:pt x="2083" y="1318"/>
                  </a:lnTo>
                  <a:lnTo>
                    <a:pt x="2081" y="1300"/>
                  </a:lnTo>
                  <a:lnTo>
                    <a:pt x="2079" y="1282"/>
                  </a:lnTo>
                  <a:lnTo>
                    <a:pt x="2073" y="1266"/>
                  </a:lnTo>
                  <a:lnTo>
                    <a:pt x="2067" y="1250"/>
                  </a:lnTo>
                  <a:lnTo>
                    <a:pt x="2059" y="1236"/>
                  </a:lnTo>
                  <a:lnTo>
                    <a:pt x="2049" y="1222"/>
                  </a:lnTo>
                  <a:lnTo>
                    <a:pt x="2037" y="1210"/>
                  </a:lnTo>
                  <a:lnTo>
                    <a:pt x="2025" y="1200"/>
                  </a:lnTo>
                  <a:lnTo>
                    <a:pt x="2025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1949400" y="1711080"/>
              <a:ext cx="3130560" cy="3143520"/>
            </a:xfrm>
            <a:custGeom>
              <a:avLst/>
              <a:gdLst>
                <a:gd name="textAreaLeft" fmla="*/ 0 w 3130560"/>
                <a:gd name="textAreaRight" fmla="*/ 3130920 w 3130560"/>
                <a:gd name="textAreaTop" fmla="*/ 0 h 3143520"/>
                <a:gd name="textAreaBottom" fmla="*/ 3143880 h 3143520"/>
              </a:gdLst>
              <a:ahLst/>
              <a:rect l="textAreaLeft" t="textAreaTop" r="textAreaRight" b="textAreaBottom"/>
              <a:pathLst>
                <a:path w="1972" h="1980">
                  <a:moveTo>
                    <a:pt x="1786" y="458"/>
                  </a:moveTo>
                  <a:lnTo>
                    <a:pt x="1786" y="458"/>
                  </a:lnTo>
                  <a:lnTo>
                    <a:pt x="1800" y="464"/>
                  </a:lnTo>
                  <a:lnTo>
                    <a:pt x="1814" y="468"/>
                  </a:lnTo>
                  <a:lnTo>
                    <a:pt x="1830" y="472"/>
                  </a:lnTo>
                  <a:lnTo>
                    <a:pt x="1846" y="472"/>
                  </a:lnTo>
                  <a:lnTo>
                    <a:pt x="1846" y="472"/>
                  </a:lnTo>
                  <a:lnTo>
                    <a:pt x="1858" y="472"/>
                  </a:lnTo>
                  <a:lnTo>
                    <a:pt x="1872" y="470"/>
                  </a:lnTo>
                  <a:lnTo>
                    <a:pt x="1884" y="466"/>
                  </a:lnTo>
                  <a:lnTo>
                    <a:pt x="1896" y="462"/>
                  </a:lnTo>
                  <a:lnTo>
                    <a:pt x="1906" y="458"/>
                  </a:lnTo>
                  <a:lnTo>
                    <a:pt x="1916" y="452"/>
                  </a:lnTo>
                  <a:lnTo>
                    <a:pt x="1936" y="436"/>
                  </a:lnTo>
                  <a:lnTo>
                    <a:pt x="1950" y="416"/>
                  </a:lnTo>
                  <a:lnTo>
                    <a:pt x="1956" y="406"/>
                  </a:lnTo>
                  <a:lnTo>
                    <a:pt x="1962" y="396"/>
                  </a:lnTo>
                  <a:lnTo>
                    <a:pt x="1966" y="384"/>
                  </a:lnTo>
                  <a:lnTo>
                    <a:pt x="1970" y="372"/>
                  </a:lnTo>
                  <a:lnTo>
                    <a:pt x="1972" y="358"/>
                  </a:lnTo>
                  <a:lnTo>
                    <a:pt x="1972" y="346"/>
                  </a:lnTo>
                  <a:lnTo>
                    <a:pt x="1972" y="346"/>
                  </a:lnTo>
                  <a:lnTo>
                    <a:pt x="1970" y="324"/>
                  </a:lnTo>
                  <a:lnTo>
                    <a:pt x="1966" y="304"/>
                  </a:lnTo>
                  <a:lnTo>
                    <a:pt x="1958" y="286"/>
                  </a:lnTo>
                  <a:lnTo>
                    <a:pt x="1948" y="266"/>
                  </a:lnTo>
                  <a:lnTo>
                    <a:pt x="1948" y="266"/>
                  </a:lnTo>
                  <a:lnTo>
                    <a:pt x="1944" y="260"/>
                  </a:lnTo>
                  <a:lnTo>
                    <a:pt x="1796" y="60"/>
                  </a:lnTo>
                  <a:lnTo>
                    <a:pt x="1796" y="60"/>
                  </a:lnTo>
                  <a:lnTo>
                    <a:pt x="1786" y="48"/>
                  </a:lnTo>
                  <a:lnTo>
                    <a:pt x="1774" y="38"/>
                  </a:lnTo>
                  <a:lnTo>
                    <a:pt x="1760" y="30"/>
                  </a:lnTo>
                  <a:lnTo>
                    <a:pt x="1746" y="24"/>
                  </a:lnTo>
                  <a:lnTo>
                    <a:pt x="1730" y="20"/>
                  </a:lnTo>
                  <a:lnTo>
                    <a:pt x="1714" y="20"/>
                  </a:lnTo>
                  <a:lnTo>
                    <a:pt x="1698" y="22"/>
                  </a:lnTo>
                  <a:lnTo>
                    <a:pt x="1682" y="28"/>
                  </a:lnTo>
                  <a:lnTo>
                    <a:pt x="1682" y="28"/>
                  </a:lnTo>
                  <a:lnTo>
                    <a:pt x="1640" y="44"/>
                  </a:lnTo>
                  <a:lnTo>
                    <a:pt x="1586" y="62"/>
                  </a:lnTo>
                  <a:lnTo>
                    <a:pt x="1524" y="80"/>
                  </a:lnTo>
                  <a:lnTo>
                    <a:pt x="1458" y="98"/>
                  </a:lnTo>
                  <a:lnTo>
                    <a:pt x="1390" y="114"/>
                  </a:lnTo>
                  <a:lnTo>
                    <a:pt x="1324" y="128"/>
                  </a:lnTo>
                  <a:lnTo>
                    <a:pt x="1262" y="136"/>
                  </a:lnTo>
                  <a:lnTo>
                    <a:pt x="1232" y="138"/>
                  </a:lnTo>
                  <a:lnTo>
                    <a:pt x="1206" y="140"/>
                  </a:lnTo>
                  <a:lnTo>
                    <a:pt x="1082" y="126"/>
                  </a:lnTo>
                  <a:lnTo>
                    <a:pt x="1082" y="126"/>
                  </a:lnTo>
                  <a:lnTo>
                    <a:pt x="1060" y="126"/>
                  </a:lnTo>
                  <a:lnTo>
                    <a:pt x="1040" y="130"/>
                  </a:lnTo>
                  <a:lnTo>
                    <a:pt x="1022" y="138"/>
                  </a:lnTo>
                  <a:lnTo>
                    <a:pt x="1006" y="150"/>
                  </a:lnTo>
                  <a:lnTo>
                    <a:pt x="1006" y="150"/>
                  </a:lnTo>
                  <a:lnTo>
                    <a:pt x="994" y="160"/>
                  </a:lnTo>
                  <a:lnTo>
                    <a:pt x="986" y="174"/>
                  </a:lnTo>
                  <a:lnTo>
                    <a:pt x="898" y="174"/>
                  </a:lnTo>
                  <a:lnTo>
                    <a:pt x="898" y="174"/>
                  </a:lnTo>
                  <a:lnTo>
                    <a:pt x="902" y="156"/>
                  </a:lnTo>
                  <a:lnTo>
                    <a:pt x="904" y="138"/>
                  </a:lnTo>
                  <a:lnTo>
                    <a:pt x="904" y="138"/>
                  </a:lnTo>
                  <a:lnTo>
                    <a:pt x="902" y="128"/>
                  </a:lnTo>
                  <a:lnTo>
                    <a:pt x="900" y="114"/>
                  </a:lnTo>
                  <a:lnTo>
                    <a:pt x="896" y="94"/>
                  </a:lnTo>
                  <a:lnTo>
                    <a:pt x="886" y="76"/>
                  </a:lnTo>
                  <a:lnTo>
                    <a:pt x="878" y="66"/>
                  </a:lnTo>
                  <a:lnTo>
                    <a:pt x="870" y="56"/>
                  </a:lnTo>
                  <a:lnTo>
                    <a:pt x="860" y="46"/>
                  </a:lnTo>
                  <a:lnTo>
                    <a:pt x="848" y="38"/>
                  </a:lnTo>
                  <a:lnTo>
                    <a:pt x="834" y="32"/>
                  </a:lnTo>
                  <a:lnTo>
                    <a:pt x="816" y="26"/>
                  </a:lnTo>
                  <a:lnTo>
                    <a:pt x="798" y="22"/>
                  </a:lnTo>
                  <a:lnTo>
                    <a:pt x="776" y="18"/>
                  </a:lnTo>
                  <a:lnTo>
                    <a:pt x="508" y="0"/>
                  </a:lnTo>
                  <a:lnTo>
                    <a:pt x="508" y="0"/>
                  </a:lnTo>
                  <a:lnTo>
                    <a:pt x="488" y="0"/>
                  </a:lnTo>
                  <a:lnTo>
                    <a:pt x="468" y="4"/>
                  </a:lnTo>
                  <a:lnTo>
                    <a:pt x="452" y="12"/>
                  </a:lnTo>
                  <a:lnTo>
                    <a:pt x="436" y="24"/>
                  </a:lnTo>
                  <a:lnTo>
                    <a:pt x="436" y="24"/>
                  </a:lnTo>
                  <a:lnTo>
                    <a:pt x="422" y="40"/>
                  </a:lnTo>
                  <a:lnTo>
                    <a:pt x="412" y="56"/>
                  </a:lnTo>
                  <a:lnTo>
                    <a:pt x="406" y="76"/>
                  </a:lnTo>
                  <a:lnTo>
                    <a:pt x="404" y="96"/>
                  </a:lnTo>
                  <a:lnTo>
                    <a:pt x="404" y="174"/>
                  </a:lnTo>
                  <a:lnTo>
                    <a:pt x="210" y="174"/>
                  </a:lnTo>
                  <a:lnTo>
                    <a:pt x="210" y="174"/>
                  </a:lnTo>
                  <a:lnTo>
                    <a:pt x="190" y="174"/>
                  </a:lnTo>
                  <a:lnTo>
                    <a:pt x="172" y="180"/>
                  </a:lnTo>
                  <a:lnTo>
                    <a:pt x="156" y="190"/>
                  </a:lnTo>
                  <a:lnTo>
                    <a:pt x="142" y="202"/>
                  </a:lnTo>
                  <a:lnTo>
                    <a:pt x="130" y="216"/>
                  </a:lnTo>
                  <a:lnTo>
                    <a:pt x="122" y="232"/>
                  </a:lnTo>
                  <a:lnTo>
                    <a:pt x="116" y="250"/>
                  </a:lnTo>
                  <a:lnTo>
                    <a:pt x="114" y="270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6" y="508"/>
                  </a:lnTo>
                  <a:lnTo>
                    <a:pt x="122" y="526"/>
                  </a:lnTo>
                  <a:lnTo>
                    <a:pt x="130" y="542"/>
                  </a:lnTo>
                  <a:lnTo>
                    <a:pt x="142" y="556"/>
                  </a:lnTo>
                  <a:lnTo>
                    <a:pt x="156" y="568"/>
                  </a:lnTo>
                  <a:lnTo>
                    <a:pt x="172" y="578"/>
                  </a:lnTo>
                  <a:lnTo>
                    <a:pt x="190" y="582"/>
                  </a:lnTo>
                  <a:lnTo>
                    <a:pt x="210" y="584"/>
                  </a:lnTo>
                  <a:lnTo>
                    <a:pt x="224" y="584"/>
                  </a:lnTo>
                  <a:lnTo>
                    <a:pt x="224" y="586"/>
                  </a:lnTo>
                  <a:lnTo>
                    <a:pt x="152" y="586"/>
                  </a:lnTo>
                  <a:lnTo>
                    <a:pt x="152" y="586"/>
                  </a:lnTo>
                  <a:lnTo>
                    <a:pt x="132" y="588"/>
                  </a:lnTo>
                  <a:lnTo>
                    <a:pt x="114" y="592"/>
                  </a:lnTo>
                  <a:lnTo>
                    <a:pt x="98" y="602"/>
                  </a:lnTo>
                  <a:lnTo>
                    <a:pt x="84" y="614"/>
                  </a:lnTo>
                  <a:lnTo>
                    <a:pt x="72" y="628"/>
                  </a:lnTo>
                  <a:lnTo>
                    <a:pt x="64" y="644"/>
                  </a:lnTo>
                  <a:lnTo>
                    <a:pt x="58" y="662"/>
                  </a:lnTo>
                  <a:lnTo>
                    <a:pt x="56" y="682"/>
                  </a:lnTo>
                  <a:lnTo>
                    <a:pt x="56" y="904"/>
                  </a:lnTo>
                  <a:lnTo>
                    <a:pt x="56" y="904"/>
                  </a:lnTo>
                  <a:lnTo>
                    <a:pt x="58" y="924"/>
                  </a:lnTo>
                  <a:lnTo>
                    <a:pt x="64" y="942"/>
                  </a:lnTo>
                  <a:lnTo>
                    <a:pt x="72" y="958"/>
                  </a:lnTo>
                  <a:lnTo>
                    <a:pt x="84" y="972"/>
                  </a:lnTo>
                  <a:lnTo>
                    <a:pt x="84" y="972"/>
                  </a:lnTo>
                  <a:lnTo>
                    <a:pt x="80" y="984"/>
                  </a:lnTo>
                  <a:lnTo>
                    <a:pt x="80" y="998"/>
                  </a:lnTo>
                  <a:lnTo>
                    <a:pt x="80" y="1238"/>
                  </a:lnTo>
                  <a:lnTo>
                    <a:pt x="80" y="1238"/>
                  </a:lnTo>
                  <a:lnTo>
                    <a:pt x="82" y="1258"/>
                  </a:lnTo>
                  <a:lnTo>
                    <a:pt x="88" y="1276"/>
                  </a:lnTo>
                  <a:lnTo>
                    <a:pt x="96" y="1292"/>
                  </a:lnTo>
                  <a:lnTo>
                    <a:pt x="108" y="1308"/>
                  </a:lnTo>
                  <a:lnTo>
                    <a:pt x="122" y="1318"/>
                  </a:lnTo>
                  <a:lnTo>
                    <a:pt x="140" y="1328"/>
                  </a:lnTo>
                  <a:lnTo>
                    <a:pt x="158" y="1334"/>
                  </a:lnTo>
                  <a:lnTo>
                    <a:pt x="176" y="1336"/>
                  </a:lnTo>
                  <a:lnTo>
                    <a:pt x="214" y="1336"/>
                  </a:lnTo>
                  <a:lnTo>
                    <a:pt x="214" y="1336"/>
                  </a:lnTo>
                  <a:lnTo>
                    <a:pt x="178" y="1386"/>
                  </a:lnTo>
                  <a:lnTo>
                    <a:pt x="136" y="1438"/>
                  </a:lnTo>
                  <a:lnTo>
                    <a:pt x="86" y="1494"/>
                  </a:lnTo>
                  <a:lnTo>
                    <a:pt x="30" y="1550"/>
                  </a:lnTo>
                  <a:lnTo>
                    <a:pt x="30" y="1550"/>
                  </a:lnTo>
                  <a:lnTo>
                    <a:pt x="22" y="1560"/>
                  </a:lnTo>
                  <a:lnTo>
                    <a:pt x="14" y="1570"/>
                  </a:lnTo>
                  <a:lnTo>
                    <a:pt x="8" y="1580"/>
                  </a:lnTo>
                  <a:lnTo>
                    <a:pt x="4" y="1590"/>
                  </a:lnTo>
                  <a:lnTo>
                    <a:pt x="2" y="1602"/>
                  </a:lnTo>
                  <a:lnTo>
                    <a:pt x="0" y="1614"/>
                  </a:lnTo>
                  <a:lnTo>
                    <a:pt x="0" y="1626"/>
                  </a:lnTo>
                  <a:lnTo>
                    <a:pt x="2" y="1638"/>
                  </a:lnTo>
                  <a:lnTo>
                    <a:pt x="2" y="1638"/>
                  </a:lnTo>
                  <a:lnTo>
                    <a:pt x="4" y="1650"/>
                  </a:lnTo>
                  <a:lnTo>
                    <a:pt x="8" y="1660"/>
                  </a:lnTo>
                  <a:lnTo>
                    <a:pt x="14" y="1670"/>
                  </a:lnTo>
                  <a:lnTo>
                    <a:pt x="22" y="1680"/>
                  </a:lnTo>
                  <a:lnTo>
                    <a:pt x="28" y="1690"/>
                  </a:lnTo>
                  <a:lnTo>
                    <a:pt x="38" y="1696"/>
                  </a:lnTo>
                  <a:lnTo>
                    <a:pt x="48" y="1704"/>
                  </a:lnTo>
                  <a:lnTo>
                    <a:pt x="58" y="1708"/>
                  </a:lnTo>
                  <a:lnTo>
                    <a:pt x="58" y="1708"/>
                  </a:lnTo>
                  <a:lnTo>
                    <a:pt x="122" y="1738"/>
                  </a:lnTo>
                  <a:lnTo>
                    <a:pt x="148" y="1750"/>
                  </a:lnTo>
                  <a:lnTo>
                    <a:pt x="172" y="1764"/>
                  </a:lnTo>
                  <a:lnTo>
                    <a:pt x="194" y="1778"/>
                  </a:lnTo>
                  <a:lnTo>
                    <a:pt x="214" y="1792"/>
                  </a:lnTo>
                  <a:lnTo>
                    <a:pt x="256" y="1828"/>
                  </a:lnTo>
                  <a:lnTo>
                    <a:pt x="256" y="1828"/>
                  </a:lnTo>
                  <a:lnTo>
                    <a:pt x="270" y="1838"/>
                  </a:lnTo>
                  <a:lnTo>
                    <a:pt x="286" y="1846"/>
                  </a:lnTo>
                  <a:lnTo>
                    <a:pt x="302" y="1850"/>
                  </a:lnTo>
                  <a:lnTo>
                    <a:pt x="320" y="1852"/>
                  </a:lnTo>
                  <a:lnTo>
                    <a:pt x="338" y="1850"/>
                  </a:lnTo>
                  <a:lnTo>
                    <a:pt x="354" y="1846"/>
                  </a:lnTo>
                  <a:lnTo>
                    <a:pt x="370" y="1838"/>
                  </a:lnTo>
                  <a:lnTo>
                    <a:pt x="384" y="1828"/>
                  </a:lnTo>
                  <a:lnTo>
                    <a:pt x="384" y="1878"/>
                  </a:lnTo>
                  <a:lnTo>
                    <a:pt x="384" y="1878"/>
                  </a:lnTo>
                  <a:lnTo>
                    <a:pt x="386" y="1896"/>
                  </a:lnTo>
                  <a:lnTo>
                    <a:pt x="392" y="1914"/>
                  </a:lnTo>
                  <a:lnTo>
                    <a:pt x="400" y="1932"/>
                  </a:lnTo>
                  <a:lnTo>
                    <a:pt x="412" y="1946"/>
                  </a:lnTo>
                  <a:lnTo>
                    <a:pt x="426" y="1958"/>
                  </a:lnTo>
                  <a:lnTo>
                    <a:pt x="442" y="1966"/>
                  </a:lnTo>
                  <a:lnTo>
                    <a:pt x="462" y="1972"/>
                  </a:lnTo>
                  <a:lnTo>
                    <a:pt x="480" y="1974"/>
                  </a:lnTo>
                  <a:lnTo>
                    <a:pt x="740" y="1974"/>
                  </a:lnTo>
                  <a:lnTo>
                    <a:pt x="740" y="1974"/>
                  </a:lnTo>
                  <a:lnTo>
                    <a:pt x="758" y="1972"/>
                  </a:lnTo>
                  <a:lnTo>
                    <a:pt x="776" y="1966"/>
                  </a:lnTo>
                  <a:lnTo>
                    <a:pt x="792" y="1958"/>
                  </a:lnTo>
                  <a:lnTo>
                    <a:pt x="806" y="1948"/>
                  </a:lnTo>
                  <a:lnTo>
                    <a:pt x="818" y="1934"/>
                  </a:lnTo>
                  <a:lnTo>
                    <a:pt x="828" y="1918"/>
                  </a:lnTo>
                  <a:lnTo>
                    <a:pt x="834" y="1900"/>
                  </a:lnTo>
                  <a:lnTo>
                    <a:pt x="836" y="1882"/>
                  </a:lnTo>
                  <a:lnTo>
                    <a:pt x="836" y="1882"/>
                  </a:lnTo>
                  <a:lnTo>
                    <a:pt x="884" y="1898"/>
                  </a:lnTo>
                  <a:lnTo>
                    <a:pt x="928" y="1916"/>
                  </a:lnTo>
                  <a:lnTo>
                    <a:pt x="972" y="1940"/>
                  </a:lnTo>
                  <a:lnTo>
                    <a:pt x="1020" y="1966"/>
                  </a:lnTo>
                  <a:lnTo>
                    <a:pt x="1020" y="1966"/>
                  </a:lnTo>
                  <a:lnTo>
                    <a:pt x="1032" y="1972"/>
                  </a:lnTo>
                  <a:lnTo>
                    <a:pt x="1044" y="1976"/>
                  </a:lnTo>
                  <a:lnTo>
                    <a:pt x="1056" y="1978"/>
                  </a:lnTo>
                  <a:lnTo>
                    <a:pt x="1070" y="1980"/>
                  </a:lnTo>
                  <a:lnTo>
                    <a:pt x="1070" y="1980"/>
                  </a:lnTo>
                  <a:lnTo>
                    <a:pt x="1080" y="1980"/>
                  </a:lnTo>
                  <a:lnTo>
                    <a:pt x="1092" y="1978"/>
                  </a:lnTo>
                  <a:lnTo>
                    <a:pt x="1102" y="1974"/>
                  </a:lnTo>
                  <a:lnTo>
                    <a:pt x="1112" y="1970"/>
                  </a:lnTo>
                  <a:lnTo>
                    <a:pt x="1122" y="1966"/>
                  </a:lnTo>
                  <a:lnTo>
                    <a:pt x="1130" y="1958"/>
                  </a:lnTo>
                  <a:lnTo>
                    <a:pt x="1138" y="1952"/>
                  </a:lnTo>
                  <a:lnTo>
                    <a:pt x="1146" y="1942"/>
                  </a:lnTo>
                  <a:lnTo>
                    <a:pt x="1146" y="1942"/>
                  </a:lnTo>
                  <a:lnTo>
                    <a:pt x="1164" y="1918"/>
                  </a:lnTo>
                  <a:lnTo>
                    <a:pt x="1186" y="1886"/>
                  </a:lnTo>
                  <a:lnTo>
                    <a:pt x="1210" y="1848"/>
                  </a:lnTo>
                  <a:lnTo>
                    <a:pt x="1234" y="1806"/>
                  </a:lnTo>
                  <a:lnTo>
                    <a:pt x="1260" y="1756"/>
                  </a:lnTo>
                  <a:lnTo>
                    <a:pt x="1286" y="1698"/>
                  </a:lnTo>
                  <a:lnTo>
                    <a:pt x="1312" y="1636"/>
                  </a:lnTo>
                  <a:lnTo>
                    <a:pt x="1336" y="1566"/>
                  </a:lnTo>
                  <a:lnTo>
                    <a:pt x="1336" y="1878"/>
                  </a:lnTo>
                  <a:lnTo>
                    <a:pt x="1336" y="1878"/>
                  </a:lnTo>
                  <a:lnTo>
                    <a:pt x="1338" y="1896"/>
                  </a:lnTo>
                  <a:lnTo>
                    <a:pt x="1344" y="1914"/>
                  </a:lnTo>
                  <a:lnTo>
                    <a:pt x="1354" y="1932"/>
                  </a:lnTo>
                  <a:lnTo>
                    <a:pt x="1366" y="1946"/>
                  </a:lnTo>
                  <a:lnTo>
                    <a:pt x="1380" y="1958"/>
                  </a:lnTo>
                  <a:lnTo>
                    <a:pt x="1396" y="1966"/>
                  </a:lnTo>
                  <a:lnTo>
                    <a:pt x="1414" y="1972"/>
                  </a:lnTo>
                  <a:lnTo>
                    <a:pt x="1434" y="1974"/>
                  </a:lnTo>
                  <a:lnTo>
                    <a:pt x="1696" y="1974"/>
                  </a:lnTo>
                  <a:lnTo>
                    <a:pt x="1696" y="1974"/>
                  </a:lnTo>
                  <a:lnTo>
                    <a:pt x="1716" y="1972"/>
                  </a:lnTo>
                  <a:lnTo>
                    <a:pt x="1734" y="1966"/>
                  </a:lnTo>
                  <a:lnTo>
                    <a:pt x="1750" y="1958"/>
                  </a:lnTo>
                  <a:lnTo>
                    <a:pt x="1764" y="1946"/>
                  </a:lnTo>
                  <a:lnTo>
                    <a:pt x="1776" y="1932"/>
                  </a:lnTo>
                  <a:lnTo>
                    <a:pt x="1786" y="1914"/>
                  </a:lnTo>
                  <a:lnTo>
                    <a:pt x="1790" y="1896"/>
                  </a:lnTo>
                  <a:lnTo>
                    <a:pt x="1792" y="1878"/>
                  </a:lnTo>
                  <a:lnTo>
                    <a:pt x="1792" y="1016"/>
                  </a:lnTo>
                  <a:lnTo>
                    <a:pt x="1842" y="1016"/>
                  </a:lnTo>
                  <a:lnTo>
                    <a:pt x="1842" y="1016"/>
                  </a:lnTo>
                  <a:lnTo>
                    <a:pt x="1862" y="1014"/>
                  </a:lnTo>
                  <a:lnTo>
                    <a:pt x="1880" y="1008"/>
                  </a:lnTo>
                  <a:lnTo>
                    <a:pt x="1896" y="1000"/>
                  </a:lnTo>
                  <a:lnTo>
                    <a:pt x="1910" y="988"/>
                  </a:lnTo>
                  <a:lnTo>
                    <a:pt x="1922" y="974"/>
                  </a:lnTo>
                  <a:lnTo>
                    <a:pt x="1930" y="958"/>
                  </a:lnTo>
                  <a:lnTo>
                    <a:pt x="1936" y="940"/>
                  </a:lnTo>
                  <a:lnTo>
                    <a:pt x="1938" y="920"/>
                  </a:lnTo>
                  <a:lnTo>
                    <a:pt x="1938" y="662"/>
                  </a:lnTo>
                  <a:lnTo>
                    <a:pt x="1938" y="662"/>
                  </a:lnTo>
                  <a:lnTo>
                    <a:pt x="1936" y="642"/>
                  </a:lnTo>
                  <a:lnTo>
                    <a:pt x="1930" y="624"/>
                  </a:lnTo>
                  <a:lnTo>
                    <a:pt x="1922" y="608"/>
                  </a:lnTo>
                  <a:lnTo>
                    <a:pt x="1910" y="594"/>
                  </a:lnTo>
                  <a:lnTo>
                    <a:pt x="1896" y="582"/>
                  </a:lnTo>
                  <a:lnTo>
                    <a:pt x="1880" y="574"/>
                  </a:lnTo>
                  <a:lnTo>
                    <a:pt x="1862" y="568"/>
                  </a:lnTo>
                  <a:lnTo>
                    <a:pt x="1842" y="566"/>
                  </a:lnTo>
                  <a:lnTo>
                    <a:pt x="1432" y="566"/>
                  </a:lnTo>
                  <a:lnTo>
                    <a:pt x="1432" y="532"/>
                  </a:lnTo>
                  <a:lnTo>
                    <a:pt x="1432" y="532"/>
                  </a:lnTo>
                  <a:lnTo>
                    <a:pt x="1480" y="526"/>
                  </a:lnTo>
                  <a:lnTo>
                    <a:pt x="1528" y="520"/>
                  </a:lnTo>
                  <a:lnTo>
                    <a:pt x="1572" y="512"/>
                  </a:lnTo>
                  <a:lnTo>
                    <a:pt x="1616" y="504"/>
                  </a:lnTo>
                  <a:lnTo>
                    <a:pt x="1702" y="482"/>
                  </a:lnTo>
                  <a:lnTo>
                    <a:pt x="1786" y="458"/>
                  </a:lnTo>
                  <a:lnTo>
                    <a:pt x="1786" y="458"/>
                  </a:lnTo>
                  <a:close/>
                </a:path>
              </a:pathLst>
            </a:custGeom>
            <a:solidFill>
              <a:srgbClr val="76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5273640" y="1647720"/>
              <a:ext cx="3141720" cy="3216600"/>
            </a:xfrm>
            <a:custGeom>
              <a:avLst/>
              <a:gdLst>
                <a:gd name="textAreaLeft" fmla="*/ 0 w 3141720"/>
                <a:gd name="textAreaRight" fmla="*/ 3142080 w 3141720"/>
                <a:gd name="textAreaTop" fmla="*/ 0 h 3216600"/>
                <a:gd name="textAreaBottom" fmla="*/ 3216960 h 3216600"/>
              </a:gdLst>
              <a:ahLst/>
              <a:rect l="textAreaLeft" t="textAreaTop" r="textAreaRight" b="textAreaBottom"/>
              <a:pathLst>
                <a:path w="1979" h="2026">
                  <a:moveTo>
                    <a:pt x="1901" y="1170"/>
                  </a:moveTo>
                  <a:lnTo>
                    <a:pt x="1901" y="1170"/>
                  </a:lnTo>
                  <a:lnTo>
                    <a:pt x="1911" y="1158"/>
                  </a:lnTo>
                  <a:lnTo>
                    <a:pt x="1919" y="1142"/>
                  </a:lnTo>
                  <a:lnTo>
                    <a:pt x="1925" y="1124"/>
                  </a:lnTo>
                  <a:lnTo>
                    <a:pt x="1927" y="1106"/>
                  </a:lnTo>
                  <a:lnTo>
                    <a:pt x="1927" y="864"/>
                  </a:lnTo>
                  <a:lnTo>
                    <a:pt x="1927" y="864"/>
                  </a:lnTo>
                  <a:lnTo>
                    <a:pt x="1925" y="850"/>
                  </a:lnTo>
                  <a:lnTo>
                    <a:pt x="1921" y="836"/>
                  </a:lnTo>
                  <a:lnTo>
                    <a:pt x="1917" y="822"/>
                  </a:lnTo>
                  <a:lnTo>
                    <a:pt x="1909" y="810"/>
                  </a:lnTo>
                  <a:lnTo>
                    <a:pt x="1909" y="810"/>
                  </a:lnTo>
                  <a:lnTo>
                    <a:pt x="1919" y="804"/>
                  </a:lnTo>
                  <a:lnTo>
                    <a:pt x="1929" y="796"/>
                  </a:lnTo>
                  <a:lnTo>
                    <a:pt x="1939" y="786"/>
                  </a:lnTo>
                  <a:lnTo>
                    <a:pt x="1945" y="776"/>
                  </a:lnTo>
                  <a:lnTo>
                    <a:pt x="1951" y="764"/>
                  </a:lnTo>
                  <a:lnTo>
                    <a:pt x="1955" y="752"/>
                  </a:lnTo>
                  <a:lnTo>
                    <a:pt x="1959" y="740"/>
                  </a:lnTo>
                  <a:lnTo>
                    <a:pt x="1959" y="726"/>
                  </a:lnTo>
                  <a:lnTo>
                    <a:pt x="1959" y="498"/>
                  </a:lnTo>
                  <a:lnTo>
                    <a:pt x="1959" y="498"/>
                  </a:lnTo>
                  <a:lnTo>
                    <a:pt x="1957" y="480"/>
                  </a:lnTo>
                  <a:lnTo>
                    <a:pt x="1953" y="462"/>
                  </a:lnTo>
                  <a:lnTo>
                    <a:pt x="1945" y="446"/>
                  </a:lnTo>
                  <a:lnTo>
                    <a:pt x="1935" y="434"/>
                  </a:lnTo>
                  <a:lnTo>
                    <a:pt x="1923" y="422"/>
                  </a:lnTo>
                  <a:lnTo>
                    <a:pt x="1909" y="412"/>
                  </a:lnTo>
                  <a:lnTo>
                    <a:pt x="1893" y="406"/>
                  </a:lnTo>
                  <a:lnTo>
                    <a:pt x="1875" y="402"/>
                  </a:lnTo>
                  <a:lnTo>
                    <a:pt x="1875" y="402"/>
                  </a:lnTo>
                  <a:lnTo>
                    <a:pt x="1899" y="348"/>
                  </a:lnTo>
                  <a:lnTo>
                    <a:pt x="1899" y="348"/>
                  </a:lnTo>
                  <a:lnTo>
                    <a:pt x="1913" y="342"/>
                  </a:lnTo>
                  <a:lnTo>
                    <a:pt x="1913" y="342"/>
                  </a:lnTo>
                  <a:lnTo>
                    <a:pt x="1927" y="332"/>
                  </a:lnTo>
                  <a:lnTo>
                    <a:pt x="1939" y="320"/>
                  </a:lnTo>
                  <a:lnTo>
                    <a:pt x="1949" y="308"/>
                  </a:lnTo>
                  <a:lnTo>
                    <a:pt x="1959" y="296"/>
                  </a:lnTo>
                  <a:lnTo>
                    <a:pt x="1965" y="280"/>
                  </a:lnTo>
                  <a:lnTo>
                    <a:pt x="1971" y="266"/>
                  </a:lnTo>
                  <a:lnTo>
                    <a:pt x="1973" y="250"/>
                  </a:lnTo>
                  <a:lnTo>
                    <a:pt x="1975" y="232"/>
                  </a:lnTo>
                  <a:lnTo>
                    <a:pt x="1975" y="232"/>
                  </a:lnTo>
                  <a:lnTo>
                    <a:pt x="1973" y="214"/>
                  </a:lnTo>
                  <a:lnTo>
                    <a:pt x="1969" y="196"/>
                  </a:lnTo>
                  <a:lnTo>
                    <a:pt x="1961" y="178"/>
                  </a:lnTo>
                  <a:lnTo>
                    <a:pt x="1951" y="162"/>
                  </a:lnTo>
                  <a:lnTo>
                    <a:pt x="1939" y="148"/>
                  </a:lnTo>
                  <a:lnTo>
                    <a:pt x="1923" y="136"/>
                  </a:lnTo>
                  <a:lnTo>
                    <a:pt x="1907" y="124"/>
                  </a:lnTo>
                  <a:lnTo>
                    <a:pt x="1887" y="116"/>
                  </a:lnTo>
                  <a:lnTo>
                    <a:pt x="1887" y="116"/>
                  </a:lnTo>
                  <a:lnTo>
                    <a:pt x="1881" y="114"/>
                  </a:lnTo>
                  <a:lnTo>
                    <a:pt x="1623" y="28"/>
                  </a:lnTo>
                  <a:lnTo>
                    <a:pt x="1623" y="28"/>
                  </a:lnTo>
                  <a:lnTo>
                    <a:pt x="1603" y="24"/>
                  </a:lnTo>
                  <a:lnTo>
                    <a:pt x="1585" y="24"/>
                  </a:lnTo>
                  <a:lnTo>
                    <a:pt x="1565" y="28"/>
                  </a:lnTo>
                  <a:lnTo>
                    <a:pt x="1547" y="34"/>
                  </a:lnTo>
                  <a:lnTo>
                    <a:pt x="1547" y="34"/>
                  </a:lnTo>
                  <a:lnTo>
                    <a:pt x="1531" y="46"/>
                  </a:lnTo>
                  <a:lnTo>
                    <a:pt x="1517" y="60"/>
                  </a:lnTo>
                  <a:lnTo>
                    <a:pt x="1507" y="76"/>
                  </a:lnTo>
                  <a:lnTo>
                    <a:pt x="1499" y="94"/>
                  </a:lnTo>
                  <a:lnTo>
                    <a:pt x="1499" y="94"/>
                  </a:lnTo>
                  <a:lnTo>
                    <a:pt x="1487" y="132"/>
                  </a:lnTo>
                  <a:lnTo>
                    <a:pt x="1475" y="172"/>
                  </a:lnTo>
                  <a:lnTo>
                    <a:pt x="1457" y="216"/>
                  </a:lnTo>
                  <a:lnTo>
                    <a:pt x="1439" y="262"/>
                  </a:lnTo>
                  <a:lnTo>
                    <a:pt x="1439" y="262"/>
                  </a:lnTo>
                  <a:lnTo>
                    <a:pt x="1409" y="214"/>
                  </a:lnTo>
                  <a:lnTo>
                    <a:pt x="1371" y="162"/>
                  </a:lnTo>
                  <a:lnTo>
                    <a:pt x="1329" y="108"/>
                  </a:lnTo>
                  <a:lnTo>
                    <a:pt x="1277" y="50"/>
                  </a:lnTo>
                  <a:lnTo>
                    <a:pt x="1277" y="50"/>
                  </a:lnTo>
                  <a:lnTo>
                    <a:pt x="1265" y="40"/>
                  </a:lnTo>
                  <a:lnTo>
                    <a:pt x="1251" y="30"/>
                  </a:lnTo>
                  <a:lnTo>
                    <a:pt x="1237" y="24"/>
                  </a:lnTo>
                  <a:lnTo>
                    <a:pt x="1223" y="20"/>
                  </a:lnTo>
                  <a:lnTo>
                    <a:pt x="1207" y="20"/>
                  </a:lnTo>
                  <a:lnTo>
                    <a:pt x="1191" y="20"/>
                  </a:lnTo>
                  <a:lnTo>
                    <a:pt x="1175" y="24"/>
                  </a:lnTo>
                  <a:lnTo>
                    <a:pt x="1161" y="32"/>
                  </a:lnTo>
                  <a:lnTo>
                    <a:pt x="937" y="150"/>
                  </a:lnTo>
                  <a:lnTo>
                    <a:pt x="937" y="150"/>
                  </a:lnTo>
                  <a:lnTo>
                    <a:pt x="927" y="158"/>
                  </a:lnTo>
                  <a:lnTo>
                    <a:pt x="917" y="166"/>
                  </a:lnTo>
                  <a:lnTo>
                    <a:pt x="917" y="166"/>
                  </a:lnTo>
                  <a:lnTo>
                    <a:pt x="897" y="160"/>
                  </a:lnTo>
                  <a:lnTo>
                    <a:pt x="885" y="158"/>
                  </a:lnTo>
                  <a:lnTo>
                    <a:pt x="875" y="156"/>
                  </a:lnTo>
                  <a:lnTo>
                    <a:pt x="805" y="156"/>
                  </a:lnTo>
                  <a:lnTo>
                    <a:pt x="805" y="156"/>
                  </a:lnTo>
                  <a:lnTo>
                    <a:pt x="799" y="146"/>
                  </a:lnTo>
                  <a:lnTo>
                    <a:pt x="793" y="134"/>
                  </a:lnTo>
                  <a:lnTo>
                    <a:pt x="785" y="124"/>
                  </a:lnTo>
                  <a:lnTo>
                    <a:pt x="775" y="116"/>
                  </a:lnTo>
                  <a:lnTo>
                    <a:pt x="765" y="108"/>
                  </a:lnTo>
                  <a:lnTo>
                    <a:pt x="753" y="100"/>
                  </a:lnTo>
                  <a:lnTo>
                    <a:pt x="741" y="94"/>
                  </a:lnTo>
                  <a:lnTo>
                    <a:pt x="729" y="88"/>
                  </a:lnTo>
                  <a:lnTo>
                    <a:pt x="727" y="88"/>
                  </a:lnTo>
                  <a:lnTo>
                    <a:pt x="471" y="4"/>
                  </a:lnTo>
                  <a:lnTo>
                    <a:pt x="471" y="4"/>
                  </a:lnTo>
                  <a:lnTo>
                    <a:pt x="451" y="0"/>
                  </a:lnTo>
                  <a:lnTo>
                    <a:pt x="429" y="0"/>
                  </a:lnTo>
                  <a:lnTo>
                    <a:pt x="409" y="6"/>
                  </a:lnTo>
                  <a:lnTo>
                    <a:pt x="391" y="14"/>
                  </a:lnTo>
                  <a:lnTo>
                    <a:pt x="391" y="14"/>
                  </a:lnTo>
                  <a:lnTo>
                    <a:pt x="375" y="24"/>
                  </a:lnTo>
                  <a:lnTo>
                    <a:pt x="363" y="38"/>
                  </a:lnTo>
                  <a:lnTo>
                    <a:pt x="353" y="54"/>
                  </a:lnTo>
                  <a:lnTo>
                    <a:pt x="347" y="72"/>
                  </a:lnTo>
                  <a:lnTo>
                    <a:pt x="347" y="72"/>
                  </a:lnTo>
                  <a:lnTo>
                    <a:pt x="341" y="86"/>
                  </a:lnTo>
                  <a:lnTo>
                    <a:pt x="329" y="114"/>
                  </a:lnTo>
                  <a:lnTo>
                    <a:pt x="309" y="156"/>
                  </a:lnTo>
                  <a:lnTo>
                    <a:pt x="277" y="210"/>
                  </a:lnTo>
                  <a:lnTo>
                    <a:pt x="259" y="240"/>
                  </a:lnTo>
                  <a:lnTo>
                    <a:pt x="237" y="272"/>
                  </a:lnTo>
                  <a:lnTo>
                    <a:pt x="211" y="306"/>
                  </a:lnTo>
                  <a:lnTo>
                    <a:pt x="183" y="340"/>
                  </a:lnTo>
                  <a:lnTo>
                    <a:pt x="151" y="376"/>
                  </a:lnTo>
                  <a:lnTo>
                    <a:pt x="117" y="412"/>
                  </a:lnTo>
                  <a:lnTo>
                    <a:pt x="77" y="450"/>
                  </a:lnTo>
                  <a:lnTo>
                    <a:pt x="35" y="488"/>
                  </a:lnTo>
                  <a:lnTo>
                    <a:pt x="35" y="488"/>
                  </a:lnTo>
                  <a:lnTo>
                    <a:pt x="27" y="494"/>
                  </a:lnTo>
                  <a:lnTo>
                    <a:pt x="18" y="504"/>
                  </a:lnTo>
                  <a:lnTo>
                    <a:pt x="12" y="512"/>
                  </a:lnTo>
                  <a:lnTo>
                    <a:pt x="8" y="522"/>
                  </a:lnTo>
                  <a:lnTo>
                    <a:pt x="4" y="534"/>
                  </a:lnTo>
                  <a:lnTo>
                    <a:pt x="2" y="544"/>
                  </a:lnTo>
                  <a:lnTo>
                    <a:pt x="0" y="556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2" y="578"/>
                  </a:lnTo>
                  <a:lnTo>
                    <a:pt x="4" y="588"/>
                  </a:lnTo>
                  <a:lnTo>
                    <a:pt x="8" y="598"/>
                  </a:lnTo>
                  <a:lnTo>
                    <a:pt x="12" y="608"/>
                  </a:lnTo>
                  <a:lnTo>
                    <a:pt x="18" y="618"/>
                  </a:lnTo>
                  <a:lnTo>
                    <a:pt x="27" y="626"/>
                  </a:lnTo>
                  <a:lnTo>
                    <a:pt x="35" y="634"/>
                  </a:lnTo>
                  <a:lnTo>
                    <a:pt x="43" y="642"/>
                  </a:lnTo>
                  <a:lnTo>
                    <a:pt x="43" y="642"/>
                  </a:lnTo>
                  <a:lnTo>
                    <a:pt x="85" y="670"/>
                  </a:lnTo>
                  <a:lnTo>
                    <a:pt x="115" y="692"/>
                  </a:lnTo>
                  <a:lnTo>
                    <a:pt x="133" y="710"/>
                  </a:lnTo>
                  <a:lnTo>
                    <a:pt x="149" y="732"/>
                  </a:lnTo>
                  <a:lnTo>
                    <a:pt x="149" y="1374"/>
                  </a:lnTo>
                  <a:lnTo>
                    <a:pt x="149" y="1374"/>
                  </a:lnTo>
                  <a:lnTo>
                    <a:pt x="151" y="1384"/>
                  </a:lnTo>
                  <a:lnTo>
                    <a:pt x="151" y="1384"/>
                  </a:lnTo>
                  <a:lnTo>
                    <a:pt x="151" y="1388"/>
                  </a:lnTo>
                  <a:lnTo>
                    <a:pt x="151" y="1388"/>
                  </a:lnTo>
                  <a:lnTo>
                    <a:pt x="145" y="1438"/>
                  </a:lnTo>
                  <a:lnTo>
                    <a:pt x="135" y="1492"/>
                  </a:lnTo>
                  <a:lnTo>
                    <a:pt x="123" y="1550"/>
                  </a:lnTo>
                  <a:lnTo>
                    <a:pt x="107" y="1608"/>
                  </a:lnTo>
                  <a:lnTo>
                    <a:pt x="89" y="1664"/>
                  </a:lnTo>
                  <a:lnTo>
                    <a:pt x="69" y="1720"/>
                  </a:lnTo>
                  <a:lnTo>
                    <a:pt x="49" y="1772"/>
                  </a:lnTo>
                  <a:lnTo>
                    <a:pt x="27" y="1820"/>
                  </a:lnTo>
                  <a:lnTo>
                    <a:pt x="27" y="1820"/>
                  </a:lnTo>
                  <a:lnTo>
                    <a:pt x="20" y="1830"/>
                  </a:lnTo>
                  <a:lnTo>
                    <a:pt x="16" y="1842"/>
                  </a:lnTo>
                  <a:lnTo>
                    <a:pt x="16" y="1854"/>
                  </a:lnTo>
                  <a:lnTo>
                    <a:pt x="14" y="1866"/>
                  </a:lnTo>
                  <a:lnTo>
                    <a:pt x="16" y="1878"/>
                  </a:lnTo>
                  <a:lnTo>
                    <a:pt x="18" y="1890"/>
                  </a:lnTo>
                  <a:lnTo>
                    <a:pt x="22" y="1900"/>
                  </a:lnTo>
                  <a:lnTo>
                    <a:pt x="29" y="1912"/>
                  </a:lnTo>
                  <a:lnTo>
                    <a:pt x="29" y="1912"/>
                  </a:lnTo>
                  <a:lnTo>
                    <a:pt x="35" y="1922"/>
                  </a:lnTo>
                  <a:lnTo>
                    <a:pt x="43" y="1930"/>
                  </a:lnTo>
                  <a:lnTo>
                    <a:pt x="53" y="1938"/>
                  </a:lnTo>
                  <a:lnTo>
                    <a:pt x="63" y="1946"/>
                  </a:lnTo>
                  <a:lnTo>
                    <a:pt x="73" y="1952"/>
                  </a:lnTo>
                  <a:lnTo>
                    <a:pt x="83" y="1956"/>
                  </a:lnTo>
                  <a:lnTo>
                    <a:pt x="95" y="1958"/>
                  </a:lnTo>
                  <a:lnTo>
                    <a:pt x="107" y="1960"/>
                  </a:lnTo>
                  <a:lnTo>
                    <a:pt x="107" y="1960"/>
                  </a:lnTo>
                  <a:lnTo>
                    <a:pt x="129" y="1962"/>
                  </a:lnTo>
                  <a:lnTo>
                    <a:pt x="151" y="1964"/>
                  </a:lnTo>
                  <a:lnTo>
                    <a:pt x="171" y="1968"/>
                  </a:lnTo>
                  <a:lnTo>
                    <a:pt x="193" y="1974"/>
                  </a:lnTo>
                  <a:lnTo>
                    <a:pt x="215" y="1982"/>
                  </a:lnTo>
                  <a:lnTo>
                    <a:pt x="237" y="1990"/>
                  </a:lnTo>
                  <a:lnTo>
                    <a:pt x="285" y="2014"/>
                  </a:lnTo>
                  <a:lnTo>
                    <a:pt x="285" y="2014"/>
                  </a:lnTo>
                  <a:lnTo>
                    <a:pt x="295" y="2020"/>
                  </a:lnTo>
                  <a:lnTo>
                    <a:pt x="307" y="2022"/>
                  </a:lnTo>
                  <a:lnTo>
                    <a:pt x="319" y="2024"/>
                  </a:lnTo>
                  <a:lnTo>
                    <a:pt x="331" y="2026"/>
                  </a:lnTo>
                  <a:lnTo>
                    <a:pt x="331" y="2026"/>
                  </a:lnTo>
                  <a:lnTo>
                    <a:pt x="349" y="2024"/>
                  </a:lnTo>
                  <a:lnTo>
                    <a:pt x="367" y="2018"/>
                  </a:lnTo>
                  <a:lnTo>
                    <a:pt x="367" y="2018"/>
                  </a:lnTo>
                  <a:lnTo>
                    <a:pt x="385" y="2008"/>
                  </a:lnTo>
                  <a:lnTo>
                    <a:pt x="401" y="1996"/>
                  </a:lnTo>
                  <a:lnTo>
                    <a:pt x="413" y="1978"/>
                  </a:lnTo>
                  <a:lnTo>
                    <a:pt x="421" y="1960"/>
                  </a:lnTo>
                  <a:lnTo>
                    <a:pt x="421" y="1960"/>
                  </a:lnTo>
                  <a:lnTo>
                    <a:pt x="425" y="1952"/>
                  </a:lnTo>
                  <a:lnTo>
                    <a:pt x="425" y="1952"/>
                  </a:lnTo>
                  <a:lnTo>
                    <a:pt x="437" y="1954"/>
                  </a:lnTo>
                  <a:lnTo>
                    <a:pt x="447" y="1954"/>
                  </a:lnTo>
                  <a:lnTo>
                    <a:pt x="459" y="1952"/>
                  </a:lnTo>
                  <a:lnTo>
                    <a:pt x="471" y="1950"/>
                  </a:lnTo>
                  <a:lnTo>
                    <a:pt x="471" y="1950"/>
                  </a:lnTo>
                  <a:lnTo>
                    <a:pt x="497" y="1942"/>
                  </a:lnTo>
                  <a:lnTo>
                    <a:pt x="521" y="1938"/>
                  </a:lnTo>
                  <a:lnTo>
                    <a:pt x="545" y="1936"/>
                  </a:lnTo>
                  <a:lnTo>
                    <a:pt x="573" y="1936"/>
                  </a:lnTo>
                  <a:lnTo>
                    <a:pt x="573" y="1936"/>
                  </a:lnTo>
                  <a:lnTo>
                    <a:pt x="625" y="1936"/>
                  </a:lnTo>
                  <a:lnTo>
                    <a:pt x="625" y="1936"/>
                  </a:lnTo>
                  <a:lnTo>
                    <a:pt x="643" y="1936"/>
                  </a:lnTo>
                  <a:lnTo>
                    <a:pt x="643" y="1936"/>
                  </a:lnTo>
                  <a:lnTo>
                    <a:pt x="657" y="1938"/>
                  </a:lnTo>
                  <a:lnTo>
                    <a:pt x="671" y="1940"/>
                  </a:lnTo>
                  <a:lnTo>
                    <a:pt x="687" y="1940"/>
                  </a:lnTo>
                  <a:lnTo>
                    <a:pt x="701" y="1936"/>
                  </a:lnTo>
                  <a:lnTo>
                    <a:pt x="701" y="1936"/>
                  </a:lnTo>
                  <a:lnTo>
                    <a:pt x="741" y="1926"/>
                  </a:lnTo>
                  <a:lnTo>
                    <a:pt x="775" y="1916"/>
                  </a:lnTo>
                  <a:lnTo>
                    <a:pt x="813" y="1910"/>
                  </a:lnTo>
                  <a:lnTo>
                    <a:pt x="855" y="1908"/>
                  </a:lnTo>
                  <a:lnTo>
                    <a:pt x="855" y="1908"/>
                  </a:lnTo>
                  <a:lnTo>
                    <a:pt x="871" y="1906"/>
                  </a:lnTo>
                  <a:lnTo>
                    <a:pt x="885" y="1902"/>
                  </a:lnTo>
                  <a:lnTo>
                    <a:pt x="885" y="1902"/>
                  </a:lnTo>
                  <a:lnTo>
                    <a:pt x="897" y="1902"/>
                  </a:lnTo>
                  <a:lnTo>
                    <a:pt x="909" y="1900"/>
                  </a:lnTo>
                  <a:lnTo>
                    <a:pt x="921" y="1898"/>
                  </a:lnTo>
                  <a:lnTo>
                    <a:pt x="931" y="1894"/>
                  </a:lnTo>
                  <a:lnTo>
                    <a:pt x="931" y="1894"/>
                  </a:lnTo>
                  <a:lnTo>
                    <a:pt x="963" y="1882"/>
                  </a:lnTo>
                  <a:lnTo>
                    <a:pt x="995" y="1872"/>
                  </a:lnTo>
                  <a:lnTo>
                    <a:pt x="1037" y="1860"/>
                  </a:lnTo>
                  <a:lnTo>
                    <a:pt x="1087" y="1850"/>
                  </a:lnTo>
                  <a:lnTo>
                    <a:pt x="1087" y="1850"/>
                  </a:lnTo>
                  <a:lnTo>
                    <a:pt x="1105" y="1844"/>
                  </a:lnTo>
                  <a:lnTo>
                    <a:pt x="1121" y="1836"/>
                  </a:lnTo>
                  <a:lnTo>
                    <a:pt x="1137" y="1824"/>
                  </a:lnTo>
                  <a:lnTo>
                    <a:pt x="1149" y="1810"/>
                  </a:lnTo>
                  <a:lnTo>
                    <a:pt x="1157" y="1794"/>
                  </a:lnTo>
                  <a:lnTo>
                    <a:pt x="1163" y="1776"/>
                  </a:lnTo>
                  <a:lnTo>
                    <a:pt x="1165" y="1758"/>
                  </a:lnTo>
                  <a:lnTo>
                    <a:pt x="1163" y="1738"/>
                  </a:lnTo>
                  <a:lnTo>
                    <a:pt x="1163" y="1738"/>
                  </a:lnTo>
                  <a:lnTo>
                    <a:pt x="1151" y="1674"/>
                  </a:lnTo>
                  <a:lnTo>
                    <a:pt x="1135" y="1602"/>
                  </a:lnTo>
                  <a:lnTo>
                    <a:pt x="1221" y="1602"/>
                  </a:lnTo>
                  <a:lnTo>
                    <a:pt x="1221" y="1912"/>
                  </a:lnTo>
                  <a:lnTo>
                    <a:pt x="1221" y="1912"/>
                  </a:lnTo>
                  <a:lnTo>
                    <a:pt x="1223" y="1930"/>
                  </a:lnTo>
                  <a:lnTo>
                    <a:pt x="1229" y="1950"/>
                  </a:lnTo>
                  <a:lnTo>
                    <a:pt x="1239" y="1966"/>
                  </a:lnTo>
                  <a:lnTo>
                    <a:pt x="1251" y="1980"/>
                  </a:lnTo>
                  <a:lnTo>
                    <a:pt x="1265" y="1992"/>
                  </a:lnTo>
                  <a:lnTo>
                    <a:pt x="1281" y="2000"/>
                  </a:lnTo>
                  <a:lnTo>
                    <a:pt x="1299" y="2006"/>
                  </a:lnTo>
                  <a:lnTo>
                    <a:pt x="1319" y="2008"/>
                  </a:lnTo>
                  <a:lnTo>
                    <a:pt x="1581" y="2008"/>
                  </a:lnTo>
                  <a:lnTo>
                    <a:pt x="1581" y="2008"/>
                  </a:lnTo>
                  <a:lnTo>
                    <a:pt x="1601" y="2006"/>
                  </a:lnTo>
                  <a:lnTo>
                    <a:pt x="1619" y="2000"/>
                  </a:lnTo>
                  <a:lnTo>
                    <a:pt x="1635" y="1992"/>
                  </a:lnTo>
                  <a:lnTo>
                    <a:pt x="1649" y="1980"/>
                  </a:lnTo>
                  <a:lnTo>
                    <a:pt x="1661" y="1966"/>
                  </a:lnTo>
                  <a:lnTo>
                    <a:pt x="1671" y="1950"/>
                  </a:lnTo>
                  <a:lnTo>
                    <a:pt x="1677" y="1930"/>
                  </a:lnTo>
                  <a:lnTo>
                    <a:pt x="1679" y="1912"/>
                  </a:lnTo>
                  <a:lnTo>
                    <a:pt x="1679" y="1602"/>
                  </a:lnTo>
                  <a:lnTo>
                    <a:pt x="1881" y="1602"/>
                  </a:lnTo>
                  <a:lnTo>
                    <a:pt x="1881" y="1602"/>
                  </a:lnTo>
                  <a:lnTo>
                    <a:pt x="1901" y="1600"/>
                  </a:lnTo>
                  <a:lnTo>
                    <a:pt x="1919" y="1594"/>
                  </a:lnTo>
                  <a:lnTo>
                    <a:pt x="1935" y="1586"/>
                  </a:lnTo>
                  <a:lnTo>
                    <a:pt x="1949" y="1574"/>
                  </a:lnTo>
                  <a:lnTo>
                    <a:pt x="1961" y="1560"/>
                  </a:lnTo>
                  <a:lnTo>
                    <a:pt x="1971" y="1542"/>
                  </a:lnTo>
                  <a:lnTo>
                    <a:pt x="1977" y="1524"/>
                  </a:lnTo>
                  <a:lnTo>
                    <a:pt x="1979" y="1506"/>
                  </a:lnTo>
                  <a:lnTo>
                    <a:pt x="1979" y="1266"/>
                  </a:lnTo>
                  <a:lnTo>
                    <a:pt x="1979" y="1266"/>
                  </a:lnTo>
                  <a:lnTo>
                    <a:pt x="1977" y="1248"/>
                  </a:lnTo>
                  <a:lnTo>
                    <a:pt x="1973" y="1232"/>
                  </a:lnTo>
                  <a:lnTo>
                    <a:pt x="1965" y="1218"/>
                  </a:lnTo>
                  <a:lnTo>
                    <a:pt x="1957" y="1204"/>
                  </a:lnTo>
                  <a:lnTo>
                    <a:pt x="1945" y="1192"/>
                  </a:lnTo>
                  <a:lnTo>
                    <a:pt x="1933" y="1182"/>
                  </a:lnTo>
                  <a:lnTo>
                    <a:pt x="1917" y="1176"/>
                  </a:lnTo>
                  <a:lnTo>
                    <a:pt x="1901" y="1170"/>
                  </a:lnTo>
                  <a:lnTo>
                    <a:pt x="1901" y="1170"/>
                  </a:lnTo>
                  <a:close/>
                  <a:moveTo>
                    <a:pt x="347" y="74"/>
                  </a:moveTo>
                  <a:lnTo>
                    <a:pt x="347" y="74"/>
                  </a:lnTo>
                  <a:lnTo>
                    <a:pt x="345" y="78"/>
                  </a:lnTo>
                  <a:lnTo>
                    <a:pt x="345" y="78"/>
                  </a:lnTo>
                  <a:lnTo>
                    <a:pt x="347" y="74"/>
                  </a:lnTo>
                  <a:lnTo>
                    <a:pt x="347" y="74"/>
                  </a:lnTo>
                  <a:close/>
                </a:path>
              </a:pathLst>
            </a:custGeom>
            <a:solidFill>
              <a:srgbClr val="76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2101680" y="1863720"/>
              <a:ext cx="2825640" cy="2838600"/>
            </a:xfrm>
            <a:custGeom>
              <a:avLst/>
              <a:gdLst>
                <a:gd name="textAreaLeft" fmla="*/ 0 w 2825640"/>
                <a:gd name="textAreaRight" fmla="*/ 2826000 w 2825640"/>
                <a:gd name="textAreaTop" fmla="*/ 0 h 2838600"/>
                <a:gd name="textAreaBottom" fmla="*/ 2838960 h 2838600"/>
              </a:gdLst>
              <a:ahLst/>
              <a:rect l="textAreaLeft" t="textAreaTop" r="textAreaRight" b="textAreaBottom"/>
              <a:pathLst>
                <a:path w="1780" h="1788">
                  <a:moveTo>
                    <a:pt x="644" y="902"/>
                  </a:moveTo>
                  <a:lnTo>
                    <a:pt x="896" y="902"/>
                  </a:lnTo>
                  <a:lnTo>
                    <a:pt x="896" y="1142"/>
                  </a:lnTo>
                  <a:lnTo>
                    <a:pt x="700" y="1142"/>
                  </a:lnTo>
                  <a:lnTo>
                    <a:pt x="700" y="1142"/>
                  </a:lnTo>
                  <a:lnTo>
                    <a:pt x="736" y="1188"/>
                  </a:lnTo>
                  <a:lnTo>
                    <a:pt x="768" y="1228"/>
                  </a:lnTo>
                  <a:lnTo>
                    <a:pt x="796" y="1258"/>
                  </a:lnTo>
                  <a:lnTo>
                    <a:pt x="822" y="1284"/>
                  </a:lnTo>
                  <a:lnTo>
                    <a:pt x="844" y="1304"/>
                  </a:lnTo>
                  <a:lnTo>
                    <a:pt x="862" y="1318"/>
                  </a:lnTo>
                  <a:lnTo>
                    <a:pt x="888" y="1338"/>
                  </a:lnTo>
                  <a:lnTo>
                    <a:pt x="888" y="1338"/>
                  </a:lnTo>
                  <a:lnTo>
                    <a:pt x="858" y="1364"/>
                  </a:lnTo>
                  <a:lnTo>
                    <a:pt x="834" y="1384"/>
                  </a:lnTo>
                  <a:lnTo>
                    <a:pt x="814" y="1406"/>
                  </a:lnTo>
                  <a:lnTo>
                    <a:pt x="798" y="1426"/>
                  </a:lnTo>
                  <a:lnTo>
                    <a:pt x="782" y="1446"/>
                  </a:lnTo>
                  <a:lnTo>
                    <a:pt x="768" y="1470"/>
                  </a:lnTo>
                  <a:lnTo>
                    <a:pt x="754" y="1500"/>
                  </a:lnTo>
                  <a:lnTo>
                    <a:pt x="736" y="1534"/>
                  </a:lnTo>
                  <a:lnTo>
                    <a:pt x="736" y="1534"/>
                  </a:lnTo>
                  <a:lnTo>
                    <a:pt x="716" y="1514"/>
                  </a:lnTo>
                  <a:lnTo>
                    <a:pt x="696" y="1492"/>
                  </a:lnTo>
                  <a:lnTo>
                    <a:pt x="672" y="1464"/>
                  </a:lnTo>
                  <a:lnTo>
                    <a:pt x="644" y="1426"/>
                  </a:lnTo>
                  <a:lnTo>
                    <a:pt x="644" y="1782"/>
                  </a:lnTo>
                  <a:lnTo>
                    <a:pt x="384" y="1782"/>
                  </a:lnTo>
                  <a:lnTo>
                    <a:pt x="384" y="1438"/>
                  </a:lnTo>
                  <a:lnTo>
                    <a:pt x="384" y="1438"/>
                  </a:lnTo>
                  <a:lnTo>
                    <a:pt x="350" y="1496"/>
                  </a:lnTo>
                  <a:lnTo>
                    <a:pt x="310" y="1554"/>
                  </a:lnTo>
                  <a:lnTo>
                    <a:pt x="268" y="1610"/>
                  </a:lnTo>
                  <a:lnTo>
                    <a:pt x="246" y="1636"/>
                  </a:lnTo>
                  <a:lnTo>
                    <a:pt x="224" y="1660"/>
                  </a:lnTo>
                  <a:lnTo>
                    <a:pt x="224" y="1660"/>
                  </a:lnTo>
                  <a:lnTo>
                    <a:pt x="200" y="1638"/>
                  </a:lnTo>
                  <a:lnTo>
                    <a:pt x="176" y="1620"/>
                  </a:lnTo>
                  <a:lnTo>
                    <a:pt x="152" y="1602"/>
                  </a:lnTo>
                  <a:lnTo>
                    <a:pt x="126" y="1586"/>
                  </a:lnTo>
                  <a:lnTo>
                    <a:pt x="100" y="1570"/>
                  </a:lnTo>
                  <a:lnTo>
                    <a:pt x="70" y="1556"/>
                  </a:lnTo>
                  <a:lnTo>
                    <a:pt x="0" y="1524"/>
                  </a:lnTo>
                  <a:lnTo>
                    <a:pt x="0" y="1524"/>
                  </a:lnTo>
                  <a:lnTo>
                    <a:pt x="58" y="1466"/>
                  </a:lnTo>
                  <a:lnTo>
                    <a:pt x="108" y="1410"/>
                  </a:lnTo>
                  <a:lnTo>
                    <a:pt x="152" y="1356"/>
                  </a:lnTo>
                  <a:lnTo>
                    <a:pt x="190" y="1306"/>
                  </a:lnTo>
                  <a:lnTo>
                    <a:pt x="224" y="1258"/>
                  </a:lnTo>
                  <a:lnTo>
                    <a:pt x="252" y="1214"/>
                  </a:lnTo>
                  <a:lnTo>
                    <a:pt x="274" y="1176"/>
                  </a:lnTo>
                  <a:lnTo>
                    <a:pt x="292" y="1142"/>
                  </a:lnTo>
                  <a:lnTo>
                    <a:pt x="80" y="1142"/>
                  </a:lnTo>
                  <a:lnTo>
                    <a:pt x="80" y="902"/>
                  </a:lnTo>
                  <a:lnTo>
                    <a:pt x="384" y="902"/>
                  </a:lnTo>
                  <a:lnTo>
                    <a:pt x="384" y="808"/>
                  </a:lnTo>
                  <a:lnTo>
                    <a:pt x="56" y="808"/>
                  </a:lnTo>
                  <a:lnTo>
                    <a:pt x="56" y="586"/>
                  </a:lnTo>
                  <a:lnTo>
                    <a:pt x="254" y="586"/>
                  </a:lnTo>
                  <a:lnTo>
                    <a:pt x="254" y="586"/>
                  </a:lnTo>
                  <a:lnTo>
                    <a:pt x="240" y="530"/>
                  </a:lnTo>
                  <a:lnTo>
                    <a:pt x="228" y="482"/>
                  </a:lnTo>
                  <a:lnTo>
                    <a:pt x="210" y="428"/>
                  </a:lnTo>
                  <a:lnTo>
                    <a:pt x="304" y="392"/>
                  </a:lnTo>
                  <a:lnTo>
                    <a:pt x="114" y="392"/>
                  </a:lnTo>
                  <a:lnTo>
                    <a:pt x="114" y="174"/>
                  </a:lnTo>
                  <a:lnTo>
                    <a:pt x="406" y="174"/>
                  </a:lnTo>
                  <a:lnTo>
                    <a:pt x="406" y="0"/>
                  </a:lnTo>
                  <a:lnTo>
                    <a:pt x="674" y="18"/>
                  </a:lnTo>
                  <a:lnTo>
                    <a:pt x="674" y="18"/>
                  </a:lnTo>
                  <a:lnTo>
                    <a:pt x="690" y="20"/>
                  </a:lnTo>
                  <a:lnTo>
                    <a:pt x="702" y="24"/>
                  </a:lnTo>
                  <a:lnTo>
                    <a:pt x="706" y="28"/>
                  </a:lnTo>
                  <a:lnTo>
                    <a:pt x="708" y="32"/>
                  </a:lnTo>
                  <a:lnTo>
                    <a:pt x="710" y="36"/>
                  </a:lnTo>
                  <a:lnTo>
                    <a:pt x="710" y="42"/>
                  </a:lnTo>
                  <a:lnTo>
                    <a:pt x="710" y="42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2" y="68"/>
                  </a:lnTo>
                  <a:lnTo>
                    <a:pt x="674" y="80"/>
                  </a:lnTo>
                  <a:lnTo>
                    <a:pt x="674" y="174"/>
                  </a:lnTo>
                  <a:lnTo>
                    <a:pt x="896" y="174"/>
                  </a:lnTo>
                  <a:lnTo>
                    <a:pt x="896" y="392"/>
                  </a:lnTo>
                  <a:lnTo>
                    <a:pt x="768" y="392"/>
                  </a:lnTo>
                  <a:lnTo>
                    <a:pt x="832" y="408"/>
                  </a:lnTo>
                  <a:lnTo>
                    <a:pt x="832" y="408"/>
                  </a:lnTo>
                  <a:lnTo>
                    <a:pt x="844" y="412"/>
                  </a:lnTo>
                  <a:lnTo>
                    <a:pt x="852" y="416"/>
                  </a:lnTo>
                  <a:lnTo>
                    <a:pt x="856" y="422"/>
                  </a:lnTo>
                  <a:lnTo>
                    <a:pt x="858" y="430"/>
                  </a:lnTo>
                  <a:lnTo>
                    <a:pt x="858" y="430"/>
                  </a:lnTo>
                  <a:lnTo>
                    <a:pt x="858" y="436"/>
                  </a:lnTo>
                  <a:lnTo>
                    <a:pt x="856" y="440"/>
                  </a:lnTo>
                  <a:lnTo>
                    <a:pt x="854" y="444"/>
                  </a:lnTo>
                  <a:lnTo>
                    <a:pt x="850" y="448"/>
                  </a:lnTo>
                  <a:lnTo>
                    <a:pt x="836" y="454"/>
                  </a:lnTo>
                  <a:lnTo>
                    <a:pt x="818" y="462"/>
                  </a:lnTo>
                  <a:lnTo>
                    <a:pt x="818" y="462"/>
                  </a:lnTo>
                  <a:lnTo>
                    <a:pt x="800" y="510"/>
                  </a:lnTo>
                  <a:lnTo>
                    <a:pt x="766" y="586"/>
                  </a:lnTo>
                  <a:lnTo>
                    <a:pt x="940" y="586"/>
                  </a:lnTo>
                  <a:lnTo>
                    <a:pt x="940" y="808"/>
                  </a:lnTo>
                  <a:lnTo>
                    <a:pt x="700" y="808"/>
                  </a:lnTo>
                  <a:lnTo>
                    <a:pt x="700" y="808"/>
                  </a:lnTo>
                  <a:lnTo>
                    <a:pt x="694" y="816"/>
                  </a:lnTo>
                  <a:lnTo>
                    <a:pt x="686" y="822"/>
                  </a:lnTo>
                  <a:lnTo>
                    <a:pt x="672" y="830"/>
                  </a:lnTo>
                  <a:lnTo>
                    <a:pt x="656" y="834"/>
                  </a:lnTo>
                  <a:lnTo>
                    <a:pt x="644" y="838"/>
                  </a:lnTo>
                  <a:lnTo>
                    <a:pt x="644" y="902"/>
                  </a:lnTo>
                  <a:close/>
                  <a:moveTo>
                    <a:pt x="438" y="392"/>
                  </a:moveTo>
                  <a:lnTo>
                    <a:pt x="438" y="392"/>
                  </a:lnTo>
                  <a:lnTo>
                    <a:pt x="446" y="412"/>
                  </a:lnTo>
                  <a:lnTo>
                    <a:pt x="458" y="446"/>
                  </a:lnTo>
                  <a:lnTo>
                    <a:pt x="470" y="498"/>
                  </a:lnTo>
                  <a:lnTo>
                    <a:pt x="486" y="562"/>
                  </a:lnTo>
                  <a:lnTo>
                    <a:pt x="400" y="586"/>
                  </a:lnTo>
                  <a:lnTo>
                    <a:pt x="536" y="586"/>
                  </a:lnTo>
                  <a:lnTo>
                    <a:pt x="536" y="586"/>
                  </a:lnTo>
                  <a:lnTo>
                    <a:pt x="558" y="538"/>
                  </a:lnTo>
                  <a:lnTo>
                    <a:pt x="576" y="490"/>
                  </a:lnTo>
                  <a:lnTo>
                    <a:pt x="594" y="442"/>
                  </a:lnTo>
                  <a:lnTo>
                    <a:pt x="606" y="392"/>
                  </a:lnTo>
                  <a:lnTo>
                    <a:pt x="438" y="392"/>
                  </a:lnTo>
                  <a:close/>
                  <a:moveTo>
                    <a:pt x="974" y="126"/>
                  </a:moveTo>
                  <a:lnTo>
                    <a:pt x="1104" y="140"/>
                  </a:lnTo>
                  <a:lnTo>
                    <a:pt x="1104" y="140"/>
                  </a:lnTo>
                  <a:lnTo>
                    <a:pt x="1134" y="140"/>
                  </a:lnTo>
                  <a:lnTo>
                    <a:pt x="1166" y="138"/>
                  </a:lnTo>
                  <a:lnTo>
                    <a:pt x="1236" y="128"/>
                  </a:lnTo>
                  <a:lnTo>
                    <a:pt x="1310" y="114"/>
                  </a:lnTo>
                  <a:lnTo>
                    <a:pt x="1384" y="96"/>
                  </a:lnTo>
                  <a:lnTo>
                    <a:pt x="1456" y="76"/>
                  </a:lnTo>
                  <a:lnTo>
                    <a:pt x="1520" y="56"/>
                  </a:lnTo>
                  <a:lnTo>
                    <a:pt x="1578" y="38"/>
                  </a:lnTo>
                  <a:lnTo>
                    <a:pt x="1622" y="20"/>
                  </a:lnTo>
                  <a:lnTo>
                    <a:pt x="1770" y="222"/>
                  </a:lnTo>
                  <a:lnTo>
                    <a:pt x="1770" y="222"/>
                  </a:lnTo>
                  <a:lnTo>
                    <a:pt x="1776" y="234"/>
                  </a:lnTo>
                  <a:lnTo>
                    <a:pt x="1778" y="240"/>
                  </a:lnTo>
                  <a:lnTo>
                    <a:pt x="1780" y="250"/>
                  </a:lnTo>
                  <a:lnTo>
                    <a:pt x="1780" y="250"/>
                  </a:lnTo>
                  <a:lnTo>
                    <a:pt x="1778" y="260"/>
                  </a:lnTo>
                  <a:lnTo>
                    <a:pt x="1772" y="270"/>
                  </a:lnTo>
                  <a:lnTo>
                    <a:pt x="1768" y="274"/>
                  </a:lnTo>
                  <a:lnTo>
                    <a:pt x="1764" y="278"/>
                  </a:lnTo>
                  <a:lnTo>
                    <a:pt x="1758" y="280"/>
                  </a:lnTo>
                  <a:lnTo>
                    <a:pt x="1750" y="280"/>
                  </a:lnTo>
                  <a:lnTo>
                    <a:pt x="1750" y="280"/>
                  </a:lnTo>
                  <a:lnTo>
                    <a:pt x="1740" y="278"/>
                  </a:lnTo>
                  <a:lnTo>
                    <a:pt x="1730" y="276"/>
                  </a:lnTo>
                  <a:lnTo>
                    <a:pt x="1700" y="258"/>
                  </a:lnTo>
                  <a:lnTo>
                    <a:pt x="1700" y="258"/>
                  </a:lnTo>
                  <a:lnTo>
                    <a:pt x="1642" y="276"/>
                  </a:lnTo>
                  <a:lnTo>
                    <a:pt x="1586" y="292"/>
                  </a:lnTo>
                  <a:lnTo>
                    <a:pt x="1530" y="306"/>
                  </a:lnTo>
                  <a:lnTo>
                    <a:pt x="1476" y="318"/>
                  </a:lnTo>
                  <a:lnTo>
                    <a:pt x="1420" y="328"/>
                  </a:lnTo>
                  <a:lnTo>
                    <a:pt x="1362" y="336"/>
                  </a:lnTo>
                  <a:lnTo>
                    <a:pt x="1302" y="342"/>
                  </a:lnTo>
                  <a:lnTo>
                    <a:pt x="1238" y="346"/>
                  </a:lnTo>
                  <a:lnTo>
                    <a:pt x="1238" y="566"/>
                  </a:lnTo>
                  <a:lnTo>
                    <a:pt x="1746" y="566"/>
                  </a:lnTo>
                  <a:lnTo>
                    <a:pt x="1746" y="824"/>
                  </a:lnTo>
                  <a:lnTo>
                    <a:pt x="1600" y="824"/>
                  </a:lnTo>
                  <a:lnTo>
                    <a:pt x="1600" y="1782"/>
                  </a:lnTo>
                  <a:lnTo>
                    <a:pt x="1338" y="1782"/>
                  </a:lnTo>
                  <a:lnTo>
                    <a:pt x="1338" y="824"/>
                  </a:lnTo>
                  <a:lnTo>
                    <a:pt x="1238" y="824"/>
                  </a:lnTo>
                  <a:lnTo>
                    <a:pt x="1238" y="824"/>
                  </a:lnTo>
                  <a:lnTo>
                    <a:pt x="1236" y="922"/>
                  </a:lnTo>
                  <a:lnTo>
                    <a:pt x="1232" y="1014"/>
                  </a:lnTo>
                  <a:lnTo>
                    <a:pt x="1222" y="1102"/>
                  </a:lnTo>
                  <a:lnTo>
                    <a:pt x="1210" y="1184"/>
                  </a:lnTo>
                  <a:lnTo>
                    <a:pt x="1196" y="1260"/>
                  </a:lnTo>
                  <a:lnTo>
                    <a:pt x="1180" y="1332"/>
                  </a:lnTo>
                  <a:lnTo>
                    <a:pt x="1162" y="1398"/>
                  </a:lnTo>
                  <a:lnTo>
                    <a:pt x="1142" y="1460"/>
                  </a:lnTo>
                  <a:lnTo>
                    <a:pt x="1122" y="1518"/>
                  </a:lnTo>
                  <a:lnTo>
                    <a:pt x="1100" y="1570"/>
                  </a:lnTo>
                  <a:lnTo>
                    <a:pt x="1078" y="1618"/>
                  </a:lnTo>
                  <a:lnTo>
                    <a:pt x="1056" y="1660"/>
                  </a:lnTo>
                  <a:lnTo>
                    <a:pt x="1034" y="1698"/>
                  </a:lnTo>
                  <a:lnTo>
                    <a:pt x="1012" y="1732"/>
                  </a:lnTo>
                  <a:lnTo>
                    <a:pt x="992" y="1762"/>
                  </a:lnTo>
                  <a:lnTo>
                    <a:pt x="974" y="1788"/>
                  </a:lnTo>
                  <a:lnTo>
                    <a:pt x="974" y="1788"/>
                  </a:lnTo>
                  <a:lnTo>
                    <a:pt x="940" y="1768"/>
                  </a:lnTo>
                  <a:lnTo>
                    <a:pt x="908" y="1750"/>
                  </a:lnTo>
                  <a:lnTo>
                    <a:pt x="876" y="1734"/>
                  </a:lnTo>
                  <a:lnTo>
                    <a:pt x="846" y="1722"/>
                  </a:lnTo>
                  <a:lnTo>
                    <a:pt x="816" y="1710"/>
                  </a:lnTo>
                  <a:lnTo>
                    <a:pt x="784" y="1698"/>
                  </a:lnTo>
                  <a:lnTo>
                    <a:pt x="716" y="1678"/>
                  </a:lnTo>
                  <a:lnTo>
                    <a:pt x="716" y="1678"/>
                  </a:lnTo>
                  <a:lnTo>
                    <a:pt x="758" y="1630"/>
                  </a:lnTo>
                  <a:lnTo>
                    <a:pt x="794" y="1582"/>
                  </a:lnTo>
                  <a:lnTo>
                    <a:pt x="826" y="1532"/>
                  </a:lnTo>
                  <a:lnTo>
                    <a:pt x="854" y="1482"/>
                  </a:lnTo>
                  <a:lnTo>
                    <a:pt x="880" y="1432"/>
                  </a:lnTo>
                  <a:lnTo>
                    <a:pt x="900" y="1380"/>
                  </a:lnTo>
                  <a:lnTo>
                    <a:pt x="918" y="1328"/>
                  </a:lnTo>
                  <a:lnTo>
                    <a:pt x="932" y="1274"/>
                  </a:lnTo>
                  <a:lnTo>
                    <a:pt x="944" y="1220"/>
                  </a:lnTo>
                  <a:lnTo>
                    <a:pt x="954" y="1164"/>
                  </a:lnTo>
                  <a:lnTo>
                    <a:pt x="962" y="1106"/>
                  </a:lnTo>
                  <a:lnTo>
                    <a:pt x="966" y="1048"/>
                  </a:lnTo>
                  <a:lnTo>
                    <a:pt x="970" y="988"/>
                  </a:lnTo>
                  <a:lnTo>
                    <a:pt x="972" y="926"/>
                  </a:lnTo>
                  <a:lnTo>
                    <a:pt x="974" y="798"/>
                  </a:lnTo>
                  <a:lnTo>
                    <a:pt x="97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5427720" y="1800000"/>
              <a:ext cx="2832120" cy="29084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2908440"/>
                <a:gd name="textAreaBottom" fmla="*/ 2908800 h 2908440"/>
              </a:gdLst>
              <a:ahLst/>
              <a:rect l="textAreaLeft" t="textAreaTop" r="textAreaRight" b="textAreaBottom"/>
              <a:pathLst>
                <a:path w="1784" h="1832">
                  <a:moveTo>
                    <a:pt x="898" y="480"/>
                  </a:moveTo>
                  <a:lnTo>
                    <a:pt x="898" y="1278"/>
                  </a:lnTo>
                  <a:lnTo>
                    <a:pt x="150" y="1278"/>
                  </a:lnTo>
                  <a:lnTo>
                    <a:pt x="150" y="606"/>
                  </a:lnTo>
                  <a:lnTo>
                    <a:pt x="150" y="606"/>
                  </a:lnTo>
                  <a:lnTo>
                    <a:pt x="122" y="566"/>
                  </a:lnTo>
                  <a:lnTo>
                    <a:pt x="108" y="550"/>
                  </a:lnTo>
                  <a:lnTo>
                    <a:pt x="94" y="534"/>
                  </a:lnTo>
                  <a:lnTo>
                    <a:pt x="76" y="520"/>
                  </a:lnTo>
                  <a:lnTo>
                    <a:pt x="56" y="504"/>
                  </a:lnTo>
                  <a:lnTo>
                    <a:pt x="0" y="466"/>
                  </a:lnTo>
                  <a:lnTo>
                    <a:pt x="0" y="466"/>
                  </a:lnTo>
                  <a:lnTo>
                    <a:pt x="48" y="424"/>
                  </a:lnTo>
                  <a:lnTo>
                    <a:pt x="90" y="382"/>
                  </a:lnTo>
                  <a:lnTo>
                    <a:pt x="130" y="340"/>
                  </a:lnTo>
                  <a:lnTo>
                    <a:pt x="166" y="300"/>
                  </a:lnTo>
                  <a:lnTo>
                    <a:pt x="196" y="260"/>
                  </a:lnTo>
                  <a:lnTo>
                    <a:pt x="224" y="222"/>
                  </a:lnTo>
                  <a:lnTo>
                    <a:pt x="250" y="188"/>
                  </a:lnTo>
                  <a:lnTo>
                    <a:pt x="270" y="154"/>
                  </a:lnTo>
                  <a:lnTo>
                    <a:pt x="288" y="122"/>
                  </a:lnTo>
                  <a:lnTo>
                    <a:pt x="304" y="94"/>
                  </a:lnTo>
                  <a:lnTo>
                    <a:pt x="326" y="46"/>
                  </a:lnTo>
                  <a:lnTo>
                    <a:pt x="338" y="14"/>
                  </a:lnTo>
                  <a:lnTo>
                    <a:pt x="344" y="0"/>
                  </a:lnTo>
                  <a:lnTo>
                    <a:pt x="600" y="84"/>
                  </a:lnTo>
                  <a:lnTo>
                    <a:pt x="600" y="84"/>
                  </a:lnTo>
                  <a:lnTo>
                    <a:pt x="608" y="88"/>
                  </a:lnTo>
                  <a:lnTo>
                    <a:pt x="616" y="94"/>
                  </a:lnTo>
                  <a:lnTo>
                    <a:pt x="620" y="100"/>
                  </a:lnTo>
                  <a:lnTo>
                    <a:pt x="622" y="108"/>
                  </a:lnTo>
                  <a:lnTo>
                    <a:pt x="622" y="108"/>
                  </a:lnTo>
                  <a:lnTo>
                    <a:pt x="620" y="114"/>
                  </a:lnTo>
                  <a:lnTo>
                    <a:pt x="616" y="120"/>
                  </a:lnTo>
                  <a:lnTo>
                    <a:pt x="610" y="126"/>
                  </a:lnTo>
                  <a:lnTo>
                    <a:pt x="604" y="128"/>
                  </a:lnTo>
                  <a:lnTo>
                    <a:pt x="586" y="132"/>
                  </a:lnTo>
                  <a:lnTo>
                    <a:pt x="564" y="134"/>
                  </a:lnTo>
                  <a:lnTo>
                    <a:pt x="564" y="134"/>
                  </a:lnTo>
                  <a:lnTo>
                    <a:pt x="550" y="158"/>
                  </a:lnTo>
                  <a:lnTo>
                    <a:pt x="778" y="158"/>
                  </a:lnTo>
                  <a:lnTo>
                    <a:pt x="880" y="258"/>
                  </a:lnTo>
                  <a:lnTo>
                    <a:pt x="880" y="258"/>
                  </a:lnTo>
                  <a:lnTo>
                    <a:pt x="828" y="338"/>
                  </a:lnTo>
                  <a:lnTo>
                    <a:pt x="782" y="408"/>
                  </a:lnTo>
                  <a:lnTo>
                    <a:pt x="732" y="480"/>
                  </a:lnTo>
                  <a:lnTo>
                    <a:pt x="898" y="480"/>
                  </a:lnTo>
                  <a:close/>
                  <a:moveTo>
                    <a:pt x="348" y="1346"/>
                  </a:moveTo>
                  <a:lnTo>
                    <a:pt x="510" y="1328"/>
                  </a:lnTo>
                  <a:lnTo>
                    <a:pt x="510" y="1328"/>
                  </a:lnTo>
                  <a:lnTo>
                    <a:pt x="522" y="1442"/>
                  </a:lnTo>
                  <a:lnTo>
                    <a:pt x="528" y="1538"/>
                  </a:lnTo>
                  <a:lnTo>
                    <a:pt x="530" y="1632"/>
                  </a:lnTo>
                  <a:lnTo>
                    <a:pt x="530" y="1744"/>
                  </a:lnTo>
                  <a:lnTo>
                    <a:pt x="530" y="1744"/>
                  </a:lnTo>
                  <a:lnTo>
                    <a:pt x="474" y="1744"/>
                  </a:lnTo>
                  <a:lnTo>
                    <a:pt x="430" y="1744"/>
                  </a:lnTo>
                  <a:lnTo>
                    <a:pt x="410" y="1746"/>
                  </a:lnTo>
                  <a:lnTo>
                    <a:pt x="390" y="1750"/>
                  </a:lnTo>
                  <a:lnTo>
                    <a:pt x="348" y="1762"/>
                  </a:lnTo>
                  <a:lnTo>
                    <a:pt x="348" y="1762"/>
                  </a:lnTo>
                  <a:lnTo>
                    <a:pt x="352" y="1724"/>
                  </a:lnTo>
                  <a:lnTo>
                    <a:pt x="354" y="1682"/>
                  </a:lnTo>
                  <a:lnTo>
                    <a:pt x="358" y="1630"/>
                  </a:lnTo>
                  <a:lnTo>
                    <a:pt x="358" y="1562"/>
                  </a:lnTo>
                  <a:lnTo>
                    <a:pt x="358" y="1562"/>
                  </a:lnTo>
                  <a:lnTo>
                    <a:pt x="358" y="1496"/>
                  </a:lnTo>
                  <a:lnTo>
                    <a:pt x="356" y="1444"/>
                  </a:lnTo>
                  <a:lnTo>
                    <a:pt x="350" y="1370"/>
                  </a:lnTo>
                  <a:lnTo>
                    <a:pt x="350" y="1370"/>
                  </a:lnTo>
                  <a:lnTo>
                    <a:pt x="346" y="1376"/>
                  </a:lnTo>
                  <a:lnTo>
                    <a:pt x="342" y="1378"/>
                  </a:lnTo>
                  <a:lnTo>
                    <a:pt x="328" y="1380"/>
                  </a:lnTo>
                  <a:lnTo>
                    <a:pt x="328" y="1380"/>
                  </a:lnTo>
                  <a:lnTo>
                    <a:pt x="324" y="1426"/>
                  </a:lnTo>
                  <a:lnTo>
                    <a:pt x="316" y="1478"/>
                  </a:lnTo>
                  <a:lnTo>
                    <a:pt x="306" y="1536"/>
                  </a:lnTo>
                  <a:lnTo>
                    <a:pt x="294" y="1596"/>
                  </a:lnTo>
                  <a:lnTo>
                    <a:pt x="282" y="1658"/>
                  </a:lnTo>
                  <a:lnTo>
                    <a:pt x="266" y="1718"/>
                  </a:lnTo>
                  <a:lnTo>
                    <a:pt x="250" y="1778"/>
                  </a:lnTo>
                  <a:lnTo>
                    <a:pt x="234" y="1832"/>
                  </a:lnTo>
                  <a:lnTo>
                    <a:pt x="234" y="1832"/>
                  </a:lnTo>
                  <a:lnTo>
                    <a:pt x="206" y="1820"/>
                  </a:lnTo>
                  <a:lnTo>
                    <a:pt x="180" y="1806"/>
                  </a:lnTo>
                  <a:lnTo>
                    <a:pt x="154" y="1796"/>
                  </a:lnTo>
                  <a:lnTo>
                    <a:pt x="128" y="1786"/>
                  </a:lnTo>
                  <a:lnTo>
                    <a:pt x="100" y="1780"/>
                  </a:lnTo>
                  <a:lnTo>
                    <a:pt x="72" y="1774"/>
                  </a:lnTo>
                  <a:lnTo>
                    <a:pt x="44" y="1770"/>
                  </a:lnTo>
                  <a:lnTo>
                    <a:pt x="16" y="1768"/>
                  </a:lnTo>
                  <a:lnTo>
                    <a:pt x="16" y="1768"/>
                  </a:lnTo>
                  <a:lnTo>
                    <a:pt x="40" y="1714"/>
                  </a:lnTo>
                  <a:lnTo>
                    <a:pt x="64" y="1656"/>
                  </a:lnTo>
                  <a:lnTo>
                    <a:pt x="86" y="1596"/>
                  </a:lnTo>
                  <a:lnTo>
                    <a:pt x="104" y="1534"/>
                  </a:lnTo>
                  <a:lnTo>
                    <a:pt x="120" y="1470"/>
                  </a:lnTo>
                  <a:lnTo>
                    <a:pt x="134" y="1410"/>
                  </a:lnTo>
                  <a:lnTo>
                    <a:pt x="144" y="1352"/>
                  </a:lnTo>
                  <a:lnTo>
                    <a:pt x="150" y="1298"/>
                  </a:lnTo>
                  <a:lnTo>
                    <a:pt x="312" y="1340"/>
                  </a:lnTo>
                  <a:lnTo>
                    <a:pt x="312" y="1340"/>
                  </a:lnTo>
                  <a:lnTo>
                    <a:pt x="324" y="1342"/>
                  </a:lnTo>
                  <a:lnTo>
                    <a:pt x="334" y="1344"/>
                  </a:lnTo>
                  <a:lnTo>
                    <a:pt x="342" y="1350"/>
                  </a:lnTo>
                  <a:lnTo>
                    <a:pt x="348" y="1358"/>
                  </a:lnTo>
                  <a:lnTo>
                    <a:pt x="348" y="1346"/>
                  </a:lnTo>
                  <a:close/>
                  <a:moveTo>
                    <a:pt x="452" y="480"/>
                  </a:moveTo>
                  <a:lnTo>
                    <a:pt x="452" y="480"/>
                  </a:lnTo>
                  <a:lnTo>
                    <a:pt x="518" y="376"/>
                  </a:lnTo>
                  <a:lnTo>
                    <a:pt x="416" y="376"/>
                  </a:lnTo>
                  <a:lnTo>
                    <a:pt x="416" y="376"/>
                  </a:lnTo>
                  <a:lnTo>
                    <a:pt x="336" y="480"/>
                  </a:lnTo>
                  <a:lnTo>
                    <a:pt x="452" y="480"/>
                  </a:lnTo>
                  <a:close/>
                  <a:moveTo>
                    <a:pt x="368" y="790"/>
                  </a:moveTo>
                  <a:lnTo>
                    <a:pt x="448" y="790"/>
                  </a:lnTo>
                  <a:lnTo>
                    <a:pt x="448" y="704"/>
                  </a:lnTo>
                  <a:lnTo>
                    <a:pt x="368" y="704"/>
                  </a:lnTo>
                  <a:lnTo>
                    <a:pt x="368" y="790"/>
                  </a:lnTo>
                  <a:close/>
                  <a:moveTo>
                    <a:pt x="448" y="1072"/>
                  </a:moveTo>
                  <a:lnTo>
                    <a:pt x="448" y="984"/>
                  </a:lnTo>
                  <a:lnTo>
                    <a:pt x="368" y="984"/>
                  </a:lnTo>
                  <a:lnTo>
                    <a:pt x="368" y="1072"/>
                  </a:lnTo>
                  <a:lnTo>
                    <a:pt x="448" y="1072"/>
                  </a:lnTo>
                  <a:close/>
                  <a:moveTo>
                    <a:pt x="700" y="1310"/>
                  </a:moveTo>
                  <a:lnTo>
                    <a:pt x="700" y="1310"/>
                  </a:lnTo>
                  <a:lnTo>
                    <a:pt x="716" y="1414"/>
                  </a:lnTo>
                  <a:lnTo>
                    <a:pt x="728" y="1494"/>
                  </a:lnTo>
                  <a:lnTo>
                    <a:pt x="754" y="1714"/>
                  </a:lnTo>
                  <a:lnTo>
                    <a:pt x="754" y="1714"/>
                  </a:lnTo>
                  <a:lnTo>
                    <a:pt x="706" y="1718"/>
                  </a:lnTo>
                  <a:lnTo>
                    <a:pt x="662" y="1726"/>
                  </a:lnTo>
                  <a:lnTo>
                    <a:pt x="622" y="1736"/>
                  </a:lnTo>
                  <a:lnTo>
                    <a:pt x="576" y="1748"/>
                  </a:lnTo>
                  <a:lnTo>
                    <a:pt x="576" y="1748"/>
                  </a:lnTo>
                  <a:lnTo>
                    <a:pt x="574" y="1610"/>
                  </a:lnTo>
                  <a:lnTo>
                    <a:pt x="570" y="1556"/>
                  </a:lnTo>
                  <a:lnTo>
                    <a:pt x="566" y="1506"/>
                  </a:lnTo>
                  <a:lnTo>
                    <a:pt x="562" y="1462"/>
                  </a:lnTo>
                  <a:lnTo>
                    <a:pt x="558" y="1420"/>
                  </a:lnTo>
                  <a:lnTo>
                    <a:pt x="544" y="1344"/>
                  </a:lnTo>
                  <a:lnTo>
                    <a:pt x="700" y="1310"/>
                  </a:lnTo>
                  <a:close/>
                  <a:moveTo>
                    <a:pt x="624" y="704"/>
                  </a:moveTo>
                  <a:lnTo>
                    <a:pt x="624" y="790"/>
                  </a:lnTo>
                  <a:lnTo>
                    <a:pt x="704" y="790"/>
                  </a:lnTo>
                  <a:lnTo>
                    <a:pt x="704" y="704"/>
                  </a:lnTo>
                  <a:lnTo>
                    <a:pt x="624" y="704"/>
                  </a:lnTo>
                  <a:close/>
                  <a:moveTo>
                    <a:pt x="704" y="1072"/>
                  </a:moveTo>
                  <a:lnTo>
                    <a:pt x="704" y="984"/>
                  </a:lnTo>
                  <a:lnTo>
                    <a:pt x="624" y="984"/>
                  </a:lnTo>
                  <a:lnTo>
                    <a:pt x="624" y="1072"/>
                  </a:lnTo>
                  <a:lnTo>
                    <a:pt x="704" y="1072"/>
                  </a:lnTo>
                  <a:close/>
                  <a:moveTo>
                    <a:pt x="876" y="1292"/>
                  </a:moveTo>
                  <a:lnTo>
                    <a:pt x="876" y="1292"/>
                  </a:lnTo>
                  <a:lnTo>
                    <a:pt x="904" y="1376"/>
                  </a:lnTo>
                  <a:lnTo>
                    <a:pt x="930" y="1472"/>
                  </a:lnTo>
                  <a:lnTo>
                    <a:pt x="954" y="1572"/>
                  </a:lnTo>
                  <a:lnTo>
                    <a:pt x="972" y="1658"/>
                  </a:lnTo>
                  <a:lnTo>
                    <a:pt x="972" y="1658"/>
                  </a:lnTo>
                  <a:lnTo>
                    <a:pt x="916" y="1670"/>
                  </a:lnTo>
                  <a:lnTo>
                    <a:pt x="870" y="1684"/>
                  </a:lnTo>
                  <a:lnTo>
                    <a:pt x="832" y="1696"/>
                  </a:lnTo>
                  <a:lnTo>
                    <a:pt x="798" y="1710"/>
                  </a:lnTo>
                  <a:lnTo>
                    <a:pt x="798" y="1710"/>
                  </a:lnTo>
                  <a:lnTo>
                    <a:pt x="792" y="1634"/>
                  </a:lnTo>
                  <a:lnTo>
                    <a:pt x="780" y="1538"/>
                  </a:lnTo>
                  <a:lnTo>
                    <a:pt x="772" y="1484"/>
                  </a:lnTo>
                  <a:lnTo>
                    <a:pt x="762" y="1430"/>
                  </a:lnTo>
                  <a:lnTo>
                    <a:pt x="750" y="1376"/>
                  </a:lnTo>
                  <a:lnTo>
                    <a:pt x="736" y="1324"/>
                  </a:lnTo>
                  <a:lnTo>
                    <a:pt x="876" y="1292"/>
                  </a:lnTo>
                  <a:close/>
                  <a:moveTo>
                    <a:pt x="1784" y="1170"/>
                  </a:moveTo>
                  <a:lnTo>
                    <a:pt x="1784" y="1410"/>
                  </a:lnTo>
                  <a:lnTo>
                    <a:pt x="1484" y="1410"/>
                  </a:lnTo>
                  <a:lnTo>
                    <a:pt x="1484" y="1816"/>
                  </a:lnTo>
                  <a:lnTo>
                    <a:pt x="1222" y="1816"/>
                  </a:lnTo>
                  <a:lnTo>
                    <a:pt x="1222" y="1410"/>
                  </a:lnTo>
                  <a:lnTo>
                    <a:pt x="928" y="1410"/>
                  </a:lnTo>
                  <a:lnTo>
                    <a:pt x="928" y="1170"/>
                  </a:lnTo>
                  <a:lnTo>
                    <a:pt x="1222" y="1170"/>
                  </a:lnTo>
                  <a:lnTo>
                    <a:pt x="1222" y="1010"/>
                  </a:lnTo>
                  <a:lnTo>
                    <a:pt x="972" y="1010"/>
                  </a:lnTo>
                  <a:lnTo>
                    <a:pt x="972" y="768"/>
                  </a:lnTo>
                  <a:lnTo>
                    <a:pt x="1222" y="768"/>
                  </a:lnTo>
                  <a:lnTo>
                    <a:pt x="1222" y="630"/>
                  </a:lnTo>
                  <a:lnTo>
                    <a:pt x="948" y="630"/>
                  </a:lnTo>
                  <a:lnTo>
                    <a:pt x="948" y="402"/>
                  </a:lnTo>
                  <a:lnTo>
                    <a:pt x="1044" y="402"/>
                  </a:lnTo>
                  <a:lnTo>
                    <a:pt x="1044" y="402"/>
                  </a:lnTo>
                  <a:lnTo>
                    <a:pt x="1020" y="350"/>
                  </a:lnTo>
                  <a:lnTo>
                    <a:pt x="998" y="306"/>
                  </a:lnTo>
                  <a:lnTo>
                    <a:pt x="978" y="268"/>
                  </a:lnTo>
                  <a:lnTo>
                    <a:pt x="958" y="234"/>
                  </a:lnTo>
                  <a:lnTo>
                    <a:pt x="938" y="206"/>
                  </a:lnTo>
                  <a:lnTo>
                    <a:pt x="920" y="182"/>
                  </a:lnTo>
                  <a:lnTo>
                    <a:pt x="886" y="140"/>
                  </a:lnTo>
                  <a:lnTo>
                    <a:pt x="1110" y="20"/>
                  </a:lnTo>
                  <a:lnTo>
                    <a:pt x="1110" y="20"/>
                  </a:lnTo>
                  <a:lnTo>
                    <a:pt x="1154" y="70"/>
                  </a:lnTo>
                  <a:lnTo>
                    <a:pt x="1190" y="116"/>
                  </a:lnTo>
                  <a:lnTo>
                    <a:pt x="1222" y="160"/>
                  </a:lnTo>
                  <a:lnTo>
                    <a:pt x="1250" y="200"/>
                  </a:lnTo>
                  <a:lnTo>
                    <a:pt x="1272" y="238"/>
                  </a:lnTo>
                  <a:lnTo>
                    <a:pt x="1290" y="270"/>
                  </a:lnTo>
                  <a:lnTo>
                    <a:pt x="1314" y="324"/>
                  </a:lnTo>
                  <a:lnTo>
                    <a:pt x="1314" y="324"/>
                  </a:lnTo>
                  <a:lnTo>
                    <a:pt x="1272" y="344"/>
                  </a:lnTo>
                  <a:lnTo>
                    <a:pt x="1230" y="366"/>
                  </a:lnTo>
                  <a:lnTo>
                    <a:pt x="1170" y="402"/>
                  </a:lnTo>
                  <a:lnTo>
                    <a:pt x="1340" y="402"/>
                  </a:lnTo>
                  <a:lnTo>
                    <a:pt x="1340" y="402"/>
                  </a:lnTo>
                  <a:lnTo>
                    <a:pt x="1390" y="296"/>
                  </a:lnTo>
                  <a:lnTo>
                    <a:pt x="1432" y="198"/>
                  </a:lnTo>
                  <a:lnTo>
                    <a:pt x="1452" y="154"/>
                  </a:lnTo>
                  <a:lnTo>
                    <a:pt x="1468" y="108"/>
                  </a:lnTo>
                  <a:lnTo>
                    <a:pt x="1482" y="66"/>
                  </a:lnTo>
                  <a:lnTo>
                    <a:pt x="1496" y="24"/>
                  </a:lnTo>
                  <a:lnTo>
                    <a:pt x="1754" y="110"/>
                  </a:lnTo>
                  <a:lnTo>
                    <a:pt x="1754" y="110"/>
                  </a:lnTo>
                  <a:lnTo>
                    <a:pt x="1766" y="114"/>
                  </a:lnTo>
                  <a:lnTo>
                    <a:pt x="1774" y="120"/>
                  </a:lnTo>
                  <a:lnTo>
                    <a:pt x="1778" y="128"/>
                  </a:lnTo>
                  <a:lnTo>
                    <a:pt x="1780" y="136"/>
                  </a:lnTo>
                  <a:lnTo>
                    <a:pt x="1780" y="136"/>
                  </a:lnTo>
                  <a:lnTo>
                    <a:pt x="1780" y="144"/>
                  </a:lnTo>
                  <a:lnTo>
                    <a:pt x="1776" y="152"/>
                  </a:lnTo>
                  <a:lnTo>
                    <a:pt x="1772" y="158"/>
                  </a:lnTo>
                  <a:lnTo>
                    <a:pt x="1766" y="162"/>
                  </a:lnTo>
                  <a:lnTo>
                    <a:pt x="1750" y="168"/>
                  </a:lnTo>
                  <a:lnTo>
                    <a:pt x="1730" y="172"/>
                  </a:lnTo>
                  <a:lnTo>
                    <a:pt x="1730" y="172"/>
                  </a:lnTo>
                  <a:lnTo>
                    <a:pt x="1664" y="324"/>
                  </a:lnTo>
                  <a:lnTo>
                    <a:pt x="1646" y="364"/>
                  </a:lnTo>
                  <a:lnTo>
                    <a:pt x="1626" y="402"/>
                  </a:lnTo>
                  <a:lnTo>
                    <a:pt x="1766" y="402"/>
                  </a:lnTo>
                  <a:lnTo>
                    <a:pt x="1766" y="630"/>
                  </a:lnTo>
                  <a:lnTo>
                    <a:pt x="1484" y="630"/>
                  </a:lnTo>
                  <a:lnTo>
                    <a:pt x="1484" y="768"/>
                  </a:lnTo>
                  <a:lnTo>
                    <a:pt x="1732" y="768"/>
                  </a:lnTo>
                  <a:lnTo>
                    <a:pt x="1732" y="1010"/>
                  </a:lnTo>
                  <a:lnTo>
                    <a:pt x="1484" y="1010"/>
                  </a:lnTo>
                  <a:lnTo>
                    <a:pt x="1484" y="1170"/>
                  </a:lnTo>
                  <a:lnTo>
                    <a:pt x="1784" y="1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100"/>
          <p:cNvGrpSpPr/>
          <p:nvPr/>
        </p:nvGrpSpPr>
        <p:grpSpPr>
          <a:xfrm>
            <a:off x="2346480" y="7097760"/>
            <a:ext cx="5472000" cy="4022640"/>
            <a:chOff x="2346480" y="7097760"/>
            <a:chExt cx="5472000" cy="4022640"/>
          </a:xfrm>
        </p:grpSpPr>
        <p:sp>
          <p:nvSpPr>
            <p:cNvPr id="135" name="Freeform 23"/>
            <p:cNvSpPr/>
            <p:nvPr/>
          </p:nvSpPr>
          <p:spPr>
            <a:xfrm>
              <a:off x="2346480" y="7097760"/>
              <a:ext cx="1158840" cy="117468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730" h="740">
                  <a:moveTo>
                    <a:pt x="442" y="550"/>
                  </a:moveTo>
                  <a:lnTo>
                    <a:pt x="442" y="550"/>
                  </a:lnTo>
                  <a:lnTo>
                    <a:pt x="458" y="562"/>
                  </a:lnTo>
                  <a:lnTo>
                    <a:pt x="478" y="576"/>
                  </a:lnTo>
                  <a:lnTo>
                    <a:pt x="498" y="588"/>
                  </a:lnTo>
                  <a:lnTo>
                    <a:pt x="520" y="600"/>
                  </a:lnTo>
                  <a:lnTo>
                    <a:pt x="544" y="610"/>
                  </a:lnTo>
                  <a:lnTo>
                    <a:pt x="568" y="618"/>
                  </a:lnTo>
                  <a:lnTo>
                    <a:pt x="592" y="626"/>
                  </a:lnTo>
                  <a:lnTo>
                    <a:pt x="618" y="632"/>
                  </a:lnTo>
                  <a:lnTo>
                    <a:pt x="618" y="632"/>
                  </a:lnTo>
                  <a:lnTo>
                    <a:pt x="664" y="640"/>
                  </a:lnTo>
                  <a:lnTo>
                    <a:pt x="682" y="646"/>
                  </a:lnTo>
                  <a:lnTo>
                    <a:pt x="696" y="652"/>
                  </a:lnTo>
                  <a:lnTo>
                    <a:pt x="708" y="658"/>
                  </a:lnTo>
                  <a:lnTo>
                    <a:pt x="716" y="668"/>
                  </a:lnTo>
                  <a:lnTo>
                    <a:pt x="720" y="678"/>
                  </a:lnTo>
                  <a:lnTo>
                    <a:pt x="722" y="694"/>
                  </a:lnTo>
                  <a:lnTo>
                    <a:pt x="722" y="694"/>
                  </a:lnTo>
                  <a:lnTo>
                    <a:pt x="722" y="702"/>
                  </a:lnTo>
                  <a:lnTo>
                    <a:pt x="718" y="710"/>
                  </a:lnTo>
                  <a:lnTo>
                    <a:pt x="716" y="718"/>
                  </a:lnTo>
                  <a:lnTo>
                    <a:pt x="710" y="726"/>
                  </a:lnTo>
                  <a:lnTo>
                    <a:pt x="704" y="732"/>
                  </a:lnTo>
                  <a:lnTo>
                    <a:pt x="696" y="736"/>
                  </a:lnTo>
                  <a:lnTo>
                    <a:pt x="688" y="738"/>
                  </a:lnTo>
                  <a:lnTo>
                    <a:pt x="678" y="740"/>
                  </a:lnTo>
                  <a:lnTo>
                    <a:pt x="678" y="740"/>
                  </a:lnTo>
                  <a:lnTo>
                    <a:pt x="662" y="738"/>
                  </a:lnTo>
                  <a:lnTo>
                    <a:pt x="634" y="734"/>
                  </a:lnTo>
                  <a:lnTo>
                    <a:pt x="596" y="726"/>
                  </a:lnTo>
                  <a:lnTo>
                    <a:pt x="554" y="712"/>
                  </a:lnTo>
                  <a:lnTo>
                    <a:pt x="506" y="694"/>
                  </a:lnTo>
                  <a:lnTo>
                    <a:pt x="482" y="682"/>
                  </a:lnTo>
                  <a:lnTo>
                    <a:pt x="456" y="670"/>
                  </a:lnTo>
                  <a:lnTo>
                    <a:pt x="432" y="654"/>
                  </a:lnTo>
                  <a:lnTo>
                    <a:pt x="408" y="638"/>
                  </a:lnTo>
                  <a:lnTo>
                    <a:pt x="386" y="620"/>
                  </a:lnTo>
                  <a:lnTo>
                    <a:pt x="366" y="598"/>
                  </a:lnTo>
                  <a:lnTo>
                    <a:pt x="366" y="598"/>
                  </a:lnTo>
                  <a:lnTo>
                    <a:pt x="344" y="620"/>
                  </a:lnTo>
                  <a:lnTo>
                    <a:pt x="326" y="634"/>
                  </a:lnTo>
                  <a:lnTo>
                    <a:pt x="302" y="654"/>
                  </a:lnTo>
                  <a:lnTo>
                    <a:pt x="302" y="654"/>
                  </a:lnTo>
                  <a:lnTo>
                    <a:pt x="280" y="666"/>
                  </a:lnTo>
                  <a:lnTo>
                    <a:pt x="258" y="680"/>
                  </a:lnTo>
                  <a:lnTo>
                    <a:pt x="234" y="690"/>
                  </a:lnTo>
                  <a:lnTo>
                    <a:pt x="212" y="698"/>
                  </a:lnTo>
                  <a:lnTo>
                    <a:pt x="170" y="714"/>
                  </a:lnTo>
                  <a:lnTo>
                    <a:pt x="130" y="724"/>
                  </a:lnTo>
                  <a:lnTo>
                    <a:pt x="96" y="730"/>
                  </a:lnTo>
                  <a:lnTo>
                    <a:pt x="70" y="734"/>
                  </a:lnTo>
                  <a:lnTo>
                    <a:pt x="46" y="736"/>
                  </a:lnTo>
                  <a:lnTo>
                    <a:pt x="46" y="736"/>
                  </a:lnTo>
                  <a:lnTo>
                    <a:pt x="36" y="734"/>
                  </a:lnTo>
                  <a:lnTo>
                    <a:pt x="26" y="732"/>
                  </a:lnTo>
                  <a:lnTo>
                    <a:pt x="20" y="728"/>
                  </a:lnTo>
                  <a:lnTo>
                    <a:pt x="12" y="722"/>
                  </a:lnTo>
                  <a:lnTo>
                    <a:pt x="6" y="716"/>
                  </a:lnTo>
                  <a:lnTo>
                    <a:pt x="2" y="710"/>
                  </a:lnTo>
                  <a:lnTo>
                    <a:pt x="0" y="702"/>
                  </a:lnTo>
                  <a:lnTo>
                    <a:pt x="0" y="694"/>
                  </a:lnTo>
                  <a:lnTo>
                    <a:pt x="0" y="694"/>
                  </a:lnTo>
                  <a:lnTo>
                    <a:pt x="2" y="682"/>
                  </a:lnTo>
                  <a:lnTo>
                    <a:pt x="6" y="672"/>
                  </a:lnTo>
                  <a:lnTo>
                    <a:pt x="12" y="664"/>
                  </a:lnTo>
                  <a:lnTo>
                    <a:pt x="20" y="656"/>
                  </a:lnTo>
                  <a:lnTo>
                    <a:pt x="30" y="650"/>
                  </a:lnTo>
                  <a:lnTo>
                    <a:pt x="42" y="646"/>
                  </a:lnTo>
                  <a:lnTo>
                    <a:pt x="64" y="642"/>
                  </a:lnTo>
                  <a:lnTo>
                    <a:pt x="64" y="642"/>
                  </a:lnTo>
                  <a:lnTo>
                    <a:pt x="94" y="636"/>
                  </a:lnTo>
                  <a:lnTo>
                    <a:pt x="124" y="630"/>
                  </a:lnTo>
                  <a:lnTo>
                    <a:pt x="152" y="622"/>
                  </a:lnTo>
                  <a:lnTo>
                    <a:pt x="182" y="612"/>
                  </a:lnTo>
                  <a:lnTo>
                    <a:pt x="208" y="600"/>
                  </a:lnTo>
                  <a:lnTo>
                    <a:pt x="236" y="584"/>
                  </a:lnTo>
                  <a:lnTo>
                    <a:pt x="260" y="568"/>
                  </a:lnTo>
                  <a:lnTo>
                    <a:pt x="284" y="550"/>
                  </a:lnTo>
                  <a:lnTo>
                    <a:pt x="88" y="550"/>
                  </a:lnTo>
                  <a:lnTo>
                    <a:pt x="88" y="550"/>
                  </a:lnTo>
                  <a:lnTo>
                    <a:pt x="64" y="548"/>
                  </a:lnTo>
                  <a:lnTo>
                    <a:pt x="52" y="546"/>
                  </a:lnTo>
                  <a:lnTo>
                    <a:pt x="44" y="544"/>
                  </a:lnTo>
                  <a:lnTo>
                    <a:pt x="36" y="538"/>
                  </a:lnTo>
                  <a:lnTo>
                    <a:pt x="28" y="532"/>
                  </a:lnTo>
                  <a:lnTo>
                    <a:pt x="24" y="522"/>
                  </a:lnTo>
                  <a:lnTo>
                    <a:pt x="24" y="508"/>
                  </a:lnTo>
                  <a:lnTo>
                    <a:pt x="24" y="508"/>
                  </a:lnTo>
                  <a:lnTo>
                    <a:pt x="24" y="494"/>
                  </a:lnTo>
                  <a:lnTo>
                    <a:pt x="28" y="482"/>
                  </a:lnTo>
                  <a:lnTo>
                    <a:pt x="36" y="476"/>
                  </a:lnTo>
                  <a:lnTo>
                    <a:pt x="44" y="470"/>
                  </a:lnTo>
                  <a:lnTo>
                    <a:pt x="52" y="468"/>
                  </a:lnTo>
                  <a:lnTo>
                    <a:pt x="64" y="466"/>
                  </a:lnTo>
                  <a:lnTo>
                    <a:pt x="88" y="466"/>
                  </a:lnTo>
                  <a:lnTo>
                    <a:pt x="320" y="466"/>
                  </a:lnTo>
                  <a:lnTo>
                    <a:pt x="320" y="424"/>
                  </a:lnTo>
                  <a:lnTo>
                    <a:pt x="74" y="424"/>
                  </a:lnTo>
                  <a:lnTo>
                    <a:pt x="74" y="424"/>
                  </a:lnTo>
                  <a:lnTo>
                    <a:pt x="48" y="422"/>
                  </a:lnTo>
                  <a:lnTo>
                    <a:pt x="38" y="422"/>
                  </a:lnTo>
                  <a:lnTo>
                    <a:pt x="28" y="418"/>
                  </a:lnTo>
                  <a:lnTo>
                    <a:pt x="20" y="412"/>
                  </a:lnTo>
                  <a:lnTo>
                    <a:pt x="14" y="404"/>
                  </a:lnTo>
                  <a:lnTo>
                    <a:pt x="10" y="394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64"/>
                  </a:lnTo>
                  <a:lnTo>
                    <a:pt x="14" y="354"/>
                  </a:lnTo>
                  <a:lnTo>
                    <a:pt x="20" y="348"/>
                  </a:lnTo>
                  <a:lnTo>
                    <a:pt x="28" y="342"/>
                  </a:lnTo>
                  <a:lnTo>
                    <a:pt x="38" y="340"/>
                  </a:lnTo>
                  <a:lnTo>
                    <a:pt x="50" y="338"/>
                  </a:lnTo>
                  <a:lnTo>
                    <a:pt x="74" y="338"/>
                  </a:lnTo>
                  <a:lnTo>
                    <a:pt x="320" y="338"/>
                  </a:lnTo>
                  <a:lnTo>
                    <a:pt x="320" y="296"/>
                  </a:lnTo>
                  <a:lnTo>
                    <a:pt x="124" y="296"/>
                  </a:lnTo>
                  <a:lnTo>
                    <a:pt x="124" y="296"/>
                  </a:lnTo>
                  <a:lnTo>
                    <a:pt x="100" y="294"/>
                  </a:lnTo>
                  <a:lnTo>
                    <a:pt x="90" y="294"/>
                  </a:lnTo>
                  <a:lnTo>
                    <a:pt x="80" y="290"/>
                  </a:lnTo>
                  <a:lnTo>
                    <a:pt x="72" y="286"/>
                  </a:lnTo>
                  <a:lnTo>
                    <a:pt x="64" y="278"/>
                  </a:lnTo>
                  <a:lnTo>
                    <a:pt x="60" y="268"/>
                  </a:lnTo>
                  <a:lnTo>
                    <a:pt x="60" y="254"/>
                  </a:lnTo>
                  <a:lnTo>
                    <a:pt x="60" y="254"/>
                  </a:lnTo>
                  <a:lnTo>
                    <a:pt x="60" y="240"/>
                  </a:lnTo>
                  <a:lnTo>
                    <a:pt x="64" y="230"/>
                  </a:lnTo>
                  <a:lnTo>
                    <a:pt x="72" y="222"/>
                  </a:lnTo>
                  <a:lnTo>
                    <a:pt x="80" y="218"/>
                  </a:lnTo>
                  <a:lnTo>
                    <a:pt x="90" y="216"/>
                  </a:lnTo>
                  <a:lnTo>
                    <a:pt x="100" y="214"/>
                  </a:lnTo>
                  <a:lnTo>
                    <a:pt x="124" y="214"/>
                  </a:lnTo>
                  <a:lnTo>
                    <a:pt x="320" y="214"/>
                  </a:lnTo>
                  <a:lnTo>
                    <a:pt x="320" y="172"/>
                  </a:lnTo>
                  <a:lnTo>
                    <a:pt x="88" y="172"/>
                  </a:lnTo>
                  <a:lnTo>
                    <a:pt x="88" y="172"/>
                  </a:lnTo>
                  <a:lnTo>
                    <a:pt x="62" y="172"/>
                  </a:lnTo>
                  <a:lnTo>
                    <a:pt x="52" y="170"/>
                  </a:lnTo>
                  <a:lnTo>
                    <a:pt x="42" y="166"/>
                  </a:lnTo>
                  <a:lnTo>
                    <a:pt x="34" y="162"/>
                  </a:lnTo>
                  <a:lnTo>
                    <a:pt x="28" y="152"/>
                  </a:lnTo>
                  <a:lnTo>
                    <a:pt x="24" y="14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12"/>
                  </a:lnTo>
                  <a:lnTo>
                    <a:pt x="28" y="102"/>
                  </a:lnTo>
                  <a:lnTo>
                    <a:pt x="36" y="96"/>
                  </a:lnTo>
                  <a:lnTo>
                    <a:pt x="44" y="90"/>
                  </a:lnTo>
                  <a:lnTo>
                    <a:pt x="52" y="88"/>
                  </a:lnTo>
                  <a:lnTo>
                    <a:pt x="64" y="86"/>
                  </a:lnTo>
                  <a:lnTo>
                    <a:pt x="88" y="84"/>
                  </a:lnTo>
                  <a:lnTo>
                    <a:pt x="188" y="84"/>
                  </a:lnTo>
                  <a:lnTo>
                    <a:pt x="188" y="84"/>
                  </a:lnTo>
                  <a:lnTo>
                    <a:pt x="170" y="62"/>
                  </a:lnTo>
                  <a:lnTo>
                    <a:pt x="168" y="54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68" y="36"/>
                  </a:lnTo>
                  <a:lnTo>
                    <a:pt x="170" y="26"/>
                  </a:lnTo>
                  <a:lnTo>
                    <a:pt x="174" y="18"/>
                  </a:lnTo>
                  <a:lnTo>
                    <a:pt x="182" y="12"/>
                  </a:lnTo>
                  <a:lnTo>
                    <a:pt x="188" y="6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20" y="0"/>
                  </a:lnTo>
                  <a:lnTo>
                    <a:pt x="230" y="4"/>
                  </a:lnTo>
                  <a:lnTo>
                    <a:pt x="240" y="10"/>
                  </a:lnTo>
                  <a:lnTo>
                    <a:pt x="248" y="18"/>
                  </a:lnTo>
                  <a:lnTo>
                    <a:pt x="272" y="46"/>
                  </a:lnTo>
                  <a:lnTo>
                    <a:pt x="300" y="84"/>
                  </a:lnTo>
                  <a:lnTo>
                    <a:pt x="450" y="84"/>
                  </a:lnTo>
                  <a:lnTo>
                    <a:pt x="450" y="84"/>
                  </a:lnTo>
                  <a:lnTo>
                    <a:pt x="494" y="24"/>
                  </a:lnTo>
                  <a:lnTo>
                    <a:pt x="494" y="24"/>
                  </a:lnTo>
                  <a:lnTo>
                    <a:pt x="500" y="16"/>
                  </a:lnTo>
                  <a:lnTo>
                    <a:pt x="508" y="8"/>
                  </a:lnTo>
                  <a:lnTo>
                    <a:pt x="518" y="2"/>
                  </a:lnTo>
                  <a:lnTo>
                    <a:pt x="524" y="0"/>
                  </a:lnTo>
                  <a:lnTo>
                    <a:pt x="532" y="0"/>
                  </a:lnTo>
                  <a:lnTo>
                    <a:pt x="532" y="0"/>
                  </a:lnTo>
                  <a:lnTo>
                    <a:pt x="540" y="2"/>
                  </a:lnTo>
                  <a:lnTo>
                    <a:pt x="546" y="4"/>
                  </a:lnTo>
                  <a:lnTo>
                    <a:pt x="554" y="8"/>
                  </a:lnTo>
                  <a:lnTo>
                    <a:pt x="562" y="12"/>
                  </a:lnTo>
                  <a:lnTo>
                    <a:pt x="568" y="18"/>
                  </a:lnTo>
                  <a:lnTo>
                    <a:pt x="574" y="26"/>
                  </a:lnTo>
                  <a:lnTo>
                    <a:pt x="576" y="34"/>
                  </a:lnTo>
                  <a:lnTo>
                    <a:pt x="578" y="42"/>
                  </a:lnTo>
                  <a:lnTo>
                    <a:pt x="578" y="42"/>
                  </a:lnTo>
                  <a:lnTo>
                    <a:pt x="576" y="54"/>
                  </a:lnTo>
                  <a:lnTo>
                    <a:pt x="574" y="64"/>
                  </a:lnTo>
                  <a:lnTo>
                    <a:pt x="562" y="84"/>
                  </a:lnTo>
                  <a:lnTo>
                    <a:pt x="654" y="84"/>
                  </a:lnTo>
                  <a:lnTo>
                    <a:pt x="654" y="84"/>
                  </a:lnTo>
                  <a:lnTo>
                    <a:pt x="680" y="86"/>
                  </a:lnTo>
                  <a:lnTo>
                    <a:pt x="692" y="88"/>
                  </a:lnTo>
                  <a:lnTo>
                    <a:pt x="700" y="90"/>
                  </a:lnTo>
                  <a:lnTo>
                    <a:pt x="708" y="96"/>
                  </a:lnTo>
                  <a:lnTo>
                    <a:pt x="714" y="104"/>
                  </a:lnTo>
                  <a:lnTo>
                    <a:pt x="718" y="116"/>
                  </a:lnTo>
                  <a:lnTo>
                    <a:pt x="718" y="130"/>
                  </a:lnTo>
                  <a:lnTo>
                    <a:pt x="718" y="130"/>
                  </a:lnTo>
                  <a:lnTo>
                    <a:pt x="718" y="144"/>
                  </a:lnTo>
                  <a:lnTo>
                    <a:pt x="714" y="154"/>
                  </a:lnTo>
                  <a:lnTo>
                    <a:pt x="708" y="162"/>
                  </a:lnTo>
                  <a:lnTo>
                    <a:pt x="698" y="166"/>
                  </a:lnTo>
                  <a:lnTo>
                    <a:pt x="690" y="170"/>
                  </a:lnTo>
                  <a:lnTo>
                    <a:pt x="678" y="172"/>
                  </a:lnTo>
                  <a:lnTo>
                    <a:pt x="654" y="172"/>
                  </a:lnTo>
                  <a:lnTo>
                    <a:pt x="418" y="172"/>
                  </a:lnTo>
                  <a:lnTo>
                    <a:pt x="418" y="214"/>
                  </a:lnTo>
                  <a:lnTo>
                    <a:pt x="620" y="214"/>
                  </a:lnTo>
                  <a:lnTo>
                    <a:pt x="620" y="214"/>
                  </a:lnTo>
                  <a:lnTo>
                    <a:pt x="642" y="214"/>
                  </a:lnTo>
                  <a:lnTo>
                    <a:pt x="654" y="216"/>
                  </a:lnTo>
                  <a:lnTo>
                    <a:pt x="664" y="218"/>
                  </a:lnTo>
                  <a:lnTo>
                    <a:pt x="672" y="222"/>
                  </a:lnTo>
                  <a:lnTo>
                    <a:pt x="678" y="230"/>
                  </a:lnTo>
                  <a:lnTo>
                    <a:pt x="682" y="240"/>
                  </a:lnTo>
                  <a:lnTo>
                    <a:pt x="684" y="254"/>
                  </a:lnTo>
                  <a:lnTo>
                    <a:pt x="684" y="254"/>
                  </a:lnTo>
                  <a:lnTo>
                    <a:pt x="682" y="268"/>
                  </a:lnTo>
                  <a:lnTo>
                    <a:pt x="678" y="278"/>
                  </a:lnTo>
                  <a:lnTo>
                    <a:pt x="672" y="286"/>
                  </a:lnTo>
                  <a:lnTo>
                    <a:pt x="664" y="290"/>
                  </a:lnTo>
                  <a:lnTo>
                    <a:pt x="654" y="294"/>
                  </a:lnTo>
                  <a:lnTo>
                    <a:pt x="642" y="294"/>
                  </a:lnTo>
                  <a:lnTo>
                    <a:pt x="620" y="296"/>
                  </a:lnTo>
                  <a:lnTo>
                    <a:pt x="418" y="296"/>
                  </a:lnTo>
                  <a:lnTo>
                    <a:pt x="418" y="338"/>
                  </a:lnTo>
                  <a:lnTo>
                    <a:pt x="666" y="338"/>
                  </a:lnTo>
                  <a:lnTo>
                    <a:pt x="666" y="338"/>
                  </a:lnTo>
                  <a:lnTo>
                    <a:pt x="692" y="338"/>
                  </a:lnTo>
                  <a:lnTo>
                    <a:pt x="702" y="340"/>
                  </a:lnTo>
                  <a:lnTo>
                    <a:pt x="712" y="342"/>
                  </a:lnTo>
                  <a:lnTo>
                    <a:pt x="720" y="348"/>
                  </a:lnTo>
                  <a:lnTo>
                    <a:pt x="726" y="356"/>
                  </a:lnTo>
                  <a:lnTo>
                    <a:pt x="730" y="368"/>
                  </a:lnTo>
                  <a:lnTo>
                    <a:pt x="730" y="382"/>
                  </a:lnTo>
                  <a:lnTo>
                    <a:pt x="730" y="382"/>
                  </a:lnTo>
                  <a:lnTo>
                    <a:pt x="730" y="396"/>
                  </a:lnTo>
                  <a:lnTo>
                    <a:pt x="726" y="406"/>
                  </a:lnTo>
                  <a:lnTo>
                    <a:pt x="720" y="414"/>
                  </a:lnTo>
                  <a:lnTo>
                    <a:pt x="710" y="418"/>
                  </a:lnTo>
                  <a:lnTo>
                    <a:pt x="702" y="422"/>
                  </a:lnTo>
                  <a:lnTo>
                    <a:pt x="690" y="422"/>
                  </a:lnTo>
                  <a:lnTo>
                    <a:pt x="666" y="424"/>
                  </a:lnTo>
                  <a:lnTo>
                    <a:pt x="418" y="424"/>
                  </a:lnTo>
                  <a:lnTo>
                    <a:pt x="418" y="466"/>
                  </a:lnTo>
                  <a:lnTo>
                    <a:pt x="644" y="466"/>
                  </a:lnTo>
                  <a:lnTo>
                    <a:pt x="644" y="466"/>
                  </a:lnTo>
                  <a:lnTo>
                    <a:pt x="668" y="466"/>
                  </a:lnTo>
                  <a:lnTo>
                    <a:pt x="678" y="468"/>
                  </a:lnTo>
                  <a:lnTo>
                    <a:pt x="688" y="470"/>
                  </a:lnTo>
                  <a:lnTo>
                    <a:pt x="696" y="476"/>
                  </a:lnTo>
                  <a:lnTo>
                    <a:pt x="702" y="482"/>
                  </a:lnTo>
                  <a:lnTo>
                    <a:pt x="706" y="492"/>
                  </a:lnTo>
                  <a:lnTo>
                    <a:pt x="708" y="506"/>
                  </a:lnTo>
                  <a:lnTo>
                    <a:pt x="708" y="506"/>
                  </a:lnTo>
                  <a:lnTo>
                    <a:pt x="706" y="520"/>
                  </a:lnTo>
                  <a:lnTo>
                    <a:pt x="702" y="532"/>
                  </a:lnTo>
                  <a:lnTo>
                    <a:pt x="696" y="538"/>
                  </a:lnTo>
                  <a:lnTo>
                    <a:pt x="688" y="544"/>
                  </a:lnTo>
                  <a:lnTo>
                    <a:pt x="678" y="546"/>
                  </a:lnTo>
                  <a:lnTo>
                    <a:pt x="668" y="548"/>
                  </a:lnTo>
                  <a:lnTo>
                    <a:pt x="644" y="550"/>
                  </a:lnTo>
                  <a:lnTo>
                    <a:pt x="442" y="550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835440" y="7103880"/>
              <a:ext cx="1145880" cy="116496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1164960"/>
                <a:gd name="textAreaBottom" fmla="*/ 1165320 h 1164960"/>
              </a:gdLst>
              <a:ahLst/>
              <a:rect l="textAreaLeft" t="textAreaTop" r="textAreaRight" b="textAreaBottom"/>
              <a:pathLst>
                <a:path w="722" h="734">
                  <a:moveTo>
                    <a:pt x="530" y="670"/>
                  </a:moveTo>
                  <a:lnTo>
                    <a:pt x="530" y="670"/>
                  </a:lnTo>
                  <a:lnTo>
                    <a:pt x="528" y="696"/>
                  </a:lnTo>
                  <a:lnTo>
                    <a:pt x="528" y="706"/>
                  </a:lnTo>
                  <a:lnTo>
                    <a:pt x="524" y="716"/>
                  </a:lnTo>
                  <a:lnTo>
                    <a:pt x="518" y="724"/>
                  </a:lnTo>
                  <a:lnTo>
                    <a:pt x="510" y="730"/>
                  </a:lnTo>
                  <a:lnTo>
                    <a:pt x="500" y="734"/>
                  </a:lnTo>
                  <a:lnTo>
                    <a:pt x="484" y="734"/>
                  </a:lnTo>
                  <a:lnTo>
                    <a:pt x="484" y="734"/>
                  </a:lnTo>
                  <a:lnTo>
                    <a:pt x="468" y="734"/>
                  </a:lnTo>
                  <a:lnTo>
                    <a:pt x="454" y="730"/>
                  </a:lnTo>
                  <a:lnTo>
                    <a:pt x="444" y="726"/>
                  </a:lnTo>
                  <a:lnTo>
                    <a:pt x="438" y="718"/>
                  </a:lnTo>
                  <a:lnTo>
                    <a:pt x="434" y="710"/>
                  </a:lnTo>
                  <a:lnTo>
                    <a:pt x="432" y="698"/>
                  </a:lnTo>
                  <a:lnTo>
                    <a:pt x="432" y="670"/>
                  </a:lnTo>
                  <a:lnTo>
                    <a:pt x="432" y="468"/>
                  </a:lnTo>
                  <a:lnTo>
                    <a:pt x="432" y="468"/>
                  </a:lnTo>
                  <a:lnTo>
                    <a:pt x="414" y="506"/>
                  </a:lnTo>
                  <a:lnTo>
                    <a:pt x="392" y="544"/>
                  </a:lnTo>
                  <a:lnTo>
                    <a:pt x="368" y="578"/>
                  </a:lnTo>
                  <a:lnTo>
                    <a:pt x="344" y="610"/>
                  </a:lnTo>
                  <a:lnTo>
                    <a:pt x="322" y="636"/>
                  </a:lnTo>
                  <a:lnTo>
                    <a:pt x="300" y="658"/>
                  </a:lnTo>
                  <a:lnTo>
                    <a:pt x="290" y="664"/>
                  </a:lnTo>
                  <a:lnTo>
                    <a:pt x="280" y="670"/>
                  </a:lnTo>
                  <a:lnTo>
                    <a:pt x="272" y="674"/>
                  </a:lnTo>
                  <a:lnTo>
                    <a:pt x="266" y="676"/>
                  </a:lnTo>
                  <a:lnTo>
                    <a:pt x="266" y="676"/>
                  </a:lnTo>
                  <a:lnTo>
                    <a:pt x="252" y="674"/>
                  </a:lnTo>
                  <a:lnTo>
                    <a:pt x="240" y="670"/>
                  </a:lnTo>
                  <a:lnTo>
                    <a:pt x="232" y="666"/>
                  </a:lnTo>
                  <a:lnTo>
                    <a:pt x="224" y="660"/>
                  </a:lnTo>
                  <a:lnTo>
                    <a:pt x="220" y="652"/>
                  </a:lnTo>
                  <a:lnTo>
                    <a:pt x="216" y="646"/>
                  </a:lnTo>
                  <a:lnTo>
                    <a:pt x="214" y="634"/>
                  </a:lnTo>
                  <a:lnTo>
                    <a:pt x="214" y="634"/>
                  </a:lnTo>
                  <a:lnTo>
                    <a:pt x="216" y="618"/>
                  </a:lnTo>
                  <a:lnTo>
                    <a:pt x="218" y="612"/>
                  </a:lnTo>
                  <a:lnTo>
                    <a:pt x="222" y="604"/>
                  </a:lnTo>
                  <a:lnTo>
                    <a:pt x="222" y="604"/>
                  </a:lnTo>
                  <a:lnTo>
                    <a:pt x="208" y="608"/>
                  </a:lnTo>
                  <a:lnTo>
                    <a:pt x="196" y="610"/>
                  </a:lnTo>
                  <a:lnTo>
                    <a:pt x="52" y="610"/>
                  </a:lnTo>
                  <a:lnTo>
                    <a:pt x="52" y="610"/>
                  </a:lnTo>
                  <a:lnTo>
                    <a:pt x="38" y="608"/>
                  </a:lnTo>
                  <a:lnTo>
                    <a:pt x="26" y="604"/>
                  </a:lnTo>
                  <a:lnTo>
                    <a:pt x="16" y="596"/>
                  </a:lnTo>
                  <a:lnTo>
                    <a:pt x="10" y="588"/>
                  </a:lnTo>
                  <a:lnTo>
                    <a:pt x="4" y="578"/>
                  </a:lnTo>
                  <a:lnTo>
                    <a:pt x="2" y="568"/>
                  </a:lnTo>
                  <a:lnTo>
                    <a:pt x="0" y="558"/>
                  </a:lnTo>
                  <a:lnTo>
                    <a:pt x="0" y="548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2" y="106"/>
                  </a:lnTo>
                  <a:lnTo>
                    <a:pt x="4" y="96"/>
                  </a:lnTo>
                  <a:lnTo>
                    <a:pt x="10" y="86"/>
                  </a:lnTo>
                  <a:lnTo>
                    <a:pt x="16" y="78"/>
                  </a:lnTo>
                  <a:lnTo>
                    <a:pt x="26" y="70"/>
                  </a:lnTo>
                  <a:lnTo>
                    <a:pt x="38" y="64"/>
                  </a:lnTo>
                  <a:lnTo>
                    <a:pt x="52" y="62"/>
                  </a:lnTo>
                  <a:lnTo>
                    <a:pt x="196" y="62"/>
                  </a:lnTo>
                  <a:lnTo>
                    <a:pt x="196" y="62"/>
                  </a:lnTo>
                  <a:lnTo>
                    <a:pt x="210" y="64"/>
                  </a:lnTo>
                  <a:lnTo>
                    <a:pt x="222" y="70"/>
                  </a:lnTo>
                  <a:lnTo>
                    <a:pt x="232" y="76"/>
                  </a:lnTo>
                  <a:lnTo>
                    <a:pt x="238" y="86"/>
                  </a:lnTo>
                  <a:lnTo>
                    <a:pt x="244" y="96"/>
                  </a:lnTo>
                  <a:lnTo>
                    <a:pt x="248" y="106"/>
                  </a:lnTo>
                  <a:lnTo>
                    <a:pt x="248" y="116"/>
                  </a:lnTo>
                  <a:lnTo>
                    <a:pt x="250" y="124"/>
                  </a:lnTo>
                  <a:lnTo>
                    <a:pt x="250" y="548"/>
                  </a:lnTo>
                  <a:lnTo>
                    <a:pt x="250" y="548"/>
                  </a:lnTo>
                  <a:lnTo>
                    <a:pt x="248" y="564"/>
                  </a:lnTo>
                  <a:lnTo>
                    <a:pt x="242" y="580"/>
                  </a:lnTo>
                  <a:lnTo>
                    <a:pt x="242" y="580"/>
                  </a:lnTo>
                  <a:lnTo>
                    <a:pt x="292" y="524"/>
                  </a:lnTo>
                  <a:lnTo>
                    <a:pt x="306" y="506"/>
                  </a:lnTo>
                  <a:lnTo>
                    <a:pt x="322" y="484"/>
                  </a:lnTo>
                  <a:lnTo>
                    <a:pt x="322" y="484"/>
                  </a:lnTo>
                  <a:lnTo>
                    <a:pt x="338" y="458"/>
                  </a:lnTo>
                  <a:lnTo>
                    <a:pt x="354" y="430"/>
                  </a:lnTo>
                  <a:lnTo>
                    <a:pt x="368" y="404"/>
                  </a:lnTo>
                  <a:lnTo>
                    <a:pt x="380" y="378"/>
                  </a:lnTo>
                  <a:lnTo>
                    <a:pt x="320" y="378"/>
                  </a:lnTo>
                  <a:lnTo>
                    <a:pt x="320" y="378"/>
                  </a:lnTo>
                  <a:lnTo>
                    <a:pt x="296" y="376"/>
                  </a:lnTo>
                  <a:lnTo>
                    <a:pt x="286" y="374"/>
                  </a:lnTo>
                  <a:lnTo>
                    <a:pt x="276" y="372"/>
                  </a:lnTo>
                  <a:lnTo>
                    <a:pt x="268" y="366"/>
                  </a:lnTo>
                  <a:lnTo>
                    <a:pt x="262" y="360"/>
                  </a:lnTo>
                  <a:lnTo>
                    <a:pt x="258" y="348"/>
                  </a:lnTo>
                  <a:lnTo>
                    <a:pt x="256" y="334"/>
                  </a:lnTo>
                  <a:lnTo>
                    <a:pt x="256" y="334"/>
                  </a:lnTo>
                  <a:lnTo>
                    <a:pt x="258" y="320"/>
                  </a:lnTo>
                  <a:lnTo>
                    <a:pt x="260" y="308"/>
                  </a:lnTo>
                  <a:lnTo>
                    <a:pt x="266" y="300"/>
                  </a:lnTo>
                  <a:lnTo>
                    <a:pt x="274" y="294"/>
                  </a:lnTo>
                  <a:lnTo>
                    <a:pt x="284" y="290"/>
                  </a:lnTo>
                  <a:lnTo>
                    <a:pt x="294" y="288"/>
                  </a:lnTo>
                  <a:lnTo>
                    <a:pt x="320" y="288"/>
                  </a:lnTo>
                  <a:lnTo>
                    <a:pt x="432" y="288"/>
                  </a:lnTo>
                  <a:lnTo>
                    <a:pt x="432" y="182"/>
                  </a:lnTo>
                  <a:lnTo>
                    <a:pt x="336" y="182"/>
                  </a:lnTo>
                  <a:lnTo>
                    <a:pt x="336" y="182"/>
                  </a:lnTo>
                  <a:lnTo>
                    <a:pt x="312" y="182"/>
                  </a:lnTo>
                  <a:lnTo>
                    <a:pt x="302" y="180"/>
                  </a:lnTo>
                  <a:lnTo>
                    <a:pt x="292" y="178"/>
                  </a:lnTo>
                  <a:lnTo>
                    <a:pt x="284" y="172"/>
                  </a:lnTo>
                  <a:lnTo>
                    <a:pt x="278" y="166"/>
                  </a:lnTo>
                  <a:lnTo>
                    <a:pt x="274" y="154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4" y="126"/>
                  </a:lnTo>
                  <a:lnTo>
                    <a:pt x="276" y="116"/>
                  </a:lnTo>
                  <a:lnTo>
                    <a:pt x="282" y="108"/>
                  </a:lnTo>
                  <a:lnTo>
                    <a:pt x="290" y="102"/>
                  </a:lnTo>
                  <a:lnTo>
                    <a:pt x="300" y="98"/>
                  </a:lnTo>
                  <a:lnTo>
                    <a:pt x="310" y="96"/>
                  </a:lnTo>
                  <a:lnTo>
                    <a:pt x="336" y="96"/>
                  </a:lnTo>
                  <a:lnTo>
                    <a:pt x="432" y="96"/>
                  </a:lnTo>
                  <a:lnTo>
                    <a:pt x="432" y="64"/>
                  </a:lnTo>
                  <a:lnTo>
                    <a:pt x="432" y="64"/>
                  </a:lnTo>
                  <a:lnTo>
                    <a:pt x="432" y="40"/>
                  </a:lnTo>
                  <a:lnTo>
                    <a:pt x="434" y="28"/>
                  </a:lnTo>
                  <a:lnTo>
                    <a:pt x="438" y="18"/>
                  </a:lnTo>
                  <a:lnTo>
                    <a:pt x="442" y="12"/>
                  </a:lnTo>
                  <a:lnTo>
                    <a:pt x="450" y="6"/>
                  </a:lnTo>
                  <a:lnTo>
                    <a:pt x="462" y="2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94" y="2"/>
                  </a:lnTo>
                  <a:lnTo>
                    <a:pt x="508" y="4"/>
                  </a:lnTo>
                  <a:lnTo>
                    <a:pt x="516" y="10"/>
                  </a:lnTo>
                  <a:lnTo>
                    <a:pt x="522" y="16"/>
                  </a:lnTo>
                  <a:lnTo>
                    <a:pt x="526" y="26"/>
                  </a:lnTo>
                  <a:lnTo>
                    <a:pt x="528" y="36"/>
                  </a:lnTo>
                  <a:lnTo>
                    <a:pt x="530" y="64"/>
                  </a:lnTo>
                  <a:lnTo>
                    <a:pt x="530" y="96"/>
                  </a:lnTo>
                  <a:lnTo>
                    <a:pt x="620" y="96"/>
                  </a:lnTo>
                  <a:lnTo>
                    <a:pt x="620" y="96"/>
                  </a:lnTo>
                  <a:lnTo>
                    <a:pt x="644" y="96"/>
                  </a:lnTo>
                  <a:lnTo>
                    <a:pt x="656" y="98"/>
                  </a:lnTo>
                  <a:lnTo>
                    <a:pt x="664" y="102"/>
                  </a:lnTo>
                  <a:lnTo>
                    <a:pt x="674" y="106"/>
                  </a:lnTo>
                  <a:lnTo>
                    <a:pt x="680" y="114"/>
                  </a:lnTo>
                  <a:lnTo>
                    <a:pt x="684" y="124"/>
                  </a:lnTo>
                  <a:lnTo>
                    <a:pt x="684" y="138"/>
                  </a:lnTo>
                  <a:lnTo>
                    <a:pt x="684" y="138"/>
                  </a:lnTo>
                  <a:lnTo>
                    <a:pt x="684" y="152"/>
                  </a:lnTo>
                  <a:lnTo>
                    <a:pt x="680" y="164"/>
                  </a:lnTo>
                  <a:lnTo>
                    <a:pt x="674" y="172"/>
                  </a:lnTo>
                  <a:lnTo>
                    <a:pt x="666" y="178"/>
                  </a:lnTo>
                  <a:lnTo>
                    <a:pt x="658" y="180"/>
                  </a:lnTo>
                  <a:lnTo>
                    <a:pt x="646" y="182"/>
                  </a:lnTo>
                  <a:lnTo>
                    <a:pt x="620" y="182"/>
                  </a:lnTo>
                  <a:lnTo>
                    <a:pt x="530" y="182"/>
                  </a:lnTo>
                  <a:lnTo>
                    <a:pt x="530" y="288"/>
                  </a:lnTo>
                  <a:lnTo>
                    <a:pt x="638" y="288"/>
                  </a:lnTo>
                  <a:lnTo>
                    <a:pt x="638" y="288"/>
                  </a:lnTo>
                  <a:lnTo>
                    <a:pt x="662" y="288"/>
                  </a:lnTo>
                  <a:lnTo>
                    <a:pt x="674" y="290"/>
                  </a:lnTo>
                  <a:lnTo>
                    <a:pt x="682" y="294"/>
                  </a:lnTo>
                  <a:lnTo>
                    <a:pt x="690" y="298"/>
                  </a:lnTo>
                  <a:lnTo>
                    <a:pt x="696" y="306"/>
                  </a:lnTo>
                  <a:lnTo>
                    <a:pt x="700" y="316"/>
                  </a:lnTo>
                  <a:lnTo>
                    <a:pt x="702" y="330"/>
                  </a:lnTo>
                  <a:lnTo>
                    <a:pt x="702" y="330"/>
                  </a:lnTo>
                  <a:lnTo>
                    <a:pt x="702" y="346"/>
                  </a:lnTo>
                  <a:lnTo>
                    <a:pt x="698" y="358"/>
                  </a:lnTo>
                  <a:lnTo>
                    <a:pt x="692" y="366"/>
                  </a:lnTo>
                  <a:lnTo>
                    <a:pt x="684" y="372"/>
                  </a:lnTo>
                  <a:lnTo>
                    <a:pt x="676" y="374"/>
                  </a:lnTo>
                  <a:lnTo>
                    <a:pt x="664" y="376"/>
                  </a:lnTo>
                  <a:lnTo>
                    <a:pt x="638" y="378"/>
                  </a:lnTo>
                  <a:lnTo>
                    <a:pt x="572" y="378"/>
                  </a:lnTo>
                  <a:lnTo>
                    <a:pt x="572" y="378"/>
                  </a:lnTo>
                  <a:lnTo>
                    <a:pt x="598" y="426"/>
                  </a:lnTo>
                  <a:lnTo>
                    <a:pt x="626" y="474"/>
                  </a:lnTo>
                  <a:lnTo>
                    <a:pt x="656" y="522"/>
                  </a:lnTo>
                  <a:lnTo>
                    <a:pt x="688" y="566"/>
                  </a:lnTo>
                  <a:lnTo>
                    <a:pt x="688" y="566"/>
                  </a:lnTo>
                  <a:lnTo>
                    <a:pt x="704" y="588"/>
                  </a:lnTo>
                  <a:lnTo>
                    <a:pt x="714" y="604"/>
                  </a:lnTo>
                  <a:lnTo>
                    <a:pt x="720" y="618"/>
                  </a:lnTo>
                  <a:lnTo>
                    <a:pt x="722" y="632"/>
                  </a:lnTo>
                  <a:lnTo>
                    <a:pt x="722" y="632"/>
                  </a:lnTo>
                  <a:lnTo>
                    <a:pt x="720" y="642"/>
                  </a:lnTo>
                  <a:lnTo>
                    <a:pt x="718" y="650"/>
                  </a:lnTo>
                  <a:lnTo>
                    <a:pt x="712" y="656"/>
                  </a:lnTo>
                  <a:lnTo>
                    <a:pt x="706" y="662"/>
                  </a:lnTo>
                  <a:lnTo>
                    <a:pt x="700" y="668"/>
                  </a:lnTo>
                  <a:lnTo>
                    <a:pt x="692" y="670"/>
                  </a:lnTo>
                  <a:lnTo>
                    <a:pt x="682" y="674"/>
                  </a:lnTo>
                  <a:lnTo>
                    <a:pt x="672" y="674"/>
                  </a:lnTo>
                  <a:lnTo>
                    <a:pt x="672" y="674"/>
                  </a:lnTo>
                  <a:lnTo>
                    <a:pt x="662" y="672"/>
                  </a:lnTo>
                  <a:lnTo>
                    <a:pt x="654" y="670"/>
                  </a:lnTo>
                  <a:lnTo>
                    <a:pt x="646" y="666"/>
                  </a:lnTo>
                  <a:lnTo>
                    <a:pt x="638" y="660"/>
                  </a:lnTo>
                  <a:lnTo>
                    <a:pt x="628" y="648"/>
                  </a:lnTo>
                  <a:lnTo>
                    <a:pt x="620" y="638"/>
                  </a:lnTo>
                  <a:lnTo>
                    <a:pt x="620" y="638"/>
                  </a:lnTo>
                  <a:lnTo>
                    <a:pt x="592" y="592"/>
                  </a:lnTo>
                  <a:lnTo>
                    <a:pt x="568" y="552"/>
                  </a:lnTo>
                  <a:lnTo>
                    <a:pt x="548" y="514"/>
                  </a:lnTo>
                  <a:lnTo>
                    <a:pt x="530" y="476"/>
                  </a:lnTo>
                  <a:lnTo>
                    <a:pt x="530" y="670"/>
                  </a:lnTo>
                  <a:close/>
                  <a:moveTo>
                    <a:pt x="96" y="152"/>
                  </a:moveTo>
                  <a:lnTo>
                    <a:pt x="96" y="152"/>
                  </a:lnTo>
                  <a:lnTo>
                    <a:pt x="88" y="152"/>
                  </a:lnTo>
                  <a:lnTo>
                    <a:pt x="84" y="156"/>
                  </a:lnTo>
                  <a:lnTo>
                    <a:pt x="82" y="162"/>
                  </a:lnTo>
                  <a:lnTo>
                    <a:pt x="82" y="166"/>
                  </a:lnTo>
                  <a:lnTo>
                    <a:pt x="82" y="506"/>
                  </a:lnTo>
                  <a:lnTo>
                    <a:pt x="82" y="506"/>
                  </a:lnTo>
                  <a:lnTo>
                    <a:pt x="82" y="510"/>
                  </a:lnTo>
                  <a:lnTo>
                    <a:pt x="84" y="516"/>
                  </a:lnTo>
                  <a:lnTo>
                    <a:pt x="88" y="520"/>
                  </a:lnTo>
                  <a:lnTo>
                    <a:pt x="96" y="522"/>
                  </a:lnTo>
                  <a:lnTo>
                    <a:pt x="152" y="522"/>
                  </a:lnTo>
                  <a:lnTo>
                    <a:pt x="152" y="522"/>
                  </a:lnTo>
                  <a:lnTo>
                    <a:pt x="158" y="520"/>
                  </a:lnTo>
                  <a:lnTo>
                    <a:pt x="162" y="516"/>
                  </a:lnTo>
                  <a:lnTo>
                    <a:pt x="162" y="510"/>
                  </a:lnTo>
                  <a:lnTo>
                    <a:pt x="164" y="506"/>
                  </a:lnTo>
                  <a:lnTo>
                    <a:pt x="164" y="166"/>
                  </a:lnTo>
                  <a:lnTo>
                    <a:pt x="164" y="166"/>
                  </a:lnTo>
                  <a:lnTo>
                    <a:pt x="162" y="162"/>
                  </a:lnTo>
                  <a:lnTo>
                    <a:pt x="162" y="156"/>
                  </a:lnTo>
                  <a:lnTo>
                    <a:pt x="158" y="152"/>
                  </a:lnTo>
                  <a:lnTo>
                    <a:pt x="152" y="152"/>
                  </a:lnTo>
                  <a:lnTo>
                    <a:pt x="96" y="152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5434200" y="7164360"/>
              <a:ext cx="920520" cy="106020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1060200"/>
                <a:gd name="textAreaBottom" fmla="*/ 1060560 h 1060200"/>
              </a:gdLst>
              <a:ahLst/>
              <a:rect l="textAreaLeft" t="textAreaTop" r="textAreaRight" b="textAreaBottom"/>
              <a:pathLst>
                <a:path w="580" h="668">
                  <a:moveTo>
                    <a:pt x="110" y="418"/>
                  </a:moveTo>
                  <a:lnTo>
                    <a:pt x="110" y="418"/>
                  </a:lnTo>
                  <a:lnTo>
                    <a:pt x="110" y="440"/>
                  </a:lnTo>
                  <a:lnTo>
                    <a:pt x="112" y="464"/>
                  </a:lnTo>
                  <a:lnTo>
                    <a:pt x="116" y="486"/>
                  </a:lnTo>
                  <a:lnTo>
                    <a:pt x="120" y="498"/>
                  </a:lnTo>
                  <a:lnTo>
                    <a:pt x="124" y="510"/>
                  </a:lnTo>
                  <a:lnTo>
                    <a:pt x="130" y="520"/>
                  </a:lnTo>
                  <a:lnTo>
                    <a:pt x="138" y="530"/>
                  </a:lnTo>
                  <a:lnTo>
                    <a:pt x="148" y="538"/>
                  </a:lnTo>
                  <a:lnTo>
                    <a:pt x="160" y="546"/>
                  </a:lnTo>
                  <a:lnTo>
                    <a:pt x="174" y="552"/>
                  </a:lnTo>
                  <a:lnTo>
                    <a:pt x="188" y="556"/>
                  </a:lnTo>
                  <a:lnTo>
                    <a:pt x="206" y="560"/>
                  </a:lnTo>
                  <a:lnTo>
                    <a:pt x="228" y="560"/>
                  </a:lnTo>
                  <a:lnTo>
                    <a:pt x="228" y="560"/>
                  </a:lnTo>
                  <a:lnTo>
                    <a:pt x="238" y="560"/>
                  </a:lnTo>
                  <a:lnTo>
                    <a:pt x="258" y="558"/>
                  </a:lnTo>
                  <a:lnTo>
                    <a:pt x="286" y="552"/>
                  </a:lnTo>
                  <a:lnTo>
                    <a:pt x="302" y="546"/>
                  </a:lnTo>
                  <a:lnTo>
                    <a:pt x="320" y="540"/>
                  </a:lnTo>
                  <a:lnTo>
                    <a:pt x="338" y="532"/>
                  </a:lnTo>
                  <a:lnTo>
                    <a:pt x="356" y="520"/>
                  </a:lnTo>
                  <a:lnTo>
                    <a:pt x="374" y="508"/>
                  </a:lnTo>
                  <a:lnTo>
                    <a:pt x="392" y="492"/>
                  </a:lnTo>
                  <a:lnTo>
                    <a:pt x="410" y="472"/>
                  </a:lnTo>
                  <a:lnTo>
                    <a:pt x="428" y="450"/>
                  </a:lnTo>
                  <a:lnTo>
                    <a:pt x="446" y="424"/>
                  </a:lnTo>
                  <a:lnTo>
                    <a:pt x="462" y="396"/>
                  </a:lnTo>
                  <a:lnTo>
                    <a:pt x="462" y="396"/>
                  </a:lnTo>
                  <a:lnTo>
                    <a:pt x="476" y="366"/>
                  </a:lnTo>
                  <a:lnTo>
                    <a:pt x="482" y="354"/>
                  </a:lnTo>
                  <a:lnTo>
                    <a:pt x="490" y="346"/>
                  </a:lnTo>
                  <a:lnTo>
                    <a:pt x="496" y="340"/>
                  </a:lnTo>
                  <a:lnTo>
                    <a:pt x="504" y="336"/>
                  </a:lnTo>
                  <a:lnTo>
                    <a:pt x="512" y="334"/>
                  </a:lnTo>
                  <a:lnTo>
                    <a:pt x="522" y="332"/>
                  </a:lnTo>
                  <a:lnTo>
                    <a:pt x="522" y="332"/>
                  </a:lnTo>
                  <a:lnTo>
                    <a:pt x="532" y="334"/>
                  </a:lnTo>
                  <a:lnTo>
                    <a:pt x="540" y="336"/>
                  </a:lnTo>
                  <a:lnTo>
                    <a:pt x="550" y="340"/>
                  </a:lnTo>
                  <a:lnTo>
                    <a:pt x="560" y="344"/>
                  </a:lnTo>
                  <a:lnTo>
                    <a:pt x="568" y="352"/>
                  </a:lnTo>
                  <a:lnTo>
                    <a:pt x="574" y="360"/>
                  </a:lnTo>
                  <a:lnTo>
                    <a:pt x="578" y="372"/>
                  </a:lnTo>
                  <a:lnTo>
                    <a:pt x="580" y="384"/>
                  </a:lnTo>
                  <a:lnTo>
                    <a:pt x="580" y="384"/>
                  </a:lnTo>
                  <a:lnTo>
                    <a:pt x="580" y="396"/>
                  </a:lnTo>
                  <a:lnTo>
                    <a:pt x="578" y="406"/>
                  </a:lnTo>
                  <a:lnTo>
                    <a:pt x="568" y="430"/>
                  </a:lnTo>
                  <a:lnTo>
                    <a:pt x="556" y="454"/>
                  </a:lnTo>
                  <a:lnTo>
                    <a:pt x="542" y="478"/>
                  </a:lnTo>
                  <a:lnTo>
                    <a:pt x="514" y="516"/>
                  </a:lnTo>
                  <a:lnTo>
                    <a:pt x="498" y="536"/>
                  </a:lnTo>
                  <a:lnTo>
                    <a:pt x="498" y="536"/>
                  </a:lnTo>
                  <a:lnTo>
                    <a:pt x="470" y="564"/>
                  </a:lnTo>
                  <a:lnTo>
                    <a:pt x="442" y="590"/>
                  </a:lnTo>
                  <a:lnTo>
                    <a:pt x="410" y="612"/>
                  </a:lnTo>
                  <a:lnTo>
                    <a:pt x="376" y="632"/>
                  </a:lnTo>
                  <a:lnTo>
                    <a:pt x="340" y="646"/>
                  </a:lnTo>
                  <a:lnTo>
                    <a:pt x="302" y="658"/>
                  </a:lnTo>
                  <a:lnTo>
                    <a:pt x="280" y="662"/>
                  </a:lnTo>
                  <a:lnTo>
                    <a:pt x="260" y="666"/>
                  </a:lnTo>
                  <a:lnTo>
                    <a:pt x="238" y="668"/>
                  </a:lnTo>
                  <a:lnTo>
                    <a:pt x="216" y="668"/>
                  </a:lnTo>
                  <a:lnTo>
                    <a:pt x="216" y="668"/>
                  </a:lnTo>
                  <a:lnTo>
                    <a:pt x="176" y="666"/>
                  </a:lnTo>
                  <a:lnTo>
                    <a:pt x="142" y="660"/>
                  </a:lnTo>
                  <a:lnTo>
                    <a:pt x="114" y="650"/>
                  </a:lnTo>
                  <a:lnTo>
                    <a:pt x="88" y="636"/>
                  </a:lnTo>
                  <a:lnTo>
                    <a:pt x="68" y="620"/>
                  </a:lnTo>
                  <a:lnTo>
                    <a:pt x="50" y="602"/>
                  </a:lnTo>
                  <a:lnTo>
                    <a:pt x="36" y="584"/>
                  </a:lnTo>
                  <a:lnTo>
                    <a:pt x="24" y="562"/>
                  </a:lnTo>
                  <a:lnTo>
                    <a:pt x="16" y="540"/>
                  </a:lnTo>
                  <a:lnTo>
                    <a:pt x="10" y="520"/>
                  </a:lnTo>
                  <a:lnTo>
                    <a:pt x="6" y="498"/>
                  </a:lnTo>
                  <a:lnTo>
                    <a:pt x="2" y="476"/>
                  </a:lnTo>
                  <a:lnTo>
                    <a:pt x="0" y="438"/>
                  </a:lnTo>
                  <a:lnTo>
                    <a:pt x="0" y="40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8" y="52"/>
                  </a:lnTo>
                  <a:lnTo>
                    <a:pt x="10" y="38"/>
                  </a:lnTo>
                  <a:lnTo>
                    <a:pt x="14" y="26"/>
                  </a:lnTo>
                  <a:lnTo>
                    <a:pt x="22" y="14"/>
                  </a:lnTo>
                  <a:lnTo>
                    <a:pt x="30" y="6"/>
                  </a:lnTo>
                  <a:lnTo>
                    <a:pt x="44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80" y="2"/>
                  </a:lnTo>
                  <a:lnTo>
                    <a:pt x="88" y="4"/>
                  </a:lnTo>
                  <a:lnTo>
                    <a:pt x="96" y="8"/>
                  </a:lnTo>
                  <a:lnTo>
                    <a:pt x="106" y="16"/>
                  </a:lnTo>
                  <a:lnTo>
                    <a:pt x="112" y="28"/>
                  </a:lnTo>
                  <a:lnTo>
                    <a:pt x="116" y="40"/>
                  </a:lnTo>
                  <a:lnTo>
                    <a:pt x="118" y="54"/>
                  </a:lnTo>
                  <a:lnTo>
                    <a:pt x="118" y="86"/>
                  </a:lnTo>
                  <a:lnTo>
                    <a:pt x="110" y="418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6761160" y="7202520"/>
              <a:ext cx="1057320" cy="98424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66" h="620">
                  <a:moveTo>
                    <a:pt x="142" y="52"/>
                  </a:moveTo>
                  <a:lnTo>
                    <a:pt x="142" y="52"/>
                  </a:lnTo>
                  <a:lnTo>
                    <a:pt x="140" y="62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24" y="132"/>
                  </a:lnTo>
                  <a:lnTo>
                    <a:pt x="116" y="182"/>
                  </a:lnTo>
                  <a:lnTo>
                    <a:pt x="112" y="228"/>
                  </a:lnTo>
                  <a:lnTo>
                    <a:pt x="112" y="268"/>
                  </a:lnTo>
                  <a:lnTo>
                    <a:pt x="112" y="268"/>
                  </a:lnTo>
                  <a:lnTo>
                    <a:pt x="114" y="312"/>
                  </a:lnTo>
                  <a:lnTo>
                    <a:pt x="118" y="354"/>
                  </a:lnTo>
                  <a:lnTo>
                    <a:pt x="126" y="396"/>
                  </a:lnTo>
                  <a:lnTo>
                    <a:pt x="136" y="432"/>
                  </a:lnTo>
                  <a:lnTo>
                    <a:pt x="142" y="448"/>
                  </a:lnTo>
                  <a:lnTo>
                    <a:pt x="148" y="462"/>
                  </a:lnTo>
                  <a:lnTo>
                    <a:pt x="156" y="474"/>
                  </a:lnTo>
                  <a:lnTo>
                    <a:pt x="164" y="486"/>
                  </a:lnTo>
                  <a:lnTo>
                    <a:pt x="172" y="494"/>
                  </a:lnTo>
                  <a:lnTo>
                    <a:pt x="182" y="500"/>
                  </a:lnTo>
                  <a:lnTo>
                    <a:pt x="190" y="504"/>
                  </a:lnTo>
                  <a:lnTo>
                    <a:pt x="202" y="506"/>
                  </a:lnTo>
                  <a:lnTo>
                    <a:pt x="202" y="506"/>
                  </a:lnTo>
                  <a:lnTo>
                    <a:pt x="206" y="506"/>
                  </a:lnTo>
                  <a:lnTo>
                    <a:pt x="212" y="504"/>
                  </a:lnTo>
                  <a:lnTo>
                    <a:pt x="220" y="498"/>
                  </a:lnTo>
                  <a:lnTo>
                    <a:pt x="228" y="486"/>
                  </a:lnTo>
                  <a:lnTo>
                    <a:pt x="240" y="468"/>
                  </a:lnTo>
                  <a:lnTo>
                    <a:pt x="240" y="468"/>
                  </a:lnTo>
                  <a:lnTo>
                    <a:pt x="246" y="460"/>
                  </a:lnTo>
                  <a:lnTo>
                    <a:pt x="254" y="450"/>
                  </a:lnTo>
                  <a:lnTo>
                    <a:pt x="260" y="446"/>
                  </a:lnTo>
                  <a:lnTo>
                    <a:pt x="268" y="442"/>
                  </a:lnTo>
                  <a:lnTo>
                    <a:pt x="276" y="440"/>
                  </a:lnTo>
                  <a:lnTo>
                    <a:pt x="286" y="440"/>
                  </a:lnTo>
                  <a:lnTo>
                    <a:pt x="286" y="440"/>
                  </a:lnTo>
                  <a:lnTo>
                    <a:pt x="296" y="440"/>
                  </a:lnTo>
                  <a:lnTo>
                    <a:pt x="304" y="442"/>
                  </a:lnTo>
                  <a:lnTo>
                    <a:pt x="314" y="446"/>
                  </a:lnTo>
                  <a:lnTo>
                    <a:pt x="322" y="452"/>
                  </a:lnTo>
                  <a:lnTo>
                    <a:pt x="328" y="460"/>
                  </a:lnTo>
                  <a:lnTo>
                    <a:pt x="334" y="468"/>
                  </a:lnTo>
                  <a:lnTo>
                    <a:pt x="338" y="480"/>
                  </a:lnTo>
                  <a:lnTo>
                    <a:pt x="340" y="492"/>
                  </a:lnTo>
                  <a:lnTo>
                    <a:pt x="340" y="492"/>
                  </a:lnTo>
                  <a:lnTo>
                    <a:pt x="338" y="502"/>
                  </a:lnTo>
                  <a:lnTo>
                    <a:pt x="336" y="512"/>
                  </a:lnTo>
                  <a:lnTo>
                    <a:pt x="328" y="534"/>
                  </a:lnTo>
                  <a:lnTo>
                    <a:pt x="314" y="556"/>
                  </a:lnTo>
                  <a:lnTo>
                    <a:pt x="298" y="576"/>
                  </a:lnTo>
                  <a:lnTo>
                    <a:pt x="276" y="594"/>
                  </a:lnTo>
                  <a:lnTo>
                    <a:pt x="264" y="602"/>
                  </a:lnTo>
                  <a:lnTo>
                    <a:pt x="252" y="608"/>
                  </a:lnTo>
                  <a:lnTo>
                    <a:pt x="240" y="614"/>
                  </a:lnTo>
                  <a:lnTo>
                    <a:pt x="226" y="618"/>
                  </a:lnTo>
                  <a:lnTo>
                    <a:pt x="212" y="620"/>
                  </a:lnTo>
                  <a:lnTo>
                    <a:pt x="198" y="620"/>
                  </a:lnTo>
                  <a:lnTo>
                    <a:pt x="198" y="620"/>
                  </a:lnTo>
                  <a:lnTo>
                    <a:pt x="182" y="620"/>
                  </a:lnTo>
                  <a:lnTo>
                    <a:pt x="164" y="616"/>
                  </a:lnTo>
                  <a:lnTo>
                    <a:pt x="148" y="608"/>
                  </a:lnTo>
                  <a:lnTo>
                    <a:pt x="130" y="598"/>
                  </a:lnTo>
                  <a:lnTo>
                    <a:pt x="114" y="586"/>
                  </a:lnTo>
                  <a:lnTo>
                    <a:pt x="98" y="572"/>
                  </a:lnTo>
                  <a:lnTo>
                    <a:pt x="82" y="552"/>
                  </a:lnTo>
                  <a:lnTo>
                    <a:pt x="66" y="532"/>
                  </a:lnTo>
                  <a:lnTo>
                    <a:pt x="52" y="508"/>
                  </a:lnTo>
                  <a:lnTo>
                    <a:pt x="40" y="480"/>
                  </a:lnTo>
                  <a:lnTo>
                    <a:pt x="28" y="450"/>
                  </a:lnTo>
                  <a:lnTo>
                    <a:pt x="20" y="416"/>
                  </a:lnTo>
                  <a:lnTo>
                    <a:pt x="12" y="380"/>
                  </a:lnTo>
                  <a:lnTo>
                    <a:pt x="6" y="340"/>
                  </a:lnTo>
                  <a:lnTo>
                    <a:pt x="2" y="298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2" y="212"/>
                  </a:lnTo>
                  <a:lnTo>
                    <a:pt x="4" y="174"/>
                  </a:lnTo>
                  <a:lnTo>
                    <a:pt x="6" y="140"/>
                  </a:lnTo>
                  <a:lnTo>
                    <a:pt x="10" y="110"/>
                  </a:lnTo>
                  <a:lnTo>
                    <a:pt x="20" y="62"/>
                  </a:lnTo>
                  <a:lnTo>
                    <a:pt x="24" y="4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24"/>
                  </a:lnTo>
                  <a:lnTo>
                    <a:pt x="40" y="18"/>
                  </a:lnTo>
                  <a:lnTo>
                    <a:pt x="52" y="8"/>
                  </a:lnTo>
                  <a:lnTo>
                    <a:pt x="6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90" y="2"/>
                  </a:lnTo>
                  <a:lnTo>
                    <a:pt x="102" y="4"/>
                  </a:lnTo>
                  <a:lnTo>
                    <a:pt x="112" y="8"/>
                  </a:lnTo>
                  <a:lnTo>
                    <a:pt x="124" y="14"/>
                  </a:lnTo>
                  <a:lnTo>
                    <a:pt x="134" y="22"/>
                  </a:lnTo>
                  <a:lnTo>
                    <a:pt x="136" y="28"/>
                  </a:lnTo>
                  <a:lnTo>
                    <a:pt x="140" y="34"/>
                  </a:lnTo>
                  <a:lnTo>
                    <a:pt x="142" y="42"/>
                  </a:lnTo>
                  <a:lnTo>
                    <a:pt x="142" y="52"/>
                  </a:lnTo>
                  <a:lnTo>
                    <a:pt x="142" y="52"/>
                  </a:lnTo>
                  <a:close/>
                  <a:moveTo>
                    <a:pt x="608" y="508"/>
                  </a:moveTo>
                  <a:lnTo>
                    <a:pt x="608" y="508"/>
                  </a:lnTo>
                  <a:lnTo>
                    <a:pt x="594" y="508"/>
                  </a:lnTo>
                  <a:lnTo>
                    <a:pt x="582" y="504"/>
                  </a:lnTo>
                  <a:lnTo>
                    <a:pt x="572" y="498"/>
                  </a:lnTo>
                  <a:lnTo>
                    <a:pt x="564" y="492"/>
                  </a:lnTo>
                  <a:lnTo>
                    <a:pt x="558" y="482"/>
                  </a:lnTo>
                  <a:lnTo>
                    <a:pt x="554" y="472"/>
                  </a:lnTo>
                  <a:lnTo>
                    <a:pt x="552" y="460"/>
                  </a:lnTo>
                  <a:lnTo>
                    <a:pt x="550" y="446"/>
                  </a:lnTo>
                  <a:lnTo>
                    <a:pt x="550" y="446"/>
                  </a:lnTo>
                  <a:lnTo>
                    <a:pt x="548" y="402"/>
                  </a:lnTo>
                  <a:lnTo>
                    <a:pt x="546" y="374"/>
                  </a:lnTo>
                  <a:lnTo>
                    <a:pt x="540" y="340"/>
                  </a:lnTo>
                  <a:lnTo>
                    <a:pt x="530" y="306"/>
                  </a:lnTo>
                  <a:lnTo>
                    <a:pt x="518" y="268"/>
                  </a:lnTo>
                  <a:lnTo>
                    <a:pt x="502" y="230"/>
                  </a:lnTo>
                  <a:lnTo>
                    <a:pt x="490" y="212"/>
                  </a:lnTo>
                  <a:lnTo>
                    <a:pt x="478" y="194"/>
                  </a:lnTo>
                  <a:lnTo>
                    <a:pt x="478" y="194"/>
                  </a:lnTo>
                  <a:lnTo>
                    <a:pt x="462" y="172"/>
                  </a:lnTo>
                  <a:lnTo>
                    <a:pt x="444" y="152"/>
                  </a:lnTo>
                  <a:lnTo>
                    <a:pt x="444" y="152"/>
                  </a:lnTo>
                  <a:lnTo>
                    <a:pt x="440" y="138"/>
                  </a:lnTo>
                  <a:lnTo>
                    <a:pt x="438" y="126"/>
                  </a:lnTo>
                  <a:lnTo>
                    <a:pt x="438" y="126"/>
                  </a:lnTo>
                  <a:lnTo>
                    <a:pt x="440" y="114"/>
                  </a:lnTo>
                  <a:lnTo>
                    <a:pt x="442" y="104"/>
                  </a:lnTo>
                  <a:lnTo>
                    <a:pt x="448" y="94"/>
                  </a:lnTo>
                  <a:lnTo>
                    <a:pt x="456" y="88"/>
                  </a:lnTo>
                  <a:lnTo>
                    <a:pt x="464" y="80"/>
                  </a:lnTo>
                  <a:lnTo>
                    <a:pt x="474" y="76"/>
                  </a:lnTo>
                  <a:lnTo>
                    <a:pt x="484" y="74"/>
                  </a:lnTo>
                  <a:lnTo>
                    <a:pt x="494" y="72"/>
                  </a:lnTo>
                  <a:lnTo>
                    <a:pt x="494" y="72"/>
                  </a:lnTo>
                  <a:lnTo>
                    <a:pt x="502" y="74"/>
                  </a:lnTo>
                  <a:lnTo>
                    <a:pt x="512" y="74"/>
                  </a:lnTo>
                  <a:lnTo>
                    <a:pt x="520" y="78"/>
                  </a:lnTo>
                  <a:lnTo>
                    <a:pt x="528" y="84"/>
                  </a:lnTo>
                  <a:lnTo>
                    <a:pt x="538" y="92"/>
                  </a:lnTo>
                  <a:lnTo>
                    <a:pt x="548" y="102"/>
                  </a:lnTo>
                  <a:lnTo>
                    <a:pt x="570" y="132"/>
                  </a:lnTo>
                  <a:lnTo>
                    <a:pt x="570" y="132"/>
                  </a:lnTo>
                  <a:lnTo>
                    <a:pt x="584" y="150"/>
                  </a:lnTo>
                  <a:lnTo>
                    <a:pt x="594" y="170"/>
                  </a:lnTo>
                  <a:lnTo>
                    <a:pt x="614" y="212"/>
                  </a:lnTo>
                  <a:lnTo>
                    <a:pt x="630" y="254"/>
                  </a:lnTo>
                  <a:lnTo>
                    <a:pt x="644" y="298"/>
                  </a:lnTo>
                  <a:lnTo>
                    <a:pt x="654" y="340"/>
                  </a:lnTo>
                  <a:lnTo>
                    <a:pt x="660" y="378"/>
                  </a:lnTo>
                  <a:lnTo>
                    <a:pt x="664" y="414"/>
                  </a:lnTo>
                  <a:lnTo>
                    <a:pt x="666" y="444"/>
                  </a:lnTo>
                  <a:lnTo>
                    <a:pt x="666" y="444"/>
                  </a:lnTo>
                  <a:lnTo>
                    <a:pt x="664" y="458"/>
                  </a:lnTo>
                  <a:lnTo>
                    <a:pt x="662" y="470"/>
                  </a:lnTo>
                  <a:lnTo>
                    <a:pt x="658" y="480"/>
                  </a:lnTo>
                  <a:lnTo>
                    <a:pt x="652" y="492"/>
                  </a:lnTo>
                  <a:lnTo>
                    <a:pt x="642" y="500"/>
                  </a:lnTo>
                  <a:lnTo>
                    <a:pt x="634" y="504"/>
                  </a:lnTo>
                  <a:lnTo>
                    <a:pt x="628" y="506"/>
                  </a:lnTo>
                  <a:lnTo>
                    <a:pt x="618" y="508"/>
                  </a:lnTo>
                  <a:lnTo>
                    <a:pt x="608" y="508"/>
                  </a:lnTo>
                  <a:lnTo>
                    <a:pt x="608" y="508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3070080" y="8586720"/>
              <a:ext cx="1184040" cy="1117440"/>
            </a:xfrm>
            <a:custGeom>
              <a:avLst/>
              <a:gdLst>
                <a:gd name="textAreaLeft" fmla="*/ 0 w 1184040"/>
                <a:gd name="textAreaRight" fmla="*/ 1184040 w 118404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746" h="704">
                  <a:moveTo>
                    <a:pt x="520" y="236"/>
                  </a:moveTo>
                  <a:lnTo>
                    <a:pt x="520" y="236"/>
                  </a:lnTo>
                  <a:lnTo>
                    <a:pt x="488" y="204"/>
                  </a:lnTo>
                  <a:lnTo>
                    <a:pt x="470" y="188"/>
                  </a:lnTo>
                  <a:lnTo>
                    <a:pt x="470" y="188"/>
                  </a:lnTo>
                  <a:lnTo>
                    <a:pt x="464" y="182"/>
                  </a:lnTo>
                  <a:lnTo>
                    <a:pt x="460" y="174"/>
                  </a:lnTo>
                  <a:lnTo>
                    <a:pt x="456" y="166"/>
                  </a:lnTo>
                  <a:lnTo>
                    <a:pt x="456" y="158"/>
                  </a:lnTo>
                  <a:lnTo>
                    <a:pt x="456" y="158"/>
                  </a:lnTo>
                  <a:lnTo>
                    <a:pt x="456" y="150"/>
                  </a:lnTo>
                  <a:lnTo>
                    <a:pt x="460" y="142"/>
                  </a:lnTo>
                  <a:lnTo>
                    <a:pt x="464" y="134"/>
                  </a:lnTo>
                  <a:lnTo>
                    <a:pt x="470" y="128"/>
                  </a:lnTo>
                  <a:lnTo>
                    <a:pt x="476" y="122"/>
                  </a:lnTo>
                  <a:lnTo>
                    <a:pt x="484" y="118"/>
                  </a:lnTo>
                  <a:lnTo>
                    <a:pt x="492" y="116"/>
                  </a:lnTo>
                  <a:lnTo>
                    <a:pt x="500" y="114"/>
                  </a:lnTo>
                  <a:lnTo>
                    <a:pt x="500" y="114"/>
                  </a:lnTo>
                  <a:lnTo>
                    <a:pt x="512" y="116"/>
                  </a:lnTo>
                  <a:lnTo>
                    <a:pt x="522" y="120"/>
                  </a:lnTo>
                  <a:lnTo>
                    <a:pt x="536" y="134"/>
                  </a:lnTo>
                  <a:lnTo>
                    <a:pt x="560" y="156"/>
                  </a:lnTo>
                  <a:lnTo>
                    <a:pt x="560" y="156"/>
                  </a:lnTo>
                  <a:lnTo>
                    <a:pt x="592" y="122"/>
                  </a:lnTo>
                  <a:lnTo>
                    <a:pt x="608" y="102"/>
                  </a:lnTo>
                  <a:lnTo>
                    <a:pt x="612" y="94"/>
                  </a:lnTo>
                  <a:lnTo>
                    <a:pt x="614" y="90"/>
                  </a:lnTo>
                  <a:lnTo>
                    <a:pt x="614" y="90"/>
                  </a:lnTo>
                  <a:lnTo>
                    <a:pt x="614" y="88"/>
                  </a:lnTo>
                  <a:lnTo>
                    <a:pt x="612" y="86"/>
                  </a:lnTo>
                  <a:lnTo>
                    <a:pt x="602" y="86"/>
                  </a:lnTo>
                  <a:lnTo>
                    <a:pt x="468" y="86"/>
                  </a:lnTo>
                  <a:lnTo>
                    <a:pt x="468" y="86"/>
                  </a:lnTo>
                  <a:lnTo>
                    <a:pt x="444" y="86"/>
                  </a:lnTo>
                  <a:lnTo>
                    <a:pt x="434" y="84"/>
                  </a:lnTo>
                  <a:lnTo>
                    <a:pt x="424" y="80"/>
                  </a:lnTo>
                  <a:lnTo>
                    <a:pt x="416" y="76"/>
                  </a:lnTo>
                  <a:lnTo>
                    <a:pt x="410" y="68"/>
                  </a:lnTo>
                  <a:lnTo>
                    <a:pt x="406" y="58"/>
                  </a:lnTo>
                  <a:lnTo>
                    <a:pt x="404" y="44"/>
                  </a:lnTo>
                  <a:lnTo>
                    <a:pt x="404" y="44"/>
                  </a:lnTo>
                  <a:lnTo>
                    <a:pt x="406" y="30"/>
                  </a:lnTo>
                  <a:lnTo>
                    <a:pt x="410" y="18"/>
                  </a:lnTo>
                  <a:lnTo>
                    <a:pt x="416" y="10"/>
                  </a:lnTo>
                  <a:lnTo>
                    <a:pt x="424" y="6"/>
                  </a:lnTo>
                  <a:lnTo>
                    <a:pt x="432" y="2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62" y="2"/>
                  </a:lnTo>
                  <a:lnTo>
                    <a:pt x="680" y="6"/>
                  </a:lnTo>
                  <a:lnTo>
                    <a:pt x="694" y="12"/>
                  </a:lnTo>
                  <a:lnTo>
                    <a:pt x="704" y="20"/>
                  </a:lnTo>
                  <a:lnTo>
                    <a:pt x="712" y="30"/>
                  </a:lnTo>
                  <a:lnTo>
                    <a:pt x="718" y="42"/>
                  </a:lnTo>
                  <a:lnTo>
                    <a:pt x="720" y="54"/>
                  </a:lnTo>
                  <a:lnTo>
                    <a:pt x="722" y="68"/>
                  </a:lnTo>
                  <a:lnTo>
                    <a:pt x="722" y="68"/>
                  </a:lnTo>
                  <a:lnTo>
                    <a:pt x="720" y="80"/>
                  </a:lnTo>
                  <a:lnTo>
                    <a:pt x="716" y="94"/>
                  </a:lnTo>
                  <a:lnTo>
                    <a:pt x="710" y="108"/>
                  </a:lnTo>
                  <a:lnTo>
                    <a:pt x="702" y="124"/>
                  </a:lnTo>
                  <a:lnTo>
                    <a:pt x="688" y="142"/>
                  </a:lnTo>
                  <a:lnTo>
                    <a:pt x="670" y="164"/>
                  </a:lnTo>
                  <a:lnTo>
                    <a:pt x="618" y="218"/>
                  </a:lnTo>
                  <a:lnTo>
                    <a:pt x="618" y="218"/>
                  </a:lnTo>
                  <a:lnTo>
                    <a:pt x="632" y="236"/>
                  </a:lnTo>
                  <a:lnTo>
                    <a:pt x="674" y="236"/>
                  </a:lnTo>
                  <a:lnTo>
                    <a:pt x="674" y="236"/>
                  </a:lnTo>
                  <a:lnTo>
                    <a:pt x="692" y="238"/>
                  </a:lnTo>
                  <a:lnTo>
                    <a:pt x="706" y="242"/>
                  </a:lnTo>
                  <a:lnTo>
                    <a:pt x="718" y="248"/>
                  </a:lnTo>
                  <a:lnTo>
                    <a:pt x="728" y="256"/>
                  </a:lnTo>
                  <a:lnTo>
                    <a:pt x="736" y="266"/>
                  </a:lnTo>
                  <a:lnTo>
                    <a:pt x="742" y="278"/>
                  </a:lnTo>
                  <a:lnTo>
                    <a:pt x="744" y="292"/>
                  </a:lnTo>
                  <a:lnTo>
                    <a:pt x="746" y="310"/>
                  </a:lnTo>
                  <a:lnTo>
                    <a:pt x="746" y="310"/>
                  </a:lnTo>
                  <a:lnTo>
                    <a:pt x="744" y="328"/>
                  </a:lnTo>
                  <a:lnTo>
                    <a:pt x="740" y="350"/>
                  </a:lnTo>
                  <a:lnTo>
                    <a:pt x="734" y="372"/>
                  </a:lnTo>
                  <a:lnTo>
                    <a:pt x="726" y="396"/>
                  </a:lnTo>
                  <a:lnTo>
                    <a:pt x="710" y="438"/>
                  </a:lnTo>
                  <a:lnTo>
                    <a:pt x="700" y="456"/>
                  </a:lnTo>
                  <a:lnTo>
                    <a:pt x="694" y="468"/>
                  </a:lnTo>
                  <a:lnTo>
                    <a:pt x="694" y="468"/>
                  </a:lnTo>
                  <a:lnTo>
                    <a:pt x="690" y="472"/>
                  </a:lnTo>
                  <a:lnTo>
                    <a:pt x="684" y="478"/>
                  </a:lnTo>
                  <a:lnTo>
                    <a:pt x="674" y="484"/>
                  </a:lnTo>
                  <a:lnTo>
                    <a:pt x="668" y="484"/>
                  </a:lnTo>
                  <a:lnTo>
                    <a:pt x="662" y="486"/>
                  </a:lnTo>
                  <a:lnTo>
                    <a:pt x="662" y="486"/>
                  </a:lnTo>
                  <a:lnTo>
                    <a:pt x="652" y="484"/>
                  </a:lnTo>
                  <a:lnTo>
                    <a:pt x="642" y="482"/>
                  </a:lnTo>
                  <a:lnTo>
                    <a:pt x="634" y="478"/>
                  </a:lnTo>
                  <a:lnTo>
                    <a:pt x="626" y="472"/>
                  </a:lnTo>
                  <a:lnTo>
                    <a:pt x="620" y="466"/>
                  </a:lnTo>
                  <a:lnTo>
                    <a:pt x="616" y="458"/>
                  </a:lnTo>
                  <a:lnTo>
                    <a:pt x="612" y="450"/>
                  </a:lnTo>
                  <a:lnTo>
                    <a:pt x="612" y="440"/>
                  </a:lnTo>
                  <a:lnTo>
                    <a:pt x="612" y="440"/>
                  </a:lnTo>
                  <a:lnTo>
                    <a:pt x="614" y="432"/>
                  </a:lnTo>
                  <a:lnTo>
                    <a:pt x="618" y="418"/>
                  </a:lnTo>
                  <a:lnTo>
                    <a:pt x="632" y="386"/>
                  </a:lnTo>
                  <a:lnTo>
                    <a:pt x="648" y="356"/>
                  </a:lnTo>
                  <a:lnTo>
                    <a:pt x="652" y="344"/>
                  </a:lnTo>
                  <a:lnTo>
                    <a:pt x="654" y="334"/>
                  </a:lnTo>
                  <a:lnTo>
                    <a:pt x="654" y="334"/>
                  </a:lnTo>
                  <a:lnTo>
                    <a:pt x="652" y="332"/>
                  </a:lnTo>
                  <a:lnTo>
                    <a:pt x="650" y="330"/>
                  </a:lnTo>
                  <a:lnTo>
                    <a:pt x="646" y="328"/>
                  </a:lnTo>
                  <a:lnTo>
                    <a:pt x="598" y="328"/>
                  </a:lnTo>
                  <a:lnTo>
                    <a:pt x="598" y="634"/>
                  </a:lnTo>
                  <a:lnTo>
                    <a:pt x="598" y="634"/>
                  </a:lnTo>
                  <a:lnTo>
                    <a:pt x="596" y="650"/>
                  </a:lnTo>
                  <a:lnTo>
                    <a:pt x="592" y="666"/>
                  </a:lnTo>
                  <a:lnTo>
                    <a:pt x="586" y="678"/>
                  </a:lnTo>
                  <a:lnTo>
                    <a:pt x="580" y="688"/>
                  </a:lnTo>
                  <a:lnTo>
                    <a:pt x="570" y="696"/>
                  </a:lnTo>
                  <a:lnTo>
                    <a:pt x="558" y="700"/>
                  </a:lnTo>
                  <a:lnTo>
                    <a:pt x="544" y="704"/>
                  </a:lnTo>
                  <a:lnTo>
                    <a:pt x="530" y="704"/>
                  </a:lnTo>
                  <a:lnTo>
                    <a:pt x="530" y="704"/>
                  </a:lnTo>
                  <a:lnTo>
                    <a:pt x="502" y="704"/>
                  </a:lnTo>
                  <a:lnTo>
                    <a:pt x="476" y="700"/>
                  </a:lnTo>
                  <a:lnTo>
                    <a:pt x="452" y="694"/>
                  </a:lnTo>
                  <a:lnTo>
                    <a:pt x="432" y="688"/>
                  </a:lnTo>
                  <a:lnTo>
                    <a:pt x="432" y="688"/>
                  </a:lnTo>
                  <a:lnTo>
                    <a:pt x="424" y="682"/>
                  </a:lnTo>
                  <a:lnTo>
                    <a:pt x="416" y="674"/>
                  </a:lnTo>
                  <a:lnTo>
                    <a:pt x="412" y="666"/>
                  </a:lnTo>
                  <a:lnTo>
                    <a:pt x="410" y="654"/>
                  </a:lnTo>
                  <a:lnTo>
                    <a:pt x="410" y="654"/>
                  </a:lnTo>
                  <a:lnTo>
                    <a:pt x="410" y="642"/>
                  </a:lnTo>
                  <a:lnTo>
                    <a:pt x="414" y="632"/>
                  </a:lnTo>
                  <a:lnTo>
                    <a:pt x="418" y="624"/>
                  </a:lnTo>
                  <a:lnTo>
                    <a:pt x="422" y="618"/>
                  </a:lnTo>
                  <a:lnTo>
                    <a:pt x="428" y="612"/>
                  </a:lnTo>
                  <a:lnTo>
                    <a:pt x="434" y="608"/>
                  </a:lnTo>
                  <a:lnTo>
                    <a:pt x="442" y="606"/>
                  </a:lnTo>
                  <a:lnTo>
                    <a:pt x="448" y="606"/>
                  </a:lnTo>
                  <a:lnTo>
                    <a:pt x="448" y="606"/>
                  </a:lnTo>
                  <a:lnTo>
                    <a:pt x="470" y="610"/>
                  </a:lnTo>
                  <a:lnTo>
                    <a:pt x="492" y="612"/>
                  </a:lnTo>
                  <a:lnTo>
                    <a:pt x="492" y="612"/>
                  </a:lnTo>
                  <a:lnTo>
                    <a:pt x="500" y="612"/>
                  </a:lnTo>
                  <a:lnTo>
                    <a:pt x="504" y="608"/>
                  </a:lnTo>
                  <a:lnTo>
                    <a:pt x="508" y="602"/>
                  </a:lnTo>
                  <a:lnTo>
                    <a:pt x="508" y="592"/>
                  </a:lnTo>
                  <a:lnTo>
                    <a:pt x="508" y="328"/>
                  </a:lnTo>
                  <a:lnTo>
                    <a:pt x="442" y="328"/>
                  </a:lnTo>
                  <a:lnTo>
                    <a:pt x="442" y="328"/>
                  </a:lnTo>
                  <a:lnTo>
                    <a:pt x="422" y="328"/>
                  </a:lnTo>
                  <a:lnTo>
                    <a:pt x="408" y="326"/>
                  </a:lnTo>
                  <a:lnTo>
                    <a:pt x="398" y="324"/>
                  </a:lnTo>
                  <a:lnTo>
                    <a:pt x="390" y="318"/>
                  </a:lnTo>
                  <a:lnTo>
                    <a:pt x="390" y="318"/>
                  </a:lnTo>
                  <a:lnTo>
                    <a:pt x="388" y="328"/>
                  </a:lnTo>
                  <a:lnTo>
                    <a:pt x="386" y="340"/>
                  </a:lnTo>
                  <a:lnTo>
                    <a:pt x="380" y="352"/>
                  </a:lnTo>
                  <a:lnTo>
                    <a:pt x="372" y="362"/>
                  </a:lnTo>
                  <a:lnTo>
                    <a:pt x="364" y="370"/>
                  </a:lnTo>
                  <a:lnTo>
                    <a:pt x="352" y="378"/>
                  </a:lnTo>
                  <a:lnTo>
                    <a:pt x="338" y="382"/>
                  </a:lnTo>
                  <a:lnTo>
                    <a:pt x="322" y="384"/>
                  </a:lnTo>
                  <a:lnTo>
                    <a:pt x="250" y="384"/>
                  </a:lnTo>
                  <a:lnTo>
                    <a:pt x="250" y="438"/>
                  </a:lnTo>
                  <a:lnTo>
                    <a:pt x="318" y="438"/>
                  </a:lnTo>
                  <a:lnTo>
                    <a:pt x="318" y="438"/>
                  </a:lnTo>
                  <a:lnTo>
                    <a:pt x="342" y="438"/>
                  </a:lnTo>
                  <a:lnTo>
                    <a:pt x="352" y="440"/>
                  </a:lnTo>
                  <a:lnTo>
                    <a:pt x="362" y="442"/>
                  </a:lnTo>
                  <a:lnTo>
                    <a:pt x="370" y="448"/>
                  </a:lnTo>
                  <a:lnTo>
                    <a:pt x="378" y="454"/>
                  </a:lnTo>
                  <a:lnTo>
                    <a:pt x="382" y="464"/>
                  </a:lnTo>
                  <a:lnTo>
                    <a:pt x="382" y="478"/>
                  </a:lnTo>
                  <a:lnTo>
                    <a:pt x="382" y="478"/>
                  </a:lnTo>
                  <a:lnTo>
                    <a:pt x="382" y="492"/>
                  </a:lnTo>
                  <a:lnTo>
                    <a:pt x="378" y="504"/>
                  </a:lnTo>
                  <a:lnTo>
                    <a:pt x="372" y="512"/>
                  </a:lnTo>
                  <a:lnTo>
                    <a:pt x="364" y="518"/>
                  </a:lnTo>
                  <a:lnTo>
                    <a:pt x="354" y="520"/>
                  </a:lnTo>
                  <a:lnTo>
                    <a:pt x="344" y="522"/>
                  </a:lnTo>
                  <a:lnTo>
                    <a:pt x="318" y="524"/>
                  </a:lnTo>
                  <a:lnTo>
                    <a:pt x="250" y="524"/>
                  </a:lnTo>
                  <a:lnTo>
                    <a:pt x="250" y="592"/>
                  </a:lnTo>
                  <a:lnTo>
                    <a:pt x="250" y="592"/>
                  </a:lnTo>
                  <a:lnTo>
                    <a:pt x="306" y="584"/>
                  </a:lnTo>
                  <a:lnTo>
                    <a:pt x="358" y="578"/>
                  </a:lnTo>
                  <a:lnTo>
                    <a:pt x="358" y="578"/>
                  </a:lnTo>
                  <a:lnTo>
                    <a:pt x="368" y="578"/>
                  </a:lnTo>
                  <a:lnTo>
                    <a:pt x="374" y="580"/>
                  </a:lnTo>
                  <a:lnTo>
                    <a:pt x="380" y="584"/>
                  </a:lnTo>
                  <a:lnTo>
                    <a:pt x="386" y="590"/>
                  </a:lnTo>
                  <a:lnTo>
                    <a:pt x="390" y="600"/>
                  </a:lnTo>
                  <a:lnTo>
                    <a:pt x="392" y="610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2" y="636"/>
                  </a:lnTo>
                  <a:lnTo>
                    <a:pt x="390" y="646"/>
                  </a:lnTo>
                  <a:lnTo>
                    <a:pt x="384" y="654"/>
                  </a:lnTo>
                  <a:lnTo>
                    <a:pt x="376" y="660"/>
                  </a:lnTo>
                  <a:lnTo>
                    <a:pt x="366" y="664"/>
                  </a:lnTo>
                  <a:lnTo>
                    <a:pt x="352" y="668"/>
                  </a:lnTo>
                  <a:lnTo>
                    <a:pt x="314" y="674"/>
                  </a:lnTo>
                  <a:lnTo>
                    <a:pt x="314" y="674"/>
                  </a:lnTo>
                  <a:lnTo>
                    <a:pt x="268" y="680"/>
                  </a:lnTo>
                  <a:lnTo>
                    <a:pt x="198" y="688"/>
                  </a:lnTo>
                  <a:lnTo>
                    <a:pt x="120" y="694"/>
                  </a:lnTo>
                  <a:lnTo>
                    <a:pt x="42" y="696"/>
                  </a:lnTo>
                  <a:lnTo>
                    <a:pt x="42" y="696"/>
                  </a:lnTo>
                  <a:lnTo>
                    <a:pt x="30" y="696"/>
                  </a:lnTo>
                  <a:lnTo>
                    <a:pt x="22" y="694"/>
                  </a:lnTo>
                  <a:lnTo>
                    <a:pt x="16" y="690"/>
                  </a:lnTo>
                  <a:lnTo>
                    <a:pt x="10" y="684"/>
                  </a:lnTo>
                  <a:lnTo>
                    <a:pt x="4" y="674"/>
                  </a:lnTo>
                  <a:lnTo>
                    <a:pt x="0" y="662"/>
                  </a:lnTo>
                  <a:lnTo>
                    <a:pt x="0" y="646"/>
                  </a:lnTo>
                  <a:lnTo>
                    <a:pt x="0" y="646"/>
                  </a:lnTo>
                  <a:lnTo>
                    <a:pt x="2" y="632"/>
                  </a:lnTo>
                  <a:lnTo>
                    <a:pt x="6" y="622"/>
                  </a:lnTo>
                  <a:lnTo>
                    <a:pt x="10" y="616"/>
                  </a:lnTo>
                  <a:lnTo>
                    <a:pt x="16" y="612"/>
                  </a:lnTo>
                  <a:lnTo>
                    <a:pt x="22" y="610"/>
                  </a:lnTo>
                  <a:lnTo>
                    <a:pt x="30" y="608"/>
                  </a:lnTo>
                  <a:lnTo>
                    <a:pt x="30" y="608"/>
                  </a:lnTo>
                  <a:lnTo>
                    <a:pt x="90" y="604"/>
                  </a:lnTo>
                  <a:lnTo>
                    <a:pt x="162" y="600"/>
                  </a:lnTo>
                  <a:lnTo>
                    <a:pt x="162" y="524"/>
                  </a:lnTo>
                  <a:lnTo>
                    <a:pt x="90" y="524"/>
                  </a:lnTo>
                  <a:lnTo>
                    <a:pt x="90" y="524"/>
                  </a:lnTo>
                  <a:lnTo>
                    <a:pt x="66" y="522"/>
                  </a:lnTo>
                  <a:lnTo>
                    <a:pt x="54" y="520"/>
                  </a:lnTo>
                  <a:lnTo>
                    <a:pt x="46" y="518"/>
                  </a:lnTo>
                  <a:lnTo>
                    <a:pt x="36" y="512"/>
                  </a:lnTo>
                  <a:lnTo>
                    <a:pt x="30" y="506"/>
                  </a:lnTo>
                  <a:lnTo>
                    <a:pt x="26" y="496"/>
                  </a:lnTo>
                  <a:lnTo>
                    <a:pt x="26" y="482"/>
                  </a:lnTo>
                  <a:lnTo>
                    <a:pt x="26" y="482"/>
                  </a:lnTo>
                  <a:lnTo>
                    <a:pt x="26" y="466"/>
                  </a:lnTo>
                  <a:lnTo>
                    <a:pt x="30" y="456"/>
                  </a:lnTo>
                  <a:lnTo>
                    <a:pt x="36" y="448"/>
                  </a:lnTo>
                  <a:lnTo>
                    <a:pt x="44" y="442"/>
                  </a:lnTo>
                  <a:lnTo>
                    <a:pt x="54" y="440"/>
                  </a:lnTo>
                  <a:lnTo>
                    <a:pt x="64" y="438"/>
                  </a:lnTo>
                  <a:lnTo>
                    <a:pt x="90" y="438"/>
                  </a:lnTo>
                  <a:lnTo>
                    <a:pt x="162" y="438"/>
                  </a:lnTo>
                  <a:lnTo>
                    <a:pt x="162" y="384"/>
                  </a:lnTo>
                  <a:lnTo>
                    <a:pt x="94" y="384"/>
                  </a:lnTo>
                  <a:lnTo>
                    <a:pt x="94" y="384"/>
                  </a:lnTo>
                  <a:lnTo>
                    <a:pt x="76" y="382"/>
                  </a:lnTo>
                  <a:lnTo>
                    <a:pt x="62" y="376"/>
                  </a:lnTo>
                  <a:lnTo>
                    <a:pt x="50" y="368"/>
                  </a:lnTo>
                  <a:lnTo>
                    <a:pt x="40" y="358"/>
                  </a:lnTo>
                  <a:lnTo>
                    <a:pt x="34" y="348"/>
                  </a:lnTo>
                  <a:lnTo>
                    <a:pt x="28" y="338"/>
                  </a:lnTo>
                  <a:lnTo>
                    <a:pt x="26" y="328"/>
                  </a:lnTo>
                  <a:lnTo>
                    <a:pt x="26" y="320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56"/>
                  </a:lnTo>
                  <a:lnTo>
                    <a:pt x="28" y="46"/>
                  </a:lnTo>
                  <a:lnTo>
                    <a:pt x="34" y="34"/>
                  </a:lnTo>
                  <a:lnTo>
                    <a:pt x="40" y="24"/>
                  </a:lnTo>
                  <a:lnTo>
                    <a:pt x="50" y="14"/>
                  </a:lnTo>
                  <a:lnTo>
                    <a:pt x="62" y="6"/>
                  </a:lnTo>
                  <a:lnTo>
                    <a:pt x="76" y="2"/>
                  </a:lnTo>
                  <a:lnTo>
                    <a:pt x="94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40" y="2"/>
                  </a:lnTo>
                  <a:lnTo>
                    <a:pt x="354" y="8"/>
                  </a:lnTo>
                  <a:lnTo>
                    <a:pt x="366" y="16"/>
                  </a:lnTo>
                  <a:lnTo>
                    <a:pt x="374" y="24"/>
                  </a:lnTo>
                  <a:lnTo>
                    <a:pt x="382" y="36"/>
                  </a:lnTo>
                  <a:lnTo>
                    <a:pt x="386" y="46"/>
                  </a:lnTo>
                  <a:lnTo>
                    <a:pt x="390" y="56"/>
                  </a:lnTo>
                  <a:lnTo>
                    <a:pt x="390" y="64"/>
                  </a:lnTo>
                  <a:lnTo>
                    <a:pt x="390" y="248"/>
                  </a:lnTo>
                  <a:lnTo>
                    <a:pt x="390" y="248"/>
                  </a:lnTo>
                  <a:lnTo>
                    <a:pt x="398" y="242"/>
                  </a:lnTo>
                  <a:lnTo>
                    <a:pt x="408" y="238"/>
                  </a:lnTo>
                  <a:lnTo>
                    <a:pt x="422" y="236"/>
                  </a:lnTo>
                  <a:lnTo>
                    <a:pt x="442" y="236"/>
                  </a:lnTo>
                  <a:lnTo>
                    <a:pt x="520" y="236"/>
                  </a:lnTo>
                  <a:close/>
                  <a:moveTo>
                    <a:pt x="162" y="148"/>
                  </a:moveTo>
                  <a:lnTo>
                    <a:pt x="162" y="90"/>
                  </a:lnTo>
                  <a:lnTo>
                    <a:pt x="122" y="90"/>
                  </a:lnTo>
                  <a:lnTo>
                    <a:pt x="122" y="90"/>
                  </a:lnTo>
                  <a:lnTo>
                    <a:pt x="116" y="92"/>
                  </a:lnTo>
                  <a:lnTo>
                    <a:pt x="110" y="94"/>
                  </a:lnTo>
                  <a:lnTo>
                    <a:pt x="108" y="98"/>
                  </a:lnTo>
                  <a:lnTo>
                    <a:pt x="108" y="106"/>
                  </a:lnTo>
                  <a:lnTo>
                    <a:pt x="108" y="148"/>
                  </a:lnTo>
                  <a:lnTo>
                    <a:pt x="162" y="148"/>
                  </a:lnTo>
                  <a:close/>
                  <a:moveTo>
                    <a:pt x="108" y="236"/>
                  </a:moveTo>
                  <a:lnTo>
                    <a:pt x="108" y="284"/>
                  </a:lnTo>
                  <a:lnTo>
                    <a:pt x="108" y="284"/>
                  </a:lnTo>
                  <a:lnTo>
                    <a:pt x="108" y="292"/>
                  </a:lnTo>
                  <a:lnTo>
                    <a:pt x="110" y="296"/>
                  </a:lnTo>
                  <a:lnTo>
                    <a:pt x="116" y="300"/>
                  </a:lnTo>
                  <a:lnTo>
                    <a:pt x="122" y="300"/>
                  </a:lnTo>
                  <a:lnTo>
                    <a:pt x="162" y="300"/>
                  </a:lnTo>
                  <a:lnTo>
                    <a:pt x="162" y="236"/>
                  </a:lnTo>
                  <a:lnTo>
                    <a:pt x="108" y="236"/>
                  </a:lnTo>
                  <a:close/>
                  <a:moveTo>
                    <a:pt x="304" y="148"/>
                  </a:moveTo>
                  <a:lnTo>
                    <a:pt x="304" y="106"/>
                  </a:lnTo>
                  <a:lnTo>
                    <a:pt x="304" y="106"/>
                  </a:lnTo>
                  <a:lnTo>
                    <a:pt x="304" y="98"/>
                  </a:lnTo>
                  <a:lnTo>
                    <a:pt x="302" y="94"/>
                  </a:lnTo>
                  <a:lnTo>
                    <a:pt x="298" y="92"/>
                  </a:lnTo>
                  <a:lnTo>
                    <a:pt x="290" y="90"/>
                  </a:lnTo>
                  <a:lnTo>
                    <a:pt x="250" y="90"/>
                  </a:lnTo>
                  <a:lnTo>
                    <a:pt x="250" y="148"/>
                  </a:lnTo>
                  <a:lnTo>
                    <a:pt x="304" y="148"/>
                  </a:lnTo>
                  <a:close/>
                  <a:moveTo>
                    <a:pt x="250" y="236"/>
                  </a:moveTo>
                  <a:lnTo>
                    <a:pt x="250" y="300"/>
                  </a:lnTo>
                  <a:lnTo>
                    <a:pt x="290" y="300"/>
                  </a:lnTo>
                  <a:lnTo>
                    <a:pt x="290" y="300"/>
                  </a:lnTo>
                  <a:lnTo>
                    <a:pt x="298" y="300"/>
                  </a:lnTo>
                  <a:lnTo>
                    <a:pt x="302" y="296"/>
                  </a:lnTo>
                  <a:lnTo>
                    <a:pt x="304" y="292"/>
                  </a:lnTo>
                  <a:lnTo>
                    <a:pt x="304" y="284"/>
                  </a:lnTo>
                  <a:lnTo>
                    <a:pt x="304" y="236"/>
                  </a:lnTo>
                  <a:lnTo>
                    <a:pt x="250" y="236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521240" y="8548560"/>
              <a:ext cx="1163520" cy="115560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733" h="728">
                  <a:moveTo>
                    <a:pt x="416" y="664"/>
                  </a:moveTo>
                  <a:lnTo>
                    <a:pt x="416" y="664"/>
                  </a:lnTo>
                  <a:lnTo>
                    <a:pt x="416" y="690"/>
                  </a:lnTo>
                  <a:lnTo>
                    <a:pt x="414" y="700"/>
                  </a:lnTo>
                  <a:lnTo>
                    <a:pt x="412" y="710"/>
                  </a:lnTo>
                  <a:lnTo>
                    <a:pt x="406" y="718"/>
                  </a:lnTo>
                  <a:lnTo>
                    <a:pt x="398" y="724"/>
                  </a:lnTo>
                  <a:lnTo>
                    <a:pt x="388" y="728"/>
                  </a:lnTo>
                  <a:lnTo>
                    <a:pt x="374" y="728"/>
                  </a:lnTo>
                  <a:lnTo>
                    <a:pt x="374" y="728"/>
                  </a:lnTo>
                  <a:lnTo>
                    <a:pt x="358" y="728"/>
                  </a:lnTo>
                  <a:lnTo>
                    <a:pt x="344" y="724"/>
                  </a:lnTo>
                  <a:lnTo>
                    <a:pt x="336" y="718"/>
                  </a:lnTo>
                  <a:lnTo>
                    <a:pt x="330" y="712"/>
                  </a:lnTo>
                  <a:lnTo>
                    <a:pt x="326" y="702"/>
                  </a:lnTo>
                  <a:lnTo>
                    <a:pt x="324" y="692"/>
                  </a:lnTo>
                  <a:lnTo>
                    <a:pt x="324" y="664"/>
                  </a:lnTo>
                  <a:lnTo>
                    <a:pt x="324" y="564"/>
                  </a:lnTo>
                  <a:lnTo>
                    <a:pt x="324" y="564"/>
                  </a:lnTo>
                  <a:lnTo>
                    <a:pt x="306" y="580"/>
                  </a:lnTo>
                  <a:lnTo>
                    <a:pt x="286" y="598"/>
                  </a:lnTo>
                  <a:lnTo>
                    <a:pt x="246" y="628"/>
                  </a:lnTo>
                  <a:lnTo>
                    <a:pt x="202" y="654"/>
                  </a:lnTo>
                  <a:lnTo>
                    <a:pt x="162" y="676"/>
                  </a:lnTo>
                  <a:lnTo>
                    <a:pt x="122" y="694"/>
                  </a:lnTo>
                  <a:lnTo>
                    <a:pt x="88" y="708"/>
                  </a:lnTo>
                  <a:lnTo>
                    <a:pt x="62" y="716"/>
                  </a:lnTo>
                  <a:lnTo>
                    <a:pt x="44" y="718"/>
                  </a:lnTo>
                  <a:lnTo>
                    <a:pt x="44" y="718"/>
                  </a:lnTo>
                  <a:lnTo>
                    <a:pt x="32" y="718"/>
                  </a:lnTo>
                  <a:lnTo>
                    <a:pt x="24" y="714"/>
                  </a:lnTo>
                  <a:lnTo>
                    <a:pt x="16" y="710"/>
                  </a:lnTo>
                  <a:lnTo>
                    <a:pt x="10" y="706"/>
                  </a:lnTo>
                  <a:lnTo>
                    <a:pt x="6" y="698"/>
                  </a:lnTo>
                  <a:lnTo>
                    <a:pt x="2" y="692"/>
                  </a:lnTo>
                  <a:lnTo>
                    <a:pt x="0" y="682"/>
                  </a:lnTo>
                  <a:lnTo>
                    <a:pt x="0" y="674"/>
                  </a:lnTo>
                  <a:lnTo>
                    <a:pt x="0" y="674"/>
                  </a:lnTo>
                  <a:lnTo>
                    <a:pt x="0" y="664"/>
                  </a:lnTo>
                  <a:lnTo>
                    <a:pt x="2" y="656"/>
                  </a:lnTo>
                  <a:lnTo>
                    <a:pt x="6" y="650"/>
                  </a:lnTo>
                  <a:lnTo>
                    <a:pt x="10" y="644"/>
                  </a:lnTo>
                  <a:lnTo>
                    <a:pt x="16" y="640"/>
                  </a:lnTo>
                  <a:lnTo>
                    <a:pt x="22" y="636"/>
                  </a:lnTo>
                  <a:lnTo>
                    <a:pt x="38" y="630"/>
                  </a:lnTo>
                  <a:lnTo>
                    <a:pt x="38" y="630"/>
                  </a:lnTo>
                  <a:lnTo>
                    <a:pt x="86" y="612"/>
                  </a:lnTo>
                  <a:lnTo>
                    <a:pt x="130" y="590"/>
                  </a:lnTo>
                  <a:lnTo>
                    <a:pt x="174" y="566"/>
                  </a:lnTo>
                  <a:lnTo>
                    <a:pt x="222" y="532"/>
                  </a:lnTo>
                  <a:lnTo>
                    <a:pt x="70" y="532"/>
                  </a:lnTo>
                  <a:lnTo>
                    <a:pt x="70" y="532"/>
                  </a:lnTo>
                  <a:lnTo>
                    <a:pt x="46" y="532"/>
                  </a:lnTo>
                  <a:lnTo>
                    <a:pt x="34" y="530"/>
                  </a:lnTo>
                  <a:lnTo>
                    <a:pt x="26" y="526"/>
                  </a:lnTo>
                  <a:lnTo>
                    <a:pt x="18" y="522"/>
                  </a:lnTo>
                  <a:lnTo>
                    <a:pt x="10" y="514"/>
                  </a:lnTo>
                  <a:lnTo>
                    <a:pt x="6" y="504"/>
                  </a:lnTo>
                  <a:lnTo>
                    <a:pt x="6" y="490"/>
                  </a:lnTo>
                  <a:lnTo>
                    <a:pt x="6" y="490"/>
                  </a:lnTo>
                  <a:lnTo>
                    <a:pt x="6" y="476"/>
                  </a:lnTo>
                  <a:lnTo>
                    <a:pt x="10" y="466"/>
                  </a:lnTo>
                  <a:lnTo>
                    <a:pt x="18" y="458"/>
                  </a:lnTo>
                  <a:lnTo>
                    <a:pt x="26" y="454"/>
                  </a:lnTo>
                  <a:lnTo>
                    <a:pt x="34" y="450"/>
                  </a:lnTo>
                  <a:lnTo>
                    <a:pt x="46" y="450"/>
                  </a:lnTo>
                  <a:lnTo>
                    <a:pt x="70" y="448"/>
                  </a:lnTo>
                  <a:lnTo>
                    <a:pt x="324" y="448"/>
                  </a:lnTo>
                  <a:lnTo>
                    <a:pt x="324" y="448"/>
                  </a:lnTo>
                  <a:lnTo>
                    <a:pt x="324" y="432"/>
                  </a:lnTo>
                  <a:lnTo>
                    <a:pt x="328" y="422"/>
                  </a:lnTo>
                  <a:lnTo>
                    <a:pt x="332" y="414"/>
                  </a:lnTo>
                  <a:lnTo>
                    <a:pt x="340" y="408"/>
                  </a:lnTo>
                  <a:lnTo>
                    <a:pt x="340" y="408"/>
                  </a:lnTo>
                  <a:lnTo>
                    <a:pt x="328" y="402"/>
                  </a:lnTo>
                  <a:lnTo>
                    <a:pt x="320" y="396"/>
                  </a:lnTo>
                  <a:lnTo>
                    <a:pt x="312" y="386"/>
                  </a:lnTo>
                  <a:lnTo>
                    <a:pt x="306" y="372"/>
                  </a:lnTo>
                  <a:lnTo>
                    <a:pt x="306" y="372"/>
                  </a:lnTo>
                  <a:lnTo>
                    <a:pt x="284" y="322"/>
                  </a:lnTo>
                  <a:lnTo>
                    <a:pt x="280" y="310"/>
                  </a:lnTo>
                  <a:lnTo>
                    <a:pt x="280" y="304"/>
                  </a:lnTo>
                  <a:lnTo>
                    <a:pt x="280" y="304"/>
                  </a:lnTo>
                  <a:lnTo>
                    <a:pt x="280" y="296"/>
                  </a:lnTo>
                  <a:lnTo>
                    <a:pt x="282" y="288"/>
                  </a:lnTo>
                  <a:lnTo>
                    <a:pt x="288" y="278"/>
                  </a:lnTo>
                  <a:lnTo>
                    <a:pt x="296" y="272"/>
                  </a:lnTo>
                  <a:lnTo>
                    <a:pt x="304" y="268"/>
                  </a:lnTo>
                  <a:lnTo>
                    <a:pt x="304" y="268"/>
                  </a:lnTo>
                  <a:lnTo>
                    <a:pt x="226" y="270"/>
                  </a:lnTo>
                  <a:lnTo>
                    <a:pt x="140" y="270"/>
                  </a:lnTo>
                  <a:lnTo>
                    <a:pt x="140" y="270"/>
                  </a:lnTo>
                  <a:lnTo>
                    <a:pt x="88" y="270"/>
                  </a:lnTo>
                  <a:lnTo>
                    <a:pt x="58" y="268"/>
                  </a:lnTo>
                  <a:lnTo>
                    <a:pt x="48" y="266"/>
                  </a:lnTo>
                  <a:lnTo>
                    <a:pt x="42" y="264"/>
                  </a:lnTo>
                  <a:lnTo>
                    <a:pt x="42" y="264"/>
                  </a:lnTo>
                  <a:lnTo>
                    <a:pt x="32" y="258"/>
                  </a:lnTo>
                  <a:lnTo>
                    <a:pt x="26" y="250"/>
                  </a:lnTo>
                  <a:lnTo>
                    <a:pt x="24" y="240"/>
                  </a:lnTo>
                  <a:lnTo>
                    <a:pt x="22" y="230"/>
                  </a:lnTo>
                  <a:lnTo>
                    <a:pt x="22" y="230"/>
                  </a:lnTo>
                  <a:lnTo>
                    <a:pt x="24" y="216"/>
                  </a:lnTo>
                  <a:lnTo>
                    <a:pt x="28" y="206"/>
                  </a:lnTo>
                  <a:lnTo>
                    <a:pt x="34" y="200"/>
                  </a:lnTo>
                  <a:lnTo>
                    <a:pt x="40" y="196"/>
                  </a:lnTo>
                  <a:lnTo>
                    <a:pt x="48" y="192"/>
                  </a:lnTo>
                  <a:lnTo>
                    <a:pt x="56" y="190"/>
                  </a:lnTo>
                  <a:lnTo>
                    <a:pt x="70" y="190"/>
                  </a:lnTo>
                  <a:lnTo>
                    <a:pt x="70" y="190"/>
                  </a:lnTo>
                  <a:lnTo>
                    <a:pt x="226" y="190"/>
                  </a:lnTo>
                  <a:lnTo>
                    <a:pt x="344" y="188"/>
                  </a:lnTo>
                  <a:lnTo>
                    <a:pt x="396" y="186"/>
                  </a:lnTo>
                  <a:lnTo>
                    <a:pt x="448" y="182"/>
                  </a:lnTo>
                  <a:lnTo>
                    <a:pt x="565" y="170"/>
                  </a:lnTo>
                  <a:lnTo>
                    <a:pt x="565" y="170"/>
                  </a:lnTo>
                  <a:lnTo>
                    <a:pt x="605" y="164"/>
                  </a:lnTo>
                  <a:lnTo>
                    <a:pt x="645" y="160"/>
                  </a:lnTo>
                  <a:lnTo>
                    <a:pt x="645" y="160"/>
                  </a:lnTo>
                  <a:lnTo>
                    <a:pt x="655" y="162"/>
                  </a:lnTo>
                  <a:lnTo>
                    <a:pt x="663" y="164"/>
                  </a:lnTo>
                  <a:lnTo>
                    <a:pt x="671" y="168"/>
                  </a:lnTo>
                  <a:lnTo>
                    <a:pt x="677" y="174"/>
                  </a:lnTo>
                  <a:lnTo>
                    <a:pt x="681" y="180"/>
                  </a:lnTo>
                  <a:lnTo>
                    <a:pt x="683" y="186"/>
                  </a:lnTo>
                  <a:lnTo>
                    <a:pt x="685" y="200"/>
                  </a:lnTo>
                  <a:lnTo>
                    <a:pt x="685" y="200"/>
                  </a:lnTo>
                  <a:lnTo>
                    <a:pt x="685" y="212"/>
                  </a:lnTo>
                  <a:lnTo>
                    <a:pt x="681" y="222"/>
                  </a:lnTo>
                  <a:lnTo>
                    <a:pt x="675" y="230"/>
                  </a:lnTo>
                  <a:lnTo>
                    <a:pt x="669" y="234"/>
                  </a:lnTo>
                  <a:lnTo>
                    <a:pt x="663" y="238"/>
                  </a:lnTo>
                  <a:lnTo>
                    <a:pt x="655" y="240"/>
                  </a:lnTo>
                  <a:lnTo>
                    <a:pt x="641" y="242"/>
                  </a:lnTo>
                  <a:lnTo>
                    <a:pt x="641" y="242"/>
                  </a:lnTo>
                  <a:lnTo>
                    <a:pt x="571" y="250"/>
                  </a:lnTo>
                  <a:lnTo>
                    <a:pt x="499" y="258"/>
                  </a:lnTo>
                  <a:lnTo>
                    <a:pt x="426" y="262"/>
                  </a:lnTo>
                  <a:lnTo>
                    <a:pt x="354" y="266"/>
                  </a:lnTo>
                  <a:lnTo>
                    <a:pt x="354" y="266"/>
                  </a:lnTo>
                  <a:lnTo>
                    <a:pt x="360" y="274"/>
                  </a:lnTo>
                  <a:lnTo>
                    <a:pt x="368" y="284"/>
                  </a:lnTo>
                  <a:lnTo>
                    <a:pt x="386" y="312"/>
                  </a:lnTo>
                  <a:lnTo>
                    <a:pt x="398" y="340"/>
                  </a:lnTo>
                  <a:lnTo>
                    <a:pt x="402" y="352"/>
                  </a:lnTo>
                  <a:lnTo>
                    <a:pt x="404" y="362"/>
                  </a:lnTo>
                  <a:lnTo>
                    <a:pt x="404" y="362"/>
                  </a:lnTo>
                  <a:lnTo>
                    <a:pt x="402" y="370"/>
                  </a:lnTo>
                  <a:lnTo>
                    <a:pt x="400" y="376"/>
                  </a:lnTo>
                  <a:lnTo>
                    <a:pt x="398" y="382"/>
                  </a:lnTo>
                  <a:lnTo>
                    <a:pt x="394" y="386"/>
                  </a:lnTo>
                  <a:lnTo>
                    <a:pt x="386" y="394"/>
                  </a:lnTo>
                  <a:lnTo>
                    <a:pt x="376" y="400"/>
                  </a:lnTo>
                  <a:lnTo>
                    <a:pt x="376" y="400"/>
                  </a:lnTo>
                  <a:lnTo>
                    <a:pt x="388" y="402"/>
                  </a:lnTo>
                  <a:lnTo>
                    <a:pt x="400" y="406"/>
                  </a:lnTo>
                  <a:lnTo>
                    <a:pt x="406" y="410"/>
                  </a:lnTo>
                  <a:lnTo>
                    <a:pt x="412" y="418"/>
                  </a:lnTo>
                  <a:lnTo>
                    <a:pt x="414" y="426"/>
                  </a:lnTo>
                  <a:lnTo>
                    <a:pt x="416" y="434"/>
                  </a:lnTo>
                  <a:lnTo>
                    <a:pt x="416" y="448"/>
                  </a:lnTo>
                  <a:lnTo>
                    <a:pt x="669" y="448"/>
                  </a:lnTo>
                  <a:lnTo>
                    <a:pt x="669" y="448"/>
                  </a:lnTo>
                  <a:lnTo>
                    <a:pt x="691" y="450"/>
                  </a:lnTo>
                  <a:lnTo>
                    <a:pt x="703" y="450"/>
                  </a:lnTo>
                  <a:lnTo>
                    <a:pt x="713" y="454"/>
                  </a:lnTo>
                  <a:lnTo>
                    <a:pt x="721" y="458"/>
                  </a:lnTo>
                  <a:lnTo>
                    <a:pt x="727" y="466"/>
                  </a:lnTo>
                  <a:lnTo>
                    <a:pt x="731" y="476"/>
                  </a:lnTo>
                  <a:lnTo>
                    <a:pt x="733" y="490"/>
                  </a:lnTo>
                  <a:lnTo>
                    <a:pt x="733" y="490"/>
                  </a:lnTo>
                  <a:lnTo>
                    <a:pt x="731" y="504"/>
                  </a:lnTo>
                  <a:lnTo>
                    <a:pt x="727" y="514"/>
                  </a:lnTo>
                  <a:lnTo>
                    <a:pt x="721" y="522"/>
                  </a:lnTo>
                  <a:lnTo>
                    <a:pt x="713" y="526"/>
                  </a:lnTo>
                  <a:lnTo>
                    <a:pt x="703" y="530"/>
                  </a:lnTo>
                  <a:lnTo>
                    <a:pt x="691" y="532"/>
                  </a:lnTo>
                  <a:lnTo>
                    <a:pt x="669" y="532"/>
                  </a:lnTo>
                  <a:lnTo>
                    <a:pt x="521" y="532"/>
                  </a:lnTo>
                  <a:lnTo>
                    <a:pt x="521" y="532"/>
                  </a:lnTo>
                  <a:lnTo>
                    <a:pt x="565" y="566"/>
                  </a:lnTo>
                  <a:lnTo>
                    <a:pt x="583" y="578"/>
                  </a:lnTo>
                  <a:lnTo>
                    <a:pt x="601" y="588"/>
                  </a:lnTo>
                  <a:lnTo>
                    <a:pt x="641" y="606"/>
                  </a:lnTo>
                  <a:lnTo>
                    <a:pt x="695" y="628"/>
                  </a:lnTo>
                  <a:lnTo>
                    <a:pt x="695" y="628"/>
                  </a:lnTo>
                  <a:lnTo>
                    <a:pt x="709" y="634"/>
                  </a:lnTo>
                  <a:lnTo>
                    <a:pt x="721" y="642"/>
                  </a:lnTo>
                  <a:lnTo>
                    <a:pt x="725" y="646"/>
                  </a:lnTo>
                  <a:lnTo>
                    <a:pt x="729" y="654"/>
                  </a:lnTo>
                  <a:lnTo>
                    <a:pt x="731" y="662"/>
                  </a:lnTo>
                  <a:lnTo>
                    <a:pt x="733" y="672"/>
                  </a:lnTo>
                  <a:lnTo>
                    <a:pt x="733" y="672"/>
                  </a:lnTo>
                  <a:lnTo>
                    <a:pt x="731" y="682"/>
                  </a:lnTo>
                  <a:lnTo>
                    <a:pt x="729" y="692"/>
                  </a:lnTo>
                  <a:lnTo>
                    <a:pt x="723" y="702"/>
                  </a:lnTo>
                  <a:lnTo>
                    <a:pt x="717" y="710"/>
                  </a:lnTo>
                  <a:lnTo>
                    <a:pt x="711" y="716"/>
                  </a:lnTo>
                  <a:lnTo>
                    <a:pt x="703" y="720"/>
                  </a:lnTo>
                  <a:lnTo>
                    <a:pt x="693" y="722"/>
                  </a:lnTo>
                  <a:lnTo>
                    <a:pt x="685" y="724"/>
                  </a:lnTo>
                  <a:lnTo>
                    <a:pt x="685" y="724"/>
                  </a:lnTo>
                  <a:lnTo>
                    <a:pt x="669" y="722"/>
                  </a:lnTo>
                  <a:lnTo>
                    <a:pt x="645" y="716"/>
                  </a:lnTo>
                  <a:lnTo>
                    <a:pt x="615" y="704"/>
                  </a:lnTo>
                  <a:lnTo>
                    <a:pt x="579" y="686"/>
                  </a:lnTo>
                  <a:lnTo>
                    <a:pt x="539" y="664"/>
                  </a:lnTo>
                  <a:lnTo>
                    <a:pt x="519" y="650"/>
                  </a:lnTo>
                  <a:lnTo>
                    <a:pt x="499" y="634"/>
                  </a:lnTo>
                  <a:lnTo>
                    <a:pt x="476" y="616"/>
                  </a:lnTo>
                  <a:lnTo>
                    <a:pt x="456" y="598"/>
                  </a:lnTo>
                  <a:lnTo>
                    <a:pt x="436" y="576"/>
                  </a:lnTo>
                  <a:lnTo>
                    <a:pt x="416" y="554"/>
                  </a:lnTo>
                  <a:lnTo>
                    <a:pt x="416" y="664"/>
                  </a:lnTo>
                  <a:close/>
                  <a:moveTo>
                    <a:pt x="458" y="46"/>
                  </a:moveTo>
                  <a:lnTo>
                    <a:pt x="458" y="46"/>
                  </a:lnTo>
                  <a:lnTo>
                    <a:pt x="460" y="32"/>
                  </a:lnTo>
                  <a:lnTo>
                    <a:pt x="462" y="26"/>
                  </a:lnTo>
                  <a:lnTo>
                    <a:pt x="464" y="18"/>
                  </a:lnTo>
                  <a:lnTo>
                    <a:pt x="470" y="12"/>
                  </a:lnTo>
                  <a:lnTo>
                    <a:pt x="478" y="6"/>
                  </a:lnTo>
                  <a:lnTo>
                    <a:pt x="488" y="2"/>
                  </a:lnTo>
                  <a:lnTo>
                    <a:pt x="503" y="0"/>
                  </a:lnTo>
                  <a:lnTo>
                    <a:pt x="503" y="0"/>
                  </a:lnTo>
                  <a:lnTo>
                    <a:pt x="515" y="2"/>
                  </a:lnTo>
                  <a:lnTo>
                    <a:pt x="525" y="4"/>
                  </a:lnTo>
                  <a:lnTo>
                    <a:pt x="535" y="6"/>
                  </a:lnTo>
                  <a:lnTo>
                    <a:pt x="541" y="12"/>
                  </a:lnTo>
                  <a:lnTo>
                    <a:pt x="545" y="18"/>
                  </a:lnTo>
                  <a:lnTo>
                    <a:pt x="549" y="24"/>
                  </a:lnTo>
                  <a:lnTo>
                    <a:pt x="551" y="34"/>
                  </a:lnTo>
                  <a:lnTo>
                    <a:pt x="553" y="46"/>
                  </a:lnTo>
                  <a:lnTo>
                    <a:pt x="667" y="46"/>
                  </a:lnTo>
                  <a:lnTo>
                    <a:pt x="667" y="46"/>
                  </a:lnTo>
                  <a:lnTo>
                    <a:pt x="689" y="46"/>
                  </a:lnTo>
                  <a:lnTo>
                    <a:pt x="701" y="48"/>
                  </a:lnTo>
                  <a:lnTo>
                    <a:pt x="711" y="50"/>
                  </a:lnTo>
                  <a:lnTo>
                    <a:pt x="719" y="56"/>
                  </a:lnTo>
                  <a:lnTo>
                    <a:pt x="725" y="62"/>
                  </a:lnTo>
                  <a:lnTo>
                    <a:pt x="729" y="74"/>
                  </a:lnTo>
                  <a:lnTo>
                    <a:pt x="731" y="86"/>
                  </a:lnTo>
                  <a:lnTo>
                    <a:pt x="731" y="86"/>
                  </a:lnTo>
                  <a:lnTo>
                    <a:pt x="729" y="102"/>
                  </a:lnTo>
                  <a:lnTo>
                    <a:pt x="725" y="112"/>
                  </a:lnTo>
                  <a:lnTo>
                    <a:pt x="719" y="120"/>
                  </a:lnTo>
                  <a:lnTo>
                    <a:pt x="711" y="126"/>
                  </a:lnTo>
                  <a:lnTo>
                    <a:pt x="703" y="128"/>
                  </a:lnTo>
                  <a:lnTo>
                    <a:pt x="691" y="130"/>
                  </a:lnTo>
                  <a:lnTo>
                    <a:pt x="667" y="130"/>
                  </a:lnTo>
                  <a:lnTo>
                    <a:pt x="553" y="130"/>
                  </a:lnTo>
                  <a:lnTo>
                    <a:pt x="553" y="130"/>
                  </a:lnTo>
                  <a:lnTo>
                    <a:pt x="551" y="142"/>
                  </a:lnTo>
                  <a:lnTo>
                    <a:pt x="549" y="150"/>
                  </a:lnTo>
                  <a:lnTo>
                    <a:pt x="547" y="158"/>
                  </a:lnTo>
                  <a:lnTo>
                    <a:pt x="541" y="164"/>
                  </a:lnTo>
                  <a:lnTo>
                    <a:pt x="533" y="170"/>
                  </a:lnTo>
                  <a:lnTo>
                    <a:pt x="523" y="174"/>
                  </a:lnTo>
                  <a:lnTo>
                    <a:pt x="509" y="176"/>
                  </a:lnTo>
                  <a:lnTo>
                    <a:pt x="509" y="176"/>
                  </a:lnTo>
                  <a:lnTo>
                    <a:pt x="499" y="174"/>
                  </a:lnTo>
                  <a:lnTo>
                    <a:pt x="488" y="174"/>
                  </a:lnTo>
                  <a:lnTo>
                    <a:pt x="480" y="170"/>
                  </a:lnTo>
                  <a:lnTo>
                    <a:pt x="472" y="166"/>
                  </a:lnTo>
                  <a:lnTo>
                    <a:pt x="466" y="160"/>
                  </a:lnTo>
                  <a:lnTo>
                    <a:pt x="462" y="152"/>
                  </a:lnTo>
                  <a:lnTo>
                    <a:pt x="460" y="142"/>
                  </a:lnTo>
                  <a:lnTo>
                    <a:pt x="458" y="130"/>
                  </a:lnTo>
                  <a:lnTo>
                    <a:pt x="280" y="130"/>
                  </a:lnTo>
                  <a:lnTo>
                    <a:pt x="280" y="130"/>
                  </a:lnTo>
                  <a:lnTo>
                    <a:pt x="278" y="142"/>
                  </a:lnTo>
                  <a:lnTo>
                    <a:pt x="276" y="150"/>
                  </a:lnTo>
                  <a:lnTo>
                    <a:pt x="274" y="158"/>
                  </a:lnTo>
                  <a:lnTo>
                    <a:pt x="268" y="164"/>
                  </a:lnTo>
                  <a:lnTo>
                    <a:pt x="262" y="170"/>
                  </a:lnTo>
                  <a:lnTo>
                    <a:pt x="252" y="17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24" y="174"/>
                  </a:lnTo>
                  <a:lnTo>
                    <a:pt x="214" y="170"/>
                  </a:lnTo>
                  <a:lnTo>
                    <a:pt x="206" y="166"/>
                  </a:lnTo>
                  <a:lnTo>
                    <a:pt x="200" y="160"/>
                  </a:lnTo>
                  <a:lnTo>
                    <a:pt x="196" y="154"/>
                  </a:lnTo>
                  <a:lnTo>
                    <a:pt x="194" y="146"/>
                  </a:lnTo>
                  <a:lnTo>
                    <a:pt x="192" y="130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50" y="130"/>
                  </a:lnTo>
                  <a:lnTo>
                    <a:pt x="40" y="128"/>
                  </a:lnTo>
                  <a:lnTo>
                    <a:pt x="30" y="126"/>
                  </a:lnTo>
                  <a:lnTo>
                    <a:pt x="22" y="122"/>
                  </a:lnTo>
                  <a:lnTo>
                    <a:pt x="16" y="114"/>
                  </a:lnTo>
                  <a:lnTo>
                    <a:pt x="12" y="104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76"/>
                  </a:lnTo>
                  <a:lnTo>
                    <a:pt x="16" y="64"/>
                  </a:lnTo>
                  <a:lnTo>
                    <a:pt x="22" y="56"/>
                  </a:lnTo>
                  <a:lnTo>
                    <a:pt x="28" y="52"/>
                  </a:lnTo>
                  <a:lnTo>
                    <a:pt x="38" y="48"/>
                  </a:lnTo>
                  <a:lnTo>
                    <a:pt x="50" y="46"/>
                  </a:lnTo>
                  <a:lnTo>
                    <a:pt x="74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34"/>
                  </a:lnTo>
                  <a:lnTo>
                    <a:pt x="194" y="26"/>
                  </a:lnTo>
                  <a:lnTo>
                    <a:pt x="198" y="18"/>
                  </a:lnTo>
                  <a:lnTo>
                    <a:pt x="202" y="12"/>
                  </a:lnTo>
                  <a:lnTo>
                    <a:pt x="210" y="6"/>
                  </a:lnTo>
                  <a:lnTo>
                    <a:pt x="220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8" y="2"/>
                  </a:lnTo>
                  <a:lnTo>
                    <a:pt x="260" y="6"/>
                  </a:lnTo>
                  <a:lnTo>
                    <a:pt x="268" y="10"/>
                  </a:lnTo>
                  <a:lnTo>
                    <a:pt x="272" y="16"/>
                  </a:lnTo>
                  <a:lnTo>
                    <a:pt x="276" y="24"/>
                  </a:lnTo>
                  <a:lnTo>
                    <a:pt x="278" y="30"/>
                  </a:lnTo>
                  <a:lnTo>
                    <a:pt x="280" y="46"/>
                  </a:lnTo>
                  <a:lnTo>
                    <a:pt x="458" y="46"/>
                  </a:lnTo>
                  <a:close/>
                  <a:moveTo>
                    <a:pt x="184" y="438"/>
                  </a:moveTo>
                  <a:lnTo>
                    <a:pt x="184" y="438"/>
                  </a:lnTo>
                  <a:lnTo>
                    <a:pt x="178" y="438"/>
                  </a:lnTo>
                  <a:lnTo>
                    <a:pt x="172" y="436"/>
                  </a:lnTo>
                  <a:lnTo>
                    <a:pt x="166" y="434"/>
                  </a:lnTo>
                  <a:lnTo>
                    <a:pt x="160" y="430"/>
                  </a:lnTo>
                  <a:lnTo>
                    <a:pt x="144" y="412"/>
                  </a:lnTo>
                  <a:lnTo>
                    <a:pt x="118" y="382"/>
                  </a:lnTo>
                  <a:lnTo>
                    <a:pt x="118" y="382"/>
                  </a:lnTo>
                  <a:lnTo>
                    <a:pt x="100" y="360"/>
                  </a:lnTo>
                  <a:lnTo>
                    <a:pt x="90" y="346"/>
                  </a:lnTo>
                  <a:lnTo>
                    <a:pt x="84" y="336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86" y="314"/>
                  </a:lnTo>
                  <a:lnTo>
                    <a:pt x="88" y="304"/>
                  </a:lnTo>
                  <a:lnTo>
                    <a:pt x="94" y="294"/>
                  </a:lnTo>
                  <a:lnTo>
                    <a:pt x="100" y="288"/>
                  </a:lnTo>
                  <a:lnTo>
                    <a:pt x="108" y="280"/>
                  </a:lnTo>
                  <a:lnTo>
                    <a:pt x="116" y="276"/>
                  </a:lnTo>
                  <a:lnTo>
                    <a:pt x="124" y="274"/>
                  </a:lnTo>
                  <a:lnTo>
                    <a:pt x="132" y="272"/>
                  </a:lnTo>
                  <a:lnTo>
                    <a:pt x="132" y="272"/>
                  </a:lnTo>
                  <a:lnTo>
                    <a:pt x="144" y="274"/>
                  </a:lnTo>
                  <a:lnTo>
                    <a:pt x="150" y="276"/>
                  </a:lnTo>
                  <a:lnTo>
                    <a:pt x="156" y="282"/>
                  </a:lnTo>
                  <a:lnTo>
                    <a:pt x="172" y="298"/>
                  </a:lnTo>
                  <a:lnTo>
                    <a:pt x="196" y="326"/>
                  </a:lnTo>
                  <a:lnTo>
                    <a:pt x="196" y="326"/>
                  </a:lnTo>
                  <a:lnTo>
                    <a:pt x="214" y="348"/>
                  </a:lnTo>
                  <a:lnTo>
                    <a:pt x="226" y="364"/>
                  </a:lnTo>
                  <a:lnTo>
                    <a:pt x="232" y="378"/>
                  </a:lnTo>
                  <a:lnTo>
                    <a:pt x="234" y="392"/>
                  </a:lnTo>
                  <a:lnTo>
                    <a:pt x="234" y="392"/>
                  </a:lnTo>
                  <a:lnTo>
                    <a:pt x="232" y="404"/>
                  </a:lnTo>
                  <a:lnTo>
                    <a:pt x="230" y="414"/>
                  </a:lnTo>
                  <a:lnTo>
                    <a:pt x="224" y="422"/>
                  </a:lnTo>
                  <a:lnTo>
                    <a:pt x="216" y="428"/>
                  </a:lnTo>
                  <a:lnTo>
                    <a:pt x="208" y="432"/>
                  </a:lnTo>
                  <a:lnTo>
                    <a:pt x="200" y="436"/>
                  </a:lnTo>
                  <a:lnTo>
                    <a:pt x="192" y="438"/>
                  </a:lnTo>
                  <a:lnTo>
                    <a:pt x="184" y="438"/>
                  </a:lnTo>
                  <a:lnTo>
                    <a:pt x="184" y="438"/>
                  </a:lnTo>
                  <a:close/>
                  <a:moveTo>
                    <a:pt x="478" y="402"/>
                  </a:moveTo>
                  <a:lnTo>
                    <a:pt x="478" y="402"/>
                  </a:lnTo>
                  <a:lnTo>
                    <a:pt x="480" y="390"/>
                  </a:lnTo>
                  <a:lnTo>
                    <a:pt x="484" y="378"/>
                  </a:lnTo>
                  <a:lnTo>
                    <a:pt x="499" y="364"/>
                  </a:lnTo>
                  <a:lnTo>
                    <a:pt x="521" y="340"/>
                  </a:lnTo>
                  <a:lnTo>
                    <a:pt x="521" y="340"/>
                  </a:lnTo>
                  <a:lnTo>
                    <a:pt x="551" y="306"/>
                  </a:lnTo>
                  <a:lnTo>
                    <a:pt x="579" y="274"/>
                  </a:lnTo>
                  <a:lnTo>
                    <a:pt x="579" y="274"/>
                  </a:lnTo>
                  <a:lnTo>
                    <a:pt x="583" y="268"/>
                  </a:lnTo>
                  <a:lnTo>
                    <a:pt x="589" y="262"/>
                  </a:lnTo>
                  <a:lnTo>
                    <a:pt x="599" y="258"/>
                  </a:lnTo>
                  <a:lnTo>
                    <a:pt x="611" y="256"/>
                  </a:lnTo>
                  <a:lnTo>
                    <a:pt x="611" y="256"/>
                  </a:lnTo>
                  <a:lnTo>
                    <a:pt x="619" y="256"/>
                  </a:lnTo>
                  <a:lnTo>
                    <a:pt x="627" y="260"/>
                  </a:lnTo>
                  <a:lnTo>
                    <a:pt x="635" y="264"/>
                  </a:lnTo>
                  <a:lnTo>
                    <a:pt x="643" y="270"/>
                  </a:lnTo>
                  <a:lnTo>
                    <a:pt x="649" y="278"/>
                  </a:lnTo>
                  <a:lnTo>
                    <a:pt x="655" y="286"/>
                  </a:lnTo>
                  <a:lnTo>
                    <a:pt x="657" y="296"/>
                  </a:lnTo>
                  <a:lnTo>
                    <a:pt x="659" y="306"/>
                  </a:lnTo>
                  <a:lnTo>
                    <a:pt x="659" y="306"/>
                  </a:lnTo>
                  <a:lnTo>
                    <a:pt x="659" y="316"/>
                  </a:lnTo>
                  <a:lnTo>
                    <a:pt x="653" y="330"/>
                  </a:lnTo>
                  <a:lnTo>
                    <a:pt x="641" y="348"/>
                  </a:lnTo>
                  <a:lnTo>
                    <a:pt x="619" y="378"/>
                  </a:lnTo>
                  <a:lnTo>
                    <a:pt x="619" y="378"/>
                  </a:lnTo>
                  <a:lnTo>
                    <a:pt x="605" y="392"/>
                  </a:lnTo>
                  <a:lnTo>
                    <a:pt x="581" y="416"/>
                  </a:lnTo>
                  <a:lnTo>
                    <a:pt x="569" y="428"/>
                  </a:lnTo>
                  <a:lnTo>
                    <a:pt x="555" y="436"/>
                  </a:lnTo>
                  <a:lnTo>
                    <a:pt x="541" y="444"/>
                  </a:lnTo>
                  <a:lnTo>
                    <a:pt x="529" y="446"/>
                  </a:lnTo>
                  <a:lnTo>
                    <a:pt x="529" y="446"/>
                  </a:lnTo>
                  <a:lnTo>
                    <a:pt x="519" y="446"/>
                  </a:lnTo>
                  <a:lnTo>
                    <a:pt x="509" y="442"/>
                  </a:lnTo>
                  <a:lnTo>
                    <a:pt x="501" y="440"/>
                  </a:lnTo>
                  <a:lnTo>
                    <a:pt x="492" y="434"/>
                  </a:lnTo>
                  <a:lnTo>
                    <a:pt x="486" y="428"/>
                  </a:lnTo>
                  <a:lnTo>
                    <a:pt x="482" y="420"/>
                  </a:lnTo>
                  <a:lnTo>
                    <a:pt x="480" y="412"/>
                  </a:lnTo>
                  <a:lnTo>
                    <a:pt x="478" y="402"/>
                  </a:lnTo>
                  <a:lnTo>
                    <a:pt x="478" y="402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6008760" y="8555040"/>
              <a:ext cx="1095120" cy="11174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690" h="704">
                  <a:moveTo>
                    <a:pt x="260" y="270"/>
                  </a:moveTo>
                  <a:lnTo>
                    <a:pt x="260" y="270"/>
                  </a:lnTo>
                  <a:lnTo>
                    <a:pt x="274" y="264"/>
                  </a:lnTo>
                  <a:lnTo>
                    <a:pt x="292" y="258"/>
                  </a:lnTo>
                  <a:lnTo>
                    <a:pt x="316" y="252"/>
                  </a:lnTo>
                  <a:lnTo>
                    <a:pt x="344" y="252"/>
                  </a:lnTo>
                  <a:lnTo>
                    <a:pt x="344" y="252"/>
                  </a:lnTo>
                  <a:lnTo>
                    <a:pt x="372" y="254"/>
                  </a:lnTo>
                  <a:lnTo>
                    <a:pt x="396" y="260"/>
                  </a:lnTo>
                  <a:lnTo>
                    <a:pt x="416" y="268"/>
                  </a:lnTo>
                  <a:lnTo>
                    <a:pt x="430" y="278"/>
                  </a:lnTo>
                  <a:lnTo>
                    <a:pt x="442" y="290"/>
                  </a:lnTo>
                  <a:lnTo>
                    <a:pt x="450" y="300"/>
                  </a:lnTo>
                  <a:lnTo>
                    <a:pt x="462" y="320"/>
                  </a:lnTo>
                  <a:lnTo>
                    <a:pt x="462" y="320"/>
                  </a:lnTo>
                  <a:lnTo>
                    <a:pt x="558" y="286"/>
                  </a:lnTo>
                  <a:lnTo>
                    <a:pt x="610" y="270"/>
                  </a:lnTo>
                  <a:lnTo>
                    <a:pt x="630" y="264"/>
                  </a:lnTo>
                  <a:lnTo>
                    <a:pt x="644" y="262"/>
                  </a:lnTo>
                  <a:lnTo>
                    <a:pt x="644" y="262"/>
                  </a:lnTo>
                  <a:lnTo>
                    <a:pt x="650" y="262"/>
                  </a:lnTo>
                  <a:lnTo>
                    <a:pt x="658" y="266"/>
                  </a:lnTo>
                  <a:lnTo>
                    <a:pt x="666" y="268"/>
                  </a:lnTo>
                  <a:lnTo>
                    <a:pt x="674" y="274"/>
                  </a:lnTo>
                  <a:lnTo>
                    <a:pt x="680" y="282"/>
                  </a:lnTo>
                  <a:lnTo>
                    <a:pt x="686" y="290"/>
                  </a:lnTo>
                  <a:lnTo>
                    <a:pt x="690" y="302"/>
                  </a:lnTo>
                  <a:lnTo>
                    <a:pt x="690" y="316"/>
                  </a:lnTo>
                  <a:lnTo>
                    <a:pt x="690" y="316"/>
                  </a:lnTo>
                  <a:lnTo>
                    <a:pt x="690" y="326"/>
                  </a:lnTo>
                  <a:lnTo>
                    <a:pt x="688" y="336"/>
                  </a:lnTo>
                  <a:lnTo>
                    <a:pt x="684" y="342"/>
                  </a:lnTo>
                  <a:lnTo>
                    <a:pt x="678" y="348"/>
                  </a:lnTo>
                  <a:lnTo>
                    <a:pt x="670" y="354"/>
                  </a:lnTo>
                  <a:lnTo>
                    <a:pt x="662" y="358"/>
                  </a:lnTo>
                  <a:lnTo>
                    <a:pt x="640" y="366"/>
                  </a:lnTo>
                  <a:lnTo>
                    <a:pt x="640" y="366"/>
                  </a:lnTo>
                  <a:lnTo>
                    <a:pt x="552" y="390"/>
                  </a:lnTo>
                  <a:lnTo>
                    <a:pt x="482" y="414"/>
                  </a:lnTo>
                  <a:lnTo>
                    <a:pt x="482" y="414"/>
                  </a:lnTo>
                  <a:lnTo>
                    <a:pt x="484" y="448"/>
                  </a:lnTo>
                  <a:lnTo>
                    <a:pt x="484" y="480"/>
                  </a:lnTo>
                  <a:lnTo>
                    <a:pt x="484" y="480"/>
                  </a:lnTo>
                  <a:lnTo>
                    <a:pt x="484" y="498"/>
                  </a:lnTo>
                  <a:lnTo>
                    <a:pt x="482" y="510"/>
                  </a:lnTo>
                  <a:lnTo>
                    <a:pt x="478" y="522"/>
                  </a:lnTo>
                  <a:lnTo>
                    <a:pt x="472" y="532"/>
                  </a:lnTo>
                  <a:lnTo>
                    <a:pt x="462" y="540"/>
                  </a:lnTo>
                  <a:lnTo>
                    <a:pt x="450" y="546"/>
                  </a:lnTo>
                  <a:lnTo>
                    <a:pt x="442" y="548"/>
                  </a:lnTo>
                  <a:lnTo>
                    <a:pt x="432" y="548"/>
                  </a:lnTo>
                  <a:lnTo>
                    <a:pt x="432" y="548"/>
                  </a:lnTo>
                  <a:lnTo>
                    <a:pt x="416" y="546"/>
                  </a:lnTo>
                  <a:lnTo>
                    <a:pt x="408" y="544"/>
                  </a:lnTo>
                  <a:lnTo>
                    <a:pt x="400" y="538"/>
                  </a:lnTo>
                  <a:lnTo>
                    <a:pt x="392" y="530"/>
                  </a:lnTo>
                  <a:lnTo>
                    <a:pt x="386" y="520"/>
                  </a:lnTo>
                  <a:lnTo>
                    <a:pt x="382" y="508"/>
                  </a:lnTo>
                  <a:lnTo>
                    <a:pt x="380" y="492"/>
                  </a:lnTo>
                  <a:lnTo>
                    <a:pt x="380" y="492"/>
                  </a:lnTo>
                  <a:lnTo>
                    <a:pt x="380" y="458"/>
                  </a:lnTo>
                  <a:lnTo>
                    <a:pt x="380" y="458"/>
                  </a:lnTo>
                  <a:lnTo>
                    <a:pt x="346" y="476"/>
                  </a:lnTo>
                  <a:lnTo>
                    <a:pt x="326" y="486"/>
                  </a:lnTo>
                  <a:lnTo>
                    <a:pt x="310" y="498"/>
                  </a:lnTo>
                  <a:lnTo>
                    <a:pt x="294" y="510"/>
                  </a:lnTo>
                  <a:lnTo>
                    <a:pt x="280" y="524"/>
                  </a:lnTo>
                  <a:lnTo>
                    <a:pt x="272" y="536"/>
                  </a:lnTo>
                  <a:lnTo>
                    <a:pt x="270" y="544"/>
                  </a:lnTo>
                  <a:lnTo>
                    <a:pt x="270" y="552"/>
                  </a:lnTo>
                  <a:lnTo>
                    <a:pt x="270" y="552"/>
                  </a:lnTo>
                  <a:lnTo>
                    <a:pt x="272" y="562"/>
                  </a:lnTo>
                  <a:lnTo>
                    <a:pt x="276" y="572"/>
                  </a:lnTo>
                  <a:lnTo>
                    <a:pt x="286" y="582"/>
                  </a:lnTo>
                  <a:lnTo>
                    <a:pt x="300" y="588"/>
                  </a:lnTo>
                  <a:lnTo>
                    <a:pt x="318" y="594"/>
                  </a:lnTo>
                  <a:lnTo>
                    <a:pt x="344" y="598"/>
                  </a:lnTo>
                  <a:lnTo>
                    <a:pt x="374" y="600"/>
                  </a:lnTo>
                  <a:lnTo>
                    <a:pt x="410" y="602"/>
                  </a:lnTo>
                  <a:lnTo>
                    <a:pt x="410" y="602"/>
                  </a:lnTo>
                  <a:lnTo>
                    <a:pt x="456" y="600"/>
                  </a:lnTo>
                  <a:lnTo>
                    <a:pt x="498" y="596"/>
                  </a:lnTo>
                  <a:lnTo>
                    <a:pt x="544" y="590"/>
                  </a:lnTo>
                  <a:lnTo>
                    <a:pt x="544" y="590"/>
                  </a:lnTo>
                  <a:lnTo>
                    <a:pt x="560" y="588"/>
                  </a:lnTo>
                  <a:lnTo>
                    <a:pt x="580" y="584"/>
                  </a:lnTo>
                  <a:lnTo>
                    <a:pt x="580" y="584"/>
                  </a:lnTo>
                  <a:lnTo>
                    <a:pt x="590" y="586"/>
                  </a:lnTo>
                  <a:lnTo>
                    <a:pt x="600" y="588"/>
                  </a:lnTo>
                  <a:lnTo>
                    <a:pt x="608" y="594"/>
                  </a:lnTo>
                  <a:lnTo>
                    <a:pt x="616" y="600"/>
                  </a:lnTo>
                  <a:lnTo>
                    <a:pt x="622" y="608"/>
                  </a:lnTo>
                  <a:lnTo>
                    <a:pt x="628" y="618"/>
                  </a:lnTo>
                  <a:lnTo>
                    <a:pt x="630" y="628"/>
                  </a:lnTo>
                  <a:lnTo>
                    <a:pt x="632" y="640"/>
                  </a:lnTo>
                  <a:lnTo>
                    <a:pt x="632" y="640"/>
                  </a:lnTo>
                  <a:lnTo>
                    <a:pt x="630" y="650"/>
                  </a:lnTo>
                  <a:lnTo>
                    <a:pt x="626" y="664"/>
                  </a:lnTo>
                  <a:lnTo>
                    <a:pt x="622" y="670"/>
                  </a:lnTo>
                  <a:lnTo>
                    <a:pt x="616" y="676"/>
                  </a:lnTo>
                  <a:lnTo>
                    <a:pt x="608" y="682"/>
                  </a:lnTo>
                  <a:lnTo>
                    <a:pt x="600" y="686"/>
                  </a:lnTo>
                  <a:lnTo>
                    <a:pt x="600" y="686"/>
                  </a:lnTo>
                  <a:lnTo>
                    <a:pt x="580" y="692"/>
                  </a:lnTo>
                  <a:lnTo>
                    <a:pt x="554" y="696"/>
                  </a:lnTo>
                  <a:lnTo>
                    <a:pt x="526" y="700"/>
                  </a:lnTo>
                  <a:lnTo>
                    <a:pt x="494" y="702"/>
                  </a:lnTo>
                  <a:lnTo>
                    <a:pt x="436" y="704"/>
                  </a:lnTo>
                  <a:lnTo>
                    <a:pt x="396" y="704"/>
                  </a:lnTo>
                  <a:lnTo>
                    <a:pt x="396" y="704"/>
                  </a:lnTo>
                  <a:lnTo>
                    <a:pt x="360" y="704"/>
                  </a:lnTo>
                  <a:lnTo>
                    <a:pt x="336" y="702"/>
                  </a:lnTo>
                  <a:lnTo>
                    <a:pt x="310" y="698"/>
                  </a:lnTo>
                  <a:lnTo>
                    <a:pt x="282" y="694"/>
                  </a:lnTo>
                  <a:lnTo>
                    <a:pt x="254" y="686"/>
                  </a:lnTo>
                  <a:lnTo>
                    <a:pt x="230" y="676"/>
                  </a:lnTo>
                  <a:lnTo>
                    <a:pt x="218" y="670"/>
                  </a:lnTo>
                  <a:lnTo>
                    <a:pt x="208" y="662"/>
                  </a:lnTo>
                  <a:lnTo>
                    <a:pt x="208" y="662"/>
                  </a:lnTo>
                  <a:lnTo>
                    <a:pt x="190" y="644"/>
                  </a:lnTo>
                  <a:lnTo>
                    <a:pt x="182" y="634"/>
                  </a:lnTo>
                  <a:lnTo>
                    <a:pt x="174" y="622"/>
                  </a:lnTo>
                  <a:lnTo>
                    <a:pt x="168" y="610"/>
                  </a:lnTo>
                  <a:lnTo>
                    <a:pt x="164" y="596"/>
                  </a:lnTo>
                  <a:lnTo>
                    <a:pt x="160" y="580"/>
                  </a:lnTo>
                  <a:lnTo>
                    <a:pt x="160" y="564"/>
                  </a:lnTo>
                  <a:lnTo>
                    <a:pt x="160" y="564"/>
                  </a:lnTo>
                  <a:lnTo>
                    <a:pt x="160" y="544"/>
                  </a:lnTo>
                  <a:lnTo>
                    <a:pt x="166" y="522"/>
                  </a:lnTo>
                  <a:lnTo>
                    <a:pt x="170" y="512"/>
                  </a:lnTo>
                  <a:lnTo>
                    <a:pt x="176" y="500"/>
                  </a:lnTo>
                  <a:lnTo>
                    <a:pt x="184" y="488"/>
                  </a:lnTo>
                  <a:lnTo>
                    <a:pt x="192" y="476"/>
                  </a:lnTo>
                  <a:lnTo>
                    <a:pt x="204" y="462"/>
                  </a:lnTo>
                  <a:lnTo>
                    <a:pt x="218" y="450"/>
                  </a:lnTo>
                  <a:lnTo>
                    <a:pt x="236" y="436"/>
                  </a:lnTo>
                  <a:lnTo>
                    <a:pt x="254" y="422"/>
                  </a:lnTo>
                  <a:lnTo>
                    <a:pt x="276" y="406"/>
                  </a:lnTo>
                  <a:lnTo>
                    <a:pt x="302" y="390"/>
                  </a:lnTo>
                  <a:lnTo>
                    <a:pt x="364" y="358"/>
                  </a:lnTo>
                  <a:lnTo>
                    <a:pt x="364" y="358"/>
                  </a:lnTo>
                  <a:lnTo>
                    <a:pt x="356" y="350"/>
                  </a:lnTo>
                  <a:lnTo>
                    <a:pt x="344" y="344"/>
                  </a:lnTo>
                  <a:lnTo>
                    <a:pt x="334" y="340"/>
                  </a:lnTo>
                  <a:lnTo>
                    <a:pt x="322" y="340"/>
                  </a:lnTo>
                  <a:lnTo>
                    <a:pt x="322" y="340"/>
                  </a:lnTo>
                  <a:lnTo>
                    <a:pt x="306" y="340"/>
                  </a:lnTo>
                  <a:lnTo>
                    <a:pt x="290" y="344"/>
                  </a:lnTo>
                  <a:lnTo>
                    <a:pt x="274" y="346"/>
                  </a:lnTo>
                  <a:lnTo>
                    <a:pt x="260" y="352"/>
                  </a:lnTo>
                  <a:lnTo>
                    <a:pt x="228" y="366"/>
                  </a:lnTo>
                  <a:lnTo>
                    <a:pt x="198" y="382"/>
                  </a:lnTo>
                  <a:lnTo>
                    <a:pt x="172" y="400"/>
                  </a:lnTo>
                  <a:lnTo>
                    <a:pt x="148" y="416"/>
                  </a:lnTo>
                  <a:lnTo>
                    <a:pt x="126" y="434"/>
                  </a:lnTo>
                  <a:lnTo>
                    <a:pt x="112" y="448"/>
                  </a:lnTo>
                  <a:lnTo>
                    <a:pt x="112" y="448"/>
                  </a:lnTo>
                  <a:lnTo>
                    <a:pt x="94" y="464"/>
                  </a:lnTo>
                  <a:lnTo>
                    <a:pt x="82" y="474"/>
                  </a:lnTo>
                  <a:lnTo>
                    <a:pt x="68" y="478"/>
                  </a:lnTo>
                  <a:lnTo>
                    <a:pt x="56" y="480"/>
                  </a:lnTo>
                  <a:lnTo>
                    <a:pt x="56" y="480"/>
                  </a:lnTo>
                  <a:lnTo>
                    <a:pt x="44" y="480"/>
                  </a:lnTo>
                  <a:lnTo>
                    <a:pt x="32" y="476"/>
                  </a:lnTo>
                  <a:lnTo>
                    <a:pt x="24" y="470"/>
                  </a:lnTo>
                  <a:lnTo>
                    <a:pt x="16" y="462"/>
                  </a:lnTo>
                  <a:lnTo>
                    <a:pt x="10" y="454"/>
                  </a:lnTo>
                  <a:lnTo>
                    <a:pt x="4" y="444"/>
                  </a:lnTo>
                  <a:lnTo>
                    <a:pt x="2" y="436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2" y="414"/>
                  </a:lnTo>
                  <a:lnTo>
                    <a:pt x="6" y="404"/>
                  </a:lnTo>
                  <a:lnTo>
                    <a:pt x="12" y="396"/>
                  </a:lnTo>
                  <a:lnTo>
                    <a:pt x="22" y="388"/>
                  </a:lnTo>
                  <a:lnTo>
                    <a:pt x="22" y="388"/>
                  </a:lnTo>
                  <a:lnTo>
                    <a:pt x="86" y="328"/>
                  </a:lnTo>
                  <a:lnTo>
                    <a:pt x="132" y="284"/>
                  </a:lnTo>
                  <a:lnTo>
                    <a:pt x="148" y="264"/>
                  </a:lnTo>
                  <a:lnTo>
                    <a:pt x="164" y="246"/>
                  </a:lnTo>
                  <a:lnTo>
                    <a:pt x="178" y="226"/>
                  </a:lnTo>
                  <a:lnTo>
                    <a:pt x="190" y="204"/>
                  </a:lnTo>
                  <a:lnTo>
                    <a:pt x="190" y="204"/>
                  </a:lnTo>
                  <a:lnTo>
                    <a:pt x="106" y="206"/>
                  </a:lnTo>
                  <a:lnTo>
                    <a:pt x="106" y="206"/>
                  </a:lnTo>
                  <a:lnTo>
                    <a:pt x="86" y="206"/>
                  </a:lnTo>
                  <a:lnTo>
                    <a:pt x="76" y="204"/>
                  </a:lnTo>
                  <a:lnTo>
                    <a:pt x="64" y="200"/>
                  </a:lnTo>
                  <a:lnTo>
                    <a:pt x="54" y="194"/>
                  </a:lnTo>
                  <a:lnTo>
                    <a:pt x="44" y="186"/>
                  </a:lnTo>
                  <a:lnTo>
                    <a:pt x="38" y="172"/>
                  </a:lnTo>
                  <a:lnTo>
                    <a:pt x="38" y="166"/>
                  </a:lnTo>
                  <a:lnTo>
                    <a:pt x="36" y="156"/>
                  </a:lnTo>
                  <a:lnTo>
                    <a:pt x="36" y="156"/>
                  </a:lnTo>
                  <a:lnTo>
                    <a:pt x="38" y="140"/>
                  </a:lnTo>
                  <a:lnTo>
                    <a:pt x="44" y="128"/>
                  </a:lnTo>
                  <a:lnTo>
                    <a:pt x="52" y="120"/>
                  </a:lnTo>
                  <a:lnTo>
                    <a:pt x="60" y="114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68" y="108"/>
                  </a:lnTo>
                  <a:lnTo>
                    <a:pt x="236" y="106"/>
                  </a:lnTo>
                  <a:lnTo>
                    <a:pt x="236" y="106"/>
                  </a:lnTo>
                  <a:lnTo>
                    <a:pt x="250" y="66"/>
                  </a:lnTo>
                  <a:lnTo>
                    <a:pt x="258" y="42"/>
                  </a:lnTo>
                  <a:lnTo>
                    <a:pt x="264" y="26"/>
                  </a:lnTo>
                  <a:lnTo>
                    <a:pt x="264" y="26"/>
                  </a:lnTo>
                  <a:lnTo>
                    <a:pt x="268" y="20"/>
                  </a:lnTo>
                  <a:lnTo>
                    <a:pt x="274" y="14"/>
                  </a:lnTo>
                  <a:lnTo>
                    <a:pt x="286" y="6"/>
                  </a:lnTo>
                  <a:lnTo>
                    <a:pt x="298" y="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20" y="2"/>
                  </a:lnTo>
                  <a:lnTo>
                    <a:pt x="330" y="6"/>
                  </a:lnTo>
                  <a:lnTo>
                    <a:pt x="340" y="10"/>
                  </a:lnTo>
                  <a:lnTo>
                    <a:pt x="348" y="16"/>
                  </a:lnTo>
                  <a:lnTo>
                    <a:pt x="354" y="24"/>
                  </a:lnTo>
                  <a:lnTo>
                    <a:pt x="360" y="32"/>
                  </a:lnTo>
                  <a:lnTo>
                    <a:pt x="362" y="42"/>
                  </a:lnTo>
                  <a:lnTo>
                    <a:pt x="364" y="50"/>
                  </a:lnTo>
                  <a:lnTo>
                    <a:pt x="364" y="50"/>
                  </a:lnTo>
                  <a:lnTo>
                    <a:pt x="362" y="62"/>
                  </a:lnTo>
                  <a:lnTo>
                    <a:pt x="358" y="76"/>
                  </a:lnTo>
                  <a:lnTo>
                    <a:pt x="348" y="100"/>
                  </a:lnTo>
                  <a:lnTo>
                    <a:pt x="348" y="100"/>
                  </a:lnTo>
                  <a:lnTo>
                    <a:pt x="410" y="96"/>
                  </a:lnTo>
                  <a:lnTo>
                    <a:pt x="470" y="90"/>
                  </a:lnTo>
                  <a:lnTo>
                    <a:pt x="470" y="90"/>
                  </a:lnTo>
                  <a:lnTo>
                    <a:pt x="494" y="90"/>
                  </a:lnTo>
                  <a:lnTo>
                    <a:pt x="494" y="90"/>
                  </a:lnTo>
                  <a:lnTo>
                    <a:pt x="506" y="90"/>
                  </a:lnTo>
                  <a:lnTo>
                    <a:pt x="514" y="92"/>
                  </a:lnTo>
                  <a:lnTo>
                    <a:pt x="524" y="96"/>
                  </a:lnTo>
                  <a:lnTo>
                    <a:pt x="530" y="102"/>
                  </a:lnTo>
                  <a:lnTo>
                    <a:pt x="536" y="108"/>
                  </a:lnTo>
                  <a:lnTo>
                    <a:pt x="542" y="116"/>
                  </a:lnTo>
                  <a:lnTo>
                    <a:pt x="544" y="126"/>
                  </a:lnTo>
                  <a:lnTo>
                    <a:pt x="544" y="138"/>
                  </a:lnTo>
                  <a:lnTo>
                    <a:pt x="544" y="138"/>
                  </a:lnTo>
                  <a:lnTo>
                    <a:pt x="544" y="152"/>
                  </a:lnTo>
                  <a:lnTo>
                    <a:pt x="540" y="162"/>
                  </a:lnTo>
                  <a:lnTo>
                    <a:pt x="536" y="170"/>
                  </a:lnTo>
                  <a:lnTo>
                    <a:pt x="530" y="176"/>
                  </a:lnTo>
                  <a:lnTo>
                    <a:pt x="524" y="182"/>
                  </a:lnTo>
                  <a:lnTo>
                    <a:pt x="518" y="184"/>
                  </a:lnTo>
                  <a:lnTo>
                    <a:pt x="510" y="188"/>
                  </a:lnTo>
                  <a:lnTo>
                    <a:pt x="510" y="188"/>
                  </a:lnTo>
                  <a:lnTo>
                    <a:pt x="494" y="190"/>
                  </a:lnTo>
                  <a:lnTo>
                    <a:pt x="470" y="192"/>
                  </a:lnTo>
                  <a:lnTo>
                    <a:pt x="410" y="196"/>
                  </a:lnTo>
                  <a:lnTo>
                    <a:pt x="300" y="200"/>
                  </a:lnTo>
                  <a:lnTo>
                    <a:pt x="300" y="200"/>
                  </a:lnTo>
                  <a:lnTo>
                    <a:pt x="286" y="228"/>
                  </a:lnTo>
                  <a:lnTo>
                    <a:pt x="260" y="270"/>
                  </a:lnTo>
                  <a:lnTo>
                    <a:pt x="260" y="270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3121200" y="9996480"/>
              <a:ext cx="1117440" cy="111744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704" h="704">
                  <a:moveTo>
                    <a:pt x="318" y="276"/>
                  </a:moveTo>
                  <a:lnTo>
                    <a:pt x="318" y="276"/>
                  </a:lnTo>
                  <a:lnTo>
                    <a:pt x="344" y="272"/>
                  </a:lnTo>
                  <a:lnTo>
                    <a:pt x="386" y="270"/>
                  </a:lnTo>
                  <a:lnTo>
                    <a:pt x="386" y="270"/>
                  </a:lnTo>
                  <a:lnTo>
                    <a:pt x="416" y="272"/>
                  </a:lnTo>
                  <a:lnTo>
                    <a:pt x="446" y="274"/>
                  </a:lnTo>
                  <a:lnTo>
                    <a:pt x="474" y="278"/>
                  </a:lnTo>
                  <a:lnTo>
                    <a:pt x="502" y="284"/>
                  </a:lnTo>
                  <a:lnTo>
                    <a:pt x="528" y="292"/>
                  </a:lnTo>
                  <a:lnTo>
                    <a:pt x="552" y="302"/>
                  </a:lnTo>
                  <a:lnTo>
                    <a:pt x="574" y="314"/>
                  </a:lnTo>
                  <a:lnTo>
                    <a:pt x="596" y="326"/>
                  </a:lnTo>
                  <a:lnTo>
                    <a:pt x="614" y="340"/>
                  </a:lnTo>
                  <a:lnTo>
                    <a:pt x="630" y="356"/>
                  </a:lnTo>
                  <a:lnTo>
                    <a:pt x="646" y="374"/>
                  </a:lnTo>
                  <a:lnTo>
                    <a:pt x="658" y="392"/>
                  </a:lnTo>
                  <a:lnTo>
                    <a:pt x="668" y="412"/>
                  </a:lnTo>
                  <a:lnTo>
                    <a:pt x="674" y="434"/>
                  </a:lnTo>
                  <a:lnTo>
                    <a:pt x="678" y="458"/>
                  </a:lnTo>
                  <a:lnTo>
                    <a:pt x="680" y="482"/>
                  </a:lnTo>
                  <a:lnTo>
                    <a:pt x="680" y="482"/>
                  </a:lnTo>
                  <a:lnTo>
                    <a:pt x="678" y="506"/>
                  </a:lnTo>
                  <a:lnTo>
                    <a:pt x="674" y="530"/>
                  </a:lnTo>
                  <a:lnTo>
                    <a:pt x="668" y="552"/>
                  </a:lnTo>
                  <a:lnTo>
                    <a:pt x="660" y="572"/>
                  </a:lnTo>
                  <a:lnTo>
                    <a:pt x="648" y="592"/>
                  </a:lnTo>
                  <a:lnTo>
                    <a:pt x="636" y="610"/>
                  </a:lnTo>
                  <a:lnTo>
                    <a:pt x="620" y="628"/>
                  </a:lnTo>
                  <a:lnTo>
                    <a:pt x="604" y="644"/>
                  </a:lnTo>
                  <a:lnTo>
                    <a:pt x="584" y="658"/>
                  </a:lnTo>
                  <a:lnTo>
                    <a:pt x="564" y="670"/>
                  </a:lnTo>
                  <a:lnTo>
                    <a:pt x="542" y="680"/>
                  </a:lnTo>
                  <a:lnTo>
                    <a:pt x="520" y="688"/>
                  </a:lnTo>
                  <a:lnTo>
                    <a:pt x="496" y="696"/>
                  </a:lnTo>
                  <a:lnTo>
                    <a:pt x="470" y="700"/>
                  </a:lnTo>
                  <a:lnTo>
                    <a:pt x="444" y="704"/>
                  </a:lnTo>
                  <a:lnTo>
                    <a:pt x="418" y="704"/>
                  </a:lnTo>
                  <a:lnTo>
                    <a:pt x="418" y="704"/>
                  </a:lnTo>
                  <a:lnTo>
                    <a:pt x="404" y="704"/>
                  </a:lnTo>
                  <a:lnTo>
                    <a:pt x="392" y="702"/>
                  </a:lnTo>
                  <a:lnTo>
                    <a:pt x="382" y="696"/>
                  </a:lnTo>
                  <a:lnTo>
                    <a:pt x="374" y="690"/>
                  </a:lnTo>
                  <a:lnTo>
                    <a:pt x="368" y="682"/>
                  </a:lnTo>
                  <a:lnTo>
                    <a:pt x="362" y="674"/>
                  </a:lnTo>
                  <a:lnTo>
                    <a:pt x="358" y="662"/>
                  </a:lnTo>
                  <a:lnTo>
                    <a:pt x="358" y="648"/>
                  </a:lnTo>
                  <a:lnTo>
                    <a:pt x="358" y="648"/>
                  </a:lnTo>
                  <a:lnTo>
                    <a:pt x="360" y="634"/>
                  </a:lnTo>
                  <a:lnTo>
                    <a:pt x="364" y="622"/>
                  </a:lnTo>
                  <a:lnTo>
                    <a:pt x="372" y="612"/>
                  </a:lnTo>
                  <a:lnTo>
                    <a:pt x="380" y="606"/>
                  </a:lnTo>
                  <a:lnTo>
                    <a:pt x="392" y="600"/>
                  </a:lnTo>
                  <a:lnTo>
                    <a:pt x="406" y="596"/>
                  </a:lnTo>
                  <a:lnTo>
                    <a:pt x="436" y="592"/>
                  </a:lnTo>
                  <a:lnTo>
                    <a:pt x="436" y="592"/>
                  </a:lnTo>
                  <a:lnTo>
                    <a:pt x="458" y="588"/>
                  </a:lnTo>
                  <a:lnTo>
                    <a:pt x="478" y="582"/>
                  </a:lnTo>
                  <a:lnTo>
                    <a:pt x="500" y="574"/>
                  </a:lnTo>
                  <a:lnTo>
                    <a:pt x="520" y="564"/>
                  </a:lnTo>
                  <a:lnTo>
                    <a:pt x="530" y="558"/>
                  </a:lnTo>
                  <a:lnTo>
                    <a:pt x="538" y="550"/>
                  </a:lnTo>
                  <a:lnTo>
                    <a:pt x="546" y="542"/>
                  </a:lnTo>
                  <a:lnTo>
                    <a:pt x="552" y="532"/>
                  </a:lnTo>
                  <a:lnTo>
                    <a:pt x="558" y="522"/>
                  </a:lnTo>
                  <a:lnTo>
                    <a:pt x="560" y="510"/>
                  </a:lnTo>
                  <a:lnTo>
                    <a:pt x="564" y="498"/>
                  </a:lnTo>
                  <a:lnTo>
                    <a:pt x="564" y="484"/>
                  </a:lnTo>
                  <a:lnTo>
                    <a:pt x="564" y="484"/>
                  </a:lnTo>
                  <a:lnTo>
                    <a:pt x="562" y="464"/>
                  </a:lnTo>
                  <a:lnTo>
                    <a:pt x="558" y="448"/>
                  </a:lnTo>
                  <a:lnTo>
                    <a:pt x="550" y="434"/>
                  </a:lnTo>
                  <a:lnTo>
                    <a:pt x="542" y="422"/>
                  </a:lnTo>
                  <a:lnTo>
                    <a:pt x="530" y="412"/>
                  </a:lnTo>
                  <a:lnTo>
                    <a:pt x="516" y="404"/>
                  </a:lnTo>
                  <a:lnTo>
                    <a:pt x="502" y="396"/>
                  </a:lnTo>
                  <a:lnTo>
                    <a:pt x="488" y="390"/>
                  </a:lnTo>
                  <a:lnTo>
                    <a:pt x="456" y="382"/>
                  </a:lnTo>
                  <a:lnTo>
                    <a:pt x="426" y="376"/>
                  </a:lnTo>
                  <a:lnTo>
                    <a:pt x="400" y="374"/>
                  </a:lnTo>
                  <a:lnTo>
                    <a:pt x="380" y="374"/>
                  </a:lnTo>
                  <a:lnTo>
                    <a:pt x="380" y="374"/>
                  </a:lnTo>
                  <a:lnTo>
                    <a:pt x="360" y="374"/>
                  </a:lnTo>
                  <a:lnTo>
                    <a:pt x="342" y="376"/>
                  </a:lnTo>
                  <a:lnTo>
                    <a:pt x="318" y="380"/>
                  </a:lnTo>
                  <a:lnTo>
                    <a:pt x="318" y="582"/>
                  </a:lnTo>
                  <a:lnTo>
                    <a:pt x="318" y="582"/>
                  </a:lnTo>
                  <a:lnTo>
                    <a:pt x="316" y="626"/>
                  </a:lnTo>
                  <a:lnTo>
                    <a:pt x="314" y="640"/>
                  </a:lnTo>
                  <a:lnTo>
                    <a:pt x="310" y="652"/>
                  </a:lnTo>
                  <a:lnTo>
                    <a:pt x="310" y="652"/>
                  </a:lnTo>
                  <a:lnTo>
                    <a:pt x="302" y="662"/>
                  </a:lnTo>
                  <a:lnTo>
                    <a:pt x="292" y="672"/>
                  </a:lnTo>
                  <a:lnTo>
                    <a:pt x="282" y="682"/>
                  </a:lnTo>
                  <a:lnTo>
                    <a:pt x="268" y="690"/>
                  </a:lnTo>
                  <a:lnTo>
                    <a:pt x="252" y="696"/>
                  </a:lnTo>
                  <a:lnTo>
                    <a:pt x="236" y="700"/>
                  </a:lnTo>
                  <a:lnTo>
                    <a:pt x="220" y="702"/>
                  </a:lnTo>
                  <a:lnTo>
                    <a:pt x="202" y="704"/>
                  </a:lnTo>
                  <a:lnTo>
                    <a:pt x="202" y="704"/>
                  </a:lnTo>
                  <a:lnTo>
                    <a:pt x="180" y="702"/>
                  </a:lnTo>
                  <a:lnTo>
                    <a:pt x="160" y="700"/>
                  </a:lnTo>
                  <a:lnTo>
                    <a:pt x="140" y="694"/>
                  </a:lnTo>
                  <a:lnTo>
                    <a:pt x="122" y="688"/>
                  </a:lnTo>
                  <a:lnTo>
                    <a:pt x="104" y="680"/>
                  </a:lnTo>
                  <a:lnTo>
                    <a:pt x="88" y="670"/>
                  </a:lnTo>
                  <a:lnTo>
                    <a:pt x="72" y="660"/>
                  </a:lnTo>
                  <a:lnTo>
                    <a:pt x="58" y="648"/>
                  </a:lnTo>
                  <a:lnTo>
                    <a:pt x="46" y="634"/>
                  </a:lnTo>
                  <a:lnTo>
                    <a:pt x="34" y="620"/>
                  </a:lnTo>
                  <a:lnTo>
                    <a:pt x="24" y="604"/>
                  </a:lnTo>
                  <a:lnTo>
                    <a:pt x="16" y="588"/>
                  </a:lnTo>
                  <a:lnTo>
                    <a:pt x="10" y="570"/>
                  </a:lnTo>
                  <a:lnTo>
                    <a:pt x="4" y="552"/>
                  </a:lnTo>
                  <a:lnTo>
                    <a:pt x="2" y="532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2" y="492"/>
                  </a:lnTo>
                  <a:lnTo>
                    <a:pt x="6" y="470"/>
                  </a:lnTo>
                  <a:lnTo>
                    <a:pt x="12" y="450"/>
                  </a:lnTo>
                  <a:lnTo>
                    <a:pt x="20" y="432"/>
                  </a:lnTo>
                  <a:lnTo>
                    <a:pt x="30" y="414"/>
                  </a:lnTo>
                  <a:lnTo>
                    <a:pt x="42" y="396"/>
                  </a:lnTo>
                  <a:lnTo>
                    <a:pt x="56" y="382"/>
                  </a:lnTo>
                  <a:lnTo>
                    <a:pt x="70" y="368"/>
                  </a:lnTo>
                  <a:lnTo>
                    <a:pt x="86" y="354"/>
                  </a:lnTo>
                  <a:lnTo>
                    <a:pt x="104" y="342"/>
                  </a:lnTo>
                  <a:lnTo>
                    <a:pt x="122" y="330"/>
                  </a:lnTo>
                  <a:lnTo>
                    <a:pt x="138" y="320"/>
                  </a:lnTo>
                  <a:lnTo>
                    <a:pt x="176" y="304"/>
                  </a:lnTo>
                  <a:lnTo>
                    <a:pt x="212" y="292"/>
                  </a:lnTo>
                  <a:lnTo>
                    <a:pt x="212" y="212"/>
                  </a:lnTo>
                  <a:lnTo>
                    <a:pt x="76" y="216"/>
                  </a:lnTo>
                  <a:lnTo>
                    <a:pt x="76" y="216"/>
                  </a:lnTo>
                  <a:lnTo>
                    <a:pt x="56" y="216"/>
                  </a:lnTo>
                  <a:lnTo>
                    <a:pt x="42" y="212"/>
                  </a:lnTo>
                  <a:lnTo>
                    <a:pt x="30" y="204"/>
                  </a:lnTo>
                  <a:lnTo>
                    <a:pt x="24" y="196"/>
                  </a:lnTo>
                  <a:lnTo>
                    <a:pt x="18" y="188"/>
                  </a:lnTo>
                  <a:lnTo>
                    <a:pt x="16" y="180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16" y="150"/>
                  </a:lnTo>
                  <a:lnTo>
                    <a:pt x="20" y="138"/>
                  </a:lnTo>
                  <a:lnTo>
                    <a:pt x="28" y="128"/>
                  </a:lnTo>
                  <a:lnTo>
                    <a:pt x="38" y="122"/>
                  </a:lnTo>
                  <a:lnTo>
                    <a:pt x="48" y="118"/>
                  </a:lnTo>
                  <a:lnTo>
                    <a:pt x="58" y="116"/>
                  </a:lnTo>
                  <a:lnTo>
                    <a:pt x="78" y="114"/>
                  </a:lnTo>
                  <a:lnTo>
                    <a:pt x="212" y="110"/>
                  </a:lnTo>
                  <a:lnTo>
                    <a:pt x="212" y="86"/>
                  </a:lnTo>
                  <a:lnTo>
                    <a:pt x="212" y="86"/>
                  </a:lnTo>
                  <a:lnTo>
                    <a:pt x="212" y="56"/>
                  </a:lnTo>
                  <a:lnTo>
                    <a:pt x="214" y="42"/>
                  </a:lnTo>
                  <a:lnTo>
                    <a:pt x="218" y="28"/>
                  </a:lnTo>
                  <a:lnTo>
                    <a:pt x="224" y="16"/>
                  </a:lnTo>
                  <a:lnTo>
                    <a:pt x="234" y="8"/>
                  </a:lnTo>
                  <a:lnTo>
                    <a:pt x="246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82" y="2"/>
                  </a:lnTo>
                  <a:lnTo>
                    <a:pt x="294" y="8"/>
                  </a:lnTo>
                  <a:lnTo>
                    <a:pt x="304" y="16"/>
                  </a:lnTo>
                  <a:lnTo>
                    <a:pt x="310" y="28"/>
                  </a:lnTo>
                  <a:lnTo>
                    <a:pt x="314" y="42"/>
                  </a:lnTo>
                  <a:lnTo>
                    <a:pt x="316" y="56"/>
                  </a:lnTo>
                  <a:lnTo>
                    <a:pt x="318" y="86"/>
                  </a:lnTo>
                  <a:lnTo>
                    <a:pt x="318" y="106"/>
                  </a:lnTo>
                  <a:lnTo>
                    <a:pt x="402" y="104"/>
                  </a:lnTo>
                  <a:lnTo>
                    <a:pt x="402" y="104"/>
                  </a:lnTo>
                  <a:lnTo>
                    <a:pt x="434" y="104"/>
                  </a:lnTo>
                  <a:lnTo>
                    <a:pt x="442" y="106"/>
                  </a:lnTo>
                  <a:lnTo>
                    <a:pt x="450" y="110"/>
                  </a:lnTo>
                  <a:lnTo>
                    <a:pt x="450" y="110"/>
                  </a:lnTo>
                  <a:lnTo>
                    <a:pt x="460" y="120"/>
                  </a:lnTo>
                  <a:lnTo>
                    <a:pt x="468" y="130"/>
                  </a:lnTo>
                  <a:lnTo>
                    <a:pt x="472" y="142"/>
                  </a:lnTo>
                  <a:lnTo>
                    <a:pt x="474" y="156"/>
                  </a:lnTo>
                  <a:lnTo>
                    <a:pt x="474" y="156"/>
                  </a:lnTo>
                  <a:lnTo>
                    <a:pt x="472" y="170"/>
                  </a:lnTo>
                  <a:lnTo>
                    <a:pt x="466" y="184"/>
                  </a:lnTo>
                  <a:lnTo>
                    <a:pt x="458" y="192"/>
                  </a:lnTo>
                  <a:lnTo>
                    <a:pt x="448" y="198"/>
                  </a:lnTo>
                  <a:lnTo>
                    <a:pt x="438" y="202"/>
                  </a:lnTo>
                  <a:lnTo>
                    <a:pt x="428" y="204"/>
                  </a:lnTo>
                  <a:lnTo>
                    <a:pt x="412" y="206"/>
                  </a:lnTo>
                  <a:lnTo>
                    <a:pt x="318" y="208"/>
                  </a:lnTo>
                  <a:lnTo>
                    <a:pt x="318" y="276"/>
                  </a:lnTo>
                  <a:close/>
                  <a:moveTo>
                    <a:pt x="212" y="406"/>
                  </a:moveTo>
                  <a:lnTo>
                    <a:pt x="212" y="406"/>
                  </a:lnTo>
                  <a:lnTo>
                    <a:pt x="196" y="412"/>
                  </a:lnTo>
                  <a:lnTo>
                    <a:pt x="182" y="416"/>
                  </a:lnTo>
                  <a:lnTo>
                    <a:pt x="170" y="422"/>
                  </a:lnTo>
                  <a:lnTo>
                    <a:pt x="158" y="430"/>
                  </a:lnTo>
                  <a:lnTo>
                    <a:pt x="142" y="444"/>
                  </a:lnTo>
                  <a:lnTo>
                    <a:pt x="130" y="458"/>
                  </a:lnTo>
                  <a:lnTo>
                    <a:pt x="122" y="474"/>
                  </a:lnTo>
                  <a:lnTo>
                    <a:pt x="116" y="488"/>
                  </a:lnTo>
                  <a:lnTo>
                    <a:pt x="114" y="500"/>
                  </a:lnTo>
                  <a:lnTo>
                    <a:pt x="114" y="510"/>
                  </a:lnTo>
                  <a:lnTo>
                    <a:pt x="114" y="510"/>
                  </a:lnTo>
                  <a:lnTo>
                    <a:pt x="116" y="530"/>
                  </a:lnTo>
                  <a:lnTo>
                    <a:pt x="120" y="546"/>
                  </a:lnTo>
                  <a:lnTo>
                    <a:pt x="128" y="560"/>
                  </a:lnTo>
                  <a:lnTo>
                    <a:pt x="140" y="572"/>
                  </a:lnTo>
                  <a:lnTo>
                    <a:pt x="152" y="580"/>
                  </a:lnTo>
                  <a:lnTo>
                    <a:pt x="164" y="586"/>
                  </a:lnTo>
                  <a:lnTo>
                    <a:pt x="178" y="590"/>
                  </a:lnTo>
                  <a:lnTo>
                    <a:pt x="194" y="592"/>
                  </a:lnTo>
                  <a:lnTo>
                    <a:pt x="194" y="592"/>
                  </a:lnTo>
                  <a:lnTo>
                    <a:pt x="198" y="592"/>
                  </a:lnTo>
                  <a:lnTo>
                    <a:pt x="204" y="590"/>
                  </a:lnTo>
                  <a:lnTo>
                    <a:pt x="206" y="588"/>
                  </a:lnTo>
                  <a:lnTo>
                    <a:pt x="208" y="584"/>
                  </a:lnTo>
                  <a:lnTo>
                    <a:pt x="212" y="572"/>
                  </a:lnTo>
                  <a:lnTo>
                    <a:pt x="212" y="554"/>
                  </a:lnTo>
                  <a:lnTo>
                    <a:pt x="212" y="406"/>
                  </a:lnTo>
                  <a:close/>
                  <a:moveTo>
                    <a:pt x="648" y="278"/>
                  </a:moveTo>
                  <a:lnTo>
                    <a:pt x="648" y="278"/>
                  </a:lnTo>
                  <a:lnTo>
                    <a:pt x="640" y="278"/>
                  </a:lnTo>
                  <a:lnTo>
                    <a:pt x="632" y="276"/>
                  </a:lnTo>
                  <a:lnTo>
                    <a:pt x="624" y="272"/>
                  </a:lnTo>
                  <a:lnTo>
                    <a:pt x="616" y="266"/>
                  </a:lnTo>
                  <a:lnTo>
                    <a:pt x="610" y="258"/>
                  </a:lnTo>
                  <a:lnTo>
                    <a:pt x="600" y="246"/>
                  </a:lnTo>
                  <a:lnTo>
                    <a:pt x="576" y="208"/>
                  </a:lnTo>
                  <a:lnTo>
                    <a:pt x="576" y="208"/>
                  </a:lnTo>
                  <a:lnTo>
                    <a:pt x="558" y="182"/>
                  </a:lnTo>
                  <a:lnTo>
                    <a:pt x="514" y="126"/>
                  </a:lnTo>
                  <a:lnTo>
                    <a:pt x="514" y="126"/>
                  </a:lnTo>
                  <a:lnTo>
                    <a:pt x="506" y="114"/>
                  </a:lnTo>
                  <a:lnTo>
                    <a:pt x="500" y="104"/>
                  </a:lnTo>
                  <a:lnTo>
                    <a:pt x="498" y="96"/>
                  </a:lnTo>
                  <a:lnTo>
                    <a:pt x="496" y="84"/>
                  </a:lnTo>
                  <a:lnTo>
                    <a:pt x="496" y="84"/>
                  </a:lnTo>
                  <a:lnTo>
                    <a:pt x="498" y="74"/>
                  </a:lnTo>
                  <a:lnTo>
                    <a:pt x="500" y="64"/>
                  </a:lnTo>
                  <a:lnTo>
                    <a:pt x="506" y="54"/>
                  </a:lnTo>
                  <a:lnTo>
                    <a:pt x="512" y="48"/>
                  </a:lnTo>
                  <a:lnTo>
                    <a:pt x="520" y="42"/>
                  </a:lnTo>
                  <a:lnTo>
                    <a:pt x="530" y="38"/>
                  </a:lnTo>
                  <a:lnTo>
                    <a:pt x="538" y="34"/>
                  </a:lnTo>
                  <a:lnTo>
                    <a:pt x="548" y="34"/>
                  </a:lnTo>
                  <a:lnTo>
                    <a:pt x="548" y="34"/>
                  </a:lnTo>
                  <a:lnTo>
                    <a:pt x="556" y="34"/>
                  </a:lnTo>
                  <a:lnTo>
                    <a:pt x="564" y="36"/>
                  </a:lnTo>
                  <a:lnTo>
                    <a:pt x="574" y="42"/>
                  </a:lnTo>
                  <a:lnTo>
                    <a:pt x="584" y="50"/>
                  </a:lnTo>
                  <a:lnTo>
                    <a:pt x="596" y="60"/>
                  </a:lnTo>
                  <a:lnTo>
                    <a:pt x="612" y="78"/>
                  </a:lnTo>
                  <a:lnTo>
                    <a:pt x="628" y="98"/>
                  </a:lnTo>
                  <a:lnTo>
                    <a:pt x="650" y="126"/>
                  </a:lnTo>
                  <a:lnTo>
                    <a:pt x="650" y="126"/>
                  </a:lnTo>
                  <a:lnTo>
                    <a:pt x="664" y="148"/>
                  </a:lnTo>
                  <a:lnTo>
                    <a:pt x="682" y="174"/>
                  </a:lnTo>
                  <a:lnTo>
                    <a:pt x="698" y="202"/>
                  </a:lnTo>
                  <a:lnTo>
                    <a:pt x="702" y="212"/>
                  </a:lnTo>
                  <a:lnTo>
                    <a:pt x="704" y="222"/>
                  </a:lnTo>
                  <a:lnTo>
                    <a:pt x="704" y="222"/>
                  </a:lnTo>
                  <a:lnTo>
                    <a:pt x="702" y="238"/>
                  </a:lnTo>
                  <a:lnTo>
                    <a:pt x="696" y="252"/>
                  </a:lnTo>
                  <a:lnTo>
                    <a:pt x="688" y="262"/>
                  </a:lnTo>
                  <a:lnTo>
                    <a:pt x="680" y="268"/>
                  </a:lnTo>
                  <a:lnTo>
                    <a:pt x="670" y="274"/>
                  </a:lnTo>
                  <a:lnTo>
                    <a:pt x="660" y="276"/>
                  </a:lnTo>
                  <a:lnTo>
                    <a:pt x="648" y="278"/>
                  </a:lnTo>
                  <a:lnTo>
                    <a:pt x="648" y="278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1"/>
            <p:cNvSpPr/>
            <p:nvPr/>
          </p:nvSpPr>
          <p:spPr>
            <a:xfrm>
              <a:off x="4527720" y="10018800"/>
              <a:ext cx="1118880" cy="109512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705" h="690">
                  <a:moveTo>
                    <a:pt x="144" y="218"/>
                  </a:moveTo>
                  <a:lnTo>
                    <a:pt x="144" y="218"/>
                  </a:lnTo>
                  <a:lnTo>
                    <a:pt x="140" y="310"/>
                  </a:lnTo>
                  <a:lnTo>
                    <a:pt x="140" y="310"/>
                  </a:lnTo>
                  <a:lnTo>
                    <a:pt x="140" y="366"/>
                  </a:lnTo>
                  <a:lnTo>
                    <a:pt x="136" y="432"/>
                  </a:lnTo>
                  <a:lnTo>
                    <a:pt x="128" y="504"/>
                  </a:lnTo>
                  <a:lnTo>
                    <a:pt x="122" y="540"/>
                  </a:lnTo>
                  <a:lnTo>
                    <a:pt x="116" y="574"/>
                  </a:lnTo>
                  <a:lnTo>
                    <a:pt x="116" y="574"/>
                  </a:lnTo>
                  <a:lnTo>
                    <a:pt x="106" y="610"/>
                  </a:lnTo>
                  <a:lnTo>
                    <a:pt x="98" y="638"/>
                  </a:lnTo>
                  <a:lnTo>
                    <a:pt x="90" y="660"/>
                  </a:lnTo>
                  <a:lnTo>
                    <a:pt x="82" y="674"/>
                  </a:lnTo>
                  <a:lnTo>
                    <a:pt x="74" y="682"/>
                  </a:lnTo>
                  <a:lnTo>
                    <a:pt x="66" y="688"/>
                  </a:lnTo>
                  <a:lnTo>
                    <a:pt x="56" y="690"/>
                  </a:lnTo>
                  <a:lnTo>
                    <a:pt x="48" y="690"/>
                  </a:lnTo>
                  <a:lnTo>
                    <a:pt x="48" y="690"/>
                  </a:lnTo>
                  <a:lnTo>
                    <a:pt x="32" y="688"/>
                  </a:lnTo>
                  <a:lnTo>
                    <a:pt x="24" y="686"/>
                  </a:lnTo>
                  <a:lnTo>
                    <a:pt x="16" y="682"/>
                  </a:lnTo>
                  <a:lnTo>
                    <a:pt x="10" y="676"/>
                  </a:lnTo>
                  <a:lnTo>
                    <a:pt x="4" y="670"/>
                  </a:lnTo>
                  <a:lnTo>
                    <a:pt x="2" y="660"/>
                  </a:lnTo>
                  <a:lnTo>
                    <a:pt x="0" y="650"/>
                  </a:lnTo>
                  <a:lnTo>
                    <a:pt x="0" y="650"/>
                  </a:lnTo>
                  <a:lnTo>
                    <a:pt x="2" y="638"/>
                  </a:lnTo>
                  <a:lnTo>
                    <a:pt x="4" y="624"/>
                  </a:lnTo>
                  <a:lnTo>
                    <a:pt x="12" y="598"/>
                  </a:lnTo>
                  <a:lnTo>
                    <a:pt x="12" y="598"/>
                  </a:lnTo>
                  <a:lnTo>
                    <a:pt x="22" y="556"/>
                  </a:lnTo>
                  <a:lnTo>
                    <a:pt x="34" y="506"/>
                  </a:lnTo>
                  <a:lnTo>
                    <a:pt x="38" y="474"/>
                  </a:lnTo>
                  <a:lnTo>
                    <a:pt x="42" y="440"/>
                  </a:lnTo>
                  <a:lnTo>
                    <a:pt x="46" y="402"/>
                  </a:lnTo>
                  <a:lnTo>
                    <a:pt x="48" y="360"/>
                  </a:lnTo>
                  <a:lnTo>
                    <a:pt x="48" y="360"/>
                  </a:lnTo>
                  <a:lnTo>
                    <a:pt x="50" y="23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2" y="70"/>
                  </a:lnTo>
                  <a:lnTo>
                    <a:pt x="56" y="52"/>
                  </a:lnTo>
                  <a:lnTo>
                    <a:pt x="62" y="36"/>
                  </a:lnTo>
                  <a:lnTo>
                    <a:pt x="70" y="22"/>
                  </a:lnTo>
                  <a:lnTo>
                    <a:pt x="76" y="16"/>
                  </a:lnTo>
                  <a:lnTo>
                    <a:pt x="82" y="10"/>
                  </a:lnTo>
                  <a:lnTo>
                    <a:pt x="92" y="6"/>
                  </a:lnTo>
                  <a:lnTo>
                    <a:pt x="100" y="4"/>
                  </a:lnTo>
                  <a:lnTo>
                    <a:pt x="112" y="2"/>
                  </a:lnTo>
                  <a:lnTo>
                    <a:pt x="124" y="0"/>
                  </a:lnTo>
                  <a:lnTo>
                    <a:pt x="631" y="0"/>
                  </a:lnTo>
                  <a:lnTo>
                    <a:pt x="631" y="0"/>
                  </a:lnTo>
                  <a:lnTo>
                    <a:pt x="651" y="2"/>
                  </a:lnTo>
                  <a:lnTo>
                    <a:pt x="669" y="4"/>
                  </a:lnTo>
                  <a:lnTo>
                    <a:pt x="681" y="10"/>
                  </a:lnTo>
                  <a:lnTo>
                    <a:pt x="691" y="16"/>
                  </a:lnTo>
                  <a:lnTo>
                    <a:pt x="699" y="26"/>
                  </a:lnTo>
                  <a:lnTo>
                    <a:pt x="703" y="38"/>
                  </a:lnTo>
                  <a:lnTo>
                    <a:pt x="705" y="54"/>
                  </a:lnTo>
                  <a:lnTo>
                    <a:pt x="705" y="72"/>
                  </a:lnTo>
                  <a:lnTo>
                    <a:pt x="705" y="148"/>
                  </a:lnTo>
                  <a:lnTo>
                    <a:pt x="705" y="148"/>
                  </a:lnTo>
                  <a:lnTo>
                    <a:pt x="705" y="164"/>
                  </a:lnTo>
                  <a:lnTo>
                    <a:pt x="703" y="180"/>
                  </a:lnTo>
                  <a:lnTo>
                    <a:pt x="699" y="192"/>
                  </a:lnTo>
                  <a:lnTo>
                    <a:pt x="693" y="202"/>
                  </a:lnTo>
                  <a:lnTo>
                    <a:pt x="683" y="208"/>
                  </a:lnTo>
                  <a:lnTo>
                    <a:pt x="669" y="214"/>
                  </a:lnTo>
                  <a:lnTo>
                    <a:pt x="653" y="216"/>
                  </a:lnTo>
                  <a:lnTo>
                    <a:pt x="631" y="218"/>
                  </a:lnTo>
                  <a:lnTo>
                    <a:pt x="144" y="218"/>
                  </a:lnTo>
                  <a:close/>
                  <a:moveTo>
                    <a:pt x="601" y="134"/>
                  </a:moveTo>
                  <a:lnTo>
                    <a:pt x="601" y="134"/>
                  </a:lnTo>
                  <a:lnTo>
                    <a:pt x="607" y="132"/>
                  </a:lnTo>
                  <a:lnTo>
                    <a:pt x="611" y="130"/>
                  </a:lnTo>
                  <a:lnTo>
                    <a:pt x="613" y="126"/>
                  </a:lnTo>
                  <a:lnTo>
                    <a:pt x="613" y="118"/>
                  </a:lnTo>
                  <a:lnTo>
                    <a:pt x="613" y="102"/>
                  </a:lnTo>
                  <a:lnTo>
                    <a:pt x="613" y="102"/>
                  </a:lnTo>
                  <a:lnTo>
                    <a:pt x="613" y="96"/>
                  </a:lnTo>
                  <a:lnTo>
                    <a:pt x="611" y="90"/>
                  </a:lnTo>
                  <a:lnTo>
                    <a:pt x="607" y="88"/>
                  </a:lnTo>
                  <a:lnTo>
                    <a:pt x="601" y="86"/>
                  </a:lnTo>
                  <a:lnTo>
                    <a:pt x="160" y="86"/>
                  </a:lnTo>
                  <a:lnTo>
                    <a:pt x="160" y="86"/>
                  </a:lnTo>
                  <a:lnTo>
                    <a:pt x="154" y="88"/>
                  </a:lnTo>
                  <a:lnTo>
                    <a:pt x="150" y="90"/>
                  </a:lnTo>
                  <a:lnTo>
                    <a:pt x="144" y="96"/>
                  </a:lnTo>
                  <a:lnTo>
                    <a:pt x="144" y="104"/>
                  </a:lnTo>
                  <a:lnTo>
                    <a:pt x="144" y="134"/>
                  </a:lnTo>
                  <a:lnTo>
                    <a:pt x="601" y="134"/>
                  </a:lnTo>
                  <a:close/>
                  <a:moveTo>
                    <a:pt x="400" y="308"/>
                  </a:moveTo>
                  <a:lnTo>
                    <a:pt x="400" y="284"/>
                  </a:lnTo>
                  <a:lnTo>
                    <a:pt x="400" y="284"/>
                  </a:lnTo>
                  <a:lnTo>
                    <a:pt x="400" y="256"/>
                  </a:lnTo>
                  <a:lnTo>
                    <a:pt x="402" y="246"/>
                  </a:lnTo>
                  <a:lnTo>
                    <a:pt x="406" y="236"/>
                  </a:lnTo>
                  <a:lnTo>
                    <a:pt x="412" y="230"/>
                  </a:lnTo>
                  <a:lnTo>
                    <a:pt x="420" y="224"/>
                  </a:lnTo>
                  <a:lnTo>
                    <a:pt x="434" y="220"/>
                  </a:lnTo>
                  <a:lnTo>
                    <a:pt x="450" y="220"/>
                  </a:lnTo>
                  <a:lnTo>
                    <a:pt x="450" y="220"/>
                  </a:lnTo>
                  <a:lnTo>
                    <a:pt x="464" y="220"/>
                  </a:lnTo>
                  <a:lnTo>
                    <a:pt x="474" y="224"/>
                  </a:lnTo>
                  <a:lnTo>
                    <a:pt x="482" y="230"/>
                  </a:lnTo>
                  <a:lnTo>
                    <a:pt x="488" y="238"/>
                  </a:lnTo>
                  <a:lnTo>
                    <a:pt x="490" y="248"/>
                  </a:lnTo>
                  <a:lnTo>
                    <a:pt x="492" y="258"/>
                  </a:lnTo>
                  <a:lnTo>
                    <a:pt x="492" y="284"/>
                  </a:lnTo>
                  <a:lnTo>
                    <a:pt x="492" y="308"/>
                  </a:lnTo>
                  <a:lnTo>
                    <a:pt x="625" y="308"/>
                  </a:lnTo>
                  <a:lnTo>
                    <a:pt x="625" y="308"/>
                  </a:lnTo>
                  <a:lnTo>
                    <a:pt x="643" y="308"/>
                  </a:lnTo>
                  <a:lnTo>
                    <a:pt x="657" y="312"/>
                  </a:lnTo>
                  <a:lnTo>
                    <a:pt x="671" y="318"/>
                  </a:lnTo>
                  <a:lnTo>
                    <a:pt x="683" y="324"/>
                  </a:lnTo>
                  <a:lnTo>
                    <a:pt x="693" y="334"/>
                  </a:lnTo>
                  <a:lnTo>
                    <a:pt x="699" y="346"/>
                  </a:lnTo>
                  <a:lnTo>
                    <a:pt x="705" y="358"/>
                  </a:lnTo>
                  <a:lnTo>
                    <a:pt x="705" y="374"/>
                  </a:lnTo>
                  <a:lnTo>
                    <a:pt x="705" y="618"/>
                  </a:lnTo>
                  <a:lnTo>
                    <a:pt x="705" y="618"/>
                  </a:lnTo>
                  <a:lnTo>
                    <a:pt x="705" y="630"/>
                  </a:lnTo>
                  <a:lnTo>
                    <a:pt x="701" y="644"/>
                  </a:lnTo>
                  <a:lnTo>
                    <a:pt x="695" y="656"/>
                  </a:lnTo>
                  <a:lnTo>
                    <a:pt x="689" y="666"/>
                  </a:lnTo>
                  <a:lnTo>
                    <a:pt x="679" y="676"/>
                  </a:lnTo>
                  <a:lnTo>
                    <a:pt x="669" y="684"/>
                  </a:lnTo>
                  <a:lnTo>
                    <a:pt x="655" y="688"/>
                  </a:lnTo>
                  <a:lnTo>
                    <a:pt x="641" y="690"/>
                  </a:lnTo>
                  <a:lnTo>
                    <a:pt x="260" y="690"/>
                  </a:lnTo>
                  <a:lnTo>
                    <a:pt x="260" y="690"/>
                  </a:lnTo>
                  <a:lnTo>
                    <a:pt x="244" y="688"/>
                  </a:lnTo>
                  <a:lnTo>
                    <a:pt x="230" y="686"/>
                  </a:lnTo>
                  <a:lnTo>
                    <a:pt x="218" y="680"/>
                  </a:lnTo>
                  <a:lnTo>
                    <a:pt x="208" y="672"/>
                  </a:lnTo>
                  <a:lnTo>
                    <a:pt x="200" y="664"/>
                  </a:lnTo>
                  <a:lnTo>
                    <a:pt x="194" y="654"/>
                  </a:lnTo>
                  <a:lnTo>
                    <a:pt x="190" y="642"/>
                  </a:lnTo>
                  <a:lnTo>
                    <a:pt x="188" y="630"/>
                  </a:lnTo>
                  <a:lnTo>
                    <a:pt x="188" y="376"/>
                  </a:lnTo>
                  <a:lnTo>
                    <a:pt x="188" y="376"/>
                  </a:lnTo>
                  <a:lnTo>
                    <a:pt x="190" y="364"/>
                  </a:lnTo>
                  <a:lnTo>
                    <a:pt x="192" y="352"/>
                  </a:lnTo>
                  <a:lnTo>
                    <a:pt x="198" y="340"/>
                  </a:lnTo>
                  <a:lnTo>
                    <a:pt x="206" y="330"/>
                  </a:lnTo>
                  <a:lnTo>
                    <a:pt x="216" y="320"/>
                  </a:lnTo>
                  <a:lnTo>
                    <a:pt x="230" y="314"/>
                  </a:lnTo>
                  <a:lnTo>
                    <a:pt x="246" y="310"/>
                  </a:lnTo>
                  <a:lnTo>
                    <a:pt x="266" y="308"/>
                  </a:lnTo>
                  <a:lnTo>
                    <a:pt x="400" y="308"/>
                  </a:lnTo>
                  <a:close/>
                  <a:moveTo>
                    <a:pt x="400" y="454"/>
                  </a:moveTo>
                  <a:lnTo>
                    <a:pt x="400" y="396"/>
                  </a:lnTo>
                  <a:lnTo>
                    <a:pt x="296" y="396"/>
                  </a:lnTo>
                  <a:lnTo>
                    <a:pt x="296" y="396"/>
                  </a:lnTo>
                  <a:lnTo>
                    <a:pt x="290" y="396"/>
                  </a:lnTo>
                  <a:lnTo>
                    <a:pt x="286" y="400"/>
                  </a:lnTo>
                  <a:lnTo>
                    <a:pt x="282" y="404"/>
                  </a:lnTo>
                  <a:lnTo>
                    <a:pt x="282" y="410"/>
                  </a:lnTo>
                  <a:lnTo>
                    <a:pt x="282" y="454"/>
                  </a:lnTo>
                  <a:lnTo>
                    <a:pt x="400" y="454"/>
                  </a:lnTo>
                  <a:close/>
                  <a:moveTo>
                    <a:pt x="282" y="534"/>
                  </a:moveTo>
                  <a:lnTo>
                    <a:pt x="282" y="592"/>
                  </a:lnTo>
                  <a:lnTo>
                    <a:pt x="282" y="592"/>
                  </a:lnTo>
                  <a:lnTo>
                    <a:pt x="284" y="598"/>
                  </a:lnTo>
                  <a:lnTo>
                    <a:pt x="288" y="602"/>
                  </a:lnTo>
                  <a:lnTo>
                    <a:pt x="292" y="604"/>
                  </a:lnTo>
                  <a:lnTo>
                    <a:pt x="298" y="604"/>
                  </a:lnTo>
                  <a:lnTo>
                    <a:pt x="400" y="604"/>
                  </a:lnTo>
                  <a:lnTo>
                    <a:pt x="400" y="534"/>
                  </a:lnTo>
                  <a:lnTo>
                    <a:pt x="282" y="534"/>
                  </a:lnTo>
                  <a:close/>
                  <a:moveTo>
                    <a:pt x="613" y="454"/>
                  </a:moveTo>
                  <a:lnTo>
                    <a:pt x="613" y="410"/>
                  </a:lnTo>
                  <a:lnTo>
                    <a:pt x="613" y="410"/>
                  </a:lnTo>
                  <a:lnTo>
                    <a:pt x="611" y="404"/>
                  </a:lnTo>
                  <a:lnTo>
                    <a:pt x="609" y="400"/>
                  </a:lnTo>
                  <a:lnTo>
                    <a:pt x="605" y="396"/>
                  </a:lnTo>
                  <a:lnTo>
                    <a:pt x="601" y="396"/>
                  </a:lnTo>
                  <a:lnTo>
                    <a:pt x="492" y="396"/>
                  </a:lnTo>
                  <a:lnTo>
                    <a:pt x="492" y="454"/>
                  </a:lnTo>
                  <a:lnTo>
                    <a:pt x="613" y="454"/>
                  </a:lnTo>
                  <a:close/>
                  <a:moveTo>
                    <a:pt x="492" y="534"/>
                  </a:moveTo>
                  <a:lnTo>
                    <a:pt x="492" y="604"/>
                  </a:lnTo>
                  <a:lnTo>
                    <a:pt x="603" y="604"/>
                  </a:lnTo>
                  <a:lnTo>
                    <a:pt x="603" y="604"/>
                  </a:lnTo>
                  <a:lnTo>
                    <a:pt x="609" y="602"/>
                  </a:lnTo>
                  <a:lnTo>
                    <a:pt x="611" y="600"/>
                  </a:lnTo>
                  <a:lnTo>
                    <a:pt x="613" y="594"/>
                  </a:lnTo>
                  <a:lnTo>
                    <a:pt x="613" y="590"/>
                  </a:lnTo>
                  <a:lnTo>
                    <a:pt x="613" y="534"/>
                  </a:lnTo>
                  <a:lnTo>
                    <a:pt x="492" y="534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046920" y="10012320"/>
              <a:ext cx="1066680" cy="110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672" h="698">
                  <a:moveTo>
                    <a:pt x="154" y="376"/>
                  </a:moveTo>
                  <a:lnTo>
                    <a:pt x="154" y="376"/>
                  </a:lnTo>
                  <a:lnTo>
                    <a:pt x="162" y="376"/>
                  </a:lnTo>
                  <a:lnTo>
                    <a:pt x="174" y="382"/>
                  </a:lnTo>
                  <a:lnTo>
                    <a:pt x="180" y="386"/>
                  </a:lnTo>
                  <a:lnTo>
                    <a:pt x="186" y="392"/>
                  </a:lnTo>
                  <a:lnTo>
                    <a:pt x="190" y="400"/>
                  </a:lnTo>
                  <a:lnTo>
                    <a:pt x="192" y="412"/>
                  </a:lnTo>
                  <a:lnTo>
                    <a:pt x="192" y="412"/>
                  </a:lnTo>
                  <a:lnTo>
                    <a:pt x="190" y="422"/>
                  </a:lnTo>
                  <a:lnTo>
                    <a:pt x="186" y="434"/>
                  </a:lnTo>
                  <a:lnTo>
                    <a:pt x="176" y="466"/>
                  </a:lnTo>
                  <a:lnTo>
                    <a:pt x="158" y="518"/>
                  </a:lnTo>
                  <a:lnTo>
                    <a:pt x="158" y="518"/>
                  </a:lnTo>
                  <a:lnTo>
                    <a:pt x="150" y="564"/>
                  </a:lnTo>
                  <a:lnTo>
                    <a:pt x="142" y="592"/>
                  </a:lnTo>
                  <a:lnTo>
                    <a:pt x="138" y="608"/>
                  </a:lnTo>
                  <a:lnTo>
                    <a:pt x="138" y="608"/>
                  </a:lnTo>
                  <a:lnTo>
                    <a:pt x="132" y="616"/>
                  </a:lnTo>
                  <a:lnTo>
                    <a:pt x="126" y="622"/>
                  </a:lnTo>
                  <a:lnTo>
                    <a:pt x="118" y="626"/>
                  </a:lnTo>
                  <a:lnTo>
                    <a:pt x="112" y="630"/>
                  </a:lnTo>
                  <a:lnTo>
                    <a:pt x="98" y="634"/>
                  </a:lnTo>
                  <a:lnTo>
                    <a:pt x="84" y="634"/>
                  </a:lnTo>
                  <a:lnTo>
                    <a:pt x="84" y="634"/>
                  </a:lnTo>
                  <a:lnTo>
                    <a:pt x="70" y="634"/>
                  </a:lnTo>
                  <a:lnTo>
                    <a:pt x="58" y="628"/>
                  </a:lnTo>
                  <a:lnTo>
                    <a:pt x="48" y="622"/>
                  </a:lnTo>
                  <a:lnTo>
                    <a:pt x="40" y="614"/>
                  </a:lnTo>
                  <a:lnTo>
                    <a:pt x="32" y="604"/>
                  </a:lnTo>
                  <a:lnTo>
                    <a:pt x="28" y="594"/>
                  </a:lnTo>
                  <a:lnTo>
                    <a:pt x="20" y="572"/>
                  </a:lnTo>
                  <a:lnTo>
                    <a:pt x="20" y="572"/>
                  </a:lnTo>
                  <a:lnTo>
                    <a:pt x="12" y="542"/>
                  </a:lnTo>
                  <a:lnTo>
                    <a:pt x="8" y="506"/>
                  </a:lnTo>
                  <a:lnTo>
                    <a:pt x="4" y="466"/>
                  </a:lnTo>
                  <a:lnTo>
                    <a:pt x="2" y="424"/>
                  </a:lnTo>
                  <a:lnTo>
                    <a:pt x="0" y="350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2" y="246"/>
                  </a:lnTo>
                  <a:lnTo>
                    <a:pt x="6" y="172"/>
                  </a:lnTo>
                  <a:lnTo>
                    <a:pt x="12" y="106"/>
                  </a:lnTo>
                  <a:lnTo>
                    <a:pt x="14" y="7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4" y="46"/>
                  </a:lnTo>
                  <a:lnTo>
                    <a:pt x="30" y="36"/>
                  </a:lnTo>
                  <a:lnTo>
                    <a:pt x="38" y="28"/>
                  </a:lnTo>
                  <a:lnTo>
                    <a:pt x="44" y="24"/>
                  </a:lnTo>
                  <a:lnTo>
                    <a:pt x="52" y="20"/>
                  </a:lnTo>
                  <a:lnTo>
                    <a:pt x="6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0" y="18"/>
                  </a:lnTo>
                  <a:lnTo>
                    <a:pt x="90" y="22"/>
                  </a:lnTo>
                  <a:lnTo>
                    <a:pt x="100" y="26"/>
                  </a:lnTo>
                  <a:lnTo>
                    <a:pt x="108" y="32"/>
                  </a:lnTo>
                  <a:lnTo>
                    <a:pt x="116" y="40"/>
                  </a:lnTo>
                  <a:lnTo>
                    <a:pt x="120" y="48"/>
                  </a:lnTo>
                  <a:lnTo>
                    <a:pt x="124" y="58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12" y="186"/>
                  </a:lnTo>
                  <a:lnTo>
                    <a:pt x="112" y="186"/>
                  </a:lnTo>
                  <a:lnTo>
                    <a:pt x="108" y="244"/>
                  </a:lnTo>
                  <a:lnTo>
                    <a:pt x="106" y="300"/>
                  </a:lnTo>
                  <a:lnTo>
                    <a:pt x="106" y="362"/>
                  </a:lnTo>
                  <a:lnTo>
                    <a:pt x="106" y="362"/>
                  </a:lnTo>
                  <a:lnTo>
                    <a:pt x="106" y="418"/>
                  </a:lnTo>
                  <a:lnTo>
                    <a:pt x="108" y="454"/>
                  </a:lnTo>
                  <a:lnTo>
                    <a:pt x="108" y="454"/>
                  </a:lnTo>
                  <a:lnTo>
                    <a:pt x="118" y="418"/>
                  </a:lnTo>
                  <a:lnTo>
                    <a:pt x="122" y="404"/>
                  </a:lnTo>
                  <a:lnTo>
                    <a:pt x="126" y="394"/>
                  </a:lnTo>
                  <a:lnTo>
                    <a:pt x="132" y="386"/>
                  </a:lnTo>
                  <a:lnTo>
                    <a:pt x="138" y="380"/>
                  </a:lnTo>
                  <a:lnTo>
                    <a:pt x="146" y="378"/>
                  </a:lnTo>
                  <a:lnTo>
                    <a:pt x="154" y="376"/>
                  </a:lnTo>
                  <a:lnTo>
                    <a:pt x="154" y="376"/>
                  </a:lnTo>
                  <a:close/>
                  <a:moveTo>
                    <a:pt x="436" y="52"/>
                  </a:moveTo>
                  <a:lnTo>
                    <a:pt x="436" y="52"/>
                  </a:lnTo>
                  <a:lnTo>
                    <a:pt x="436" y="42"/>
                  </a:lnTo>
                  <a:lnTo>
                    <a:pt x="438" y="32"/>
                  </a:lnTo>
                  <a:lnTo>
                    <a:pt x="444" y="22"/>
                  </a:lnTo>
                  <a:lnTo>
                    <a:pt x="450" y="14"/>
                  </a:lnTo>
                  <a:lnTo>
                    <a:pt x="458" y="8"/>
                  </a:lnTo>
                  <a:lnTo>
                    <a:pt x="468" y="4"/>
                  </a:lnTo>
                  <a:lnTo>
                    <a:pt x="478" y="2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0"/>
                  </a:lnTo>
                  <a:lnTo>
                    <a:pt x="510" y="4"/>
                  </a:lnTo>
                  <a:lnTo>
                    <a:pt x="518" y="6"/>
                  </a:lnTo>
                  <a:lnTo>
                    <a:pt x="524" y="12"/>
                  </a:lnTo>
                  <a:lnTo>
                    <a:pt x="530" y="16"/>
                  </a:lnTo>
                  <a:lnTo>
                    <a:pt x="536" y="24"/>
                  </a:lnTo>
                  <a:lnTo>
                    <a:pt x="538" y="30"/>
                  </a:lnTo>
                  <a:lnTo>
                    <a:pt x="542" y="38"/>
                  </a:lnTo>
                  <a:lnTo>
                    <a:pt x="542" y="38"/>
                  </a:lnTo>
                  <a:lnTo>
                    <a:pt x="544" y="48"/>
                  </a:lnTo>
                  <a:lnTo>
                    <a:pt x="544" y="66"/>
                  </a:lnTo>
                  <a:lnTo>
                    <a:pt x="548" y="162"/>
                  </a:lnTo>
                  <a:lnTo>
                    <a:pt x="548" y="162"/>
                  </a:lnTo>
                  <a:lnTo>
                    <a:pt x="622" y="158"/>
                  </a:lnTo>
                  <a:lnTo>
                    <a:pt x="622" y="158"/>
                  </a:lnTo>
                  <a:lnTo>
                    <a:pt x="634" y="158"/>
                  </a:lnTo>
                  <a:lnTo>
                    <a:pt x="646" y="162"/>
                  </a:lnTo>
                  <a:lnTo>
                    <a:pt x="654" y="168"/>
                  </a:lnTo>
                  <a:lnTo>
                    <a:pt x="660" y="174"/>
                  </a:lnTo>
                  <a:lnTo>
                    <a:pt x="666" y="182"/>
                  </a:lnTo>
                  <a:lnTo>
                    <a:pt x="668" y="190"/>
                  </a:lnTo>
                  <a:lnTo>
                    <a:pt x="670" y="200"/>
                  </a:lnTo>
                  <a:lnTo>
                    <a:pt x="672" y="210"/>
                  </a:lnTo>
                  <a:lnTo>
                    <a:pt x="672" y="210"/>
                  </a:lnTo>
                  <a:lnTo>
                    <a:pt x="670" y="226"/>
                  </a:lnTo>
                  <a:lnTo>
                    <a:pt x="664" y="238"/>
                  </a:lnTo>
                  <a:lnTo>
                    <a:pt x="656" y="248"/>
                  </a:lnTo>
                  <a:lnTo>
                    <a:pt x="644" y="256"/>
                  </a:lnTo>
                  <a:lnTo>
                    <a:pt x="626" y="262"/>
                  </a:lnTo>
                  <a:lnTo>
                    <a:pt x="606" y="264"/>
                  </a:lnTo>
                  <a:lnTo>
                    <a:pt x="580" y="268"/>
                  </a:lnTo>
                  <a:lnTo>
                    <a:pt x="550" y="268"/>
                  </a:lnTo>
                  <a:lnTo>
                    <a:pt x="550" y="268"/>
                  </a:lnTo>
                  <a:lnTo>
                    <a:pt x="550" y="336"/>
                  </a:lnTo>
                  <a:lnTo>
                    <a:pt x="550" y="390"/>
                  </a:lnTo>
                  <a:lnTo>
                    <a:pt x="548" y="436"/>
                  </a:lnTo>
                  <a:lnTo>
                    <a:pt x="544" y="472"/>
                  </a:lnTo>
                  <a:lnTo>
                    <a:pt x="538" y="500"/>
                  </a:lnTo>
                  <a:lnTo>
                    <a:pt x="532" y="522"/>
                  </a:lnTo>
                  <a:lnTo>
                    <a:pt x="524" y="542"/>
                  </a:lnTo>
                  <a:lnTo>
                    <a:pt x="516" y="558"/>
                  </a:lnTo>
                  <a:lnTo>
                    <a:pt x="516" y="558"/>
                  </a:lnTo>
                  <a:lnTo>
                    <a:pt x="504" y="576"/>
                  </a:lnTo>
                  <a:lnTo>
                    <a:pt x="492" y="592"/>
                  </a:lnTo>
                  <a:lnTo>
                    <a:pt x="480" y="608"/>
                  </a:lnTo>
                  <a:lnTo>
                    <a:pt x="466" y="622"/>
                  </a:lnTo>
                  <a:lnTo>
                    <a:pt x="440" y="646"/>
                  </a:lnTo>
                  <a:lnTo>
                    <a:pt x="412" y="664"/>
                  </a:lnTo>
                  <a:lnTo>
                    <a:pt x="386" y="680"/>
                  </a:lnTo>
                  <a:lnTo>
                    <a:pt x="362" y="690"/>
                  </a:lnTo>
                  <a:lnTo>
                    <a:pt x="342" y="696"/>
                  </a:lnTo>
                  <a:lnTo>
                    <a:pt x="326" y="698"/>
                  </a:lnTo>
                  <a:lnTo>
                    <a:pt x="326" y="698"/>
                  </a:lnTo>
                  <a:lnTo>
                    <a:pt x="314" y="698"/>
                  </a:lnTo>
                  <a:lnTo>
                    <a:pt x="304" y="694"/>
                  </a:lnTo>
                  <a:lnTo>
                    <a:pt x="296" y="688"/>
                  </a:lnTo>
                  <a:lnTo>
                    <a:pt x="288" y="682"/>
                  </a:lnTo>
                  <a:lnTo>
                    <a:pt x="282" y="674"/>
                  </a:lnTo>
                  <a:lnTo>
                    <a:pt x="278" y="664"/>
                  </a:lnTo>
                  <a:lnTo>
                    <a:pt x="274" y="654"/>
                  </a:lnTo>
                  <a:lnTo>
                    <a:pt x="274" y="642"/>
                  </a:lnTo>
                  <a:lnTo>
                    <a:pt x="274" y="642"/>
                  </a:lnTo>
                  <a:lnTo>
                    <a:pt x="274" y="632"/>
                  </a:lnTo>
                  <a:lnTo>
                    <a:pt x="278" y="622"/>
                  </a:lnTo>
                  <a:lnTo>
                    <a:pt x="282" y="614"/>
                  </a:lnTo>
                  <a:lnTo>
                    <a:pt x="288" y="608"/>
                  </a:lnTo>
                  <a:lnTo>
                    <a:pt x="294" y="602"/>
                  </a:lnTo>
                  <a:lnTo>
                    <a:pt x="302" y="596"/>
                  </a:lnTo>
                  <a:lnTo>
                    <a:pt x="322" y="588"/>
                  </a:lnTo>
                  <a:lnTo>
                    <a:pt x="322" y="588"/>
                  </a:lnTo>
                  <a:lnTo>
                    <a:pt x="344" y="576"/>
                  </a:lnTo>
                  <a:lnTo>
                    <a:pt x="366" y="562"/>
                  </a:lnTo>
                  <a:lnTo>
                    <a:pt x="384" y="544"/>
                  </a:lnTo>
                  <a:lnTo>
                    <a:pt x="402" y="526"/>
                  </a:lnTo>
                  <a:lnTo>
                    <a:pt x="416" y="506"/>
                  </a:lnTo>
                  <a:lnTo>
                    <a:pt x="428" y="484"/>
                  </a:lnTo>
                  <a:lnTo>
                    <a:pt x="436" y="462"/>
                  </a:lnTo>
                  <a:lnTo>
                    <a:pt x="440" y="438"/>
                  </a:lnTo>
                  <a:lnTo>
                    <a:pt x="440" y="438"/>
                  </a:lnTo>
                  <a:lnTo>
                    <a:pt x="444" y="382"/>
                  </a:lnTo>
                  <a:lnTo>
                    <a:pt x="446" y="334"/>
                  </a:lnTo>
                  <a:lnTo>
                    <a:pt x="444" y="274"/>
                  </a:lnTo>
                  <a:lnTo>
                    <a:pt x="444" y="274"/>
                  </a:lnTo>
                  <a:lnTo>
                    <a:pt x="324" y="274"/>
                  </a:lnTo>
                  <a:lnTo>
                    <a:pt x="324" y="274"/>
                  </a:lnTo>
                  <a:lnTo>
                    <a:pt x="266" y="274"/>
                  </a:lnTo>
                  <a:lnTo>
                    <a:pt x="242" y="272"/>
                  </a:lnTo>
                  <a:lnTo>
                    <a:pt x="224" y="268"/>
                  </a:lnTo>
                  <a:lnTo>
                    <a:pt x="210" y="260"/>
                  </a:lnTo>
                  <a:lnTo>
                    <a:pt x="204" y="256"/>
                  </a:lnTo>
                  <a:lnTo>
                    <a:pt x="200" y="250"/>
                  </a:lnTo>
                  <a:lnTo>
                    <a:pt x="196" y="244"/>
                  </a:lnTo>
                  <a:lnTo>
                    <a:pt x="194" y="236"/>
                  </a:lnTo>
                  <a:lnTo>
                    <a:pt x="192" y="218"/>
                  </a:lnTo>
                  <a:lnTo>
                    <a:pt x="192" y="218"/>
                  </a:lnTo>
                  <a:lnTo>
                    <a:pt x="192" y="206"/>
                  </a:lnTo>
                  <a:lnTo>
                    <a:pt x="196" y="196"/>
                  </a:lnTo>
                  <a:lnTo>
                    <a:pt x="200" y="188"/>
                  </a:lnTo>
                  <a:lnTo>
                    <a:pt x="206" y="180"/>
                  </a:lnTo>
                  <a:lnTo>
                    <a:pt x="214" y="172"/>
                  </a:lnTo>
                  <a:lnTo>
                    <a:pt x="222" y="168"/>
                  </a:lnTo>
                  <a:lnTo>
                    <a:pt x="232" y="164"/>
                  </a:lnTo>
                  <a:lnTo>
                    <a:pt x="244" y="164"/>
                  </a:lnTo>
                  <a:lnTo>
                    <a:pt x="244" y="164"/>
                  </a:lnTo>
                  <a:lnTo>
                    <a:pt x="342" y="166"/>
                  </a:lnTo>
                  <a:lnTo>
                    <a:pt x="342" y="166"/>
                  </a:lnTo>
                  <a:lnTo>
                    <a:pt x="440" y="166"/>
                  </a:lnTo>
                  <a:lnTo>
                    <a:pt x="440" y="166"/>
                  </a:lnTo>
                  <a:lnTo>
                    <a:pt x="438" y="108"/>
                  </a:lnTo>
                  <a:lnTo>
                    <a:pt x="436" y="52"/>
                  </a:lnTo>
                  <a:lnTo>
                    <a:pt x="436" y="52"/>
                  </a:lnTo>
                  <a:close/>
                </a:path>
              </a:pathLst>
            </a:custGeom>
            <a:solidFill>
              <a:srgbClr val="008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グループ化 111"/>
          <p:cNvGrpSpPr/>
          <p:nvPr/>
        </p:nvGrpSpPr>
        <p:grpSpPr>
          <a:xfrm>
            <a:off x="1247760" y="28706760"/>
            <a:ext cx="8031240" cy="2355840"/>
            <a:chOff x="1247760" y="28706760"/>
            <a:chExt cx="8031240" cy="2355840"/>
          </a:xfrm>
        </p:grpSpPr>
        <p:sp>
          <p:nvSpPr>
            <p:cNvPr id="146" name="Freeform 33"/>
            <p:cNvSpPr/>
            <p:nvPr/>
          </p:nvSpPr>
          <p:spPr>
            <a:xfrm>
              <a:off x="1247760" y="28706760"/>
              <a:ext cx="1952640" cy="2355840"/>
            </a:xfrm>
            <a:custGeom>
              <a:avLst/>
              <a:gdLst/>
              <a:ahLst/>
              <a:rect l="l" t="t" r="r" b="b"/>
              <a:pathLst>
                <a:path w="1230" h="1484">
                  <a:moveTo>
                    <a:pt x="910" y="590"/>
                  </a:moveTo>
                  <a:lnTo>
                    <a:pt x="1098" y="590"/>
                  </a:lnTo>
                  <a:lnTo>
                    <a:pt x="1098" y="590"/>
                  </a:lnTo>
                  <a:lnTo>
                    <a:pt x="1110" y="588"/>
                  </a:lnTo>
                  <a:lnTo>
                    <a:pt x="1122" y="586"/>
                  </a:lnTo>
                  <a:lnTo>
                    <a:pt x="1132" y="584"/>
                  </a:lnTo>
                  <a:lnTo>
                    <a:pt x="1144" y="580"/>
                  </a:lnTo>
                  <a:lnTo>
                    <a:pt x="1154" y="574"/>
                  </a:lnTo>
                  <a:lnTo>
                    <a:pt x="1162" y="568"/>
                  </a:lnTo>
                  <a:lnTo>
                    <a:pt x="1172" y="560"/>
                  </a:lnTo>
                  <a:lnTo>
                    <a:pt x="1180" y="552"/>
                  </a:lnTo>
                  <a:lnTo>
                    <a:pt x="1180" y="552"/>
                  </a:lnTo>
                  <a:lnTo>
                    <a:pt x="1186" y="542"/>
                  </a:lnTo>
                  <a:lnTo>
                    <a:pt x="1192" y="534"/>
                  </a:lnTo>
                  <a:lnTo>
                    <a:pt x="1196" y="522"/>
                  </a:lnTo>
                  <a:lnTo>
                    <a:pt x="1200" y="512"/>
                  </a:lnTo>
                  <a:lnTo>
                    <a:pt x="1202" y="500"/>
                  </a:lnTo>
                  <a:lnTo>
                    <a:pt x="1204" y="490"/>
                  </a:lnTo>
                  <a:lnTo>
                    <a:pt x="1204" y="478"/>
                  </a:lnTo>
                  <a:lnTo>
                    <a:pt x="1202" y="466"/>
                  </a:lnTo>
                  <a:lnTo>
                    <a:pt x="1202" y="466"/>
                  </a:lnTo>
                  <a:lnTo>
                    <a:pt x="1194" y="414"/>
                  </a:lnTo>
                  <a:lnTo>
                    <a:pt x="1186" y="382"/>
                  </a:lnTo>
                  <a:lnTo>
                    <a:pt x="1174" y="346"/>
                  </a:lnTo>
                  <a:lnTo>
                    <a:pt x="1160" y="308"/>
                  </a:lnTo>
                  <a:lnTo>
                    <a:pt x="1142" y="270"/>
                  </a:lnTo>
                  <a:lnTo>
                    <a:pt x="1120" y="230"/>
                  </a:lnTo>
                  <a:lnTo>
                    <a:pt x="1106" y="210"/>
                  </a:lnTo>
                  <a:lnTo>
                    <a:pt x="1090" y="190"/>
                  </a:lnTo>
                  <a:lnTo>
                    <a:pt x="1090" y="190"/>
                  </a:lnTo>
                  <a:lnTo>
                    <a:pt x="1070" y="168"/>
                  </a:lnTo>
                  <a:lnTo>
                    <a:pt x="1050" y="146"/>
                  </a:lnTo>
                  <a:lnTo>
                    <a:pt x="1028" y="126"/>
                  </a:lnTo>
                  <a:lnTo>
                    <a:pt x="1004" y="108"/>
                  </a:lnTo>
                  <a:lnTo>
                    <a:pt x="978" y="90"/>
                  </a:lnTo>
                  <a:lnTo>
                    <a:pt x="952" y="76"/>
                  </a:lnTo>
                  <a:lnTo>
                    <a:pt x="924" y="60"/>
                  </a:lnTo>
                  <a:lnTo>
                    <a:pt x="896" y="48"/>
                  </a:lnTo>
                  <a:lnTo>
                    <a:pt x="864" y="38"/>
                  </a:lnTo>
                  <a:lnTo>
                    <a:pt x="832" y="28"/>
                  </a:lnTo>
                  <a:lnTo>
                    <a:pt x="800" y="20"/>
                  </a:lnTo>
                  <a:lnTo>
                    <a:pt x="766" y="12"/>
                  </a:lnTo>
                  <a:lnTo>
                    <a:pt x="730" y="8"/>
                  </a:lnTo>
                  <a:lnTo>
                    <a:pt x="694" y="4"/>
                  </a:lnTo>
                  <a:lnTo>
                    <a:pt x="656" y="2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76" y="2"/>
                  </a:lnTo>
                  <a:lnTo>
                    <a:pt x="536" y="4"/>
                  </a:lnTo>
                  <a:lnTo>
                    <a:pt x="498" y="8"/>
                  </a:lnTo>
                  <a:lnTo>
                    <a:pt x="462" y="12"/>
                  </a:lnTo>
                  <a:lnTo>
                    <a:pt x="426" y="20"/>
                  </a:lnTo>
                  <a:lnTo>
                    <a:pt x="394" y="28"/>
                  </a:lnTo>
                  <a:lnTo>
                    <a:pt x="360" y="36"/>
                  </a:lnTo>
                  <a:lnTo>
                    <a:pt x="330" y="48"/>
                  </a:lnTo>
                  <a:lnTo>
                    <a:pt x="300" y="60"/>
                  </a:lnTo>
                  <a:lnTo>
                    <a:pt x="272" y="74"/>
                  </a:lnTo>
                  <a:lnTo>
                    <a:pt x="246" y="88"/>
                  </a:lnTo>
                  <a:lnTo>
                    <a:pt x="220" y="106"/>
                  </a:lnTo>
                  <a:lnTo>
                    <a:pt x="196" y="124"/>
                  </a:lnTo>
                  <a:lnTo>
                    <a:pt x="174" y="144"/>
                  </a:lnTo>
                  <a:lnTo>
                    <a:pt x="152" y="164"/>
                  </a:lnTo>
                  <a:lnTo>
                    <a:pt x="134" y="186"/>
                  </a:lnTo>
                  <a:lnTo>
                    <a:pt x="134" y="186"/>
                  </a:lnTo>
                  <a:lnTo>
                    <a:pt x="118" y="206"/>
                  </a:lnTo>
                  <a:lnTo>
                    <a:pt x="104" y="226"/>
                  </a:lnTo>
                  <a:lnTo>
                    <a:pt x="92" y="248"/>
                  </a:lnTo>
                  <a:lnTo>
                    <a:pt x="82" y="268"/>
                  </a:lnTo>
                  <a:lnTo>
                    <a:pt x="64" y="308"/>
                  </a:lnTo>
                  <a:lnTo>
                    <a:pt x="50" y="346"/>
                  </a:lnTo>
                  <a:lnTo>
                    <a:pt x="42" y="382"/>
                  </a:lnTo>
                  <a:lnTo>
                    <a:pt x="36" y="416"/>
                  </a:lnTo>
                  <a:lnTo>
                    <a:pt x="34" y="446"/>
                  </a:lnTo>
                  <a:lnTo>
                    <a:pt x="34" y="472"/>
                  </a:lnTo>
                  <a:lnTo>
                    <a:pt x="34" y="472"/>
                  </a:lnTo>
                  <a:lnTo>
                    <a:pt x="34" y="512"/>
                  </a:lnTo>
                  <a:lnTo>
                    <a:pt x="40" y="548"/>
                  </a:lnTo>
                  <a:lnTo>
                    <a:pt x="46" y="582"/>
                  </a:lnTo>
                  <a:lnTo>
                    <a:pt x="54" y="614"/>
                  </a:lnTo>
                  <a:lnTo>
                    <a:pt x="66" y="646"/>
                  </a:lnTo>
                  <a:lnTo>
                    <a:pt x="80" y="674"/>
                  </a:lnTo>
                  <a:lnTo>
                    <a:pt x="96" y="700"/>
                  </a:lnTo>
                  <a:lnTo>
                    <a:pt x="114" y="724"/>
                  </a:lnTo>
                  <a:lnTo>
                    <a:pt x="134" y="746"/>
                  </a:lnTo>
                  <a:lnTo>
                    <a:pt x="156" y="768"/>
                  </a:lnTo>
                  <a:lnTo>
                    <a:pt x="178" y="788"/>
                  </a:lnTo>
                  <a:lnTo>
                    <a:pt x="204" y="806"/>
                  </a:lnTo>
                  <a:lnTo>
                    <a:pt x="230" y="824"/>
                  </a:lnTo>
                  <a:lnTo>
                    <a:pt x="258" y="840"/>
                  </a:lnTo>
                  <a:lnTo>
                    <a:pt x="288" y="856"/>
                  </a:lnTo>
                  <a:lnTo>
                    <a:pt x="320" y="870"/>
                  </a:lnTo>
                  <a:lnTo>
                    <a:pt x="106" y="870"/>
                  </a:lnTo>
                  <a:lnTo>
                    <a:pt x="106" y="870"/>
                  </a:lnTo>
                  <a:lnTo>
                    <a:pt x="84" y="872"/>
                  </a:lnTo>
                  <a:lnTo>
                    <a:pt x="64" y="880"/>
                  </a:lnTo>
                  <a:lnTo>
                    <a:pt x="44" y="890"/>
                  </a:lnTo>
                  <a:lnTo>
                    <a:pt x="28" y="904"/>
                  </a:lnTo>
                  <a:lnTo>
                    <a:pt x="28" y="904"/>
                  </a:lnTo>
                  <a:lnTo>
                    <a:pt x="16" y="922"/>
                  </a:lnTo>
                  <a:lnTo>
                    <a:pt x="6" y="940"/>
                  </a:lnTo>
                  <a:lnTo>
                    <a:pt x="0" y="962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4" y="1016"/>
                  </a:lnTo>
                  <a:lnTo>
                    <a:pt x="8" y="1050"/>
                  </a:lnTo>
                  <a:lnTo>
                    <a:pt x="16" y="1080"/>
                  </a:lnTo>
                  <a:lnTo>
                    <a:pt x="24" y="1112"/>
                  </a:lnTo>
                  <a:lnTo>
                    <a:pt x="34" y="1142"/>
                  </a:lnTo>
                  <a:lnTo>
                    <a:pt x="46" y="1170"/>
                  </a:lnTo>
                  <a:lnTo>
                    <a:pt x="60" y="1198"/>
                  </a:lnTo>
                  <a:lnTo>
                    <a:pt x="74" y="1224"/>
                  </a:lnTo>
                  <a:lnTo>
                    <a:pt x="92" y="1248"/>
                  </a:lnTo>
                  <a:lnTo>
                    <a:pt x="110" y="1272"/>
                  </a:lnTo>
                  <a:lnTo>
                    <a:pt x="130" y="1296"/>
                  </a:lnTo>
                  <a:lnTo>
                    <a:pt x="152" y="1318"/>
                  </a:lnTo>
                  <a:lnTo>
                    <a:pt x="176" y="1338"/>
                  </a:lnTo>
                  <a:lnTo>
                    <a:pt x="200" y="1358"/>
                  </a:lnTo>
                  <a:lnTo>
                    <a:pt x="226" y="1376"/>
                  </a:lnTo>
                  <a:lnTo>
                    <a:pt x="254" y="1392"/>
                  </a:lnTo>
                  <a:lnTo>
                    <a:pt x="254" y="1392"/>
                  </a:lnTo>
                  <a:lnTo>
                    <a:pt x="282" y="1406"/>
                  </a:lnTo>
                  <a:lnTo>
                    <a:pt x="308" y="1420"/>
                  </a:lnTo>
                  <a:lnTo>
                    <a:pt x="334" y="1430"/>
                  </a:lnTo>
                  <a:lnTo>
                    <a:pt x="362" y="1440"/>
                  </a:lnTo>
                  <a:lnTo>
                    <a:pt x="414" y="1456"/>
                  </a:lnTo>
                  <a:lnTo>
                    <a:pt x="466" y="1468"/>
                  </a:lnTo>
                  <a:lnTo>
                    <a:pt x="516" y="1476"/>
                  </a:lnTo>
                  <a:lnTo>
                    <a:pt x="560" y="1480"/>
                  </a:lnTo>
                  <a:lnTo>
                    <a:pt x="600" y="1482"/>
                  </a:lnTo>
                  <a:lnTo>
                    <a:pt x="634" y="1484"/>
                  </a:lnTo>
                  <a:lnTo>
                    <a:pt x="634" y="1484"/>
                  </a:lnTo>
                  <a:lnTo>
                    <a:pt x="682" y="1482"/>
                  </a:lnTo>
                  <a:lnTo>
                    <a:pt x="726" y="1478"/>
                  </a:lnTo>
                  <a:lnTo>
                    <a:pt x="768" y="1474"/>
                  </a:lnTo>
                  <a:lnTo>
                    <a:pt x="808" y="1466"/>
                  </a:lnTo>
                  <a:lnTo>
                    <a:pt x="846" y="1458"/>
                  </a:lnTo>
                  <a:lnTo>
                    <a:pt x="880" y="1448"/>
                  </a:lnTo>
                  <a:lnTo>
                    <a:pt x="912" y="1436"/>
                  </a:lnTo>
                  <a:lnTo>
                    <a:pt x="942" y="1424"/>
                  </a:lnTo>
                  <a:lnTo>
                    <a:pt x="970" y="1410"/>
                  </a:lnTo>
                  <a:lnTo>
                    <a:pt x="996" y="1394"/>
                  </a:lnTo>
                  <a:lnTo>
                    <a:pt x="1020" y="1380"/>
                  </a:lnTo>
                  <a:lnTo>
                    <a:pt x="1042" y="1364"/>
                  </a:lnTo>
                  <a:lnTo>
                    <a:pt x="1062" y="1348"/>
                  </a:lnTo>
                  <a:lnTo>
                    <a:pt x="1080" y="1332"/>
                  </a:lnTo>
                  <a:lnTo>
                    <a:pt x="1112" y="1300"/>
                  </a:lnTo>
                  <a:lnTo>
                    <a:pt x="1112" y="1300"/>
                  </a:lnTo>
                  <a:lnTo>
                    <a:pt x="1130" y="1276"/>
                  </a:lnTo>
                  <a:lnTo>
                    <a:pt x="1148" y="1252"/>
                  </a:lnTo>
                  <a:lnTo>
                    <a:pt x="1164" y="1228"/>
                  </a:lnTo>
                  <a:lnTo>
                    <a:pt x="1176" y="1204"/>
                  </a:lnTo>
                  <a:lnTo>
                    <a:pt x="1188" y="1180"/>
                  </a:lnTo>
                  <a:lnTo>
                    <a:pt x="1198" y="1158"/>
                  </a:lnTo>
                  <a:lnTo>
                    <a:pt x="1212" y="1114"/>
                  </a:lnTo>
                  <a:lnTo>
                    <a:pt x="1222" y="1072"/>
                  </a:lnTo>
                  <a:lnTo>
                    <a:pt x="1228" y="1038"/>
                  </a:lnTo>
                  <a:lnTo>
                    <a:pt x="1230" y="1010"/>
                  </a:lnTo>
                  <a:lnTo>
                    <a:pt x="1230" y="990"/>
                  </a:lnTo>
                  <a:lnTo>
                    <a:pt x="1230" y="990"/>
                  </a:lnTo>
                  <a:lnTo>
                    <a:pt x="1228" y="952"/>
                  </a:lnTo>
                  <a:lnTo>
                    <a:pt x="1224" y="916"/>
                  </a:lnTo>
                  <a:lnTo>
                    <a:pt x="1218" y="882"/>
                  </a:lnTo>
                  <a:lnTo>
                    <a:pt x="1208" y="852"/>
                  </a:lnTo>
                  <a:lnTo>
                    <a:pt x="1196" y="822"/>
                  </a:lnTo>
                  <a:lnTo>
                    <a:pt x="1180" y="794"/>
                  </a:lnTo>
                  <a:lnTo>
                    <a:pt x="1162" y="768"/>
                  </a:lnTo>
                  <a:lnTo>
                    <a:pt x="1144" y="744"/>
                  </a:lnTo>
                  <a:lnTo>
                    <a:pt x="1122" y="720"/>
                  </a:lnTo>
                  <a:lnTo>
                    <a:pt x="1096" y="700"/>
                  </a:lnTo>
                  <a:lnTo>
                    <a:pt x="1070" y="678"/>
                  </a:lnTo>
                  <a:lnTo>
                    <a:pt x="1042" y="658"/>
                  </a:lnTo>
                  <a:lnTo>
                    <a:pt x="1012" y="640"/>
                  </a:lnTo>
                  <a:lnTo>
                    <a:pt x="980" y="622"/>
                  </a:lnTo>
                  <a:lnTo>
                    <a:pt x="946" y="606"/>
                  </a:lnTo>
                  <a:lnTo>
                    <a:pt x="910" y="590"/>
                  </a:lnTo>
                  <a:lnTo>
                    <a:pt x="910" y="590"/>
                  </a:lnTo>
                  <a:close/>
                  <a:moveTo>
                    <a:pt x="608" y="440"/>
                  </a:moveTo>
                  <a:lnTo>
                    <a:pt x="608" y="440"/>
                  </a:lnTo>
                  <a:lnTo>
                    <a:pt x="640" y="440"/>
                  </a:lnTo>
                  <a:lnTo>
                    <a:pt x="664" y="444"/>
                  </a:lnTo>
                  <a:lnTo>
                    <a:pt x="678" y="448"/>
                  </a:lnTo>
                  <a:lnTo>
                    <a:pt x="686" y="450"/>
                  </a:lnTo>
                  <a:lnTo>
                    <a:pt x="686" y="450"/>
                  </a:lnTo>
                  <a:lnTo>
                    <a:pt x="690" y="452"/>
                  </a:lnTo>
                  <a:lnTo>
                    <a:pt x="694" y="458"/>
                  </a:lnTo>
                  <a:lnTo>
                    <a:pt x="694" y="458"/>
                  </a:lnTo>
                  <a:lnTo>
                    <a:pt x="696" y="460"/>
                  </a:lnTo>
                  <a:lnTo>
                    <a:pt x="696" y="460"/>
                  </a:lnTo>
                  <a:lnTo>
                    <a:pt x="706" y="476"/>
                  </a:lnTo>
                  <a:lnTo>
                    <a:pt x="710" y="484"/>
                  </a:lnTo>
                  <a:lnTo>
                    <a:pt x="710" y="490"/>
                  </a:lnTo>
                  <a:lnTo>
                    <a:pt x="710" y="490"/>
                  </a:lnTo>
                  <a:lnTo>
                    <a:pt x="712" y="504"/>
                  </a:lnTo>
                  <a:lnTo>
                    <a:pt x="716" y="516"/>
                  </a:lnTo>
                  <a:lnTo>
                    <a:pt x="716" y="516"/>
                  </a:lnTo>
                  <a:lnTo>
                    <a:pt x="694" y="508"/>
                  </a:lnTo>
                  <a:lnTo>
                    <a:pt x="694" y="508"/>
                  </a:lnTo>
                  <a:lnTo>
                    <a:pt x="606" y="476"/>
                  </a:lnTo>
                  <a:lnTo>
                    <a:pt x="566" y="462"/>
                  </a:lnTo>
                  <a:lnTo>
                    <a:pt x="538" y="448"/>
                  </a:lnTo>
                  <a:lnTo>
                    <a:pt x="538" y="448"/>
                  </a:lnTo>
                  <a:lnTo>
                    <a:pt x="548" y="444"/>
                  </a:lnTo>
                  <a:lnTo>
                    <a:pt x="564" y="442"/>
                  </a:lnTo>
                  <a:lnTo>
                    <a:pt x="584" y="440"/>
                  </a:lnTo>
                  <a:lnTo>
                    <a:pt x="608" y="440"/>
                  </a:lnTo>
                  <a:lnTo>
                    <a:pt x="608" y="440"/>
                  </a:lnTo>
                  <a:close/>
                  <a:moveTo>
                    <a:pt x="638" y="1038"/>
                  </a:moveTo>
                  <a:lnTo>
                    <a:pt x="638" y="1038"/>
                  </a:lnTo>
                  <a:lnTo>
                    <a:pt x="592" y="1036"/>
                  </a:lnTo>
                  <a:lnTo>
                    <a:pt x="558" y="1032"/>
                  </a:lnTo>
                  <a:lnTo>
                    <a:pt x="532" y="1024"/>
                  </a:lnTo>
                  <a:lnTo>
                    <a:pt x="522" y="1020"/>
                  </a:lnTo>
                  <a:lnTo>
                    <a:pt x="516" y="1016"/>
                  </a:lnTo>
                  <a:lnTo>
                    <a:pt x="510" y="1010"/>
                  </a:lnTo>
                  <a:lnTo>
                    <a:pt x="504" y="1004"/>
                  </a:lnTo>
                  <a:lnTo>
                    <a:pt x="498" y="992"/>
                  </a:lnTo>
                  <a:lnTo>
                    <a:pt x="494" y="980"/>
                  </a:lnTo>
                  <a:lnTo>
                    <a:pt x="494" y="966"/>
                  </a:lnTo>
                  <a:lnTo>
                    <a:pt x="494" y="966"/>
                  </a:lnTo>
                  <a:lnTo>
                    <a:pt x="490" y="950"/>
                  </a:lnTo>
                  <a:lnTo>
                    <a:pt x="486" y="936"/>
                  </a:lnTo>
                  <a:lnTo>
                    <a:pt x="486" y="936"/>
                  </a:lnTo>
                  <a:lnTo>
                    <a:pt x="550" y="958"/>
                  </a:lnTo>
                  <a:lnTo>
                    <a:pt x="556" y="960"/>
                  </a:lnTo>
                  <a:lnTo>
                    <a:pt x="556" y="960"/>
                  </a:lnTo>
                  <a:lnTo>
                    <a:pt x="640" y="990"/>
                  </a:lnTo>
                  <a:lnTo>
                    <a:pt x="688" y="1008"/>
                  </a:lnTo>
                  <a:lnTo>
                    <a:pt x="728" y="1026"/>
                  </a:lnTo>
                  <a:lnTo>
                    <a:pt x="728" y="1026"/>
                  </a:lnTo>
                  <a:lnTo>
                    <a:pt x="714" y="1030"/>
                  </a:lnTo>
                  <a:lnTo>
                    <a:pt x="696" y="1034"/>
                  </a:lnTo>
                  <a:lnTo>
                    <a:pt x="670" y="1036"/>
                  </a:lnTo>
                  <a:lnTo>
                    <a:pt x="638" y="1038"/>
                  </a:lnTo>
                  <a:lnTo>
                    <a:pt x="638" y="10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3225600" y="28760400"/>
              <a:ext cx="2205000" cy="22482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2248200"/>
                <a:gd name="textAreaBottom" fmla="*/ 2248560 h 2248200"/>
              </a:gdLst>
              <a:ahLst/>
              <a:rect l="textAreaLeft" t="textAreaTop" r="textAreaRight" b="textAreaBottom"/>
              <a:pathLst>
                <a:path w="1389" h="1416">
                  <a:moveTo>
                    <a:pt x="948" y="70"/>
                  </a:moveTo>
                  <a:lnTo>
                    <a:pt x="948" y="70"/>
                  </a:lnTo>
                  <a:lnTo>
                    <a:pt x="940" y="56"/>
                  </a:lnTo>
                  <a:lnTo>
                    <a:pt x="932" y="42"/>
                  </a:lnTo>
                  <a:lnTo>
                    <a:pt x="920" y="30"/>
                  </a:lnTo>
                  <a:lnTo>
                    <a:pt x="908" y="20"/>
                  </a:lnTo>
                  <a:lnTo>
                    <a:pt x="894" y="12"/>
                  </a:lnTo>
                  <a:lnTo>
                    <a:pt x="880" y="6"/>
                  </a:lnTo>
                  <a:lnTo>
                    <a:pt x="864" y="2"/>
                  </a:lnTo>
                  <a:lnTo>
                    <a:pt x="848" y="0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24" y="2"/>
                  </a:lnTo>
                  <a:lnTo>
                    <a:pt x="508" y="6"/>
                  </a:lnTo>
                  <a:lnTo>
                    <a:pt x="494" y="12"/>
                  </a:lnTo>
                  <a:lnTo>
                    <a:pt x="480" y="20"/>
                  </a:lnTo>
                  <a:lnTo>
                    <a:pt x="468" y="30"/>
                  </a:lnTo>
                  <a:lnTo>
                    <a:pt x="458" y="42"/>
                  </a:lnTo>
                  <a:lnTo>
                    <a:pt x="448" y="56"/>
                  </a:lnTo>
                  <a:lnTo>
                    <a:pt x="442" y="70"/>
                  </a:lnTo>
                  <a:lnTo>
                    <a:pt x="6" y="1274"/>
                  </a:lnTo>
                  <a:lnTo>
                    <a:pt x="6" y="1274"/>
                  </a:lnTo>
                  <a:lnTo>
                    <a:pt x="2" y="1286"/>
                  </a:lnTo>
                  <a:lnTo>
                    <a:pt x="0" y="1300"/>
                  </a:lnTo>
                  <a:lnTo>
                    <a:pt x="0" y="1312"/>
                  </a:lnTo>
                  <a:lnTo>
                    <a:pt x="0" y="1324"/>
                  </a:lnTo>
                  <a:lnTo>
                    <a:pt x="2" y="1336"/>
                  </a:lnTo>
                  <a:lnTo>
                    <a:pt x="6" y="1348"/>
                  </a:lnTo>
                  <a:lnTo>
                    <a:pt x="12" y="1360"/>
                  </a:lnTo>
                  <a:lnTo>
                    <a:pt x="18" y="1370"/>
                  </a:lnTo>
                  <a:lnTo>
                    <a:pt x="18" y="1370"/>
                  </a:lnTo>
                  <a:lnTo>
                    <a:pt x="26" y="1380"/>
                  </a:lnTo>
                  <a:lnTo>
                    <a:pt x="36" y="1390"/>
                  </a:lnTo>
                  <a:lnTo>
                    <a:pt x="46" y="1398"/>
                  </a:lnTo>
                  <a:lnTo>
                    <a:pt x="56" y="1404"/>
                  </a:lnTo>
                  <a:lnTo>
                    <a:pt x="68" y="1408"/>
                  </a:lnTo>
                  <a:lnTo>
                    <a:pt x="80" y="1412"/>
                  </a:lnTo>
                  <a:lnTo>
                    <a:pt x="92" y="1414"/>
                  </a:lnTo>
                  <a:lnTo>
                    <a:pt x="106" y="1416"/>
                  </a:lnTo>
                  <a:lnTo>
                    <a:pt x="390" y="1416"/>
                  </a:lnTo>
                  <a:lnTo>
                    <a:pt x="390" y="1416"/>
                  </a:lnTo>
                  <a:lnTo>
                    <a:pt x="406" y="1414"/>
                  </a:lnTo>
                  <a:lnTo>
                    <a:pt x="422" y="1410"/>
                  </a:lnTo>
                  <a:lnTo>
                    <a:pt x="438" y="1404"/>
                  </a:lnTo>
                  <a:lnTo>
                    <a:pt x="452" y="1396"/>
                  </a:lnTo>
                  <a:lnTo>
                    <a:pt x="464" y="1384"/>
                  </a:lnTo>
                  <a:lnTo>
                    <a:pt x="474" y="1372"/>
                  </a:lnTo>
                  <a:lnTo>
                    <a:pt x="484" y="1358"/>
                  </a:lnTo>
                  <a:lnTo>
                    <a:pt x="490" y="1342"/>
                  </a:lnTo>
                  <a:lnTo>
                    <a:pt x="538" y="1194"/>
                  </a:lnTo>
                  <a:lnTo>
                    <a:pt x="850" y="1194"/>
                  </a:lnTo>
                  <a:lnTo>
                    <a:pt x="898" y="1342"/>
                  </a:lnTo>
                  <a:lnTo>
                    <a:pt x="898" y="1342"/>
                  </a:lnTo>
                  <a:lnTo>
                    <a:pt x="906" y="1358"/>
                  </a:lnTo>
                  <a:lnTo>
                    <a:pt x="914" y="1372"/>
                  </a:lnTo>
                  <a:lnTo>
                    <a:pt x="924" y="1384"/>
                  </a:lnTo>
                  <a:lnTo>
                    <a:pt x="938" y="1396"/>
                  </a:lnTo>
                  <a:lnTo>
                    <a:pt x="952" y="1404"/>
                  </a:lnTo>
                  <a:lnTo>
                    <a:pt x="966" y="1410"/>
                  </a:lnTo>
                  <a:lnTo>
                    <a:pt x="982" y="1414"/>
                  </a:lnTo>
                  <a:lnTo>
                    <a:pt x="1000" y="1416"/>
                  </a:lnTo>
                  <a:lnTo>
                    <a:pt x="1284" y="1416"/>
                  </a:lnTo>
                  <a:lnTo>
                    <a:pt x="1284" y="1416"/>
                  </a:lnTo>
                  <a:lnTo>
                    <a:pt x="1296" y="1414"/>
                  </a:lnTo>
                  <a:lnTo>
                    <a:pt x="1308" y="1412"/>
                  </a:lnTo>
                  <a:lnTo>
                    <a:pt x="1321" y="1408"/>
                  </a:lnTo>
                  <a:lnTo>
                    <a:pt x="1333" y="1404"/>
                  </a:lnTo>
                  <a:lnTo>
                    <a:pt x="1343" y="1398"/>
                  </a:lnTo>
                  <a:lnTo>
                    <a:pt x="1353" y="1390"/>
                  </a:lnTo>
                  <a:lnTo>
                    <a:pt x="1363" y="1380"/>
                  </a:lnTo>
                  <a:lnTo>
                    <a:pt x="1371" y="1370"/>
                  </a:lnTo>
                  <a:lnTo>
                    <a:pt x="1371" y="1370"/>
                  </a:lnTo>
                  <a:lnTo>
                    <a:pt x="1377" y="1360"/>
                  </a:lnTo>
                  <a:lnTo>
                    <a:pt x="1383" y="1348"/>
                  </a:lnTo>
                  <a:lnTo>
                    <a:pt x="1387" y="1336"/>
                  </a:lnTo>
                  <a:lnTo>
                    <a:pt x="1389" y="1324"/>
                  </a:lnTo>
                  <a:lnTo>
                    <a:pt x="1389" y="1312"/>
                  </a:lnTo>
                  <a:lnTo>
                    <a:pt x="1389" y="1300"/>
                  </a:lnTo>
                  <a:lnTo>
                    <a:pt x="1387" y="1286"/>
                  </a:lnTo>
                  <a:lnTo>
                    <a:pt x="1383" y="1274"/>
                  </a:lnTo>
                  <a:lnTo>
                    <a:pt x="948" y="70"/>
                  </a:lnTo>
                  <a:close/>
                  <a:moveTo>
                    <a:pt x="694" y="710"/>
                  </a:moveTo>
                  <a:lnTo>
                    <a:pt x="720" y="792"/>
                  </a:lnTo>
                  <a:lnTo>
                    <a:pt x="668" y="792"/>
                  </a:lnTo>
                  <a:lnTo>
                    <a:pt x="694" y="7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5504040" y="28760400"/>
              <a:ext cx="1752480" cy="22482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2248200"/>
                <a:gd name="textAreaBottom" fmla="*/ 2248560 h 2248200"/>
              </a:gdLst>
              <a:ahLst/>
              <a:rect l="textAreaLeft" t="textAreaTop" r="textAreaRight" b="textAreaBottom"/>
              <a:pathLst>
                <a:path w="1104" h="1416">
                  <a:moveTo>
                    <a:pt x="998" y="980"/>
                  </a:moveTo>
                  <a:lnTo>
                    <a:pt x="486" y="980"/>
                  </a:lnTo>
                  <a:lnTo>
                    <a:pt x="486" y="106"/>
                  </a:lnTo>
                  <a:lnTo>
                    <a:pt x="486" y="106"/>
                  </a:lnTo>
                  <a:lnTo>
                    <a:pt x="484" y="84"/>
                  </a:lnTo>
                  <a:lnTo>
                    <a:pt x="478" y="64"/>
                  </a:lnTo>
                  <a:lnTo>
                    <a:pt x="468" y="46"/>
                  </a:lnTo>
                  <a:lnTo>
                    <a:pt x="456" y="32"/>
                  </a:lnTo>
                  <a:lnTo>
                    <a:pt x="440" y="18"/>
                  </a:lnTo>
                  <a:lnTo>
                    <a:pt x="422" y="8"/>
                  </a:lnTo>
                  <a:lnTo>
                    <a:pt x="402" y="2"/>
                  </a:lnTo>
                  <a:lnTo>
                    <a:pt x="382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4" y="2"/>
                  </a:lnTo>
                  <a:lnTo>
                    <a:pt x="66" y="8"/>
                  </a:lnTo>
                  <a:lnTo>
                    <a:pt x="48" y="18"/>
                  </a:lnTo>
                  <a:lnTo>
                    <a:pt x="32" y="32"/>
                  </a:lnTo>
                  <a:lnTo>
                    <a:pt x="18" y="46"/>
                  </a:lnTo>
                  <a:lnTo>
                    <a:pt x="8" y="64"/>
                  </a:lnTo>
                  <a:lnTo>
                    <a:pt x="2" y="84"/>
                  </a:lnTo>
                  <a:lnTo>
                    <a:pt x="0" y="106"/>
                  </a:lnTo>
                  <a:lnTo>
                    <a:pt x="0" y="1310"/>
                  </a:lnTo>
                  <a:lnTo>
                    <a:pt x="0" y="1310"/>
                  </a:lnTo>
                  <a:lnTo>
                    <a:pt x="2" y="1332"/>
                  </a:lnTo>
                  <a:lnTo>
                    <a:pt x="8" y="1352"/>
                  </a:lnTo>
                  <a:lnTo>
                    <a:pt x="18" y="1370"/>
                  </a:lnTo>
                  <a:lnTo>
                    <a:pt x="32" y="1384"/>
                  </a:lnTo>
                  <a:lnTo>
                    <a:pt x="48" y="1398"/>
                  </a:lnTo>
                  <a:lnTo>
                    <a:pt x="66" y="1408"/>
                  </a:lnTo>
                  <a:lnTo>
                    <a:pt x="84" y="1414"/>
                  </a:lnTo>
                  <a:lnTo>
                    <a:pt x="106" y="1416"/>
                  </a:lnTo>
                  <a:lnTo>
                    <a:pt x="998" y="1416"/>
                  </a:lnTo>
                  <a:lnTo>
                    <a:pt x="998" y="1416"/>
                  </a:lnTo>
                  <a:lnTo>
                    <a:pt x="1020" y="1414"/>
                  </a:lnTo>
                  <a:lnTo>
                    <a:pt x="1040" y="1408"/>
                  </a:lnTo>
                  <a:lnTo>
                    <a:pt x="1058" y="1398"/>
                  </a:lnTo>
                  <a:lnTo>
                    <a:pt x="1074" y="1384"/>
                  </a:lnTo>
                  <a:lnTo>
                    <a:pt x="1086" y="1370"/>
                  </a:lnTo>
                  <a:lnTo>
                    <a:pt x="1096" y="1352"/>
                  </a:lnTo>
                  <a:lnTo>
                    <a:pt x="1102" y="1332"/>
                  </a:lnTo>
                  <a:lnTo>
                    <a:pt x="1104" y="1310"/>
                  </a:lnTo>
                  <a:lnTo>
                    <a:pt x="1104" y="1086"/>
                  </a:lnTo>
                  <a:lnTo>
                    <a:pt x="1104" y="1086"/>
                  </a:lnTo>
                  <a:lnTo>
                    <a:pt x="1102" y="1064"/>
                  </a:lnTo>
                  <a:lnTo>
                    <a:pt x="1096" y="1044"/>
                  </a:lnTo>
                  <a:lnTo>
                    <a:pt x="1086" y="1026"/>
                  </a:lnTo>
                  <a:lnTo>
                    <a:pt x="1074" y="1010"/>
                  </a:lnTo>
                  <a:lnTo>
                    <a:pt x="1058" y="998"/>
                  </a:lnTo>
                  <a:lnTo>
                    <a:pt x="1040" y="988"/>
                  </a:lnTo>
                  <a:lnTo>
                    <a:pt x="1020" y="982"/>
                  </a:lnTo>
                  <a:lnTo>
                    <a:pt x="998" y="980"/>
                  </a:lnTo>
                  <a:lnTo>
                    <a:pt x="998" y="9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7377120" y="28760400"/>
              <a:ext cx="1901880" cy="2248200"/>
            </a:xfrm>
            <a:custGeom>
              <a:avLst/>
              <a:gdLst>
                <a:gd name="textAreaLeft" fmla="*/ 0 w 1901880"/>
                <a:gd name="textAreaRight" fmla="*/ 1902240 w 1901880"/>
                <a:gd name="textAreaTop" fmla="*/ 0 h 2248200"/>
                <a:gd name="textAreaBottom" fmla="*/ 2248560 h 2248200"/>
              </a:gdLst>
              <a:ahLst/>
              <a:rect l="textAreaLeft" t="textAreaTop" r="textAreaRight" b="textAreaBottom"/>
              <a:pathLst>
                <a:path w="1198" h="1416">
                  <a:moveTo>
                    <a:pt x="1092" y="990"/>
                  </a:moveTo>
                  <a:lnTo>
                    <a:pt x="486" y="990"/>
                  </a:lnTo>
                  <a:lnTo>
                    <a:pt x="486" y="904"/>
                  </a:lnTo>
                  <a:lnTo>
                    <a:pt x="990" y="904"/>
                  </a:lnTo>
                  <a:lnTo>
                    <a:pt x="990" y="904"/>
                  </a:lnTo>
                  <a:lnTo>
                    <a:pt x="1012" y="902"/>
                  </a:lnTo>
                  <a:lnTo>
                    <a:pt x="1032" y="896"/>
                  </a:lnTo>
                  <a:lnTo>
                    <a:pt x="1050" y="886"/>
                  </a:lnTo>
                  <a:lnTo>
                    <a:pt x="1066" y="872"/>
                  </a:lnTo>
                  <a:lnTo>
                    <a:pt x="1078" y="858"/>
                  </a:lnTo>
                  <a:lnTo>
                    <a:pt x="1088" y="840"/>
                  </a:lnTo>
                  <a:lnTo>
                    <a:pt x="1094" y="820"/>
                  </a:lnTo>
                  <a:lnTo>
                    <a:pt x="1096" y="798"/>
                  </a:lnTo>
                  <a:lnTo>
                    <a:pt x="1096" y="592"/>
                  </a:lnTo>
                  <a:lnTo>
                    <a:pt x="1096" y="592"/>
                  </a:lnTo>
                  <a:lnTo>
                    <a:pt x="1094" y="570"/>
                  </a:lnTo>
                  <a:lnTo>
                    <a:pt x="1088" y="550"/>
                  </a:lnTo>
                  <a:lnTo>
                    <a:pt x="1078" y="532"/>
                  </a:lnTo>
                  <a:lnTo>
                    <a:pt x="1066" y="518"/>
                  </a:lnTo>
                  <a:lnTo>
                    <a:pt x="1050" y="504"/>
                  </a:lnTo>
                  <a:lnTo>
                    <a:pt x="1032" y="494"/>
                  </a:lnTo>
                  <a:lnTo>
                    <a:pt x="1012" y="488"/>
                  </a:lnTo>
                  <a:lnTo>
                    <a:pt x="990" y="486"/>
                  </a:lnTo>
                  <a:lnTo>
                    <a:pt x="486" y="486"/>
                  </a:lnTo>
                  <a:lnTo>
                    <a:pt x="486" y="426"/>
                  </a:lnTo>
                  <a:lnTo>
                    <a:pt x="1072" y="426"/>
                  </a:lnTo>
                  <a:lnTo>
                    <a:pt x="1072" y="426"/>
                  </a:lnTo>
                  <a:lnTo>
                    <a:pt x="1094" y="424"/>
                  </a:lnTo>
                  <a:lnTo>
                    <a:pt x="1114" y="418"/>
                  </a:lnTo>
                  <a:lnTo>
                    <a:pt x="1130" y="408"/>
                  </a:lnTo>
                  <a:lnTo>
                    <a:pt x="1146" y="396"/>
                  </a:lnTo>
                  <a:lnTo>
                    <a:pt x="1160" y="380"/>
                  </a:lnTo>
                  <a:lnTo>
                    <a:pt x="1170" y="362"/>
                  </a:lnTo>
                  <a:lnTo>
                    <a:pt x="1176" y="342"/>
                  </a:lnTo>
                  <a:lnTo>
                    <a:pt x="1178" y="322"/>
                  </a:lnTo>
                  <a:lnTo>
                    <a:pt x="1178" y="106"/>
                  </a:lnTo>
                  <a:lnTo>
                    <a:pt x="1178" y="106"/>
                  </a:lnTo>
                  <a:lnTo>
                    <a:pt x="1176" y="84"/>
                  </a:lnTo>
                  <a:lnTo>
                    <a:pt x="1170" y="64"/>
                  </a:lnTo>
                  <a:lnTo>
                    <a:pt x="1160" y="46"/>
                  </a:lnTo>
                  <a:lnTo>
                    <a:pt x="1146" y="32"/>
                  </a:lnTo>
                  <a:lnTo>
                    <a:pt x="1130" y="18"/>
                  </a:lnTo>
                  <a:lnTo>
                    <a:pt x="1114" y="8"/>
                  </a:lnTo>
                  <a:lnTo>
                    <a:pt x="1094" y="2"/>
                  </a:lnTo>
                  <a:lnTo>
                    <a:pt x="1072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4" y="2"/>
                  </a:lnTo>
                  <a:lnTo>
                    <a:pt x="64" y="8"/>
                  </a:lnTo>
                  <a:lnTo>
                    <a:pt x="46" y="18"/>
                  </a:lnTo>
                  <a:lnTo>
                    <a:pt x="30" y="32"/>
                  </a:lnTo>
                  <a:lnTo>
                    <a:pt x="18" y="46"/>
                  </a:lnTo>
                  <a:lnTo>
                    <a:pt x="8" y="64"/>
                  </a:lnTo>
                  <a:lnTo>
                    <a:pt x="2" y="84"/>
                  </a:lnTo>
                  <a:lnTo>
                    <a:pt x="0" y="106"/>
                  </a:lnTo>
                  <a:lnTo>
                    <a:pt x="0" y="1310"/>
                  </a:lnTo>
                  <a:lnTo>
                    <a:pt x="0" y="1310"/>
                  </a:lnTo>
                  <a:lnTo>
                    <a:pt x="2" y="1332"/>
                  </a:lnTo>
                  <a:lnTo>
                    <a:pt x="8" y="1352"/>
                  </a:lnTo>
                  <a:lnTo>
                    <a:pt x="18" y="1370"/>
                  </a:lnTo>
                  <a:lnTo>
                    <a:pt x="30" y="1384"/>
                  </a:lnTo>
                  <a:lnTo>
                    <a:pt x="46" y="1398"/>
                  </a:lnTo>
                  <a:lnTo>
                    <a:pt x="64" y="1408"/>
                  </a:lnTo>
                  <a:lnTo>
                    <a:pt x="84" y="1414"/>
                  </a:lnTo>
                  <a:lnTo>
                    <a:pt x="104" y="1416"/>
                  </a:lnTo>
                  <a:lnTo>
                    <a:pt x="1092" y="1416"/>
                  </a:lnTo>
                  <a:lnTo>
                    <a:pt x="1092" y="1416"/>
                  </a:lnTo>
                  <a:lnTo>
                    <a:pt x="1114" y="1414"/>
                  </a:lnTo>
                  <a:lnTo>
                    <a:pt x="1132" y="1408"/>
                  </a:lnTo>
                  <a:lnTo>
                    <a:pt x="1150" y="1398"/>
                  </a:lnTo>
                  <a:lnTo>
                    <a:pt x="1166" y="1384"/>
                  </a:lnTo>
                  <a:lnTo>
                    <a:pt x="1180" y="1370"/>
                  </a:lnTo>
                  <a:lnTo>
                    <a:pt x="1190" y="1352"/>
                  </a:lnTo>
                  <a:lnTo>
                    <a:pt x="1196" y="1332"/>
                  </a:lnTo>
                  <a:lnTo>
                    <a:pt x="1198" y="1310"/>
                  </a:lnTo>
                  <a:lnTo>
                    <a:pt x="1198" y="1094"/>
                  </a:lnTo>
                  <a:lnTo>
                    <a:pt x="1198" y="1094"/>
                  </a:lnTo>
                  <a:lnTo>
                    <a:pt x="1196" y="1074"/>
                  </a:lnTo>
                  <a:lnTo>
                    <a:pt x="1190" y="1054"/>
                  </a:lnTo>
                  <a:lnTo>
                    <a:pt x="1180" y="1036"/>
                  </a:lnTo>
                  <a:lnTo>
                    <a:pt x="1166" y="1020"/>
                  </a:lnTo>
                  <a:lnTo>
                    <a:pt x="1150" y="1008"/>
                  </a:lnTo>
                  <a:lnTo>
                    <a:pt x="1132" y="998"/>
                  </a:lnTo>
                  <a:lnTo>
                    <a:pt x="1114" y="992"/>
                  </a:lnTo>
                  <a:lnTo>
                    <a:pt x="1092" y="990"/>
                  </a:lnTo>
                  <a:lnTo>
                    <a:pt x="1092" y="9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1415880" y="28874880"/>
              <a:ext cx="1616040" cy="201924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2019240"/>
                <a:gd name="textAreaBottom" fmla="*/ 2019240 h 2019240"/>
              </a:gdLst>
              <a:ahLst/>
              <a:rect l="textAreaLeft" t="textAreaTop" r="textAreaRight" b="textAreaBottom"/>
              <a:pathLst>
                <a:path w="1018" h="1272">
                  <a:moveTo>
                    <a:pt x="282" y="870"/>
                  </a:moveTo>
                  <a:lnTo>
                    <a:pt x="282" y="870"/>
                  </a:lnTo>
                  <a:lnTo>
                    <a:pt x="286" y="894"/>
                  </a:lnTo>
                  <a:lnTo>
                    <a:pt x="292" y="916"/>
                  </a:lnTo>
                  <a:lnTo>
                    <a:pt x="300" y="936"/>
                  </a:lnTo>
                  <a:lnTo>
                    <a:pt x="308" y="954"/>
                  </a:lnTo>
                  <a:lnTo>
                    <a:pt x="320" y="970"/>
                  </a:lnTo>
                  <a:lnTo>
                    <a:pt x="334" y="984"/>
                  </a:lnTo>
                  <a:lnTo>
                    <a:pt x="348" y="994"/>
                  </a:lnTo>
                  <a:lnTo>
                    <a:pt x="364" y="1004"/>
                  </a:lnTo>
                  <a:lnTo>
                    <a:pt x="382" y="1014"/>
                  </a:lnTo>
                  <a:lnTo>
                    <a:pt x="400" y="1020"/>
                  </a:lnTo>
                  <a:lnTo>
                    <a:pt x="420" y="1026"/>
                  </a:lnTo>
                  <a:lnTo>
                    <a:pt x="440" y="1030"/>
                  </a:lnTo>
                  <a:lnTo>
                    <a:pt x="484" y="1034"/>
                  </a:lnTo>
                  <a:lnTo>
                    <a:pt x="532" y="1036"/>
                  </a:lnTo>
                  <a:lnTo>
                    <a:pt x="532" y="1036"/>
                  </a:lnTo>
                  <a:lnTo>
                    <a:pt x="552" y="1036"/>
                  </a:lnTo>
                  <a:lnTo>
                    <a:pt x="580" y="1034"/>
                  </a:lnTo>
                  <a:lnTo>
                    <a:pt x="614" y="1030"/>
                  </a:lnTo>
                  <a:lnTo>
                    <a:pt x="632" y="1026"/>
                  </a:lnTo>
                  <a:lnTo>
                    <a:pt x="650" y="1022"/>
                  </a:lnTo>
                  <a:lnTo>
                    <a:pt x="666" y="1014"/>
                  </a:lnTo>
                  <a:lnTo>
                    <a:pt x="682" y="1006"/>
                  </a:lnTo>
                  <a:lnTo>
                    <a:pt x="696" y="996"/>
                  </a:lnTo>
                  <a:lnTo>
                    <a:pt x="710" y="984"/>
                  </a:lnTo>
                  <a:lnTo>
                    <a:pt x="720" y="970"/>
                  </a:lnTo>
                  <a:lnTo>
                    <a:pt x="730" y="954"/>
                  </a:lnTo>
                  <a:lnTo>
                    <a:pt x="734" y="936"/>
                  </a:lnTo>
                  <a:lnTo>
                    <a:pt x="736" y="914"/>
                  </a:lnTo>
                  <a:lnTo>
                    <a:pt x="736" y="914"/>
                  </a:lnTo>
                  <a:lnTo>
                    <a:pt x="736" y="902"/>
                  </a:lnTo>
                  <a:lnTo>
                    <a:pt x="734" y="892"/>
                  </a:lnTo>
                  <a:lnTo>
                    <a:pt x="730" y="880"/>
                  </a:lnTo>
                  <a:lnTo>
                    <a:pt x="724" y="870"/>
                  </a:lnTo>
                  <a:lnTo>
                    <a:pt x="718" y="862"/>
                  </a:lnTo>
                  <a:lnTo>
                    <a:pt x="708" y="852"/>
                  </a:lnTo>
                  <a:lnTo>
                    <a:pt x="698" y="844"/>
                  </a:lnTo>
                  <a:lnTo>
                    <a:pt x="684" y="834"/>
                  </a:lnTo>
                  <a:lnTo>
                    <a:pt x="652" y="816"/>
                  </a:lnTo>
                  <a:lnTo>
                    <a:pt x="608" y="798"/>
                  </a:lnTo>
                  <a:lnTo>
                    <a:pt x="552" y="778"/>
                  </a:lnTo>
                  <a:lnTo>
                    <a:pt x="484" y="754"/>
                  </a:lnTo>
                  <a:lnTo>
                    <a:pt x="484" y="754"/>
                  </a:lnTo>
                  <a:lnTo>
                    <a:pt x="386" y="720"/>
                  </a:lnTo>
                  <a:lnTo>
                    <a:pt x="296" y="686"/>
                  </a:lnTo>
                  <a:lnTo>
                    <a:pt x="256" y="670"/>
                  </a:lnTo>
                  <a:lnTo>
                    <a:pt x="220" y="652"/>
                  </a:lnTo>
                  <a:lnTo>
                    <a:pt x="186" y="632"/>
                  </a:lnTo>
                  <a:lnTo>
                    <a:pt x="154" y="612"/>
                  </a:lnTo>
                  <a:lnTo>
                    <a:pt x="128" y="590"/>
                  </a:lnTo>
                  <a:lnTo>
                    <a:pt x="102" y="566"/>
                  </a:lnTo>
                  <a:lnTo>
                    <a:pt x="82" y="540"/>
                  </a:lnTo>
                  <a:lnTo>
                    <a:pt x="64" y="512"/>
                  </a:lnTo>
                  <a:lnTo>
                    <a:pt x="50" y="480"/>
                  </a:lnTo>
                  <a:lnTo>
                    <a:pt x="42" y="446"/>
                  </a:lnTo>
                  <a:lnTo>
                    <a:pt x="36" y="408"/>
                  </a:lnTo>
                  <a:lnTo>
                    <a:pt x="34" y="366"/>
                  </a:lnTo>
                  <a:lnTo>
                    <a:pt x="34" y="366"/>
                  </a:lnTo>
                  <a:lnTo>
                    <a:pt x="34" y="346"/>
                  </a:lnTo>
                  <a:lnTo>
                    <a:pt x="36" y="322"/>
                  </a:lnTo>
                  <a:lnTo>
                    <a:pt x="40" y="296"/>
                  </a:lnTo>
                  <a:lnTo>
                    <a:pt x="46" y="268"/>
                  </a:lnTo>
                  <a:lnTo>
                    <a:pt x="56" y="238"/>
                  </a:lnTo>
                  <a:lnTo>
                    <a:pt x="70" y="208"/>
                  </a:lnTo>
                  <a:lnTo>
                    <a:pt x="86" y="178"/>
                  </a:lnTo>
                  <a:lnTo>
                    <a:pt x="108" y="148"/>
                  </a:lnTo>
                  <a:lnTo>
                    <a:pt x="122" y="132"/>
                  </a:lnTo>
                  <a:lnTo>
                    <a:pt x="136" y="118"/>
                  </a:lnTo>
                  <a:lnTo>
                    <a:pt x="152" y="104"/>
                  </a:lnTo>
                  <a:lnTo>
                    <a:pt x="168" y="90"/>
                  </a:lnTo>
                  <a:lnTo>
                    <a:pt x="186" y="78"/>
                  </a:lnTo>
                  <a:lnTo>
                    <a:pt x="206" y="66"/>
                  </a:lnTo>
                  <a:lnTo>
                    <a:pt x="228" y="54"/>
                  </a:lnTo>
                  <a:lnTo>
                    <a:pt x="252" y="44"/>
                  </a:lnTo>
                  <a:lnTo>
                    <a:pt x="278" y="34"/>
                  </a:lnTo>
                  <a:lnTo>
                    <a:pt x="304" y="26"/>
                  </a:lnTo>
                  <a:lnTo>
                    <a:pt x="334" y="18"/>
                  </a:lnTo>
                  <a:lnTo>
                    <a:pt x="364" y="12"/>
                  </a:lnTo>
                  <a:lnTo>
                    <a:pt x="398" y="8"/>
                  </a:lnTo>
                  <a:lnTo>
                    <a:pt x="434" y="4"/>
                  </a:lnTo>
                  <a:lnTo>
                    <a:pt x="470" y="2"/>
                  </a:lnTo>
                  <a:lnTo>
                    <a:pt x="510" y="0"/>
                  </a:lnTo>
                  <a:lnTo>
                    <a:pt x="510" y="0"/>
                  </a:lnTo>
                  <a:lnTo>
                    <a:pt x="548" y="2"/>
                  </a:lnTo>
                  <a:lnTo>
                    <a:pt x="584" y="4"/>
                  </a:lnTo>
                  <a:lnTo>
                    <a:pt x="618" y="8"/>
                  </a:lnTo>
                  <a:lnTo>
                    <a:pt x="650" y="12"/>
                  </a:lnTo>
                  <a:lnTo>
                    <a:pt x="680" y="18"/>
                  </a:lnTo>
                  <a:lnTo>
                    <a:pt x="710" y="26"/>
                  </a:lnTo>
                  <a:lnTo>
                    <a:pt x="736" y="36"/>
                  </a:lnTo>
                  <a:lnTo>
                    <a:pt x="760" y="44"/>
                  </a:lnTo>
                  <a:lnTo>
                    <a:pt x="784" y="56"/>
                  </a:lnTo>
                  <a:lnTo>
                    <a:pt x="804" y="68"/>
                  </a:lnTo>
                  <a:lnTo>
                    <a:pt x="824" y="80"/>
                  </a:lnTo>
                  <a:lnTo>
                    <a:pt x="844" y="92"/>
                  </a:lnTo>
                  <a:lnTo>
                    <a:pt x="860" y="106"/>
                  </a:lnTo>
                  <a:lnTo>
                    <a:pt x="876" y="120"/>
                  </a:lnTo>
                  <a:lnTo>
                    <a:pt x="890" y="136"/>
                  </a:lnTo>
                  <a:lnTo>
                    <a:pt x="902" y="150"/>
                  </a:lnTo>
                  <a:lnTo>
                    <a:pt x="926" y="182"/>
                  </a:lnTo>
                  <a:lnTo>
                    <a:pt x="944" y="214"/>
                  </a:lnTo>
                  <a:lnTo>
                    <a:pt x="958" y="244"/>
                  </a:lnTo>
                  <a:lnTo>
                    <a:pt x="970" y="276"/>
                  </a:lnTo>
                  <a:lnTo>
                    <a:pt x="978" y="304"/>
                  </a:lnTo>
                  <a:lnTo>
                    <a:pt x="984" y="332"/>
                  </a:lnTo>
                  <a:lnTo>
                    <a:pt x="992" y="378"/>
                  </a:lnTo>
                  <a:lnTo>
                    <a:pt x="710" y="378"/>
                  </a:lnTo>
                  <a:lnTo>
                    <a:pt x="710" y="378"/>
                  </a:lnTo>
                  <a:lnTo>
                    <a:pt x="708" y="362"/>
                  </a:lnTo>
                  <a:lnTo>
                    <a:pt x="704" y="346"/>
                  </a:lnTo>
                  <a:lnTo>
                    <a:pt x="698" y="332"/>
                  </a:lnTo>
                  <a:lnTo>
                    <a:pt x="692" y="318"/>
                  </a:lnTo>
                  <a:lnTo>
                    <a:pt x="680" y="298"/>
                  </a:lnTo>
                  <a:lnTo>
                    <a:pt x="670" y="286"/>
                  </a:lnTo>
                  <a:lnTo>
                    <a:pt x="670" y="286"/>
                  </a:lnTo>
                  <a:lnTo>
                    <a:pt x="664" y="278"/>
                  </a:lnTo>
                  <a:lnTo>
                    <a:pt x="654" y="268"/>
                  </a:lnTo>
                  <a:lnTo>
                    <a:pt x="642" y="258"/>
                  </a:lnTo>
                  <a:lnTo>
                    <a:pt x="626" y="250"/>
                  </a:lnTo>
                  <a:lnTo>
                    <a:pt x="604" y="240"/>
                  </a:lnTo>
                  <a:lnTo>
                    <a:pt x="578" y="234"/>
                  </a:lnTo>
                  <a:lnTo>
                    <a:pt x="544" y="230"/>
                  </a:lnTo>
                  <a:lnTo>
                    <a:pt x="502" y="228"/>
                  </a:lnTo>
                  <a:lnTo>
                    <a:pt x="502" y="228"/>
                  </a:lnTo>
                  <a:lnTo>
                    <a:pt x="478" y="228"/>
                  </a:lnTo>
                  <a:lnTo>
                    <a:pt x="454" y="230"/>
                  </a:lnTo>
                  <a:lnTo>
                    <a:pt x="434" y="234"/>
                  </a:lnTo>
                  <a:lnTo>
                    <a:pt x="416" y="236"/>
                  </a:lnTo>
                  <a:lnTo>
                    <a:pt x="398" y="242"/>
                  </a:lnTo>
                  <a:lnTo>
                    <a:pt x="384" y="248"/>
                  </a:lnTo>
                  <a:lnTo>
                    <a:pt x="370" y="254"/>
                  </a:lnTo>
                  <a:lnTo>
                    <a:pt x="358" y="260"/>
                  </a:lnTo>
                  <a:lnTo>
                    <a:pt x="348" y="268"/>
                  </a:lnTo>
                  <a:lnTo>
                    <a:pt x="340" y="276"/>
                  </a:lnTo>
                  <a:lnTo>
                    <a:pt x="332" y="286"/>
                  </a:lnTo>
                  <a:lnTo>
                    <a:pt x="326" y="296"/>
                  </a:lnTo>
                  <a:lnTo>
                    <a:pt x="322" y="304"/>
                  </a:lnTo>
                  <a:lnTo>
                    <a:pt x="320" y="314"/>
                  </a:lnTo>
                  <a:lnTo>
                    <a:pt x="318" y="324"/>
                  </a:lnTo>
                  <a:lnTo>
                    <a:pt x="318" y="334"/>
                  </a:lnTo>
                  <a:lnTo>
                    <a:pt x="318" y="334"/>
                  </a:lnTo>
                  <a:lnTo>
                    <a:pt x="318" y="350"/>
                  </a:lnTo>
                  <a:lnTo>
                    <a:pt x="320" y="364"/>
                  </a:lnTo>
                  <a:lnTo>
                    <a:pt x="324" y="378"/>
                  </a:lnTo>
                  <a:lnTo>
                    <a:pt x="330" y="390"/>
                  </a:lnTo>
                  <a:lnTo>
                    <a:pt x="338" y="400"/>
                  </a:lnTo>
                  <a:lnTo>
                    <a:pt x="348" y="410"/>
                  </a:lnTo>
                  <a:lnTo>
                    <a:pt x="360" y="420"/>
                  </a:lnTo>
                  <a:lnTo>
                    <a:pt x="372" y="430"/>
                  </a:lnTo>
                  <a:lnTo>
                    <a:pt x="406" y="446"/>
                  </a:lnTo>
                  <a:lnTo>
                    <a:pt x="446" y="464"/>
                  </a:lnTo>
                  <a:lnTo>
                    <a:pt x="496" y="482"/>
                  </a:lnTo>
                  <a:lnTo>
                    <a:pt x="554" y="502"/>
                  </a:lnTo>
                  <a:lnTo>
                    <a:pt x="554" y="502"/>
                  </a:lnTo>
                  <a:lnTo>
                    <a:pt x="674" y="544"/>
                  </a:lnTo>
                  <a:lnTo>
                    <a:pt x="726" y="566"/>
                  </a:lnTo>
                  <a:lnTo>
                    <a:pt x="774" y="586"/>
                  </a:lnTo>
                  <a:lnTo>
                    <a:pt x="816" y="606"/>
                  </a:lnTo>
                  <a:lnTo>
                    <a:pt x="854" y="626"/>
                  </a:lnTo>
                  <a:lnTo>
                    <a:pt x="888" y="646"/>
                  </a:lnTo>
                  <a:lnTo>
                    <a:pt x="916" y="668"/>
                  </a:lnTo>
                  <a:lnTo>
                    <a:pt x="942" y="690"/>
                  </a:lnTo>
                  <a:lnTo>
                    <a:pt x="964" y="712"/>
                  </a:lnTo>
                  <a:lnTo>
                    <a:pt x="980" y="738"/>
                  </a:lnTo>
                  <a:lnTo>
                    <a:pt x="996" y="762"/>
                  </a:lnTo>
                  <a:lnTo>
                    <a:pt x="1006" y="790"/>
                  </a:lnTo>
                  <a:lnTo>
                    <a:pt x="1014" y="820"/>
                  </a:lnTo>
                  <a:lnTo>
                    <a:pt x="1018" y="850"/>
                  </a:lnTo>
                  <a:lnTo>
                    <a:pt x="1018" y="884"/>
                  </a:lnTo>
                  <a:lnTo>
                    <a:pt x="1018" y="884"/>
                  </a:lnTo>
                  <a:lnTo>
                    <a:pt x="1018" y="908"/>
                  </a:lnTo>
                  <a:lnTo>
                    <a:pt x="1014" y="936"/>
                  </a:lnTo>
                  <a:lnTo>
                    <a:pt x="1008" y="966"/>
                  </a:lnTo>
                  <a:lnTo>
                    <a:pt x="1000" y="996"/>
                  </a:lnTo>
                  <a:lnTo>
                    <a:pt x="986" y="1028"/>
                  </a:lnTo>
                  <a:lnTo>
                    <a:pt x="970" y="1060"/>
                  </a:lnTo>
                  <a:lnTo>
                    <a:pt x="950" y="1092"/>
                  </a:lnTo>
                  <a:lnTo>
                    <a:pt x="926" y="1124"/>
                  </a:lnTo>
                  <a:lnTo>
                    <a:pt x="912" y="1140"/>
                  </a:lnTo>
                  <a:lnTo>
                    <a:pt x="896" y="1154"/>
                  </a:lnTo>
                  <a:lnTo>
                    <a:pt x="880" y="1168"/>
                  </a:lnTo>
                  <a:lnTo>
                    <a:pt x="862" y="1182"/>
                  </a:lnTo>
                  <a:lnTo>
                    <a:pt x="842" y="1194"/>
                  </a:lnTo>
                  <a:lnTo>
                    <a:pt x="822" y="1206"/>
                  </a:lnTo>
                  <a:lnTo>
                    <a:pt x="800" y="1218"/>
                  </a:lnTo>
                  <a:lnTo>
                    <a:pt x="776" y="1228"/>
                  </a:lnTo>
                  <a:lnTo>
                    <a:pt x="752" y="1238"/>
                  </a:lnTo>
                  <a:lnTo>
                    <a:pt x="724" y="1246"/>
                  </a:lnTo>
                  <a:lnTo>
                    <a:pt x="696" y="1254"/>
                  </a:lnTo>
                  <a:lnTo>
                    <a:pt x="666" y="1260"/>
                  </a:lnTo>
                  <a:lnTo>
                    <a:pt x="634" y="1266"/>
                  </a:lnTo>
                  <a:lnTo>
                    <a:pt x="600" y="1268"/>
                  </a:lnTo>
                  <a:lnTo>
                    <a:pt x="566" y="1272"/>
                  </a:lnTo>
                  <a:lnTo>
                    <a:pt x="528" y="1272"/>
                  </a:lnTo>
                  <a:lnTo>
                    <a:pt x="528" y="1272"/>
                  </a:lnTo>
                  <a:lnTo>
                    <a:pt x="490" y="1270"/>
                  </a:lnTo>
                  <a:lnTo>
                    <a:pt x="452" y="1268"/>
                  </a:lnTo>
                  <a:lnTo>
                    <a:pt x="410" y="1264"/>
                  </a:lnTo>
                  <a:lnTo>
                    <a:pt x="368" y="1256"/>
                  </a:lnTo>
                  <a:lnTo>
                    <a:pt x="324" y="1246"/>
                  </a:lnTo>
                  <a:lnTo>
                    <a:pt x="282" y="1232"/>
                  </a:lnTo>
                  <a:lnTo>
                    <a:pt x="240" y="1216"/>
                  </a:lnTo>
                  <a:lnTo>
                    <a:pt x="200" y="1194"/>
                  </a:lnTo>
                  <a:lnTo>
                    <a:pt x="162" y="1170"/>
                  </a:lnTo>
                  <a:lnTo>
                    <a:pt x="144" y="1156"/>
                  </a:lnTo>
                  <a:lnTo>
                    <a:pt x="126" y="1142"/>
                  </a:lnTo>
                  <a:lnTo>
                    <a:pt x="110" y="1126"/>
                  </a:lnTo>
                  <a:lnTo>
                    <a:pt x="94" y="1110"/>
                  </a:lnTo>
                  <a:lnTo>
                    <a:pt x="78" y="1092"/>
                  </a:lnTo>
                  <a:lnTo>
                    <a:pt x="64" y="1072"/>
                  </a:lnTo>
                  <a:lnTo>
                    <a:pt x="52" y="1052"/>
                  </a:lnTo>
                  <a:lnTo>
                    <a:pt x="40" y="1030"/>
                  </a:lnTo>
                  <a:lnTo>
                    <a:pt x="30" y="1006"/>
                  </a:lnTo>
                  <a:lnTo>
                    <a:pt x="20" y="982"/>
                  </a:lnTo>
                  <a:lnTo>
                    <a:pt x="14" y="956"/>
                  </a:lnTo>
                  <a:lnTo>
                    <a:pt x="8" y="928"/>
                  </a:lnTo>
                  <a:lnTo>
                    <a:pt x="2" y="900"/>
                  </a:lnTo>
                  <a:lnTo>
                    <a:pt x="0" y="870"/>
                  </a:lnTo>
                  <a:lnTo>
                    <a:pt x="282" y="87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>
              <a:off x="3394080" y="28928880"/>
              <a:ext cx="1869840" cy="1911600"/>
            </a:xfrm>
            <a:custGeom>
              <a:avLst/>
              <a:gdLst>
                <a:gd name="textAreaLeft" fmla="*/ 0 w 1869840"/>
                <a:gd name="textAreaRight" fmla="*/ 1870200 w 186984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1178" h="1204">
                  <a:moveTo>
                    <a:pt x="356" y="982"/>
                  </a:moveTo>
                  <a:lnTo>
                    <a:pt x="284" y="1204"/>
                  </a:lnTo>
                  <a:lnTo>
                    <a:pt x="0" y="1204"/>
                  </a:lnTo>
                  <a:lnTo>
                    <a:pt x="434" y="0"/>
                  </a:lnTo>
                  <a:lnTo>
                    <a:pt x="742" y="0"/>
                  </a:lnTo>
                  <a:lnTo>
                    <a:pt x="1178" y="1204"/>
                  </a:lnTo>
                  <a:lnTo>
                    <a:pt x="894" y="1204"/>
                  </a:lnTo>
                  <a:lnTo>
                    <a:pt x="822" y="982"/>
                  </a:lnTo>
                  <a:lnTo>
                    <a:pt x="356" y="982"/>
                  </a:lnTo>
                  <a:close/>
                  <a:moveTo>
                    <a:pt x="758" y="792"/>
                  </a:moveTo>
                  <a:lnTo>
                    <a:pt x="588" y="260"/>
                  </a:lnTo>
                  <a:lnTo>
                    <a:pt x="416" y="792"/>
                  </a:lnTo>
                  <a:lnTo>
                    <a:pt x="758" y="79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5672160" y="28928880"/>
              <a:ext cx="1415880" cy="1911600"/>
            </a:xfrm>
            <a:custGeom>
              <a:avLst/>
              <a:gdLst>
                <a:gd name="textAreaLeft" fmla="*/ 0 w 1415880"/>
                <a:gd name="textAreaRight" fmla="*/ 1415880 w 14158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892" h="1204">
                  <a:moveTo>
                    <a:pt x="0" y="1204"/>
                  </a:moveTo>
                  <a:lnTo>
                    <a:pt x="0" y="0"/>
                  </a:lnTo>
                  <a:lnTo>
                    <a:pt x="276" y="0"/>
                  </a:lnTo>
                  <a:lnTo>
                    <a:pt x="276" y="980"/>
                  </a:lnTo>
                  <a:lnTo>
                    <a:pt x="892" y="980"/>
                  </a:lnTo>
                  <a:lnTo>
                    <a:pt x="892" y="1204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7542360" y="28928880"/>
              <a:ext cx="1568520" cy="191160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988" h="1204">
                  <a:moveTo>
                    <a:pt x="988" y="988"/>
                  </a:moveTo>
                  <a:lnTo>
                    <a:pt x="988" y="1204"/>
                  </a:lnTo>
                  <a:lnTo>
                    <a:pt x="0" y="1204"/>
                  </a:lnTo>
                  <a:lnTo>
                    <a:pt x="0" y="0"/>
                  </a:lnTo>
                  <a:lnTo>
                    <a:pt x="968" y="0"/>
                  </a:lnTo>
                  <a:lnTo>
                    <a:pt x="968" y="216"/>
                  </a:lnTo>
                  <a:lnTo>
                    <a:pt x="276" y="216"/>
                  </a:lnTo>
                  <a:lnTo>
                    <a:pt x="276" y="486"/>
                  </a:lnTo>
                  <a:lnTo>
                    <a:pt x="886" y="486"/>
                  </a:lnTo>
                  <a:lnTo>
                    <a:pt x="886" y="692"/>
                  </a:lnTo>
                  <a:lnTo>
                    <a:pt x="276" y="692"/>
                  </a:lnTo>
                  <a:lnTo>
                    <a:pt x="276" y="988"/>
                  </a:lnTo>
                  <a:lnTo>
                    <a:pt x="988" y="98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23:36:40Z</dcterms:created>
  <dc:creator>seisaku</dc:creator>
  <dc:description/>
  <dc:language>en-US</dc:language>
  <cp:lastModifiedBy>seisaku</cp:lastModifiedBy>
  <dcterms:modified xsi:type="dcterms:W3CDTF">2012-05-16T23:42:47Z</dcterms:modified>
  <cp:revision>1</cp:revision>
  <dc:subject/>
  <dc:title>スライド 1</dc:title>
</cp:coreProperties>
</file>