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10007600" cy="1445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67A-6371-4CC1-85D6-738364B0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0D7-4951-48C9-993A-5D5F9613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06E-E780-4B2C-8647-EBC01002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B87-C331-41ED-A390-F3858003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6B1-1D6C-4241-B29E-92EAC0F5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5D1-F28F-4A77-9683-D82B2710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BEE-07C4-4314-A326-D5991A3D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D38-A754-4998-BC38-EFA5E964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FAA-3041-4DA3-A5C2-0D344170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5CA-6E30-42F0-86A5-69BCC14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7C6-9C4B-4423-B778-3D9227E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169-DDD1-4EBB-AA62-9A396DA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565C326B-6A8D-448C-A9EC-945FEB18A24C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440" y="1440"/>
            <a:ext cx="15116400" cy="1333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1440" y="10044000"/>
            <a:ext cx="1511640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60320" y="1824120"/>
            <a:ext cx="6121440" cy="8013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9371160" y="2255760"/>
            <a:ext cx="4965480" cy="44640"/>
          </a:xfrm>
          <a:custGeom>
            <a:avLst/>
            <a:gdLst>
              <a:gd name="textAreaLeft" fmla="*/ 0 w 4965480"/>
              <a:gd name="textAreaRight" fmla="*/ 4965480 w 49654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128" h="28">
                <a:moveTo>
                  <a:pt x="3128" y="28"/>
                </a:moveTo>
                <a:lnTo>
                  <a:pt x="0" y="28"/>
                </a:lnTo>
                <a:lnTo>
                  <a:pt x="0" y="0"/>
                </a:lnTo>
                <a:lnTo>
                  <a:pt x="3128" y="0"/>
                </a:lnTo>
                <a:lnTo>
                  <a:pt x="3128" y="28"/>
                </a:lnTo>
                <a:lnTo>
                  <a:pt x="3128" y="28"/>
                </a:lnTo>
                <a:close/>
              </a:path>
            </a:pathLst>
          </a:custGeom>
          <a:solidFill>
            <a:srgbClr val="026d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720" bIns="-72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7532640" y="5973840"/>
            <a:ext cx="6804000" cy="50760"/>
          </a:xfrm>
          <a:custGeom>
            <a:avLst/>
            <a:gdLst>
              <a:gd name="textAreaLeft" fmla="*/ 0 w 6804000"/>
              <a:gd name="textAreaRight" fmla="*/ 6804360 w 6804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286" h="32">
                <a:moveTo>
                  <a:pt x="4286" y="32"/>
                </a:moveTo>
                <a:lnTo>
                  <a:pt x="0" y="32"/>
                </a:lnTo>
                <a:lnTo>
                  <a:pt x="0" y="0"/>
                </a:lnTo>
                <a:lnTo>
                  <a:pt x="4286" y="0"/>
                </a:lnTo>
                <a:lnTo>
                  <a:pt x="4286" y="32"/>
                </a:lnTo>
                <a:lnTo>
                  <a:pt x="4286" y="32"/>
                </a:lnTo>
                <a:close/>
              </a:path>
            </a:pathLst>
          </a:custGeom>
          <a:solidFill>
            <a:srgbClr val="026d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00" bIns="54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グループ化 11"/>
          <p:cNvGrpSpPr/>
          <p:nvPr/>
        </p:nvGrpSpPr>
        <p:grpSpPr>
          <a:xfrm>
            <a:off x="11219040" y="195120"/>
            <a:ext cx="3574800" cy="946440"/>
            <a:chOff x="11219040" y="195120"/>
            <a:chExt cx="3574800" cy="946440"/>
          </a:xfrm>
        </p:grpSpPr>
        <p:sp>
          <p:nvSpPr>
            <p:cNvPr id="47" name="Rectangle 5"/>
            <p:cNvSpPr/>
            <p:nvPr/>
          </p:nvSpPr>
          <p:spPr>
            <a:xfrm>
              <a:off x="11219040" y="255240"/>
              <a:ext cx="89208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2111120" y="255240"/>
              <a:ext cx="895320" cy="825840"/>
            </a:xfrm>
            <a:prstGeom prst="rect">
              <a:avLst/>
            </a:pr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13898520" y="255240"/>
              <a:ext cx="895320" cy="825840"/>
            </a:xfrm>
            <a:prstGeom prst="rect">
              <a:avLst/>
            </a:pr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12949200" y="195120"/>
              <a:ext cx="1003320" cy="94644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46440"/>
                <a:gd name="textAreaBottom" fmla="*/ 946440 h 946440"/>
              </a:gdLst>
              <a:ahLst/>
              <a:rect l="textAreaLeft" t="textAreaTop" r="textAreaRight" b="textAreaBottom"/>
              <a:pathLst>
                <a:path w="632" h="596">
                  <a:moveTo>
                    <a:pt x="558" y="596"/>
                  </a:moveTo>
                  <a:lnTo>
                    <a:pt x="0" y="514"/>
                  </a:lnTo>
                  <a:lnTo>
                    <a:pt x="76" y="0"/>
                  </a:lnTo>
                  <a:lnTo>
                    <a:pt x="632" y="82"/>
                  </a:lnTo>
                  <a:lnTo>
                    <a:pt x="558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グループ化 16"/>
          <p:cNvGrpSpPr/>
          <p:nvPr/>
        </p:nvGrpSpPr>
        <p:grpSpPr>
          <a:xfrm>
            <a:off x="623880" y="2516040"/>
            <a:ext cx="6512040" cy="7321680"/>
            <a:chOff x="623880" y="2516040"/>
            <a:chExt cx="6512040" cy="7321680"/>
          </a:xfrm>
        </p:grpSpPr>
        <p:sp>
          <p:nvSpPr>
            <p:cNvPr id="52" name="Freeform 9"/>
            <p:cNvSpPr/>
            <p:nvPr/>
          </p:nvSpPr>
          <p:spPr>
            <a:xfrm>
              <a:off x="3522600" y="3300120"/>
              <a:ext cx="3613320" cy="6537600"/>
            </a:xfrm>
            <a:custGeom>
              <a:avLst/>
              <a:gdLst>
                <a:gd name="textAreaLeft" fmla="*/ 0 w 3613320"/>
                <a:gd name="textAreaRight" fmla="*/ 3613680 w 3613320"/>
                <a:gd name="textAreaTop" fmla="*/ 0 h 6537600"/>
                <a:gd name="textAreaBottom" fmla="*/ 6537960 h 6537600"/>
              </a:gdLst>
              <a:ahLst/>
              <a:rect l="textAreaLeft" t="textAreaTop" r="textAreaRight" b="textAreaBottom"/>
              <a:pathLst>
                <a:path w="2276" h="4118">
                  <a:moveTo>
                    <a:pt x="460" y="4102"/>
                  </a:moveTo>
                  <a:lnTo>
                    <a:pt x="460" y="4102"/>
                  </a:lnTo>
                  <a:lnTo>
                    <a:pt x="456" y="4010"/>
                  </a:lnTo>
                  <a:lnTo>
                    <a:pt x="450" y="3920"/>
                  </a:lnTo>
                  <a:lnTo>
                    <a:pt x="444" y="3832"/>
                  </a:lnTo>
                  <a:lnTo>
                    <a:pt x="438" y="3742"/>
                  </a:lnTo>
                  <a:lnTo>
                    <a:pt x="438" y="3742"/>
                  </a:lnTo>
                  <a:lnTo>
                    <a:pt x="442" y="3738"/>
                  </a:lnTo>
                  <a:lnTo>
                    <a:pt x="444" y="3734"/>
                  </a:lnTo>
                  <a:lnTo>
                    <a:pt x="446" y="3726"/>
                  </a:lnTo>
                  <a:lnTo>
                    <a:pt x="446" y="3718"/>
                  </a:lnTo>
                  <a:lnTo>
                    <a:pt x="446" y="3708"/>
                  </a:lnTo>
                  <a:lnTo>
                    <a:pt x="446" y="3708"/>
                  </a:lnTo>
                  <a:lnTo>
                    <a:pt x="488" y="3722"/>
                  </a:lnTo>
                  <a:lnTo>
                    <a:pt x="532" y="3732"/>
                  </a:lnTo>
                  <a:lnTo>
                    <a:pt x="576" y="3738"/>
                  </a:lnTo>
                  <a:lnTo>
                    <a:pt x="620" y="3744"/>
                  </a:lnTo>
                  <a:lnTo>
                    <a:pt x="710" y="3756"/>
                  </a:lnTo>
                  <a:lnTo>
                    <a:pt x="754" y="3762"/>
                  </a:lnTo>
                  <a:lnTo>
                    <a:pt x="800" y="3770"/>
                  </a:lnTo>
                  <a:lnTo>
                    <a:pt x="814" y="3790"/>
                  </a:lnTo>
                  <a:lnTo>
                    <a:pt x="814" y="3790"/>
                  </a:lnTo>
                  <a:lnTo>
                    <a:pt x="812" y="3830"/>
                  </a:lnTo>
                  <a:lnTo>
                    <a:pt x="812" y="3870"/>
                  </a:lnTo>
                  <a:lnTo>
                    <a:pt x="814" y="3952"/>
                  </a:lnTo>
                  <a:lnTo>
                    <a:pt x="816" y="4036"/>
                  </a:lnTo>
                  <a:lnTo>
                    <a:pt x="818" y="4118"/>
                  </a:lnTo>
                  <a:lnTo>
                    <a:pt x="898" y="4118"/>
                  </a:lnTo>
                  <a:lnTo>
                    <a:pt x="898" y="4118"/>
                  </a:lnTo>
                  <a:lnTo>
                    <a:pt x="898" y="4078"/>
                  </a:lnTo>
                  <a:lnTo>
                    <a:pt x="896" y="4040"/>
                  </a:lnTo>
                  <a:lnTo>
                    <a:pt x="892" y="3964"/>
                  </a:lnTo>
                  <a:lnTo>
                    <a:pt x="890" y="3926"/>
                  </a:lnTo>
                  <a:lnTo>
                    <a:pt x="894" y="3886"/>
                  </a:lnTo>
                  <a:lnTo>
                    <a:pt x="900" y="3846"/>
                  </a:lnTo>
                  <a:lnTo>
                    <a:pt x="904" y="3828"/>
                  </a:lnTo>
                  <a:lnTo>
                    <a:pt x="910" y="3808"/>
                  </a:lnTo>
                  <a:lnTo>
                    <a:pt x="910" y="3808"/>
                  </a:lnTo>
                  <a:lnTo>
                    <a:pt x="916" y="3798"/>
                  </a:lnTo>
                  <a:lnTo>
                    <a:pt x="924" y="3790"/>
                  </a:lnTo>
                  <a:lnTo>
                    <a:pt x="932" y="3784"/>
                  </a:lnTo>
                  <a:lnTo>
                    <a:pt x="942" y="3780"/>
                  </a:lnTo>
                  <a:lnTo>
                    <a:pt x="952" y="3776"/>
                  </a:lnTo>
                  <a:lnTo>
                    <a:pt x="962" y="3776"/>
                  </a:lnTo>
                  <a:lnTo>
                    <a:pt x="984" y="3776"/>
                  </a:lnTo>
                  <a:lnTo>
                    <a:pt x="996" y="3822"/>
                  </a:lnTo>
                  <a:lnTo>
                    <a:pt x="996" y="3822"/>
                  </a:lnTo>
                  <a:lnTo>
                    <a:pt x="998" y="3896"/>
                  </a:lnTo>
                  <a:lnTo>
                    <a:pt x="1004" y="3970"/>
                  </a:lnTo>
                  <a:lnTo>
                    <a:pt x="1010" y="4044"/>
                  </a:lnTo>
                  <a:lnTo>
                    <a:pt x="1014" y="4118"/>
                  </a:lnTo>
                  <a:lnTo>
                    <a:pt x="1066" y="4118"/>
                  </a:lnTo>
                  <a:lnTo>
                    <a:pt x="1066" y="4118"/>
                  </a:lnTo>
                  <a:lnTo>
                    <a:pt x="1064" y="4030"/>
                  </a:lnTo>
                  <a:lnTo>
                    <a:pt x="1060" y="3944"/>
                  </a:lnTo>
                  <a:lnTo>
                    <a:pt x="1056" y="3860"/>
                  </a:lnTo>
                  <a:lnTo>
                    <a:pt x="1052" y="3818"/>
                  </a:lnTo>
                  <a:lnTo>
                    <a:pt x="1046" y="3776"/>
                  </a:lnTo>
                  <a:lnTo>
                    <a:pt x="1046" y="3776"/>
                  </a:lnTo>
                  <a:lnTo>
                    <a:pt x="1086" y="3776"/>
                  </a:lnTo>
                  <a:lnTo>
                    <a:pt x="1130" y="3774"/>
                  </a:lnTo>
                  <a:lnTo>
                    <a:pt x="1220" y="3766"/>
                  </a:lnTo>
                  <a:lnTo>
                    <a:pt x="1310" y="3754"/>
                  </a:lnTo>
                  <a:lnTo>
                    <a:pt x="1396" y="3742"/>
                  </a:lnTo>
                  <a:lnTo>
                    <a:pt x="1454" y="3802"/>
                  </a:lnTo>
                  <a:lnTo>
                    <a:pt x="1454" y="3802"/>
                  </a:lnTo>
                  <a:lnTo>
                    <a:pt x="1462" y="3878"/>
                  </a:lnTo>
                  <a:lnTo>
                    <a:pt x="1466" y="3958"/>
                  </a:lnTo>
                  <a:lnTo>
                    <a:pt x="1466" y="4038"/>
                  </a:lnTo>
                  <a:lnTo>
                    <a:pt x="1464" y="4078"/>
                  </a:lnTo>
                  <a:lnTo>
                    <a:pt x="1460" y="4118"/>
                  </a:lnTo>
                  <a:lnTo>
                    <a:pt x="1538" y="4118"/>
                  </a:lnTo>
                  <a:lnTo>
                    <a:pt x="1538" y="4118"/>
                  </a:lnTo>
                  <a:lnTo>
                    <a:pt x="1530" y="4044"/>
                  </a:lnTo>
                  <a:lnTo>
                    <a:pt x="1528" y="4006"/>
                  </a:lnTo>
                  <a:lnTo>
                    <a:pt x="1528" y="3970"/>
                  </a:lnTo>
                  <a:lnTo>
                    <a:pt x="1528" y="3970"/>
                  </a:lnTo>
                  <a:lnTo>
                    <a:pt x="1522" y="3942"/>
                  </a:lnTo>
                  <a:lnTo>
                    <a:pt x="1518" y="3914"/>
                  </a:lnTo>
                  <a:lnTo>
                    <a:pt x="1514" y="3886"/>
                  </a:lnTo>
                  <a:lnTo>
                    <a:pt x="1514" y="3858"/>
                  </a:lnTo>
                  <a:lnTo>
                    <a:pt x="1514" y="3800"/>
                  </a:lnTo>
                  <a:lnTo>
                    <a:pt x="1516" y="3742"/>
                  </a:lnTo>
                  <a:lnTo>
                    <a:pt x="1516" y="3742"/>
                  </a:lnTo>
                  <a:lnTo>
                    <a:pt x="1518" y="3740"/>
                  </a:lnTo>
                  <a:lnTo>
                    <a:pt x="1522" y="3738"/>
                  </a:lnTo>
                  <a:lnTo>
                    <a:pt x="1524" y="3732"/>
                  </a:lnTo>
                  <a:lnTo>
                    <a:pt x="1526" y="3726"/>
                  </a:lnTo>
                  <a:lnTo>
                    <a:pt x="1528" y="3720"/>
                  </a:lnTo>
                  <a:lnTo>
                    <a:pt x="1528" y="3720"/>
                  </a:lnTo>
                  <a:lnTo>
                    <a:pt x="1558" y="3718"/>
                  </a:lnTo>
                  <a:lnTo>
                    <a:pt x="1588" y="3712"/>
                  </a:lnTo>
                  <a:lnTo>
                    <a:pt x="1618" y="3706"/>
                  </a:lnTo>
                  <a:lnTo>
                    <a:pt x="1648" y="3696"/>
                  </a:lnTo>
                  <a:lnTo>
                    <a:pt x="1676" y="3686"/>
                  </a:lnTo>
                  <a:lnTo>
                    <a:pt x="1704" y="3674"/>
                  </a:lnTo>
                  <a:lnTo>
                    <a:pt x="1760" y="3648"/>
                  </a:lnTo>
                  <a:lnTo>
                    <a:pt x="1760" y="3648"/>
                  </a:lnTo>
                  <a:lnTo>
                    <a:pt x="1782" y="3632"/>
                  </a:lnTo>
                  <a:lnTo>
                    <a:pt x="1806" y="3614"/>
                  </a:lnTo>
                  <a:lnTo>
                    <a:pt x="1816" y="3602"/>
                  </a:lnTo>
                  <a:lnTo>
                    <a:pt x="1824" y="3590"/>
                  </a:lnTo>
                  <a:lnTo>
                    <a:pt x="1828" y="3578"/>
                  </a:lnTo>
                  <a:lnTo>
                    <a:pt x="1830" y="3564"/>
                  </a:lnTo>
                  <a:lnTo>
                    <a:pt x="1830" y="3564"/>
                  </a:lnTo>
                  <a:lnTo>
                    <a:pt x="1830" y="3548"/>
                  </a:lnTo>
                  <a:lnTo>
                    <a:pt x="1826" y="3536"/>
                  </a:lnTo>
                  <a:lnTo>
                    <a:pt x="1820" y="3522"/>
                  </a:lnTo>
                  <a:lnTo>
                    <a:pt x="1814" y="3512"/>
                  </a:lnTo>
                  <a:lnTo>
                    <a:pt x="1796" y="3490"/>
                  </a:lnTo>
                  <a:lnTo>
                    <a:pt x="1776" y="3468"/>
                  </a:lnTo>
                  <a:lnTo>
                    <a:pt x="1776" y="3468"/>
                  </a:lnTo>
                  <a:lnTo>
                    <a:pt x="1758" y="3418"/>
                  </a:lnTo>
                  <a:lnTo>
                    <a:pt x="1744" y="3366"/>
                  </a:lnTo>
                  <a:lnTo>
                    <a:pt x="1716" y="3262"/>
                  </a:lnTo>
                  <a:lnTo>
                    <a:pt x="1688" y="3158"/>
                  </a:lnTo>
                  <a:lnTo>
                    <a:pt x="1672" y="3106"/>
                  </a:lnTo>
                  <a:lnTo>
                    <a:pt x="1656" y="3054"/>
                  </a:lnTo>
                  <a:lnTo>
                    <a:pt x="1656" y="3054"/>
                  </a:lnTo>
                  <a:lnTo>
                    <a:pt x="1634" y="2978"/>
                  </a:lnTo>
                  <a:lnTo>
                    <a:pt x="1618" y="2898"/>
                  </a:lnTo>
                  <a:lnTo>
                    <a:pt x="1604" y="2818"/>
                  </a:lnTo>
                  <a:lnTo>
                    <a:pt x="1594" y="2738"/>
                  </a:lnTo>
                  <a:lnTo>
                    <a:pt x="1576" y="2576"/>
                  </a:lnTo>
                  <a:lnTo>
                    <a:pt x="1556" y="2414"/>
                  </a:lnTo>
                  <a:lnTo>
                    <a:pt x="1566" y="2402"/>
                  </a:lnTo>
                  <a:lnTo>
                    <a:pt x="1566" y="2402"/>
                  </a:lnTo>
                  <a:lnTo>
                    <a:pt x="1578" y="2424"/>
                  </a:lnTo>
                  <a:lnTo>
                    <a:pt x="1588" y="2450"/>
                  </a:lnTo>
                  <a:lnTo>
                    <a:pt x="1596" y="2476"/>
                  </a:lnTo>
                  <a:lnTo>
                    <a:pt x="1602" y="2502"/>
                  </a:lnTo>
                  <a:lnTo>
                    <a:pt x="1614" y="2554"/>
                  </a:lnTo>
                  <a:lnTo>
                    <a:pt x="1622" y="2580"/>
                  </a:lnTo>
                  <a:lnTo>
                    <a:pt x="1630" y="2604"/>
                  </a:lnTo>
                  <a:lnTo>
                    <a:pt x="1630" y="2604"/>
                  </a:lnTo>
                  <a:lnTo>
                    <a:pt x="1638" y="2614"/>
                  </a:lnTo>
                  <a:lnTo>
                    <a:pt x="1650" y="2622"/>
                  </a:lnTo>
                  <a:lnTo>
                    <a:pt x="1672" y="2634"/>
                  </a:lnTo>
                  <a:lnTo>
                    <a:pt x="1696" y="2644"/>
                  </a:lnTo>
                  <a:lnTo>
                    <a:pt x="1722" y="2648"/>
                  </a:lnTo>
                  <a:lnTo>
                    <a:pt x="1722" y="2648"/>
                  </a:lnTo>
                  <a:lnTo>
                    <a:pt x="1728" y="2650"/>
                  </a:lnTo>
                  <a:lnTo>
                    <a:pt x="1734" y="2648"/>
                  </a:lnTo>
                  <a:lnTo>
                    <a:pt x="1744" y="2644"/>
                  </a:lnTo>
                  <a:lnTo>
                    <a:pt x="1748" y="2642"/>
                  </a:lnTo>
                  <a:lnTo>
                    <a:pt x="1754" y="2640"/>
                  </a:lnTo>
                  <a:lnTo>
                    <a:pt x="1760" y="2642"/>
                  </a:lnTo>
                  <a:lnTo>
                    <a:pt x="1764" y="2646"/>
                  </a:lnTo>
                  <a:lnTo>
                    <a:pt x="1764" y="2646"/>
                  </a:lnTo>
                  <a:lnTo>
                    <a:pt x="1770" y="2658"/>
                  </a:lnTo>
                  <a:lnTo>
                    <a:pt x="1774" y="2670"/>
                  </a:lnTo>
                  <a:lnTo>
                    <a:pt x="1778" y="2686"/>
                  </a:lnTo>
                  <a:lnTo>
                    <a:pt x="1778" y="2700"/>
                  </a:lnTo>
                  <a:lnTo>
                    <a:pt x="1778" y="2714"/>
                  </a:lnTo>
                  <a:lnTo>
                    <a:pt x="1774" y="2730"/>
                  </a:lnTo>
                  <a:lnTo>
                    <a:pt x="1770" y="2742"/>
                  </a:lnTo>
                  <a:lnTo>
                    <a:pt x="1764" y="2754"/>
                  </a:lnTo>
                  <a:lnTo>
                    <a:pt x="1764" y="2754"/>
                  </a:lnTo>
                  <a:lnTo>
                    <a:pt x="1750" y="2780"/>
                  </a:lnTo>
                  <a:lnTo>
                    <a:pt x="1736" y="2808"/>
                  </a:lnTo>
                  <a:lnTo>
                    <a:pt x="1726" y="2836"/>
                  </a:lnTo>
                  <a:lnTo>
                    <a:pt x="1718" y="2864"/>
                  </a:lnTo>
                  <a:lnTo>
                    <a:pt x="1712" y="2894"/>
                  </a:lnTo>
                  <a:lnTo>
                    <a:pt x="1706" y="2924"/>
                  </a:lnTo>
                  <a:lnTo>
                    <a:pt x="1696" y="2984"/>
                  </a:lnTo>
                  <a:lnTo>
                    <a:pt x="1696" y="2984"/>
                  </a:lnTo>
                  <a:lnTo>
                    <a:pt x="1702" y="3008"/>
                  </a:lnTo>
                  <a:lnTo>
                    <a:pt x="1708" y="3030"/>
                  </a:lnTo>
                  <a:lnTo>
                    <a:pt x="1718" y="3052"/>
                  </a:lnTo>
                  <a:lnTo>
                    <a:pt x="1728" y="3072"/>
                  </a:lnTo>
                  <a:lnTo>
                    <a:pt x="1742" y="3092"/>
                  </a:lnTo>
                  <a:lnTo>
                    <a:pt x="1760" y="3108"/>
                  </a:lnTo>
                  <a:lnTo>
                    <a:pt x="1778" y="3124"/>
                  </a:lnTo>
                  <a:lnTo>
                    <a:pt x="1798" y="3136"/>
                  </a:lnTo>
                  <a:lnTo>
                    <a:pt x="1798" y="3136"/>
                  </a:lnTo>
                  <a:lnTo>
                    <a:pt x="1816" y="3144"/>
                  </a:lnTo>
                  <a:lnTo>
                    <a:pt x="1832" y="3152"/>
                  </a:lnTo>
                  <a:lnTo>
                    <a:pt x="1848" y="3164"/>
                  </a:lnTo>
                  <a:lnTo>
                    <a:pt x="1864" y="3176"/>
                  </a:lnTo>
                  <a:lnTo>
                    <a:pt x="1880" y="3188"/>
                  </a:lnTo>
                  <a:lnTo>
                    <a:pt x="1896" y="3198"/>
                  </a:lnTo>
                  <a:lnTo>
                    <a:pt x="1912" y="3208"/>
                  </a:lnTo>
                  <a:lnTo>
                    <a:pt x="1928" y="3214"/>
                  </a:lnTo>
                  <a:lnTo>
                    <a:pt x="1994" y="3454"/>
                  </a:lnTo>
                  <a:lnTo>
                    <a:pt x="1994" y="3454"/>
                  </a:lnTo>
                  <a:lnTo>
                    <a:pt x="2006" y="3500"/>
                  </a:lnTo>
                  <a:lnTo>
                    <a:pt x="2018" y="3548"/>
                  </a:lnTo>
                  <a:lnTo>
                    <a:pt x="2022" y="3572"/>
                  </a:lnTo>
                  <a:lnTo>
                    <a:pt x="2026" y="3594"/>
                  </a:lnTo>
                  <a:lnTo>
                    <a:pt x="2026" y="3618"/>
                  </a:lnTo>
                  <a:lnTo>
                    <a:pt x="2026" y="3640"/>
                  </a:lnTo>
                  <a:lnTo>
                    <a:pt x="2026" y="3640"/>
                  </a:lnTo>
                  <a:lnTo>
                    <a:pt x="2028" y="3646"/>
                  </a:lnTo>
                  <a:lnTo>
                    <a:pt x="2032" y="3648"/>
                  </a:lnTo>
                  <a:lnTo>
                    <a:pt x="2042" y="3654"/>
                  </a:lnTo>
                  <a:lnTo>
                    <a:pt x="2054" y="3656"/>
                  </a:lnTo>
                  <a:lnTo>
                    <a:pt x="2066" y="3660"/>
                  </a:lnTo>
                  <a:lnTo>
                    <a:pt x="2066" y="3660"/>
                  </a:lnTo>
                  <a:lnTo>
                    <a:pt x="2072" y="3686"/>
                  </a:lnTo>
                  <a:lnTo>
                    <a:pt x="2080" y="3714"/>
                  </a:lnTo>
                  <a:lnTo>
                    <a:pt x="2082" y="3728"/>
                  </a:lnTo>
                  <a:lnTo>
                    <a:pt x="2082" y="3742"/>
                  </a:lnTo>
                  <a:lnTo>
                    <a:pt x="2078" y="3754"/>
                  </a:lnTo>
                  <a:lnTo>
                    <a:pt x="2072" y="3766"/>
                  </a:lnTo>
                  <a:lnTo>
                    <a:pt x="2072" y="3766"/>
                  </a:lnTo>
                  <a:lnTo>
                    <a:pt x="2054" y="3784"/>
                  </a:lnTo>
                  <a:lnTo>
                    <a:pt x="2034" y="3800"/>
                  </a:lnTo>
                  <a:lnTo>
                    <a:pt x="2012" y="3814"/>
                  </a:lnTo>
                  <a:lnTo>
                    <a:pt x="1992" y="3826"/>
                  </a:lnTo>
                  <a:lnTo>
                    <a:pt x="1970" y="3838"/>
                  </a:lnTo>
                  <a:lnTo>
                    <a:pt x="1948" y="3848"/>
                  </a:lnTo>
                  <a:lnTo>
                    <a:pt x="1924" y="3856"/>
                  </a:lnTo>
                  <a:lnTo>
                    <a:pt x="1900" y="3864"/>
                  </a:lnTo>
                  <a:lnTo>
                    <a:pt x="1876" y="3870"/>
                  </a:lnTo>
                  <a:lnTo>
                    <a:pt x="1852" y="3876"/>
                  </a:lnTo>
                  <a:lnTo>
                    <a:pt x="1804" y="3882"/>
                  </a:lnTo>
                  <a:lnTo>
                    <a:pt x="1752" y="3886"/>
                  </a:lnTo>
                  <a:lnTo>
                    <a:pt x="1702" y="3884"/>
                  </a:lnTo>
                  <a:lnTo>
                    <a:pt x="1702" y="3884"/>
                  </a:lnTo>
                  <a:lnTo>
                    <a:pt x="1694" y="3886"/>
                  </a:lnTo>
                  <a:lnTo>
                    <a:pt x="1684" y="3884"/>
                  </a:lnTo>
                  <a:lnTo>
                    <a:pt x="1666" y="3880"/>
                  </a:lnTo>
                  <a:lnTo>
                    <a:pt x="1630" y="3868"/>
                  </a:lnTo>
                  <a:lnTo>
                    <a:pt x="1614" y="3866"/>
                  </a:lnTo>
                  <a:lnTo>
                    <a:pt x="1606" y="3866"/>
                  </a:lnTo>
                  <a:lnTo>
                    <a:pt x="1600" y="3868"/>
                  </a:lnTo>
                  <a:lnTo>
                    <a:pt x="1594" y="3874"/>
                  </a:lnTo>
                  <a:lnTo>
                    <a:pt x="1588" y="3880"/>
                  </a:lnTo>
                  <a:lnTo>
                    <a:pt x="1582" y="3890"/>
                  </a:lnTo>
                  <a:lnTo>
                    <a:pt x="1578" y="3902"/>
                  </a:lnTo>
                  <a:lnTo>
                    <a:pt x="1578" y="3902"/>
                  </a:lnTo>
                  <a:lnTo>
                    <a:pt x="1584" y="3920"/>
                  </a:lnTo>
                  <a:lnTo>
                    <a:pt x="1594" y="3936"/>
                  </a:lnTo>
                  <a:lnTo>
                    <a:pt x="1606" y="3952"/>
                  </a:lnTo>
                  <a:lnTo>
                    <a:pt x="1618" y="3966"/>
                  </a:lnTo>
                  <a:lnTo>
                    <a:pt x="1634" y="3980"/>
                  </a:lnTo>
                  <a:lnTo>
                    <a:pt x="1648" y="3992"/>
                  </a:lnTo>
                  <a:lnTo>
                    <a:pt x="1680" y="4016"/>
                  </a:lnTo>
                  <a:lnTo>
                    <a:pt x="1680" y="4016"/>
                  </a:lnTo>
                  <a:lnTo>
                    <a:pt x="1724" y="4032"/>
                  </a:lnTo>
                  <a:lnTo>
                    <a:pt x="1772" y="4044"/>
                  </a:lnTo>
                  <a:lnTo>
                    <a:pt x="1822" y="4052"/>
                  </a:lnTo>
                  <a:lnTo>
                    <a:pt x="1872" y="4056"/>
                  </a:lnTo>
                  <a:lnTo>
                    <a:pt x="1922" y="4056"/>
                  </a:lnTo>
                  <a:lnTo>
                    <a:pt x="1946" y="4054"/>
                  </a:lnTo>
                  <a:lnTo>
                    <a:pt x="1972" y="4050"/>
                  </a:lnTo>
                  <a:lnTo>
                    <a:pt x="1996" y="4046"/>
                  </a:lnTo>
                  <a:lnTo>
                    <a:pt x="2020" y="4040"/>
                  </a:lnTo>
                  <a:lnTo>
                    <a:pt x="2042" y="4034"/>
                  </a:lnTo>
                  <a:lnTo>
                    <a:pt x="2066" y="4026"/>
                  </a:lnTo>
                  <a:lnTo>
                    <a:pt x="2066" y="4026"/>
                  </a:lnTo>
                  <a:lnTo>
                    <a:pt x="2096" y="4014"/>
                  </a:lnTo>
                  <a:lnTo>
                    <a:pt x="2126" y="4000"/>
                  </a:lnTo>
                  <a:lnTo>
                    <a:pt x="2156" y="3980"/>
                  </a:lnTo>
                  <a:lnTo>
                    <a:pt x="2184" y="3958"/>
                  </a:lnTo>
                  <a:lnTo>
                    <a:pt x="2208" y="3932"/>
                  </a:lnTo>
                  <a:lnTo>
                    <a:pt x="2220" y="3918"/>
                  </a:lnTo>
                  <a:lnTo>
                    <a:pt x="2230" y="3904"/>
                  </a:lnTo>
                  <a:lnTo>
                    <a:pt x="2238" y="3888"/>
                  </a:lnTo>
                  <a:lnTo>
                    <a:pt x="2246" y="3874"/>
                  </a:lnTo>
                  <a:lnTo>
                    <a:pt x="2252" y="3858"/>
                  </a:lnTo>
                  <a:lnTo>
                    <a:pt x="2256" y="3842"/>
                  </a:lnTo>
                  <a:lnTo>
                    <a:pt x="2256" y="3842"/>
                  </a:lnTo>
                  <a:lnTo>
                    <a:pt x="2258" y="3838"/>
                  </a:lnTo>
                  <a:lnTo>
                    <a:pt x="2260" y="3834"/>
                  </a:lnTo>
                  <a:lnTo>
                    <a:pt x="2268" y="3830"/>
                  </a:lnTo>
                  <a:lnTo>
                    <a:pt x="2274" y="3824"/>
                  </a:lnTo>
                  <a:lnTo>
                    <a:pt x="2276" y="3820"/>
                  </a:lnTo>
                  <a:lnTo>
                    <a:pt x="2276" y="3814"/>
                  </a:lnTo>
                  <a:lnTo>
                    <a:pt x="2276" y="3814"/>
                  </a:lnTo>
                  <a:lnTo>
                    <a:pt x="2264" y="3740"/>
                  </a:lnTo>
                  <a:lnTo>
                    <a:pt x="2248" y="3666"/>
                  </a:lnTo>
                  <a:lnTo>
                    <a:pt x="2230" y="3594"/>
                  </a:lnTo>
                  <a:lnTo>
                    <a:pt x="2212" y="3524"/>
                  </a:lnTo>
                  <a:lnTo>
                    <a:pt x="2172" y="3382"/>
                  </a:lnTo>
                  <a:lnTo>
                    <a:pt x="2154" y="3310"/>
                  </a:lnTo>
                  <a:lnTo>
                    <a:pt x="2138" y="3236"/>
                  </a:lnTo>
                  <a:lnTo>
                    <a:pt x="2176" y="3202"/>
                  </a:lnTo>
                  <a:lnTo>
                    <a:pt x="2176" y="3202"/>
                  </a:lnTo>
                  <a:lnTo>
                    <a:pt x="2188" y="3192"/>
                  </a:lnTo>
                  <a:lnTo>
                    <a:pt x="2196" y="3180"/>
                  </a:lnTo>
                  <a:lnTo>
                    <a:pt x="2200" y="3168"/>
                  </a:lnTo>
                  <a:lnTo>
                    <a:pt x="2200" y="3154"/>
                  </a:lnTo>
                  <a:lnTo>
                    <a:pt x="2200" y="3126"/>
                  </a:lnTo>
                  <a:lnTo>
                    <a:pt x="2202" y="3112"/>
                  </a:lnTo>
                  <a:lnTo>
                    <a:pt x="2204" y="3098"/>
                  </a:lnTo>
                  <a:lnTo>
                    <a:pt x="2204" y="3098"/>
                  </a:lnTo>
                  <a:lnTo>
                    <a:pt x="2210" y="3078"/>
                  </a:lnTo>
                  <a:lnTo>
                    <a:pt x="2214" y="3056"/>
                  </a:lnTo>
                  <a:lnTo>
                    <a:pt x="2222" y="3010"/>
                  </a:lnTo>
                  <a:lnTo>
                    <a:pt x="2228" y="2962"/>
                  </a:lnTo>
                  <a:lnTo>
                    <a:pt x="2232" y="2914"/>
                  </a:lnTo>
                  <a:lnTo>
                    <a:pt x="2232" y="2914"/>
                  </a:lnTo>
                  <a:lnTo>
                    <a:pt x="2226" y="2892"/>
                  </a:lnTo>
                  <a:lnTo>
                    <a:pt x="2220" y="2870"/>
                  </a:lnTo>
                  <a:lnTo>
                    <a:pt x="2210" y="2848"/>
                  </a:lnTo>
                  <a:lnTo>
                    <a:pt x="2200" y="2826"/>
                  </a:lnTo>
                  <a:lnTo>
                    <a:pt x="2174" y="2786"/>
                  </a:lnTo>
                  <a:lnTo>
                    <a:pt x="2144" y="2746"/>
                  </a:lnTo>
                  <a:lnTo>
                    <a:pt x="2118" y="2706"/>
                  </a:lnTo>
                  <a:lnTo>
                    <a:pt x="2104" y="2686"/>
                  </a:lnTo>
                  <a:lnTo>
                    <a:pt x="2094" y="2664"/>
                  </a:lnTo>
                  <a:lnTo>
                    <a:pt x="2084" y="2642"/>
                  </a:lnTo>
                  <a:lnTo>
                    <a:pt x="2078" y="2620"/>
                  </a:lnTo>
                  <a:lnTo>
                    <a:pt x="2072" y="2596"/>
                  </a:lnTo>
                  <a:lnTo>
                    <a:pt x="2070" y="2570"/>
                  </a:lnTo>
                  <a:lnTo>
                    <a:pt x="2070" y="2570"/>
                  </a:lnTo>
                  <a:lnTo>
                    <a:pt x="2070" y="2562"/>
                  </a:lnTo>
                  <a:lnTo>
                    <a:pt x="2072" y="2552"/>
                  </a:lnTo>
                  <a:lnTo>
                    <a:pt x="2078" y="2538"/>
                  </a:lnTo>
                  <a:lnTo>
                    <a:pt x="2086" y="2522"/>
                  </a:lnTo>
                  <a:lnTo>
                    <a:pt x="2094" y="2510"/>
                  </a:lnTo>
                  <a:lnTo>
                    <a:pt x="2104" y="2496"/>
                  </a:lnTo>
                  <a:lnTo>
                    <a:pt x="2112" y="2480"/>
                  </a:lnTo>
                  <a:lnTo>
                    <a:pt x="2118" y="2466"/>
                  </a:lnTo>
                  <a:lnTo>
                    <a:pt x="2118" y="2456"/>
                  </a:lnTo>
                  <a:lnTo>
                    <a:pt x="2118" y="2448"/>
                  </a:lnTo>
                  <a:lnTo>
                    <a:pt x="2118" y="2448"/>
                  </a:lnTo>
                  <a:lnTo>
                    <a:pt x="2098" y="2416"/>
                  </a:lnTo>
                  <a:lnTo>
                    <a:pt x="2080" y="2384"/>
                  </a:lnTo>
                  <a:lnTo>
                    <a:pt x="2064" y="2352"/>
                  </a:lnTo>
                  <a:lnTo>
                    <a:pt x="2048" y="2320"/>
                  </a:lnTo>
                  <a:lnTo>
                    <a:pt x="2020" y="2252"/>
                  </a:lnTo>
                  <a:lnTo>
                    <a:pt x="2004" y="2220"/>
                  </a:lnTo>
                  <a:lnTo>
                    <a:pt x="1986" y="2188"/>
                  </a:lnTo>
                  <a:lnTo>
                    <a:pt x="1986" y="2188"/>
                  </a:lnTo>
                  <a:lnTo>
                    <a:pt x="1946" y="2128"/>
                  </a:lnTo>
                  <a:lnTo>
                    <a:pt x="1910" y="2066"/>
                  </a:lnTo>
                  <a:lnTo>
                    <a:pt x="1840" y="1942"/>
                  </a:lnTo>
                  <a:lnTo>
                    <a:pt x="1770" y="1818"/>
                  </a:lnTo>
                  <a:lnTo>
                    <a:pt x="1734" y="1756"/>
                  </a:lnTo>
                  <a:lnTo>
                    <a:pt x="1696" y="1694"/>
                  </a:lnTo>
                  <a:lnTo>
                    <a:pt x="1696" y="1694"/>
                  </a:lnTo>
                  <a:lnTo>
                    <a:pt x="1660" y="1622"/>
                  </a:lnTo>
                  <a:lnTo>
                    <a:pt x="1640" y="1586"/>
                  </a:lnTo>
                  <a:lnTo>
                    <a:pt x="1618" y="1550"/>
                  </a:lnTo>
                  <a:lnTo>
                    <a:pt x="1596" y="1516"/>
                  </a:lnTo>
                  <a:lnTo>
                    <a:pt x="1570" y="1484"/>
                  </a:lnTo>
                  <a:lnTo>
                    <a:pt x="1556" y="1468"/>
                  </a:lnTo>
                  <a:lnTo>
                    <a:pt x="1540" y="1454"/>
                  </a:lnTo>
                  <a:lnTo>
                    <a:pt x="1524" y="1440"/>
                  </a:lnTo>
                  <a:lnTo>
                    <a:pt x="1506" y="1428"/>
                  </a:lnTo>
                  <a:lnTo>
                    <a:pt x="1506" y="1428"/>
                  </a:lnTo>
                  <a:lnTo>
                    <a:pt x="1502" y="1406"/>
                  </a:lnTo>
                  <a:lnTo>
                    <a:pt x="1496" y="1384"/>
                  </a:lnTo>
                  <a:lnTo>
                    <a:pt x="1488" y="1364"/>
                  </a:lnTo>
                  <a:lnTo>
                    <a:pt x="1478" y="1344"/>
                  </a:lnTo>
                  <a:lnTo>
                    <a:pt x="1466" y="1326"/>
                  </a:lnTo>
                  <a:lnTo>
                    <a:pt x="1452" y="1308"/>
                  </a:lnTo>
                  <a:lnTo>
                    <a:pt x="1426" y="1274"/>
                  </a:lnTo>
                  <a:lnTo>
                    <a:pt x="1426" y="1274"/>
                  </a:lnTo>
                  <a:lnTo>
                    <a:pt x="1424" y="1264"/>
                  </a:lnTo>
                  <a:lnTo>
                    <a:pt x="1424" y="1256"/>
                  </a:lnTo>
                  <a:lnTo>
                    <a:pt x="1426" y="1250"/>
                  </a:lnTo>
                  <a:lnTo>
                    <a:pt x="1428" y="1244"/>
                  </a:lnTo>
                  <a:lnTo>
                    <a:pt x="1434" y="1240"/>
                  </a:lnTo>
                  <a:lnTo>
                    <a:pt x="1438" y="1238"/>
                  </a:lnTo>
                  <a:lnTo>
                    <a:pt x="1452" y="1232"/>
                  </a:lnTo>
                  <a:lnTo>
                    <a:pt x="1466" y="1228"/>
                  </a:lnTo>
                  <a:lnTo>
                    <a:pt x="1480" y="1224"/>
                  </a:lnTo>
                  <a:lnTo>
                    <a:pt x="1486" y="1220"/>
                  </a:lnTo>
                  <a:lnTo>
                    <a:pt x="1492" y="1214"/>
                  </a:lnTo>
                  <a:lnTo>
                    <a:pt x="1496" y="1208"/>
                  </a:lnTo>
                  <a:lnTo>
                    <a:pt x="1498" y="1200"/>
                  </a:lnTo>
                  <a:lnTo>
                    <a:pt x="1498" y="1200"/>
                  </a:lnTo>
                  <a:lnTo>
                    <a:pt x="1504" y="1192"/>
                  </a:lnTo>
                  <a:lnTo>
                    <a:pt x="1510" y="1184"/>
                  </a:lnTo>
                  <a:lnTo>
                    <a:pt x="1516" y="1178"/>
                  </a:lnTo>
                  <a:lnTo>
                    <a:pt x="1524" y="1174"/>
                  </a:lnTo>
                  <a:lnTo>
                    <a:pt x="1530" y="1172"/>
                  </a:lnTo>
                  <a:lnTo>
                    <a:pt x="1540" y="1170"/>
                  </a:lnTo>
                  <a:lnTo>
                    <a:pt x="1556" y="1170"/>
                  </a:lnTo>
                  <a:lnTo>
                    <a:pt x="1574" y="1170"/>
                  </a:lnTo>
                  <a:lnTo>
                    <a:pt x="1592" y="1168"/>
                  </a:lnTo>
                  <a:lnTo>
                    <a:pt x="1602" y="1166"/>
                  </a:lnTo>
                  <a:lnTo>
                    <a:pt x="1610" y="1162"/>
                  </a:lnTo>
                  <a:lnTo>
                    <a:pt x="1618" y="1158"/>
                  </a:lnTo>
                  <a:lnTo>
                    <a:pt x="1624" y="1152"/>
                  </a:lnTo>
                  <a:lnTo>
                    <a:pt x="1624" y="1152"/>
                  </a:lnTo>
                  <a:lnTo>
                    <a:pt x="1638" y="1140"/>
                  </a:lnTo>
                  <a:lnTo>
                    <a:pt x="1650" y="1128"/>
                  </a:lnTo>
                  <a:lnTo>
                    <a:pt x="1662" y="1114"/>
                  </a:lnTo>
                  <a:lnTo>
                    <a:pt x="1670" y="1098"/>
                  </a:lnTo>
                  <a:lnTo>
                    <a:pt x="1676" y="1082"/>
                  </a:lnTo>
                  <a:lnTo>
                    <a:pt x="1680" y="1064"/>
                  </a:lnTo>
                  <a:lnTo>
                    <a:pt x="1680" y="1046"/>
                  </a:lnTo>
                  <a:lnTo>
                    <a:pt x="1678" y="1028"/>
                  </a:lnTo>
                  <a:lnTo>
                    <a:pt x="1678" y="1028"/>
                  </a:lnTo>
                  <a:lnTo>
                    <a:pt x="1692" y="1024"/>
                  </a:lnTo>
                  <a:lnTo>
                    <a:pt x="1704" y="1018"/>
                  </a:lnTo>
                  <a:lnTo>
                    <a:pt x="1728" y="1004"/>
                  </a:lnTo>
                  <a:lnTo>
                    <a:pt x="1750" y="990"/>
                  </a:lnTo>
                  <a:lnTo>
                    <a:pt x="1774" y="974"/>
                  </a:lnTo>
                  <a:lnTo>
                    <a:pt x="1774" y="974"/>
                  </a:lnTo>
                  <a:lnTo>
                    <a:pt x="1792" y="966"/>
                  </a:lnTo>
                  <a:lnTo>
                    <a:pt x="1806" y="954"/>
                  </a:lnTo>
                  <a:lnTo>
                    <a:pt x="1820" y="942"/>
                  </a:lnTo>
                  <a:lnTo>
                    <a:pt x="1834" y="930"/>
                  </a:lnTo>
                  <a:lnTo>
                    <a:pt x="1846" y="916"/>
                  </a:lnTo>
                  <a:lnTo>
                    <a:pt x="1858" y="902"/>
                  </a:lnTo>
                  <a:lnTo>
                    <a:pt x="1878" y="872"/>
                  </a:lnTo>
                  <a:lnTo>
                    <a:pt x="1894" y="840"/>
                  </a:lnTo>
                  <a:lnTo>
                    <a:pt x="1906" y="806"/>
                  </a:lnTo>
                  <a:lnTo>
                    <a:pt x="1916" y="770"/>
                  </a:lnTo>
                  <a:lnTo>
                    <a:pt x="1922" y="736"/>
                  </a:lnTo>
                  <a:lnTo>
                    <a:pt x="1922" y="736"/>
                  </a:lnTo>
                  <a:lnTo>
                    <a:pt x="1916" y="716"/>
                  </a:lnTo>
                  <a:lnTo>
                    <a:pt x="1908" y="696"/>
                  </a:lnTo>
                  <a:lnTo>
                    <a:pt x="1888" y="660"/>
                  </a:lnTo>
                  <a:lnTo>
                    <a:pt x="1866" y="624"/>
                  </a:lnTo>
                  <a:lnTo>
                    <a:pt x="1840" y="590"/>
                  </a:lnTo>
                  <a:lnTo>
                    <a:pt x="1812" y="558"/>
                  </a:lnTo>
                  <a:lnTo>
                    <a:pt x="1782" y="528"/>
                  </a:lnTo>
                  <a:lnTo>
                    <a:pt x="1722" y="470"/>
                  </a:lnTo>
                  <a:lnTo>
                    <a:pt x="1722" y="470"/>
                  </a:lnTo>
                  <a:lnTo>
                    <a:pt x="1686" y="438"/>
                  </a:lnTo>
                  <a:lnTo>
                    <a:pt x="1648" y="408"/>
                  </a:lnTo>
                  <a:lnTo>
                    <a:pt x="1628" y="394"/>
                  </a:lnTo>
                  <a:lnTo>
                    <a:pt x="1606" y="382"/>
                  </a:lnTo>
                  <a:lnTo>
                    <a:pt x="1584" y="370"/>
                  </a:lnTo>
                  <a:lnTo>
                    <a:pt x="1562" y="362"/>
                  </a:lnTo>
                  <a:lnTo>
                    <a:pt x="1562" y="362"/>
                  </a:lnTo>
                  <a:lnTo>
                    <a:pt x="1542" y="352"/>
                  </a:lnTo>
                  <a:lnTo>
                    <a:pt x="1524" y="344"/>
                  </a:lnTo>
                  <a:lnTo>
                    <a:pt x="1482" y="330"/>
                  </a:lnTo>
                  <a:lnTo>
                    <a:pt x="1442" y="318"/>
                  </a:lnTo>
                  <a:lnTo>
                    <a:pt x="1422" y="310"/>
                  </a:lnTo>
                  <a:lnTo>
                    <a:pt x="1404" y="300"/>
                  </a:lnTo>
                  <a:lnTo>
                    <a:pt x="1404" y="300"/>
                  </a:lnTo>
                  <a:lnTo>
                    <a:pt x="1398" y="282"/>
                  </a:lnTo>
                  <a:lnTo>
                    <a:pt x="1390" y="264"/>
                  </a:lnTo>
                  <a:lnTo>
                    <a:pt x="1372" y="230"/>
                  </a:lnTo>
                  <a:lnTo>
                    <a:pt x="1334" y="162"/>
                  </a:lnTo>
                  <a:lnTo>
                    <a:pt x="1334" y="162"/>
                  </a:lnTo>
                  <a:lnTo>
                    <a:pt x="1328" y="152"/>
                  </a:lnTo>
                  <a:lnTo>
                    <a:pt x="1320" y="142"/>
                  </a:lnTo>
                  <a:lnTo>
                    <a:pt x="1302" y="126"/>
                  </a:lnTo>
                  <a:lnTo>
                    <a:pt x="1286" y="108"/>
                  </a:lnTo>
                  <a:lnTo>
                    <a:pt x="1280" y="100"/>
                  </a:lnTo>
                  <a:lnTo>
                    <a:pt x="1274" y="90"/>
                  </a:lnTo>
                  <a:lnTo>
                    <a:pt x="1274" y="90"/>
                  </a:lnTo>
                  <a:lnTo>
                    <a:pt x="1242" y="70"/>
                  </a:lnTo>
                  <a:lnTo>
                    <a:pt x="1212" y="48"/>
                  </a:lnTo>
                  <a:lnTo>
                    <a:pt x="1198" y="38"/>
                  </a:lnTo>
                  <a:lnTo>
                    <a:pt x="1182" y="30"/>
                  </a:lnTo>
                  <a:lnTo>
                    <a:pt x="1164" y="24"/>
                  </a:lnTo>
                  <a:lnTo>
                    <a:pt x="1148" y="18"/>
                  </a:lnTo>
                  <a:lnTo>
                    <a:pt x="1148" y="18"/>
                  </a:lnTo>
                  <a:lnTo>
                    <a:pt x="1128" y="12"/>
                  </a:lnTo>
                  <a:lnTo>
                    <a:pt x="1108" y="8"/>
                  </a:lnTo>
                  <a:lnTo>
                    <a:pt x="1068" y="2"/>
                  </a:lnTo>
                  <a:lnTo>
                    <a:pt x="1028" y="0"/>
                  </a:lnTo>
                  <a:lnTo>
                    <a:pt x="986" y="0"/>
                  </a:lnTo>
                  <a:lnTo>
                    <a:pt x="944" y="4"/>
                  </a:lnTo>
                  <a:lnTo>
                    <a:pt x="904" y="12"/>
                  </a:lnTo>
                  <a:lnTo>
                    <a:pt x="864" y="20"/>
                  </a:lnTo>
                  <a:lnTo>
                    <a:pt x="828" y="30"/>
                  </a:lnTo>
                  <a:lnTo>
                    <a:pt x="828" y="30"/>
                  </a:lnTo>
                  <a:lnTo>
                    <a:pt x="804" y="40"/>
                  </a:lnTo>
                  <a:lnTo>
                    <a:pt x="780" y="52"/>
                  </a:lnTo>
                  <a:lnTo>
                    <a:pt x="760" y="66"/>
                  </a:lnTo>
                  <a:lnTo>
                    <a:pt x="740" y="80"/>
                  </a:lnTo>
                  <a:lnTo>
                    <a:pt x="720" y="98"/>
                  </a:lnTo>
                  <a:lnTo>
                    <a:pt x="702" y="116"/>
                  </a:lnTo>
                  <a:lnTo>
                    <a:pt x="686" y="134"/>
                  </a:lnTo>
                  <a:lnTo>
                    <a:pt x="670" y="154"/>
                  </a:lnTo>
                  <a:lnTo>
                    <a:pt x="656" y="176"/>
                  </a:lnTo>
                  <a:lnTo>
                    <a:pt x="644" y="198"/>
                  </a:lnTo>
                  <a:lnTo>
                    <a:pt x="632" y="222"/>
                  </a:lnTo>
                  <a:lnTo>
                    <a:pt x="622" y="244"/>
                  </a:lnTo>
                  <a:lnTo>
                    <a:pt x="614" y="268"/>
                  </a:lnTo>
                  <a:lnTo>
                    <a:pt x="608" y="292"/>
                  </a:lnTo>
                  <a:lnTo>
                    <a:pt x="602" y="316"/>
                  </a:lnTo>
                  <a:lnTo>
                    <a:pt x="598" y="342"/>
                  </a:lnTo>
                  <a:lnTo>
                    <a:pt x="598" y="342"/>
                  </a:lnTo>
                  <a:lnTo>
                    <a:pt x="532" y="364"/>
                  </a:lnTo>
                  <a:lnTo>
                    <a:pt x="468" y="390"/>
                  </a:lnTo>
                  <a:lnTo>
                    <a:pt x="406" y="418"/>
                  </a:lnTo>
                  <a:lnTo>
                    <a:pt x="344" y="450"/>
                  </a:lnTo>
                  <a:lnTo>
                    <a:pt x="344" y="450"/>
                  </a:lnTo>
                  <a:lnTo>
                    <a:pt x="312" y="464"/>
                  </a:lnTo>
                  <a:lnTo>
                    <a:pt x="282" y="480"/>
                  </a:lnTo>
                  <a:lnTo>
                    <a:pt x="254" y="500"/>
                  </a:lnTo>
                  <a:lnTo>
                    <a:pt x="226" y="522"/>
                  </a:lnTo>
                  <a:lnTo>
                    <a:pt x="200" y="544"/>
                  </a:lnTo>
                  <a:lnTo>
                    <a:pt x="174" y="570"/>
                  </a:lnTo>
                  <a:lnTo>
                    <a:pt x="152" y="596"/>
                  </a:lnTo>
                  <a:lnTo>
                    <a:pt x="130" y="624"/>
                  </a:lnTo>
                  <a:lnTo>
                    <a:pt x="130" y="624"/>
                  </a:lnTo>
                  <a:lnTo>
                    <a:pt x="118" y="638"/>
                  </a:lnTo>
                  <a:lnTo>
                    <a:pt x="108" y="654"/>
                  </a:lnTo>
                  <a:lnTo>
                    <a:pt x="100" y="670"/>
                  </a:lnTo>
                  <a:lnTo>
                    <a:pt x="94" y="688"/>
                  </a:lnTo>
                  <a:lnTo>
                    <a:pt x="90" y="706"/>
                  </a:lnTo>
                  <a:lnTo>
                    <a:pt x="86" y="724"/>
                  </a:lnTo>
                  <a:lnTo>
                    <a:pt x="86" y="742"/>
                  </a:lnTo>
                  <a:lnTo>
                    <a:pt x="84" y="762"/>
                  </a:lnTo>
                  <a:lnTo>
                    <a:pt x="88" y="800"/>
                  </a:lnTo>
                  <a:lnTo>
                    <a:pt x="94" y="836"/>
                  </a:lnTo>
                  <a:lnTo>
                    <a:pt x="102" y="872"/>
                  </a:lnTo>
                  <a:lnTo>
                    <a:pt x="114" y="906"/>
                  </a:lnTo>
                  <a:lnTo>
                    <a:pt x="114" y="906"/>
                  </a:lnTo>
                  <a:lnTo>
                    <a:pt x="128" y="928"/>
                  </a:lnTo>
                  <a:lnTo>
                    <a:pt x="144" y="952"/>
                  </a:lnTo>
                  <a:lnTo>
                    <a:pt x="180" y="994"/>
                  </a:lnTo>
                  <a:lnTo>
                    <a:pt x="218" y="1036"/>
                  </a:lnTo>
                  <a:lnTo>
                    <a:pt x="258" y="1074"/>
                  </a:lnTo>
                  <a:lnTo>
                    <a:pt x="258" y="1074"/>
                  </a:lnTo>
                  <a:lnTo>
                    <a:pt x="246" y="1124"/>
                  </a:lnTo>
                  <a:lnTo>
                    <a:pt x="240" y="1148"/>
                  </a:lnTo>
                  <a:lnTo>
                    <a:pt x="236" y="1174"/>
                  </a:lnTo>
                  <a:lnTo>
                    <a:pt x="232" y="1198"/>
                  </a:lnTo>
                  <a:lnTo>
                    <a:pt x="232" y="1224"/>
                  </a:lnTo>
                  <a:lnTo>
                    <a:pt x="234" y="1250"/>
                  </a:lnTo>
                  <a:lnTo>
                    <a:pt x="238" y="1278"/>
                  </a:lnTo>
                  <a:lnTo>
                    <a:pt x="238" y="1278"/>
                  </a:lnTo>
                  <a:lnTo>
                    <a:pt x="238" y="1298"/>
                  </a:lnTo>
                  <a:lnTo>
                    <a:pt x="240" y="1318"/>
                  </a:lnTo>
                  <a:lnTo>
                    <a:pt x="244" y="1338"/>
                  </a:lnTo>
                  <a:lnTo>
                    <a:pt x="250" y="1358"/>
                  </a:lnTo>
                  <a:lnTo>
                    <a:pt x="264" y="1398"/>
                  </a:lnTo>
                  <a:lnTo>
                    <a:pt x="270" y="1418"/>
                  </a:lnTo>
                  <a:lnTo>
                    <a:pt x="274" y="1438"/>
                  </a:lnTo>
                  <a:lnTo>
                    <a:pt x="274" y="1438"/>
                  </a:lnTo>
                  <a:lnTo>
                    <a:pt x="276" y="1448"/>
                  </a:lnTo>
                  <a:lnTo>
                    <a:pt x="278" y="1456"/>
                  </a:lnTo>
                  <a:lnTo>
                    <a:pt x="276" y="1460"/>
                  </a:lnTo>
                  <a:lnTo>
                    <a:pt x="274" y="1464"/>
                  </a:lnTo>
                  <a:lnTo>
                    <a:pt x="270" y="1466"/>
                  </a:lnTo>
                  <a:lnTo>
                    <a:pt x="264" y="1468"/>
                  </a:lnTo>
                  <a:lnTo>
                    <a:pt x="264" y="1468"/>
                  </a:lnTo>
                  <a:lnTo>
                    <a:pt x="234" y="1510"/>
                  </a:lnTo>
                  <a:lnTo>
                    <a:pt x="206" y="1556"/>
                  </a:lnTo>
                  <a:lnTo>
                    <a:pt x="180" y="1600"/>
                  </a:lnTo>
                  <a:lnTo>
                    <a:pt x="156" y="1646"/>
                  </a:lnTo>
                  <a:lnTo>
                    <a:pt x="134" y="1694"/>
                  </a:lnTo>
                  <a:lnTo>
                    <a:pt x="114" y="1742"/>
                  </a:lnTo>
                  <a:lnTo>
                    <a:pt x="96" y="1792"/>
                  </a:lnTo>
                  <a:lnTo>
                    <a:pt x="82" y="1842"/>
                  </a:lnTo>
                  <a:lnTo>
                    <a:pt x="82" y="1842"/>
                  </a:lnTo>
                  <a:lnTo>
                    <a:pt x="74" y="1864"/>
                  </a:lnTo>
                  <a:lnTo>
                    <a:pt x="62" y="1886"/>
                  </a:lnTo>
                  <a:lnTo>
                    <a:pt x="38" y="1926"/>
                  </a:lnTo>
                  <a:lnTo>
                    <a:pt x="26" y="1948"/>
                  </a:lnTo>
                  <a:lnTo>
                    <a:pt x="14" y="1968"/>
                  </a:lnTo>
                  <a:lnTo>
                    <a:pt x="6" y="1990"/>
                  </a:lnTo>
                  <a:lnTo>
                    <a:pt x="0" y="2014"/>
                  </a:lnTo>
                  <a:lnTo>
                    <a:pt x="0" y="2014"/>
                  </a:lnTo>
                  <a:lnTo>
                    <a:pt x="0" y="2040"/>
                  </a:lnTo>
                  <a:lnTo>
                    <a:pt x="4" y="2062"/>
                  </a:lnTo>
                  <a:lnTo>
                    <a:pt x="12" y="2084"/>
                  </a:lnTo>
                  <a:lnTo>
                    <a:pt x="24" y="2104"/>
                  </a:lnTo>
                  <a:lnTo>
                    <a:pt x="38" y="2124"/>
                  </a:lnTo>
                  <a:lnTo>
                    <a:pt x="54" y="2140"/>
                  </a:lnTo>
                  <a:lnTo>
                    <a:pt x="72" y="2158"/>
                  </a:lnTo>
                  <a:lnTo>
                    <a:pt x="92" y="2174"/>
                  </a:lnTo>
                  <a:lnTo>
                    <a:pt x="92" y="2174"/>
                  </a:lnTo>
                  <a:lnTo>
                    <a:pt x="118" y="2188"/>
                  </a:lnTo>
                  <a:lnTo>
                    <a:pt x="148" y="2198"/>
                  </a:lnTo>
                  <a:lnTo>
                    <a:pt x="178" y="2204"/>
                  </a:lnTo>
                  <a:lnTo>
                    <a:pt x="208" y="2206"/>
                  </a:lnTo>
                  <a:lnTo>
                    <a:pt x="238" y="2206"/>
                  </a:lnTo>
                  <a:lnTo>
                    <a:pt x="270" y="2202"/>
                  </a:lnTo>
                  <a:lnTo>
                    <a:pt x="300" y="2194"/>
                  </a:lnTo>
                  <a:lnTo>
                    <a:pt x="328" y="2184"/>
                  </a:lnTo>
                  <a:lnTo>
                    <a:pt x="328" y="2184"/>
                  </a:lnTo>
                  <a:lnTo>
                    <a:pt x="340" y="2180"/>
                  </a:lnTo>
                  <a:lnTo>
                    <a:pt x="352" y="2174"/>
                  </a:lnTo>
                  <a:lnTo>
                    <a:pt x="376" y="2160"/>
                  </a:lnTo>
                  <a:lnTo>
                    <a:pt x="400" y="2148"/>
                  </a:lnTo>
                  <a:lnTo>
                    <a:pt x="412" y="2144"/>
                  </a:lnTo>
                  <a:lnTo>
                    <a:pt x="424" y="2142"/>
                  </a:lnTo>
                  <a:lnTo>
                    <a:pt x="424" y="2142"/>
                  </a:lnTo>
                  <a:lnTo>
                    <a:pt x="432" y="2150"/>
                  </a:lnTo>
                  <a:lnTo>
                    <a:pt x="438" y="2160"/>
                  </a:lnTo>
                  <a:lnTo>
                    <a:pt x="442" y="2172"/>
                  </a:lnTo>
                  <a:lnTo>
                    <a:pt x="444" y="2184"/>
                  </a:lnTo>
                  <a:lnTo>
                    <a:pt x="442" y="2208"/>
                  </a:lnTo>
                  <a:lnTo>
                    <a:pt x="444" y="2234"/>
                  </a:lnTo>
                  <a:lnTo>
                    <a:pt x="444" y="2234"/>
                  </a:lnTo>
                  <a:lnTo>
                    <a:pt x="448" y="2252"/>
                  </a:lnTo>
                  <a:lnTo>
                    <a:pt x="448" y="2270"/>
                  </a:lnTo>
                  <a:lnTo>
                    <a:pt x="446" y="2288"/>
                  </a:lnTo>
                  <a:lnTo>
                    <a:pt x="442" y="2304"/>
                  </a:lnTo>
                  <a:lnTo>
                    <a:pt x="436" y="2318"/>
                  </a:lnTo>
                  <a:lnTo>
                    <a:pt x="428" y="2332"/>
                  </a:lnTo>
                  <a:lnTo>
                    <a:pt x="410" y="2358"/>
                  </a:lnTo>
                  <a:lnTo>
                    <a:pt x="392" y="2384"/>
                  </a:lnTo>
                  <a:lnTo>
                    <a:pt x="374" y="2412"/>
                  </a:lnTo>
                  <a:lnTo>
                    <a:pt x="368" y="2426"/>
                  </a:lnTo>
                  <a:lnTo>
                    <a:pt x="362" y="2440"/>
                  </a:lnTo>
                  <a:lnTo>
                    <a:pt x="360" y="2456"/>
                  </a:lnTo>
                  <a:lnTo>
                    <a:pt x="360" y="2474"/>
                  </a:lnTo>
                  <a:lnTo>
                    <a:pt x="360" y="2474"/>
                  </a:lnTo>
                  <a:lnTo>
                    <a:pt x="362" y="2514"/>
                  </a:lnTo>
                  <a:lnTo>
                    <a:pt x="360" y="2554"/>
                  </a:lnTo>
                  <a:lnTo>
                    <a:pt x="358" y="2592"/>
                  </a:lnTo>
                  <a:lnTo>
                    <a:pt x="356" y="2630"/>
                  </a:lnTo>
                  <a:lnTo>
                    <a:pt x="350" y="2670"/>
                  </a:lnTo>
                  <a:lnTo>
                    <a:pt x="344" y="2708"/>
                  </a:lnTo>
                  <a:lnTo>
                    <a:pt x="330" y="2782"/>
                  </a:lnTo>
                  <a:lnTo>
                    <a:pt x="312" y="2856"/>
                  </a:lnTo>
                  <a:lnTo>
                    <a:pt x="292" y="2930"/>
                  </a:lnTo>
                  <a:lnTo>
                    <a:pt x="246" y="3074"/>
                  </a:lnTo>
                  <a:lnTo>
                    <a:pt x="246" y="3074"/>
                  </a:lnTo>
                  <a:lnTo>
                    <a:pt x="208" y="3196"/>
                  </a:lnTo>
                  <a:lnTo>
                    <a:pt x="190" y="3260"/>
                  </a:lnTo>
                  <a:lnTo>
                    <a:pt x="174" y="3322"/>
                  </a:lnTo>
                  <a:lnTo>
                    <a:pt x="162" y="3386"/>
                  </a:lnTo>
                  <a:lnTo>
                    <a:pt x="154" y="3452"/>
                  </a:lnTo>
                  <a:lnTo>
                    <a:pt x="150" y="3484"/>
                  </a:lnTo>
                  <a:lnTo>
                    <a:pt x="150" y="3518"/>
                  </a:lnTo>
                  <a:lnTo>
                    <a:pt x="148" y="3550"/>
                  </a:lnTo>
                  <a:lnTo>
                    <a:pt x="150" y="3584"/>
                  </a:lnTo>
                  <a:lnTo>
                    <a:pt x="150" y="3584"/>
                  </a:lnTo>
                  <a:lnTo>
                    <a:pt x="160" y="3598"/>
                  </a:lnTo>
                  <a:lnTo>
                    <a:pt x="170" y="3610"/>
                  </a:lnTo>
                  <a:lnTo>
                    <a:pt x="180" y="3620"/>
                  </a:lnTo>
                  <a:lnTo>
                    <a:pt x="192" y="3630"/>
                  </a:lnTo>
                  <a:lnTo>
                    <a:pt x="206" y="3638"/>
                  </a:lnTo>
                  <a:lnTo>
                    <a:pt x="218" y="3646"/>
                  </a:lnTo>
                  <a:lnTo>
                    <a:pt x="246" y="3658"/>
                  </a:lnTo>
                  <a:lnTo>
                    <a:pt x="276" y="3666"/>
                  </a:lnTo>
                  <a:lnTo>
                    <a:pt x="306" y="3674"/>
                  </a:lnTo>
                  <a:lnTo>
                    <a:pt x="366" y="3692"/>
                  </a:lnTo>
                  <a:lnTo>
                    <a:pt x="366" y="3692"/>
                  </a:lnTo>
                  <a:lnTo>
                    <a:pt x="376" y="3744"/>
                  </a:lnTo>
                  <a:lnTo>
                    <a:pt x="382" y="3798"/>
                  </a:lnTo>
                  <a:lnTo>
                    <a:pt x="388" y="3850"/>
                  </a:lnTo>
                  <a:lnTo>
                    <a:pt x="392" y="3902"/>
                  </a:lnTo>
                  <a:lnTo>
                    <a:pt x="398" y="4008"/>
                  </a:lnTo>
                  <a:lnTo>
                    <a:pt x="404" y="4118"/>
                  </a:lnTo>
                  <a:lnTo>
                    <a:pt x="462" y="4118"/>
                  </a:lnTo>
                  <a:lnTo>
                    <a:pt x="462" y="4118"/>
                  </a:lnTo>
                  <a:lnTo>
                    <a:pt x="460" y="4102"/>
                  </a:lnTo>
                  <a:lnTo>
                    <a:pt x="460" y="4102"/>
                  </a:lnTo>
                  <a:close/>
                  <a:moveTo>
                    <a:pt x="2154" y="3640"/>
                  </a:moveTo>
                  <a:lnTo>
                    <a:pt x="2154" y="3640"/>
                  </a:lnTo>
                  <a:lnTo>
                    <a:pt x="2168" y="3678"/>
                  </a:lnTo>
                  <a:lnTo>
                    <a:pt x="2180" y="3714"/>
                  </a:lnTo>
                  <a:lnTo>
                    <a:pt x="2188" y="3732"/>
                  </a:lnTo>
                  <a:lnTo>
                    <a:pt x="2196" y="3750"/>
                  </a:lnTo>
                  <a:lnTo>
                    <a:pt x="2204" y="3766"/>
                  </a:lnTo>
                  <a:lnTo>
                    <a:pt x="2216" y="3784"/>
                  </a:lnTo>
                  <a:lnTo>
                    <a:pt x="2216" y="3784"/>
                  </a:lnTo>
                  <a:lnTo>
                    <a:pt x="2216" y="3796"/>
                  </a:lnTo>
                  <a:lnTo>
                    <a:pt x="2214" y="3810"/>
                  </a:lnTo>
                  <a:lnTo>
                    <a:pt x="2212" y="3822"/>
                  </a:lnTo>
                  <a:lnTo>
                    <a:pt x="2208" y="3834"/>
                  </a:lnTo>
                  <a:lnTo>
                    <a:pt x="2198" y="3858"/>
                  </a:lnTo>
                  <a:lnTo>
                    <a:pt x="2184" y="3880"/>
                  </a:lnTo>
                  <a:lnTo>
                    <a:pt x="2166" y="3900"/>
                  </a:lnTo>
                  <a:lnTo>
                    <a:pt x="2146" y="3920"/>
                  </a:lnTo>
                  <a:lnTo>
                    <a:pt x="2124" y="3936"/>
                  </a:lnTo>
                  <a:lnTo>
                    <a:pt x="2102" y="3952"/>
                  </a:lnTo>
                  <a:lnTo>
                    <a:pt x="2102" y="3952"/>
                  </a:lnTo>
                  <a:lnTo>
                    <a:pt x="2078" y="3964"/>
                  </a:lnTo>
                  <a:lnTo>
                    <a:pt x="2052" y="3972"/>
                  </a:lnTo>
                  <a:lnTo>
                    <a:pt x="2026" y="3980"/>
                  </a:lnTo>
                  <a:lnTo>
                    <a:pt x="2000" y="3988"/>
                  </a:lnTo>
                  <a:lnTo>
                    <a:pt x="1972" y="3992"/>
                  </a:lnTo>
                  <a:lnTo>
                    <a:pt x="1946" y="3996"/>
                  </a:lnTo>
                  <a:lnTo>
                    <a:pt x="1918" y="3998"/>
                  </a:lnTo>
                  <a:lnTo>
                    <a:pt x="1890" y="4000"/>
                  </a:lnTo>
                  <a:lnTo>
                    <a:pt x="1862" y="3998"/>
                  </a:lnTo>
                  <a:lnTo>
                    <a:pt x="1836" y="3996"/>
                  </a:lnTo>
                  <a:lnTo>
                    <a:pt x="1808" y="3992"/>
                  </a:lnTo>
                  <a:lnTo>
                    <a:pt x="1782" y="3988"/>
                  </a:lnTo>
                  <a:lnTo>
                    <a:pt x="1754" y="3980"/>
                  </a:lnTo>
                  <a:lnTo>
                    <a:pt x="1728" y="3972"/>
                  </a:lnTo>
                  <a:lnTo>
                    <a:pt x="1704" y="3962"/>
                  </a:lnTo>
                  <a:lnTo>
                    <a:pt x="1680" y="3950"/>
                  </a:lnTo>
                  <a:lnTo>
                    <a:pt x="1680" y="3946"/>
                  </a:lnTo>
                  <a:lnTo>
                    <a:pt x="1680" y="3946"/>
                  </a:lnTo>
                  <a:lnTo>
                    <a:pt x="1738" y="3948"/>
                  </a:lnTo>
                  <a:lnTo>
                    <a:pt x="1768" y="3948"/>
                  </a:lnTo>
                  <a:lnTo>
                    <a:pt x="1796" y="3946"/>
                  </a:lnTo>
                  <a:lnTo>
                    <a:pt x="1824" y="3944"/>
                  </a:lnTo>
                  <a:lnTo>
                    <a:pt x="1852" y="3940"/>
                  </a:lnTo>
                  <a:lnTo>
                    <a:pt x="1878" y="3934"/>
                  </a:lnTo>
                  <a:lnTo>
                    <a:pt x="1906" y="3928"/>
                  </a:lnTo>
                  <a:lnTo>
                    <a:pt x="1932" y="3918"/>
                  </a:lnTo>
                  <a:lnTo>
                    <a:pt x="1958" y="3910"/>
                  </a:lnTo>
                  <a:lnTo>
                    <a:pt x="1984" y="3898"/>
                  </a:lnTo>
                  <a:lnTo>
                    <a:pt x="2008" y="3886"/>
                  </a:lnTo>
                  <a:lnTo>
                    <a:pt x="2032" y="3872"/>
                  </a:lnTo>
                  <a:lnTo>
                    <a:pt x="2054" y="3856"/>
                  </a:lnTo>
                  <a:lnTo>
                    <a:pt x="2076" y="3838"/>
                  </a:lnTo>
                  <a:lnTo>
                    <a:pt x="2098" y="3820"/>
                  </a:lnTo>
                  <a:lnTo>
                    <a:pt x="2098" y="3820"/>
                  </a:lnTo>
                  <a:lnTo>
                    <a:pt x="2106" y="3808"/>
                  </a:lnTo>
                  <a:lnTo>
                    <a:pt x="2116" y="3798"/>
                  </a:lnTo>
                  <a:lnTo>
                    <a:pt x="2122" y="3786"/>
                  </a:lnTo>
                  <a:lnTo>
                    <a:pt x="2126" y="3780"/>
                  </a:lnTo>
                  <a:lnTo>
                    <a:pt x="2126" y="3774"/>
                  </a:lnTo>
                  <a:lnTo>
                    <a:pt x="2126" y="3774"/>
                  </a:lnTo>
                  <a:lnTo>
                    <a:pt x="2134" y="3772"/>
                  </a:lnTo>
                  <a:lnTo>
                    <a:pt x="2142" y="3766"/>
                  </a:lnTo>
                  <a:lnTo>
                    <a:pt x="2146" y="3758"/>
                  </a:lnTo>
                  <a:lnTo>
                    <a:pt x="2146" y="3752"/>
                  </a:lnTo>
                  <a:lnTo>
                    <a:pt x="2128" y="3644"/>
                  </a:lnTo>
                  <a:lnTo>
                    <a:pt x="2128" y="3644"/>
                  </a:lnTo>
                  <a:lnTo>
                    <a:pt x="2140" y="3642"/>
                  </a:lnTo>
                  <a:lnTo>
                    <a:pt x="2148" y="3640"/>
                  </a:lnTo>
                  <a:lnTo>
                    <a:pt x="2154" y="3640"/>
                  </a:lnTo>
                  <a:lnTo>
                    <a:pt x="2154" y="3640"/>
                  </a:lnTo>
                  <a:close/>
                  <a:moveTo>
                    <a:pt x="2146" y="3584"/>
                  </a:moveTo>
                  <a:lnTo>
                    <a:pt x="2146" y="3584"/>
                  </a:lnTo>
                  <a:lnTo>
                    <a:pt x="2120" y="3592"/>
                  </a:lnTo>
                  <a:lnTo>
                    <a:pt x="2104" y="3596"/>
                  </a:lnTo>
                  <a:lnTo>
                    <a:pt x="2090" y="3602"/>
                  </a:lnTo>
                  <a:lnTo>
                    <a:pt x="2090" y="3602"/>
                  </a:lnTo>
                  <a:lnTo>
                    <a:pt x="2074" y="3528"/>
                  </a:lnTo>
                  <a:lnTo>
                    <a:pt x="2056" y="3454"/>
                  </a:lnTo>
                  <a:lnTo>
                    <a:pt x="2016" y="3308"/>
                  </a:lnTo>
                  <a:lnTo>
                    <a:pt x="1976" y="3164"/>
                  </a:lnTo>
                  <a:lnTo>
                    <a:pt x="1958" y="3092"/>
                  </a:lnTo>
                  <a:lnTo>
                    <a:pt x="1940" y="3018"/>
                  </a:lnTo>
                  <a:lnTo>
                    <a:pt x="1940" y="3018"/>
                  </a:lnTo>
                  <a:lnTo>
                    <a:pt x="1948" y="3016"/>
                  </a:lnTo>
                  <a:lnTo>
                    <a:pt x="1956" y="3014"/>
                  </a:lnTo>
                  <a:lnTo>
                    <a:pt x="1970" y="3006"/>
                  </a:lnTo>
                  <a:lnTo>
                    <a:pt x="1986" y="3000"/>
                  </a:lnTo>
                  <a:lnTo>
                    <a:pt x="1994" y="2998"/>
                  </a:lnTo>
                  <a:lnTo>
                    <a:pt x="2002" y="3000"/>
                  </a:lnTo>
                  <a:lnTo>
                    <a:pt x="2146" y="3584"/>
                  </a:lnTo>
                  <a:close/>
                  <a:moveTo>
                    <a:pt x="2144" y="2904"/>
                  </a:moveTo>
                  <a:lnTo>
                    <a:pt x="2144" y="2904"/>
                  </a:lnTo>
                  <a:lnTo>
                    <a:pt x="2148" y="2934"/>
                  </a:lnTo>
                  <a:lnTo>
                    <a:pt x="2150" y="2964"/>
                  </a:lnTo>
                  <a:lnTo>
                    <a:pt x="2148" y="2994"/>
                  </a:lnTo>
                  <a:lnTo>
                    <a:pt x="2146" y="3024"/>
                  </a:lnTo>
                  <a:lnTo>
                    <a:pt x="2140" y="3086"/>
                  </a:lnTo>
                  <a:lnTo>
                    <a:pt x="2134" y="3144"/>
                  </a:lnTo>
                  <a:lnTo>
                    <a:pt x="2134" y="3144"/>
                  </a:lnTo>
                  <a:lnTo>
                    <a:pt x="2130" y="3150"/>
                  </a:lnTo>
                  <a:lnTo>
                    <a:pt x="2128" y="3156"/>
                  </a:lnTo>
                  <a:lnTo>
                    <a:pt x="2122" y="3168"/>
                  </a:lnTo>
                  <a:lnTo>
                    <a:pt x="2122" y="3168"/>
                  </a:lnTo>
                  <a:lnTo>
                    <a:pt x="2108" y="3114"/>
                  </a:lnTo>
                  <a:lnTo>
                    <a:pt x="2094" y="3058"/>
                  </a:lnTo>
                  <a:lnTo>
                    <a:pt x="2082" y="3002"/>
                  </a:lnTo>
                  <a:lnTo>
                    <a:pt x="2068" y="2948"/>
                  </a:lnTo>
                  <a:lnTo>
                    <a:pt x="2068" y="2948"/>
                  </a:lnTo>
                  <a:lnTo>
                    <a:pt x="2048" y="2938"/>
                  </a:lnTo>
                  <a:lnTo>
                    <a:pt x="2030" y="2932"/>
                  </a:lnTo>
                  <a:lnTo>
                    <a:pt x="2010" y="2928"/>
                  </a:lnTo>
                  <a:lnTo>
                    <a:pt x="1990" y="2926"/>
                  </a:lnTo>
                  <a:lnTo>
                    <a:pt x="1970" y="2928"/>
                  </a:lnTo>
                  <a:lnTo>
                    <a:pt x="1950" y="2930"/>
                  </a:lnTo>
                  <a:lnTo>
                    <a:pt x="1930" y="2934"/>
                  </a:lnTo>
                  <a:lnTo>
                    <a:pt x="1910" y="2940"/>
                  </a:lnTo>
                  <a:lnTo>
                    <a:pt x="1910" y="2940"/>
                  </a:lnTo>
                  <a:lnTo>
                    <a:pt x="1904" y="2950"/>
                  </a:lnTo>
                  <a:lnTo>
                    <a:pt x="1898" y="2954"/>
                  </a:lnTo>
                  <a:lnTo>
                    <a:pt x="1890" y="2956"/>
                  </a:lnTo>
                  <a:lnTo>
                    <a:pt x="1882" y="2956"/>
                  </a:lnTo>
                  <a:lnTo>
                    <a:pt x="1874" y="2958"/>
                  </a:lnTo>
                  <a:lnTo>
                    <a:pt x="1866" y="2960"/>
                  </a:lnTo>
                  <a:lnTo>
                    <a:pt x="1860" y="2966"/>
                  </a:lnTo>
                  <a:lnTo>
                    <a:pt x="1856" y="2976"/>
                  </a:lnTo>
                  <a:lnTo>
                    <a:pt x="1896" y="3108"/>
                  </a:lnTo>
                  <a:lnTo>
                    <a:pt x="1896" y="3108"/>
                  </a:lnTo>
                  <a:lnTo>
                    <a:pt x="1886" y="3108"/>
                  </a:lnTo>
                  <a:lnTo>
                    <a:pt x="1878" y="3106"/>
                  </a:lnTo>
                  <a:lnTo>
                    <a:pt x="1872" y="3102"/>
                  </a:lnTo>
                  <a:lnTo>
                    <a:pt x="1866" y="3094"/>
                  </a:lnTo>
                  <a:lnTo>
                    <a:pt x="1856" y="3080"/>
                  </a:lnTo>
                  <a:lnTo>
                    <a:pt x="1848" y="3074"/>
                  </a:lnTo>
                  <a:lnTo>
                    <a:pt x="1840" y="3068"/>
                  </a:lnTo>
                  <a:lnTo>
                    <a:pt x="1840" y="3068"/>
                  </a:lnTo>
                  <a:lnTo>
                    <a:pt x="1818" y="3060"/>
                  </a:lnTo>
                  <a:lnTo>
                    <a:pt x="1796" y="3050"/>
                  </a:lnTo>
                  <a:lnTo>
                    <a:pt x="1786" y="3044"/>
                  </a:lnTo>
                  <a:lnTo>
                    <a:pt x="1778" y="3036"/>
                  </a:lnTo>
                  <a:lnTo>
                    <a:pt x="1770" y="3028"/>
                  </a:lnTo>
                  <a:lnTo>
                    <a:pt x="1764" y="3016"/>
                  </a:lnTo>
                  <a:lnTo>
                    <a:pt x="1764" y="3016"/>
                  </a:lnTo>
                  <a:lnTo>
                    <a:pt x="1766" y="2980"/>
                  </a:lnTo>
                  <a:lnTo>
                    <a:pt x="1770" y="2948"/>
                  </a:lnTo>
                  <a:lnTo>
                    <a:pt x="1774" y="2914"/>
                  </a:lnTo>
                  <a:lnTo>
                    <a:pt x="1780" y="2882"/>
                  </a:lnTo>
                  <a:lnTo>
                    <a:pt x="1788" y="2852"/>
                  </a:lnTo>
                  <a:lnTo>
                    <a:pt x="1800" y="2820"/>
                  </a:lnTo>
                  <a:lnTo>
                    <a:pt x="1814" y="2792"/>
                  </a:lnTo>
                  <a:lnTo>
                    <a:pt x="1832" y="2762"/>
                  </a:lnTo>
                  <a:lnTo>
                    <a:pt x="1832" y="2762"/>
                  </a:lnTo>
                  <a:lnTo>
                    <a:pt x="1836" y="2746"/>
                  </a:lnTo>
                  <a:lnTo>
                    <a:pt x="1838" y="2730"/>
                  </a:lnTo>
                  <a:lnTo>
                    <a:pt x="1840" y="2714"/>
                  </a:lnTo>
                  <a:lnTo>
                    <a:pt x="1840" y="2698"/>
                  </a:lnTo>
                  <a:lnTo>
                    <a:pt x="1838" y="2680"/>
                  </a:lnTo>
                  <a:lnTo>
                    <a:pt x="1836" y="2664"/>
                  </a:lnTo>
                  <a:lnTo>
                    <a:pt x="1830" y="2650"/>
                  </a:lnTo>
                  <a:lnTo>
                    <a:pt x="1824" y="2636"/>
                  </a:lnTo>
                  <a:lnTo>
                    <a:pt x="1824" y="2636"/>
                  </a:lnTo>
                  <a:lnTo>
                    <a:pt x="1842" y="2634"/>
                  </a:lnTo>
                  <a:lnTo>
                    <a:pt x="1860" y="2628"/>
                  </a:lnTo>
                  <a:lnTo>
                    <a:pt x="1896" y="2618"/>
                  </a:lnTo>
                  <a:lnTo>
                    <a:pt x="1968" y="2590"/>
                  </a:lnTo>
                  <a:lnTo>
                    <a:pt x="1988" y="2602"/>
                  </a:lnTo>
                  <a:lnTo>
                    <a:pt x="1988" y="2602"/>
                  </a:lnTo>
                  <a:lnTo>
                    <a:pt x="1994" y="2622"/>
                  </a:lnTo>
                  <a:lnTo>
                    <a:pt x="2002" y="2642"/>
                  </a:lnTo>
                  <a:lnTo>
                    <a:pt x="2022" y="2680"/>
                  </a:lnTo>
                  <a:lnTo>
                    <a:pt x="2044" y="2716"/>
                  </a:lnTo>
                  <a:lnTo>
                    <a:pt x="2068" y="2752"/>
                  </a:lnTo>
                  <a:lnTo>
                    <a:pt x="2092" y="2788"/>
                  </a:lnTo>
                  <a:lnTo>
                    <a:pt x="2114" y="2826"/>
                  </a:lnTo>
                  <a:lnTo>
                    <a:pt x="2124" y="2844"/>
                  </a:lnTo>
                  <a:lnTo>
                    <a:pt x="2132" y="2864"/>
                  </a:lnTo>
                  <a:lnTo>
                    <a:pt x="2140" y="2884"/>
                  </a:lnTo>
                  <a:lnTo>
                    <a:pt x="2144" y="2904"/>
                  </a:lnTo>
                  <a:lnTo>
                    <a:pt x="2144" y="2904"/>
                  </a:lnTo>
                  <a:close/>
                  <a:moveTo>
                    <a:pt x="1508" y="1512"/>
                  </a:moveTo>
                  <a:lnTo>
                    <a:pt x="1508" y="1512"/>
                  </a:lnTo>
                  <a:lnTo>
                    <a:pt x="1522" y="1520"/>
                  </a:lnTo>
                  <a:lnTo>
                    <a:pt x="1534" y="1530"/>
                  </a:lnTo>
                  <a:lnTo>
                    <a:pt x="1544" y="1540"/>
                  </a:lnTo>
                  <a:lnTo>
                    <a:pt x="1554" y="1550"/>
                  </a:lnTo>
                  <a:lnTo>
                    <a:pt x="1572" y="1574"/>
                  </a:lnTo>
                  <a:lnTo>
                    <a:pt x="1584" y="1600"/>
                  </a:lnTo>
                  <a:lnTo>
                    <a:pt x="1596" y="1628"/>
                  </a:lnTo>
                  <a:lnTo>
                    <a:pt x="1606" y="1658"/>
                  </a:lnTo>
                  <a:lnTo>
                    <a:pt x="1624" y="1714"/>
                  </a:lnTo>
                  <a:lnTo>
                    <a:pt x="1624" y="1714"/>
                  </a:lnTo>
                  <a:lnTo>
                    <a:pt x="1630" y="1746"/>
                  </a:lnTo>
                  <a:lnTo>
                    <a:pt x="1638" y="1778"/>
                  </a:lnTo>
                  <a:lnTo>
                    <a:pt x="1648" y="1808"/>
                  </a:lnTo>
                  <a:lnTo>
                    <a:pt x="1660" y="1838"/>
                  </a:lnTo>
                  <a:lnTo>
                    <a:pt x="1676" y="1868"/>
                  </a:lnTo>
                  <a:lnTo>
                    <a:pt x="1692" y="1896"/>
                  </a:lnTo>
                  <a:lnTo>
                    <a:pt x="1710" y="1924"/>
                  </a:lnTo>
                  <a:lnTo>
                    <a:pt x="1730" y="1950"/>
                  </a:lnTo>
                  <a:lnTo>
                    <a:pt x="1772" y="2002"/>
                  </a:lnTo>
                  <a:lnTo>
                    <a:pt x="1814" y="2054"/>
                  </a:lnTo>
                  <a:lnTo>
                    <a:pt x="1858" y="2106"/>
                  </a:lnTo>
                  <a:lnTo>
                    <a:pt x="1898" y="2160"/>
                  </a:lnTo>
                  <a:lnTo>
                    <a:pt x="1898" y="2160"/>
                  </a:lnTo>
                  <a:lnTo>
                    <a:pt x="1918" y="2198"/>
                  </a:lnTo>
                  <a:lnTo>
                    <a:pt x="1938" y="2236"/>
                  </a:lnTo>
                  <a:lnTo>
                    <a:pt x="1980" y="2312"/>
                  </a:lnTo>
                  <a:lnTo>
                    <a:pt x="2000" y="2350"/>
                  </a:lnTo>
                  <a:lnTo>
                    <a:pt x="2018" y="2390"/>
                  </a:lnTo>
                  <a:lnTo>
                    <a:pt x="2034" y="2430"/>
                  </a:lnTo>
                  <a:lnTo>
                    <a:pt x="2046" y="2472"/>
                  </a:lnTo>
                  <a:lnTo>
                    <a:pt x="2046" y="2472"/>
                  </a:lnTo>
                  <a:lnTo>
                    <a:pt x="2028" y="2486"/>
                  </a:lnTo>
                  <a:lnTo>
                    <a:pt x="2010" y="2500"/>
                  </a:lnTo>
                  <a:lnTo>
                    <a:pt x="1992" y="2514"/>
                  </a:lnTo>
                  <a:lnTo>
                    <a:pt x="1972" y="2526"/>
                  </a:lnTo>
                  <a:lnTo>
                    <a:pt x="1932" y="2546"/>
                  </a:lnTo>
                  <a:lnTo>
                    <a:pt x="1892" y="2562"/>
                  </a:lnTo>
                  <a:lnTo>
                    <a:pt x="1848" y="2574"/>
                  </a:lnTo>
                  <a:lnTo>
                    <a:pt x="1804" y="2582"/>
                  </a:lnTo>
                  <a:lnTo>
                    <a:pt x="1758" y="2588"/>
                  </a:lnTo>
                  <a:lnTo>
                    <a:pt x="1712" y="2590"/>
                  </a:lnTo>
                  <a:lnTo>
                    <a:pt x="1712" y="2590"/>
                  </a:lnTo>
                  <a:lnTo>
                    <a:pt x="1692" y="2548"/>
                  </a:lnTo>
                  <a:lnTo>
                    <a:pt x="1670" y="2506"/>
                  </a:lnTo>
                  <a:lnTo>
                    <a:pt x="1662" y="2486"/>
                  </a:lnTo>
                  <a:lnTo>
                    <a:pt x="1652" y="2464"/>
                  </a:lnTo>
                  <a:lnTo>
                    <a:pt x="1646" y="2442"/>
                  </a:lnTo>
                  <a:lnTo>
                    <a:pt x="1642" y="2418"/>
                  </a:lnTo>
                  <a:lnTo>
                    <a:pt x="1642" y="2418"/>
                  </a:lnTo>
                  <a:lnTo>
                    <a:pt x="1630" y="2398"/>
                  </a:lnTo>
                  <a:lnTo>
                    <a:pt x="1618" y="2374"/>
                  </a:lnTo>
                  <a:lnTo>
                    <a:pt x="1600" y="2328"/>
                  </a:lnTo>
                  <a:lnTo>
                    <a:pt x="1592" y="2306"/>
                  </a:lnTo>
                  <a:lnTo>
                    <a:pt x="1580" y="2284"/>
                  </a:lnTo>
                  <a:lnTo>
                    <a:pt x="1568" y="2264"/>
                  </a:lnTo>
                  <a:lnTo>
                    <a:pt x="1552" y="2246"/>
                  </a:lnTo>
                  <a:lnTo>
                    <a:pt x="1552" y="2246"/>
                  </a:lnTo>
                  <a:lnTo>
                    <a:pt x="1550" y="2216"/>
                  </a:lnTo>
                  <a:lnTo>
                    <a:pt x="1546" y="2188"/>
                  </a:lnTo>
                  <a:lnTo>
                    <a:pt x="1544" y="2176"/>
                  </a:lnTo>
                  <a:lnTo>
                    <a:pt x="1540" y="2162"/>
                  </a:lnTo>
                  <a:lnTo>
                    <a:pt x="1534" y="2150"/>
                  </a:lnTo>
                  <a:lnTo>
                    <a:pt x="1526" y="2140"/>
                  </a:lnTo>
                  <a:lnTo>
                    <a:pt x="1526" y="2140"/>
                  </a:lnTo>
                  <a:lnTo>
                    <a:pt x="1526" y="2128"/>
                  </a:lnTo>
                  <a:lnTo>
                    <a:pt x="1526" y="2114"/>
                  </a:lnTo>
                  <a:lnTo>
                    <a:pt x="1530" y="2086"/>
                  </a:lnTo>
                  <a:lnTo>
                    <a:pt x="1530" y="2072"/>
                  </a:lnTo>
                  <a:lnTo>
                    <a:pt x="1528" y="2058"/>
                  </a:lnTo>
                  <a:lnTo>
                    <a:pt x="1524" y="2044"/>
                  </a:lnTo>
                  <a:lnTo>
                    <a:pt x="1518" y="2032"/>
                  </a:lnTo>
                  <a:lnTo>
                    <a:pt x="1518" y="2032"/>
                  </a:lnTo>
                  <a:lnTo>
                    <a:pt x="1520" y="2014"/>
                  </a:lnTo>
                  <a:lnTo>
                    <a:pt x="1526" y="1994"/>
                  </a:lnTo>
                  <a:lnTo>
                    <a:pt x="1540" y="1958"/>
                  </a:lnTo>
                  <a:lnTo>
                    <a:pt x="1548" y="1938"/>
                  </a:lnTo>
                  <a:lnTo>
                    <a:pt x="1552" y="1920"/>
                  </a:lnTo>
                  <a:lnTo>
                    <a:pt x="1556" y="1900"/>
                  </a:lnTo>
                  <a:lnTo>
                    <a:pt x="1554" y="1880"/>
                  </a:lnTo>
                  <a:lnTo>
                    <a:pt x="1554" y="1880"/>
                  </a:lnTo>
                  <a:lnTo>
                    <a:pt x="1544" y="1866"/>
                  </a:lnTo>
                  <a:lnTo>
                    <a:pt x="1540" y="1850"/>
                  </a:lnTo>
                  <a:lnTo>
                    <a:pt x="1536" y="1834"/>
                  </a:lnTo>
                  <a:lnTo>
                    <a:pt x="1536" y="1816"/>
                  </a:lnTo>
                  <a:lnTo>
                    <a:pt x="1538" y="1784"/>
                  </a:lnTo>
                  <a:lnTo>
                    <a:pt x="1538" y="1768"/>
                  </a:lnTo>
                  <a:lnTo>
                    <a:pt x="1534" y="1752"/>
                  </a:lnTo>
                  <a:lnTo>
                    <a:pt x="1534" y="1752"/>
                  </a:lnTo>
                  <a:lnTo>
                    <a:pt x="1542" y="1742"/>
                  </a:lnTo>
                  <a:lnTo>
                    <a:pt x="1548" y="1732"/>
                  </a:lnTo>
                  <a:lnTo>
                    <a:pt x="1554" y="1722"/>
                  </a:lnTo>
                  <a:lnTo>
                    <a:pt x="1556" y="1710"/>
                  </a:lnTo>
                  <a:lnTo>
                    <a:pt x="1558" y="1698"/>
                  </a:lnTo>
                  <a:lnTo>
                    <a:pt x="1558" y="1686"/>
                  </a:lnTo>
                  <a:lnTo>
                    <a:pt x="1558" y="1674"/>
                  </a:lnTo>
                  <a:lnTo>
                    <a:pt x="1554" y="1662"/>
                  </a:lnTo>
                  <a:lnTo>
                    <a:pt x="1554" y="1662"/>
                  </a:lnTo>
                  <a:lnTo>
                    <a:pt x="1548" y="1656"/>
                  </a:lnTo>
                  <a:lnTo>
                    <a:pt x="1542" y="1650"/>
                  </a:lnTo>
                  <a:lnTo>
                    <a:pt x="1536" y="1638"/>
                  </a:lnTo>
                  <a:lnTo>
                    <a:pt x="1532" y="1624"/>
                  </a:lnTo>
                  <a:lnTo>
                    <a:pt x="1530" y="1612"/>
                  </a:lnTo>
                  <a:lnTo>
                    <a:pt x="1528" y="1598"/>
                  </a:lnTo>
                  <a:lnTo>
                    <a:pt x="1524" y="1584"/>
                  </a:lnTo>
                  <a:lnTo>
                    <a:pt x="1516" y="1572"/>
                  </a:lnTo>
                  <a:lnTo>
                    <a:pt x="1510" y="1566"/>
                  </a:lnTo>
                  <a:lnTo>
                    <a:pt x="1504" y="1560"/>
                  </a:lnTo>
                  <a:lnTo>
                    <a:pt x="1508" y="1512"/>
                  </a:lnTo>
                  <a:close/>
                  <a:moveTo>
                    <a:pt x="1462" y="1628"/>
                  </a:moveTo>
                  <a:lnTo>
                    <a:pt x="1462" y="1628"/>
                  </a:lnTo>
                  <a:lnTo>
                    <a:pt x="1466" y="1642"/>
                  </a:lnTo>
                  <a:lnTo>
                    <a:pt x="1470" y="1654"/>
                  </a:lnTo>
                  <a:lnTo>
                    <a:pt x="1470" y="1666"/>
                  </a:lnTo>
                  <a:lnTo>
                    <a:pt x="1470" y="1678"/>
                  </a:lnTo>
                  <a:lnTo>
                    <a:pt x="1466" y="1700"/>
                  </a:lnTo>
                  <a:lnTo>
                    <a:pt x="1458" y="1722"/>
                  </a:lnTo>
                  <a:lnTo>
                    <a:pt x="1452" y="1746"/>
                  </a:lnTo>
                  <a:lnTo>
                    <a:pt x="1448" y="1768"/>
                  </a:lnTo>
                  <a:lnTo>
                    <a:pt x="1446" y="1778"/>
                  </a:lnTo>
                  <a:lnTo>
                    <a:pt x="1448" y="1790"/>
                  </a:lnTo>
                  <a:lnTo>
                    <a:pt x="1450" y="1802"/>
                  </a:lnTo>
                  <a:lnTo>
                    <a:pt x="1454" y="1812"/>
                  </a:lnTo>
                  <a:lnTo>
                    <a:pt x="1454" y="1812"/>
                  </a:lnTo>
                  <a:lnTo>
                    <a:pt x="1460" y="1822"/>
                  </a:lnTo>
                  <a:lnTo>
                    <a:pt x="1464" y="1832"/>
                  </a:lnTo>
                  <a:lnTo>
                    <a:pt x="1470" y="1854"/>
                  </a:lnTo>
                  <a:lnTo>
                    <a:pt x="1476" y="1878"/>
                  </a:lnTo>
                  <a:lnTo>
                    <a:pt x="1480" y="1890"/>
                  </a:lnTo>
                  <a:lnTo>
                    <a:pt x="1484" y="1900"/>
                  </a:lnTo>
                  <a:lnTo>
                    <a:pt x="1484" y="1900"/>
                  </a:lnTo>
                  <a:lnTo>
                    <a:pt x="1482" y="1910"/>
                  </a:lnTo>
                  <a:lnTo>
                    <a:pt x="1478" y="1920"/>
                  </a:lnTo>
                  <a:lnTo>
                    <a:pt x="1468" y="1938"/>
                  </a:lnTo>
                  <a:lnTo>
                    <a:pt x="1456" y="1958"/>
                  </a:lnTo>
                  <a:lnTo>
                    <a:pt x="1448" y="1978"/>
                  </a:lnTo>
                  <a:lnTo>
                    <a:pt x="1448" y="1978"/>
                  </a:lnTo>
                  <a:lnTo>
                    <a:pt x="1448" y="1990"/>
                  </a:lnTo>
                  <a:lnTo>
                    <a:pt x="1448" y="2000"/>
                  </a:lnTo>
                  <a:lnTo>
                    <a:pt x="1452" y="2010"/>
                  </a:lnTo>
                  <a:lnTo>
                    <a:pt x="1454" y="2020"/>
                  </a:lnTo>
                  <a:lnTo>
                    <a:pt x="1454" y="2020"/>
                  </a:lnTo>
                  <a:lnTo>
                    <a:pt x="1446" y="2034"/>
                  </a:lnTo>
                  <a:lnTo>
                    <a:pt x="1440" y="2048"/>
                  </a:lnTo>
                  <a:lnTo>
                    <a:pt x="1436" y="2062"/>
                  </a:lnTo>
                  <a:lnTo>
                    <a:pt x="1436" y="2078"/>
                  </a:lnTo>
                  <a:lnTo>
                    <a:pt x="1436" y="2092"/>
                  </a:lnTo>
                  <a:lnTo>
                    <a:pt x="1438" y="2106"/>
                  </a:lnTo>
                  <a:lnTo>
                    <a:pt x="1444" y="2122"/>
                  </a:lnTo>
                  <a:lnTo>
                    <a:pt x="1450" y="2134"/>
                  </a:lnTo>
                  <a:lnTo>
                    <a:pt x="1450" y="2134"/>
                  </a:lnTo>
                  <a:lnTo>
                    <a:pt x="1458" y="2142"/>
                  </a:lnTo>
                  <a:lnTo>
                    <a:pt x="1466" y="2150"/>
                  </a:lnTo>
                  <a:lnTo>
                    <a:pt x="1470" y="2158"/>
                  </a:lnTo>
                  <a:lnTo>
                    <a:pt x="1474" y="2166"/>
                  </a:lnTo>
                  <a:lnTo>
                    <a:pt x="1476" y="2174"/>
                  </a:lnTo>
                  <a:lnTo>
                    <a:pt x="1478" y="2182"/>
                  </a:lnTo>
                  <a:lnTo>
                    <a:pt x="1476" y="2200"/>
                  </a:lnTo>
                  <a:lnTo>
                    <a:pt x="1474" y="2216"/>
                  </a:lnTo>
                  <a:lnTo>
                    <a:pt x="1474" y="2234"/>
                  </a:lnTo>
                  <a:lnTo>
                    <a:pt x="1476" y="2252"/>
                  </a:lnTo>
                  <a:lnTo>
                    <a:pt x="1478" y="2262"/>
                  </a:lnTo>
                  <a:lnTo>
                    <a:pt x="1482" y="2270"/>
                  </a:lnTo>
                  <a:lnTo>
                    <a:pt x="1482" y="2270"/>
                  </a:lnTo>
                  <a:lnTo>
                    <a:pt x="1484" y="2292"/>
                  </a:lnTo>
                  <a:lnTo>
                    <a:pt x="1484" y="2316"/>
                  </a:lnTo>
                  <a:lnTo>
                    <a:pt x="1482" y="2338"/>
                  </a:lnTo>
                  <a:lnTo>
                    <a:pt x="1478" y="2358"/>
                  </a:lnTo>
                  <a:lnTo>
                    <a:pt x="1472" y="2380"/>
                  </a:lnTo>
                  <a:lnTo>
                    <a:pt x="1464" y="2400"/>
                  </a:lnTo>
                  <a:lnTo>
                    <a:pt x="1454" y="2418"/>
                  </a:lnTo>
                  <a:lnTo>
                    <a:pt x="1440" y="2438"/>
                  </a:lnTo>
                  <a:lnTo>
                    <a:pt x="1440" y="2438"/>
                  </a:lnTo>
                  <a:lnTo>
                    <a:pt x="1438" y="2446"/>
                  </a:lnTo>
                  <a:lnTo>
                    <a:pt x="1438" y="2454"/>
                  </a:lnTo>
                  <a:lnTo>
                    <a:pt x="1438" y="2468"/>
                  </a:lnTo>
                  <a:lnTo>
                    <a:pt x="1436" y="2476"/>
                  </a:lnTo>
                  <a:lnTo>
                    <a:pt x="1434" y="2482"/>
                  </a:lnTo>
                  <a:lnTo>
                    <a:pt x="1428" y="2488"/>
                  </a:lnTo>
                  <a:lnTo>
                    <a:pt x="1420" y="2492"/>
                  </a:lnTo>
                  <a:lnTo>
                    <a:pt x="1384" y="2502"/>
                  </a:lnTo>
                  <a:lnTo>
                    <a:pt x="1384" y="2502"/>
                  </a:lnTo>
                  <a:lnTo>
                    <a:pt x="1372" y="2492"/>
                  </a:lnTo>
                  <a:lnTo>
                    <a:pt x="1356" y="2482"/>
                  </a:lnTo>
                  <a:lnTo>
                    <a:pt x="1340" y="2474"/>
                  </a:lnTo>
                  <a:lnTo>
                    <a:pt x="1324" y="2468"/>
                  </a:lnTo>
                  <a:lnTo>
                    <a:pt x="1308" y="2464"/>
                  </a:lnTo>
                  <a:lnTo>
                    <a:pt x="1290" y="2464"/>
                  </a:lnTo>
                  <a:lnTo>
                    <a:pt x="1274" y="2464"/>
                  </a:lnTo>
                  <a:lnTo>
                    <a:pt x="1256" y="2468"/>
                  </a:lnTo>
                  <a:lnTo>
                    <a:pt x="1256" y="2468"/>
                  </a:lnTo>
                  <a:lnTo>
                    <a:pt x="1246" y="2472"/>
                  </a:lnTo>
                  <a:lnTo>
                    <a:pt x="1240" y="2480"/>
                  </a:lnTo>
                  <a:lnTo>
                    <a:pt x="1234" y="2488"/>
                  </a:lnTo>
                  <a:lnTo>
                    <a:pt x="1230" y="2496"/>
                  </a:lnTo>
                  <a:lnTo>
                    <a:pt x="1226" y="2504"/>
                  </a:lnTo>
                  <a:lnTo>
                    <a:pt x="1220" y="2510"/>
                  </a:lnTo>
                  <a:lnTo>
                    <a:pt x="1212" y="2514"/>
                  </a:lnTo>
                  <a:lnTo>
                    <a:pt x="1200" y="2516"/>
                  </a:lnTo>
                  <a:lnTo>
                    <a:pt x="1200" y="2516"/>
                  </a:lnTo>
                  <a:lnTo>
                    <a:pt x="1190" y="2514"/>
                  </a:lnTo>
                  <a:lnTo>
                    <a:pt x="1182" y="2510"/>
                  </a:lnTo>
                  <a:lnTo>
                    <a:pt x="1174" y="2506"/>
                  </a:lnTo>
                  <a:lnTo>
                    <a:pt x="1166" y="2498"/>
                  </a:lnTo>
                  <a:lnTo>
                    <a:pt x="1150" y="2486"/>
                  </a:lnTo>
                  <a:lnTo>
                    <a:pt x="1144" y="2480"/>
                  </a:lnTo>
                  <a:lnTo>
                    <a:pt x="1136" y="2476"/>
                  </a:lnTo>
                  <a:lnTo>
                    <a:pt x="1136" y="2476"/>
                  </a:lnTo>
                  <a:lnTo>
                    <a:pt x="1122" y="2440"/>
                  </a:lnTo>
                  <a:lnTo>
                    <a:pt x="1112" y="2402"/>
                  </a:lnTo>
                  <a:lnTo>
                    <a:pt x="1100" y="2364"/>
                  </a:lnTo>
                  <a:lnTo>
                    <a:pt x="1086" y="2328"/>
                  </a:lnTo>
                  <a:lnTo>
                    <a:pt x="1086" y="2328"/>
                  </a:lnTo>
                  <a:lnTo>
                    <a:pt x="1092" y="2310"/>
                  </a:lnTo>
                  <a:lnTo>
                    <a:pt x="1098" y="2292"/>
                  </a:lnTo>
                  <a:lnTo>
                    <a:pt x="1106" y="2274"/>
                  </a:lnTo>
                  <a:lnTo>
                    <a:pt x="1112" y="2256"/>
                  </a:lnTo>
                  <a:lnTo>
                    <a:pt x="1116" y="2238"/>
                  </a:lnTo>
                  <a:lnTo>
                    <a:pt x="1116" y="2230"/>
                  </a:lnTo>
                  <a:lnTo>
                    <a:pt x="1114" y="2220"/>
                  </a:lnTo>
                  <a:lnTo>
                    <a:pt x="1112" y="2212"/>
                  </a:lnTo>
                  <a:lnTo>
                    <a:pt x="1108" y="2202"/>
                  </a:lnTo>
                  <a:lnTo>
                    <a:pt x="1102" y="2194"/>
                  </a:lnTo>
                  <a:lnTo>
                    <a:pt x="1094" y="2186"/>
                  </a:lnTo>
                  <a:lnTo>
                    <a:pt x="1094" y="2186"/>
                  </a:lnTo>
                  <a:lnTo>
                    <a:pt x="1092" y="2176"/>
                  </a:lnTo>
                  <a:lnTo>
                    <a:pt x="1092" y="2168"/>
                  </a:lnTo>
                  <a:lnTo>
                    <a:pt x="1092" y="2162"/>
                  </a:lnTo>
                  <a:lnTo>
                    <a:pt x="1094" y="2154"/>
                  </a:lnTo>
                  <a:lnTo>
                    <a:pt x="1102" y="2140"/>
                  </a:lnTo>
                  <a:lnTo>
                    <a:pt x="1112" y="2128"/>
                  </a:lnTo>
                  <a:lnTo>
                    <a:pt x="1136" y="2104"/>
                  </a:lnTo>
                  <a:lnTo>
                    <a:pt x="1146" y="2090"/>
                  </a:lnTo>
                  <a:lnTo>
                    <a:pt x="1154" y="2076"/>
                  </a:lnTo>
                  <a:lnTo>
                    <a:pt x="1154" y="2076"/>
                  </a:lnTo>
                  <a:lnTo>
                    <a:pt x="1160" y="2064"/>
                  </a:lnTo>
                  <a:lnTo>
                    <a:pt x="1164" y="2052"/>
                  </a:lnTo>
                  <a:lnTo>
                    <a:pt x="1166" y="2042"/>
                  </a:lnTo>
                  <a:lnTo>
                    <a:pt x="1164" y="2030"/>
                  </a:lnTo>
                  <a:lnTo>
                    <a:pt x="1162" y="2020"/>
                  </a:lnTo>
                  <a:lnTo>
                    <a:pt x="1160" y="2010"/>
                  </a:lnTo>
                  <a:lnTo>
                    <a:pt x="1152" y="1990"/>
                  </a:lnTo>
                  <a:lnTo>
                    <a:pt x="1142" y="1968"/>
                  </a:lnTo>
                  <a:lnTo>
                    <a:pt x="1138" y="1948"/>
                  </a:lnTo>
                  <a:lnTo>
                    <a:pt x="1136" y="1938"/>
                  </a:lnTo>
                  <a:lnTo>
                    <a:pt x="1136" y="1928"/>
                  </a:lnTo>
                  <a:lnTo>
                    <a:pt x="1140" y="1916"/>
                  </a:lnTo>
                  <a:lnTo>
                    <a:pt x="1146" y="1904"/>
                  </a:lnTo>
                  <a:lnTo>
                    <a:pt x="1146" y="1904"/>
                  </a:lnTo>
                  <a:lnTo>
                    <a:pt x="1152" y="1902"/>
                  </a:lnTo>
                  <a:lnTo>
                    <a:pt x="1160" y="1902"/>
                  </a:lnTo>
                  <a:lnTo>
                    <a:pt x="1166" y="1898"/>
                  </a:lnTo>
                  <a:lnTo>
                    <a:pt x="1168" y="1896"/>
                  </a:lnTo>
                  <a:lnTo>
                    <a:pt x="1170" y="1892"/>
                  </a:lnTo>
                  <a:lnTo>
                    <a:pt x="1170" y="1892"/>
                  </a:lnTo>
                  <a:lnTo>
                    <a:pt x="1168" y="1884"/>
                  </a:lnTo>
                  <a:lnTo>
                    <a:pt x="1168" y="1878"/>
                  </a:lnTo>
                  <a:lnTo>
                    <a:pt x="1170" y="1870"/>
                  </a:lnTo>
                  <a:lnTo>
                    <a:pt x="1176" y="1866"/>
                  </a:lnTo>
                  <a:lnTo>
                    <a:pt x="1184" y="1854"/>
                  </a:lnTo>
                  <a:lnTo>
                    <a:pt x="1188" y="1848"/>
                  </a:lnTo>
                  <a:lnTo>
                    <a:pt x="1190" y="1842"/>
                  </a:lnTo>
                  <a:lnTo>
                    <a:pt x="1190" y="1842"/>
                  </a:lnTo>
                  <a:lnTo>
                    <a:pt x="1196" y="1830"/>
                  </a:lnTo>
                  <a:lnTo>
                    <a:pt x="1200" y="1816"/>
                  </a:lnTo>
                  <a:lnTo>
                    <a:pt x="1200" y="1802"/>
                  </a:lnTo>
                  <a:lnTo>
                    <a:pt x="1200" y="1788"/>
                  </a:lnTo>
                  <a:lnTo>
                    <a:pt x="1198" y="1774"/>
                  </a:lnTo>
                  <a:lnTo>
                    <a:pt x="1194" y="1760"/>
                  </a:lnTo>
                  <a:lnTo>
                    <a:pt x="1188" y="1746"/>
                  </a:lnTo>
                  <a:lnTo>
                    <a:pt x="1182" y="1736"/>
                  </a:lnTo>
                  <a:lnTo>
                    <a:pt x="1182" y="1736"/>
                  </a:lnTo>
                  <a:lnTo>
                    <a:pt x="1174" y="1730"/>
                  </a:lnTo>
                  <a:lnTo>
                    <a:pt x="1170" y="1722"/>
                  </a:lnTo>
                  <a:lnTo>
                    <a:pt x="1166" y="1716"/>
                  </a:lnTo>
                  <a:lnTo>
                    <a:pt x="1164" y="1708"/>
                  </a:lnTo>
                  <a:lnTo>
                    <a:pt x="1162" y="1692"/>
                  </a:lnTo>
                  <a:lnTo>
                    <a:pt x="1160" y="1674"/>
                  </a:lnTo>
                  <a:lnTo>
                    <a:pt x="1160" y="1674"/>
                  </a:lnTo>
                  <a:lnTo>
                    <a:pt x="1162" y="1666"/>
                  </a:lnTo>
                  <a:lnTo>
                    <a:pt x="1164" y="1658"/>
                  </a:lnTo>
                  <a:lnTo>
                    <a:pt x="1174" y="1644"/>
                  </a:lnTo>
                  <a:lnTo>
                    <a:pt x="1184" y="1630"/>
                  </a:lnTo>
                  <a:lnTo>
                    <a:pt x="1196" y="1618"/>
                  </a:lnTo>
                  <a:lnTo>
                    <a:pt x="1210" y="1606"/>
                  </a:lnTo>
                  <a:lnTo>
                    <a:pt x="1220" y="1592"/>
                  </a:lnTo>
                  <a:lnTo>
                    <a:pt x="1230" y="1578"/>
                  </a:lnTo>
                  <a:lnTo>
                    <a:pt x="1238" y="1560"/>
                  </a:lnTo>
                  <a:lnTo>
                    <a:pt x="1238" y="1560"/>
                  </a:lnTo>
                  <a:lnTo>
                    <a:pt x="1236" y="1532"/>
                  </a:lnTo>
                  <a:lnTo>
                    <a:pt x="1234" y="1504"/>
                  </a:lnTo>
                  <a:lnTo>
                    <a:pt x="1232" y="1490"/>
                  </a:lnTo>
                  <a:lnTo>
                    <a:pt x="1230" y="1476"/>
                  </a:lnTo>
                  <a:lnTo>
                    <a:pt x="1224" y="1464"/>
                  </a:lnTo>
                  <a:lnTo>
                    <a:pt x="1214" y="1452"/>
                  </a:lnTo>
                  <a:lnTo>
                    <a:pt x="1214" y="1452"/>
                  </a:lnTo>
                  <a:lnTo>
                    <a:pt x="1222" y="1436"/>
                  </a:lnTo>
                  <a:lnTo>
                    <a:pt x="1234" y="1424"/>
                  </a:lnTo>
                  <a:lnTo>
                    <a:pt x="1260" y="1398"/>
                  </a:lnTo>
                  <a:lnTo>
                    <a:pt x="1274" y="1386"/>
                  </a:lnTo>
                  <a:lnTo>
                    <a:pt x="1286" y="1372"/>
                  </a:lnTo>
                  <a:lnTo>
                    <a:pt x="1294" y="1356"/>
                  </a:lnTo>
                  <a:lnTo>
                    <a:pt x="1296" y="1348"/>
                  </a:lnTo>
                  <a:lnTo>
                    <a:pt x="1298" y="1338"/>
                  </a:lnTo>
                  <a:lnTo>
                    <a:pt x="1298" y="1338"/>
                  </a:lnTo>
                  <a:lnTo>
                    <a:pt x="1294" y="1328"/>
                  </a:lnTo>
                  <a:lnTo>
                    <a:pt x="1294" y="1320"/>
                  </a:lnTo>
                  <a:lnTo>
                    <a:pt x="1294" y="1302"/>
                  </a:lnTo>
                  <a:lnTo>
                    <a:pt x="1296" y="1284"/>
                  </a:lnTo>
                  <a:lnTo>
                    <a:pt x="1298" y="1266"/>
                  </a:lnTo>
                  <a:lnTo>
                    <a:pt x="1298" y="1266"/>
                  </a:lnTo>
                  <a:lnTo>
                    <a:pt x="1318" y="1276"/>
                  </a:lnTo>
                  <a:lnTo>
                    <a:pt x="1336" y="1290"/>
                  </a:lnTo>
                  <a:lnTo>
                    <a:pt x="1356" y="1306"/>
                  </a:lnTo>
                  <a:lnTo>
                    <a:pt x="1372" y="1322"/>
                  </a:lnTo>
                  <a:lnTo>
                    <a:pt x="1386" y="1340"/>
                  </a:lnTo>
                  <a:lnTo>
                    <a:pt x="1396" y="1362"/>
                  </a:lnTo>
                  <a:lnTo>
                    <a:pt x="1400" y="1372"/>
                  </a:lnTo>
                  <a:lnTo>
                    <a:pt x="1402" y="1384"/>
                  </a:lnTo>
                  <a:lnTo>
                    <a:pt x="1402" y="1396"/>
                  </a:lnTo>
                  <a:lnTo>
                    <a:pt x="1402" y="1408"/>
                  </a:lnTo>
                  <a:lnTo>
                    <a:pt x="1402" y="1408"/>
                  </a:lnTo>
                  <a:lnTo>
                    <a:pt x="1400" y="1414"/>
                  </a:lnTo>
                  <a:lnTo>
                    <a:pt x="1400" y="1420"/>
                  </a:lnTo>
                  <a:lnTo>
                    <a:pt x="1402" y="1430"/>
                  </a:lnTo>
                  <a:lnTo>
                    <a:pt x="1408" y="1440"/>
                  </a:lnTo>
                  <a:lnTo>
                    <a:pt x="1416" y="1446"/>
                  </a:lnTo>
                  <a:lnTo>
                    <a:pt x="1416" y="1446"/>
                  </a:lnTo>
                  <a:lnTo>
                    <a:pt x="1412" y="1472"/>
                  </a:lnTo>
                  <a:lnTo>
                    <a:pt x="1412" y="1498"/>
                  </a:lnTo>
                  <a:lnTo>
                    <a:pt x="1414" y="1520"/>
                  </a:lnTo>
                  <a:lnTo>
                    <a:pt x="1422" y="1542"/>
                  </a:lnTo>
                  <a:lnTo>
                    <a:pt x="1430" y="1564"/>
                  </a:lnTo>
                  <a:lnTo>
                    <a:pt x="1440" y="1586"/>
                  </a:lnTo>
                  <a:lnTo>
                    <a:pt x="1462" y="1628"/>
                  </a:lnTo>
                  <a:lnTo>
                    <a:pt x="1462" y="1628"/>
                  </a:lnTo>
                  <a:close/>
                  <a:moveTo>
                    <a:pt x="864" y="1832"/>
                  </a:moveTo>
                  <a:lnTo>
                    <a:pt x="864" y="1832"/>
                  </a:lnTo>
                  <a:lnTo>
                    <a:pt x="850" y="1832"/>
                  </a:lnTo>
                  <a:lnTo>
                    <a:pt x="838" y="1834"/>
                  </a:lnTo>
                  <a:lnTo>
                    <a:pt x="828" y="1838"/>
                  </a:lnTo>
                  <a:lnTo>
                    <a:pt x="820" y="1844"/>
                  </a:lnTo>
                  <a:lnTo>
                    <a:pt x="812" y="1852"/>
                  </a:lnTo>
                  <a:lnTo>
                    <a:pt x="806" y="1860"/>
                  </a:lnTo>
                  <a:lnTo>
                    <a:pt x="796" y="1880"/>
                  </a:lnTo>
                  <a:lnTo>
                    <a:pt x="784" y="1898"/>
                  </a:lnTo>
                  <a:lnTo>
                    <a:pt x="778" y="1906"/>
                  </a:lnTo>
                  <a:lnTo>
                    <a:pt x="770" y="1914"/>
                  </a:lnTo>
                  <a:lnTo>
                    <a:pt x="760" y="1918"/>
                  </a:lnTo>
                  <a:lnTo>
                    <a:pt x="750" y="1920"/>
                  </a:lnTo>
                  <a:lnTo>
                    <a:pt x="738" y="1920"/>
                  </a:lnTo>
                  <a:lnTo>
                    <a:pt x="724" y="1916"/>
                  </a:lnTo>
                  <a:lnTo>
                    <a:pt x="724" y="1916"/>
                  </a:lnTo>
                  <a:lnTo>
                    <a:pt x="718" y="1906"/>
                  </a:lnTo>
                  <a:lnTo>
                    <a:pt x="712" y="1894"/>
                  </a:lnTo>
                  <a:lnTo>
                    <a:pt x="702" y="1870"/>
                  </a:lnTo>
                  <a:lnTo>
                    <a:pt x="696" y="1858"/>
                  </a:lnTo>
                  <a:lnTo>
                    <a:pt x="688" y="1848"/>
                  </a:lnTo>
                  <a:lnTo>
                    <a:pt x="678" y="1840"/>
                  </a:lnTo>
                  <a:lnTo>
                    <a:pt x="666" y="1834"/>
                  </a:lnTo>
                  <a:lnTo>
                    <a:pt x="666" y="1834"/>
                  </a:lnTo>
                  <a:lnTo>
                    <a:pt x="648" y="1830"/>
                  </a:lnTo>
                  <a:lnTo>
                    <a:pt x="632" y="1828"/>
                  </a:lnTo>
                  <a:lnTo>
                    <a:pt x="624" y="1824"/>
                  </a:lnTo>
                  <a:lnTo>
                    <a:pt x="616" y="1820"/>
                  </a:lnTo>
                  <a:lnTo>
                    <a:pt x="608" y="1816"/>
                  </a:lnTo>
                  <a:lnTo>
                    <a:pt x="602" y="1808"/>
                  </a:lnTo>
                  <a:lnTo>
                    <a:pt x="602" y="1808"/>
                  </a:lnTo>
                  <a:lnTo>
                    <a:pt x="610" y="1798"/>
                  </a:lnTo>
                  <a:lnTo>
                    <a:pt x="614" y="1788"/>
                  </a:lnTo>
                  <a:lnTo>
                    <a:pt x="618" y="1778"/>
                  </a:lnTo>
                  <a:lnTo>
                    <a:pt x="620" y="1768"/>
                  </a:lnTo>
                  <a:lnTo>
                    <a:pt x="620" y="1758"/>
                  </a:lnTo>
                  <a:lnTo>
                    <a:pt x="620" y="1746"/>
                  </a:lnTo>
                  <a:lnTo>
                    <a:pt x="616" y="1726"/>
                  </a:lnTo>
                  <a:lnTo>
                    <a:pt x="610" y="1706"/>
                  </a:lnTo>
                  <a:lnTo>
                    <a:pt x="600" y="1686"/>
                  </a:lnTo>
                  <a:lnTo>
                    <a:pt x="582" y="1648"/>
                  </a:lnTo>
                  <a:lnTo>
                    <a:pt x="566" y="1638"/>
                  </a:lnTo>
                  <a:lnTo>
                    <a:pt x="566" y="1638"/>
                  </a:lnTo>
                  <a:lnTo>
                    <a:pt x="578" y="1606"/>
                  </a:lnTo>
                  <a:lnTo>
                    <a:pt x="582" y="1586"/>
                  </a:lnTo>
                  <a:lnTo>
                    <a:pt x="586" y="1566"/>
                  </a:lnTo>
                  <a:lnTo>
                    <a:pt x="586" y="1546"/>
                  </a:lnTo>
                  <a:lnTo>
                    <a:pt x="586" y="1526"/>
                  </a:lnTo>
                  <a:lnTo>
                    <a:pt x="582" y="1506"/>
                  </a:lnTo>
                  <a:lnTo>
                    <a:pt x="574" y="1488"/>
                  </a:lnTo>
                  <a:lnTo>
                    <a:pt x="574" y="1488"/>
                  </a:lnTo>
                  <a:lnTo>
                    <a:pt x="558" y="1472"/>
                  </a:lnTo>
                  <a:lnTo>
                    <a:pt x="546" y="1454"/>
                  </a:lnTo>
                  <a:lnTo>
                    <a:pt x="534" y="1436"/>
                  </a:lnTo>
                  <a:lnTo>
                    <a:pt x="524" y="1418"/>
                  </a:lnTo>
                  <a:lnTo>
                    <a:pt x="516" y="1398"/>
                  </a:lnTo>
                  <a:lnTo>
                    <a:pt x="508" y="1378"/>
                  </a:lnTo>
                  <a:lnTo>
                    <a:pt x="504" y="1358"/>
                  </a:lnTo>
                  <a:lnTo>
                    <a:pt x="500" y="1336"/>
                  </a:lnTo>
                  <a:lnTo>
                    <a:pt x="496" y="1316"/>
                  </a:lnTo>
                  <a:lnTo>
                    <a:pt x="494" y="1294"/>
                  </a:lnTo>
                  <a:lnTo>
                    <a:pt x="494" y="1250"/>
                  </a:lnTo>
                  <a:lnTo>
                    <a:pt x="498" y="1208"/>
                  </a:lnTo>
                  <a:lnTo>
                    <a:pt x="506" y="1164"/>
                  </a:lnTo>
                  <a:lnTo>
                    <a:pt x="506" y="1164"/>
                  </a:lnTo>
                  <a:lnTo>
                    <a:pt x="510" y="1096"/>
                  </a:lnTo>
                  <a:lnTo>
                    <a:pt x="514" y="1062"/>
                  </a:lnTo>
                  <a:lnTo>
                    <a:pt x="518" y="1048"/>
                  </a:lnTo>
                  <a:lnTo>
                    <a:pt x="522" y="1034"/>
                  </a:lnTo>
                  <a:lnTo>
                    <a:pt x="522" y="1034"/>
                  </a:lnTo>
                  <a:lnTo>
                    <a:pt x="524" y="1046"/>
                  </a:lnTo>
                  <a:lnTo>
                    <a:pt x="526" y="1058"/>
                  </a:lnTo>
                  <a:lnTo>
                    <a:pt x="530" y="1070"/>
                  </a:lnTo>
                  <a:lnTo>
                    <a:pt x="536" y="1082"/>
                  </a:lnTo>
                  <a:lnTo>
                    <a:pt x="550" y="1102"/>
                  </a:lnTo>
                  <a:lnTo>
                    <a:pt x="566" y="1120"/>
                  </a:lnTo>
                  <a:lnTo>
                    <a:pt x="586" y="1138"/>
                  </a:lnTo>
                  <a:lnTo>
                    <a:pt x="606" y="1154"/>
                  </a:lnTo>
                  <a:lnTo>
                    <a:pt x="626" y="1172"/>
                  </a:lnTo>
                  <a:lnTo>
                    <a:pt x="644" y="1188"/>
                  </a:lnTo>
                  <a:lnTo>
                    <a:pt x="644" y="1188"/>
                  </a:lnTo>
                  <a:lnTo>
                    <a:pt x="654" y="1188"/>
                  </a:lnTo>
                  <a:lnTo>
                    <a:pt x="662" y="1190"/>
                  </a:lnTo>
                  <a:lnTo>
                    <a:pt x="670" y="1194"/>
                  </a:lnTo>
                  <a:lnTo>
                    <a:pt x="676" y="1196"/>
                  </a:lnTo>
                  <a:lnTo>
                    <a:pt x="686" y="1208"/>
                  </a:lnTo>
                  <a:lnTo>
                    <a:pt x="694" y="1220"/>
                  </a:lnTo>
                  <a:lnTo>
                    <a:pt x="710" y="1250"/>
                  </a:lnTo>
                  <a:lnTo>
                    <a:pt x="718" y="1264"/>
                  </a:lnTo>
                  <a:lnTo>
                    <a:pt x="728" y="1276"/>
                  </a:lnTo>
                  <a:lnTo>
                    <a:pt x="728" y="1276"/>
                  </a:lnTo>
                  <a:lnTo>
                    <a:pt x="734" y="1300"/>
                  </a:lnTo>
                  <a:lnTo>
                    <a:pt x="742" y="1322"/>
                  </a:lnTo>
                  <a:lnTo>
                    <a:pt x="752" y="1344"/>
                  </a:lnTo>
                  <a:lnTo>
                    <a:pt x="766" y="1366"/>
                  </a:lnTo>
                  <a:lnTo>
                    <a:pt x="780" y="1386"/>
                  </a:lnTo>
                  <a:lnTo>
                    <a:pt x="796" y="1404"/>
                  </a:lnTo>
                  <a:lnTo>
                    <a:pt x="812" y="1422"/>
                  </a:lnTo>
                  <a:lnTo>
                    <a:pt x="830" y="1440"/>
                  </a:lnTo>
                  <a:lnTo>
                    <a:pt x="830" y="1440"/>
                  </a:lnTo>
                  <a:lnTo>
                    <a:pt x="836" y="1452"/>
                  </a:lnTo>
                  <a:lnTo>
                    <a:pt x="840" y="1466"/>
                  </a:lnTo>
                  <a:lnTo>
                    <a:pt x="840" y="1480"/>
                  </a:lnTo>
                  <a:lnTo>
                    <a:pt x="840" y="1496"/>
                  </a:lnTo>
                  <a:lnTo>
                    <a:pt x="838" y="1526"/>
                  </a:lnTo>
                  <a:lnTo>
                    <a:pt x="838" y="1540"/>
                  </a:lnTo>
                  <a:lnTo>
                    <a:pt x="842" y="1554"/>
                  </a:lnTo>
                  <a:lnTo>
                    <a:pt x="842" y="1554"/>
                  </a:lnTo>
                  <a:lnTo>
                    <a:pt x="852" y="1564"/>
                  </a:lnTo>
                  <a:lnTo>
                    <a:pt x="860" y="1572"/>
                  </a:lnTo>
                  <a:lnTo>
                    <a:pt x="866" y="1582"/>
                  </a:lnTo>
                  <a:lnTo>
                    <a:pt x="870" y="1594"/>
                  </a:lnTo>
                  <a:lnTo>
                    <a:pt x="874" y="1604"/>
                  </a:lnTo>
                  <a:lnTo>
                    <a:pt x="874" y="1614"/>
                  </a:lnTo>
                  <a:lnTo>
                    <a:pt x="874" y="1636"/>
                  </a:lnTo>
                  <a:lnTo>
                    <a:pt x="868" y="1658"/>
                  </a:lnTo>
                  <a:lnTo>
                    <a:pt x="862" y="1682"/>
                  </a:lnTo>
                  <a:lnTo>
                    <a:pt x="856" y="1704"/>
                  </a:lnTo>
                  <a:lnTo>
                    <a:pt x="850" y="1726"/>
                  </a:lnTo>
                  <a:lnTo>
                    <a:pt x="850" y="1726"/>
                  </a:lnTo>
                  <a:lnTo>
                    <a:pt x="860" y="1750"/>
                  </a:lnTo>
                  <a:lnTo>
                    <a:pt x="866" y="1778"/>
                  </a:lnTo>
                  <a:lnTo>
                    <a:pt x="868" y="1792"/>
                  </a:lnTo>
                  <a:lnTo>
                    <a:pt x="868" y="1806"/>
                  </a:lnTo>
                  <a:lnTo>
                    <a:pt x="868" y="1820"/>
                  </a:lnTo>
                  <a:lnTo>
                    <a:pt x="864" y="1832"/>
                  </a:lnTo>
                  <a:lnTo>
                    <a:pt x="864" y="1832"/>
                  </a:lnTo>
                  <a:close/>
                  <a:moveTo>
                    <a:pt x="320" y="1402"/>
                  </a:moveTo>
                  <a:lnTo>
                    <a:pt x="320" y="1402"/>
                  </a:lnTo>
                  <a:lnTo>
                    <a:pt x="308" y="1362"/>
                  </a:lnTo>
                  <a:lnTo>
                    <a:pt x="298" y="1320"/>
                  </a:lnTo>
                  <a:lnTo>
                    <a:pt x="290" y="1280"/>
                  </a:lnTo>
                  <a:lnTo>
                    <a:pt x="288" y="1238"/>
                  </a:lnTo>
                  <a:lnTo>
                    <a:pt x="290" y="1196"/>
                  </a:lnTo>
                  <a:lnTo>
                    <a:pt x="292" y="1176"/>
                  </a:lnTo>
                  <a:lnTo>
                    <a:pt x="296" y="1156"/>
                  </a:lnTo>
                  <a:lnTo>
                    <a:pt x="300" y="1136"/>
                  </a:lnTo>
                  <a:lnTo>
                    <a:pt x="306" y="1116"/>
                  </a:lnTo>
                  <a:lnTo>
                    <a:pt x="314" y="1096"/>
                  </a:lnTo>
                  <a:lnTo>
                    <a:pt x="324" y="1076"/>
                  </a:lnTo>
                  <a:lnTo>
                    <a:pt x="324" y="1076"/>
                  </a:lnTo>
                  <a:lnTo>
                    <a:pt x="328" y="1050"/>
                  </a:lnTo>
                  <a:lnTo>
                    <a:pt x="336" y="1024"/>
                  </a:lnTo>
                  <a:lnTo>
                    <a:pt x="354" y="972"/>
                  </a:lnTo>
                  <a:lnTo>
                    <a:pt x="364" y="946"/>
                  </a:lnTo>
                  <a:lnTo>
                    <a:pt x="372" y="920"/>
                  </a:lnTo>
                  <a:lnTo>
                    <a:pt x="378" y="894"/>
                  </a:lnTo>
                  <a:lnTo>
                    <a:pt x="382" y="866"/>
                  </a:lnTo>
                  <a:lnTo>
                    <a:pt x="382" y="866"/>
                  </a:lnTo>
                  <a:lnTo>
                    <a:pt x="392" y="862"/>
                  </a:lnTo>
                  <a:lnTo>
                    <a:pt x="400" y="864"/>
                  </a:lnTo>
                  <a:lnTo>
                    <a:pt x="406" y="868"/>
                  </a:lnTo>
                  <a:lnTo>
                    <a:pt x="410" y="874"/>
                  </a:lnTo>
                  <a:lnTo>
                    <a:pt x="416" y="892"/>
                  </a:lnTo>
                  <a:lnTo>
                    <a:pt x="418" y="900"/>
                  </a:lnTo>
                  <a:lnTo>
                    <a:pt x="420" y="908"/>
                  </a:lnTo>
                  <a:lnTo>
                    <a:pt x="420" y="934"/>
                  </a:lnTo>
                  <a:lnTo>
                    <a:pt x="420" y="934"/>
                  </a:lnTo>
                  <a:lnTo>
                    <a:pt x="410" y="938"/>
                  </a:lnTo>
                  <a:lnTo>
                    <a:pt x="400" y="942"/>
                  </a:lnTo>
                  <a:lnTo>
                    <a:pt x="392" y="948"/>
                  </a:lnTo>
                  <a:lnTo>
                    <a:pt x="384" y="954"/>
                  </a:lnTo>
                  <a:lnTo>
                    <a:pt x="376" y="962"/>
                  </a:lnTo>
                  <a:lnTo>
                    <a:pt x="372" y="972"/>
                  </a:lnTo>
                  <a:lnTo>
                    <a:pt x="362" y="990"/>
                  </a:lnTo>
                  <a:lnTo>
                    <a:pt x="356" y="1012"/>
                  </a:lnTo>
                  <a:lnTo>
                    <a:pt x="350" y="1034"/>
                  </a:lnTo>
                  <a:lnTo>
                    <a:pt x="344" y="1054"/>
                  </a:lnTo>
                  <a:lnTo>
                    <a:pt x="336" y="1074"/>
                  </a:lnTo>
                  <a:lnTo>
                    <a:pt x="336" y="1074"/>
                  </a:lnTo>
                  <a:lnTo>
                    <a:pt x="332" y="1098"/>
                  </a:lnTo>
                  <a:lnTo>
                    <a:pt x="328" y="1124"/>
                  </a:lnTo>
                  <a:lnTo>
                    <a:pt x="326" y="1150"/>
                  </a:lnTo>
                  <a:lnTo>
                    <a:pt x="326" y="1176"/>
                  </a:lnTo>
                  <a:lnTo>
                    <a:pt x="328" y="1230"/>
                  </a:lnTo>
                  <a:lnTo>
                    <a:pt x="332" y="1280"/>
                  </a:lnTo>
                  <a:lnTo>
                    <a:pt x="332" y="1280"/>
                  </a:lnTo>
                  <a:lnTo>
                    <a:pt x="336" y="1294"/>
                  </a:lnTo>
                  <a:lnTo>
                    <a:pt x="344" y="1310"/>
                  </a:lnTo>
                  <a:lnTo>
                    <a:pt x="348" y="1316"/>
                  </a:lnTo>
                  <a:lnTo>
                    <a:pt x="354" y="1322"/>
                  </a:lnTo>
                  <a:lnTo>
                    <a:pt x="360" y="1326"/>
                  </a:lnTo>
                  <a:lnTo>
                    <a:pt x="368" y="1328"/>
                  </a:lnTo>
                  <a:lnTo>
                    <a:pt x="368" y="1328"/>
                  </a:lnTo>
                  <a:lnTo>
                    <a:pt x="372" y="1330"/>
                  </a:lnTo>
                  <a:lnTo>
                    <a:pt x="378" y="1328"/>
                  </a:lnTo>
                  <a:lnTo>
                    <a:pt x="386" y="1324"/>
                  </a:lnTo>
                  <a:lnTo>
                    <a:pt x="394" y="1318"/>
                  </a:lnTo>
                  <a:lnTo>
                    <a:pt x="394" y="1314"/>
                  </a:lnTo>
                  <a:lnTo>
                    <a:pt x="394" y="1310"/>
                  </a:lnTo>
                  <a:lnTo>
                    <a:pt x="380" y="1266"/>
                  </a:lnTo>
                  <a:lnTo>
                    <a:pt x="380" y="1266"/>
                  </a:lnTo>
                  <a:lnTo>
                    <a:pt x="378" y="1230"/>
                  </a:lnTo>
                  <a:lnTo>
                    <a:pt x="378" y="1194"/>
                  </a:lnTo>
                  <a:lnTo>
                    <a:pt x="380" y="1158"/>
                  </a:lnTo>
                  <a:lnTo>
                    <a:pt x="384" y="1122"/>
                  </a:lnTo>
                  <a:lnTo>
                    <a:pt x="390" y="1088"/>
                  </a:lnTo>
                  <a:lnTo>
                    <a:pt x="398" y="1054"/>
                  </a:lnTo>
                  <a:lnTo>
                    <a:pt x="410" y="1022"/>
                  </a:lnTo>
                  <a:lnTo>
                    <a:pt x="424" y="990"/>
                  </a:lnTo>
                  <a:lnTo>
                    <a:pt x="424" y="990"/>
                  </a:lnTo>
                  <a:lnTo>
                    <a:pt x="428" y="988"/>
                  </a:lnTo>
                  <a:lnTo>
                    <a:pt x="434" y="988"/>
                  </a:lnTo>
                  <a:lnTo>
                    <a:pt x="438" y="990"/>
                  </a:lnTo>
                  <a:lnTo>
                    <a:pt x="442" y="994"/>
                  </a:lnTo>
                  <a:lnTo>
                    <a:pt x="448" y="1002"/>
                  </a:lnTo>
                  <a:lnTo>
                    <a:pt x="450" y="1012"/>
                  </a:lnTo>
                  <a:lnTo>
                    <a:pt x="450" y="1012"/>
                  </a:lnTo>
                  <a:lnTo>
                    <a:pt x="452" y="1042"/>
                  </a:lnTo>
                  <a:lnTo>
                    <a:pt x="454" y="1072"/>
                  </a:lnTo>
                  <a:lnTo>
                    <a:pt x="452" y="1102"/>
                  </a:lnTo>
                  <a:lnTo>
                    <a:pt x="450" y="1132"/>
                  </a:lnTo>
                  <a:lnTo>
                    <a:pt x="442" y="1192"/>
                  </a:lnTo>
                  <a:lnTo>
                    <a:pt x="436" y="1252"/>
                  </a:lnTo>
                  <a:lnTo>
                    <a:pt x="434" y="1280"/>
                  </a:lnTo>
                  <a:lnTo>
                    <a:pt x="434" y="1310"/>
                  </a:lnTo>
                  <a:lnTo>
                    <a:pt x="436" y="1338"/>
                  </a:lnTo>
                  <a:lnTo>
                    <a:pt x="440" y="1366"/>
                  </a:lnTo>
                  <a:lnTo>
                    <a:pt x="446" y="1394"/>
                  </a:lnTo>
                  <a:lnTo>
                    <a:pt x="458" y="1422"/>
                  </a:lnTo>
                  <a:lnTo>
                    <a:pt x="472" y="1450"/>
                  </a:lnTo>
                  <a:lnTo>
                    <a:pt x="492" y="1476"/>
                  </a:lnTo>
                  <a:lnTo>
                    <a:pt x="492" y="1476"/>
                  </a:lnTo>
                  <a:lnTo>
                    <a:pt x="500" y="1482"/>
                  </a:lnTo>
                  <a:lnTo>
                    <a:pt x="506" y="1488"/>
                  </a:lnTo>
                  <a:lnTo>
                    <a:pt x="510" y="1496"/>
                  </a:lnTo>
                  <a:lnTo>
                    <a:pt x="514" y="1502"/>
                  </a:lnTo>
                  <a:lnTo>
                    <a:pt x="520" y="1518"/>
                  </a:lnTo>
                  <a:lnTo>
                    <a:pt x="522" y="1534"/>
                  </a:lnTo>
                  <a:lnTo>
                    <a:pt x="522" y="1552"/>
                  </a:lnTo>
                  <a:lnTo>
                    <a:pt x="520" y="1570"/>
                  </a:lnTo>
                  <a:lnTo>
                    <a:pt x="518" y="1586"/>
                  </a:lnTo>
                  <a:lnTo>
                    <a:pt x="518" y="1604"/>
                  </a:lnTo>
                  <a:lnTo>
                    <a:pt x="518" y="1604"/>
                  </a:lnTo>
                  <a:lnTo>
                    <a:pt x="512" y="1612"/>
                  </a:lnTo>
                  <a:lnTo>
                    <a:pt x="506" y="1620"/>
                  </a:lnTo>
                  <a:lnTo>
                    <a:pt x="498" y="1640"/>
                  </a:lnTo>
                  <a:lnTo>
                    <a:pt x="490" y="1660"/>
                  </a:lnTo>
                  <a:lnTo>
                    <a:pt x="484" y="1680"/>
                  </a:lnTo>
                  <a:lnTo>
                    <a:pt x="474" y="1698"/>
                  </a:lnTo>
                  <a:lnTo>
                    <a:pt x="468" y="1704"/>
                  </a:lnTo>
                  <a:lnTo>
                    <a:pt x="460" y="1710"/>
                  </a:lnTo>
                  <a:lnTo>
                    <a:pt x="452" y="1712"/>
                  </a:lnTo>
                  <a:lnTo>
                    <a:pt x="444" y="1714"/>
                  </a:lnTo>
                  <a:lnTo>
                    <a:pt x="434" y="1712"/>
                  </a:lnTo>
                  <a:lnTo>
                    <a:pt x="420" y="1710"/>
                  </a:lnTo>
                  <a:lnTo>
                    <a:pt x="420" y="1710"/>
                  </a:lnTo>
                  <a:lnTo>
                    <a:pt x="392" y="1702"/>
                  </a:lnTo>
                  <a:lnTo>
                    <a:pt x="364" y="1692"/>
                  </a:lnTo>
                  <a:lnTo>
                    <a:pt x="310" y="1668"/>
                  </a:lnTo>
                  <a:lnTo>
                    <a:pt x="310" y="1668"/>
                  </a:lnTo>
                  <a:lnTo>
                    <a:pt x="322" y="1652"/>
                  </a:lnTo>
                  <a:lnTo>
                    <a:pt x="334" y="1636"/>
                  </a:lnTo>
                  <a:lnTo>
                    <a:pt x="342" y="1616"/>
                  </a:lnTo>
                  <a:lnTo>
                    <a:pt x="348" y="1596"/>
                  </a:lnTo>
                  <a:lnTo>
                    <a:pt x="352" y="1576"/>
                  </a:lnTo>
                  <a:lnTo>
                    <a:pt x="356" y="1554"/>
                  </a:lnTo>
                  <a:lnTo>
                    <a:pt x="360" y="1512"/>
                  </a:lnTo>
                  <a:lnTo>
                    <a:pt x="360" y="1512"/>
                  </a:lnTo>
                  <a:lnTo>
                    <a:pt x="354" y="1506"/>
                  </a:lnTo>
                  <a:lnTo>
                    <a:pt x="350" y="1500"/>
                  </a:lnTo>
                  <a:lnTo>
                    <a:pt x="342" y="1488"/>
                  </a:lnTo>
                  <a:lnTo>
                    <a:pt x="340" y="1472"/>
                  </a:lnTo>
                  <a:lnTo>
                    <a:pt x="338" y="1458"/>
                  </a:lnTo>
                  <a:lnTo>
                    <a:pt x="336" y="1442"/>
                  </a:lnTo>
                  <a:lnTo>
                    <a:pt x="334" y="1426"/>
                  </a:lnTo>
                  <a:lnTo>
                    <a:pt x="328" y="1414"/>
                  </a:lnTo>
                  <a:lnTo>
                    <a:pt x="324" y="1408"/>
                  </a:lnTo>
                  <a:lnTo>
                    <a:pt x="320" y="1402"/>
                  </a:lnTo>
                  <a:lnTo>
                    <a:pt x="320" y="1402"/>
                  </a:lnTo>
                  <a:close/>
                  <a:moveTo>
                    <a:pt x="404" y="720"/>
                  </a:moveTo>
                  <a:lnTo>
                    <a:pt x="404" y="720"/>
                  </a:lnTo>
                  <a:lnTo>
                    <a:pt x="402" y="716"/>
                  </a:lnTo>
                  <a:lnTo>
                    <a:pt x="400" y="712"/>
                  </a:lnTo>
                  <a:lnTo>
                    <a:pt x="390" y="706"/>
                  </a:lnTo>
                  <a:lnTo>
                    <a:pt x="372" y="694"/>
                  </a:lnTo>
                  <a:lnTo>
                    <a:pt x="364" y="688"/>
                  </a:lnTo>
                  <a:lnTo>
                    <a:pt x="360" y="680"/>
                  </a:lnTo>
                  <a:lnTo>
                    <a:pt x="360" y="676"/>
                  </a:lnTo>
                  <a:lnTo>
                    <a:pt x="360" y="672"/>
                  </a:lnTo>
                  <a:lnTo>
                    <a:pt x="362" y="666"/>
                  </a:lnTo>
                  <a:lnTo>
                    <a:pt x="368" y="660"/>
                  </a:lnTo>
                  <a:lnTo>
                    <a:pt x="368" y="660"/>
                  </a:lnTo>
                  <a:lnTo>
                    <a:pt x="372" y="656"/>
                  </a:lnTo>
                  <a:lnTo>
                    <a:pt x="378" y="652"/>
                  </a:lnTo>
                  <a:lnTo>
                    <a:pt x="386" y="642"/>
                  </a:lnTo>
                  <a:lnTo>
                    <a:pt x="390" y="638"/>
                  </a:lnTo>
                  <a:lnTo>
                    <a:pt x="394" y="634"/>
                  </a:lnTo>
                  <a:lnTo>
                    <a:pt x="402" y="634"/>
                  </a:lnTo>
                  <a:lnTo>
                    <a:pt x="408" y="634"/>
                  </a:lnTo>
                  <a:lnTo>
                    <a:pt x="436" y="666"/>
                  </a:lnTo>
                  <a:lnTo>
                    <a:pt x="436" y="666"/>
                  </a:lnTo>
                  <a:lnTo>
                    <a:pt x="444" y="672"/>
                  </a:lnTo>
                  <a:lnTo>
                    <a:pt x="452" y="678"/>
                  </a:lnTo>
                  <a:lnTo>
                    <a:pt x="460" y="684"/>
                  </a:lnTo>
                  <a:lnTo>
                    <a:pt x="470" y="686"/>
                  </a:lnTo>
                  <a:lnTo>
                    <a:pt x="490" y="690"/>
                  </a:lnTo>
                  <a:lnTo>
                    <a:pt x="510" y="690"/>
                  </a:lnTo>
                  <a:lnTo>
                    <a:pt x="516" y="736"/>
                  </a:lnTo>
                  <a:lnTo>
                    <a:pt x="516" y="736"/>
                  </a:lnTo>
                  <a:lnTo>
                    <a:pt x="504" y="732"/>
                  </a:lnTo>
                  <a:lnTo>
                    <a:pt x="494" y="732"/>
                  </a:lnTo>
                  <a:lnTo>
                    <a:pt x="482" y="734"/>
                  </a:lnTo>
                  <a:lnTo>
                    <a:pt x="470" y="738"/>
                  </a:lnTo>
                  <a:lnTo>
                    <a:pt x="460" y="742"/>
                  </a:lnTo>
                  <a:lnTo>
                    <a:pt x="450" y="748"/>
                  </a:lnTo>
                  <a:lnTo>
                    <a:pt x="432" y="762"/>
                  </a:lnTo>
                  <a:lnTo>
                    <a:pt x="432" y="762"/>
                  </a:lnTo>
                  <a:lnTo>
                    <a:pt x="426" y="768"/>
                  </a:lnTo>
                  <a:lnTo>
                    <a:pt x="422" y="778"/>
                  </a:lnTo>
                  <a:lnTo>
                    <a:pt x="414" y="794"/>
                  </a:lnTo>
                  <a:lnTo>
                    <a:pt x="410" y="802"/>
                  </a:lnTo>
                  <a:lnTo>
                    <a:pt x="404" y="806"/>
                  </a:lnTo>
                  <a:lnTo>
                    <a:pt x="400" y="806"/>
                  </a:lnTo>
                  <a:lnTo>
                    <a:pt x="394" y="806"/>
                  </a:lnTo>
                  <a:lnTo>
                    <a:pt x="382" y="802"/>
                  </a:lnTo>
                  <a:lnTo>
                    <a:pt x="378" y="802"/>
                  </a:lnTo>
                  <a:lnTo>
                    <a:pt x="378" y="802"/>
                  </a:lnTo>
                  <a:lnTo>
                    <a:pt x="390" y="784"/>
                  </a:lnTo>
                  <a:lnTo>
                    <a:pt x="402" y="764"/>
                  </a:lnTo>
                  <a:lnTo>
                    <a:pt x="406" y="754"/>
                  </a:lnTo>
                  <a:lnTo>
                    <a:pt x="408" y="742"/>
                  </a:lnTo>
                  <a:lnTo>
                    <a:pt x="408" y="732"/>
                  </a:lnTo>
                  <a:lnTo>
                    <a:pt x="404" y="720"/>
                  </a:lnTo>
                  <a:lnTo>
                    <a:pt x="404" y="720"/>
                  </a:lnTo>
                  <a:close/>
                  <a:moveTo>
                    <a:pt x="868" y="1370"/>
                  </a:moveTo>
                  <a:lnTo>
                    <a:pt x="880" y="1342"/>
                  </a:lnTo>
                  <a:lnTo>
                    <a:pt x="880" y="1342"/>
                  </a:lnTo>
                  <a:lnTo>
                    <a:pt x="912" y="1342"/>
                  </a:lnTo>
                  <a:lnTo>
                    <a:pt x="944" y="1344"/>
                  </a:lnTo>
                  <a:lnTo>
                    <a:pt x="976" y="1346"/>
                  </a:lnTo>
                  <a:lnTo>
                    <a:pt x="1008" y="1346"/>
                  </a:lnTo>
                  <a:lnTo>
                    <a:pt x="1024" y="1346"/>
                  </a:lnTo>
                  <a:lnTo>
                    <a:pt x="1040" y="1342"/>
                  </a:lnTo>
                  <a:lnTo>
                    <a:pt x="1054" y="1340"/>
                  </a:lnTo>
                  <a:lnTo>
                    <a:pt x="1068" y="1334"/>
                  </a:lnTo>
                  <a:lnTo>
                    <a:pt x="1082" y="1328"/>
                  </a:lnTo>
                  <a:lnTo>
                    <a:pt x="1094" y="1318"/>
                  </a:lnTo>
                  <a:lnTo>
                    <a:pt x="1106" y="1306"/>
                  </a:lnTo>
                  <a:lnTo>
                    <a:pt x="1116" y="1292"/>
                  </a:lnTo>
                  <a:lnTo>
                    <a:pt x="1116" y="1292"/>
                  </a:lnTo>
                  <a:lnTo>
                    <a:pt x="1114" y="1282"/>
                  </a:lnTo>
                  <a:lnTo>
                    <a:pt x="1110" y="1274"/>
                  </a:lnTo>
                  <a:lnTo>
                    <a:pt x="1104" y="1266"/>
                  </a:lnTo>
                  <a:lnTo>
                    <a:pt x="1096" y="1262"/>
                  </a:lnTo>
                  <a:lnTo>
                    <a:pt x="1096" y="1262"/>
                  </a:lnTo>
                  <a:lnTo>
                    <a:pt x="1080" y="1264"/>
                  </a:lnTo>
                  <a:lnTo>
                    <a:pt x="1066" y="1268"/>
                  </a:lnTo>
                  <a:lnTo>
                    <a:pt x="1036" y="1284"/>
                  </a:lnTo>
                  <a:lnTo>
                    <a:pt x="1022" y="1290"/>
                  </a:lnTo>
                  <a:lnTo>
                    <a:pt x="1006" y="1296"/>
                  </a:lnTo>
                  <a:lnTo>
                    <a:pt x="988" y="1298"/>
                  </a:lnTo>
                  <a:lnTo>
                    <a:pt x="980" y="1296"/>
                  </a:lnTo>
                  <a:lnTo>
                    <a:pt x="970" y="1294"/>
                  </a:lnTo>
                  <a:lnTo>
                    <a:pt x="970" y="1294"/>
                  </a:lnTo>
                  <a:lnTo>
                    <a:pt x="956" y="1296"/>
                  </a:lnTo>
                  <a:lnTo>
                    <a:pt x="944" y="1298"/>
                  </a:lnTo>
                  <a:lnTo>
                    <a:pt x="918" y="1296"/>
                  </a:lnTo>
                  <a:lnTo>
                    <a:pt x="894" y="1290"/>
                  </a:lnTo>
                  <a:lnTo>
                    <a:pt x="872" y="1282"/>
                  </a:lnTo>
                  <a:lnTo>
                    <a:pt x="828" y="1264"/>
                  </a:lnTo>
                  <a:lnTo>
                    <a:pt x="806" y="1254"/>
                  </a:lnTo>
                  <a:lnTo>
                    <a:pt x="782" y="1246"/>
                  </a:lnTo>
                  <a:lnTo>
                    <a:pt x="782" y="1246"/>
                  </a:lnTo>
                  <a:lnTo>
                    <a:pt x="768" y="1232"/>
                  </a:lnTo>
                  <a:lnTo>
                    <a:pt x="756" y="1218"/>
                  </a:lnTo>
                  <a:lnTo>
                    <a:pt x="732" y="1184"/>
                  </a:lnTo>
                  <a:lnTo>
                    <a:pt x="718" y="1170"/>
                  </a:lnTo>
                  <a:lnTo>
                    <a:pt x="704" y="1158"/>
                  </a:lnTo>
                  <a:lnTo>
                    <a:pt x="696" y="1154"/>
                  </a:lnTo>
                  <a:lnTo>
                    <a:pt x="688" y="1150"/>
                  </a:lnTo>
                  <a:lnTo>
                    <a:pt x="678" y="1148"/>
                  </a:lnTo>
                  <a:lnTo>
                    <a:pt x="668" y="1148"/>
                  </a:lnTo>
                  <a:lnTo>
                    <a:pt x="668" y="1148"/>
                  </a:lnTo>
                  <a:lnTo>
                    <a:pt x="636" y="1118"/>
                  </a:lnTo>
                  <a:lnTo>
                    <a:pt x="622" y="1104"/>
                  </a:lnTo>
                  <a:lnTo>
                    <a:pt x="608" y="1088"/>
                  </a:lnTo>
                  <a:lnTo>
                    <a:pt x="598" y="1070"/>
                  </a:lnTo>
                  <a:lnTo>
                    <a:pt x="590" y="1052"/>
                  </a:lnTo>
                  <a:lnTo>
                    <a:pt x="586" y="1032"/>
                  </a:lnTo>
                  <a:lnTo>
                    <a:pt x="586" y="1012"/>
                  </a:lnTo>
                  <a:lnTo>
                    <a:pt x="586" y="1012"/>
                  </a:lnTo>
                  <a:lnTo>
                    <a:pt x="586" y="1006"/>
                  </a:lnTo>
                  <a:lnTo>
                    <a:pt x="586" y="1000"/>
                  </a:lnTo>
                  <a:lnTo>
                    <a:pt x="592" y="986"/>
                  </a:lnTo>
                  <a:lnTo>
                    <a:pt x="592" y="980"/>
                  </a:lnTo>
                  <a:lnTo>
                    <a:pt x="592" y="974"/>
                  </a:lnTo>
                  <a:lnTo>
                    <a:pt x="590" y="966"/>
                  </a:lnTo>
                  <a:lnTo>
                    <a:pt x="586" y="960"/>
                  </a:lnTo>
                  <a:lnTo>
                    <a:pt x="586" y="960"/>
                  </a:lnTo>
                  <a:lnTo>
                    <a:pt x="570" y="950"/>
                  </a:lnTo>
                  <a:lnTo>
                    <a:pt x="558" y="938"/>
                  </a:lnTo>
                  <a:lnTo>
                    <a:pt x="548" y="926"/>
                  </a:lnTo>
                  <a:lnTo>
                    <a:pt x="540" y="912"/>
                  </a:lnTo>
                  <a:lnTo>
                    <a:pt x="540" y="912"/>
                  </a:lnTo>
                  <a:lnTo>
                    <a:pt x="532" y="908"/>
                  </a:lnTo>
                  <a:lnTo>
                    <a:pt x="524" y="906"/>
                  </a:lnTo>
                  <a:lnTo>
                    <a:pt x="508" y="902"/>
                  </a:lnTo>
                  <a:lnTo>
                    <a:pt x="490" y="898"/>
                  </a:lnTo>
                  <a:lnTo>
                    <a:pt x="484" y="894"/>
                  </a:lnTo>
                  <a:lnTo>
                    <a:pt x="476" y="888"/>
                  </a:lnTo>
                  <a:lnTo>
                    <a:pt x="476" y="888"/>
                  </a:lnTo>
                  <a:lnTo>
                    <a:pt x="472" y="874"/>
                  </a:lnTo>
                  <a:lnTo>
                    <a:pt x="466" y="858"/>
                  </a:lnTo>
                  <a:lnTo>
                    <a:pt x="464" y="842"/>
                  </a:lnTo>
                  <a:lnTo>
                    <a:pt x="464" y="828"/>
                  </a:lnTo>
                  <a:lnTo>
                    <a:pt x="464" y="828"/>
                  </a:lnTo>
                  <a:lnTo>
                    <a:pt x="470" y="814"/>
                  </a:lnTo>
                  <a:lnTo>
                    <a:pt x="476" y="802"/>
                  </a:lnTo>
                  <a:lnTo>
                    <a:pt x="484" y="792"/>
                  </a:lnTo>
                  <a:lnTo>
                    <a:pt x="490" y="788"/>
                  </a:lnTo>
                  <a:lnTo>
                    <a:pt x="496" y="784"/>
                  </a:lnTo>
                  <a:lnTo>
                    <a:pt x="496" y="784"/>
                  </a:lnTo>
                  <a:lnTo>
                    <a:pt x="508" y="782"/>
                  </a:lnTo>
                  <a:lnTo>
                    <a:pt x="512" y="782"/>
                  </a:lnTo>
                  <a:lnTo>
                    <a:pt x="514" y="782"/>
                  </a:lnTo>
                  <a:lnTo>
                    <a:pt x="520" y="788"/>
                  </a:lnTo>
                  <a:lnTo>
                    <a:pt x="524" y="796"/>
                  </a:lnTo>
                  <a:lnTo>
                    <a:pt x="530" y="804"/>
                  </a:lnTo>
                  <a:lnTo>
                    <a:pt x="534" y="810"/>
                  </a:lnTo>
                  <a:lnTo>
                    <a:pt x="542" y="814"/>
                  </a:lnTo>
                  <a:lnTo>
                    <a:pt x="546" y="816"/>
                  </a:lnTo>
                  <a:lnTo>
                    <a:pt x="552" y="816"/>
                  </a:lnTo>
                  <a:lnTo>
                    <a:pt x="552" y="816"/>
                  </a:lnTo>
                  <a:lnTo>
                    <a:pt x="560" y="814"/>
                  </a:lnTo>
                  <a:lnTo>
                    <a:pt x="568" y="810"/>
                  </a:lnTo>
                  <a:lnTo>
                    <a:pt x="576" y="806"/>
                  </a:lnTo>
                  <a:lnTo>
                    <a:pt x="582" y="796"/>
                  </a:lnTo>
                  <a:lnTo>
                    <a:pt x="582" y="796"/>
                  </a:lnTo>
                  <a:lnTo>
                    <a:pt x="580" y="790"/>
                  </a:lnTo>
                  <a:lnTo>
                    <a:pt x="578" y="784"/>
                  </a:lnTo>
                  <a:lnTo>
                    <a:pt x="572" y="772"/>
                  </a:lnTo>
                  <a:lnTo>
                    <a:pt x="570" y="766"/>
                  </a:lnTo>
                  <a:lnTo>
                    <a:pt x="568" y="760"/>
                  </a:lnTo>
                  <a:lnTo>
                    <a:pt x="570" y="754"/>
                  </a:lnTo>
                  <a:lnTo>
                    <a:pt x="574" y="748"/>
                  </a:lnTo>
                  <a:lnTo>
                    <a:pt x="574" y="748"/>
                  </a:lnTo>
                  <a:lnTo>
                    <a:pt x="570" y="732"/>
                  </a:lnTo>
                  <a:lnTo>
                    <a:pt x="568" y="716"/>
                  </a:lnTo>
                  <a:lnTo>
                    <a:pt x="568" y="700"/>
                  </a:lnTo>
                  <a:lnTo>
                    <a:pt x="570" y="686"/>
                  </a:lnTo>
                  <a:lnTo>
                    <a:pt x="574" y="672"/>
                  </a:lnTo>
                  <a:lnTo>
                    <a:pt x="580" y="658"/>
                  </a:lnTo>
                  <a:lnTo>
                    <a:pt x="586" y="646"/>
                  </a:lnTo>
                  <a:lnTo>
                    <a:pt x="594" y="634"/>
                  </a:lnTo>
                  <a:lnTo>
                    <a:pt x="614" y="610"/>
                  </a:lnTo>
                  <a:lnTo>
                    <a:pt x="636" y="590"/>
                  </a:lnTo>
                  <a:lnTo>
                    <a:pt x="680" y="550"/>
                  </a:lnTo>
                  <a:lnTo>
                    <a:pt x="680" y="550"/>
                  </a:lnTo>
                  <a:lnTo>
                    <a:pt x="730" y="526"/>
                  </a:lnTo>
                  <a:lnTo>
                    <a:pt x="756" y="518"/>
                  </a:lnTo>
                  <a:lnTo>
                    <a:pt x="782" y="510"/>
                  </a:lnTo>
                  <a:lnTo>
                    <a:pt x="810" y="502"/>
                  </a:lnTo>
                  <a:lnTo>
                    <a:pt x="838" y="498"/>
                  </a:lnTo>
                  <a:lnTo>
                    <a:pt x="864" y="494"/>
                  </a:lnTo>
                  <a:lnTo>
                    <a:pt x="894" y="494"/>
                  </a:lnTo>
                  <a:lnTo>
                    <a:pt x="894" y="494"/>
                  </a:lnTo>
                  <a:lnTo>
                    <a:pt x="892" y="504"/>
                  </a:lnTo>
                  <a:lnTo>
                    <a:pt x="892" y="512"/>
                  </a:lnTo>
                  <a:lnTo>
                    <a:pt x="894" y="522"/>
                  </a:lnTo>
                  <a:lnTo>
                    <a:pt x="898" y="530"/>
                  </a:lnTo>
                  <a:lnTo>
                    <a:pt x="910" y="546"/>
                  </a:lnTo>
                  <a:lnTo>
                    <a:pt x="920" y="562"/>
                  </a:lnTo>
                  <a:lnTo>
                    <a:pt x="920" y="562"/>
                  </a:lnTo>
                  <a:lnTo>
                    <a:pt x="938" y="572"/>
                  </a:lnTo>
                  <a:lnTo>
                    <a:pt x="958" y="580"/>
                  </a:lnTo>
                  <a:lnTo>
                    <a:pt x="980" y="584"/>
                  </a:lnTo>
                  <a:lnTo>
                    <a:pt x="1002" y="586"/>
                  </a:lnTo>
                  <a:lnTo>
                    <a:pt x="1024" y="584"/>
                  </a:lnTo>
                  <a:lnTo>
                    <a:pt x="1046" y="580"/>
                  </a:lnTo>
                  <a:lnTo>
                    <a:pt x="1090" y="572"/>
                  </a:lnTo>
                  <a:lnTo>
                    <a:pt x="1090" y="572"/>
                  </a:lnTo>
                  <a:lnTo>
                    <a:pt x="1096" y="574"/>
                  </a:lnTo>
                  <a:lnTo>
                    <a:pt x="1102" y="576"/>
                  </a:lnTo>
                  <a:lnTo>
                    <a:pt x="1106" y="578"/>
                  </a:lnTo>
                  <a:lnTo>
                    <a:pt x="1108" y="582"/>
                  </a:lnTo>
                  <a:lnTo>
                    <a:pt x="1112" y="590"/>
                  </a:lnTo>
                  <a:lnTo>
                    <a:pt x="1114" y="600"/>
                  </a:lnTo>
                  <a:lnTo>
                    <a:pt x="1114" y="608"/>
                  </a:lnTo>
                  <a:lnTo>
                    <a:pt x="1118" y="616"/>
                  </a:lnTo>
                  <a:lnTo>
                    <a:pt x="1120" y="618"/>
                  </a:lnTo>
                  <a:lnTo>
                    <a:pt x="1126" y="622"/>
                  </a:lnTo>
                  <a:lnTo>
                    <a:pt x="1130" y="622"/>
                  </a:lnTo>
                  <a:lnTo>
                    <a:pt x="1138" y="624"/>
                  </a:lnTo>
                  <a:lnTo>
                    <a:pt x="1138" y="624"/>
                  </a:lnTo>
                  <a:lnTo>
                    <a:pt x="1146" y="624"/>
                  </a:lnTo>
                  <a:lnTo>
                    <a:pt x="1152" y="624"/>
                  </a:lnTo>
                  <a:lnTo>
                    <a:pt x="1158" y="622"/>
                  </a:lnTo>
                  <a:lnTo>
                    <a:pt x="1164" y="620"/>
                  </a:lnTo>
                  <a:lnTo>
                    <a:pt x="1174" y="612"/>
                  </a:lnTo>
                  <a:lnTo>
                    <a:pt x="1184" y="604"/>
                  </a:lnTo>
                  <a:lnTo>
                    <a:pt x="1194" y="594"/>
                  </a:lnTo>
                  <a:lnTo>
                    <a:pt x="1204" y="588"/>
                  </a:lnTo>
                  <a:lnTo>
                    <a:pt x="1210" y="586"/>
                  </a:lnTo>
                  <a:lnTo>
                    <a:pt x="1216" y="584"/>
                  </a:lnTo>
                  <a:lnTo>
                    <a:pt x="1222" y="586"/>
                  </a:lnTo>
                  <a:lnTo>
                    <a:pt x="1230" y="588"/>
                  </a:lnTo>
                  <a:lnTo>
                    <a:pt x="1230" y="588"/>
                  </a:lnTo>
                  <a:lnTo>
                    <a:pt x="1234" y="600"/>
                  </a:lnTo>
                  <a:lnTo>
                    <a:pt x="1240" y="610"/>
                  </a:lnTo>
                  <a:lnTo>
                    <a:pt x="1248" y="620"/>
                  </a:lnTo>
                  <a:lnTo>
                    <a:pt x="1256" y="628"/>
                  </a:lnTo>
                  <a:lnTo>
                    <a:pt x="1276" y="640"/>
                  </a:lnTo>
                  <a:lnTo>
                    <a:pt x="1296" y="652"/>
                  </a:lnTo>
                  <a:lnTo>
                    <a:pt x="1318" y="664"/>
                  </a:lnTo>
                  <a:lnTo>
                    <a:pt x="1326" y="670"/>
                  </a:lnTo>
                  <a:lnTo>
                    <a:pt x="1334" y="678"/>
                  </a:lnTo>
                  <a:lnTo>
                    <a:pt x="1342" y="686"/>
                  </a:lnTo>
                  <a:lnTo>
                    <a:pt x="1346" y="698"/>
                  </a:lnTo>
                  <a:lnTo>
                    <a:pt x="1350" y="710"/>
                  </a:lnTo>
                  <a:lnTo>
                    <a:pt x="1352" y="724"/>
                  </a:lnTo>
                  <a:lnTo>
                    <a:pt x="1352" y="724"/>
                  </a:lnTo>
                  <a:lnTo>
                    <a:pt x="1356" y="732"/>
                  </a:lnTo>
                  <a:lnTo>
                    <a:pt x="1362" y="738"/>
                  </a:lnTo>
                  <a:lnTo>
                    <a:pt x="1374" y="746"/>
                  </a:lnTo>
                  <a:lnTo>
                    <a:pt x="1382" y="750"/>
                  </a:lnTo>
                  <a:lnTo>
                    <a:pt x="1388" y="754"/>
                  </a:lnTo>
                  <a:lnTo>
                    <a:pt x="1394" y="760"/>
                  </a:lnTo>
                  <a:lnTo>
                    <a:pt x="1396" y="770"/>
                  </a:lnTo>
                  <a:lnTo>
                    <a:pt x="1396" y="770"/>
                  </a:lnTo>
                  <a:lnTo>
                    <a:pt x="1388" y="784"/>
                  </a:lnTo>
                  <a:lnTo>
                    <a:pt x="1380" y="800"/>
                  </a:lnTo>
                  <a:lnTo>
                    <a:pt x="1376" y="808"/>
                  </a:lnTo>
                  <a:lnTo>
                    <a:pt x="1374" y="816"/>
                  </a:lnTo>
                  <a:lnTo>
                    <a:pt x="1374" y="826"/>
                  </a:lnTo>
                  <a:lnTo>
                    <a:pt x="1378" y="834"/>
                  </a:lnTo>
                  <a:lnTo>
                    <a:pt x="1378" y="834"/>
                  </a:lnTo>
                  <a:lnTo>
                    <a:pt x="1382" y="840"/>
                  </a:lnTo>
                  <a:lnTo>
                    <a:pt x="1388" y="844"/>
                  </a:lnTo>
                  <a:lnTo>
                    <a:pt x="1396" y="846"/>
                  </a:lnTo>
                  <a:lnTo>
                    <a:pt x="1402" y="848"/>
                  </a:lnTo>
                  <a:lnTo>
                    <a:pt x="1410" y="848"/>
                  </a:lnTo>
                  <a:lnTo>
                    <a:pt x="1416" y="846"/>
                  </a:lnTo>
                  <a:lnTo>
                    <a:pt x="1428" y="840"/>
                  </a:lnTo>
                  <a:lnTo>
                    <a:pt x="1428" y="840"/>
                  </a:lnTo>
                  <a:lnTo>
                    <a:pt x="1434" y="834"/>
                  </a:lnTo>
                  <a:lnTo>
                    <a:pt x="1438" y="828"/>
                  </a:lnTo>
                  <a:lnTo>
                    <a:pt x="1446" y="812"/>
                  </a:lnTo>
                  <a:lnTo>
                    <a:pt x="1452" y="804"/>
                  </a:lnTo>
                  <a:lnTo>
                    <a:pt x="1458" y="802"/>
                  </a:lnTo>
                  <a:lnTo>
                    <a:pt x="1460" y="802"/>
                  </a:lnTo>
                  <a:lnTo>
                    <a:pt x="1464" y="802"/>
                  </a:lnTo>
                  <a:lnTo>
                    <a:pt x="1474" y="810"/>
                  </a:lnTo>
                  <a:lnTo>
                    <a:pt x="1474" y="810"/>
                  </a:lnTo>
                  <a:lnTo>
                    <a:pt x="1480" y="828"/>
                  </a:lnTo>
                  <a:lnTo>
                    <a:pt x="1484" y="848"/>
                  </a:lnTo>
                  <a:lnTo>
                    <a:pt x="1488" y="866"/>
                  </a:lnTo>
                  <a:lnTo>
                    <a:pt x="1488" y="888"/>
                  </a:lnTo>
                  <a:lnTo>
                    <a:pt x="1488" y="906"/>
                  </a:lnTo>
                  <a:lnTo>
                    <a:pt x="1484" y="926"/>
                  </a:lnTo>
                  <a:lnTo>
                    <a:pt x="1476" y="944"/>
                  </a:lnTo>
                  <a:lnTo>
                    <a:pt x="1468" y="960"/>
                  </a:lnTo>
                  <a:lnTo>
                    <a:pt x="1468" y="960"/>
                  </a:lnTo>
                  <a:lnTo>
                    <a:pt x="1444" y="978"/>
                  </a:lnTo>
                  <a:lnTo>
                    <a:pt x="1420" y="992"/>
                  </a:lnTo>
                  <a:lnTo>
                    <a:pt x="1394" y="1004"/>
                  </a:lnTo>
                  <a:lnTo>
                    <a:pt x="1368" y="1014"/>
                  </a:lnTo>
                  <a:lnTo>
                    <a:pt x="1368" y="1014"/>
                  </a:lnTo>
                  <a:lnTo>
                    <a:pt x="1366" y="1024"/>
                  </a:lnTo>
                  <a:lnTo>
                    <a:pt x="1362" y="1032"/>
                  </a:lnTo>
                  <a:lnTo>
                    <a:pt x="1356" y="1038"/>
                  </a:lnTo>
                  <a:lnTo>
                    <a:pt x="1348" y="1044"/>
                  </a:lnTo>
                  <a:lnTo>
                    <a:pt x="1332" y="1058"/>
                  </a:lnTo>
                  <a:lnTo>
                    <a:pt x="1326" y="1066"/>
                  </a:lnTo>
                  <a:lnTo>
                    <a:pt x="1322" y="1074"/>
                  </a:lnTo>
                  <a:lnTo>
                    <a:pt x="1322" y="1074"/>
                  </a:lnTo>
                  <a:lnTo>
                    <a:pt x="1278" y="1140"/>
                  </a:lnTo>
                  <a:lnTo>
                    <a:pt x="1258" y="1174"/>
                  </a:lnTo>
                  <a:lnTo>
                    <a:pt x="1240" y="1208"/>
                  </a:lnTo>
                  <a:lnTo>
                    <a:pt x="1222" y="1242"/>
                  </a:lnTo>
                  <a:lnTo>
                    <a:pt x="1208" y="1278"/>
                  </a:lnTo>
                  <a:lnTo>
                    <a:pt x="1194" y="1312"/>
                  </a:lnTo>
                  <a:lnTo>
                    <a:pt x="1184" y="1348"/>
                  </a:lnTo>
                  <a:lnTo>
                    <a:pt x="1184" y="1348"/>
                  </a:lnTo>
                  <a:lnTo>
                    <a:pt x="1176" y="1358"/>
                  </a:lnTo>
                  <a:lnTo>
                    <a:pt x="1168" y="1366"/>
                  </a:lnTo>
                  <a:lnTo>
                    <a:pt x="1150" y="1380"/>
                  </a:lnTo>
                  <a:lnTo>
                    <a:pt x="1128" y="1390"/>
                  </a:lnTo>
                  <a:lnTo>
                    <a:pt x="1106" y="1396"/>
                  </a:lnTo>
                  <a:lnTo>
                    <a:pt x="1084" y="1402"/>
                  </a:lnTo>
                  <a:lnTo>
                    <a:pt x="1060" y="1406"/>
                  </a:lnTo>
                  <a:lnTo>
                    <a:pt x="1012" y="1416"/>
                  </a:lnTo>
                  <a:lnTo>
                    <a:pt x="1012" y="1416"/>
                  </a:lnTo>
                  <a:lnTo>
                    <a:pt x="994" y="1414"/>
                  </a:lnTo>
                  <a:lnTo>
                    <a:pt x="976" y="1414"/>
                  </a:lnTo>
                  <a:lnTo>
                    <a:pt x="956" y="1414"/>
                  </a:lnTo>
                  <a:lnTo>
                    <a:pt x="936" y="1412"/>
                  </a:lnTo>
                  <a:lnTo>
                    <a:pt x="916" y="1408"/>
                  </a:lnTo>
                  <a:lnTo>
                    <a:pt x="906" y="1406"/>
                  </a:lnTo>
                  <a:lnTo>
                    <a:pt x="898" y="1400"/>
                  </a:lnTo>
                  <a:lnTo>
                    <a:pt x="890" y="1396"/>
                  </a:lnTo>
                  <a:lnTo>
                    <a:pt x="882" y="1388"/>
                  </a:lnTo>
                  <a:lnTo>
                    <a:pt x="876" y="1380"/>
                  </a:lnTo>
                  <a:lnTo>
                    <a:pt x="868" y="1370"/>
                  </a:lnTo>
                  <a:lnTo>
                    <a:pt x="868" y="1370"/>
                  </a:lnTo>
                  <a:close/>
                  <a:moveTo>
                    <a:pt x="952" y="482"/>
                  </a:moveTo>
                  <a:lnTo>
                    <a:pt x="952" y="482"/>
                  </a:lnTo>
                  <a:lnTo>
                    <a:pt x="986" y="480"/>
                  </a:lnTo>
                  <a:lnTo>
                    <a:pt x="1020" y="482"/>
                  </a:lnTo>
                  <a:lnTo>
                    <a:pt x="1054" y="486"/>
                  </a:lnTo>
                  <a:lnTo>
                    <a:pt x="1090" y="492"/>
                  </a:lnTo>
                  <a:lnTo>
                    <a:pt x="1160" y="506"/>
                  </a:lnTo>
                  <a:lnTo>
                    <a:pt x="1230" y="520"/>
                  </a:lnTo>
                  <a:lnTo>
                    <a:pt x="1240" y="526"/>
                  </a:lnTo>
                  <a:lnTo>
                    <a:pt x="1240" y="526"/>
                  </a:lnTo>
                  <a:lnTo>
                    <a:pt x="1214" y="524"/>
                  </a:lnTo>
                  <a:lnTo>
                    <a:pt x="1202" y="526"/>
                  </a:lnTo>
                  <a:lnTo>
                    <a:pt x="1188" y="526"/>
                  </a:lnTo>
                  <a:lnTo>
                    <a:pt x="1178" y="530"/>
                  </a:lnTo>
                  <a:lnTo>
                    <a:pt x="1166" y="534"/>
                  </a:lnTo>
                  <a:lnTo>
                    <a:pt x="1156" y="540"/>
                  </a:lnTo>
                  <a:lnTo>
                    <a:pt x="1148" y="550"/>
                  </a:lnTo>
                  <a:lnTo>
                    <a:pt x="1148" y="550"/>
                  </a:lnTo>
                  <a:lnTo>
                    <a:pt x="1142" y="550"/>
                  </a:lnTo>
                  <a:lnTo>
                    <a:pt x="1138" y="548"/>
                  </a:lnTo>
                  <a:lnTo>
                    <a:pt x="1130" y="542"/>
                  </a:lnTo>
                  <a:lnTo>
                    <a:pt x="1124" y="534"/>
                  </a:lnTo>
                  <a:lnTo>
                    <a:pt x="1118" y="532"/>
                  </a:lnTo>
                  <a:lnTo>
                    <a:pt x="1114" y="530"/>
                  </a:lnTo>
                  <a:lnTo>
                    <a:pt x="1114" y="530"/>
                  </a:lnTo>
                  <a:lnTo>
                    <a:pt x="1104" y="526"/>
                  </a:lnTo>
                  <a:lnTo>
                    <a:pt x="1094" y="522"/>
                  </a:lnTo>
                  <a:lnTo>
                    <a:pt x="1084" y="522"/>
                  </a:lnTo>
                  <a:lnTo>
                    <a:pt x="1074" y="520"/>
                  </a:lnTo>
                  <a:lnTo>
                    <a:pt x="1054" y="524"/>
                  </a:lnTo>
                  <a:lnTo>
                    <a:pt x="1036" y="528"/>
                  </a:lnTo>
                  <a:lnTo>
                    <a:pt x="1016" y="534"/>
                  </a:lnTo>
                  <a:lnTo>
                    <a:pt x="996" y="536"/>
                  </a:lnTo>
                  <a:lnTo>
                    <a:pt x="986" y="536"/>
                  </a:lnTo>
                  <a:lnTo>
                    <a:pt x="978" y="534"/>
                  </a:lnTo>
                  <a:lnTo>
                    <a:pt x="966" y="532"/>
                  </a:lnTo>
                  <a:lnTo>
                    <a:pt x="956" y="526"/>
                  </a:lnTo>
                  <a:lnTo>
                    <a:pt x="956" y="526"/>
                  </a:lnTo>
                  <a:lnTo>
                    <a:pt x="952" y="522"/>
                  </a:lnTo>
                  <a:lnTo>
                    <a:pt x="950" y="518"/>
                  </a:lnTo>
                  <a:lnTo>
                    <a:pt x="952" y="506"/>
                  </a:lnTo>
                  <a:lnTo>
                    <a:pt x="952" y="494"/>
                  </a:lnTo>
                  <a:lnTo>
                    <a:pt x="952" y="488"/>
                  </a:lnTo>
                  <a:lnTo>
                    <a:pt x="952" y="482"/>
                  </a:lnTo>
                  <a:lnTo>
                    <a:pt x="952" y="482"/>
                  </a:lnTo>
                  <a:close/>
                  <a:moveTo>
                    <a:pt x="1276" y="548"/>
                  </a:moveTo>
                  <a:lnTo>
                    <a:pt x="1276" y="548"/>
                  </a:lnTo>
                  <a:lnTo>
                    <a:pt x="1300" y="558"/>
                  </a:lnTo>
                  <a:lnTo>
                    <a:pt x="1322" y="574"/>
                  </a:lnTo>
                  <a:lnTo>
                    <a:pt x="1342" y="592"/>
                  </a:lnTo>
                  <a:lnTo>
                    <a:pt x="1362" y="610"/>
                  </a:lnTo>
                  <a:lnTo>
                    <a:pt x="1380" y="632"/>
                  </a:lnTo>
                  <a:lnTo>
                    <a:pt x="1396" y="654"/>
                  </a:lnTo>
                  <a:lnTo>
                    <a:pt x="1410" y="676"/>
                  </a:lnTo>
                  <a:lnTo>
                    <a:pt x="1424" y="700"/>
                  </a:lnTo>
                  <a:lnTo>
                    <a:pt x="1424" y="700"/>
                  </a:lnTo>
                  <a:lnTo>
                    <a:pt x="1424" y="702"/>
                  </a:lnTo>
                  <a:lnTo>
                    <a:pt x="1422" y="704"/>
                  </a:lnTo>
                  <a:lnTo>
                    <a:pt x="1418" y="706"/>
                  </a:lnTo>
                  <a:lnTo>
                    <a:pt x="1410" y="706"/>
                  </a:lnTo>
                  <a:lnTo>
                    <a:pt x="1404" y="704"/>
                  </a:lnTo>
                  <a:lnTo>
                    <a:pt x="1404" y="704"/>
                  </a:lnTo>
                  <a:lnTo>
                    <a:pt x="1404" y="694"/>
                  </a:lnTo>
                  <a:lnTo>
                    <a:pt x="1400" y="684"/>
                  </a:lnTo>
                  <a:lnTo>
                    <a:pt x="1392" y="668"/>
                  </a:lnTo>
                  <a:lnTo>
                    <a:pt x="1380" y="652"/>
                  </a:lnTo>
                  <a:lnTo>
                    <a:pt x="1366" y="640"/>
                  </a:lnTo>
                  <a:lnTo>
                    <a:pt x="1348" y="628"/>
                  </a:lnTo>
                  <a:lnTo>
                    <a:pt x="1332" y="616"/>
                  </a:lnTo>
                  <a:lnTo>
                    <a:pt x="1298" y="598"/>
                  </a:lnTo>
                  <a:lnTo>
                    <a:pt x="1298" y="598"/>
                  </a:lnTo>
                  <a:lnTo>
                    <a:pt x="1296" y="584"/>
                  </a:lnTo>
                  <a:lnTo>
                    <a:pt x="1290" y="570"/>
                  </a:lnTo>
                  <a:lnTo>
                    <a:pt x="1284" y="558"/>
                  </a:lnTo>
                  <a:lnTo>
                    <a:pt x="1276" y="548"/>
                  </a:lnTo>
                  <a:lnTo>
                    <a:pt x="1276" y="548"/>
                  </a:lnTo>
                  <a:close/>
                  <a:moveTo>
                    <a:pt x="1596" y="990"/>
                  </a:moveTo>
                  <a:lnTo>
                    <a:pt x="1596" y="990"/>
                  </a:lnTo>
                  <a:lnTo>
                    <a:pt x="1598" y="1000"/>
                  </a:lnTo>
                  <a:lnTo>
                    <a:pt x="1602" y="1010"/>
                  </a:lnTo>
                  <a:lnTo>
                    <a:pt x="1618" y="1028"/>
                  </a:lnTo>
                  <a:lnTo>
                    <a:pt x="1626" y="1036"/>
                  </a:lnTo>
                  <a:lnTo>
                    <a:pt x="1632" y="1046"/>
                  </a:lnTo>
                  <a:lnTo>
                    <a:pt x="1634" y="1056"/>
                  </a:lnTo>
                  <a:lnTo>
                    <a:pt x="1634" y="1062"/>
                  </a:lnTo>
                  <a:lnTo>
                    <a:pt x="1632" y="1068"/>
                  </a:lnTo>
                  <a:lnTo>
                    <a:pt x="1632" y="1068"/>
                  </a:lnTo>
                  <a:lnTo>
                    <a:pt x="1626" y="1078"/>
                  </a:lnTo>
                  <a:lnTo>
                    <a:pt x="1618" y="1086"/>
                  </a:lnTo>
                  <a:lnTo>
                    <a:pt x="1610" y="1094"/>
                  </a:lnTo>
                  <a:lnTo>
                    <a:pt x="1600" y="1098"/>
                  </a:lnTo>
                  <a:lnTo>
                    <a:pt x="1590" y="1102"/>
                  </a:lnTo>
                  <a:lnTo>
                    <a:pt x="1580" y="1104"/>
                  </a:lnTo>
                  <a:lnTo>
                    <a:pt x="1558" y="1106"/>
                  </a:lnTo>
                  <a:lnTo>
                    <a:pt x="1536" y="1108"/>
                  </a:lnTo>
                  <a:lnTo>
                    <a:pt x="1516" y="1112"/>
                  </a:lnTo>
                  <a:lnTo>
                    <a:pt x="1506" y="1114"/>
                  </a:lnTo>
                  <a:lnTo>
                    <a:pt x="1496" y="1120"/>
                  </a:lnTo>
                  <a:lnTo>
                    <a:pt x="1488" y="1126"/>
                  </a:lnTo>
                  <a:lnTo>
                    <a:pt x="1482" y="1136"/>
                  </a:lnTo>
                  <a:lnTo>
                    <a:pt x="1482" y="1136"/>
                  </a:lnTo>
                  <a:lnTo>
                    <a:pt x="1468" y="1154"/>
                  </a:lnTo>
                  <a:lnTo>
                    <a:pt x="1462" y="1160"/>
                  </a:lnTo>
                  <a:lnTo>
                    <a:pt x="1454" y="1166"/>
                  </a:lnTo>
                  <a:lnTo>
                    <a:pt x="1446" y="1172"/>
                  </a:lnTo>
                  <a:lnTo>
                    <a:pt x="1438" y="1176"/>
                  </a:lnTo>
                  <a:lnTo>
                    <a:pt x="1428" y="1180"/>
                  </a:lnTo>
                  <a:lnTo>
                    <a:pt x="1416" y="1180"/>
                  </a:lnTo>
                  <a:lnTo>
                    <a:pt x="1338" y="1160"/>
                  </a:lnTo>
                  <a:lnTo>
                    <a:pt x="1338" y="1160"/>
                  </a:lnTo>
                  <a:lnTo>
                    <a:pt x="1356" y="1132"/>
                  </a:lnTo>
                  <a:lnTo>
                    <a:pt x="1376" y="1106"/>
                  </a:lnTo>
                  <a:lnTo>
                    <a:pt x="1396" y="1078"/>
                  </a:lnTo>
                  <a:lnTo>
                    <a:pt x="1414" y="1050"/>
                  </a:lnTo>
                  <a:lnTo>
                    <a:pt x="1414" y="1050"/>
                  </a:lnTo>
                  <a:lnTo>
                    <a:pt x="1458" y="1028"/>
                  </a:lnTo>
                  <a:lnTo>
                    <a:pt x="1480" y="1016"/>
                  </a:lnTo>
                  <a:lnTo>
                    <a:pt x="1500" y="1002"/>
                  </a:lnTo>
                  <a:lnTo>
                    <a:pt x="1516" y="984"/>
                  </a:lnTo>
                  <a:lnTo>
                    <a:pt x="1530" y="966"/>
                  </a:lnTo>
                  <a:lnTo>
                    <a:pt x="1536" y="956"/>
                  </a:lnTo>
                  <a:lnTo>
                    <a:pt x="1540" y="944"/>
                  </a:lnTo>
                  <a:lnTo>
                    <a:pt x="1544" y="930"/>
                  </a:lnTo>
                  <a:lnTo>
                    <a:pt x="1546" y="918"/>
                  </a:lnTo>
                  <a:lnTo>
                    <a:pt x="1546" y="918"/>
                  </a:lnTo>
                  <a:lnTo>
                    <a:pt x="1548" y="888"/>
                  </a:lnTo>
                  <a:lnTo>
                    <a:pt x="1546" y="860"/>
                  </a:lnTo>
                  <a:lnTo>
                    <a:pt x="1544" y="832"/>
                  </a:lnTo>
                  <a:lnTo>
                    <a:pt x="1538" y="804"/>
                  </a:lnTo>
                  <a:lnTo>
                    <a:pt x="1538" y="804"/>
                  </a:lnTo>
                  <a:lnTo>
                    <a:pt x="1558" y="812"/>
                  </a:lnTo>
                  <a:lnTo>
                    <a:pt x="1580" y="816"/>
                  </a:lnTo>
                  <a:lnTo>
                    <a:pt x="1624" y="828"/>
                  </a:lnTo>
                  <a:lnTo>
                    <a:pt x="1624" y="828"/>
                  </a:lnTo>
                  <a:lnTo>
                    <a:pt x="1630" y="836"/>
                  </a:lnTo>
                  <a:lnTo>
                    <a:pt x="1636" y="848"/>
                  </a:lnTo>
                  <a:lnTo>
                    <a:pt x="1640" y="858"/>
                  </a:lnTo>
                  <a:lnTo>
                    <a:pt x="1642" y="868"/>
                  </a:lnTo>
                  <a:lnTo>
                    <a:pt x="1642" y="880"/>
                  </a:lnTo>
                  <a:lnTo>
                    <a:pt x="1640" y="890"/>
                  </a:lnTo>
                  <a:lnTo>
                    <a:pt x="1632" y="900"/>
                  </a:lnTo>
                  <a:lnTo>
                    <a:pt x="1622" y="908"/>
                  </a:lnTo>
                  <a:lnTo>
                    <a:pt x="1622" y="908"/>
                  </a:lnTo>
                  <a:lnTo>
                    <a:pt x="1612" y="914"/>
                  </a:lnTo>
                  <a:lnTo>
                    <a:pt x="1606" y="924"/>
                  </a:lnTo>
                  <a:lnTo>
                    <a:pt x="1600" y="934"/>
                  </a:lnTo>
                  <a:lnTo>
                    <a:pt x="1598" y="946"/>
                  </a:lnTo>
                  <a:lnTo>
                    <a:pt x="1596" y="970"/>
                  </a:lnTo>
                  <a:lnTo>
                    <a:pt x="1596" y="990"/>
                  </a:lnTo>
                  <a:lnTo>
                    <a:pt x="1596" y="990"/>
                  </a:lnTo>
                  <a:close/>
                  <a:moveTo>
                    <a:pt x="854" y="82"/>
                  </a:moveTo>
                  <a:lnTo>
                    <a:pt x="854" y="82"/>
                  </a:lnTo>
                  <a:lnTo>
                    <a:pt x="908" y="72"/>
                  </a:lnTo>
                  <a:lnTo>
                    <a:pt x="962" y="64"/>
                  </a:lnTo>
                  <a:lnTo>
                    <a:pt x="1014" y="60"/>
                  </a:lnTo>
                  <a:lnTo>
                    <a:pt x="1040" y="60"/>
                  </a:lnTo>
                  <a:lnTo>
                    <a:pt x="1066" y="60"/>
                  </a:lnTo>
                  <a:lnTo>
                    <a:pt x="1092" y="64"/>
                  </a:lnTo>
                  <a:lnTo>
                    <a:pt x="1116" y="68"/>
                  </a:lnTo>
                  <a:lnTo>
                    <a:pt x="1140" y="74"/>
                  </a:lnTo>
                  <a:lnTo>
                    <a:pt x="1164" y="84"/>
                  </a:lnTo>
                  <a:lnTo>
                    <a:pt x="1188" y="94"/>
                  </a:lnTo>
                  <a:lnTo>
                    <a:pt x="1210" y="108"/>
                  </a:lnTo>
                  <a:lnTo>
                    <a:pt x="1232" y="124"/>
                  </a:lnTo>
                  <a:lnTo>
                    <a:pt x="1254" y="142"/>
                  </a:lnTo>
                  <a:lnTo>
                    <a:pt x="1254" y="142"/>
                  </a:lnTo>
                  <a:lnTo>
                    <a:pt x="1268" y="176"/>
                  </a:lnTo>
                  <a:lnTo>
                    <a:pt x="1284" y="210"/>
                  </a:lnTo>
                  <a:lnTo>
                    <a:pt x="1290" y="228"/>
                  </a:lnTo>
                  <a:lnTo>
                    <a:pt x="1294" y="246"/>
                  </a:lnTo>
                  <a:lnTo>
                    <a:pt x="1296" y="262"/>
                  </a:lnTo>
                  <a:lnTo>
                    <a:pt x="1292" y="280"/>
                  </a:lnTo>
                  <a:lnTo>
                    <a:pt x="1292" y="280"/>
                  </a:lnTo>
                  <a:lnTo>
                    <a:pt x="1252" y="274"/>
                  </a:lnTo>
                  <a:lnTo>
                    <a:pt x="1210" y="270"/>
                  </a:lnTo>
                  <a:lnTo>
                    <a:pt x="1170" y="266"/>
                  </a:lnTo>
                  <a:lnTo>
                    <a:pt x="1130" y="262"/>
                  </a:lnTo>
                  <a:lnTo>
                    <a:pt x="1088" y="262"/>
                  </a:lnTo>
                  <a:lnTo>
                    <a:pt x="1048" y="262"/>
                  </a:lnTo>
                  <a:lnTo>
                    <a:pt x="968" y="264"/>
                  </a:lnTo>
                  <a:lnTo>
                    <a:pt x="888" y="272"/>
                  </a:lnTo>
                  <a:lnTo>
                    <a:pt x="810" y="284"/>
                  </a:lnTo>
                  <a:lnTo>
                    <a:pt x="732" y="298"/>
                  </a:lnTo>
                  <a:lnTo>
                    <a:pt x="654" y="318"/>
                  </a:lnTo>
                  <a:lnTo>
                    <a:pt x="654" y="318"/>
                  </a:lnTo>
                  <a:lnTo>
                    <a:pt x="658" y="298"/>
                  </a:lnTo>
                  <a:lnTo>
                    <a:pt x="662" y="278"/>
                  </a:lnTo>
                  <a:lnTo>
                    <a:pt x="668" y="258"/>
                  </a:lnTo>
                  <a:lnTo>
                    <a:pt x="676" y="240"/>
                  </a:lnTo>
                  <a:lnTo>
                    <a:pt x="686" y="222"/>
                  </a:lnTo>
                  <a:lnTo>
                    <a:pt x="696" y="204"/>
                  </a:lnTo>
                  <a:lnTo>
                    <a:pt x="708" y="188"/>
                  </a:lnTo>
                  <a:lnTo>
                    <a:pt x="720" y="172"/>
                  </a:lnTo>
                  <a:lnTo>
                    <a:pt x="734" y="158"/>
                  </a:lnTo>
                  <a:lnTo>
                    <a:pt x="750" y="144"/>
                  </a:lnTo>
                  <a:lnTo>
                    <a:pt x="766" y="130"/>
                  </a:lnTo>
                  <a:lnTo>
                    <a:pt x="782" y="118"/>
                  </a:lnTo>
                  <a:lnTo>
                    <a:pt x="800" y="108"/>
                  </a:lnTo>
                  <a:lnTo>
                    <a:pt x="818" y="98"/>
                  </a:lnTo>
                  <a:lnTo>
                    <a:pt x="836" y="90"/>
                  </a:lnTo>
                  <a:lnTo>
                    <a:pt x="854" y="82"/>
                  </a:lnTo>
                  <a:lnTo>
                    <a:pt x="854" y="82"/>
                  </a:lnTo>
                  <a:close/>
                  <a:moveTo>
                    <a:pt x="276" y="1016"/>
                  </a:moveTo>
                  <a:lnTo>
                    <a:pt x="276" y="1016"/>
                  </a:lnTo>
                  <a:lnTo>
                    <a:pt x="242" y="990"/>
                  </a:lnTo>
                  <a:lnTo>
                    <a:pt x="212" y="960"/>
                  </a:lnTo>
                  <a:lnTo>
                    <a:pt x="196" y="944"/>
                  </a:lnTo>
                  <a:lnTo>
                    <a:pt x="184" y="926"/>
                  </a:lnTo>
                  <a:lnTo>
                    <a:pt x="172" y="908"/>
                  </a:lnTo>
                  <a:lnTo>
                    <a:pt x="160" y="890"/>
                  </a:lnTo>
                  <a:lnTo>
                    <a:pt x="150" y="870"/>
                  </a:lnTo>
                  <a:lnTo>
                    <a:pt x="142" y="850"/>
                  </a:lnTo>
                  <a:lnTo>
                    <a:pt x="136" y="830"/>
                  </a:lnTo>
                  <a:lnTo>
                    <a:pt x="132" y="810"/>
                  </a:lnTo>
                  <a:lnTo>
                    <a:pt x="130" y="788"/>
                  </a:lnTo>
                  <a:lnTo>
                    <a:pt x="128" y="768"/>
                  </a:lnTo>
                  <a:lnTo>
                    <a:pt x="130" y="746"/>
                  </a:lnTo>
                  <a:lnTo>
                    <a:pt x="134" y="724"/>
                  </a:lnTo>
                  <a:lnTo>
                    <a:pt x="134" y="724"/>
                  </a:lnTo>
                  <a:lnTo>
                    <a:pt x="142" y="704"/>
                  </a:lnTo>
                  <a:lnTo>
                    <a:pt x="154" y="686"/>
                  </a:lnTo>
                  <a:lnTo>
                    <a:pt x="166" y="668"/>
                  </a:lnTo>
                  <a:lnTo>
                    <a:pt x="178" y="650"/>
                  </a:lnTo>
                  <a:lnTo>
                    <a:pt x="208" y="616"/>
                  </a:lnTo>
                  <a:lnTo>
                    <a:pt x="238" y="586"/>
                  </a:lnTo>
                  <a:lnTo>
                    <a:pt x="238" y="586"/>
                  </a:lnTo>
                  <a:lnTo>
                    <a:pt x="270" y="560"/>
                  </a:lnTo>
                  <a:lnTo>
                    <a:pt x="304" y="536"/>
                  </a:lnTo>
                  <a:lnTo>
                    <a:pt x="340" y="514"/>
                  </a:lnTo>
                  <a:lnTo>
                    <a:pt x="378" y="494"/>
                  </a:lnTo>
                  <a:lnTo>
                    <a:pt x="454" y="458"/>
                  </a:lnTo>
                  <a:lnTo>
                    <a:pt x="530" y="424"/>
                  </a:lnTo>
                  <a:lnTo>
                    <a:pt x="530" y="424"/>
                  </a:lnTo>
                  <a:lnTo>
                    <a:pt x="592" y="402"/>
                  </a:lnTo>
                  <a:lnTo>
                    <a:pt x="622" y="390"/>
                  </a:lnTo>
                  <a:lnTo>
                    <a:pt x="650" y="378"/>
                  </a:lnTo>
                  <a:lnTo>
                    <a:pt x="650" y="378"/>
                  </a:lnTo>
                  <a:lnTo>
                    <a:pt x="710" y="362"/>
                  </a:lnTo>
                  <a:lnTo>
                    <a:pt x="770" y="350"/>
                  </a:lnTo>
                  <a:lnTo>
                    <a:pt x="832" y="340"/>
                  </a:lnTo>
                  <a:lnTo>
                    <a:pt x="894" y="332"/>
                  </a:lnTo>
                  <a:lnTo>
                    <a:pt x="956" y="326"/>
                  </a:lnTo>
                  <a:lnTo>
                    <a:pt x="1018" y="322"/>
                  </a:lnTo>
                  <a:lnTo>
                    <a:pt x="1082" y="322"/>
                  </a:lnTo>
                  <a:lnTo>
                    <a:pt x="1144" y="324"/>
                  </a:lnTo>
                  <a:lnTo>
                    <a:pt x="1208" y="328"/>
                  </a:lnTo>
                  <a:lnTo>
                    <a:pt x="1270" y="336"/>
                  </a:lnTo>
                  <a:lnTo>
                    <a:pt x="1330" y="348"/>
                  </a:lnTo>
                  <a:lnTo>
                    <a:pt x="1392" y="360"/>
                  </a:lnTo>
                  <a:lnTo>
                    <a:pt x="1450" y="378"/>
                  </a:lnTo>
                  <a:lnTo>
                    <a:pt x="1508" y="398"/>
                  </a:lnTo>
                  <a:lnTo>
                    <a:pt x="1564" y="420"/>
                  </a:lnTo>
                  <a:lnTo>
                    <a:pt x="1618" y="448"/>
                  </a:lnTo>
                  <a:lnTo>
                    <a:pt x="1712" y="524"/>
                  </a:lnTo>
                  <a:lnTo>
                    <a:pt x="1712" y="524"/>
                  </a:lnTo>
                  <a:lnTo>
                    <a:pt x="1740" y="554"/>
                  </a:lnTo>
                  <a:lnTo>
                    <a:pt x="1770" y="584"/>
                  </a:lnTo>
                  <a:lnTo>
                    <a:pt x="1800" y="614"/>
                  </a:lnTo>
                  <a:lnTo>
                    <a:pt x="1828" y="644"/>
                  </a:lnTo>
                  <a:lnTo>
                    <a:pt x="1840" y="662"/>
                  </a:lnTo>
                  <a:lnTo>
                    <a:pt x="1850" y="678"/>
                  </a:lnTo>
                  <a:lnTo>
                    <a:pt x="1860" y="694"/>
                  </a:lnTo>
                  <a:lnTo>
                    <a:pt x="1866" y="712"/>
                  </a:lnTo>
                  <a:lnTo>
                    <a:pt x="1872" y="730"/>
                  </a:lnTo>
                  <a:lnTo>
                    <a:pt x="1874" y="750"/>
                  </a:lnTo>
                  <a:lnTo>
                    <a:pt x="1874" y="768"/>
                  </a:lnTo>
                  <a:lnTo>
                    <a:pt x="1872" y="790"/>
                  </a:lnTo>
                  <a:lnTo>
                    <a:pt x="1872" y="790"/>
                  </a:lnTo>
                  <a:lnTo>
                    <a:pt x="1858" y="814"/>
                  </a:lnTo>
                  <a:lnTo>
                    <a:pt x="1844" y="840"/>
                  </a:lnTo>
                  <a:lnTo>
                    <a:pt x="1824" y="864"/>
                  </a:lnTo>
                  <a:lnTo>
                    <a:pt x="1804" y="886"/>
                  </a:lnTo>
                  <a:lnTo>
                    <a:pt x="1780" y="908"/>
                  </a:lnTo>
                  <a:lnTo>
                    <a:pt x="1756" y="926"/>
                  </a:lnTo>
                  <a:lnTo>
                    <a:pt x="1730" y="942"/>
                  </a:lnTo>
                  <a:lnTo>
                    <a:pt x="1704" y="954"/>
                  </a:lnTo>
                  <a:lnTo>
                    <a:pt x="1704" y="954"/>
                  </a:lnTo>
                  <a:lnTo>
                    <a:pt x="1698" y="952"/>
                  </a:lnTo>
                  <a:lnTo>
                    <a:pt x="1692" y="954"/>
                  </a:lnTo>
                  <a:lnTo>
                    <a:pt x="1680" y="956"/>
                  </a:lnTo>
                  <a:lnTo>
                    <a:pt x="1668" y="958"/>
                  </a:lnTo>
                  <a:lnTo>
                    <a:pt x="1662" y="956"/>
                  </a:lnTo>
                  <a:lnTo>
                    <a:pt x="1656" y="954"/>
                  </a:lnTo>
                  <a:lnTo>
                    <a:pt x="1656" y="954"/>
                  </a:lnTo>
                  <a:lnTo>
                    <a:pt x="1668" y="938"/>
                  </a:lnTo>
                  <a:lnTo>
                    <a:pt x="1678" y="922"/>
                  </a:lnTo>
                  <a:lnTo>
                    <a:pt x="1684" y="906"/>
                  </a:lnTo>
                  <a:lnTo>
                    <a:pt x="1690" y="888"/>
                  </a:lnTo>
                  <a:lnTo>
                    <a:pt x="1690" y="888"/>
                  </a:lnTo>
                  <a:lnTo>
                    <a:pt x="1688" y="872"/>
                  </a:lnTo>
                  <a:lnTo>
                    <a:pt x="1686" y="858"/>
                  </a:lnTo>
                  <a:lnTo>
                    <a:pt x="1676" y="828"/>
                  </a:lnTo>
                  <a:lnTo>
                    <a:pt x="1664" y="802"/>
                  </a:lnTo>
                  <a:lnTo>
                    <a:pt x="1648" y="778"/>
                  </a:lnTo>
                  <a:lnTo>
                    <a:pt x="1648" y="778"/>
                  </a:lnTo>
                  <a:lnTo>
                    <a:pt x="1626" y="770"/>
                  </a:lnTo>
                  <a:lnTo>
                    <a:pt x="1602" y="762"/>
                  </a:lnTo>
                  <a:lnTo>
                    <a:pt x="1580" y="754"/>
                  </a:lnTo>
                  <a:lnTo>
                    <a:pt x="1556" y="746"/>
                  </a:lnTo>
                  <a:lnTo>
                    <a:pt x="1534" y="738"/>
                  </a:lnTo>
                  <a:lnTo>
                    <a:pt x="1514" y="724"/>
                  </a:lnTo>
                  <a:lnTo>
                    <a:pt x="1506" y="716"/>
                  </a:lnTo>
                  <a:lnTo>
                    <a:pt x="1496" y="708"/>
                  </a:lnTo>
                  <a:lnTo>
                    <a:pt x="1488" y="698"/>
                  </a:lnTo>
                  <a:lnTo>
                    <a:pt x="1482" y="688"/>
                  </a:lnTo>
                  <a:lnTo>
                    <a:pt x="1482" y="688"/>
                  </a:lnTo>
                  <a:lnTo>
                    <a:pt x="1472" y="668"/>
                  </a:lnTo>
                  <a:lnTo>
                    <a:pt x="1462" y="648"/>
                  </a:lnTo>
                  <a:lnTo>
                    <a:pt x="1450" y="630"/>
                  </a:lnTo>
                  <a:lnTo>
                    <a:pt x="1438" y="614"/>
                  </a:lnTo>
                  <a:lnTo>
                    <a:pt x="1424" y="598"/>
                  </a:lnTo>
                  <a:lnTo>
                    <a:pt x="1408" y="582"/>
                  </a:lnTo>
                  <a:lnTo>
                    <a:pt x="1376" y="556"/>
                  </a:lnTo>
                  <a:lnTo>
                    <a:pt x="1342" y="530"/>
                  </a:lnTo>
                  <a:lnTo>
                    <a:pt x="1306" y="508"/>
                  </a:lnTo>
                  <a:lnTo>
                    <a:pt x="1232" y="466"/>
                  </a:lnTo>
                  <a:lnTo>
                    <a:pt x="1232" y="466"/>
                  </a:lnTo>
                  <a:lnTo>
                    <a:pt x="1158" y="454"/>
                  </a:lnTo>
                  <a:lnTo>
                    <a:pt x="1082" y="442"/>
                  </a:lnTo>
                  <a:lnTo>
                    <a:pt x="1046" y="436"/>
                  </a:lnTo>
                  <a:lnTo>
                    <a:pt x="1008" y="434"/>
                  </a:lnTo>
                  <a:lnTo>
                    <a:pt x="970" y="432"/>
                  </a:lnTo>
                  <a:lnTo>
                    <a:pt x="932" y="434"/>
                  </a:lnTo>
                  <a:lnTo>
                    <a:pt x="932" y="434"/>
                  </a:lnTo>
                  <a:lnTo>
                    <a:pt x="898" y="440"/>
                  </a:lnTo>
                  <a:lnTo>
                    <a:pt x="864" y="446"/>
                  </a:lnTo>
                  <a:lnTo>
                    <a:pt x="794" y="458"/>
                  </a:lnTo>
                  <a:lnTo>
                    <a:pt x="760" y="464"/>
                  </a:lnTo>
                  <a:lnTo>
                    <a:pt x="726" y="472"/>
                  </a:lnTo>
                  <a:lnTo>
                    <a:pt x="694" y="484"/>
                  </a:lnTo>
                  <a:lnTo>
                    <a:pt x="664" y="498"/>
                  </a:lnTo>
                  <a:lnTo>
                    <a:pt x="664" y="498"/>
                  </a:lnTo>
                  <a:lnTo>
                    <a:pt x="642" y="512"/>
                  </a:lnTo>
                  <a:lnTo>
                    <a:pt x="622" y="526"/>
                  </a:lnTo>
                  <a:lnTo>
                    <a:pt x="602" y="540"/>
                  </a:lnTo>
                  <a:lnTo>
                    <a:pt x="584" y="556"/>
                  </a:lnTo>
                  <a:lnTo>
                    <a:pt x="566" y="574"/>
                  </a:lnTo>
                  <a:lnTo>
                    <a:pt x="548" y="592"/>
                  </a:lnTo>
                  <a:lnTo>
                    <a:pt x="532" y="610"/>
                  </a:lnTo>
                  <a:lnTo>
                    <a:pt x="518" y="628"/>
                  </a:lnTo>
                  <a:lnTo>
                    <a:pt x="518" y="628"/>
                  </a:lnTo>
                  <a:lnTo>
                    <a:pt x="506" y="634"/>
                  </a:lnTo>
                  <a:lnTo>
                    <a:pt x="496" y="640"/>
                  </a:lnTo>
                  <a:lnTo>
                    <a:pt x="484" y="642"/>
                  </a:lnTo>
                  <a:lnTo>
                    <a:pt x="470" y="640"/>
                  </a:lnTo>
                  <a:lnTo>
                    <a:pt x="470" y="640"/>
                  </a:lnTo>
                  <a:lnTo>
                    <a:pt x="456" y="624"/>
                  </a:lnTo>
                  <a:lnTo>
                    <a:pt x="442" y="610"/>
                  </a:lnTo>
                  <a:lnTo>
                    <a:pt x="426" y="598"/>
                  </a:lnTo>
                  <a:lnTo>
                    <a:pt x="416" y="594"/>
                  </a:lnTo>
                  <a:lnTo>
                    <a:pt x="406" y="590"/>
                  </a:lnTo>
                  <a:lnTo>
                    <a:pt x="406" y="590"/>
                  </a:lnTo>
                  <a:lnTo>
                    <a:pt x="388" y="590"/>
                  </a:lnTo>
                  <a:lnTo>
                    <a:pt x="374" y="594"/>
                  </a:lnTo>
                  <a:lnTo>
                    <a:pt x="360" y="600"/>
                  </a:lnTo>
                  <a:lnTo>
                    <a:pt x="348" y="610"/>
                  </a:lnTo>
                  <a:lnTo>
                    <a:pt x="338" y="622"/>
                  </a:lnTo>
                  <a:lnTo>
                    <a:pt x="328" y="636"/>
                  </a:lnTo>
                  <a:lnTo>
                    <a:pt x="312" y="664"/>
                  </a:lnTo>
                  <a:lnTo>
                    <a:pt x="312" y="664"/>
                  </a:lnTo>
                  <a:lnTo>
                    <a:pt x="308" y="672"/>
                  </a:lnTo>
                  <a:lnTo>
                    <a:pt x="308" y="680"/>
                  </a:lnTo>
                  <a:lnTo>
                    <a:pt x="310" y="686"/>
                  </a:lnTo>
                  <a:lnTo>
                    <a:pt x="314" y="692"/>
                  </a:lnTo>
                  <a:lnTo>
                    <a:pt x="324" y="704"/>
                  </a:lnTo>
                  <a:lnTo>
                    <a:pt x="326" y="710"/>
                  </a:lnTo>
                  <a:lnTo>
                    <a:pt x="330" y="718"/>
                  </a:lnTo>
                  <a:lnTo>
                    <a:pt x="348" y="732"/>
                  </a:lnTo>
                  <a:lnTo>
                    <a:pt x="348" y="732"/>
                  </a:lnTo>
                  <a:lnTo>
                    <a:pt x="334" y="752"/>
                  </a:lnTo>
                  <a:lnTo>
                    <a:pt x="322" y="772"/>
                  </a:lnTo>
                  <a:lnTo>
                    <a:pt x="318" y="784"/>
                  </a:lnTo>
                  <a:lnTo>
                    <a:pt x="314" y="794"/>
                  </a:lnTo>
                  <a:lnTo>
                    <a:pt x="314" y="806"/>
                  </a:lnTo>
                  <a:lnTo>
                    <a:pt x="316" y="818"/>
                  </a:lnTo>
                  <a:lnTo>
                    <a:pt x="316" y="818"/>
                  </a:lnTo>
                  <a:lnTo>
                    <a:pt x="322" y="828"/>
                  </a:lnTo>
                  <a:lnTo>
                    <a:pt x="324" y="840"/>
                  </a:lnTo>
                  <a:lnTo>
                    <a:pt x="324" y="850"/>
                  </a:lnTo>
                  <a:lnTo>
                    <a:pt x="322" y="862"/>
                  </a:lnTo>
                  <a:lnTo>
                    <a:pt x="316" y="884"/>
                  </a:lnTo>
                  <a:lnTo>
                    <a:pt x="312" y="896"/>
                  </a:lnTo>
                  <a:lnTo>
                    <a:pt x="312" y="908"/>
                  </a:lnTo>
                  <a:lnTo>
                    <a:pt x="312" y="908"/>
                  </a:lnTo>
                  <a:lnTo>
                    <a:pt x="298" y="964"/>
                  </a:lnTo>
                  <a:lnTo>
                    <a:pt x="288" y="990"/>
                  </a:lnTo>
                  <a:lnTo>
                    <a:pt x="276" y="1016"/>
                  </a:lnTo>
                  <a:lnTo>
                    <a:pt x="276" y="1016"/>
                  </a:lnTo>
                  <a:close/>
                  <a:moveTo>
                    <a:pt x="280" y="1558"/>
                  </a:moveTo>
                  <a:lnTo>
                    <a:pt x="280" y="1558"/>
                  </a:lnTo>
                  <a:lnTo>
                    <a:pt x="278" y="1578"/>
                  </a:lnTo>
                  <a:lnTo>
                    <a:pt x="272" y="1596"/>
                  </a:lnTo>
                  <a:lnTo>
                    <a:pt x="256" y="1628"/>
                  </a:lnTo>
                  <a:lnTo>
                    <a:pt x="240" y="1624"/>
                  </a:lnTo>
                  <a:lnTo>
                    <a:pt x="280" y="1558"/>
                  </a:lnTo>
                  <a:close/>
                  <a:moveTo>
                    <a:pt x="294" y="2142"/>
                  </a:moveTo>
                  <a:lnTo>
                    <a:pt x="294" y="2142"/>
                  </a:lnTo>
                  <a:lnTo>
                    <a:pt x="274" y="2150"/>
                  </a:lnTo>
                  <a:lnTo>
                    <a:pt x="250" y="2156"/>
                  </a:lnTo>
                  <a:lnTo>
                    <a:pt x="226" y="2160"/>
                  </a:lnTo>
                  <a:lnTo>
                    <a:pt x="202" y="2160"/>
                  </a:lnTo>
                  <a:lnTo>
                    <a:pt x="178" y="2158"/>
                  </a:lnTo>
                  <a:lnTo>
                    <a:pt x="154" y="2152"/>
                  </a:lnTo>
                  <a:lnTo>
                    <a:pt x="132" y="2146"/>
                  </a:lnTo>
                  <a:lnTo>
                    <a:pt x="112" y="2134"/>
                  </a:lnTo>
                  <a:lnTo>
                    <a:pt x="112" y="2134"/>
                  </a:lnTo>
                  <a:lnTo>
                    <a:pt x="92" y="2112"/>
                  </a:lnTo>
                  <a:lnTo>
                    <a:pt x="72" y="2088"/>
                  </a:lnTo>
                  <a:lnTo>
                    <a:pt x="66" y="2076"/>
                  </a:lnTo>
                  <a:lnTo>
                    <a:pt x="60" y="2062"/>
                  </a:lnTo>
                  <a:lnTo>
                    <a:pt x="56" y="2048"/>
                  </a:lnTo>
                  <a:lnTo>
                    <a:pt x="56" y="2032"/>
                  </a:lnTo>
                  <a:lnTo>
                    <a:pt x="56" y="2032"/>
                  </a:lnTo>
                  <a:lnTo>
                    <a:pt x="60" y="2014"/>
                  </a:lnTo>
                  <a:lnTo>
                    <a:pt x="66" y="1994"/>
                  </a:lnTo>
                  <a:lnTo>
                    <a:pt x="74" y="1978"/>
                  </a:lnTo>
                  <a:lnTo>
                    <a:pt x="84" y="1960"/>
                  </a:lnTo>
                  <a:lnTo>
                    <a:pt x="106" y="1926"/>
                  </a:lnTo>
                  <a:lnTo>
                    <a:pt x="116" y="1910"/>
                  </a:lnTo>
                  <a:lnTo>
                    <a:pt x="126" y="1892"/>
                  </a:lnTo>
                  <a:lnTo>
                    <a:pt x="126" y="1892"/>
                  </a:lnTo>
                  <a:lnTo>
                    <a:pt x="138" y="1864"/>
                  </a:lnTo>
                  <a:lnTo>
                    <a:pt x="150" y="1836"/>
                  </a:lnTo>
                  <a:lnTo>
                    <a:pt x="170" y="1778"/>
                  </a:lnTo>
                  <a:lnTo>
                    <a:pt x="190" y="1720"/>
                  </a:lnTo>
                  <a:lnTo>
                    <a:pt x="202" y="1690"/>
                  </a:lnTo>
                  <a:lnTo>
                    <a:pt x="216" y="1662"/>
                  </a:lnTo>
                  <a:lnTo>
                    <a:pt x="216" y="1662"/>
                  </a:lnTo>
                  <a:lnTo>
                    <a:pt x="248" y="1686"/>
                  </a:lnTo>
                  <a:lnTo>
                    <a:pt x="284" y="1708"/>
                  </a:lnTo>
                  <a:lnTo>
                    <a:pt x="320" y="1726"/>
                  </a:lnTo>
                  <a:lnTo>
                    <a:pt x="358" y="1742"/>
                  </a:lnTo>
                  <a:lnTo>
                    <a:pt x="396" y="1754"/>
                  </a:lnTo>
                  <a:lnTo>
                    <a:pt x="436" y="1762"/>
                  </a:lnTo>
                  <a:lnTo>
                    <a:pt x="476" y="1768"/>
                  </a:lnTo>
                  <a:lnTo>
                    <a:pt x="518" y="1772"/>
                  </a:lnTo>
                  <a:lnTo>
                    <a:pt x="518" y="1772"/>
                  </a:lnTo>
                  <a:lnTo>
                    <a:pt x="530" y="1768"/>
                  </a:lnTo>
                  <a:lnTo>
                    <a:pt x="540" y="1762"/>
                  </a:lnTo>
                  <a:lnTo>
                    <a:pt x="560" y="1748"/>
                  </a:lnTo>
                  <a:lnTo>
                    <a:pt x="560" y="1748"/>
                  </a:lnTo>
                  <a:lnTo>
                    <a:pt x="562" y="1752"/>
                  </a:lnTo>
                  <a:lnTo>
                    <a:pt x="562" y="1758"/>
                  </a:lnTo>
                  <a:lnTo>
                    <a:pt x="558" y="1772"/>
                  </a:lnTo>
                  <a:lnTo>
                    <a:pt x="552" y="1788"/>
                  </a:lnTo>
                  <a:lnTo>
                    <a:pt x="548" y="1802"/>
                  </a:lnTo>
                  <a:lnTo>
                    <a:pt x="548" y="1802"/>
                  </a:lnTo>
                  <a:lnTo>
                    <a:pt x="548" y="1824"/>
                  </a:lnTo>
                  <a:lnTo>
                    <a:pt x="554" y="1844"/>
                  </a:lnTo>
                  <a:lnTo>
                    <a:pt x="558" y="1854"/>
                  </a:lnTo>
                  <a:lnTo>
                    <a:pt x="562" y="1862"/>
                  </a:lnTo>
                  <a:lnTo>
                    <a:pt x="570" y="1870"/>
                  </a:lnTo>
                  <a:lnTo>
                    <a:pt x="578" y="1876"/>
                  </a:lnTo>
                  <a:lnTo>
                    <a:pt x="578" y="1876"/>
                  </a:lnTo>
                  <a:lnTo>
                    <a:pt x="570" y="1898"/>
                  </a:lnTo>
                  <a:lnTo>
                    <a:pt x="560" y="1922"/>
                  </a:lnTo>
                  <a:lnTo>
                    <a:pt x="548" y="1942"/>
                  </a:lnTo>
                  <a:lnTo>
                    <a:pt x="534" y="1964"/>
                  </a:lnTo>
                  <a:lnTo>
                    <a:pt x="518" y="1984"/>
                  </a:lnTo>
                  <a:lnTo>
                    <a:pt x="502" y="2002"/>
                  </a:lnTo>
                  <a:lnTo>
                    <a:pt x="484" y="2020"/>
                  </a:lnTo>
                  <a:lnTo>
                    <a:pt x="464" y="2038"/>
                  </a:lnTo>
                  <a:lnTo>
                    <a:pt x="424" y="2068"/>
                  </a:lnTo>
                  <a:lnTo>
                    <a:pt x="380" y="2096"/>
                  </a:lnTo>
                  <a:lnTo>
                    <a:pt x="338" y="2122"/>
                  </a:lnTo>
                  <a:lnTo>
                    <a:pt x="294" y="2142"/>
                  </a:lnTo>
                  <a:lnTo>
                    <a:pt x="294" y="2142"/>
                  </a:lnTo>
                  <a:close/>
                  <a:moveTo>
                    <a:pt x="204" y="3570"/>
                  </a:moveTo>
                  <a:lnTo>
                    <a:pt x="204" y="3570"/>
                  </a:lnTo>
                  <a:lnTo>
                    <a:pt x="206" y="3508"/>
                  </a:lnTo>
                  <a:lnTo>
                    <a:pt x="212" y="3446"/>
                  </a:lnTo>
                  <a:lnTo>
                    <a:pt x="222" y="3386"/>
                  </a:lnTo>
                  <a:lnTo>
                    <a:pt x="234" y="3326"/>
                  </a:lnTo>
                  <a:lnTo>
                    <a:pt x="248" y="3268"/>
                  </a:lnTo>
                  <a:lnTo>
                    <a:pt x="266" y="3210"/>
                  </a:lnTo>
                  <a:lnTo>
                    <a:pt x="302" y="3094"/>
                  </a:lnTo>
                  <a:lnTo>
                    <a:pt x="338" y="2978"/>
                  </a:lnTo>
                  <a:lnTo>
                    <a:pt x="356" y="2920"/>
                  </a:lnTo>
                  <a:lnTo>
                    <a:pt x="372" y="2862"/>
                  </a:lnTo>
                  <a:lnTo>
                    <a:pt x="384" y="2802"/>
                  </a:lnTo>
                  <a:lnTo>
                    <a:pt x="396" y="2742"/>
                  </a:lnTo>
                  <a:lnTo>
                    <a:pt x="404" y="2682"/>
                  </a:lnTo>
                  <a:lnTo>
                    <a:pt x="408" y="2618"/>
                  </a:lnTo>
                  <a:lnTo>
                    <a:pt x="408" y="2618"/>
                  </a:lnTo>
                  <a:lnTo>
                    <a:pt x="410" y="2568"/>
                  </a:lnTo>
                  <a:lnTo>
                    <a:pt x="414" y="2518"/>
                  </a:lnTo>
                  <a:lnTo>
                    <a:pt x="418" y="2494"/>
                  </a:lnTo>
                  <a:lnTo>
                    <a:pt x="422" y="2470"/>
                  </a:lnTo>
                  <a:lnTo>
                    <a:pt x="428" y="2448"/>
                  </a:lnTo>
                  <a:lnTo>
                    <a:pt x="436" y="2426"/>
                  </a:lnTo>
                  <a:lnTo>
                    <a:pt x="436" y="2426"/>
                  </a:lnTo>
                  <a:lnTo>
                    <a:pt x="454" y="2410"/>
                  </a:lnTo>
                  <a:lnTo>
                    <a:pt x="468" y="2394"/>
                  </a:lnTo>
                  <a:lnTo>
                    <a:pt x="480" y="2378"/>
                  </a:lnTo>
                  <a:lnTo>
                    <a:pt x="486" y="2360"/>
                  </a:lnTo>
                  <a:lnTo>
                    <a:pt x="492" y="2340"/>
                  </a:lnTo>
                  <a:lnTo>
                    <a:pt x="496" y="2320"/>
                  </a:lnTo>
                  <a:lnTo>
                    <a:pt x="498" y="2300"/>
                  </a:lnTo>
                  <a:lnTo>
                    <a:pt x="498" y="2280"/>
                  </a:lnTo>
                  <a:lnTo>
                    <a:pt x="496" y="2238"/>
                  </a:lnTo>
                  <a:lnTo>
                    <a:pt x="496" y="2196"/>
                  </a:lnTo>
                  <a:lnTo>
                    <a:pt x="498" y="2176"/>
                  </a:lnTo>
                  <a:lnTo>
                    <a:pt x="500" y="2156"/>
                  </a:lnTo>
                  <a:lnTo>
                    <a:pt x="504" y="2136"/>
                  </a:lnTo>
                  <a:lnTo>
                    <a:pt x="510" y="2118"/>
                  </a:lnTo>
                  <a:lnTo>
                    <a:pt x="510" y="2118"/>
                  </a:lnTo>
                  <a:lnTo>
                    <a:pt x="512" y="2108"/>
                  </a:lnTo>
                  <a:lnTo>
                    <a:pt x="514" y="2096"/>
                  </a:lnTo>
                  <a:lnTo>
                    <a:pt x="512" y="2084"/>
                  </a:lnTo>
                  <a:lnTo>
                    <a:pt x="510" y="2080"/>
                  </a:lnTo>
                  <a:lnTo>
                    <a:pt x="506" y="2076"/>
                  </a:lnTo>
                  <a:lnTo>
                    <a:pt x="506" y="2076"/>
                  </a:lnTo>
                  <a:lnTo>
                    <a:pt x="526" y="2060"/>
                  </a:lnTo>
                  <a:lnTo>
                    <a:pt x="546" y="2042"/>
                  </a:lnTo>
                  <a:lnTo>
                    <a:pt x="564" y="2022"/>
                  </a:lnTo>
                  <a:lnTo>
                    <a:pt x="580" y="2000"/>
                  </a:lnTo>
                  <a:lnTo>
                    <a:pt x="610" y="1956"/>
                  </a:lnTo>
                  <a:lnTo>
                    <a:pt x="638" y="1912"/>
                  </a:lnTo>
                  <a:lnTo>
                    <a:pt x="650" y="1904"/>
                  </a:lnTo>
                  <a:lnTo>
                    <a:pt x="650" y="1904"/>
                  </a:lnTo>
                  <a:lnTo>
                    <a:pt x="656" y="1916"/>
                  </a:lnTo>
                  <a:lnTo>
                    <a:pt x="662" y="1926"/>
                  </a:lnTo>
                  <a:lnTo>
                    <a:pt x="670" y="1934"/>
                  </a:lnTo>
                  <a:lnTo>
                    <a:pt x="678" y="1942"/>
                  </a:lnTo>
                  <a:lnTo>
                    <a:pt x="700" y="1952"/>
                  </a:lnTo>
                  <a:lnTo>
                    <a:pt x="722" y="1960"/>
                  </a:lnTo>
                  <a:lnTo>
                    <a:pt x="722" y="1960"/>
                  </a:lnTo>
                  <a:lnTo>
                    <a:pt x="752" y="1958"/>
                  </a:lnTo>
                  <a:lnTo>
                    <a:pt x="768" y="1958"/>
                  </a:lnTo>
                  <a:lnTo>
                    <a:pt x="784" y="1956"/>
                  </a:lnTo>
                  <a:lnTo>
                    <a:pt x="798" y="1952"/>
                  </a:lnTo>
                  <a:lnTo>
                    <a:pt x="812" y="1946"/>
                  </a:lnTo>
                  <a:lnTo>
                    <a:pt x="824" y="1938"/>
                  </a:lnTo>
                  <a:lnTo>
                    <a:pt x="828" y="1932"/>
                  </a:lnTo>
                  <a:lnTo>
                    <a:pt x="832" y="1924"/>
                  </a:lnTo>
                  <a:lnTo>
                    <a:pt x="848" y="1888"/>
                  </a:lnTo>
                  <a:lnTo>
                    <a:pt x="848" y="1888"/>
                  </a:lnTo>
                  <a:lnTo>
                    <a:pt x="868" y="1884"/>
                  </a:lnTo>
                  <a:lnTo>
                    <a:pt x="886" y="1878"/>
                  </a:lnTo>
                  <a:lnTo>
                    <a:pt x="896" y="1874"/>
                  </a:lnTo>
                  <a:lnTo>
                    <a:pt x="904" y="1868"/>
                  </a:lnTo>
                  <a:lnTo>
                    <a:pt x="912" y="1860"/>
                  </a:lnTo>
                  <a:lnTo>
                    <a:pt x="918" y="1852"/>
                  </a:lnTo>
                  <a:lnTo>
                    <a:pt x="918" y="1852"/>
                  </a:lnTo>
                  <a:lnTo>
                    <a:pt x="922" y="1820"/>
                  </a:lnTo>
                  <a:lnTo>
                    <a:pt x="924" y="1790"/>
                  </a:lnTo>
                  <a:lnTo>
                    <a:pt x="922" y="1774"/>
                  </a:lnTo>
                  <a:lnTo>
                    <a:pt x="920" y="1758"/>
                  </a:lnTo>
                  <a:lnTo>
                    <a:pt x="914" y="1744"/>
                  </a:lnTo>
                  <a:lnTo>
                    <a:pt x="906" y="1730"/>
                  </a:lnTo>
                  <a:lnTo>
                    <a:pt x="906" y="1730"/>
                  </a:lnTo>
                  <a:lnTo>
                    <a:pt x="910" y="1708"/>
                  </a:lnTo>
                  <a:lnTo>
                    <a:pt x="916" y="1684"/>
                  </a:lnTo>
                  <a:lnTo>
                    <a:pt x="922" y="1662"/>
                  </a:lnTo>
                  <a:lnTo>
                    <a:pt x="928" y="1640"/>
                  </a:lnTo>
                  <a:lnTo>
                    <a:pt x="930" y="1618"/>
                  </a:lnTo>
                  <a:lnTo>
                    <a:pt x="930" y="1606"/>
                  </a:lnTo>
                  <a:lnTo>
                    <a:pt x="928" y="1596"/>
                  </a:lnTo>
                  <a:lnTo>
                    <a:pt x="924" y="1586"/>
                  </a:lnTo>
                  <a:lnTo>
                    <a:pt x="918" y="1576"/>
                  </a:lnTo>
                  <a:lnTo>
                    <a:pt x="910" y="1566"/>
                  </a:lnTo>
                  <a:lnTo>
                    <a:pt x="900" y="1556"/>
                  </a:lnTo>
                  <a:lnTo>
                    <a:pt x="900" y="1556"/>
                  </a:lnTo>
                  <a:lnTo>
                    <a:pt x="896" y="1544"/>
                  </a:lnTo>
                  <a:lnTo>
                    <a:pt x="894" y="1530"/>
                  </a:lnTo>
                  <a:lnTo>
                    <a:pt x="892" y="1518"/>
                  </a:lnTo>
                  <a:lnTo>
                    <a:pt x="894" y="1506"/>
                  </a:lnTo>
                  <a:lnTo>
                    <a:pt x="894" y="1496"/>
                  </a:lnTo>
                  <a:lnTo>
                    <a:pt x="898" y="1484"/>
                  </a:lnTo>
                  <a:lnTo>
                    <a:pt x="902" y="1472"/>
                  </a:lnTo>
                  <a:lnTo>
                    <a:pt x="908" y="1462"/>
                  </a:lnTo>
                  <a:lnTo>
                    <a:pt x="908" y="1462"/>
                  </a:lnTo>
                  <a:lnTo>
                    <a:pt x="940" y="1466"/>
                  </a:lnTo>
                  <a:lnTo>
                    <a:pt x="970" y="1468"/>
                  </a:lnTo>
                  <a:lnTo>
                    <a:pt x="1002" y="1468"/>
                  </a:lnTo>
                  <a:lnTo>
                    <a:pt x="1030" y="1468"/>
                  </a:lnTo>
                  <a:lnTo>
                    <a:pt x="1060" y="1464"/>
                  </a:lnTo>
                  <a:lnTo>
                    <a:pt x="1090" y="1458"/>
                  </a:lnTo>
                  <a:lnTo>
                    <a:pt x="1120" y="1452"/>
                  </a:lnTo>
                  <a:lnTo>
                    <a:pt x="1150" y="1442"/>
                  </a:lnTo>
                  <a:lnTo>
                    <a:pt x="1150" y="1442"/>
                  </a:lnTo>
                  <a:lnTo>
                    <a:pt x="1150" y="1452"/>
                  </a:lnTo>
                  <a:lnTo>
                    <a:pt x="1150" y="1462"/>
                  </a:lnTo>
                  <a:lnTo>
                    <a:pt x="1156" y="1480"/>
                  </a:lnTo>
                  <a:lnTo>
                    <a:pt x="1166" y="1498"/>
                  </a:lnTo>
                  <a:lnTo>
                    <a:pt x="1176" y="1514"/>
                  </a:lnTo>
                  <a:lnTo>
                    <a:pt x="1182" y="1532"/>
                  </a:lnTo>
                  <a:lnTo>
                    <a:pt x="1184" y="1540"/>
                  </a:lnTo>
                  <a:lnTo>
                    <a:pt x="1184" y="1548"/>
                  </a:lnTo>
                  <a:lnTo>
                    <a:pt x="1182" y="1556"/>
                  </a:lnTo>
                  <a:lnTo>
                    <a:pt x="1178" y="1566"/>
                  </a:lnTo>
                  <a:lnTo>
                    <a:pt x="1172" y="1574"/>
                  </a:lnTo>
                  <a:lnTo>
                    <a:pt x="1162" y="1584"/>
                  </a:lnTo>
                  <a:lnTo>
                    <a:pt x="1162" y="1584"/>
                  </a:lnTo>
                  <a:lnTo>
                    <a:pt x="1154" y="1594"/>
                  </a:lnTo>
                  <a:lnTo>
                    <a:pt x="1146" y="1604"/>
                  </a:lnTo>
                  <a:lnTo>
                    <a:pt x="1126" y="1624"/>
                  </a:lnTo>
                  <a:lnTo>
                    <a:pt x="1118" y="1636"/>
                  </a:lnTo>
                  <a:lnTo>
                    <a:pt x="1112" y="1646"/>
                  </a:lnTo>
                  <a:lnTo>
                    <a:pt x="1108" y="1660"/>
                  </a:lnTo>
                  <a:lnTo>
                    <a:pt x="1106" y="1672"/>
                  </a:lnTo>
                  <a:lnTo>
                    <a:pt x="1106" y="1672"/>
                  </a:lnTo>
                  <a:lnTo>
                    <a:pt x="1106" y="1688"/>
                  </a:lnTo>
                  <a:lnTo>
                    <a:pt x="1110" y="1704"/>
                  </a:lnTo>
                  <a:lnTo>
                    <a:pt x="1122" y="1732"/>
                  </a:lnTo>
                  <a:lnTo>
                    <a:pt x="1128" y="1746"/>
                  </a:lnTo>
                  <a:lnTo>
                    <a:pt x="1132" y="1760"/>
                  </a:lnTo>
                  <a:lnTo>
                    <a:pt x="1132" y="1776"/>
                  </a:lnTo>
                  <a:lnTo>
                    <a:pt x="1130" y="1782"/>
                  </a:lnTo>
                  <a:lnTo>
                    <a:pt x="1128" y="1790"/>
                  </a:lnTo>
                  <a:lnTo>
                    <a:pt x="1128" y="1790"/>
                  </a:lnTo>
                  <a:lnTo>
                    <a:pt x="1122" y="1796"/>
                  </a:lnTo>
                  <a:lnTo>
                    <a:pt x="1118" y="1804"/>
                  </a:lnTo>
                  <a:lnTo>
                    <a:pt x="1114" y="1818"/>
                  </a:lnTo>
                  <a:lnTo>
                    <a:pt x="1114" y="1834"/>
                  </a:lnTo>
                  <a:lnTo>
                    <a:pt x="1114" y="1848"/>
                  </a:lnTo>
                  <a:lnTo>
                    <a:pt x="1114" y="1864"/>
                  </a:lnTo>
                  <a:lnTo>
                    <a:pt x="1112" y="1878"/>
                  </a:lnTo>
                  <a:lnTo>
                    <a:pt x="1110" y="1886"/>
                  </a:lnTo>
                  <a:lnTo>
                    <a:pt x="1106" y="1892"/>
                  </a:lnTo>
                  <a:lnTo>
                    <a:pt x="1100" y="1898"/>
                  </a:lnTo>
                  <a:lnTo>
                    <a:pt x="1094" y="1902"/>
                  </a:lnTo>
                  <a:lnTo>
                    <a:pt x="1094" y="1902"/>
                  </a:lnTo>
                  <a:lnTo>
                    <a:pt x="1088" y="1914"/>
                  </a:lnTo>
                  <a:lnTo>
                    <a:pt x="1086" y="1924"/>
                  </a:lnTo>
                  <a:lnTo>
                    <a:pt x="1084" y="1934"/>
                  </a:lnTo>
                  <a:lnTo>
                    <a:pt x="1086" y="1944"/>
                  </a:lnTo>
                  <a:lnTo>
                    <a:pt x="1092" y="1964"/>
                  </a:lnTo>
                  <a:lnTo>
                    <a:pt x="1100" y="1984"/>
                  </a:lnTo>
                  <a:lnTo>
                    <a:pt x="1108" y="2004"/>
                  </a:lnTo>
                  <a:lnTo>
                    <a:pt x="1114" y="2024"/>
                  </a:lnTo>
                  <a:lnTo>
                    <a:pt x="1116" y="2034"/>
                  </a:lnTo>
                  <a:lnTo>
                    <a:pt x="1114" y="2044"/>
                  </a:lnTo>
                  <a:lnTo>
                    <a:pt x="1112" y="2056"/>
                  </a:lnTo>
                  <a:lnTo>
                    <a:pt x="1106" y="2068"/>
                  </a:lnTo>
                  <a:lnTo>
                    <a:pt x="1106" y="2068"/>
                  </a:lnTo>
                  <a:lnTo>
                    <a:pt x="1090" y="2080"/>
                  </a:lnTo>
                  <a:lnTo>
                    <a:pt x="1078" y="2094"/>
                  </a:lnTo>
                  <a:lnTo>
                    <a:pt x="1066" y="2110"/>
                  </a:lnTo>
                  <a:lnTo>
                    <a:pt x="1056" y="2126"/>
                  </a:lnTo>
                  <a:lnTo>
                    <a:pt x="1050" y="2142"/>
                  </a:lnTo>
                  <a:lnTo>
                    <a:pt x="1046" y="2162"/>
                  </a:lnTo>
                  <a:lnTo>
                    <a:pt x="1046" y="2180"/>
                  </a:lnTo>
                  <a:lnTo>
                    <a:pt x="1048" y="2200"/>
                  </a:lnTo>
                  <a:lnTo>
                    <a:pt x="1048" y="2200"/>
                  </a:lnTo>
                  <a:lnTo>
                    <a:pt x="1058" y="2208"/>
                  </a:lnTo>
                  <a:lnTo>
                    <a:pt x="1064" y="2216"/>
                  </a:lnTo>
                  <a:lnTo>
                    <a:pt x="1066" y="2226"/>
                  </a:lnTo>
                  <a:lnTo>
                    <a:pt x="1068" y="2234"/>
                  </a:lnTo>
                  <a:lnTo>
                    <a:pt x="1068" y="2242"/>
                  </a:lnTo>
                  <a:lnTo>
                    <a:pt x="1066" y="2250"/>
                  </a:lnTo>
                  <a:lnTo>
                    <a:pt x="1060" y="2266"/>
                  </a:lnTo>
                  <a:lnTo>
                    <a:pt x="1050" y="2284"/>
                  </a:lnTo>
                  <a:lnTo>
                    <a:pt x="1042" y="2300"/>
                  </a:lnTo>
                  <a:lnTo>
                    <a:pt x="1038" y="2316"/>
                  </a:lnTo>
                  <a:lnTo>
                    <a:pt x="1038" y="2326"/>
                  </a:lnTo>
                  <a:lnTo>
                    <a:pt x="1038" y="2334"/>
                  </a:lnTo>
                  <a:lnTo>
                    <a:pt x="1038" y="2334"/>
                  </a:lnTo>
                  <a:lnTo>
                    <a:pt x="1046" y="2354"/>
                  </a:lnTo>
                  <a:lnTo>
                    <a:pt x="1054" y="2374"/>
                  </a:lnTo>
                  <a:lnTo>
                    <a:pt x="1066" y="2418"/>
                  </a:lnTo>
                  <a:lnTo>
                    <a:pt x="1076" y="2460"/>
                  </a:lnTo>
                  <a:lnTo>
                    <a:pt x="1084" y="2480"/>
                  </a:lnTo>
                  <a:lnTo>
                    <a:pt x="1092" y="2500"/>
                  </a:lnTo>
                  <a:lnTo>
                    <a:pt x="1092" y="2500"/>
                  </a:lnTo>
                  <a:lnTo>
                    <a:pt x="1106" y="2510"/>
                  </a:lnTo>
                  <a:lnTo>
                    <a:pt x="1118" y="2524"/>
                  </a:lnTo>
                  <a:lnTo>
                    <a:pt x="1132" y="2538"/>
                  </a:lnTo>
                  <a:lnTo>
                    <a:pt x="1146" y="2552"/>
                  </a:lnTo>
                  <a:lnTo>
                    <a:pt x="1162" y="2564"/>
                  </a:lnTo>
                  <a:lnTo>
                    <a:pt x="1170" y="2568"/>
                  </a:lnTo>
                  <a:lnTo>
                    <a:pt x="1178" y="2572"/>
                  </a:lnTo>
                  <a:lnTo>
                    <a:pt x="1186" y="2574"/>
                  </a:lnTo>
                  <a:lnTo>
                    <a:pt x="1196" y="2574"/>
                  </a:lnTo>
                  <a:lnTo>
                    <a:pt x="1204" y="2574"/>
                  </a:lnTo>
                  <a:lnTo>
                    <a:pt x="1214" y="2570"/>
                  </a:lnTo>
                  <a:lnTo>
                    <a:pt x="1214" y="2570"/>
                  </a:lnTo>
                  <a:lnTo>
                    <a:pt x="1230" y="2570"/>
                  </a:lnTo>
                  <a:lnTo>
                    <a:pt x="1244" y="2568"/>
                  </a:lnTo>
                  <a:lnTo>
                    <a:pt x="1260" y="2564"/>
                  </a:lnTo>
                  <a:lnTo>
                    <a:pt x="1272" y="2556"/>
                  </a:lnTo>
                  <a:lnTo>
                    <a:pt x="1272" y="2556"/>
                  </a:lnTo>
                  <a:lnTo>
                    <a:pt x="1288" y="2552"/>
                  </a:lnTo>
                  <a:lnTo>
                    <a:pt x="1304" y="2550"/>
                  </a:lnTo>
                  <a:lnTo>
                    <a:pt x="1320" y="2552"/>
                  </a:lnTo>
                  <a:lnTo>
                    <a:pt x="1334" y="2556"/>
                  </a:lnTo>
                  <a:lnTo>
                    <a:pt x="1364" y="2564"/>
                  </a:lnTo>
                  <a:lnTo>
                    <a:pt x="1378" y="2566"/>
                  </a:lnTo>
                  <a:lnTo>
                    <a:pt x="1394" y="2568"/>
                  </a:lnTo>
                  <a:lnTo>
                    <a:pt x="1394" y="2568"/>
                  </a:lnTo>
                  <a:lnTo>
                    <a:pt x="1406" y="2566"/>
                  </a:lnTo>
                  <a:lnTo>
                    <a:pt x="1418" y="2562"/>
                  </a:lnTo>
                  <a:lnTo>
                    <a:pt x="1438" y="2550"/>
                  </a:lnTo>
                  <a:lnTo>
                    <a:pt x="1460" y="2540"/>
                  </a:lnTo>
                  <a:lnTo>
                    <a:pt x="1472" y="2538"/>
                  </a:lnTo>
                  <a:lnTo>
                    <a:pt x="1484" y="2536"/>
                  </a:lnTo>
                  <a:lnTo>
                    <a:pt x="1498" y="2564"/>
                  </a:lnTo>
                  <a:lnTo>
                    <a:pt x="1498" y="2564"/>
                  </a:lnTo>
                  <a:lnTo>
                    <a:pt x="1502" y="2618"/>
                  </a:lnTo>
                  <a:lnTo>
                    <a:pt x="1508" y="2672"/>
                  </a:lnTo>
                  <a:lnTo>
                    <a:pt x="1514" y="2724"/>
                  </a:lnTo>
                  <a:lnTo>
                    <a:pt x="1522" y="2778"/>
                  </a:lnTo>
                  <a:lnTo>
                    <a:pt x="1542" y="2884"/>
                  </a:lnTo>
                  <a:lnTo>
                    <a:pt x="1566" y="2988"/>
                  </a:lnTo>
                  <a:lnTo>
                    <a:pt x="1592" y="3090"/>
                  </a:lnTo>
                  <a:lnTo>
                    <a:pt x="1624" y="3192"/>
                  </a:lnTo>
                  <a:lnTo>
                    <a:pt x="1658" y="3290"/>
                  </a:lnTo>
                  <a:lnTo>
                    <a:pt x="1696" y="3388"/>
                  </a:lnTo>
                  <a:lnTo>
                    <a:pt x="1696" y="3388"/>
                  </a:lnTo>
                  <a:lnTo>
                    <a:pt x="1712" y="3438"/>
                  </a:lnTo>
                  <a:lnTo>
                    <a:pt x="1726" y="3490"/>
                  </a:lnTo>
                  <a:lnTo>
                    <a:pt x="1732" y="3516"/>
                  </a:lnTo>
                  <a:lnTo>
                    <a:pt x="1736" y="3540"/>
                  </a:lnTo>
                  <a:lnTo>
                    <a:pt x="1738" y="3566"/>
                  </a:lnTo>
                  <a:lnTo>
                    <a:pt x="1736" y="3592"/>
                  </a:lnTo>
                  <a:lnTo>
                    <a:pt x="1736" y="3592"/>
                  </a:lnTo>
                  <a:lnTo>
                    <a:pt x="1708" y="3608"/>
                  </a:lnTo>
                  <a:lnTo>
                    <a:pt x="1680" y="3622"/>
                  </a:lnTo>
                  <a:lnTo>
                    <a:pt x="1650" y="3634"/>
                  </a:lnTo>
                  <a:lnTo>
                    <a:pt x="1620" y="3642"/>
                  </a:lnTo>
                  <a:lnTo>
                    <a:pt x="1588" y="3650"/>
                  </a:lnTo>
                  <a:lnTo>
                    <a:pt x="1556" y="3656"/>
                  </a:lnTo>
                  <a:lnTo>
                    <a:pt x="1524" y="3662"/>
                  </a:lnTo>
                  <a:lnTo>
                    <a:pt x="1492" y="3666"/>
                  </a:lnTo>
                  <a:lnTo>
                    <a:pt x="1492" y="3666"/>
                  </a:lnTo>
                  <a:lnTo>
                    <a:pt x="1426" y="3678"/>
                  </a:lnTo>
                  <a:lnTo>
                    <a:pt x="1358" y="3688"/>
                  </a:lnTo>
                  <a:lnTo>
                    <a:pt x="1292" y="3698"/>
                  </a:lnTo>
                  <a:lnTo>
                    <a:pt x="1224" y="3704"/>
                  </a:lnTo>
                  <a:lnTo>
                    <a:pt x="1156" y="3710"/>
                  </a:lnTo>
                  <a:lnTo>
                    <a:pt x="1088" y="3714"/>
                  </a:lnTo>
                  <a:lnTo>
                    <a:pt x="1020" y="3714"/>
                  </a:lnTo>
                  <a:lnTo>
                    <a:pt x="952" y="3714"/>
                  </a:lnTo>
                  <a:lnTo>
                    <a:pt x="884" y="3712"/>
                  </a:lnTo>
                  <a:lnTo>
                    <a:pt x="816" y="3708"/>
                  </a:lnTo>
                  <a:lnTo>
                    <a:pt x="750" y="3702"/>
                  </a:lnTo>
                  <a:lnTo>
                    <a:pt x="682" y="3694"/>
                  </a:lnTo>
                  <a:lnTo>
                    <a:pt x="616" y="3684"/>
                  </a:lnTo>
                  <a:lnTo>
                    <a:pt x="550" y="3672"/>
                  </a:lnTo>
                  <a:lnTo>
                    <a:pt x="486" y="3656"/>
                  </a:lnTo>
                  <a:lnTo>
                    <a:pt x="420" y="3640"/>
                  </a:lnTo>
                  <a:lnTo>
                    <a:pt x="420" y="3640"/>
                  </a:lnTo>
                  <a:lnTo>
                    <a:pt x="364" y="3630"/>
                  </a:lnTo>
                  <a:lnTo>
                    <a:pt x="336" y="3624"/>
                  </a:lnTo>
                  <a:lnTo>
                    <a:pt x="308" y="3616"/>
                  </a:lnTo>
                  <a:lnTo>
                    <a:pt x="282" y="3606"/>
                  </a:lnTo>
                  <a:lnTo>
                    <a:pt x="254" y="3596"/>
                  </a:lnTo>
                  <a:lnTo>
                    <a:pt x="228" y="3584"/>
                  </a:lnTo>
                  <a:lnTo>
                    <a:pt x="204" y="3570"/>
                  </a:lnTo>
                  <a:lnTo>
                    <a:pt x="204" y="357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4560840" y="3395520"/>
              <a:ext cx="1019160" cy="409320"/>
            </a:xfrm>
            <a:custGeom>
              <a:avLst/>
              <a:gdLst>
                <a:gd name="textAreaLeft" fmla="*/ 0 w 1019160"/>
                <a:gd name="textAreaRight" fmla="*/ 1019160 w 1019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2" h="258">
                  <a:moveTo>
                    <a:pt x="638" y="220"/>
                  </a:moveTo>
                  <a:lnTo>
                    <a:pt x="638" y="220"/>
                  </a:lnTo>
                  <a:lnTo>
                    <a:pt x="642" y="202"/>
                  </a:lnTo>
                  <a:lnTo>
                    <a:pt x="640" y="186"/>
                  </a:lnTo>
                  <a:lnTo>
                    <a:pt x="636" y="168"/>
                  </a:lnTo>
                  <a:lnTo>
                    <a:pt x="630" y="150"/>
                  </a:lnTo>
                  <a:lnTo>
                    <a:pt x="614" y="116"/>
                  </a:lnTo>
                  <a:lnTo>
                    <a:pt x="600" y="82"/>
                  </a:lnTo>
                  <a:lnTo>
                    <a:pt x="600" y="82"/>
                  </a:lnTo>
                  <a:lnTo>
                    <a:pt x="578" y="64"/>
                  </a:lnTo>
                  <a:lnTo>
                    <a:pt x="556" y="48"/>
                  </a:lnTo>
                  <a:lnTo>
                    <a:pt x="534" y="34"/>
                  </a:lnTo>
                  <a:lnTo>
                    <a:pt x="510" y="24"/>
                  </a:lnTo>
                  <a:lnTo>
                    <a:pt x="486" y="14"/>
                  </a:lnTo>
                  <a:lnTo>
                    <a:pt x="462" y="8"/>
                  </a:lnTo>
                  <a:lnTo>
                    <a:pt x="438" y="4"/>
                  </a:lnTo>
                  <a:lnTo>
                    <a:pt x="412" y="0"/>
                  </a:lnTo>
                  <a:lnTo>
                    <a:pt x="386" y="0"/>
                  </a:lnTo>
                  <a:lnTo>
                    <a:pt x="360" y="0"/>
                  </a:lnTo>
                  <a:lnTo>
                    <a:pt x="308" y="4"/>
                  </a:lnTo>
                  <a:lnTo>
                    <a:pt x="254" y="12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82" y="30"/>
                  </a:lnTo>
                  <a:lnTo>
                    <a:pt x="164" y="38"/>
                  </a:lnTo>
                  <a:lnTo>
                    <a:pt x="146" y="48"/>
                  </a:lnTo>
                  <a:lnTo>
                    <a:pt x="128" y="58"/>
                  </a:lnTo>
                  <a:lnTo>
                    <a:pt x="112" y="70"/>
                  </a:lnTo>
                  <a:lnTo>
                    <a:pt x="96" y="84"/>
                  </a:lnTo>
                  <a:lnTo>
                    <a:pt x="80" y="98"/>
                  </a:lnTo>
                  <a:lnTo>
                    <a:pt x="66" y="112"/>
                  </a:lnTo>
                  <a:lnTo>
                    <a:pt x="54" y="128"/>
                  </a:lnTo>
                  <a:lnTo>
                    <a:pt x="42" y="144"/>
                  </a:lnTo>
                  <a:lnTo>
                    <a:pt x="32" y="162"/>
                  </a:lnTo>
                  <a:lnTo>
                    <a:pt x="22" y="180"/>
                  </a:lnTo>
                  <a:lnTo>
                    <a:pt x="14" y="198"/>
                  </a:lnTo>
                  <a:lnTo>
                    <a:pt x="8" y="218"/>
                  </a:lnTo>
                  <a:lnTo>
                    <a:pt x="4" y="238"/>
                  </a:lnTo>
                  <a:lnTo>
                    <a:pt x="0" y="258"/>
                  </a:lnTo>
                  <a:lnTo>
                    <a:pt x="0" y="258"/>
                  </a:lnTo>
                  <a:lnTo>
                    <a:pt x="78" y="238"/>
                  </a:lnTo>
                  <a:lnTo>
                    <a:pt x="156" y="224"/>
                  </a:lnTo>
                  <a:lnTo>
                    <a:pt x="234" y="212"/>
                  </a:lnTo>
                  <a:lnTo>
                    <a:pt x="314" y="204"/>
                  </a:lnTo>
                  <a:lnTo>
                    <a:pt x="394" y="202"/>
                  </a:lnTo>
                  <a:lnTo>
                    <a:pt x="434" y="202"/>
                  </a:lnTo>
                  <a:lnTo>
                    <a:pt x="476" y="202"/>
                  </a:lnTo>
                  <a:lnTo>
                    <a:pt x="516" y="206"/>
                  </a:lnTo>
                  <a:lnTo>
                    <a:pt x="556" y="210"/>
                  </a:lnTo>
                  <a:lnTo>
                    <a:pt x="598" y="214"/>
                  </a:lnTo>
                  <a:lnTo>
                    <a:pt x="638" y="220"/>
                  </a:lnTo>
                  <a:lnTo>
                    <a:pt x="638" y="220"/>
                  </a:lnTo>
                  <a:close/>
                </a:path>
              </a:pathLst>
            </a:custGeom>
            <a:solidFill>
              <a:srgbClr val="f8e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3726000" y="3811320"/>
              <a:ext cx="2771640" cy="1101600"/>
            </a:xfrm>
            <a:custGeom>
              <a:avLst/>
              <a:gdLst>
                <a:gd name="textAreaLeft" fmla="*/ 0 w 2771640"/>
                <a:gd name="textAreaRight" fmla="*/ 2772000 w 277164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w="1746" h="694">
                  <a:moveTo>
                    <a:pt x="188" y="496"/>
                  </a:moveTo>
                  <a:lnTo>
                    <a:pt x="188" y="496"/>
                  </a:lnTo>
                  <a:lnTo>
                    <a:pt x="186" y="484"/>
                  </a:lnTo>
                  <a:lnTo>
                    <a:pt x="186" y="472"/>
                  </a:lnTo>
                  <a:lnTo>
                    <a:pt x="190" y="462"/>
                  </a:lnTo>
                  <a:lnTo>
                    <a:pt x="194" y="450"/>
                  </a:lnTo>
                  <a:lnTo>
                    <a:pt x="206" y="430"/>
                  </a:lnTo>
                  <a:lnTo>
                    <a:pt x="220" y="410"/>
                  </a:lnTo>
                  <a:lnTo>
                    <a:pt x="202" y="396"/>
                  </a:lnTo>
                  <a:lnTo>
                    <a:pt x="202" y="396"/>
                  </a:lnTo>
                  <a:lnTo>
                    <a:pt x="198" y="388"/>
                  </a:lnTo>
                  <a:lnTo>
                    <a:pt x="196" y="382"/>
                  </a:lnTo>
                  <a:lnTo>
                    <a:pt x="186" y="370"/>
                  </a:lnTo>
                  <a:lnTo>
                    <a:pt x="182" y="364"/>
                  </a:lnTo>
                  <a:lnTo>
                    <a:pt x="180" y="358"/>
                  </a:lnTo>
                  <a:lnTo>
                    <a:pt x="180" y="350"/>
                  </a:lnTo>
                  <a:lnTo>
                    <a:pt x="184" y="342"/>
                  </a:lnTo>
                  <a:lnTo>
                    <a:pt x="184" y="342"/>
                  </a:lnTo>
                  <a:lnTo>
                    <a:pt x="200" y="314"/>
                  </a:lnTo>
                  <a:lnTo>
                    <a:pt x="210" y="300"/>
                  </a:lnTo>
                  <a:lnTo>
                    <a:pt x="220" y="288"/>
                  </a:lnTo>
                  <a:lnTo>
                    <a:pt x="232" y="278"/>
                  </a:lnTo>
                  <a:lnTo>
                    <a:pt x="246" y="272"/>
                  </a:lnTo>
                  <a:lnTo>
                    <a:pt x="260" y="268"/>
                  </a:lnTo>
                  <a:lnTo>
                    <a:pt x="278" y="268"/>
                  </a:lnTo>
                  <a:lnTo>
                    <a:pt x="278" y="268"/>
                  </a:lnTo>
                  <a:lnTo>
                    <a:pt x="288" y="272"/>
                  </a:lnTo>
                  <a:lnTo>
                    <a:pt x="298" y="276"/>
                  </a:lnTo>
                  <a:lnTo>
                    <a:pt x="314" y="288"/>
                  </a:lnTo>
                  <a:lnTo>
                    <a:pt x="328" y="302"/>
                  </a:lnTo>
                  <a:lnTo>
                    <a:pt x="342" y="318"/>
                  </a:lnTo>
                  <a:lnTo>
                    <a:pt x="342" y="318"/>
                  </a:lnTo>
                  <a:lnTo>
                    <a:pt x="356" y="320"/>
                  </a:lnTo>
                  <a:lnTo>
                    <a:pt x="368" y="318"/>
                  </a:lnTo>
                  <a:lnTo>
                    <a:pt x="378" y="312"/>
                  </a:lnTo>
                  <a:lnTo>
                    <a:pt x="390" y="306"/>
                  </a:lnTo>
                  <a:lnTo>
                    <a:pt x="390" y="306"/>
                  </a:lnTo>
                  <a:lnTo>
                    <a:pt x="404" y="288"/>
                  </a:lnTo>
                  <a:lnTo>
                    <a:pt x="420" y="270"/>
                  </a:lnTo>
                  <a:lnTo>
                    <a:pt x="438" y="252"/>
                  </a:lnTo>
                  <a:lnTo>
                    <a:pt x="456" y="234"/>
                  </a:lnTo>
                  <a:lnTo>
                    <a:pt x="474" y="218"/>
                  </a:lnTo>
                  <a:lnTo>
                    <a:pt x="494" y="204"/>
                  </a:lnTo>
                  <a:lnTo>
                    <a:pt x="514" y="190"/>
                  </a:lnTo>
                  <a:lnTo>
                    <a:pt x="536" y="176"/>
                  </a:lnTo>
                  <a:lnTo>
                    <a:pt x="536" y="176"/>
                  </a:lnTo>
                  <a:lnTo>
                    <a:pt x="566" y="162"/>
                  </a:lnTo>
                  <a:lnTo>
                    <a:pt x="598" y="150"/>
                  </a:lnTo>
                  <a:lnTo>
                    <a:pt x="632" y="142"/>
                  </a:lnTo>
                  <a:lnTo>
                    <a:pt x="666" y="136"/>
                  </a:lnTo>
                  <a:lnTo>
                    <a:pt x="736" y="124"/>
                  </a:lnTo>
                  <a:lnTo>
                    <a:pt x="770" y="118"/>
                  </a:lnTo>
                  <a:lnTo>
                    <a:pt x="804" y="112"/>
                  </a:lnTo>
                  <a:lnTo>
                    <a:pt x="804" y="112"/>
                  </a:lnTo>
                  <a:lnTo>
                    <a:pt x="842" y="110"/>
                  </a:lnTo>
                  <a:lnTo>
                    <a:pt x="880" y="112"/>
                  </a:lnTo>
                  <a:lnTo>
                    <a:pt x="918" y="114"/>
                  </a:lnTo>
                  <a:lnTo>
                    <a:pt x="954" y="120"/>
                  </a:lnTo>
                  <a:lnTo>
                    <a:pt x="1030" y="132"/>
                  </a:lnTo>
                  <a:lnTo>
                    <a:pt x="1104" y="144"/>
                  </a:lnTo>
                  <a:lnTo>
                    <a:pt x="1104" y="144"/>
                  </a:lnTo>
                  <a:lnTo>
                    <a:pt x="1178" y="186"/>
                  </a:lnTo>
                  <a:lnTo>
                    <a:pt x="1214" y="208"/>
                  </a:lnTo>
                  <a:lnTo>
                    <a:pt x="1248" y="234"/>
                  </a:lnTo>
                  <a:lnTo>
                    <a:pt x="1280" y="260"/>
                  </a:lnTo>
                  <a:lnTo>
                    <a:pt x="1296" y="276"/>
                  </a:lnTo>
                  <a:lnTo>
                    <a:pt x="1310" y="292"/>
                  </a:lnTo>
                  <a:lnTo>
                    <a:pt x="1322" y="308"/>
                  </a:lnTo>
                  <a:lnTo>
                    <a:pt x="1334" y="326"/>
                  </a:lnTo>
                  <a:lnTo>
                    <a:pt x="1344" y="346"/>
                  </a:lnTo>
                  <a:lnTo>
                    <a:pt x="1354" y="366"/>
                  </a:lnTo>
                  <a:lnTo>
                    <a:pt x="1354" y="366"/>
                  </a:lnTo>
                  <a:lnTo>
                    <a:pt x="1360" y="376"/>
                  </a:lnTo>
                  <a:lnTo>
                    <a:pt x="1368" y="386"/>
                  </a:lnTo>
                  <a:lnTo>
                    <a:pt x="1378" y="394"/>
                  </a:lnTo>
                  <a:lnTo>
                    <a:pt x="1386" y="402"/>
                  </a:lnTo>
                  <a:lnTo>
                    <a:pt x="1406" y="416"/>
                  </a:lnTo>
                  <a:lnTo>
                    <a:pt x="1428" y="424"/>
                  </a:lnTo>
                  <a:lnTo>
                    <a:pt x="1452" y="432"/>
                  </a:lnTo>
                  <a:lnTo>
                    <a:pt x="1474" y="440"/>
                  </a:lnTo>
                  <a:lnTo>
                    <a:pt x="1498" y="448"/>
                  </a:lnTo>
                  <a:lnTo>
                    <a:pt x="1520" y="456"/>
                  </a:lnTo>
                  <a:lnTo>
                    <a:pt x="1520" y="456"/>
                  </a:lnTo>
                  <a:lnTo>
                    <a:pt x="1536" y="480"/>
                  </a:lnTo>
                  <a:lnTo>
                    <a:pt x="1548" y="506"/>
                  </a:lnTo>
                  <a:lnTo>
                    <a:pt x="1558" y="536"/>
                  </a:lnTo>
                  <a:lnTo>
                    <a:pt x="1560" y="550"/>
                  </a:lnTo>
                  <a:lnTo>
                    <a:pt x="1562" y="566"/>
                  </a:lnTo>
                  <a:lnTo>
                    <a:pt x="1562" y="566"/>
                  </a:lnTo>
                  <a:lnTo>
                    <a:pt x="1556" y="584"/>
                  </a:lnTo>
                  <a:lnTo>
                    <a:pt x="1550" y="600"/>
                  </a:lnTo>
                  <a:lnTo>
                    <a:pt x="1540" y="616"/>
                  </a:lnTo>
                  <a:lnTo>
                    <a:pt x="1528" y="632"/>
                  </a:lnTo>
                  <a:lnTo>
                    <a:pt x="1528" y="632"/>
                  </a:lnTo>
                  <a:lnTo>
                    <a:pt x="1534" y="634"/>
                  </a:lnTo>
                  <a:lnTo>
                    <a:pt x="1540" y="636"/>
                  </a:lnTo>
                  <a:lnTo>
                    <a:pt x="1552" y="634"/>
                  </a:lnTo>
                  <a:lnTo>
                    <a:pt x="1564" y="632"/>
                  </a:lnTo>
                  <a:lnTo>
                    <a:pt x="1570" y="630"/>
                  </a:lnTo>
                  <a:lnTo>
                    <a:pt x="1576" y="632"/>
                  </a:lnTo>
                  <a:lnTo>
                    <a:pt x="1576" y="632"/>
                  </a:lnTo>
                  <a:lnTo>
                    <a:pt x="1602" y="620"/>
                  </a:lnTo>
                  <a:lnTo>
                    <a:pt x="1628" y="604"/>
                  </a:lnTo>
                  <a:lnTo>
                    <a:pt x="1652" y="586"/>
                  </a:lnTo>
                  <a:lnTo>
                    <a:pt x="1676" y="564"/>
                  </a:lnTo>
                  <a:lnTo>
                    <a:pt x="1696" y="542"/>
                  </a:lnTo>
                  <a:lnTo>
                    <a:pt x="1716" y="518"/>
                  </a:lnTo>
                  <a:lnTo>
                    <a:pt x="1730" y="492"/>
                  </a:lnTo>
                  <a:lnTo>
                    <a:pt x="1744" y="468"/>
                  </a:lnTo>
                  <a:lnTo>
                    <a:pt x="1744" y="468"/>
                  </a:lnTo>
                  <a:lnTo>
                    <a:pt x="1746" y="446"/>
                  </a:lnTo>
                  <a:lnTo>
                    <a:pt x="1746" y="428"/>
                  </a:lnTo>
                  <a:lnTo>
                    <a:pt x="1744" y="408"/>
                  </a:lnTo>
                  <a:lnTo>
                    <a:pt x="1738" y="390"/>
                  </a:lnTo>
                  <a:lnTo>
                    <a:pt x="1732" y="372"/>
                  </a:lnTo>
                  <a:lnTo>
                    <a:pt x="1722" y="356"/>
                  </a:lnTo>
                  <a:lnTo>
                    <a:pt x="1712" y="340"/>
                  </a:lnTo>
                  <a:lnTo>
                    <a:pt x="1700" y="322"/>
                  </a:lnTo>
                  <a:lnTo>
                    <a:pt x="1672" y="292"/>
                  </a:lnTo>
                  <a:lnTo>
                    <a:pt x="1642" y="262"/>
                  </a:lnTo>
                  <a:lnTo>
                    <a:pt x="1612" y="232"/>
                  </a:lnTo>
                  <a:lnTo>
                    <a:pt x="1584" y="202"/>
                  </a:lnTo>
                  <a:lnTo>
                    <a:pt x="1490" y="126"/>
                  </a:lnTo>
                  <a:lnTo>
                    <a:pt x="1490" y="126"/>
                  </a:lnTo>
                  <a:lnTo>
                    <a:pt x="1436" y="98"/>
                  </a:lnTo>
                  <a:lnTo>
                    <a:pt x="1380" y="76"/>
                  </a:lnTo>
                  <a:lnTo>
                    <a:pt x="1322" y="56"/>
                  </a:lnTo>
                  <a:lnTo>
                    <a:pt x="1264" y="38"/>
                  </a:lnTo>
                  <a:lnTo>
                    <a:pt x="1202" y="26"/>
                  </a:lnTo>
                  <a:lnTo>
                    <a:pt x="1142" y="14"/>
                  </a:lnTo>
                  <a:lnTo>
                    <a:pt x="1080" y="6"/>
                  </a:lnTo>
                  <a:lnTo>
                    <a:pt x="1016" y="2"/>
                  </a:lnTo>
                  <a:lnTo>
                    <a:pt x="954" y="0"/>
                  </a:lnTo>
                  <a:lnTo>
                    <a:pt x="890" y="0"/>
                  </a:lnTo>
                  <a:lnTo>
                    <a:pt x="828" y="4"/>
                  </a:lnTo>
                  <a:lnTo>
                    <a:pt x="766" y="10"/>
                  </a:lnTo>
                  <a:lnTo>
                    <a:pt x="704" y="18"/>
                  </a:lnTo>
                  <a:lnTo>
                    <a:pt x="642" y="28"/>
                  </a:lnTo>
                  <a:lnTo>
                    <a:pt x="582" y="40"/>
                  </a:lnTo>
                  <a:lnTo>
                    <a:pt x="522" y="56"/>
                  </a:lnTo>
                  <a:lnTo>
                    <a:pt x="522" y="56"/>
                  </a:lnTo>
                  <a:lnTo>
                    <a:pt x="494" y="68"/>
                  </a:lnTo>
                  <a:lnTo>
                    <a:pt x="464" y="80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326" y="136"/>
                  </a:lnTo>
                  <a:lnTo>
                    <a:pt x="250" y="172"/>
                  </a:lnTo>
                  <a:lnTo>
                    <a:pt x="212" y="192"/>
                  </a:lnTo>
                  <a:lnTo>
                    <a:pt x="176" y="214"/>
                  </a:lnTo>
                  <a:lnTo>
                    <a:pt x="142" y="238"/>
                  </a:lnTo>
                  <a:lnTo>
                    <a:pt x="110" y="264"/>
                  </a:lnTo>
                  <a:lnTo>
                    <a:pt x="110" y="264"/>
                  </a:lnTo>
                  <a:lnTo>
                    <a:pt x="80" y="294"/>
                  </a:lnTo>
                  <a:lnTo>
                    <a:pt x="50" y="328"/>
                  </a:lnTo>
                  <a:lnTo>
                    <a:pt x="38" y="346"/>
                  </a:lnTo>
                  <a:lnTo>
                    <a:pt x="26" y="364"/>
                  </a:lnTo>
                  <a:lnTo>
                    <a:pt x="14" y="382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2" y="424"/>
                  </a:lnTo>
                  <a:lnTo>
                    <a:pt x="0" y="446"/>
                  </a:lnTo>
                  <a:lnTo>
                    <a:pt x="2" y="466"/>
                  </a:lnTo>
                  <a:lnTo>
                    <a:pt x="4" y="488"/>
                  </a:lnTo>
                  <a:lnTo>
                    <a:pt x="8" y="508"/>
                  </a:lnTo>
                  <a:lnTo>
                    <a:pt x="14" y="528"/>
                  </a:lnTo>
                  <a:lnTo>
                    <a:pt x="22" y="548"/>
                  </a:lnTo>
                  <a:lnTo>
                    <a:pt x="32" y="568"/>
                  </a:lnTo>
                  <a:lnTo>
                    <a:pt x="44" y="586"/>
                  </a:lnTo>
                  <a:lnTo>
                    <a:pt x="56" y="604"/>
                  </a:lnTo>
                  <a:lnTo>
                    <a:pt x="68" y="622"/>
                  </a:lnTo>
                  <a:lnTo>
                    <a:pt x="84" y="638"/>
                  </a:lnTo>
                  <a:lnTo>
                    <a:pt x="114" y="668"/>
                  </a:lnTo>
                  <a:lnTo>
                    <a:pt x="148" y="694"/>
                  </a:lnTo>
                  <a:lnTo>
                    <a:pt x="148" y="694"/>
                  </a:lnTo>
                  <a:lnTo>
                    <a:pt x="160" y="668"/>
                  </a:lnTo>
                  <a:lnTo>
                    <a:pt x="170" y="642"/>
                  </a:lnTo>
                  <a:lnTo>
                    <a:pt x="184" y="586"/>
                  </a:lnTo>
                  <a:lnTo>
                    <a:pt x="184" y="586"/>
                  </a:lnTo>
                  <a:lnTo>
                    <a:pt x="184" y="574"/>
                  </a:lnTo>
                  <a:lnTo>
                    <a:pt x="188" y="562"/>
                  </a:lnTo>
                  <a:lnTo>
                    <a:pt x="194" y="540"/>
                  </a:lnTo>
                  <a:lnTo>
                    <a:pt x="196" y="528"/>
                  </a:lnTo>
                  <a:lnTo>
                    <a:pt x="196" y="518"/>
                  </a:lnTo>
                  <a:lnTo>
                    <a:pt x="194" y="506"/>
                  </a:lnTo>
                  <a:lnTo>
                    <a:pt x="188" y="496"/>
                  </a:lnTo>
                  <a:lnTo>
                    <a:pt x="188" y="496"/>
                  </a:lnTo>
                  <a:close/>
                </a:path>
              </a:pathLst>
            </a:custGeom>
            <a:solidFill>
              <a:srgbClr val="d3a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5031000" y="4062240"/>
              <a:ext cx="460080" cy="1108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90" h="70">
                  <a:moveTo>
                    <a:pt x="6" y="46"/>
                  </a:moveTo>
                  <a:lnTo>
                    <a:pt x="6" y="46"/>
                  </a:lnTo>
                  <a:lnTo>
                    <a:pt x="16" y="52"/>
                  </a:lnTo>
                  <a:lnTo>
                    <a:pt x="28" y="54"/>
                  </a:lnTo>
                  <a:lnTo>
                    <a:pt x="36" y="56"/>
                  </a:lnTo>
                  <a:lnTo>
                    <a:pt x="46" y="56"/>
                  </a:lnTo>
                  <a:lnTo>
                    <a:pt x="66" y="54"/>
                  </a:lnTo>
                  <a:lnTo>
                    <a:pt x="86" y="48"/>
                  </a:lnTo>
                  <a:lnTo>
                    <a:pt x="104" y="44"/>
                  </a:lnTo>
                  <a:lnTo>
                    <a:pt x="124" y="40"/>
                  </a:lnTo>
                  <a:lnTo>
                    <a:pt x="134" y="42"/>
                  </a:lnTo>
                  <a:lnTo>
                    <a:pt x="144" y="42"/>
                  </a:lnTo>
                  <a:lnTo>
                    <a:pt x="154" y="46"/>
                  </a:lnTo>
                  <a:lnTo>
                    <a:pt x="164" y="50"/>
                  </a:lnTo>
                  <a:lnTo>
                    <a:pt x="164" y="50"/>
                  </a:lnTo>
                  <a:lnTo>
                    <a:pt x="168" y="52"/>
                  </a:lnTo>
                  <a:lnTo>
                    <a:pt x="174" y="54"/>
                  </a:lnTo>
                  <a:lnTo>
                    <a:pt x="180" y="62"/>
                  </a:lnTo>
                  <a:lnTo>
                    <a:pt x="188" y="68"/>
                  </a:lnTo>
                  <a:lnTo>
                    <a:pt x="192" y="70"/>
                  </a:lnTo>
                  <a:lnTo>
                    <a:pt x="198" y="70"/>
                  </a:lnTo>
                  <a:lnTo>
                    <a:pt x="198" y="70"/>
                  </a:lnTo>
                  <a:lnTo>
                    <a:pt x="206" y="60"/>
                  </a:lnTo>
                  <a:lnTo>
                    <a:pt x="216" y="54"/>
                  </a:lnTo>
                  <a:lnTo>
                    <a:pt x="228" y="50"/>
                  </a:lnTo>
                  <a:lnTo>
                    <a:pt x="238" y="46"/>
                  </a:lnTo>
                  <a:lnTo>
                    <a:pt x="252" y="46"/>
                  </a:lnTo>
                  <a:lnTo>
                    <a:pt x="264" y="44"/>
                  </a:lnTo>
                  <a:lnTo>
                    <a:pt x="290" y="46"/>
                  </a:lnTo>
                  <a:lnTo>
                    <a:pt x="280" y="40"/>
                  </a:lnTo>
                  <a:lnTo>
                    <a:pt x="280" y="40"/>
                  </a:lnTo>
                  <a:lnTo>
                    <a:pt x="210" y="26"/>
                  </a:lnTo>
                  <a:lnTo>
                    <a:pt x="140" y="12"/>
                  </a:lnTo>
                  <a:lnTo>
                    <a:pt x="104" y="6"/>
                  </a:lnTo>
                  <a:lnTo>
                    <a:pt x="70" y="2"/>
                  </a:lnTo>
                  <a:lnTo>
                    <a:pt x="3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26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6" y="46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4259520" y="4084560"/>
              <a:ext cx="1625400" cy="1463760"/>
            </a:xfrm>
            <a:custGeom>
              <a:avLst/>
              <a:gdLst>
                <a:gd name="textAreaLeft" fmla="*/ 0 w 1625400"/>
                <a:gd name="textAreaRight" fmla="*/ 1625760 w 162540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24" h="922">
                  <a:moveTo>
                    <a:pt x="548" y="922"/>
                  </a:moveTo>
                  <a:lnTo>
                    <a:pt x="548" y="922"/>
                  </a:lnTo>
                  <a:lnTo>
                    <a:pt x="596" y="912"/>
                  </a:lnTo>
                  <a:lnTo>
                    <a:pt x="620" y="908"/>
                  </a:lnTo>
                  <a:lnTo>
                    <a:pt x="642" y="902"/>
                  </a:lnTo>
                  <a:lnTo>
                    <a:pt x="664" y="896"/>
                  </a:lnTo>
                  <a:lnTo>
                    <a:pt x="686" y="886"/>
                  </a:lnTo>
                  <a:lnTo>
                    <a:pt x="704" y="872"/>
                  </a:lnTo>
                  <a:lnTo>
                    <a:pt x="712" y="864"/>
                  </a:lnTo>
                  <a:lnTo>
                    <a:pt x="720" y="854"/>
                  </a:lnTo>
                  <a:lnTo>
                    <a:pt x="720" y="854"/>
                  </a:lnTo>
                  <a:lnTo>
                    <a:pt x="730" y="818"/>
                  </a:lnTo>
                  <a:lnTo>
                    <a:pt x="744" y="784"/>
                  </a:lnTo>
                  <a:lnTo>
                    <a:pt x="758" y="748"/>
                  </a:lnTo>
                  <a:lnTo>
                    <a:pt x="776" y="714"/>
                  </a:lnTo>
                  <a:lnTo>
                    <a:pt x="794" y="680"/>
                  </a:lnTo>
                  <a:lnTo>
                    <a:pt x="814" y="646"/>
                  </a:lnTo>
                  <a:lnTo>
                    <a:pt x="858" y="580"/>
                  </a:lnTo>
                  <a:lnTo>
                    <a:pt x="858" y="580"/>
                  </a:lnTo>
                  <a:lnTo>
                    <a:pt x="862" y="572"/>
                  </a:lnTo>
                  <a:lnTo>
                    <a:pt x="868" y="564"/>
                  </a:lnTo>
                  <a:lnTo>
                    <a:pt x="884" y="550"/>
                  </a:lnTo>
                  <a:lnTo>
                    <a:pt x="892" y="544"/>
                  </a:lnTo>
                  <a:lnTo>
                    <a:pt x="898" y="538"/>
                  </a:lnTo>
                  <a:lnTo>
                    <a:pt x="902" y="530"/>
                  </a:lnTo>
                  <a:lnTo>
                    <a:pt x="904" y="520"/>
                  </a:lnTo>
                  <a:lnTo>
                    <a:pt x="904" y="520"/>
                  </a:lnTo>
                  <a:lnTo>
                    <a:pt x="930" y="510"/>
                  </a:lnTo>
                  <a:lnTo>
                    <a:pt x="956" y="498"/>
                  </a:lnTo>
                  <a:lnTo>
                    <a:pt x="980" y="484"/>
                  </a:lnTo>
                  <a:lnTo>
                    <a:pt x="1004" y="466"/>
                  </a:lnTo>
                  <a:lnTo>
                    <a:pt x="1004" y="466"/>
                  </a:lnTo>
                  <a:lnTo>
                    <a:pt x="1012" y="450"/>
                  </a:lnTo>
                  <a:lnTo>
                    <a:pt x="1020" y="432"/>
                  </a:lnTo>
                  <a:lnTo>
                    <a:pt x="1024" y="412"/>
                  </a:lnTo>
                  <a:lnTo>
                    <a:pt x="1024" y="394"/>
                  </a:lnTo>
                  <a:lnTo>
                    <a:pt x="1024" y="372"/>
                  </a:lnTo>
                  <a:lnTo>
                    <a:pt x="1020" y="354"/>
                  </a:lnTo>
                  <a:lnTo>
                    <a:pt x="1016" y="334"/>
                  </a:lnTo>
                  <a:lnTo>
                    <a:pt x="1010" y="316"/>
                  </a:lnTo>
                  <a:lnTo>
                    <a:pt x="1010" y="316"/>
                  </a:lnTo>
                  <a:lnTo>
                    <a:pt x="1000" y="308"/>
                  </a:lnTo>
                  <a:lnTo>
                    <a:pt x="996" y="308"/>
                  </a:lnTo>
                  <a:lnTo>
                    <a:pt x="994" y="308"/>
                  </a:lnTo>
                  <a:lnTo>
                    <a:pt x="988" y="310"/>
                  </a:lnTo>
                  <a:lnTo>
                    <a:pt x="982" y="318"/>
                  </a:lnTo>
                  <a:lnTo>
                    <a:pt x="974" y="334"/>
                  </a:lnTo>
                  <a:lnTo>
                    <a:pt x="970" y="340"/>
                  </a:lnTo>
                  <a:lnTo>
                    <a:pt x="964" y="346"/>
                  </a:lnTo>
                  <a:lnTo>
                    <a:pt x="964" y="346"/>
                  </a:lnTo>
                  <a:lnTo>
                    <a:pt x="952" y="352"/>
                  </a:lnTo>
                  <a:lnTo>
                    <a:pt x="946" y="354"/>
                  </a:lnTo>
                  <a:lnTo>
                    <a:pt x="938" y="354"/>
                  </a:lnTo>
                  <a:lnTo>
                    <a:pt x="932" y="352"/>
                  </a:lnTo>
                  <a:lnTo>
                    <a:pt x="924" y="350"/>
                  </a:lnTo>
                  <a:lnTo>
                    <a:pt x="918" y="346"/>
                  </a:lnTo>
                  <a:lnTo>
                    <a:pt x="914" y="340"/>
                  </a:lnTo>
                  <a:lnTo>
                    <a:pt x="914" y="340"/>
                  </a:lnTo>
                  <a:lnTo>
                    <a:pt x="910" y="332"/>
                  </a:lnTo>
                  <a:lnTo>
                    <a:pt x="910" y="322"/>
                  </a:lnTo>
                  <a:lnTo>
                    <a:pt x="912" y="314"/>
                  </a:lnTo>
                  <a:lnTo>
                    <a:pt x="916" y="306"/>
                  </a:lnTo>
                  <a:lnTo>
                    <a:pt x="924" y="290"/>
                  </a:lnTo>
                  <a:lnTo>
                    <a:pt x="932" y="276"/>
                  </a:lnTo>
                  <a:lnTo>
                    <a:pt x="932" y="276"/>
                  </a:lnTo>
                  <a:lnTo>
                    <a:pt x="930" y="266"/>
                  </a:lnTo>
                  <a:lnTo>
                    <a:pt x="924" y="260"/>
                  </a:lnTo>
                  <a:lnTo>
                    <a:pt x="918" y="256"/>
                  </a:lnTo>
                  <a:lnTo>
                    <a:pt x="910" y="252"/>
                  </a:lnTo>
                  <a:lnTo>
                    <a:pt x="898" y="244"/>
                  </a:lnTo>
                  <a:lnTo>
                    <a:pt x="892" y="238"/>
                  </a:lnTo>
                  <a:lnTo>
                    <a:pt x="888" y="230"/>
                  </a:lnTo>
                  <a:lnTo>
                    <a:pt x="888" y="230"/>
                  </a:lnTo>
                  <a:lnTo>
                    <a:pt x="886" y="216"/>
                  </a:lnTo>
                  <a:lnTo>
                    <a:pt x="882" y="204"/>
                  </a:lnTo>
                  <a:lnTo>
                    <a:pt x="878" y="192"/>
                  </a:lnTo>
                  <a:lnTo>
                    <a:pt x="870" y="184"/>
                  </a:lnTo>
                  <a:lnTo>
                    <a:pt x="862" y="176"/>
                  </a:lnTo>
                  <a:lnTo>
                    <a:pt x="854" y="170"/>
                  </a:lnTo>
                  <a:lnTo>
                    <a:pt x="832" y="158"/>
                  </a:lnTo>
                  <a:lnTo>
                    <a:pt x="812" y="146"/>
                  </a:lnTo>
                  <a:lnTo>
                    <a:pt x="792" y="134"/>
                  </a:lnTo>
                  <a:lnTo>
                    <a:pt x="784" y="126"/>
                  </a:lnTo>
                  <a:lnTo>
                    <a:pt x="776" y="116"/>
                  </a:lnTo>
                  <a:lnTo>
                    <a:pt x="770" y="106"/>
                  </a:lnTo>
                  <a:lnTo>
                    <a:pt x="766" y="94"/>
                  </a:lnTo>
                  <a:lnTo>
                    <a:pt x="766" y="94"/>
                  </a:lnTo>
                  <a:lnTo>
                    <a:pt x="758" y="92"/>
                  </a:lnTo>
                  <a:lnTo>
                    <a:pt x="752" y="90"/>
                  </a:lnTo>
                  <a:lnTo>
                    <a:pt x="746" y="92"/>
                  </a:lnTo>
                  <a:lnTo>
                    <a:pt x="740" y="94"/>
                  </a:lnTo>
                  <a:lnTo>
                    <a:pt x="730" y="100"/>
                  </a:lnTo>
                  <a:lnTo>
                    <a:pt x="720" y="110"/>
                  </a:lnTo>
                  <a:lnTo>
                    <a:pt x="710" y="118"/>
                  </a:lnTo>
                  <a:lnTo>
                    <a:pt x="700" y="126"/>
                  </a:lnTo>
                  <a:lnTo>
                    <a:pt x="694" y="128"/>
                  </a:lnTo>
                  <a:lnTo>
                    <a:pt x="688" y="130"/>
                  </a:lnTo>
                  <a:lnTo>
                    <a:pt x="682" y="130"/>
                  </a:lnTo>
                  <a:lnTo>
                    <a:pt x="674" y="130"/>
                  </a:lnTo>
                  <a:lnTo>
                    <a:pt x="674" y="130"/>
                  </a:lnTo>
                  <a:lnTo>
                    <a:pt x="666" y="128"/>
                  </a:lnTo>
                  <a:lnTo>
                    <a:pt x="662" y="128"/>
                  </a:lnTo>
                  <a:lnTo>
                    <a:pt x="656" y="124"/>
                  </a:lnTo>
                  <a:lnTo>
                    <a:pt x="654" y="122"/>
                  </a:lnTo>
                  <a:lnTo>
                    <a:pt x="650" y="114"/>
                  </a:lnTo>
                  <a:lnTo>
                    <a:pt x="650" y="106"/>
                  </a:lnTo>
                  <a:lnTo>
                    <a:pt x="648" y="96"/>
                  </a:lnTo>
                  <a:lnTo>
                    <a:pt x="644" y="88"/>
                  </a:lnTo>
                  <a:lnTo>
                    <a:pt x="642" y="84"/>
                  </a:lnTo>
                  <a:lnTo>
                    <a:pt x="638" y="82"/>
                  </a:lnTo>
                  <a:lnTo>
                    <a:pt x="632" y="80"/>
                  </a:lnTo>
                  <a:lnTo>
                    <a:pt x="626" y="78"/>
                  </a:lnTo>
                  <a:lnTo>
                    <a:pt x="626" y="78"/>
                  </a:lnTo>
                  <a:lnTo>
                    <a:pt x="582" y="86"/>
                  </a:lnTo>
                  <a:lnTo>
                    <a:pt x="560" y="90"/>
                  </a:lnTo>
                  <a:lnTo>
                    <a:pt x="538" y="92"/>
                  </a:lnTo>
                  <a:lnTo>
                    <a:pt x="516" y="90"/>
                  </a:lnTo>
                  <a:lnTo>
                    <a:pt x="494" y="86"/>
                  </a:lnTo>
                  <a:lnTo>
                    <a:pt x="474" y="78"/>
                  </a:lnTo>
                  <a:lnTo>
                    <a:pt x="456" y="68"/>
                  </a:lnTo>
                  <a:lnTo>
                    <a:pt x="456" y="68"/>
                  </a:lnTo>
                  <a:lnTo>
                    <a:pt x="446" y="52"/>
                  </a:lnTo>
                  <a:lnTo>
                    <a:pt x="434" y="36"/>
                  </a:lnTo>
                  <a:lnTo>
                    <a:pt x="430" y="28"/>
                  </a:lnTo>
                  <a:lnTo>
                    <a:pt x="428" y="18"/>
                  </a:lnTo>
                  <a:lnTo>
                    <a:pt x="428" y="1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00" y="0"/>
                  </a:lnTo>
                  <a:lnTo>
                    <a:pt x="374" y="4"/>
                  </a:lnTo>
                  <a:lnTo>
                    <a:pt x="346" y="8"/>
                  </a:lnTo>
                  <a:lnTo>
                    <a:pt x="318" y="16"/>
                  </a:lnTo>
                  <a:lnTo>
                    <a:pt x="292" y="24"/>
                  </a:lnTo>
                  <a:lnTo>
                    <a:pt x="266" y="32"/>
                  </a:lnTo>
                  <a:lnTo>
                    <a:pt x="216" y="56"/>
                  </a:lnTo>
                  <a:lnTo>
                    <a:pt x="216" y="56"/>
                  </a:lnTo>
                  <a:lnTo>
                    <a:pt x="172" y="96"/>
                  </a:lnTo>
                  <a:lnTo>
                    <a:pt x="150" y="116"/>
                  </a:lnTo>
                  <a:lnTo>
                    <a:pt x="130" y="140"/>
                  </a:lnTo>
                  <a:lnTo>
                    <a:pt x="122" y="152"/>
                  </a:lnTo>
                  <a:lnTo>
                    <a:pt x="116" y="164"/>
                  </a:lnTo>
                  <a:lnTo>
                    <a:pt x="110" y="178"/>
                  </a:lnTo>
                  <a:lnTo>
                    <a:pt x="106" y="192"/>
                  </a:lnTo>
                  <a:lnTo>
                    <a:pt x="104" y="206"/>
                  </a:lnTo>
                  <a:lnTo>
                    <a:pt x="104" y="222"/>
                  </a:lnTo>
                  <a:lnTo>
                    <a:pt x="106" y="238"/>
                  </a:lnTo>
                  <a:lnTo>
                    <a:pt x="110" y="254"/>
                  </a:lnTo>
                  <a:lnTo>
                    <a:pt x="110" y="254"/>
                  </a:lnTo>
                  <a:lnTo>
                    <a:pt x="106" y="260"/>
                  </a:lnTo>
                  <a:lnTo>
                    <a:pt x="104" y="266"/>
                  </a:lnTo>
                  <a:lnTo>
                    <a:pt x="106" y="272"/>
                  </a:lnTo>
                  <a:lnTo>
                    <a:pt x="108" y="278"/>
                  </a:lnTo>
                  <a:lnTo>
                    <a:pt x="114" y="290"/>
                  </a:lnTo>
                  <a:lnTo>
                    <a:pt x="116" y="296"/>
                  </a:lnTo>
                  <a:lnTo>
                    <a:pt x="118" y="302"/>
                  </a:lnTo>
                  <a:lnTo>
                    <a:pt x="118" y="302"/>
                  </a:lnTo>
                  <a:lnTo>
                    <a:pt x="112" y="312"/>
                  </a:lnTo>
                  <a:lnTo>
                    <a:pt x="104" y="316"/>
                  </a:lnTo>
                  <a:lnTo>
                    <a:pt x="96" y="320"/>
                  </a:lnTo>
                  <a:lnTo>
                    <a:pt x="88" y="322"/>
                  </a:lnTo>
                  <a:lnTo>
                    <a:pt x="88" y="322"/>
                  </a:lnTo>
                  <a:lnTo>
                    <a:pt x="82" y="322"/>
                  </a:lnTo>
                  <a:lnTo>
                    <a:pt x="78" y="320"/>
                  </a:lnTo>
                  <a:lnTo>
                    <a:pt x="70" y="316"/>
                  </a:lnTo>
                  <a:lnTo>
                    <a:pt x="66" y="310"/>
                  </a:lnTo>
                  <a:lnTo>
                    <a:pt x="60" y="302"/>
                  </a:lnTo>
                  <a:lnTo>
                    <a:pt x="56" y="294"/>
                  </a:lnTo>
                  <a:lnTo>
                    <a:pt x="50" y="288"/>
                  </a:lnTo>
                  <a:lnTo>
                    <a:pt x="48" y="288"/>
                  </a:lnTo>
                  <a:lnTo>
                    <a:pt x="44" y="288"/>
                  </a:lnTo>
                  <a:lnTo>
                    <a:pt x="32" y="290"/>
                  </a:lnTo>
                  <a:lnTo>
                    <a:pt x="32" y="290"/>
                  </a:lnTo>
                  <a:lnTo>
                    <a:pt x="26" y="294"/>
                  </a:lnTo>
                  <a:lnTo>
                    <a:pt x="20" y="298"/>
                  </a:lnTo>
                  <a:lnTo>
                    <a:pt x="12" y="308"/>
                  </a:lnTo>
                  <a:lnTo>
                    <a:pt x="6" y="320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48"/>
                  </a:lnTo>
                  <a:lnTo>
                    <a:pt x="2" y="364"/>
                  </a:lnTo>
                  <a:lnTo>
                    <a:pt x="8" y="380"/>
                  </a:lnTo>
                  <a:lnTo>
                    <a:pt x="12" y="394"/>
                  </a:lnTo>
                  <a:lnTo>
                    <a:pt x="12" y="394"/>
                  </a:lnTo>
                  <a:lnTo>
                    <a:pt x="20" y="400"/>
                  </a:lnTo>
                  <a:lnTo>
                    <a:pt x="26" y="404"/>
                  </a:lnTo>
                  <a:lnTo>
                    <a:pt x="44" y="408"/>
                  </a:lnTo>
                  <a:lnTo>
                    <a:pt x="60" y="412"/>
                  </a:lnTo>
                  <a:lnTo>
                    <a:pt x="68" y="414"/>
                  </a:lnTo>
                  <a:lnTo>
                    <a:pt x="76" y="418"/>
                  </a:lnTo>
                  <a:lnTo>
                    <a:pt x="76" y="418"/>
                  </a:lnTo>
                  <a:lnTo>
                    <a:pt x="84" y="432"/>
                  </a:lnTo>
                  <a:lnTo>
                    <a:pt x="94" y="444"/>
                  </a:lnTo>
                  <a:lnTo>
                    <a:pt x="106" y="456"/>
                  </a:lnTo>
                  <a:lnTo>
                    <a:pt x="122" y="466"/>
                  </a:lnTo>
                  <a:lnTo>
                    <a:pt x="122" y="466"/>
                  </a:lnTo>
                  <a:lnTo>
                    <a:pt x="126" y="472"/>
                  </a:lnTo>
                  <a:lnTo>
                    <a:pt x="128" y="480"/>
                  </a:lnTo>
                  <a:lnTo>
                    <a:pt x="128" y="486"/>
                  </a:lnTo>
                  <a:lnTo>
                    <a:pt x="128" y="492"/>
                  </a:lnTo>
                  <a:lnTo>
                    <a:pt x="122" y="506"/>
                  </a:lnTo>
                  <a:lnTo>
                    <a:pt x="122" y="512"/>
                  </a:lnTo>
                  <a:lnTo>
                    <a:pt x="122" y="518"/>
                  </a:lnTo>
                  <a:lnTo>
                    <a:pt x="122" y="518"/>
                  </a:lnTo>
                  <a:lnTo>
                    <a:pt x="122" y="538"/>
                  </a:lnTo>
                  <a:lnTo>
                    <a:pt x="126" y="558"/>
                  </a:lnTo>
                  <a:lnTo>
                    <a:pt x="134" y="576"/>
                  </a:lnTo>
                  <a:lnTo>
                    <a:pt x="144" y="594"/>
                  </a:lnTo>
                  <a:lnTo>
                    <a:pt x="158" y="610"/>
                  </a:lnTo>
                  <a:lnTo>
                    <a:pt x="172" y="624"/>
                  </a:lnTo>
                  <a:lnTo>
                    <a:pt x="204" y="654"/>
                  </a:lnTo>
                  <a:lnTo>
                    <a:pt x="204" y="654"/>
                  </a:lnTo>
                  <a:lnTo>
                    <a:pt x="214" y="654"/>
                  </a:lnTo>
                  <a:lnTo>
                    <a:pt x="224" y="656"/>
                  </a:lnTo>
                  <a:lnTo>
                    <a:pt x="232" y="660"/>
                  </a:lnTo>
                  <a:lnTo>
                    <a:pt x="240" y="664"/>
                  </a:lnTo>
                  <a:lnTo>
                    <a:pt x="254" y="676"/>
                  </a:lnTo>
                  <a:lnTo>
                    <a:pt x="268" y="690"/>
                  </a:lnTo>
                  <a:lnTo>
                    <a:pt x="292" y="724"/>
                  </a:lnTo>
                  <a:lnTo>
                    <a:pt x="304" y="738"/>
                  </a:lnTo>
                  <a:lnTo>
                    <a:pt x="318" y="752"/>
                  </a:lnTo>
                  <a:lnTo>
                    <a:pt x="318" y="752"/>
                  </a:lnTo>
                  <a:lnTo>
                    <a:pt x="342" y="760"/>
                  </a:lnTo>
                  <a:lnTo>
                    <a:pt x="364" y="770"/>
                  </a:lnTo>
                  <a:lnTo>
                    <a:pt x="408" y="788"/>
                  </a:lnTo>
                  <a:lnTo>
                    <a:pt x="430" y="796"/>
                  </a:lnTo>
                  <a:lnTo>
                    <a:pt x="454" y="802"/>
                  </a:lnTo>
                  <a:lnTo>
                    <a:pt x="480" y="804"/>
                  </a:lnTo>
                  <a:lnTo>
                    <a:pt x="492" y="802"/>
                  </a:lnTo>
                  <a:lnTo>
                    <a:pt x="506" y="800"/>
                  </a:lnTo>
                  <a:lnTo>
                    <a:pt x="506" y="800"/>
                  </a:lnTo>
                  <a:lnTo>
                    <a:pt x="516" y="802"/>
                  </a:lnTo>
                  <a:lnTo>
                    <a:pt x="524" y="804"/>
                  </a:lnTo>
                  <a:lnTo>
                    <a:pt x="542" y="802"/>
                  </a:lnTo>
                  <a:lnTo>
                    <a:pt x="558" y="796"/>
                  </a:lnTo>
                  <a:lnTo>
                    <a:pt x="572" y="790"/>
                  </a:lnTo>
                  <a:lnTo>
                    <a:pt x="602" y="774"/>
                  </a:lnTo>
                  <a:lnTo>
                    <a:pt x="616" y="770"/>
                  </a:lnTo>
                  <a:lnTo>
                    <a:pt x="632" y="768"/>
                  </a:lnTo>
                  <a:lnTo>
                    <a:pt x="632" y="768"/>
                  </a:lnTo>
                  <a:lnTo>
                    <a:pt x="640" y="772"/>
                  </a:lnTo>
                  <a:lnTo>
                    <a:pt x="646" y="780"/>
                  </a:lnTo>
                  <a:lnTo>
                    <a:pt x="650" y="788"/>
                  </a:lnTo>
                  <a:lnTo>
                    <a:pt x="652" y="798"/>
                  </a:lnTo>
                  <a:lnTo>
                    <a:pt x="652" y="798"/>
                  </a:lnTo>
                  <a:lnTo>
                    <a:pt x="642" y="812"/>
                  </a:lnTo>
                  <a:lnTo>
                    <a:pt x="630" y="824"/>
                  </a:lnTo>
                  <a:lnTo>
                    <a:pt x="618" y="834"/>
                  </a:lnTo>
                  <a:lnTo>
                    <a:pt x="604" y="840"/>
                  </a:lnTo>
                  <a:lnTo>
                    <a:pt x="590" y="846"/>
                  </a:lnTo>
                  <a:lnTo>
                    <a:pt x="576" y="848"/>
                  </a:lnTo>
                  <a:lnTo>
                    <a:pt x="560" y="852"/>
                  </a:lnTo>
                  <a:lnTo>
                    <a:pt x="544" y="852"/>
                  </a:lnTo>
                  <a:lnTo>
                    <a:pt x="512" y="852"/>
                  </a:lnTo>
                  <a:lnTo>
                    <a:pt x="480" y="850"/>
                  </a:lnTo>
                  <a:lnTo>
                    <a:pt x="448" y="848"/>
                  </a:lnTo>
                  <a:lnTo>
                    <a:pt x="416" y="848"/>
                  </a:lnTo>
                  <a:lnTo>
                    <a:pt x="404" y="876"/>
                  </a:lnTo>
                  <a:lnTo>
                    <a:pt x="404" y="876"/>
                  </a:lnTo>
                  <a:lnTo>
                    <a:pt x="412" y="886"/>
                  </a:lnTo>
                  <a:lnTo>
                    <a:pt x="418" y="894"/>
                  </a:lnTo>
                  <a:lnTo>
                    <a:pt x="426" y="902"/>
                  </a:lnTo>
                  <a:lnTo>
                    <a:pt x="434" y="906"/>
                  </a:lnTo>
                  <a:lnTo>
                    <a:pt x="442" y="912"/>
                  </a:lnTo>
                  <a:lnTo>
                    <a:pt x="452" y="914"/>
                  </a:lnTo>
                  <a:lnTo>
                    <a:pt x="472" y="918"/>
                  </a:lnTo>
                  <a:lnTo>
                    <a:pt x="492" y="920"/>
                  </a:lnTo>
                  <a:lnTo>
                    <a:pt x="512" y="920"/>
                  </a:lnTo>
                  <a:lnTo>
                    <a:pt x="530" y="920"/>
                  </a:lnTo>
                  <a:lnTo>
                    <a:pt x="548" y="922"/>
                  </a:lnTo>
                  <a:lnTo>
                    <a:pt x="548" y="922"/>
                  </a:lnTo>
                  <a:close/>
                  <a:moveTo>
                    <a:pt x="244" y="48"/>
                  </a:moveTo>
                  <a:lnTo>
                    <a:pt x="244" y="48"/>
                  </a:lnTo>
                  <a:lnTo>
                    <a:pt x="264" y="38"/>
                  </a:lnTo>
                  <a:lnTo>
                    <a:pt x="282" y="30"/>
                  </a:lnTo>
                  <a:lnTo>
                    <a:pt x="294" y="28"/>
                  </a:lnTo>
                  <a:lnTo>
                    <a:pt x="304" y="28"/>
                  </a:lnTo>
                  <a:lnTo>
                    <a:pt x="314" y="30"/>
                  </a:lnTo>
                  <a:lnTo>
                    <a:pt x="324" y="32"/>
                  </a:lnTo>
                  <a:lnTo>
                    <a:pt x="324" y="32"/>
                  </a:lnTo>
                  <a:lnTo>
                    <a:pt x="334" y="36"/>
                  </a:lnTo>
                  <a:lnTo>
                    <a:pt x="344" y="42"/>
                  </a:lnTo>
                  <a:lnTo>
                    <a:pt x="352" y="48"/>
                  </a:lnTo>
                  <a:lnTo>
                    <a:pt x="360" y="56"/>
                  </a:lnTo>
                  <a:lnTo>
                    <a:pt x="376" y="74"/>
                  </a:lnTo>
                  <a:lnTo>
                    <a:pt x="388" y="92"/>
                  </a:lnTo>
                  <a:lnTo>
                    <a:pt x="388" y="92"/>
                  </a:lnTo>
                  <a:lnTo>
                    <a:pt x="390" y="98"/>
                  </a:lnTo>
                  <a:lnTo>
                    <a:pt x="390" y="104"/>
                  </a:lnTo>
                  <a:lnTo>
                    <a:pt x="390" y="110"/>
                  </a:lnTo>
                  <a:lnTo>
                    <a:pt x="386" y="116"/>
                  </a:lnTo>
                  <a:lnTo>
                    <a:pt x="386" y="116"/>
                  </a:lnTo>
                  <a:lnTo>
                    <a:pt x="378" y="120"/>
                  </a:lnTo>
                  <a:lnTo>
                    <a:pt x="372" y="122"/>
                  </a:lnTo>
                  <a:lnTo>
                    <a:pt x="366" y="122"/>
                  </a:lnTo>
                  <a:lnTo>
                    <a:pt x="360" y="120"/>
                  </a:lnTo>
                  <a:lnTo>
                    <a:pt x="350" y="116"/>
                  </a:lnTo>
                  <a:lnTo>
                    <a:pt x="342" y="108"/>
                  </a:lnTo>
                  <a:lnTo>
                    <a:pt x="324" y="88"/>
                  </a:lnTo>
                  <a:lnTo>
                    <a:pt x="314" y="80"/>
                  </a:lnTo>
                  <a:lnTo>
                    <a:pt x="306" y="74"/>
                  </a:lnTo>
                  <a:lnTo>
                    <a:pt x="306" y="74"/>
                  </a:lnTo>
                  <a:lnTo>
                    <a:pt x="298" y="78"/>
                  </a:lnTo>
                  <a:lnTo>
                    <a:pt x="292" y="82"/>
                  </a:lnTo>
                  <a:lnTo>
                    <a:pt x="280" y="92"/>
                  </a:lnTo>
                  <a:lnTo>
                    <a:pt x="262" y="114"/>
                  </a:lnTo>
                  <a:lnTo>
                    <a:pt x="252" y="122"/>
                  </a:lnTo>
                  <a:lnTo>
                    <a:pt x="246" y="126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0" y="122"/>
                  </a:lnTo>
                  <a:lnTo>
                    <a:pt x="210" y="116"/>
                  </a:lnTo>
                  <a:lnTo>
                    <a:pt x="210" y="116"/>
                  </a:lnTo>
                  <a:lnTo>
                    <a:pt x="210" y="106"/>
                  </a:lnTo>
                  <a:lnTo>
                    <a:pt x="210" y="96"/>
                  </a:lnTo>
                  <a:lnTo>
                    <a:pt x="212" y="88"/>
                  </a:lnTo>
                  <a:lnTo>
                    <a:pt x="218" y="78"/>
                  </a:lnTo>
                  <a:lnTo>
                    <a:pt x="230" y="62"/>
                  </a:lnTo>
                  <a:lnTo>
                    <a:pt x="244" y="48"/>
                  </a:lnTo>
                  <a:lnTo>
                    <a:pt x="244" y="48"/>
                  </a:lnTo>
                  <a:close/>
                  <a:moveTo>
                    <a:pt x="414" y="534"/>
                  </a:moveTo>
                  <a:lnTo>
                    <a:pt x="414" y="534"/>
                  </a:lnTo>
                  <a:lnTo>
                    <a:pt x="404" y="546"/>
                  </a:lnTo>
                  <a:lnTo>
                    <a:pt x="394" y="560"/>
                  </a:lnTo>
                  <a:lnTo>
                    <a:pt x="378" y="586"/>
                  </a:lnTo>
                  <a:lnTo>
                    <a:pt x="366" y="614"/>
                  </a:lnTo>
                  <a:lnTo>
                    <a:pt x="354" y="644"/>
                  </a:lnTo>
                  <a:lnTo>
                    <a:pt x="354" y="644"/>
                  </a:lnTo>
                  <a:lnTo>
                    <a:pt x="350" y="644"/>
                  </a:lnTo>
                  <a:lnTo>
                    <a:pt x="344" y="642"/>
                  </a:lnTo>
                  <a:lnTo>
                    <a:pt x="338" y="636"/>
                  </a:lnTo>
                  <a:lnTo>
                    <a:pt x="332" y="630"/>
                  </a:lnTo>
                  <a:lnTo>
                    <a:pt x="328" y="626"/>
                  </a:lnTo>
                  <a:lnTo>
                    <a:pt x="328" y="626"/>
                  </a:lnTo>
                  <a:lnTo>
                    <a:pt x="330" y="610"/>
                  </a:lnTo>
                  <a:lnTo>
                    <a:pt x="332" y="594"/>
                  </a:lnTo>
                  <a:lnTo>
                    <a:pt x="338" y="580"/>
                  </a:lnTo>
                  <a:lnTo>
                    <a:pt x="342" y="566"/>
                  </a:lnTo>
                  <a:lnTo>
                    <a:pt x="358" y="540"/>
                  </a:lnTo>
                  <a:lnTo>
                    <a:pt x="374" y="514"/>
                  </a:lnTo>
                  <a:lnTo>
                    <a:pt x="374" y="514"/>
                  </a:lnTo>
                  <a:lnTo>
                    <a:pt x="380" y="510"/>
                  </a:lnTo>
                  <a:lnTo>
                    <a:pt x="388" y="508"/>
                  </a:lnTo>
                  <a:lnTo>
                    <a:pt x="398" y="506"/>
                  </a:lnTo>
                  <a:lnTo>
                    <a:pt x="406" y="508"/>
                  </a:lnTo>
                  <a:lnTo>
                    <a:pt x="414" y="512"/>
                  </a:lnTo>
                  <a:lnTo>
                    <a:pt x="418" y="518"/>
                  </a:lnTo>
                  <a:lnTo>
                    <a:pt x="418" y="524"/>
                  </a:lnTo>
                  <a:lnTo>
                    <a:pt x="414" y="534"/>
                  </a:lnTo>
                  <a:lnTo>
                    <a:pt x="414" y="534"/>
                  </a:lnTo>
                  <a:close/>
                  <a:moveTo>
                    <a:pt x="400" y="420"/>
                  </a:moveTo>
                  <a:lnTo>
                    <a:pt x="400" y="420"/>
                  </a:lnTo>
                  <a:lnTo>
                    <a:pt x="390" y="438"/>
                  </a:lnTo>
                  <a:lnTo>
                    <a:pt x="378" y="452"/>
                  </a:lnTo>
                  <a:lnTo>
                    <a:pt x="364" y="462"/>
                  </a:lnTo>
                  <a:lnTo>
                    <a:pt x="348" y="470"/>
                  </a:lnTo>
                  <a:lnTo>
                    <a:pt x="332" y="478"/>
                  </a:lnTo>
                  <a:lnTo>
                    <a:pt x="314" y="482"/>
                  </a:lnTo>
                  <a:lnTo>
                    <a:pt x="296" y="484"/>
                  </a:lnTo>
                  <a:lnTo>
                    <a:pt x="276" y="486"/>
                  </a:lnTo>
                  <a:lnTo>
                    <a:pt x="276" y="486"/>
                  </a:lnTo>
                  <a:lnTo>
                    <a:pt x="262" y="480"/>
                  </a:lnTo>
                  <a:lnTo>
                    <a:pt x="248" y="470"/>
                  </a:lnTo>
                  <a:lnTo>
                    <a:pt x="234" y="462"/>
                  </a:lnTo>
                  <a:lnTo>
                    <a:pt x="222" y="450"/>
                  </a:lnTo>
                  <a:lnTo>
                    <a:pt x="210" y="438"/>
                  </a:lnTo>
                  <a:lnTo>
                    <a:pt x="202" y="424"/>
                  </a:lnTo>
                  <a:lnTo>
                    <a:pt x="194" y="408"/>
                  </a:lnTo>
                  <a:lnTo>
                    <a:pt x="192" y="392"/>
                  </a:lnTo>
                  <a:lnTo>
                    <a:pt x="192" y="392"/>
                  </a:lnTo>
                  <a:lnTo>
                    <a:pt x="190" y="374"/>
                  </a:lnTo>
                  <a:lnTo>
                    <a:pt x="192" y="360"/>
                  </a:lnTo>
                  <a:lnTo>
                    <a:pt x="196" y="330"/>
                  </a:lnTo>
                  <a:lnTo>
                    <a:pt x="210" y="272"/>
                  </a:lnTo>
                  <a:lnTo>
                    <a:pt x="210" y="272"/>
                  </a:lnTo>
                  <a:lnTo>
                    <a:pt x="196" y="264"/>
                  </a:lnTo>
                  <a:lnTo>
                    <a:pt x="180" y="252"/>
                  </a:lnTo>
                  <a:lnTo>
                    <a:pt x="174" y="246"/>
                  </a:lnTo>
                  <a:lnTo>
                    <a:pt x="168" y="238"/>
                  </a:lnTo>
                  <a:lnTo>
                    <a:pt x="164" y="230"/>
                  </a:lnTo>
                  <a:lnTo>
                    <a:pt x="160" y="220"/>
                  </a:lnTo>
                  <a:lnTo>
                    <a:pt x="160" y="220"/>
                  </a:lnTo>
                  <a:lnTo>
                    <a:pt x="160" y="212"/>
                  </a:lnTo>
                  <a:lnTo>
                    <a:pt x="160" y="204"/>
                  </a:lnTo>
                  <a:lnTo>
                    <a:pt x="162" y="196"/>
                  </a:lnTo>
                  <a:lnTo>
                    <a:pt x="164" y="190"/>
                  </a:lnTo>
                  <a:lnTo>
                    <a:pt x="168" y="184"/>
                  </a:lnTo>
                  <a:lnTo>
                    <a:pt x="172" y="178"/>
                  </a:lnTo>
                  <a:lnTo>
                    <a:pt x="184" y="172"/>
                  </a:lnTo>
                  <a:lnTo>
                    <a:pt x="184" y="172"/>
                  </a:lnTo>
                  <a:lnTo>
                    <a:pt x="192" y="172"/>
                  </a:lnTo>
                  <a:lnTo>
                    <a:pt x="198" y="174"/>
                  </a:lnTo>
                  <a:lnTo>
                    <a:pt x="202" y="178"/>
                  </a:lnTo>
                  <a:lnTo>
                    <a:pt x="206" y="182"/>
                  </a:lnTo>
                  <a:lnTo>
                    <a:pt x="210" y="192"/>
                  </a:lnTo>
                  <a:lnTo>
                    <a:pt x="214" y="202"/>
                  </a:lnTo>
                  <a:lnTo>
                    <a:pt x="218" y="214"/>
                  </a:lnTo>
                  <a:lnTo>
                    <a:pt x="222" y="224"/>
                  </a:lnTo>
                  <a:lnTo>
                    <a:pt x="226" y="228"/>
                  </a:lnTo>
                  <a:lnTo>
                    <a:pt x="232" y="232"/>
                  </a:lnTo>
                  <a:lnTo>
                    <a:pt x="238" y="234"/>
                  </a:lnTo>
                  <a:lnTo>
                    <a:pt x="246" y="234"/>
                  </a:lnTo>
                  <a:lnTo>
                    <a:pt x="246" y="234"/>
                  </a:lnTo>
                  <a:lnTo>
                    <a:pt x="250" y="228"/>
                  </a:lnTo>
                  <a:lnTo>
                    <a:pt x="256" y="224"/>
                  </a:lnTo>
                  <a:lnTo>
                    <a:pt x="262" y="222"/>
                  </a:lnTo>
                  <a:lnTo>
                    <a:pt x="270" y="220"/>
                  </a:lnTo>
                  <a:lnTo>
                    <a:pt x="270" y="220"/>
                  </a:lnTo>
                  <a:lnTo>
                    <a:pt x="264" y="202"/>
                  </a:lnTo>
                  <a:lnTo>
                    <a:pt x="260" y="182"/>
                  </a:lnTo>
                  <a:lnTo>
                    <a:pt x="260" y="172"/>
                  </a:lnTo>
                  <a:lnTo>
                    <a:pt x="260" y="162"/>
                  </a:lnTo>
                  <a:lnTo>
                    <a:pt x="264" y="15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80" y="136"/>
                  </a:lnTo>
                  <a:lnTo>
                    <a:pt x="286" y="134"/>
                  </a:lnTo>
                  <a:lnTo>
                    <a:pt x="294" y="134"/>
                  </a:lnTo>
                  <a:lnTo>
                    <a:pt x="294" y="134"/>
                  </a:lnTo>
                  <a:lnTo>
                    <a:pt x="302" y="150"/>
                  </a:lnTo>
                  <a:lnTo>
                    <a:pt x="306" y="168"/>
                  </a:lnTo>
                  <a:lnTo>
                    <a:pt x="312" y="206"/>
                  </a:lnTo>
                  <a:lnTo>
                    <a:pt x="312" y="206"/>
                  </a:lnTo>
                  <a:lnTo>
                    <a:pt x="318" y="206"/>
                  </a:lnTo>
                  <a:lnTo>
                    <a:pt x="324" y="206"/>
                  </a:lnTo>
                  <a:lnTo>
                    <a:pt x="336" y="210"/>
                  </a:lnTo>
                  <a:lnTo>
                    <a:pt x="342" y="212"/>
                  </a:lnTo>
                  <a:lnTo>
                    <a:pt x="348" y="212"/>
                  </a:lnTo>
                  <a:lnTo>
                    <a:pt x="354" y="212"/>
                  </a:lnTo>
                  <a:lnTo>
                    <a:pt x="360" y="208"/>
                  </a:lnTo>
                  <a:lnTo>
                    <a:pt x="360" y="208"/>
                  </a:lnTo>
                  <a:lnTo>
                    <a:pt x="362" y="188"/>
                  </a:lnTo>
                  <a:lnTo>
                    <a:pt x="368" y="168"/>
                  </a:lnTo>
                  <a:lnTo>
                    <a:pt x="374" y="160"/>
                  </a:lnTo>
                  <a:lnTo>
                    <a:pt x="380" y="152"/>
                  </a:lnTo>
                  <a:lnTo>
                    <a:pt x="388" y="144"/>
                  </a:lnTo>
                  <a:lnTo>
                    <a:pt x="396" y="138"/>
                  </a:lnTo>
                  <a:lnTo>
                    <a:pt x="396" y="138"/>
                  </a:lnTo>
                  <a:lnTo>
                    <a:pt x="412" y="136"/>
                  </a:lnTo>
                  <a:lnTo>
                    <a:pt x="430" y="134"/>
                  </a:lnTo>
                  <a:lnTo>
                    <a:pt x="430" y="134"/>
                  </a:lnTo>
                  <a:lnTo>
                    <a:pt x="432" y="142"/>
                  </a:lnTo>
                  <a:lnTo>
                    <a:pt x="434" y="150"/>
                  </a:lnTo>
                  <a:lnTo>
                    <a:pt x="434" y="156"/>
                  </a:lnTo>
                  <a:lnTo>
                    <a:pt x="432" y="162"/>
                  </a:lnTo>
                  <a:lnTo>
                    <a:pt x="426" y="174"/>
                  </a:lnTo>
                  <a:lnTo>
                    <a:pt x="418" y="186"/>
                  </a:lnTo>
                  <a:lnTo>
                    <a:pt x="408" y="198"/>
                  </a:lnTo>
                  <a:lnTo>
                    <a:pt x="398" y="210"/>
                  </a:lnTo>
                  <a:lnTo>
                    <a:pt x="392" y="224"/>
                  </a:lnTo>
                  <a:lnTo>
                    <a:pt x="388" y="230"/>
                  </a:lnTo>
                  <a:lnTo>
                    <a:pt x="388" y="238"/>
                  </a:lnTo>
                  <a:lnTo>
                    <a:pt x="388" y="238"/>
                  </a:lnTo>
                  <a:lnTo>
                    <a:pt x="396" y="248"/>
                  </a:lnTo>
                  <a:lnTo>
                    <a:pt x="402" y="258"/>
                  </a:lnTo>
                  <a:lnTo>
                    <a:pt x="408" y="270"/>
                  </a:lnTo>
                  <a:lnTo>
                    <a:pt x="414" y="280"/>
                  </a:lnTo>
                  <a:lnTo>
                    <a:pt x="420" y="304"/>
                  </a:lnTo>
                  <a:lnTo>
                    <a:pt x="422" y="328"/>
                  </a:lnTo>
                  <a:lnTo>
                    <a:pt x="420" y="352"/>
                  </a:lnTo>
                  <a:lnTo>
                    <a:pt x="416" y="376"/>
                  </a:lnTo>
                  <a:lnTo>
                    <a:pt x="410" y="398"/>
                  </a:lnTo>
                  <a:lnTo>
                    <a:pt x="400" y="420"/>
                  </a:lnTo>
                  <a:lnTo>
                    <a:pt x="400" y="420"/>
                  </a:lnTo>
                  <a:close/>
                  <a:moveTo>
                    <a:pt x="476" y="376"/>
                  </a:moveTo>
                  <a:lnTo>
                    <a:pt x="476" y="376"/>
                  </a:lnTo>
                  <a:lnTo>
                    <a:pt x="482" y="376"/>
                  </a:lnTo>
                  <a:lnTo>
                    <a:pt x="490" y="376"/>
                  </a:lnTo>
                  <a:lnTo>
                    <a:pt x="502" y="380"/>
                  </a:lnTo>
                  <a:lnTo>
                    <a:pt x="512" y="388"/>
                  </a:lnTo>
                  <a:lnTo>
                    <a:pt x="520" y="396"/>
                  </a:lnTo>
                  <a:lnTo>
                    <a:pt x="520" y="396"/>
                  </a:lnTo>
                  <a:lnTo>
                    <a:pt x="520" y="406"/>
                  </a:lnTo>
                  <a:lnTo>
                    <a:pt x="518" y="414"/>
                  </a:lnTo>
                  <a:lnTo>
                    <a:pt x="516" y="420"/>
                  </a:lnTo>
                  <a:lnTo>
                    <a:pt x="512" y="426"/>
                  </a:lnTo>
                  <a:lnTo>
                    <a:pt x="502" y="438"/>
                  </a:lnTo>
                  <a:lnTo>
                    <a:pt x="492" y="452"/>
                  </a:lnTo>
                  <a:lnTo>
                    <a:pt x="492" y="452"/>
                  </a:lnTo>
                  <a:lnTo>
                    <a:pt x="508" y="458"/>
                  </a:lnTo>
                  <a:lnTo>
                    <a:pt x="524" y="466"/>
                  </a:lnTo>
                  <a:lnTo>
                    <a:pt x="532" y="470"/>
                  </a:lnTo>
                  <a:lnTo>
                    <a:pt x="536" y="476"/>
                  </a:lnTo>
                  <a:lnTo>
                    <a:pt x="538" y="482"/>
                  </a:lnTo>
                  <a:lnTo>
                    <a:pt x="538" y="492"/>
                  </a:lnTo>
                  <a:lnTo>
                    <a:pt x="538" y="492"/>
                  </a:lnTo>
                  <a:lnTo>
                    <a:pt x="534" y="502"/>
                  </a:lnTo>
                  <a:lnTo>
                    <a:pt x="530" y="508"/>
                  </a:lnTo>
                  <a:lnTo>
                    <a:pt x="524" y="514"/>
                  </a:lnTo>
                  <a:lnTo>
                    <a:pt x="520" y="516"/>
                  </a:lnTo>
                  <a:lnTo>
                    <a:pt x="514" y="516"/>
                  </a:lnTo>
                  <a:lnTo>
                    <a:pt x="514" y="516"/>
                  </a:lnTo>
                  <a:lnTo>
                    <a:pt x="486" y="506"/>
                  </a:lnTo>
                  <a:lnTo>
                    <a:pt x="474" y="502"/>
                  </a:lnTo>
                  <a:lnTo>
                    <a:pt x="460" y="494"/>
                  </a:lnTo>
                  <a:lnTo>
                    <a:pt x="450" y="486"/>
                  </a:lnTo>
                  <a:lnTo>
                    <a:pt x="440" y="476"/>
                  </a:lnTo>
                  <a:lnTo>
                    <a:pt x="432" y="464"/>
                  </a:lnTo>
                  <a:lnTo>
                    <a:pt x="428" y="450"/>
                  </a:lnTo>
                  <a:lnTo>
                    <a:pt x="428" y="450"/>
                  </a:lnTo>
                  <a:lnTo>
                    <a:pt x="434" y="428"/>
                  </a:lnTo>
                  <a:lnTo>
                    <a:pt x="444" y="410"/>
                  </a:lnTo>
                  <a:lnTo>
                    <a:pt x="458" y="392"/>
                  </a:lnTo>
                  <a:lnTo>
                    <a:pt x="466" y="384"/>
                  </a:lnTo>
                  <a:lnTo>
                    <a:pt x="476" y="376"/>
                  </a:lnTo>
                  <a:lnTo>
                    <a:pt x="476" y="376"/>
                  </a:lnTo>
                  <a:close/>
                  <a:moveTo>
                    <a:pt x="562" y="628"/>
                  </a:moveTo>
                  <a:lnTo>
                    <a:pt x="562" y="628"/>
                  </a:lnTo>
                  <a:lnTo>
                    <a:pt x="546" y="634"/>
                  </a:lnTo>
                  <a:lnTo>
                    <a:pt x="530" y="638"/>
                  </a:lnTo>
                  <a:lnTo>
                    <a:pt x="514" y="642"/>
                  </a:lnTo>
                  <a:lnTo>
                    <a:pt x="496" y="642"/>
                  </a:lnTo>
                  <a:lnTo>
                    <a:pt x="480" y="638"/>
                  </a:lnTo>
                  <a:lnTo>
                    <a:pt x="464" y="634"/>
                  </a:lnTo>
                  <a:lnTo>
                    <a:pt x="448" y="624"/>
                  </a:lnTo>
                  <a:lnTo>
                    <a:pt x="434" y="612"/>
                  </a:lnTo>
                  <a:lnTo>
                    <a:pt x="434" y="612"/>
                  </a:lnTo>
                  <a:lnTo>
                    <a:pt x="432" y="588"/>
                  </a:lnTo>
                  <a:lnTo>
                    <a:pt x="434" y="578"/>
                  </a:lnTo>
                  <a:lnTo>
                    <a:pt x="436" y="574"/>
                  </a:lnTo>
                  <a:lnTo>
                    <a:pt x="440" y="570"/>
                  </a:lnTo>
                  <a:lnTo>
                    <a:pt x="440" y="570"/>
                  </a:lnTo>
                  <a:lnTo>
                    <a:pt x="452" y="572"/>
                  </a:lnTo>
                  <a:lnTo>
                    <a:pt x="460" y="574"/>
                  </a:lnTo>
                  <a:lnTo>
                    <a:pt x="480" y="580"/>
                  </a:lnTo>
                  <a:lnTo>
                    <a:pt x="498" y="586"/>
                  </a:lnTo>
                  <a:lnTo>
                    <a:pt x="508" y="588"/>
                  </a:lnTo>
                  <a:lnTo>
                    <a:pt x="518" y="586"/>
                  </a:lnTo>
                  <a:lnTo>
                    <a:pt x="518" y="586"/>
                  </a:lnTo>
                  <a:lnTo>
                    <a:pt x="522" y="586"/>
                  </a:lnTo>
                  <a:lnTo>
                    <a:pt x="528" y="584"/>
                  </a:lnTo>
                  <a:lnTo>
                    <a:pt x="536" y="576"/>
                  </a:lnTo>
                  <a:lnTo>
                    <a:pt x="554" y="556"/>
                  </a:lnTo>
                  <a:lnTo>
                    <a:pt x="562" y="550"/>
                  </a:lnTo>
                  <a:lnTo>
                    <a:pt x="568" y="548"/>
                  </a:lnTo>
                  <a:lnTo>
                    <a:pt x="572" y="548"/>
                  </a:lnTo>
                  <a:lnTo>
                    <a:pt x="576" y="550"/>
                  </a:lnTo>
                  <a:lnTo>
                    <a:pt x="582" y="552"/>
                  </a:lnTo>
                  <a:lnTo>
                    <a:pt x="586" y="558"/>
                  </a:lnTo>
                  <a:lnTo>
                    <a:pt x="592" y="566"/>
                  </a:lnTo>
                  <a:lnTo>
                    <a:pt x="592" y="566"/>
                  </a:lnTo>
                  <a:lnTo>
                    <a:pt x="596" y="578"/>
                  </a:lnTo>
                  <a:lnTo>
                    <a:pt x="596" y="588"/>
                  </a:lnTo>
                  <a:lnTo>
                    <a:pt x="592" y="598"/>
                  </a:lnTo>
                  <a:lnTo>
                    <a:pt x="588" y="604"/>
                  </a:lnTo>
                  <a:lnTo>
                    <a:pt x="574" y="616"/>
                  </a:lnTo>
                  <a:lnTo>
                    <a:pt x="562" y="628"/>
                  </a:lnTo>
                  <a:lnTo>
                    <a:pt x="562" y="628"/>
                  </a:lnTo>
                  <a:close/>
                  <a:moveTo>
                    <a:pt x="580" y="414"/>
                  </a:moveTo>
                  <a:lnTo>
                    <a:pt x="580" y="414"/>
                  </a:lnTo>
                  <a:lnTo>
                    <a:pt x="574" y="402"/>
                  </a:lnTo>
                  <a:lnTo>
                    <a:pt x="570" y="390"/>
                  </a:lnTo>
                  <a:lnTo>
                    <a:pt x="568" y="376"/>
                  </a:lnTo>
                  <a:lnTo>
                    <a:pt x="568" y="362"/>
                  </a:lnTo>
                  <a:lnTo>
                    <a:pt x="572" y="334"/>
                  </a:lnTo>
                  <a:lnTo>
                    <a:pt x="578" y="308"/>
                  </a:lnTo>
                  <a:lnTo>
                    <a:pt x="578" y="308"/>
                  </a:lnTo>
                  <a:lnTo>
                    <a:pt x="590" y="276"/>
                  </a:lnTo>
                  <a:lnTo>
                    <a:pt x="598" y="260"/>
                  </a:lnTo>
                  <a:lnTo>
                    <a:pt x="608" y="244"/>
                  </a:lnTo>
                  <a:lnTo>
                    <a:pt x="608" y="244"/>
                  </a:lnTo>
                  <a:lnTo>
                    <a:pt x="610" y="238"/>
                  </a:lnTo>
                  <a:lnTo>
                    <a:pt x="610" y="230"/>
                  </a:lnTo>
                  <a:lnTo>
                    <a:pt x="608" y="218"/>
                  </a:lnTo>
                  <a:lnTo>
                    <a:pt x="604" y="204"/>
                  </a:lnTo>
                  <a:lnTo>
                    <a:pt x="598" y="192"/>
                  </a:lnTo>
                  <a:lnTo>
                    <a:pt x="592" y="180"/>
                  </a:lnTo>
                  <a:lnTo>
                    <a:pt x="592" y="168"/>
                  </a:lnTo>
                  <a:lnTo>
                    <a:pt x="594" y="162"/>
                  </a:lnTo>
                  <a:lnTo>
                    <a:pt x="596" y="158"/>
                  </a:lnTo>
                  <a:lnTo>
                    <a:pt x="600" y="152"/>
                  </a:lnTo>
                  <a:lnTo>
                    <a:pt x="608" y="146"/>
                  </a:lnTo>
                  <a:lnTo>
                    <a:pt x="608" y="146"/>
                  </a:lnTo>
                  <a:lnTo>
                    <a:pt x="622" y="148"/>
                  </a:lnTo>
                  <a:lnTo>
                    <a:pt x="636" y="152"/>
                  </a:lnTo>
                  <a:lnTo>
                    <a:pt x="648" y="160"/>
                  </a:lnTo>
                  <a:lnTo>
                    <a:pt x="652" y="166"/>
                  </a:lnTo>
                  <a:lnTo>
                    <a:pt x="656" y="172"/>
                  </a:lnTo>
                  <a:lnTo>
                    <a:pt x="656" y="172"/>
                  </a:lnTo>
                  <a:lnTo>
                    <a:pt x="656" y="182"/>
                  </a:lnTo>
                  <a:lnTo>
                    <a:pt x="656" y="194"/>
                  </a:lnTo>
                  <a:lnTo>
                    <a:pt x="656" y="198"/>
                  </a:lnTo>
                  <a:lnTo>
                    <a:pt x="658" y="202"/>
                  </a:lnTo>
                  <a:lnTo>
                    <a:pt x="664" y="204"/>
                  </a:lnTo>
                  <a:lnTo>
                    <a:pt x="670" y="202"/>
                  </a:lnTo>
                  <a:lnTo>
                    <a:pt x="670" y="202"/>
                  </a:lnTo>
                  <a:lnTo>
                    <a:pt x="682" y="202"/>
                  </a:lnTo>
                  <a:lnTo>
                    <a:pt x="692" y="196"/>
                  </a:lnTo>
                  <a:lnTo>
                    <a:pt x="694" y="194"/>
                  </a:lnTo>
                  <a:lnTo>
                    <a:pt x="698" y="190"/>
                  </a:lnTo>
                  <a:lnTo>
                    <a:pt x="698" y="184"/>
                  </a:lnTo>
                  <a:lnTo>
                    <a:pt x="698" y="178"/>
                  </a:lnTo>
                  <a:lnTo>
                    <a:pt x="698" y="178"/>
                  </a:lnTo>
                  <a:lnTo>
                    <a:pt x="696" y="164"/>
                  </a:lnTo>
                  <a:lnTo>
                    <a:pt x="696" y="152"/>
                  </a:lnTo>
                  <a:lnTo>
                    <a:pt x="698" y="146"/>
                  </a:lnTo>
                  <a:lnTo>
                    <a:pt x="700" y="140"/>
                  </a:lnTo>
                  <a:lnTo>
                    <a:pt x="704" y="136"/>
                  </a:lnTo>
                  <a:lnTo>
                    <a:pt x="710" y="132"/>
                  </a:lnTo>
                  <a:lnTo>
                    <a:pt x="710" y="132"/>
                  </a:lnTo>
                  <a:lnTo>
                    <a:pt x="718" y="132"/>
                  </a:lnTo>
                  <a:lnTo>
                    <a:pt x="726" y="134"/>
                  </a:lnTo>
                  <a:lnTo>
                    <a:pt x="742" y="144"/>
                  </a:lnTo>
                  <a:lnTo>
                    <a:pt x="742" y="144"/>
                  </a:lnTo>
                  <a:lnTo>
                    <a:pt x="748" y="162"/>
                  </a:lnTo>
                  <a:lnTo>
                    <a:pt x="748" y="178"/>
                  </a:lnTo>
                  <a:lnTo>
                    <a:pt x="746" y="196"/>
                  </a:lnTo>
                  <a:lnTo>
                    <a:pt x="742" y="204"/>
                  </a:lnTo>
                  <a:lnTo>
                    <a:pt x="738" y="212"/>
                  </a:lnTo>
                  <a:lnTo>
                    <a:pt x="770" y="230"/>
                  </a:lnTo>
                  <a:lnTo>
                    <a:pt x="770" y="230"/>
                  </a:lnTo>
                  <a:lnTo>
                    <a:pt x="776" y="226"/>
                  </a:lnTo>
                  <a:lnTo>
                    <a:pt x="778" y="218"/>
                  </a:lnTo>
                  <a:lnTo>
                    <a:pt x="780" y="202"/>
                  </a:lnTo>
                  <a:lnTo>
                    <a:pt x="780" y="194"/>
                  </a:lnTo>
                  <a:lnTo>
                    <a:pt x="782" y="186"/>
                  </a:lnTo>
                  <a:lnTo>
                    <a:pt x="788" y="180"/>
                  </a:lnTo>
                  <a:lnTo>
                    <a:pt x="796" y="174"/>
                  </a:lnTo>
                  <a:lnTo>
                    <a:pt x="796" y="174"/>
                  </a:lnTo>
                  <a:lnTo>
                    <a:pt x="806" y="176"/>
                  </a:lnTo>
                  <a:lnTo>
                    <a:pt x="816" y="178"/>
                  </a:lnTo>
                  <a:lnTo>
                    <a:pt x="828" y="184"/>
                  </a:lnTo>
                  <a:lnTo>
                    <a:pt x="836" y="192"/>
                  </a:lnTo>
                  <a:lnTo>
                    <a:pt x="836" y="192"/>
                  </a:lnTo>
                  <a:lnTo>
                    <a:pt x="838" y="198"/>
                  </a:lnTo>
                  <a:lnTo>
                    <a:pt x="840" y="206"/>
                  </a:lnTo>
                  <a:lnTo>
                    <a:pt x="840" y="218"/>
                  </a:lnTo>
                  <a:lnTo>
                    <a:pt x="836" y="230"/>
                  </a:lnTo>
                  <a:lnTo>
                    <a:pt x="834" y="242"/>
                  </a:lnTo>
                  <a:lnTo>
                    <a:pt x="834" y="242"/>
                  </a:lnTo>
                  <a:lnTo>
                    <a:pt x="824" y="246"/>
                  </a:lnTo>
                  <a:lnTo>
                    <a:pt x="818" y="250"/>
                  </a:lnTo>
                  <a:lnTo>
                    <a:pt x="814" y="254"/>
                  </a:lnTo>
                  <a:lnTo>
                    <a:pt x="810" y="258"/>
                  </a:lnTo>
                  <a:lnTo>
                    <a:pt x="808" y="264"/>
                  </a:lnTo>
                  <a:lnTo>
                    <a:pt x="808" y="268"/>
                  </a:lnTo>
                  <a:lnTo>
                    <a:pt x="808" y="280"/>
                  </a:lnTo>
                  <a:lnTo>
                    <a:pt x="816" y="306"/>
                  </a:lnTo>
                  <a:lnTo>
                    <a:pt x="818" y="320"/>
                  </a:lnTo>
                  <a:lnTo>
                    <a:pt x="818" y="334"/>
                  </a:lnTo>
                  <a:lnTo>
                    <a:pt x="818" y="334"/>
                  </a:lnTo>
                  <a:lnTo>
                    <a:pt x="816" y="354"/>
                  </a:lnTo>
                  <a:lnTo>
                    <a:pt x="814" y="372"/>
                  </a:lnTo>
                  <a:lnTo>
                    <a:pt x="808" y="392"/>
                  </a:lnTo>
                  <a:lnTo>
                    <a:pt x="802" y="410"/>
                  </a:lnTo>
                  <a:lnTo>
                    <a:pt x="792" y="428"/>
                  </a:lnTo>
                  <a:lnTo>
                    <a:pt x="782" y="444"/>
                  </a:lnTo>
                  <a:lnTo>
                    <a:pt x="768" y="460"/>
                  </a:lnTo>
                  <a:lnTo>
                    <a:pt x="752" y="474"/>
                  </a:lnTo>
                  <a:lnTo>
                    <a:pt x="752" y="474"/>
                  </a:lnTo>
                  <a:lnTo>
                    <a:pt x="732" y="484"/>
                  </a:lnTo>
                  <a:lnTo>
                    <a:pt x="710" y="490"/>
                  </a:lnTo>
                  <a:lnTo>
                    <a:pt x="688" y="494"/>
                  </a:lnTo>
                  <a:lnTo>
                    <a:pt x="676" y="494"/>
                  </a:lnTo>
                  <a:lnTo>
                    <a:pt x="666" y="492"/>
                  </a:lnTo>
                  <a:lnTo>
                    <a:pt x="666" y="492"/>
                  </a:lnTo>
                  <a:lnTo>
                    <a:pt x="652" y="488"/>
                  </a:lnTo>
                  <a:lnTo>
                    <a:pt x="638" y="482"/>
                  </a:lnTo>
                  <a:lnTo>
                    <a:pt x="624" y="474"/>
                  </a:lnTo>
                  <a:lnTo>
                    <a:pt x="612" y="464"/>
                  </a:lnTo>
                  <a:lnTo>
                    <a:pt x="600" y="454"/>
                  </a:lnTo>
                  <a:lnTo>
                    <a:pt x="590" y="442"/>
                  </a:lnTo>
                  <a:lnTo>
                    <a:pt x="584" y="428"/>
                  </a:lnTo>
                  <a:lnTo>
                    <a:pt x="580" y="414"/>
                  </a:lnTo>
                  <a:lnTo>
                    <a:pt x="580" y="414"/>
                  </a:lnTo>
                  <a:close/>
                  <a:moveTo>
                    <a:pt x="642" y="546"/>
                  </a:moveTo>
                  <a:lnTo>
                    <a:pt x="642" y="546"/>
                  </a:lnTo>
                  <a:lnTo>
                    <a:pt x="644" y="536"/>
                  </a:lnTo>
                  <a:lnTo>
                    <a:pt x="646" y="526"/>
                  </a:lnTo>
                  <a:lnTo>
                    <a:pt x="648" y="522"/>
                  </a:lnTo>
                  <a:lnTo>
                    <a:pt x="652" y="518"/>
                  </a:lnTo>
                  <a:lnTo>
                    <a:pt x="656" y="516"/>
                  </a:lnTo>
                  <a:lnTo>
                    <a:pt x="662" y="516"/>
                  </a:lnTo>
                  <a:lnTo>
                    <a:pt x="662" y="516"/>
                  </a:lnTo>
                  <a:lnTo>
                    <a:pt x="670" y="516"/>
                  </a:lnTo>
                  <a:lnTo>
                    <a:pt x="678" y="520"/>
                  </a:lnTo>
                  <a:lnTo>
                    <a:pt x="686" y="524"/>
                  </a:lnTo>
                  <a:lnTo>
                    <a:pt x="692" y="530"/>
                  </a:lnTo>
                  <a:lnTo>
                    <a:pt x="704" y="544"/>
                  </a:lnTo>
                  <a:lnTo>
                    <a:pt x="712" y="560"/>
                  </a:lnTo>
                  <a:lnTo>
                    <a:pt x="712" y="560"/>
                  </a:lnTo>
                  <a:lnTo>
                    <a:pt x="716" y="570"/>
                  </a:lnTo>
                  <a:lnTo>
                    <a:pt x="718" y="582"/>
                  </a:lnTo>
                  <a:lnTo>
                    <a:pt x="718" y="594"/>
                  </a:lnTo>
                  <a:lnTo>
                    <a:pt x="716" y="606"/>
                  </a:lnTo>
                  <a:lnTo>
                    <a:pt x="714" y="618"/>
                  </a:lnTo>
                  <a:lnTo>
                    <a:pt x="710" y="630"/>
                  </a:lnTo>
                  <a:lnTo>
                    <a:pt x="704" y="640"/>
                  </a:lnTo>
                  <a:lnTo>
                    <a:pt x="698" y="650"/>
                  </a:lnTo>
                  <a:lnTo>
                    <a:pt x="698" y="650"/>
                  </a:lnTo>
                  <a:lnTo>
                    <a:pt x="690" y="650"/>
                  </a:lnTo>
                  <a:lnTo>
                    <a:pt x="682" y="648"/>
                  </a:lnTo>
                  <a:lnTo>
                    <a:pt x="676" y="644"/>
                  </a:lnTo>
                  <a:lnTo>
                    <a:pt x="674" y="642"/>
                  </a:lnTo>
                  <a:lnTo>
                    <a:pt x="674" y="636"/>
                  </a:lnTo>
                  <a:lnTo>
                    <a:pt x="672" y="640"/>
                  </a:lnTo>
                  <a:lnTo>
                    <a:pt x="672" y="640"/>
                  </a:lnTo>
                  <a:lnTo>
                    <a:pt x="672" y="616"/>
                  </a:lnTo>
                  <a:lnTo>
                    <a:pt x="672" y="602"/>
                  </a:lnTo>
                  <a:lnTo>
                    <a:pt x="670" y="588"/>
                  </a:lnTo>
                  <a:lnTo>
                    <a:pt x="668" y="576"/>
                  </a:lnTo>
                  <a:lnTo>
                    <a:pt x="662" y="564"/>
                  </a:lnTo>
                  <a:lnTo>
                    <a:pt x="654" y="554"/>
                  </a:lnTo>
                  <a:lnTo>
                    <a:pt x="642" y="546"/>
                  </a:lnTo>
                  <a:lnTo>
                    <a:pt x="642" y="546"/>
                  </a:lnTo>
                  <a:close/>
                </a:path>
              </a:pathLst>
            </a:custGeom>
            <a:solidFill>
              <a:srgbClr val="f7d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4592880" y="4128840"/>
              <a:ext cx="285480" cy="1555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80" h="98">
                  <a:moveTo>
                    <a:pt x="96" y="46"/>
                  </a:moveTo>
                  <a:lnTo>
                    <a:pt x="96" y="46"/>
                  </a:lnTo>
                  <a:lnTo>
                    <a:pt x="104" y="52"/>
                  </a:lnTo>
                  <a:lnTo>
                    <a:pt x="114" y="60"/>
                  </a:lnTo>
                  <a:lnTo>
                    <a:pt x="132" y="80"/>
                  </a:lnTo>
                  <a:lnTo>
                    <a:pt x="140" y="88"/>
                  </a:lnTo>
                  <a:lnTo>
                    <a:pt x="150" y="92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68" y="92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80" y="82"/>
                  </a:lnTo>
                  <a:lnTo>
                    <a:pt x="180" y="76"/>
                  </a:lnTo>
                  <a:lnTo>
                    <a:pt x="180" y="70"/>
                  </a:lnTo>
                  <a:lnTo>
                    <a:pt x="178" y="64"/>
                  </a:lnTo>
                  <a:lnTo>
                    <a:pt x="178" y="64"/>
                  </a:lnTo>
                  <a:lnTo>
                    <a:pt x="166" y="46"/>
                  </a:lnTo>
                  <a:lnTo>
                    <a:pt x="150" y="28"/>
                  </a:lnTo>
                  <a:lnTo>
                    <a:pt x="142" y="20"/>
                  </a:lnTo>
                  <a:lnTo>
                    <a:pt x="134" y="14"/>
                  </a:lnTo>
                  <a:lnTo>
                    <a:pt x="124" y="8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04" y="2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2" y="2"/>
                  </a:lnTo>
                  <a:lnTo>
                    <a:pt x="54" y="1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20" y="34"/>
                  </a:lnTo>
                  <a:lnTo>
                    <a:pt x="8" y="50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0" y="94"/>
                  </a:lnTo>
                  <a:lnTo>
                    <a:pt x="18" y="98"/>
                  </a:lnTo>
                  <a:lnTo>
                    <a:pt x="24" y="98"/>
                  </a:lnTo>
                  <a:lnTo>
                    <a:pt x="30" y="98"/>
                  </a:lnTo>
                  <a:lnTo>
                    <a:pt x="36" y="98"/>
                  </a:lnTo>
                  <a:lnTo>
                    <a:pt x="42" y="94"/>
                  </a:lnTo>
                  <a:lnTo>
                    <a:pt x="52" y="86"/>
                  </a:lnTo>
                  <a:lnTo>
                    <a:pt x="70" y="64"/>
                  </a:lnTo>
                  <a:lnTo>
                    <a:pt x="82" y="54"/>
                  </a:lnTo>
                  <a:lnTo>
                    <a:pt x="88" y="50"/>
                  </a:lnTo>
                  <a:lnTo>
                    <a:pt x="96" y="46"/>
                  </a:lnTo>
                  <a:lnTo>
                    <a:pt x="96" y="46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5548320" y="4170240"/>
              <a:ext cx="234720" cy="250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48" h="158">
                  <a:moveTo>
                    <a:pt x="128" y="156"/>
                  </a:moveTo>
                  <a:lnTo>
                    <a:pt x="128" y="156"/>
                  </a:lnTo>
                  <a:lnTo>
                    <a:pt x="134" y="158"/>
                  </a:lnTo>
                  <a:lnTo>
                    <a:pt x="142" y="158"/>
                  </a:lnTo>
                  <a:lnTo>
                    <a:pt x="146" y="156"/>
                  </a:lnTo>
                  <a:lnTo>
                    <a:pt x="148" y="154"/>
                  </a:lnTo>
                  <a:lnTo>
                    <a:pt x="148" y="152"/>
                  </a:lnTo>
                  <a:lnTo>
                    <a:pt x="148" y="152"/>
                  </a:lnTo>
                  <a:lnTo>
                    <a:pt x="134" y="128"/>
                  </a:lnTo>
                  <a:lnTo>
                    <a:pt x="120" y="106"/>
                  </a:lnTo>
                  <a:lnTo>
                    <a:pt x="104" y="84"/>
                  </a:lnTo>
                  <a:lnTo>
                    <a:pt x="86" y="62"/>
                  </a:lnTo>
                  <a:lnTo>
                    <a:pt x="66" y="44"/>
                  </a:lnTo>
                  <a:lnTo>
                    <a:pt x="46" y="26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10"/>
                  </a:lnTo>
                  <a:lnTo>
                    <a:pt x="14" y="22"/>
                  </a:lnTo>
                  <a:lnTo>
                    <a:pt x="20" y="3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56" y="68"/>
                  </a:lnTo>
                  <a:lnTo>
                    <a:pt x="72" y="80"/>
                  </a:lnTo>
                  <a:lnTo>
                    <a:pt x="90" y="92"/>
                  </a:lnTo>
                  <a:lnTo>
                    <a:pt x="104" y="104"/>
                  </a:lnTo>
                  <a:lnTo>
                    <a:pt x="116" y="120"/>
                  </a:lnTo>
                  <a:lnTo>
                    <a:pt x="124" y="136"/>
                  </a:lnTo>
                  <a:lnTo>
                    <a:pt x="128" y="146"/>
                  </a:lnTo>
                  <a:lnTo>
                    <a:pt x="128" y="156"/>
                  </a:lnTo>
                  <a:lnTo>
                    <a:pt x="128" y="156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5160960" y="4294080"/>
              <a:ext cx="431640" cy="5745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72" h="362">
                  <a:moveTo>
                    <a:pt x="184" y="342"/>
                  </a:moveTo>
                  <a:lnTo>
                    <a:pt x="184" y="342"/>
                  </a:lnTo>
                  <a:lnTo>
                    <a:pt x="200" y="328"/>
                  </a:lnTo>
                  <a:lnTo>
                    <a:pt x="214" y="312"/>
                  </a:lnTo>
                  <a:lnTo>
                    <a:pt x="224" y="296"/>
                  </a:lnTo>
                  <a:lnTo>
                    <a:pt x="234" y="278"/>
                  </a:lnTo>
                  <a:lnTo>
                    <a:pt x="240" y="260"/>
                  </a:lnTo>
                  <a:lnTo>
                    <a:pt x="246" y="240"/>
                  </a:lnTo>
                  <a:lnTo>
                    <a:pt x="248" y="222"/>
                  </a:lnTo>
                  <a:lnTo>
                    <a:pt x="250" y="202"/>
                  </a:lnTo>
                  <a:lnTo>
                    <a:pt x="250" y="202"/>
                  </a:lnTo>
                  <a:lnTo>
                    <a:pt x="250" y="188"/>
                  </a:lnTo>
                  <a:lnTo>
                    <a:pt x="248" y="174"/>
                  </a:lnTo>
                  <a:lnTo>
                    <a:pt x="240" y="148"/>
                  </a:lnTo>
                  <a:lnTo>
                    <a:pt x="240" y="136"/>
                  </a:lnTo>
                  <a:lnTo>
                    <a:pt x="240" y="132"/>
                  </a:lnTo>
                  <a:lnTo>
                    <a:pt x="242" y="126"/>
                  </a:lnTo>
                  <a:lnTo>
                    <a:pt x="246" y="122"/>
                  </a:lnTo>
                  <a:lnTo>
                    <a:pt x="250" y="118"/>
                  </a:lnTo>
                  <a:lnTo>
                    <a:pt x="256" y="114"/>
                  </a:lnTo>
                  <a:lnTo>
                    <a:pt x="266" y="110"/>
                  </a:lnTo>
                  <a:lnTo>
                    <a:pt x="266" y="110"/>
                  </a:lnTo>
                  <a:lnTo>
                    <a:pt x="268" y="98"/>
                  </a:lnTo>
                  <a:lnTo>
                    <a:pt x="272" y="86"/>
                  </a:lnTo>
                  <a:lnTo>
                    <a:pt x="272" y="74"/>
                  </a:lnTo>
                  <a:lnTo>
                    <a:pt x="270" y="66"/>
                  </a:lnTo>
                  <a:lnTo>
                    <a:pt x="268" y="60"/>
                  </a:lnTo>
                  <a:lnTo>
                    <a:pt x="268" y="60"/>
                  </a:lnTo>
                  <a:lnTo>
                    <a:pt x="260" y="52"/>
                  </a:lnTo>
                  <a:lnTo>
                    <a:pt x="248" y="46"/>
                  </a:lnTo>
                  <a:lnTo>
                    <a:pt x="238" y="44"/>
                  </a:lnTo>
                  <a:lnTo>
                    <a:pt x="228" y="42"/>
                  </a:lnTo>
                  <a:lnTo>
                    <a:pt x="228" y="42"/>
                  </a:lnTo>
                  <a:lnTo>
                    <a:pt x="220" y="48"/>
                  </a:lnTo>
                  <a:lnTo>
                    <a:pt x="214" y="54"/>
                  </a:lnTo>
                  <a:lnTo>
                    <a:pt x="212" y="62"/>
                  </a:lnTo>
                  <a:lnTo>
                    <a:pt x="212" y="70"/>
                  </a:lnTo>
                  <a:lnTo>
                    <a:pt x="210" y="86"/>
                  </a:lnTo>
                  <a:lnTo>
                    <a:pt x="208" y="94"/>
                  </a:lnTo>
                  <a:lnTo>
                    <a:pt x="202" y="98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74" y="72"/>
                  </a:lnTo>
                  <a:lnTo>
                    <a:pt x="178" y="64"/>
                  </a:lnTo>
                  <a:lnTo>
                    <a:pt x="180" y="46"/>
                  </a:lnTo>
                  <a:lnTo>
                    <a:pt x="180" y="30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58" y="2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36" y="4"/>
                  </a:lnTo>
                  <a:lnTo>
                    <a:pt x="132" y="8"/>
                  </a:lnTo>
                  <a:lnTo>
                    <a:pt x="130" y="14"/>
                  </a:lnTo>
                  <a:lnTo>
                    <a:pt x="128" y="20"/>
                  </a:lnTo>
                  <a:lnTo>
                    <a:pt x="128" y="32"/>
                  </a:lnTo>
                  <a:lnTo>
                    <a:pt x="130" y="46"/>
                  </a:lnTo>
                  <a:lnTo>
                    <a:pt x="130" y="46"/>
                  </a:lnTo>
                  <a:lnTo>
                    <a:pt x="130" y="52"/>
                  </a:lnTo>
                  <a:lnTo>
                    <a:pt x="130" y="58"/>
                  </a:lnTo>
                  <a:lnTo>
                    <a:pt x="126" y="62"/>
                  </a:lnTo>
                  <a:lnTo>
                    <a:pt x="124" y="64"/>
                  </a:lnTo>
                  <a:lnTo>
                    <a:pt x="114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96" y="72"/>
                  </a:lnTo>
                  <a:lnTo>
                    <a:pt x="90" y="70"/>
                  </a:lnTo>
                  <a:lnTo>
                    <a:pt x="88" y="66"/>
                  </a:lnTo>
                  <a:lnTo>
                    <a:pt x="88" y="62"/>
                  </a:lnTo>
                  <a:lnTo>
                    <a:pt x="88" y="50"/>
                  </a:lnTo>
                  <a:lnTo>
                    <a:pt x="88" y="40"/>
                  </a:lnTo>
                  <a:lnTo>
                    <a:pt x="88" y="40"/>
                  </a:lnTo>
                  <a:lnTo>
                    <a:pt x="84" y="34"/>
                  </a:lnTo>
                  <a:lnTo>
                    <a:pt x="80" y="28"/>
                  </a:lnTo>
                  <a:lnTo>
                    <a:pt x="68" y="20"/>
                  </a:lnTo>
                  <a:lnTo>
                    <a:pt x="54" y="16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2" y="20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24" y="48"/>
                  </a:lnTo>
                  <a:lnTo>
                    <a:pt x="30" y="60"/>
                  </a:lnTo>
                  <a:lnTo>
                    <a:pt x="36" y="72"/>
                  </a:lnTo>
                  <a:lnTo>
                    <a:pt x="40" y="86"/>
                  </a:lnTo>
                  <a:lnTo>
                    <a:pt x="42" y="98"/>
                  </a:lnTo>
                  <a:lnTo>
                    <a:pt x="42" y="106"/>
                  </a:lnTo>
                  <a:lnTo>
                    <a:pt x="40" y="112"/>
                  </a:lnTo>
                  <a:lnTo>
                    <a:pt x="40" y="112"/>
                  </a:lnTo>
                  <a:lnTo>
                    <a:pt x="30" y="128"/>
                  </a:lnTo>
                  <a:lnTo>
                    <a:pt x="22" y="144"/>
                  </a:lnTo>
                  <a:lnTo>
                    <a:pt x="10" y="176"/>
                  </a:lnTo>
                  <a:lnTo>
                    <a:pt x="10" y="176"/>
                  </a:lnTo>
                  <a:lnTo>
                    <a:pt x="4" y="202"/>
                  </a:lnTo>
                  <a:lnTo>
                    <a:pt x="0" y="230"/>
                  </a:lnTo>
                  <a:lnTo>
                    <a:pt x="0" y="244"/>
                  </a:lnTo>
                  <a:lnTo>
                    <a:pt x="2" y="258"/>
                  </a:lnTo>
                  <a:lnTo>
                    <a:pt x="6" y="270"/>
                  </a:lnTo>
                  <a:lnTo>
                    <a:pt x="12" y="282"/>
                  </a:lnTo>
                  <a:lnTo>
                    <a:pt x="12" y="282"/>
                  </a:lnTo>
                  <a:lnTo>
                    <a:pt x="16" y="296"/>
                  </a:lnTo>
                  <a:lnTo>
                    <a:pt x="22" y="310"/>
                  </a:lnTo>
                  <a:lnTo>
                    <a:pt x="32" y="322"/>
                  </a:lnTo>
                  <a:lnTo>
                    <a:pt x="44" y="332"/>
                  </a:lnTo>
                  <a:lnTo>
                    <a:pt x="56" y="342"/>
                  </a:lnTo>
                  <a:lnTo>
                    <a:pt x="70" y="350"/>
                  </a:lnTo>
                  <a:lnTo>
                    <a:pt x="84" y="356"/>
                  </a:lnTo>
                  <a:lnTo>
                    <a:pt x="98" y="360"/>
                  </a:lnTo>
                  <a:lnTo>
                    <a:pt x="98" y="360"/>
                  </a:lnTo>
                  <a:lnTo>
                    <a:pt x="108" y="362"/>
                  </a:lnTo>
                  <a:lnTo>
                    <a:pt x="120" y="362"/>
                  </a:lnTo>
                  <a:lnTo>
                    <a:pt x="142" y="358"/>
                  </a:lnTo>
                  <a:lnTo>
                    <a:pt x="164" y="352"/>
                  </a:lnTo>
                  <a:lnTo>
                    <a:pt x="184" y="342"/>
                  </a:lnTo>
                  <a:lnTo>
                    <a:pt x="184" y="342"/>
                  </a:lnTo>
                  <a:close/>
                  <a:moveTo>
                    <a:pt x="54" y="230"/>
                  </a:moveTo>
                  <a:lnTo>
                    <a:pt x="54" y="230"/>
                  </a:lnTo>
                  <a:lnTo>
                    <a:pt x="54" y="216"/>
                  </a:lnTo>
                  <a:lnTo>
                    <a:pt x="54" y="202"/>
                  </a:lnTo>
                  <a:lnTo>
                    <a:pt x="58" y="188"/>
                  </a:lnTo>
                  <a:lnTo>
                    <a:pt x="62" y="174"/>
                  </a:lnTo>
                  <a:lnTo>
                    <a:pt x="68" y="162"/>
                  </a:lnTo>
                  <a:lnTo>
                    <a:pt x="76" y="150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104" y="122"/>
                  </a:lnTo>
                  <a:lnTo>
                    <a:pt x="118" y="120"/>
                  </a:lnTo>
                  <a:lnTo>
                    <a:pt x="132" y="118"/>
                  </a:lnTo>
                  <a:lnTo>
                    <a:pt x="146" y="120"/>
                  </a:lnTo>
                  <a:lnTo>
                    <a:pt x="160" y="122"/>
                  </a:lnTo>
                  <a:lnTo>
                    <a:pt x="172" y="130"/>
                  </a:lnTo>
                  <a:lnTo>
                    <a:pt x="184" y="138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200" y="164"/>
                  </a:lnTo>
                  <a:lnTo>
                    <a:pt x="204" y="180"/>
                  </a:lnTo>
                  <a:lnTo>
                    <a:pt x="204" y="194"/>
                  </a:lnTo>
                  <a:lnTo>
                    <a:pt x="202" y="210"/>
                  </a:lnTo>
                  <a:lnTo>
                    <a:pt x="198" y="226"/>
                  </a:lnTo>
                  <a:lnTo>
                    <a:pt x="194" y="242"/>
                  </a:lnTo>
                  <a:lnTo>
                    <a:pt x="180" y="272"/>
                  </a:lnTo>
                  <a:lnTo>
                    <a:pt x="180" y="272"/>
                  </a:lnTo>
                  <a:lnTo>
                    <a:pt x="166" y="286"/>
                  </a:lnTo>
                  <a:lnTo>
                    <a:pt x="152" y="298"/>
                  </a:lnTo>
                  <a:lnTo>
                    <a:pt x="136" y="308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04" y="308"/>
                  </a:lnTo>
                  <a:lnTo>
                    <a:pt x="92" y="300"/>
                  </a:lnTo>
                  <a:lnTo>
                    <a:pt x="82" y="292"/>
                  </a:lnTo>
                  <a:lnTo>
                    <a:pt x="72" y="282"/>
                  </a:lnTo>
                  <a:lnTo>
                    <a:pt x="66" y="272"/>
                  </a:lnTo>
                  <a:lnTo>
                    <a:pt x="60" y="260"/>
                  </a:lnTo>
                  <a:lnTo>
                    <a:pt x="56" y="246"/>
                  </a:lnTo>
                  <a:lnTo>
                    <a:pt x="54" y="230"/>
                  </a:lnTo>
                  <a:lnTo>
                    <a:pt x="54" y="23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4513320" y="4297320"/>
              <a:ext cx="434880" cy="558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274" h="352">
                  <a:moveTo>
                    <a:pt x="270" y="0"/>
                  </a:moveTo>
                  <a:lnTo>
                    <a:pt x="270" y="0"/>
                  </a:lnTo>
                  <a:lnTo>
                    <a:pt x="252" y="2"/>
                  </a:lnTo>
                  <a:lnTo>
                    <a:pt x="236" y="4"/>
                  </a:lnTo>
                  <a:lnTo>
                    <a:pt x="236" y="4"/>
                  </a:lnTo>
                  <a:lnTo>
                    <a:pt x="228" y="10"/>
                  </a:lnTo>
                  <a:lnTo>
                    <a:pt x="220" y="18"/>
                  </a:lnTo>
                  <a:lnTo>
                    <a:pt x="214" y="26"/>
                  </a:lnTo>
                  <a:lnTo>
                    <a:pt x="208" y="34"/>
                  </a:lnTo>
                  <a:lnTo>
                    <a:pt x="202" y="54"/>
                  </a:lnTo>
                  <a:lnTo>
                    <a:pt x="200" y="74"/>
                  </a:lnTo>
                  <a:lnTo>
                    <a:pt x="200" y="74"/>
                  </a:lnTo>
                  <a:lnTo>
                    <a:pt x="194" y="78"/>
                  </a:lnTo>
                  <a:lnTo>
                    <a:pt x="188" y="78"/>
                  </a:lnTo>
                  <a:lnTo>
                    <a:pt x="182" y="78"/>
                  </a:lnTo>
                  <a:lnTo>
                    <a:pt x="176" y="76"/>
                  </a:lnTo>
                  <a:lnTo>
                    <a:pt x="164" y="72"/>
                  </a:lnTo>
                  <a:lnTo>
                    <a:pt x="158" y="72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46" y="34"/>
                  </a:lnTo>
                  <a:lnTo>
                    <a:pt x="142" y="1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10" y="10"/>
                  </a:lnTo>
                  <a:lnTo>
                    <a:pt x="110" y="10"/>
                  </a:lnTo>
                  <a:lnTo>
                    <a:pt x="104" y="20"/>
                  </a:lnTo>
                  <a:lnTo>
                    <a:pt x="100" y="28"/>
                  </a:lnTo>
                  <a:lnTo>
                    <a:pt x="100" y="38"/>
                  </a:lnTo>
                  <a:lnTo>
                    <a:pt x="100" y="48"/>
                  </a:lnTo>
                  <a:lnTo>
                    <a:pt x="104" y="68"/>
                  </a:lnTo>
                  <a:lnTo>
                    <a:pt x="110" y="86"/>
                  </a:lnTo>
                  <a:lnTo>
                    <a:pt x="110" y="86"/>
                  </a:lnTo>
                  <a:lnTo>
                    <a:pt x="102" y="88"/>
                  </a:lnTo>
                  <a:lnTo>
                    <a:pt x="96" y="90"/>
                  </a:lnTo>
                  <a:lnTo>
                    <a:pt x="90" y="94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2" y="98"/>
                  </a:lnTo>
                  <a:lnTo>
                    <a:pt x="66" y="94"/>
                  </a:lnTo>
                  <a:lnTo>
                    <a:pt x="62" y="90"/>
                  </a:lnTo>
                  <a:lnTo>
                    <a:pt x="58" y="80"/>
                  </a:lnTo>
                  <a:lnTo>
                    <a:pt x="54" y="68"/>
                  </a:lnTo>
                  <a:lnTo>
                    <a:pt x="50" y="58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2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2" y="44"/>
                  </a:lnTo>
                  <a:lnTo>
                    <a:pt x="8" y="50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8" y="104"/>
                  </a:lnTo>
                  <a:lnTo>
                    <a:pt x="14" y="112"/>
                  </a:lnTo>
                  <a:lnTo>
                    <a:pt x="20" y="118"/>
                  </a:lnTo>
                  <a:lnTo>
                    <a:pt x="36" y="130"/>
                  </a:lnTo>
                  <a:lnTo>
                    <a:pt x="50" y="138"/>
                  </a:lnTo>
                  <a:lnTo>
                    <a:pt x="50" y="138"/>
                  </a:lnTo>
                  <a:lnTo>
                    <a:pt x="36" y="196"/>
                  </a:lnTo>
                  <a:lnTo>
                    <a:pt x="32" y="226"/>
                  </a:lnTo>
                  <a:lnTo>
                    <a:pt x="30" y="240"/>
                  </a:lnTo>
                  <a:lnTo>
                    <a:pt x="32" y="258"/>
                  </a:lnTo>
                  <a:lnTo>
                    <a:pt x="32" y="258"/>
                  </a:lnTo>
                  <a:lnTo>
                    <a:pt x="34" y="274"/>
                  </a:lnTo>
                  <a:lnTo>
                    <a:pt x="42" y="290"/>
                  </a:lnTo>
                  <a:lnTo>
                    <a:pt x="50" y="304"/>
                  </a:lnTo>
                  <a:lnTo>
                    <a:pt x="62" y="316"/>
                  </a:lnTo>
                  <a:lnTo>
                    <a:pt x="74" y="328"/>
                  </a:lnTo>
                  <a:lnTo>
                    <a:pt x="88" y="336"/>
                  </a:lnTo>
                  <a:lnTo>
                    <a:pt x="102" y="346"/>
                  </a:lnTo>
                  <a:lnTo>
                    <a:pt x="116" y="352"/>
                  </a:lnTo>
                  <a:lnTo>
                    <a:pt x="116" y="352"/>
                  </a:lnTo>
                  <a:lnTo>
                    <a:pt x="136" y="350"/>
                  </a:lnTo>
                  <a:lnTo>
                    <a:pt x="154" y="348"/>
                  </a:lnTo>
                  <a:lnTo>
                    <a:pt x="172" y="344"/>
                  </a:lnTo>
                  <a:lnTo>
                    <a:pt x="188" y="336"/>
                  </a:lnTo>
                  <a:lnTo>
                    <a:pt x="204" y="328"/>
                  </a:lnTo>
                  <a:lnTo>
                    <a:pt x="218" y="318"/>
                  </a:lnTo>
                  <a:lnTo>
                    <a:pt x="230" y="304"/>
                  </a:lnTo>
                  <a:lnTo>
                    <a:pt x="240" y="286"/>
                  </a:lnTo>
                  <a:lnTo>
                    <a:pt x="240" y="286"/>
                  </a:lnTo>
                  <a:lnTo>
                    <a:pt x="250" y="264"/>
                  </a:lnTo>
                  <a:lnTo>
                    <a:pt x="256" y="242"/>
                  </a:lnTo>
                  <a:lnTo>
                    <a:pt x="260" y="218"/>
                  </a:lnTo>
                  <a:lnTo>
                    <a:pt x="262" y="194"/>
                  </a:lnTo>
                  <a:lnTo>
                    <a:pt x="260" y="170"/>
                  </a:lnTo>
                  <a:lnTo>
                    <a:pt x="254" y="146"/>
                  </a:lnTo>
                  <a:lnTo>
                    <a:pt x="248" y="136"/>
                  </a:lnTo>
                  <a:lnTo>
                    <a:pt x="242" y="124"/>
                  </a:lnTo>
                  <a:lnTo>
                    <a:pt x="236" y="114"/>
                  </a:lnTo>
                  <a:lnTo>
                    <a:pt x="228" y="104"/>
                  </a:lnTo>
                  <a:lnTo>
                    <a:pt x="228" y="104"/>
                  </a:lnTo>
                  <a:lnTo>
                    <a:pt x="228" y="96"/>
                  </a:lnTo>
                  <a:lnTo>
                    <a:pt x="232" y="90"/>
                  </a:lnTo>
                  <a:lnTo>
                    <a:pt x="238" y="76"/>
                  </a:lnTo>
                  <a:lnTo>
                    <a:pt x="248" y="64"/>
                  </a:lnTo>
                  <a:lnTo>
                    <a:pt x="258" y="52"/>
                  </a:lnTo>
                  <a:lnTo>
                    <a:pt x="266" y="40"/>
                  </a:lnTo>
                  <a:lnTo>
                    <a:pt x="272" y="28"/>
                  </a:lnTo>
                  <a:lnTo>
                    <a:pt x="274" y="22"/>
                  </a:lnTo>
                  <a:lnTo>
                    <a:pt x="274" y="16"/>
                  </a:lnTo>
                  <a:lnTo>
                    <a:pt x="272" y="8"/>
                  </a:lnTo>
                  <a:lnTo>
                    <a:pt x="270" y="0"/>
                  </a:lnTo>
                  <a:lnTo>
                    <a:pt x="270" y="0"/>
                  </a:lnTo>
                  <a:close/>
                  <a:moveTo>
                    <a:pt x="196" y="272"/>
                  </a:moveTo>
                  <a:lnTo>
                    <a:pt x="196" y="272"/>
                  </a:lnTo>
                  <a:lnTo>
                    <a:pt x="188" y="280"/>
                  </a:lnTo>
                  <a:lnTo>
                    <a:pt x="180" y="288"/>
                  </a:lnTo>
                  <a:lnTo>
                    <a:pt x="170" y="294"/>
                  </a:lnTo>
                  <a:lnTo>
                    <a:pt x="160" y="300"/>
                  </a:lnTo>
                  <a:lnTo>
                    <a:pt x="150" y="302"/>
                  </a:lnTo>
                  <a:lnTo>
                    <a:pt x="138" y="304"/>
                  </a:lnTo>
                  <a:lnTo>
                    <a:pt x="126" y="306"/>
                  </a:lnTo>
                  <a:lnTo>
                    <a:pt x="114" y="304"/>
                  </a:lnTo>
                  <a:lnTo>
                    <a:pt x="114" y="304"/>
                  </a:lnTo>
                  <a:lnTo>
                    <a:pt x="104" y="300"/>
                  </a:lnTo>
                  <a:lnTo>
                    <a:pt x="96" y="294"/>
                  </a:lnTo>
                  <a:lnTo>
                    <a:pt x="88" y="288"/>
                  </a:lnTo>
                  <a:lnTo>
                    <a:pt x="84" y="278"/>
                  </a:lnTo>
                  <a:lnTo>
                    <a:pt x="76" y="260"/>
                  </a:lnTo>
                  <a:lnTo>
                    <a:pt x="70" y="240"/>
                  </a:lnTo>
                  <a:lnTo>
                    <a:pt x="70" y="240"/>
                  </a:lnTo>
                  <a:lnTo>
                    <a:pt x="74" y="208"/>
                  </a:lnTo>
                  <a:lnTo>
                    <a:pt x="76" y="192"/>
                  </a:lnTo>
                  <a:lnTo>
                    <a:pt x="80" y="178"/>
                  </a:lnTo>
                  <a:lnTo>
                    <a:pt x="86" y="162"/>
                  </a:lnTo>
                  <a:lnTo>
                    <a:pt x="94" y="150"/>
                  </a:lnTo>
                  <a:lnTo>
                    <a:pt x="104" y="13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32" y="124"/>
                  </a:lnTo>
                  <a:lnTo>
                    <a:pt x="146" y="124"/>
                  </a:lnTo>
                  <a:lnTo>
                    <a:pt x="160" y="126"/>
                  </a:lnTo>
                  <a:lnTo>
                    <a:pt x="172" y="130"/>
                  </a:lnTo>
                  <a:lnTo>
                    <a:pt x="184" y="136"/>
                  </a:lnTo>
                  <a:lnTo>
                    <a:pt x="194" y="142"/>
                  </a:lnTo>
                  <a:lnTo>
                    <a:pt x="204" y="152"/>
                  </a:lnTo>
                  <a:lnTo>
                    <a:pt x="212" y="164"/>
                  </a:lnTo>
                  <a:lnTo>
                    <a:pt x="212" y="164"/>
                  </a:lnTo>
                  <a:lnTo>
                    <a:pt x="214" y="176"/>
                  </a:lnTo>
                  <a:lnTo>
                    <a:pt x="216" y="190"/>
                  </a:lnTo>
                  <a:lnTo>
                    <a:pt x="216" y="204"/>
                  </a:lnTo>
                  <a:lnTo>
                    <a:pt x="214" y="218"/>
                  </a:lnTo>
                  <a:lnTo>
                    <a:pt x="212" y="232"/>
                  </a:lnTo>
                  <a:lnTo>
                    <a:pt x="208" y="246"/>
                  </a:lnTo>
                  <a:lnTo>
                    <a:pt x="202" y="260"/>
                  </a:lnTo>
                  <a:lnTo>
                    <a:pt x="196" y="272"/>
                  </a:lnTo>
                  <a:lnTo>
                    <a:pt x="196" y="27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4094280" y="4306680"/>
              <a:ext cx="247320" cy="2728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56" h="172">
                  <a:moveTo>
                    <a:pt x="22" y="168"/>
                  </a:moveTo>
                  <a:lnTo>
                    <a:pt x="22" y="168"/>
                  </a:lnTo>
                  <a:lnTo>
                    <a:pt x="34" y="172"/>
                  </a:lnTo>
                  <a:lnTo>
                    <a:pt x="40" y="172"/>
                  </a:lnTo>
                  <a:lnTo>
                    <a:pt x="44" y="172"/>
                  </a:lnTo>
                  <a:lnTo>
                    <a:pt x="50" y="168"/>
                  </a:lnTo>
                  <a:lnTo>
                    <a:pt x="54" y="160"/>
                  </a:lnTo>
                  <a:lnTo>
                    <a:pt x="62" y="144"/>
                  </a:lnTo>
                  <a:lnTo>
                    <a:pt x="66" y="134"/>
                  </a:lnTo>
                  <a:lnTo>
                    <a:pt x="72" y="128"/>
                  </a:lnTo>
                  <a:lnTo>
                    <a:pt x="72" y="128"/>
                  </a:lnTo>
                  <a:lnTo>
                    <a:pt x="90" y="114"/>
                  </a:lnTo>
                  <a:lnTo>
                    <a:pt x="100" y="108"/>
                  </a:lnTo>
                  <a:lnTo>
                    <a:pt x="110" y="104"/>
                  </a:lnTo>
                  <a:lnTo>
                    <a:pt x="122" y="100"/>
                  </a:lnTo>
                  <a:lnTo>
                    <a:pt x="134" y="98"/>
                  </a:lnTo>
                  <a:lnTo>
                    <a:pt x="144" y="98"/>
                  </a:lnTo>
                  <a:lnTo>
                    <a:pt x="156" y="102"/>
                  </a:lnTo>
                  <a:lnTo>
                    <a:pt x="150" y="56"/>
                  </a:lnTo>
                  <a:lnTo>
                    <a:pt x="150" y="56"/>
                  </a:lnTo>
                  <a:lnTo>
                    <a:pt x="130" y="56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2" y="44"/>
                  </a:lnTo>
                  <a:lnTo>
                    <a:pt x="84" y="38"/>
                  </a:lnTo>
                  <a:lnTo>
                    <a:pt x="76" y="3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18" y="18"/>
                  </a:lnTo>
                  <a:lnTo>
                    <a:pt x="12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54"/>
                  </a:lnTo>
                  <a:lnTo>
                    <a:pt x="12" y="60"/>
                  </a:lnTo>
                  <a:lnTo>
                    <a:pt x="30" y="72"/>
                  </a:lnTo>
                  <a:lnTo>
                    <a:pt x="40" y="78"/>
                  </a:lnTo>
                  <a:lnTo>
                    <a:pt x="42" y="82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8" y="98"/>
                  </a:lnTo>
                  <a:lnTo>
                    <a:pt x="48" y="108"/>
                  </a:lnTo>
                  <a:lnTo>
                    <a:pt x="46" y="120"/>
                  </a:lnTo>
                  <a:lnTo>
                    <a:pt x="42" y="130"/>
                  </a:lnTo>
                  <a:lnTo>
                    <a:pt x="30" y="150"/>
                  </a:lnTo>
                  <a:lnTo>
                    <a:pt x="18" y="168"/>
                  </a:lnTo>
                  <a:lnTo>
                    <a:pt x="22" y="168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5247000" y="4481280"/>
              <a:ext cx="237960" cy="3110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126" y="154"/>
                  </a:moveTo>
                  <a:lnTo>
                    <a:pt x="126" y="154"/>
                  </a:lnTo>
                  <a:lnTo>
                    <a:pt x="140" y="124"/>
                  </a:lnTo>
                  <a:lnTo>
                    <a:pt x="144" y="108"/>
                  </a:lnTo>
                  <a:lnTo>
                    <a:pt x="148" y="92"/>
                  </a:lnTo>
                  <a:lnTo>
                    <a:pt x="150" y="76"/>
                  </a:lnTo>
                  <a:lnTo>
                    <a:pt x="150" y="62"/>
                  </a:lnTo>
                  <a:lnTo>
                    <a:pt x="146" y="46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30" y="20"/>
                  </a:lnTo>
                  <a:lnTo>
                    <a:pt x="118" y="12"/>
                  </a:lnTo>
                  <a:lnTo>
                    <a:pt x="106" y="4"/>
                  </a:lnTo>
                  <a:lnTo>
                    <a:pt x="92" y="2"/>
                  </a:lnTo>
                  <a:lnTo>
                    <a:pt x="78" y="0"/>
                  </a:lnTo>
                  <a:lnTo>
                    <a:pt x="64" y="2"/>
                  </a:lnTo>
                  <a:lnTo>
                    <a:pt x="50" y="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2" y="32"/>
                  </a:lnTo>
                  <a:lnTo>
                    <a:pt x="14" y="44"/>
                  </a:lnTo>
                  <a:lnTo>
                    <a:pt x="8" y="56"/>
                  </a:lnTo>
                  <a:lnTo>
                    <a:pt x="4" y="70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128"/>
                  </a:lnTo>
                  <a:lnTo>
                    <a:pt x="6" y="142"/>
                  </a:lnTo>
                  <a:lnTo>
                    <a:pt x="12" y="154"/>
                  </a:lnTo>
                  <a:lnTo>
                    <a:pt x="18" y="164"/>
                  </a:lnTo>
                  <a:lnTo>
                    <a:pt x="28" y="174"/>
                  </a:lnTo>
                  <a:lnTo>
                    <a:pt x="38" y="182"/>
                  </a:lnTo>
                  <a:lnTo>
                    <a:pt x="50" y="190"/>
                  </a:lnTo>
                  <a:lnTo>
                    <a:pt x="64" y="196"/>
                  </a:lnTo>
                  <a:lnTo>
                    <a:pt x="64" y="196"/>
                  </a:lnTo>
                  <a:lnTo>
                    <a:pt x="82" y="190"/>
                  </a:lnTo>
                  <a:lnTo>
                    <a:pt x="98" y="180"/>
                  </a:lnTo>
                  <a:lnTo>
                    <a:pt x="112" y="168"/>
                  </a:lnTo>
                  <a:lnTo>
                    <a:pt x="126" y="154"/>
                  </a:lnTo>
                  <a:lnTo>
                    <a:pt x="126" y="154"/>
                  </a:lnTo>
                  <a:close/>
                  <a:moveTo>
                    <a:pt x="32" y="124"/>
                  </a:moveTo>
                  <a:lnTo>
                    <a:pt x="32" y="124"/>
                  </a:lnTo>
                  <a:lnTo>
                    <a:pt x="32" y="104"/>
                  </a:lnTo>
                  <a:lnTo>
                    <a:pt x="32" y="84"/>
                  </a:lnTo>
                  <a:lnTo>
                    <a:pt x="34" y="74"/>
                  </a:lnTo>
                  <a:lnTo>
                    <a:pt x="38" y="66"/>
                  </a:lnTo>
                  <a:lnTo>
                    <a:pt x="44" y="58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60" y="48"/>
                  </a:lnTo>
                  <a:lnTo>
                    <a:pt x="68" y="48"/>
                  </a:lnTo>
                  <a:lnTo>
                    <a:pt x="76" y="50"/>
                  </a:lnTo>
                  <a:lnTo>
                    <a:pt x="84" y="52"/>
                  </a:lnTo>
                  <a:lnTo>
                    <a:pt x="96" y="64"/>
                  </a:lnTo>
                  <a:lnTo>
                    <a:pt x="106" y="76"/>
                  </a:lnTo>
                  <a:lnTo>
                    <a:pt x="106" y="76"/>
                  </a:lnTo>
                  <a:lnTo>
                    <a:pt x="108" y="90"/>
                  </a:lnTo>
                  <a:lnTo>
                    <a:pt x="108" y="102"/>
                  </a:lnTo>
                  <a:lnTo>
                    <a:pt x="106" y="114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88" y="138"/>
                  </a:lnTo>
                  <a:lnTo>
                    <a:pt x="80" y="142"/>
                  </a:lnTo>
                  <a:lnTo>
                    <a:pt x="72" y="146"/>
                  </a:lnTo>
                  <a:lnTo>
                    <a:pt x="72" y="146"/>
                  </a:lnTo>
                  <a:lnTo>
                    <a:pt x="60" y="142"/>
                  </a:lnTo>
                  <a:lnTo>
                    <a:pt x="48" y="140"/>
                  </a:lnTo>
                  <a:lnTo>
                    <a:pt x="44" y="138"/>
                  </a:lnTo>
                  <a:lnTo>
                    <a:pt x="40" y="134"/>
                  </a:lnTo>
                  <a:lnTo>
                    <a:pt x="36" y="130"/>
                  </a:lnTo>
                  <a:lnTo>
                    <a:pt x="32" y="124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4624560" y="4493880"/>
              <a:ext cx="231480" cy="288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6" h="182">
                  <a:moveTo>
                    <a:pt x="48" y="4"/>
                  </a:moveTo>
                  <a:lnTo>
                    <a:pt x="48" y="4"/>
                  </a:lnTo>
                  <a:lnTo>
                    <a:pt x="34" y="14"/>
                  </a:lnTo>
                  <a:lnTo>
                    <a:pt x="24" y="26"/>
                  </a:lnTo>
                  <a:lnTo>
                    <a:pt x="16" y="38"/>
                  </a:lnTo>
                  <a:lnTo>
                    <a:pt x="10" y="54"/>
                  </a:lnTo>
                  <a:lnTo>
                    <a:pt x="6" y="68"/>
                  </a:lnTo>
                  <a:lnTo>
                    <a:pt x="4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6" y="136"/>
                  </a:lnTo>
                  <a:lnTo>
                    <a:pt x="14" y="154"/>
                  </a:lnTo>
                  <a:lnTo>
                    <a:pt x="18" y="164"/>
                  </a:lnTo>
                  <a:lnTo>
                    <a:pt x="26" y="170"/>
                  </a:lnTo>
                  <a:lnTo>
                    <a:pt x="34" y="176"/>
                  </a:lnTo>
                  <a:lnTo>
                    <a:pt x="44" y="180"/>
                  </a:lnTo>
                  <a:lnTo>
                    <a:pt x="44" y="180"/>
                  </a:lnTo>
                  <a:lnTo>
                    <a:pt x="56" y="182"/>
                  </a:lnTo>
                  <a:lnTo>
                    <a:pt x="68" y="180"/>
                  </a:lnTo>
                  <a:lnTo>
                    <a:pt x="80" y="178"/>
                  </a:lnTo>
                  <a:lnTo>
                    <a:pt x="90" y="176"/>
                  </a:lnTo>
                  <a:lnTo>
                    <a:pt x="100" y="170"/>
                  </a:lnTo>
                  <a:lnTo>
                    <a:pt x="110" y="164"/>
                  </a:lnTo>
                  <a:lnTo>
                    <a:pt x="118" y="156"/>
                  </a:lnTo>
                  <a:lnTo>
                    <a:pt x="126" y="148"/>
                  </a:lnTo>
                  <a:lnTo>
                    <a:pt x="126" y="148"/>
                  </a:lnTo>
                  <a:lnTo>
                    <a:pt x="132" y="136"/>
                  </a:lnTo>
                  <a:lnTo>
                    <a:pt x="138" y="122"/>
                  </a:lnTo>
                  <a:lnTo>
                    <a:pt x="142" y="108"/>
                  </a:lnTo>
                  <a:lnTo>
                    <a:pt x="144" y="94"/>
                  </a:lnTo>
                  <a:lnTo>
                    <a:pt x="146" y="80"/>
                  </a:lnTo>
                  <a:lnTo>
                    <a:pt x="146" y="66"/>
                  </a:lnTo>
                  <a:lnTo>
                    <a:pt x="144" y="52"/>
                  </a:lnTo>
                  <a:lnTo>
                    <a:pt x="142" y="40"/>
                  </a:lnTo>
                  <a:lnTo>
                    <a:pt x="142" y="40"/>
                  </a:lnTo>
                  <a:lnTo>
                    <a:pt x="134" y="28"/>
                  </a:lnTo>
                  <a:lnTo>
                    <a:pt x="124" y="18"/>
                  </a:lnTo>
                  <a:lnTo>
                    <a:pt x="114" y="12"/>
                  </a:lnTo>
                  <a:lnTo>
                    <a:pt x="102" y="6"/>
                  </a:lnTo>
                  <a:lnTo>
                    <a:pt x="90" y="2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86" y="136"/>
                  </a:moveTo>
                  <a:lnTo>
                    <a:pt x="86" y="136"/>
                  </a:lnTo>
                  <a:lnTo>
                    <a:pt x="76" y="136"/>
                  </a:lnTo>
                  <a:lnTo>
                    <a:pt x="68" y="134"/>
                  </a:lnTo>
                  <a:lnTo>
                    <a:pt x="60" y="132"/>
                  </a:lnTo>
                  <a:lnTo>
                    <a:pt x="54" y="128"/>
                  </a:lnTo>
                  <a:lnTo>
                    <a:pt x="48" y="124"/>
                  </a:lnTo>
                  <a:lnTo>
                    <a:pt x="44" y="118"/>
                  </a:lnTo>
                  <a:lnTo>
                    <a:pt x="40" y="110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8" y="78"/>
                  </a:lnTo>
                  <a:lnTo>
                    <a:pt x="40" y="70"/>
                  </a:lnTo>
                  <a:lnTo>
                    <a:pt x="50" y="58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70" y="46"/>
                  </a:lnTo>
                  <a:lnTo>
                    <a:pt x="78" y="50"/>
                  </a:lnTo>
                  <a:lnTo>
                    <a:pt x="86" y="54"/>
                  </a:lnTo>
                  <a:lnTo>
                    <a:pt x="94" y="58"/>
                  </a:lnTo>
                  <a:lnTo>
                    <a:pt x="106" y="72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2" y="102"/>
                  </a:lnTo>
                  <a:lnTo>
                    <a:pt x="108" y="116"/>
                  </a:lnTo>
                  <a:lnTo>
                    <a:pt x="104" y="122"/>
                  </a:lnTo>
                  <a:lnTo>
                    <a:pt x="98" y="128"/>
                  </a:lnTo>
                  <a:lnTo>
                    <a:pt x="92" y="132"/>
                  </a:lnTo>
                  <a:lnTo>
                    <a:pt x="86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5297760" y="4557600"/>
              <a:ext cx="120600" cy="155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6" h="98">
                  <a:moveTo>
                    <a:pt x="70" y="78"/>
                  </a:moveTo>
                  <a:lnTo>
                    <a:pt x="70" y="78"/>
                  </a:lnTo>
                  <a:lnTo>
                    <a:pt x="74" y="66"/>
                  </a:lnTo>
                  <a:lnTo>
                    <a:pt x="76" y="54"/>
                  </a:lnTo>
                  <a:lnTo>
                    <a:pt x="76" y="42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64" y="16"/>
                  </a:lnTo>
                  <a:lnTo>
                    <a:pt x="52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" y="82"/>
                  </a:lnTo>
                  <a:lnTo>
                    <a:pt x="8" y="86"/>
                  </a:lnTo>
                  <a:lnTo>
                    <a:pt x="12" y="90"/>
                  </a:lnTo>
                  <a:lnTo>
                    <a:pt x="16" y="92"/>
                  </a:lnTo>
                  <a:lnTo>
                    <a:pt x="28" y="94"/>
                  </a:lnTo>
                  <a:lnTo>
                    <a:pt x="40" y="98"/>
                  </a:lnTo>
                  <a:lnTo>
                    <a:pt x="40" y="98"/>
                  </a:lnTo>
                  <a:lnTo>
                    <a:pt x="48" y="94"/>
                  </a:lnTo>
                  <a:lnTo>
                    <a:pt x="56" y="90"/>
                  </a:lnTo>
                  <a:lnTo>
                    <a:pt x="70" y="78"/>
                  </a:lnTo>
                  <a:lnTo>
                    <a:pt x="70" y="7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5646960" y="4576680"/>
              <a:ext cx="482400" cy="5968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304" h="376">
                  <a:moveTo>
                    <a:pt x="284" y="104"/>
                  </a:moveTo>
                  <a:lnTo>
                    <a:pt x="284" y="104"/>
                  </a:lnTo>
                  <a:lnTo>
                    <a:pt x="294" y="96"/>
                  </a:lnTo>
                  <a:lnTo>
                    <a:pt x="302" y="86"/>
                  </a:lnTo>
                  <a:lnTo>
                    <a:pt x="304" y="76"/>
                  </a:lnTo>
                  <a:lnTo>
                    <a:pt x="304" y="64"/>
                  </a:lnTo>
                  <a:lnTo>
                    <a:pt x="302" y="54"/>
                  </a:lnTo>
                  <a:lnTo>
                    <a:pt x="298" y="44"/>
                  </a:lnTo>
                  <a:lnTo>
                    <a:pt x="292" y="32"/>
                  </a:lnTo>
                  <a:lnTo>
                    <a:pt x="286" y="24"/>
                  </a:lnTo>
                  <a:lnTo>
                    <a:pt x="286" y="24"/>
                  </a:lnTo>
                  <a:lnTo>
                    <a:pt x="242" y="12"/>
                  </a:lnTo>
                  <a:lnTo>
                    <a:pt x="220" y="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6" y="28"/>
                  </a:lnTo>
                  <a:lnTo>
                    <a:pt x="208" y="56"/>
                  </a:lnTo>
                  <a:lnTo>
                    <a:pt x="210" y="84"/>
                  </a:lnTo>
                  <a:lnTo>
                    <a:pt x="208" y="114"/>
                  </a:lnTo>
                  <a:lnTo>
                    <a:pt x="208" y="114"/>
                  </a:lnTo>
                  <a:lnTo>
                    <a:pt x="206" y="126"/>
                  </a:lnTo>
                  <a:lnTo>
                    <a:pt x="202" y="140"/>
                  </a:lnTo>
                  <a:lnTo>
                    <a:pt x="198" y="152"/>
                  </a:lnTo>
                  <a:lnTo>
                    <a:pt x="192" y="162"/>
                  </a:lnTo>
                  <a:lnTo>
                    <a:pt x="178" y="180"/>
                  </a:lnTo>
                  <a:lnTo>
                    <a:pt x="162" y="198"/>
                  </a:lnTo>
                  <a:lnTo>
                    <a:pt x="142" y="212"/>
                  </a:lnTo>
                  <a:lnTo>
                    <a:pt x="120" y="224"/>
                  </a:lnTo>
                  <a:lnTo>
                    <a:pt x="76" y="246"/>
                  </a:lnTo>
                  <a:lnTo>
                    <a:pt x="76" y="246"/>
                  </a:lnTo>
                  <a:lnTo>
                    <a:pt x="58" y="274"/>
                  </a:lnTo>
                  <a:lnTo>
                    <a:pt x="38" y="302"/>
                  </a:lnTo>
                  <a:lnTo>
                    <a:pt x="18" y="328"/>
                  </a:lnTo>
                  <a:lnTo>
                    <a:pt x="0" y="356"/>
                  </a:lnTo>
                  <a:lnTo>
                    <a:pt x="78" y="376"/>
                  </a:lnTo>
                  <a:lnTo>
                    <a:pt x="78" y="376"/>
                  </a:lnTo>
                  <a:lnTo>
                    <a:pt x="90" y="376"/>
                  </a:lnTo>
                  <a:lnTo>
                    <a:pt x="100" y="372"/>
                  </a:lnTo>
                  <a:lnTo>
                    <a:pt x="108" y="368"/>
                  </a:lnTo>
                  <a:lnTo>
                    <a:pt x="116" y="362"/>
                  </a:lnTo>
                  <a:lnTo>
                    <a:pt x="124" y="356"/>
                  </a:lnTo>
                  <a:lnTo>
                    <a:pt x="130" y="350"/>
                  </a:lnTo>
                  <a:lnTo>
                    <a:pt x="144" y="332"/>
                  </a:lnTo>
                  <a:lnTo>
                    <a:pt x="144" y="332"/>
                  </a:lnTo>
                  <a:lnTo>
                    <a:pt x="150" y="322"/>
                  </a:lnTo>
                  <a:lnTo>
                    <a:pt x="158" y="316"/>
                  </a:lnTo>
                  <a:lnTo>
                    <a:pt x="168" y="310"/>
                  </a:lnTo>
                  <a:lnTo>
                    <a:pt x="178" y="308"/>
                  </a:lnTo>
                  <a:lnTo>
                    <a:pt x="198" y="304"/>
                  </a:lnTo>
                  <a:lnTo>
                    <a:pt x="220" y="302"/>
                  </a:lnTo>
                  <a:lnTo>
                    <a:pt x="242" y="300"/>
                  </a:lnTo>
                  <a:lnTo>
                    <a:pt x="252" y="298"/>
                  </a:lnTo>
                  <a:lnTo>
                    <a:pt x="262" y="294"/>
                  </a:lnTo>
                  <a:lnTo>
                    <a:pt x="272" y="290"/>
                  </a:lnTo>
                  <a:lnTo>
                    <a:pt x="280" y="282"/>
                  </a:lnTo>
                  <a:lnTo>
                    <a:pt x="288" y="274"/>
                  </a:lnTo>
                  <a:lnTo>
                    <a:pt x="294" y="264"/>
                  </a:lnTo>
                  <a:lnTo>
                    <a:pt x="294" y="264"/>
                  </a:lnTo>
                  <a:lnTo>
                    <a:pt x="296" y="258"/>
                  </a:lnTo>
                  <a:lnTo>
                    <a:pt x="296" y="252"/>
                  </a:lnTo>
                  <a:lnTo>
                    <a:pt x="294" y="242"/>
                  </a:lnTo>
                  <a:lnTo>
                    <a:pt x="288" y="232"/>
                  </a:lnTo>
                  <a:lnTo>
                    <a:pt x="280" y="224"/>
                  </a:lnTo>
                  <a:lnTo>
                    <a:pt x="264" y="206"/>
                  </a:lnTo>
                  <a:lnTo>
                    <a:pt x="260" y="196"/>
                  </a:lnTo>
                  <a:lnTo>
                    <a:pt x="258" y="186"/>
                  </a:lnTo>
                  <a:lnTo>
                    <a:pt x="258" y="186"/>
                  </a:lnTo>
                  <a:lnTo>
                    <a:pt x="258" y="166"/>
                  </a:lnTo>
                  <a:lnTo>
                    <a:pt x="260" y="142"/>
                  </a:lnTo>
                  <a:lnTo>
                    <a:pt x="262" y="130"/>
                  </a:lnTo>
                  <a:lnTo>
                    <a:pt x="268" y="120"/>
                  </a:lnTo>
                  <a:lnTo>
                    <a:pt x="274" y="110"/>
                  </a:lnTo>
                  <a:lnTo>
                    <a:pt x="284" y="104"/>
                  </a:lnTo>
                  <a:lnTo>
                    <a:pt x="284" y="104"/>
                  </a:lnTo>
                  <a:close/>
                </a:path>
              </a:pathLst>
            </a:custGeom>
            <a:solidFill>
              <a:srgbClr val="65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4681800" y="4566960"/>
              <a:ext cx="123480" cy="142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8" h="90">
                  <a:moveTo>
                    <a:pt x="26" y="0"/>
                  </a:moveTo>
                  <a:lnTo>
                    <a:pt x="26" y="0"/>
                  </a:lnTo>
                  <a:lnTo>
                    <a:pt x="14" y="12"/>
                  </a:lnTo>
                  <a:lnTo>
                    <a:pt x="4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9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56" y="86"/>
                  </a:lnTo>
                  <a:lnTo>
                    <a:pt x="62" y="82"/>
                  </a:lnTo>
                  <a:lnTo>
                    <a:pt x="68" y="76"/>
                  </a:lnTo>
                  <a:lnTo>
                    <a:pt x="72" y="70"/>
                  </a:lnTo>
                  <a:lnTo>
                    <a:pt x="76" y="56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70" y="26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3979800" y="4668480"/>
              <a:ext cx="371160" cy="13525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352520"/>
                <a:gd name="textAreaBottom" fmla="*/ 1352880 h 1352520"/>
              </a:gdLst>
              <a:ahLst/>
              <a:rect l="textAreaLeft" t="textAreaTop" r="textAreaRight" b="textAreaBottom"/>
              <a:pathLst>
                <a:path w="234" h="852">
                  <a:moveTo>
                    <a:pt x="132" y="848"/>
                  </a:moveTo>
                  <a:lnTo>
                    <a:pt x="132" y="848"/>
                  </a:lnTo>
                  <a:lnTo>
                    <a:pt x="146" y="850"/>
                  </a:lnTo>
                  <a:lnTo>
                    <a:pt x="156" y="852"/>
                  </a:lnTo>
                  <a:lnTo>
                    <a:pt x="164" y="850"/>
                  </a:lnTo>
                  <a:lnTo>
                    <a:pt x="172" y="848"/>
                  </a:lnTo>
                  <a:lnTo>
                    <a:pt x="180" y="842"/>
                  </a:lnTo>
                  <a:lnTo>
                    <a:pt x="186" y="836"/>
                  </a:lnTo>
                  <a:lnTo>
                    <a:pt x="196" y="818"/>
                  </a:lnTo>
                  <a:lnTo>
                    <a:pt x="202" y="798"/>
                  </a:lnTo>
                  <a:lnTo>
                    <a:pt x="210" y="778"/>
                  </a:lnTo>
                  <a:lnTo>
                    <a:pt x="218" y="758"/>
                  </a:lnTo>
                  <a:lnTo>
                    <a:pt x="224" y="750"/>
                  </a:lnTo>
                  <a:lnTo>
                    <a:pt x="230" y="742"/>
                  </a:lnTo>
                  <a:lnTo>
                    <a:pt x="230" y="742"/>
                  </a:lnTo>
                  <a:lnTo>
                    <a:pt x="230" y="724"/>
                  </a:lnTo>
                  <a:lnTo>
                    <a:pt x="232" y="708"/>
                  </a:lnTo>
                  <a:lnTo>
                    <a:pt x="234" y="690"/>
                  </a:lnTo>
                  <a:lnTo>
                    <a:pt x="234" y="672"/>
                  </a:lnTo>
                  <a:lnTo>
                    <a:pt x="232" y="656"/>
                  </a:lnTo>
                  <a:lnTo>
                    <a:pt x="226" y="640"/>
                  </a:lnTo>
                  <a:lnTo>
                    <a:pt x="222" y="634"/>
                  </a:lnTo>
                  <a:lnTo>
                    <a:pt x="218" y="626"/>
                  </a:lnTo>
                  <a:lnTo>
                    <a:pt x="212" y="620"/>
                  </a:lnTo>
                  <a:lnTo>
                    <a:pt x="204" y="614"/>
                  </a:lnTo>
                  <a:lnTo>
                    <a:pt x="204" y="614"/>
                  </a:lnTo>
                  <a:lnTo>
                    <a:pt x="184" y="588"/>
                  </a:lnTo>
                  <a:lnTo>
                    <a:pt x="170" y="560"/>
                  </a:lnTo>
                  <a:lnTo>
                    <a:pt x="158" y="532"/>
                  </a:lnTo>
                  <a:lnTo>
                    <a:pt x="152" y="504"/>
                  </a:lnTo>
                  <a:lnTo>
                    <a:pt x="148" y="476"/>
                  </a:lnTo>
                  <a:lnTo>
                    <a:pt x="146" y="448"/>
                  </a:lnTo>
                  <a:lnTo>
                    <a:pt x="146" y="418"/>
                  </a:lnTo>
                  <a:lnTo>
                    <a:pt x="148" y="390"/>
                  </a:lnTo>
                  <a:lnTo>
                    <a:pt x="154" y="330"/>
                  </a:lnTo>
                  <a:lnTo>
                    <a:pt x="162" y="270"/>
                  </a:lnTo>
                  <a:lnTo>
                    <a:pt x="164" y="240"/>
                  </a:lnTo>
                  <a:lnTo>
                    <a:pt x="166" y="210"/>
                  </a:lnTo>
                  <a:lnTo>
                    <a:pt x="164" y="180"/>
                  </a:lnTo>
                  <a:lnTo>
                    <a:pt x="162" y="150"/>
                  </a:lnTo>
                  <a:lnTo>
                    <a:pt x="162" y="150"/>
                  </a:lnTo>
                  <a:lnTo>
                    <a:pt x="160" y="140"/>
                  </a:lnTo>
                  <a:lnTo>
                    <a:pt x="154" y="132"/>
                  </a:lnTo>
                  <a:lnTo>
                    <a:pt x="150" y="128"/>
                  </a:lnTo>
                  <a:lnTo>
                    <a:pt x="146" y="126"/>
                  </a:lnTo>
                  <a:lnTo>
                    <a:pt x="140" y="126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22" y="160"/>
                  </a:lnTo>
                  <a:lnTo>
                    <a:pt x="110" y="192"/>
                  </a:lnTo>
                  <a:lnTo>
                    <a:pt x="102" y="226"/>
                  </a:lnTo>
                  <a:lnTo>
                    <a:pt x="96" y="260"/>
                  </a:lnTo>
                  <a:lnTo>
                    <a:pt x="92" y="296"/>
                  </a:lnTo>
                  <a:lnTo>
                    <a:pt x="90" y="332"/>
                  </a:lnTo>
                  <a:lnTo>
                    <a:pt x="90" y="368"/>
                  </a:lnTo>
                  <a:lnTo>
                    <a:pt x="92" y="404"/>
                  </a:lnTo>
                  <a:lnTo>
                    <a:pt x="106" y="448"/>
                  </a:lnTo>
                  <a:lnTo>
                    <a:pt x="106" y="448"/>
                  </a:lnTo>
                  <a:lnTo>
                    <a:pt x="106" y="452"/>
                  </a:lnTo>
                  <a:lnTo>
                    <a:pt x="106" y="456"/>
                  </a:lnTo>
                  <a:lnTo>
                    <a:pt x="98" y="462"/>
                  </a:lnTo>
                  <a:lnTo>
                    <a:pt x="90" y="466"/>
                  </a:lnTo>
                  <a:lnTo>
                    <a:pt x="84" y="468"/>
                  </a:lnTo>
                  <a:lnTo>
                    <a:pt x="80" y="466"/>
                  </a:lnTo>
                  <a:lnTo>
                    <a:pt x="80" y="466"/>
                  </a:lnTo>
                  <a:lnTo>
                    <a:pt x="72" y="464"/>
                  </a:lnTo>
                  <a:lnTo>
                    <a:pt x="66" y="460"/>
                  </a:lnTo>
                  <a:lnTo>
                    <a:pt x="60" y="454"/>
                  </a:lnTo>
                  <a:lnTo>
                    <a:pt x="56" y="448"/>
                  </a:lnTo>
                  <a:lnTo>
                    <a:pt x="48" y="432"/>
                  </a:lnTo>
                  <a:lnTo>
                    <a:pt x="44" y="418"/>
                  </a:lnTo>
                  <a:lnTo>
                    <a:pt x="44" y="418"/>
                  </a:lnTo>
                  <a:lnTo>
                    <a:pt x="40" y="368"/>
                  </a:lnTo>
                  <a:lnTo>
                    <a:pt x="38" y="314"/>
                  </a:lnTo>
                  <a:lnTo>
                    <a:pt x="38" y="288"/>
                  </a:lnTo>
                  <a:lnTo>
                    <a:pt x="40" y="262"/>
                  </a:lnTo>
                  <a:lnTo>
                    <a:pt x="44" y="236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56" y="192"/>
                  </a:lnTo>
                  <a:lnTo>
                    <a:pt x="62" y="172"/>
                  </a:lnTo>
                  <a:lnTo>
                    <a:pt x="68" y="150"/>
                  </a:lnTo>
                  <a:lnTo>
                    <a:pt x="74" y="128"/>
                  </a:lnTo>
                  <a:lnTo>
                    <a:pt x="84" y="110"/>
                  </a:lnTo>
                  <a:lnTo>
                    <a:pt x="88" y="100"/>
                  </a:lnTo>
                  <a:lnTo>
                    <a:pt x="96" y="92"/>
                  </a:lnTo>
                  <a:lnTo>
                    <a:pt x="104" y="86"/>
                  </a:lnTo>
                  <a:lnTo>
                    <a:pt x="112" y="80"/>
                  </a:lnTo>
                  <a:lnTo>
                    <a:pt x="122" y="76"/>
                  </a:lnTo>
                  <a:lnTo>
                    <a:pt x="132" y="72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0" y="38"/>
                  </a:lnTo>
                  <a:lnTo>
                    <a:pt x="128" y="30"/>
                  </a:lnTo>
                  <a:lnTo>
                    <a:pt x="122" y="12"/>
                  </a:lnTo>
                  <a:lnTo>
                    <a:pt x="118" y="6"/>
                  </a:lnTo>
                  <a:lnTo>
                    <a:pt x="112" y="2"/>
                  </a:lnTo>
                  <a:lnTo>
                    <a:pt x="104" y="0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90" y="32"/>
                  </a:lnTo>
                  <a:lnTo>
                    <a:pt x="84" y="58"/>
                  </a:lnTo>
                  <a:lnTo>
                    <a:pt x="76" y="84"/>
                  </a:lnTo>
                  <a:lnTo>
                    <a:pt x="66" y="110"/>
                  </a:lnTo>
                  <a:lnTo>
                    <a:pt x="48" y="162"/>
                  </a:lnTo>
                  <a:lnTo>
                    <a:pt x="40" y="188"/>
                  </a:lnTo>
                  <a:lnTo>
                    <a:pt x="36" y="214"/>
                  </a:lnTo>
                  <a:lnTo>
                    <a:pt x="36" y="214"/>
                  </a:lnTo>
                  <a:lnTo>
                    <a:pt x="26" y="234"/>
                  </a:lnTo>
                  <a:lnTo>
                    <a:pt x="18" y="254"/>
                  </a:lnTo>
                  <a:lnTo>
                    <a:pt x="12" y="274"/>
                  </a:lnTo>
                  <a:lnTo>
                    <a:pt x="8" y="294"/>
                  </a:lnTo>
                  <a:lnTo>
                    <a:pt x="4" y="314"/>
                  </a:lnTo>
                  <a:lnTo>
                    <a:pt x="2" y="334"/>
                  </a:lnTo>
                  <a:lnTo>
                    <a:pt x="0" y="376"/>
                  </a:lnTo>
                  <a:lnTo>
                    <a:pt x="2" y="418"/>
                  </a:lnTo>
                  <a:lnTo>
                    <a:pt x="10" y="458"/>
                  </a:lnTo>
                  <a:lnTo>
                    <a:pt x="20" y="500"/>
                  </a:lnTo>
                  <a:lnTo>
                    <a:pt x="32" y="540"/>
                  </a:lnTo>
                  <a:lnTo>
                    <a:pt x="32" y="540"/>
                  </a:lnTo>
                  <a:lnTo>
                    <a:pt x="36" y="546"/>
                  </a:lnTo>
                  <a:lnTo>
                    <a:pt x="40" y="552"/>
                  </a:lnTo>
                  <a:lnTo>
                    <a:pt x="46" y="564"/>
                  </a:lnTo>
                  <a:lnTo>
                    <a:pt x="48" y="580"/>
                  </a:lnTo>
                  <a:lnTo>
                    <a:pt x="50" y="596"/>
                  </a:lnTo>
                  <a:lnTo>
                    <a:pt x="52" y="610"/>
                  </a:lnTo>
                  <a:lnTo>
                    <a:pt x="54" y="626"/>
                  </a:lnTo>
                  <a:lnTo>
                    <a:pt x="62" y="638"/>
                  </a:lnTo>
                  <a:lnTo>
                    <a:pt x="66" y="644"/>
                  </a:lnTo>
                  <a:lnTo>
                    <a:pt x="72" y="650"/>
                  </a:lnTo>
                  <a:lnTo>
                    <a:pt x="72" y="650"/>
                  </a:lnTo>
                  <a:lnTo>
                    <a:pt x="68" y="692"/>
                  </a:lnTo>
                  <a:lnTo>
                    <a:pt x="64" y="714"/>
                  </a:lnTo>
                  <a:lnTo>
                    <a:pt x="60" y="734"/>
                  </a:lnTo>
                  <a:lnTo>
                    <a:pt x="54" y="754"/>
                  </a:lnTo>
                  <a:lnTo>
                    <a:pt x="46" y="774"/>
                  </a:lnTo>
                  <a:lnTo>
                    <a:pt x="34" y="790"/>
                  </a:lnTo>
                  <a:lnTo>
                    <a:pt x="22" y="806"/>
                  </a:lnTo>
                  <a:lnTo>
                    <a:pt x="22" y="806"/>
                  </a:lnTo>
                  <a:lnTo>
                    <a:pt x="76" y="830"/>
                  </a:lnTo>
                  <a:lnTo>
                    <a:pt x="104" y="840"/>
                  </a:lnTo>
                  <a:lnTo>
                    <a:pt x="132" y="848"/>
                  </a:lnTo>
                  <a:lnTo>
                    <a:pt x="132" y="848"/>
                  </a:lnTo>
                  <a:close/>
                </a:path>
              </a:pathLst>
            </a:custGeom>
            <a:solidFill>
              <a:srgbClr val="f7d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4938840" y="4681440"/>
              <a:ext cx="174600" cy="2221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10" h="140">
                  <a:moveTo>
                    <a:pt x="86" y="140"/>
                  </a:moveTo>
                  <a:lnTo>
                    <a:pt x="86" y="140"/>
                  </a:lnTo>
                  <a:lnTo>
                    <a:pt x="92" y="140"/>
                  </a:lnTo>
                  <a:lnTo>
                    <a:pt x="96" y="138"/>
                  </a:lnTo>
                  <a:lnTo>
                    <a:pt x="102" y="132"/>
                  </a:lnTo>
                  <a:lnTo>
                    <a:pt x="106" y="126"/>
                  </a:lnTo>
                  <a:lnTo>
                    <a:pt x="110" y="116"/>
                  </a:lnTo>
                  <a:lnTo>
                    <a:pt x="110" y="116"/>
                  </a:lnTo>
                  <a:lnTo>
                    <a:pt x="110" y="106"/>
                  </a:lnTo>
                  <a:lnTo>
                    <a:pt x="108" y="100"/>
                  </a:lnTo>
                  <a:lnTo>
                    <a:pt x="104" y="94"/>
                  </a:lnTo>
                  <a:lnTo>
                    <a:pt x="96" y="90"/>
                  </a:lnTo>
                  <a:lnTo>
                    <a:pt x="80" y="82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74" y="62"/>
                  </a:lnTo>
                  <a:lnTo>
                    <a:pt x="84" y="50"/>
                  </a:lnTo>
                  <a:lnTo>
                    <a:pt x="88" y="44"/>
                  </a:lnTo>
                  <a:lnTo>
                    <a:pt x="90" y="38"/>
                  </a:lnTo>
                  <a:lnTo>
                    <a:pt x="92" y="30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84" y="12"/>
                  </a:lnTo>
                  <a:lnTo>
                    <a:pt x="74" y="4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8"/>
                  </a:lnTo>
                  <a:lnTo>
                    <a:pt x="30" y="16"/>
                  </a:lnTo>
                  <a:lnTo>
                    <a:pt x="16" y="34"/>
                  </a:lnTo>
                  <a:lnTo>
                    <a:pt x="6" y="5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88"/>
                  </a:lnTo>
                  <a:lnTo>
                    <a:pt x="12" y="100"/>
                  </a:lnTo>
                  <a:lnTo>
                    <a:pt x="22" y="110"/>
                  </a:lnTo>
                  <a:lnTo>
                    <a:pt x="32" y="118"/>
                  </a:lnTo>
                  <a:lnTo>
                    <a:pt x="46" y="126"/>
                  </a:lnTo>
                  <a:lnTo>
                    <a:pt x="58" y="130"/>
                  </a:lnTo>
                  <a:lnTo>
                    <a:pt x="86" y="140"/>
                  </a:lnTo>
                  <a:lnTo>
                    <a:pt x="86" y="14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4780080" y="4887720"/>
              <a:ext cx="142560" cy="218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0" h="138">
                  <a:moveTo>
                    <a:pt x="46" y="8"/>
                  </a:moveTo>
                  <a:lnTo>
                    <a:pt x="46" y="8"/>
                  </a:lnTo>
                  <a:lnTo>
                    <a:pt x="30" y="34"/>
                  </a:lnTo>
                  <a:lnTo>
                    <a:pt x="14" y="60"/>
                  </a:lnTo>
                  <a:lnTo>
                    <a:pt x="10" y="74"/>
                  </a:lnTo>
                  <a:lnTo>
                    <a:pt x="4" y="88"/>
                  </a:lnTo>
                  <a:lnTo>
                    <a:pt x="2" y="10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24"/>
                  </a:lnTo>
                  <a:lnTo>
                    <a:pt x="10" y="130"/>
                  </a:lnTo>
                  <a:lnTo>
                    <a:pt x="16" y="136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38" y="108"/>
                  </a:lnTo>
                  <a:lnTo>
                    <a:pt x="50" y="80"/>
                  </a:lnTo>
                  <a:lnTo>
                    <a:pt x="66" y="54"/>
                  </a:lnTo>
                  <a:lnTo>
                    <a:pt x="76" y="40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86" y="6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0" y="2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5278680" y="4903560"/>
              <a:ext cx="120600" cy="212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76" h="134">
                  <a:moveTo>
                    <a:pt x="30" y="124"/>
                  </a:moveTo>
                  <a:lnTo>
                    <a:pt x="32" y="120"/>
                  </a:lnTo>
                  <a:lnTo>
                    <a:pt x="32" y="120"/>
                  </a:lnTo>
                  <a:lnTo>
                    <a:pt x="32" y="126"/>
                  </a:lnTo>
                  <a:lnTo>
                    <a:pt x="34" y="128"/>
                  </a:lnTo>
                  <a:lnTo>
                    <a:pt x="40" y="132"/>
                  </a:lnTo>
                  <a:lnTo>
                    <a:pt x="48" y="134"/>
                  </a:lnTo>
                  <a:lnTo>
                    <a:pt x="56" y="134"/>
                  </a:lnTo>
                  <a:lnTo>
                    <a:pt x="56" y="134"/>
                  </a:lnTo>
                  <a:lnTo>
                    <a:pt x="62" y="124"/>
                  </a:lnTo>
                  <a:lnTo>
                    <a:pt x="68" y="114"/>
                  </a:lnTo>
                  <a:lnTo>
                    <a:pt x="72" y="102"/>
                  </a:lnTo>
                  <a:lnTo>
                    <a:pt x="74" y="90"/>
                  </a:lnTo>
                  <a:lnTo>
                    <a:pt x="76" y="78"/>
                  </a:lnTo>
                  <a:lnTo>
                    <a:pt x="76" y="66"/>
                  </a:lnTo>
                  <a:lnTo>
                    <a:pt x="74" y="5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62" y="28"/>
                  </a:lnTo>
                  <a:lnTo>
                    <a:pt x="50" y="14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38"/>
                  </a:lnTo>
                  <a:lnTo>
                    <a:pt x="20" y="48"/>
                  </a:lnTo>
                  <a:lnTo>
                    <a:pt x="26" y="60"/>
                  </a:lnTo>
                  <a:lnTo>
                    <a:pt x="28" y="72"/>
                  </a:lnTo>
                  <a:lnTo>
                    <a:pt x="30" y="86"/>
                  </a:lnTo>
                  <a:lnTo>
                    <a:pt x="30" y="100"/>
                  </a:lnTo>
                  <a:lnTo>
                    <a:pt x="30" y="124"/>
                  </a:lnTo>
                  <a:lnTo>
                    <a:pt x="30" y="124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4307040" y="4941720"/>
              <a:ext cx="603000" cy="140652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380" h="886">
                  <a:moveTo>
                    <a:pt x="348" y="520"/>
                  </a:moveTo>
                  <a:lnTo>
                    <a:pt x="348" y="520"/>
                  </a:lnTo>
                  <a:lnTo>
                    <a:pt x="344" y="506"/>
                  </a:lnTo>
                  <a:lnTo>
                    <a:pt x="344" y="492"/>
                  </a:lnTo>
                  <a:lnTo>
                    <a:pt x="346" y="462"/>
                  </a:lnTo>
                  <a:lnTo>
                    <a:pt x="346" y="446"/>
                  </a:lnTo>
                  <a:lnTo>
                    <a:pt x="346" y="432"/>
                  </a:lnTo>
                  <a:lnTo>
                    <a:pt x="342" y="418"/>
                  </a:lnTo>
                  <a:lnTo>
                    <a:pt x="336" y="406"/>
                  </a:lnTo>
                  <a:lnTo>
                    <a:pt x="336" y="406"/>
                  </a:lnTo>
                  <a:lnTo>
                    <a:pt x="318" y="388"/>
                  </a:lnTo>
                  <a:lnTo>
                    <a:pt x="302" y="370"/>
                  </a:lnTo>
                  <a:lnTo>
                    <a:pt x="286" y="352"/>
                  </a:lnTo>
                  <a:lnTo>
                    <a:pt x="272" y="332"/>
                  </a:lnTo>
                  <a:lnTo>
                    <a:pt x="258" y="310"/>
                  </a:lnTo>
                  <a:lnTo>
                    <a:pt x="248" y="288"/>
                  </a:lnTo>
                  <a:lnTo>
                    <a:pt x="240" y="266"/>
                  </a:lnTo>
                  <a:lnTo>
                    <a:pt x="234" y="242"/>
                  </a:lnTo>
                  <a:lnTo>
                    <a:pt x="234" y="242"/>
                  </a:lnTo>
                  <a:lnTo>
                    <a:pt x="224" y="230"/>
                  </a:lnTo>
                  <a:lnTo>
                    <a:pt x="216" y="216"/>
                  </a:lnTo>
                  <a:lnTo>
                    <a:pt x="200" y="186"/>
                  </a:lnTo>
                  <a:lnTo>
                    <a:pt x="192" y="174"/>
                  </a:lnTo>
                  <a:lnTo>
                    <a:pt x="182" y="162"/>
                  </a:lnTo>
                  <a:lnTo>
                    <a:pt x="176" y="160"/>
                  </a:lnTo>
                  <a:lnTo>
                    <a:pt x="168" y="156"/>
                  </a:lnTo>
                  <a:lnTo>
                    <a:pt x="160" y="154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32" y="138"/>
                  </a:lnTo>
                  <a:lnTo>
                    <a:pt x="112" y="120"/>
                  </a:lnTo>
                  <a:lnTo>
                    <a:pt x="92" y="104"/>
                  </a:lnTo>
                  <a:lnTo>
                    <a:pt x="72" y="86"/>
                  </a:lnTo>
                  <a:lnTo>
                    <a:pt x="56" y="68"/>
                  </a:lnTo>
                  <a:lnTo>
                    <a:pt x="42" y="48"/>
                  </a:lnTo>
                  <a:lnTo>
                    <a:pt x="36" y="36"/>
                  </a:lnTo>
                  <a:lnTo>
                    <a:pt x="32" y="24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14"/>
                  </a:lnTo>
                  <a:lnTo>
                    <a:pt x="20" y="28"/>
                  </a:lnTo>
                  <a:lnTo>
                    <a:pt x="16" y="62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0" y="260"/>
                  </a:lnTo>
                  <a:lnTo>
                    <a:pt x="2" y="282"/>
                  </a:lnTo>
                  <a:lnTo>
                    <a:pt x="6" y="302"/>
                  </a:lnTo>
                  <a:lnTo>
                    <a:pt x="10" y="324"/>
                  </a:lnTo>
                  <a:lnTo>
                    <a:pt x="14" y="344"/>
                  </a:lnTo>
                  <a:lnTo>
                    <a:pt x="22" y="364"/>
                  </a:lnTo>
                  <a:lnTo>
                    <a:pt x="30" y="384"/>
                  </a:lnTo>
                  <a:lnTo>
                    <a:pt x="40" y="402"/>
                  </a:lnTo>
                  <a:lnTo>
                    <a:pt x="52" y="420"/>
                  </a:lnTo>
                  <a:lnTo>
                    <a:pt x="64" y="438"/>
                  </a:lnTo>
                  <a:lnTo>
                    <a:pt x="80" y="454"/>
                  </a:lnTo>
                  <a:lnTo>
                    <a:pt x="80" y="454"/>
                  </a:lnTo>
                  <a:lnTo>
                    <a:pt x="88" y="472"/>
                  </a:lnTo>
                  <a:lnTo>
                    <a:pt x="92" y="492"/>
                  </a:lnTo>
                  <a:lnTo>
                    <a:pt x="92" y="512"/>
                  </a:lnTo>
                  <a:lnTo>
                    <a:pt x="92" y="532"/>
                  </a:lnTo>
                  <a:lnTo>
                    <a:pt x="88" y="552"/>
                  </a:lnTo>
                  <a:lnTo>
                    <a:pt x="84" y="572"/>
                  </a:lnTo>
                  <a:lnTo>
                    <a:pt x="72" y="604"/>
                  </a:lnTo>
                  <a:lnTo>
                    <a:pt x="88" y="614"/>
                  </a:lnTo>
                  <a:lnTo>
                    <a:pt x="88" y="614"/>
                  </a:lnTo>
                  <a:lnTo>
                    <a:pt x="106" y="652"/>
                  </a:lnTo>
                  <a:lnTo>
                    <a:pt x="116" y="672"/>
                  </a:lnTo>
                  <a:lnTo>
                    <a:pt x="122" y="692"/>
                  </a:lnTo>
                  <a:lnTo>
                    <a:pt x="126" y="712"/>
                  </a:lnTo>
                  <a:lnTo>
                    <a:pt x="126" y="724"/>
                  </a:lnTo>
                  <a:lnTo>
                    <a:pt x="126" y="734"/>
                  </a:lnTo>
                  <a:lnTo>
                    <a:pt x="124" y="744"/>
                  </a:lnTo>
                  <a:lnTo>
                    <a:pt x="120" y="754"/>
                  </a:lnTo>
                  <a:lnTo>
                    <a:pt x="116" y="764"/>
                  </a:lnTo>
                  <a:lnTo>
                    <a:pt x="108" y="774"/>
                  </a:lnTo>
                  <a:lnTo>
                    <a:pt x="108" y="774"/>
                  </a:lnTo>
                  <a:lnTo>
                    <a:pt x="114" y="782"/>
                  </a:lnTo>
                  <a:lnTo>
                    <a:pt x="122" y="786"/>
                  </a:lnTo>
                  <a:lnTo>
                    <a:pt x="130" y="790"/>
                  </a:lnTo>
                  <a:lnTo>
                    <a:pt x="138" y="794"/>
                  </a:lnTo>
                  <a:lnTo>
                    <a:pt x="154" y="796"/>
                  </a:lnTo>
                  <a:lnTo>
                    <a:pt x="172" y="800"/>
                  </a:lnTo>
                  <a:lnTo>
                    <a:pt x="172" y="800"/>
                  </a:lnTo>
                  <a:lnTo>
                    <a:pt x="184" y="806"/>
                  </a:lnTo>
                  <a:lnTo>
                    <a:pt x="194" y="814"/>
                  </a:lnTo>
                  <a:lnTo>
                    <a:pt x="202" y="824"/>
                  </a:lnTo>
                  <a:lnTo>
                    <a:pt x="208" y="836"/>
                  </a:lnTo>
                  <a:lnTo>
                    <a:pt x="218" y="860"/>
                  </a:lnTo>
                  <a:lnTo>
                    <a:pt x="224" y="872"/>
                  </a:lnTo>
                  <a:lnTo>
                    <a:pt x="230" y="882"/>
                  </a:lnTo>
                  <a:lnTo>
                    <a:pt x="230" y="882"/>
                  </a:lnTo>
                  <a:lnTo>
                    <a:pt x="244" y="886"/>
                  </a:lnTo>
                  <a:lnTo>
                    <a:pt x="256" y="886"/>
                  </a:lnTo>
                  <a:lnTo>
                    <a:pt x="266" y="884"/>
                  </a:lnTo>
                  <a:lnTo>
                    <a:pt x="276" y="880"/>
                  </a:lnTo>
                  <a:lnTo>
                    <a:pt x="284" y="872"/>
                  </a:lnTo>
                  <a:lnTo>
                    <a:pt x="290" y="864"/>
                  </a:lnTo>
                  <a:lnTo>
                    <a:pt x="302" y="846"/>
                  </a:lnTo>
                  <a:lnTo>
                    <a:pt x="312" y="826"/>
                  </a:lnTo>
                  <a:lnTo>
                    <a:pt x="318" y="818"/>
                  </a:lnTo>
                  <a:lnTo>
                    <a:pt x="326" y="810"/>
                  </a:lnTo>
                  <a:lnTo>
                    <a:pt x="334" y="804"/>
                  </a:lnTo>
                  <a:lnTo>
                    <a:pt x="344" y="800"/>
                  </a:lnTo>
                  <a:lnTo>
                    <a:pt x="356" y="798"/>
                  </a:lnTo>
                  <a:lnTo>
                    <a:pt x="370" y="798"/>
                  </a:lnTo>
                  <a:lnTo>
                    <a:pt x="370" y="798"/>
                  </a:lnTo>
                  <a:lnTo>
                    <a:pt x="374" y="786"/>
                  </a:lnTo>
                  <a:lnTo>
                    <a:pt x="374" y="772"/>
                  </a:lnTo>
                  <a:lnTo>
                    <a:pt x="374" y="758"/>
                  </a:lnTo>
                  <a:lnTo>
                    <a:pt x="372" y="744"/>
                  </a:lnTo>
                  <a:lnTo>
                    <a:pt x="366" y="716"/>
                  </a:lnTo>
                  <a:lnTo>
                    <a:pt x="356" y="692"/>
                  </a:lnTo>
                  <a:lnTo>
                    <a:pt x="356" y="692"/>
                  </a:lnTo>
                  <a:lnTo>
                    <a:pt x="362" y="670"/>
                  </a:lnTo>
                  <a:lnTo>
                    <a:pt x="368" y="648"/>
                  </a:lnTo>
                  <a:lnTo>
                    <a:pt x="374" y="624"/>
                  </a:lnTo>
                  <a:lnTo>
                    <a:pt x="380" y="602"/>
                  </a:lnTo>
                  <a:lnTo>
                    <a:pt x="380" y="580"/>
                  </a:lnTo>
                  <a:lnTo>
                    <a:pt x="380" y="570"/>
                  </a:lnTo>
                  <a:lnTo>
                    <a:pt x="376" y="560"/>
                  </a:lnTo>
                  <a:lnTo>
                    <a:pt x="372" y="548"/>
                  </a:lnTo>
                  <a:lnTo>
                    <a:pt x="366" y="538"/>
                  </a:lnTo>
                  <a:lnTo>
                    <a:pt x="358" y="530"/>
                  </a:lnTo>
                  <a:lnTo>
                    <a:pt x="348" y="520"/>
                  </a:lnTo>
                  <a:lnTo>
                    <a:pt x="348" y="5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4945320" y="4954320"/>
              <a:ext cx="260280" cy="1490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4" h="94">
                  <a:moveTo>
                    <a:pt x="86" y="38"/>
                  </a:moveTo>
                  <a:lnTo>
                    <a:pt x="86" y="38"/>
                  </a:lnTo>
                  <a:lnTo>
                    <a:pt x="76" y="40"/>
                  </a:lnTo>
                  <a:lnTo>
                    <a:pt x="66" y="38"/>
                  </a:lnTo>
                  <a:lnTo>
                    <a:pt x="48" y="32"/>
                  </a:lnTo>
                  <a:lnTo>
                    <a:pt x="28" y="26"/>
                  </a:lnTo>
                  <a:lnTo>
                    <a:pt x="20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16" y="76"/>
                  </a:lnTo>
                  <a:lnTo>
                    <a:pt x="32" y="86"/>
                  </a:lnTo>
                  <a:lnTo>
                    <a:pt x="48" y="90"/>
                  </a:lnTo>
                  <a:lnTo>
                    <a:pt x="64" y="94"/>
                  </a:lnTo>
                  <a:lnTo>
                    <a:pt x="82" y="94"/>
                  </a:lnTo>
                  <a:lnTo>
                    <a:pt x="98" y="90"/>
                  </a:lnTo>
                  <a:lnTo>
                    <a:pt x="114" y="86"/>
                  </a:lnTo>
                  <a:lnTo>
                    <a:pt x="130" y="80"/>
                  </a:lnTo>
                  <a:lnTo>
                    <a:pt x="130" y="80"/>
                  </a:lnTo>
                  <a:lnTo>
                    <a:pt x="142" y="68"/>
                  </a:lnTo>
                  <a:lnTo>
                    <a:pt x="156" y="56"/>
                  </a:lnTo>
                  <a:lnTo>
                    <a:pt x="160" y="50"/>
                  </a:lnTo>
                  <a:lnTo>
                    <a:pt x="164" y="40"/>
                  </a:lnTo>
                  <a:lnTo>
                    <a:pt x="164" y="30"/>
                  </a:lnTo>
                  <a:lnTo>
                    <a:pt x="160" y="18"/>
                  </a:lnTo>
                  <a:lnTo>
                    <a:pt x="160" y="18"/>
                  </a:lnTo>
                  <a:lnTo>
                    <a:pt x="154" y="10"/>
                  </a:lnTo>
                  <a:lnTo>
                    <a:pt x="150" y="4"/>
                  </a:lnTo>
                  <a:lnTo>
                    <a:pt x="144" y="2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0" y="2"/>
                  </a:lnTo>
                  <a:lnTo>
                    <a:pt x="122" y="8"/>
                  </a:lnTo>
                  <a:lnTo>
                    <a:pt x="104" y="28"/>
                  </a:lnTo>
                  <a:lnTo>
                    <a:pt x="96" y="36"/>
                  </a:lnTo>
                  <a:lnTo>
                    <a:pt x="90" y="3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da3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5247000" y="5310000"/>
              <a:ext cx="631800" cy="19843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1984320"/>
                <a:gd name="textAreaBottom" fmla="*/ 1984680 h 1984320"/>
              </a:gdLst>
              <a:ahLst/>
              <a:rect l="textAreaLeft" t="textAreaTop" r="textAreaRight" b="textAreaBottom"/>
              <a:pathLst>
                <a:path w="398" h="1250">
                  <a:moveTo>
                    <a:pt x="330" y="180"/>
                  </a:moveTo>
                  <a:lnTo>
                    <a:pt x="330" y="180"/>
                  </a:lnTo>
                  <a:lnTo>
                    <a:pt x="322" y="174"/>
                  </a:lnTo>
                  <a:lnTo>
                    <a:pt x="316" y="164"/>
                  </a:lnTo>
                  <a:lnTo>
                    <a:pt x="314" y="154"/>
                  </a:lnTo>
                  <a:lnTo>
                    <a:pt x="314" y="148"/>
                  </a:lnTo>
                  <a:lnTo>
                    <a:pt x="316" y="142"/>
                  </a:lnTo>
                  <a:lnTo>
                    <a:pt x="316" y="142"/>
                  </a:lnTo>
                  <a:lnTo>
                    <a:pt x="316" y="130"/>
                  </a:lnTo>
                  <a:lnTo>
                    <a:pt x="316" y="118"/>
                  </a:lnTo>
                  <a:lnTo>
                    <a:pt x="314" y="106"/>
                  </a:lnTo>
                  <a:lnTo>
                    <a:pt x="310" y="96"/>
                  </a:lnTo>
                  <a:lnTo>
                    <a:pt x="300" y="74"/>
                  </a:lnTo>
                  <a:lnTo>
                    <a:pt x="286" y="56"/>
                  </a:lnTo>
                  <a:lnTo>
                    <a:pt x="270" y="40"/>
                  </a:lnTo>
                  <a:lnTo>
                    <a:pt x="250" y="24"/>
                  </a:lnTo>
                  <a:lnTo>
                    <a:pt x="232" y="1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0" y="18"/>
                  </a:lnTo>
                  <a:lnTo>
                    <a:pt x="208" y="36"/>
                  </a:lnTo>
                  <a:lnTo>
                    <a:pt x="208" y="54"/>
                  </a:lnTo>
                  <a:lnTo>
                    <a:pt x="208" y="62"/>
                  </a:lnTo>
                  <a:lnTo>
                    <a:pt x="212" y="72"/>
                  </a:lnTo>
                  <a:lnTo>
                    <a:pt x="212" y="72"/>
                  </a:lnTo>
                  <a:lnTo>
                    <a:pt x="210" y="82"/>
                  </a:lnTo>
                  <a:lnTo>
                    <a:pt x="208" y="90"/>
                  </a:lnTo>
                  <a:lnTo>
                    <a:pt x="200" y="106"/>
                  </a:lnTo>
                  <a:lnTo>
                    <a:pt x="188" y="120"/>
                  </a:lnTo>
                  <a:lnTo>
                    <a:pt x="174" y="132"/>
                  </a:lnTo>
                  <a:lnTo>
                    <a:pt x="148" y="158"/>
                  </a:lnTo>
                  <a:lnTo>
                    <a:pt x="136" y="170"/>
                  </a:lnTo>
                  <a:lnTo>
                    <a:pt x="128" y="186"/>
                  </a:lnTo>
                  <a:lnTo>
                    <a:pt x="128" y="186"/>
                  </a:lnTo>
                  <a:lnTo>
                    <a:pt x="138" y="198"/>
                  </a:lnTo>
                  <a:lnTo>
                    <a:pt x="144" y="210"/>
                  </a:lnTo>
                  <a:lnTo>
                    <a:pt x="146" y="224"/>
                  </a:lnTo>
                  <a:lnTo>
                    <a:pt x="148" y="238"/>
                  </a:lnTo>
                  <a:lnTo>
                    <a:pt x="150" y="266"/>
                  </a:lnTo>
                  <a:lnTo>
                    <a:pt x="152" y="294"/>
                  </a:lnTo>
                  <a:lnTo>
                    <a:pt x="152" y="294"/>
                  </a:lnTo>
                  <a:lnTo>
                    <a:pt x="144" y="312"/>
                  </a:lnTo>
                  <a:lnTo>
                    <a:pt x="134" y="326"/>
                  </a:lnTo>
                  <a:lnTo>
                    <a:pt x="124" y="340"/>
                  </a:lnTo>
                  <a:lnTo>
                    <a:pt x="110" y="352"/>
                  </a:lnTo>
                  <a:lnTo>
                    <a:pt x="98" y="364"/>
                  </a:lnTo>
                  <a:lnTo>
                    <a:pt x="88" y="378"/>
                  </a:lnTo>
                  <a:lnTo>
                    <a:pt x="78" y="392"/>
                  </a:lnTo>
                  <a:lnTo>
                    <a:pt x="76" y="400"/>
                  </a:lnTo>
                  <a:lnTo>
                    <a:pt x="74" y="408"/>
                  </a:lnTo>
                  <a:lnTo>
                    <a:pt x="74" y="408"/>
                  </a:lnTo>
                  <a:lnTo>
                    <a:pt x="76" y="426"/>
                  </a:lnTo>
                  <a:lnTo>
                    <a:pt x="78" y="442"/>
                  </a:lnTo>
                  <a:lnTo>
                    <a:pt x="80" y="450"/>
                  </a:lnTo>
                  <a:lnTo>
                    <a:pt x="84" y="456"/>
                  </a:lnTo>
                  <a:lnTo>
                    <a:pt x="88" y="464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02" y="480"/>
                  </a:lnTo>
                  <a:lnTo>
                    <a:pt x="108" y="494"/>
                  </a:lnTo>
                  <a:lnTo>
                    <a:pt x="112" y="508"/>
                  </a:lnTo>
                  <a:lnTo>
                    <a:pt x="114" y="522"/>
                  </a:lnTo>
                  <a:lnTo>
                    <a:pt x="114" y="536"/>
                  </a:lnTo>
                  <a:lnTo>
                    <a:pt x="114" y="550"/>
                  </a:lnTo>
                  <a:lnTo>
                    <a:pt x="110" y="564"/>
                  </a:lnTo>
                  <a:lnTo>
                    <a:pt x="104" y="576"/>
                  </a:lnTo>
                  <a:lnTo>
                    <a:pt x="104" y="576"/>
                  </a:lnTo>
                  <a:lnTo>
                    <a:pt x="102" y="582"/>
                  </a:lnTo>
                  <a:lnTo>
                    <a:pt x="98" y="588"/>
                  </a:lnTo>
                  <a:lnTo>
                    <a:pt x="90" y="600"/>
                  </a:lnTo>
                  <a:lnTo>
                    <a:pt x="84" y="604"/>
                  </a:lnTo>
                  <a:lnTo>
                    <a:pt x="82" y="612"/>
                  </a:lnTo>
                  <a:lnTo>
                    <a:pt x="82" y="618"/>
                  </a:lnTo>
                  <a:lnTo>
                    <a:pt x="84" y="626"/>
                  </a:lnTo>
                  <a:lnTo>
                    <a:pt x="84" y="626"/>
                  </a:lnTo>
                  <a:lnTo>
                    <a:pt x="82" y="630"/>
                  </a:lnTo>
                  <a:lnTo>
                    <a:pt x="80" y="632"/>
                  </a:lnTo>
                  <a:lnTo>
                    <a:pt x="74" y="636"/>
                  </a:lnTo>
                  <a:lnTo>
                    <a:pt x="66" y="636"/>
                  </a:lnTo>
                  <a:lnTo>
                    <a:pt x="60" y="638"/>
                  </a:lnTo>
                  <a:lnTo>
                    <a:pt x="60" y="638"/>
                  </a:lnTo>
                  <a:lnTo>
                    <a:pt x="54" y="650"/>
                  </a:lnTo>
                  <a:lnTo>
                    <a:pt x="50" y="662"/>
                  </a:lnTo>
                  <a:lnTo>
                    <a:pt x="50" y="672"/>
                  </a:lnTo>
                  <a:lnTo>
                    <a:pt x="52" y="682"/>
                  </a:lnTo>
                  <a:lnTo>
                    <a:pt x="56" y="702"/>
                  </a:lnTo>
                  <a:lnTo>
                    <a:pt x="66" y="724"/>
                  </a:lnTo>
                  <a:lnTo>
                    <a:pt x="74" y="744"/>
                  </a:lnTo>
                  <a:lnTo>
                    <a:pt x="76" y="754"/>
                  </a:lnTo>
                  <a:lnTo>
                    <a:pt x="78" y="764"/>
                  </a:lnTo>
                  <a:lnTo>
                    <a:pt x="80" y="776"/>
                  </a:lnTo>
                  <a:lnTo>
                    <a:pt x="78" y="786"/>
                  </a:lnTo>
                  <a:lnTo>
                    <a:pt x="74" y="798"/>
                  </a:lnTo>
                  <a:lnTo>
                    <a:pt x="68" y="810"/>
                  </a:lnTo>
                  <a:lnTo>
                    <a:pt x="68" y="810"/>
                  </a:lnTo>
                  <a:lnTo>
                    <a:pt x="60" y="824"/>
                  </a:lnTo>
                  <a:lnTo>
                    <a:pt x="50" y="838"/>
                  </a:lnTo>
                  <a:lnTo>
                    <a:pt x="26" y="862"/>
                  </a:lnTo>
                  <a:lnTo>
                    <a:pt x="16" y="874"/>
                  </a:lnTo>
                  <a:lnTo>
                    <a:pt x="8" y="888"/>
                  </a:lnTo>
                  <a:lnTo>
                    <a:pt x="6" y="896"/>
                  </a:lnTo>
                  <a:lnTo>
                    <a:pt x="6" y="902"/>
                  </a:lnTo>
                  <a:lnTo>
                    <a:pt x="6" y="910"/>
                  </a:lnTo>
                  <a:lnTo>
                    <a:pt x="8" y="920"/>
                  </a:lnTo>
                  <a:lnTo>
                    <a:pt x="8" y="920"/>
                  </a:lnTo>
                  <a:lnTo>
                    <a:pt x="16" y="928"/>
                  </a:lnTo>
                  <a:lnTo>
                    <a:pt x="22" y="936"/>
                  </a:lnTo>
                  <a:lnTo>
                    <a:pt x="26" y="946"/>
                  </a:lnTo>
                  <a:lnTo>
                    <a:pt x="28" y="954"/>
                  </a:lnTo>
                  <a:lnTo>
                    <a:pt x="30" y="964"/>
                  </a:lnTo>
                  <a:lnTo>
                    <a:pt x="30" y="972"/>
                  </a:lnTo>
                  <a:lnTo>
                    <a:pt x="26" y="990"/>
                  </a:lnTo>
                  <a:lnTo>
                    <a:pt x="20" y="1008"/>
                  </a:lnTo>
                  <a:lnTo>
                    <a:pt x="12" y="1026"/>
                  </a:lnTo>
                  <a:lnTo>
                    <a:pt x="6" y="1044"/>
                  </a:lnTo>
                  <a:lnTo>
                    <a:pt x="0" y="1062"/>
                  </a:lnTo>
                  <a:lnTo>
                    <a:pt x="0" y="1062"/>
                  </a:lnTo>
                  <a:lnTo>
                    <a:pt x="14" y="1098"/>
                  </a:lnTo>
                  <a:lnTo>
                    <a:pt x="26" y="1136"/>
                  </a:lnTo>
                  <a:lnTo>
                    <a:pt x="36" y="1174"/>
                  </a:lnTo>
                  <a:lnTo>
                    <a:pt x="50" y="1210"/>
                  </a:lnTo>
                  <a:lnTo>
                    <a:pt x="50" y="1210"/>
                  </a:lnTo>
                  <a:lnTo>
                    <a:pt x="58" y="1214"/>
                  </a:lnTo>
                  <a:lnTo>
                    <a:pt x="64" y="1220"/>
                  </a:lnTo>
                  <a:lnTo>
                    <a:pt x="80" y="1232"/>
                  </a:lnTo>
                  <a:lnTo>
                    <a:pt x="88" y="1240"/>
                  </a:lnTo>
                  <a:lnTo>
                    <a:pt x="96" y="1244"/>
                  </a:lnTo>
                  <a:lnTo>
                    <a:pt x="104" y="1248"/>
                  </a:lnTo>
                  <a:lnTo>
                    <a:pt x="114" y="1250"/>
                  </a:lnTo>
                  <a:lnTo>
                    <a:pt x="114" y="1250"/>
                  </a:lnTo>
                  <a:lnTo>
                    <a:pt x="126" y="1248"/>
                  </a:lnTo>
                  <a:lnTo>
                    <a:pt x="134" y="1244"/>
                  </a:lnTo>
                  <a:lnTo>
                    <a:pt x="140" y="1238"/>
                  </a:lnTo>
                  <a:lnTo>
                    <a:pt x="144" y="1230"/>
                  </a:lnTo>
                  <a:lnTo>
                    <a:pt x="148" y="1222"/>
                  </a:lnTo>
                  <a:lnTo>
                    <a:pt x="154" y="1214"/>
                  </a:lnTo>
                  <a:lnTo>
                    <a:pt x="160" y="1206"/>
                  </a:lnTo>
                  <a:lnTo>
                    <a:pt x="170" y="1202"/>
                  </a:lnTo>
                  <a:lnTo>
                    <a:pt x="170" y="1202"/>
                  </a:lnTo>
                  <a:lnTo>
                    <a:pt x="188" y="1198"/>
                  </a:lnTo>
                  <a:lnTo>
                    <a:pt x="204" y="1198"/>
                  </a:lnTo>
                  <a:lnTo>
                    <a:pt x="222" y="1198"/>
                  </a:lnTo>
                  <a:lnTo>
                    <a:pt x="238" y="1202"/>
                  </a:lnTo>
                  <a:lnTo>
                    <a:pt x="254" y="1208"/>
                  </a:lnTo>
                  <a:lnTo>
                    <a:pt x="270" y="1216"/>
                  </a:lnTo>
                  <a:lnTo>
                    <a:pt x="286" y="1226"/>
                  </a:lnTo>
                  <a:lnTo>
                    <a:pt x="298" y="1236"/>
                  </a:lnTo>
                  <a:lnTo>
                    <a:pt x="334" y="1226"/>
                  </a:lnTo>
                  <a:lnTo>
                    <a:pt x="334" y="1226"/>
                  </a:lnTo>
                  <a:lnTo>
                    <a:pt x="342" y="1222"/>
                  </a:lnTo>
                  <a:lnTo>
                    <a:pt x="348" y="1216"/>
                  </a:lnTo>
                  <a:lnTo>
                    <a:pt x="350" y="1210"/>
                  </a:lnTo>
                  <a:lnTo>
                    <a:pt x="352" y="1202"/>
                  </a:lnTo>
                  <a:lnTo>
                    <a:pt x="352" y="1188"/>
                  </a:lnTo>
                  <a:lnTo>
                    <a:pt x="352" y="1180"/>
                  </a:lnTo>
                  <a:lnTo>
                    <a:pt x="354" y="1172"/>
                  </a:lnTo>
                  <a:lnTo>
                    <a:pt x="354" y="1172"/>
                  </a:lnTo>
                  <a:lnTo>
                    <a:pt x="368" y="1152"/>
                  </a:lnTo>
                  <a:lnTo>
                    <a:pt x="378" y="1134"/>
                  </a:lnTo>
                  <a:lnTo>
                    <a:pt x="386" y="1114"/>
                  </a:lnTo>
                  <a:lnTo>
                    <a:pt x="392" y="1092"/>
                  </a:lnTo>
                  <a:lnTo>
                    <a:pt x="396" y="1072"/>
                  </a:lnTo>
                  <a:lnTo>
                    <a:pt x="398" y="1050"/>
                  </a:lnTo>
                  <a:lnTo>
                    <a:pt x="398" y="1026"/>
                  </a:lnTo>
                  <a:lnTo>
                    <a:pt x="396" y="1004"/>
                  </a:lnTo>
                  <a:lnTo>
                    <a:pt x="396" y="1004"/>
                  </a:lnTo>
                  <a:lnTo>
                    <a:pt x="392" y="996"/>
                  </a:lnTo>
                  <a:lnTo>
                    <a:pt x="390" y="986"/>
                  </a:lnTo>
                  <a:lnTo>
                    <a:pt x="388" y="968"/>
                  </a:lnTo>
                  <a:lnTo>
                    <a:pt x="388" y="950"/>
                  </a:lnTo>
                  <a:lnTo>
                    <a:pt x="390" y="934"/>
                  </a:lnTo>
                  <a:lnTo>
                    <a:pt x="392" y="916"/>
                  </a:lnTo>
                  <a:lnTo>
                    <a:pt x="390" y="908"/>
                  </a:lnTo>
                  <a:lnTo>
                    <a:pt x="388" y="900"/>
                  </a:lnTo>
                  <a:lnTo>
                    <a:pt x="384" y="892"/>
                  </a:lnTo>
                  <a:lnTo>
                    <a:pt x="380" y="884"/>
                  </a:lnTo>
                  <a:lnTo>
                    <a:pt x="372" y="876"/>
                  </a:lnTo>
                  <a:lnTo>
                    <a:pt x="364" y="868"/>
                  </a:lnTo>
                  <a:lnTo>
                    <a:pt x="364" y="868"/>
                  </a:lnTo>
                  <a:lnTo>
                    <a:pt x="358" y="856"/>
                  </a:lnTo>
                  <a:lnTo>
                    <a:pt x="352" y="840"/>
                  </a:lnTo>
                  <a:lnTo>
                    <a:pt x="350" y="826"/>
                  </a:lnTo>
                  <a:lnTo>
                    <a:pt x="350" y="812"/>
                  </a:lnTo>
                  <a:lnTo>
                    <a:pt x="350" y="796"/>
                  </a:lnTo>
                  <a:lnTo>
                    <a:pt x="354" y="782"/>
                  </a:lnTo>
                  <a:lnTo>
                    <a:pt x="360" y="768"/>
                  </a:lnTo>
                  <a:lnTo>
                    <a:pt x="368" y="754"/>
                  </a:lnTo>
                  <a:lnTo>
                    <a:pt x="368" y="754"/>
                  </a:lnTo>
                  <a:lnTo>
                    <a:pt x="366" y="744"/>
                  </a:lnTo>
                  <a:lnTo>
                    <a:pt x="362" y="734"/>
                  </a:lnTo>
                  <a:lnTo>
                    <a:pt x="362" y="724"/>
                  </a:lnTo>
                  <a:lnTo>
                    <a:pt x="362" y="712"/>
                  </a:lnTo>
                  <a:lnTo>
                    <a:pt x="362" y="712"/>
                  </a:lnTo>
                  <a:lnTo>
                    <a:pt x="370" y="692"/>
                  </a:lnTo>
                  <a:lnTo>
                    <a:pt x="382" y="672"/>
                  </a:lnTo>
                  <a:lnTo>
                    <a:pt x="392" y="654"/>
                  </a:lnTo>
                  <a:lnTo>
                    <a:pt x="396" y="644"/>
                  </a:lnTo>
                  <a:lnTo>
                    <a:pt x="398" y="634"/>
                  </a:lnTo>
                  <a:lnTo>
                    <a:pt x="398" y="634"/>
                  </a:lnTo>
                  <a:lnTo>
                    <a:pt x="394" y="624"/>
                  </a:lnTo>
                  <a:lnTo>
                    <a:pt x="390" y="612"/>
                  </a:lnTo>
                  <a:lnTo>
                    <a:pt x="384" y="588"/>
                  </a:lnTo>
                  <a:lnTo>
                    <a:pt x="378" y="566"/>
                  </a:lnTo>
                  <a:lnTo>
                    <a:pt x="374" y="556"/>
                  </a:lnTo>
                  <a:lnTo>
                    <a:pt x="368" y="546"/>
                  </a:lnTo>
                  <a:lnTo>
                    <a:pt x="368" y="546"/>
                  </a:lnTo>
                  <a:lnTo>
                    <a:pt x="364" y="536"/>
                  </a:lnTo>
                  <a:lnTo>
                    <a:pt x="362" y="524"/>
                  </a:lnTo>
                  <a:lnTo>
                    <a:pt x="360" y="512"/>
                  </a:lnTo>
                  <a:lnTo>
                    <a:pt x="362" y="502"/>
                  </a:lnTo>
                  <a:lnTo>
                    <a:pt x="366" y="480"/>
                  </a:lnTo>
                  <a:lnTo>
                    <a:pt x="372" y="456"/>
                  </a:lnTo>
                  <a:lnTo>
                    <a:pt x="380" y="434"/>
                  </a:lnTo>
                  <a:lnTo>
                    <a:pt x="384" y="412"/>
                  </a:lnTo>
                  <a:lnTo>
                    <a:pt x="384" y="400"/>
                  </a:lnTo>
                  <a:lnTo>
                    <a:pt x="384" y="388"/>
                  </a:lnTo>
                  <a:lnTo>
                    <a:pt x="380" y="376"/>
                  </a:lnTo>
                  <a:lnTo>
                    <a:pt x="376" y="362"/>
                  </a:lnTo>
                  <a:lnTo>
                    <a:pt x="376" y="362"/>
                  </a:lnTo>
                  <a:lnTo>
                    <a:pt x="354" y="320"/>
                  </a:lnTo>
                  <a:lnTo>
                    <a:pt x="344" y="298"/>
                  </a:lnTo>
                  <a:lnTo>
                    <a:pt x="336" y="276"/>
                  </a:lnTo>
                  <a:lnTo>
                    <a:pt x="328" y="254"/>
                  </a:lnTo>
                  <a:lnTo>
                    <a:pt x="326" y="232"/>
                  </a:lnTo>
                  <a:lnTo>
                    <a:pt x="326" y="206"/>
                  </a:lnTo>
                  <a:lnTo>
                    <a:pt x="330" y="180"/>
                  </a:lnTo>
                  <a:lnTo>
                    <a:pt x="330" y="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3846600" y="5589360"/>
              <a:ext cx="2435400" cy="360684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3606840"/>
                <a:gd name="textAreaBottom" fmla="*/ 3607200 h 3606840"/>
              </a:gdLst>
              <a:ahLst/>
              <a:rect l="textAreaLeft" t="textAreaTop" r="textAreaRight" b="textAreaBottom"/>
              <a:pathLst>
                <a:path w="1534" h="2272">
                  <a:moveTo>
                    <a:pt x="1288" y="2224"/>
                  </a:moveTo>
                  <a:lnTo>
                    <a:pt x="1288" y="2224"/>
                  </a:lnTo>
                  <a:lnTo>
                    <a:pt x="1320" y="2220"/>
                  </a:lnTo>
                  <a:lnTo>
                    <a:pt x="1352" y="2214"/>
                  </a:lnTo>
                  <a:lnTo>
                    <a:pt x="1384" y="2208"/>
                  </a:lnTo>
                  <a:lnTo>
                    <a:pt x="1416" y="2200"/>
                  </a:lnTo>
                  <a:lnTo>
                    <a:pt x="1446" y="2192"/>
                  </a:lnTo>
                  <a:lnTo>
                    <a:pt x="1476" y="2180"/>
                  </a:lnTo>
                  <a:lnTo>
                    <a:pt x="1504" y="2166"/>
                  </a:lnTo>
                  <a:lnTo>
                    <a:pt x="1532" y="2150"/>
                  </a:lnTo>
                  <a:lnTo>
                    <a:pt x="1532" y="2150"/>
                  </a:lnTo>
                  <a:lnTo>
                    <a:pt x="1534" y="2124"/>
                  </a:lnTo>
                  <a:lnTo>
                    <a:pt x="1532" y="2098"/>
                  </a:lnTo>
                  <a:lnTo>
                    <a:pt x="1528" y="2074"/>
                  </a:lnTo>
                  <a:lnTo>
                    <a:pt x="1522" y="2048"/>
                  </a:lnTo>
                  <a:lnTo>
                    <a:pt x="1508" y="1996"/>
                  </a:lnTo>
                  <a:lnTo>
                    <a:pt x="1492" y="1946"/>
                  </a:lnTo>
                  <a:lnTo>
                    <a:pt x="1492" y="1946"/>
                  </a:lnTo>
                  <a:lnTo>
                    <a:pt x="1454" y="1848"/>
                  </a:lnTo>
                  <a:lnTo>
                    <a:pt x="1420" y="1750"/>
                  </a:lnTo>
                  <a:lnTo>
                    <a:pt x="1388" y="1648"/>
                  </a:lnTo>
                  <a:lnTo>
                    <a:pt x="1362" y="1546"/>
                  </a:lnTo>
                  <a:lnTo>
                    <a:pt x="1338" y="1442"/>
                  </a:lnTo>
                  <a:lnTo>
                    <a:pt x="1318" y="1336"/>
                  </a:lnTo>
                  <a:lnTo>
                    <a:pt x="1310" y="1282"/>
                  </a:lnTo>
                  <a:lnTo>
                    <a:pt x="1304" y="1230"/>
                  </a:lnTo>
                  <a:lnTo>
                    <a:pt x="1298" y="1176"/>
                  </a:lnTo>
                  <a:lnTo>
                    <a:pt x="1294" y="1122"/>
                  </a:lnTo>
                  <a:lnTo>
                    <a:pt x="1280" y="1094"/>
                  </a:lnTo>
                  <a:lnTo>
                    <a:pt x="1280" y="1094"/>
                  </a:lnTo>
                  <a:lnTo>
                    <a:pt x="1268" y="1096"/>
                  </a:lnTo>
                  <a:lnTo>
                    <a:pt x="1256" y="1098"/>
                  </a:lnTo>
                  <a:lnTo>
                    <a:pt x="1234" y="1108"/>
                  </a:lnTo>
                  <a:lnTo>
                    <a:pt x="1214" y="1120"/>
                  </a:lnTo>
                  <a:lnTo>
                    <a:pt x="1202" y="1124"/>
                  </a:lnTo>
                  <a:lnTo>
                    <a:pt x="1190" y="1126"/>
                  </a:lnTo>
                  <a:lnTo>
                    <a:pt x="1190" y="1126"/>
                  </a:lnTo>
                  <a:lnTo>
                    <a:pt x="1174" y="1124"/>
                  </a:lnTo>
                  <a:lnTo>
                    <a:pt x="1160" y="1122"/>
                  </a:lnTo>
                  <a:lnTo>
                    <a:pt x="1130" y="1114"/>
                  </a:lnTo>
                  <a:lnTo>
                    <a:pt x="1116" y="1110"/>
                  </a:lnTo>
                  <a:lnTo>
                    <a:pt x="1100" y="1108"/>
                  </a:lnTo>
                  <a:lnTo>
                    <a:pt x="1084" y="1110"/>
                  </a:lnTo>
                  <a:lnTo>
                    <a:pt x="1068" y="1114"/>
                  </a:lnTo>
                  <a:lnTo>
                    <a:pt x="1068" y="1114"/>
                  </a:lnTo>
                  <a:lnTo>
                    <a:pt x="1056" y="1122"/>
                  </a:lnTo>
                  <a:lnTo>
                    <a:pt x="1040" y="1126"/>
                  </a:lnTo>
                  <a:lnTo>
                    <a:pt x="1026" y="1128"/>
                  </a:lnTo>
                  <a:lnTo>
                    <a:pt x="1010" y="1128"/>
                  </a:lnTo>
                  <a:lnTo>
                    <a:pt x="1010" y="1128"/>
                  </a:lnTo>
                  <a:lnTo>
                    <a:pt x="1000" y="1132"/>
                  </a:lnTo>
                  <a:lnTo>
                    <a:pt x="992" y="1132"/>
                  </a:lnTo>
                  <a:lnTo>
                    <a:pt x="982" y="1132"/>
                  </a:lnTo>
                  <a:lnTo>
                    <a:pt x="974" y="1130"/>
                  </a:lnTo>
                  <a:lnTo>
                    <a:pt x="966" y="1126"/>
                  </a:lnTo>
                  <a:lnTo>
                    <a:pt x="958" y="1122"/>
                  </a:lnTo>
                  <a:lnTo>
                    <a:pt x="942" y="1110"/>
                  </a:lnTo>
                  <a:lnTo>
                    <a:pt x="928" y="1096"/>
                  </a:lnTo>
                  <a:lnTo>
                    <a:pt x="914" y="1082"/>
                  </a:lnTo>
                  <a:lnTo>
                    <a:pt x="902" y="1068"/>
                  </a:lnTo>
                  <a:lnTo>
                    <a:pt x="888" y="1058"/>
                  </a:lnTo>
                  <a:lnTo>
                    <a:pt x="888" y="1058"/>
                  </a:lnTo>
                  <a:lnTo>
                    <a:pt x="880" y="1038"/>
                  </a:lnTo>
                  <a:lnTo>
                    <a:pt x="872" y="1018"/>
                  </a:lnTo>
                  <a:lnTo>
                    <a:pt x="862" y="976"/>
                  </a:lnTo>
                  <a:lnTo>
                    <a:pt x="850" y="932"/>
                  </a:lnTo>
                  <a:lnTo>
                    <a:pt x="842" y="912"/>
                  </a:lnTo>
                  <a:lnTo>
                    <a:pt x="834" y="892"/>
                  </a:lnTo>
                  <a:lnTo>
                    <a:pt x="834" y="892"/>
                  </a:lnTo>
                  <a:lnTo>
                    <a:pt x="834" y="884"/>
                  </a:lnTo>
                  <a:lnTo>
                    <a:pt x="834" y="874"/>
                  </a:lnTo>
                  <a:lnTo>
                    <a:pt x="838" y="858"/>
                  </a:lnTo>
                  <a:lnTo>
                    <a:pt x="846" y="842"/>
                  </a:lnTo>
                  <a:lnTo>
                    <a:pt x="856" y="824"/>
                  </a:lnTo>
                  <a:lnTo>
                    <a:pt x="862" y="808"/>
                  </a:lnTo>
                  <a:lnTo>
                    <a:pt x="864" y="800"/>
                  </a:lnTo>
                  <a:lnTo>
                    <a:pt x="864" y="792"/>
                  </a:lnTo>
                  <a:lnTo>
                    <a:pt x="862" y="784"/>
                  </a:lnTo>
                  <a:lnTo>
                    <a:pt x="860" y="774"/>
                  </a:lnTo>
                  <a:lnTo>
                    <a:pt x="854" y="766"/>
                  </a:lnTo>
                  <a:lnTo>
                    <a:pt x="844" y="758"/>
                  </a:lnTo>
                  <a:lnTo>
                    <a:pt x="844" y="758"/>
                  </a:lnTo>
                  <a:lnTo>
                    <a:pt x="842" y="738"/>
                  </a:lnTo>
                  <a:lnTo>
                    <a:pt x="842" y="720"/>
                  </a:lnTo>
                  <a:lnTo>
                    <a:pt x="846" y="700"/>
                  </a:lnTo>
                  <a:lnTo>
                    <a:pt x="852" y="684"/>
                  </a:lnTo>
                  <a:lnTo>
                    <a:pt x="862" y="668"/>
                  </a:lnTo>
                  <a:lnTo>
                    <a:pt x="874" y="652"/>
                  </a:lnTo>
                  <a:lnTo>
                    <a:pt x="886" y="638"/>
                  </a:lnTo>
                  <a:lnTo>
                    <a:pt x="902" y="626"/>
                  </a:lnTo>
                  <a:lnTo>
                    <a:pt x="902" y="626"/>
                  </a:lnTo>
                  <a:lnTo>
                    <a:pt x="908" y="614"/>
                  </a:lnTo>
                  <a:lnTo>
                    <a:pt x="910" y="602"/>
                  </a:lnTo>
                  <a:lnTo>
                    <a:pt x="912" y="592"/>
                  </a:lnTo>
                  <a:lnTo>
                    <a:pt x="910" y="582"/>
                  </a:lnTo>
                  <a:lnTo>
                    <a:pt x="904" y="562"/>
                  </a:lnTo>
                  <a:lnTo>
                    <a:pt x="896" y="542"/>
                  </a:lnTo>
                  <a:lnTo>
                    <a:pt x="888" y="522"/>
                  </a:lnTo>
                  <a:lnTo>
                    <a:pt x="882" y="502"/>
                  </a:lnTo>
                  <a:lnTo>
                    <a:pt x="880" y="492"/>
                  </a:lnTo>
                  <a:lnTo>
                    <a:pt x="882" y="482"/>
                  </a:lnTo>
                  <a:lnTo>
                    <a:pt x="884" y="472"/>
                  </a:lnTo>
                  <a:lnTo>
                    <a:pt x="890" y="460"/>
                  </a:lnTo>
                  <a:lnTo>
                    <a:pt x="890" y="460"/>
                  </a:lnTo>
                  <a:lnTo>
                    <a:pt x="896" y="456"/>
                  </a:lnTo>
                  <a:lnTo>
                    <a:pt x="902" y="450"/>
                  </a:lnTo>
                  <a:lnTo>
                    <a:pt x="906" y="444"/>
                  </a:lnTo>
                  <a:lnTo>
                    <a:pt x="908" y="436"/>
                  </a:lnTo>
                  <a:lnTo>
                    <a:pt x="910" y="422"/>
                  </a:lnTo>
                  <a:lnTo>
                    <a:pt x="910" y="406"/>
                  </a:lnTo>
                  <a:lnTo>
                    <a:pt x="910" y="392"/>
                  </a:lnTo>
                  <a:lnTo>
                    <a:pt x="910" y="376"/>
                  </a:lnTo>
                  <a:lnTo>
                    <a:pt x="914" y="362"/>
                  </a:lnTo>
                  <a:lnTo>
                    <a:pt x="918" y="354"/>
                  </a:lnTo>
                  <a:lnTo>
                    <a:pt x="924" y="348"/>
                  </a:lnTo>
                  <a:lnTo>
                    <a:pt x="924" y="348"/>
                  </a:lnTo>
                  <a:lnTo>
                    <a:pt x="926" y="340"/>
                  </a:lnTo>
                  <a:lnTo>
                    <a:pt x="928" y="334"/>
                  </a:lnTo>
                  <a:lnTo>
                    <a:pt x="928" y="318"/>
                  </a:lnTo>
                  <a:lnTo>
                    <a:pt x="924" y="304"/>
                  </a:lnTo>
                  <a:lnTo>
                    <a:pt x="918" y="290"/>
                  </a:lnTo>
                  <a:lnTo>
                    <a:pt x="906" y="262"/>
                  </a:lnTo>
                  <a:lnTo>
                    <a:pt x="902" y="246"/>
                  </a:lnTo>
                  <a:lnTo>
                    <a:pt x="902" y="230"/>
                  </a:lnTo>
                  <a:lnTo>
                    <a:pt x="902" y="230"/>
                  </a:lnTo>
                  <a:lnTo>
                    <a:pt x="904" y="218"/>
                  </a:lnTo>
                  <a:lnTo>
                    <a:pt x="908" y="204"/>
                  </a:lnTo>
                  <a:lnTo>
                    <a:pt x="914" y="194"/>
                  </a:lnTo>
                  <a:lnTo>
                    <a:pt x="922" y="182"/>
                  </a:lnTo>
                  <a:lnTo>
                    <a:pt x="942" y="162"/>
                  </a:lnTo>
                  <a:lnTo>
                    <a:pt x="950" y="152"/>
                  </a:lnTo>
                  <a:lnTo>
                    <a:pt x="958" y="142"/>
                  </a:lnTo>
                  <a:lnTo>
                    <a:pt x="958" y="142"/>
                  </a:lnTo>
                  <a:lnTo>
                    <a:pt x="968" y="132"/>
                  </a:lnTo>
                  <a:lnTo>
                    <a:pt x="974" y="124"/>
                  </a:lnTo>
                  <a:lnTo>
                    <a:pt x="978" y="114"/>
                  </a:lnTo>
                  <a:lnTo>
                    <a:pt x="980" y="106"/>
                  </a:lnTo>
                  <a:lnTo>
                    <a:pt x="980" y="98"/>
                  </a:lnTo>
                  <a:lnTo>
                    <a:pt x="978" y="90"/>
                  </a:lnTo>
                  <a:lnTo>
                    <a:pt x="972" y="72"/>
                  </a:lnTo>
                  <a:lnTo>
                    <a:pt x="962" y="56"/>
                  </a:lnTo>
                  <a:lnTo>
                    <a:pt x="952" y="38"/>
                  </a:lnTo>
                  <a:lnTo>
                    <a:pt x="946" y="20"/>
                  </a:lnTo>
                  <a:lnTo>
                    <a:pt x="946" y="10"/>
                  </a:lnTo>
                  <a:lnTo>
                    <a:pt x="946" y="0"/>
                  </a:lnTo>
                  <a:lnTo>
                    <a:pt x="946" y="0"/>
                  </a:lnTo>
                  <a:lnTo>
                    <a:pt x="916" y="10"/>
                  </a:lnTo>
                  <a:lnTo>
                    <a:pt x="886" y="16"/>
                  </a:lnTo>
                  <a:lnTo>
                    <a:pt x="856" y="22"/>
                  </a:lnTo>
                  <a:lnTo>
                    <a:pt x="826" y="26"/>
                  </a:lnTo>
                  <a:lnTo>
                    <a:pt x="798" y="26"/>
                  </a:lnTo>
                  <a:lnTo>
                    <a:pt x="766" y="26"/>
                  </a:lnTo>
                  <a:lnTo>
                    <a:pt x="736" y="24"/>
                  </a:lnTo>
                  <a:lnTo>
                    <a:pt x="704" y="20"/>
                  </a:lnTo>
                  <a:lnTo>
                    <a:pt x="704" y="20"/>
                  </a:lnTo>
                  <a:lnTo>
                    <a:pt x="698" y="30"/>
                  </a:lnTo>
                  <a:lnTo>
                    <a:pt x="694" y="42"/>
                  </a:lnTo>
                  <a:lnTo>
                    <a:pt x="690" y="54"/>
                  </a:lnTo>
                  <a:lnTo>
                    <a:pt x="690" y="64"/>
                  </a:lnTo>
                  <a:lnTo>
                    <a:pt x="688" y="76"/>
                  </a:lnTo>
                  <a:lnTo>
                    <a:pt x="690" y="88"/>
                  </a:lnTo>
                  <a:lnTo>
                    <a:pt x="692" y="102"/>
                  </a:lnTo>
                  <a:lnTo>
                    <a:pt x="696" y="114"/>
                  </a:lnTo>
                  <a:lnTo>
                    <a:pt x="696" y="114"/>
                  </a:lnTo>
                  <a:lnTo>
                    <a:pt x="706" y="124"/>
                  </a:lnTo>
                  <a:lnTo>
                    <a:pt x="714" y="134"/>
                  </a:lnTo>
                  <a:lnTo>
                    <a:pt x="720" y="144"/>
                  </a:lnTo>
                  <a:lnTo>
                    <a:pt x="724" y="154"/>
                  </a:lnTo>
                  <a:lnTo>
                    <a:pt x="726" y="164"/>
                  </a:lnTo>
                  <a:lnTo>
                    <a:pt x="726" y="176"/>
                  </a:lnTo>
                  <a:lnTo>
                    <a:pt x="724" y="198"/>
                  </a:lnTo>
                  <a:lnTo>
                    <a:pt x="718" y="220"/>
                  </a:lnTo>
                  <a:lnTo>
                    <a:pt x="712" y="242"/>
                  </a:lnTo>
                  <a:lnTo>
                    <a:pt x="706" y="266"/>
                  </a:lnTo>
                  <a:lnTo>
                    <a:pt x="702" y="288"/>
                  </a:lnTo>
                  <a:lnTo>
                    <a:pt x="702" y="288"/>
                  </a:lnTo>
                  <a:lnTo>
                    <a:pt x="710" y="302"/>
                  </a:lnTo>
                  <a:lnTo>
                    <a:pt x="716" y="316"/>
                  </a:lnTo>
                  <a:lnTo>
                    <a:pt x="718" y="332"/>
                  </a:lnTo>
                  <a:lnTo>
                    <a:pt x="720" y="348"/>
                  </a:lnTo>
                  <a:lnTo>
                    <a:pt x="718" y="378"/>
                  </a:lnTo>
                  <a:lnTo>
                    <a:pt x="714" y="410"/>
                  </a:lnTo>
                  <a:lnTo>
                    <a:pt x="714" y="410"/>
                  </a:lnTo>
                  <a:lnTo>
                    <a:pt x="708" y="418"/>
                  </a:lnTo>
                  <a:lnTo>
                    <a:pt x="700" y="426"/>
                  </a:lnTo>
                  <a:lnTo>
                    <a:pt x="692" y="432"/>
                  </a:lnTo>
                  <a:lnTo>
                    <a:pt x="682" y="436"/>
                  </a:lnTo>
                  <a:lnTo>
                    <a:pt x="664" y="442"/>
                  </a:lnTo>
                  <a:lnTo>
                    <a:pt x="644" y="446"/>
                  </a:lnTo>
                  <a:lnTo>
                    <a:pt x="628" y="482"/>
                  </a:lnTo>
                  <a:lnTo>
                    <a:pt x="628" y="482"/>
                  </a:lnTo>
                  <a:lnTo>
                    <a:pt x="624" y="490"/>
                  </a:lnTo>
                  <a:lnTo>
                    <a:pt x="620" y="496"/>
                  </a:lnTo>
                  <a:lnTo>
                    <a:pt x="608" y="504"/>
                  </a:lnTo>
                  <a:lnTo>
                    <a:pt x="594" y="510"/>
                  </a:lnTo>
                  <a:lnTo>
                    <a:pt x="580" y="514"/>
                  </a:lnTo>
                  <a:lnTo>
                    <a:pt x="564" y="516"/>
                  </a:lnTo>
                  <a:lnTo>
                    <a:pt x="548" y="516"/>
                  </a:lnTo>
                  <a:lnTo>
                    <a:pt x="518" y="518"/>
                  </a:lnTo>
                  <a:lnTo>
                    <a:pt x="518" y="518"/>
                  </a:lnTo>
                  <a:lnTo>
                    <a:pt x="496" y="510"/>
                  </a:lnTo>
                  <a:lnTo>
                    <a:pt x="474" y="500"/>
                  </a:lnTo>
                  <a:lnTo>
                    <a:pt x="466" y="492"/>
                  </a:lnTo>
                  <a:lnTo>
                    <a:pt x="458" y="484"/>
                  </a:lnTo>
                  <a:lnTo>
                    <a:pt x="452" y="474"/>
                  </a:lnTo>
                  <a:lnTo>
                    <a:pt x="446" y="462"/>
                  </a:lnTo>
                  <a:lnTo>
                    <a:pt x="434" y="470"/>
                  </a:lnTo>
                  <a:lnTo>
                    <a:pt x="434" y="470"/>
                  </a:lnTo>
                  <a:lnTo>
                    <a:pt x="406" y="514"/>
                  </a:lnTo>
                  <a:lnTo>
                    <a:pt x="376" y="558"/>
                  </a:lnTo>
                  <a:lnTo>
                    <a:pt x="360" y="580"/>
                  </a:lnTo>
                  <a:lnTo>
                    <a:pt x="342" y="600"/>
                  </a:lnTo>
                  <a:lnTo>
                    <a:pt x="322" y="618"/>
                  </a:lnTo>
                  <a:lnTo>
                    <a:pt x="302" y="634"/>
                  </a:lnTo>
                  <a:lnTo>
                    <a:pt x="302" y="634"/>
                  </a:lnTo>
                  <a:lnTo>
                    <a:pt x="306" y="638"/>
                  </a:lnTo>
                  <a:lnTo>
                    <a:pt x="308" y="642"/>
                  </a:lnTo>
                  <a:lnTo>
                    <a:pt x="310" y="654"/>
                  </a:lnTo>
                  <a:lnTo>
                    <a:pt x="308" y="666"/>
                  </a:lnTo>
                  <a:lnTo>
                    <a:pt x="306" y="676"/>
                  </a:lnTo>
                  <a:lnTo>
                    <a:pt x="306" y="676"/>
                  </a:lnTo>
                  <a:lnTo>
                    <a:pt x="300" y="694"/>
                  </a:lnTo>
                  <a:lnTo>
                    <a:pt x="296" y="714"/>
                  </a:lnTo>
                  <a:lnTo>
                    <a:pt x="294" y="734"/>
                  </a:lnTo>
                  <a:lnTo>
                    <a:pt x="292" y="754"/>
                  </a:lnTo>
                  <a:lnTo>
                    <a:pt x="292" y="796"/>
                  </a:lnTo>
                  <a:lnTo>
                    <a:pt x="294" y="838"/>
                  </a:lnTo>
                  <a:lnTo>
                    <a:pt x="294" y="858"/>
                  </a:lnTo>
                  <a:lnTo>
                    <a:pt x="292" y="878"/>
                  </a:lnTo>
                  <a:lnTo>
                    <a:pt x="288" y="898"/>
                  </a:lnTo>
                  <a:lnTo>
                    <a:pt x="282" y="918"/>
                  </a:lnTo>
                  <a:lnTo>
                    <a:pt x="276" y="936"/>
                  </a:lnTo>
                  <a:lnTo>
                    <a:pt x="264" y="952"/>
                  </a:lnTo>
                  <a:lnTo>
                    <a:pt x="250" y="968"/>
                  </a:lnTo>
                  <a:lnTo>
                    <a:pt x="232" y="984"/>
                  </a:lnTo>
                  <a:lnTo>
                    <a:pt x="232" y="984"/>
                  </a:lnTo>
                  <a:lnTo>
                    <a:pt x="224" y="1006"/>
                  </a:lnTo>
                  <a:lnTo>
                    <a:pt x="218" y="1028"/>
                  </a:lnTo>
                  <a:lnTo>
                    <a:pt x="214" y="1052"/>
                  </a:lnTo>
                  <a:lnTo>
                    <a:pt x="210" y="1076"/>
                  </a:lnTo>
                  <a:lnTo>
                    <a:pt x="206" y="1126"/>
                  </a:lnTo>
                  <a:lnTo>
                    <a:pt x="204" y="1176"/>
                  </a:lnTo>
                  <a:lnTo>
                    <a:pt x="204" y="1176"/>
                  </a:lnTo>
                  <a:lnTo>
                    <a:pt x="200" y="1240"/>
                  </a:lnTo>
                  <a:lnTo>
                    <a:pt x="192" y="1300"/>
                  </a:lnTo>
                  <a:lnTo>
                    <a:pt x="180" y="1360"/>
                  </a:lnTo>
                  <a:lnTo>
                    <a:pt x="168" y="1420"/>
                  </a:lnTo>
                  <a:lnTo>
                    <a:pt x="152" y="1478"/>
                  </a:lnTo>
                  <a:lnTo>
                    <a:pt x="134" y="1536"/>
                  </a:lnTo>
                  <a:lnTo>
                    <a:pt x="98" y="1652"/>
                  </a:lnTo>
                  <a:lnTo>
                    <a:pt x="62" y="1768"/>
                  </a:lnTo>
                  <a:lnTo>
                    <a:pt x="44" y="1826"/>
                  </a:lnTo>
                  <a:lnTo>
                    <a:pt x="30" y="1884"/>
                  </a:lnTo>
                  <a:lnTo>
                    <a:pt x="18" y="1944"/>
                  </a:lnTo>
                  <a:lnTo>
                    <a:pt x="8" y="2004"/>
                  </a:lnTo>
                  <a:lnTo>
                    <a:pt x="2" y="2066"/>
                  </a:lnTo>
                  <a:lnTo>
                    <a:pt x="0" y="2128"/>
                  </a:lnTo>
                  <a:lnTo>
                    <a:pt x="0" y="2128"/>
                  </a:lnTo>
                  <a:lnTo>
                    <a:pt x="24" y="2142"/>
                  </a:lnTo>
                  <a:lnTo>
                    <a:pt x="50" y="2154"/>
                  </a:lnTo>
                  <a:lnTo>
                    <a:pt x="78" y="2164"/>
                  </a:lnTo>
                  <a:lnTo>
                    <a:pt x="104" y="2174"/>
                  </a:lnTo>
                  <a:lnTo>
                    <a:pt x="132" y="2182"/>
                  </a:lnTo>
                  <a:lnTo>
                    <a:pt x="160" y="2188"/>
                  </a:lnTo>
                  <a:lnTo>
                    <a:pt x="216" y="2198"/>
                  </a:lnTo>
                  <a:lnTo>
                    <a:pt x="216" y="2198"/>
                  </a:lnTo>
                  <a:lnTo>
                    <a:pt x="282" y="2214"/>
                  </a:lnTo>
                  <a:lnTo>
                    <a:pt x="346" y="2230"/>
                  </a:lnTo>
                  <a:lnTo>
                    <a:pt x="412" y="2242"/>
                  </a:lnTo>
                  <a:lnTo>
                    <a:pt x="478" y="2252"/>
                  </a:lnTo>
                  <a:lnTo>
                    <a:pt x="546" y="2260"/>
                  </a:lnTo>
                  <a:lnTo>
                    <a:pt x="612" y="2266"/>
                  </a:lnTo>
                  <a:lnTo>
                    <a:pt x="680" y="2270"/>
                  </a:lnTo>
                  <a:lnTo>
                    <a:pt x="748" y="2272"/>
                  </a:lnTo>
                  <a:lnTo>
                    <a:pt x="816" y="2272"/>
                  </a:lnTo>
                  <a:lnTo>
                    <a:pt x="884" y="2272"/>
                  </a:lnTo>
                  <a:lnTo>
                    <a:pt x="952" y="2268"/>
                  </a:lnTo>
                  <a:lnTo>
                    <a:pt x="1020" y="2262"/>
                  </a:lnTo>
                  <a:lnTo>
                    <a:pt x="1088" y="2256"/>
                  </a:lnTo>
                  <a:lnTo>
                    <a:pt x="1154" y="2246"/>
                  </a:lnTo>
                  <a:lnTo>
                    <a:pt x="1222" y="2236"/>
                  </a:lnTo>
                  <a:lnTo>
                    <a:pt x="1288" y="2224"/>
                  </a:lnTo>
                  <a:lnTo>
                    <a:pt x="1288" y="2224"/>
                  </a:lnTo>
                  <a:close/>
                  <a:moveTo>
                    <a:pt x="410" y="818"/>
                  </a:moveTo>
                  <a:lnTo>
                    <a:pt x="410" y="818"/>
                  </a:lnTo>
                  <a:lnTo>
                    <a:pt x="422" y="822"/>
                  </a:lnTo>
                  <a:lnTo>
                    <a:pt x="434" y="824"/>
                  </a:lnTo>
                  <a:lnTo>
                    <a:pt x="460" y="822"/>
                  </a:lnTo>
                  <a:lnTo>
                    <a:pt x="472" y="822"/>
                  </a:lnTo>
                  <a:lnTo>
                    <a:pt x="484" y="826"/>
                  </a:lnTo>
                  <a:lnTo>
                    <a:pt x="494" y="830"/>
                  </a:lnTo>
                  <a:lnTo>
                    <a:pt x="498" y="834"/>
                  </a:lnTo>
                  <a:lnTo>
                    <a:pt x="500" y="840"/>
                  </a:lnTo>
                  <a:lnTo>
                    <a:pt x="500" y="840"/>
                  </a:lnTo>
                  <a:lnTo>
                    <a:pt x="502" y="852"/>
                  </a:lnTo>
                  <a:lnTo>
                    <a:pt x="502" y="864"/>
                  </a:lnTo>
                  <a:lnTo>
                    <a:pt x="500" y="870"/>
                  </a:lnTo>
                  <a:lnTo>
                    <a:pt x="496" y="874"/>
                  </a:lnTo>
                  <a:lnTo>
                    <a:pt x="492" y="878"/>
                  </a:lnTo>
                  <a:lnTo>
                    <a:pt x="486" y="880"/>
                  </a:lnTo>
                  <a:lnTo>
                    <a:pt x="486" y="880"/>
                  </a:lnTo>
                  <a:lnTo>
                    <a:pt x="460" y="880"/>
                  </a:lnTo>
                  <a:lnTo>
                    <a:pt x="434" y="878"/>
                  </a:lnTo>
                  <a:lnTo>
                    <a:pt x="406" y="872"/>
                  </a:lnTo>
                  <a:lnTo>
                    <a:pt x="394" y="868"/>
                  </a:lnTo>
                  <a:lnTo>
                    <a:pt x="382" y="862"/>
                  </a:lnTo>
                  <a:lnTo>
                    <a:pt x="382" y="862"/>
                  </a:lnTo>
                  <a:lnTo>
                    <a:pt x="374" y="856"/>
                  </a:lnTo>
                  <a:lnTo>
                    <a:pt x="368" y="850"/>
                  </a:lnTo>
                  <a:lnTo>
                    <a:pt x="360" y="836"/>
                  </a:lnTo>
                  <a:lnTo>
                    <a:pt x="354" y="818"/>
                  </a:lnTo>
                  <a:lnTo>
                    <a:pt x="350" y="802"/>
                  </a:lnTo>
                  <a:lnTo>
                    <a:pt x="350" y="802"/>
                  </a:lnTo>
                  <a:lnTo>
                    <a:pt x="358" y="792"/>
                  </a:lnTo>
                  <a:lnTo>
                    <a:pt x="360" y="788"/>
                  </a:lnTo>
                  <a:lnTo>
                    <a:pt x="364" y="788"/>
                  </a:lnTo>
                  <a:lnTo>
                    <a:pt x="372" y="788"/>
                  </a:lnTo>
                  <a:lnTo>
                    <a:pt x="380" y="792"/>
                  </a:lnTo>
                  <a:lnTo>
                    <a:pt x="396" y="806"/>
                  </a:lnTo>
                  <a:lnTo>
                    <a:pt x="404" y="814"/>
                  </a:lnTo>
                  <a:lnTo>
                    <a:pt x="410" y="818"/>
                  </a:lnTo>
                  <a:lnTo>
                    <a:pt x="410" y="818"/>
                  </a:lnTo>
                  <a:close/>
                  <a:moveTo>
                    <a:pt x="404" y="970"/>
                  </a:moveTo>
                  <a:lnTo>
                    <a:pt x="404" y="970"/>
                  </a:lnTo>
                  <a:lnTo>
                    <a:pt x="388" y="956"/>
                  </a:lnTo>
                  <a:lnTo>
                    <a:pt x="372" y="942"/>
                  </a:lnTo>
                  <a:lnTo>
                    <a:pt x="364" y="936"/>
                  </a:lnTo>
                  <a:lnTo>
                    <a:pt x="360" y="926"/>
                  </a:lnTo>
                  <a:lnTo>
                    <a:pt x="358" y="916"/>
                  </a:lnTo>
                  <a:lnTo>
                    <a:pt x="360" y="906"/>
                  </a:lnTo>
                  <a:lnTo>
                    <a:pt x="360" y="906"/>
                  </a:lnTo>
                  <a:lnTo>
                    <a:pt x="370" y="900"/>
                  </a:lnTo>
                  <a:lnTo>
                    <a:pt x="380" y="898"/>
                  </a:lnTo>
                  <a:lnTo>
                    <a:pt x="388" y="900"/>
                  </a:lnTo>
                  <a:lnTo>
                    <a:pt x="398" y="904"/>
                  </a:lnTo>
                  <a:lnTo>
                    <a:pt x="416" y="914"/>
                  </a:lnTo>
                  <a:lnTo>
                    <a:pt x="424" y="920"/>
                  </a:lnTo>
                  <a:lnTo>
                    <a:pt x="432" y="922"/>
                  </a:lnTo>
                  <a:lnTo>
                    <a:pt x="432" y="922"/>
                  </a:lnTo>
                  <a:lnTo>
                    <a:pt x="476" y="934"/>
                  </a:lnTo>
                  <a:lnTo>
                    <a:pt x="520" y="942"/>
                  </a:lnTo>
                  <a:lnTo>
                    <a:pt x="566" y="948"/>
                  </a:lnTo>
                  <a:lnTo>
                    <a:pt x="612" y="952"/>
                  </a:lnTo>
                  <a:lnTo>
                    <a:pt x="658" y="954"/>
                  </a:lnTo>
                  <a:lnTo>
                    <a:pt x="704" y="954"/>
                  </a:lnTo>
                  <a:lnTo>
                    <a:pt x="750" y="950"/>
                  </a:lnTo>
                  <a:lnTo>
                    <a:pt x="796" y="942"/>
                  </a:lnTo>
                  <a:lnTo>
                    <a:pt x="796" y="942"/>
                  </a:lnTo>
                  <a:lnTo>
                    <a:pt x="802" y="938"/>
                  </a:lnTo>
                  <a:lnTo>
                    <a:pt x="806" y="936"/>
                  </a:lnTo>
                  <a:lnTo>
                    <a:pt x="812" y="934"/>
                  </a:lnTo>
                  <a:lnTo>
                    <a:pt x="818" y="936"/>
                  </a:lnTo>
                  <a:lnTo>
                    <a:pt x="828" y="940"/>
                  </a:lnTo>
                  <a:lnTo>
                    <a:pt x="838" y="946"/>
                  </a:lnTo>
                  <a:lnTo>
                    <a:pt x="838" y="946"/>
                  </a:lnTo>
                  <a:lnTo>
                    <a:pt x="840" y="964"/>
                  </a:lnTo>
                  <a:lnTo>
                    <a:pt x="838" y="972"/>
                  </a:lnTo>
                  <a:lnTo>
                    <a:pt x="834" y="982"/>
                  </a:lnTo>
                  <a:lnTo>
                    <a:pt x="808" y="1000"/>
                  </a:lnTo>
                  <a:lnTo>
                    <a:pt x="808" y="1000"/>
                  </a:lnTo>
                  <a:lnTo>
                    <a:pt x="756" y="1006"/>
                  </a:lnTo>
                  <a:lnTo>
                    <a:pt x="704" y="1008"/>
                  </a:lnTo>
                  <a:lnTo>
                    <a:pt x="652" y="1010"/>
                  </a:lnTo>
                  <a:lnTo>
                    <a:pt x="600" y="1008"/>
                  </a:lnTo>
                  <a:lnTo>
                    <a:pt x="550" y="1002"/>
                  </a:lnTo>
                  <a:lnTo>
                    <a:pt x="500" y="994"/>
                  </a:lnTo>
                  <a:lnTo>
                    <a:pt x="452" y="984"/>
                  </a:lnTo>
                  <a:lnTo>
                    <a:pt x="404" y="970"/>
                  </a:lnTo>
                  <a:lnTo>
                    <a:pt x="404" y="970"/>
                  </a:lnTo>
                  <a:close/>
                </a:path>
              </a:pathLst>
            </a:custGeom>
            <a:solidFill>
              <a:srgbClr val="e16a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5910480" y="5700600"/>
              <a:ext cx="860400" cy="171108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542" h="1078">
                  <a:moveTo>
                    <a:pt x="50" y="150"/>
                  </a:moveTo>
                  <a:lnTo>
                    <a:pt x="50" y="150"/>
                  </a:lnTo>
                  <a:lnTo>
                    <a:pt x="54" y="162"/>
                  </a:lnTo>
                  <a:lnTo>
                    <a:pt x="54" y="174"/>
                  </a:lnTo>
                  <a:lnTo>
                    <a:pt x="54" y="186"/>
                  </a:lnTo>
                  <a:lnTo>
                    <a:pt x="52" y="198"/>
                  </a:lnTo>
                  <a:lnTo>
                    <a:pt x="50" y="210"/>
                  </a:lnTo>
                  <a:lnTo>
                    <a:pt x="44" y="220"/>
                  </a:lnTo>
                  <a:lnTo>
                    <a:pt x="38" y="230"/>
                  </a:lnTo>
                  <a:lnTo>
                    <a:pt x="30" y="240"/>
                  </a:lnTo>
                  <a:lnTo>
                    <a:pt x="30" y="240"/>
                  </a:lnTo>
                  <a:lnTo>
                    <a:pt x="34" y="256"/>
                  </a:lnTo>
                  <a:lnTo>
                    <a:pt x="34" y="272"/>
                  </a:lnTo>
                  <a:lnTo>
                    <a:pt x="32" y="304"/>
                  </a:lnTo>
                  <a:lnTo>
                    <a:pt x="32" y="322"/>
                  </a:lnTo>
                  <a:lnTo>
                    <a:pt x="36" y="338"/>
                  </a:lnTo>
                  <a:lnTo>
                    <a:pt x="40" y="354"/>
                  </a:lnTo>
                  <a:lnTo>
                    <a:pt x="50" y="368"/>
                  </a:lnTo>
                  <a:lnTo>
                    <a:pt x="50" y="368"/>
                  </a:lnTo>
                  <a:lnTo>
                    <a:pt x="52" y="388"/>
                  </a:lnTo>
                  <a:lnTo>
                    <a:pt x="48" y="408"/>
                  </a:lnTo>
                  <a:lnTo>
                    <a:pt x="44" y="426"/>
                  </a:lnTo>
                  <a:lnTo>
                    <a:pt x="36" y="446"/>
                  </a:lnTo>
                  <a:lnTo>
                    <a:pt x="22" y="482"/>
                  </a:lnTo>
                  <a:lnTo>
                    <a:pt x="16" y="502"/>
                  </a:lnTo>
                  <a:lnTo>
                    <a:pt x="14" y="520"/>
                  </a:lnTo>
                  <a:lnTo>
                    <a:pt x="14" y="520"/>
                  </a:lnTo>
                  <a:lnTo>
                    <a:pt x="20" y="532"/>
                  </a:lnTo>
                  <a:lnTo>
                    <a:pt x="24" y="546"/>
                  </a:lnTo>
                  <a:lnTo>
                    <a:pt x="26" y="560"/>
                  </a:lnTo>
                  <a:lnTo>
                    <a:pt x="26" y="574"/>
                  </a:lnTo>
                  <a:lnTo>
                    <a:pt x="22" y="602"/>
                  </a:lnTo>
                  <a:lnTo>
                    <a:pt x="22" y="616"/>
                  </a:lnTo>
                  <a:lnTo>
                    <a:pt x="22" y="628"/>
                  </a:lnTo>
                  <a:lnTo>
                    <a:pt x="22" y="628"/>
                  </a:lnTo>
                  <a:lnTo>
                    <a:pt x="30" y="638"/>
                  </a:lnTo>
                  <a:lnTo>
                    <a:pt x="36" y="650"/>
                  </a:lnTo>
                  <a:lnTo>
                    <a:pt x="40" y="664"/>
                  </a:lnTo>
                  <a:lnTo>
                    <a:pt x="42" y="676"/>
                  </a:lnTo>
                  <a:lnTo>
                    <a:pt x="46" y="704"/>
                  </a:lnTo>
                  <a:lnTo>
                    <a:pt x="48" y="734"/>
                  </a:lnTo>
                  <a:lnTo>
                    <a:pt x="48" y="734"/>
                  </a:lnTo>
                  <a:lnTo>
                    <a:pt x="64" y="752"/>
                  </a:lnTo>
                  <a:lnTo>
                    <a:pt x="76" y="772"/>
                  </a:lnTo>
                  <a:lnTo>
                    <a:pt x="88" y="794"/>
                  </a:lnTo>
                  <a:lnTo>
                    <a:pt x="96" y="816"/>
                  </a:lnTo>
                  <a:lnTo>
                    <a:pt x="114" y="862"/>
                  </a:lnTo>
                  <a:lnTo>
                    <a:pt x="126" y="886"/>
                  </a:lnTo>
                  <a:lnTo>
                    <a:pt x="138" y="906"/>
                  </a:lnTo>
                  <a:lnTo>
                    <a:pt x="138" y="906"/>
                  </a:lnTo>
                  <a:lnTo>
                    <a:pt x="142" y="930"/>
                  </a:lnTo>
                  <a:lnTo>
                    <a:pt x="148" y="952"/>
                  </a:lnTo>
                  <a:lnTo>
                    <a:pt x="158" y="974"/>
                  </a:lnTo>
                  <a:lnTo>
                    <a:pt x="166" y="994"/>
                  </a:lnTo>
                  <a:lnTo>
                    <a:pt x="188" y="1036"/>
                  </a:lnTo>
                  <a:lnTo>
                    <a:pt x="208" y="1078"/>
                  </a:lnTo>
                  <a:lnTo>
                    <a:pt x="208" y="1078"/>
                  </a:lnTo>
                  <a:lnTo>
                    <a:pt x="254" y="1076"/>
                  </a:lnTo>
                  <a:lnTo>
                    <a:pt x="300" y="1070"/>
                  </a:lnTo>
                  <a:lnTo>
                    <a:pt x="344" y="1062"/>
                  </a:lnTo>
                  <a:lnTo>
                    <a:pt x="388" y="1050"/>
                  </a:lnTo>
                  <a:lnTo>
                    <a:pt x="428" y="1034"/>
                  </a:lnTo>
                  <a:lnTo>
                    <a:pt x="468" y="1014"/>
                  </a:lnTo>
                  <a:lnTo>
                    <a:pt x="488" y="1002"/>
                  </a:lnTo>
                  <a:lnTo>
                    <a:pt x="506" y="988"/>
                  </a:lnTo>
                  <a:lnTo>
                    <a:pt x="524" y="974"/>
                  </a:lnTo>
                  <a:lnTo>
                    <a:pt x="542" y="960"/>
                  </a:lnTo>
                  <a:lnTo>
                    <a:pt x="542" y="960"/>
                  </a:lnTo>
                  <a:lnTo>
                    <a:pt x="530" y="918"/>
                  </a:lnTo>
                  <a:lnTo>
                    <a:pt x="514" y="878"/>
                  </a:lnTo>
                  <a:lnTo>
                    <a:pt x="496" y="838"/>
                  </a:lnTo>
                  <a:lnTo>
                    <a:pt x="476" y="800"/>
                  </a:lnTo>
                  <a:lnTo>
                    <a:pt x="434" y="724"/>
                  </a:lnTo>
                  <a:lnTo>
                    <a:pt x="414" y="686"/>
                  </a:lnTo>
                  <a:lnTo>
                    <a:pt x="394" y="648"/>
                  </a:lnTo>
                  <a:lnTo>
                    <a:pt x="394" y="648"/>
                  </a:lnTo>
                  <a:lnTo>
                    <a:pt x="354" y="594"/>
                  </a:lnTo>
                  <a:lnTo>
                    <a:pt x="310" y="542"/>
                  </a:lnTo>
                  <a:lnTo>
                    <a:pt x="268" y="490"/>
                  </a:lnTo>
                  <a:lnTo>
                    <a:pt x="226" y="438"/>
                  </a:lnTo>
                  <a:lnTo>
                    <a:pt x="206" y="412"/>
                  </a:lnTo>
                  <a:lnTo>
                    <a:pt x="188" y="384"/>
                  </a:lnTo>
                  <a:lnTo>
                    <a:pt x="172" y="356"/>
                  </a:lnTo>
                  <a:lnTo>
                    <a:pt x="156" y="326"/>
                  </a:lnTo>
                  <a:lnTo>
                    <a:pt x="144" y="296"/>
                  </a:lnTo>
                  <a:lnTo>
                    <a:pt x="134" y="266"/>
                  </a:lnTo>
                  <a:lnTo>
                    <a:pt x="126" y="234"/>
                  </a:lnTo>
                  <a:lnTo>
                    <a:pt x="120" y="202"/>
                  </a:lnTo>
                  <a:lnTo>
                    <a:pt x="120" y="202"/>
                  </a:lnTo>
                  <a:lnTo>
                    <a:pt x="102" y="146"/>
                  </a:lnTo>
                  <a:lnTo>
                    <a:pt x="92" y="116"/>
                  </a:lnTo>
                  <a:lnTo>
                    <a:pt x="80" y="88"/>
                  </a:lnTo>
                  <a:lnTo>
                    <a:pt x="68" y="62"/>
                  </a:lnTo>
                  <a:lnTo>
                    <a:pt x="50" y="38"/>
                  </a:lnTo>
                  <a:lnTo>
                    <a:pt x="40" y="28"/>
                  </a:lnTo>
                  <a:lnTo>
                    <a:pt x="30" y="18"/>
                  </a:lnTo>
                  <a:lnTo>
                    <a:pt x="18" y="8"/>
                  </a:lnTo>
                  <a:lnTo>
                    <a:pt x="4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20" y="72"/>
                  </a:lnTo>
                  <a:lnTo>
                    <a:pt x="24" y="86"/>
                  </a:lnTo>
                  <a:lnTo>
                    <a:pt x="26" y="100"/>
                  </a:lnTo>
                  <a:lnTo>
                    <a:pt x="28" y="112"/>
                  </a:lnTo>
                  <a:lnTo>
                    <a:pt x="32" y="126"/>
                  </a:lnTo>
                  <a:lnTo>
                    <a:pt x="38" y="138"/>
                  </a:lnTo>
                  <a:lnTo>
                    <a:pt x="44" y="144"/>
                  </a:lnTo>
                  <a:lnTo>
                    <a:pt x="50" y="150"/>
                  </a:lnTo>
                  <a:lnTo>
                    <a:pt x="50" y="150"/>
                  </a:lnTo>
                  <a:close/>
                </a:path>
              </a:pathLst>
            </a:custGeom>
            <a:solidFill>
              <a:srgbClr val="fdf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3903840" y="5773680"/>
              <a:ext cx="63360" cy="110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0" h="70">
                  <a:moveTo>
                    <a:pt x="40" y="0"/>
                  </a:moveTo>
                  <a:lnTo>
                    <a:pt x="0" y="66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32" y="38"/>
                  </a:lnTo>
                  <a:lnTo>
                    <a:pt x="38" y="2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df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3611520" y="5938560"/>
              <a:ext cx="828720" cy="79056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522" h="498">
                  <a:moveTo>
                    <a:pt x="522" y="214"/>
                  </a:moveTo>
                  <a:lnTo>
                    <a:pt x="522" y="214"/>
                  </a:lnTo>
                  <a:lnTo>
                    <a:pt x="514" y="208"/>
                  </a:lnTo>
                  <a:lnTo>
                    <a:pt x="506" y="200"/>
                  </a:lnTo>
                  <a:lnTo>
                    <a:pt x="502" y="192"/>
                  </a:lnTo>
                  <a:lnTo>
                    <a:pt x="498" y="182"/>
                  </a:lnTo>
                  <a:lnTo>
                    <a:pt x="492" y="162"/>
                  </a:lnTo>
                  <a:lnTo>
                    <a:pt x="492" y="140"/>
                  </a:lnTo>
                  <a:lnTo>
                    <a:pt x="492" y="140"/>
                  </a:lnTo>
                  <a:lnTo>
                    <a:pt x="496" y="126"/>
                  </a:lnTo>
                  <a:lnTo>
                    <a:pt x="502" y="110"/>
                  </a:lnTo>
                  <a:lnTo>
                    <a:pt x="506" y="96"/>
                  </a:lnTo>
                  <a:lnTo>
                    <a:pt x="506" y="90"/>
                  </a:lnTo>
                  <a:lnTo>
                    <a:pt x="504" y="86"/>
                  </a:lnTo>
                  <a:lnTo>
                    <a:pt x="504" y="86"/>
                  </a:lnTo>
                  <a:lnTo>
                    <a:pt x="484" y="100"/>
                  </a:lnTo>
                  <a:lnTo>
                    <a:pt x="474" y="106"/>
                  </a:lnTo>
                  <a:lnTo>
                    <a:pt x="462" y="110"/>
                  </a:lnTo>
                  <a:lnTo>
                    <a:pt x="462" y="110"/>
                  </a:lnTo>
                  <a:lnTo>
                    <a:pt x="420" y="106"/>
                  </a:lnTo>
                  <a:lnTo>
                    <a:pt x="380" y="100"/>
                  </a:lnTo>
                  <a:lnTo>
                    <a:pt x="340" y="92"/>
                  </a:lnTo>
                  <a:lnTo>
                    <a:pt x="302" y="80"/>
                  </a:lnTo>
                  <a:lnTo>
                    <a:pt x="264" y="64"/>
                  </a:lnTo>
                  <a:lnTo>
                    <a:pt x="228" y="46"/>
                  </a:lnTo>
                  <a:lnTo>
                    <a:pt x="192" y="24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6" y="28"/>
                  </a:lnTo>
                  <a:lnTo>
                    <a:pt x="134" y="58"/>
                  </a:lnTo>
                  <a:lnTo>
                    <a:pt x="114" y="116"/>
                  </a:lnTo>
                  <a:lnTo>
                    <a:pt x="94" y="174"/>
                  </a:lnTo>
                  <a:lnTo>
                    <a:pt x="82" y="202"/>
                  </a:lnTo>
                  <a:lnTo>
                    <a:pt x="70" y="230"/>
                  </a:lnTo>
                  <a:lnTo>
                    <a:pt x="70" y="230"/>
                  </a:lnTo>
                  <a:lnTo>
                    <a:pt x="60" y="248"/>
                  </a:lnTo>
                  <a:lnTo>
                    <a:pt x="50" y="264"/>
                  </a:lnTo>
                  <a:lnTo>
                    <a:pt x="28" y="298"/>
                  </a:lnTo>
                  <a:lnTo>
                    <a:pt x="18" y="316"/>
                  </a:lnTo>
                  <a:lnTo>
                    <a:pt x="10" y="332"/>
                  </a:lnTo>
                  <a:lnTo>
                    <a:pt x="4" y="352"/>
                  </a:lnTo>
                  <a:lnTo>
                    <a:pt x="0" y="370"/>
                  </a:lnTo>
                  <a:lnTo>
                    <a:pt x="0" y="370"/>
                  </a:lnTo>
                  <a:lnTo>
                    <a:pt x="0" y="386"/>
                  </a:lnTo>
                  <a:lnTo>
                    <a:pt x="4" y="400"/>
                  </a:lnTo>
                  <a:lnTo>
                    <a:pt x="10" y="414"/>
                  </a:lnTo>
                  <a:lnTo>
                    <a:pt x="16" y="426"/>
                  </a:lnTo>
                  <a:lnTo>
                    <a:pt x="36" y="450"/>
                  </a:lnTo>
                  <a:lnTo>
                    <a:pt x="56" y="472"/>
                  </a:lnTo>
                  <a:lnTo>
                    <a:pt x="56" y="472"/>
                  </a:lnTo>
                  <a:lnTo>
                    <a:pt x="76" y="484"/>
                  </a:lnTo>
                  <a:lnTo>
                    <a:pt x="98" y="490"/>
                  </a:lnTo>
                  <a:lnTo>
                    <a:pt x="122" y="496"/>
                  </a:lnTo>
                  <a:lnTo>
                    <a:pt x="146" y="498"/>
                  </a:lnTo>
                  <a:lnTo>
                    <a:pt x="170" y="498"/>
                  </a:lnTo>
                  <a:lnTo>
                    <a:pt x="194" y="494"/>
                  </a:lnTo>
                  <a:lnTo>
                    <a:pt x="218" y="488"/>
                  </a:lnTo>
                  <a:lnTo>
                    <a:pt x="238" y="480"/>
                  </a:lnTo>
                  <a:lnTo>
                    <a:pt x="238" y="480"/>
                  </a:lnTo>
                  <a:lnTo>
                    <a:pt x="282" y="460"/>
                  </a:lnTo>
                  <a:lnTo>
                    <a:pt x="324" y="434"/>
                  </a:lnTo>
                  <a:lnTo>
                    <a:pt x="368" y="406"/>
                  </a:lnTo>
                  <a:lnTo>
                    <a:pt x="408" y="376"/>
                  </a:lnTo>
                  <a:lnTo>
                    <a:pt x="428" y="358"/>
                  </a:lnTo>
                  <a:lnTo>
                    <a:pt x="446" y="340"/>
                  </a:lnTo>
                  <a:lnTo>
                    <a:pt x="462" y="322"/>
                  </a:lnTo>
                  <a:lnTo>
                    <a:pt x="478" y="302"/>
                  </a:lnTo>
                  <a:lnTo>
                    <a:pt x="492" y="280"/>
                  </a:lnTo>
                  <a:lnTo>
                    <a:pt x="504" y="260"/>
                  </a:lnTo>
                  <a:lnTo>
                    <a:pt x="514" y="236"/>
                  </a:lnTo>
                  <a:lnTo>
                    <a:pt x="522" y="214"/>
                  </a:lnTo>
                  <a:lnTo>
                    <a:pt x="522" y="214"/>
                  </a:lnTo>
                  <a:close/>
                </a:path>
              </a:pathLst>
            </a:custGeom>
            <a:solidFill>
              <a:srgbClr val="fdf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4402080" y="6840360"/>
              <a:ext cx="241200" cy="145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52" h="92">
                  <a:moveTo>
                    <a:pt x="32" y="74"/>
                  </a:moveTo>
                  <a:lnTo>
                    <a:pt x="32" y="74"/>
                  </a:lnTo>
                  <a:lnTo>
                    <a:pt x="44" y="80"/>
                  </a:lnTo>
                  <a:lnTo>
                    <a:pt x="56" y="84"/>
                  </a:lnTo>
                  <a:lnTo>
                    <a:pt x="84" y="90"/>
                  </a:lnTo>
                  <a:lnTo>
                    <a:pt x="110" y="92"/>
                  </a:lnTo>
                  <a:lnTo>
                    <a:pt x="136" y="92"/>
                  </a:lnTo>
                  <a:lnTo>
                    <a:pt x="136" y="92"/>
                  </a:lnTo>
                  <a:lnTo>
                    <a:pt x="142" y="90"/>
                  </a:lnTo>
                  <a:lnTo>
                    <a:pt x="146" y="86"/>
                  </a:lnTo>
                  <a:lnTo>
                    <a:pt x="150" y="82"/>
                  </a:lnTo>
                  <a:lnTo>
                    <a:pt x="152" y="76"/>
                  </a:lnTo>
                  <a:lnTo>
                    <a:pt x="152" y="64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48" y="46"/>
                  </a:lnTo>
                  <a:lnTo>
                    <a:pt x="144" y="42"/>
                  </a:lnTo>
                  <a:lnTo>
                    <a:pt x="134" y="38"/>
                  </a:lnTo>
                  <a:lnTo>
                    <a:pt x="122" y="34"/>
                  </a:lnTo>
                  <a:lnTo>
                    <a:pt x="110" y="34"/>
                  </a:lnTo>
                  <a:lnTo>
                    <a:pt x="84" y="36"/>
                  </a:lnTo>
                  <a:lnTo>
                    <a:pt x="72" y="3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0"/>
                  </a:lnTo>
                  <a:lnTo>
                    <a:pt x="10" y="48"/>
                  </a:lnTo>
                  <a:lnTo>
                    <a:pt x="18" y="62"/>
                  </a:lnTo>
                  <a:lnTo>
                    <a:pt x="24" y="68"/>
                  </a:lnTo>
                  <a:lnTo>
                    <a:pt x="32" y="74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4415040" y="7014960"/>
              <a:ext cx="765000" cy="17748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82" h="112">
                  <a:moveTo>
                    <a:pt x="476" y="84"/>
                  </a:moveTo>
                  <a:lnTo>
                    <a:pt x="476" y="84"/>
                  </a:lnTo>
                  <a:lnTo>
                    <a:pt x="480" y="74"/>
                  </a:lnTo>
                  <a:lnTo>
                    <a:pt x="482" y="66"/>
                  </a:lnTo>
                  <a:lnTo>
                    <a:pt x="480" y="48"/>
                  </a:lnTo>
                  <a:lnTo>
                    <a:pt x="480" y="48"/>
                  </a:lnTo>
                  <a:lnTo>
                    <a:pt x="470" y="42"/>
                  </a:lnTo>
                  <a:lnTo>
                    <a:pt x="460" y="38"/>
                  </a:lnTo>
                  <a:lnTo>
                    <a:pt x="454" y="36"/>
                  </a:lnTo>
                  <a:lnTo>
                    <a:pt x="448" y="38"/>
                  </a:lnTo>
                  <a:lnTo>
                    <a:pt x="444" y="40"/>
                  </a:lnTo>
                  <a:lnTo>
                    <a:pt x="438" y="44"/>
                  </a:lnTo>
                  <a:lnTo>
                    <a:pt x="438" y="44"/>
                  </a:lnTo>
                  <a:lnTo>
                    <a:pt x="392" y="52"/>
                  </a:lnTo>
                  <a:lnTo>
                    <a:pt x="346" y="56"/>
                  </a:lnTo>
                  <a:lnTo>
                    <a:pt x="300" y="56"/>
                  </a:lnTo>
                  <a:lnTo>
                    <a:pt x="254" y="54"/>
                  </a:lnTo>
                  <a:lnTo>
                    <a:pt x="208" y="50"/>
                  </a:lnTo>
                  <a:lnTo>
                    <a:pt x="162" y="44"/>
                  </a:lnTo>
                  <a:lnTo>
                    <a:pt x="118" y="36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6" y="22"/>
                  </a:lnTo>
                  <a:lnTo>
                    <a:pt x="58" y="16"/>
                  </a:lnTo>
                  <a:lnTo>
                    <a:pt x="40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2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28"/>
                  </a:lnTo>
                  <a:lnTo>
                    <a:pt x="6" y="38"/>
                  </a:lnTo>
                  <a:lnTo>
                    <a:pt x="14" y="44"/>
                  </a:lnTo>
                  <a:lnTo>
                    <a:pt x="30" y="58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94" y="86"/>
                  </a:lnTo>
                  <a:lnTo>
                    <a:pt x="142" y="96"/>
                  </a:lnTo>
                  <a:lnTo>
                    <a:pt x="192" y="104"/>
                  </a:lnTo>
                  <a:lnTo>
                    <a:pt x="242" y="110"/>
                  </a:lnTo>
                  <a:lnTo>
                    <a:pt x="294" y="112"/>
                  </a:lnTo>
                  <a:lnTo>
                    <a:pt x="346" y="110"/>
                  </a:lnTo>
                  <a:lnTo>
                    <a:pt x="398" y="108"/>
                  </a:lnTo>
                  <a:lnTo>
                    <a:pt x="450" y="102"/>
                  </a:lnTo>
                  <a:lnTo>
                    <a:pt x="476" y="84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6323400" y="7412040"/>
              <a:ext cx="612720" cy="91728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7280"/>
                <a:gd name="textAreaBottom" fmla="*/ 917640 h 917280"/>
              </a:gdLst>
              <a:ahLst/>
              <a:rect l="textAreaLeft" t="textAreaTop" r="textAreaRight" b="textAreaBottom"/>
              <a:pathLst>
                <a:path w="386" h="578">
                  <a:moveTo>
                    <a:pt x="204" y="0"/>
                  </a:moveTo>
                  <a:lnTo>
                    <a:pt x="204" y="0"/>
                  </a:lnTo>
                  <a:lnTo>
                    <a:pt x="132" y="28"/>
                  </a:lnTo>
                  <a:lnTo>
                    <a:pt x="96" y="38"/>
                  </a:lnTo>
                  <a:lnTo>
                    <a:pt x="78" y="44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66" y="60"/>
                  </a:lnTo>
                  <a:lnTo>
                    <a:pt x="72" y="74"/>
                  </a:lnTo>
                  <a:lnTo>
                    <a:pt x="74" y="90"/>
                  </a:lnTo>
                  <a:lnTo>
                    <a:pt x="76" y="108"/>
                  </a:lnTo>
                  <a:lnTo>
                    <a:pt x="76" y="124"/>
                  </a:lnTo>
                  <a:lnTo>
                    <a:pt x="74" y="140"/>
                  </a:lnTo>
                  <a:lnTo>
                    <a:pt x="72" y="156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50" y="202"/>
                  </a:lnTo>
                  <a:lnTo>
                    <a:pt x="36" y="230"/>
                  </a:lnTo>
                  <a:lnTo>
                    <a:pt x="24" y="262"/>
                  </a:lnTo>
                  <a:lnTo>
                    <a:pt x="16" y="292"/>
                  </a:lnTo>
                  <a:lnTo>
                    <a:pt x="10" y="324"/>
                  </a:lnTo>
                  <a:lnTo>
                    <a:pt x="6" y="358"/>
                  </a:lnTo>
                  <a:lnTo>
                    <a:pt x="2" y="390"/>
                  </a:lnTo>
                  <a:lnTo>
                    <a:pt x="0" y="426"/>
                  </a:lnTo>
                  <a:lnTo>
                    <a:pt x="0" y="426"/>
                  </a:lnTo>
                  <a:lnTo>
                    <a:pt x="6" y="438"/>
                  </a:lnTo>
                  <a:lnTo>
                    <a:pt x="14" y="446"/>
                  </a:lnTo>
                  <a:lnTo>
                    <a:pt x="22" y="454"/>
                  </a:lnTo>
                  <a:lnTo>
                    <a:pt x="32" y="460"/>
                  </a:lnTo>
                  <a:lnTo>
                    <a:pt x="54" y="470"/>
                  </a:lnTo>
                  <a:lnTo>
                    <a:pt x="76" y="478"/>
                  </a:lnTo>
                  <a:lnTo>
                    <a:pt x="76" y="478"/>
                  </a:lnTo>
                  <a:lnTo>
                    <a:pt x="84" y="484"/>
                  </a:lnTo>
                  <a:lnTo>
                    <a:pt x="92" y="490"/>
                  </a:lnTo>
                  <a:lnTo>
                    <a:pt x="102" y="504"/>
                  </a:lnTo>
                  <a:lnTo>
                    <a:pt x="108" y="512"/>
                  </a:lnTo>
                  <a:lnTo>
                    <a:pt x="114" y="516"/>
                  </a:lnTo>
                  <a:lnTo>
                    <a:pt x="122" y="518"/>
                  </a:lnTo>
                  <a:lnTo>
                    <a:pt x="132" y="518"/>
                  </a:lnTo>
                  <a:lnTo>
                    <a:pt x="92" y="386"/>
                  </a:lnTo>
                  <a:lnTo>
                    <a:pt x="92" y="386"/>
                  </a:lnTo>
                  <a:lnTo>
                    <a:pt x="96" y="376"/>
                  </a:lnTo>
                  <a:lnTo>
                    <a:pt x="102" y="370"/>
                  </a:lnTo>
                  <a:lnTo>
                    <a:pt x="110" y="368"/>
                  </a:lnTo>
                  <a:lnTo>
                    <a:pt x="118" y="366"/>
                  </a:lnTo>
                  <a:lnTo>
                    <a:pt x="126" y="366"/>
                  </a:lnTo>
                  <a:lnTo>
                    <a:pt x="134" y="364"/>
                  </a:lnTo>
                  <a:lnTo>
                    <a:pt x="140" y="360"/>
                  </a:lnTo>
                  <a:lnTo>
                    <a:pt x="146" y="350"/>
                  </a:lnTo>
                  <a:lnTo>
                    <a:pt x="146" y="350"/>
                  </a:lnTo>
                  <a:lnTo>
                    <a:pt x="166" y="344"/>
                  </a:lnTo>
                  <a:lnTo>
                    <a:pt x="186" y="340"/>
                  </a:lnTo>
                  <a:lnTo>
                    <a:pt x="206" y="338"/>
                  </a:lnTo>
                  <a:lnTo>
                    <a:pt x="226" y="336"/>
                  </a:lnTo>
                  <a:lnTo>
                    <a:pt x="246" y="338"/>
                  </a:lnTo>
                  <a:lnTo>
                    <a:pt x="266" y="342"/>
                  </a:lnTo>
                  <a:lnTo>
                    <a:pt x="284" y="348"/>
                  </a:lnTo>
                  <a:lnTo>
                    <a:pt x="304" y="358"/>
                  </a:lnTo>
                  <a:lnTo>
                    <a:pt x="304" y="358"/>
                  </a:lnTo>
                  <a:lnTo>
                    <a:pt x="318" y="412"/>
                  </a:lnTo>
                  <a:lnTo>
                    <a:pt x="330" y="468"/>
                  </a:lnTo>
                  <a:lnTo>
                    <a:pt x="344" y="524"/>
                  </a:lnTo>
                  <a:lnTo>
                    <a:pt x="358" y="578"/>
                  </a:lnTo>
                  <a:lnTo>
                    <a:pt x="358" y="578"/>
                  </a:lnTo>
                  <a:lnTo>
                    <a:pt x="364" y="566"/>
                  </a:lnTo>
                  <a:lnTo>
                    <a:pt x="366" y="560"/>
                  </a:lnTo>
                  <a:lnTo>
                    <a:pt x="370" y="554"/>
                  </a:lnTo>
                  <a:lnTo>
                    <a:pt x="370" y="554"/>
                  </a:lnTo>
                  <a:lnTo>
                    <a:pt x="376" y="496"/>
                  </a:lnTo>
                  <a:lnTo>
                    <a:pt x="382" y="434"/>
                  </a:lnTo>
                  <a:lnTo>
                    <a:pt x="384" y="404"/>
                  </a:lnTo>
                  <a:lnTo>
                    <a:pt x="386" y="374"/>
                  </a:lnTo>
                  <a:lnTo>
                    <a:pt x="384" y="344"/>
                  </a:lnTo>
                  <a:lnTo>
                    <a:pt x="380" y="314"/>
                  </a:lnTo>
                  <a:lnTo>
                    <a:pt x="380" y="314"/>
                  </a:lnTo>
                  <a:lnTo>
                    <a:pt x="376" y="294"/>
                  </a:lnTo>
                  <a:lnTo>
                    <a:pt x="368" y="274"/>
                  </a:lnTo>
                  <a:lnTo>
                    <a:pt x="360" y="254"/>
                  </a:lnTo>
                  <a:lnTo>
                    <a:pt x="350" y="236"/>
                  </a:lnTo>
                  <a:lnTo>
                    <a:pt x="328" y="198"/>
                  </a:lnTo>
                  <a:lnTo>
                    <a:pt x="304" y="162"/>
                  </a:lnTo>
                  <a:lnTo>
                    <a:pt x="280" y="126"/>
                  </a:lnTo>
                  <a:lnTo>
                    <a:pt x="258" y="90"/>
                  </a:lnTo>
                  <a:lnTo>
                    <a:pt x="238" y="52"/>
                  </a:lnTo>
                  <a:lnTo>
                    <a:pt x="230" y="32"/>
                  </a:lnTo>
                  <a:lnTo>
                    <a:pt x="224" y="1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6602760" y="8059680"/>
              <a:ext cx="326880" cy="95868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06" h="604">
                  <a:moveTo>
                    <a:pt x="0" y="20"/>
                  </a:moveTo>
                  <a:lnTo>
                    <a:pt x="0" y="20"/>
                  </a:lnTo>
                  <a:lnTo>
                    <a:pt x="18" y="94"/>
                  </a:lnTo>
                  <a:lnTo>
                    <a:pt x="36" y="166"/>
                  </a:lnTo>
                  <a:lnTo>
                    <a:pt x="76" y="310"/>
                  </a:lnTo>
                  <a:lnTo>
                    <a:pt x="116" y="456"/>
                  </a:lnTo>
                  <a:lnTo>
                    <a:pt x="134" y="530"/>
                  </a:lnTo>
                  <a:lnTo>
                    <a:pt x="150" y="604"/>
                  </a:lnTo>
                  <a:lnTo>
                    <a:pt x="150" y="604"/>
                  </a:lnTo>
                  <a:lnTo>
                    <a:pt x="164" y="598"/>
                  </a:lnTo>
                  <a:lnTo>
                    <a:pt x="180" y="594"/>
                  </a:lnTo>
                  <a:lnTo>
                    <a:pt x="206" y="586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30" y="8"/>
                  </a:lnTo>
                  <a:lnTo>
                    <a:pt x="16" y="16"/>
                  </a:lnTo>
                  <a:lnTo>
                    <a:pt x="8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d0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6189840" y="9079200"/>
              <a:ext cx="850680" cy="57132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36" h="360">
                  <a:moveTo>
                    <a:pt x="466" y="112"/>
                  </a:moveTo>
                  <a:lnTo>
                    <a:pt x="466" y="112"/>
                  </a:lnTo>
                  <a:lnTo>
                    <a:pt x="466" y="118"/>
                  </a:lnTo>
                  <a:lnTo>
                    <a:pt x="462" y="126"/>
                  </a:lnTo>
                  <a:lnTo>
                    <a:pt x="454" y="132"/>
                  </a:lnTo>
                  <a:lnTo>
                    <a:pt x="446" y="134"/>
                  </a:lnTo>
                  <a:lnTo>
                    <a:pt x="446" y="134"/>
                  </a:lnTo>
                  <a:lnTo>
                    <a:pt x="446" y="140"/>
                  </a:lnTo>
                  <a:lnTo>
                    <a:pt x="442" y="146"/>
                  </a:lnTo>
                  <a:lnTo>
                    <a:pt x="436" y="158"/>
                  </a:lnTo>
                  <a:lnTo>
                    <a:pt x="426" y="168"/>
                  </a:lnTo>
                  <a:lnTo>
                    <a:pt x="418" y="180"/>
                  </a:lnTo>
                  <a:lnTo>
                    <a:pt x="418" y="180"/>
                  </a:lnTo>
                  <a:lnTo>
                    <a:pt x="396" y="198"/>
                  </a:lnTo>
                  <a:lnTo>
                    <a:pt x="374" y="216"/>
                  </a:lnTo>
                  <a:lnTo>
                    <a:pt x="352" y="232"/>
                  </a:lnTo>
                  <a:lnTo>
                    <a:pt x="328" y="246"/>
                  </a:lnTo>
                  <a:lnTo>
                    <a:pt x="304" y="258"/>
                  </a:lnTo>
                  <a:lnTo>
                    <a:pt x="278" y="270"/>
                  </a:lnTo>
                  <a:lnTo>
                    <a:pt x="252" y="278"/>
                  </a:lnTo>
                  <a:lnTo>
                    <a:pt x="226" y="288"/>
                  </a:lnTo>
                  <a:lnTo>
                    <a:pt x="198" y="294"/>
                  </a:lnTo>
                  <a:lnTo>
                    <a:pt x="172" y="300"/>
                  </a:lnTo>
                  <a:lnTo>
                    <a:pt x="144" y="304"/>
                  </a:lnTo>
                  <a:lnTo>
                    <a:pt x="116" y="306"/>
                  </a:lnTo>
                  <a:lnTo>
                    <a:pt x="88" y="308"/>
                  </a:lnTo>
                  <a:lnTo>
                    <a:pt x="58" y="308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4" y="322"/>
                  </a:lnTo>
                  <a:lnTo>
                    <a:pt x="48" y="332"/>
                  </a:lnTo>
                  <a:lnTo>
                    <a:pt x="74" y="340"/>
                  </a:lnTo>
                  <a:lnTo>
                    <a:pt x="102" y="348"/>
                  </a:lnTo>
                  <a:lnTo>
                    <a:pt x="128" y="352"/>
                  </a:lnTo>
                  <a:lnTo>
                    <a:pt x="156" y="356"/>
                  </a:lnTo>
                  <a:lnTo>
                    <a:pt x="182" y="358"/>
                  </a:lnTo>
                  <a:lnTo>
                    <a:pt x="210" y="360"/>
                  </a:lnTo>
                  <a:lnTo>
                    <a:pt x="238" y="358"/>
                  </a:lnTo>
                  <a:lnTo>
                    <a:pt x="266" y="356"/>
                  </a:lnTo>
                  <a:lnTo>
                    <a:pt x="292" y="352"/>
                  </a:lnTo>
                  <a:lnTo>
                    <a:pt x="320" y="348"/>
                  </a:lnTo>
                  <a:lnTo>
                    <a:pt x="346" y="340"/>
                  </a:lnTo>
                  <a:lnTo>
                    <a:pt x="372" y="332"/>
                  </a:lnTo>
                  <a:lnTo>
                    <a:pt x="398" y="324"/>
                  </a:lnTo>
                  <a:lnTo>
                    <a:pt x="422" y="312"/>
                  </a:lnTo>
                  <a:lnTo>
                    <a:pt x="422" y="312"/>
                  </a:lnTo>
                  <a:lnTo>
                    <a:pt x="444" y="296"/>
                  </a:lnTo>
                  <a:lnTo>
                    <a:pt x="466" y="280"/>
                  </a:lnTo>
                  <a:lnTo>
                    <a:pt x="486" y="260"/>
                  </a:lnTo>
                  <a:lnTo>
                    <a:pt x="504" y="240"/>
                  </a:lnTo>
                  <a:lnTo>
                    <a:pt x="518" y="218"/>
                  </a:lnTo>
                  <a:lnTo>
                    <a:pt x="528" y="194"/>
                  </a:lnTo>
                  <a:lnTo>
                    <a:pt x="532" y="182"/>
                  </a:lnTo>
                  <a:lnTo>
                    <a:pt x="534" y="170"/>
                  </a:lnTo>
                  <a:lnTo>
                    <a:pt x="536" y="156"/>
                  </a:lnTo>
                  <a:lnTo>
                    <a:pt x="536" y="144"/>
                  </a:lnTo>
                  <a:lnTo>
                    <a:pt x="536" y="144"/>
                  </a:lnTo>
                  <a:lnTo>
                    <a:pt x="524" y="126"/>
                  </a:lnTo>
                  <a:lnTo>
                    <a:pt x="516" y="110"/>
                  </a:lnTo>
                  <a:lnTo>
                    <a:pt x="508" y="92"/>
                  </a:lnTo>
                  <a:lnTo>
                    <a:pt x="500" y="74"/>
                  </a:lnTo>
                  <a:lnTo>
                    <a:pt x="488" y="38"/>
                  </a:lnTo>
                  <a:lnTo>
                    <a:pt x="474" y="0"/>
                  </a:lnTo>
                  <a:lnTo>
                    <a:pt x="474" y="0"/>
                  </a:lnTo>
                  <a:lnTo>
                    <a:pt x="468" y="0"/>
                  </a:lnTo>
                  <a:lnTo>
                    <a:pt x="460" y="2"/>
                  </a:lnTo>
                  <a:lnTo>
                    <a:pt x="448" y="4"/>
                  </a:lnTo>
                  <a:lnTo>
                    <a:pt x="466" y="112"/>
                  </a:lnTo>
                  <a:close/>
                </a:path>
              </a:pathLst>
            </a:custGeom>
            <a:solidFill>
              <a:srgbClr val="c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4218120" y="9186840"/>
              <a:ext cx="603000" cy="650880"/>
            </a:xfrm>
            <a:custGeom>
              <a:avLst/>
              <a:gdLst>
                <a:gd name="textAreaLeft" fmla="*/ 0 w 603000"/>
                <a:gd name="textAreaRight" fmla="*/ 603360 w 6030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80" h="410">
                  <a:moveTo>
                    <a:pt x="376" y="82"/>
                  </a:moveTo>
                  <a:lnTo>
                    <a:pt x="362" y="62"/>
                  </a:lnTo>
                  <a:lnTo>
                    <a:pt x="362" y="62"/>
                  </a:lnTo>
                  <a:lnTo>
                    <a:pt x="316" y="54"/>
                  </a:lnTo>
                  <a:lnTo>
                    <a:pt x="272" y="48"/>
                  </a:lnTo>
                  <a:lnTo>
                    <a:pt x="182" y="36"/>
                  </a:lnTo>
                  <a:lnTo>
                    <a:pt x="138" y="30"/>
                  </a:lnTo>
                  <a:lnTo>
                    <a:pt x="94" y="24"/>
                  </a:lnTo>
                  <a:lnTo>
                    <a:pt x="50" y="1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8" y="18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124"/>
                  </a:lnTo>
                  <a:lnTo>
                    <a:pt x="12" y="212"/>
                  </a:lnTo>
                  <a:lnTo>
                    <a:pt x="18" y="302"/>
                  </a:lnTo>
                  <a:lnTo>
                    <a:pt x="22" y="394"/>
                  </a:lnTo>
                  <a:lnTo>
                    <a:pt x="22" y="394"/>
                  </a:lnTo>
                  <a:lnTo>
                    <a:pt x="24" y="410"/>
                  </a:lnTo>
                  <a:lnTo>
                    <a:pt x="380" y="410"/>
                  </a:lnTo>
                  <a:lnTo>
                    <a:pt x="380" y="410"/>
                  </a:lnTo>
                  <a:lnTo>
                    <a:pt x="378" y="328"/>
                  </a:lnTo>
                  <a:lnTo>
                    <a:pt x="376" y="244"/>
                  </a:lnTo>
                  <a:lnTo>
                    <a:pt x="374" y="162"/>
                  </a:lnTo>
                  <a:lnTo>
                    <a:pt x="374" y="122"/>
                  </a:lnTo>
                  <a:lnTo>
                    <a:pt x="376" y="82"/>
                  </a:lnTo>
                  <a:lnTo>
                    <a:pt x="376" y="82"/>
                  </a:lnTo>
                  <a:close/>
                </a:path>
              </a:pathLst>
            </a:custGeom>
            <a:solidFill>
              <a:srgbClr val="46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5183280" y="9240840"/>
              <a:ext cx="666720" cy="5968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20" h="376">
                  <a:moveTo>
                    <a:pt x="408" y="60"/>
                  </a:moveTo>
                  <a:lnTo>
                    <a:pt x="350" y="0"/>
                  </a:lnTo>
                  <a:lnTo>
                    <a:pt x="350" y="0"/>
                  </a:lnTo>
                  <a:lnTo>
                    <a:pt x="264" y="12"/>
                  </a:lnTo>
                  <a:lnTo>
                    <a:pt x="174" y="24"/>
                  </a:lnTo>
                  <a:lnTo>
                    <a:pt x="84" y="32"/>
                  </a:lnTo>
                  <a:lnTo>
                    <a:pt x="4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76"/>
                  </a:lnTo>
                  <a:lnTo>
                    <a:pt x="10" y="118"/>
                  </a:lnTo>
                  <a:lnTo>
                    <a:pt x="14" y="202"/>
                  </a:lnTo>
                  <a:lnTo>
                    <a:pt x="18" y="288"/>
                  </a:lnTo>
                  <a:lnTo>
                    <a:pt x="20" y="376"/>
                  </a:lnTo>
                  <a:lnTo>
                    <a:pt x="414" y="376"/>
                  </a:lnTo>
                  <a:lnTo>
                    <a:pt x="414" y="376"/>
                  </a:lnTo>
                  <a:lnTo>
                    <a:pt x="418" y="336"/>
                  </a:lnTo>
                  <a:lnTo>
                    <a:pt x="420" y="296"/>
                  </a:lnTo>
                  <a:lnTo>
                    <a:pt x="420" y="216"/>
                  </a:lnTo>
                  <a:lnTo>
                    <a:pt x="416" y="136"/>
                  </a:lnTo>
                  <a:lnTo>
                    <a:pt x="408" y="60"/>
                  </a:lnTo>
                  <a:lnTo>
                    <a:pt x="408" y="60"/>
                  </a:lnTo>
                  <a:close/>
                </a:path>
              </a:pathLst>
            </a:custGeom>
            <a:solidFill>
              <a:srgbClr val="46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623880" y="2516040"/>
              <a:ext cx="3314880" cy="7321680"/>
            </a:xfrm>
            <a:custGeom>
              <a:avLst/>
              <a:gdLst>
                <a:gd name="textAreaLeft" fmla="*/ 0 w 3314880"/>
                <a:gd name="textAreaRight" fmla="*/ 3315240 w 3314880"/>
                <a:gd name="textAreaTop" fmla="*/ 0 h 7321680"/>
                <a:gd name="textAreaBottom" fmla="*/ 7322040 h 7321680"/>
              </a:gdLst>
              <a:ahLst/>
              <a:rect l="textAreaLeft" t="textAreaTop" r="textAreaRight" b="textAreaBottom"/>
              <a:pathLst>
                <a:path w="2088" h="4612">
                  <a:moveTo>
                    <a:pt x="662" y="4600"/>
                  </a:moveTo>
                  <a:lnTo>
                    <a:pt x="662" y="4600"/>
                  </a:lnTo>
                  <a:lnTo>
                    <a:pt x="654" y="4574"/>
                  </a:lnTo>
                  <a:lnTo>
                    <a:pt x="652" y="4568"/>
                  </a:lnTo>
                  <a:lnTo>
                    <a:pt x="648" y="4562"/>
                  </a:lnTo>
                  <a:lnTo>
                    <a:pt x="644" y="4558"/>
                  </a:lnTo>
                  <a:lnTo>
                    <a:pt x="636" y="4556"/>
                  </a:lnTo>
                  <a:lnTo>
                    <a:pt x="636" y="4556"/>
                  </a:lnTo>
                  <a:lnTo>
                    <a:pt x="632" y="4426"/>
                  </a:lnTo>
                  <a:lnTo>
                    <a:pt x="628" y="4300"/>
                  </a:lnTo>
                  <a:lnTo>
                    <a:pt x="624" y="4052"/>
                  </a:lnTo>
                  <a:lnTo>
                    <a:pt x="622" y="3930"/>
                  </a:lnTo>
                  <a:lnTo>
                    <a:pt x="616" y="3808"/>
                  </a:lnTo>
                  <a:lnTo>
                    <a:pt x="608" y="3684"/>
                  </a:lnTo>
                  <a:lnTo>
                    <a:pt x="602" y="3622"/>
                  </a:lnTo>
                  <a:lnTo>
                    <a:pt x="594" y="3558"/>
                  </a:lnTo>
                  <a:lnTo>
                    <a:pt x="594" y="3558"/>
                  </a:lnTo>
                  <a:lnTo>
                    <a:pt x="592" y="3502"/>
                  </a:lnTo>
                  <a:lnTo>
                    <a:pt x="588" y="3448"/>
                  </a:lnTo>
                  <a:lnTo>
                    <a:pt x="576" y="3340"/>
                  </a:lnTo>
                  <a:lnTo>
                    <a:pt x="570" y="3286"/>
                  </a:lnTo>
                  <a:lnTo>
                    <a:pt x="564" y="3232"/>
                  </a:lnTo>
                  <a:lnTo>
                    <a:pt x="560" y="3176"/>
                  </a:lnTo>
                  <a:lnTo>
                    <a:pt x="560" y="3120"/>
                  </a:lnTo>
                  <a:lnTo>
                    <a:pt x="560" y="3120"/>
                  </a:lnTo>
                  <a:lnTo>
                    <a:pt x="608" y="3070"/>
                  </a:lnTo>
                  <a:lnTo>
                    <a:pt x="654" y="3018"/>
                  </a:lnTo>
                  <a:lnTo>
                    <a:pt x="676" y="2992"/>
                  </a:lnTo>
                  <a:lnTo>
                    <a:pt x="698" y="2964"/>
                  </a:lnTo>
                  <a:lnTo>
                    <a:pt x="718" y="2936"/>
                  </a:lnTo>
                  <a:lnTo>
                    <a:pt x="736" y="2908"/>
                  </a:lnTo>
                  <a:lnTo>
                    <a:pt x="734" y="2886"/>
                  </a:lnTo>
                  <a:lnTo>
                    <a:pt x="734" y="2886"/>
                  </a:lnTo>
                  <a:lnTo>
                    <a:pt x="742" y="2886"/>
                  </a:lnTo>
                  <a:lnTo>
                    <a:pt x="748" y="2884"/>
                  </a:lnTo>
                  <a:lnTo>
                    <a:pt x="754" y="2880"/>
                  </a:lnTo>
                  <a:lnTo>
                    <a:pt x="758" y="2874"/>
                  </a:lnTo>
                  <a:lnTo>
                    <a:pt x="754" y="2748"/>
                  </a:lnTo>
                  <a:lnTo>
                    <a:pt x="754" y="2748"/>
                  </a:lnTo>
                  <a:lnTo>
                    <a:pt x="798" y="2740"/>
                  </a:lnTo>
                  <a:lnTo>
                    <a:pt x="814" y="2876"/>
                  </a:lnTo>
                  <a:lnTo>
                    <a:pt x="814" y="2876"/>
                  </a:lnTo>
                  <a:lnTo>
                    <a:pt x="824" y="2882"/>
                  </a:lnTo>
                  <a:lnTo>
                    <a:pt x="834" y="2886"/>
                  </a:lnTo>
                  <a:lnTo>
                    <a:pt x="858" y="2890"/>
                  </a:lnTo>
                  <a:lnTo>
                    <a:pt x="858" y="2890"/>
                  </a:lnTo>
                  <a:lnTo>
                    <a:pt x="860" y="2886"/>
                  </a:lnTo>
                  <a:lnTo>
                    <a:pt x="864" y="2884"/>
                  </a:lnTo>
                  <a:lnTo>
                    <a:pt x="870" y="2882"/>
                  </a:lnTo>
                  <a:lnTo>
                    <a:pt x="876" y="2884"/>
                  </a:lnTo>
                  <a:lnTo>
                    <a:pt x="884" y="2886"/>
                  </a:lnTo>
                  <a:lnTo>
                    <a:pt x="884" y="2886"/>
                  </a:lnTo>
                  <a:lnTo>
                    <a:pt x="894" y="2880"/>
                  </a:lnTo>
                  <a:lnTo>
                    <a:pt x="904" y="2878"/>
                  </a:lnTo>
                  <a:lnTo>
                    <a:pt x="912" y="2878"/>
                  </a:lnTo>
                  <a:lnTo>
                    <a:pt x="920" y="2878"/>
                  </a:lnTo>
                  <a:lnTo>
                    <a:pt x="938" y="2882"/>
                  </a:lnTo>
                  <a:lnTo>
                    <a:pt x="954" y="2890"/>
                  </a:lnTo>
                  <a:lnTo>
                    <a:pt x="970" y="2898"/>
                  </a:lnTo>
                  <a:lnTo>
                    <a:pt x="986" y="2904"/>
                  </a:lnTo>
                  <a:lnTo>
                    <a:pt x="1004" y="2908"/>
                  </a:lnTo>
                  <a:lnTo>
                    <a:pt x="1014" y="2908"/>
                  </a:lnTo>
                  <a:lnTo>
                    <a:pt x="1024" y="2908"/>
                  </a:lnTo>
                  <a:lnTo>
                    <a:pt x="1024" y="2908"/>
                  </a:lnTo>
                  <a:lnTo>
                    <a:pt x="1052" y="2904"/>
                  </a:lnTo>
                  <a:lnTo>
                    <a:pt x="1082" y="2902"/>
                  </a:lnTo>
                  <a:lnTo>
                    <a:pt x="1142" y="2896"/>
                  </a:lnTo>
                  <a:lnTo>
                    <a:pt x="1172" y="2892"/>
                  </a:lnTo>
                  <a:lnTo>
                    <a:pt x="1200" y="2886"/>
                  </a:lnTo>
                  <a:lnTo>
                    <a:pt x="1214" y="2880"/>
                  </a:lnTo>
                  <a:lnTo>
                    <a:pt x="1228" y="2874"/>
                  </a:lnTo>
                  <a:lnTo>
                    <a:pt x="1240" y="2868"/>
                  </a:lnTo>
                  <a:lnTo>
                    <a:pt x="1252" y="2860"/>
                  </a:lnTo>
                  <a:lnTo>
                    <a:pt x="1252" y="2860"/>
                  </a:lnTo>
                  <a:lnTo>
                    <a:pt x="1268" y="2862"/>
                  </a:lnTo>
                  <a:lnTo>
                    <a:pt x="1284" y="2864"/>
                  </a:lnTo>
                  <a:lnTo>
                    <a:pt x="1316" y="2862"/>
                  </a:lnTo>
                  <a:lnTo>
                    <a:pt x="1332" y="2860"/>
                  </a:lnTo>
                  <a:lnTo>
                    <a:pt x="1348" y="2862"/>
                  </a:lnTo>
                  <a:lnTo>
                    <a:pt x="1362" y="2864"/>
                  </a:lnTo>
                  <a:lnTo>
                    <a:pt x="1376" y="2872"/>
                  </a:lnTo>
                  <a:lnTo>
                    <a:pt x="1376" y="2872"/>
                  </a:lnTo>
                  <a:lnTo>
                    <a:pt x="1384" y="2868"/>
                  </a:lnTo>
                  <a:lnTo>
                    <a:pt x="1390" y="2864"/>
                  </a:lnTo>
                  <a:lnTo>
                    <a:pt x="1396" y="2860"/>
                  </a:lnTo>
                  <a:lnTo>
                    <a:pt x="1398" y="2856"/>
                  </a:lnTo>
                  <a:lnTo>
                    <a:pt x="1398" y="2852"/>
                  </a:lnTo>
                  <a:lnTo>
                    <a:pt x="1398" y="2852"/>
                  </a:lnTo>
                  <a:lnTo>
                    <a:pt x="1394" y="2834"/>
                  </a:lnTo>
                  <a:lnTo>
                    <a:pt x="1394" y="2816"/>
                  </a:lnTo>
                  <a:lnTo>
                    <a:pt x="1398" y="2782"/>
                  </a:lnTo>
                  <a:lnTo>
                    <a:pt x="1400" y="2766"/>
                  </a:lnTo>
                  <a:lnTo>
                    <a:pt x="1400" y="2748"/>
                  </a:lnTo>
                  <a:lnTo>
                    <a:pt x="1398" y="2732"/>
                  </a:lnTo>
                  <a:lnTo>
                    <a:pt x="1390" y="2716"/>
                  </a:lnTo>
                  <a:lnTo>
                    <a:pt x="1390" y="2716"/>
                  </a:lnTo>
                  <a:lnTo>
                    <a:pt x="1406" y="2716"/>
                  </a:lnTo>
                  <a:lnTo>
                    <a:pt x="1422" y="2714"/>
                  </a:lnTo>
                  <a:lnTo>
                    <a:pt x="1458" y="2710"/>
                  </a:lnTo>
                  <a:lnTo>
                    <a:pt x="1458" y="2710"/>
                  </a:lnTo>
                  <a:lnTo>
                    <a:pt x="1462" y="2730"/>
                  </a:lnTo>
                  <a:lnTo>
                    <a:pt x="1462" y="2750"/>
                  </a:lnTo>
                  <a:lnTo>
                    <a:pt x="1462" y="2788"/>
                  </a:lnTo>
                  <a:lnTo>
                    <a:pt x="1462" y="2806"/>
                  </a:lnTo>
                  <a:lnTo>
                    <a:pt x="1464" y="2824"/>
                  </a:lnTo>
                  <a:lnTo>
                    <a:pt x="1472" y="2840"/>
                  </a:lnTo>
                  <a:lnTo>
                    <a:pt x="1476" y="2848"/>
                  </a:lnTo>
                  <a:lnTo>
                    <a:pt x="1482" y="2856"/>
                  </a:lnTo>
                  <a:lnTo>
                    <a:pt x="1482" y="2856"/>
                  </a:lnTo>
                  <a:lnTo>
                    <a:pt x="1494" y="2860"/>
                  </a:lnTo>
                  <a:lnTo>
                    <a:pt x="1502" y="2866"/>
                  </a:lnTo>
                  <a:lnTo>
                    <a:pt x="1508" y="2876"/>
                  </a:lnTo>
                  <a:lnTo>
                    <a:pt x="1512" y="2886"/>
                  </a:lnTo>
                  <a:lnTo>
                    <a:pt x="1518" y="2912"/>
                  </a:lnTo>
                  <a:lnTo>
                    <a:pt x="1524" y="2924"/>
                  </a:lnTo>
                  <a:lnTo>
                    <a:pt x="1530" y="2934"/>
                  </a:lnTo>
                  <a:lnTo>
                    <a:pt x="1530" y="2934"/>
                  </a:lnTo>
                  <a:lnTo>
                    <a:pt x="1548" y="2950"/>
                  </a:lnTo>
                  <a:lnTo>
                    <a:pt x="1562" y="2968"/>
                  </a:lnTo>
                  <a:lnTo>
                    <a:pt x="1592" y="3004"/>
                  </a:lnTo>
                  <a:lnTo>
                    <a:pt x="1606" y="3022"/>
                  </a:lnTo>
                  <a:lnTo>
                    <a:pt x="1622" y="3038"/>
                  </a:lnTo>
                  <a:lnTo>
                    <a:pt x="1642" y="3050"/>
                  </a:lnTo>
                  <a:lnTo>
                    <a:pt x="1662" y="3060"/>
                  </a:lnTo>
                  <a:lnTo>
                    <a:pt x="1696" y="3068"/>
                  </a:lnTo>
                  <a:lnTo>
                    <a:pt x="1696" y="3068"/>
                  </a:lnTo>
                  <a:lnTo>
                    <a:pt x="1710" y="3282"/>
                  </a:lnTo>
                  <a:lnTo>
                    <a:pt x="1720" y="3388"/>
                  </a:lnTo>
                  <a:lnTo>
                    <a:pt x="1732" y="3496"/>
                  </a:lnTo>
                  <a:lnTo>
                    <a:pt x="1744" y="3604"/>
                  </a:lnTo>
                  <a:lnTo>
                    <a:pt x="1758" y="3710"/>
                  </a:lnTo>
                  <a:lnTo>
                    <a:pt x="1776" y="3814"/>
                  </a:lnTo>
                  <a:lnTo>
                    <a:pt x="1796" y="3916"/>
                  </a:lnTo>
                  <a:lnTo>
                    <a:pt x="1796" y="3916"/>
                  </a:lnTo>
                  <a:lnTo>
                    <a:pt x="1802" y="3952"/>
                  </a:lnTo>
                  <a:lnTo>
                    <a:pt x="1806" y="3988"/>
                  </a:lnTo>
                  <a:lnTo>
                    <a:pt x="1814" y="4052"/>
                  </a:lnTo>
                  <a:lnTo>
                    <a:pt x="1822" y="4116"/>
                  </a:lnTo>
                  <a:lnTo>
                    <a:pt x="1826" y="4150"/>
                  </a:lnTo>
                  <a:lnTo>
                    <a:pt x="1834" y="4188"/>
                  </a:lnTo>
                  <a:lnTo>
                    <a:pt x="1834" y="4188"/>
                  </a:lnTo>
                  <a:lnTo>
                    <a:pt x="1830" y="4212"/>
                  </a:lnTo>
                  <a:lnTo>
                    <a:pt x="1828" y="4238"/>
                  </a:lnTo>
                  <a:lnTo>
                    <a:pt x="1828" y="4290"/>
                  </a:lnTo>
                  <a:lnTo>
                    <a:pt x="1832" y="4394"/>
                  </a:lnTo>
                  <a:lnTo>
                    <a:pt x="1832" y="4420"/>
                  </a:lnTo>
                  <a:lnTo>
                    <a:pt x="1830" y="4446"/>
                  </a:lnTo>
                  <a:lnTo>
                    <a:pt x="1828" y="4470"/>
                  </a:lnTo>
                  <a:lnTo>
                    <a:pt x="1822" y="4494"/>
                  </a:lnTo>
                  <a:lnTo>
                    <a:pt x="1816" y="4518"/>
                  </a:lnTo>
                  <a:lnTo>
                    <a:pt x="1808" y="4540"/>
                  </a:lnTo>
                  <a:lnTo>
                    <a:pt x="1796" y="4562"/>
                  </a:lnTo>
                  <a:lnTo>
                    <a:pt x="1780" y="4582"/>
                  </a:lnTo>
                  <a:lnTo>
                    <a:pt x="1780" y="4582"/>
                  </a:lnTo>
                  <a:lnTo>
                    <a:pt x="1730" y="4612"/>
                  </a:lnTo>
                  <a:lnTo>
                    <a:pt x="1870" y="4612"/>
                  </a:lnTo>
                  <a:lnTo>
                    <a:pt x="1870" y="4612"/>
                  </a:lnTo>
                  <a:lnTo>
                    <a:pt x="1876" y="4574"/>
                  </a:lnTo>
                  <a:lnTo>
                    <a:pt x="1876" y="4574"/>
                  </a:lnTo>
                  <a:lnTo>
                    <a:pt x="1874" y="4558"/>
                  </a:lnTo>
                  <a:lnTo>
                    <a:pt x="1876" y="4540"/>
                  </a:lnTo>
                  <a:lnTo>
                    <a:pt x="1880" y="4524"/>
                  </a:lnTo>
                  <a:lnTo>
                    <a:pt x="1886" y="4508"/>
                  </a:lnTo>
                  <a:lnTo>
                    <a:pt x="1900" y="4476"/>
                  </a:lnTo>
                  <a:lnTo>
                    <a:pt x="1914" y="4446"/>
                  </a:lnTo>
                  <a:lnTo>
                    <a:pt x="1914" y="4446"/>
                  </a:lnTo>
                  <a:lnTo>
                    <a:pt x="1912" y="4388"/>
                  </a:lnTo>
                  <a:lnTo>
                    <a:pt x="1908" y="4332"/>
                  </a:lnTo>
                  <a:lnTo>
                    <a:pt x="1902" y="4278"/>
                  </a:lnTo>
                  <a:lnTo>
                    <a:pt x="1894" y="4222"/>
                  </a:lnTo>
                  <a:lnTo>
                    <a:pt x="1886" y="4168"/>
                  </a:lnTo>
                  <a:lnTo>
                    <a:pt x="1880" y="4114"/>
                  </a:lnTo>
                  <a:lnTo>
                    <a:pt x="1876" y="4058"/>
                  </a:lnTo>
                  <a:lnTo>
                    <a:pt x="1874" y="3998"/>
                  </a:lnTo>
                  <a:lnTo>
                    <a:pt x="1874" y="3998"/>
                  </a:lnTo>
                  <a:lnTo>
                    <a:pt x="1860" y="3928"/>
                  </a:lnTo>
                  <a:lnTo>
                    <a:pt x="1848" y="3858"/>
                  </a:lnTo>
                  <a:lnTo>
                    <a:pt x="1824" y="3714"/>
                  </a:lnTo>
                  <a:lnTo>
                    <a:pt x="1806" y="3570"/>
                  </a:lnTo>
                  <a:lnTo>
                    <a:pt x="1790" y="3424"/>
                  </a:lnTo>
                  <a:lnTo>
                    <a:pt x="1776" y="3278"/>
                  </a:lnTo>
                  <a:lnTo>
                    <a:pt x="1764" y="3134"/>
                  </a:lnTo>
                  <a:lnTo>
                    <a:pt x="1742" y="2848"/>
                  </a:lnTo>
                  <a:lnTo>
                    <a:pt x="1742" y="2848"/>
                  </a:lnTo>
                  <a:lnTo>
                    <a:pt x="1734" y="2826"/>
                  </a:lnTo>
                  <a:lnTo>
                    <a:pt x="1730" y="2806"/>
                  </a:lnTo>
                  <a:lnTo>
                    <a:pt x="1728" y="2784"/>
                  </a:lnTo>
                  <a:lnTo>
                    <a:pt x="1728" y="2762"/>
                  </a:lnTo>
                  <a:lnTo>
                    <a:pt x="1726" y="2718"/>
                  </a:lnTo>
                  <a:lnTo>
                    <a:pt x="1722" y="2696"/>
                  </a:lnTo>
                  <a:lnTo>
                    <a:pt x="1718" y="2678"/>
                  </a:lnTo>
                  <a:lnTo>
                    <a:pt x="1718" y="2678"/>
                  </a:lnTo>
                  <a:lnTo>
                    <a:pt x="1728" y="2652"/>
                  </a:lnTo>
                  <a:lnTo>
                    <a:pt x="1740" y="2628"/>
                  </a:lnTo>
                  <a:lnTo>
                    <a:pt x="1754" y="2604"/>
                  </a:lnTo>
                  <a:lnTo>
                    <a:pt x="1772" y="2580"/>
                  </a:lnTo>
                  <a:lnTo>
                    <a:pt x="1792" y="2560"/>
                  </a:lnTo>
                  <a:lnTo>
                    <a:pt x="1814" y="2542"/>
                  </a:lnTo>
                  <a:lnTo>
                    <a:pt x="1838" y="2530"/>
                  </a:lnTo>
                  <a:lnTo>
                    <a:pt x="1852" y="2524"/>
                  </a:lnTo>
                  <a:lnTo>
                    <a:pt x="1864" y="2520"/>
                  </a:lnTo>
                  <a:lnTo>
                    <a:pt x="1864" y="2520"/>
                  </a:lnTo>
                  <a:lnTo>
                    <a:pt x="1892" y="2506"/>
                  </a:lnTo>
                  <a:lnTo>
                    <a:pt x="1918" y="2490"/>
                  </a:lnTo>
                  <a:lnTo>
                    <a:pt x="1974" y="2464"/>
                  </a:lnTo>
                  <a:lnTo>
                    <a:pt x="2000" y="2448"/>
                  </a:lnTo>
                  <a:lnTo>
                    <a:pt x="2026" y="2432"/>
                  </a:lnTo>
                  <a:lnTo>
                    <a:pt x="2050" y="2414"/>
                  </a:lnTo>
                  <a:lnTo>
                    <a:pt x="2074" y="2394"/>
                  </a:lnTo>
                  <a:lnTo>
                    <a:pt x="2088" y="2330"/>
                  </a:lnTo>
                  <a:lnTo>
                    <a:pt x="2088" y="2330"/>
                  </a:lnTo>
                  <a:lnTo>
                    <a:pt x="2076" y="2292"/>
                  </a:lnTo>
                  <a:lnTo>
                    <a:pt x="2068" y="2252"/>
                  </a:lnTo>
                  <a:lnTo>
                    <a:pt x="2060" y="2212"/>
                  </a:lnTo>
                  <a:lnTo>
                    <a:pt x="2054" y="2172"/>
                  </a:lnTo>
                  <a:lnTo>
                    <a:pt x="2042" y="2092"/>
                  </a:lnTo>
                  <a:lnTo>
                    <a:pt x="2032" y="2052"/>
                  </a:lnTo>
                  <a:lnTo>
                    <a:pt x="2022" y="2014"/>
                  </a:lnTo>
                  <a:lnTo>
                    <a:pt x="2022" y="2014"/>
                  </a:lnTo>
                  <a:lnTo>
                    <a:pt x="2004" y="1992"/>
                  </a:lnTo>
                  <a:lnTo>
                    <a:pt x="1988" y="1970"/>
                  </a:lnTo>
                  <a:lnTo>
                    <a:pt x="1974" y="1948"/>
                  </a:lnTo>
                  <a:lnTo>
                    <a:pt x="1962" y="1924"/>
                  </a:lnTo>
                  <a:lnTo>
                    <a:pt x="1938" y="1876"/>
                  </a:lnTo>
                  <a:lnTo>
                    <a:pt x="1920" y="1824"/>
                  </a:lnTo>
                  <a:lnTo>
                    <a:pt x="1902" y="1774"/>
                  </a:lnTo>
                  <a:lnTo>
                    <a:pt x="1882" y="1722"/>
                  </a:lnTo>
                  <a:lnTo>
                    <a:pt x="1860" y="1672"/>
                  </a:lnTo>
                  <a:lnTo>
                    <a:pt x="1848" y="1648"/>
                  </a:lnTo>
                  <a:lnTo>
                    <a:pt x="1836" y="1624"/>
                  </a:lnTo>
                  <a:lnTo>
                    <a:pt x="1836" y="1624"/>
                  </a:lnTo>
                  <a:lnTo>
                    <a:pt x="1812" y="1586"/>
                  </a:lnTo>
                  <a:lnTo>
                    <a:pt x="1800" y="1566"/>
                  </a:lnTo>
                  <a:lnTo>
                    <a:pt x="1786" y="1548"/>
                  </a:lnTo>
                  <a:lnTo>
                    <a:pt x="1772" y="1530"/>
                  </a:lnTo>
                  <a:lnTo>
                    <a:pt x="1756" y="1514"/>
                  </a:lnTo>
                  <a:lnTo>
                    <a:pt x="1746" y="1508"/>
                  </a:lnTo>
                  <a:lnTo>
                    <a:pt x="1736" y="1502"/>
                  </a:lnTo>
                  <a:lnTo>
                    <a:pt x="1726" y="1498"/>
                  </a:lnTo>
                  <a:lnTo>
                    <a:pt x="1714" y="1496"/>
                  </a:lnTo>
                  <a:lnTo>
                    <a:pt x="1714" y="1496"/>
                  </a:lnTo>
                  <a:lnTo>
                    <a:pt x="1676" y="1494"/>
                  </a:lnTo>
                  <a:lnTo>
                    <a:pt x="1640" y="1492"/>
                  </a:lnTo>
                  <a:lnTo>
                    <a:pt x="1604" y="1486"/>
                  </a:lnTo>
                  <a:lnTo>
                    <a:pt x="1568" y="1478"/>
                  </a:lnTo>
                  <a:lnTo>
                    <a:pt x="1536" y="1464"/>
                  </a:lnTo>
                  <a:lnTo>
                    <a:pt x="1520" y="1456"/>
                  </a:lnTo>
                  <a:lnTo>
                    <a:pt x="1506" y="1448"/>
                  </a:lnTo>
                  <a:lnTo>
                    <a:pt x="1492" y="1438"/>
                  </a:lnTo>
                  <a:lnTo>
                    <a:pt x="1478" y="1426"/>
                  </a:lnTo>
                  <a:lnTo>
                    <a:pt x="1464" y="1412"/>
                  </a:lnTo>
                  <a:lnTo>
                    <a:pt x="1454" y="1398"/>
                  </a:lnTo>
                  <a:lnTo>
                    <a:pt x="1454" y="1398"/>
                  </a:lnTo>
                  <a:lnTo>
                    <a:pt x="1444" y="1374"/>
                  </a:lnTo>
                  <a:lnTo>
                    <a:pt x="1432" y="1352"/>
                  </a:lnTo>
                  <a:lnTo>
                    <a:pt x="1420" y="1328"/>
                  </a:lnTo>
                  <a:lnTo>
                    <a:pt x="1404" y="1306"/>
                  </a:lnTo>
                  <a:lnTo>
                    <a:pt x="1404" y="1306"/>
                  </a:lnTo>
                  <a:lnTo>
                    <a:pt x="1402" y="1294"/>
                  </a:lnTo>
                  <a:lnTo>
                    <a:pt x="1404" y="1280"/>
                  </a:lnTo>
                  <a:lnTo>
                    <a:pt x="1406" y="1268"/>
                  </a:lnTo>
                  <a:lnTo>
                    <a:pt x="1412" y="1256"/>
                  </a:lnTo>
                  <a:lnTo>
                    <a:pt x="1422" y="1230"/>
                  </a:lnTo>
                  <a:lnTo>
                    <a:pt x="1426" y="1218"/>
                  </a:lnTo>
                  <a:lnTo>
                    <a:pt x="1428" y="1204"/>
                  </a:lnTo>
                  <a:lnTo>
                    <a:pt x="1428" y="1204"/>
                  </a:lnTo>
                  <a:lnTo>
                    <a:pt x="1434" y="1190"/>
                  </a:lnTo>
                  <a:lnTo>
                    <a:pt x="1438" y="1174"/>
                  </a:lnTo>
                  <a:lnTo>
                    <a:pt x="1438" y="1160"/>
                  </a:lnTo>
                  <a:lnTo>
                    <a:pt x="1438" y="1144"/>
                  </a:lnTo>
                  <a:lnTo>
                    <a:pt x="1434" y="1116"/>
                  </a:lnTo>
                  <a:lnTo>
                    <a:pt x="1426" y="1086"/>
                  </a:lnTo>
                  <a:lnTo>
                    <a:pt x="1418" y="1056"/>
                  </a:lnTo>
                  <a:lnTo>
                    <a:pt x="1414" y="1026"/>
                  </a:lnTo>
                  <a:lnTo>
                    <a:pt x="1414" y="1012"/>
                  </a:lnTo>
                  <a:lnTo>
                    <a:pt x="1414" y="996"/>
                  </a:lnTo>
                  <a:lnTo>
                    <a:pt x="1416" y="980"/>
                  </a:lnTo>
                  <a:lnTo>
                    <a:pt x="1422" y="962"/>
                  </a:lnTo>
                  <a:lnTo>
                    <a:pt x="1422" y="962"/>
                  </a:lnTo>
                  <a:lnTo>
                    <a:pt x="1426" y="956"/>
                  </a:lnTo>
                  <a:lnTo>
                    <a:pt x="1432" y="950"/>
                  </a:lnTo>
                  <a:lnTo>
                    <a:pt x="1448" y="938"/>
                  </a:lnTo>
                  <a:lnTo>
                    <a:pt x="1466" y="930"/>
                  </a:lnTo>
                  <a:lnTo>
                    <a:pt x="1482" y="922"/>
                  </a:lnTo>
                  <a:lnTo>
                    <a:pt x="1482" y="922"/>
                  </a:lnTo>
                  <a:lnTo>
                    <a:pt x="1498" y="902"/>
                  </a:lnTo>
                  <a:lnTo>
                    <a:pt x="1512" y="882"/>
                  </a:lnTo>
                  <a:lnTo>
                    <a:pt x="1526" y="860"/>
                  </a:lnTo>
                  <a:lnTo>
                    <a:pt x="1536" y="836"/>
                  </a:lnTo>
                  <a:lnTo>
                    <a:pt x="1544" y="812"/>
                  </a:lnTo>
                  <a:lnTo>
                    <a:pt x="1550" y="788"/>
                  </a:lnTo>
                  <a:lnTo>
                    <a:pt x="1552" y="764"/>
                  </a:lnTo>
                  <a:lnTo>
                    <a:pt x="1552" y="738"/>
                  </a:lnTo>
                  <a:lnTo>
                    <a:pt x="1552" y="738"/>
                  </a:lnTo>
                  <a:lnTo>
                    <a:pt x="1548" y="714"/>
                  </a:lnTo>
                  <a:lnTo>
                    <a:pt x="1540" y="688"/>
                  </a:lnTo>
                  <a:lnTo>
                    <a:pt x="1530" y="666"/>
                  </a:lnTo>
                  <a:lnTo>
                    <a:pt x="1518" y="642"/>
                  </a:lnTo>
                  <a:lnTo>
                    <a:pt x="1502" y="622"/>
                  </a:lnTo>
                  <a:lnTo>
                    <a:pt x="1484" y="604"/>
                  </a:lnTo>
                  <a:lnTo>
                    <a:pt x="1474" y="598"/>
                  </a:lnTo>
                  <a:lnTo>
                    <a:pt x="1464" y="590"/>
                  </a:lnTo>
                  <a:lnTo>
                    <a:pt x="1454" y="586"/>
                  </a:lnTo>
                  <a:lnTo>
                    <a:pt x="1440" y="580"/>
                  </a:lnTo>
                  <a:lnTo>
                    <a:pt x="1440" y="580"/>
                  </a:lnTo>
                  <a:lnTo>
                    <a:pt x="1448" y="574"/>
                  </a:lnTo>
                  <a:lnTo>
                    <a:pt x="1456" y="564"/>
                  </a:lnTo>
                  <a:lnTo>
                    <a:pt x="1458" y="552"/>
                  </a:lnTo>
                  <a:lnTo>
                    <a:pt x="1460" y="546"/>
                  </a:lnTo>
                  <a:lnTo>
                    <a:pt x="1458" y="540"/>
                  </a:lnTo>
                  <a:lnTo>
                    <a:pt x="1458" y="540"/>
                  </a:lnTo>
                  <a:lnTo>
                    <a:pt x="1456" y="532"/>
                  </a:lnTo>
                  <a:lnTo>
                    <a:pt x="1452" y="528"/>
                  </a:lnTo>
                  <a:lnTo>
                    <a:pt x="1446" y="526"/>
                  </a:lnTo>
                  <a:lnTo>
                    <a:pt x="1440" y="526"/>
                  </a:lnTo>
                  <a:lnTo>
                    <a:pt x="1428" y="528"/>
                  </a:lnTo>
                  <a:lnTo>
                    <a:pt x="1420" y="530"/>
                  </a:lnTo>
                  <a:lnTo>
                    <a:pt x="1408" y="436"/>
                  </a:lnTo>
                  <a:lnTo>
                    <a:pt x="1408" y="436"/>
                  </a:lnTo>
                  <a:lnTo>
                    <a:pt x="1406" y="390"/>
                  </a:lnTo>
                  <a:lnTo>
                    <a:pt x="1398" y="346"/>
                  </a:lnTo>
                  <a:lnTo>
                    <a:pt x="1394" y="324"/>
                  </a:lnTo>
                  <a:lnTo>
                    <a:pt x="1388" y="302"/>
                  </a:lnTo>
                  <a:lnTo>
                    <a:pt x="1380" y="280"/>
                  </a:lnTo>
                  <a:lnTo>
                    <a:pt x="1372" y="260"/>
                  </a:lnTo>
                  <a:lnTo>
                    <a:pt x="1362" y="238"/>
                  </a:lnTo>
                  <a:lnTo>
                    <a:pt x="1350" y="218"/>
                  </a:lnTo>
                  <a:lnTo>
                    <a:pt x="1338" y="200"/>
                  </a:lnTo>
                  <a:lnTo>
                    <a:pt x="1324" y="182"/>
                  </a:lnTo>
                  <a:lnTo>
                    <a:pt x="1310" y="164"/>
                  </a:lnTo>
                  <a:lnTo>
                    <a:pt x="1294" y="148"/>
                  </a:lnTo>
                  <a:lnTo>
                    <a:pt x="1276" y="132"/>
                  </a:lnTo>
                  <a:lnTo>
                    <a:pt x="1258" y="118"/>
                  </a:lnTo>
                  <a:lnTo>
                    <a:pt x="1192" y="88"/>
                  </a:lnTo>
                  <a:lnTo>
                    <a:pt x="1192" y="88"/>
                  </a:lnTo>
                  <a:lnTo>
                    <a:pt x="1148" y="70"/>
                  </a:lnTo>
                  <a:lnTo>
                    <a:pt x="1102" y="52"/>
                  </a:lnTo>
                  <a:lnTo>
                    <a:pt x="1056" y="36"/>
                  </a:lnTo>
                  <a:lnTo>
                    <a:pt x="1010" y="20"/>
                  </a:lnTo>
                  <a:lnTo>
                    <a:pt x="964" y="8"/>
                  </a:lnTo>
                  <a:lnTo>
                    <a:pt x="940" y="4"/>
                  </a:lnTo>
                  <a:lnTo>
                    <a:pt x="916" y="0"/>
                  </a:lnTo>
                  <a:lnTo>
                    <a:pt x="892" y="0"/>
                  </a:lnTo>
                  <a:lnTo>
                    <a:pt x="868" y="0"/>
                  </a:lnTo>
                  <a:lnTo>
                    <a:pt x="844" y="4"/>
                  </a:lnTo>
                  <a:lnTo>
                    <a:pt x="818" y="10"/>
                  </a:lnTo>
                  <a:lnTo>
                    <a:pt x="818" y="10"/>
                  </a:lnTo>
                  <a:lnTo>
                    <a:pt x="736" y="48"/>
                  </a:lnTo>
                  <a:lnTo>
                    <a:pt x="656" y="92"/>
                  </a:lnTo>
                  <a:lnTo>
                    <a:pt x="616" y="116"/>
                  </a:lnTo>
                  <a:lnTo>
                    <a:pt x="578" y="140"/>
                  </a:lnTo>
                  <a:lnTo>
                    <a:pt x="540" y="164"/>
                  </a:lnTo>
                  <a:lnTo>
                    <a:pt x="502" y="192"/>
                  </a:lnTo>
                  <a:lnTo>
                    <a:pt x="502" y="192"/>
                  </a:lnTo>
                  <a:lnTo>
                    <a:pt x="494" y="200"/>
                  </a:lnTo>
                  <a:lnTo>
                    <a:pt x="488" y="208"/>
                  </a:lnTo>
                  <a:lnTo>
                    <a:pt x="484" y="216"/>
                  </a:lnTo>
                  <a:lnTo>
                    <a:pt x="480" y="226"/>
                  </a:lnTo>
                  <a:lnTo>
                    <a:pt x="476" y="248"/>
                  </a:lnTo>
                  <a:lnTo>
                    <a:pt x="474" y="270"/>
                  </a:lnTo>
                  <a:lnTo>
                    <a:pt x="474" y="292"/>
                  </a:lnTo>
                  <a:lnTo>
                    <a:pt x="476" y="314"/>
                  </a:lnTo>
                  <a:lnTo>
                    <a:pt x="478" y="354"/>
                  </a:lnTo>
                  <a:lnTo>
                    <a:pt x="478" y="354"/>
                  </a:lnTo>
                  <a:lnTo>
                    <a:pt x="476" y="400"/>
                  </a:lnTo>
                  <a:lnTo>
                    <a:pt x="472" y="446"/>
                  </a:lnTo>
                  <a:lnTo>
                    <a:pt x="470" y="492"/>
                  </a:lnTo>
                  <a:lnTo>
                    <a:pt x="470" y="514"/>
                  </a:lnTo>
                  <a:lnTo>
                    <a:pt x="472" y="536"/>
                  </a:lnTo>
                  <a:lnTo>
                    <a:pt x="416" y="588"/>
                  </a:lnTo>
                  <a:lnTo>
                    <a:pt x="416" y="588"/>
                  </a:lnTo>
                  <a:lnTo>
                    <a:pt x="400" y="604"/>
                  </a:lnTo>
                  <a:lnTo>
                    <a:pt x="384" y="618"/>
                  </a:lnTo>
                  <a:lnTo>
                    <a:pt x="364" y="632"/>
                  </a:lnTo>
                  <a:lnTo>
                    <a:pt x="346" y="646"/>
                  </a:lnTo>
                  <a:lnTo>
                    <a:pt x="330" y="662"/>
                  </a:lnTo>
                  <a:lnTo>
                    <a:pt x="326" y="672"/>
                  </a:lnTo>
                  <a:lnTo>
                    <a:pt x="320" y="680"/>
                  </a:lnTo>
                  <a:lnTo>
                    <a:pt x="318" y="690"/>
                  </a:lnTo>
                  <a:lnTo>
                    <a:pt x="318" y="700"/>
                  </a:lnTo>
                  <a:lnTo>
                    <a:pt x="320" y="712"/>
                  </a:lnTo>
                  <a:lnTo>
                    <a:pt x="326" y="724"/>
                  </a:lnTo>
                  <a:lnTo>
                    <a:pt x="326" y="724"/>
                  </a:lnTo>
                  <a:lnTo>
                    <a:pt x="336" y="730"/>
                  </a:lnTo>
                  <a:lnTo>
                    <a:pt x="342" y="734"/>
                  </a:lnTo>
                  <a:lnTo>
                    <a:pt x="348" y="740"/>
                  </a:lnTo>
                  <a:lnTo>
                    <a:pt x="350" y="746"/>
                  </a:lnTo>
                  <a:lnTo>
                    <a:pt x="352" y="752"/>
                  </a:lnTo>
                  <a:lnTo>
                    <a:pt x="352" y="756"/>
                  </a:lnTo>
                  <a:lnTo>
                    <a:pt x="348" y="768"/>
                  </a:lnTo>
                  <a:lnTo>
                    <a:pt x="336" y="796"/>
                  </a:lnTo>
                  <a:lnTo>
                    <a:pt x="330" y="810"/>
                  </a:lnTo>
                  <a:lnTo>
                    <a:pt x="330" y="818"/>
                  </a:lnTo>
                  <a:lnTo>
                    <a:pt x="330" y="826"/>
                  </a:lnTo>
                  <a:lnTo>
                    <a:pt x="330" y="826"/>
                  </a:lnTo>
                  <a:lnTo>
                    <a:pt x="330" y="848"/>
                  </a:lnTo>
                  <a:lnTo>
                    <a:pt x="334" y="870"/>
                  </a:lnTo>
                  <a:lnTo>
                    <a:pt x="340" y="892"/>
                  </a:lnTo>
                  <a:lnTo>
                    <a:pt x="348" y="914"/>
                  </a:lnTo>
                  <a:lnTo>
                    <a:pt x="360" y="934"/>
                  </a:lnTo>
                  <a:lnTo>
                    <a:pt x="372" y="954"/>
                  </a:lnTo>
                  <a:lnTo>
                    <a:pt x="388" y="972"/>
                  </a:lnTo>
                  <a:lnTo>
                    <a:pt x="404" y="990"/>
                  </a:lnTo>
                  <a:lnTo>
                    <a:pt x="404" y="990"/>
                  </a:lnTo>
                  <a:lnTo>
                    <a:pt x="414" y="998"/>
                  </a:lnTo>
                  <a:lnTo>
                    <a:pt x="426" y="1006"/>
                  </a:lnTo>
                  <a:lnTo>
                    <a:pt x="450" y="1016"/>
                  </a:lnTo>
                  <a:lnTo>
                    <a:pt x="462" y="1022"/>
                  </a:lnTo>
                  <a:lnTo>
                    <a:pt x="472" y="1028"/>
                  </a:lnTo>
                  <a:lnTo>
                    <a:pt x="482" y="1038"/>
                  </a:lnTo>
                  <a:lnTo>
                    <a:pt x="488" y="1050"/>
                  </a:lnTo>
                  <a:lnTo>
                    <a:pt x="488" y="1050"/>
                  </a:lnTo>
                  <a:lnTo>
                    <a:pt x="490" y="1086"/>
                  </a:lnTo>
                  <a:lnTo>
                    <a:pt x="492" y="1126"/>
                  </a:lnTo>
                  <a:lnTo>
                    <a:pt x="500" y="1166"/>
                  </a:lnTo>
                  <a:lnTo>
                    <a:pt x="504" y="1186"/>
                  </a:lnTo>
                  <a:lnTo>
                    <a:pt x="510" y="1204"/>
                  </a:lnTo>
                  <a:lnTo>
                    <a:pt x="518" y="1224"/>
                  </a:lnTo>
                  <a:lnTo>
                    <a:pt x="526" y="1242"/>
                  </a:lnTo>
                  <a:lnTo>
                    <a:pt x="536" y="1258"/>
                  </a:lnTo>
                  <a:lnTo>
                    <a:pt x="548" y="1276"/>
                  </a:lnTo>
                  <a:lnTo>
                    <a:pt x="562" y="1290"/>
                  </a:lnTo>
                  <a:lnTo>
                    <a:pt x="576" y="1304"/>
                  </a:lnTo>
                  <a:lnTo>
                    <a:pt x="594" y="1316"/>
                  </a:lnTo>
                  <a:lnTo>
                    <a:pt x="612" y="1326"/>
                  </a:lnTo>
                  <a:lnTo>
                    <a:pt x="612" y="1326"/>
                  </a:lnTo>
                  <a:lnTo>
                    <a:pt x="622" y="1336"/>
                  </a:lnTo>
                  <a:lnTo>
                    <a:pt x="632" y="1346"/>
                  </a:lnTo>
                  <a:lnTo>
                    <a:pt x="636" y="1352"/>
                  </a:lnTo>
                  <a:lnTo>
                    <a:pt x="638" y="1356"/>
                  </a:lnTo>
                  <a:lnTo>
                    <a:pt x="638" y="1362"/>
                  </a:lnTo>
                  <a:lnTo>
                    <a:pt x="632" y="1368"/>
                  </a:lnTo>
                  <a:lnTo>
                    <a:pt x="632" y="1368"/>
                  </a:lnTo>
                  <a:lnTo>
                    <a:pt x="632" y="1384"/>
                  </a:lnTo>
                  <a:lnTo>
                    <a:pt x="628" y="1398"/>
                  </a:lnTo>
                  <a:lnTo>
                    <a:pt x="620" y="1414"/>
                  </a:lnTo>
                  <a:lnTo>
                    <a:pt x="612" y="1426"/>
                  </a:lnTo>
                  <a:lnTo>
                    <a:pt x="592" y="1452"/>
                  </a:lnTo>
                  <a:lnTo>
                    <a:pt x="584" y="1466"/>
                  </a:lnTo>
                  <a:lnTo>
                    <a:pt x="576" y="1480"/>
                  </a:lnTo>
                  <a:lnTo>
                    <a:pt x="576" y="1480"/>
                  </a:lnTo>
                  <a:lnTo>
                    <a:pt x="542" y="1502"/>
                  </a:lnTo>
                  <a:lnTo>
                    <a:pt x="506" y="1524"/>
                  </a:lnTo>
                  <a:lnTo>
                    <a:pt x="432" y="1566"/>
                  </a:lnTo>
                  <a:lnTo>
                    <a:pt x="396" y="1588"/>
                  </a:lnTo>
                  <a:lnTo>
                    <a:pt x="360" y="1610"/>
                  </a:lnTo>
                  <a:lnTo>
                    <a:pt x="326" y="1636"/>
                  </a:lnTo>
                  <a:lnTo>
                    <a:pt x="294" y="1662"/>
                  </a:lnTo>
                  <a:lnTo>
                    <a:pt x="294" y="1662"/>
                  </a:lnTo>
                  <a:lnTo>
                    <a:pt x="280" y="1682"/>
                  </a:lnTo>
                  <a:lnTo>
                    <a:pt x="268" y="1704"/>
                  </a:lnTo>
                  <a:lnTo>
                    <a:pt x="262" y="1726"/>
                  </a:lnTo>
                  <a:lnTo>
                    <a:pt x="258" y="1748"/>
                  </a:lnTo>
                  <a:lnTo>
                    <a:pt x="256" y="1770"/>
                  </a:lnTo>
                  <a:lnTo>
                    <a:pt x="254" y="1794"/>
                  </a:lnTo>
                  <a:lnTo>
                    <a:pt x="256" y="1840"/>
                  </a:lnTo>
                  <a:lnTo>
                    <a:pt x="258" y="1888"/>
                  </a:lnTo>
                  <a:lnTo>
                    <a:pt x="256" y="1910"/>
                  </a:lnTo>
                  <a:lnTo>
                    <a:pt x="252" y="1932"/>
                  </a:lnTo>
                  <a:lnTo>
                    <a:pt x="246" y="1954"/>
                  </a:lnTo>
                  <a:lnTo>
                    <a:pt x="236" y="1976"/>
                  </a:lnTo>
                  <a:lnTo>
                    <a:pt x="222" y="1996"/>
                  </a:lnTo>
                  <a:lnTo>
                    <a:pt x="204" y="2016"/>
                  </a:lnTo>
                  <a:lnTo>
                    <a:pt x="204" y="2016"/>
                  </a:lnTo>
                  <a:lnTo>
                    <a:pt x="194" y="2020"/>
                  </a:lnTo>
                  <a:lnTo>
                    <a:pt x="186" y="2026"/>
                  </a:lnTo>
                  <a:lnTo>
                    <a:pt x="178" y="2032"/>
                  </a:lnTo>
                  <a:lnTo>
                    <a:pt x="172" y="2040"/>
                  </a:lnTo>
                  <a:lnTo>
                    <a:pt x="162" y="2056"/>
                  </a:lnTo>
                  <a:lnTo>
                    <a:pt x="154" y="2074"/>
                  </a:lnTo>
                  <a:lnTo>
                    <a:pt x="146" y="2114"/>
                  </a:lnTo>
                  <a:lnTo>
                    <a:pt x="140" y="2134"/>
                  </a:lnTo>
                  <a:lnTo>
                    <a:pt x="134" y="2152"/>
                  </a:lnTo>
                  <a:lnTo>
                    <a:pt x="134" y="2152"/>
                  </a:lnTo>
                  <a:lnTo>
                    <a:pt x="128" y="2170"/>
                  </a:lnTo>
                  <a:lnTo>
                    <a:pt x="122" y="2188"/>
                  </a:lnTo>
                  <a:lnTo>
                    <a:pt x="106" y="2224"/>
                  </a:lnTo>
                  <a:lnTo>
                    <a:pt x="86" y="2258"/>
                  </a:lnTo>
                  <a:lnTo>
                    <a:pt x="66" y="2292"/>
                  </a:lnTo>
                  <a:lnTo>
                    <a:pt x="46" y="2326"/>
                  </a:lnTo>
                  <a:lnTo>
                    <a:pt x="26" y="2360"/>
                  </a:lnTo>
                  <a:lnTo>
                    <a:pt x="12" y="2396"/>
                  </a:lnTo>
                  <a:lnTo>
                    <a:pt x="6" y="2414"/>
                  </a:lnTo>
                  <a:lnTo>
                    <a:pt x="0" y="2432"/>
                  </a:lnTo>
                  <a:lnTo>
                    <a:pt x="0" y="2432"/>
                  </a:lnTo>
                  <a:lnTo>
                    <a:pt x="2" y="2442"/>
                  </a:lnTo>
                  <a:lnTo>
                    <a:pt x="4" y="2452"/>
                  </a:lnTo>
                  <a:lnTo>
                    <a:pt x="6" y="2460"/>
                  </a:lnTo>
                  <a:lnTo>
                    <a:pt x="10" y="2468"/>
                  </a:lnTo>
                  <a:lnTo>
                    <a:pt x="22" y="2480"/>
                  </a:lnTo>
                  <a:lnTo>
                    <a:pt x="36" y="2490"/>
                  </a:lnTo>
                  <a:lnTo>
                    <a:pt x="52" y="2500"/>
                  </a:lnTo>
                  <a:lnTo>
                    <a:pt x="68" y="2508"/>
                  </a:lnTo>
                  <a:lnTo>
                    <a:pt x="100" y="2522"/>
                  </a:lnTo>
                  <a:lnTo>
                    <a:pt x="100" y="2522"/>
                  </a:lnTo>
                  <a:lnTo>
                    <a:pt x="184" y="2542"/>
                  </a:lnTo>
                  <a:lnTo>
                    <a:pt x="268" y="2564"/>
                  </a:lnTo>
                  <a:lnTo>
                    <a:pt x="350" y="2590"/>
                  </a:lnTo>
                  <a:lnTo>
                    <a:pt x="432" y="2618"/>
                  </a:lnTo>
                  <a:lnTo>
                    <a:pt x="432" y="2618"/>
                  </a:lnTo>
                  <a:lnTo>
                    <a:pt x="462" y="2662"/>
                  </a:lnTo>
                  <a:lnTo>
                    <a:pt x="496" y="2708"/>
                  </a:lnTo>
                  <a:lnTo>
                    <a:pt x="496" y="2708"/>
                  </a:lnTo>
                  <a:lnTo>
                    <a:pt x="500" y="2738"/>
                  </a:lnTo>
                  <a:lnTo>
                    <a:pt x="504" y="2768"/>
                  </a:lnTo>
                  <a:lnTo>
                    <a:pt x="504" y="2830"/>
                  </a:lnTo>
                  <a:lnTo>
                    <a:pt x="504" y="2892"/>
                  </a:lnTo>
                  <a:lnTo>
                    <a:pt x="504" y="2948"/>
                  </a:lnTo>
                  <a:lnTo>
                    <a:pt x="504" y="2948"/>
                  </a:lnTo>
                  <a:lnTo>
                    <a:pt x="498" y="2964"/>
                  </a:lnTo>
                  <a:lnTo>
                    <a:pt x="494" y="2980"/>
                  </a:lnTo>
                  <a:lnTo>
                    <a:pt x="490" y="3012"/>
                  </a:lnTo>
                  <a:lnTo>
                    <a:pt x="486" y="3046"/>
                  </a:lnTo>
                  <a:lnTo>
                    <a:pt x="484" y="3062"/>
                  </a:lnTo>
                  <a:lnTo>
                    <a:pt x="480" y="3078"/>
                  </a:lnTo>
                  <a:lnTo>
                    <a:pt x="480" y="3078"/>
                  </a:lnTo>
                  <a:lnTo>
                    <a:pt x="482" y="3154"/>
                  </a:lnTo>
                  <a:lnTo>
                    <a:pt x="488" y="3232"/>
                  </a:lnTo>
                  <a:lnTo>
                    <a:pt x="494" y="3308"/>
                  </a:lnTo>
                  <a:lnTo>
                    <a:pt x="502" y="3384"/>
                  </a:lnTo>
                  <a:lnTo>
                    <a:pt x="524" y="3534"/>
                  </a:lnTo>
                  <a:lnTo>
                    <a:pt x="546" y="3684"/>
                  </a:lnTo>
                  <a:lnTo>
                    <a:pt x="546" y="3684"/>
                  </a:lnTo>
                  <a:lnTo>
                    <a:pt x="550" y="3798"/>
                  </a:lnTo>
                  <a:lnTo>
                    <a:pt x="552" y="3906"/>
                  </a:lnTo>
                  <a:lnTo>
                    <a:pt x="554" y="3960"/>
                  </a:lnTo>
                  <a:lnTo>
                    <a:pt x="558" y="4014"/>
                  </a:lnTo>
                  <a:lnTo>
                    <a:pt x="562" y="4068"/>
                  </a:lnTo>
                  <a:lnTo>
                    <a:pt x="570" y="4126"/>
                  </a:lnTo>
                  <a:lnTo>
                    <a:pt x="570" y="4126"/>
                  </a:lnTo>
                  <a:lnTo>
                    <a:pt x="566" y="4180"/>
                  </a:lnTo>
                  <a:lnTo>
                    <a:pt x="566" y="4238"/>
                  </a:lnTo>
                  <a:lnTo>
                    <a:pt x="564" y="4354"/>
                  </a:lnTo>
                  <a:lnTo>
                    <a:pt x="564" y="4470"/>
                  </a:lnTo>
                  <a:lnTo>
                    <a:pt x="564" y="4588"/>
                  </a:lnTo>
                  <a:lnTo>
                    <a:pt x="576" y="4612"/>
                  </a:lnTo>
                  <a:lnTo>
                    <a:pt x="692" y="4612"/>
                  </a:lnTo>
                  <a:lnTo>
                    <a:pt x="692" y="4612"/>
                  </a:lnTo>
                  <a:lnTo>
                    <a:pt x="662" y="4600"/>
                  </a:lnTo>
                  <a:lnTo>
                    <a:pt x="662" y="4600"/>
                  </a:lnTo>
                  <a:close/>
                  <a:moveTo>
                    <a:pt x="562" y="2834"/>
                  </a:moveTo>
                  <a:lnTo>
                    <a:pt x="562" y="2752"/>
                  </a:lnTo>
                  <a:lnTo>
                    <a:pt x="562" y="2752"/>
                  </a:lnTo>
                  <a:lnTo>
                    <a:pt x="578" y="2752"/>
                  </a:lnTo>
                  <a:lnTo>
                    <a:pt x="594" y="2752"/>
                  </a:lnTo>
                  <a:lnTo>
                    <a:pt x="626" y="2746"/>
                  </a:lnTo>
                  <a:lnTo>
                    <a:pt x="644" y="2744"/>
                  </a:lnTo>
                  <a:lnTo>
                    <a:pt x="660" y="2742"/>
                  </a:lnTo>
                  <a:lnTo>
                    <a:pt x="678" y="2742"/>
                  </a:lnTo>
                  <a:lnTo>
                    <a:pt x="694" y="2746"/>
                  </a:lnTo>
                  <a:lnTo>
                    <a:pt x="696" y="2826"/>
                  </a:lnTo>
                  <a:lnTo>
                    <a:pt x="696" y="2826"/>
                  </a:lnTo>
                  <a:lnTo>
                    <a:pt x="678" y="2826"/>
                  </a:lnTo>
                  <a:lnTo>
                    <a:pt x="662" y="2826"/>
                  </a:lnTo>
                  <a:lnTo>
                    <a:pt x="630" y="2830"/>
                  </a:lnTo>
                  <a:lnTo>
                    <a:pt x="598" y="2834"/>
                  </a:lnTo>
                  <a:lnTo>
                    <a:pt x="562" y="2834"/>
                  </a:lnTo>
                  <a:lnTo>
                    <a:pt x="562" y="2834"/>
                  </a:lnTo>
                  <a:close/>
                  <a:moveTo>
                    <a:pt x="928" y="2822"/>
                  </a:moveTo>
                  <a:lnTo>
                    <a:pt x="928" y="2822"/>
                  </a:lnTo>
                  <a:lnTo>
                    <a:pt x="920" y="2826"/>
                  </a:lnTo>
                  <a:lnTo>
                    <a:pt x="912" y="2826"/>
                  </a:lnTo>
                  <a:lnTo>
                    <a:pt x="896" y="2826"/>
                  </a:lnTo>
                  <a:lnTo>
                    <a:pt x="882" y="2824"/>
                  </a:lnTo>
                  <a:lnTo>
                    <a:pt x="874" y="2826"/>
                  </a:lnTo>
                  <a:lnTo>
                    <a:pt x="864" y="2826"/>
                  </a:lnTo>
                  <a:lnTo>
                    <a:pt x="862" y="2730"/>
                  </a:lnTo>
                  <a:lnTo>
                    <a:pt x="862" y="2730"/>
                  </a:lnTo>
                  <a:lnTo>
                    <a:pt x="880" y="2730"/>
                  </a:lnTo>
                  <a:lnTo>
                    <a:pt x="896" y="2732"/>
                  </a:lnTo>
                  <a:lnTo>
                    <a:pt x="910" y="2734"/>
                  </a:lnTo>
                  <a:lnTo>
                    <a:pt x="928" y="2734"/>
                  </a:lnTo>
                  <a:lnTo>
                    <a:pt x="928" y="2822"/>
                  </a:lnTo>
                  <a:close/>
                  <a:moveTo>
                    <a:pt x="1114" y="1566"/>
                  </a:moveTo>
                  <a:lnTo>
                    <a:pt x="1114" y="1566"/>
                  </a:lnTo>
                  <a:lnTo>
                    <a:pt x="1136" y="1582"/>
                  </a:lnTo>
                  <a:lnTo>
                    <a:pt x="1156" y="1598"/>
                  </a:lnTo>
                  <a:lnTo>
                    <a:pt x="1164" y="1608"/>
                  </a:lnTo>
                  <a:lnTo>
                    <a:pt x="1172" y="1618"/>
                  </a:lnTo>
                  <a:lnTo>
                    <a:pt x="1176" y="1630"/>
                  </a:lnTo>
                  <a:lnTo>
                    <a:pt x="1180" y="1644"/>
                  </a:lnTo>
                  <a:lnTo>
                    <a:pt x="1180" y="1644"/>
                  </a:lnTo>
                  <a:lnTo>
                    <a:pt x="1166" y="1690"/>
                  </a:lnTo>
                  <a:lnTo>
                    <a:pt x="1154" y="1738"/>
                  </a:lnTo>
                  <a:lnTo>
                    <a:pt x="1146" y="1786"/>
                  </a:lnTo>
                  <a:lnTo>
                    <a:pt x="1138" y="1834"/>
                  </a:lnTo>
                  <a:lnTo>
                    <a:pt x="1132" y="1884"/>
                  </a:lnTo>
                  <a:lnTo>
                    <a:pt x="1128" y="1934"/>
                  </a:lnTo>
                  <a:lnTo>
                    <a:pt x="1126" y="1986"/>
                  </a:lnTo>
                  <a:lnTo>
                    <a:pt x="1126" y="2038"/>
                  </a:lnTo>
                  <a:lnTo>
                    <a:pt x="1128" y="2140"/>
                  </a:lnTo>
                  <a:lnTo>
                    <a:pt x="1132" y="2244"/>
                  </a:lnTo>
                  <a:lnTo>
                    <a:pt x="1146" y="2452"/>
                  </a:lnTo>
                  <a:lnTo>
                    <a:pt x="1146" y="2452"/>
                  </a:lnTo>
                  <a:lnTo>
                    <a:pt x="1148" y="2478"/>
                  </a:lnTo>
                  <a:lnTo>
                    <a:pt x="1152" y="2502"/>
                  </a:lnTo>
                  <a:lnTo>
                    <a:pt x="1162" y="2554"/>
                  </a:lnTo>
                  <a:lnTo>
                    <a:pt x="1174" y="2604"/>
                  </a:lnTo>
                  <a:lnTo>
                    <a:pt x="1178" y="2630"/>
                  </a:lnTo>
                  <a:lnTo>
                    <a:pt x="1180" y="2656"/>
                  </a:lnTo>
                  <a:lnTo>
                    <a:pt x="1022" y="2656"/>
                  </a:lnTo>
                  <a:lnTo>
                    <a:pt x="1022" y="2656"/>
                  </a:lnTo>
                  <a:lnTo>
                    <a:pt x="1014" y="2490"/>
                  </a:lnTo>
                  <a:lnTo>
                    <a:pt x="1004" y="2324"/>
                  </a:lnTo>
                  <a:lnTo>
                    <a:pt x="980" y="1994"/>
                  </a:lnTo>
                  <a:lnTo>
                    <a:pt x="980" y="1994"/>
                  </a:lnTo>
                  <a:lnTo>
                    <a:pt x="984" y="1950"/>
                  </a:lnTo>
                  <a:lnTo>
                    <a:pt x="990" y="1904"/>
                  </a:lnTo>
                  <a:lnTo>
                    <a:pt x="998" y="1860"/>
                  </a:lnTo>
                  <a:lnTo>
                    <a:pt x="1006" y="1816"/>
                  </a:lnTo>
                  <a:lnTo>
                    <a:pt x="1026" y="1728"/>
                  </a:lnTo>
                  <a:lnTo>
                    <a:pt x="1034" y="1684"/>
                  </a:lnTo>
                  <a:lnTo>
                    <a:pt x="1040" y="1640"/>
                  </a:lnTo>
                  <a:lnTo>
                    <a:pt x="1040" y="1640"/>
                  </a:lnTo>
                  <a:lnTo>
                    <a:pt x="1050" y="1608"/>
                  </a:lnTo>
                  <a:lnTo>
                    <a:pt x="1058" y="1574"/>
                  </a:lnTo>
                  <a:lnTo>
                    <a:pt x="1070" y="1540"/>
                  </a:lnTo>
                  <a:lnTo>
                    <a:pt x="1084" y="1506"/>
                  </a:lnTo>
                  <a:lnTo>
                    <a:pt x="1092" y="1492"/>
                  </a:lnTo>
                  <a:lnTo>
                    <a:pt x="1100" y="1478"/>
                  </a:lnTo>
                  <a:lnTo>
                    <a:pt x="1112" y="1464"/>
                  </a:lnTo>
                  <a:lnTo>
                    <a:pt x="1124" y="1454"/>
                  </a:lnTo>
                  <a:lnTo>
                    <a:pt x="1138" y="1446"/>
                  </a:lnTo>
                  <a:lnTo>
                    <a:pt x="1154" y="1438"/>
                  </a:lnTo>
                  <a:lnTo>
                    <a:pt x="1172" y="1434"/>
                  </a:lnTo>
                  <a:lnTo>
                    <a:pt x="1192" y="1432"/>
                  </a:lnTo>
                  <a:lnTo>
                    <a:pt x="1192" y="1432"/>
                  </a:lnTo>
                  <a:lnTo>
                    <a:pt x="1262" y="1376"/>
                  </a:lnTo>
                  <a:lnTo>
                    <a:pt x="1298" y="1344"/>
                  </a:lnTo>
                  <a:lnTo>
                    <a:pt x="1312" y="1328"/>
                  </a:lnTo>
                  <a:lnTo>
                    <a:pt x="1326" y="1310"/>
                  </a:lnTo>
                  <a:lnTo>
                    <a:pt x="1326" y="1310"/>
                  </a:lnTo>
                  <a:lnTo>
                    <a:pt x="1336" y="1312"/>
                  </a:lnTo>
                  <a:lnTo>
                    <a:pt x="1342" y="1314"/>
                  </a:lnTo>
                  <a:lnTo>
                    <a:pt x="1354" y="1322"/>
                  </a:lnTo>
                  <a:lnTo>
                    <a:pt x="1364" y="1332"/>
                  </a:lnTo>
                  <a:lnTo>
                    <a:pt x="1372" y="1346"/>
                  </a:lnTo>
                  <a:lnTo>
                    <a:pt x="1386" y="1376"/>
                  </a:lnTo>
                  <a:lnTo>
                    <a:pt x="1392" y="1390"/>
                  </a:lnTo>
                  <a:lnTo>
                    <a:pt x="1398" y="1404"/>
                  </a:lnTo>
                  <a:lnTo>
                    <a:pt x="1398" y="1404"/>
                  </a:lnTo>
                  <a:lnTo>
                    <a:pt x="1396" y="1414"/>
                  </a:lnTo>
                  <a:lnTo>
                    <a:pt x="1392" y="1422"/>
                  </a:lnTo>
                  <a:lnTo>
                    <a:pt x="1386" y="1430"/>
                  </a:lnTo>
                  <a:lnTo>
                    <a:pt x="1378" y="1438"/>
                  </a:lnTo>
                  <a:lnTo>
                    <a:pt x="1364" y="1454"/>
                  </a:lnTo>
                  <a:lnTo>
                    <a:pt x="1358" y="1462"/>
                  </a:lnTo>
                  <a:lnTo>
                    <a:pt x="1354" y="1472"/>
                  </a:lnTo>
                  <a:lnTo>
                    <a:pt x="1354" y="1472"/>
                  </a:lnTo>
                  <a:lnTo>
                    <a:pt x="1340" y="1510"/>
                  </a:lnTo>
                  <a:lnTo>
                    <a:pt x="1324" y="1548"/>
                  </a:lnTo>
                  <a:lnTo>
                    <a:pt x="1310" y="1588"/>
                  </a:lnTo>
                  <a:lnTo>
                    <a:pt x="1298" y="1626"/>
                  </a:lnTo>
                  <a:lnTo>
                    <a:pt x="1278" y="1650"/>
                  </a:lnTo>
                  <a:lnTo>
                    <a:pt x="1278" y="1650"/>
                  </a:lnTo>
                  <a:lnTo>
                    <a:pt x="1272" y="1630"/>
                  </a:lnTo>
                  <a:lnTo>
                    <a:pt x="1262" y="1610"/>
                  </a:lnTo>
                  <a:lnTo>
                    <a:pt x="1250" y="1590"/>
                  </a:lnTo>
                  <a:lnTo>
                    <a:pt x="1238" y="1570"/>
                  </a:lnTo>
                  <a:lnTo>
                    <a:pt x="1224" y="1550"/>
                  </a:lnTo>
                  <a:lnTo>
                    <a:pt x="1208" y="1532"/>
                  </a:lnTo>
                  <a:lnTo>
                    <a:pt x="1190" y="1516"/>
                  </a:lnTo>
                  <a:lnTo>
                    <a:pt x="1172" y="1500"/>
                  </a:lnTo>
                  <a:lnTo>
                    <a:pt x="1172" y="1500"/>
                  </a:lnTo>
                  <a:lnTo>
                    <a:pt x="1162" y="1498"/>
                  </a:lnTo>
                  <a:lnTo>
                    <a:pt x="1152" y="1498"/>
                  </a:lnTo>
                  <a:lnTo>
                    <a:pt x="1142" y="1498"/>
                  </a:lnTo>
                  <a:lnTo>
                    <a:pt x="1132" y="1504"/>
                  </a:lnTo>
                  <a:lnTo>
                    <a:pt x="1132" y="1504"/>
                  </a:lnTo>
                  <a:lnTo>
                    <a:pt x="1120" y="1518"/>
                  </a:lnTo>
                  <a:lnTo>
                    <a:pt x="1112" y="1532"/>
                  </a:lnTo>
                  <a:lnTo>
                    <a:pt x="1110" y="1540"/>
                  </a:lnTo>
                  <a:lnTo>
                    <a:pt x="1110" y="1548"/>
                  </a:lnTo>
                  <a:lnTo>
                    <a:pt x="1110" y="1558"/>
                  </a:lnTo>
                  <a:lnTo>
                    <a:pt x="1114" y="1566"/>
                  </a:lnTo>
                  <a:lnTo>
                    <a:pt x="1114" y="1566"/>
                  </a:lnTo>
                  <a:close/>
                  <a:moveTo>
                    <a:pt x="1196" y="2824"/>
                  </a:moveTo>
                  <a:lnTo>
                    <a:pt x="1196" y="2824"/>
                  </a:lnTo>
                  <a:lnTo>
                    <a:pt x="1146" y="2836"/>
                  </a:lnTo>
                  <a:lnTo>
                    <a:pt x="1096" y="2846"/>
                  </a:lnTo>
                  <a:lnTo>
                    <a:pt x="1070" y="2848"/>
                  </a:lnTo>
                  <a:lnTo>
                    <a:pt x="1044" y="2850"/>
                  </a:lnTo>
                  <a:lnTo>
                    <a:pt x="1018" y="2850"/>
                  </a:lnTo>
                  <a:lnTo>
                    <a:pt x="992" y="2848"/>
                  </a:lnTo>
                  <a:lnTo>
                    <a:pt x="992" y="2848"/>
                  </a:lnTo>
                  <a:lnTo>
                    <a:pt x="988" y="2818"/>
                  </a:lnTo>
                  <a:lnTo>
                    <a:pt x="984" y="2788"/>
                  </a:lnTo>
                  <a:lnTo>
                    <a:pt x="984" y="2756"/>
                  </a:lnTo>
                  <a:lnTo>
                    <a:pt x="986" y="2742"/>
                  </a:lnTo>
                  <a:lnTo>
                    <a:pt x="988" y="2726"/>
                  </a:lnTo>
                  <a:lnTo>
                    <a:pt x="988" y="2726"/>
                  </a:lnTo>
                  <a:lnTo>
                    <a:pt x="1014" y="2720"/>
                  </a:lnTo>
                  <a:lnTo>
                    <a:pt x="1040" y="2718"/>
                  </a:lnTo>
                  <a:lnTo>
                    <a:pt x="1090" y="2714"/>
                  </a:lnTo>
                  <a:lnTo>
                    <a:pt x="1144" y="2714"/>
                  </a:lnTo>
                  <a:lnTo>
                    <a:pt x="1196" y="2710"/>
                  </a:lnTo>
                  <a:lnTo>
                    <a:pt x="1196" y="2710"/>
                  </a:lnTo>
                  <a:lnTo>
                    <a:pt x="1196" y="2724"/>
                  </a:lnTo>
                  <a:lnTo>
                    <a:pt x="1196" y="2738"/>
                  </a:lnTo>
                  <a:lnTo>
                    <a:pt x="1200" y="2768"/>
                  </a:lnTo>
                  <a:lnTo>
                    <a:pt x="1202" y="2796"/>
                  </a:lnTo>
                  <a:lnTo>
                    <a:pt x="1200" y="2810"/>
                  </a:lnTo>
                  <a:lnTo>
                    <a:pt x="1196" y="2824"/>
                  </a:lnTo>
                  <a:lnTo>
                    <a:pt x="1196" y="2824"/>
                  </a:lnTo>
                  <a:close/>
                  <a:moveTo>
                    <a:pt x="1338" y="2802"/>
                  </a:moveTo>
                  <a:lnTo>
                    <a:pt x="1338" y="2802"/>
                  </a:lnTo>
                  <a:lnTo>
                    <a:pt x="1318" y="2804"/>
                  </a:lnTo>
                  <a:lnTo>
                    <a:pt x="1300" y="2806"/>
                  </a:lnTo>
                  <a:lnTo>
                    <a:pt x="1282" y="2808"/>
                  </a:lnTo>
                  <a:lnTo>
                    <a:pt x="1262" y="2806"/>
                  </a:lnTo>
                  <a:lnTo>
                    <a:pt x="1262" y="2806"/>
                  </a:lnTo>
                  <a:lnTo>
                    <a:pt x="1258" y="2774"/>
                  </a:lnTo>
                  <a:lnTo>
                    <a:pt x="1258" y="2758"/>
                  </a:lnTo>
                  <a:lnTo>
                    <a:pt x="1258" y="2740"/>
                  </a:lnTo>
                  <a:lnTo>
                    <a:pt x="1332" y="2722"/>
                  </a:lnTo>
                  <a:lnTo>
                    <a:pt x="1332" y="2722"/>
                  </a:lnTo>
                  <a:lnTo>
                    <a:pt x="1336" y="2732"/>
                  </a:lnTo>
                  <a:lnTo>
                    <a:pt x="1338" y="2740"/>
                  </a:lnTo>
                  <a:lnTo>
                    <a:pt x="1340" y="2760"/>
                  </a:lnTo>
                  <a:lnTo>
                    <a:pt x="1338" y="2782"/>
                  </a:lnTo>
                  <a:lnTo>
                    <a:pt x="1338" y="2802"/>
                  </a:lnTo>
                  <a:lnTo>
                    <a:pt x="1338" y="2802"/>
                  </a:lnTo>
                  <a:close/>
                  <a:moveTo>
                    <a:pt x="1530" y="2788"/>
                  </a:moveTo>
                  <a:lnTo>
                    <a:pt x="1530" y="2788"/>
                  </a:lnTo>
                  <a:lnTo>
                    <a:pt x="1528" y="2780"/>
                  </a:lnTo>
                  <a:lnTo>
                    <a:pt x="1526" y="2770"/>
                  </a:lnTo>
                  <a:lnTo>
                    <a:pt x="1526" y="2752"/>
                  </a:lnTo>
                  <a:lnTo>
                    <a:pt x="1528" y="2736"/>
                  </a:lnTo>
                  <a:lnTo>
                    <a:pt x="1526" y="2726"/>
                  </a:lnTo>
                  <a:lnTo>
                    <a:pt x="1524" y="2716"/>
                  </a:lnTo>
                  <a:lnTo>
                    <a:pt x="1518" y="2708"/>
                  </a:lnTo>
                  <a:lnTo>
                    <a:pt x="1518" y="2708"/>
                  </a:lnTo>
                  <a:lnTo>
                    <a:pt x="1530" y="2706"/>
                  </a:lnTo>
                  <a:lnTo>
                    <a:pt x="1542" y="2704"/>
                  </a:lnTo>
                  <a:lnTo>
                    <a:pt x="1570" y="2704"/>
                  </a:lnTo>
                  <a:lnTo>
                    <a:pt x="1586" y="2704"/>
                  </a:lnTo>
                  <a:lnTo>
                    <a:pt x="1600" y="2702"/>
                  </a:lnTo>
                  <a:lnTo>
                    <a:pt x="1614" y="2700"/>
                  </a:lnTo>
                  <a:lnTo>
                    <a:pt x="1626" y="2694"/>
                  </a:lnTo>
                  <a:lnTo>
                    <a:pt x="1626" y="2694"/>
                  </a:lnTo>
                  <a:lnTo>
                    <a:pt x="1638" y="2694"/>
                  </a:lnTo>
                  <a:lnTo>
                    <a:pt x="1644" y="2694"/>
                  </a:lnTo>
                  <a:lnTo>
                    <a:pt x="1648" y="2698"/>
                  </a:lnTo>
                  <a:lnTo>
                    <a:pt x="1654" y="2704"/>
                  </a:lnTo>
                  <a:lnTo>
                    <a:pt x="1656" y="2712"/>
                  </a:lnTo>
                  <a:lnTo>
                    <a:pt x="1656" y="2724"/>
                  </a:lnTo>
                  <a:lnTo>
                    <a:pt x="1656" y="2734"/>
                  </a:lnTo>
                  <a:lnTo>
                    <a:pt x="1656" y="2754"/>
                  </a:lnTo>
                  <a:lnTo>
                    <a:pt x="1652" y="2786"/>
                  </a:lnTo>
                  <a:lnTo>
                    <a:pt x="1530" y="2788"/>
                  </a:lnTo>
                  <a:close/>
                  <a:moveTo>
                    <a:pt x="1688" y="3012"/>
                  </a:moveTo>
                  <a:lnTo>
                    <a:pt x="1688" y="3012"/>
                  </a:lnTo>
                  <a:lnTo>
                    <a:pt x="1684" y="3006"/>
                  </a:lnTo>
                  <a:lnTo>
                    <a:pt x="1676" y="3002"/>
                  </a:lnTo>
                  <a:lnTo>
                    <a:pt x="1670" y="3004"/>
                  </a:lnTo>
                  <a:lnTo>
                    <a:pt x="1662" y="3004"/>
                  </a:lnTo>
                  <a:lnTo>
                    <a:pt x="1662" y="3004"/>
                  </a:lnTo>
                  <a:lnTo>
                    <a:pt x="1648" y="2986"/>
                  </a:lnTo>
                  <a:lnTo>
                    <a:pt x="1632" y="2968"/>
                  </a:lnTo>
                  <a:lnTo>
                    <a:pt x="1600" y="2934"/>
                  </a:lnTo>
                  <a:lnTo>
                    <a:pt x="1586" y="2916"/>
                  </a:lnTo>
                  <a:lnTo>
                    <a:pt x="1574" y="2898"/>
                  </a:lnTo>
                  <a:lnTo>
                    <a:pt x="1570" y="2888"/>
                  </a:lnTo>
                  <a:lnTo>
                    <a:pt x="1568" y="2876"/>
                  </a:lnTo>
                  <a:lnTo>
                    <a:pt x="1566" y="2866"/>
                  </a:lnTo>
                  <a:lnTo>
                    <a:pt x="1566" y="2854"/>
                  </a:lnTo>
                  <a:lnTo>
                    <a:pt x="1554" y="2844"/>
                  </a:lnTo>
                  <a:lnTo>
                    <a:pt x="1554" y="2844"/>
                  </a:lnTo>
                  <a:lnTo>
                    <a:pt x="1570" y="2840"/>
                  </a:lnTo>
                  <a:lnTo>
                    <a:pt x="1586" y="2840"/>
                  </a:lnTo>
                  <a:lnTo>
                    <a:pt x="1616" y="2840"/>
                  </a:lnTo>
                  <a:lnTo>
                    <a:pt x="1646" y="2838"/>
                  </a:lnTo>
                  <a:lnTo>
                    <a:pt x="1662" y="2836"/>
                  </a:lnTo>
                  <a:lnTo>
                    <a:pt x="1678" y="2832"/>
                  </a:lnTo>
                  <a:lnTo>
                    <a:pt x="1678" y="2832"/>
                  </a:lnTo>
                  <a:lnTo>
                    <a:pt x="1684" y="2852"/>
                  </a:lnTo>
                  <a:lnTo>
                    <a:pt x="1686" y="2874"/>
                  </a:lnTo>
                  <a:lnTo>
                    <a:pt x="1688" y="2896"/>
                  </a:lnTo>
                  <a:lnTo>
                    <a:pt x="1688" y="2920"/>
                  </a:lnTo>
                  <a:lnTo>
                    <a:pt x="1688" y="2968"/>
                  </a:lnTo>
                  <a:lnTo>
                    <a:pt x="1688" y="3012"/>
                  </a:lnTo>
                  <a:lnTo>
                    <a:pt x="1688" y="3012"/>
                  </a:lnTo>
                  <a:close/>
                  <a:moveTo>
                    <a:pt x="1410" y="1494"/>
                  </a:moveTo>
                  <a:lnTo>
                    <a:pt x="1436" y="1458"/>
                  </a:lnTo>
                  <a:lnTo>
                    <a:pt x="1436" y="1458"/>
                  </a:lnTo>
                  <a:lnTo>
                    <a:pt x="1442" y="1470"/>
                  </a:lnTo>
                  <a:lnTo>
                    <a:pt x="1450" y="1482"/>
                  </a:lnTo>
                  <a:lnTo>
                    <a:pt x="1458" y="1494"/>
                  </a:lnTo>
                  <a:lnTo>
                    <a:pt x="1466" y="1502"/>
                  </a:lnTo>
                  <a:lnTo>
                    <a:pt x="1476" y="1510"/>
                  </a:lnTo>
                  <a:lnTo>
                    <a:pt x="1486" y="1516"/>
                  </a:lnTo>
                  <a:lnTo>
                    <a:pt x="1508" y="1526"/>
                  </a:lnTo>
                  <a:lnTo>
                    <a:pt x="1532" y="1532"/>
                  </a:lnTo>
                  <a:lnTo>
                    <a:pt x="1556" y="1536"/>
                  </a:lnTo>
                  <a:lnTo>
                    <a:pt x="1582" y="1538"/>
                  </a:lnTo>
                  <a:lnTo>
                    <a:pt x="1608" y="1540"/>
                  </a:lnTo>
                  <a:lnTo>
                    <a:pt x="1660" y="1544"/>
                  </a:lnTo>
                  <a:lnTo>
                    <a:pt x="1686" y="1546"/>
                  </a:lnTo>
                  <a:lnTo>
                    <a:pt x="1708" y="1554"/>
                  </a:lnTo>
                  <a:lnTo>
                    <a:pt x="1730" y="1562"/>
                  </a:lnTo>
                  <a:lnTo>
                    <a:pt x="1740" y="1570"/>
                  </a:lnTo>
                  <a:lnTo>
                    <a:pt x="1750" y="1576"/>
                  </a:lnTo>
                  <a:lnTo>
                    <a:pt x="1758" y="1586"/>
                  </a:lnTo>
                  <a:lnTo>
                    <a:pt x="1766" y="1596"/>
                  </a:lnTo>
                  <a:lnTo>
                    <a:pt x="1774" y="1608"/>
                  </a:lnTo>
                  <a:lnTo>
                    <a:pt x="1780" y="1622"/>
                  </a:lnTo>
                  <a:lnTo>
                    <a:pt x="1824" y="1718"/>
                  </a:lnTo>
                  <a:lnTo>
                    <a:pt x="1824" y="1718"/>
                  </a:lnTo>
                  <a:lnTo>
                    <a:pt x="1846" y="1800"/>
                  </a:lnTo>
                  <a:lnTo>
                    <a:pt x="1870" y="1882"/>
                  </a:lnTo>
                  <a:lnTo>
                    <a:pt x="1884" y="1922"/>
                  </a:lnTo>
                  <a:lnTo>
                    <a:pt x="1898" y="1962"/>
                  </a:lnTo>
                  <a:lnTo>
                    <a:pt x="1914" y="2000"/>
                  </a:lnTo>
                  <a:lnTo>
                    <a:pt x="1932" y="2036"/>
                  </a:lnTo>
                  <a:lnTo>
                    <a:pt x="1932" y="2036"/>
                  </a:lnTo>
                  <a:lnTo>
                    <a:pt x="1944" y="2048"/>
                  </a:lnTo>
                  <a:lnTo>
                    <a:pt x="1956" y="2060"/>
                  </a:lnTo>
                  <a:lnTo>
                    <a:pt x="1964" y="2072"/>
                  </a:lnTo>
                  <a:lnTo>
                    <a:pt x="1972" y="2086"/>
                  </a:lnTo>
                  <a:lnTo>
                    <a:pt x="1976" y="2100"/>
                  </a:lnTo>
                  <a:lnTo>
                    <a:pt x="1982" y="2114"/>
                  </a:lnTo>
                  <a:lnTo>
                    <a:pt x="1988" y="2144"/>
                  </a:lnTo>
                  <a:lnTo>
                    <a:pt x="1996" y="2206"/>
                  </a:lnTo>
                  <a:lnTo>
                    <a:pt x="2002" y="2238"/>
                  </a:lnTo>
                  <a:lnTo>
                    <a:pt x="2010" y="2270"/>
                  </a:lnTo>
                  <a:lnTo>
                    <a:pt x="2010" y="2270"/>
                  </a:lnTo>
                  <a:lnTo>
                    <a:pt x="2006" y="2282"/>
                  </a:lnTo>
                  <a:lnTo>
                    <a:pt x="2006" y="2294"/>
                  </a:lnTo>
                  <a:lnTo>
                    <a:pt x="2008" y="2318"/>
                  </a:lnTo>
                  <a:lnTo>
                    <a:pt x="2008" y="2328"/>
                  </a:lnTo>
                  <a:lnTo>
                    <a:pt x="2006" y="2338"/>
                  </a:lnTo>
                  <a:lnTo>
                    <a:pt x="1998" y="2348"/>
                  </a:lnTo>
                  <a:lnTo>
                    <a:pt x="1986" y="2358"/>
                  </a:lnTo>
                  <a:lnTo>
                    <a:pt x="1986" y="2358"/>
                  </a:lnTo>
                  <a:lnTo>
                    <a:pt x="1972" y="2374"/>
                  </a:lnTo>
                  <a:lnTo>
                    <a:pt x="1958" y="2386"/>
                  </a:lnTo>
                  <a:lnTo>
                    <a:pt x="1942" y="2398"/>
                  </a:lnTo>
                  <a:lnTo>
                    <a:pt x="1926" y="2408"/>
                  </a:lnTo>
                  <a:lnTo>
                    <a:pt x="1892" y="2426"/>
                  </a:lnTo>
                  <a:lnTo>
                    <a:pt x="1858" y="2440"/>
                  </a:lnTo>
                  <a:lnTo>
                    <a:pt x="1824" y="2454"/>
                  </a:lnTo>
                  <a:lnTo>
                    <a:pt x="1790" y="2470"/>
                  </a:lnTo>
                  <a:lnTo>
                    <a:pt x="1774" y="2478"/>
                  </a:lnTo>
                  <a:lnTo>
                    <a:pt x="1758" y="2490"/>
                  </a:lnTo>
                  <a:lnTo>
                    <a:pt x="1744" y="2502"/>
                  </a:lnTo>
                  <a:lnTo>
                    <a:pt x="1730" y="2518"/>
                  </a:lnTo>
                  <a:lnTo>
                    <a:pt x="1730" y="2518"/>
                  </a:lnTo>
                  <a:lnTo>
                    <a:pt x="1724" y="2486"/>
                  </a:lnTo>
                  <a:lnTo>
                    <a:pt x="1716" y="2456"/>
                  </a:lnTo>
                  <a:lnTo>
                    <a:pt x="1698" y="2396"/>
                  </a:lnTo>
                  <a:lnTo>
                    <a:pt x="1690" y="2366"/>
                  </a:lnTo>
                  <a:lnTo>
                    <a:pt x="1684" y="2334"/>
                  </a:lnTo>
                  <a:lnTo>
                    <a:pt x="1678" y="2302"/>
                  </a:lnTo>
                  <a:lnTo>
                    <a:pt x="1676" y="2270"/>
                  </a:lnTo>
                  <a:lnTo>
                    <a:pt x="1676" y="2270"/>
                  </a:lnTo>
                  <a:lnTo>
                    <a:pt x="1682" y="2260"/>
                  </a:lnTo>
                  <a:lnTo>
                    <a:pt x="1690" y="2250"/>
                  </a:lnTo>
                  <a:lnTo>
                    <a:pt x="1706" y="2232"/>
                  </a:lnTo>
                  <a:lnTo>
                    <a:pt x="1712" y="2220"/>
                  </a:lnTo>
                  <a:lnTo>
                    <a:pt x="1716" y="2210"/>
                  </a:lnTo>
                  <a:lnTo>
                    <a:pt x="1718" y="2196"/>
                  </a:lnTo>
                  <a:lnTo>
                    <a:pt x="1714" y="2184"/>
                  </a:lnTo>
                  <a:lnTo>
                    <a:pt x="1714" y="2184"/>
                  </a:lnTo>
                  <a:lnTo>
                    <a:pt x="1702" y="2160"/>
                  </a:lnTo>
                  <a:lnTo>
                    <a:pt x="1690" y="2138"/>
                  </a:lnTo>
                  <a:lnTo>
                    <a:pt x="1684" y="2112"/>
                  </a:lnTo>
                  <a:lnTo>
                    <a:pt x="1678" y="2086"/>
                  </a:lnTo>
                  <a:lnTo>
                    <a:pt x="1700" y="2002"/>
                  </a:lnTo>
                  <a:lnTo>
                    <a:pt x="1700" y="2002"/>
                  </a:lnTo>
                  <a:lnTo>
                    <a:pt x="1688" y="1954"/>
                  </a:lnTo>
                  <a:lnTo>
                    <a:pt x="1676" y="1908"/>
                  </a:lnTo>
                  <a:lnTo>
                    <a:pt x="1664" y="1860"/>
                  </a:lnTo>
                  <a:lnTo>
                    <a:pt x="1658" y="1838"/>
                  </a:lnTo>
                  <a:lnTo>
                    <a:pt x="1650" y="1816"/>
                  </a:lnTo>
                  <a:lnTo>
                    <a:pt x="1650" y="1816"/>
                  </a:lnTo>
                  <a:lnTo>
                    <a:pt x="1642" y="1808"/>
                  </a:lnTo>
                  <a:lnTo>
                    <a:pt x="1634" y="1804"/>
                  </a:lnTo>
                  <a:lnTo>
                    <a:pt x="1624" y="1802"/>
                  </a:lnTo>
                  <a:lnTo>
                    <a:pt x="1614" y="1802"/>
                  </a:lnTo>
                  <a:lnTo>
                    <a:pt x="1596" y="1804"/>
                  </a:lnTo>
                  <a:lnTo>
                    <a:pt x="1586" y="1802"/>
                  </a:lnTo>
                  <a:lnTo>
                    <a:pt x="1578" y="1800"/>
                  </a:lnTo>
                  <a:lnTo>
                    <a:pt x="1578" y="1800"/>
                  </a:lnTo>
                  <a:lnTo>
                    <a:pt x="1520" y="1814"/>
                  </a:lnTo>
                  <a:lnTo>
                    <a:pt x="1464" y="1824"/>
                  </a:lnTo>
                  <a:lnTo>
                    <a:pt x="1436" y="1828"/>
                  </a:lnTo>
                  <a:lnTo>
                    <a:pt x="1406" y="1832"/>
                  </a:lnTo>
                  <a:lnTo>
                    <a:pt x="1376" y="1832"/>
                  </a:lnTo>
                  <a:lnTo>
                    <a:pt x="1348" y="1832"/>
                  </a:lnTo>
                  <a:lnTo>
                    <a:pt x="1348" y="1832"/>
                  </a:lnTo>
                  <a:lnTo>
                    <a:pt x="1332" y="1834"/>
                  </a:lnTo>
                  <a:lnTo>
                    <a:pt x="1316" y="1834"/>
                  </a:lnTo>
                  <a:lnTo>
                    <a:pt x="1284" y="1830"/>
                  </a:lnTo>
                  <a:lnTo>
                    <a:pt x="1270" y="1832"/>
                  </a:lnTo>
                  <a:lnTo>
                    <a:pt x="1256" y="1836"/>
                  </a:lnTo>
                  <a:lnTo>
                    <a:pt x="1250" y="1838"/>
                  </a:lnTo>
                  <a:lnTo>
                    <a:pt x="1244" y="1844"/>
                  </a:lnTo>
                  <a:lnTo>
                    <a:pt x="1238" y="1850"/>
                  </a:lnTo>
                  <a:lnTo>
                    <a:pt x="1234" y="1858"/>
                  </a:lnTo>
                  <a:lnTo>
                    <a:pt x="1216" y="1888"/>
                  </a:lnTo>
                  <a:lnTo>
                    <a:pt x="1216" y="1888"/>
                  </a:lnTo>
                  <a:lnTo>
                    <a:pt x="1218" y="1960"/>
                  </a:lnTo>
                  <a:lnTo>
                    <a:pt x="1220" y="2032"/>
                  </a:lnTo>
                  <a:lnTo>
                    <a:pt x="1218" y="2066"/>
                  </a:lnTo>
                  <a:lnTo>
                    <a:pt x="1218" y="2102"/>
                  </a:lnTo>
                  <a:lnTo>
                    <a:pt x="1214" y="2138"/>
                  </a:lnTo>
                  <a:lnTo>
                    <a:pt x="1208" y="2174"/>
                  </a:lnTo>
                  <a:lnTo>
                    <a:pt x="1208" y="2174"/>
                  </a:lnTo>
                  <a:lnTo>
                    <a:pt x="1212" y="2184"/>
                  </a:lnTo>
                  <a:lnTo>
                    <a:pt x="1214" y="2196"/>
                  </a:lnTo>
                  <a:lnTo>
                    <a:pt x="1220" y="2220"/>
                  </a:lnTo>
                  <a:lnTo>
                    <a:pt x="1222" y="2232"/>
                  </a:lnTo>
                  <a:lnTo>
                    <a:pt x="1226" y="2244"/>
                  </a:lnTo>
                  <a:lnTo>
                    <a:pt x="1234" y="2254"/>
                  </a:lnTo>
                  <a:lnTo>
                    <a:pt x="1242" y="2262"/>
                  </a:lnTo>
                  <a:lnTo>
                    <a:pt x="1242" y="2262"/>
                  </a:lnTo>
                  <a:lnTo>
                    <a:pt x="1262" y="2274"/>
                  </a:lnTo>
                  <a:lnTo>
                    <a:pt x="1282" y="2284"/>
                  </a:lnTo>
                  <a:lnTo>
                    <a:pt x="1304" y="2292"/>
                  </a:lnTo>
                  <a:lnTo>
                    <a:pt x="1326" y="2298"/>
                  </a:lnTo>
                  <a:lnTo>
                    <a:pt x="1350" y="2302"/>
                  </a:lnTo>
                  <a:lnTo>
                    <a:pt x="1374" y="2306"/>
                  </a:lnTo>
                  <a:lnTo>
                    <a:pt x="1422" y="2308"/>
                  </a:lnTo>
                  <a:lnTo>
                    <a:pt x="1472" y="2308"/>
                  </a:lnTo>
                  <a:lnTo>
                    <a:pt x="1520" y="2304"/>
                  </a:lnTo>
                  <a:lnTo>
                    <a:pt x="1568" y="2298"/>
                  </a:lnTo>
                  <a:lnTo>
                    <a:pt x="1614" y="2292"/>
                  </a:lnTo>
                  <a:lnTo>
                    <a:pt x="1614" y="2292"/>
                  </a:lnTo>
                  <a:lnTo>
                    <a:pt x="1620" y="2308"/>
                  </a:lnTo>
                  <a:lnTo>
                    <a:pt x="1624" y="2326"/>
                  </a:lnTo>
                  <a:lnTo>
                    <a:pt x="1632" y="2362"/>
                  </a:lnTo>
                  <a:lnTo>
                    <a:pt x="1640" y="2398"/>
                  </a:lnTo>
                  <a:lnTo>
                    <a:pt x="1644" y="2416"/>
                  </a:lnTo>
                  <a:lnTo>
                    <a:pt x="1650" y="2432"/>
                  </a:lnTo>
                  <a:lnTo>
                    <a:pt x="1650" y="2432"/>
                  </a:lnTo>
                  <a:lnTo>
                    <a:pt x="1660" y="2470"/>
                  </a:lnTo>
                  <a:lnTo>
                    <a:pt x="1670" y="2508"/>
                  </a:lnTo>
                  <a:lnTo>
                    <a:pt x="1674" y="2528"/>
                  </a:lnTo>
                  <a:lnTo>
                    <a:pt x="1674" y="2548"/>
                  </a:lnTo>
                  <a:lnTo>
                    <a:pt x="1672" y="2568"/>
                  </a:lnTo>
                  <a:lnTo>
                    <a:pt x="1666" y="2588"/>
                  </a:lnTo>
                  <a:lnTo>
                    <a:pt x="1666" y="2588"/>
                  </a:lnTo>
                  <a:lnTo>
                    <a:pt x="1660" y="2600"/>
                  </a:lnTo>
                  <a:lnTo>
                    <a:pt x="1654" y="2610"/>
                  </a:lnTo>
                  <a:lnTo>
                    <a:pt x="1648" y="2618"/>
                  </a:lnTo>
                  <a:lnTo>
                    <a:pt x="1640" y="2626"/>
                  </a:lnTo>
                  <a:lnTo>
                    <a:pt x="1630" y="2632"/>
                  </a:lnTo>
                  <a:lnTo>
                    <a:pt x="1622" y="2636"/>
                  </a:lnTo>
                  <a:lnTo>
                    <a:pt x="1600" y="2644"/>
                  </a:lnTo>
                  <a:lnTo>
                    <a:pt x="1578" y="2650"/>
                  </a:lnTo>
                  <a:lnTo>
                    <a:pt x="1554" y="2652"/>
                  </a:lnTo>
                  <a:lnTo>
                    <a:pt x="1504" y="2654"/>
                  </a:lnTo>
                  <a:lnTo>
                    <a:pt x="1504" y="2654"/>
                  </a:lnTo>
                  <a:lnTo>
                    <a:pt x="1490" y="2648"/>
                  </a:lnTo>
                  <a:lnTo>
                    <a:pt x="1476" y="2644"/>
                  </a:lnTo>
                  <a:lnTo>
                    <a:pt x="1446" y="2640"/>
                  </a:lnTo>
                  <a:lnTo>
                    <a:pt x="1416" y="2638"/>
                  </a:lnTo>
                  <a:lnTo>
                    <a:pt x="1386" y="2640"/>
                  </a:lnTo>
                  <a:lnTo>
                    <a:pt x="1324" y="2644"/>
                  </a:lnTo>
                  <a:lnTo>
                    <a:pt x="1294" y="2646"/>
                  </a:lnTo>
                  <a:lnTo>
                    <a:pt x="1264" y="2644"/>
                  </a:lnTo>
                  <a:lnTo>
                    <a:pt x="1264" y="2644"/>
                  </a:lnTo>
                  <a:lnTo>
                    <a:pt x="1254" y="2636"/>
                  </a:lnTo>
                  <a:lnTo>
                    <a:pt x="1244" y="2626"/>
                  </a:lnTo>
                  <a:lnTo>
                    <a:pt x="1236" y="2616"/>
                  </a:lnTo>
                  <a:lnTo>
                    <a:pt x="1230" y="2606"/>
                  </a:lnTo>
                  <a:lnTo>
                    <a:pt x="1224" y="2594"/>
                  </a:lnTo>
                  <a:lnTo>
                    <a:pt x="1220" y="2582"/>
                  </a:lnTo>
                  <a:lnTo>
                    <a:pt x="1216" y="2558"/>
                  </a:lnTo>
                  <a:lnTo>
                    <a:pt x="1212" y="2532"/>
                  </a:lnTo>
                  <a:lnTo>
                    <a:pt x="1210" y="2506"/>
                  </a:lnTo>
                  <a:lnTo>
                    <a:pt x="1206" y="2480"/>
                  </a:lnTo>
                  <a:lnTo>
                    <a:pt x="1202" y="2454"/>
                  </a:lnTo>
                  <a:lnTo>
                    <a:pt x="1202" y="2454"/>
                  </a:lnTo>
                  <a:lnTo>
                    <a:pt x="1186" y="2278"/>
                  </a:lnTo>
                  <a:lnTo>
                    <a:pt x="1180" y="2186"/>
                  </a:lnTo>
                  <a:lnTo>
                    <a:pt x="1176" y="2096"/>
                  </a:lnTo>
                  <a:lnTo>
                    <a:pt x="1176" y="2050"/>
                  </a:lnTo>
                  <a:lnTo>
                    <a:pt x="1176" y="2004"/>
                  </a:lnTo>
                  <a:lnTo>
                    <a:pt x="1178" y="1960"/>
                  </a:lnTo>
                  <a:lnTo>
                    <a:pt x="1182" y="1914"/>
                  </a:lnTo>
                  <a:lnTo>
                    <a:pt x="1186" y="1870"/>
                  </a:lnTo>
                  <a:lnTo>
                    <a:pt x="1194" y="1828"/>
                  </a:lnTo>
                  <a:lnTo>
                    <a:pt x="1204" y="1784"/>
                  </a:lnTo>
                  <a:lnTo>
                    <a:pt x="1216" y="1742"/>
                  </a:lnTo>
                  <a:lnTo>
                    <a:pt x="1230" y="1694"/>
                  </a:lnTo>
                  <a:lnTo>
                    <a:pt x="1230" y="1694"/>
                  </a:lnTo>
                  <a:lnTo>
                    <a:pt x="1246" y="1700"/>
                  </a:lnTo>
                  <a:lnTo>
                    <a:pt x="1264" y="1706"/>
                  </a:lnTo>
                  <a:lnTo>
                    <a:pt x="1282" y="1710"/>
                  </a:lnTo>
                  <a:lnTo>
                    <a:pt x="1292" y="1710"/>
                  </a:lnTo>
                  <a:lnTo>
                    <a:pt x="1302" y="1710"/>
                  </a:lnTo>
                  <a:lnTo>
                    <a:pt x="1302" y="1710"/>
                  </a:lnTo>
                  <a:lnTo>
                    <a:pt x="1316" y="1698"/>
                  </a:lnTo>
                  <a:lnTo>
                    <a:pt x="1328" y="1688"/>
                  </a:lnTo>
                  <a:lnTo>
                    <a:pt x="1336" y="1676"/>
                  </a:lnTo>
                  <a:lnTo>
                    <a:pt x="1344" y="1662"/>
                  </a:lnTo>
                  <a:lnTo>
                    <a:pt x="1358" y="1636"/>
                  </a:lnTo>
                  <a:lnTo>
                    <a:pt x="1368" y="1608"/>
                  </a:lnTo>
                  <a:lnTo>
                    <a:pt x="1384" y="1550"/>
                  </a:lnTo>
                  <a:lnTo>
                    <a:pt x="1394" y="1520"/>
                  </a:lnTo>
                  <a:lnTo>
                    <a:pt x="1402" y="1506"/>
                  </a:lnTo>
                  <a:lnTo>
                    <a:pt x="1410" y="1494"/>
                  </a:lnTo>
                  <a:lnTo>
                    <a:pt x="1410" y="1494"/>
                  </a:lnTo>
                  <a:close/>
                  <a:moveTo>
                    <a:pt x="1518" y="2060"/>
                  </a:moveTo>
                  <a:lnTo>
                    <a:pt x="1604" y="2038"/>
                  </a:lnTo>
                  <a:lnTo>
                    <a:pt x="1604" y="2038"/>
                  </a:lnTo>
                  <a:lnTo>
                    <a:pt x="1608" y="2048"/>
                  </a:lnTo>
                  <a:lnTo>
                    <a:pt x="1610" y="2060"/>
                  </a:lnTo>
                  <a:lnTo>
                    <a:pt x="1612" y="2088"/>
                  </a:lnTo>
                  <a:lnTo>
                    <a:pt x="1610" y="2116"/>
                  </a:lnTo>
                  <a:lnTo>
                    <a:pt x="1612" y="2130"/>
                  </a:lnTo>
                  <a:lnTo>
                    <a:pt x="1614" y="2144"/>
                  </a:lnTo>
                  <a:lnTo>
                    <a:pt x="1614" y="2144"/>
                  </a:lnTo>
                  <a:lnTo>
                    <a:pt x="1618" y="2182"/>
                  </a:lnTo>
                  <a:lnTo>
                    <a:pt x="1618" y="2202"/>
                  </a:lnTo>
                  <a:lnTo>
                    <a:pt x="1616" y="2210"/>
                  </a:lnTo>
                  <a:lnTo>
                    <a:pt x="1614" y="2220"/>
                  </a:lnTo>
                  <a:lnTo>
                    <a:pt x="1614" y="2220"/>
                  </a:lnTo>
                  <a:lnTo>
                    <a:pt x="1606" y="2226"/>
                  </a:lnTo>
                  <a:lnTo>
                    <a:pt x="1596" y="2230"/>
                  </a:lnTo>
                  <a:lnTo>
                    <a:pt x="1576" y="2234"/>
                  </a:lnTo>
                  <a:lnTo>
                    <a:pt x="1552" y="2238"/>
                  </a:lnTo>
                  <a:lnTo>
                    <a:pt x="1530" y="2242"/>
                  </a:lnTo>
                  <a:lnTo>
                    <a:pt x="1530" y="2242"/>
                  </a:lnTo>
                  <a:lnTo>
                    <a:pt x="1530" y="2198"/>
                  </a:lnTo>
                  <a:lnTo>
                    <a:pt x="1526" y="2160"/>
                  </a:lnTo>
                  <a:lnTo>
                    <a:pt x="1526" y="2120"/>
                  </a:lnTo>
                  <a:lnTo>
                    <a:pt x="1528" y="2100"/>
                  </a:lnTo>
                  <a:lnTo>
                    <a:pt x="1530" y="2076"/>
                  </a:lnTo>
                  <a:lnTo>
                    <a:pt x="1518" y="2060"/>
                  </a:lnTo>
                  <a:close/>
                  <a:moveTo>
                    <a:pt x="1276" y="1934"/>
                  </a:moveTo>
                  <a:lnTo>
                    <a:pt x="1276" y="1934"/>
                  </a:lnTo>
                  <a:lnTo>
                    <a:pt x="1282" y="1946"/>
                  </a:lnTo>
                  <a:lnTo>
                    <a:pt x="1288" y="1960"/>
                  </a:lnTo>
                  <a:lnTo>
                    <a:pt x="1298" y="1988"/>
                  </a:lnTo>
                  <a:lnTo>
                    <a:pt x="1304" y="2000"/>
                  </a:lnTo>
                  <a:lnTo>
                    <a:pt x="1312" y="2012"/>
                  </a:lnTo>
                  <a:lnTo>
                    <a:pt x="1322" y="2022"/>
                  </a:lnTo>
                  <a:lnTo>
                    <a:pt x="1338" y="2030"/>
                  </a:lnTo>
                  <a:lnTo>
                    <a:pt x="1432" y="2058"/>
                  </a:lnTo>
                  <a:lnTo>
                    <a:pt x="1432" y="2058"/>
                  </a:lnTo>
                  <a:lnTo>
                    <a:pt x="1428" y="2084"/>
                  </a:lnTo>
                  <a:lnTo>
                    <a:pt x="1430" y="2108"/>
                  </a:lnTo>
                  <a:lnTo>
                    <a:pt x="1432" y="2134"/>
                  </a:lnTo>
                  <a:lnTo>
                    <a:pt x="1436" y="2156"/>
                  </a:lnTo>
                  <a:lnTo>
                    <a:pt x="1440" y="2180"/>
                  </a:lnTo>
                  <a:lnTo>
                    <a:pt x="1440" y="2202"/>
                  </a:lnTo>
                  <a:lnTo>
                    <a:pt x="1440" y="2214"/>
                  </a:lnTo>
                  <a:lnTo>
                    <a:pt x="1438" y="2224"/>
                  </a:lnTo>
                  <a:lnTo>
                    <a:pt x="1434" y="2236"/>
                  </a:lnTo>
                  <a:lnTo>
                    <a:pt x="1428" y="2246"/>
                  </a:lnTo>
                  <a:lnTo>
                    <a:pt x="1428" y="2246"/>
                  </a:lnTo>
                  <a:lnTo>
                    <a:pt x="1388" y="2242"/>
                  </a:lnTo>
                  <a:lnTo>
                    <a:pt x="1348" y="2240"/>
                  </a:lnTo>
                  <a:lnTo>
                    <a:pt x="1330" y="2238"/>
                  </a:lnTo>
                  <a:lnTo>
                    <a:pt x="1310" y="2234"/>
                  </a:lnTo>
                  <a:lnTo>
                    <a:pt x="1292" y="2228"/>
                  </a:lnTo>
                  <a:lnTo>
                    <a:pt x="1274" y="2220"/>
                  </a:lnTo>
                  <a:lnTo>
                    <a:pt x="1274" y="2220"/>
                  </a:lnTo>
                  <a:lnTo>
                    <a:pt x="1272" y="2182"/>
                  </a:lnTo>
                  <a:lnTo>
                    <a:pt x="1274" y="2146"/>
                  </a:lnTo>
                  <a:lnTo>
                    <a:pt x="1276" y="2076"/>
                  </a:lnTo>
                  <a:lnTo>
                    <a:pt x="1280" y="2008"/>
                  </a:lnTo>
                  <a:lnTo>
                    <a:pt x="1280" y="1972"/>
                  </a:lnTo>
                  <a:lnTo>
                    <a:pt x="1276" y="1934"/>
                  </a:lnTo>
                  <a:lnTo>
                    <a:pt x="1276" y="1934"/>
                  </a:lnTo>
                  <a:close/>
                  <a:moveTo>
                    <a:pt x="1356" y="1984"/>
                  </a:moveTo>
                  <a:lnTo>
                    <a:pt x="1322" y="1894"/>
                  </a:lnTo>
                  <a:lnTo>
                    <a:pt x="1322" y="1894"/>
                  </a:lnTo>
                  <a:lnTo>
                    <a:pt x="1342" y="1890"/>
                  </a:lnTo>
                  <a:lnTo>
                    <a:pt x="1364" y="1890"/>
                  </a:lnTo>
                  <a:lnTo>
                    <a:pt x="1404" y="1888"/>
                  </a:lnTo>
                  <a:lnTo>
                    <a:pt x="1426" y="1888"/>
                  </a:lnTo>
                  <a:lnTo>
                    <a:pt x="1446" y="1886"/>
                  </a:lnTo>
                  <a:lnTo>
                    <a:pt x="1466" y="1882"/>
                  </a:lnTo>
                  <a:lnTo>
                    <a:pt x="1484" y="1876"/>
                  </a:lnTo>
                  <a:lnTo>
                    <a:pt x="1484" y="1876"/>
                  </a:lnTo>
                  <a:lnTo>
                    <a:pt x="1498" y="1876"/>
                  </a:lnTo>
                  <a:lnTo>
                    <a:pt x="1510" y="1874"/>
                  </a:lnTo>
                  <a:lnTo>
                    <a:pt x="1536" y="1868"/>
                  </a:lnTo>
                  <a:lnTo>
                    <a:pt x="1550" y="1864"/>
                  </a:lnTo>
                  <a:lnTo>
                    <a:pt x="1560" y="1864"/>
                  </a:lnTo>
                  <a:lnTo>
                    <a:pt x="1572" y="1866"/>
                  </a:lnTo>
                  <a:lnTo>
                    <a:pt x="1576" y="1870"/>
                  </a:lnTo>
                  <a:lnTo>
                    <a:pt x="1582" y="1874"/>
                  </a:lnTo>
                  <a:lnTo>
                    <a:pt x="1610" y="1956"/>
                  </a:lnTo>
                  <a:lnTo>
                    <a:pt x="1610" y="1956"/>
                  </a:lnTo>
                  <a:lnTo>
                    <a:pt x="1598" y="1968"/>
                  </a:lnTo>
                  <a:lnTo>
                    <a:pt x="1584" y="1980"/>
                  </a:lnTo>
                  <a:lnTo>
                    <a:pt x="1570" y="1986"/>
                  </a:lnTo>
                  <a:lnTo>
                    <a:pt x="1554" y="1992"/>
                  </a:lnTo>
                  <a:lnTo>
                    <a:pt x="1536" y="1996"/>
                  </a:lnTo>
                  <a:lnTo>
                    <a:pt x="1520" y="1998"/>
                  </a:lnTo>
                  <a:lnTo>
                    <a:pt x="1484" y="2004"/>
                  </a:lnTo>
                  <a:lnTo>
                    <a:pt x="1484" y="2004"/>
                  </a:lnTo>
                  <a:lnTo>
                    <a:pt x="1450" y="2002"/>
                  </a:lnTo>
                  <a:lnTo>
                    <a:pt x="1418" y="2000"/>
                  </a:lnTo>
                  <a:lnTo>
                    <a:pt x="1402" y="2000"/>
                  </a:lnTo>
                  <a:lnTo>
                    <a:pt x="1386" y="1996"/>
                  </a:lnTo>
                  <a:lnTo>
                    <a:pt x="1372" y="1992"/>
                  </a:lnTo>
                  <a:lnTo>
                    <a:pt x="1356" y="1984"/>
                  </a:lnTo>
                  <a:lnTo>
                    <a:pt x="1356" y="1984"/>
                  </a:lnTo>
                  <a:close/>
                  <a:moveTo>
                    <a:pt x="558" y="232"/>
                  </a:moveTo>
                  <a:lnTo>
                    <a:pt x="558" y="232"/>
                  </a:lnTo>
                  <a:lnTo>
                    <a:pt x="590" y="204"/>
                  </a:lnTo>
                  <a:lnTo>
                    <a:pt x="624" y="176"/>
                  </a:lnTo>
                  <a:lnTo>
                    <a:pt x="658" y="152"/>
                  </a:lnTo>
                  <a:lnTo>
                    <a:pt x="694" y="130"/>
                  </a:lnTo>
                  <a:lnTo>
                    <a:pt x="732" y="110"/>
                  </a:lnTo>
                  <a:lnTo>
                    <a:pt x="770" y="92"/>
                  </a:lnTo>
                  <a:lnTo>
                    <a:pt x="846" y="54"/>
                  </a:lnTo>
                  <a:lnTo>
                    <a:pt x="846" y="54"/>
                  </a:lnTo>
                  <a:lnTo>
                    <a:pt x="864" y="52"/>
                  </a:lnTo>
                  <a:lnTo>
                    <a:pt x="882" y="50"/>
                  </a:lnTo>
                  <a:lnTo>
                    <a:pt x="916" y="50"/>
                  </a:lnTo>
                  <a:lnTo>
                    <a:pt x="952" y="54"/>
                  </a:lnTo>
                  <a:lnTo>
                    <a:pt x="986" y="62"/>
                  </a:lnTo>
                  <a:lnTo>
                    <a:pt x="1018" y="70"/>
                  </a:lnTo>
                  <a:lnTo>
                    <a:pt x="1052" y="82"/>
                  </a:lnTo>
                  <a:lnTo>
                    <a:pt x="1118" y="104"/>
                  </a:lnTo>
                  <a:lnTo>
                    <a:pt x="1236" y="160"/>
                  </a:lnTo>
                  <a:lnTo>
                    <a:pt x="1236" y="160"/>
                  </a:lnTo>
                  <a:lnTo>
                    <a:pt x="1248" y="174"/>
                  </a:lnTo>
                  <a:lnTo>
                    <a:pt x="1260" y="188"/>
                  </a:lnTo>
                  <a:lnTo>
                    <a:pt x="1270" y="202"/>
                  </a:lnTo>
                  <a:lnTo>
                    <a:pt x="1280" y="218"/>
                  </a:lnTo>
                  <a:lnTo>
                    <a:pt x="1296" y="250"/>
                  </a:lnTo>
                  <a:lnTo>
                    <a:pt x="1308" y="284"/>
                  </a:lnTo>
                  <a:lnTo>
                    <a:pt x="1316" y="320"/>
                  </a:lnTo>
                  <a:lnTo>
                    <a:pt x="1322" y="356"/>
                  </a:lnTo>
                  <a:lnTo>
                    <a:pt x="1324" y="394"/>
                  </a:lnTo>
                  <a:lnTo>
                    <a:pt x="1324" y="434"/>
                  </a:lnTo>
                  <a:lnTo>
                    <a:pt x="1324" y="434"/>
                  </a:lnTo>
                  <a:lnTo>
                    <a:pt x="1316" y="438"/>
                  </a:lnTo>
                  <a:lnTo>
                    <a:pt x="1308" y="438"/>
                  </a:lnTo>
                  <a:lnTo>
                    <a:pt x="1300" y="436"/>
                  </a:lnTo>
                  <a:lnTo>
                    <a:pt x="1292" y="432"/>
                  </a:lnTo>
                  <a:lnTo>
                    <a:pt x="1278" y="420"/>
                  </a:lnTo>
                  <a:lnTo>
                    <a:pt x="1270" y="416"/>
                  </a:lnTo>
                  <a:lnTo>
                    <a:pt x="1262" y="416"/>
                  </a:lnTo>
                  <a:lnTo>
                    <a:pt x="1262" y="416"/>
                  </a:lnTo>
                  <a:lnTo>
                    <a:pt x="1212" y="406"/>
                  </a:lnTo>
                  <a:lnTo>
                    <a:pt x="1162" y="394"/>
                  </a:lnTo>
                  <a:lnTo>
                    <a:pt x="1064" y="364"/>
                  </a:lnTo>
                  <a:lnTo>
                    <a:pt x="1014" y="350"/>
                  </a:lnTo>
                  <a:lnTo>
                    <a:pt x="964" y="338"/>
                  </a:lnTo>
                  <a:lnTo>
                    <a:pt x="912" y="328"/>
                  </a:lnTo>
                  <a:lnTo>
                    <a:pt x="886" y="326"/>
                  </a:lnTo>
                  <a:lnTo>
                    <a:pt x="860" y="324"/>
                  </a:lnTo>
                  <a:lnTo>
                    <a:pt x="860" y="324"/>
                  </a:lnTo>
                  <a:lnTo>
                    <a:pt x="816" y="330"/>
                  </a:lnTo>
                  <a:lnTo>
                    <a:pt x="774" y="340"/>
                  </a:lnTo>
                  <a:lnTo>
                    <a:pt x="732" y="354"/>
                  </a:lnTo>
                  <a:lnTo>
                    <a:pt x="694" y="370"/>
                  </a:lnTo>
                  <a:lnTo>
                    <a:pt x="656" y="390"/>
                  </a:lnTo>
                  <a:lnTo>
                    <a:pt x="620" y="414"/>
                  </a:lnTo>
                  <a:lnTo>
                    <a:pt x="584" y="438"/>
                  </a:lnTo>
                  <a:lnTo>
                    <a:pt x="548" y="464"/>
                  </a:lnTo>
                  <a:lnTo>
                    <a:pt x="548" y="464"/>
                  </a:lnTo>
                  <a:lnTo>
                    <a:pt x="548" y="406"/>
                  </a:lnTo>
                  <a:lnTo>
                    <a:pt x="550" y="350"/>
                  </a:lnTo>
                  <a:lnTo>
                    <a:pt x="554" y="292"/>
                  </a:lnTo>
                  <a:lnTo>
                    <a:pt x="558" y="232"/>
                  </a:lnTo>
                  <a:lnTo>
                    <a:pt x="558" y="232"/>
                  </a:lnTo>
                  <a:close/>
                  <a:moveTo>
                    <a:pt x="370" y="706"/>
                  </a:moveTo>
                  <a:lnTo>
                    <a:pt x="370" y="706"/>
                  </a:lnTo>
                  <a:lnTo>
                    <a:pt x="430" y="654"/>
                  </a:lnTo>
                  <a:lnTo>
                    <a:pt x="486" y="600"/>
                  </a:lnTo>
                  <a:lnTo>
                    <a:pt x="542" y="548"/>
                  </a:lnTo>
                  <a:lnTo>
                    <a:pt x="570" y="524"/>
                  </a:lnTo>
                  <a:lnTo>
                    <a:pt x="600" y="500"/>
                  </a:lnTo>
                  <a:lnTo>
                    <a:pt x="630" y="478"/>
                  </a:lnTo>
                  <a:lnTo>
                    <a:pt x="660" y="456"/>
                  </a:lnTo>
                  <a:lnTo>
                    <a:pt x="692" y="436"/>
                  </a:lnTo>
                  <a:lnTo>
                    <a:pt x="724" y="420"/>
                  </a:lnTo>
                  <a:lnTo>
                    <a:pt x="758" y="406"/>
                  </a:lnTo>
                  <a:lnTo>
                    <a:pt x="794" y="392"/>
                  </a:lnTo>
                  <a:lnTo>
                    <a:pt x="830" y="384"/>
                  </a:lnTo>
                  <a:lnTo>
                    <a:pt x="870" y="378"/>
                  </a:lnTo>
                  <a:lnTo>
                    <a:pt x="870" y="378"/>
                  </a:lnTo>
                  <a:lnTo>
                    <a:pt x="896" y="380"/>
                  </a:lnTo>
                  <a:lnTo>
                    <a:pt x="922" y="382"/>
                  </a:lnTo>
                  <a:lnTo>
                    <a:pt x="972" y="390"/>
                  </a:lnTo>
                  <a:lnTo>
                    <a:pt x="1020" y="402"/>
                  </a:lnTo>
                  <a:lnTo>
                    <a:pt x="1068" y="416"/>
                  </a:lnTo>
                  <a:lnTo>
                    <a:pt x="1164" y="446"/>
                  </a:lnTo>
                  <a:lnTo>
                    <a:pt x="1212" y="460"/>
                  </a:lnTo>
                  <a:lnTo>
                    <a:pt x="1262" y="470"/>
                  </a:lnTo>
                  <a:lnTo>
                    <a:pt x="1262" y="478"/>
                  </a:lnTo>
                  <a:lnTo>
                    <a:pt x="1262" y="478"/>
                  </a:lnTo>
                  <a:lnTo>
                    <a:pt x="1232" y="510"/>
                  </a:lnTo>
                  <a:lnTo>
                    <a:pt x="1200" y="540"/>
                  </a:lnTo>
                  <a:lnTo>
                    <a:pt x="1166" y="566"/>
                  </a:lnTo>
                  <a:lnTo>
                    <a:pt x="1130" y="592"/>
                  </a:lnTo>
                  <a:lnTo>
                    <a:pt x="1092" y="614"/>
                  </a:lnTo>
                  <a:lnTo>
                    <a:pt x="1054" y="632"/>
                  </a:lnTo>
                  <a:lnTo>
                    <a:pt x="1012" y="648"/>
                  </a:lnTo>
                  <a:lnTo>
                    <a:pt x="972" y="660"/>
                  </a:lnTo>
                  <a:lnTo>
                    <a:pt x="972" y="660"/>
                  </a:lnTo>
                  <a:lnTo>
                    <a:pt x="946" y="656"/>
                  </a:lnTo>
                  <a:lnTo>
                    <a:pt x="920" y="650"/>
                  </a:lnTo>
                  <a:lnTo>
                    <a:pt x="896" y="642"/>
                  </a:lnTo>
                  <a:lnTo>
                    <a:pt x="872" y="632"/>
                  </a:lnTo>
                  <a:lnTo>
                    <a:pt x="848" y="622"/>
                  </a:lnTo>
                  <a:lnTo>
                    <a:pt x="822" y="614"/>
                  </a:lnTo>
                  <a:lnTo>
                    <a:pt x="798" y="610"/>
                  </a:lnTo>
                  <a:lnTo>
                    <a:pt x="770" y="608"/>
                  </a:lnTo>
                  <a:lnTo>
                    <a:pt x="770" y="608"/>
                  </a:lnTo>
                  <a:lnTo>
                    <a:pt x="746" y="602"/>
                  </a:lnTo>
                  <a:lnTo>
                    <a:pt x="724" y="600"/>
                  </a:lnTo>
                  <a:lnTo>
                    <a:pt x="702" y="600"/>
                  </a:lnTo>
                  <a:lnTo>
                    <a:pt x="680" y="604"/>
                  </a:lnTo>
                  <a:lnTo>
                    <a:pt x="660" y="610"/>
                  </a:lnTo>
                  <a:lnTo>
                    <a:pt x="640" y="616"/>
                  </a:lnTo>
                  <a:lnTo>
                    <a:pt x="600" y="634"/>
                  </a:lnTo>
                  <a:lnTo>
                    <a:pt x="560" y="654"/>
                  </a:lnTo>
                  <a:lnTo>
                    <a:pt x="520" y="672"/>
                  </a:lnTo>
                  <a:lnTo>
                    <a:pt x="498" y="682"/>
                  </a:lnTo>
                  <a:lnTo>
                    <a:pt x="478" y="688"/>
                  </a:lnTo>
                  <a:lnTo>
                    <a:pt x="456" y="694"/>
                  </a:lnTo>
                  <a:lnTo>
                    <a:pt x="434" y="696"/>
                  </a:lnTo>
                  <a:lnTo>
                    <a:pt x="434" y="696"/>
                  </a:lnTo>
                  <a:lnTo>
                    <a:pt x="418" y="702"/>
                  </a:lnTo>
                  <a:lnTo>
                    <a:pt x="404" y="706"/>
                  </a:lnTo>
                  <a:lnTo>
                    <a:pt x="388" y="706"/>
                  </a:lnTo>
                  <a:lnTo>
                    <a:pt x="370" y="706"/>
                  </a:lnTo>
                  <a:lnTo>
                    <a:pt x="370" y="706"/>
                  </a:lnTo>
                  <a:close/>
                  <a:moveTo>
                    <a:pt x="1122" y="718"/>
                  </a:moveTo>
                  <a:lnTo>
                    <a:pt x="1122" y="718"/>
                  </a:lnTo>
                  <a:lnTo>
                    <a:pt x="1132" y="710"/>
                  </a:lnTo>
                  <a:lnTo>
                    <a:pt x="1144" y="704"/>
                  </a:lnTo>
                  <a:lnTo>
                    <a:pt x="1156" y="700"/>
                  </a:lnTo>
                  <a:lnTo>
                    <a:pt x="1170" y="698"/>
                  </a:lnTo>
                  <a:lnTo>
                    <a:pt x="1184" y="698"/>
                  </a:lnTo>
                  <a:lnTo>
                    <a:pt x="1196" y="702"/>
                  </a:lnTo>
                  <a:lnTo>
                    <a:pt x="1208" y="708"/>
                  </a:lnTo>
                  <a:lnTo>
                    <a:pt x="1218" y="718"/>
                  </a:lnTo>
                  <a:lnTo>
                    <a:pt x="1218" y="718"/>
                  </a:lnTo>
                  <a:lnTo>
                    <a:pt x="1228" y="740"/>
                  </a:lnTo>
                  <a:lnTo>
                    <a:pt x="1238" y="762"/>
                  </a:lnTo>
                  <a:lnTo>
                    <a:pt x="1244" y="786"/>
                  </a:lnTo>
                  <a:lnTo>
                    <a:pt x="1250" y="812"/>
                  </a:lnTo>
                  <a:lnTo>
                    <a:pt x="1250" y="836"/>
                  </a:lnTo>
                  <a:lnTo>
                    <a:pt x="1250" y="848"/>
                  </a:lnTo>
                  <a:lnTo>
                    <a:pt x="1246" y="860"/>
                  </a:lnTo>
                  <a:lnTo>
                    <a:pt x="1244" y="870"/>
                  </a:lnTo>
                  <a:lnTo>
                    <a:pt x="1238" y="882"/>
                  </a:lnTo>
                  <a:lnTo>
                    <a:pt x="1232" y="892"/>
                  </a:lnTo>
                  <a:lnTo>
                    <a:pt x="1224" y="902"/>
                  </a:lnTo>
                  <a:lnTo>
                    <a:pt x="1224" y="902"/>
                  </a:lnTo>
                  <a:lnTo>
                    <a:pt x="1214" y="914"/>
                  </a:lnTo>
                  <a:lnTo>
                    <a:pt x="1204" y="922"/>
                  </a:lnTo>
                  <a:lnTo>
                    <a:pt x="1190" y="928"/>
                  </a:lnTo>
                  <a:lnTo>
                    <a:pt x="1178" y="932"/>
                  </a:lnTo>
                  <a:lnTo>
                    <a:pt x="1164" y="934"/>
                  </a:lnTo>
                  <a:lnTo>
                    <a:pt x="1150" y="934"/>
                  </a:lnTo>
                  <a:lnTo>
                    <a:pt x="1126" y="932"/>
                  </a:lnTo>
                  <a:lnTo>
                    <a:pt x="1126" y="932"/>
                  </a:lnTo>
                  <a:lnTo>
                    <a:pt x="1104" y="914"/>
                  </a:lnTo>
                  <a:lnTo>
                    <a:pt x="1096" y="902"/>
                  </a:lnTo>
                  <a:lnTo>
                    <a:pt x="1086" y="892"/>
                  </a:lnTo>
                  <a:lnTo>
                    <a:pt x="1080" y="878"/>
                  </a:lnTo>
                  <a:lnTo>
                    <a:pt x="1074" y="866"/>
                  </a:lnTo>
                  <a:lnTo>
                    <a:pt x="1072" y="852"/>
                  </a:lnTo>
                  <a:lnTo>
                    <a:pt x="1070" y="838"/>
                  </a:lnTo>
                  <a:lnTo>
                    <a:pt x="1070" y="838"/>
                  </a:lnTo>
                  <a:lnTo>
                    <a:pt x="1072" y="804"/>
                  </a:lnTo>
                  <a:lnTo>
                    <a:pt x="1074" y="786"/>
                  </a:lnTo>
                  <a:lnTo>
                    <a:pt x="1078" y="768"/>
                  </a:lnTo>
                  <a:lnTo>
                    <a:pt x="1084" y="752"/>
                  </a:lnTo>
                  <a:lnTo>
                    <a:pt x="1092" y="738"/>
                  </a:lnTo>
                  <a:lnTo>
                    <a:pt x="1098" y="732"/>
                  </a:lnTo>
                  <a:lnTo>
                    <a:pt x="1104" y="726"/>
                  </a:lnTo>
                  <a:lnTo>
                    <a:pt x="1112" y="722"/>
                  </a:lnTo>
                  <a:lnTo>
                    <a:pt x="1122" y="718"/>
                  </a:lnTo>
                  <a:lnTo>
                    <a:pt x="1122" y="718"/>
                  </a:lnTo>
                  <a:close/>
                  <a:moveTo>
                    <a:pt x="598" y="1216"/>
                  </a:moveTo>
                  <a:lnTo>
                    <a:pt x="598" y="1216"/>
                  </a:lnTo>
                  <a:lnTo>
                    <a:pt x="588" y="1202"/>
                  </a:lnTo>
                  <a:lnTo>
                    <a:pt x="580" y="1186"/>
                  </a:lnTo>
                  <a:lnTo>
                    <a:pt x="574" y="1170"/>
                  </a:lnTo>
                  <a:lnTo>
                    <a:pt x="570" y="1154"/>
                  </a:lnTo>
                  <a:lnTo>
                    <a:pt x="568" y="1138"/>
                  </a:lnTo>
                  <a:lnTo>
                    <a:pt x="566" y="1120"/>
                  </a:lnTo>
                  <a:lnTo>
                    <a:pt x="566" y="1086"/>
                  </a:lnTo>
                  <a:lnTo>
                    <a:pt x="564" y="1050"/>
                  </a:lnTo>
                  <a:lnTo>
                    <a:pt x="564" y="1016"/>
                  </a:lnTo>
                  <a:lnTo>
                    <a:pt x="560" y="998"/>
                  </a:lnTo>
                  <a:lnTo>
                    <a:pt x="558" y="982"/>
                  </a:lnTo>
                  <a:lnTo>
                    <a:pt x="552" y="964"/>
                  </a:lnTo>
                  <a:lnTo>
                    <a:pt x="546" y="948"/>
                  </a:lnTo>
                  <a:lnTo>
                    <a:pt x="546" y="948"/>
                  </a:lnTo>
                  <a:lnTo>
                    <a:pt x="536" y="942"/>
                  </a:lnTo>
                  <a:lnTo>
                    <a:pt x="528" y="940"/>
                  </a:lnTo>
                  <a:lnTo>
                    <a:pt x="518" y="942"/>
                  </a:lnTo>
                  <a:lnTo>
                    <a:pt x="508" y="946"/>
                  </a:lnTo>
                  <a:lnTo>
                    <a:pt x="508" y="946"/>
                  </a:lnTo>
                  <a:lnTo>
                    <a:pt x="504" y="950"/>
                  </a:lnTo>
                  <a:lnTo>
                    <a:pt x="500" y="954"/>
                  </a:lnTo>
                  <a:lnTo>
                    <a:pt x="498" y="958"/>
                  </a:lnTo>
                  <a:lnTo>
                    <a:pt x="498" y="962"/>
                  </a:lnTo>
                  <a:lnTo>
                    <a:pt x="498" y="972"/>
                  </a:lnTo>
                  <a:lnTo>
                    <a:pt x="496" y="982"/>
                  </a:lnTo>
                  <a:lnTo>
                    <a:pt x="496" y="982"/>
                  </a:lnTo>
                  <a:lnTo>
                    <a:pt x="478" y="978"/>
                  </a:lnTo>
                  <a:lnTo>
                    <a:pt x="460" y="970"/>
                  </a:lnTo>
                  <a:lnTo>
                    <a:pt x="444" y="960"/>
                  </a:lnTo>
                  <a:lnTo>
                    <a:pt x="430" y="948"/>
                  </a:lnTo>
                  <a:lnTo>
                    <a:pt x="418" y="934"/>
                  </a:lnTo>
                  <a:lnTo>
                    <a:pt x="408" y="918"/>
                  </a:lnTo>
                  <a:lnTo>
                    <a:pt x="398" y="900"/>
                  </a:lnTo>
                  <a:lnTo>
                    <a:pt x="390" y="884"/>
                  </a:lnTo>
                  <a:lnTo>
                    <a:pt x="390" y="884"/>
                  </a:lnTo>
                  <a:lnTo>
                    <a:pt x="388" y="856"/>
                  </a:lnTo>
                  <a:lnTo>
                    <a:pt x="388" y="842"/>
                  </a:lnTo>
                  <a:lnTo>
                    <a:pt x="390" y="828"/>
                  </a:lnTo>
                  <a:lnTo>
                    <a:pt x="392" y="814"/>
                  </a:lnTo>
                  <a:lnTo>
                    <a:pt x="398" y="802"/>
                  </a:lnTo>
                  <a:lnTo>
                    <a:pt x="406" y="790"/>
                  </a:lnTo>
                  <a:lnTo>
                    <a:pt x="416" y="782"/>
                  </a:lnTo>
                  <a:lnTo>
                    <a:pt x="416" y="782"/>
                  </a:lnTo>
                  <a:lnTo>
                    <a:pt x="426" y="780"/>
                  </a:lnTo>
                  <a:lnTo>
                    <a:pt x="438" y="778"/>
                  </a:lnTo>
                  <a:lnTo>
                    <a:pt x="442" y="776"/>
                  </a:lnTo>
                  <a:lnTo>
                    <a:pt x="448" y="774"/>
                  </a:lnTo>
                  <a:lnTo>
                    <a:pt x="452" y="770"/>
                  </a:lnTo>
                  <a:lnTo>
                    <a:pt x="456" y="766"/>
                  </a:lnTo>
                  <a:lnTo>
                    <a:pt x="456" y="766"/>
                  </a:lnTo>
                  <a:lnTo>
                    <a:pt x="454" y="758"/>
                  </a:lnTo>
                  <a:lnTo>
                    <a:pt x="454" y="752"/>
                  </a:lnTo>
                  <a:lnTo>
                    <a:pt x="454" y="752"/>
                  </a:lnTo>
                  <a:lnTo>
                    <a:pt x="474" y="744"/>
                  </a:lnTo>
                  <a:lnTo>
                    <a:pt x="484" y="742"/>
                  </a:lnTo>
                  <a:lnTo>
                    <a:pt x="494" y="740"/>
                  </a:lnTo>
                  <a:lnTo>
                    <a:pt x="504" y="742"/>
                  </a:lnTo>
                  <a:lnTo>
                    <a:pt x="512" y="744"/>
                  </a:lnTo>
                  <a:lnTo>
                    <a:pt x="522" y="750"/>
                  </a:lnTo>
                  <a:lnTo>
                    <a:pt x="532" y="756"/>
                  </a:lnTo>
                  <a:lnTo>
                    <a:pt x="532" y="756"/>
                  </a:lnTo>
                  <a:lnTo>
                    <a:pt x="540" y="758"/>
                  </a:lnTo>
                  <a:lnTo>
                    <a:pt x="550" y="754"/>
                  </a:lnTo>
                  <a:lnTo>
                    <a:pt x="554" y="752"/>
                  </a:lnTo>
                  <a:lnTo>
                    <a:pt x="558" y="748"/>
                  </a:lnTo>
                  <a:lnTo>
                    <a:pt x="560" y="744"/>
                  </a:lnTo>
                  <a:lnTo>
                    <a:pt x="560" y="738"/>
                  </a:lnTo>
                  <a:lnTo>
                    <a:pt x="560" y="738"/>
                  </a:lnTo>
                  <a:lnTo>
                    <a:pt x="558" y="730"/>
                  </a:lnTo>
                  <a:lnTo>
                    <a:pt x="560" y="722"/>
                  </a:lnTo>
                  <a:lnTo>
                    <a:pt x="566" y="718"/>
                  </a:lnTo>
                  <a:lnTo>
                    <a:pt x="572" y="712"/>
                  </a:lnTo>
                  <a:lnTo>
                    <a:pt x="590" y="706"/>
                  </a:lnTo>
                  <a:lnTo>
                    <a:pt x="598" y="704"/>
                  </a:lnTo>
                  <a:lnTo>
                    <a:pt x="606" y="700"/>
                  </a:lnTo>
                  <a:lnTo>
                    <a:pt x="606" y="700"/>
                  </a:lnTo>
                  <a:lnTo>
                    <a:pt x="608" y="706"/>
                  </a:lnTo>
                  <a:lnTo>
                    <a:pt x="610" y="716"/>
                  </a:lnTo>
                  <a:lnTo>
                    <a:pt x="614" y="720"/>
                  </a:lnTo>
                  <a:lnTo>
                    <a:pt x="618" y="724"/>
                  </a:lnTo>
                  <a:lnTo>
                    <a:pt x="622" y="726"/>
                  </a:lnTo>
                  <a:lnTo>
                    <a:pt x="628" y="726"/>
                  </a:lnTo>
                  <a:lnTo>
                    <a:pt x="628" y="726"/>
                  </a:lnTo>
                  <a:lnTo>
                    <a:pt x="642" y="724"/>
                  </a:lnTo>
                  <a:lnTo>
                    <a:pt x="654" y="718"/>
                  </a:lnTo>
                  <a:lnTo>
                    <a:pt x="660" y="714"/>
                  </a:lnTo>
                  <a:lnTo>
                    <a:pt x="666" y="710"/>
                  </a:lnTo>
                  <a:lnTo>
                    <a:pt x="670" y="704"/>
                  </a:lnTo>
                  <a:lnTo>
                    <a:pt x="674" y="696"/>
                  </a:lnTo>
                  <a:lnTo>
                    <a:pt x="674" y="696"/>
                  </a:lnTo>
                  <a:lnTo>
                    <a:pt x="680" y="686"/>
                  </a:lnTo>
                  <a:lnTo>
                    <a:pt x="688" y="680"/>
                  </a:lnTo>
                  <a:lnTo>
                    <a:pt x="698" y="676"/>
                  </a:lnTo>
                  <a:lnTo>
                    <a:pt x="710" y="674"/>
                  </a:lnTo>
                  <a:lnTo>
                    <a:pt x="734" y="676"/>
                  </a:lnTo>
                  <a:lnTo>
                    <a:pt x="756" y="678"/>
                  </a:lnTo>
                  <a:lnTo>
                    <a:pt x="756" y="678"/>
                  </a:lnTo>
                  <a:lnTo>
                    <a:pt x="768" y="682"/>
                  </a:lnTo>
                  <a:lnTo>
                    <a:pt x="782" y="686"/>
                  </a:lnTo>
                  <a:lnTo>
                    <a:pt x="790" y="688"/>
                  </a:lnTo>
                  <a:lnTo>
                    <a:pt x="796" y="688"/>
                  </a:lnTo>
                  <a:lnTo>
                    <a:pt x="804" y="684"/>
                  </a:lnTo>
                  <a:lnTo>
                    <a:pt x="810" y="680"/>
                  </a:lnTo>
                  <a:lnTo>
                    <a:pt x="810" y="680"/>
                  </a:lnTo>
                  <a:lnTo>
                    <a:pt x="814" y="674"/>
                  </a:lnTo>
                  <a:lnTo>
                    <a:pt x="814" y="672"/>
                  </a:lnTo>
                  <a:lnTo>
                    <a:pt x="814" y="668"/>
                  </a:lnTo>
                  <a:lnTo>
                    <a:pt x="814" y="668"/>
                  </a:lnTo>
                  <a:lnTo>
                    <a:pt x="842" y="674"/>
                  </a:lnTo>
                  <a:lnTo>
                    <a:pt x="870" y="682"/>
                  </a:lnTo>
                  <a:lnTo>
                    <a:pt x="926" y="702"/>
                  </a:lnTo>
                  <a:lnTo>
                    <a:pt x="954" y="710"/>
                  </a:lnTo>
                  <a:lnTo>
                    <a:pt x="968" y="712"/>
                  </a:lnTo>
                  <a:lnTo>
                    <a:pt x="982" y="714"/>
                  </a:lnTo>
                  <a:lnTo>
                    <a:pt x="996" y="712"/>
                  </a:lnTo>
                  <a:lnTo>
                    <a:pt x="1010" y="710"/>
                  </a:lnTo>
                  <a:lnTo>
                    <a:pt x="1024" y="706"/>
                  </a:lnTo>
                  <a:lnTo>
                    <a:pt x="1040" y="700"/>
                  </a:lnTo>
                  <a:lnTo>
                    <a:pt x="1048" y="702"/>
                  </a:lnTo>
                  <a:lnTo>
                    <a:pt x="1048" y="702"/>
                  </a:lnTo>
                  <a:lnTo>
                    <a:pt x="1046" y="716"/>
                  </a:lnTo>
                  <a:lnTo>
                    <a:pt x="1042" y="728"/>
                  </a:lnTo>
                  <a:lnTo>
                    <a:pt x="1032" y="754"/>
                  </a:lnTo>
                  <a:lnTo>
                    <a:pt x="1022" y="780"/>
                  </a:lnTo>
                  <a:lnTo>
                    <a:pt x="1018" y="794"/>
                  </a:lnTo>
                  <a:lnTo>
                    <a:pt x="1018" y="808"/>
                  </a:lnTo>
                  <a:lnTo>
                    <a:pt x="1018" y="808"/>
                  </a:lnTo>
                  <a:lnTo>
                    <a:pt x="1018" y="834"/>
                  </a:lnTo>
                  <a:lnTo>
                    <a:pt x="1022" y="858"/>
                  </a:lnTo>
                  <a:lnTo>
                    <a:pt x="1028" y="882"/>
                  </a:lnTo>
                  <a:lnTo>
                    <a:pt x="1036" y="906"/>
                  </a:lnTo>
                  <a:lnTo>
                    <a:pt x="1048" y="928"/>
                  </a:lnTo>
                  <a:lnTo>
                    <a:pt x="1064" y="948"/>
                  </a:lnTo>
                  <a:lnTo>
                    <a:pt x="1072" y="956"/>
                  </a:lnTo>
                  <a:lnTo>
                    <a:pt x="1082" y="964"/>
                  </a:lnTo>
                  <a:lnTo>
                    <a:pt x="1094" y="972"/>
                  </a:lnTo>
                  <a:lnTo>
                    <a:pt x="1106" y="978"/>
                  </a:lnTo>
                  <a:lnTo>
                    <a:pt x="1106" y="978"/>
                  </a:lnTo>
                  <a:lnTo>
                    <a:pt x="1126" y="984"/>
                  </a:lnTo>
                  <a:lnTo>
                    <a:pt x="1148" y="986"/>
                  </a:lnTo>
                  <a:lnTo>
                    <a:pt x="1170" y="988"/>
                  </a:lnTo>
                  <a:lnTo>
                    <a:pt x="1190" y="984"/>
                  </a:lnTo>
                  <a:lnTo>
                    <a:pt x="1212" y="978"/>
                  </a:lnTo>
                  <a:lnTo>
                    <a:pt x="1230" y="970"/>
                  </a:lnTo>
                  <a:lnTo>
                    <a:pt x="1248" y="958"/>
                  </a:lnTo>
                  <a:lnTo>
                    <a:pt x="1264" y="942"/>
                  </a:lnTo>
                  <a:lnTo>
                    <a:pt x="1264" y="942"/>
                  </a:lnTo>
                  <a:lnTo>
                    <a:pt x="1280" y="918"/>
                  </a:lnTo>
                  <a:lnTo>
                    <a:pt x="1290" y="890"/>
                  </a:lnTo>
                  <a:lnTo>
                    <a:pt x="1298" y="864"/>
                  </a:lnTo>
                  <a:lnTo>
                    <a:pt x="1302" y="836"/>
                  </a:lnTo>
                  <a:lnTo>
                    <a:pt x="1302" y="808"/>
                  </a:lnTo>
                  <a:lnTo>
                    <a:pt x="1298" y="780"/>
                  </a:lnTo>
                  <a:lnTo>
                    <a:pt x="1292" y="754"/>
                  </a:lnTo>
                  <a:lnTo>
                    <a:pt x="1282" y="730"/>
                  </a:lnTo>
                  <a:lnTo>
                    <a:pt x="1282" y="730"/>
                  </a:lnTo>
                  <a:lnTo>
                    <a:pt x="1272" y="714"/>
                  </a:lnTo>
                  <a:lnTo>
                    <a:pt x="1260" y="700"/>
                  </a:lnTo>
                  <a:lnTo>
                    <a:pt x="1246" y="686"/>
                  </a:lnTo>
                  <a:lnTo>
                    <a:pt x="1230" y="674"/>
                  </a:lnTo>
                  <a:lnTo>
                    <a:pt x="1214" y="666"/>
                  </a:lnTo>
                  <a:lnTo>
                    <a:pt x="1196" y="658"/>
                  </a:lnTo>
                  <a:lnTo>
                    <a:pt x="1178" y="650"/>
                  </a:lnTo>
                  <a:lnTo>
                    <a:pt x="1160" y="646"/>
                  </a:lnTo>
                  <a:lnTo>
                    <a:pt x="1160" y="646"/>
                  </a:lnTo>
                  <a:lnTo>
                    <a:pt x="1174" y="638"/>
                  </a:lnTo>
                  <a:lnTo>
                    <a:pt x="1188" y="628"/>
                  </a:lnTo>
                  <a:lnTo>
                    <a:pt x="1212" y="604"/>
                  </a:lnTo>
                  <a:lnTo>
                    <a:pt x="1226" y="594"/>
                  </a:lnTo>
                  <a:lnTo>
                    <a:pt x="1240" y="586"/>
                  </a:lnTo>
                  <a:lnTo>
                    <a:pt x="1246" y="584"/>
                  </a:lnTo>
                  <a:lnTo>
                    <a:pt x="1254" y="582"/>
                  </a:lnTo>
                  <a:lnTo>
                    <a:pt x="1262" y="582"/>
                  </a:lnTo>
                  <a:lnTo>
                    <a:pt x="1272" y="584"/>
                  </a:lnTo>
                  <a:lnTo>
                    <a:pt x="1272" y="584"/>
                  </a:lnTo>
                  <a:lnTo>
                    <a:pt x="1282" y="596"/>
                  </a:lnTo>
                  <a:lnTo>
                    <a:pt x="1296" y="606"/>
                  </a:lnTo>
                  <a:lnTo>
                    <a:pt x="1312" y="614"/>
                  </a:lnTo>
                  <a:lnTo>
                    <a:pt x="1330" y="616"/>
                  </a:lnTo>
                  <a:lnTo>
                    <a:pt x="1348" y="616"/>
                  </a:lnTo>
                  <a:lnTo>
                    <a:pt x="1348" y="616"/>
                  </a:lnTo>
                  <a:lnTo>
                    <a:pt x="1340" y="622"/>
                  </a:lnTo>
                  <a:lnTo>
                    <a:pt x="1336" y="630"/>
                  </a:lnTo>
                  <a:lnTo>
                    <a:pt x="1332" y="644"/>
                  </a:lnTo>
                  <a:lnTo>
                    <a:pt x="1328" y="660"/>
                  </a:lnTo>
                  <a:lnTo>
                    <a:pt x="1324" y="676"/>
                  </a:lnTo>
                  <a:lnTo>
                    <a:pt x="1324" y="676"/>
                  </a:lnTo>
                  <a:lnTo>
                    <a:pt x="1328" y="680"/>
                  </a:lnTo>
                  <a:lnTo>
                    <a:pt x="1332" y="684"/>
                  </a:lnTo>
                  <a:lnTo>
                    <a:pt x="1336" y="686"/>
                  </a:lnTo>
                  <a:lnTo>
                    <a:pt x="1342" y="686"/>
                  </a:lnTo>
                  <a:lnTo>
                    <a:pt x="1352" y="684"/>
                  </a:lnTo>
                  <a:lnTo>
                    <a:pt x="1362" y="682"/>
                  </a:lnTo>
                  <a:lnTo>
                    <a:pt x="1362" y="682"/>
                  </a:lnTo>
                  <a:lnTo>
                    <a:pt x="1372" y="676"/>
                  </a:lnTo>
                  <a:lnTo>
                    <a:pt x="1382" y="666"/>
                  </a:lnTo>
                  <a:lnTo>
                    <a:pt x="1402" y="646"/>
                  </a:lnTo>
                  <a:lnTo>
                    <a:pt x="1412" y="638"/>
                  </a:lnTo>
                  <a:lnTo>
                    <a:pt x="1422" y="634"/>
                  </a:lnTo>
                  <a:lnTo>
                    <a:pt x="1428" y="634"/>
                  </a:lnTo>
                  <a:lnTo>
                    <a:pt x="1434" y="634"/>
                  </a:lnTo>
                  <a:lnTo>
                    <a:pt x="1440" y="636"/>
                  </a:lnTo>
                  <a:lnTo>
                    <a:pt x="1448" y="640"/>
                  </a:lnTo>
                  <a:lnTo>
                    <a:pt x="1448" y="640"/>
                  </a:lnTo>
                  <a:lnTo>
                    <a:pt x="1462" y="658"/>
                  </a:lnTo>
                  <a:lnTo>
                    <a:pt x="1474" y="676"/>
                  </a:lnTo>
                  <a:lnTo>
                    <a:pt x="1482" y="694"/>
                  </a:lnTo>
                  <a:lnTo>
                    <a:pt x="1488" y="714"/>
                  </a:lnTo>
                  <a:lnTo>
                    <a:pt x="1490" y="734"/>
                  </a:lnTo>
                  <a:lnTo>
                    <a:pt x="1490" y="756"/>
                  </a:lnTo>
                  <a:lnTo>
                    <a:pt x="1488" y="778"/>
                  </a:lnTo>
                  <a:lnTo>
                    <a:pt x="1484" y="798"/>
                  </a:lnTo>
                  <a:lnTo>
                    <a:pt x="1484" y="798"/>
                  </a:lnTo>
                  <a:lnTo>
                    <a:pt x="1470" y="830"/>
                  </a:lnTo>
                  <a:lnTo>
                    <a:pt x="1462" y="846"/>
                  </a:lnTo>
                  <a:lnTo>
                    <a:pt x="1454" y="862"/>
                  </a:lnTo>
                  <a:lnTo>
                    <a:pt x="1442" y="876"/>
                  </a:lnTo>
                  <a:lnTo>
                    <a:pt x="1430" y="888"/>
                  </a:lnTo>
                  <a:lnTo>
                    <a:pt x="1414" y="896"/>
                  </a:lnTo>
                  <a:lnTo>
                    <a:pt x="1406" y="898"/>
                  </a:lnTo>
                  <a:lnTo>
                    <a:pt x="1398" y="900"/>
                  </a:lnTo>
                  <a:lnTo>
                    <a:pt x="1398" y="900"/>
                  </a:lnTo>
                  <a:lnTo>
                    <a:pt x="1394" y="888"/>
                  </a:lnTo>
                  <a:lnTo>
                    <a:pt x="1390" y="874"/>
                  </a:lnTo>
                  <a:lnTo>
                    <a:pt x="1388" y="868"/>
                  </a:lnTo>
                  <a:lnTo>
                    <a:pt x="1384" y="862"/>
                  </a:lnTo>
                  <a:lnTo>
                    <a:pt x="1380" y="858"/>
                  </a:lnTo>
                  <a:lnTo>
                    <a:pt x="1372" y="856"/>
                  </a:lnTo>
                  <a:lnTo>
                    <a:pt x="1372" y="856"/>
                  </a:lnTo>
                  <a:lnTo>
                    <a:pt x="1362" y="858"/>
                  </a:lnTo>
                  <a:lnTo>
                    <a:pt x="1352" y="862"/>
                  </a:lnTo>
                  <a:lnTo>
                    <a:pt x="1344" y="866"/>
                  </a:lnTo>
                  <a:lnTo>
                    <a:pt x="1340" y="874"/>
                  </a:lnTo>
                  <a:lnTo>
                    <a:pt x="1340" y="874"/>
                  </a:lnTo>
                  <a:lnTo>
                    <a:pt x="1338" y="894"/>
                  </a:lnTo>
                  <a:lnTo>
                    <a:pt x="1338" y="914"/>
                  </a:lnTo>
                  <a:lnTo>
                    <a:pt x="1342" y="952"/>
                  </a:lnTo>
                  <a:lnTo>
                    <a:pt x="1350" y="988"/>
                  </a:lnTo>
                  <a:lnTo>
                    <a:pt x="1358" y="1026"/>
                  </a:lnTo>
                  <a:lnTo>
                    <a:pt x="1366" y="1062"/>
                  </a:lnTo>
                  <a:lnTo>
                    <a:pt x="1374" y="1100"/>
                  </a:lnTo>
                  <a:lnTo>
                    <a:pt x="1378" y="1138"/>
                  </a:lnTo>
                  <a:lnTo>
                    <a:pt x="1378" y="1158"/>
                  </a:lnTo>
                  <a:lnTo>
                    <a:pt x="1378" y="1178"/>
                  </a:lnTo>
                  <a:lnTo>
                    <a:pt x="1378" y="1178"/>
                  </a:lnTo>
                  <a:lnTo>
                    <a:pt x="1372" y="1188"/>
                  </a:lnTo>
                  <a:lnTo>
                    <a:pt x="1366" y="1196"/>
                  </a:lnTo>
                  <a:lnTo>
                    <a:pt x="1358" y="1204"/>
                  </a:lnTo>
                  <a:lnTo>
                    <a:pt x="1350" y="1208"/>
                  </a:lnTo>
                  <a:lnTo>
                    <a:pt x="1332" y="1216"/>
                  </a:lnTo>
                  <a:lnTo>
                    <a:pt x="1312" y="1224"/>
                  </a:lnTo>
                  <a:lnTo>
                    <a:pt x="1292" y="1230"/>
                  </a:lnTo>
                  <a:lnTo>
                    <a:pt x="1274" y="1238"/>
                  </a:lnTo>
                  <a:lnTo>
                    <a:pt x="1266" y="1244"/>
                  </a:lnTo>
                  <a:lnTo>
                    <a:pt x="1258" y="1250"/>
                  </a:lnTo>
                  <a:lnTo>
                    <a:pt x="1252" y="1258"/>
                  </a:lnTo>
                  <a:lnTo>
                    <a:pt x="1248" y="1268"/>
                  </a:lnTo>
                  <a:lnTo>
                    <a:pt x="1248" y="1268"/>
                  </a:lnTo>
                  <a:lnTo>
                    <a:pt x="1242" y="1276"/>
                  </a:lnTo>
                  <a:lnTo>
                    <a:pt x="1236" y="1282"/>
                  </a:lnTo>
                  <a:lnTo>
                    <a:pt x="1232" y="1296"/>
                  </a:lnTo>
                  <a:lnTo>
                    <a:pt x="1228" y="1312"/>
                  </a:lnTo>
                  <a:lnTo>
                    <a:pt x="1228" y="1328"/>
                  </a:lnTo>
                  <a:lnTo>
                    <a:pt x="1228" y="1328"/>
                  </a:lnTo>
                  <a:lnTo>
                    <a:pt x="1218" y="1340"/>
                  </a:lnTo>
                  <a:lnTo>
                    <a:pt x="1208" y="1350"/>
                  </a:lnTo>
                  <a:lnTo>
                    <a:pt x="1196" y="1360"/>
                  </a:lnTo>
                  <a:lnTo>
                    <a:pt x="1186" y="1366"/>
                  </a:lnTo>
                  <a:lnTo>
                    <a:pt x="1162" y="1380"/>
                  </a:lnTo>
                  <a:lnTo>
                    <a:pt x="1136" y="1390"/>
                  </a:lnTo>
                  <a:lnTo>
                    <a:pt x="1112" y="1402"/>
                  </a:lnTo>
                  <a:lnTo>
                    <a:pt x="1088" y="1414"/>
                  </a:lnTo>
                  <a:lnTo>
                    <a:pt x="1076" y="1422"/>
                  </a:lnTo>
                  <a:lnTo>
                    <a:pt x="1064" y="1430"/>
                  </a:lnTo>
                  <a:lnTo>
                    <a:pt x="1054" y="1440"/>
                  </a:lnTo>
                  <a:lnTo>
                    <a:pt x="1044" y="1452"/>
                  </a:lnTo>
                  <a:lnTo>
                    <a:pt x="1022" y="1504"/>
                  </a:lnTo>
                  <a:lnTo>
                    <a:pt x="1022" y="1504"/>
                  </a:lnTo>
                  <a:lnTo>
                    <a:pt x="1012" y="1512"/>
                  </a:lnTo>
                  <a:lnTo>
                    <a:pt x="1004" y="1518"/>
                  </a:lnTo>
                  <a:lnTo>
                    <a:pt x="996" y="1520"/>
                  </a:lnTo>
                  <a:lnTo>
                    <a:pt x="988" y="1520"/>
                  </a:lnTo>
                  <a:lnTo>
                    <a:pt x="980" y="1520"/>
                  </a:lnTo>
                  <a:lnTo>
                    <a:pt x="972" y="1516"/>
                  </a:lnTo>
                  <a:lnTo>
                    <a:pt x="958" y="1508"/>
                  </a:lnTo>
                  <a:lnTo>
                    <a:pt x="930" y="1482"/>
                  </a:lnTo>
                  <a:lnTo>
                    <a:pt x="916" y="1472"/>
                  </a:lnTo>
                  <a:lnTo>
                    <a:pt x="908" y="1468"/>
                  </a:lnTo>
                  <a:lnTo>
                    <a:pt x="900" y="1464"/>
                  </a:lnTo>
                  <a:lnTo>
                    <a:pt x="900" y="1464"/>
                  </a:lnTo>
                  <a:lnTo>
                    <a:pt x="868" y="1446"/>
                  </a:lnTo>
                  <a:lnTo>
                    <a:pt x="838" y="1428"/>
                  </a:lnTo>
                  <a:lnTo>
                    <a:pt x="822" y="1418"/>
                  </a:lnTo>
                  <a:lnTo>
                    <a:pt x="806" y="1406"/>
                  </a:lnTo>
                  <a:lnTo>
                    <a:pt x="792" y="1394"/>
                  </a:lnTo>
                  <a:lnTo>
                    <a:pt x="780" y="1380"/>
                  </a:lnTo>
                  <a:lnTo>
                    <a:pt x="780" y="1380"/>
                  </a:lnTo>
                  <a:lnTo>
                    <a:pt x="778" y="1362"/>
                  </a:lnTo>
                  <a:lnTo>
                    <a:pt x="774" y="1346"/>
                  </a:lnTo>
                  <a:lnTo>
                    <a:pt x="766" y="1334"/>
                  </a:lnTo>
                  <a:lnTo>
                    <a:pt x="758" y="1322"/>
                  </a:lnTo>
                  <a:lnTo>
                    <a:pt x="746" y="1312"/>
                  </a:lnTo>
                  <a:lnTo>
                    <a:pt x="734" y="1304"/>
                  </a:lnTo>
                  <a:lnTo>
                    <a:pt x="704" y="1290"/>
                  </a:lnTo>
                  <a:lnTo>
                    <a:pt x="674" y="1276"/>
                  </a:lnTo>
                  <a:lnTo>
                    <a:pt x="646" y="1260"/>
                  </a:lnTo>
                  <a:lnTo>
                    <a:pt x="632" y="1252"/>
                  </a:lnTo>
                  <a:lnTo>
                    <a:pt x="618" y="1242"/>
                  </a:lnTo>
                  <a:lnTo>
                    <a:pt x="608" y="1230"/>
                  </a:lnTo>
                  <a:lnTo>
                    <a:pt x="598" y="1216"/>
                  </a:lnTo>
                  <a:lnTo>
                    <a:pt x="598" y="1216"/>
                  </a:lnTo>
                  <a:close/>
                  <a:moveTo>
                    <a:pt x="544" y="1878"/>
                  </a:moveTo>
                  <a:lnTo>
                    <a:pt x="544" y="1878"/>
                  </a:lnTo>
                  <a:lnTo>
                    <a:pt x="560" y="1876"/>
                  </a:lnTo>
                  <a:lnTo>
                    <a:pt x="578" y="1874"/>
                  </a:lnTo>
                  <a:lnTo>
                    <a:pt x="614" y="1872"/>
                  </a:lnTo>
                  <a:lnTo>
                    <a:pt x="650" y="1874"/>
                  </a:lnTo>
                  <a:lnTo>
                    <a:pt x="686" y="1878"/>
                  </a:lnTo>
                  <a:lnTo>
                    <a:pt x="722" y="1880"/>
                  </a:lnTo>
                  <a:lnTo>
                    <a:pt x="758" y="1880"/>
                  </a:lnTo>
                  <a:lnTo>
                    <a:pt x="794" y="1878"/>
                  </a:lnTo>
                  <a:lnTo>
                    <a:pt x="812" y="1876"/>
                  </a:lnTo>
                  <a:lnTo>
                    <a:pt x="828" y="1870"/>
                  </a:lnTo>
                  <a:lnTo>
                    <a:pt x="828" y="1870"/>
                  </a:lnTo>
                  <a:lnTo>
                    <a:pt x="830" y="1874"/>
                  </a:lnTo>
                  <a:lnTo>
                    <a:pt x="832" y="1874"/>
                  </a:lnTo>
                  <a:lnTo>
                    <a:pt x="838" y="1874"/>
                  </a:lnTo>
                  <a:lnTo>
                    <a:pt x="838" y="1874"/>
                  </a:lnTo>
                  <a:lnTo>
                    <a:pt x="842" y="1882"/>
                  </a:lnTo>
                  <a:lnTo>
                    <a:pt x="842" y="1892"/>
                  </a:lnTo>
                  <a:lnTo>
                    <a:pt x="842" y="1910"/>
                  </a:lnTo>
                  <a:lnTo>
                    <a:pt x="840" y="1930"/>
                  </a:lnTo>
                  <a:lnTo>
                    <a:pt x="838" y="1948"/>
                  </a:lnTo>
                  <a:lnTo>
                    <a:pt x="838" y="1948"/>
                  </a:lnTo>
                  <a:lnTo>
                    <a:pt x="834" y="1954"/>
                  </a:lnTo>
                  <a:lnTo>
                    <a:pt x="828" y="1958"/>
                  </a:lnTo>
                  <a:lnTo>
                    <a:pt x="814" y="1966"/>
                  </a:lnTo>
                  <a:lnTo>
                    <a:pt x="802" y="1974"/>
                  </a:lnTo>
                  <a:lnTo>
                    <a:pt x="796" y="1978"/>
                  </a:lnTo>
                  <a:lnTo>
                    <a:pt x="790" y="1984"/>
                  </a:lnTo>
                  <a:lnTo>
                    <a:pt x="790" y="1984"/>
                  </a:lnTo>
                  <a:lnTo>
                    <a:pt x="768" y="1992"/>
                  </a:lnTo>
                  <a:lnTo>
                    <a:pt x="744" y="2000"/>
                  </a:lnTo>
                  <a:lnTo>
                    <a:pt x="700" y="2020"/>
                  </a:lnTo>
                  <a:lnTo>
                    <a:pt x="678" y="2028"/>
                  </a:lnTo>
                  <a:lnTo>
                    <a:pt x="656" y="2034"/>
                  </a:lnTo>
                  <a:lnTo>
                    <a:pt x="632" y="2038"/>
                  </a:lnTo>
                  <a:lnTo>
                    <a:pt x="608" y="2038"/>
                  </a:lnTo>
                  <a:lnTo>
                    <a:pt x="608" y="2038"/>
                  </a:lnTo>
                  <a:lnTo>
                    <a:pt x="598" y="2034"/>
                  </a:lnTo>
                  <a:lnTo>
                    <a:pt x="588" y="2028"/>
                  </a:lnTo>
                  <a:lnTo>
                    <a:pt x="568" y="2014"/>
                  </a:lnTo>
                  <a:lnTo>
                    <a:pt x="548" y="2002"/>
                  </a:lnTo>
                  <a:lnTo>
                    <a:pt x="538" y="1998"/>
                  </a:lnTo>
                  <a:lnTo>
                    <a:pt x="526" y="1996"/>
                  </a:lnTo>
                  <a:lnTo>
                    <a:pt x="526" y="1996"/>
                  </a:lnTo>
                  <a:lnTo>
                    <a:pt x="528" y="1982"/>
                  </a:lnTo>
                  <a:lnTo>
                    <a:pt x="530" y="1968"/>
                  </a:lnTo>
                  <a:lnTo>
                    <a:pt x="540" y="1938"/>
                  </a:lnTo>
                  <a:lnTo>
                    <a:pt x="542" y="1924"/>
                  </a:lnTo>
                  <a:lnTo>
                    <a:pt x="546" y="1908"/>
                  </a:lnTo>
                  <a:lnTo>
                    <a:pt x="546" y="1894"/>
                  </a:lnTo>
                  <a:lnTo>
                    <a:pt x="544" y="1878"/>
                  </a:lnTo>
                  <a:lnTo>
                    <a:pt x="544" y="1878"/>
                  </a:lnTo>
                  <a:close/>
                  <a:moveTo>
                    <a:pt x="862" y="2206"/>
                  </a:moveTo>
                  <a:lnTo>
                    <a:pt x="862" y="2206"/>
                  </a:lnTo>
                  <a:lnTo>
                    <a:pt x="826" y="2218"/>
                  </a:lnTo>
                  <a:lnTo>
                    <a:pt x="788" y="2230"/>
                  </a:lnTo>
                  <a:lnTo>
                    <a:pt x="770" y="2234"/>
                  </a:lnTo>
                  <a:lnTo>
                    <a:pt x="752" y="2236"/>
                  </a:lnTo>
                  <a:lnTo>
                    <a:pt x="732" y="2238"/>
                  </a:lnTo>
                  <a:lnTo>
                    <a:pt x="712" y="2236"/>
                  </a:lnTo>
                  <a:lnTo>
                    <a:pt x="712" y="2236"/>
                  </a:lnTo>
                  <a:lnTo>
                    <a:pt x="710" y="2218"/>
                  </a:lnTo>
                  <a:lnTo>
                    <a:pt x="708" y="2198"/>
                  </a:lnTo>
                  <a:lnTo>
                    <a:pt x="708" y="2156"/>
                  </a:lnTo>
                  <a:lnTo>
                    <a:pt x="712" y="2116"/>
                  </a:lnTo>
                  <a:lnTo>
                    <a:pt x="718" y="2080"/>
                  </a:lnTo>
                  <a:lnTo>
                    <a:pt x="718" y="2080"/>
                  </a:lnTo>
                  <a:lnTo>
                    <a:pt x="730" y="2070"/>
                  </a:lnTo>
                  <a:lnTo>
                    <a:pt x="744" y="2062"/>
                  </a:lnTo>
                  <a:lnTo>
                    <a:pt x="772" y="2048"/>
                  </a:lnTo>
                  <a:lnTo>
                    <a:pt x="834" y="2024"/>
                  </a:lnTo>
                  <a:lnTo>
                    <a:pt x="834" y="2024"/>
                  </a:lnTo>
                  <a:lnTo>
                    <a:pt x="840" y="2068"/>
                  </a:lnTo>
                  <a:lnTo>
                    <a:pt x="848" y="2114"/>
                  </a:lnTo>
                  <a:lnTo>
                    <a:pt x="856" y="2158"/>
                  </a:lnTo>
                  <a:lnTo>
                    <a:pt x="862" y="2206"/>
                  </a:lnTo>
                  <a:lnTo>
                    <a:pt x="862" y="2206"/>
                  </a:lnTo>
                  <a:close/>
                  <a:moveTo>
                    <a:pt x="616" y="2086"/>
                  </a:moveTo>
                  <a:lnTo>
                    <a:pt x="616" y="2086"/>
                  </a:lnTo>
                  <a:lnTo>
                    <a:pt x="612" y="2122"/>
                  </a:lnTo>
                  <a:lnTo>
                    <a:pt x="610" y="2160"/>
                  </a:lnTo>
                  <a:lnTo>
                    <a:pt x="608" y="2200"/>
                  </a:lnTo>
                  <a:lnTo>
                    <a:pt x="610" y="2238"/>
                  </a:lnTo>
                  <a:lnTo>
                    <a:pt x="610" y="2238"/>
                  </a:lnTo>
                  <a:lnTo>
                    <a:pt x="598" y="2238"/>
                  </a:lnTo>
                  <a:lnTo>
                    <a:pt x="588" y="2238"/>
                  </a:lnTo>
                  <a:lnTo>
                    <a:pt x="568" y="2234"/>
                  </a:lnTo>
                  <a:lnTo>
                    <a:pt x="548" y="2230"/>
                  </a:lnTo>
                  <a:lnTo>
                    <a:pt x="538" y="2230"/>
                  </a:lnTo>
                  <a:lnTo>
                    <a:pt x="526" y="2232"/>
                  </a:lnTo>
                  <a:lnTo>
                    <a:pt x="500" y="2206"/>
                  </a:lnTo>
                  <a:lnTo>
                    <a:pt x="502" y="2038"/>
                  </a:lnTo>
                  <a:lnTo>
                    <a:pt x="502" y="2038"/>
                  </a:lnTo>
                  <a:lnTo>
                    <a:pt x="518" y="2040"/>
                  </a:lnTo>
                  <a:lnTo>
                    <a:pt x="532" y="2046"/>
                  </a:lnTo>
                  <a:lnTo>
                    <a:pt x="546" y="2054"/>
                  </a:lnTo>
                  <a:lnTo>
                    <a:pt x="560" y="2062"/>
                  </a:lnTo>
                  <a:lnTo>
                    <a:pt x="586" y="2076"/>
                  </a:lnTo>
                  <a:lnTo>
                    <a:pt x="600" y="2082"/>
                  </a:lnTo>
                  <a:lnTo>
                    <a:pt x="616" y="2086"/>
                  </a:lnTo>
                  <a:lnTo>
                    <a:pt x="616" y="2086"/>
                  </a:lnTo>
                  <a:close/>
                  <a:moveTo>
                    <a:pt x="502" y="2632"/>
                  </a:moveTo>
                  <a:lnTo>
                    <a:pt x="502" y="2632"/>
                  </a:lnTo>
                  <a:lnTo>
                    <a:pt x="502" y="2614"/>
                  </a:lnTo>
                  <a:lnTo>
                    <a:pt x="504" y="2598"/>
                  </a:lnTo>
                  <a:lnTo>
                    <a:pt x="512" y="2564"/>
                  </a:lnTo>
                  <a:lnTo>
                    <a:pt x="518" y="2530"/>
                  </a:lnTo>
                  <a:lnTo>
                    <a:pt x="524" y="2496"/>
                  </a:lnTo>
                  <a:lnTo>
                    <a:pt x="548" y="2314"/>
                  </a:lnTo>
                  <a:lnTo>
                    <a:pt x="548" y="2314"/>
                  </a:lnTo>
                  <a:lnTo>
                    <a:pt x="584" y="2312"/>
                  </a:lnTo>
                  <a:lnTo>
                    <a:pt x="624" y="2310"/>
                  </a:lnTo>
                  <a:lnTo>
                    <a:pt x="662" y="2310"/>
                  </a:lnTo>
                  <a:lnTo>
                    <a:pt x="680" y="2312"/>
                  </a:lnTo>
                  <a:lnTo>
                    <a:pt x="698" y="2314"/>
                  </a:lnTo>
                  <a:lnTo>
                    <a:pt x="698" y="2314"/>
                  </a:lnTo>
                  <a:lnTo>
                    <a:pt x="718" y="2312"/>
                  </a:lnTo>
                  <a:lnTo>
                    <a:pt x="740" y="2310"/>
                  </a:lnTo>
                  <a:lnTo>
                    <a:pt x="760" y="2304"/>
                  </a:lnTo>
                  <a:lnTo>
                    <a:pt x="770" y="2300"/>
                  </a:lnTo>
                  <a:lnTo>
                    <a:pt x="778" y="2294"/>
                  </a:lnTo>
                  <a:lnTo>
                    <a:pt x="920" y="2266"/>
                  </a:lnTo>
                  <a:lnTo>
                    <a:pt x="920" y="2266"/>
                  </a:lnTo>
                  <a:lnTo>
                    <a:pt x="924" y="2252"/>
                  </a:lnTo>
                  <a:lnTo>
                    <a:pt x="926" y="2236"/>
                  </a:lnTo>
                  <a:lnTo>
                    <a:pt x="926" y="2220"/>
                  </a:lnTo>
                  <a:lnTo>
                    <a:pt x="924" y="2204"/>
                  </a:lnTo>
                  <a:lnTo>
                    <a:pt x="918" y="2172"/>
                  </a:lnTo>
                  <a:lnTo>
                    <a:pt x="914" y="2142"/>
                  </a:lnTo>
                  <a:lnTo>
                    <a:pt x="914" y="2142"/>
                  </a:lnTo>
                  <a:lnTo>
                    <a:pt x="908" y="2110"/>
                  </a:lnTo>
                  <a:lnTo>
                    <a:pt x="904" y="2080"/>
                  </a:lnTo>
                  <a:lnTo>
                    <a:pt x="900" y="2048"/>
                  </a:lnTo>
                  <a:lnTo>
                    <a:pt x="898" y="2018"/>
                  </a:lnTo>
                  <a:lnTo>
                    <a:pt x="898" y="1958"/>
                  </a:lnTo>
                  <a:lnTo>
                    <a:pt x="902" y="1894"/>
                  </a:lnTo>
                  <a:lnTo>
                    <a:pt x="902" y="1894"/>
                  </a:lnTo>
                  <a:lnTo>
                    <a:pt x="896" y="1876"/>
                  </a:lnTo>
                  <a:lnTo>
                    <a:pt x="888" y="1856"/>
                  </a:lnTo>
                  <a:lnTo>
                    <a:pt x="882" y="1848"/>
                  </a:lnTo>
                  <a:lnTo>
                    <a:pt x="876" y="1840"/>
                  </a:lnTo>
                  <a:lnTo>
                    <a:pt x="868" y="1832"/>
                  </a:lnTo>
                  <a:lnTo>
                    <a:pt x="858" y="1828"/>
                  </a:lnTo>
                  <a:lnTo>
                    <a:pt x="858" y="1828"/>
                  </a:lnTo>
                  <a:lnTo>
                    <a:pt x="838" y="1822"/>
                  </a:lnTo>
                  <a:lnTo>
                    <a:pt x="818" y="1820"/>
                  </a:lnTo>
                  <a:lnTo>
                    <a:pt x="798" y="1820"/>
                  </a:lnTo>
                  <a:lnTo>
                    <a:pt x="778" y="1822"/>
                  </a:lnTo>
                  <a:lnTo>
                    <a:pt x="738" y="1826"/>
                  </a:lnTo>
                  <a:lnTo>
                    <a:pt x="718" y="1830"/>
                  </a:lnTo>
                  <a:lnTo>
                    <a:pt x="698" y="1830"/>
                  </a:lnTo>
                  <a:lnTo>
                    <a:pt x="698" y="1830"/>
                  </a:lnTo>
                  <a:lnTo>
                    <a:pt x="670" y="1828"/>
                  </a:lnTo>
                  <a:lnTo>
                    <a:pt x="642" y="1824"/>
                  </a:lnTo>
                  <a:lnTo>
                    <a:pt x="588" y="1818"/>
                  </a:lnTo>
                  <a:lnTo>
                    <a:pt x="562" y="1818"/>
                  </a:lnTo>
                  <a:lnTo>
                    <a:pt x="534" y="1820"/>
                  </a:lnTo>
                  <a:lnTo>
                    <a:pt x="510" y="1824"/>
                  </a:lnTo>
                  <a:lnTo>
                    <a:pt x="496" y="1828"/>
                  </a:lnTo>
                  <a:lnTo>
                    <a:pt x="484" y="1834"/>
                  </a:lnTo>
                  <a:lnTo>
                    <a:pt x="484" y="1834"/>
                  </a:lnTo>
                  <a:lnTo>
                    <a:pt x="482" y="1840"/>
                  </a:lnTo>
                  <a:lnTo>
                    <a:pt x="480" y="1846"/>
                  </a:lnTo>
                  <a:lnTo>
                    <a:pt x="480" y="1856"/>
                  </a:lnTo>
                  <a:lnTo>
                    <a:pt x="482" y="1868"/>
                  </a:lnTo>
                  <a:lnTo>
                    <a:pt x="484" y="1874"/>
                  </a:lnTo>
                  <a:lnTo>
                    <a:pt x="482" y="1880"/>
                  </a:lnTo>
                  <a:lnTo>
                    <a:pt x="482" y="1880"/>
                  </a:lnTo>
                  <a:lnTo>
                    <a:pt x="482" y="1898"/>
                  </a:lnTo>
                  <a:lnTo>
                    <a:pt x="480" y="1916"/>
                  </a:lnTo>
                  <a:lnTo>
                    <a:pt x="476" y="1934"/>
                  </a:lnTo>
                  <a:lnTo>
                    <a:pt x="472" y="1950"/>
                  </a:lnTo>
                  <a:lnTo>
                    <a:pt x="466" y="1966"/>
                  </a:lnTo>
                  <a:lnTo>
                    <a:pt x="458" y="1984"/>
                  </a:lnTo>
                  <a:lnTo>
                    <a:pt x="442" y="2014"/>
                  </a:lnTo>
                  <a:lnTo>
                    <a:pt x="442" y="2014"/>
                  </a:lnTo>
                  <a:lnTo>
                    <a:pt x="444" y="2040"/>
                  </a:lnTo>
                  <a:lnTo>
                    <a:pt x="444" y="2064"/>
                  </a:lnTo>
                  <a:lnTo>
                    <a:pt x="440" y="2116"/>
                  </a:lnTo>
                  <a:lnTo>
                    <a:pt x="438" y="2168"/>
                  </a:lnTo>
                  <a:lnTo>
                    <a:pt x="438" y="2196"/>
                  </a:lnTo>
                  <a:lnTo>
                    <a:pt x="442" y="2222"/>
                  </a:lnTo>
                  <a:lnTo>
                    <a:pt x="442" y="2222"/>
                  </a:lnTo>
                  <a:lnTo>
                    <a:pt x="448" y="2228"/>
                  </a:lnTo>
                  <a:lnTo>
                    <a:pt x="454" y="2236"/>
                  </a:lnTo>
                  <a:lnTo>
                    <a:pt x="460" y="2252"/>
                  </a:lnTo>
                  <a:lnTo>
                    <a:pt x="468" y="2268"/>
                  </a:lnTo>
                  <a:lnTo>
                    <a:pt x="474" y="2276"/>
                  </a:lnTo>
                  <a:lnTo>
                    <a:pt x="482" y="2282"/>
                  </a:lnTo>
                  <a:lnTo>
                    <a:pt x="482" y="2282"/>
                  </a:lnTo>
                  <a:lnTo>
                    <a:pt x="484" y="2316"/>
                  </a:lnTo>
                  <a:lnTo>
                    <a:pt x="482" y="2350"/>
                  </a:lnTo>
                  <a:lnTo>
                    <a:pt x="478" y="2382"/>
                  </a:lnTo>
                  <a:lnTo>
                    <a:pt x="474" y="2414"/>
                  </a:lnTo>
                  <a:lnTo>
                    <a:pt x="462" y="2480"/>
                  </a:lnTo>
                  <a:lnTo>
                    <a:pt x="456" y="2512"/>
                  </a:lnTo>
                  <a:lnTo>
                    <a:pt x="452" y="2544"/>
                  </a:lnTo>
                  <a:lnTo>
                    <a:pt x="452" y="2544"/>
                  </a:lnTo>
                  <a:lnTo>
                    <a:pt x="442" y="2550"/>
                  </a:lnTo>
                  <a:lnTo>
                    <a:pt x="430" y="2554"/>
                  </a:lnTo>
                  <a:lnTo>
                    <a:pt x="420" y="2556"/>
                  </a:lnTo>
                  <a:lnTo>
                    <a:pt x="410" y="2558"/>
                  </a:lnTo>
                  <a:lnTo>
                    <a:pt x="398" y="2556"/>
                  </a:lnTo>
                  <a:lnTo>
                    <a:pt x="388" y="2554"/>
                  </a:lnTo>
                  <a:lnTo>
                    <a:pt x="366" y="2546"/>
                  </a:lnTo>
                  <a:lnTo>
                    <a:pt x="344" y="2538"/>
                  </a:lnTo>
                  <a:lnTo>
                    <a:pt x="322" y="2526"/>
                  </a:lnTo>
                  <a:lnTo>
                    <a:pt x="300" y="2518"/>
                  </a:lnTo>
                  <a:lnTo>
                    <a:pt x="278" y="2510"/>
                  </a:lnTo>
                  <a:lnTo>
                    <a:pt x="278" y="2510"/>
                  </a:lnTo>
                  <a:lnTo>
                    <a:pt x="262" y="2502"/>
                  </a:lnTo>
                  <a:lnTo>
                    <a:pt x="244" y="2498"/>
                  </a:lnTo>
                  <a:lnTo>
                    <a:pt x="226" y="2494"/>
                  </a:lnTo>
                  <a:lnTo>
                    <a:pt x="206" y="2492"/>
                  </a:lnTo>
                  <a:lnTo>
                    <a:pt x="188" y="2492"/>
                  </a:lnTo>
                  <a:lnTo>
                    <a:pt x="168" y="2488"/>
                  </a:lnTo>
                  <a:lnTo>
                    <a:pt x="150" y="2484"/>
                  </a:lnTo>
                  <a:lnTo>
                    <a:pt x="134" y="2476"/>
                  </a:lnTo>
                  <a:lnTo>
                    <a:pt x="134" y="2476"/>
                  </a:lnTo>
                  <a:lnTo>
                    <a:pt x="124" y="2468"/>
                  </a:lnTo>
                  <a:lnTo>
                    <a:pt x="112" y="2462"/>
                  </a:lnTo>
                  <a:lnTo>
                    <a:pt x="88" y="2446"/>
                  </a:lnTo>
                  <a:lnTo>
                    <a:pt x="78" y="2438"/>
                  </a:lnTo>
                  <a:lnTo>
                    <a:pt x="72" y="2428"/>
                  </a:lnTo>
                  <a:lnTo>
                    <a:pt x="70" y="2422"/>
                  </a:lnTo>
                  <a:lnTo>
                    <a:pt x="70" y="2416"/>
                  </a:lnTo>
                  <a:lnTo>
                    <a:pt x="70" y="2408"/>
                  </a:lnTo>
                  <a:lnTo>
                    <a:pt x="72" y="2402"/>
                  </a:lnTo>
                  <a:lnTo>
                    <a:pt x="72" y="2402"/>
                  </a:lnTo>
                  <a:lnTo>
                    <a:pt x="96" y="2364"/>
                  </a:lnTo>
                  <a:lnTo>
                    <a:pt x="118" y="2328"/>
                  </a:lnTo>
                  <a:lnTo>
                    <a:pt x="138" y="2290"/>
                  </a:lnTo>
                  <a:lnTo>
                    <a:pt x="158" y="2252"/>
                  </a:lnTo>
                  <a:lnTo>
                    <a:pt x="174" y="2212"/>
                  </a:lnTo>
                  <a:lnTo>
                    <a:pt x="188" y="2172"/>
                  </a:lnTo>
                  <a:lnTo>
                    <a:pt x="202" y="2130"/>
                  </a:lnTo>
                  <a:lnTo>
                    <a:pt x="212" y="2088"/>
                  </a:lnTo>
                  <a:lnTo>
                    <a:pt x="212" y="2088"/>
                  </a:lnTo>
                  <a:lnTo>
                    <a:pt x="216" y="2080"/>
                  </a:lnTo>
                  <a:lnTo>
                    <a:pt x="220" y="2074"/>
                  </a:lnTo>
                  <a:lnTo>
                    <a:pt x="226" y="2068"/>
                  </a:lnTo>
                  <a:lnTo>
                    <a:pt x="234" y="2066"/>
                  </a:lnTo>
                  <a:lnTo>
                    <a:pt x="248" y="2064"/>
                  </a:lnTo>
                  <a:lnTo>
                    <a:pt x="264" y="2062"/>
                  </a:lnTo>
                  <a:lnTo>
                    <a:pt x="280" y="2062"/>
                  </a:lnTo>
                  <a:lnTo>
                    <a:pt x="286" y="2060"/>
                  </a:lnTo>
                  <a:lnTo>
                    <a:pt x="292" y="2056"/>
                  </a:lnTo>
                  <a:lnTo>
                    <a:pt x="296" y="2052"/>
                  </a:lnTo>
                  <a:lnTo>
                    <a:pt x="300" y="2044"/>
                  </a:lnTo>
                  <a:lnTo>
                    <a:pt x="302" y="2036"/>
                  </a:lnTo>
                  <a:lnTo>
                    <a:pt x="304" y="2024"/>
                  </a:lnTo>
                  <a:lnTo>
                    <a:pt x="304" y="2024"/>
                  </a:lnTo>
                  <a:lnTo>
                    <a:pt x="306" y="1992"/>
                  </a:lnTo>
                  <a:lnTo>
                    <a:pt x="308" y="1960"/>
                  </a:lnTo>
                  <a:lnTo>
                    <a:pt x="308" y="1894"/>
                  </a:lnTo>
                  <a:lnTo>
                    <a:pt x="304" y="1828"/>
                  </a:lnTo>
                  <a:lnTo>
                    <a:pt x="304" y="1766"/>
                  </a:lnTo>
                  <a:lnTo>
                    <a:pt x="304" y="1766"/>
                  </a:lnTo>
                  <a:lnTo>
                    <a:pt x="312" y="1744"/>
                  </a:lnTo>
                  <a:lnTo>
                    <a:pt x="324" y="1724"/>
                  </a:lnTo>
                  <a:lnTo>
                    <a:pt x="336" y="1706"/>
                  </a:lnTo>
                  <a:lnTo>
                    <a:pt x="350" y="1690"/>
                  </a:lnTo>
                  <a:lnTo>
                    <a:pt x="368" y="1676"/>
                  </a:lnTo>
                  <a:lnTo>
                    <a:pt x="384" y="1662"/>
                  </a:lnTo>
                  <a:lnTo>
                    <a:pt x="404" y="1650"/>
                  </a:lnTo>
                  <a:lnTo>
                    <a:pt x="422" y="1638"/>
                  </a:lnTo>
                  <a:lnTo>
                    <a:pt x="462" y="1616"/>
                  </a:lnTo>
                  <a:lnTo>
                    <a:pt x="504" y="1594"/>
                  </a:lnTo>
                  <a:lnTo>
                    <a:pt x="542" y="1572"/>
                  </a:lnTo>
                  <a:lnTo>
                    <a:pt x="562" y="1560"/>
                  </a:lnTo>
                  <a:lnTo>
                    <a:pt x="580" y="1546"/>
                  </a:lnTo>
                  <a:lnTo>
                    <a:pt x="580" y="1546"/>
                  </a:lnTo>
                  <a:lnTo>
                    <a:pt x="592" y="1568"/>
                  </a:lnTo>
                  <a:lnTo>
                    <a:pt x="604" y="1590"/>
                  </a:lnTo>
                  <a:lnTo>
                    <a:pt x="618" y="1614"/>
                  </a:lnTo>
                  <a:lnTo>
                    <a:pt x="630" y="1638"/>
                  </a:lnTo>
                  <a:lnTo>
                    <a:pt x="640" y="1662"/>
                  </a:lnTo>
                  <a:lnTo>
                    <a:pt x="648" y="1690"/>
                  </a:lnTo>
                  <a:lnTo>
                    <a:pt x="650" y="1702"/>
                  </a:lnTo>
                  <a:lnTo>
                    <a:pt x="652" y="1716"/>
                  </a:lnTo>
                  <a:lnTo>
                    <a:pt x="650" y="1730"/>
                  </a:lnTo>
                  <a:lnTo>
                    <a:pt x="650" y="1746"/>
                  </a:lnTo>
                  <a:lnTo>
                    <a:pt x="650" y="1746"/>
                  </a:lnTo>
                  <a:lnTo>
                    <a:pt x="650" y="1752"/>
                  </a:lnTo>
                  <a:lnTo>
                    <a:pt x="654" y="1756"/>
                  </a:lnTo>
                  <a:lnTo>
                    <a:pt x="662" y="1764"/>
                  </a:lnTo>
                  <a:lnTo>
                    <a:pt x="674" y="1768"/>
                  </a:lnTo>
                  <a:lnTo>
                    <a:pt x="686" y="1772"/>
                  </a:lnTo>
                  <a:lnTo>
                    <a:pt x="686" y="1772"/>
                  </a:lnTo>
                  <a:lnTo>
                    <a:pt x="702" y="1768"/>
                  </a:lnTo>
                  <a:lnTo>
                    <a:pt x="718" y="1762"/>
                  </a:lnTo>
                  <a:lnTo>
                    <a:pt x="732" y="1756"/>
                  </a:lnTo>
                  <a:lnTo>
                    <a:pt x="744" y="1748"/>
                  </a:lnTo>
                  <a:lnTo>
                    <a:pt x="756" y="1738"/>
                  </a:lnTo>
                  <a:lnTo>
                    <a:pt x="766" y="1726"/>
                  </a:lnTo>
                  <a:lnTo>
                    <a:pt x="776" y="1716"/>
                  </a:lnTo>
                  <a:lnTo>
                    <a:pt x="786" y="1702"/>
                  </a:lnTo>
                  <a:lnTo>
                    <a:pt x="802" y="1676"/>
                  </a:lnTo>
                  <a:lnTo>
                    <a:pt x="816" y="1648"/>
                  </a:lnTo>
                  <a:lnTo>
                    <a:pt x="838" y="1590"/>
                  </a:lnTo>
                  <a:lnTo>
                    <a:pt x="838" y="1590"/>
                  </a:lnTo>
                  <a:lnTo>
                    <a:pt x="848" y="1582"/>
                  </a:lnTo>
                  <a:lnTo>
                    <a:pt x="854" y="1570"/>
                  </a:lnTo>
                  <a:lnTo>
                    <a:pt x="856" y="1564"/>
                  </a:lnTo>
                  <a:lnTo>
                    <a:pt x="854" y="1558"/>
                  </a:lnTo>
                  <a:lnTo>
                    <a:pt x="852" y="1552"/>
                  </a:lnTo>
                  <a:lnTo>
                    <a:pt x="848" y="1546"/>
                  </a:lnTo>
                  <a:lnTo>
                    <a:pt x="848" y="1546"/>
                  </a:lnTo>
                  <a:lnTo>
                    <a:pt x="836" y="1538"/>
                  </a:lnTo>
                  <a:lnTo>
                    <a:pt x="824" y="1532"/>
                  </a:lnTo>
                  <a:lnTo>
                    <a:pt x="816" y="1532"/>
                  </a:lnTo>
                  <a:lnTo>
                    <a:pt x="810" y="1532"/>
                  </a:lnTo>
                  <a:lnTo>
                    <a:pt x="804" y="1536"/>
                  </a:lnTo>
                  <a:lnTo>
                    <a:pt x="798" y="1540"/>
                  </a:lnTo>
                  <a:lnTo>
                    <a:pt x="798" y="1540"/>
                  </a:lnTo>
                  <a:lnTo>
                    <a:pt x="780" y="1576"/>
                  </a:lnTo>
                  <a:lnTo>
                    <a:pt x="764" y="1614"/>
                  </a:lnTo>
                  <a:lnTo>
                    <a:pt x="756" y="1634"/>
                  </a:lnTo>
                  <a:lnTo>
                    <a:pt x="744" y="1652"/>
                  </a:lnTo>
                  <a:lnTo>
                    <a:pt x="734" y="1670"/>
                  </a:lnTo>
                  <a:lnTo>
                    <a:pt x="720" y="1688"/>
                  </a:lnTo>
                  <a:lnTo>
                    <a:pt x="720" y="1688"/>
                  </a:lnTo>
                  <a:lnTo>
                    <a:pt x="714" y="1692"/>
                  </a:lnTo>
                  <a:lnTo>
                    <a:pt x="712" y="1694"/>
                  </a:lnTo>
                  <a:lnTo>
                    <a:pt x="708" y="1694"/>
                  </a:lnTo>
                  <a:lnTo>
                    <a:pt x="708" y="1694"/>
                  </a:lnTo>
                  <a:lnTo>
                    <a:pt x="710" y="1678"/>
                  </a:lnTo>
                  <a:lnTo>
                    <a:pt x="708" y="1662"/>
                  </a:lnTo>
                  <a:lnTo>
                    <a:pt x="704" y="1646"/>
                  </a:lnTo>
                  <a:lnTo>
                    <a:pt x="696" y="1630"/>
                  </a:lnTo>
                  <a:lnTo>
                    <a:pt x="680" y="1600"/>
                  </a:lnTo>
                  <a:lnTo>
                    <a:pt x="662" y="1568"/>
                  </a:lnTo>
                  <a:lnTo>
                    <a:pt x="654" y="1552"/>
                  </a:lnTo>
                  <a:lnTo>
                    <a:pt x="648" y="1538"/>
                  </a:lnTo>
                  <a:lnTo>
                    <a:pt x="644" y="1522"/>
                  </a:lnTo>
                  <a:lnTo>
                    <a:pt x="644" y="1508"/>
                  </a:lnTo>
                  <a:lnTo>
                    <a:pt x="646" y="1492"/>
                  </a:lnTo>
                  <a:lnTo>
                    <a:pt x="654" y="1476"/>
                  </a:lnTo>
                  <a:lnTo>
                    <a:pt x="666" y="1462"/>
                  </a:lnTo>
                  <a:lnTo>
                    <a:pt x="686" y="1446"/>
                  </a:lnTo>
                  <a:lnTo>
                    <a:pt x="686" y="1446"/>
                  </a:lnTo>
                  <a:lnTo>
                    <a:pt x="694" y="1434"/>
                  </a:lnTo>
                  <a:lnTo>
                    <a:pt x="700" y="1420"/>
                  </a:lnTo>
                  <a:lnTo>
                    <a:pt x="712" y="1392"/>
                  </a:lnTo>
                  <a:lnTo>
                    <a:pt x="712" y="1392"/>
                  </a:lnTo>
                  <a:lnTo>
                    <a:pt x="734" y="1414"/>
                  </a:lnTo>
                  <a:lnTo>
                    <a:pt x="756" y="1434"/>
                  </a:lnTo>
                  <a:lnTo>
                    <a:pt x="780" y="1452"/>
                  </a:lnTo>
                  <a:lnTo>
                    <a:pt x="806" y="1470"/>
                  </a:lnTo>
                  <a:lnTo>
                    <a:pt x="858" y="1504"/>
                  </a:lnTo>
                  <a:lnTo>
                    <a:pt x="912" y="1534"/>
                  </a:lnTo>
                  <a:lnTo>
                    <a:pt x="912" y="1534"/>
                  </a:lnTo>
                  <a:lnTo>
                    <a:pt x="928" y="1552"/>
                  </a:lnTo>
                  <a:lnTo>
                    <a:pt x="940" y="1570"/>
                  </a:lnTo>
                  <a:lnTo>
                    <a:pt x="946" y="1590"/>
                  </a:lnTo>
                  <a:lnTo>
                    <a:pt x="952" y="1610"/>
                  </a:lnTo>
                  <a:lnTo>
                    <a:pt x="952" y="1632"/>
                  </a:lnTo>
                  <a:lnTo>
                    <a:pt x="954" y="1654"/>
                  </a:lnTo>
                  <a:lnTo>
                    <a:pt x="952" y="1702"/>
                  </a:lnTo>
                  <a:lnTo>
                    <a:pt x="952" y="1702"/>
                  </a:lnTo>
                  <a:lnTo>
                    <a:pt x="942" y="1754"/>
                  </a:lnTo>
                  <a:lnTo>
                    <a:pt x="934" y="1806"/>
                  </a:lnTo>
                  <a:lnTo>
                    <a:pt x="930" y="1860"/>
                  </a:lnTo>
                  <a:lnTo>
                    <a:pt x="930" y="1914"/>
                  </a:lnTo>
                  <a:lnTo>
                    <a:pt x="930" y="1968"/>
                  </a:lnTo>
                  <a:lnTo>
                    <a:pt x="932" y="2024"/>
                  </a:lnTo>
                  <a:lnTo>
                    <a:pt x="938" y="2134"/>
                  </a:lnTo>
                  <a:lnTo>
                    <a:pt x="948" y="2246"/>
                  </a:lnTo>
                  <a:lnTo>
                    <a:pt x="954" y="2356"/>
                  </a:lnTo>
                  <a:lnTo>
                    <a:pt x="956" y="2410"/>
                  </a:lnTo>
                  <a:lnTo>
                    <a:pt x="956" y="2464"/>
                  </a:lnTo>
                  <a:lnTo>
                    <a:pt x="954" y="2520"/>
                  </a:lnTo>
                  <a:lnTo>
                    <a:pt x="950" y="2572"/>
                  </a:lnTo>
                  <a:lnTo>
                    <a:pt x="950" y="2572"/>
                  </a:lnTo>
                  <a:lnTo>
                    <a:pt x="946" y="2592"/>
                  </a:lnTo>
                  <a:lnTo>
                    <a:pt x="942" y="2614"/>
                  </a:lnTo>
                  <a:lnTo>
                    <a:pt x="938" y="2632"/>
                  </a:lnTo>
                  <a:lnTo>
                    <a:pt x="934" y="2642"/>
                  </a:lnTo>
                  <a:lnTo>
                    <a:pt x="928" y="2650"/>
                  </a:lnTo>
                  <a:lnTo>
                    <a:pt x="928" y="2650"/>
                  </a:lnTo>
                  <a:lnTo>
                    <a:pt x="904" y="2644"/>
                  </a:lnTo>
                  <a:lnTo>
                    <a:pt x="880" y="2642"/>
                  </a:lnTo>
                  <a:lnTo>
                    <a:pt x="858" y="2642"/>
                  </a:lnTo>
                  <a:lnTo>
                    <a:pt x="834" y="2644"/>
                  </a:lnTo>
                  <a:lnTo>
                    <a:pt x="810" y="2646"/>
                  </a:lnTo>
                  <a:lnTo>
                    <a:pt x="788" y="2652"/>
                  </a:lnTo>
                  <a:lnTo>
                    <a:pt x="742" y="2662"/>
                  </a:lnTo>
                  <a:lnTo>
                    <a:pt x="696" y="2674"/>
                  </a:lnTo>
                  <a:lnTo>
                    <a:pt x="672" y="2678"/>
                  </a:lnTo>
                  <a:lnTo>
                    <a:pt x="648" y="2682"/>
                  </a:lnTo>
                  <a:lnTo>
                    <a:pt x="626" y="2684"/>
                  </a:lnTo>
                  <a:lnTo>
                    <a:pt x="602" y="2684"/>
                  </a:lnTo>
                  <a:lnTo>
                    <a:pt x="578" y="2680"/>
                  </a:lnTo>
                  <a:lnTo>
                    <a:pt x="556" y="2674"/>
                  </a:lnTo>
                  <a:lnTo>
                    <a:pt x="556" y="2674"/>
                  </a:lnTo>
                  <a:lnTo>
                    <a:pt x="546" y="2676"/>
                  </a:lnTo>
                  <a:lnTo>
                    <a:pt x="538" y="2674"/>
                  </a:lnTo>
                  <a:lnTo>
                    <a:pt x="530" y="2668"/>
                  </a:lnTo>
                  <a:lnTo>
                    <a:pt x="524" y="2662"/>
                  </a:lnTo>
                  <a:lnTo>
                    <a:pt x="514" y="2646"/>
                  </a:lnTo>
                  <a:lnTo>
                    <a:pt x="508" y="2638"/>
                  </a:lnTo>
                  <a:lnTo>
                    <a:pt x="502" y="2632"/>
                  </a:lnTo>
                  <a:lnTo>
                    <a:pt x="502" y="2632"/>
                  </a:lnTo>
                  <a:close/>
                  <a:moveTo>
                    <a:pt x="572" y="2896"/>
                  </a:moveTo>
                  <a:lnTo>
                    <a:pt x="572" y="2896"/>
                  </a:lnTo>
                  <a:lnTo>
                    <a:pt x="598" y="2892"/>
                  </a:lnTo>
                  <a:lnTo>
                    <a:pt x="622" y="2886"/>
                  </a:lnTo>
                  <a:lnTo>
                    <a:pt x="648" y="2882"/>
                  </a:lnTo>
                  <a:lnTo>
                    <a:pt x="660" y="2880"/>
                  </a:lnTo>
                  <a:lnTo>
                    <a:pt x="674" y="2880"/>
                  </a:lnTo>
                  <a:lnTo>
                    <a:pt x="674" y="2880"/>
                  </a:lnTo>
                  <a:lnTo>
                    <a:pt x="648" y="2920"/>
                  </a:lnTo>
                  <a:lnTo>
                    <a:pt x="620" y="2960"/>
                  </a:lnTo>
                  <a:lnTo>
                    <a:pt x="590" y="2996"/>
                  </a:lnTo>
                  <a:lnTo>
                    <a:pt x="574" y="3014"/>
                  </a:lnTo>
                  <a:lnTo>
                    <a:pt x="558" y="3030"/>
                  </a:lnTo>
                  <a:lnTo>
                    <a:pt x="572" y="2896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2357280" y="7250040"/>
              <a:ext cx="466560" cy="25876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2587680"/>
                <a:gd name="textAreaBottom" fmla="*/ 2588040 h 2587680"/>
              </a:gdLst>
              <a:ahLst/>
              <a:rect l="textAreaLeft" t="textAreaTop" r="textAreaRight" b="textAreaBottom"/>
              <a:pathLst>
                <a:path w="294" h="1630">
                  <a:moveTo>
                    <a:pt x="270" y="1586"/>
                  </a:moveTo>
                  <a:lnTo>
                    <a:pt x="270" y="1586"/>
                  </a:lnTo>
                  <a:lnTo>
                    <a:pt x="236" y="1336"/>
                  </a:lnTo>
                  <a:lnTo>
                    <a:pt x="202" y="1086"/>
                  </a:lnTo>
                  <a:lnTo>
                    <a:pt x="168" y="834"/>
                  </a:lnTo>
                  <a:lnTo>
                    <a:pt x="152" y="706"/>
                  </a:lnTo>
                  <a:lnTo>
                    <a:pt x="138" y="578"/>
                  </a:lnTo>
                  <a:lnTo>
                    <a:pt x="138" y="578"/>
                  </a:lnTo>
                  <a:lnTo>
                    <a:pt x="116" y="450"/>
                  </a:lnTo>
                  <a:lnTo>
                    <a:pt x="106" y="386"/>
                  </a:lnTo>
                  <a:lnTo>
                    <a:pt x="98" y="322"/>
                  </a:lnTo>
                  <a:lnTo>
                    <a:pt x="90" y="258"/>
                  </a:lnTo>
                  <a:lnTo>
                    <a:pt x="88" y="194"/>
                  </a:lnTo>
                  <a:lnTo>
                    <a:pt x="88" y="160"/>
                  </a:lnTo>
                  <a:lnTo>
                    <a:pt x="90" y="126"/>
                  </a:lnTo>
                  <a:lnTo>
                    <a:pt x="94" y="94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94" y="42"/>
                  </a:lnTo>
                  <a:lnTo>
                    <a:pt x="88" y="24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8" y="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6" y="160"/>
                  </a:lnTo>
                  <a:lnTo>
                    <a:pt x="12" y="266"/>
                  </a:lnTo>
                  <a:lnTo>
                    <a:pt x="12" y="372"/>
                  </a:lnTo>
                  <a:lnTo>
                    <a:pt x="12" y="478"/>
                  </a:lnTo>
                  <a:lnTo>
                    <a:pt x="16" y="692"/>
                  </a:lnTo>
                  <a:lnTo>
                    <a:pt x="20" y="906"/>
                  </a:lnTo>
                  <a:lnTo>
                    <a:pt x="20" y="906"/>
                  </a:lnTo>
                  <a:lnTo>
                    <a:pt x="36" y="1158"/>
                  </a:lnTo>
                  <a:lnTo>
                    <a:pt x="44" y="1288"/>
                  </a:lnTo>
                  <a:lnTo>
                    <a:pt x="50" y="1418"/>
                  </a:lnTo>
                  <a:lnTo>
                    <a:pt x="50" y="1418"/>
                  </a:lnTo>
                  <a:lnTo>
                    <a:pt x="50" y="1472"/>
                  </a:lnTo>
                  <a:lnTo>
                    <a:pt x="50" y="1500"/>
                  </a:lnTo>
                  <a:lnTo>
                    <a:pt x="48" y="1528"/>
                  </a:lnTo>
                  <a:lnTo>
                    <a:pt x="44" y="1554"/>
                  </a:lnTo>
                  <a:lnTo>
                    <a:pt x="36" y="1580"/>
                  </a:lnTo>
                  <a:lnTo>
                    <a:pt x="26" y="1606"/>
                  </a:lnTo>
                  <a:lnTo>
                    <a:pt x="20" y="1618"/>
                  </a:lnTo>
                  <a:lnTo>
                    <a:pt x="10" y="1630"/>
                  </a:lnTo>
                  <a:lnTo>
                    <a:pt x="86" y="1630"/>
                  </a:lnTo>
                  <a:lnTo>
                    <a:pt x="86" y="1630"/>
                  </a:lnTo>
                  <a:lnTo>
                    <a:pt x="90" y="1622"/>
                  </a:lnTo>
                  <a:lnTo>
                    <a:pt x="98" y="1616"/>
                  </a:lnTo>
                  <a:lnTo>
                    <a:pt x="98" y="1616"/>
                  </a:lnTo>
                  <a:lnTo>
                    <a:pt x="104" y="1526"/>
                  </a:lnTo>
                  <a:lnTo>
                    <a:pt x="108" y="1438"/>
                  </a:lnTo>
                  <a:lnTo>
                    <a:pt x="112" y="1256"/>
                  </a:lnTo>
                  <a:lnTo>
                    <a:pt x="116" y="1076"/>
                  </a:lnTo>
                  <a:lnTo>
                    <a:pt x="118" y="898"/>
                  </a:lnTo>
                  <a:lnTo>
                    <a:pt x="118" y="898"/>
                  </a:lnTo>
                  <a:lnTo>
                    <a:pt x="138" y="1042"/>
                  </a:lnTo>
                  <a:lnTo>
                    <a:pt x="160" y="1186"/>
                  </a:lnTo>
                  <a:lnTo>
                    <a:pt x="182" y="1330"/>
                  </a:lnTo>
                  <a:lnTo>
                    <a:pt x="202" y="1472"/>
                  </a:lnTo>
                  <a:lnTo>
                    <a:pt x="202" y="1472"/>
                  </a:lnTo>
                  <a:lnTo>
                    <a:pt x="210" y="1552"/>
                  </a:lnTo>
                  <a:lnTo>
                    <a:pt x="212" y="1572"/>
                  </a:lnTo>
                  <a:lnTo>
                    <a:pt x="216" y="1592"/>
                  </a:lnTo>
                  <a:lnTo>
                    <a:pt x="222" y="1612"/>
                  </a:lnTo>
                  <a:lnTo>
                    <a:pt x="230" y="1630"/>
                  </a:lnTo>
                  <a:lnTo>
                    <a:pt x="294" y="1630"/>
                  </a:lnTo>
                  <a:lnTo>
                    <a:pt x="294" y="1630"/>
                  </a:lnTo>
                  <a:lnTo>
                    <a:pt x="286" y="1620"/>
                  </a:lnTo>
                  <a:lnTo>
                    <a:pt x="282" y="1606"/>
                  </a:lnTo>
                  <a:lnTo>
                    <a:pt x="276" y="1596"/>
                  </a:lnTo>
                  <a:lnTo>
                    <a:pt x="274" y="1590"/>
                  </a:lnTo>
                  <a:lnTo>
                    <a:pt x="270" y="1586"/>
                  </a:lnTo>
                  <a:lnTo>
                    <a:pt x="270" y="1586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1493640" y="2595240"/>
              <a:ext cx="1231920" cy="6570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776" h="414">
                  <a:moveTo>
                    <a:pt x="312" y="274"/>
                  </a:moveTo>
                  <a:lnTo>
                    <a:pt x="312" y="274"/>
                  </a:lnTo>
                  <a:lnTo>
                    <a:pt x="338" y="276"/>
                  </a:lnTo>
                  <a:lnTo>
                    <a:pt x="364" y="278"/>
                  </a:lnTo>
                  <a:lnTo>
                    <a:pt x="416" y="288"/>
                  </a:lnTo>
                  <a:lnTo>
                    <a:pt x="466" y="300"/>
                  </a:lnTo>
                  <a:lnTo>
                    <a:pt x="516" y="314"/>
                  </a:lnTo>
                  <a:lnTo>
                    <a:pt x="614" y="344"/>
                  </a:lnTo>
                  <a:lnTo>
                    <a:pt x="664" y="356"/>
                  </a:lnTo>
                  <a:lnTo>
                    <a:pt x="714" y="366"/>
                  </a:lnTo>
                  <a:lnTo>
                    <a:pt x="714" y="366"/>
                  </a:lnTo>
                  <a:lnTo>
                    <a:pt x="722" y="366"/>
                  </a:lnTo>
                  <a:lnTo>
                    <a:pt x="730" y="370"/>
                  </a:lnTo>
                  <a:lnTo>
                    <a:pt x="744" y="382"/>
                  </a:lnTo>
                  <a:lnTo>
                    <a:pt x="752" y="386"/>
                  </a:lnTo>
                  <a:lnTo>
                    <a:pt x="760" y="388"/>
                  </a:lnTo>
                  <a:lnTo>
                    <a:pt x="768" y="388"/>
                  </a:lnTo>
                  <a:lnTo>
                    <a:pt x="776" y="384"/>
                  </a:lnTo>
                  <a:lnTo>
                    <a:pt x="776" y="384"/>
                  </a:lnTo>
                  <a:lnTo>
                    <a:pt x="776" y="344"/>
                  </a:lnTo>
                  <a:lnTo>
                    <a:pt x="774" y="306"/>
                  </a:lnTo>
                  <a:lnTo>
                    <a:pt x="768" y="270"/>
                  </a:lnTo>
                  <a:lnTo>
                    <a:pt x="760" y="234"/>
                  </a:lnTo>
                  <a:lnTo>
                    <a:pt x="748" y="200"/>
                  </a:lnTo>
                  <a:lnTo>
                    <a:pt x="732" y="168"/>
                  </a:lnTo>
                  <a:lnTo>
                    <a:pt x="722" y="152"/>
                  </a:lnTo>
                  <a:lnTo>
                    <a:pt x="712" y="138"/>
                  </a:lnTo>
                  <a:lnTo>
                    <a:pt x="700" y="124"/>
                  </a:lnTo>
                  <a:lnTo>
                    <a:pt x="688" y="110"/>
                  </a:lnTo>
                  <a:lnTo>
                    <a:pt x="570" y="54"/>
                  </a:lnTo>
                  <a:lnTo>
                    <a:pt x="570" y="54"/>
                  </a:lnTo>
                  <a:lnTo>
                    <a:pt x="504" y="32"/>
                  </a:lnTo>
                  <a:lnTo>
                    <a:pt x="470" y="20"/>
                  </a:lnTo>
                  <a:lnTo>
                    <a:pt x="438" y="12"/>
                  </a:lnTo>
                  <a:lnTo>
                    <a:pt x="404" y="4"/>
                  </a:lnTo>
                  <a:lnTo>
                    <a:pt x="368" y="0"/>
                  </a:lnTo>
                  <a:lnTo>
                    <a:pt x="334" y="0"/>
                  </a:lnTo>
                  <a:lnTo>
                    <a:pt x="316" y="2"/>
                  </a:lnTo>
                  <a:lnTo>
                    <a:pt x="298" y="4"/>
                  </a:lnTo>
                  <a:lnTo>
                    <a:pt x="298" y="4"/>
                  </a:lnTo>
                  <a:lnTo>
                    <a:pt x="222" y="42"/>
                  </a:lnTo>
                  <a:lnTo>
                    <a:pt x="184" y="60"/>
                  </a:lnTo>
                  <a:lnTo>
                    <a:pt x="146" y="80"/>
                  </a:lnTo>
                  <a:lnTo>
                    <a:pt x="110" y="102"/>
                  </a:lnTo>
                  <a:lnTo>
                    <a:pt x="76" y="126"/>
                  </a:lnTo>
                  <a:lnTo>
                    <a:pt x="42" y="154"/>
                  </a:lnTo>
                  <a:lnTo>
                    <a:pt x="10" y="182"/>
                  </a:lnTo>
                  <a:lnTo>
                    <a:pt x="10" y="182"/>
                  </a:lnTo>
                  <a:lnTo>
                    <a:pt x="6" y="242"/>
                  </a:lnTo>
                  <a:lnTo>
                    <a:pt x="2" y="300"/>
                  </a:lnTo>
                  <a:lnTo>
                    <a:pt x="0" y="356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36" y="388"/>
                  </a:lnTo>
                  <a:lnTo>
                    <a:pt x="72" y="364"/>
                  </a:lnTo>
                  <a:lnTo>
                    <a:pt x="108" y="340"/>
                  </a:lnTo>
                  <a:lnTo>
                    <a:pt x="146" y="320"/>
                  </a:lnTo>
                  <a:lnTo>
                    <a:pt x="184" y="304"/>
                  </a:lnTo>
                  <a:lnTo>
                    <a:pt x="226" y="290"/>
                  </a:lnTo>
                  <a:lnTo>
                    <a:pt x="268" y="280"/>
                  </a:lnTo>
                  <a:lnTo>
                    <a:pt x="312" y="274"/>
                  </a:lnTo>
                  <a:lnTo>
                    <a:pt x="312" y="274"/>
                  </a:lnTo>
                  <a:close/>
                </a:path>
              </a:pathLst>
            </a:custGeom>
            <a:solidFill>
              <a:srgbClr val="207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1211040" y="3115800"/>
              <a:ext cx="1415880" cy="520560"/>
            </a:xfrm>
            <a:custGeom>
              <a:avLst/>
              <a:gdLst/>
              <a:ahLst/>
              <a:rect l="l" t="t" r="r" b="b"/>
              <a:pathLst>
                <a:path w="892" h="328">
                  <a:moveTo>
                    <a:pt x="400" y="230"/>
                  </a:moveTo>
                  <a:lnTo>
                    <a:pt x="400" y="230"/>
                  </a:lnTo>
                  <a:lnTo>
                    <a:pt x="428" y="232"/>
                  </a:lnTo>
                  <a:lnTo>
                    <a:pt x="452" y="236"/>
                  </a:lnTo>
                  <a:lnTo>
                    <a:pt x="478" y="244"/>
                  </a:lnTo>
                  <a:lnTo>
                    <a:pt x="502" y="254"/>
                  </a:lnTo>
                  <a:lnTo>
                    <a:pt x="526" y="264"/>
                  </a:lnTo>
                  <a:lnTo>
                    <a:pt x="550" y="272"/>
                  </a:lnTo>
                  <a:lnTo>
                    <a:pt x="576" y="278"/>
                  </a:lnTo>
                  <a:lnTo>
                    <a:pt x="602" y="282"/>
                  </a:lnTo>
                  <a:lnTo>
                    <a:pt x="602" y="282"/>
                  </a:lnTo>
                  <a:lnTo>
                    <a:pt x="642" y="270"/>
                  </a:lnTo>
                  <a:lnTo>
                    <a:pt x="684" y="254"/>
                  </a:lnTo>
                  <a:lnTo>
                    <a:pt x="722" y="236"/>
                  </a:lnTo>
                  <a:lnTo>
                    <a:pt x="760" y="214"/>
                  </a:lnTo>
                  <a:lnTo>
                    <a:pt x="796" y="188"/>
                  </a:lnTo>
                  <a:lnTo>
                    <a:pt x="830" y="162"/>
                  </a:lnTo>
                  <a:lnTo>
                    <a:pt x="862" y="132"/>
                  </a:lnTo>
                  <a:lnTo>
                    <a:pt x="892" y="100"/>
                  </a:lnTo>
                  <a:lnTo>
                    <a:pt x="892" y="92"/>
                  </a:lnTo>
                  <a:lnTo>
                    <a:pt x="892" y="92"/>
                  </a:lnTo>
                  <a:lnTo>
                    <a:pt x="842" y="82"/>
                  </a:lnTo>
                  <a:lnTo>
                    <a:pt x="794" y="68"/>
                  </a:lnTo>
                  <a:lnTo>
                    <a:pt x="698" y="38"/>
                  </a:lnTo>
                  <a:lnTo>
                    <a:pt x="650" y="24"/>
                  </a:lnTo>
                  <a:lnTo>
                    <a:pt x="602" y="12"/>
                  </a:lnTo>
                  <a:lnTo>
                    <a:pt x="552" y="4"/>
                  </a:lnTo>
                  <a:lnTo>
                    <a:pt x="526" y="2"/>
                  </a:lnTo>
                  <a:lnTo>
                    <a:pt x="500" y="0"/>
                  </a:lnTo>
                  <a:lnTo>
                    <a:pt x="500" y="0"/>
                  </a:lnTo>
                  <a:lnTo>
                    <a:pt x="460" y="6"/>
                  </a:lnTo>
                  <a:lnTo>
                    <a:pt x="424" y="14"/>
                  </a:lnTo>
                  <a:lnTo>
                    <a:pt x="388" y="28"/>
                  </a:lnTo>
                  <a:lnTo>
                    <a:pt x="354" y="42"/>
                  </a:lnTo>
                  <a:lnTo>
                    <a:pt x="322" y="58"/>
                  </a:lnTo>
                  <a:lnTo>
                    <a:pt x="290" y="78"/>
                  </a:lnTo>
                  <a:lnTo>
                    <a:pt x="260" y="100"/>
                  </a:lnTo>
                  <a:lnTo>
                    <a:pt x="230" y="122"/>
                  </a:lnTo>
                  <a:lnTo>
                    <a:pt x="200" y="146"/>
                  </a:lnTo>
                  <a:lnTo>
                    <a:pt x="172" y="170"/>
                  </a:lnTo>
                  <a:lnTo>
                    <a:pt x="116" y="222"/>
                  </a:lnTo>
                  <a:lnTo>
                    <a:pt x="60" y="276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18" y="328"/>
                  </a:lnTo>
                  <a:lnTo>
                    <a:pt x="34" y="328"/>
                  </a:lnTo>
                  <a:lnTo>
                    <a:pt x="48" y="324"/>
                  </a:lnTo>
                  <a:lnTo>
                    <a:pt x="64" y="318"/>
                  </a:lnTo>
                  <a:lnTo>
                    <a:pt x="64" y="318"/>
                  </a:lnTo>
                  <a:lnTo>
                    <a:pt x="86" y="316"/>
                  </a:lnTo>
                  <a:lnTo>
                    <a:pt x="108" y="310"/>
                  </a:lnTo>
                  <a:lnTo>
                    <a:pt x="128" y="304"/>
                  </a:lnTo>
                  <a:lnTo>
                    <a:pt x="150" y="294"/>
                  </a:lnTo>
                  <a:lnTo>
                    <a:pt x="190" y="276"/>
                  </a:lnTo>
                  <a:lnTo>
                    <a:pt x="230" y="256"/>
                  </a:lnTo>
                  <a:lnTo>
                    <a:pt x="270" y="238"/>
                  </a:lnTo>
                  <a:lnTo>
                    <a:pt x="290" y="232"/>
                  </a:lnTo>
                  <a:lnTo>
                    <a:pt x="310" y="226"/>
                  </a:lnTo>
                  <a:lnTo>
                    <a:pt x="332" y="222"/>
                  </a:lnTo>
                  <a:lnTo>
                    <a:pt x="354" y="222"/>
                  </a:lnTo>
                  <a:lnTo>
                    <a:pt x="376" y="224"/>
                  </a:lnTo>
                  <a:lnTo>
                    <a:pt x="400" y="230"/>
                  </a:lnTo>
                  <a:lnTo>
                    <a:pt x="400" y="230"/>
                  </a:lnTo>
                  <a:close/>
                </a:path>
              </a:pathLst>
            </a:custGeom>
            <a:solidFill>
              <a:srgbClr val="6db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1239840" y="3439800"/>
              <a:ext cx="1749240" cy="1488960"/>
            </a:xfrm>
            <a:custGeom>
              <a:avLst/>
              <a:gdLst>
                <a:gd name="textAreaLeft" fmla="*/ 0 w 1749240"/>
                <a:gd name="textAreaRight" fmla="*/ 1749600 w 1749240"/>
                <a:gd name="textAreaTop" fmla="*/ 0 h 1488960"/>
                <a:gd name="textAreaBottom" fmla="*/ 1489320 h 1488960"/>
              </a:gdLst>
              <a:ahLst/>
              <a:rect l="textAreaLeft" t="textAreaTop" r="textAreaRight" b="textAreaBottom"/>
              <a:pathLst>
                <a:path w="1102" h="938">
                  <a:moveTo>
                    <a:pt x="392" y="798"/>
                  </a:moveTo>
                  <a:lnTo>
                    <a:pt x="392" y="798"/>
                  </a:lnTo>
                  <a:lnTo>
                    <a:pt x="404" y="812"/>
                  </a:lnTo>
                  <a:lnTo>
                    <a:pt x="418" y="824"/>
                  </a:lnTo>
                  <a:lnTo>
                    <a:pt x="434" y="836"/>
                  </a:lnTo>
                  <a:lnTo>
                    <a:pt x="450" y="846"/>
                  </a:lnTo>
                  <a:lnTo>
                    <a:pt x="480" y="864"/>
                  </a:lnTo>
                  <a:lnTo>
                    <a:pt x="512" y="882"/>
                  </a:lnTo>
                  <a:lnTo>
                    <a:pt x="512" y="882"/>
                  </a:lnTo>
                  <a:lnTo>
                    <a:pt x="520" y="886"/>
                  </a:lnTo>
                  <a:lnTo>
                    <a:pt x="528" y="890"/>
                  </a:lnTo>
                  <a:lnTo>
                    <a:pt x="542" y="900"/>
                  </a:lnTo>
                  <a:lnTo>
                    <a:pt x="570" y="926"/>
                  </a:lnTo>
                  <a:lnTo>
                    <a:pt x="584" y="934"/>
                  </a:lnTo>
                  <a:lnTo>
                    <a:pt x="592" y="938"/>
                  </a:lnTo>
                  <a:lnTo>
                    <a:pt x="600" y="938"/>
                  </a:lnTo>
                  <a:lnTo>
                    <a:pt x="608" y="938"/>
                  </a:lnTo>
                  <a:lnTo>
                    <a:pt x="616" y="936"/>
                  </a:lnTo>
                  <a:lnTo>
                    <a:pt x="624" y="930"/>
                  </a:lnTo>
                  <a:lnTo>
                    <a:pt x="634" y="922"/>
                  </a:lnTo>
                  <a:lnTo>
                    <a:pt x="656" y="870"/>
                  </a:lnTo>
                  <a:lnTo>
                    <a:pt x="656" y="870"/>
                  </a:lnTo>
                  <a:lnTo>
                    <a:pt x="666" y="858"/>
                  </a:lnTo>
                  <a:lnTo>
                    <a:pt x="676" y="848"/>
                  </a:lnTo>
                  <a:lnTo>
                    <a:pt x="688" y="840"/>
                  </a:lnTo>
                  <a:lnTo>
                    <a:pt x="700" y="832"/>
                  </a:lnTo>
                  <a:lnTo>
                    <a:pt x="724" y="820"/>
                  </a:lnTo>
                  <a:lnTo>
                    <a:pt x="748" y="808"/>
                  </a:lnTo>
                  <a:lnTo>
                    <a:pt x="774" y="798"/>
                  </a:lnTo>
                  <a:lnTo>
                    <a:pt x="798" y="784"/>
                  </a:lnTo>
                  <a:lnTo>
                    <a:pt x="808" y="778"/>
                  </a:lnTo>
                  <a:lnTo>
                    <a:pt x="820" y="768"/>
                  </a:lnTo>
                  <a:lnTo>
                    <a:pt x="830" y="758"/>
                  </a:lnTo>
                  <a:lnTo>
                    <a:pt x="840" y="746"/>
                  </a:lnTo>
                  <a:lnTo>
                    <a:pt x="840" y="746"/>
                  </a:lnTo>
                  <a:lnTo>
                    <a:pt x="840" y="730"/>
                  </a:lnTo>
                  <a:lnTo>
                    <a:pt x="844" y="714"/>
                  </a:lnTo>
                  <a:lnTo>
                    <a:pt x="848" y="700"/>
                  </a:lnTo>
                  <a:lnTo>
                    <a:pt x="854" y="694"/>
                  </a:lnTo>
                  <a:lnTo>
                    <a:pt x="860" y="686"/>
                  </a:lnTo>
                  <a:lnTo>
                    <a:pt x="860" y="686"/>
                  </a:lnTo>
                  <a:lnTo>
                    <a:pt x="864" y="676"/>
                  </a:lnTo>
                  <a:lnTo>
                    <a:pt x="870" y="668"/>
                  </a:lnTo>
                  <a:lnTo>
                    <a:pt x="878" y="662"/>
                  </a:lnTo>
                  <a:lnTo>
                    <a:pt x="886" y="656"/>
                  </a:lnTo>
                  <a:lnTo>
                    <a:pt x="904" y="648"/>
                  </a:lnTo>
                  <a:lnTo>
                    <a:pt x="924" y="642"/>
                  </a:lnTo>
                  <a:lnTo>
                    <a:pt x="944" y="634"/>
                  </a:lnTo>
                  <a:lnTo>
                    <a:pt x="962" y="626"/>
                  </a:lnTo>
                  <a:lnTo>
                    <a:pt x="970" y="622"/>
                  </a:lnTo>
                  <a:lnTo>
                    <a:pt x="978" y="614"/>
                  </a:lnTo>
                  <a:lnTo>
                    <a:pt x="984" y="606"/>
                  </a:lnTo>
                  <a:lnTo>
                    <a:pt x="990" y="596"/>
                  </a:lnTo>
                  <a:lnTo>
                    <a:pt x="990" y="596"/>
                  </a:lnTo>
                  <a:lnTo>
                    <a:pt x="990" y="576"/>
                  </a:lnTo>
                  <a:lnTo>
                    <a:pt x="990" y="556"/>
                  </a:lnTo>
                  <a:lnTo>
                    <a:pt x="986" y="518"/>
                  </a:lnTo>
                  <a:lnTo>
                    <a:pt x="978" y="480"/>
                  </a:lnTo>
                  <a:lnTo>
                    <a:pt x="970" y="444"/>
                  </a:lnTo>
                  <a:lnTo>
                    <a:pt x="962" y="406"/>
                  </a:lnTo>
                  <a:lnTo>
                    <a:pt x="954" y="370"/>
                  </a:lnTo>
                  <a:lnTo>
                    <a:pt x="950" y="332"/>
                  </a:lnTo>
                  <a:lnTo>
                    <a:pt x="950" y="312"/>
                  </a:lnTo>
                  <a:lnTo>
                    <a:pt x="952" y="292"/>
                  </a:lnTo>
                  <a:lnTo>
                    <a:pt x="952" y="292"/>
                  </a:lnTo>
                  <a:lnTo>
                    <a:pt x="956" y="284"/>
                  </a:lnTo>
                  <a:lnTo>
                    <a:pt x="964" y="280"/>
                  </a:lnTo>
                  <a:lnTo>
                    <a:pt x="974" y="276"/>
                  </a:lnTo>
                  <a:lnTo>
                    <a:pt x="984" y="274"/>
                  </a:lnTo>
                  <a:lnTo>
                    <a:pt x="984" y="274"/>
                  </a:lnTo>
                  <a:lnTo>
                    <a:pt x="992" y="276"/>
                  </a:lnTo>
                  <a:lnTo>
                    <a:pt x="996" y="280"/>
                  </a:lnTo>
                  <a:lnTo>
                    <a:pt x="1000" y="286"/>
                  </a:lnTo>
                  <a:lnTo>
                    <a:pt x="1002" y="292"/>
                  </a:lnTo>
                  <a:lnTo>
                    <a:pt x="1006" y="306"/>
                  </a:lnTo>
                  <a:lnTo>
                    <a:pt x="1010" y="318"/>
                  </a:lnTo>
                  <a:lnTo>
                    <a:pt x="1010" y="318"/>
                  </a:lnTo>
                  <a:lnTo>
                    <a:pt x="1018" y="316"/>
                  </a:lnTo>
                  <a:lnTo>
                    <a:pt x="1026" y="314"/>
                  </a:lnTo>
                  <a:lnTo>
                    <a:pt x="1042" y="306"/>
                  </a:lnTo>
                  <a:lnTo>
                    <a:pt x="1054" y="294"/>
                  </a:lnTo>
                  <a:lnTo>
                    <a:pt x="1066" y="280"/>
                  </a:lnTo>
                  <a:lnTo>
                    <a:pt x="1074" y="264"/>
                  </a:lnTo>
                  <a:lnTo>
                    <a:pt x="1082" y="248"/>
                  </a:lnTo>
                  <a:lnTo>
                    <a:pt x="1096" y="216"/>
                  </a:lnTo>
                  <a:lnTo>
                    <a:pt x="1096" y="216"/>
                  </a:lnTo>
                  <a:lnTo>
                    <a:pt x="1100" y="196"/>
                  </a:lnTo>
                  <a:lnTo>
                    <a:pt x="1102" y="174"/>
                  </a:lnTo>
                  <a:lnTo>
                    <a:pt x="1102" y="152"/>
                  </a:lnTo>
                  <a:lnTo>
                    <a:pt x="1100" y="132"/>
                  </a:lnTo>
                  <a:lnTo>
                    <a:pt x="1094" y="112"/>
                  </a:lnTo>
                  <a:lnTo>
                    <a:pt x="1086" y="94"/>
                  </a:lnTo>
                  <a:lnTo>
                    <a:pt x="1074" y="76"/>
                  </a:lnTo>
                  <a:lnTo>
                    <a:pt x="1060" y="58"/>
                  </a:lnTo>
                  <a:lnTo>
                    <a:pt x="1060" y="58"/>
                  </a:lnTo>
                  <a:lnTo>
                    <a:pt x="1052" y="54"/>
                  </a:lnTo>
                  <a:lnTo>
                    <a:pt x="1046" y="52"/>
                  </a:lnTo>
                  <a:lnTo>
                    <a:pt x="1040" y="52"/>
                  </a:lnTo>
                  <a:lnTo>
                    <a:pt x="1034" y="52"/>
                  </a:lnTo>
                  <a:lnTo>
                    <a:pt x="1024" y="56"/>
                  </a:lnTo>
                  <a:lnTo>
                    <a:pt x="1014" y="64"/>
                  </a:lnTo>
                  <a:lnTo>
                    <a:pt x="994" y="84"/>
                  </a:lnTo>
                  <a:lnTo>
                    <a:pt x="984" y="94"/>
                  </a:lnTo>
                  <a:lnTo>
                    <a:pt x="974" y="100"/>
                  </a:lnTo>
                  <a:lnTo>
                    <a:pt x="974" y="100"/>
                  </a:lnTo>
                  <a:lnTo>
                    <a:pt x="964" y="102"/>
                  </a:lnTo>
                  <a:lnTo>
                    <a:pt x="954" y="104"/>
                  </a:lnTo>
                  <a:lnTo>
                    <a:pt x="948" y="104"/>
                  </a:lnTo>
                  <a:lnTo>
                    <a:pt x="944" y="102"/>
                  </a:lnTo>
                  <a:lnTo>
                    <a:pt x="940" y="98"/>
                  </a:lnTo>
                  <a:lnTo>
                    <a:pt x="936" y="94"/>
                  </a:lnTo>
                  <a:lnTo>
                    <a:pt x="936" y="94"/>
                  </a:lnTo>
                  <a:lnTo>
                    <a:pt x="940" y="78"/>
                  </a:lnTo>
                  <a:lnTo>
                    <a:pt x="944" y="62"/>
                  </a:lnTo>
                  <a:lnTo>
                    <a:pt x="948" y="48"/>
                  </a:lnTo>
                  <a:lnTo>
                    <a:pt x="952" y="40"/>
                  </a:lnTo>
                  <a:lnTo>
                    <a:pt x="960" y="34"/>
                  </a:lnTo>
                  <a:lnTo>
                    <a:pt x="942" y="34"/>
                  </a:lnTo>
                  <a:lnTo>
                    <a:pt x="942" y="34"/>
                  </a:lnTo>
                  <a:lnTo>
                    <a:pt x="924" y="32"/>
                  </a:lnTo>
                  <a:lnTo>
                    <a:pt x="908" y="24"/>
                  </a:lnTo>
                  <a:lnTo>
                    <a:pt x="894" y="14"/>
                  </a:lnTo>
                  <a:lnTo>
                    <a:pt x="884" y="2"/>
                  </a:lnTo>
                  <a:lnTo>
                    <a:pt x="884" y="2"/>
                  </a:lnTo>
                  <a:lnTo>
                    <a:pt x="874" y="0"/>
                  </a:lnTo>
                  <a:lnTo>
                    <a:pt x="866" y="0"/>
                  </a:lnTo>
                  <a:lnTo>
                    <a:pt x="858" y="2"/>
                  </a:lnTo>
                  <a:lnTo>
                    <a:pt x="852" y="4"/>
                  </a:lnTo>
                  <a:lnTo>
                    <a:pt x="838" y="12"/>
                  </a:lnTo>
                  <a:lnTo>
                    <a:pt x="824" y="22"/>
                  </a:lnTo>
                  <a:lnTo>
                    <a:pt x="800" y="46"/>
                  </a:lnTo>
                  <a:lnTo>
                    <a:pt x="786" y="56"/>
                  </a:lnTo>
                  <a:lnTo>
                    <a:pt x="772" y="64"/>
                  </a:lnTo>
                  <a:lnTo>
                    <a:pt x="772" y="64"/>
                  </a:lnTo>
                  <a:lnTo>
                    <a:pt x="790" y="68"/>
                  </a:lnTo>
                  <a:lnTo>
                    <a:pt x="808" y="76"/>
                  </a:lnTo>
                  <a:lnTo>
                    <a:pt x="826" y="84"/>
                  </a:lnTo>
                  <a:lnTo>
                    <a:pt x="842" y="92"/>
                  </a:lnTo>
                  <a:lnTo>
                    <a:pt x="858" y="104"/>
                  </a:lnTo>
                  <a:lnTo>
                    <a:pt x="872" y="118"/>
                  </a:lnTo>
                  <a:lnTo>
                    <a:pt x="884" y="132"/>
                  </a:lnTo>
                  <a:lnTo>
                    <a:pt x="894" y="148"/>
                  </a:lnTo>
                  <a:lnTo>
                    <a:pt x="894" y="148"/>
                  </a:lnTo>
                  <a:lnTo>
                    <a:pt x="904" y="172"/>
                  </a:lnTo>
                  <a:lnTo>
                    <a:pt x="910" y="198"/>
                  </a:lnTo>
                  <a:lnTo>
                    <a:pt x="914" y="226"/>
                  </a:lnTo>
                  <a:lnTo>
                    <a:pt x="914" y="254"/>
                  </a:lnTo>
                  <a:lnTo>
                    <a:pt x="910" y="282"/>
                  </a:lnTo>
                  <a:lnTo>
                    <a:pt x="902" y="308"/>
                  </a:lnTo>
                  <a:lnTo>
                    <a:pt x="892" y="336"/>
                  </a:lnTo>
                  <a:lnTo>
                    <a:pt x="876" y="360"/>
                  </a:lnTo>
                  <a:lnTo>
                    <a:pt x="876" y="360"/>
                  </a:lnTo>
                  <a:lnTo>
                    <a:pt x="860" y="376"/>
                  </a:lnTo>
                  <a:lnTo>
                    <a:pt x="842" y="388"/>
                  </a:lnTo>
                  <a:lnTo>
                    <a:pt x="824" y="396"/>
                  </a:lnTo>
                  <a:lnTo>
                    <a:pt x="802" y="402"/>
                  </a:lnTo>
                  <a:lnTo>
                    <a:pt x="782" y="406"/>
                  </a:lnTo>
                  <a:lnTo>
                    <a:pt x="760" y="404"/>
                  </a:lnTo>
                  <a:lnTo>
                    <a:pt x="738" y="402"/>
                  </a:lnTo>
                  <a:lnTo>
                    <a:pt x="718" y="396"/>
                  </a:lnTo>
                  <a:lnTo>
                    <a:pt x="718" y="396"/>
                  </a:lnTo>
                  <a:lnTo>
                    <a:pt x="706" y="390"/>
                  </a:lnTo>
                  <a:lnTo>
                    <a:pt x="694" y="382"/>
                  </a:lnTo>
                  <a:lnTo>
                    <a:pt x="684" y="374"/>
                  </a:lnTo>
                  <a:lnTo>
                    <a:pt x="676" y="366"/>
                  </a:lnTo>
                  <a:lnTo>
                    <a:pt x="660" y="346"/>
                  </a:lnTo>
                  <a:lnTo>
                    <a:pt x="648" y="324"/>
                  </a:lnTo>
                  <a:lnTo>
                    <a:pt x="640" y="300"/>
                  </a:lnTo>
                  <a:lnTo>
                    <a:pt x="634" y="276"/>
                  </a:lnTo>
                  <a:lnTo>
                    <a:pt x="630" y="252"/>
                  </a:lnTo>
                  <a:lnTo>
                    <a:pt x="630" y="226"/>
                  </a:lnTo>
                  <a:lnTo>
                    <a:pt x="630" y="226"/>
                  </a:lnTo>
                  <a:lnTo>
                    <a:pt x="630" y="212"/>
                  </a:lnTo>
                  <a:lnTo>
                    <a:pt x="634" y="198"/>
                  </a:lnTo>
                  <a:lnTo>
                    <a:pt x="644" y="172"/>
                  </a:lnTo>
                  <a:lnTo>
                    <a:pt x="654" y="146"/>
                  </a:lnTo>
                  <a:lnTo>
                    <a:pt x="658" y="134"/>
                  </a:lnTo>
                  <a:lnTo>
                    <a:pt x="660" y="120"/>
                  </a:lnTo>
                  <a:lnTo>
                    <a:pt x="652" y="118"/>
                  </a:lnTo>
                  <a:lnTo>
                    <a:pt x="652" y="118"/>
                  </a:lnTo>
                  <a:lnTo>
                    <a:pt x="636" y="124"/>
                  </a:lnTo>
                  <a:lnTo>
                    <a:pt x="622" y="128"/>
                  </a:lnTo>
                  <a:lnTo>
                    <a:pt x="608" y="130"/>
                  </a:lnTo>
                  <a:lnTo>
                    <a:pt x="594" y="132"/>
                  </a:lnTo>
                  <a:lnTo>
                    <a:pt x="580" y="130"/>
                  </a:lnTo>
                  <a:lnTo>
                    <a:pt x="566" y="128"/>
                  </a:lnTo>
                  <a:lnTo>
                    <a:pt x="538" y="120"/>
                  </a:lnTo>
                  <a:lnTo>
                    <a:pt x="482" y="100"/>
                  </a:lnTo>
                  <a:lnTo>
                    <a:pt x="454" y="92"/>
                  </a:lnTo>
                  <a:lnTo>
                    <a:pt x="426" y="86"/>
                  </a:lnTo>
                  <a:lnTo>
                    <a:pt x="426" y="86"/>
                  </a:lnTo>
                  <a:lnTo>
                    <a:pt x="426" y="90"/>
                  </a:lnTo>
                  <a:lnTo>
                    <a:pt x="426" y="92"/>
                  </a:lnTo>
                  <a:lnTo>
                    <a:pt x="422" y="98"/>
                  </a:lnTo>
                  <a:lnTo>
                    <a:pt x="422" y="98"/>
                  </a:lnTo>
                  <a:lnTo>
                    <a:pt x="416" y="102"/>
                  </a:lnTo>
                  <a:lnTo>
                    <a:pt x="408" y="106"/>
                  </a:lnTo>
                  <a:lnTo>
                    <a:pt x="402" y="106"/>
                  </a:lnTo>
                  <a:lnTo>
                    <a:pt x="394" y="104"/>
                  </a:lnTo>
                  <a:lnTo>
                    <a:pt x="380" y="100"/>
                  </a:lnTo>
                  <a:lnTo>
                    <a:pt x="368" y="96"/>
                  </a:lnTo>
                  <a:lnTo>
                    <a:pt x="368" y="96"/>
                  </a:lnTo>
                  <a:lnTo>
                    <a:pt x="346" y="94"/>
                  </a:lnTo>
                  <a:lnTo>
                    <a:pt x="322" y="92"/>
                  </a:lnTo>
                  <a:lnTo>
                    <a:pt x="310" y="94"/>
                  </a:lnTo>
                  <a:lnTo>
                    <a:pt x="300" y="98"/>
                  </a:lnTo>
                  <a:lnTo>
                    <a:pt x="292" y="104"/>
                  </a:lnTo>
                  <a:lnTo>
                    <a:pt x="286" y="114"/>
                  </a:lnTo>
                  <a:lnTo>
                    <a:pt x="286" y="114"/>
                  </a:lnTo>
                  <a:lnTo>
                    <a:pt x="282" y="122"/>
                  </a:lnTo>
                  <a:lnTo>
                    <a:pt x="278" y="128"/>
                  </a:lnTo>
                  <a:lnTo>
                    <a:pt x="272" y="132"/>
                  </a:lnTo>
                  <a:lnTo>
                    <a:pt x="266" y="136"/>
                  </a:lnTo>
                  <a:lnTo>
                    <a:pt x="254" y="142"/>
                  </a:lnTo>
                  <a:lnTo>
                    <a:pt x="240" y="144"/>
                  </a:lnTo>
                  <a:lnTo>
                    <a:pt x="240" y="144"/>
                  </a:lnTo>
                  <a:lnTo>
                    <a:pt x="234" y="144"/>
                  </a:lnTo>
                  <a:lnTo>
                    <a:pt x="230" y="142"/>
                  </a:lnTo>
                  <a:lnTo>
                    <a:pt x="226" y="138"/>
                  </a:lnTo>
                  <a:lnTo>
                    <a:pt x="222" y="134"/>
                  </a:lnTo>
                  <a:lnTo>
                    <a:pt x="220" y="124"/>
                  </a:lnTo>
                  <a:lnTo>
                    <a:pt x="218" y="118"/>
                  </a:lnTo>
                  <a:lnTo>
                    <a:pt x="218" y="118"/>
                  </a:lnTo>
                  <a:lnTo>
                    <a:pt x="210" y="122"/>
                  </a:lnTo>
                  <a:lnTo>
                    <a:pt x="202" y="124"/>
                  </a:lnTo>
                  <a:lnTo>
                    <a:pt x="184" y="130"/>
                  </a:lnTo>
                  <a:lnTo>
                    <a:pt x="178" y="136"/>
                  </a:lnTo>
                  <a:lnTo>
                    <a:pt x="172" y="140"/>
                  </a:lnTo>
                  <a:lnTo>
                    <a:pt x="170" y="148"/>
                  </a:lnTo>
                  <a:lnTo>
                    <a:pt x="172" y="156"/>
                  </a:lnTo>
                  <a:lnTo>
                    <a:pt x="172" y="156"/>
                  </a:lnTo>
                  <a:lnTo>
                    <a:pt x="172" y="162"/>
                  </a:lnTo>
                  <a:lnTo>
                    <a:pt x="170" y="166"/>
                  </a:lnTo>
                  <a:lnTo>
                    <a:pt x="166" y="170"/>
                  </a:lnTo>
                  <a:lnTo>
                    <a:pt x="162" y="172"/>
                  </a:lnTo>
                  <a:lnTo>
                    <a:pt x="152" y="176"/>
                  </a:lnTo>
                  <a:lnTo>
                    <a:pt x="144" y="174"/>
                  </a:lnTo>
                  <a:lnTo>
                    <a:pt x="144" y="174"/>
                  </a:lnTo>
                  <a:lnTo>
                    <a:pt x="134" y="168"/>
                  </a:lnTo>
                  <a:lnTo>
                    <a:pt x="124" y="162"/>
                  </a:lnTo>
                  <a:lnTo>
                    <a:pt x="116" y="160"/>
                  </a:lnTo>
                  <a:lnTo>
                    <a:pt x="106" y="158"/>
                  </a:lnTo>
                  <a:lnTo>
                    <a:pt x="96" y="160"/>
                  </a:lnTo>
                  <a:lnTo>
                    <a:pt x="86" y="162"/>
                  </a:lnTo>
                  <a:lnTo>
                    <a:pt x="66" y="170"/>
                  </a:lnTo>
                  <a:lnTo>
                    <a:pt x="66" y="170"/>
                  </a:lnTo>
                  <a:lnTo>
                    <a:pt x="66" y="176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64" y="188"/>
                  </a:lnTo>
                  <a:lnTo>
                    <a:pt x="60" y="192"/>
                  </a:lnTo>
                  <a:lnTo>
                    <a:pt x="54" y="194"/>
                  </a:lnTo>
                  <a:lnTo>
                    <a:pt x="50" y="196"/>
                  </a:lnTo>
                  <a:lnTo>
                    <a:pt x="38" y="198"/>
                  </a:lnTo>
                  <a:lnTo>
                    <a:pt x="28" y="200"/>
                  </a:lnTo>
                  <a:lnTo>
                    <a:pt x="28" y="200"/>
                  </a:lnTo>
                  <a:lnTo>
                    <a:pt x="18" y="208"/>
                  </a:lnTo>
                  <a:lnTo>
                    <a:pt x="10" y="220"/>
                  </a:lnTo>
                  <a:lnTo>
                    <a:pt x="4" y="232"/>
                  </a:lnTo>
                  <a:lnTo>
                    <a:pt x="2" y="246"/>
                  </a:lnTo>
                  <a:lnTo>
                    <a:pt x="0" y="260"/>
                  </a:lnTo>
                  <a:lnTo>
                    <a:pt x="0" y="274"/>
                  </a:lnTo>
                  <a:lnTo>
                    <a:pt x="2" y="302"/>
                  </a:lnTo>
                  <a:lnTo>
                    <a:pt x="2" y="302"/>
                  </a:lnTo>
                  <a:lnTo>
                    <a:pt x="10" y="318"/>
                  </a:lnTo>
                  <a:lnTo>
                    <a:pt x="20" y="336"/>
                  </a:lnTo>
                  <a:lnTo>
                    <a:pt x="30" y="352"/>
                  </a:lnTo>
                  <a:lnTo>
                    <a:pt x="42" y="366"/>
                  </a:lnTo>
                  <a:lnTo>
                    <a:pt x="56" y="378"/>
                  </a:lnTo>
                  <a:lnTo>
                    <a:pt x="72" y="388"/>
                  </a:lnTo>
                  <a:lnTo>
                    <a:pt x="90" y="396"/>
                  </a:lnTo>
                  <a:lnTo>
                    <a:pt x="108" y="400"/>
                  </a:lnTo>
                  <a:lnTo>
                    <a:pt x="108" y="400"/>
                  </a:lnTo>
                  <a:lnTo>
                    <a:pt x="110" y="390"/>
                  </a:lnTo>
                  <a:lnTo>
                    <a:pt x="110" y="380"/>
                  </a:lnTo>
                  <a:lnTo>
                    <a:pt x="110" y="376"/>
                  </a:lnTo>
                  <a:lnTo>
                    <a:pt x="112" y="372"/>
                  </a:lnTo>
                  <a:lnTo>
                    <a:pt x="116" y="368"/>
                  </a:lnTo>
                  <a:lnTo>
                    <a:pt x="120" y="364"/>
                  </a:lnTo>
                  <a:lnTo>
                    <a:pt x="120" y="364"/>
                  </a:lnTo>
                  <a:lnTo>
                    <a:pt x="130" y="360"/>
                  </a:lnTo>
                  <a:lnTo>
                    <a:pt x="140" y="358"/>
                  </a:lnTo>
                  <a:lnTo>
                    <a:pt x="148" y="360"/>
                  </a:lnTo>
                  <a:lnTo>
                    <a:pt x="158" y="366"/>
                  </a:lnTo>
                  <a:lnTo>
                    <a:pt x="158" y="366"/>
                  </a:lnTo>
                  <a:lnTo>
                    <a:pt x="164" y="382"/>
                  </a:lnTo>
                  <a:lnTo>
                    <a:pt x="170" y="400"/>
                  </a:lnTo>
                  <a:lnTo>
                    <a:pt x="172" y="416"/>
                  </a:lnTo>
                  <a:lnTo>
                    <a:pt x="176" y="434"/>
                  </a:lnTo>
                  <a:lnTo>
                    <a:pt x="176" y="468"/>
                  </a:lnTo>
                  <a:lnTo>
                    <a:pt x="178" y="504"/>
                  </a:lnTo>
                  <a:lnTo>
                    <a:pt x="178" y="538"/>
                  </a:lnTo>
                  <a:lnTo>
                    <a:pt x="180" y="556"/>
                  </a:lnTo>
                  <a:lnTo>
                    <a:pt x="182" y="572"/>
                  </a:lnTo>
                  <a:lnTo>
                    <a:pt x="186" y="588"/>
                  </a:lnTo>
                  <a:lnTo>
                    <a:pt x="192" y="604"/>
                  </a:lnTo>
                  <a:lnTo>
                    <a:pt x="200" y="620"/>
                  </a:lnTo>
                  <a:lnTo>
                    <a:pt x="210" y="634"/>
                  </a:lnTo>
                  <a:lnTo>
                    <a:pt x="210" y="634"/>
                  </a:lnTo>
                  <a:lnTo>
                    <a:pt x="220" y="648"/>
                  </a:lnTo>
                  <a:lnTo>
                    <a:pt x="230" y="660"/>
                  </a:lnTo>
                  <a:lnTo>
                    <a:pt x="244" y="670"/>
                  </a:lnTo>
                  <a:lnTo>
                    <a:pt x="258" y="678"/>
                  </a:lnTo>
                  <a:lnTo>
                    <a:pt x="286" y="694"/>
                  </a:lnTo>
                  <a:lnTo>
                    <a:pt x="316" y="708"/>
                  </a:lnTo>
                  <a:lnTo>
                    <a:pt x="346" y="722"/>
                  </a:lnTo>
                  <a:lnTo>
                    <a:pt x="358" y="730"/>
                  </a:lnTo>
                  <a:lnTo>
                    <a:pt x="370" y="740"/>
                  </a:lnTo>
                  <a:lnTo>
                    <a:pt x="378" y="752"/>
                  </a:lnTo>
                  <a:lnTo>
                    <a:pt x="386" y="764"/>
                  </a:lnTo>
                  <a:lnTo>
                    <a:pt x="390" y="780"/>
                  </a:lnTo>
                  <a:lnTo>
                    <a:pt x="392" y="798"/>
                  </a:lnTo>
                  <a:lnTo>
                    <a:pt x="392" y="798"/>
                  </a:lnTo>
                  <a:close/>
                  <a:moveTo>
                    <a:pt x="668" y="776"/>
                  </a:moveTo>
                  <a:lnTo>
                    <a:pt x="668" y="776"/>
                  </a:lnTo>
                  <a:lnTo>
                    <a:pt x="634" y="782"/>
                  </a:lnTo>
                  <a:lnTo>
                    <a:pt x="602" y="788"/>
                  </a:lnTo>
                  <a:lnTo>
                    <a:pt x="586" y="788"/>
                  </a:lnTo>
                  <a:lnTo>
                    <a:pt x="570" y="786"/>
                  </a:lnTo>
                  <a:lnTo>
                    <a:pt x="554" y="784"/>
                  </a:lnTo>
                  <a:lnTo>
                    <a:pt x="538" y="776"/>
                  </a:lnTo>
                  <a:lnTo>
                    <a:pt x="538" y="776"/>
                  </a:lnTo>
                  <a:lnTo>
                    <a:pt x="528" y="766"/>
                  </a:lnTo>
                  <a:lnTo>
                    <a:pt x="518" y="758"/>
                  </a:lnTo>
                  <a:lnTo>
                    <a:pt x="514" y="752"/>
                  </a:lnTo>
                  <a:lnTo>
                    <a:pt x="512" y="746"/>
                  </a:lnTo>
                  <a:lnTo>
                    <a:pt x="514" y="740"/>
                  </a:lnTo>
                  <a:lnTo>
                    <a:pt x="518" y="732"/>
                  </a:lnTo>
                  <a:lnTo>
                    <a:pt x="518" y="732"/>
                  </a:lnTo>
                  <a:lnTo>
                    <a:pt x="524" y="728"/>
                  </a:lnTo>
                  <a:lnTo>
                    <a:pt x="530" y="724"/>
                  </a:lnTo>
                  <a:lnTo>
                    <a:pt x="534" y="724"/>
                  </a:lnTo>
                  <a:lnTo>
                    <a:pt x="540" y="724"/>
                  </a:lnTo>
                  <a:lnTo>
                    <a:pt x="552" y="726"/>
                  </a:lnTo>
                  <a:lnTo>
                    <a:pt x="564" y="730"/>
                  </a:lnTo>
                  <a:lnTo>
                    <a:pt x="576" y="736"/>
                  </a:lnTo>
                  <a:lnTo>
                    <a:pt x="588" y="740"/>
                  </a:lnTo>
                  <a:lnTo>
                    <a:pt x="602" y="740"/>
                  </a:lnTo>
                  <a:lnTo>
                    <a:pt x="608" y="740"/>
                  </a:lnTo>
                  <a:lnTo>
                    <a:pt x="616" y="736"/>
                  </a:lnTo>
                  <a:lnTo>
                    <a:pt x="616" y="736"/>
                  </a:lnTo>
                  <a:lnTo>
                    <a:pt x="626" y="736"/>
                  </a:lnTo>
                  <a:lnTo>
                    <a:pt x="638" y="732"/>
                  </a:lnTo>
                  <a:lnTo>
                    <a:pt x="660" y="720"/>
                  </a:lnTo>
                  <a:lnTo>
                    <a:pt x="670" y="714"/>
                  </a:lnTo>
                  <a:lnTo>
                    <a:pt x="682" y="714"/>
                  </a:lnTo>
                  <a:lnTo>
                    <a:pt x="686" y="714"/>
                  </a:lnTo>
                  <a:lnTo>
                    <a:pt x="692" y="716"/>
                  </a:lnTo>
                  <a:lnTo>
                    <a:pt x="696" y="720"/>
                  </a:lnTo>
                  <a:lnTo>
                    <a:pt x="702" y="724"/>
                  </a:lnTo>
                  <a:lnTo>
                    <a:pt x="702" y="724"/>
                  </a:lnTo>
                  <a:lnTo>
                    <a:pt x="702" y="732"/>
                  </a:lnTo>
                  <a:lnTo>
                    <a:pt x="700" y="740"/>
                  </a:lnTo>
                  <a:lnTo>
                    <a:pt x="698" y="748"/>
                  </a:lnTo>
                  <a:lnTo>
                    <a:pt x="692" y="754"/>
                  </a:lnTo>
                  <a:lnTo>
                    <a:pt x="682" y="768"/>
                  </a:lnTo>
                  <a:lnTo>
                    <a:pt x="668" y="776"/>
                  </a:lnTo>
                  <a:lnTo>
                    <a:pt x="668" y="776"/>
                  </a:lnTo>
                  <a:close/>
                  <a:moveTo>
                    <a:pt x="566" y="404"/>
                  </a:moveTo>
                  <a:lnTo>
                    <a:pt x="566" y="404"/>
                  </a:lnTo>
                  <a:lnTo>
                    <a:pt x="576" y="402"/>
                  </a:lnTo>
                  <a:lnTo>
                    <a:pt x="586" y="402"/>
                  </a:lnTo>
                  <a:lnTo>
                    <a:pt x="596" y="398"/>
                  </a:lnTo>
                  <a:lnTo>
                    <a:pt x="600" y="396"/>
                  </a:lnTo>
                  <a:lnTo>
                    <a:pt x="604" y="392"/>
                  </a:lnTo>
                  <a:lnTo>
                    <a:pt x="604" y="392"/>
                  </a:lnTo>
                  <a:lnTo>
                    <a:pt x="600" y="384"/>
                  </a:lnTo>
                  <a:lnTo>
                    <a:pt x="594" y="374"/>
                  </a:lnTo>
                  <a:lnTo>
                    <a:pt x="582" y="356"/>
                  </a:lnTo>
                  <a:lnTo>
                    <a:pt x="578" y="348"/>
                  </a:lnTo>
                  <a:lnTo>
                    <a:pt x="574" y="338"/>
                  </a:lnTo>
                  <a:lnTo>
                    <a:pt x="574" y="328"/>
                  </a:lnTo>
                  <a:lnTo>
                    <a:pt x="576" y="316"/>
                  </a:lnTo>
                  <a:lnTo>
                    <a:pt x="576" y="316"/>
                  </a:lnTo>
                  <a:lnTo>
                    <a:pt x="584" y="310"/>
                  </a:lnTo>
                  <a:lnTo>
                    <a:pt x="592" y="306"/>
                  </a:lnTo>
                  <a:lnTo>
                    <a:pt x="600" y="306"/>
                  </a:lnTo>
                  <a:lnTo>
                    <a:pt x="610" y="306"/>
                  </a:lnTo>
                  <a:lnTo>
                    <a:pt x="610" y="306"/>
                  </a:lnTo>
                  <a:lnTo>
                    <a:pt x="626" y="324"/>
                  </a:lnTo>
                  <a:lnTo>
                    <a:pt x="640" y="342"/>
                  </a:lnTo>
                  <a:lnTo>
                    <a:pt x="652" y="364"/>
                  </a:lnTo>
                  <a:lnTo>
                    <a:pt x="660" y="386"/>
                  </a:lnTo>
                  <a:lnTo>
                    <a:pt x="660" y="386"/>
                  </a:lnTo>
                  <a:lnTo>
                    <a:pt x="662" y="396"/>
                  </a:lnTo>
                  <a:lnTo>
                    <a:pt x="664" y="404"/>
                  </a:lnTo>
                  <a:lnTo>
                    <a:pt x="662" y="410"/>
                  </a:lnTo>
                  <a:lnTo>
                    <a:pt x="660" y="416"/>
                  </a:lnTo>
                  <a:lnTo>
                    <a:pt x="656" y="422"/>
                  </a:lnTo>
                  <a:lnTo>
                    <a:pt x="652" y="426"/>
                  </a:lnTo>
                  <a:lnTo>
                    <a:pt x="640" y="434"/>
                  </a:lnTo>
                  <a:lnTo>
                    <a:pt x="628" y="440"/>
                  </a:lnTo>
                  <a:lnTo>
                    <a:pt x="614" y="446"/>
                  </a:lnTo>
                  <a:lnTo>
                    <a:pt x="600" y="452"/>
                  </a:lnTo>
                  <a:lnTo>
                    <a:pt x="588" y="458"/>
                  </a:lnTo>
                  <a:lnTo>
                    <a:pt x="588" y="458"/>
                  </a:lnTo>
                  <a:lnTo>
                    <a:pt x="576" y="460"/>
                  </a:lnTo>
                  <a:lnTo>
                    <a:pt x="562" y="458"/>
                  </a:lnTo>
                  <a:lnTo>
                    <a:pt x="556" y="454"/>
                  </a:lnTo>
                  <a:lnTo>
                    <a:pt x="550" y="452"/>
                  </a:lnTo>
                  <a:lnTo>
                    <a:pt x="546" y="448"/>
                  </a:lnTo>
                  <a:lnTo>
                    <a:pt x="542" y="442"/>
                  </a:lnTo>
                  <a:lnTo>
                    <a:pt x="542" y="442"/>
                  </a:lnTo>
                  <a:lnTo>
                    <a:pt x="540" y="434"/>
                  </a:lnTo>
                  <a:lnTo>
                    <a:pt x="540" y="428"/>
                  </a:lnTo>
                  <a:lnTo>
                    <a:pt x="542" y="422"/>
                  </a:lnTo>
                  <a:lnTo>
                    <a:pt x="544" y="418"/>
                  </a:lnTo>
                  <a:lnTo>
                    <a:pt x="556" y="410"/>
                  </a:lnTo>
                  <a:lnTo>
                    <a:pt x="566" y="404"/>
                  </a:lnTo>
                  <a:lnTo>
                    <a:pt x="566" y="404"/>
                  </a:lnTo>
                  <a:close/>
                  <a:moveTo>
                    <a:pt x="278" y="408"/>
                  </a:moveTo>
                  <a:lnTo>
                    <a:pt x="278" y="408"/>
                  </a:lnTo>
                  <a:lnTo>
                    <a:pt x="268" y="396"/>
                  </a:lnTo>
                  <a:lnTo>
                    <a:pt x="260" y="384"/>
                  </a:lnTo>
                  <a:lnTo>
                    <a:pt x="252" y="370"/>
                  </a:lnTo>
                  <a:lnTo>
                    <a:pt x="244" y="356"/>
                  </a:lnTo>
                  <a:lnTo>
                    <a:pt x="234" y="326"/>
                  </a:lnTo>
                  <a:lnTo>
                    <a:pt x="228" y="296"/>
                  </a:lnTo>
                  <a:lnTo>
                    <a:pt x="226" y="264"/>
                  </a:lnTo>
                  <a:lnTo>
                    <a:pt x="230" y="232"/>
                  </a:lnTo>
                  <a:lnTo>
                    <a:pt x="238" y="202"/>
                  </a:lnTo>
                  <a:lnTo>
                    <a:pt x="242" y="188"/>
                  </a:lnTo>
                  <a:lnTo>
                    <a:pt x="248" y="172"/>
                  </a:lnTo>
                  <a:lnTo>
                    <a:pt x="248" y="172"/>
                  </a:lnTo>
                  <a:lnTo>
                    <a:pt x="260" y="156"/>
                  </a:lnTo>
                  <a:lnTo>
                    <a:pt x="274" y="144"/>
                  </a:lnTo>
                  <a:lnTo>
                    <a:pt x="288" y="134"/>
                  </a:lnTo>
                  <a:lnTo>
                    <a:pt x="304" y="126"/>
                  </a:lnTo>
                  <a:lnTo>
                    <a:pt x="322" y="120"/>
                  </a:lnTo>
                  <a:lnTo>
                    <a:pt x="340" y="118"/>
                  </a:lnTo>
                  <a:lnTo>
                    <a:pt x="360" y="118"/>
                  </a:lnTo>
                  <a:lnTo>
                    <a:pt x="378" y="118"/>
                  </a:lnTo>
                  <a:lnTo>
                    <a:pt x="378" y="118"/>
                  </a:lnTo>
                  <a:lnTo>
                    <a:pt x="390" y="120"/>
                  </a:lnTo>
                  <a:lnTo>
                    <a:pt x="402" y="126"/>
                  </a:lnTo>
                  <a:lnTo>
                    <a:pt x="412" y="132"/>
                  </a:lnTo>
                  <a:lnTo>
                    <a:pt x="424" y="138"/>
                  </a:lnTo>
                  <a:lnTo>
                    <a:pt x="442" y="154"/>
                  </a:lnTo>
                  <a:lnTo>
                    <a:pt x="460" y="172"/>
                  </a:lnTo>
                  <a:lnTo>
                    <a:pt x="460" y="172"/>
                  </a:lnTo>
                  <a:lnTo>
                    <a:pt x="466" y="184"/>
                  </a:lnTo>
                  <a:lnTo>
                    <a:pt x="468" y="196"/>
                  </a:lnTo>
                  <a:lnTo>
                    <a:pt x="474" y="222"/>
                  </a:lnTo>
                  <a:lnTo>
                    <a:pt x="478" y="248"/>
                  </a:lnTo>
                  <a:lnTo>
                    <a:pt x="482" y="260"/>
                  </a:lnTo>
                  <a:lnTo>
                    <a:pt x="488" y="270"/>
                  </a:lnTo>
                  <a:lnTo>
                    <a:pt x="488" y="270"/>
                  </a:lnTo>
                  <a:lnTo>
                    <a:pt x="486" y="294"/>
                  </a:lnTo>
                  <a:lnTo>
                    <a:pt x="482" y="320"/>
                  </a:lnTo>
                  <a:lnTo>
                    <a:pt x="478" y="344"/>
                  </a:lnTo>
                  <a:lnTo>
                    <a:pt x="472" y="368"/>
                  </a:lnTo>
                  <a:lnTo>
                    <a:pt x="462" y="390"/>
                  </a:lnTo>
                  <a:lnTo>
                    <a:pt x="448" y="410"/>
                  </a:lnTo>
                  <a:lnTo>
                    <a:pt x="440" y="420"/>
                  </a:lnTo>
                  <a:lnTo>
                    <a:pt x="432" y="428"/>
                  </a:lnTo>
                  <a:lnTo>
                    <a:pt x="420" y="436"/>
                  </a:lnTo>
                  <a:lnTo>
                    <a:pt x="410" y="444"/>
                  </a:lnTo>
                  <a:lnTo>
                    <a:pt x="410" y="444"/>
                  </a:lnTo>
                  <a:lnTo>
                    <a:pt x="392" y="448"/>
                  </a:lnTo>
                  <a:lnTo>
                    <a:pt x="374" y="448"/>
                  </a:lnTo>
                  <a:lnTo>
                    <a:pt x="356" y="448"/>
                  </a:lnTo>
                  <a:lnTo>
                    <a:pt x="338" y="444"/>
                  </a:lnTo>
                  <a:lnTo>
                    <a:pt x="322" y="438"/>
                  </a:lnTo>
                  <a:lnTo>
                    <a:pt x="306" y="430"/>
                  </a:lnTo>
                  <a:lnTo>
                    <a:pt x="292" y="420"/>
                  </a:lnTo>
                  <a:lnTo>
                    <a:pt x="278" y="408"/>
                  </a:lnTo>
                  <a:lnTo>
                    <a:pt x="278" y="408"/>
                  </a:lnTo>
                  <a:close/>
                  <a:moveTo>
                    <a:pt x="362" y="544"/>
                  </a:moveTo>
                  <a:lnTo>
                    <a:pt x="362" y="544"/>
                  </a:lnTo>
                  <a:lnTo>
                    <a:pt x="372" y="532"/>
                  </a:lnTo>
                  <a:lnTo>
                    <a:pt x="380" y="518"/>
                  </a:lnTo>
                  <a:lnTo>
                    <a:pt x="392" y="490"/>
                  </a:lnTo>
                  <a:lnTo>
                    <a:pt x="400" y="478"/>
                  </a:lnTo>
                  <a:lnTo>
                    <a:pt x="410" y="468"/>
                  </a:lnTo>
                  <a:lnTo>
                    <a:pt x="414" y="466"/>
                  </a:lnTo>
                  <a:lnTo>
                    <a:pt x="420" y="464"/>
                  </a:lnTo>
                  <a:lnTo>
                    <a:pt x="428" y="464"/>
                  </a:lnTo>
                  <a:lnTo>
                    <a:pt x="436" y="466"/>
                  </a:lnTo>
                  <a:lnTo>
                    <a:pt x="436" y="466"/>
                  </a:lnTo>
                  <a:lnTo>
                    <a:pt x="444" y="474"/>
                  </a:lnTo>
                  <a:lnTo>
                    <a:pt x="450" y="482"/>
                  </a:lnTo>
                  <a:lnTo>
                    <a:pt x="454" y="490"/>
                  </a:lnTo>
                  <a:lnTo>
                    <a:pt x="454" y="502"/>
                  </a:lnTo>
                  <a:lnTo>
                    <a:pt x="560" y="542"/>
                  </a:lnTo>
                  <a:lnTo>
                    <a:pt x="560" y="542"/>
                  </a:lnTo>
                  <a:lnTo>
                    <a:pt x="584" y="544"/>
                  </a:lnTo>
                  <a:lnTo>
                    <a:pt x="608" y="544"/>
                  </a:lnTo>
                  <a:lnTo>
                    <a:pt x="632" y="544"/>
                  </a:lnTo>
                  <a:lnTo>
                    <a:pt x="656" y="542"/>
                  </a:lnTo>
                  <a:lnTo>
                    <a:pt x="702" y="534"/>
                  </a:lnTo>
                  <a:lnTo>
                    <a:pt x="746" y="522"/>
                  </a:lnTo>
                  <a:lnTo>
                    <a:pt x="746" y="522"/>
                  </a:lnTo>
                  <a:lnTo>
                    <a:pt x="750" y="518"/>
                  </a:lnTo>
                  <a:lnTo>
                    <a:pt x="754" y="512"/>
                  </a:lnTo>
                  <a:lnTo>
                    <a:pt x="758" y="508"/>
                  </a:lnTo>
                  <a:lnTo>
                    <a:pt x="758" y="502"/>
                  </a:lnTo>
                  <a:lnTo>
                    <a:pt x="758" y="492"/>
                  </a:lnTo>
                  <a:lnTo>
                    <a:pt x="756" y="482"/>
                  </a:lnTo>
                  <a:lnTo>
                    <a:pt x="754" y="472"/>
                  </a:lnTo>
                  <a:lnTo>
                    <a:pt x="754" y="460"/>
                  </a:lnTo>
                  <a:lnTo>
                    <a:pt x="754" y="456"/>
                  </a:lnTo>
                  <a:lnTo>
                    <a:pt x="756" y="450"/>
                  </a:lnTo>
                  <a:lnTo>
                    <a:pt x="760" y="446"/>
                  </a:lnTo>
                  <a:lnTo>
                    <a:pt x="766" y="442"/>
                  </a:lnTo>
                  <a:lnTo>
                    <a:pt x="766" y="442"/>
                  </a:lnTo>
                  <a:lnTo>
                    <a:pt x="776" y="440"/>
                  </a:lnTo>
                  <a:lnTo>
                    <a:pt x="784" y="442"/>
                  </a:lnTo>
                  <a:lnTo>
                    <a:pt x="792" y="446"/>
                  </a:lnTo>
                  <a:lnTo>
                    <a:pt x="798" y="450"/>
                  </a:lnTo>
                  <a:lnTo>
                    <a:pt x="808" y="464"/>
                  </a:lnTo>
                  <a:lnTo>
                    <a:pt x="816" y="478"/>
                  </a:lnTo>
                  <a:lnTo>
                    <a:pt x="816" y="478"/>
                  </a:lnTo>
                  <a:lnTo>
                    <a:pt x="820" y="492"/>
                  </a:lnTo>
                  <a:lnTo>
                    <a:pt x="826" y="506"/>
                  </a:lnTo>
                  <a:lnTo>
                    <a:pt x="840" y="532"/>
                  </a:lnTo>
                  <a:lnTo>
                    <a:pt x="846" y="546"/>
                  </a:lnTo>
                  <a:lnTo>
                    <a:pt x="848" y="560"/>
                  </a:lnTo>
                  <a:lnTo>
                    <a:pt x="848" y="566"/>
                  </a:lnTo>
                  <a:lnTo>
                    <a:pt x="844" y="572"/>
                  </a:lnTo>
                  <a:lnTo>
                    <a:pt x="840" y="578"/>
                  </a:lnTo>
                  <a:lnTo>
                    <a:pt x="836" y="584"/>
                  </a:lnTo>
                  <a:lnTo>
                    <a:pt x="836" y="584"/>
                  </a:lnTo>
                  <a:lnTo>
                    <a:pt x="820" y="582"/>
                  </a:lnTo>
                  <a:lnTo>
                    <a:pt x="810" y="578"/>
                  </a:lnTo>
                  <a:lnTo>
                    <a:pt x="800" y="570"/>
                  </a:lnTo>
                  <a:lnTo>
                    <a:pt x="792" y="558"/>
                  </a:lnTo>
                  <a:lnTo>
                    <a:pt x="792" y="558"/>
                  </a:lnTo>
                  <a:lnTo>
                    <a:pt x="778" y="568"/>
                  </a:lnTo>
                  <a:lnTo>
                    <a:pt x="762" y="574"/>
                  </a:lnTo>
                  <a:lnTo>
                    <a:pt x="746" y="578"/>
                  </a:lnTo>
                  <a:lnTo>
                    <a:pt x="732" y="580"/>
                  </a:lnTo>
                  <a:lnTo>
                    <a:pt x="732" y="580"/>
                  </a:lnTo>
                  <a:lnTo>
                    <a:pt x="698" y="588"/>
                  </a:lnTo>
                  <a:lnTo>
                    <a:pt x="664" y="592"/>
                  </a:lnTo>
                  <a:lnTo>
                    <a:pt x="628" y="594"/>
                  </a:lnTo>
                  <a:lnTo>
                    <a:pt x="592" y="592"/>
                  </a:lnTo>
                  <a:lnTo>
                    <a:pt x="556" y="588"/>
                  </a:lnTo>
                  <a:lnTo>
                    <a:pt x="520" y="582"/>
                  </a:lnTo>
                  <a:lnTo>
                    <a:pt x="486" y="572"/>
                  </a:lnTo>
                  <a:lnTo>
                    <a:pt x="454" y="560"/>
                  </a:lnTo>
                  <a:lnTo>
                    <a:pt x="434" y="542"/>
                  </a:lnTo>
                  <a:lnTo>
                    <a:pt x="434" y="542"/>
                  </a:lnTo>
                  <a:lnTo>
                    <a:pt x="420" y="558"/>
                  </a:lnTo>
                  <a:lnTo>
                    <a:pt x="408" y="574"/>
                  </a:lnTo>
                  <a:lnTo>
                    <a:pt x="400" y="592"/>
                  </a:lnTo>
                  <a:lnTo>
                    <a:pt x="398" y="600"/>
                  </a:lnTo>
                  <a:lnTo>
                    <a:pt x="398" y="608"/>
                  </a:lnTo>
                  <a:lnTo>
                    <a:pt x="398" y="608"/>
                  </a:lnTo>
                  <a:lnTo>
                    <a:pt x="394" y="614"/>
                  </a:lnTo>
                  <a:lnTo>
                    <a:pt x="390" y="616"/>
                  </a:lnTo>
                  <a:lnTo>
                    <a:pt x="384" y="618"/>
                  </a:lnTo>
                  <a:lnTo>
                    <a:pt x="380" y="618"/>
                  </a:lnTo>
                  <a:lnTo>
                    <a:pt x="370" y="614"/>
                  </a:lnTo>
                  <a:lnTo>
                    <a:pt x="360" y="608"/>
                  </a:lnTo>
                  <a:lnTo>
                    <a:pt x="360" y="608"/>
                  </a:lnTo>
                  <a:lnTo>
                    <a:pt x="354" y="602"/>
                  </a:lnTo>
                  <a:lnTo>
                    <a:pt x="350" y="594"/>
                  </a:lnTo>
                  <a:lnTo>
                    <a:pt x="348" y="586"/>
                  </a:lnTo>
                  <a:lnTo>
                    <a:pt x="350" y="576"/>
                  </a:lnTo>
                  <a:lnTo>
                    <a:pt x="356" y="560"/>
                  </a:lnTo>
                  <a:lnTo>
                    <a:pt x="362" y="544"/>
                  </a:lnTo>
                  <a:lnTo>
                    <a:pt x="362" y="544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1598400" y="3627360"/>
              <a:ext cx="415800" cy="523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62" h="330">
                  <a:moveTo>
                    <a:pt x="184" y="326"/>
                  </a:moveTo>
                  <a:lnTo>
                    <a:pt x="184" y="326"/>
                  </a:lnTo>
                  <a:lnTo>
                    <a:pt x="194" y="318"/>
                  </a:lnTo>
                  <a:lnTo>
                    <a:pt x="206" y="310"/>
                  </a:lnTo>
                  <a:lnTo>
                    <a:pt x="214" y="302"/>
                  </a:lnTo>
                  <a:lnTo>
                    <a:pt x="222" y="292"/>
                  </a:lnTo>
                  <a:lnTo>
                    <a:pt x="236" y="272"/>
                  </a:lnTo>
                  <a:lnTo>
                    <a:pt x="246" y="250"/>
                  </a:lnTo>
                  <a:lnTo>
                    <a:pt x="252" y="226"/>
                  </a:lnTo>
                  <a:lnTo>
                    <a:pt x="256" y="202"/>
                  </a:lnTo>
                  <a:lnTo>
                    <a:pt x="260" y="176"/>
                  </a:lnTo>
                  <a:lnTo>
                    <a:pt x="262" y="152"/>
                  </a:lnTo>
                  <a:lnTo>
                    <a:pt x="262" y="152"/>
                  </a:lnTo>
                  <a:lnTo>
                    <a:pt x="256" y="142"/>
                  </a:lnTo>
                  <a:lnTo>
                    <a:pt x="252" y="130"/>
                  </a:lnTo>
                  <a:lnTo>
                    <a:pt x="248" y="104"/>
                  </a:lnTo>
                  <a:lnTo>
                    <a:pt x="242" y="78"/>
                  </a:lnTo>
                  <a:lnTo>
                    <a:pt x="240" y="66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16" y="36"/>
                  </a:lnTo>
                  <a:lnTo>
                    <a:pt x="198" y="20"/>
                  </a:lnTo>
                  <a:lnTo>
                    <a:pt x="186" y="14"/>
                  </a:lnTo>
                  <a:lnTo>
                    <a:pt x="176" y="8"/>
                  </a:lnTo>
                  <a:lnTo>
                    <a:pt x="164" y="2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4" y="0"/>
                  </a:lnTo>
                  <a:lnTo>
                    <a:pt x="96" y="2"/>
                  </a:lnTo>
                  <a:lnTo>
                    <a:pt x="78" y="8"/>
                  </a:lnTo>
                  <a:lnTo>
                    <a:pt x="62" y="16"/>
                  </a:lnTo>
                  <a:lnTo>
                    <a:pt x="48" y="26"/>
                  </a:lnTo>
                  <a:lnTo>
                    <a:pt x="34" y="38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70"/>
                  </a:lnTo>
                  <a:lnTo>
                    <a:pt x="12" y="84"/>
                  </a:lnTo>
                  <a:lnTo>
                    <a:pt x="4" y="114"/>
                  </a:lnTo>
                  <a:lnTo>
                    <a:pt x="0" y="146"/>
                  </a:lnTo>
                  <a:lnTo>
                    <a:pt x="2" y="178"/>
                  </a:lnTo>
                  <a:lnTo>
                    <a:pt x="8" y="208"/>
                  </a:lnTo>
                  <a:lnTo>
                    <a:pt x="18" y="238"/>
                  </a:lnTo>
                  <a:lnTo>
                    <a:pt x="26" y="252"/>
                  </a:lnTo>
                  <a:lnTo>
                    <a:pt x="34" y="266"/>
                  </a:lnTo>
                  <a:lnTo>
                    <a:pt x="42" y="278"/>
                  </a:lnTo>
                  <a:lnTo>
                    <a:pt x="52" y="290"/>
                  </a:lnTo>
                  <a:lnTo>
                    <a:pt x="52" y="290"/>
                  </a:lnTo>
                  <a:lnTo>
                    <a:pt x="66" y="302"/>
                  </a:lnTo>
                  <a:lnTo>
                    <a:pt x="80" y="312"/>
                  </a:lnTo>
                  <a:lnTo>
                    <a:pt x="96" y="320"/>
                  </a:lnTo>
                  <a:lnTo>
                    <a:pt x="112" y="326"/>
                  </a:lnTo>
                  <a:lnTo>
                    <a:pt x="130" y="330"/>
                  </a:lnTo>
                  <a:lnTo>
                    <a:pt x="148" y="330"/>
                  </a:lnTo>
                  <a:lnTo>
                    <a:pt x="166" y="330"/>
                  </a:lnTo>
                  <a:lnTo>
                    <a:pt x="184" y="326"/>
                  </a:lnTo>
                  <a:lnTo>
                    <a:pt x="184" y="326"/>
                  </a:lnTo>
                  <a:close/>
                  <a:moveTo>
                    <a:pt x="110" y="278"/>
                  </a:moveTo>
                  <a:lnTo>
                    <a:pt x="110" y="278"/>
                  </a:lnTo>
                  <a:lnTo>
                    <a:pt x="98" y="270"/>
                  </a:lnTo>
                  <a:lnTo>
                    <a:pt x="86" y="260"/>
                  </a:lnTo>
                  <a:lnTo>
                    <a:pt x="76" y="250"/>
                  </a:lnTo>
                  <a:lnTo>
                    <a:pt x="68" y="238"/>
                  </a:lnTo>
                  <a:lnTo>
                    <a:pt x="60" y="224"/>
                  </a:lnTo>
                  <a:lnTo>
                    <a:pt x="54" y="210"/>
                  </a:lnTo>
                  <a:lnTo>
                    <a:pt x="44" y="184"/>
                  </a:lnTo>
                  <a:lnTo>
                    <a:pt x="44" y="184"/>
                  </a:lnTo>
                  <a:lnTo>
                    <a:pt x="48" y="144"/>
                  </a:lnTo>
                  <a:lnTo>
                    <a:pt x="52" y="124"/>
                  </a:lnTo>
                  <a:lnTo>
                    <a:pt x="58" y="106"/>
                  </a:lnTo>
                  <a:lnTo>
                    <a:pt x="66" y="90"/>
                  </a:lnTo>
                  <a:lnTo>
                    <a:pt x="76" y="74"/>
                  </a:lnTo>
                  <a:lnTo>
                    <a:pt x="84" y="68"/>
                  </a:lnTo>
                  <a:lnTo>
                    <a:pt x="92" y="64"/>
                  </a:lnTo>
                  <a:lnTo>
                    <a:pt x="100" y="58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126" y="52"/>
                  </a:lnTo>
                  <a:lnTo>
                    <a:pt x="138" y="54"/>
                  </a:lnTo>
                  <a:lnTo>
                    <a:pt x="152" y="56"/>
                  </a:lnTo>
                  <a:lnTo>
                    <a:pt x="162" y="62"/>
                  </a:lnTo>
                  <a:lnTo>
                    <a:pt x="172" y="68"/>
                  </a:lnTo>
                  <a:lnTo>
                    <a:pt x="182" y="78"/>
                  </a:lnTo>
                  <a:lnTo>
                    <a:pt x="198" y="98"/>
                  </a:lnTo>
                  <a:lnTo>
                    <a:pt x="198" y="98"/>
                  </a:lnTo>
                  <a:lnTo>
                    <a:pt x="206" y="136"/>
                  </a:lnTo>
                  <a:lnTo>
                    <a:pt x="210" y="158"/>
                  </a:lnTo>
                  <a:lnTo>
                    <a:pt x="212" y="178"/>
                  </a:lnTo>
                  <a:lnTo>
                    <a:pt x="212" y="198"/>
                  </a:lnTo>
                  <a:lnTo>
                    <a:pt x="210" y="218"/>
                  </a:lnTo>
                  <a:lnTo>
                    <a:pt x="204" y="236"/>
                  </a:lnTo>
                  <a:lnTo>
                    <a:pt x="196" y="254"/>
                  </a:lnTo>
                  <a:lnTo>
                    <a:pt x="196" y="254"/>
                  </a:lnTo>
                  <a:lnTo>
                    <a:pt x="186" y="262"/>
                  </a:lnTo>
                  <a:lnTo>
                    <a:pt x="178" y="270"/>
                  </a:lnTo>
                  <a:lnTo>
                    <a:pt x="166" y="276"/>
                  </a:lnTo>
                  <a:lnTo>
                    <a:pt x="156" y="280"/>
                  </a:lnTo>
                  <a:lnTo>
                    <a:pt x="144" y="282"/>
                  </a:lnTo>
                  <a:lnTo>
                    <a:pt x="134" y="284"/>
                  </a:lnTo>
                  <a:lnTo>
                    <a:pt x="122" y="282"/>
                  </a:lnTo>
                  <a:lnTo>
                    <a:pt x="110" y="278"/>
                  </a:lnTo>
                  <a:lnTo>
                    <a:pt x="110" y="27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2322360" y="3624120"/>
              <a:ext cx="285480" cy="37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80" h="236">
                  <a:moveTo>
                    <a:pt x="56" y="234"/>
                  </a:moveTo>
                  <a:lnTo>
                    <a:pt x="56" y="234"/>
                  </a:lnTo>
                  <a:lnTo>
                    <a:pt x="80" y="236"/>
                  </a:lnTo>
                  <a:lnTo>
                    <a:pt x="94" y="236"/>
                  </a:lnTo>
                  <a:lnTo>
                    <a:pt x="108" y="234"/>
                  </a:lnTo>
                  <a:lnTo>
                    <a:pt x="120" y="230"/>
                  </a:lnTo>
                  <a:lnTo>
                    <a:pt x="134" y="224"/>
                  </a:lnTo>
                  <a:lnTo>
                    <a:pt x="144" y="216"/>
                  </a:lnTo>
                  <a:lnTo>
                    <a:pt x="154" y="204"/>
                  </a:lnTo>
                  <a:lnTo>
                    <a:pt x="154" y="204"/>
                  </a:lnTo>
                  <a:lnTo>
                    <a:pt x="162" y="194"/>
                  </a:lnTo>
                  <a:lnTo>
                    <a:pt x="168" y="184"/>
                  </a:lnTo>
                  <a:lnTo>
                    <a:pt x="174" y="172"/>
                  </a:lnTo>
                  <a:lnTo>
                    <a:pt x="176" y="162"/>
                  </a:lnTo>
                  <a:lnTo>
                    <a:pt x="180" y="150"/>
                  </a:lnTo>
                  <a:lnTo>
                    <a:pt x="180" y="138"/>
                  </a:lnTo>
                  <a:lnTo>
                    <a:pt x="180" y="114"/>
                  </a:lnTo>
                  <a:lnTo>
                    <a:pt x="174" y="88"/>
                  </a:lnTo>
                  <a:lnTo>
                    <a:pt x="168" y="64"/>
                  </a:lnTo>
                  <a:lnTo>
                    <a:pt x="158" y="42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38" y="10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6" y="2"/>
                  </a:lnTo>
                  <a:lnTo>
                    <a:pt x="74" y="6"/>
                  </a:lnTo>
                  <a:lnTo>
                    <a:pt x="62" y="1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42" y="24"/>
                  </a:lnTo>
                  <a:lnTo>
                    <a:pt x="34" y="28"/>
                  </a:lnTo>
                  <a:lnTo>
                    <a:pt x="28" y="34"/>
                  </a:lnTo>
                  <a:lnTo>
                    <a:pt x="22" y="40"/>
                  </a:lnTo>
                  <a:lnTo>
                    <a:pt x="14" y="54"/>
                  </a:lnTo>
                  <a:lnTo>
                    <a:pt x="8" y="70"/>
                  </a:lnTo>
                  <a:lnTo>
                    <a:pt x="4" y="88"/>
                  </a:lnTo>
                  <a:lnTo>
                    <a:pt x="2" y="10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54"/>
                  </a:lnTo>
                  <a:lnTo>
                    <a:pt x="4" y="168"/>
                  </a:lnTo>
                  <a:lnTo>
                    <a:pt x="10" y="180"/>
                  </a:lnTo>
                  <a:lnTo>
                    <a:pt x="16" y="194"/>
                  </a:lnTo>
                  <a:lnTo>
                    <a:pt x="26" y="204"/>
                  </a:lnTo>
                  <a:lnTo>
                    <a:pt x="34" y="216"/>
                  </a:lnTo>
                  <a:lnTo>
                    <a:pt x="56" y="234"/>
                  </a:lnTo>
                  <a:lnTo>
                    <a:pt x="56" y="234"/>
                  </a:lnTo>
                  <a:close/>
                  <a:moveTo>
                    <a:pt x="104" y="118"/>
                  </a:moveTo>
                  <a:lnTo>
                    <a:pt x="104" y="118"/>
                  </a:lnTo>
                  <a:lnTo>
                    <a:pt x="108" y="128"/>
                  </a:lnTo>
                  <a:lnTo>
                    <a:pt x="108" y="136"/>
                  </a:lnTo>
                  <a:lnTo>
                    <a:pt x="106" y="146"/>
                  </a:lnTo>
                  <a:lnTo>
                    <a:pt x="104" y="156"/>
                  </a:lnTo>
                  <a:lnTo>
                    <a:pt x="100" y="164"/>
                  </a:lnTo>
                  <a:lnTo>
                    <a:pt x="94" y="170"/>
                  </a:lnTo>
                  <a:lnTo>
                    <a:pt x="88" y="178"/>
                  </a:lnTo>
                  <a:lnTo>
                    <a:pt x="80" y="184"/>
                  </a:lnTo>
                  <a:lnTo>
                    <a:pt x="80" y="184"/>
                  </a:lnTo>
                  <a:lnTo>
                    <a:pt x="68" y="186"/>
                  </a:lnTo>
                  <a:lnTo>
                    <a:pt x="58" y="186"/>
                  </a:lnTo>
                  <a:lnTo>
                    <a:pt x="48" y="184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28" y="162"/>
                  </a:lnTo>
                  <a:lnTo>
                    <a:pt x="20" y="142"/>
                  </a:lnTo>
                  <a:lnTo>
                    <a:pt x="18" y="132"/>
                  </a:lnTo>
                  <a:lnTo>
                    <a:pt x="16" y="122"/>
                  </a:lnTo>
                  <a:lnTo>
                    <a:pt x="18" y="110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4" y="92"/>
                  </a:lnTo>
                  <a:lnTo>
                    <a:pt x="28" y="86"/>
                  </a:lnTo>
                  <a:lnTo>
                    <a:pt x="34" y="82"/>
                  </a:lnTo>
                  <a:lnTo>
                    <a:pt x="40" y="78"/>
                  </a:lnTo>
                  <a:lnTo>
                    <a:pt x="46" y="76"/>
                  </a:lnTo>
                  <a:lnTo>
                    <a:pt x="54" y="76"/>
                  </a:lnTo>
                  <a:lnTo>
                    <a:pt x="68" y="78"/>
                  </a:lnTo>
                  <a:lnTo>
                    <a:pt x="82" y="84"/>
                  </a:lnTo>
                  <a:lnTo>
                    <a:pt x="92" y="92"/>
                  </a:lnTo>
                  <a:lnTo>
                    <a:pt x="100" y="104"/>
                  </a:lnTo>
                  <a:lnTo>
                    <a:pt x="104" y="110"/>
                  </a:lnTo>
                  <a:lnTo>
                    <a:pt x="104" y="118"/>
                  </a:lnTo>
                  <a:lnTo>
                    <a:pt x="104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1668240" y="3709800"/>
              <a:ext cx="266400" cy="3682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68" h="232">
                  <a:moveTo>
                    <a:pt x="152" y="202"/>
                  </a:moveTo>
                  <a:lnTo>
                    <a:pt x="152" y="202"/>
                  </a:lnTo>
                  <a:lnTo>
                    <a:pt x="160" y="184"/>
                  </a:lnTo>
                  <a:lnTo>
                    <a:pt x="166" y="166"/>
                  </a:lnTo>
                  <a:lnTo>
                    <a:pt x="168" y="146"/>
                  </a:lnTo>
                  <a:lnTo>
                    <a:pt x="168" y="126"/>
                  </a:lnTo>
                  <a:lnTo>
                    <a:pt x="166" y="106"/>
                  </a:lnTo>
                  <a:lnTo>
                    <a:pt x="162" y="84"/>
                  </a:lnTo>
                  <a:lnTo>
                    <a:pt x="154" y="46"/>
                  </a:lnTo>
                  <a:lnTo>
                    <a:pt x="154" y="46"/>
                  </a:lnTo>
                  <a:lnTo>
                    <a:pt x="138" y="26"/>
                  </a:lnTo>
                  <a:lnTo>
                    <a:pt x="128" y="16"/>
                  </a:lnTo>
                  <a:lnTo>
                    <a:pt x="118" y="10"/>
                  </a:lnTo>
                  <a:lnTo>
                    <a:pt x="108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56" y="6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2" y="22"/>
                  </a:lnTo>
                  <a:lnTo>
                    <a:pt x="22" y="38"/>
                  </a:lnTo>
                  <a:lnTo>
                    <a:pt x="14" y="54"/>
                  </a:lnTo>
                  <a:lnTo>
                    <a:pt x="8" y="72"/>
                  </a:lnTo>
                  <a:lnTo>
                    <a:pt x="4" y="92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0" y="158"/>
                  </a:lnTo>
                  <a:lnTo>
                    <a:pt x="16" y="172"/>
                  </a:lnTo>
                  <a:lnTo>
                    <a:pt x="24" y="186"/>
                  </a:lnTo>
                  <a:lnTo>
                    <a:pt x="32" y="198"/>
                  </a:lnTo>
                  <a:lnTo>
                    <a:pt x="42" y="208"/>
                  </a:lnTo>
                  <a:lnTo>
                    <a:pt x="54" y="218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78" y="230"/>
                  </a:lnTo>
                  <a:lnTo>
                    <a:pt x="90" y="232"/>
                  </a:lnTo>
                  <a:lnTo>
                    <a:pt x="100" y="230"/>
                  </a:lnTo>
                  <a:lnTo>
                    <a:pt x="112" y="228"/>
                  </a:lnTo>
                  <a:lnTo>
                    <a:pt x="122" y="224"/>
                  </a:lnTo>
                  <a:lnTo>
                    <a:pt x="134" y="218"/>
                  </a:lnTo>
                  <a:lnTo>
                    <a:pt x="142" y="210"/>
                  </a:lnTo>
                  <a:lnTo>
                    <a:pt x="152" y="202"/>
                  </a:lnTo>
                  <a:lnTo>
                    <a:pt x="152" y="202"/>
                  </a:lnTo>
                  <a:close/>
                  <a:moveTo>
                    <a:pt x="122" y="182"/>
                  </a:moveTo>
                  <a:lnTo>
                    <a:pt x="122" y="182"/>
                  </a:lnTo>
                  <a:lnTo>
                    <a:pt x="116" y="184"/>
                  </a:lnTo>
                  <a:lnTo>
                    <a:pt x="110" y="184"/>
                  </a:lnTo>
                  <a:lnTo>
                    <a:pt x="100" y="182"/>
                  </a:lnTo>
                  <a:lnTo>
                    <a:pt x="80" y="170"/>
                  </a:lnTo>
                  <a:lnTo>
                    <a:pt x="80" y="170"/>
                  </a:lnTo>
                  <a:lnTo>
                    <a:pt x="76" y="164"/>
                  </a:lnTo>
                  <a:lnTo>
                    <a:pt x="72" y="156"/>
                  </a:lnTo>
                  <a:lnTo>
                    <a:pt x="68" y="140"/>
                  </a:lnTo>
                  <a:lnTo>
                    <a:pt x="66" y="124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2" y="98"/>
                  </a:lnTo>
                  <a:lnTo>
                    <a:pt x="78" y="88"/>
                  </a:lnTo>
                  <a:lnTo>
                    <a:pt x="88" y="80"/>
                  </a:lnTo>
                  <a:lnTo>
                    <a:pt x="94" y="78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8" y="74"/>
                  </a:lnTo>
                  <a:lnTo>
                    <a:pt x="116" y="74"/>
                  </a:lnTo>
                  <a:lnTo>
                    <a:pt x="122" y="76"/>
                  </a:lnTo>
                  <a:lnTo>
                    <a:pt x="128" y="78"/>
                  </a:lnTo>
                  <a:lnTo>
                    <a:pt x="134" y="82"/>
                  </a:lnTo>
                  <a:lnTo>
                    <a:pt x="140" y="88"/>
                  </a:lnTo>
                  <a:lnTo>
                    <a:pt x="144" y="94"/>
                  </a:lnTo>
                  <a:lnTo>
                    <a:pt x="146" y="102"/>
                  </a:lnTo>
                  <a:lnTo>
                    <a:pt x="146" y="102"/>
                  </a:lnTo>
                  <a:lnTo>
                    <a:pt x="148" y="124"/>
                  </a:lnTo>
                  <a:lnTo>
                    <a:pt x="148" y="136"/>
                  </a:lnTo>
                  <a:lnTo>
                    <a:pt x="148" y="148"/>
                  </a:lnTo>
                  <a:lnTo>
                    <a:pt x="146" y="160"/>
                  </a:lnTo>
                  <a:lnTo>
                    <a:pt x="140" y="168"/>
                  </a:lnTo>
                  <a:lnTo>
                    <a:pt x="132" y="176"/>
                  </a:lnTo>
                  <a:lnTo>
                    <a:pt x="122" y="182"/>
                  </a:lnTo>
                  <a:lnTo>
                    <a:pt x="12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2347920" y="3744720"/>
              <a:ext cx="145800" cy="1746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92" h="110">
                  <a:moveTo>
                    <a:pt x="22" y="102"/>
                  </a:moveTo>
                  <a:lnTo>
                    <a:pt x="22" y="102"/>
                  </a:lnTo>
                  <a:lnTo>
                    <a:pt x="32" y="108"/>
                  </a:lnTo>
                  <a:lnTo>
                    <a:pt x="42" y="110"/>
                  </a:lnTo>
                  <a:lnTo>
                    <a:pt x="52" y="110"/>
                  </a:lnTo>
                  <a:lnTo>
                    <a:pt x="64" y="108"/>
                  </a:lnTo>
                  <a:lnTo>
                    <a:pt x="64" y="108"/>
                  </a:lnTo>
                  <a:lnTo>
                    <a:pt x="72" y="102"/>
                  </a:lnTo>
                  <a:lnTo>
                    <a:pt x="78" y="94"/>
                  </a:lnTo>
                  <a:lnTo>
                    <a:pt x="84" y="88"/>
                  </a:lnTo>
                  <a:lnTo>
                    <a:pt x="88" y="80"/>
                  </a:lnTo>
                  <a:lnTo>
                    <a:pt x="90" y="70"/>
                  </a:lnTo>
                  <a:lnTo>
                    <a:pt x="92" y="60"/>
                  </a:lnTo>
                  <a:lnTo>
                    <a:pt x="92" y="52"/>
                  </a:lnTo>
                  <a:lnTo>
                    <a:pt x="88" y="42"/>
                  </a:lnTo>
                  <a:lnTo>
                    <a:pt x="88" y="42"/>
                  </a:lnTo>
                  <a:lnTo>
                    <a:pt x="88" y="34"/>
                  </a:lnTo>
                  <a:lnTo>
                    <a:pt x="84" y="28"/>
                  </a:lnTo>
                  <a:lnTo>
                    <a:pt x="76" y="16"/>
                  </a:lnTo>
                  <a:lnTo>
                    <a:pt x="66" y="8"/>
                  </a:lnTo>
                  <a:lnTo>
                    <a:pt x="52" y="2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12" y="86"/>
                  </a:lnTo>
                  <a:lnTo>
                    <a:pt x="22" y="102"/>
                  </a:lnTo>
                  <a:lnTo>
                    <a:pt x="22" y="10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1773000" y="3827160"/>
              <a:ext cx="129960" cy="174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82" h="110">
                  <a:moveTo>
                    <a:pt x="80" y="28"/>
                  </a:moveTo>
                  <a:lnTo>
                    <a:pt x="80" y="28"/>
                  </a:lnTo>
                  <a:lnTo>
                    <a:pt x="78" y="20"/>
                  </a:lnTo>
                  <a:lnTo>
                    <a:pt x="74" y="14"/>
                  </a:lnTo>
                  <a:lnTo>
                    <a:pt x="68" y="8"/>
                  </a:lnTo>
                  <a:lnTo>
                    <a:pt x="62" y="4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2" y="66"/>
                  </a:lnTo>
                  <a:lnTo>
                    <a:pt x="6" y="82"/>
                  </a:lnTo>
                  <a:lnTo>
                    <a:pt x="10" y="90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34" y="108"/>
                  </a:lnTo>
                  <a:lnTo>
                    <a:pt x="44" y="110"/>
                  </a:lnTo>
                  <a:lnTo>
                    <a:pt x="50" y="110"/>
                  </a:lnTo>
                  <a:lnTo>
                    <a:pt x="56" y="108"/>
                  </a:lnTo>
                  <a:lnTo>
                    <a:pt x="56" y="108"/>
                  </a:lnTo>
                  <a:lnTo>
                    <a:pt x="66" y="102"/>
                  </a:lnTo>
                  <a:lnTo>
                    <a:pt x="74" y="94"/>
                  </a:lnTo>
                  <a:lnTo>
                    <a:pt x="80" y="86"/>
                  </a:lnTo>
                  <a:lnTo>
                    <a:pt x="82" y="74"/>
                  </a:lnTo>
                  <a:lnTo>
                    <a:pt x="82" y="62"/>
                  </a:lnTo>
                  <a:lnTo>
                    <a:pt x="82" y="50"/>
                  </a:lnTo>
                  <a:lnTo>
                    <a:pt x="80" y="28"/>
                  </a:lnTo>
                  <a:lnTo>
                    <a:pt x="80" y="2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2097000" y="3925800"/>
              <a:ext cx="196560" cy="2444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24" h="154">
                  <a:moveTo>
                    <a:pt x="48" y="152"/>
                  </a:moveTo>
                  <a:lnTo>
                    <a:pt x="48" y="152"/>
                  </a:lnTo>
                  <a:lnTo>
                    <a:pt x="60" y="146"/>
                  </a:lnTo>
                  <a:lnTo>
                    <a:pt x="74" y="140"/>
                  </a:lnTo>
                  <a:lnTo>
                    <a:pt x="88" y="134"/>
                  </a:lnTo>
                  <a:lnTo>
                    <a:pt x="100" y="128"/>
                  </a:lnTo>
                  <a:lnTo>
                    <a:pt x="112" y="120"/>
                  </a:lnTo>
                  <a:lnTo>
                    <a:pt x="116" y="116"/>
                  </a:lnTo>
                  <a:lnTo>
                    <a:pt x="120" y="110"/>
                  </a:lnTo>
                  <a:lnTo>
                    <a:pt x="122" y="104"/>
                  </a:lnTo>
                  <a:lnTo>
                    <a:pt x="124" y="98"/>
                  </a:lnTo>
                  <a:lnTo>
                    <a:pt x="122" y="9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12" y="58"/>
                  </a:lnTo>
                  <a:lnTo>
                    <a:pt x="100" y="36"/>
                  </a:lnTo>
                  <a:lnTo>
                    <a:pt x="86" y="1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22"/>
                  </a:lnTo>
                  <a:lnTo>
                    <a:pt x="34" y="32"/>
                  </a:lnTo>
                  <a:lnTo>
                    <a:pt x="38" y="42"/>
                  </a:lnTo>
                  <a:lnTo>
                    <a:pt x="42" y="50"/>
                  </a:lnTo>
                  <a:lnTo>
                    <a:pt x="54" y="68"/>
                  </a:lnTo>
                  <a:lnTo>
                    <a:pt x="60" y="78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0" y="90"/>
                  </a:lnTo>
                  <a:lnTo>
                    <a:pt x="56" y="92"/>
                  </a:lnTo>
                  <a:lnTo>
                    <a:pt x="46" y="96"/>
                  </a:lnTo>
                  <a:lnTo>
                    <a:pt x="36" y="96"/>
                  </a:lnTo>
                  <a:lnTo>
                    <a:pt x="26" y="98"/>
                  </a:lnTo>
                  <a:lnTo>
                    <a:pt x="26" y="98"/>
                  </a:lnTo>
                  <a:lnTo>
                    <a:pt x="16" y="104"/>
                  </a:lnTo>
                  <a:lnTo>
                    <a:pt x="4" y="112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6" y="142"/>
                  </a:lnTo>
                  <a:lnTo>
                    <a:pt x="10" y="146"/>
                  </a:lnTo>
                  <a:lnTo>
                    <a:pt x="16" y="148"/>
                  </a:lnTo>
                  <a:lnTo>
                    <a:pt x="22" y="152"/>
                  </a:lnTo>
                  <a:lnTo>
                    <a:pt x="36" y="154"/>
                  </a:lnTo>
                  <a:lnTo>
                    <a:pt x="48" y="152"/>
                  </a:lnTo>
                  <a:lnTo>
                    <a:pt x="48" y="15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1792080" y="4138560"/>
              <a:ext cx="793800" cy="28224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00" h="178">
                  <a:moveTo>
                    <a:pt x="50" y="168"/>
                  </a:moveTo>
                  <a:lnTo>
                    <a:pt x="50" y="168"/>
                  </a:lnTo>
                  <a:lnTo>
                    <a:pt x="50" y="160"/>
                  </a:lnTo>
                  <a:lnTo>
                    <a:pt x="52" y="152"/>
                  </a:lnTo>
                  <a:lnTo>
                    <a:pt x="60" y="134"/>
                  </a:lnTo>
                  <a:lnTo>
                    <a:pt x="72" y="118"/>
                  </a:lnTo>
                  <a:lnTo>
                    <a:pt x="86" y="102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38" y="132"/>
                  </a:lnTo>
                  <a:lnTo>
                    <a:pt x="172" y="142"/>
                  </a:lnTo>
                  <a:lnTo>
                    <a:pt x="208" y="148"/>
                  </a:lnTo>
                  <a:lnTo>
                    <a:pt x="244" y="152"/>
                  </a:lnTo>
                  <a:lnTo>
                    <a:pt x="280" y="154"/>
                  </a:lnTo>
                  <a:lnTo>
                    <a:pt x="316" y="152"/>
                  </a:lnTo>
                  <a:lnTo>
                    <a:pt x="350" y="148"/>
                  </a:lnTo>
                  <a:lnTo>
                    <a:pt x="384" y="140"/>
                  </a:lnTo>
                  <a:lnTo>
                    <a:pt x="384" y="140"/>
                  </a:lnTo>
                  <a:lnTo>
                    <a:pt x="398" y="138"/>
                  </a:lnTo>
                  <a:lnTo>
                    <a:pt x="414" y="134"/>
                  </a:lnTo>
                  <a:lnTo>
                    <a:pt x="430" y="128"/>
                  </a:lnTo>
                  <a:lnTo>
                    <a:pt x="444" y="118"/>
                  </a:lnTo>
                  <a:lnTo>
                    <a:pt x="444" y="118"/>
                  </a:lnTo>
                  <a:lnTo>
                    <a:pt x="452" y="130"/>
                  </a:lnTo>
                  <a:lnTo>
                    <a:pt x="462" y="138"/>
                  </a:lnTo>
                  <a:lnTo>
                    <a:pt x="472" y="142"/>
                  </a:lnTo>
                  <a:lnTo>
                    <a:pt x="488" y="144"/>
                  </a:lnTo>
                  <a:lnTo>
                    <a:pt x="488" y="144"/>
                  </a:lnTo>
                  <a:lnTo>
                    <a:pt x="492" y="138"/>
                  </a:lnTo>
                  <a:lnTo>
                    <a:pt x="496" y="132"/>
                  </a:lnTo>
                  <a:lnTo>
                    <a:pt x="500" y="126"/>
                  </a:lnTo>
                  <a:lnTo>
                    <a:pt x="500" y="120"/>
                  </a:lnTo>
                  <a:lnTo>
                    <a:pt x="498" y="106"/>
                  </a:lnTo>
                  <a:lnTo>
                    <a:pt x="492" y="92"/>
                  </a:lnTo>
                  <a:lnTo>
                    <a:pt x="478" y="66"/>
                  </a:lnTo>
                  <a:lnTo>
                    <a:pt x="472" y="52"/>
                  </a:lnTo>
                  <a:lnTo>
                    <a:pt x="468" y="38"/>
                  </a:lnTo>
                  <a:lnTo>
                    <a:pt x="468" y="38"/>
                  </a:lnTo>
                  <a:lnTo>
                    <a:pt x="460" y="24"/>
                  </a:lnTo>
                  <a:lnTo>
                    <a:pt x="450" y="10"/>
                  </a:lnTo>
                  <a:lnTo>
                    <a:pt x="444" y="6"/>
                  </a:lnTo>
                  <a:lnTo>
                    <a:pt x="436" y="2"/>
                  </a:lnTo>
                  <a:lnTo>
                    <a:pt x="428" y="0"/>
                  </a:lnTo>
                  <a:lnTo>
                    <a:pt x="418" y="2"/>
                  </a:lnTo>
                  <a:lnTo>
                    <a:pt x="418" y="2"/>
                  </a:lnTo>
                  <a:lnTo>
                    <a:pt x="412" y="6"/>
                  </a:lnTo>
                  <a:lnTo>
                    <a:pt x="408" y="10"/>
                  </a:lnTo>
                  <a:lnTo>
                    <a:pt x="406" y="16"/>
                  </a:lnTo>
                  <a:lnTo>
                    <a:pt x="406" y="20"/>
                  </a:lnTo>
                  <a:lnTo>
                    <a:pt x="406" y="32"/>
                  </a:lnTo>
                  <a:lnTo>
                    <a:pt x="408" y="42"/>
                  </a:lnTo>
                  <a:lnTo>
                    <a:pt x="410" y="52"/>
                  </a:lnTo>
                  <a:lnTo>
                    <a:pt x="410" y="62"/>
                  </a:lnTo>
                  <a:lnTo>
                    <a:pt x="410" y="68"/>
                  </a:lnTo>
                  <a:lnTo>
                    <a:pt x="406" y="72"/>
                  </a:lnTo>
                  <a:lnTo>
                    <a:pt x="402" y="78"/>
                  </a:lnTo>
                  <a:lnTo>
                    <a:pt x="398" y="82"/>
                  </a:lnTo>
                  <a:lnTo>
                    <a:pt x="398" y="82"/>
                  </a:lnTo>
                  <a:lnTo>
                    <a:pt x="354" y="94"/>
                  </a:lnTo>
                  <a:lnTo>
                    <a:pt x="308" y="102"/>
                  </a:lnTo>
                  <a:lnTo>
                    <a:pt x="284" y="104"/>
                  </a:lnTo>
                  <a:lnTo>
                    <a:pt x="260" y="104"/>
                  </a:lnTo>
                  <a:lnTo>
                    <a:pt x="236" y="104"/>
                  </a:lnTo>
                  <a:lnTo>
                    <a:pt x="212" y="102"/>
                  </a:lnTo>
                  <a:lnTo>
                    <a:pt x="106" y="62"/>
                  </a:lnTo>
                  <a:lnTo>
                    <a:pt x="106" y="62"/>
                  </a:lnTo>
                  <a:lnTo>
                    <a:pt x="106" y="50"/>
                  </a:lnTo>
                  <a:lnTo>
                    <a:pt x="102" y="42"/>
                  </a:lnTo>
                  <a:lnTo>
                    <a:pt x="96" y="34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2" y="24"/>
                  </a:lnTo>
                  <a:lnTo>
                    <a:pt x="66" y="26"/>
                  </a:lnTo>
                  <a:lnTo>
                    <a:pt x="62" y="28"/>
                  </a:lnTo>
                  <a:lnTo>
                    <a:pt x="52" y="38"/>
                  </a:lnTo>
                  <a:lnTo>
                    <a:pt x="44" y="50"/>
                  </a:lnTo>
                  <a:lnTo>
                    <a:pt x="32" y="78"/>
                  </a:lnTo>
                  <a:lnTo>
                    <a:pt x="24" y="92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8" y="120"/>
                  </a:lnTo>
                  <a:lnTo>
                    <a:pt x="2" y="136"/>
                  </a:lnTo>
                  <a:lnTo>
                    <a:pt x="0" y="146"/>
                  </a:lnTo>
                  <a:lnTo>
                    <a:pt x="2" y="154"/>
                  </a:lnTo>
                  <a:lnTo>
                    <a:pt x="6" y="162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22" y="174"/>
                  </a:lnTo>
                  <a:lnTo>
                    <a:pt x="32" y="178"/>
                  </a:lnTo>
                  <a:lnTo>
                    <a:pt x="36" y="178"/>
                  </a:lnTo>
                  <a:lnTo>
                    <a:pt x="42" y="176"/>
                  </a:lnTo>
                  <a:lnTo>
                    <a:pt x="46" y="174"/>
                  </a:lnTo>
                  <a:lnTo>
                    <a:pt x="50" y="168"/>
                  </a:lnTo>
                  <a:lnTo>
                    <a:pt x="50" y="16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2052720" y="4573440"/>
              <a:ext cx="301320" cy="117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0" h="74">
                  <a:moveTo>
                    <a:pt x="104" y="22"/>
                  </a:moveTo>
                  <a:lnTo>
                    <a:pt x="104" y="22"/>
                  </a:lnTo>
                  <a:lnTo>
                    <a:pt x="96" y="26"/>
                  </a:lnTo>
                  <a:lnTo>
                    <a:pt x="90" y="26"/>
                  </a:lnTo>
                  <a:lnTo>
                    <a:pt x="76" y="26"/>
                  </a:lnTo>
                  <a:lnTo>
                    <a:pt x="64" y="22"/>
                  </a:lnTo>
                  <a:lnTo>
                    <a:pt x="52" y="16"/>
                  </a:lnTo>
                  <a:lnTo>
                    <a:pt x="40" y="12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2" y="1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6" y="44"/>
                  </a:lnTo>
                  <a:lnTo>
                    <a:pt x="16" y="5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42" y="70"/>
                  </a:lnTo>
                  <a:lnTo>
                    <a:pt x="58" y="72"/>
                  </a:lnTo>
                  <a:lnTo>
                    <a:pt x="74" y="74"/>
                  </a:lnTo>
                  <a:lnTo>
                    <a:pt x="90" y="74"/>
                  </a:lnTo>
                  <a:lnTo>
                    <a:pt x="122" y="68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70" y="54"/>
                  </a:lnTo>
                  <a:lnTo>
                    <a:pt x="180" y="40"/>
                  </a:lnTo>
                  <a:lnTo>
                    <a:pt x="186" y="34"/>
                  </a:lnTo>
                  <a:lnTo>
                    <a:pt x="188" y="26"/>
                  </a:lnTo>
                  <a:lnTo>
                    <a:pt x="190" y="18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84" y="6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58" y="0"/>
                  </a:lnTo>
                  <a:lnTo>
                    <a:pt x="148" y="6"/>
                  </a:lnTo>
                  <a:lnTo>
                    <a:pt x="126" y="18"/>
                  </a:lnTo>
                  <a:lnTo>
                    <a:pt x="114" y="22"/>
                  </a:lnTo>
                  <a:lnTo>
                    <a:pt x="104" y="22"/>
                  </a:lnTo>
                  <a:lnTo>
                    <a:pt x="104" y="2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2179440" y="4595760"/>
              <a:ext cx="663480" cy="213660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2136600"/>
                <a:gd name="textAreaBottom" fmla="*/ 2136960 h 2136600"/>
              </a:gdLst>
              <a:ahLst/>
              <a:rect l="textAreaLeft" t="textAreaTop" r="textAreaRight" b="textAreaBottom"/>
              <a:pathLst>
                <a:path w="418" h="1346">
                  <a:moveTo>
                    <a:pt x="192" y="190"/>
                  </a:moveTo>
                  <a:lnTo>
                    <a:pt x="192" y="190"/>
                  </a:lnTo>
                  <a:lnTo>
                    <a:pt x="210" y="206"/>
                  </a:lnTo>
                  <a:lnTo>
                    <a:pt x="228" y="222"/>
                  </a:lnTo>
                  <a:lnTo>
                    <a:pt x="244" y="240"/>
                  </a:lnTo>
                  <a:lnTo>
                    <a:pt x="258" y="260"/>
                  </a:lnTo>
                  <a:lnTo>
                    <a:pt x="270" y="280"/>
                  </a:lnTo>
                  <a:lnTo>
                    <a:pt x="282" y="300"/>
                  </a:lnTo>
                  <a:lnTo>
                    <a:pt x="292" y="320"/>
                  </a:lnTo>
                  <a:lnTo>
                    <a:pt x="298" y="340"/>
                  </a:lnTo>
                  <a:lnTo>
                    <a:pt x="318" y="316"/>
                  </a:lnTo>
                  <a:lnTo>
                    <a:pt x="318" y="316"/>
                  </a:lnTo>
                  <a:lnTo>
                    <a:pt x="330" y="278"/>
                  </a:lnTo>
                  <a:lnTo>
                    <a:pt x="344" y="238"/>
                  </a:lnTo>
                  <a:lnTo>
                    <a:pt x="360" y="200"/>
                  </a:lnTo>
                  <a:lnTo>
                    <a:pt x="374" y="162"/>
                  </a:lnTo>
                  <a:lnTo>
                    <a:pt x="374" y="162"/>
                  </a:lnTo>
                  <a:lnTo>
                    <a:pt x="378" y="152"/>
                  </a:lnTo>
                  <a:lnTo>
                    <a:pt x="384" y="144"/>
                  </a:lnTo>
                  <a:lnTo>
                    <a:pt x="398" y="128"/>
                  </a:lnTo>
                  <a:lnTo>
                    <a:pt x="406" y="120"/>
                  </a:lnTo>
                  <a:lnTo>
                    <a:pt x="412" y="112"/>
                  </a:lnTo>
                  <a:lnTo>
                    <a:pt x="416" y="104"/>
                  </a:lnTo>
                  <a:lnTo>
                    <a:pt x="418" y="94"/>
                  </a:lnTo>
                  <a:lnTo>
                    <a:pt x="418" y="94"/>
                  </a:lnTo>
                  <a:lnTo>
                    <a:pt x="412" y="80"/>
                  </a:lnTo>
                  <a:lnTo>
                    <a:pt x="406" y="66"/>
                  </a:lnTo>
                  <a:lnTo>
                    <a:pt x="392" y="36"/>
                  </a:lnTo>
                  <a:lnTo>
                    <a:pt x="384" y="22"/>
                  </a:lnTo>
                  <a:lnTo>
                    <a:pt x="374" y="12"/>
                  </a:lnTo>
                  <a:lnTo>
                    <a:pt x="362" y="4"/>
                  </a:lnTo>
                  <a:lnTo>
                    <a:pt x="356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32" y="18"/>
                  </a:lnTo>
                  <a:lnTo>
                    <a:pt x="318" y="34"/>
                  </a:lnTo>
                  <a:lnTo>
                    <a:pt x="282" y="66"/>
                  </a:lnTo>
                  <a:lnTo>
                    <a:pt x="212" y="122"/>
                  </a:lnTo>
                  <a:lnTo>
                    <a:pt x="212" y="122"/>
                  </a:lnTo>
                  <a:lnTo>
                    <a:pt x="192" y="124"/>
                  </a:lnTo>
                  <a:lnTo>
                    <a:pt x="174" y="128"/>
                  </a:lnTo>
                  <a:lnTo>
                    <a:pt x="158" y="136"/>
                  </a:lnTo>
                  <a:lnTo>
                    <a:pt x="144" y="144"/>
                  </a:lnTo>
                  <a:lnTo>
                    <a:pt x="132" y="154"/>
                  </a:lnTo>
                  <a:lnTo>
                    <a:pt x="120" y="168"/>
                  </a:lnTo>
                  <a:lnTo>
                    <a:pt x="112" y="182"/>
                  </a:lnTo>
                  <a:lnTo>
                    <a:pt x="104" y="196"/>
                  </a:lnTo>
                  <a:lnTo>
                    <a:pt x="90" y="230"/>
                  </a:lnTo>
                  <a:lnTo>
                    <a:pt x="78" y="264"/>
                  </a:lnTo>
                  <a:lnTo>
                    <a:pt x="70" y="298"/>
                  </a:lnTo>
                  <a:lnTo>
                    <a:pt x="60" y="330"/>
                  </a:lnTo>
                  <a:lnTo>
                    <a:pt x="60" y="330"/>
                  </a:lnTo>
                  <a:lnTo>
                    <a:pt x="54" y="374"/>
                  </a:lnTo>
                  <a:lnTo>
                    <a:pt x="46" y="418"/>
                  </a:lnTo>
                  <a:lnTo>
                    <a:pt x="26" y="506"/>
                  </a:lnTo>
                  <a:lnTo>
                    <a:pt x="18" y="550"/>
                  </a:lnTo>
                  <a:lnTo>
                    <a:pt x="10" y="594"/>
                  </a:lnTo>
                  <a:lnTo>
                    <a:pt x="4" y="640"/>
                  </a:lnTo>
                  <a:lnTo>
                    <a:pt x="0" y="684"/>
                  </a:lnTo>
                  <a:lnTo>
                    <a:pt x="0" y="684"/>
                  </a:lnTo>
                  <a:lnTo>
                    <a:pt x="24" y="1014"/>
                  </a:lnTo>
                  <a:lnTo>
                    <a:pt x="34" y="1180"/>
                  </a:lnTo>
                  <a:lnTo>
                    <a:pt x="42" y="1346"/>
                  </a:lnTo>
                  <a:lnTo>
                    <a:pt x="200" y="1346"/>
                  </a:lnTo>
                  <a:lnTo>
                    <a:pt x="200" y="1346"/>
                  </a:lnTo>
                  <a:lnTo>
                    <a:pt x="198" y="1320"/>
                  </a:lnTo>
                  <a:lnTo>
                    <a:pt x="194" y="1294"/>
                  </a:lnTo>
                  <a:lnTo>
                    <a:pt x="182" y="1244"/>
                  </a:lnTo>
                  <a:lnTo>
                    <a:pt x="172" y="1192"/>
                  </a:lnTo>
                  <a:lnTo>
                    <a:pt x="168" y="1168"/>
                  </a:lnTo>
                  <a:lnTo>
                    <a:pt x="166" y="1142"/>
                  </a:lnTo>
                  <a:lnTo>
                    <a:pt x="166" y="1142"/>
                  </a:lnTo>
                  <a:lnTo>
                    <a:pt x="152" y="934"/>
                  </a:lnTo>
                  <a:lnTo>
                    <a:pt x="148" y="830"/>
                  </a:lnTo>
                  <a:lnTo>
                    <a:pt x="146" y="728"/>
                  </a:lnTo>
                  <a:lnTo>
                    <a:pt x="146" y="676"/>
                  </a:lnTo>
                  <a:lnTo>
                    <a:pt x="148" y="624"/>
                  </a:lnTo>
                  <a:lnTo>
                    <a:pt x="152" y="574"/>
                  </a:lnTo>
                  <a:lnTo>
                    <a:pt x="158" y="524"/>
                  </a:lnTo>
                  <a:lnTo>
                    <a:pt x="166" y="476"/>
                  </a:lnTo>
                  <a:lnTo>
                    <a:pt x="174" y="428"/>
                  </a:lnTo>
                  <a:lnTo>
                    <a:pt x="186" y="380"/>
                  </a:lnTo>
                  <a:lnTo>
                    <a:pt x="200" y="334"/>
                  </a:lnTo>
                  <a:lnTo>
                    <a:pt x="200" y="334"/>
                  </a:lnTo>
                  <a:lnTo>
                    <a:pt x="196" y="320"/>
                  </a:lnTo>
                  <a:lnTo>
                    <a:pt x="192" y="308"/>
                  </a:lnTo>
                  <a:lnTo>
                    <a:pt x="184" y="298"/>
                  </a:lnTo>
                  <a:lnTo>
                    <a:pt x="176" y="288"/>
                  </a:lnTo>
                  <a:lnTo>
                    <a:pt x="156" y="272"/>
                  </a:lnTo>
                  <a:lnTo>
                    <a:pt x="134" y="256"/>
                  </a:lnTo>
                  <a:lnTo>
                    <a:pt x="134" y="256"/>
                  </a:lnTo>
                  <a:lnTo>
                    <a:pt x="130" y="248"/>
                  </a:lnTo>
                  <a:lnTo>
                    <a:pt x="130" y="238"/>
                  </a:lnTo>
                  <a:lnTo>
                    <a:pt x="130" y="230"/>
                  </a:lnTo>
                  <a:lnTo>
                    <a:pt x="132" y="222"/>
                  </a:lnTo>
                  <a:lnTo>
                    <a:pt x="140" y="208"/>
                  </a:lnTo>
                  <a:lnTo>
                    <a:pt x="152" y="194"/>
                  </a:lnTo>
                  <a:lnTo>
                    <a:pt x="152" y="194"/>
                  </a:lnTo>
                  <a:lnTo>
                    <a:pt x="162" y="188"/>
                  </a:lnTo>
                  <a:lnTo>
                    <a:pt x="172" y="188"/>
                  </a:lnTo>
                  <a:lnTo>
                    <a:pt x="182" y="188"/>
                  </a:lnTo>
                  <a:lnTo>
                    <a:pt x="192" y="190"/>
                  </a:lnTo>
                  <a:lnTo>
                    <a:pt x="192" y="190"/>
                  </a:lnTo>
                  <a:close/>
                  <a:moveTo>
                    <a:pt x="68" y="668"/>
                  </a:moveTo>
                  <a:lnTo>
                    <a:pt x="68" y="668"/>
                  </a:lnTo>
                  <a:lnTo>
                    <a:pt x="78" y="668"/>
                  </a:lnTo>
                  <a:lnTo>
                    <a:pt x="86" y="668"/>
                  </a:lnTo>
                  <a:lnTo>
                    <a:pt x="94" y="672"/>
                  </a:lnTo>
                  <a:lnTo>
                    <a:pt x="102" y="676"/>
                  </a:lnTo>
                  <a:lnTo>
                    <a:pt x="108" y="680"/>
                  </a:lnTo>
                  <a:lnTo>
                    <a:pt x="114" y="686"/>
                  </a:lnTo>
                  <a:lnTo>
                    <a:pt x="118" y="694"/>
                  </a:lnTo>
                  <a:lnTo>
                    <a:pt x="122" y="702"/>
                  </a:lnTo>
                  <a:lnTo>
                    <a:pt x="122" y="702"/>
                  </a:lnTo>
                  <a:lnTo>
                    <a:pt x="122" y="708"/>
                  </a:lnTo>
                  <a:lnTo>
                    <a:pt x="122" y="714"/>
                  </a:lnTo>
                  <a:lnTo>
                    <a:pt x="118" y="724"/>
                  </a:lnTo>
                  <a:lnTo>
                    <a:pt x="110" y="732"/>
                  </a:lnTo>
                  <a:lnTo>
                    <a:pt x="102" y="740"/>
                  </a:lnTo>
                  <a:lnTo>
                    <a:pt x="102" y="740"/>
                  </a:lnTo>
                  <a:lnTo>
                    <a:pt x="86" y="740"/>
                  </a:lnTo>
                  <a:lnTo>
                    <a:pt x="68" y="734"/>
                  </a:lnTo>
                  <a:lnTo>
                    <a:pt x="60" y="732"/>
                  </a:lnTo>
                  <a:lnTo>
                    <a:pt x="54" y="726"/>
                  </a:lnTo>
                  <a:lnTo>
                    <a:pt x="48" y="720"/>
                  </a:lnTo>
                  <a:lnTo>
                    <a:pt x="44" y="710"/>
                  </a:lnTo>
                  <a:lnTo>
                    <a:pt x="44" y="710"/>
                  </a:lnTo>
                  <a:lnTo>
                    <a:pt x="44" y="698"/>
                  </a:lnTo>
                  <a:lnTo>
                    <a:pt x="46" y="684"/>
                  </a:lnTo>
                  <a:lnTo>
                    <a:pt x="50" y="678"/>
                  </a:lnTo>
                  <a:lnTo>
                    <a:pt x="54" y="672"/>
                  </a:lnTo>
                  <a:lnTo>
                    <a:pt x="60" y="668"/>
                  </a:lnTo>
                  <a:lnTo>
                    <a:pt x="68" y="668"/>
                  </a:lnTo>
                  <a:lnTo>
                    <a:pt x="68" y="668"/>
                  </a:lnTo>
                  <a:close/>
                  <a:moveTo>
                    <a:pt x="48" y="964"/>
                  </a:moveTo>
                  <a:lnTo>
                    <a:pt x="48" y="964"/>
                  </a:lnTo>
                  <a:lnTo>
                    <a:pt x="46" y="956"/>
                  </a:lnTo>
                  <a:lnTo>
                    <a:pt x="46" y="948"/>
                  </a:lnTo>
                  <a:lnTo>
                    <a:pt x="48" y="942"/>
                  </a:lnTo>
                  <a:lnTo>
                    <a:pt x="50" y="936"/>
                  </a:lnTo>
                  <a:lnTo>
                    <a:pt x="58" y="926"/>
                  </a:lnTo>
                  <a:lnTo>
                    <a:pt x="68" y="916"/>
                  </a:lnTo>
                  <a:lnTo>
                    <a:pt x="68" y="916"/>
                  </a:lnTo>
                  <a:lnTo>
                    <a:pt x="80" y="914"/>
                  </a:lnTo>
                  <a:lnTo>
                    <a:pt x="90" y="916"/>
                  </a:lnTo>
                  <a:lnTo>
                    <a:pt x="100" y="920"/>
                  </a:lnTo>
                  <a:lnTo>
                    <a:pt x="110" y="926"/>
                  </a:lnTo>
                  <a:lnTo>
                    <a:pt x="116" y="932"/>
                  </a:lnTo>
                  <a:lnTo>
                    <a:pt x="122" y="940"/>
                  </a:lnTo>
                  <a:lnTo>
                    <a:pt x="126" y="950"/>
                  </a:lnTo>
                  <a:lnTo>
                    <a:pt x="128" y="960"/>
                  </a:lnTo>
                  <a:lnTo>
                    <a:pt x="128" y="960"/>
                  </a:lnTo>
                  <a:lnTo>
                    <a:pt x="128" y="966"/>
                  </a:lnTo>
                  <a:lnTo>
                    <a:pt x="126" y="972"/>
                  </a:lnTo>
                  <a:lnTo>
                    <a:pt x="122" y="978"/>
                  </a:lnTo>
                  <a:lnTo>
                    <a:pt x="118" y="982"/>
                  </a:lnTo>
                  <a:lnTo>
                    <a:pt x="108" y="990"/>
                  </a:lnTo>
                  <a:lnTo>
                    <a:pt x="96" y="992"/>
                  </a:lnTo>
                  <a:lnTo>
                    <a:pt x="96" y="992"/>
                  </a:lnTo>
                  <a:lnTo>
                    <a:pt x="88" y="992"/>
                  </a:lnTo>
                  <a:lnTo>
                    <a:pt x="80" y="992"/>
                  </a:lnTo>
                  <a:lnTo>
                    <a:pt x="66" y="986"/>
                  </a:lnTo>
                  <a:lnTo>
                    <a:pt x="56" y="976"/>
                  </a:lnTo>
                  <a:lnTo>
                    <a:pt x="48" y="964"/>
                  </a:lnTo>
                  <a:lnTo>
                    <a:pt x="48" y="964"/>
                  </a:lnTo>
                  <a:close/>
                  <a:moveTo>
                    <a:pt x="158" y="1202"/>
                  </a:moveTo>
                  <a:lnTo>
                    <a:pt x="158" y="1202"/>
                  </a:lnTo>
                  <a:lnTo>
                    <a:pt x="160" y="1218"/>
                  </a:lnTo>
                  <a:lnTo>
                    <a:pt x="158" y="1234"/>
                  </a:lnTo>
                  <a:lnTo>
                    <a:pt x="156" y="1244"/>
                  </a:lnTo>
                  <a:lnTo>
                    <a:pt x="154" y="1250"/>
                  </a:lnTo>
                  <a:lnTo>
                    <a:pt x="148" y="1256"/>
                  </a:lnTo>
                  <a:lnTo>
                    <a:pt x="140" y="1260"/>
                  </a:lnTo>
                  <a:lnTo>
                    <a:pt x="140" y="1260"/>
                  </a:lnTo>
                  <a:lnTo>
                    <a:pt x="128" y="1264"/>
                  </a:lnTo>
                  <a:lnTo>
                    <a:pt x="118" y="1264"/>
                  </a:lnTo>
                  <a:lnTo>
                    <a:pt x="110" y="1262"/>
                  </a:lnTo>
                  <a:lnTo>
                    <a:pt x="102" y="1256"/>
                  </a:lnTo>
                  <a:lnTo>
                    <a:pt x="86" y="1242"/>
                  </a:lnTo>
                  <a:lnTo>
                    <a:pt x="78" y="1234"/>
                  </a:lnTo>
                  <a:lnTo>
                    <a:pt x="72" y="1230"/>
                  </a:lnTo>
                  <a:lnTo>
                    <a:pt x="72" y="1230"/>
                  </a:lnTo>
                  <a:lnTo>
                    <a:pt x="68" y="1214"/>
                  </a:lnTo>
                  <a:lnTo>
                    <a:pt x="70" y="1206"/>
                  </a:lnTo>
                  <a:lnTo>
                    <a:pt x="70" y="1198"/>
                  </a:lnTo>
                  <a:lnTo>
                    <a:pt x="74" y="1192"/>
                  </a:lnTo>
                  <a:lnTo>
                    <a:pt x="78" y="1186"/>
                  </a:lnTo>
                  <a:lnTo>
                    <a:pt x="84" y="1180"/>
                  </a:lnTo>
                  <a:lnTo>
                    <a:pt x="90" y="1176"/>
                  </a:lnTo>
                  <a:lnTo>
                    <a:pt x="90" y="1176"/>
                  </a:lnTo>
                  <a:lnTo>
                    <a:pt x="100" y="1174"/>
                  </a:lnTo>
                  <a:lnTo>
                    <a:pt x="110" y="1174"/>
                  </a:lnTo>
                  <a:lnTo>
                    <a:pt x="120" y="1174"/>
                  </a:lnTo>
                  <a:lnTo>
                    <a:pt x="130" y="1176"/>
                  </a:lnTo>
                  <a:lnTo>
                    <a:pt x="138" y="1180"/>
                  </a:lnTo>
                  <a:lnTo>
                    <a:pt x="146" y="1186"/>
                  </a:lnTo>
                  <a:lnTo>
                    <a:pt x="152" y="1194"/>
                  </a:lnTo>
                  <a:lnTo>
                    <a:pt x="158" y="1202"/>
                  </a:lnTo>
                  <a:lnTo>
                    <a:pt x="158" y="1202"/>
                  </a:lnTo>
                  <a:close/>
                  <a:moveTo>
                    <a:pt x="108" y="506"/>
                  </a:moveTo>
                  <a:lnTo>
                    <a:pt x="108" y="506"/>
                  </a:lnTo>
                  <a:lnTo>
                    <a:pt x="100" y="506"/>
                  </a:lnTo>
                  <a:lnTo>
                    <a:pt x="90" y="504"/>
                  </a:lnTo>
                  <a:lnTo>
                    <a:pt x="82" y="502"/>
                  </a:lnTo>
                  <a:lnTo>
                    <a:pt x="76" y="498"/>
                  </a:lnTo>
                  <a:lnTo>
                    <a:pt x="64" y="486"/>
                  </a:lnTo>
                  <a:lnTo>
                    <a:pt x="54" y="474"/>
                  </a:lnTo>
                  <a:lnTo>
                    <a:pt x="54" y="474"/>
                  </a:lnTo>
                  <a:lnTo>
                    <a:pt x="54" y="460"/>
                  </a:lnTo>
                  <a:lnTo>
                    <a:pt x="58" y="448"/>
                  </a:lnTo>
                  <a:lnTo>
                    <a:pt x="62" y="442"/>
                  </a:lnTo>
                  <a:lnTo>
                    <a:pt x="66" y="438"/>
                  </a:lnTo>
                  <a:lnTo>
                    <a:pt x="72" y="434"/>
                  </a:lnTo>
                  <a:lnTo>
                    <a:pt x="78" y="430"/>
                  </a:lnTo>
                  <a:lnTo>
                    <a:pt x="78" y="430"/>
                  </a:lnTo>
                  <a:lnTo>
                    <a:pt x="88" y="430"/>
                  </a:lnTo>
                  <a:lnTo>
                    <a:pt x="96" y="430"/>
                  </a:lnTo>
                  <a:lnTo>
                    <a:pt x="104" y="432"/>
                  </a:lnTo>
                  <a:lnTo>
                    <a:pt x="110" y="436"/>
                  </a:lnTo>
                  <a:lnTo>
                    <a:pt x="116" y="442"/>
                  </a:lnTo>
                  <a:lnTo>
                    <a:pt x="122" y="448"/>
                  </a:lnTo>
                  <a:lnTo>
                    <a:pt x="130" y="462"/>
                  </a:lnTo>
                  <a:lnTo>
                    <a:pt x="130" y="462"/>
                  </a:lnTo>
                  <a:lnTo>
                    <a:pt x="130" y="468"/>
                  </a:lnTo>
                  <a:lnTo>
                    <a:pt x="130" y="476"/>
                  </a:lnTo>
                  <a:lnTo>
                    <a:pt x="128" y="482"/>
                  </a:lnTo>
                  <a:lnTo>
                    <a:pt x="126" y="488"/>
                  </a:lnTo>
                  <a:lnTo>
                    <a:pt x="118" y="498"/>
                  </a:lnTo>
                  <a:lnTo>
                    <a:pt x="108" y="506"/>
                  </a:lnTo>
                  <a:lnTo>
                    <a:pt x="108" y="506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734760" y="4725720"/>
              <a:ext cx="1406520" cy="2050920"/>
            </a:xfrm>
            <a:custGeom>
              <a:avLst/>
              <a:gdLst>
                <a:gd name="textAreaLeft" fmla="*/ 0 w 1406520"/>
                <a:gd name="textAreaRight" fmla="*/ 1406520 w 1406520"/>
                <a:gd name="textAreaTop" fmla="*/ 0 h 2050920"/>
                <a:gd name="textAreaBottom" fmla="*/ 2051280 h 2050920"/>
              </a:gdLst>
              <a:ahLst/>
              <a:rect l="textAreaLeft" t="textAreaTop" r="textAreaRight" b="textAreaBottom"/>
              <a:pathLst>
                <a:path w="886" h="1292">
                  <a:moveTo>
                    <a:pt x="858" y="1258"/>
                  </a:moveTo>
                  <a:lnTo>
                    <a:pt x="858" y="1258"/>
                  </a:lnTo>
                  <a:lnTo>
                    <a:pt x="864" y="1250"/>
                  </a:lnTo>
                  <a:lnTo>
                    <a:pt x="868" y="1240"/>
                  </a:lnTo>
                  <a:lnTo>
                    <a:pt x="872" y="1222"/>
                  </a:lnTo>
                  <a:lnTo>
                    <a:pt x="876" y="1200"/>
                  </a:lnTo>
                  <a:lnTo>
                    <a:pt x="880" y="1180"/>
                  </a:lnTo>
                  <a:lnTo>
                    <a:pt x="880" y="1180"/>
                  </a:lnTo>
                  <a:lnTo>
                    <a:pt x="884" y="1128"/>
                  </a:lnTo>
                  <a:lnTo>
                    <a:pt x="886" y="1072"/>
                  </a:lnTo>
                  <a:lnTo>
                    <a:pt x="886" y="1018"/>
                  </a:lnTo>
                  <a:lnTo>
                    <a:pt x="884" y="964"/>
                  </a:lnTo>
                  <a:lnTo>
                    <a:pt x="878" y="854"/>
                  </a:lnTo>
                  <a:lnTo>
                    <a:pt x="868" y="742"/>
                  </a:lnTo>
                  <a:lnTo>
                    <a:pt x="862" y="632"/>
                  </a:lnTo>
                  <a:lnTo>
                    <a:pt x="860" y="576"/>
                  </a:lnTo>
                  <a:lnTo>
                    <a:pt x="860" y="522"/>
                  </a:lnTo>
                  <a:lnTo>
                    <a:pt x="860" y="468"/>
                  </a:lnTo>
                  <a:lnTo>
                    <a:pt x="864" y="414"/>
                  </a:lnTo>
                  <a:lnTo>
                    <a:pt x="872" y="362"/>
                  </a:lnTo>
                  <a:lnTo>
                    <a:pt x="882" y="310"/>
                  </a:lnTo>
                  <a:lnTo>
                    <a:pt x="882" y="310"/>
                  </a:lnTo>
                  <a:lnTo>
                    <a:pt x="884" y="262"/>
                  </a:lnTo>
                  <a:lnTo>
                    <a:pt x="882" y="240"/>
                  </a:lnTo>
                  <a:lnTo>
                    <a:pt x="882" y="218"/>
                  </a:lnTo>
                  <a:lnTo>
                    <a:pt x="876" y="198"/>
                  </a:lnTo>
                  <a:lnTo>
                    <a:pt x="870" y="178"/>
                  </a:lnTo>
                  <a:lnTo>
                    <a:pt x="858" y="160"/>
                  </a:lnTo>
                  <a:lnTo>
                    <a:pt x="842" y="142"/>
                  </a:lnTo>
                  <a:lnTo>
                    <a:pt x="842" y="142"/>
                  </a:lnTo>
                  <a:lnTo>
                    <a:pt x="788" y="112"/>
                  </a:lnTo>
                  <a:lnTo>
                    <a:pt x="736" y="78"/>
                  </a:lnTo>
                  <a:lnTo>
                    <a:pt x="710" y="60"/>
                  </a:lnTo>
                  <a:lnTo>
                    <a:pt x="686" y="42"/>
                  </a:lnTo>
                  <a:lnTo>
                    <a:pt x="664" y="22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30" y="28"/>
                  </a:lnTo>
                  <a:lnTo>
                    <a:pt x="624" y="42"/>
                  </a:lnTo>
                  <a:lnTo>
                    <a:pt x="616" y="54"/>
                  </a:lnTo>
                  <a:lnTo>
                    <a:pt x="616" y="54"/>
                  </a:lnTo>
                  <a:lnTo>
                    <a:pt x="596" y="70"/>
                  </a:lnTo>
                  <a:lnTo>
                    <a:pt x="584" y="84"/>
                  </a:lnTo>
                  <a:lnTo>
                    <a:pt x="576" y="100"/>
                  </a:lnTo>
                  <a:lnTo>
                    <a:pt x="574" y="116"/>
                  </a:lnTo>
                  <a:lnTo>
                    <a:pt x="574" y="130"/>
                  </a:lnTo>
                  <a:lnTo>
                    <a:pt x="578" y="146"/>
                  </a:lnTo>
                  <a:lnTo>
                    <a:pt x="584" y="160"/>
                  </a:lnTo>
                  <a:lnTo>
                    <a:pt x="592" y="176"/>
                  </a:lnTo>
                  <a:lnTo>
                    <a:pt x="610" y="208"/>
                  </a:lnTo>
                  <a:lnTo>
                    <a:pt x="626" y="238"/>
                  </a:lnTo>
                  <a:lnTo>
                    <a:pt x="634" y="254"/>
                  </a:lnTo>
                  <a:lnTo>
                    <a:pt x="638" y="270"/>
                  </a:lnTo>
                  <a:lnTo>
                    <a:pt x="640" y="286"/>
                  </a:lnTo>
                  <a:lnTo>
                    <a:pt x="638" y="302"/>
                  </a:lnTo>
                  <a:lnTo>
                    <a:pt x="638" y="302"/>
                  </a:lnTo>
                  <a:lnTo>
                    <a:pt x="642" y="302"/>
                  </a:lnTo>
                  <a:lnTo>
                    <a:pt x="644" y="300"/>
                  </a:lnTo>
                  <a:lnTo>
                    <a:pt x="650" y="296"/>
                  </a:lnTo>
                  <a:lnTo>
                    <a:pt x="650" y="296"/>
                  </a:lnTo>
                  <a:lnTo>
                    <a:pt x="664" y="278"/>
                  </a:lnTo>
                  <a:lnTo>
                    <a:pt x="674" y="260"/>
                  </a:lnTo>
                  <a:lnTo>
                    <a:pt x="686" y="242"/>
                  </a:lnTo>
                  <a:lnTo>
                    <a:pt x="694" y="222"/>
                  </a:lnTo>
                  <a:lnTo>
                    <a:pt x="710" y="184"/>
                  </a:lnTo>
                  <a:lnTo>
                    <a:pt x="728" y="148"/>
                  </a:lnTo>
                  <a:lnTo>
                    <a:pt x="728" y="148"/>
                  </a:lnTo>
                  <a:lnTo>
                    <a:pt x="734" y="144"/>
                  </a:lnTo>
                  <a:lnTo>
                    <a:pt x="740" y="140"/>
                  </a:lnTo>
                  <a:lnTo>
                    <a:pt x="746" y="140"/>
                  </a:lnTo>
                  <a:lnTo>
                    <a:pt x="754" y="140"/>
                  </a:lnTo>
                  <a:lnTo>
                    <a:pt x="766" y="146"/>
                  </a:lnTo>
                  <a:lnTo>
                    <a:pt x="778" y="154"/>
                  </a:lnTo>
                  <a:lnTo>
                    <a:pt x="778" y="154"/>
                  </a:lnTo>
                  <a:lnTo>
                    <a:pt x="782" y="160"/>
                  </a:lnTo>
                  <a:lnTo>
                    <a:pt x="784" y="166"/>
                  </a:lnTo>
                  <a:lnTo>
                    <a:pt x="786" y="172"/>
                  </a:lnTo>
                  <a:lnTo>
                    <a:pt x="784" y="178"/>
                  </a:lnTo>
                  <a:lnTo>
                    <a:pt x="778" y="190"/>
                  </a:lnTo>
                  <a:lnTo>
                    <a:pt x="768" y="198"/>
                  </a:lnTo>
                  <a:lnTo>
                    <a:pt x="768" y="198"/>
                  </a:lnTo>
                  <a:lnTo>
                    <a:pt x="746" y="256"/>
                  </a:lnTo>
                  <a:lnTo>
                    <a:pt x="732" y="284"/>
                  </a:lnTo>
                  <a:lnTo>
                    <a:pt x="716" y="310"/>
                  </a:lnTo>
                  <a:lnTo>
                    <a:pt x="706" y="324"/>
                  </a:lnTo>
                  <a:lnTo>
                    <a:pt x="696" y="334"/>
                  </a:lnTo>
                  <a:lnTo>
                    <a:pt x="686" y="346"/>
                  </a:lnTo>
                  <a:lnTo>
                    <a:pt x="674" y="356"/>
                  </a:lnTo>
                  <a:lnTo>
                    <a:pt x="662" y="364"/>
                  </a:lnTo>
                  <a:lnTo>
                    <a:pt x="648" y="370"/>
                  </a:lnTo>
                  <a:lnTo>
                    <a:pt x="632" y="376"/>
                  </a:lnTo>
                  <a:lnTo>
                    <a:pt x="616" y="380"/>
                  </a:lnTo>
                  <a:lnTo>
                    <a:pt x="616" y="380"/>
                  </a:lnTo>
                  <a:lnTo>
                    <a:pt x="604" y="376"/>
                  </a:lnTo>
                  <a:lnTo>
                    <a:pt x="592" y="372"/>
                  </a:lnTo>
                  <a:lnTo>
                    <a:pt x="584" y="364"/>
                  </a:lnTo>
                  <a:lnTo>
                    <a:pt x="580" y="360"/>
                  </a:lnTo>
                  <a:lnTo>
                    <a:pt x="580" y="354"/>
                  </a:lnTo>
                  <a:lnTo>
                    <a:pt x="580" y="354"/>
                  </a:lnTo>
                  <a:lnTo>
                    <a:pt x="580" y="338"/>
                  </a:lnTo>
                  <a:lnTo>
                    <a:pt x="582" y="324"/>
                  </a:lnTo>
                  <a:lnTo>
                    <a:pt x="580" y="310"/>
                  </a:lnTo>
                  <a:lnTo>
                    <a:pt x="578" y="298"/>
                  </a:lnTo>
                  <a:lnTo>
                    <a:pt x="570" y="270"/>
                  </a:lnTo>
                  <a:lnTo>
                    <a:pt x="560" y="246"/>
                  </a:lnTo>
                  <a:lnTo>
                    <a:pt x="548" y="222"/>
                  </a:lnTo>
                  <a:lnTo>
                    <a:pt x="534" y="198"/>
                  </a:lnTo>
                  <a:lnTo>
                    <a:pt x="522" y="176"/>
                  </a:lnTo>
                  <a:lnTo>
                    <a:pt x="510" y="154"/>
                  </a:lnTo>
                  <a:lnTo>
                    <a:pt x="510" y="154"/>
                  </a:lnTo>
                  <a:lnTo>
                    <a:pt x="492" y="168"/>
                  </a:lnTo>
                  <a:lnTo>
                    <a:pt x="472" y="180"/>
                  </a:lnTo>
                  <a:lnTo>
                    <a:pt x="434" y="202"/>
                  </a:lnTo>
                  <a:lnTo>
                    <a:pt x="392" y="224"/>
                  </a:lnTo>
                  <a:lnTo>
                    <a:pt x="352" y="246"/>
                  </a:lnTo>
                  <a:lnTo>
                    <a:pt x="334" y="258"/>
                  </a:lnTo>
                  <a:lnTo>
                    <a:pt x="314" y="270"/>
                  </a:lnTo>
                  <a:lnTo>
                    <a:pt x="298" y="284"/>
                  </a:lnTo>
                  <a:lnTo>
                    <a:pt x="280" y="298"/>
                  </a:lnTo>
                  <a:lnTo>
                    <a:pt x="266" y="314"/>
                  </a:lnTo>
                  <a:lnTo>
                    <a:pt x="254" y="332"/>
                  </a:lnTo>
                  <a:lnTo>
                    <a:pt x="242" y="352"/>
                  </a:lnTo>
                  <a:lnTo>
                    <a:pt x="234" y="374"/>
                  </a:lnTo>
                  <a:lnTo>
                    <a:pt x="234" y="374"/>
                  </a:lnTo>
                  <a:lnTo>
                    <a:pt x="234" y="436"/>
                  </a:lnTo>
                  <a:lnTo>
                    <a:pt x="238" y="502"/>
                  </a:lnTo>
                  <a:lnTo>
                    <a:pt x="238" y="568"/>
                  </a:lnTo>
                  <a:lnTo>
                    <a:pt x="236" y="600"/>
                  </a:lnTo>
                  <a:lnTo>
                    <a:pt x="234" y="632"/>
                  </a:lnTo>
                  <a:lnTo>
                    <a:pt x="234" y="632"/>
                  </a:lnTo>
                  <a:lnTo>
                    <a:pt x="232" y="644"/>
                  </a:lnTo>
                  <a:lnTo>
                    <a:pt x="230" y="652"/>
                  </a:lnTo>
                  <a:lnTo>
                    <a:pt x="226" y="660"/>
                  </a:lnTo>
                  <a:lnTo>
                    <a:pt x="222" y="664"/>
                  </a:lnTo>
                  <a:lnTo>
                    <a:pt x="216" y="668"/>
                  </a:lnTo>
                  <a:lnTo>
                    <a:pt x="210" y="670"/>
                  </a:lnTo>
                  <a:lnTo>
                    <a:pt x="194" y="670"/>
                  </a:lnTo>
                  <a:lnTo>
                    <a:pt x="178" y="672"/>
                  </a:lnTo>
                  <a:lnTo>
                    <a:pt x="164" y="674"/>
                  </a:lnTo>
                  <a:lnTo>
                    <a:pt x="156" y="676"/>
                  </a:lnTo>
                  <a:lnTo>
                    <a:pt x="150" y="682"/>
                  </a:lnTo>
                  <a:lnTo>
                    <a:pt x="146" y="688"/>
                  </a:lnTo>
                  <a:lnTo>
                    <a:pt x="142" y="696"/>
                  </a:lnTo>
                  <a:lnTo>
                    <a:pt x="142" y="696"/>
                  </a:lnTo>
                  <a:lnTo>
                    <a:pt x="132" y="738"/>
                  </a:lnTo>
                  <a:lnTo>
                    <a:pt x="118" y="780"/>
                  </a:lnTo>
                  <a:lnTo>
                    <a:pt x="104" y="820"/>
                  </a:lnTo>
                  <a:lnTo>
                    <a:pt x="88" y="860"/>
                  </a:lnTo>
                  <a:lnTo>
                    <a:pt x="68" y="898"/>
                  </a:lnTo>
                  <a:lnTo>
                    <a:pt x="48" y="936"/>
                  </a:lnTo>
                  <a:lnTo>
                    <a:pt x="26" y="972"/>
                  </a:lnTo>
                  <a:lnTo>
                    <a:pt x="2" y="1010"/>
                  </a:lnTo>
                  <a:lnTo>
                    <a:pt x="2" y="1010"/>
                  </a:lnTo>
                  <a:lnTo>
                    <a:pt x="0" y="1016"/>
                  </a:lnTo>
                  <a:lnTo>
                    <a:pt x="0" y="1024"/>
                  </a:lnTo>
                  <a:lnTo>
                    <a:pt x="0" y="1030"/>
                  </a:lnTo>
                  <a:lnTo>
                    <a:pt x="2" y="1036"/>
                  </a:lnTo>
                  <a:lnTo>
                    <a:pt x="8" y="1046"/>
                  </a:lnTo>
                  <a:lnTo>
                    <a:pt x="18" y="1054"/>
                  </a:lnTo>
                  <a:lnTo>
                    <a:pt x="42" y="1070"/>
                  </a:lnTo>
                  <a:lnTo>
                    <a:pt x="54" y="1076"/>
                  </a:lnTo>
                  <a:lnTo>
                    <a:pt x="64" y="1084"/>
                  </a:lnTo>
                  <a:lnTo>
                    <a:pt x="64" y="1084"/>
                  </a:lnTo>
                  <a:lnTo>
                    <a:pt x="80" y="1092"/>
                  </a:lnTo>
                  <a:lnTo>
                    <a:pt x="98" y="1096"/>
                  </a:lnTo>
                  <a:lnTo>
                    <a:pt x="118" y="1100"/>
                  </a:lnTo>
                  <a:lnTo>
                    <a:pt x="136" y="1100"/>
                  </a:lnTo>
                  <a:lnTo>
                    <a:pt x="156" y="1102"/>
                  </a:lnTo>
                  <a:lnTo>
                    <a:pt x="174" y="1106"/>
                  </a:lnTo>
                  <a:lnTo>
                    <a:pt x="192" y="1110"/>
                  </a:lnTo>
                  <a:lnTo>
                    <a:pt x="208" y="1118"/>
                  </a:lnTo>
                  <a:lnTo>
                    <a:pt x="208" y="1118"/>
                  </a:lnTo>
                  <a:lnTo>
                    <a:pt x="230" y="1126"/>
                  </a:lnTo>
                  <a:lnTo>
                    <a:pt x="252" y="1134"/>
                  </a:lnTo>
                  <a:lnTo>
                    <a:pt x="274" y="1146"/>
                  </a:lnTo>
                  <a:lnTo>
                    <a:pt x="296" y="1154"/>
                  </a:lnTo>
                  <a:lnTo>
                    <a:pt x="318" y="1162"/>
                  </a:lnTo>
                  <a:lnTo>
                    <a:pt x="328" y="1164"/>
                  </a:lnTo>
                  <a:lnTo>
                    <a:pt x="340" y="1166"/>
                  </a:lnTo>
                  <a:lnTo>
                    <a:pt x="350" y="1164"/>
                  </a:lnTo>
                  <a:lnTo>
                    <a:pt x="360" y="1162"/>
                  </a:lnTo>
                  <a:lnTo>
                    <a:pt x="372" y="1158"/>
                  </a:lnTo>
                  <a:lnTo>
                    <a:pt x="382" y="1152"/>
                  </a:lnTo>
                  <a:lnTo>
                    <a:pt x="382" y="1152"/>
                  </a:lnTo>
                  <a:lnTo>
                    <a:pt x="386" y="1120"/>
                  </a:lnTo>
                  <a:lnTo>
                    <a:pt x="392" y="1088"/>
                  </a:lnTo>
                  <a:lnTo>
                    <a:pt x="404" y="1022"/>
                  </a:lnTo>
                  <a:lnTo>
                    <a:pt x="408" y="990"/>
                  </a:lnTo>
                  <a:lnTo>
                    <a:pt x="412" y="958"/>
                  </a:lnTo>
                  <a:lnTo>
                    <a:pt x="414" y="924"/>
                  </a:lnTo>
                  <a:lnTo>
                    <a:pt x="412" y="890"/>
                  </a:lnTo>
                  <a:lnTo>
                    <a:pt x="412" y="890"/>
                  </a:lnTo>
                  <a:lnTo>
                    <a:pt x="404" y="884"/>
                  </a:lnTo>
                  <a:lnTo>
                    <a:pt x="398" y="876"/>
                  </a:lnTo>
                  <a:lnTo>
                    <a:pt x="390" y="860"/>
                  </a:lnTo>
                  <a:lnTo>
                    <a:pt x="384" y="844"/>
                  </a:lnTo>
                  <a:lnTo>
                    <a:pt x="378" y="836"/>
                  </a:lnTo>
                  <a:lnTo>
                    <a:pt x="372" y="830"/>
                  </a:lnTo>
                  <a:lnTo>
                    <a:pt x="372" y="830"/>
                  </a:lnTo>
                  <a:lnTo>
                    <a:pt x="368" y="804"/>
                  </a:lnTo>
                  <a:lnTo>
                    <a:pt x="368" y="776"/>
                  </a:lnTo>
                  <a:lnTo>
                    <a:pt x="370" y="724"/>
                  </a:lnTo>
                  <a:lnTo>
                    <a:pt x="374" y="672"/>
                  </a:lnTo>
                  <a:lnTo>
                    <a:pt x="374" y="648"/>
                  </a:lnTo>
                  <a:lnTo>
                    <a:pt x="372" y="622"/>
                  </a:lnTo>
                  <a:lnTo>
                    <a:pt x="372" y="622"/>
                  </a:lnTo>
                  <a:lnTo>
                    <a:pt x="388" y="592"/>
                  </a:lnTo>
                  <a:lnTo>
                    <a:pt x="396" y="574"/>
                  </a:lnTo>
                  <a:lnTo>
                    <a:pt x="402" y="558"/>
                  </a:lnTo>
                  <a:lnTo>
                    <a:pt x="406" y="542"/>
                  </a:lnTo>
                  <a:lnTo>
                    <a:pt x="410" y="524"/>
                  </a:lnTo>
                  <a:lnTo>
                    <a:pt x="412" y="506"/>
                  </a:lnTo>
                  <a:lnTo>
                    <a:pt x="412" y="488"/>
                  </a:lnTo>
                  <a:lnTo>
                    <a:pt x="412" y="488"/>
                  </a:lnTo>
                  <a:lnTo>
                    <a:pt x="414" y="482"/>
                  </a:lnTo>
                  <a:lnTo>
                    <a:pt x="412" y="476"/>
                  </a:lnTo>
                  <a:lnTo>
                    <a:pt x="410" y="464"/>
                  </a:lnTo>
                  <a:lnTo>
                    <a:pt x="410" y="454"/>
                  </a:lnTo>
                  <a:lnTo>
                    <a:pt x="412" y="448"/>
                  </a:lnTo>
                  <a:lnTo>
                    <a:pt x="414" y="442"/>
                  </a:lnTo>
                  <a:lnTo>
                    <a:pt x="414" y="442"/>
                  </a:lnTo>
                  <a:lnTo>
                    <a:pt x="426" y="436"/>
                  </a:lnTo>
                  <a:lnTo>
                    <a:pt x="440" y="432"/>
                  </a:lnTo>
                  <a:lnTo>
                    <a:pt x="464" y="428"/>
                  </a:lnTo>
                  <a:lnTo>
                    <a:pt x="492" y="426"/>
                  </a:lnTo>
                  <a:lnTo>
                    <a:pt x="518" y="426"/>
                  </a:lnTo>
                  <a:lnTo>
                    <a:pt x="572" y="432"/>
                  </a:lnTo>
                  <a:lnTo>
                    <a:pt x="600" y="436"/>
                  </a:lnTo>
                  <a:lnTo>
                    <a:pt x="628" y="438"/>
                  </a:lnTo>
                  <a:lnTo>
                    <a:pt x="628" y="438"/>
                  </a:lnTo>
                  <a:lnTo>
                    <a:pt x="648" y="438"/>
                  </a:lnTo>
                  <a:lnTo>
                    <a:pt x="668" y="434"/>
                  </a:lnTo>
                  <a:lnTo>
                    <a:pt x="708" y="430"/>
                  </a:lnTo>
                  <a:lnTo>
                    <a:pt x="728" y="428"/>
                  </a:lnTo>
                  <a:lnTo>
                    <a:pt x="748" y="428"/>
                  </a:lnTo>
                  <a:lnTo>
                    <a:pt x="768" y="430"/>
                  </a:lnTo>
                  <a:lnTo>
                    <a:pt x="788" y="436"/>
                  </a:lnTo>
                  <a:lnTo>
                    <a:pt x="788" y="436"/>
                  </a:lnTo>
                  <a:lnTo>
                    <a:pt x="798" y="440"/>
                  </a:lnTo>
                  <a:lnTo>
                    <a:pt x="806" y="448"/>
                  </a:lnTo>
                  <a:lnTo>
                    <a:pt x="812" y="456"/>
                  </a:lnTo>
                  <a:lnTo>
                    <a:pt x="818" y="464"/>
                  </a:lnTo>
                  <a:lnTo>
                    <a:pt x="826" y="484"/>
                  </a:lnTo>
                  <a:lnTo>
                    <a:pt x="832" y="502"/>
                  </a:lnTo>
                  <a:lnTo>
                    <a:pt x="832" y="502"/>
                  </a:lnTo>
                  <a:lnTo>
                    <a:pt x="828" y="566"/>
                  </a:lnTo>
                  <a:lnTo>
                    <a:pt x="828" y="626"/>
                  </a:lnTo>
                  <a:lnTo>
                    <a:pt x="830" y="656"/>
                  </a:lnTo>
                  <a:lnTo>
                    <a:pt x="834" y="688"/>
                  </a:lnTo>
                  <a:lnTo>
                    <a:pt x="838" y="718"/>
                  </a:lnTo>
                  <a:lnTo>
                    <a:pt x="844" y="750"/>
                  </a:lnTo>
                  <a:lnTo>
                    <a:pt x="844" y="750"/>
                  </a:lnTo>
                  <a:lnTo>
                    <a:pt x="848" y="780"/>
                  </a:lnTo>
                  <a:lnTo>
                    <a:pt x="854" y="812"/>
                  </a:lnTo>
                  <a:lnTo>
                    <a:pt x="856" y="828"/>
                  </a:lnTo>
                  <a:lnTo>
                    <a:pt x="856" y="844"/>
                  </a:lnTo>
                  <a:lnTo>
                    <a:pt x="854" y="860"/>
                  </a:lnTo>
                  <a:lnTo>
                    <a:pt x="850" y="874"/>
                  </a:lnTo>
                  <a:lnTo>
                    <a:pt x="708" y="902"/>
                  </a:lnTo>
                  <a:lnTo>
                    <a:pt x="708" y="902"/>
                  </a:lnTo>
                  <a:lnTo>
                    <a:pt x="700" y="908"/>
                  </a:lnTo>
                  <a:lnTo>
                    <a:pt x="690" y="912"/>
                  </a:lnTo>
                  <a:lnTo>
                    <a:pt x="670" y="918"/>
                  </a:lnTo>
                  <a:lnTo>
                    <a:pt x="648" y="920"/>
                  </a:lnTo>
                  <a:lnTo>
                    <a:pt x="628" y="922"/>
                  </a:lnTo>
                  <a:lnTo>
                    <a:pt x="628" y="922"/>
                  </a:lnTo>
                  <a:lnTo>
                    <a:pt x="610" y="920"/>
                  </a:lnTo>
                  <a:lnTo>
                    <a:pt x="592" y="918"/>
                  </a:lnTo>
                  <a:lnTo>
                    <a:pt x="554" y="918"/>
                  </a:lnTo>
                  <a:lnTo>
                    <a:pt x="514" y="920"/>
                  </a:lnTo>
                  <a:lnTo>
                    <a:pt x="478" y="922"/>
                  </a:lnTo>
                  <a:lnTo>
                    <a:pt x="454" y="1104"/>
                  </a:lnTo>
                  <a:lnTo>
                    <a:pt x="454" y="1104"/>
                  </a:lnTo>
                  <a:lnTo>
                    <a:pt x="448" y="1138"/>
                  </a:lnTo>
                  <a:lnTo>
                    <a:pt x="442" y="1172"/>
                  </a:lnTo>
                  <a:lnTo>
                    <a:pt x="434" y="1206"/>
                  </a:lnTo>
                  <a:lnTo>
                    <a:pt x="432" y="1222"/>
                  </a:lnTo>
                  <a:lnTo>
                    <a:pt x="432" y="1240"/>
                  </a:lnTo>
                  <a:lnTo>
                    <a:pt x="432" y="1240"/>
                  </a:lnTo>
                  <a:lnTo>
                    <a:pt x="438" y="1246"/>
                  </a:lnTo>
                  <a:lnTo>
                    <a:pt x="444" y="1254"/>
                  </a:lnTo>
                  <a:lnTo>
                    <a:pt x="454" y="1270"/>
                  </a:lnTo>
                  <a:lnTo>
                    <a:pt x="460" y="1276"/>
                  </a:lnTo>
                  <a:lnTo>
                    <a:pt x="468" y="1282"/>
                  </a:lnTo>
                  <a:lnTo>
                    <a:pt x="476" y="1284"/>
                  </a:lnTo>
                  <a:lnTo>
                    <a:pt x="486" y="1282"/>
                  </a:lnTo>
                  <a:lnTo>
                    <a:pt x="486" y="1282"/>
                  </a:lnTo>
                  <a:lnTo>
                    <a:pt x="508" y="1288"/>
                  </a:lnTo>
                  <a:lnTo>
                    <a:pt x="532" y="1292"/>
                  </a:lnTo>
                  <a:lnTo>
                    <a:pt x="556" y="1292"/>
                  </a:lnTo>
                  <a:lnTo>
                    <a:pt x="578" y="1290"/>
                  </a:lnTo>
                  <a:lnTo>
                    <a:pt x="602" y="1286"/>
                  </a:lnTo>
                  <a:lnTo>
                    <a:pt x="626" y="1282"/>
                  </a:lnTo>
                  <a:lnTo>
                    <a:pt x="672" y="1270"/>
                  </a:lnTo>
                  <a:lnTo>
                    <a:pt x="718" y="1260"/>
                  </a:lnTo>
                  <a:lnTo>
                    <a:pt x="740" y="1254"/>
                  </a:lnTo>
                  <a:lnTo>
                    <a:pt x="764" y="1252"/>
                  </a:lnTo>
                  <a:lnTo>
                    <a:pt x="788" y="1250"/>
                  </a:lnTo>
                  <a:lnTo>
                    <a:pt x="810" y="1250"/>
                  </a:lnTo>
                  <a:lnTo>
                    <a:pt x="834" y="1252"/>
                  </a:lnTo>
                  <a:lnTo>
                    <a:pt x="858" y="1258"/>
                  </a:lnTo>
                  <a:lnTo>
                    <a:pt x="858" y="1258"/>
                  </a:lnTo>
                  <a:close/>
                  <a:moveTo>
                    <a:pt x="300" y="750"/>
                  </a:moveTo>
                  <a:lnTo>
                    <a:pt x="300" y="750"/>
                  </a:lnTo>
                  <a:lnTo>
                    <a:pt x="280" y="754"/>
                  </a:lnTo>
                  <a:lnTo>
                    <a:pt x="260" y="762"/>
                  </a:lnTo>
                  <a:lnTo>
                    <a:pt x="218" y="778"/>
                  </a:lnTo>
                  <a:lnTo>
                    <a:pt x="198" y="784"/>
                  </a:lnTo>
                  <a:lnTo>
                    <a:pt x="190" y="784"/>
                  </a:lnTo>
                  <a:lnTo>
                    <a:pt x="180" y="784"/>
                  </a:lnTo>
                  <a:lnTo>
                    <a:pt x="170" y="782"/>
                  </a:lnTo>
                  <a:lnTo>
                    <a:pt x="162" y="778"/>
                  </a:lnTo>
                  <a:lnTo>
                    <a:pt x="152" y="774"/>
                  </a:lnTo>
                  <a:lnTo>
                    <a:pt x="144" y="766"/>
                  </a:lnTo>
                  <a:lnTo>
                    <a:pt x="144" y="766"/>
                  </a:lnTo>
                  <a:lnTo>
                    <a:pt x="140" y="758"/>
                  </a:lnTo>
                  <a:lnTo>
                    <a:pt x="140" y="754"/>
                  </a:lnTo>
                  <a:lnTo>
                    <a:pt x="142" y="750"/>
                  </a:lnTo>
                  <a:lnTo>
                    <a:pt x="146" y="746"/>
                  </a:lnTo>
                  <a:lnTo>
                    <a:pt x="154" y="742"/>
                  </a:lnTo>
                  <a:lnTo>
                    <a:pt x="164" y="736"/>
                  </a:lnTo>
                  <a:lnTo>
                    <a:pt x="256" y="716"/>
                  </a:lnTo>
                  <a:lnTo>
                    <a:pt x="256" y="716"/>
                  </a:lnTo>
                  <a:lnTo>
                    <a:pt x="266" y="710"/>
                  </a:lnTo>
                  <a:lnTo>
                    <a:pt x="276" y="700"/>
                  </a:lnTo>
                  <a:lnTo>
                    <a:pt x="286" y="690"/>
                  </a:lnTo>
                  <a:lnTo>
                    <a:pt x="296" y="682"/>
                  </a:lnTo>
                  <a:lnTo>
                    <a:pt x="308" y="676"/>
                  </a:lnTo>
                  <a:lnTo>
                    <a:pt x="318" y="674"/>
                  </a:lnTo>
                  <a:lnTo>
                    <a:pt x="324" y="674"/>
                  </a:lnTo>
                  <a:lnTo>
                    <a:pt x="330" y="676"/>
                  </a:lnTo>
                  <a:lnTo>
                    <a:pt x="336" y="680"/>
                  </a:lnTo>
                  <a:lnTo>
                    <a:pt x="342" y="684"/>
                  </a:lnTo>
                  <a:lnTo>
                    <a:pt x="342" y="684"/>
                  </a:lnTo>
                  <a:lnTo>
                    <a:pt x="344" y="696"/>
                  </a:lnTo>
                  <a:lnTo>
                    <a:pt x="342" y="706"/>
                  </a:lnTo>
                  <a:lnTo>
                    <a:pt x="338" y="714"/>
                  </a:lnTo>
                  <a:lnTo>
                    <a:pt x="332" y="722"/>
                  </a:lnTo>
                  <a:lnTo>
                    <a:pt x="316" y="736"/>
                  </a:lnTo>
                  <a:lnTo>
                    <a:pt x="300" y="750"/>
                  </a:lnTo>
                  <a:lnTo>
                    <a:pt x="300" y="750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2490840" y="4830480"/>
              <a:ext cx="1323720" cy="18986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1898640"/>
                <a:gd name="textAreaBottom" fmla="*/ 1899000 h 1898640"/>
              </a:gdLst>
              <a:ahLst/>
              <a:rect l="textAreaLeft" t="textAreaTop" r="textAreaRight" b="textAreaBottom"/>
              <a:pathLst>
                <a:path w="834" h="1196">
                  <a:moveTo>
                    <a:pt x="126" y="252"/>
                  </a:moveTo>
                  <a:lnTo>
                    <a:pt x="126" y="252"/>
                  </a:lnTo>
                  <a:lnTo>
                    <a:pt x="116" y="252"/>
                  </a:lnTo>
                  <a:lnTo>
                    <a:pt x="106" y="252"/>
                  </a:lnTo>
                  <a:lnTo>
                    <a:pt x="88" y="248"/>
                  </a:lnTo>
                  <a:lnTo>
                    <a:pt x="70" y="242"/>
                  </a:lnTo>
                  <a:lnTo>
                    <a:pt x="54" y="236"/>
                  </a:lnTo>
                  <a:lnTo>
                    <a:pt x="40" y="284"/>
                  </a:lnTo>
                  <a:lnTo>
                    <a:pt x="40" y="284"/>
                  </a:lnTo>
                  <a:lnTo>
                    <a:pt x="28" y="326"/>
                  </a:lnTo>
                  <a:lnTo>
                    <a:pt x="18" y="370"/>
                  </a:lnTo>
                  <a:lnTo>
                    <a:pt x="10" y="412"/>
                  </a:lnTo>
                  <a:lnTo>
                    <a:pt x="6" y="456"/>
                  </a:lnTo>
                  <a:lnTo>
                    <a:pt x="2" y="502"/>
                  </a:lnTo>
                  <a:lnTo>
                    <a:pt x="0" y="546"/>
                  </a:lnTo>
                  <a:lnTo>
                    <a:pt x="0" y="592"/>
                  </a:lnTo>
                  <a:lnTo>
                    <a:pt x="0" y="638"/>
                  </a:lnTo>
                  <a:lnTo>
                    <a:pt x="4" y="728"/>
                  </a:lnTo>
                  <a:lnTo>
                    <a:pt x="10" y="820"/>
                  </a:lnTo>
                  <a:lnTo>
                    <a:pt x="26" y="996"/>
                  </a:lnTo>
                  <a:lnTo>
                    <a:pt x="26" y="996"/>
                  </a:lnTo>
                  <a:lnTo>
                    <a:pt x="30" y="1022"/>
                  </a:lnTo>
                  <a:lnTo>
                    <a:pt x="34" y="1048"/>
                  </a:lnTo>
                  <a:lnTo>
                    <a:pt x="36" y="1074"/>
                  </a:lnTo>
                  <a:lnTo>
                    <a:pt x="40" y="1100"/>
                  </a:lnTo>
                  <a:lnTo>
                    <a:pt x="44" y="1124"/>
                  </a:lnTo>
                  <a:lnTo>
                    <a:pt x="48" y="1136"/>
                  </a:lnTo>
                  <a:lnTo>
                    <a:pt x="54" y="1148"/>
                  </a:lnTo>
                  <a:lnTo>
                    <a:pt x="60" y="1158"/>
                  </a:lnTo>
                  <a:lnTo>
                    <a:pt x="68" y="1168"/>
                  </a:lnTo>
                  <a:lnTo>
                    <a:pt x="78" y="1178"/>
                  </a:lnTo>
                  <a:lnTo>
                    <a:pt x="88" y="1186"/>
                  </a:lnTo>
                  <a:lnTo>
                    <a:pt x="88" y="1186"/>
                  </a:lnTo>
                  <a:lnTo>
                    <a:pt x="118" y="1188"/>
                  </a:lnTo>
                  <a:lnTo>
                    <a:pt x="148" y="1186"/>
                  </a:lnTo>
                  <a:lnTo>
                    <a:pt x="210" y="1182"/>
                  </a:lnTo>
                  <a:lnTo>
                    <a:pt x="240" y="1180"/>
                  </a:lnTo>
                  <a:lnTo>
                    <a:pt x="270" y="1182"/>
                  </a:lnTo>
                  <a:lnTo>
                    <a:pt x="300" y="1186"/>
                  </a:lnTo>
                  <a:lnTo>
                    <a:pt x="314" y="1190"/>
                  </a:lnTo>
                  <a:lnTo>
                    <a:pt x="328" y="1196"/>
                  </a:lnTo>
                  <a:lnTo>
                    <a:pt x="328" y="1196"/>
                  </a:lnTo>
                  <a:lnTo>
                    <a:pt x="378" y="1194"/>
                  </a:lnTo>
                  <a:lnTo>
                    <a:pt x="402" y="1192"/>
                  </a:lnTo>
                  <a:lnTo>
                    <a:pt x="424" y="1186"/>
                  </a:lnTo>
                  <a:lnTo>
                    <a:pt x="446" y="1178"/>
                  </a:lnTo>
                  <a:lnTo>
                    <a:pt x="454" y="1174"/>
                  </a:lnTo>
                  <a:lnTo>
                    <a:pt x="464" y="1168"/>
                  </a:lnTo>
                  <a:lnTo>
                    <a:pt x="472" y="1160"/>
                  </a:lnTo>
                  <a:lnTo>
                    <a:pt x="478" y="1152"/>
                  </a:lnTo>
                  <a:lnTo>
                    <a:pt x="484" y="1142"/>
                  </a:lnTo>
                  <a:lnTo>
                    <a:pt x="490" y="1130"/>
                  </a:lnTo>
                  <a:lnTo>
                    <a:pt x="490" y="1130"/>
                  </a:lnTo>
                  <a:lnTo>
                    <a:pt x="496" y="1110"/>
                  </a:lnTo>
                  <a:lnTo>
                    <a:pt x="498" y="1090"/>
                  </a:lnTo>
                  <a:lnTo>
                    <a:pt x="498" y="1070"/>
                  </a:lnTo>
                  <a:lnTo>
                    <a:pt x="494" y="1050"/>
                  </a:lnTo>
                  <a:lnTo>
                    <a:pt x="484" y="1012"/>
                  </a:lnTo>
                  <a:lnTo>
                    <a:pt x="474" y="974"/>
                  </a:lnTo>
                  <a:lnTo>
                    <a:pt x="474" y="974"/>
                  </a:lnTo>
                  <a:lnTo>
                    <a:pt x="468" y="958"/>
                  </a:lnTo>
                  <a:lnTo>
                    <a:pt x="464" y="940"/>
                  </a:lnTo>
                  <a:lnTo>
                    <a:pt x="456" y="904"/>
                  </a:lnTo>
                  <a:lnTo>
                    <a:pt x="448" y="868"/>
                  </a:lnTo>
                  <a:lnTo>
                    <a:pt x="444" y="850"/>
                  </a:lnTo>
                  <a:lnTo>
                    <a:pt x="438" y="834"/>
                  </a:lnTo>
                  <a:lnTo>
                    <a:pt x="438" y="834"/>
                  </a:lnTo>
                  <a:lnTo>
                    <a:pt x="392" y="840"/>
                  </a:lnTo>
                  <a:lnTo>
                    <a:pt x="344" y="846"/>
                  </a:lnTo>
                  <a:lnTo>
                    <a:pt x="296" y="850"/>
                  </a:lnTo>
                  <a:lnTo>
                    <a:pt x="246" y="850"/>
                  </a:lnTo>
                  <a:lnTo>
                    <a:pt x="198" y="848"/>
                  </a:lnTo>
                  <a:lnTo>
                    <a:pt x="174" y="844"/>
                  </a:lnTo>
                  <a:lnTo>
                    <a:pt x="150" y="840"/>
                  </a:lnTo>
                  <a:lnTo>
                    <a:pt x="128" y="834"/>
                  </a:lnTo>
                  <a:lnTo>
                    <a:pt x="106" y="826"/>
                  </a:lnTo>
                  <a:lnTo>
                    <a:pt x="86" y="816"/>
                  </a:lnTo>
                  <a:lnTo>
                    <a:pt x="66" y="804"/>
                  </a:lnTo>
                  <a:lnTo>
                    <a:pt x="66" y="804"/>
                  </a:lnTo>
                  <a:lnTo>
                    <a:pt x="58" y="796"/>
                  </a:lnTo>
                  <a:lnTo>
                    <a:pt x="50" y="786"/>
                  </a:lnTo>
                  <a:lnTo>
                    <a:pt x="46" y="774"/>
                  </a:lnTo>
                  <a:lnTo>
                    <a:pt x="44" y="762"/>
                  </a:lnTo>
                  <a:lnTo>
                    <a:pt x="38" y="738"/>
                  </a:lnTo>
                  <a:lnTo>
                    <a:pt x="36" y="726"/>
                  </a:lnTo>
                  <a:lnTo>
                    <a:pt x="32" y="716"/>
                  </a:lnTo>
                  <a:lnTo>
                    <a:pt x="32" y="716"/>
                  </a:lnTo>
                  <a:lnTo>
                    <a:pt x="38" y="680"/>
                  </a:lnTo>
                  <a:lnTo>
                    <a:pt x="42" y="644"/>
                  </a:lnTo>
                  <a:lnTo>
                    <a:pt x="42" y="608"/>
                  </a:lnTo>
                  <a:lnTo>
                    <a:pt x="44" y="574"/>
                  </a:lnTo>
                  <a:lnTo>
                    <a:pt x="42" y="502"/>
                  </a:lnTo>
                  <a:lnTo>
                    <a:pt x="40" y="430"/>
                  </a:lnTo>
                  <a:lnTo>
                    <a:pt x="58" y="400"/>
                  </a:lnTo>
                  <a:lnTo>
                    <a:pt x="58" y="400"/>
                  </a:lnTo>
                  <a:lnTo>
                    <a:pt x="62" y="392"/>
                  </a:lnTo>
                  <a:lnTo>
                    <a:pt x="68" y="386"/>
                  </a:lnTo>
                  <a:lnTo>
                    <a:pt x="74" y="380"/>
                  </a:lnTo>
                  <a:lnTo>
                    <a:pt x="80" y="378"/>
                  </a:lnTo>
                  <a:lnTo>
                    <a:pt x="94" y="374"/>
                  </a:lnTo>
                  <a:lnTo>
                    <a:pt x="108" y="372"/>
                  </a:lnTo>
                  <a:lnTo>
                    <a:pt x="140" y="376"/>
                  </a:lnTo>
                  <a:lnTo>
                    <a:pt x="156" y="376"/>
                  </a:lnTo>
                  <a:lnTo>
                    <a:pt x="172" y="374"/>
                  </a:lnTo>
                  <a:lnTo>
                    <a:pt x="172" y="374"/>
                  </a:lnTo>
                  <a:lnTo>
                    <a:pt x="200" y="374"/>
                  </a:lnTo>
                  <a:lnTo>
                    <a:pt x="230" y="374"/>
                  </a:lnTo>
                  <a:lnTo>
                    <a:pt x="260" y="370"/>
                  </a:lnTo>
                  <a:lnTo>
                    <a:pt x="288" y="366"/>
                  </a:lnTo>
                  <a:lnTo>
                    <a:pt x="344" y="356"/>
                  </a:lnTo>
                  <a:lnTo>
                    <a:pt x="402" y="342"/>
                  </a:lnTo>
                  <a:lnTo>
                    <a:pt x="402" y="342"/>
                  </a:lnTo>
                  <a:lnTo>
                    <a:pt x="410" y="344"/>
                  </a:lnTo>
                  <a:lnTo>
                    <a:pt x="420" y="346"/>
                  </a:lnTo>
                  <a:lnTo>
                    <a:pt x="438" y="344"/>
                  </a:lnTo>
                  <a:lnTo>
                    <a:pt x="448" y="344"/>
                  </a:lnTo>
                  <a:lnTo>
                    <a:pt x="458" y="346"/>
                  </a:lnTo>
                  <a:lnTo>
                    <a:pt x="466" y="350"/>
                  </a:lnTo>
                  <a:lnTo>
                    <a:pt x="474" y="358"/>
                  </a:lnTo>
                  <a:lnTo>
                    <a:pt x="474" y="358"/>
                  </a:lnTo>
                  <a:lnTo>
                    <a:pt x="482" y="380"/>
                  </a:lnTo>
                  <a:lnTo>
                    <a:pt x="488" y="402"/>
                  </a:lnTo>
                  <a:lnTo>
                    <a:pt x="500" y="450"/>
                  </a:lnTo>
                  <a:lnTo>
                    <a:pt x="512" y="496"/>
                  </a:lnTo>
                  <a:lnTo>
                    <a:pt x="524" y="544"/>
                  </a:lnTo>
                  <a:lnTo>
                    <a:pt x="502" y="628"/>
                  </a:lnTo>
                  <a:lnTo>
                    <a:pt x="502" y="628"/>
                  </a:lnTo>
                  <a:lnTo>
                    <a:pt x="508" y="654"/>
                  </a:lnTo>
                  <a:lnTo>
                    <a:pt x="514" y="680"/>
                  </a:lnTo>
                  <a:lnTo>
                    <a:pt x="526" y="702"/>
                  </a:lnTo>
                  <a:lnTo>
                    <a:pt x="538" y="726"/>
                  </a:lnTo>
                  <a:lnTo>
                    <a:pt x="538" y="726"/>
                  </a:lnTo>
                  <a:lnTo>
                    <a:pt x="542" y="738"/>
                  </a:lnTo>
                  <a:lnTo>
                    <a:pt x="540" y="752"/>
                  </a:lnTo>
                  <a:lnTo>
                    <a:pt x="536" y="762"/>
                  </a:lnTo>
                  <a:lnTo>
                    <a:pt x="530" y="774"/>
                  </a:lnTo>
                  <a:lnTo>
                    <a:pt x="514" y="792"/>
                  </a:lnTo>
                  <a:lnTo>
                    <a:pt x="506" y="802"/>
                  </a:lnTo>
                  <a:lnTo>
                    <a:pt x="500" y="812"/>
                  </a:lnTo>
                  <a:lnTo>
                    <a:pt x="500" y="812"/>
                  </a:lnTo>
                  <a:lnTo>
                    <a:pt x="502" y="844"/>
                  </a:lnTo>
                  <a:lnTo>
                    <a:pt x="508" y="876"/>
                  </a:lnTo>
                  <a:lnTo>
                    <a:pt x="514" y="908"/>
                  </a:lnTo>
                  <a:lnTo>
                    <a:pt x="522" y="938"/>
                  </a:lnTo>
                  <a:lnTo>
                    <a:pt x="540" y="998"/>
                  </a:lnTo>
                  <a:lnTo>
                    <a:pt x="548" y="1028"/>
                  </a:lnTo>
                  <a:lnTo>
                    <a:pt x="554" y="1060"/>
                  </a:lnTo>
                  <a:lnTo>
                    <a:pt x="554" y="1060"/>
                  </a:lnTo>
                  <a:lnTo>
                    <a:pt x="568" y="1044"/>
                  </a:lnTo>
                  <a:lnTo>
                    <a:pt x="582" y="1032"/>
                  </a:lnTo>
                  <a:lnTo>
                    <a:pt x="598" y="1020"/>
                  </a:lnTo>
                  <a:lnTo>
                    <a:pt x="614" y="1012"/>
                  </a:lnTo>
                  <a:lnTo>
                    <a:pt x="648" y="996"/>
                  </a:lnTo>
                  <a:lnTo>
                    <a:pt x="682" y="982"/>
                  </a:lnTo>
                  <a:lnTo>
                    <a:pt x="716" y="968"/>
                  </a:lnTo>
                  <a:lnTo>
                    <a:pt x="750" y="950"/>
                  </a:lnTo>
                  <a:lnTo>
                    <a:pt x="766" y="940"/>
                  </a:lnTo>
                  <a:lnTo>
                    <a:pt x="782" y="928"/>
                  </a:lnTo>
                  <a:lnTo>
                    <a:pt x="796" y="916"/>
                  </a:lnTo>
                  <a:lnTo>
                    <a:pt x="810" y="900"/>
                  </a:lnTo>
                  <a:lnTo>
                    <a:pt x="810" y="900"/>
                  </a:lnTo>
                  <a:lnTo>
                    <a:pt x="822" y="890"/>
                  </a:lnTo>
                  <a:lnTo>
                    <a:pt x="830" y="880"/>
                  </a:lnTo>
                  <a:lnTo>
                    <a:pt x="832" y="870"/>
                  </a:lnTo>
                  <a:lnTo>
                    <a:pt x="832" y="860"/>
                  </a:lnTo>
                  <a:lnTo>
                    <a:pt x="830" y="836"/>
                  </a:lnTo>
                  <a:lnTo>
                    <a:pt x="830" y="824"/>
                  </a:lnTo>
                  <a:lnTo>
                    <a:pt x="834" y="812"/>
                  </a:lnTo>
                  <a:lnTo>
                    <a:pt x="834" y="812"/>
                  </a:lnTo>
                  <a:lnTo>
                    <a:pt x="826" y="780"/>
                  </a:lnTo>
                  <a:lnTo>
                    <a:pt x="820" y="748"/>
                  </a:lnTo>
                  <a:lnTo>
                    <a:pt x="812" y="686"/>
                  </a:lnTo>
                  <a:lnTo>
                    <a:pt x="806" y="656"/>
                  </a:lnTo>
                  <a:lnTo>
                    <a:pt x="800" y="642"/>
                  </a:lnTo>
                  <a:lnTo>
                    <a:pt x="796" y="628"/>
                  </a:lnTo>
                  <a:lnTo>
                    <a:pt x="788" y="614"/>
                  </a:lnTo>
                  <a:lnTo>
                    <a:pt x="780" y="602"/>
                  </a:lnTo>
                  <a:lnTo>
                    <a:pt x="768" y="590"/>
                  </a:lnTo>
                  <a:lnTo>
                    <a:pt x="756" y="578"/>
                  </a:lnTo>
                  <a:lnTo>
                    <a:pt x="756" y="578"/>
                  </a:lnTo>
                  <a:lnTo>
                    <a:pt x="738" y="542"/>
                  </a:lnTo>
                  <a:lnTo>
                    <a:pt x="722" y="504"/>
                  </a:lnTo>
                  <a:lnTo>
                    <a:pt x="708" y="464"/>
                  </a:lnTo>
                  <a:lnTo>
                    <a:pt x="694" y="424"/>
                  </a:lnTo>
                  <a:lnTo>
                    <a:pt x="670" y="342"/>
                  </a:lnTo>
                  <a:lnTo>
                    <a:pt x="648" y="260"/>
                  </a:lnTo>
                  <a:lnTo>
                    <a:pt x="604" y="164"/>
                  </a:lnTo>
                  <a:lnTo>
                    <a:pt x="604" y="164"/>
                  </a:lnTo>
                  <a:lnTo>
                    <a:pt x="598" y="150"/>
                  </a:lnTo>
                  <a:lnTo>
                    <a:pt x="590" y="138"/>
                  </a:lnTo>
                  <a:lnTo>
                    <a:pt x="582" y="128"/>
                  </a:lnTo>
                  <a:lnTo>
                    <a:pt x="574" y="118"/>
                  </a:lnTo>
                  <a:lnTo>
                    <a:pt x="564" y="112"/>
                  </a:lnTo>
                  <a:lnTo>
                    <a:pt x="554" y="104"/>
                  </a:lnTo>
                  <a:lnTo>
                    <a:pt x="532" y="96"/>
                  </a:lnTo>
                  <a:lnTo>
                    <a:pt x="510" y="88"/>
                  </a:lnTo>
                  <a:lnTo>
                    <a:pt x="484" y="86"/>
                  </a:lnTo>
                  <a:lnTo>
                    <a:pt x="432" y="82"/>
                  </a:lnTo>
                  <a:lnTo>
                    <a:pt x="406" y="80"/>
                  </a:lnTo>
                  <a:lnTo>
                    <a:pt x="380" y="78"/>
                  </a:lnTo>
                  <a:lnTo>
                    <a:pt x="356" y="74"/>
                  </a:lnTo>
                  <a:lnTo>
                    <a:pt x="332" y="68"/>
                  </a:lnTo>
                  <a:lnTo>
                    <a:pt x="310" y="58"/>
                  </a:lnTo>
                  <a:lnTo>
                    <a:pt x="300" y="52"/>
                  </a:lnTo>
                  <a:lnTo>
                    <a:pt x="290" y="44"/>
                  </a:lnTo>
                  <a:lnTo>
                    <a:pt x="282" y="36"/>
                  </a:lnTo>
                  <a:lnTo>
                    <a:pt x="274" y="24"/>
                  </a:lnTo>
                  <a:lnTo>
                    <a:pt x="266" y="12"/>
                  </a:lnTo>
                  <a:lnTo>
                    <a:pt x="260" y="0"/>
                  </a:lnTo>
                  <a:lnTo>
                    <a:pt x="234" y="36"/>
                  </a:lnTo>
                  <a:lnTo>
                    <a:pt x="234" y="36"/>
                  </a:lnTo>
                  <a:lnTo>
                    <a:pt x="226" y="48"/>
                  </a:lnTo>
                  <a:lnTo>
                    <a:pt x="218" y="62"/>
                  </a:lnTo>
                  <a:lnTo>
                    <a:pt x="208" y="92"/>
                  </a:lnTo>
                  <a:lnTo>
                    <a:pt x="192" y="150"/>
                  </a:lnTo>
                  <a:lnTo>
                    <a:pt x="182" y="178"/>
                  </a:lnTo>
                  <a:lnTo>
                    <a:pt x="168" y="204"/>
                  </a:lnTo>
                  <a:lnTo>
                    <a:pt x="160" y="218"/>
                  </a:lnTo>
                  <a:lnTo>
                    <a:pt x="152" y="230"/>
                  </a:lnTo>
                  <a:lnTo>
                    <a:pt x="140" y="240"/>
                  </a:lnTo>
                  <a:lnTo>
                    <a:pt x="126" y="252"/>
                  </a:lnTo>
                  <a:lnTo>
                    <a:pt x="126" y="252"/>
                  </a:lnTo>
                  <a:close/>
                  <a:moveTo>
                    <a:pt x="624" y="464"/>
                  </a:moveTo>
                  <a:lnTo>
                    <a:pt x="624" y="464"/>
                  </a:lnTo>
                  <a:lnTo>
                    <a:pt x="632" y="472"/>
                  </a:lnTo>
                  <a:lnTo>
                    <a:pt x="640" y="482"/>
                  </a:lnTo>
                  <a:lnTo>
                    <a:pt x="656" y="500"/>
                  </a:lnTo>
                  <a:lnTo>
                    <a:pt x="664" y="508"/>
                  </a:lnTo>
                  <a:lnTo>
                    <a:pt x="674" y="514"/>
                  </a:lnTo>
                  <a:lnTo>
                    <a:pt x="686" y="520"/>
                  </a:lnTo>
                  <a:lnTo>
                    <a:pt x="698" y="522"/>
                  </a:lnTo>
                  <a:lnTo>
                    <a:pt x="698" y="522"/>
                  </a:lnTo>
                  <a:lnTo>
                    <a:pt x="704" y="530"/>
                  </a:lnTo>
                  <a:lnTo>
                    <a:pt x="710" y="538"/>
                  </a:lnTo>
                  <a:lnTo>
                    <a:pt x="712" y="542"/>
                  </a:lnTo>
                  <a:lnTo>
                    <a:pt x="714" y="546"/>
                  </a:lnTo>
                  <a:lnTo>
                    <a:pt x="714" y="550"/>
                  </a:lnTo>
                  <a:lnTo>
                    <a:pt x="710" y="556"/>
                  </a:lnTo>
                  <a:lnTo>
                    <a:pt x="710" y="556"/>
                  </a:lnTo>
                  <a:lnTo>
                    <a:pt x="694" y="560"/>
                  </a:lnTo>
                  <a:lnTo>
                    <a:pt x="678" y="562"/>
                  </a:lnTo>
                  <a:lnTo>
                    <a:pt x="662" y="560"/>
                  </a:lnTo>
                  <a:lnTo>
                    <a:pt x="654" y="558"/>
                  </a:lnTo>
                  <a:lnTo>
                    <a:pt x="648" y="554"/>
                  </a:lnTo>
                  <a:lnTo>
                    <a:pt x="648" y="554"/>
                  </a:lnTo>
                  <a:lnTo>
                    <a:pt x="630" y="544"/>
                  </a:lnTo>
                  <a:lnTo>
                    <a:pt x="616" y="530"/>
                  </a:lnTo>
                  <a:lnTo>
                    <a:pt x="604" y="512"/>
                  </a:lnTo>
                  <a:lnTo>
                    <a:pt x="596" y="496"/>
                  </a:lnTo>
                  <a:lnTo>
                    <a:pt x="596" y="496"/>
                  </a:lnTo>
                  <a:lnTo>
                    <a:pt x="596" y="488"/>
                  </a:lnTo>
                  <a:lnTo>
                    <a:pt x="596" y="484"/>
                  </a:lnTo>
                  <a:lnTo>
                    <a:pt x="600" y="478"/>
                  </a:lnTo>
                  <a:lnTo>
                    <a:pt x="602" y="474"/>
                  </a:lnTo>
                  <a:lnTo>
                    <a:pt x="612" y="468"/>
                  </a:lnTo>
                  <a:lnTo>
                    <a:pt x="624" y="464"/>
                  </a:lnTo>
                  <a:lnTo>
                    <a:pt x="624" y="464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2265120" y="5278320"/>
              <a:ext cx="120600" cy="120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76">
                  <a:moveTo>
                    <a:pt x="24" y="0"/>
                  </a:moveTo>
                  <a:lnTo>
                    <a:pt x="24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56"/>
                  </a:lnTo>
                  <a:lnTo>
                    <a:pt x="22" y="68"/>
                  </a:lnTo>
                  <a:lnTo>
                    <a:pt x="28" y="72"/>
                  </a:lnTo>
                  <a:lnTo>
                    <a:pt x="36" y="74"/>
                  </a:lnTo>
                  <a:lnTo>
                    <a:pt x="46" y="76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64" y="68"/>
                  </a:lnTo>
                  <a:lnTo>
                    <a:pt x="72" y="58"/>
                  </a:lnTo>
                  <a:lnTo>
                    <a:pt x="74" y="52"/>
                  </a:lnTo>
                  <a:lnTo>
                    <a:pt x="76" y="46"/>
                  </a:lnTo>
                  <a:lnTo>
                    <a:pt x="76" y="38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68" y="18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2722680" y="5475240"/>
              <a:ext cx="457200" cy="222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88" h="140">
                  <a:moveTo>
                    <a:pt x="288" y="92"/>
                  </a:moveTo>
                  <a:lnTo>
                    <a:pt x="260" y="10"/>
                  </a:lnTo>
                  <a:lnTo>
                    <a:pt x="260" y="10"/>
                  </a:lnTo>
                  <a:lnTo>
                    <a:pt x="254" y="6"/>
                  </a:lnTo>
                  <a:lnTo>
                    <a:pt x="250" y="2"/>
                  </a:lnTo>
                  <a:lnTo>
                    <a:pt x="238" y="0"/>
                  </a:lnTo>
                  <a:lnTo>
                    <a:pt x="228" y="0"/>
                  </a:lnTo>
                  <a:lnTo>
                    <a:pt x="214" y="4"/>
                  </a:lnTo>
                  <a:lnTo>
                    <a:pt x="188" y="10"/>
                  </a:lnTo>
                  <a:lnTo>
                    <a:pt x="17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44" y="18"/>
                  </a:lnTo>
                  <a:lnTo>
                    <a:pt x="124" y="22"/>
                  </a:lnTo>
                  <a:lnTo>
                    <a:pt x="104" y="24"/>
                  </a:lnTo>
                  <a:lnTo>
                    <a:pt x="82" y="24"/>
                  </a:lnTo>
                  <a:lnTo>
                    <a:pt x="42" y="26"/>
                  </a:lnTo>
                  <a:lnTo>
                    <a:pt x="20" y="26"/>
                  </a:lnTo>
                  <a:lnTo>
                    <a:pt x="0" y="30"/>
                  </a:lnTo>
                  <a:lnTo>
                    <a:pt x="34" y="120"/>
                  </a:lnTo>
                  <a:lnTo>
                    <a:pt x="34" y="120"/>
                  </a:lnTo>
                  <a:lnTo>
                    <a:pt x="50" y="128"/>
                  </a:lnTo>
                  <a:lnTo>
                    <a:pt x="64" y="132"/>
                  </a:lnTo>
                  <a:lnTo>
                    <a:pt x="80" y="136"/>
                  </a:lnTo>
                  <a:lnTo>
                    <a:pt x="96" y="136"/>
                  </a:lnTo>
                  <a:lnTo>
                    <a:pt x="128" y="138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98" y="134"/>
                  </a:lnTo>
                  <a:lnTo>
                    <a:pt x="214" y="132"/>
                  </a:lnTo>
                  <a:lnTo>
                    <a:pt x="232" y="128"/>
                  </a:lnTo>
                  <a:lnTo>
                    <a:pt x="248" y="122"/>
                  </a:lnTo>
                  <a:lnTo>
                    <a:pt x="262" y="116"/>
                  </a:lnTo>
                  <a:lnTo>
                    <a:pt x="276" y="104"/>
                  </a:lnTo>
                  <a:lnTo>
                    <a:pt x="288" y="92"/>
                  </a:lnTo>
                  <a:lnTo>
                    <a:pt x="288" y="92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1458720" y="5484600"/>
              <a:ext cx="501480" cy="2664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16" h="168">
                  <a:moveTo>
                    <a:pt x="82" y="168"/>
                  </a:moveTo>
                  <a:lnTo>
                    <a:pt x="82" y="168"/>
                  </a:lnTo>
                  <a:lnTo>
                    <a:pt x="106" y="168"/>
                  </a:lnTo>
                  <a:lnTo>
                    <a:pt x="130" y="164"/>
                  </a:lnTo>
                  <a:lnTo>
                    <a:pt x="152" y="158"/>
                  </a:lnTo>
                  <a:lnTo>
                    <a:pt x="174" y="150"/>
                  </a:lnTo>
                  <a:lnTo>
                    <a:pt x="218" y="130"/>
                  </a:lnTo>
                  <a:lnTo>
                    <a:pt x="242" y="122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70" y="108"/>
                  </a:lnTo>
                  <a:lnTo>
                    <a:pt x="276" y="104"/>
                  </a:lnTo>
                  <a:lnTo>
                    <a:pt x="288" y="96"/>
                  </a:lnTo>
                  <a:lnTo>
                    <a:pt x="302" y="88"/>
                  </a:lnTo>
                  <a:lnTo>
                    <a:pt x="308" y="84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4" y="60"/>
                  </a:lnTo>
                  <a:lnTo>
                    <a:pt x="316" y="40"/>
                  </a:lnTo>
                  <a:lnTo>
                    <a:pt x="316" y="22"/>
                  </a:lnTo>
                  <a:lnTo>
                    <a:pt x="316" y="1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06" y="4"/>
                  </a:lnTo>
                  <a:lnTo>
                    <a:pt x="304" y="4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286" y="6"/>
                  </a:lnTo>
                  <a:lnTo>
                    <a:pt x="268" y="8"/>
                  </a:lnTo>
                  <a:lnTo>
                    <a:pt x="232" y="10"/>
                  </a:lnTo>
                  <a:lnTo>
                    <a:pt x="196" y="10"/>
                  </a:lnTo>
                  <a:lnTo>
                    <a:pt x="160" y="8"/>
                  </a:lnTo>
                  <a:lnTo>
                    <a:pt x="124" y="4"/>
                  </a:lnTo>
                  <a:lnTo>
                    <a:pt x="88" y="2"/>
                  </a:lnTo>
                  <a:lnTo>
                    <a:pt x="52" y="4"/>
                  </a:lnTo>
                  <a:lnTo>
                    <a:pt x="34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20" y="24"/>
                  </a:lnTo>
                  <a:lnTo>
                    <a:pt x="20" y="38"/>
                  </a:lnTo>
                  <a:lnTo>
                    <a:pt x="16" y="54"/>
                  </a:lnTo>
                  <a:lnTo>
                    <a:pt x="14" y="68"/>
                  </a:lnTo>
                  <a:lnTo>
                    <a:pt x="4" y="98"/>
                  </a:lnTo>
                  <a:lnTo>
                    <a:pt x="2" y="11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12" y="128"/>
                  </a:lnTo>
                  <a:lnTo>
                    <a:pt x="22" y="132"/>
                  </a:lnTo>
                  <a:lnTo>
                    <a:pt x="42" y="144"/>
                  </a:lnTo>
                  <a:lnTo>
                    <a:pt x="62" y="158"/>
                  </a:lnTo>
                  <a:lnTo>
                    <a:pt x="72" y="164"/>
                  </a:lnTo>
                  <a:lnTo>
                    <a:pt x="82" y="168"/>
                  </a:lnTo>
                  <a:lnTo>
                    <a:pt x="82" y="168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436920" y="5567400"/>
              <a:ext cx="187200" cy="1555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8" h="98">
                  <a:moveTo>
                    <a:pt x="52" y="90"/>
                  </a:moveTo>
                  <a:lnTo>
                    <a:pt x="52" y="90"/>
                  </a:lnTo>
                  <a:lnTo>
                    <a:pt x="58" y="94"/>
                  </a:lnTo>
                  <a:lnTo>
                    <a:pt x="66" y="96"/>
                  </a:lnTo>
                  <a:lnTo>
                    <a:pt x="82" y="98"/>
                  </a:lnTo>
                  <a:lnTo>
                    <a:pt x="98" y="96"/>
                  </a:lnTo>
                  <a:lnTo>
                    <a:pt x="114" y="92"/>
                  </a:lnTo>
                  <a:lnTo>
                    <a:pt x="114" y="92"/>
                  </a:lnTo>
                  <a:lnTo>
                    <a:pt x="118" y="86"/>
                  </a:lnTo>
                  <a:lnTo>
                    <a:pt x="118" y="82"/>
                  </a:lnTo>
                  <a:lnTo>
                    <a:pt x="116" y="78"/>
                  </a:lnTo>
                  <a:lnTo>
                    <a:pt x="114" y="74"/>
                  </a:lnTo>
                  <a:lnTo>
                    <a:pt x="108" y="66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90" y="56"/>
                  </a:lnTo>
                  <a:lnTo>
                    <a:pt x="78" y="50"/>
                  </a:lnTo>
                  <a:lnTo>
                    <a:pt x="68" y="44"/>
                  </a:lnTo>
                  <a:lnTo>
                    <a:pt x="60" y="36"/>
                  </a:lnTo>
                  <a:lnTo>
                    <a:pt x="44" y="18"/>
                  </a:lnTo>
                  <a:lnTo>
                    <a:pt x="36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8" y="48"/>
                  </a:lnTo>
                  <a:lnTo>
                    <a:pt x="20" y="66"/>
                  </a:lnTo>
                  <a:lnTo>
                    <a:pt x="34" y="8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2643120" y="5586120"/>
              <a:ext cx="266400" cy="4950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68" h="312">
                  <a:moveTo>
                    <a:pt x="2" y="286"/>
                  </a:moveTo>
                  <a:lnTo>
                    <a:pt x="2" y="286"/>
                  </a:lnTo>
                  <a:lnTo>
                    <a:pt x="20" y="294"/>
                  </a:lnTo>
                  <a:lnTo>
                    <a:pt x="38" y="300"/>
                  </a:lnTo>
                  <a:lnTo>
                    <a:pt x="58" y="304"/>
                  </a:lnTo>
                  <a:lnTo>
                    <a:pt x="76" y="306"/>
                  </a:lnTo>
                  <a:lnTo>
                    <a:pt x="116" y="30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62" y="302"/>
                  </a:lnTo>
                  <a:lnTo>
                    <a:pt x="166" y="290"/>
                  </a:lnTo>
                  <a:lnTo>
                    <a:pt x="168" y="280"/>
                  </a:lnTo>
                  <a:lnTo>
                    <a:pt x="168" y="268"/>
                  </a:lnTo>
                  <a:lnTo>
                    <a:pt x="168" y="246"/>
                  </a:lnTo>
                  <a:lnTo>
                    <a:pt x="164" y="222"/>
                  </a:lnTo>
                  <a:lnTo>
                    <a:pt x="160" y="200"/>
                  </a:lnTo>
                  <a:lnTo>
                    <a:pt x="158" y="174"/>
                  </a:lnTo>
                  <a:lnTo>
                    <a:pt x="156" y="150"/>
                  </a:lnTo>
                  <a:lnTo>
                    <a:pt x="160" y="124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50" y="88"/>
                  </a:lnTo>
                  <a:lnTo>
                    <a:pt x="40" y="78"/>
                  </a:lnTo>
                  <a:lnTo>
                    <a:pt x="32" y="66"/>
                  </a:lnTo>
                  <a:lnTo>
                    <a:pt x="26" y="54"/>
                  </a:lnTo>
                  <a:lnTo>
                    <a:pt x="16" y="26"/>
                  </a:lnTo>
                  <a:lnTo>
                    <a:pt x="10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38"/>
                  </a:lnTo>
                  <a:lnTo>
                    <a:pt x="8" y="74"/>
                  </a:lnTo>
                  <a:lnTo>
                    <a:pt x="4" y="142"/>
                  </a:lnTo>
                  <a:lnTo>
                    <a:pt x="2" y="212"/>
                  </a:lnTo>
                  <a:lnTo>
                    <a:pt x="0" y="248"/>
                  </a:lnTo>
                  <a:lnTo>
                    <a:pt x="2" y="286"/>
                  </a:lnTo>
                  <a:lnTo>
                    <a:pt x="2" y="286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2249280" y="5656320"/>
              <a:ext cx="123480" cy="1141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8" h="72">
                  <a:moveTo>
                    <a:pt x="58" y="72"/>
                  </a:moveTo>
                  <a:lnTo>
                    <a:pt x="58" y="72"/>
                  </a:lnTo>
                  <a:lnTo>
                    <a:pt x="66" y="64"/>
                  </a:lnTo>
                  <a:lnTo>
                    <a:pt x="74" y="56"/>
                  </a:lnTo>
                  <a:lnTo>
                    <a:pt x="78" y="46"/>
                  </a:lnTo>
                  <a:lnTo>
                    <a:pt x="78" y="40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4" y="26"/>
                  </a:lnTo>
                  <a:lnTo>
                    <a:pt x="70" y="18"/>
                  </a:lnTo>
                  <a:lnTo>
                    <a:pt x="64" y="12"/>
                  </a:lnTo>
                  <a:lnTo>
                    <a:pt x="58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52"/>
                  </a:lnTo>
                  <a:lnTo>
                    <a:pt x="10" y="58"/>
                  </a:lnTo>
                  <a:lnTo>
                    <a:pt x="16" y="64"/>
                  </a:lnTo>
                  <a:lnTo>
                    <a:pt x="24" y="66"/>
                  </a:lnTo>
                  <a:lnTo>
                    <a:pt x="42" y="72"/>
                  </a:lnTo>
                  <a:lnTo>
                    <a:pt x="58" y="72"/>
                  </a:lnTo>
                  <a:lnTo>
                    <a:pt x="58" y="7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1747800" y="5729040"/>
              <a:ext cx="244440" cy="339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154" h="214">
                  <a:moveTo>
                    <a:pt x="10" y="56"/>
                  </a:moveTo>
                  <a:lnTo>
                    <a:pt x="10" y="56"/>
                  </a:lnTo>
                  <a:lnTo>
                    <a:pt x="4" y="92"/>
                  </a:lnTo>
                  <a:lnTo>
                    <a:pt x="0" y="132"/>
                  </a:lnTo>
                  <a:lnTo>
                    <a:pt x="0" y="174"/>
                  </a:lnTo>
                  <a:lnTo>
                    <a:pt x="2" y="194"/>
                  </a:lnTo>
                  <a:lnTo>
                    <a:pt x="4" y="212"/>
                  </a:lnTo>
                  <a:lnTo>
                    <a:pt x="4" y="212"/>
                  </a:lnTo>
                  <a:lnTo>
                    <a:pt x="24" y="214"/>
                  </a:lnTo>
                  <a:lnTo>
                    <a:pt x="44" y="212"/>
                  </a:lnTo>
                  <a:lnTo>
                    <a:pt x="62" y="210"/>
                  </a:lnTo>
                  <a:lnTo>
                    <a:pt x="80" y="206"/>
                  </a:lnTo>
                  <a:lnTo>
                    <a:pt x="118" y="194"/>
                  </a:lnTo>
                  <a:lnTo>
                    <a:pt x="154" y="182"/>
                  </a:lnTo>
                  <a:lnTo>
                    <a:pt x="154" y="182"/>
                  </a:lnTo>
                  <a:lnTo>
                    <a:pt x="148" y="134"/>
                  </a:lnTo>
                  <a:lnTo>
                    <a:pt x="140" y="90"/>
                  </a:lnTo>
                  <a:lnTo>
                    <a:pt x="132" y="44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64" y="24"/>
                  </a:lnTo>
                  <a:lnTo>
                    <a:pt x="36" y="38"/>
                  </a:lnTo>
                  <a:lnTo>
                    <a:pt x="22" y="46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1417680" y="5751360"/>
              <a:ext cx="183960" cy="3175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16" h="200">
                  <a:moveTo>
                    <a:pt x="0" y="168"/>
                  </a:moveTo>
                  <a:lnTo>
                    <a:pt x="26" y="194"/>
                  </a:lnTo>
                  <a:lnTo>
                    <a:pt x="26" y="194"/>
                  </a:lnTo>
                  <a:lnTo>
                    <a:pt x="38" y="192"/>
                  </a:lnTo>
                  <a:lnTo>
                    <a:pt x="48" y="192"/>
                  </a:lnTo>
                  <a:lnTo>
                    <a:pt x="68" y="196"/>
                  </a:lnTo>
                  <a:lnTo>
                    <a:pt x="88" y="200"/>
                  </a:lnTo>
                  <a:lnTo>
                    <a:pt x="98" y="200"/>
                  </a:lnTo>
                  <a:lnTo>
                    <a:pt x="110" y="200"/>
                  </a:lnTo>
                  <a:lnTo>
                    <a:pt x="110" y="200"/>
                  </a:lnTo>
                  <a:lnTo>
                    <a:pt x="108" y="162"/>
                  </a:lnTo>
                  <a:lnTo>
                    <a:pt x="110" y="122"/>
                  </a:lnTo>
                  <a:lnTo>
                    <a:pt x="112" y="84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0" y="44"/>
                  </a:lnTo>
                  <a:lnTo>
                    <a:pt x="86" y="38"/>
                  </a:lnTo>
                  <a:lnTo>
                    <a:pt x="60" y="24"/>
                  </a:lnTo>
                  <a:lnTo>
                    <a:pt x="46" y="16"/>
                  </a:lnTo>
                  <a:lnTo>
                    <a:pt x="32" y="8"/>
                  </a:lnTo>
                  <a:lnTo>
                    <a:pt x="18" y="2"/>
                  </a:lnTo>
                  <a:lnTo>
                    <a:pt x="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033720" y="5751360"/>
              <a:ext cx="158760" cy="323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100" h="204">
                  <a:moveTo>
                    <a:pt x="12" y="204"/>
                  </a:moveTo>
                  <a:lnTo>
                    <a:pt x="12" y="204"/>
                  </a:lnTo>
                  <a:lnTo>
                    <a:pt x="34" y="200"/>
                  </a:lnTo>
                  <a:lnTo>
                    <a:pt x="58" y="196"/>
                  </a:lnTo>
                  <a:lnTo>
                    <a:pt x="78" y="192"/>
                  </a:lnTo>
                  <a:lnTo>
                    <a:pt x="88" y="188"/>
                  </a:lnTo>
                  <a:lnTo>
                    <a:pt x="96" y="182"/>
                  </a:lnTo>
                  <a:lnTo>
                    <a:pt x="96" y="182"/>
                  </a:lnTo>
                  <a:lnTo>
                    <a:pt x="98" y="172"/>
                  </a:lnTo>
                  <a:lnTo>
                    <a:pt x="100" y="164"/>
                  </a:lnTo>
                  <a:lnTo>
                    <a:pt x="100" y="144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4" y="92"/>
                  </a:lnTo>
                  <a:lnTo>
                    <a:pt x="92" y="78"/>
                  </a:lnTo>
                  <a:lnTo>
                    <a:pt x="94" y="50"/>
                  </a:lnTo>
                  <a:lnTo>
                    <a:pt x="92" y="22"/>
                  </a:lnTo>
                  <a:lnTo>
                    <a:pt x="90" y="10"/>
                  </a:lnTo>
                  <a:lnTo>
                    <a:pt x="86" y="0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62"/>
                  </a:lnTo>
                  <a:lnTo>
                    <a:pt x="8" y="82"/>
                  </a:lnTo>
                  <a:lnTo>
                    <a:pt x="8" y="122"/>
                  </a:lnTo>
                  <a:lnTo>
                    <a:pt x="12" y="160"/>
                  </a:lnTo>
                  <a:lnTo>
                    <a:pt x="12" y="204"/>
                  </a:lnTo>
                  <a:lnTo>
                    <a:pt x="12" y="204"/>
                  </a:lnTo>
                  <a:close/>
                </a:path>
              </a:pathLst>
            </a:custGeom>
            <a:solidFill>
              <a:srgbClr val="ebc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957240" y="5796000"/>
              <a:ext cx="323640" cy="1746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04" h="110">
                  <a:moveTo>
                    <a:pt x="116" y="42"/>
                  </a:moveTo>
                  <a:lnTo>
                    <a:pt x="24" y="62"/>
                  </a:lnTo>
                  <a:lnTo>
                    <a:pt x="24" y="62"/>
                  </a:lnTo>
                  <a:lnTo>
                    <a:pt x="14" y="68"/>
                  </a:lnTo>
                  <a:lnTo>
                    <a:pt x="6" y="72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2" y="100"/>
                  </a:lnTo>
                  <a:lnTo>
                    <a:pt x="22" y="104"/>
                  </a:lnTo>
                  <a:lnTo>
                    <a:pt x="30" y="108"/>
                  </a:lnTo>
                  <a:lnTo>
                    <a:pt x="40" y="110"/>
                  </a:lnTo>
                  <a:lnTo>
                    <a:pt x="50" y="110"/>
                  </a:lnTo>
                  <a:lnTo>
                    <a:pt x="58" y="110"/>
                  </a:lnTo>
                  <a:lnTo>
                    <a:pt x="78" y="104"/>
                  </a:lnTo>
                  <a:lnTo>
                    <a:pt x="120" y="88"/>
                  </a:lnTo>
                  <a:lnTo>
                    <a:pt x="140" y="80"/>
                  </a:lnTo>
                  <a:lnTo>
                    <a:pt x="160" y="76"/>
                  </a:lnTo>
                  <a:lnTo>
                    <a:pt x="160" y="76"/>
                  </a:lnTo>
                  <a:lnTo>
                    <a:pt x="176" y="62"/>
                  </a:lnTo>
                  <a:lnTo>
                    <a:pt x="192" y="48"/>
                  </a:lnTo>
                  <a:lnTo>
                    <a:pt x="198" y="40"/>
                  </a:lnTo>
                  <a:lnTo>
                    <a:pt x="202" y="32"/>
                  </a:lnTo>
                  <a:lnTo>
                    <a:pt x="204" y="22"/>
                  </a:lnTo>
                  <a:lnTo>
                    <a:pt x="202" y="10"/>
                  </a:lnTo>
                  <a:lnTo>
                    <a:pt x="202" y="10"/>
                  </a:lnTo>
                  <a:lnTo>
                    <a:pt x="196" y="6"/>
                  </a:lnTo>
                  <a:lnTo>
                    <a:pt x="190" y="2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68" y="2"/>
                  </a:lnTo>
                  <a:lnTo>
                    <a:pt x="156" y="8"/>
                  </a:lnTo>
                  <a:lnTo>
                    <a:pt x="146" y="16"/>
                  </a:lnTo>
                  <a:lnTo>
                    <a:pt x="136" y="26"/>
                  </a:lnTo>
                  <a:lnTo>
                    <a:pt x="126" y="36"/>
                  </a:lnTo>
                  <a:lnTo>
                    <a:pt x="116" y="4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2252520" y="6046560"/>
              <a:ext cx="129960" cy="123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2" h="78">
                  <a:moveTo>
                    <a:pt x="50" y="78"/>
                  </a:moveTo>
                  <a:lnTo>
                    <a:pt x="50" y="78"/>
                  </a:lnTo>
                  <a:lnTo>
                    <a:pt x="62" y="76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80" y="58"/>
                  </a:lnTo>
                  <a:lnTo>
                    <a:pt x="82" y="52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0" y="36"/>
                  </a:lnTo>
                  <a:lnTo>
                    <a:pt x="76" y="26"/>
                  </a:lnTo>
                  <a:lnTo>
                    <a:pt x="70" y="18"/>
                  </a:lnTo>
                  <a:lnTo>
                    <a:pt x="64" y="12"/>
                  </a:lnTo>
                  <a:lnTo>
                    <a:pt x="54" y="6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10" y="62"/>
                  </a:lnTo>
                  <a:lnTo>
                    <a:pt x="20" y="72"/>
                  </a:lnTo>
                  <a:lnTo>
                    <a:pt x="34" y="78"/>
                  </a:lnTo>
                  <a:lnTo>
                    <a:pt x="42" y="78"/>
                  </a:lnTo>
                  <a:lnTo>
                    <a:pt x="50" y="78"/>
                  </a:lnTo>
                  <a:lnTo>
                    <a:pt x="50" y="78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2287440" y="6459480"/>
              <a:ext cx="145800" cy="1425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2" h="90">
                  <a:moveTo>
                    <a:pt x="22" y="2"/>
                  </a:moveTo>
                  <a:lnTo>
                    <a:pt x="22" y="2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10" y="60"/>
                  </a:lnTo>
                  <a:lnTo>
                    <a:pt x="18" y="68"/>
                  </a:lnTo>
                  <a:lnTo>
                    <a:pt x="34" y="82"/>
                  </a:lnTo>
                  <a:lnTo>
                    <a:pt x="42" y="88"/>
                  </a:lnTo>
                  <a:lnTo>
                    <a:pt x="50" y="90"/>
                  </a:lnTo>
                  <a:lnTo>
                    <a:pt x="60" y="90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80" y="82"/>
                  </a:lnTo>
                  <a:lnTo>
                    <a:pt x="86" y="76"/>
                  </a:lnTo>
                  <a:lnTo>
                    <a:pt x="88" y="70"/>
                  </a:lnTo>
                  <a:lnTo>
                    <a:pt x="90" y="60"/>
                  </a:lnTo>
                  <a:lnTo>
                    <a:pt x="92" y="44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4" y="20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2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033720" y="6792840"/>
              <a:ext cx="218880" cy="149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38" h="94">
                  <a:moveTo>
                    <a:pt x="138" y="60"/>
                  </a:moveTo>
                  <a:lnTo>
                    <a:pt x="138" y="60"/>
                  </a:lnTo>
                  <a:lnTo>
                    <a:pt x="138" y="40"/>
                  </a:lnTo>
                  <a:lnTo>
                    <a:pt x="138" y="30"/>
                  </a:lnTo>
                  <a:lnTo>
                    <a:pt x="138" y="18"/>
                  </a:lnTo>
                  <a:lnTo>
                    <a:pt x="136" y="10"/>
                  </a:lnTo>
                  <a:lnTo>
                    <a:pt x="130" y="4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96" y="6"/>
                  </a:lnTo>
                  <a:lnTo>
                    <a:pt x="82" y="8"/>
                  </a:lnTo>
                  <a:lnTo>
                    <a:pt x="68" y="10"/>
                  </a:lnTo>
                  <a:lnTo>
                    <a:pt x="52" y="10"/>
                  </a:lnTo>
                  <a:lnTo>
                    <a:pt x="24" y="10"/>
                  </a:lnTo>
                  <a:lnTo>
                    <a:pt x="12" y="12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32"/>
                  </a:lnTo>
                  <a:lnTo>
                    <a:pt x="10" y="42"/>
                  </a:lnTo>
                  <a:lnTo>
                    <a:pt x="8" y="58"/>
                  </a:lnTo>
                  <a:lnTo>
                    <a:pt x="8" y="76"/>
                  </a:lnTo>
                  <a:lnTo>
                    <a:pt x="10" y="86"/>
                  </a:lnTo>
                  <a:lnTo>
                    <a:pt x="12" y="94"/>
                  </a:lnTo>
                  <a:lnTo>
                    <a:pt x="134" y="92"/>
                  </a:lnTo>
                  <a:lnTo>
                    <a:pt x="138" y="60"/>
                  </a:lnTo>
                  <a:close/>
                </a:path>
              </a:pathLst>
            </a:custGeom>
            <a:solidFill>
              <a:srgbClr val="4e9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2185920" y="6818400"/>
              <a:ext cx="345960" cy="222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18" h="140">
                  <a:moveTo>
                    <a:pt x="212" y="0"/>
                  </a:moveTo>
                  <a:lnTo>
                    <a:pt x="212" y="0"/>
                  </a:lnTo>
                  <a:lnTo>
                    <a:pt x="160" y="4"/>
                  </a:lnTo>
                  <a:lnTo>
                    <a:pt x="106" y="4"/>
                  </a:lnTo>
                  <a:lnTo>
                    <a:pt x="56" y="8"/>
                  </a:lnTo>
                  <a:lnTo>
                    <a:pt x="30" y="1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32"/>
                  </a:lnTo>
                  <a:lnTo>
                    <a:pt x="0" y="46"/>
                  </a:lnTo>
                  <a:lnTo>
                    <a:pt x="0" y="78"/>
                  </a:lnTo>
                  <a:lnTo>
                    <a:pt x="4" y="10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34" y="140"/>
                  </a:lnTo>
                  <a:lnTo>
                    <a:pt x="60" y="140"/>
                  </a:lnTo>
                  <a:lnTo>
                    <a:pt x="86" y="138"/>
                  </a:lnTo>
                  <a:lnTo>
                    <a:pt x="112" y="136"/>
                  </a:lnTo>
                  <a:lnTo>
                    <a:pt x="162" y="126"/>
                  </a:lnTo>
                  <a:lnTo>
                    <a:pt x="212" y="114"/>
                  </a:lnTo>
                  <a:lnTo>
                    <a:pt x="212" y="114"/>
                  </a:lnTo>
                  <a:lnTo>
                    <a:pt x="216" y="100"/>
                  </a:lnTo>
                  <a:lnTo>
                    <a:pt x="218" y="86"/>
                  </a:lnTo>
                  <a:lnTo>
                    <a:pt x="216" y="58"/>
                  </a:lnTo>
                  <a:lnTo>
                    <a:pt x="212" y="28"/>
                  </a:lnTo>
                  <a:lnTo>
                    <a:pt x="212" y="14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db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1512720" y="6818400"/>
              <a:ext cx="2022480" cy="30193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3019320"/>
                <a:gd name="textAreaBottom" fmla="*/ 3019680 h 3019320"/>
              </a:gdLst>
              <a:ahLst/>
              <a:rect l="textAreaLeft" t="textAreaTop" r="textAreaRight" b="textAreaBottom"/>
              <a:pathLst>
                <a:path w="1274" h="1902">
                  <a:moveTo>
                    <a:pt x="582" y="1690"/>
                  </a:moveTo>
                  <a:lnTo>
                    <a:pt x="582" y="1690"/>
                  </a:lnTo>
                  <a:lnTo>
                    <a:pt x="576" y="1560"/>
                  </a:lnTo>
                  <a:lnTo>
                    <a:pt x="568" y="1430"/>
                  </a:lnTo>
                  <a:lnTo>
                    <a:pt x="552" y="1178"/>
                  </a:lnTo>
                  <a:lnTo>
                    <a:pt x="552" y="1178"/>
                  </a:lnTo>
                  <a:lnTo>
                    <a:pt x="548" y="964"/>
                  </a:lnTo>
                  <a:lnTo>
                    <a:pt x="544" y="750"/>
                  </a:lnTo>
                  <a:lnTo>
                    <a:pt x="544" y="644"/>
                  </a:lnTo>
                  <a:lnTo>
                    <a:pt x="544" y="538"/>
                  </a:lnTo>
                  <a:lnTo>
                    <a:pt x="548" y="432"/>
                  </a:lnTo>
                  <a:lnTo>
                    <a:pt x="552" y="326"/>
                  </a:lnTo>
                  <a:lnTo>
                    <a:pt x="536" y="320"/>
                  </a:lnTo>
                  <a:lnTo>
                    <a:pt x="536" y="320"/>
                  </a:lnTo>
                  <a:lnTo>
                    <a:pt x="534" y="316"/>
                  </a:lnTo>
                  <a:lnTo>
                    <a:pt x="532" y="310"/>
                  </a:lnTo>
                  <a:lnTo>
                    <a:pt x="532" y="304"/>
                  </a:lnTo>
                  <a:lnTo>
                    <a:pt x="534" y="298"/>
                  </a:lnTo>
                  <a:lnTo>
                    <a:pt x="540" y="286"/>
                  </a:lnTo>
                  <a:lnTo>
                    <a:pt x="544" y="282"/>
                  </a:lnTo>
                  <a:lnTo>
                    <a:pt x="550" y="278"/>
                  </a:lnTo>
                  <a:lnTo>
                    <a:pt x="550" y="278"/>
                  </a:lnTo>
                  <a:lnTo>
                    <a:pt x="560" y="274"/>
                  </a:lnTo>
                  <a:lnTo>
                    <a:pt x="570" y="272"/>
                  </a:lnTo>
                  <a:lnTo>
                    <a:pt x="582" y="272"/>
                  </a:lnTo>
                  <a:lnTo>
                    <a:pt x="594" y="274"/>
                  </a:lnTo>
                  <a:lnTo>
                    <a:pt x="594" y="274"/>
                  </a:lnTo>
                  <a:lnTo>
                    <a:pt x="602" y="278"/>
                  </a:lnTo>
                  <a:lnTo>
                    <a:pt x="610" y="284"/>
                  </a:lnTo>
                  <a:lnTo>
                    <a:pt x="616" y="290"/>
                  </a:lnTo>
                  <a:lnTo>
                    <a:pt x="620" y="296"/>
                  </a:lnTo>
                  <a:lnTo>
                    <a:pt x="626" y="314"/>
                  </a:lnTo>
                  <a:lnTo>
                    <a:pt x="630" y="330"/>
                  </a:lnTo>
                  <a:lnTo>
                    <a:pt x="630" y="330"/>
                  </a:lnTo>
                  <a:lnTo>
                    <a:pt x="626" y="366"/>
                  </a:lnTo>
                  <a:lnTo>
                    <a:pt x="622" y="398"/>
                  </a:lnTo>
                  <a:lnTo>
                    <a:pt x="620" y="432"/>
                  </a:lnTo>
                  <a:lnTo>
                    <a:pt x="620" y="466"/>
                  </a:lnTo>
                  <a:lnTo>
                    <a:pt x="622" y="530"/>
                  </a:lnTo>
                  <a:lnTo>
                    <a:pt x="630" y="594"/>
                  </a:lnTo>
                  <a:lnTo>
                    <a:pt x="638" y="658"/>
                  </a:lnTo>
                  <a:lnTo>
                    <a:pt x="648" y="722"/>
                  </a:lnTo>
                  <a:lnTo>
                    <a:pt x="670" y="850"/>
                  </a:lnTo>
                  <a:lnTo>
                    <a:pt x="670" y="850"/>
                  </a:lnTo>
                  <a:lnTo>
                    <a:pt x="684" y="978"/>
                  </a:lnTo>
                  <a:lnTo>
                    <a:pt x="700" y="1106"/>
                  </a:lnTo>
                  <a:lnTo>
                    <a:pt x="734" y="1358"/>
                  </a:lnTo>
                  <a:lnTo>
                    <a:pt x="768" y="1608"/>
                  </a:lnTo>
                  <a:lnTo>
                    <a:pt x="802" y="1858"/>
                  </a:lnTo>
                  <a:lnTo>
                    <a:pt x="802" y="1858"/>
                  </a:lnTo>
                  <a:lnTo>
                    <a:pt x="806" y="1862"/>
                  </a:lnTo>
                  <a:lnTo>
                    <a:pt x="808" y="1868"/>
                  </a:lnTo>
                  <a:lnTo>
                    <a:pt x="814" y="1878"/>
                  </a:lnTo>
                  <a:lnTo>
                    <a:pt x="818" y="1892"/>
                  </a:lnTo>
                  <a:lnTo>
                    <a:pt x="826" y="1902"/>
                  </a:lnTo>
                  <a:lnTo>
                    <a:pt x="1170" y="1902"/>
                  </a:lnTo>
                  <a:lnTo>
                    <a:pt x="1170" y="1902"/>
                  </a:lnTo>
                  <a:lnTo>
                    <a:pt x="1220" y="1872"/>
                  </a:lnTo>
                  <a:lnTo>
                    <a:pt x="1220" y="1872"/>
                  </a:lnTo>
                  <a:lnTo>
                    <a:pt x="1236" y="1852"/>
                  </a:lnTo>
                  <a:lnTo>
                    <a:pt x="1248" y="1830"/>
                  </a:lnTo>
                  <a:lnTo>
                    <a:pt x="1256" y="1808"/>
                  </a:lnTo>
                  <a:lnTo>
                    <a:pt x="1262" y="1784"/>
                  </a:lnTo>
                  <a:lnTo>
                    <a:pt x="1268" y="1760"/>
                  </a:lnTo>
                  <a:lnTo>
                    <a:pt x="1270" y="1736"/>
                  </a:lnTo>
                  <a:lnTo>
                    <a:pt x="1272" y="1710"/>
                  </a:lnTo>
                  <a:lnTo>
                    <a:pt x="1272" y="1684"/>
                  </a:lnTo>
                  <a:lnTo>
                    <a:pt x="1268" y="1580"/>
                  </a:lnTo>
                  <a:lnTo>
                    <a:pt x="1268" y="1528"/>
                  </a:lnTo>
                  <a:lnTo>
                    <a:pt x="1270" y="1502"/>
                  </a:lnTo>
                  <a:lnTo>
                    <a:pt x="1274" y="1478"/>
                  </a:lnTo>
                  <a:lnTo>
                    <a:pt x="1274" y="1478"/>
                  </a:lnTo>
                  <a:lnTo>
                    <a:pt x="1266" y="1440"/>
                  </a:lnTo>
                  <a:lnTo>
                    <a:pt x="1262" y="1406"/>
                  </a:lnTo>
                  <a:lnTo>
                    <a:pt x="1254" y="1342"/>
                  </a:lnTo>
                  <a:lnTo>
                    <a:pt x="1246" y="1278"/>
                  </a:lnTo>
                  <a:lnTo>
                    <a:pt x="1242" y="1242"/>
                  </a:lnTo>
                  <a:lnTo>
                    <a:pt x="1236" y="1206"/>
                  </a:lnTo>
                  <a:lnTo>
                    <a:pt x="1236" y="1206"/>
                  </a:lnTo>
                  <a:lnTo>
                    <a:pt x="1216" y="1104"/>
                  </a:lnTo>
                  <a:lnTo>
                    <a:pt x="1198" y="1000"/>
                  </a:lnTo>
                  <a:lnTo>
                    <a:pt x="1184" y="894"/>
                  </a:lnTo>
                  <a:lnTo>
                    <a:pt x="1172" y="786"/>
                  </a:lnTo>
                  <a:lnTo>
                    <a:pt x="1160" y="678"/>
                  </a:lnTo>
                  <a:lnTo>
                    <a:pt x="1150" y="572"/>
                  </a:lnTo>
                  <a:lnTo>
                    <a:pt x="1136" y="358"/>
                  </a:lnTo>
                  <a:lnTo>
                    <a:pt x="1102" y="350"/>
                  </a:lnTo>
                  <a:lnTo>
                    <a:pt x="1102" y="350"/>
                  </a:lnTo>
                  <a:lnTo>
                    <a:pt x="1082" y="340"/>
                  </a:lnTo>
                  <a:lnTo>
                    <a:pt x="1062" y="328"/>
                  </a:lnTo>
                  <a:lnTo>
                    <a:pt x="1046" y="312"/>
                  </a:lnTo>
                  <a:lnTo>
                    <a:pt x="1032" y="294"/>
                  </a:lnTo>
                  <a:lnTo>
                    <a:pt x="1002" y="258"/>
                  </a:lnTo>
                  <a:lnTo>
                    <a:pt x="988" y="240"/>
                  </a:lnTo>
                  <a:lnTo>
                    <a:pt x="970" y="224"/>
                  </a:lnTo>
                  <a:lnTo>
                    <a:pt x="970" y="224"/>
                  </a:lnTo>
                  <a:lnTo>
                    <a:pt x="964" y="214"/>
                  </a:lnTo>
                  <a:lnTo>
                    <a:pt x="958" y="202"/>
                  </a:lnTo>
                  <a:lnTo>
                    <a:pt x="952" y="176"/>
                  </a:lnTo>
                  <a:lnTo>
                    <a:pt x="948" y="166"/>
                  </a:lnTo>
                  <a:lnTo>
                    <a:pt x="942" y="156"/>
                  </a:lnTo>
                  <a:lnTo>
                    <a:pt x="934" y="150"/>
                  </a:lnTo>
                  <a:lnTo>
                    <a:pt x="922" y="146"/>
                  </a:lnTo>
                  <a:lnTo>
                    <a:pt x="922" y="146"/>
                  </a:lnTo>
                  <a:lnTo>
                    <a:pt x="916" y="138"/>
                  </a:lnTo>
                  <a:lnTo>
                    <a:pt x="912" y="130"/>
                  </a:lnTo>
                  <a:lnTo>
                    <a:pt x="904" y="114"/>
                  </a:lnTo>
                  <a:lnTo>
                    <a:pt x="902" y="96"/>
                  </a:lnTo>
                  <a:lnTo>
                    <a:pt x="902" y="78"/>
                  </a:lnTo>
                  <a:lnTo>
                    <a:pt x="902" y="40"/>
                  </a:lnTo>
                  <a:lnTo>
                    <a:pt x="902" y="20"/>
                  </a:lnTo>
                  <a:lnTo>
                    <a:pt x="898" y="0"/>
                  </a:lnTo>
                  <a:lnTo>
                    <a:pt x="898" y="0"/>
                  </a:lnTo>
                  <a:lnTo>
                    <a:pt x="862" y="4"/>
                  </a:lnTo>
                  <a:lnTo>
                    <a:pt x="846" y="6"/>
                  </a:lnTo>
                  <a:lnTo>
                    <a:pt x="830" y="6"/>
                  </a:lnTo>
                  <a:lnTo>
                    <a:pt x="830" y="6"/>
                  </a:lnTo>
                  <a:lnTo>
                    <a:pt x="838" y="22"/>
                  </a:lnTo>
                  <a:lnTo>
                    <a:pt x="840" y="38"/>
                  </a:lnTo>
                  <a:lnTo>
                    <a:pt x="840" y="56"/>
                  </a:lnTo>
                  <a:lnTo>
                    <a:pt x="838" y="72"/>
                  </a:lnTo>
                  <a:lnTo>
                    <a:pt x="834" y="106"/>
                  </a:lnTo>
                  <a:lnTo>
                    <a:pt x="834" y="124"/>
                  </a:lnTo>
                  <a:lnTo>
                    <a:pt x="838" y="142"/>
                  </a:lnTo>
                  <a:lnTo>
                    <a:pt x="838" y="142"/>
                  </a:lnTo>
                  <a:lnTo>
                    <a:pt x="838" y="146"/>
                  </a:lnTo>
                  <a:lnTo>
                    <a:pt x="836" y="150"/>
                  </a:lnTo>
                  <a:lnTo>
                    <a:pt x="830" y="154"/>
                  </a:lnTo>
                  <a:lnTo>
                    <a:pt x="824" y="158"/>
                  </a:lnTo>
                  <a:lnTo>
                    <a:pt x="816" y="162"/>
                  </a:lnTo>
                  <a:lnTo>
                    <a:pt x="816" y="162"/>
                  </a:lnTo>
                  <a:lnTo>
                    <a:pt x="802" y="154"/>
                  </a:lnTo>
                  <a:lnTo>
                    <a:pt x="788" y="152"/>
                  </a:lnTo>
                  <a:lnTo>
                    <a:pt x="772" y="150"/>
                  </a:lnTo>
                  <a:lnTo>
                    <a:pt x="756" y="152"/>
                  </a:lnTo>
                  <a:lnTo>
                    <a:pt x="724" y="154"/>
                  </a:lnTo>
                  <a:lnTo>
                    <a:pt x="708" y="152"/>
                  </a:lnTo>
                  <a:lnTo>
                    <a:pt x="692" y="150"/>
                  </a:lnTo>
                  <a:lnTo>
                    <a:pt x="692" y="150"/>
                  </a:lnTo>
                  <a:lnTo>
                    <a:pt x="680" y="158"/>
                  </a:lnTo>
                  <a:lnTo>
                    <a:pt x="668" y="164"/>
                  </a:lnTo>
                  <a:lnTo>
                    <a:pt x="654" y="170"/>
                  </a:lnTo>
                  <a:lnTo>
                    <a:pt x="640" y="176"/>
                  </a:lnTo>
                  <a:lnTo>
                    <a:pt x="612" y="182"/>
                  </a:lnTo>
                  <a:lnTo>
                    <a:pt x="582" y="186"/>
                  </a:lnTo>
                  <a:lnTo>
                    <a:pt x="522" y="192"/>
                  </a:lnTo>
                  <a:lnTo>
                    <a:pt x="492" y="194"/>
                  </a:lnTo>
                  <a:lnTo>
                    <a:pt x="464" y="198"/>
                  </a:lnTo>
                  <a:lnTo>
                    <a:pt x="464" y="198"/>
                  </a:lnTo>
                  <a:lnTo>
                    <a:pt x="454" y="198"/>
                  </a:lnTo>
                  <a:lnTo>
                    <a:pt x="444" y="198"/>
                  </a:lnTo>
                  <a:lnTo>
                    <a:pt x="426" y="194"/>
                  </a:lnTo>
                  <a:lnTo>
                    <a:pt x="410" y="188"/>
                  </a:lnTo>
                  <a:lnTo>
                    <a:pt x="394" y="180"/>
                  </a:lnTo>
                  <a:lnTo>
                    <a:pt x="378" y="172"/>
                  </a:lnTo>
                  <a:lnTo>
                    <a:pt x="360" y="168"/>
                  </a:lnTo>
                  <a:lnTo>
                    <a:pt x="352" y="168"/>
                  </a:lnTo>
                  <a:lnTo>
                    <a:pt x="344" y="168"/>
                  </a:lnTo>
                  <a:lnTo>
                    <a:pt x="334" y="170"/>
                  </a:lnTo>
                  <a:lnTo>
                    <a:pt x="324" y="176"/>
                  </a:lnTo>
                  <a:lnTo>
                    <a:pt x="324" y="176"/>
                  </a:lnTo>
                  <a:lnTo>
                    <a:pt x="316" y="174"/>
                  </a:lnTo>
                  <a:lnTo>
                    <a:pt x="310" y="172"/>
                  </a:lnTo>
                  <a:lnTo>
                    <a:pt x="304" y="174"/>
                  </a:lnTo>
                  <a:lnTo>
                    <a:pt x="300" y="176"/>
                  </a:lnTo>
                  <a:lnTo>
                    <a:pt x="298" y="180"/>
                  </a:lnTo>
                  <a:lnTo>
                    <a:pt x="298" y="180"/>
                  </a:lnTo>
                  <a:lnTo>
                    <a:pt x="274" y="176"/>
                  </a:lnTo>
                  <a:lnTo>
                    <a:pt x="264" y="172"/>
                  </a:lnTo>
                  <a:lnTo>
                    <a:pt x="254" y="166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194" y="38"/>
                  </a:lnTo>
                  <a:lnTo>
                    <a:pt x="198" y="164"/>
                  </a:lnTo>
                  <a:lnTo>
                    <a:pt x="198" y="164"/>
                  </a:lnTo>
                  <a:lnTo>
                    <a:pt x="194" y="170"/>
                  </a:lnTo>
                  <a:lnTo>
                    <a:pt x="188" y="174"/>
                  </a:lnTo>
                  <a:lnTo>
                    <a:pt x="182" y="176"/>
                  </a:lnTo>
                  <a:lnTo>
                    <a:pt x="174" y="176"/>
                  </a:lnTo>
                  <a:lnTo>
                    <a:pt x="176" y="198"/>
                  </a:lnTo>
                  <a:lnTo>
                    <a:pt x="176" y="198"/>
                  </a:lnTo>
                  <a:lnTo>
                    <a:pt x="158" y="226"/>
                  </a:lnTo>
                  <a:lnTo>
                    <a:pt x="138" y="254"/>
                  </a:lnTo>
                  <a:lnTo>
                    <a:pt x="116" y="282"/>
                  </a:lnTo>
                  <a:lnTo>
                    <a:pt x="94" y="308"/>
                  </a:lnTo>
                  <a:lnTo>
                    <a:pt x="48" y="36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66"/>
                  </a:lnTo>
                  <a:lnTo>
                    <a:pt x="4" y="522"/>
                  </a:lnTo>
                  <a:lnTo>
                    <a:pt x="10" y="576"/>
                  </a:lnTo>
                  <a:lnTo>
                    <a:pt x="16" y="630"/>
                  </a:lnTo>
                  <a:lnTo>
                    <a:pt x="28" y="738"/>
                  </a:lnTo>
                  <a:lnTo>
                    <a:pt x="32" y="792"/>
                  </a:lnTo>
                  <a:lnTo>
                    <a:pt x="34" y="848"/>
                  </a:lnTo>
                  <a:lnTo>
                    <a:pt x="34" y="848"/>
                  </a:lnTo>
                  <a:lnTo>
                    <a:pt x="42" y="912"/>
                  </a:lnTo>
                  <a:lnTo>
                    <a:pt x="48" y="974"/>
                  </a:lnTo>
                  <a:lnTo>
                    <a:pt x="56" y="1098"/>
                  </a:lnTo>
                  <a:lnTo>
                    <a:pt x="62" y="1220"/>
                  </a:lnTo>
                  <a:lnTo>
                    <a:pt x="64" y="1342"/>
                  </a:lnTo>
                  <a:lnTo>
                    <a:pt x="68" y="1590"/>
                  </a:lnTo>
                  <a:lnTo>
                    <a:pt x="72" y="1716"/>
                  </a:lnTo>
                  <a:lnTo>
                    <a:pt x="76" y="1846"/>
                  </a:lnTo>
                  <a:lnTo>
                    <a:pt x="76" y="1846"/>
                  </a:lnTo>
                  <a:lnTo>
                    <a:pt x="84" y="1848"/>
                  </a:lnTo>
                  <a:lnTo>
                    <a:pt x="88" y="1852"/>
                  </a:lnTo>
                  <a:lnTo>
                    <a:pt x="92" y="1858"/>
                  </a:lnTo>
                  <a:lnTo>
                    <a:pt x="94" y="1864"/>
                  </a:lnTo>
                  <a:lnTo>
                    <a:pt x="102" y="1890"/>
                  </a:lnTo>
                  <a:lnTo>
                    <a:pt x="102" y="1890"/>
                  </a:lnTo>
                  <a:lnTo>
                    <a:pt x="132" y="1902"/>
                  </a:lnTo>
                  <a:lnTo>
                    <a:pt x="542" y="1902"/>
                  </a:lnTo>
                  <a:lnTo>
                    <a:pt x="542" y="1902"/>
                  </a:lnTo>
                  <a:lnTo>
                    <a:pt x="552" y="1890"/>
                  </a:lnTo>
                  <a:lnTo>
                    <a:pt x="558" y="1878"/>
                  </a:lnTo>
                  <a:lnTo>
                    <a:pt x="568" y="1852"/>
                  </a:lnTo>
                  <a:lnTo>
                    <a:pt x="576" y="1826"/>
                  </a:lnTo>
                  <a:lnTo>
                    <a:pt x="580" y="1800"/>
                  </a:lnTo>
                  <a:lnTo>
                    <a:pt x="582" y="1772"/>
                  </a:lnTo>
                  <a:lnTo>
                    <a:pt x="582" y="1744"/>
                  </a:lnTo>
                  <a:lnTo>
                    <a:pt x="582" y="1690"/>
                  </a:lnTo>
                  <a:lnTo>
                    <a:pt x="582" y="1690"/>
                  </a:lnTo>
                  <a:close/>
                </a:path>
              </a:pathLst>
            </a:custGeom>
            <a:solidFill>
              <a:srgbClr val="46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2620800" y="683748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0" y="18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5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24" y="86"/>
                  </a:lnTo>
                  <a:lnTo>
                    <a:pt x="42" y="84"/>
                  </a:lnTo>
                  <a:lnTo>
                    <a:pt x="60" y="82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80" y="60"/>
                  </a:lnTo>
                  <a:lnTo>
                    <a:pt x="82" y="38"/>
                  </a:lnTo>
                  <a:lnTo>
                    <a:pt x="80" y="18"/>
                  </a:lnTo>
                  <a:lnTo>
                    <a:pt x="78" y="10"/>
                  </a:lnTo>
                  <a:lnTo>
                    <a:pt x="7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e9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1992240" y="6850080"/>
              <a:ext cx="104760" cy="152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6" h="96">
                  <a:moveTo>
                    <a:pt x="0" y="0"/>
                  </a:moveTo>
                  <a:lnTo>
                    <a:pt x="2" y="96"/>
                  </a:lnTo>
                  <a:lnTo>
                    <a:pt x="2" y="96"/>
                  </a:lnTo>
                  <a:lnTo>
                    <a:pt x="12" y="96"/>
                  </a:lnTo>
                  <a:lnTo>
                    <a:pt x="20" y="94"/>
                  </a:lnTo>
                  <a:lnTo>
                    <a:pt x="34" y="96"/>
                  </a:lnTo>
                  <a:lnTo>
                    <a:pt x="50" y="96"/>
                  </a:lnTo>
                  <a:lnTo>
                    <a:pt x="58" y="96"/>
                  </a:lnTo>
                  <a:lnTo>
                    <a:pt x="66" y="9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48" y="4"/>
                  </a:lnTo>
                  <a:lnTo>
                    <a:pt x="34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9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1515960" y="6869160"/>
              <a:ext cx="212400" cy="1458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4" h="92">
                  <a:moveTo>
                    <a:pt x="0" y="10"/>
                  </a:moveTo>
                  <a:lnTo>
                    <a:pt x="0" y="92"/>
                  </a:lnTo>
                  <a:lnTo>
                    <a:pt x="0" y="92"/>
                  </a:lnTo>
                  <a:lnTo>
                    <a:pt x="36" y="92"/>
                  </a:lnTo>
                  <a:lnTo>
                    <a:pt x="68" y="88"/>
                  </a:lnTo>
                  <a:lnTo>
                    <a:pt x="100" y="84"/>
                  </a:lnTo>
                  <a:lnTo>
                    <a:pt x="116" y="84"/>
                  </a:lnTo>
                  <a:lnTo>
                    <a:pt x="134" y="84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2" y="2"/>
                  </a:lnTo>
                  <a:lnTo>
                    <a:pt x="64" y="4"/>
                  </a:lnTo>
                  <a:lnTo>
                    <a:pt x="32" y="10"/>
                  </a:lnTo>
                  <a:lnTo>
                    <a:pt x="16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e9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090960" y="7012080"/>
              <a:ext cx="212400" cy="2854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4" h="180">
                  <a:moveTo>
                    <a:pt x="124" y="0"/>
                  </a:moveTo>
                  <a:lnTo>
                    <a:pt x="124" y="0"/>
                  </a:lnTo>
                  <a:lnTo>
                    <a:pt x="108" y="4"/>
                  </a:lnTo>
                  <a:lnTo>
                    <a:pt x="92" y="6"/>
                  </a:lnTo>
                  <a:lnTo>
                    <a:pt x="62" y="8"/>
                  </a:lnTo>
                  <a:lnTo>
                    <a:pt x="32" y="8"/>
                  </a:lnTo>
                  <a:lnTo>
                    <a:pt x="16" y="8"/>
                  </a:lnTo>
                  <a:lnTo>
                    <a:pt x="0" y="1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4" y="44"/>
                  </a:lnTo>
                  <a:lnTo>
                    <a:pt x="16" y="56"/>
                  </a:lnTo>
                  <a:lnTo>
                    <a:pt x="20" y="66"/>
                  </a:lnTo>
                  <a:lnTo>
                    <a:pt x="32" y="84"/>
                  </a:lnTo>
                  <a:lnTo>
                    <a:pt x="46" y="102"/>
                  </a:lnTo>
                  <a:lnTo>
                    <a:pt x="78" y="136"/>
                  </a:lnTo>
                  <a:lnTo>
                    <a:pt x="94" y="154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16" y="172"/>
                  </a:lnTo>
                  <a:lnTo>
                    <a:pt x="122" y="170"/>
                  </a:lnTo>
                  <a:lnTo>
                    <a:pt x="130" y="174"/>
                  </a:lnTo>
                  <a:lnTo>
                    <a:pt x="134" y="180"/>
                  </a:lnTo>
                  <a:lnTo>
                    <a:pt x="134" y="180"/>
                  </a:lnTo>
                  <a:lnTo>
                    <a:pt x="134" y="136"/>
                  </a:lnTo>
                  <a:lnTo>
                    <a:pt x="134" y="88"/>
                  </a:lnTo>
                  <a:lnTo>
                    <a:pt x="134" y="64"/>
                  </a:lnTo>
                  <a:lnTo>
                    <a:pt x="132" y="42"/>
                  </a:lnTo>
                  <a:lnTo>
                    <a:pt x="130" y="20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6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1509480" y="7088040"/>
              <a:ext cx="183960" cy="2379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16" h="150">
                  <a:moveTo>
                    <a:pt x="116" y="0"/>
                  </a:moveTo>
                  <a:lnTo>
                    <a:pt x="116" y="0"/>
                  </a:lnTo>
                  <a:lnTo>
                    <a:pt x="102" y="0"/>
                  </a:lnTo>
                  <a:lnTo>
                    <a:pt x="90" y="2"/>
                  </a:lnTo>
                  <a:lnTo>
                    <a:pt x="64" y="6"/>
                  </a:lnTo>
                  <a:lnTo>
                    <a:pt x="40" y="12"/>
                  </a:lnTo>
                  <a:lnTo>
                    <a:pt x="14" y="1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6" y="134"/>
                  </a:lnTo>
                  <a:lnTo>
                    <a:pt x="32" y="116"/>
                  </a:lnTo>
                  <a:lnTo>
                    <a:pt x="62" y="80"/>
                  </a:lnTo>
                  <a:lnTo>
                    <a:pt x="90" y="4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68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グループ化 86"/>
          <p:cNvGrpSpPr/>
          <p:nvPr/>
        </p:nvGrpSpPr>
        <p:grpSpPr>
          <a:xfrm>
            <a:off x="12184200" y="7846920"/>
            <a:ext cx="2381040" cy="1971720"/>
            <a:chOff x="12184200" y="7846920"/>
            <a:chExt cx="2381040" cy="1971720"/>
          </a:xfrm>
        </p:grpSpPr>
        <p:sp>
          <p:nvSpPr>
            <p:cNvPr id="122" name="Freeform 78"/>
            <p:cNvSpPr/>
            <p:nvPr/>
          </p:nvSpPr>
          <p:spPr>
            <a:xfrm>
              <a:off x="12184200" y="7846920"/>
              <a:ext cx="2381040" cy="1971720"/>
            </a:xfrm>
            <a:custGeom>
              <a:avLst/>
              <a:gdLst>
                <a:gd name="textAreaLeft" fmla="*/ 0 w 2381040"/>
                <a:gd name="textAreaRight" fmla="*/ 2381400 w 2381040"/>
                <a:gd name="textAreaTop" fmla="*/ 0 h 1971720"/>
                <a:gd name="textAreaBottom" fmla="*/ 1972080 h 1971720"/>
              </a:gdLst>
              <a:ahLst/>
              <a:rect l="textAreaLeft" t="textAreaTop" r="textAreaRight" b="textAreaBottom"/>
              <a:pathLst>
                <a:path w="1500" h="1242">
                  <a:moveTo>
                    <a:pt x="626" y="22"/>
                  </a:moveTo>
                  <a:lnTo>
                    <a:pt x="626" y="22"/>
                  </a:lnTo>
                  <a:lnTo>
                    <a:pt x="630" y="30"/>
                  </a:lnTo>
                  <a:lnTo>
                    <a:pt x="632" y="34"/>
                  </a:lnTo>
                  <a:lnTo>
                    <a:pt x="636" y="36"/>
                  </a:lnTo>
                  <a:lnTo>
                    <a:pt x="636" y="36"/>
                  </a:lnTo>
                  <a:lnTo>
                    <a:pt x="644" y="36"/>
                  </a:lnTo>
                  <a:lnTo>
                    <a:pt x="650" y="32"/>
                  </a:lnTo>
                  <a:lnTo>
                    <a:pt x="664" y="24"/>
                  </a:lnTo>
                  <a:lnTo>
                    <a:pt x="672" y="20"/>
                  </a:lnTo>
                  <a:lnTo>
                    <a:pt x="680" y="18"/>
                  </a:lnTo>
                  <a:lnTo>
                    <a:pt x="686" y="18"/>
                  </a:lnTo>
                  <a:lnTo>
                    <a:pt x="696" y="22"/>
                  </a:lnTo>
                  <a:lnTo>
                    <a:pt x="696" y="22"/>
                  </a:lnTo>
                  <a:lnTo>
                    <a:pt x="702" y="24"/>
                  </a:lnTo>
                  <a:lnTo>
                    <a:pt x="710" y="24"/>
                  </a:lnTo>
                  <a:lnTo>
                    <a:pt x="718" y="24"/>
                  </a:lnTo>
                  <a:lnTo>
                    <a:pt x="724" y="24"/>
                  </a:lnTo>
                  <a:lnTo>
                    <a:pt x="724" y="24"/>
                  </a:lnTo>
                  <a:lnTo>
                    <a:pt x="770" y="38"/>
                  </a:lnTo>
                  <a:lnTo>
                    <a:pt x="794" y="46"/>
                  </a:lnTo>
                  <a:lnTo>
                    <a:pt x="816" y="56"/>
                  </a:lnTo>
                  <a:lnTo>
                    <a:pt x="816" y="56"/>
                  </a:lnTo>
                  <a:lnTo>
                    <a:pt x="848" y="62"/>
                  </a:lnTo>
                  <a:lnTo>
                    <a:pt x="864" y="66"/>
                  </a:lnTo>
                  <a:lnTo>
                    <a:pt x="880" y="72"/>
                  </a:lnTo>
                  <a:lnTo>
                    <a:pt x="894" y="78"/>
                  </a:lnTo>
                  <a:lnTo>
                    <a:pt x="908" y="86"/>
                  </a:lnTo>
                  <a:lnTo>
                    <a:pt x="922" y="96"/>
                  </a:lnTo>
                  <a:lnTo>
                    <a:pt x="934" y="108"/>
                  </a:lnTo>
                  <a:lnTo>
                    <a:pt x="934" y="108"/>
                  </a:lnTo>
                  <a:lnTo>
                    <a:pt x="948" y="122"/>
                  </a:lnTo>
                  <a:lnTo>
                    <a:pt x="964" y="134"/>
                  </a:lnTo>
                  <a:lnTo>
                    <a:pt x="994" y="154"/>
                  </a:lnTo>
                  <a:lnTo>
                    <a:pt x="1010" y="164"/>
                  </a:lnTo>
                  <a:lnTo>
                    <a:pt x="1022" y="176"/>
                  </a:lnTo>
                  <a:lnTo>
                    <a:pt x="1034" y="190"/>
                  </a:lnTo>
                  <a:lnTo>
                    <a:pt x="1042" y="208"/>
                  </a:lnTo>
                  <a:lnTo>
                    <a:pt x="1042" y="208"/>
                  </a:lnTo>
                  <a:lnTo>
                    <a:pt x="1046" y="220"/>
                  </a:lnTo>
                  <a:lnTo>
                    <a:pt x="1052" y="232"/>
                  </a:lnTo>
                  <a:lnTo>
                    <a:pt x="1064" y="256"/>
                  </a:lnTo>
                  <a:lnTo>
                    <a:pt x="1080" y="278"/>
                  </a:lnTo>
                  <a:lnTo>
                    <a:pt x="1098" y="298"/>
                  </a:lnTo>
                  <a:lnTo>
                    <a:pt x="1098" y="298"/>
                  </a:lnTo>
                  <a:lnTo>
                    <a:pt x="1102" y="310"/>
                  </a:lnTo>
                  <a:lnTo>
                    <a:pt x="1106" y="320"/>
                  </a:lnTo>
                  <a:lnTo>
                    <a:pt x="1108" y="344"/>
                  </a:lnTo>
                  <a:lnTo>
                    <a:pt x="1114" y="366"/>
                  </a:lnTo>
                  <a:lnTo>
                    <a:pt x="1118" y="376"/>
                  </a:lnTo>
                  <a:lnTo>
                    <a:pt x="1124" y="386"/>
                  </a:lnTo>
                  <a:lnTo>
                    <a:pt x="1124" y="386"/>
                  </a:lnTo>
                  <a:lnTo>
                    <a:pt x="1128" y="396"/>
                  </a:lnTo>
                  <a:lnTo>
                    <a:pt x="1132" y="406"/>
                  </a:lnTo>
                  <a:lnTo>
                    <a:pt x="1132" y="416"/>
                  </a:lnTo>
                  <a:lnTo>
                    <a:pt x="1132" y="426"/>
                  </a:lnTo>
                  <a:lnTo>
                    <a:pt x="1132" y="448"/>
                  </a:lnTo>
                  <a:lnTo>
                    <a:pt x="1132" y="460"/>
                  </a:lnTo>
                  <a:lnTo>
                    <a:pt x="1134" y="470"/>
                  </a:lnTo>
                  <a:lnTo>
                    <a:pt x="1134" y="470"/>
                  </a:lnTo>
                  <a:lnTo>
                    <a:pt x="1130" y="508"/>
                  </a:lnTo>
                  <a:lnTo>
                    <a:pt x="1126" y="528"/>
                  </a:lnTo>
                  <a:lnTo>
                    <a:pt x="1120" y="546"/>
                  </a:lnTo>
                  <a:lnTo>
                    <a:pt x="1120" y="546"/>
                  </a:lnTo>
                  <a:lnTo>
                    <a:pt x="1152" y="562"/>
                  </a:lnTo>
                  <a:lnTo>
                    <a:pt x="1166" y="572"/>
                  </a:lnTo>
                  <a:lnTo>
                    <a:pt x="1182" y="584"/>
                  </a:lnTo>
                  <a:lnTo>
                    <a:pt x="1196" y="596"/>
                  </a:lnTo>
                  <a:lnTo>
                    <a:pt x="1206" y="610"/>
                  </a:lnTo>
                  <a:lnTo>
                    <a:pt x="1216" y="626"/>
                  </a:lnTo>
                  <a:lnTo>
                    <a:pt x="1222" y="642"/>
                  </a:lnTo>
                  <a:lnTo>
                    <a:pt x="1222" y="642"/>
                  </a:lnTo>
                  <a:lnTo>
                    <a:pt x="1236" y="654"/>
                  </a:lnTo>
                  <a:lnTo>
                    <a:pt x="1252" y="662"/>
                  </a:lnTo>
                  <a:lnTo>
                    <a:pt x="1266" y="672"/>
                  </a:lnTo>
                  <a:lnTo>
                    <a:pt x="1280" y="686"/>
                  </a:lnTo>
                  <a:lnTo>
                    <a:pt x="1280" y="686"/>
                  </a:lnTo>
                  <a:lnTo>
                    <a:pt x="1288" y="698"/>
                  </a:lnTo>
                  <a:lnTo>
                    <a:pt x="1294" y="710"/>
                  </a:lnTo>
                  <a:lnTo>
                    <a:pt x="1296" y="724"/>
                  </a:lnTo>
                  <a:lnTo>
                    <a:pt x="1300" y="738"/>
                  </a:lnTo>
                  <a:lnTo>
                    <a:pt x="1302" y="766"/>
                  </a:lnTo>
                  <a:lnTo>
                    <a:pt x="1304" y="796"/>
                  </a:lnTo>
                  <a:lnTo>
                    <a:pt x="1304" y="796"/>
                  </a:lnTo>
                  <a:lnTo>
                    <a:pt x="1304" y="818"/>
                  </a:lnTo>
                  <a:lnTo>
                    <a:pt x="1306" y="828"/>
                  </a:lnTo>
                  <a:lnTo>
                    <a:pt x="1308" y="838"/>
                  </a:lnTo>
                  <a:lnTo>
                    <a:pt x="1308" y="838"/>
                  </a:lnTo>
                  <a:lnTo>
                    <a:pt x="1326" y="834"/>
                  </a:lnTo>
                  <a:lnTo>
                    <a:pt x="1344" y="834"/>
                  </a:lnTo>
                  <a:lnTo>
                    <a:pt x="1382" y="830"/>
                  </a:lnTo>
                  <a:lnTo>
                    <a:pt x="1382" y="830"/>
                  </a:lnTo>
                  <a:lnTo>
                    <a:pt x="1390" y="820"/>
                  </a:lnTo>
                  <a:lnTo>
                    <a:pt x="1396" y="812"/>
                  </a:lnTo>
                  <a:lnTo>
                    <a:pt x="1396" y="812"/>
                  </a:lnTo>
                  <a:lnTo>
                    <a:pt x="1382" y="806"/>
                  </a:lnTo>
                  <a:lnTo>
                    <a:pt x="1370" y="802"/>
                  </a:lnTo>
                  <a:lnTo>
                    <a:pt x="1364" y="798"/>
                  </a:lnTo>
                  <a:lnTo>
                    <a:pt x="1358" y="792"/>
                  </a:lnTo>
                  <a:lnTo>
                    <a:pt x="1354" y="786"/>
                  </a:lnTo>
                  <a:lnTo>
                    <a:pt x="1352" y="780"/>
                  </a:lnTo>
                  <a:lnTo>
                    <a:pt x="1352" y="780"/>
                  </a:lnTo>
                  <a:lnTo>
                    <a:pt x="1352" y="768"/>
                  </a:lnTo>
                  <a:lnTo>
                    <a:pt x="1354" y="758"/>
                  </a:lnTo>
                  <a:lnTo>
                    <a:pt x="1358" y="748"/>
                  </a:lnTo>
                  <a:lnTo>
                    <a:pt x="1364" y="740"/>
                  </a:lnTo>
                  <a:lnTo>
                    <a:pt x="1364" y="740"/>
                  </a:lnTo>
                  <a:lnTo>
                    <a:pt x="1368" y="736"/>
                  </a:lnTo>
                  <a:lnTo>
                    <a:pt x="1372" y="734"/>
                  </a:lnTo>
                  <a:lnTo>
                    <a:pt x="1376" y="732"/>
                  </a:lnTo>
                  <a:lnTo>
                    <a:pt x="1378" y="726"/>
                  </a:lnTo>
                  <a:lnTo>
                    <a:pt x="1378" y="726"/>
                  </a:lnTo>
                  <a:lnTo>
                    <a:pt x="1370" y="708"/>
                  </a:lnTo>
                  <a:lnTo>
                    <a:pt x="1364" y="688"/>
                  </a:lnTo>
                  <a:lnTo>
                    <a:pt x="1354" y="646"/>
                  </a:lnTo>
                  <a:lnTo>
                    <a:pt x="1354" y="646"/>
                  </a:lnTo>
                  <a:lnTo>
                    <a:pt x="1354" y="636"/>
                  </a:lnTo>
                  <a:lnTo>
                    <a:pt x="1354" y="630"/>
                  </a:lnTo>
                  <a:lnTo>
                    <a:pt x="1360" y="628"/>
                  </a:lnTo>
                  <a:lnTo>
                    <a:pt x="1360" y="628"/>
                  </a:lnTo>
                  <a:lnTo>
                    <a:pt x="1370" y="630"/>
                  </a:lnTo>
                  <a:lnTo>
                    <a:pt x="1378" y="634"/>
                  </a:lnTo>
                  <a:lnTo>
                    <a:pt x="1386" y="640"/>
                  </a:lnTo>
                  <a:lnTo>
                    <a:pt x="1392" y="648"/>
                  </a:lnTo>
                  <a:lnTo>
                    <a:pt x="1402" y="666"/>
                  </a:lnTo>
                  <a:lnTo>
                    <a:pt x="1412" y="682"/>
                  </a:lnTo>
                  <a:lnTo>
                    <a:pt x="1412" y="682"/>
                  </a:lnTo>
                  <a:lnTo>
                    <a:pt x="1422" y="662"/>
                  </a:lnTo>
                  <a:lnTo>
                    <a:pt x="1434" y="642"/>
                  </a:lnTo>
                  <a:lnTo>
                    <a:pt x="1448" y="624"/>
                  </a:lnTo>
                  <a:lnTo>
                    <a:pt x="1464" y="606"/>
                  </a:lnTo>
                  <a:lnTo>
                    <a:pt x="1464" y="606"/>
                  </a:lnTo>
                  <a:lnTo>
                    <a:pt x="1468" y="606"/>
                  </a:lnTo>
                  <a:lnTo>
                    <a:pt x="1472" y="608"/>
                  </a:lnTo>
                  <a:lnTo>
                    <a:pt x="1478" y="610"/>
                  </a:lnTo>
                  <a:lnTo>
                    <a:pt x="1478" y="610"/>
                  </a:lnTo>
                  <a:lnTo>
                    <a:pt x="1480" y="620"/>
                  </a:lnTo>
                  <a:lnTo>
                    <a:pt x="1480" y="628"/>
                  </a:lnTo>
                  <a:lnTo>
                    <a:pt x="1480" y="636"/>
                  </a:lnTo>
                  <a:lnTo>
                    <a:pt x="1478" y="644"/>
                  </a:lnTo>
                  <a:lnTo>
                    <a:pt x="1466" y="674"/>
                  </a:lnTo>
                  <a:lnTo>
                    <a:pt x="1454" y="700"/>
                  </a:lnTo>
                  <a:lnTo>
                    <a:pt x="1454" y="700"/>
                  </a:lnTo>
                  <a:lnTo>
                    <a:pt x="1464" y="706"/>
                  </a:lnTo>
                  <a:lnTo>
                    <a:pt x="1470" y="708"/>
                  </a:lnTo>
                  <a:lnTo>
                    <a:pt x="1474" y="712"/>
                  </a:lnTo>
                  <a:lnTo>
                    <a:pt x="1474" y="712"/>
                  </a:lnTo>
                  <a:lnTo>
                    <a:pt x="1478" y="716"/>
                  </a:lnTo>
                  <a:lnTo>
                    <a:pt x="1482" y="722"/>
                  </a:lnTo>
                  <a:lnTo>
                    <a:pt x="1486" y="732"/>
                  </a:lnTo>
                  <a:lnTo>
                    <a:pt x="1490" y="742"/>
                  </a:lnTo>
                  <a:lnTo>
                    <a:pt x="1492" y="748"/>
                  </a:lnTo>
                  <a:lnTo>
                    <a:pt x="1498" y="752"/>
                  </a:lnTo>
                  <a:lnTo>
                    <a:pt x="1498" y="752"/>
                  </a:lnTo>
                  <a:lnTo>
                    <a:pt x="1500" y="760"/>
                  </a:lnTo>
                  <a:lnTo>
                    <a:pt x="1500" y="766"/>
                  </a:lnTo>
                  <a:lnTo>
                    <a:pt x="1498" y="774"/>
                  </a:lnTo>
                  <a:lnTo>
                    <a:pt x="1496" y="780"/>
                  </a:lnTo>
                  <a:lnTo>
                    <a:pt x="1496" y="780"/>
                  </a:lnTo>
                  <a:lnTo>
                    <a:pt x="1486" y="790"/>
                  </a:lnTo>
                  <a:lnTo>
                    <a:pt x="1476" y="800"/>
                  </a:lnTo>
                  <a:lnTo>
                    <a:pt x="1468" y="810"/>
                  </a:lnTo>
                  <a:lnTo>
                    <a:pt x="1462" y="814"/>
                  </a:lnTo>
                  <a:lnTo>
                    <a:pt x="1456" y="818"/>
                  </a:lnTo>
                  <a:lnTo>
                    <a:pt x="1456" y="818"/>
                  </a:lnTo>
                  <a:lnTo>
                    <a:pt x="1452" y="836"/>
                  </a:lnTo>
                  <a:lnTo>
                    <a:pt x="1448" y="854"/>
                  </a:lnTo>
                  <a:lnTo>
                    <a:pt x="1442" y="864"/>
                  </a:lnTo>
                  <a:lnTo>
                    <a:pt x="1438" y="870"/>
                  </a:lnTo>
                  <a:lnTo>
                    <a:pt x="1430" y="876"/>
                  </a:lnTo>
                  <a:lnTo>
                    <a:pt x="1420" y="880"/>
                  </a:lnTo>
                  <a:lnTo>
                    <a:pt x="1420" y="880"/>
                  </a:lnTo>
                  <a:lnTo>
                    <a:pt x="1392" y="886"/>
                  </a:lnTo>
                  <a:lnTo>
                    <a:pt x="1362" y="890"/>
                  </a:lnTo>
                  <a:lnTo>
                    <a:pt x="1332" y="894"/>
                  </a:lnTo>
                  <a:lnTo>
                    <a:pt x="1302" y="900"/>
                  </a:lnTo>
                  <a:lnTo>
                    <a:pt x="1302" y="900"/>
                  </a:lnTo>
                  <a:lnTo>
                    <a:pt x="1302" y="916"/>
                  </a:lnTo>
                  <a:lnTo>
                    <a:pt x="1298" y="932"/>
                  </a:lnTo>
                  <a:lnTo>
                    <a:pt x="1288" y="966"/>
                  </a:lnTo>
                  <a:lnTo>
                    <a:pt x="1288" y="966"/>
                  </a:lnTo>
                  <a:lnTo>
                    <a:pt x="1278" y="988"/>
                  </a:lnTo>
                  <a:lnTo>
                    <a:pt x="1268" y="1012"/>
                  </a:lnTo>
                  <a:lnTo>
                    <a:pt x="1254" y="1032"/>
                  </a:lnTo>
                  <a:lnTo>
                    <a:pt x="1246" y="1042"/>
                  </a:lnTo>
                  <a:lnTo>
                    <a:pt x="1238" y="1052"/>
                  </a:lnTo>
                  <a:lnTo>
                    <a:pt x="1238" y="1052"/>
                  </a:lnTo>
                  <a:lnTo>
                    <a:pt x="1244" y="1056"/>
                  </a:lnTo>
                  <a:lnTo>
                    <a:pt x="1252" y="1060"/>
                  </a:lnTo>
                  <a:lnTo>
                    <a:pt x="1256" y="1066"/>
                  </a:lnTo>
                  <a:lnTo>
                    <a:pt x="1260" y="1074"/>
                  </a:lnTo>
                  <a:lnTo>
                    <a:pt x="1260" y="1074"/>
                  </a:lnTo>
                  <a:lnTo>
                    <a:pt x="1260" y="1086"/>
                  </a:lnTo>
                  <a:lnTo>
                    <a:pt x="1260" y="1092"/>
                  </a:lnTo>
                  <a:lnTo>
                    <a:pt x="1256" y="1096"/>
                  </a:lnTo>
                  <a:lnTo>
                    <a:pt x="1256" y="1096"/>
                  </a:lnTo>
                  <a:lnTo>
                    <a:pt x="1248" y="1104"/>
                  </a:lnTo>
                  <a:lnTo>
                    <a:pt x="1238" y="1110"/>
                  </a:lnTo>
                  <a:lnTo>
                    <a:pt x="1226" y="1112"/>
                  </a:lnTo>
                  <a:lnTo>
                    <a:pt x="1216" y="1114"/>
                  </a:lnTo>
                  <a:lnTo>
                    <a:pt x="1192" y="1116"/>
                  </a:lnTo>
                  <a:lnTo>
                    <a:pt x="1168" y="1116"/>
                  </a:lnTo>
                  <a:lnTo>
                    <a:pt x="1168" y="1116"/>
                  </a:lnTo>
                  <a:lnTo>
                    <a:pt x="1128" y="1120"/>
                  </a:lnTo>
                  <a:lnTo>
                    <a:pt x="1090" y="1124"/>
                  </a:lnTo>
                  <a:lnTo>
                    <a:pt x="1050" y="1128"/>
                  </a:lnTo>
                  <a:lnTo>
                    <a:pt x="1030" y="1128"/>
                  </a:lnTo>
                  <a:lnTo>
                    <a:pt x="1010" y="1126"/>
                  </a:lnTo>
                  <a:lnTo>
                    <a:pt x="1010" y="1126"/>
                  </a:lnTo>
                  <a:lnTo>
                    <a:pt x="1006" y="1126"/>
                  </a:lnTo>
                  <a:lnTo>
                    <a:pt x="1000" y="1124"/>
                  </a:lnTo>
                  <a:lnTo>
                    <a:pt x="992" y="1118"/>
                  </a:lnTo>
                  <a:lnTo>
                    <a:pt x="992" y="1118"/>
                  </a:lnTo>
                  <a:lnTo>
                    <a:pt x="970" y="1118"/>
                  </a:lnTo>
                  <a:lnTo>
                    <a:pt x="948" y="1120"/>
                  </a:lnTo>
                  <a:lnTo>
                    <a:pt x="926" y="1120"/>
                  </a:lnTo>
                  <a:lnTo>
                    <a:pt x="916" y="1118"/>
                  </a:lnTo>
                  <a:lnTo>
                    <a:pt x="906" y="1114"/>
                  </a:lnTo>
                  <a:lnTo>
                    <a:pt x="906" y="1114"/>
                  </a:lnTo>
                  <a:lnTo>
                    <a:pt x="902" y="1110"/>
                  </a:lnTo>
                  <a:lnTo>
                    <a:pt x="900" y="1104"/>
                  </a:lnTo>
                  <a:lnTo>
                    <a:pt x="902" y="1104"/>
                  </a:lnTo>
                  <a:lnTo>
                    <a:pt x="902" y="1104"/>
                  </a:lnTo>
                  <a:lnTo>
                    <a:pt x="886" y="1102"/>
                  </a:lnTo>
                  <a:lnTo>
                    <a:pt x="872" y="1098"/>
                  </a:lnTo>
                  <a:lnTo>
                    <a:pt x="858" y="1092"/>
                  </a:lnTo>
                  <a:lnTo>
                    <a:pt x="846" y="1084"/>
                  </a:lnTo>
                  <a:lnTo>
                    <a:pt x="834" y="1076"/>
                  </a:lnTo>
                  <a:lnTo>
                    <a:pt x="822" y="1066"/>
                  </a:lnTo>
                  <a:lnTo>
                    <a:pt x="812" y="1054"/>
                  </a:lnTo>
                  <a:lnTo>
                    <a:pt x="804" y="1040"/>
                  </a:lnTo>
                  <a:lnTo>
                    <a:pt x="804" y="1040"/>
                  </a:lnTo>
                  <a:lnTo>
                    <a:pt x="800" y="1058"/>
                  </a:lnTo>
                  <a:lnTo>
                    <a:pt x="792" y="1074"/>
                  </a:lnTo>
                  <a:lnTo>
                    <a:pt x="784" y="1090"/>
                  </a:lnTo>
                  <a:lnTo>
                    <a:pt x="776" y="1104"/>
                  </a:lnTo>
                  <a:lnTo>
                    <a:pt x="764" y="1120"/>
                  </a:lnTo>
                  <a:lnTo>
                    <a:pt x="752" y="1134"/>
                  </a:lnTo>
                  <a:lnTo>
                    <a:pt x="740" y="1146"/>
                  </a:lnTo>
                  <a:lnTo>
                    <a:pt x="726" y="1158"/>
                  </a:lnTo>
                  <a:lnTo>
                    <a:pt x="726" y="1158"/>
                  </a:lnTo>
                  <a:lnTo>
                    <a:pt x="738" y="1162"/>
                  </a:lnTo>
                  <a:lnTo>
                    <a:pt x="744" y="1166"/>
                  </a:lnTo>
                  <a:lnTo>
                    <a:pt x="748" y="1172"/>
                  </a:lnTo>
                  <a:lnTo>
                    <a:pt x="748" y="1172"/>
                  </a:lnTo>
                  <a:lnTo>
                    <a:pt x="748" y="1180"/>
                  </a:lnTo>
                  <a:lnTo>
                    <a:pt x="744" y="1186"/>
                  </a:lnTo>
                  <a:lnTo>
                    <a:pt x="740" y="1192"/>
                  </a:lnTo>
                  <a:lnTo>
                    <a:pt x="734" y="1196"/>
                  </a:lnTo>
                  <a:lnTo>
                    <a:pt x="720" y="1202"/>
                  </a:lnTo>
                  <a:lnTo>
                    <a:pt x="706" y="1208"/>
                  </a:lnTo>
                  <a:lnTo>
                    <a:pt x="706" y="1208"/>
                  </a:lnTo>
                  <a:lnTo>
                    <a:pt x="684" y="1216"/>
                  </a:lnTo>
                  <a:lnTo>
                    <a:pt x="674" y="1220"/>
                  </a:lnTo>
                  <a:lnTo>
                    <a:pt x="662" y="1222"/>
                  </a:lnTo>
                  <a:lnTo>
                    <a:pt x="662" y="1222"/>
                  </a:lnTo>
                  <a:lnTo>
                    <a:pt x="634" y="1228"/>
                  </a:lnTo>
                  <a:lnTo>
                    <a:pt x="604" y="1234"/>
                  </a:lnTo>
                  <a:lnTo>
                    <a:pt x="574" y="1238"/>
                  </a:lnTo>
                  <a:lnTo>
                    <a:pt x="544" y="1240"/>
                  </a:lnTo>
                  <a:lnTo>
                    <a:pt x="512" y="1242"/>
                  </a:lnTo>
                  <a:lnTo>
                    <a:pt x="482" y="1240"/>
                  </a:lnTo>
                  <a:lnTo>
                    <a:pt x="452" y="1238"/>
                  </a:lnTo>
                  <a:lnTo>
                    <a:pt x="422" y="1234"/>
                  </a:lnTo>
                  <a:lnTo>
                    <a:pt x="422" y="1234"/>
                  </a:lnTo>
                  <a:lnTo>
                    <a:pt x="388" y="1228"/>
                  </a:lnTo>
                  <a:lnTo>
                    <a:pt x="354" y="1220"/>
                  </a:lnTo>
                  <a:lnTo>
                    <a:pt x="320" y="1206"/>
                  </a:lnTo>
                  <a:lnTo>
                    <a:pt x="288" y="1188"/>
                  </a:lnTo>
                  <a:lnTo>
                    <a:pt x="274" y="1178"/>
                  </a:lnTo>
                  <a:lnTo>
                    <a:pt x="260" y="1166"/>
                  </a:lnTo>
                  <a:lnTo>
                    <a:pt x="248" y="1154"/>
                  </a:lnTo>
                  <a:lnTo>
                    <a:pt x="234" y="1142"/>
                  </a:lnTo>
                  <a:lnTo>
                    <a:pt x="224" y="1128"/>
                  </a:lnTo>
                  <a:lnTo>
                    <a:pt x="214" y="1112"/>
                  </a:lnTo>
                  <a:lnTo>
                    <a:pt x="204" y="1098"/>
                  </a:lnTo>
                  <a:lnTo>
                    <a:pt x="196" y="1080"/>
                  </a:lnTo>
                  <a:lnTo>
                    <a:pt x="196" y="1080"/>
                  </a:lnTo>
                  <a:lnTo>
                    <a:pt x="192" y="1064"/>
                  </a:lnTo>
                  <a:lnTo>
                    <a:pt x="190" y="1048"/>
                  </a:lnTo>
                  <a:lnTo>
                    <a:pt x="186" y="1012"/>
                  </a:lnTo>
                  <a:lnTo>
                    <a:pt x="188" y="976"/>
                  </a:lnTo>
                  <a:lnTo>
                    <a:pt x="192" y="942"/>
                  </a:lnTo>
                  <a:lnTo>
                    <a:pt x="192" y="942"/>
                  </a:lnTo>
                  <a:lnTo>
                    <a:pt x="202" y="916"/>
                  </a:lnTo>
                  <a:lnTo>
                    <a:pt x="214" y="888"/>
                  </a:lnTo>
                  <a:lnTo>
                    <a:pt x="230" y="864"/>
                  </a:lnTo>
                  <a:lnTo>
                    <a:pt x="240" y="852"/>
                  </a:lnTo>
                  <a:lnTo>
                    <a:pt x="250" y="842"/>
                  </a:lnTo>
                  <a:lnTo>
                    <a:pt x="250" y="842"/>
                  </a:lnTo>
                  <a:lnTo>
                    <a:pt x="240" y="834"/>
                  </a:lnTo>
                  <a:lnTo>
                    <a:pt x="232" y="826"/>
                  </a:lnTo>
                  <a:lnTo>
                    <a:pt x="226" y="818"/>
                  </a:lnTo>
                  <a:lnTo>
                    <a:pt x="220" y="808"/>
                  </a:lnTo>
                  <a:lnTo>
                    <a:pt x="216" y="798"/>
                  </a:lnTo>
                  <a:lnTo>
                    <a:pt x="214" y="786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14" y="760"/>
                  </a:lnTo>
                  <a:lnTo>
                    <a:pt x="216" y="760"/>
                  </a:lnTo>
                  <a:lnTo>
                    <a:pt x="220" y="760"/>
                  </a:lnTo>
                  <a:lnTo>
                    <a:pt x="220" y="760"/>
                  </a:lnTo>
                  <a:lnTo>
                    <a:pt x="236" y="776"/>
                  </a:lnTo>
                  <a:lnTo>
                    <a:pt x="244" y="784"/>
                  </a:lnTo>
                  <a:lnTo>
                    <a:pt x="254" y="790"/>
                  </a:lnTo>
                  <a:lnTo>
                    <a:pt x="254" y="790"/>
                  </a:lnTo>
                  <a:lnTo>
                    <a:pt x="260" y="794"/>
                  </a:lnTo>
                  <a:lnTo>
                    <a:pt x="268" y="796"/>
                  </a:lnTo>
                  <a:lnTo>
                    <a:pt x="286" y="800"/>
                  </a:lnTo>
                  <a:lnTo>
                    <a:pt x="302" y="800"/>
                  </a:lnTo>
                  <a:lnTo>
                    <a:pt x="318" y="794"/>
                  </a:lnTo>
                  <a:lnTo>
                    <a:pt x="318" y="794"/>
                  </a:lnTo>
                  <a:lnTo>
                    <a:pt x="310" y="786"/>
                  </a:lnTo>
                  <a:lnTo>
                    <a:pt x="304" y="774"/>
                  </a:lnTo>
                  <a:lnTo>
                    <a:pt x="298" y="764"/>
                  </a:lnTo>
                  <a:lnTo>
                    <a:pt x="296" y="752"/>
                  </a:lnTo>
                  <a:lnTo>
                    <a:pt x="296" y="752"/>
                  </a:lnTo>
                  <a:lnTo>
                    <a:pt x="280" y="746"/>
                  </a:lnTo>
                  <a:lnTo>
                    <a:pt x="266" y="738"/>
                  </a:lnTo>
                  <a:lnTo>
                    <a:pt x="252" y="730"/>
                  </a:lnTo>
                  <a:lnTo>
                    <a:pt x="238" y="718"/>
                  </a:lnTo>
                  <a:lnTo>
                    <a:pt x="228" y="708"/>
                  </a:lnTo>
                  <a:lnTo>
                    <a:pt x="216" y="696"/>
                  </a:lnTo>
                  <a:lnTo>
                    <a:pt x="198" y="668"/>
                  </a:lnTo>
                  <a:lnTo>
                    <a:pt x="184" y="640"/>
                  </a:lnTo>
                  <a:lnTo>
                    <a:pt x="170" y="608"/>
                  </a:lnTo>
                  <a:lnTo>
                    <a:pt x="160" y="578"/>
                  </a:lnTo>
                  <a:lnTo>
                    <a:pt x="152" y="548"/>
                  </a:lnTo>
                  <a:lnTo>
                    <a:pt x="152" y="548"/>
                  </a:lnTo>
                  <a:lnTo>
                    <a:pt x="126" y="548"/>
                  </a:lnTo>
                  <a:lnTo>
                    <a:pt x="112" y="546"/>
                  </a:lnTo>
                  <a:lnTo>
                    <a:pt x="100" y="544"/>
                  </a:lnTo>
                  <a:lnTo>
                    <a:pt x="88" y="540"/>
                  </a:lnTo>
                  <a:lnTo>
                    <a:pt x="76" y="534"/>
                  </a:lnTo>
                  <a:lnTo>
                    <a:pt x="68" y="526"/>
                  </a:lnTo>
                  <a:lnTo>
                    <a:pt x="60" y="514"/>
                  </a:lnTo>
                  <a:lnTo>
                    <a:pt x="60" y="514"/>
                  </a:lnTo>
                  <a:lnTo>
                    <a:pt x="54" y="502"/>
                  </a:lnTo>
                  <a:lnTo>
                    <a:pt x="48" y="488"/>
                  </a:lnTo>
                  <a:lnTo>
                    <a:pt x="42" y="458"/>
                  </a:lnTo>
                  <a:lnTo>
                    <a:pt x="42" y="458"/>
                  </a:lnTo>
                  <a:lnTo>
                    <a:pt x="36" y="458"/>
                  </a:lnTo>
                  <a:lnTo>
                    <a:pt x="30" y="454"/>
                  </a:lnTo>
                  <a:lnTo>
                    <a:pt x="20" y="446"/>
                  </a:lnTo>
                  <a:lnTo>
                    <a:pt x="12" y="436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06"/>
                  </a:lnTo>
                  <a:lnTo>
                    <a:pt x="0" y="398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4" y="382"/>
                  </a:lnTo>
                  <a:lnTo>
                    <a:pt x="8" y="376"/>
                  </a:lnTo>
                  <a:lnTo>
                    <a:pt x="18" y="368"/>
                  </a:lnTo>
                  <a:lnTo>
                    <a:pt x="30" y="362"/>
                  </a:lnTo>
                  <a:lnTo>
                    <a:pt x="34" y="358"/>
                  </a:lnTo>
                  <a:lnTo>
                    <a:pt x="38" y="354"/>
                  </a:lnTo>
                  <a:lnTo>
                    <a:pt x="38" y="354"/>
                  </a:lnTo>
                  <a:lnTo>
                    <a:pt x="48" y="348"/>
                  </a:lnTo>
                  <a:lnTo>
                    <a:pt x="56" y="344"/>
                  </a:lnTo>
                  <a:lnTo>
                    <a:pt x="66" y="342"/>
                  </a:lnTo>
                  <a:lnTo>
                    <a:pt x="76" y="344"/>
                  </a:lnTo>
                  <a:lnTo>
                    <a:pt x="76" y="344"/>
                  </a:lnTo>
                  <a:lnTo>
                    <a:pt x="88" y="352"/>
                  </a:lnTo>
                  <a:lnTo>
                    <a:pt x="94" y="356"/>
                  </a:lnTo>
                  <a:lnTo>
                    <a:pt x="98" y="362"/>
                  </a:lnTo>
                  <a:lnTo>
                    <a:pt x="98" y="362"/>
                  </a:lnTo>
                  <a:lnTo>
                    <a:pt x="100" y="366"/>
                  </a:lnTo>
                  <a:lnTo>
                    <a:pt x="100" y="372"/>
                  </a:lnTo>
                  <a:lnTo>
                    <a:pt x="100" y="382"/>
                  </a:lnTo>
                  <a:lnTo>
                    <a:pt x="102" y="386"/>
                  </a:lnTo>
                  <a:lnTo>
                    <a:pt x="102" y="390"/>
                  </a:lnTo>
                  <a:lnTo>
                    <a:pt x="106" y="394"/>
                  </a:lnTo>
                  <a:lnTo>
                    <a:pt x="112" y="396"/>
                  </a:lnTo>
                  <a:lnTo>
                    <a:pt x="112" y="396"/>
                  </a:lnTo>
                  <a:lnTo>
                    <a:pt x="114" y="400"/>
                  </a:lnTo>
                  <a:lnTo>
                    <a:pt x="116" y="406"/>
                  </a:lnTo>
                  <a:lnTo>
                    <a:pt x="114" y="416"/>
                  </a:lnTo>
                  <a:lnTo>
                    <a:pt x="114" y="416"/>
                  </a:lnTo>
                  <a:lnTo>
                    <a:pt x="110" y="424"/>
                  </a:lnTo>
                  <a:lnTo>
                    <a:pt x="104" y="432"/>
                  </a:lnTo>
                  <a:lnTo>
                    <a:pt x="90" y="446"/>
                  </a:lnTo>
                  <a:lnTo>
                    <a:pt x="90" y="446"/>
                  </a:lnTo>
                  <a:lnTo>
                    <a:pt x="98" y="468"/>
                  </a:lnTo>
                  <a:lnTo>
                    <a:pt x="104" y="480"/>
                  </a:lnTo>
                  <a:lnTo>
                    <a:pt x="110" y="490"/>
                  </a:lnTo>
                  <a:lnTo>
                    <a:pt x="110" y="490"/>
                  </a:lnTo>
                  <a:lnTo>
                    <a:pt x="126" y="494"/>
                  </a:lnTo>
                  <a:lnTo>
                    <a:pt x="142" y="498"/>
                  </a:lnTo>
                  <a:lnTo>
                    <a:pt x="142" y="498"/>
                  </a:lnTo>
                  <a:lnTo>
                    <a:pt x="142" y="464"/>
                  </a:lnTo>
                  <a:lnTo>
                    <a:pt x="142" y="432"/>
                  </a:lnTo>
                  <a:lnTo>
                    <a:pt x="146" y="400"/>
                  </a:lnTo>
                  <a:lnTo>
                    <a:pt x="154" y="370"/>
                  </a:lnTo>
                  <a:lnTo>
                    <a:pt x="162" y="340"/>
                  </a:lnTo>
                  <a:lnTo>
                    <a:pt x="170" y="310"/>
                  </a:lnTo>
                  <a:lnTo>
                    <a:pt x="192" y="252"/>
                  </a:lnTo>
                  <a:lnTo>
                    <a:pt x="192" y="252"/>
                  </a:lnTo>
                  <a:lnTo>
                    <a:pt x="202" y="234"/>
                  </a:lnTo>
                  <a:lnTo>
                    <a:pt x="206" y="224"/>
                  </a:lnTo>
                  <a:lnTo>
                    <a:pt x="214" y="216"/>
                  </a:lnTo>
                  <a:lnTo>
                    <a:pt x="214" y="216"/>
                  </a:lnTo>
                  <a:lnTo>
                    <a:pt x="216" y="206"/>
                  </a:lnTo>
                  <a:lnTo>
                    <a:pt x="220" y="196"/>
                  </a:lnTo>
                  <a:lnTo>
                    <a:pt x="234" y="17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88" y="124"/>
                  </a:lnTo>
                  <a:lnTo>
                    <a:pt x="312" y="106"/>
                  </a:lnTo>
                  <a:lnTo>
                    <a:pt x="338" y="94"/>
                  </a:lnTo>
                  <a:lnTo>
                    <a:pt x="366" y="82"/>
                  </a:lnTo>
                  <a:lnTo>
                    <a:pt x="366" y="82"/>
                  </a:lnTo>
                  <a:lnTo>
                    <a:pt x="418" y="70"/>
                  </a:lnTo>
                  <a:lnTo>
                    <a:pt x="442" y="64"/>
                  </a:lnTo>
                  <a:lnTo>
                    <a:pt x="466" y="56"/>
                  </a:lnTo>
                  <a:lnTo>
                    <a:pt x="490" y="46"/>
                  </a:lnTo>
                  <a:lnTo>
                    <a:pt x="514" y="36"/>
                  </a:lnTo>
                  <a:lnTo>
                    <a:pt x="536" y="22"/>
                  </a:lnTo>
                  <a:lnTo>
                    <a:pt x="558" y="8"/>
                  </a:lnTo>
                  <a:lnTo>
                    <a:pt x="558" y="8"/>
                  </a:lnTo>
                  <a:lnTo>
                    <a:pt x="566" y="4"/>
                  </a:lnTo>
                  <a:lnTo>
                    <a:pt x="576" y="2"/>
                  </a:lnTo>
                  <a:lnTo>
                    <a:pt x="586" y="0"/>
                  </a:lnTo>
                  <a:lnTo>
                    <a:pt x="594" y="2"/>
                  </a:lnTo>
                  <a:lnTo>
                    <a:pt x="604" y="4"/>
                  </a:lnTo>
                  <a:lnTo>
                    <a:pt x="612" y="8"/>
                  </a:lnTo>
                  <a:lnTo>
                    <a:pt x="620" y="14"/>
                  </a:lnTo>
                  <a:lnTo>
                    <a:pt x="626" y="22"/>
                  </a:lnTo>
                  <a:lnTo>
                    <a:pt x="62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9"/>
            <p:cNvSpPr/>
            <p:nvPr/>
          </p:nvSpPr>
          <p:spPr>
            <a:xfrm>
              <a:off x="12444480" y="7862760"/>
              <a:ext cx="1400040" cy="977760"/>
            </a:xfrm>
            <a:custGeom>
              <a:avLst/>
              <a:gdLst>
                <a:gd name="textAreaLeft" fmla="*/ 0 w 1400040"/>
                <a:gd name="textAreaRight" fmla="*/ 1400400 w 140004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882" h="616">
                  <a:moveTo>
                    <a:pt x="502" y="54"/>
                  </a:moveTo>
                  <a:lnTo>
                    <a:pt x="502" y="54"/>
                  </a:lnTo>
                  <a:lnTo>
                    <a:pt x="520" y="52"/>
                  </a:lnTo>
                  <a:lnTo>
                    <a:pt x="540" y="52"/>
                  </a:lnTo>
                  <a:lnTo>
                    <a:pt x="560" y="56"/>
                  </a:lnTo>
                  <a:lnTo>
                    <a:pt x="580" y="60"/>
                  </a:lnTo>
                  <a:lnTo>
                    <a:pt x="580" y="60"/>
                  </a:lnTo>
                  <a:lnTo>
                    <a:pt x="586" y="68"/>
                  </a:lnTo>
                  <a:lnTo>
                    <a:pt x="590" y="76"/>
                  </a:lnTo>
                  <a:lnTo>
                    <a:pt x="596" y="82"/>
                  </a:lnTo>
                  <a:lnTo>
                    <a:pt x="604" y="88"/>
                  </a:lnTo>
                  <a:lnTo>
                    <a:pt x="604" y="88"/>
                  </a:lnTo>
                  <a:lnTo>
                    <a:pt x="614" y="90"/>
                  </a:lnTo>
                  <a:lnTo>
                    <a:pt x="624" y="90"/>
                  </a:lnTo>
                  <a:lnTo>
                    <a:pt x="632" y="94"/>
                  </a:lnTo>
                  <a:lnTo>
                    <a:pt x="636" y="98"/>
                  </a:lnTo>
                  <a:lnTo>
                    <a:pt x="640" y="104"/>
                  </a:lnTo>
                  <a:lnTo>
                    <a:pt x="640" y="104"/>
                  </a:lnTo>
                  <a:lnTo>
                    <a:pt x="650" y="124"/>
                  </a:lnTo>
                  <a:lnTo>
                    <a:pt x="656" y="132"/>
                  </a:lnTo>
                  <a:lnTo>
                    <a:pt x="660" y="136"/>
                  </a:lnTo>
                  <a:lnTo>
                    <a:pt x="666" y="138"/>
                  </a:lnTo>
                  <a:lnTo>
                    <a:pt x="666" y="138"/>
                  </a:lnTo>
                  <a:lnTo>
                    <a:pt x="682" y="140"/>
                  </a:lnTo>
                  <a:lnTo>
                    <a:pt x="690" y="142"/>
                  </a:lnTo>
                  <a:lnTo>
                    <a:pt x="698" y="146"/>
                  </a:lnTo>
                  <a:lnTo>
                    <a:pt x="704" y="150"/>
                  </a:lnTo>
                  <a:lnTo>
                    <a:pt x="710" y="156"/>
                  </a:lnTo>
                  <a:lnTo>
                    <a:pt x="716" y="162"/>
                  </a:lnTo>
                  <a:lnTo>
                    <a:pt x="720" y="170"/>
                  </a:lnTo>
                  <a:lnTo>
                    <a:pt x="720" y="170"/>
                  </a:lnTo>
                  <a:lnTo>
                    <a:pt x="724" y="172"/>
                  </a:lnTo>
                  <a:lnTo>
                    <a:pt x="728" y="172"/>
                  </a:lnTo>
                  <a:lnTo>
                    <a:pt x="738" y="170"/>
                  </a:lnTo>
                  <a:lnTo>
                    <a:pt x="746" y="168"/>
                  </a:lnTo>
                  <a:lnTo>
                    <a:pt x="752" y="168"/>
                  </a:lnTo>
                  <a:lnTo>
                    <a:pt x="756" y="170"/>
                  </a:lnTo>
                  <a:lnTo>
                    <a:pt x="756" y="170"/>
                  </a:lnTo>
                  <a:lnTo>
                    <a:pt x="764" y="174"/>
                  </a:lnTo>
                  <a:lnTo>
                    <a:pt x="770" y="178"/>
                  </a:lnTo>
                  <a:lnTo>
                    <a:pt x="776" y="184"/>
                  </a:lnTo>
                  <a:lnTo>
                    <a:pt x="780" y="190"/>
                  </a:lnTo>
                  <a:lnTo>
                    <a:pt x="786" y="202"/>
                  </a:lnTo>
                  <a:lnTo>
                    <a:pt x="788" y="218"/>
                  </a:lnTo>
                  <a:lnTo>
                    <a:pt x="792" y="248"/>
                  </a:lnTo>
                  <a:lnTo>
                    <a:pt x="794" y="264"/>
                  </a:lnTo>
                  <a:lnTo>
                    <a:pt x="800" y="276"/>
                  </a:lnTo>
                  <a:lnTo>
                    <a:pt x="800" y="276"/>
                  </a:lnTo>
                  <a:lnTo>
                    <a:pt x="802" y="284"/>
                  </a:lnTo>
                  <a:lnTo>
                    <a:pt x="806" y="292"/>
                  </a:lnTo>
                  <a:lnTo>
                    <a:pt x="816" y="304"/>
                  </a:lnTo>
                  <a:lnTo>
                    <a:pt x="826" y="318"/>
                  </a:lnTo>
                  <a:lnTo>
                    <a:pt x="830" y="324"/>
                  </a:lnTo>
                  <a:lnTo>
                    <a:pt x="832" y="332"/>
                  </a:lnTo>
                  <a:lnTo>
                    <a:pt x="832" y="332"/>
                  </a:lnTo>
                  <a:lnTo>
                    <a:pt x="830" y="340"/>
                  </a:lnTo>
                  <a:lnTo>
                    <a:pt x="830" y="346"/>
                  </a:lnTo>
                  <a:lnTo>
                    <a:pt x="832" y="362"/>
                  </a:lnTo>
                  <a:lnTo>
                    <a:pt x="836" y="374"/>
                  </a:lnTo>
                  <a:lnTo>
                    <a:pt x="844" y="386"/>
                  </a:lnTo>
                  <a:lnTo>
                    <a:pt x="844" y="386"/>
                  </a:lnTo>
                  <a:lnTo>
                    <a:pt x="842" y="400"/>
                  </a:lnTo>
                  <a:lnTo>
                    <a:pt x="842" y="406"/>
                  </a:lnTo>
                  <a:lnTo>
                    <a:pt x="844" y="414"/>
                  </a:lnTo>
                  <a:lnTo>
                    <a:pt x="844" y="414"/>
                  </a:lnTo>
                  <a:lnTo>
                    <a:pt x="852" y="418"/>
                  </a:lnTo>
                  <a:lnTo>
                    <a:pt x="858" y="424"/>
                  </a:lnTo>
                  <a:lnTo>
                    <a:pt x="866" y="436"/>
                  </a:lnTo>
                  <a:lnTo>
                    <a:pt x="880" y="464"/>
                  </a:lnTo>
                  <a:lnTo>
                    <a:pt x="880" y="464"/>
                  </a:lnTo>
                  <a:lnTo>
                    <a:pt x="882" y="470"/>
                  </a:lnTo>
                  <a:lnTo>
                    <a:pt x="882" y="474"/>
                  </a:lnTo>
                  <a:lnTo>
                    <a:pt x="880" y="484"/>
                  </a:lnTo>
                  <a:lnTo>
                    <a:pt x="878" y="496"/>
                  </a:lnTo>
                  <a:lnTo>
                    <a:pt x="878" y="500"/>
                  </a:lnTo>
                  <a:lnTo>
                    <a:pt x="882" y="504"/>
                  </a:lnTo>
                  <a:lnTo>
                    <a:pt x="882" y="504"/>
                  </a:lnTo>
                  <a:lnTo>
                    <a:pt x="878" y="516"/>
                  </a:lnTo>
                  <a:lnTo>
                    <a:pt x="874" y="526"/>
                  </a:lnTo>
                  <a:lnTo>
                    <a:pt x="830" y="536"/>
                  </a:lnTo>
                  <a:lnTo>
                    <a:pt x="830" y="536"/>
                  </a:lnTo>
                  <a:lnTo>
                    <a:pt x="834" y="530"/>
                  </a:lnTo>
                  <a:lnTo>
                    <a:pt x="838" y="524"/>
                  </a:lnTo>
                  <a:lnTo>
                    <a:pt x="840" y="508"/>
                  </a:lnTo>
                  <a:lnTo>
                    <a:pt x="842" y="492"/>
                  </a:lnTo>
                  <a:lnTo>
                    <a:pt x="844" y="476"/>
                  </a:lnTo>
                  <a:lnTo>
                    <a:pt x="844" y="476"/>
                  </a:lnTo>
                  <a:lnTo>
                    <a:pt x="842" y="474"/>
                  </a:lnTo>
                  <a:lnTo>
                    <a:pt x="842" y="470"/>
                  </a:lnTo>
                  <a:lnTo>
                    <a:pt x="842" y="470"/>
                  </a:lnTo>
                  <a:lnTo>
                    <a:pt x="840" y="470"/>
                  </a:lnTo>
                  <a:lnTo>
                    <a:pt x="838" y="470"/>
                  </a:lnTo>
                  <a:lnTo>
                    <a:pt x="836" y="476"/>
                  </a:lnTo>
                  <a:lnTo>
                    <a:pt x="836" y="476"/>
                  </a:lnTo>
                  <a:lnTo>
                    <a:pt x="834" y="494"/>
                  </a:lnTo>
                  <a:lnTo>
                    <a:pt x="832" y="512"/>
                  </a:lnTo>
                  <a:lnTo>
                    <a:pt x="828" y="528"/>
                  </a:lnTo>
                  <a:lnTo>
                    <a:pt x="822" y="534"/>
                  </a:lnTo>
                  <a:lnTo>
                    <a:pt x="816" y="542"/>
                  </a:lnTo>
                  <a:lnTo>
                    <a:pt x="816" y="542"/>
                  </a:lnTo>
                  <a:lnTo>
                    <a:pt x="798" y="548"/>
                  </a:lnTo>
                  <a:lnTo>
                    <a:pt x="780" y="556"/>
                  </a:lnTo>
                  <a:lnTo>
                    <a:pt x="780" y="556"/>
                  </a:lnTo>
                  <a:lnTo>
                    <a:pt x="778" y="518"/>
                  </a:lnTo>
                  <a:lnTo>
                    <a:pt x="774" y="482"/>
                  </a:lnTo>
                  <a:lnTo>
                    <a:pt x="774" y="482"/>
                  </a:lnTo>
                  <a:lnTo>
                    <a:pt x="782" y="468"/>
                  </a:lnTo>
                  <a:lnTo>
                    <a:pt x="792" y="458"/>
                  </a:lnTo>
                  <a:lnTo>
                    <a:pt x="802" y="446"/>
                  </a:lnTo>
                  <a:lnTo>
                    <a:pt x="812" y="434"/>
                  </a:lnTo>
                  <a:lnTo>
                    <a:pt x="812" y="434"/>
                  </a:lnTo>
                  <a:lnTo>
                    <a:pt x="818" y="420"/>
                  </a:lnTo>
                  <a:lnTo>
                    <a:pt x="818" y="412"/>
                  </a:lnTo>
                  <a:lnTo>
                    <a:pt x="816" y="406"/>
                  </a:lnTo>
                  <a:lnTo>
                    <a:pt x="816" y="406"/>
                  </a:lnTo>
                  <a:lnTo>
                    <a:pt x="814" y="408"/>
                  </a:lnTo>
                  <a:lnTo>
                    <a:pt x="814" y="412"/>
                  </a:lnTo>
                  <a:lnTo>
                    <a:pt x="814" y="414"/>
                  </a:lnTo>
                  <a:lnTo>
                    <a:pt x="814" y="418"/>
                  </a:lnTo>
                  <a:lnTo>
                    <a:pt x="814" y="418"/>
                  </a:lnTo>
                  <a:lnTo>
                    <a:pt x="806" y="432"/>
                  </a:lnTo>
                  <a:lnTo>
                    <a:pt x="796" y="446"/>
                  </a:lnTo>
                  <a:lnTo>
                    <a:pt x="772" y="470"/>
                  </a:lnTo>
                  <a:lnTo>
                    <a:pt x="772" y="470"/>
                  </a:lnTo>
                  <a:lnTo>
                    <a:pt x="766" y="436"/>
                  </a:lnTo>
                  <a:lnTo>
                    <a:pt x="756" y="402"/>
                  </a:lnTo>
                  <a:lnTo>
                    <a:pt x="756" y="402"/>
                  </a:lnTo>
                  <a:lnTo>
                    <a:pt x="764" y="390"/>
                  </a:lnTo>
                  <a:lnTo>
                    <a:pt x="774" y="378"/>
                  </a:lnTo>
                  <a:lnTo>
                    <a:pt x="778" y="372"/>
                  </a:lnTo>
                  <a:lnTo>
                    <a:pt x="780" y="366"/>
                  </a:lnTo>
                  <a:lnTo>
                    <a:pt x="780" y="360"/>
                  </a:lnTo>
                  <a:lnTo>
                    <a:pt x="780" y="352"/>
                  </a:lnTo>
                  <a:lnTo>
                    <a:pt x="780" y="352"/>
                  </a:lnTo>
                  <a:lnTo>
                    <a:pt x="776" y="354"/>
                  </a:lnTo>
                  <a:lnTo>
                    <a:pt x="776" y="356"/>
                  </a:lnTo>
                  <a:lnTo>
                    <a:pt x="776" y="360"/>
                  </a:lnTo>
                  <a:lnTo>
                    <a:pt x="774" y="364"/>
                  </a:lnTo>
                  <a:lnTo>
                    <a:pt x="774" y="364"/>
                  </a:lnTo>
                  <a:lnTo>
                    <a:pt x="772" y="372"/>
                  </a:lnTo>
                  <a:lnTo>
                    <a:pt x="766" y="380"/>
                  </a:lnTo>
                  <a:lnTo>
                    <a:pt x="754" y="394"/>
                  </a:lnTo>
                  <a:lnTo>
                    <a:pt x="754" y="394"/>
                  </a:lnTo>
                  <a:lnTo>
                    <a:pt x="752" y="386"/>
                  </a:lnTo>
                  <a:lnTo>
                    <a:pt x="748" y="376"/>
                  </a:lnTo>
                  <a:lnTo>
                    <a:pt x="746" y="358"/>
                  </a:lnTo>
                  <a:lnTo>
                    <a:pt x="744" y="338"/>
                  </a:lnTo>
                  <a:lnTo>
                    <a:pt x="738" y="320"/>
                  </a:lnTo>
                  <a:lnTo>
                    <a:pt x="738" y="320"/>
                  </a:lnTo>
                  <a:lnTo>
                    <a:pt x="736" y="322"/>
                  </a:lnTo>
                  <a:lnTo>
                    <a:pt x="734" y="324"/>
                  </a:lnTo>
                  <a:lnTo>
                    <a:pt x="734" y="324"/>
                  </a:lnTo>
                  <a:lnTo>
                    <a:pt x="742" y="364"/>
                  </a:lnTo>
                  <a:lnTo>
                    <a:pt x="744" y="384"/>
                  </a:lnTo>
                  <a:lnTo>
                    <a:pt x="750" y="404"/>
                  </a:lnTo>
                  <a:lnTo>
                    <a:pt x="750" y="404"/>
                  </a:lnTo>
                  <a:lnTo>
                    <a:pt x="750" y="406"/>
                  </a:lnTo>
                  <a:lnTo>
                    <a:pt x="752" y="406"/>
                  </a:lnTo>
                  <a:lnTo>
                    <a:pt x="752" y="408"/>
                  </a:lnTo>
                  <a:lnTo>
                    <a:pt x="752" y="410"/>
                  </a:lnTo>
                  <a:lnTo>
                    <a:pt x="752" y="410"/>
                  </a:lnTo>
                  <a:lnTo>
                    <a:pt x="760" y="440"/>
                  </a:lnTo>
                  <a:lnTo>
                    <a:pt x="766" y="470"/>
                  </a:lnTo>
                  <a:lnTo>
                    <a:pt x="770" y="502"/>
                  </a:lnTo>
                  <a:lnTo>
                    <a:pt x="772" y="532"/>
                  </a:lnTo>
                  <a:lnTo>
                    <a:pt x="772" y="532"/>
                  </a:lnTo>
                  <a:lnTo>
                    <a:pt x="770" y="528"/>
                  </a:lnTo>
                  <a:lnTo>
                    <a:pt x="768" y="524"/>
                  </a:lnTo>
                  <a:lnTo>
                    <a:pt x="760" y="516"/>
                  </a:lnTo>
                  <a:lnTo>
                    <a:pt x="750" y="510"/>
                  </a:lnTo>
                  <a:lnTo>
                    <a:pt x="742" y="502"/>
                  </a:lnTo>
                  <a:lnTo>
                    <a:pt x="742" y="502"/>
                  </a:lnTo>
                  <a:lnTo>
                    <a:pt x="722" y="488"/>
                  </a:lnTo>
                  <a:lnTo>
                    <a:pt x="704" y="470"/>
                  </a:lnTo>
                  <a:lnTo>
                    <a:pt x="686" y="452"/>
                  </a:lnTo>
                  <a:lnTo>
                    <a:pt x="670" y="432"/>
                  </a:lnTo>
                  <a:lnTo>
                    <a:pt x="670" y="432"/>
                  </a:lnTo>
                  <a:lnTo>
                    <a:pt x="670" y="428"/>
                  </a:lnTo>
                  <a:lnTo>
                    <a:pt x="670" y="428"/>
                  </a:lnTo>
                  <a:lnTo>
                    <a:pt x="668" y="426"/>
                  </a:lnTo>
                  <a:lnTo>
                    <a:pt x="668" y="426"/>
                  </a:lnTo>
                  <a:lnTo>
                    <a:pt x="666" y="428"/>
                  </a:lnTo>
                  <a:lnTo>
                    <a:pt x="664" y="432"/>
                  </a:lnTo>
                  <a:lnTo>
                    <a:pt x="666" y="436"/>
                  </a:lnTo>
                  <a:lnTo>
                    <a:pt x="668" y="438"/>
                  </a:lnTo>
                  <a:lnTo>
                    <a:pt x="668" y="438"/>
                  </a:lnTo>
                  <a:lnTo>
                    <a:pt x="686" y="462"/>
                  </a:lnTo>
                  <a:lnTo>
                    <a:pt x="708" y="482"/>
                  </a:lnTo>
                  <a:lnTo>
                    <a:pt x="730" y="502"/>
                  </a:lnTo>
                  <a:lnTo>
                    <a:pt x="754" y="520"/>
                  </a:lnTo>
                  <a:lnTo>
                    <a:pt x="754" y="520"/>
                  </a:lnTo>
                  <a:lnTo>
                    <a:pt x="766" y="538"/>
                  </a:lnTo>
                  <a:lnTo>
                    <a:pt x="770" y="548"/>
                  </a:lnTo>
                  <a:lnTo>
                    <a:pt x="770" y="554"/>
                  </a:lnTo>
                  <a:lnTo>
                    <a:pt x="770" y="560"/>
                  </a:lnTo>
                  <a:lnTo>
                    <a:pt x="770" y="560"/>
                  </a:lnTo>
                  <a:lnTo>
                    <a:pt x="728" y="586"/>
                  </a:lnTo>
                  <a:lnTo>
                    <a:pt x="710" y="600"/>
                  </a:lnTo>
                  <a:lnTo>
                    <a:pt x="690" y="616"/>
                  </a:lnTo>
                  <a:lnTo>
                    <a:pt x="690" y="616"/>
                  </a:lnTo>
                  <a:lnTo>
                    <a:pt x="682" y="604"/>
                  </a:lnTo>
                  <a:lnTo>
                    <a:pt x="674" y="592"/>
                  </a:lnTo>
                  <a:lnTo>
                    <a:pt x="654" y="570"/>
                  </a:lnTo>
                  <a:lnTo>
                    <a:pt x="636" y="546"/>
                  </a:lnTo>
                  <a:lnTo>
                    <a:pt x="630" y="534"/>
                  </a:lnTo>
                  <a:lnTo>
                    <a:pt x="624" y="520"/>
                  </a:lnTo>
                  <a:lnTo>
                    <a:pt x="624" y="520"/>
                  </a:lnTo>
                  <a:lnTo>
                    <a:pt x="622" y="512"/>
                  </a:lnTo>
                  <a:lnTo>
                    <a:pt x="620" y="502"/>
                  </a:lnTo>
                  <a:lnTo>
                    <a:pt x="622" y="484"/>
                  </a:lnTo>
                  <a:lnTo>
                    <a:pt x="624" y="468"/>
                  </a:lnTo>
                  <a:lnTo>
                    <a:pt x="628" y="450"/>
                  </a:lnTo>
                  <a:lnTo>
                    <a:pt x="632" y="434"/>
                  </a:lnTo>
                  <a:lnTo>
                    <a:pt x="634" y="416"/>
                  </a:lnTo>
                  <a:lnTo>
                    <a:pt x="632" y="400"/>
                  </a:lnTo>
                  <a:lnTo>
                    <a:pt x="630" y="392"/>
                  </a:lnTo>
                  <a:lnTo>
                    <a:pt x="626" y="382"/>
                  </a:lnTo>
                  <a:lnTo>
                    <a:pt x="626" y="382"/>
                  </a:lnTo>
                  <a:lnTo>
                    <a:pt x="612" y="372"/>
                  </a:lnTo>
                  <a:lnTo>
                    <a:pt x="598" y="362"/>
                  </a:lnTo>
                  <a:lnTo>
                    <a:pt x="584" y="352"/>
                  </a:lnTo>
                  <a:lnTo>
                    <a:pt x="578" y="346"/>
                  </a:lnTo>
                  <a:lnTo>
                    <a:pt x="572" y="338"/>
                  </a:lnTo>
                  <a:lnTo>
                    <a:pt x="572" y="338"/>
                  </a:lnTo>
                  <a:lnTo>
                    <a:pt x="568" y="328"/>
                  </a:lnTo>
                  <a:lnTo>
                    <a:pt x="564" y="318"/>
                  </a:lnTo>
                  <a:lnTo>
                    <a:pt x="558" y="298"/>
                  </a:lnTo>
                  <a:lnTo>
                    <a:pt x="554" y="290"/>
                  </a:lnTo>
                  <a:lnTo>
                    <a:pt x="548" y="280"/>
                  </a:lnTo>
                  <a:lnTo>
                    <a:pt x="540" y="274"/>
                  </a:lnTo>
                  <a:lnTo>
                    <a:pt x="530" y="268"/>
                  </a:lnTo>
                  <a:lnTo>
                    <a:pt x="530" y="268"/>
                  </a:lnTo>
                  <a:lnTo>
                    <a:pt x="524" y="266"/>
                  </a:lnTo>
                  <a:lnTo>
                    <a:pt x="518" y="264"/>
                  </a:lnTo>
                  <a:lnTo>
                    <a:pt x="504" y="262"/>
                  </a:lnTo>
                  <a:lnTo>
                    <a:pt x="496" y="260"/>
                  </a:lnTo>
                  <a:lnTo>
                    <a:pt x="490" y="258"/>
                  </a:lnTo>
                  <a:lnTo>
                    <a:pt x="484" y="252"/>
                  </a:lnTo>
                  <a:lnTo>
                    <a:pt x="480" y="246"/>
                  </a:lnTo>
                  <a:lnTo>
                    <a:pt x="480" y="246"/>
                  </a:lnTo>
                  <a:lnTo>
                    <a:pt x="472" y="230"/>
                  </a:lnTo>
                  <a:lnTo>
                    <a:pt x="462" y="214"/>
                  </a:lnTo>
                  <a:lnTo>
                    <a:pt x="450" y="198"/>
                  </a:lnTo>
                  <a:lnTo>
                    <a:pt x="436" y="182"/>
                  </a:lnTo>
                  <a:lnTo>
                    <a:pt x="420" y="170"/>
                  </a:lnTo>
                  <a:lnTo>
                    <a:pt x="404" y="160"/>
                  </a:lnTo>
                  <a:lnTo>
                    <a:pt x="386" y="154"/>
                  </a:lnTo>
                  <a:lnTo>
                    <a:pt x="366" y="150"/>
                  </a:lnTo>
                  <a:lnTo>
                    <a:pt x="366" y="150"/>
                  </a:lnTo>
                  <a:lnTo>
                    <a:pt x="352" y="150"/>
                  </a:lnTo>
                  <a:lnTo>
                    <a:pt x="340" y="150"/>
                  </a:lnTo>
                  <a:lnTo>
                    <a:pt x="316" y="154"/>
                  </a:lnTo>
                  <a:lnTo>
                    <a:pt x="292" y="158"/>
                  </a:lnTo>
                  <a:lnTo>
                    <a:pt x="278" y="160"/>
                  </a:lnTo>
                  <a:lnTo>
                    <a:pt x="266" y="160"/>
                  </a:lnTo>
                  <a:lnTo>
                    <a:pt x="262" y="158"/>
                  </a:lnTo>
                  <a:lnTo>
                    <a:pt x="262" y="158"/>
                  </a:lnTo>
                  <a:lnTo>
                    <a:pt x="284" y="146"/>
                  </a:lnTo>
                  <a:lnTo>
                    <a:pt x="306" y="138"/>
                  </a:lnTo>
                  <a:lnTo>
                    <a:pt x="328" y="130"/>
                  </a:lnTo>
                  <a:lnTo>
                    <a:pt x="352" y="124"/>
                  </a:lnTo>
                  <a:lnTo>
                    <a:pt x="352" y="124"/>
                  </a:lnTo>
                  <a:lnTo>
                    <a:pt x="362" y="126"/>
                  </a:lnTo>
                  <a:lnTo>
                    <a:pt x="374" y="128"/>
                  </a:lnTo>
                  <a:lnTo>
                    <a:pt x="396" y="130"/>
                  </a:lnTo>
                  <a:lnTo>
                    <a:pt x="396" y="130"/>
                  </a:lnTo>
                  <a:lnTo>
                    <a:pt x="430" y="138"/>
                  </a:lnTo>
                  <a:lnTo>
                    <a:pt x="464" y="148"/>
                  </a:lnTo>
                  <a:lnTo>
                    <a:pt x="496" y="162"/>
                  </a:lnTo>
                  <a:lnTo>
                    <a:pt x="526" y="178"/>
                  </a:lnTo>
                  <a:lnTo>
                    <a:pt x="526" y="178"/>
                  </a:lnTo>
                  <a:lnTo>
                    <a:pt x="534" y="190"/>
                  </a:lnTo>
                  <a:lnTo>
                    <a:pt x="542" y="204"/>
                  </a:lnTo>
                  <a:lnTo>
                    <a:pt x="562" y="228"/>
                  </a:lnTo>
                  <a:lnTo>
                    <a:pt x="562" y="228"/>
                  </a:lnTo>
                  <a:lnTo>
                    <a:pt x="566" y="228"/>
                  </a:lnTo>
                  <a:lnTo>
                    <a:pt x="568" y="228"/>
                  </a:lnTo>
                  <a:lnTo>
                    <a:pt x="568" y="228"/>
                  </a:lnTo>
                  <a:lnTo>
                    <a:pt x="562" y="216"/>
                  </a:lnTo>
                  <a:lnTo>
                    <a:pt x="554" y="206"/>
                  </a:lnTo>
                  <a:lnTo>
                    <a:pt x="546" y="194"/>
                  </a:lnTo>
                  <a:lnTo>
                    <a:pt x="540" y="182"/>
                  </a:lnTo>
                  <a:lnTo>
                    <a:pt x="540" y="182"/>
                  </a:lnTo>
                  <a:lnTo>
                    <a:pt x="566" y="190"/>
                  </a:lnTo>
                  <a:lnTo>
                    <a:pt x="590" y="196"/>
                  </a:lnTo>
                  <a:lnTo>
                    <a:pt x="616" y="200"/>
                  </a:lnTo>
                  <a:lnTo>
                    <a:pt x="642" y="202"/>
                  </a:lnTo>
                  <a:lnTo>
                    <a:pt x="642" y="202"/>
                  </a:lnTo>
                  <a:lnTo>
                    <a:pt x="644" y="202"/>
                  </a:lnTo>
                  <a:lnTo>
                    <a:pt x="646" y="200"/>
                  </a:lnTo>
                  <a:lnTo>
                    <a:pt x="646" y="200"/>
                  </a:lnTo>
                  <a:lnTo>
                    <a:pt x="646" y="198"/>
                  </a:lnTo>
                  <a:lnTo>
                    <a:pt x="646" y="198"/>
                  </a:lnTo>
                  <a:lnTo>
                    <a:pt x="640" y="196"/>
                  </a:lnTo>
                  <a:lnTo>
                    <a:pt x="632" y="196"/>
                  </a:lnTo>
                  <a:lnTo>
                    <a:pt x="626" y="194"/>
                  </a:lnTo>
                  <a:lnTo>
                    <a:pt x="618" y="194"/>
                  </a:lnTo>
                  <a:lnTo>
                    <a:pt x="618" y="194"/>
                  </a:lnTo>
                  <a:lnTo>
                    <a:pt x="588" y="188"/>
                  </a:lnTo>
                  <a:lnTo>
                    <a:pt x="558" y="180"/>
                  </a:lnTo>
                  <a:lnTo>
                    <a:pt x="528" y="170"/>
                  </a:lnTo>
                  <a:lnTo>
                    <a:pt x="500" y="156"/>
                  </a:lnTo>
                  <a:lnTo>
                    <a:pt x="500" y="156"/>
                  </a:lnTo>
                  <a:lnTo>
                    <a:pt x="538" y="148"/>
                  </a:lnTo>
                  <a:lnTo>
                    <a:pt x="576" y="138"/>
                  </a:lnTo>
                  <a:lnTo>
                    <a:pt x="576" y="138"/>
                  </a:lnTo>
                  <a:lnTo>
                    <a:pt x="578" y="136"/>
                  </a:lnTo>
                  <a:lnTo>
                    <a:pt x="580" y="132"/>
                  </a:lnTo>
                  <a:lnTo>
                    <a:pt x="576" y="130"/>
                  </a:lnTo>
                  <a:lnTo>
                    <a:pt x="576" y="130"/>
                  </a:lnTo>
                  <a:lnTo>
                    <a:pt x="486" y="150"/>
                  </a:lnTo>
                  <a:lnTo>
                    <a:pt x="486" y="150"/>
                  </a:lnTo>
                  <a:lnTo>
                    <a:pt x="460" y="138"/>
                  </a:lnTo>
                  <a:lnTo>
                    <a:pt x="432" y="130"/>
                  </a:lnTo>
                  <a:lnTo>
                    <a:pt x="404" y="124"/>
                  </a:lnTo>
                  <a:lnTo>
                    <a:pt x="376" y="118"/>
                  </a:lnTo>
                  <a:lnTo>
                    <a:pt x="376" y="118"/>
                  </a:lnTo>
                  <a:lnTo>
                    <a:pt x="404" y="112"/>
                  </a:lnTo>
                  <a:lnTo>
                    <a:pt x="432" y="104"/>
                  </a:lnTo>
                  <a:lnTo>
                    <a:pt x="458" y="94"/>
                  </a:lnTo>
                  <a:lnTo>
                    <a:pt x="484" y="80"/>
                  </a:lnTo>
                  <a:lnTo>
                    <a:pt x="484" y="80"/>
                  </a:lnTo>
                  <a:lnTo>
                    <a:pt x="486" y="76"/>
                  </a:lnTo>
                  <a:lnTo>
                    <a:pt x="488" y="74"/>
                  </a:lnTo>
                  <a:lnTo>
                    <a:pt x="488" y="70"/>
                  </a:lnTo>
                  <a:lnTo>
                    <a:pt x="488" y="70"/>
                  </a:lnTo>
                  <a:lnTo>
                    <a:pt x="470" y="80"/>
                  </a:lnTo>
                  <a:lnTo>
                    <a:pt x="450" y="90"/>
                  </a:lnTo>
                  <a:lnTo>
                    <a:pt x="430" y="96"/>
                  </a:lnTo>
                  <a:lnTo>
                    <a:pt x="410" y="102"/>
                  </a:lnTo>
                  <a:lnTo>
                    <a:pt x="328" y="122"/>
                  </a:lnTo>
                  <a:lnTo>
                    <a:pt x="328" y="122"/>
                  </a:lnTo>
                  <a:lnTo>
                    <a:pt x="296" y="134"/>
                  </a:lnTo>
                  <a:lnTo>
                    <a:pt x="266" y="148"/>
                  </a:lnTo>
                  <a:lnTo>
                    <a:pt x="266" y="148"/>
                  </a:lnTo>
                  <a:lnTo>
                    <a:pt x="272" y="138"/>
                  </a:lnTo>
                  <a:lnTo>
                    <a:pt x="278" y="128"/>
                  </a:lnTo>
                  <a:lnTo>
                    <a:pt x="290" y="108"/>
                  </a:lnTo>
                  <a:lnTo>
                    <a:pt x="296" y="98"/>
                  </a:lnTo>
                  <a:lnTo>
                    <a:pt x="304" y="90"/>
                  </a:lnTo>
                  <a:lnTo>
                    <a:pt x="312" y="84"/>
                  </a:lnTo>
                  <a:lnTo>
                    <a:pt x="324" y="82"/>
                  </a:lnTo>
                  <a:lnTo>
                    <a:pt x="324" y="82"/>
                  </a:lnTo>
                  <a:lnTo>
                    <a:pt x="330" y="80"/>
                  </a:lnTo>
                  <a:lnTo>
                    <a:pt x="336" y="78"/>
                  </a:lnTo>
                  <a:lnTo>
                    <a:pt x="344" y="70"/>
                  </a:lnTo>
                  <a:lnTo>
                    <a:pt x="350" y="62"/>
                  </a:lnTo>
                  <a:lnTo>
                    <a:pt x="356" y="60"/>
                  </a:lnTo>
                  <a:lnTo>
                    <a:pt x="360" y="58"/>
                  </a:lnTo>
                  <a:lnTo>
                    <a:pt x="360" y="58"/>
                  </a:lnTo>
                  <a:lnTo>
                    <a:pt x="360" y="54"/>
                  </a:lnTo>
                  <a:lnTo>
                    <a:pt x="356" y="52"/>
                  </a:lnTo>
                  <a:lnTo>
                    <a:pt x="356" y="52"/>
                  </a:lnTo>
                  <a:lnTo>
                    <a:pt x="352" y="56"/>
                  </a:lnTo>
                  <a:lnTo>
                    <a:pt x="346" y="58"/>
                  </a:lnTo>
                  <a:lnTo>
                    <a:pt x="336" y="68"/>
                  </a:lnTo>
                  <a:lnTo>
                    <a:pt x="326" y="76"/>
                  </a:lnTo>
                  <a:lnTo>
                    <a:pt x="320" y="78"/>
                  </a:lnTo>
                  <a:lnTo>
                    <a:pt x="314" y="78"/>
                  </a:lnTo>
                  <a:lnTo>
                    <a:pt x="308" y="82"/>
                  </a:lnTo>
                  <a:lnTo>
                    <a:pt x="308" y="82"/>
                  </a:lnTo>
                  <a:lnTo>
                    <a:pt x="314" y="72"/>
                  </a:lnTo>
                  <a:lnTo>
                    <a:pt x="316" y="66"/>
                  </a:lnTo>
                  <a:lnTo>
                    <a:pt x="314" y="64"/>
                  </a:lnTo>
                  <a:lnTo>
                    <a:pt x="312" y="62"/>
                  </a:lnTo>
                  <a:lnTo>
                    <a:pt x="310" y="64"/>
                  </a:lnTo>
                  <a:lnTo>
                    <a:pt x="282" y="104"/>
                  </a:lnTo>
                  <a:lnTo>
                    <a:pt x="282" y="104"/>
                  </a:lnTo>
                  <a:lnTo>
                    <a:pt x="280" y="100"/>
                  </a:lnTo>
                  <a:lnTo>
                    <a:pt x="278" y="96"/>
                  </a:lnTo>
                  <a:lnTo>
                    <a:pt x="278" y="88"/>
                  </a:lnTo>
                  <a:lnTo>
                    <a:pt x="276" y="78"/>
                  </a:lnTo>
                  <a:lnTo>
                    <a:pt x="274" y="72"/>
                  </a:lnTo>
                  <a:lnTo>
                    <a:pt x="270" y="70"/>
                  </a:lnTo>
                  <a:lnTo>
                    <a:pt x="270" y="70"/>
                  </a:lnTo>
                  <a:lnTo>
                    <a:pt x="268" y="72"/>
                  </a:lnTo>
                  <a:lnTo>
                    <a:pt x="268" y="74"/>
                  </a:lnTo>
                  <a:lnTo>
                    <a:pt x="268" y="78"/>
                  </a:lnTo>
                  <a:lnTo>
                    <a:pt x="270" y="82"/>
                  </a:lnTo>
                  <a:lnTo>
                    <a:pt x="270" y="88"/>
                  </a:lnTo>
                  <a:lnTo>
                    <a:pt x="270" y="88"/>
                  </a:lnTo>
                  <a:lnTo>
                    <a:pt x="270" y="92"/>
                  </a:lnTo>
                  <a:lnTo>
                    <a:pt x="272" y="96"/>
                  </a:lnTo>
                  <a:lnTo>
                    <a:pt x="274" y="104"/>
                  </a:lnTo>
                  <a:lnTo>
                    <a:pt x="276" y="110"/>
                  </a:lnTo>
                  <a:lnTo>
                    <a:pt x="276" y="114"/>
                  </a:lnTo>
                  <a:lnTo>
                    <a:pt x="274" y="118"/>
                  </a:lnTo>
                  <a:lnTo>
                    <a:pt x="274" y="118"/>
                  </a:lnTo>
                  <a:lnTo>
                    <a:pt x="262" y="136"/>
                  </a:lnTo>
                  <a:lnTo>
                    <a:pt x="252" y="154"/>
                  </a:lnTo>
                  <a:lnTo>
                    <a:pt x="252" y="154"/>
                  </a:lnTo>
                  <a:lnTo>
                    <a:pt x="236" y="148"/>
                  </a:lnTo>
                  <a:lnTo>
                    <a:pt x="226" y="146"/>
                  </a:lnTo>
                  <a:lnTo>
                    <a:pt x="216" y="146"/>
                  </a:lnTo>
                  <a:lnTo>
                    <a:pt x="216" y="146"/>
                  </a:lnTo>
                  <a:lnTo>
                    <a:pt x="200" y="148"/>
                  </a:lnTo>
                  <a:lnTo>
                    <a:pt x="186" y="152"/>
                  </a:lnTo>
                  <a:lnTo>
                    <a:pt x="186" y="152"/>
                  </a:lnTo>
                  <a:lnTo>
                    <a:pt x="190" y="136"/>
                  </a:lnTo>
                  <a:lnTo>
                    <a:pt x="196" y="122"/>
                  </a:lnTo>
                  <a:lnTo>
                    <a:pt x="208" y="94"/>
                  </a:lnTo>
                  <a:lnTo>
                    <a:pt x="208" y="94"/>
                  </a:lnTo>
                  <a:lnTo>
                    <a:pt x="206" y="90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192" y="108"/>
                  </a:lnTo>
                  <a:lnTo>
                    <a:pt x="184" y="130"/>
                  </a:lnTo>
                  <a:lnTo>
                    <a:pt x="174" y="172"/>
                  </a:lnTo>
                  <a:lnTo>
                    <a:pt x="174" y="172"/>
                  </a:lnTo>
                  <a:lnTo>
                    <a:pt x="170" y="170"/>
                  </a:lnTo>
                  <a:lnTo>
                    <a:pt x="170" y="168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58" y="146"/>
                  </a:lnTo>
                  <a:lnTo>
                    <a:pt x="152" y="138"/>
                  </a:lnTo>
                  <a:lnTo>
                    <a:pt x="146" y="128"/>
                  </a:lnTo>
                  <a:lnTo>
                    <a:pt x="140" y="122"/>
                  </a:lnTo>
                  <a:lnTo>
                    <a:pt x="138" y="124"/>
                  </a:lnTo>
                  <a:lnTo>
                    <a:pt x="138" y="124"/>
                  </a:lnTo>
                  <a:lnTo>
                    <a:pt x="138" y="132"/>
                  </a:lnTo>
                  <a:lnTo>
                    <a:pt x="140" y="136"/>
                  </a:lnTo>
                  <a:lnTo>
                    <a:pt x="146" y="146"/>
                  </a:lnTo>
                  <a:lnTo>
                    <a:pt x="154" y="156"/>
                  </a:lnTo>
                  <a:lnTo>
                    <a:pt x="160" y="166"/>
                  </a:lnTo>
                  <a:lnTo>
                    <a:pt x="160" y="166"/>
                  </a:lnTo>
                  <a:lnTo>
                    <a:pt x="150" y="174"/>
                  </a:lnTo>
                  <a:lnTo>
                    <a:pt x="140" y="182"/>
                  </a:lnTo>
                  <a:lnTo>
                    <a:pt x="122" y="202"/>
                  </a:lnTo>
                  <a:lnTo>
                    <a:pt x="112" y="212"/>
                  </a:lnTo>
                  <a:lnTo>
                    <a:pt x="102" y="220"/>
                  </a:lnTo>
                  <a:lnTo>
                    <a:pt x="92" y="226"/>
                  </a:lnTo>
                  <a:lnTo>
                    <a:pt x="80" y="230"/>
                  </a:lnTo>
                  <a:lnTo>
                    <a:pt x="80" y="230"/>
                  </a:lnTo>
                  <a:lnTo>
                    <a:pt x="72" y="236"/>
                  </a:lnTo>
                  <a:lnTo>
                    <a:pt x="66" y="240"/>
                  </a:lnTo>
                  <a:lnTo>
                    <a:pt x="58" y="254"/>
                  </a:lnTo>
                  <a:lnTo>
                    <a:pt x="52" y="268"/>
                  </a:lnTo>
                  <a:lnTo>
                    <a:pt x="48" y="282"/>
                  </a:lnTo>
                  <a:lnTo>
                    <a:pt x="44" y="296"/>
                  </a:lnTo>
                  <a:lnTo>
                    <a:pt x="38" y="310"/>
                  </a:lnTo>
                  <a:lnTo>
                    <a:pt x="34" y="316"/>
                  </a:lnTo>
                  <a:lnTo>
                    <a:pt x="28" y="322"/>
                  </a:lnTo>
                  <a:lnTo>
                    <a:pt x="22" y="328"/>
                  </a:lnTo>
                  <a:lnTo>
                    <a:pt x="14" y="332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12" y="312"/>
                  </a:lnTo>
                  <a:lnTo>
                    <a:pt x="24" y="274"/>
                  </a:lnTo>
                  <a:lnTo>
                    <a:pt x="40" y="236"/>
                  </a:lnTo>
                  <a:lnTo>
                    <a:pt x="48" y="218"/>
                  </a:lnTo>
                  <a:lnTo>
                    <a:pt x="60" y="200"/>
                  </a:lnTo>
                  <a:lnTo>
                    <a:pt x="60" y="200"/>
                  </a:lnTo>
                  <a:lnTo>
                    <a:pt x="70" y="184"/>
                  </a:lnTo>
                  <a:lnTo>
                    <a:pt x="82" y="168"/>
                  </a:lnTo>
                  <a:lnTo>
                    <a:pt x="94" y="152"/>
                  </a:lnTo>
                  <a:lnTo>
                    <a:pt x="108" y="138"/>
                  </a:lnTo>
                  <a:lnTo>
                    <a:pt x="124" y="124"/>
                  </a:lnTo>
                  <a:lnTo>
                    <a:pt x="140" y="112"/>
                  </a:lnTo>
                  <a:lnTo>
                    <a:pt x="156" y="102"/>
                  </a:lnTo>
                  <a:lnTo>
                    <a:pt x="174" y="92"/>
                  </a:lnTo>
                  <a:lnTo>
                    <a:pt x="174" y="92"/>
                  </a:lnTo>
                  <a:lnTo>
                    <a:pt x="194" y="84"/>
                  </a:lnTo>
                  <a:lnTo>
                    <a:pt x="216" y="78"/>
                  </a:lnTo>
                  <a:lnTo>
                    <a:pt x="260" y="68"/>
                  </a:lnTo>
                  <a:lnTo>
                    <a:pt x="302" y="56"/>
                  </a:lnTo>
                  <a:lnTo>
                    <a:pt x="324" y="48"/>
                  </a:lnTo>
                  <a:lnTo>
                    <a:pt x="344" y="38"/>
                  </a:lnTo>
                  <a:lnTo>
                    <a:pt x="344" y="38"/>
                  </a:lnTo>
                  <a:lnTo>
                    <a:pt x="356" y="30"/>
                  </a:lnTo>
                  <a:lnTo>
                    <a:pt x="368" y="22"/>
                  </a:lnTo>
                  <a:lnTo>
                    <a:pt x="382" y="14"/>
                  </a:lnTo>
                  <a:lnTo>
                    <a:pt x="396" y="6"/>
                  </a:lnTo>
                  <a:lnTo>
                    <a:pt x="410" y="2"/>
                  </a:lnTo>
                  <a:lnTo>
                    <a:pt x="424" y="0"/>
                  </a:lnTo>
                  <a:lnTo>
                    <a:pt x="430" y="0"/>
                  </a:lnTo>
                  <a:lnTo>
                    <a:pt x="438" y="4"/>
                  </a:lnTo>
                  <a:lnTo>
                    <a:pt x="444" y="8"/>
                  </a:lnTo>
                  <a:lnTo>
                    <a:pt x="450" y="14"/>
                  </a:lnTo>
                  <a:lnTo>
                    <a:pt x="450" y="14"/>
                  </a:lnTo>
                  <a:lnTo>
                    <a:pt x="460" y="28"/>
                  </a:lnTo>
                  <a:lnTo>
                    <a:pt x="470" y="42"/>
                  </a:lnTo>
                  <a:lnTo>
                    <a:pt x="476" y="46"/>
                  </a:lnTo>
                  <a:lnTo>
                    <a:pt x="484" y="50"/>
                  </a:lnTo>
                  <a:lnTo>
                    <a:pt x="492" y="54"/>
                  </a:lnTo>
                  <a:lnTo>
                    <a:pt x="502" y="54"/>
                  </a:lnTo>
                  <a:lnTo>
                    <a:pt x="502" y="54"/>
                  </a:lnTo>
                  <a:close/>
                </a:path>
              </a:pathLst>
            </a:custGeom>
            <a:solidFill>
              <a:srgbClr val="78b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0"/>
            <p:cNvSpPr/>
            <p:nvPr/>
          </p:nvSpPr>
          <p:spPr>
            <a:xfrm>
              <a:off x="13238280" y="7887960"/>
              <a:ext cx="199800" cy="1047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26" h="66">
                  <a:moveTo>
                    <a:pt x="38" y="6"/>
                  </a:moveTo>
                  <a:lnTo>
                    <a:pt x="38" y="6"/>
                  </a:lnTo>
                  <a:lnTo>
                    <a:pt x="58" y="6"/>
                  </a:lnTo>
                  <a:lnTo>
                    <a:pt x="66" y="8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6" y="22"/>
                  </a:lnTo>
                  <a:lnTo>
                    <a:pt x="96" y="34"/>
                  </a:lnTo>
                  <a:lnTo>
                    <a:pt x="108" y="46"/>
                  </a:lnTo>
                  <a:lnTo>
                    <a:pt x="114" y="50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4" y="60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12" y="64"/>
                  </a:lnTo>
                  <a:lnTo>
                    <a:pt x="106" y="62"/>
                  </a:lnTo>
                  <a:lnTo>
                    <a:pt x="100" y="58"/>
                  </a:lnTo>
                  <a:lnTo>
                    <a:pt x="100" y="58"/>
                  </a:lnTo>
                  <a:lnTo>
                    <a:pt x="92" y="42"/>
                  </a:lnTo>
                  <a:lnTo>
                    <a:pt x="86" y="36"/>
                  </a:lnTo>
                  <a:lnTo>
                    <a:pt x="82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68" y="32"/>
                  </a:lnTo>
                  <a:lnTo>
                    <a:pt x="60" y="30"/>
                  </a:lnTo>
                  <a:lnTo>
                    <a:pt x="44" y="24"/>
                  </a:lnTo>
                  <a:lnTo>
                    <a:pt x="30" y="16"/>
                  </a:lnTo>
                  <a:lnTo>
                    <a:pt x="14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65a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1"/>
            <p:cNvSpPr/>
            <p:nvPr/>
          </p:nvSpPr>
          <p:spPr>
            <a:xfrm>
              <a:off x="13203360" y="7916760"/>
              <a:ext cx="75960" cy="1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8" h="10">
                  <a:moveTo>
                    <a:pt x="48" y="8"/>
                  </a:moveTo>
                  <a:lnTo>
                    <a:pt x="48" y="8"/>
                  </a:lnTo>
                  <a:lnTo>
                    <a:pt x="36" y="10"/>
                  </a:lnTo>
                  <a:lnTo>
                    <a:pt x="22" y="8"/>
                  </a:lnTo>
                  <a:lnTo>
                    <a:pt x="1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4" y="2"/>
                  </a:lnTo>
                  <a:lnTo>
                    <a:pt x="36" y="4"/>
                  </a:lnTo>
                  <a:lnTo>
                    <a:pt x="48" y="8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65a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2"/>
            <p:cNvSpPr/>
            <p:nvPr/>
          </p:nvSpPr>
          <p:spPr>
            <a:xfrm>
              <a:off x="13393800" y="7919640"/>
              <a:ext cx="577800" cy="7873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496">
                  <a:moveTo>
                    <a:pt x="78" y="24"/>
                  </a:moveTo>
                  <a:lnTo>
                    <a:pt x="78" y="24"/>
                  </a:lnTo>
                  <a:lnTo>
                    <a:pt x="94" y="26"/>
                  </a:lnTo>
                  <a:lnTo>
                    <a:pt x="110" y="32"/>
                  </a:lnTo>
                  <a:lnTo>
                    <a:pt x="126" y="38"/>
                  </a:lnTo>
                  <a:lnTo>
                    <a:pt x="140" y="48"/>
                  </a:lnTo>
                  <a:lnTo>
                    <a:pt x="166" y="68"/>
                  </a:lnTo>
                  <a:lnTo>
                    <a:pt x="192" y="92"/>
                  </a:lnTo>
                  <a:lnTo>
                    <a:pt x="192" y="92"/>
                  </a:lnTo>
                  <a:lnTo>
                    <a:pt x="178" y="92"/>
                  </a:lnTo>
                  <a:lnTo>
                    <a:pt x="162" y="94"/>
                  </a:lnTo>
                  <a:lnTo>
                    <a:pt x="148" y="98"/>
                  </a:lnTo>
                  <a:lnTo>
                    <a:pt x="142" y="102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6" y="110"/>
                  </a:lnTo>
                  <a:lnTo>
                    <a:pt x="138" y="112"/>
                  </a:lnTo>
                  <a:lnTo>
                    <a:pt x="138" y="112"/>
                  </a:lnTo>
                  <a:lnTo>
                    <a:pt x="142" y="110"/>
                  </a:lnTo>
                  <a:lnTo>
                    <a:pt x="146" y="108"/>
                  </a:lnTo>
                  <a:lnTo>
                    <a:pt x="150" y="106"/>
                  </a:lnTo>
                  <a:lnTo>
                    <a:pt x="154" y="104"/>
                  </a:lnTo>
                  <a:lnTo>
                    <a:pt x="154" y="104"/>
                  </a:lnTo>
                  <a:lnTo>
                    <a:pt x="168" y="98"/>
                  </a:lnTo>
                  <a:lnTo>
                    <a:pt x="180" y="98"/>
                  </a:lnTo>
                  <a:lnTo>
                    <a:pt x="194" y="100"/>
                  </a:lnTo>
                  <a:lnTo>
                    <a:pt x="206" y="104"/>
                  </a:lnTo>
                  <a:lnTo>
                    <a:pt x="218" y="110"/>
                  </a:lnTo>
                  <a:lnTo>
                    <a:pt x="228" y="116"/>
                  </a:lnTo>
                  <a:lnTo>
                    <a:pt x="250" y="132"/>
                  </a:lnTo>
                  <a:lnTo>
                    <a:pt x="250" y="132"/>
                  </a:lnTo>
                  <a:lnTo>
                    <a:pt x="258" y="140"/>
                  </a:lnTo>
                  <a:lnTo>
                    <a:pt x="264" y="148"/>
                  </a:lnTo>
                  <a:lnTo>
                    <a:pt x="272" y="166"/>
                  </a:lnTo>
                  <a:lnTo>
                    <a:pt x="280" y="184"/>
                  </a:lnTo>
                  <a:lnTo>
                    <a:pt x="288" y="202"/>
                  </a:lnTo>
                  <a:lnTo>
                    <a:pt x="288" y="202"/>
                  </a:lnTo>
                  <a:lnTo>
                    <a:pt x="282" y="206"/>
                  </a:lnTo>
                  <a:lnTo>
                    <a:pt x="276" y="210"/>
                  </a:lnTo>
                  <a:lnTo>
                    <a:pt x="272" y="212"/>
                  </a:lnTo>
                  <a:lnTo>
                    <a:pt x="264" y="214"/>
                  </a:lnTo>
                  <a:lnTo>
                    <a:pt x="264" y="214"/>
                  </a:lnTo>
                  <a:lnTo>
                    <a:pt x="254" y="206"/>
                  </a:lnTo>
                  <a:lnTo>
                    <a:pt x="242" y="202"/>
                  </a:lnTo>
                  <a:lnTo>
                    <a:pt x="228" y="200"/>
                  </a:lnTo>
                  <a:lnTo>
                    <a:pt x="216" y="202"/>
                  </a:lnTo>
                  <a:lnTo>
                    <a:pt x="216" y="202"/>
                  </a:lnTo>
                  <a:lnTo>
                    <a:pt x="214" y="204"/>
                  </a:lnTo>
                  <a:lnTo>
                    <a:pt x="214" y="206"/>
                  </a:lnTo>
                  <a:lnTo>
                    <a:pt x="214" y="206"/>
                  </a:lnTo>
                  <a:lnTo>
                    <a:pt x="226" y="206"/>
                  </a:lnTo>
                  <a:lnTo>
                    <a:pt x="232" y="206"/>
                  </a:lnTo>
                  <a:lnTo>
                    <a:pt x="240" y="208"/>
                  </a:lnTo>
                  <a:lnTo>
                    <a:pt x="240" y="208"/>
                  </a:lnTo>
                  <a:lnTo>
                    <a:pt x="250" y="214"/>
                  </a:lnTo>
                  <a:lnTo>
                    <a:pt x="262" y="220"/>
                  </a:lnTo>
                  <a:lnTo>
                    <a:pt x="262" y="220"/>
                  </a:lnTo>
                  <a:lnTo>
                    <a:pt x="250" y="234"/>
                  </a:lnTo>
                  <a:lnTo>
                    <a:pt x="246" y="242"/>
                  </a:lnTo>
                  <a:lnTo>
                    <a:pt x="242" y="250"/>
                  </a:lnTo>
                  <a:lnTo>
                    <a:pt x="242" y="250"/>
                  </a:lnTo>
                  <a:lnTo>
                    <a:pt x="246" y="252"/>
                  </a:lnTo>
                  <a:lnTo>
                    <a:pt x="248" y="252"/>
                  </a:lnTo>
                  <a:lnTo>
                    <a:pt x="248" y="252"/>
                  </a:lnTo>
                  <a:lnTo>
                    <a:pt x="256" y="238"/>
                  </a:lnTo>
                  <a:lnTo>
                    <a:pt x="266" y="226"/>
                  </a:lnTo>
                  <a:lnTo>
                    <a:pt x="280" y="216"/>
                  </a:lnTo>
                  <a:lnTo>
                    <a:pt x="294" y="210"/>
                  </a:lnTo>
                  <a:lnTo>
                    <a:pt x="294" y="210"/>
                  </a:lnTo>
                  <a:lnTo>
                    <a:pt x="298" y="218"/>
                  </a:lnTo>
                  <a:lnTo>
                    <a:pt x="304" y="226"/>
                  </a:lnTo>
                  <a:lnTo>
                    <a:pt x="310" y="234"/>
                  </a:lnTo>
                  <a:lnTo>
                    <a:pt x="312" y="240"/>
                  </a:lnTo>
                  <a:lnTo>
                    <a:pt x="312" y="244"/>
                  </a:lnTo>
                  <a:lnTo>
                    <a:pt x="312" y="244"/>
                  </a:lnTo>
                  <a:lnTo>
                    <a:pt x="310" y="262"/>
                  </a:lnTo>
                  <a:lnTo>
                    <a:pt x="304" y="278"/>
                  </a:lnTo>
                  <a:lnTo>
                    <a:pt x="304" y="278"/>
                  </a:lnTo>
                  <a:lnTo>
                    <a:pt x="294" y="280"/>
                  </a:lnTo>
                  <a:lnTo>
                    <a:pt x="284" y="278"/>
                  </a:lnTo>
                  <a:lnTo>
                    <a:pt x="274" y="280"/>
                  </a:lnTo>
                  <a:lnTo>
                    <a:pt x="264" y="282"/>
                  </a:lnTo>
                  <a:lnTo>
                    <a:pt x="264" y="282"/>
                  </a:lnTo>
                  <a:lnTo>
                    <a:pt x="266" y="286"/>
                  </a:lnTo>
                  <a:lnTo>
                    <a:pt x="268" y="286"/>
                  </a:lnTo>
                  <a:lnTo>
                    <a:pt x="302" y="286"/>
                  </a:lnTo>
                  <a:lnTo>
                    <a:pt x="302" y="286"/>
                  </a:lnTo>
                  <a:lnTo>
                    <a:pt x="296" y="298"/>
                  </a:lnTo>
                  <a:lnTo>
                    <a:pt x="290" y="308"/>
                  </a:lnTo>
                  <a:lnTo>
                    <a:pt x="282" y="318"/>
                  </a:lnTo>
                  <a:lnTo>
                    <a:pt x="272" y="326"/>
                  </a:lnTo>
                  <a:lnTo>
                    <a:pt x="272" y="326"/>
                  </a:lnTo>
                  <a:lnTo>
                    <a:pt x="272" y="328"/>
                  </a:lnTo>
                  <a:lnTo>
                    <a:pt x="272" y="330"/>
                  </a:lnTo>
                  <a:lnTo>
                    <a:pt x="276" y="332"/>
                  </a:lnTo>
                  <a:lnTo>
                    <a:pt x="276" y="332"/>
                  </a:lnTo>
                  <a:lnTo>
                    <a:pt x="292" y="314"/>
                  </a:lnTo>
                  <a:lnTo>
                    <a:pt x="306" y="292"/>
                  </a:lnTo>
                  <a:lnTo>
                    <a:pt x="310" y="282"/>
                  </a:lnTo>
                  <a:lnTo>
                    <a:pt x="314" y="270"/>
                  </a:lnTo>
                  <a:lnTo>
                    <a:pt x="318" y="258"/>
                  </a:lnTo>
                  <a:lnTo>
                    <a:pt x="318" y="246"/>
                  </a:lnTo>
                  <a:lnTo>
                    <a:pt x="318" y="246"/>
                  </a:lnTo>
                  <a:lnTo>
                    <a:pt x="326" y="256"/>
                  </a:lnTo>
                  <a:lnTo>
                    <a:pt x="332" y="266"/>
                  </a:lnTo>
                  <a:lnTo>
                    <a:pt x="336" y="278"/>
                  </a:lnTo>
                  <a:lnTo>
                    <a:pt x="338" y="290"/>
                  </a:lnTo>
                  <a:lnTo>
                    <a:pt x="340" y="302"/>
                  </a:lnTo>
                  <a:lnTo>
                    <a:pt x="338" y="314"/>
                  </a:lnTo>
                  <a:lnTo>
                    <a:pt x="336" y="326"/>
                  </a:lnTo>
                  <a:lnTo>
                    <a:pt x="334" y="338"/>
                  </a:lnTo>
                  <a:lnTo>
                    <a:pt x="334" y="338"/>
                  </a:lnTo>
                  <a:lnTo>
                    <a:pt x="334" y="348"/>
                  </a:lnTo>
                  <a:lnTo>
                    <a:pt x="336" y="358"/>
                  </a:lnTo>
                  <a:lnTo>
                    <a:pt x="336" y="368"/>
                  </a:lnTo>
                  <a:lnTo>
                    <a:pt x="334" y="372"/>
                  </a:lnTo>
                  <a:lnTo>
                    <a:pt x="332" y="376"/>
                  </a:lnTo>
                  <a:lnTo>
                    <a:pt x="308" y="398"/>
                  </a:lnTo>
                  <a:lnTo>
                    <a:pt x="308" y="398"/>
                  </a:lnTo>
                  <a:lnTo>
                    <a:pt x="310" y="404"/>
                  </a:lnTo>
                  <a:lnTo>
                    <a:pt x="310" y="406"/>
                  </a:lnTo>
                  <a:lnTo>
                    <a:pt x="314" y="408"/>
                  </a:lnTo>
                  <a:lnTo>
                    <a:pt x="314" y="408"/>
                  </a:lnTo>
                  <a:lnTo>
                    <a:pt x="316" y="406"/>
                  </a:lnTo>
                  <a:lnTo>
                    <a:pt x="316" y="404"/>
                  </a:lnTo>
                  <a:lnTo>
                    <a:pt x="316" y="398"/>
                  </a:lnTo>
                  <a:lnTo>
                    <a:pt x="316" y="398"/>
                  </a:lnTo>
                  <a:lnTo>
                    <a:pt x="332" y="384"/>
                  </a:lnTo>
                  <a:lnTo>
                    <a:pt x="338" y="378"/>
                  </a:lnTo>
                  <a:lnTo>
                    <a:pt x="344" y="368"/>
                  </a:lnTo>
                  <a:lnTo>
                    <a:pt x="344" y="368"/>
                  </a:lnTo>
                  <a:lnTo>
                    <a:pt x="342" y="356"/>
                  </a:lnTo>
                  <a:lnTo>
                    <a:pt x="340" y="344"/>
                  </a:lnTo>
                  <a:lnTo>
                    <a:pt x="340" y="332"/>
                  </a:lnTo>
                  <a:lnTo>
                    <a:pt x="340" y="326"/>
                  </a:lnTo>
                  <a:lnTo>
                    <a:pt x="342" y="320"/>
                  </a:lnTo>
                  <a:lnTo>
                    <a:pt x="342" y="320"/>
                  </a:lnTo>
                  <a:lnTo>
                    <a:pt x="346" y="330"/>
                  </a:lnTo>
                  <a:lnTo>
                    <a:pt x="352" y="338"/>
                  </a:lnTo>
                  <a:lnTo>
                    <a:pt x="356" y="348"/>
                  </a:lnTo>
                  <a:lnTo>
                    <a:pt x="360" y="358"/>
                  </a:lnTo>
                  <a:lnTo>
                    <a:pt x="360" y="358"/>
                  </a:lnTo>
                  <a:lnTo>
                    <a:pt x="360" y="372"/>
                  </a:lnTo>
                  <a:lnTo>
                    <a:pt x="360" y="384"/>
                  </a:lnTo>
                  <a:lnTo>
                    <a:pt x="362" y="410"/>
                  </a:lnTo>
                  <a:lnTo>
                    <a:pt x="364" y="436"/>
                  </a:lnTo>
                  <a:lnTo>
                    <a:pt x="362" y="450"/>
                  </a:lnTo>
                  <a:lnTo>
                    <a:pt x="360" y="462"/>
                  </a:lnTo>
                  <a:lnTo>
                    <a:pt x="360" y="462"/>
                  </a:lnTo>
                  <a:lnTo>
                    <a:pt x="356" y="480"/>
                  </a:lnTo>
                  <a:lnTo>
                    <a:pt x="348" y="496"/>
                  </a:lnTo>
                  <a:lnTo>
                    <a:pt x="348" y="496"/>
                  </a:lnTo>
                  <a:lnTo>
                    <a:pt x="334" y="492"/>
                  </a:lnTo>
                  <a:lnTo>
                    <a:pt x="318" y="490"/>
                  </a:lnTo>
                  <a:lnTo>
                    <a:pt x="286" y="490"/>
                  </a:lnTo>
                  <a:lnTo>
                    <a:pt x="286" y="490"/>
                  </a:lnTo>
                  <a:lnTo>
                    <a:pt x="294" y="474"/>
                  </a:lnTo>
                  <a:lnTo>
                    <a:pt x="294" y="464"/>
                  </a:lnTo>
                  <a:lnTo>
                    <a:pt x="292" y="460"/>
                  </a:lnTo>
                  <a:lnTo>
                    <a:pt x="290" y="456"/>
                  </a:lnTo>
                  <a:lnTo>
                    <a:pt x="290" y="456"/>
                  </a:lnTo>
                  <a:lnTo>
                    <a:pt x="292" y="442"/>
                  </a:lnTo>
                  <a:lnTo>
                    <a:pt x="292" y="430"/>
                  </a:lnTo>
                  <a:lnTo>
                    <a:pt x="290" y="418"/>
                  </a:lnTo>
                  <a:lnTo>
                    <a:pt x="284" y="406"/>
                  </a:lnTo>
                  <a:lnTo>
                    <a:pt x="278" y="396"/>
                  </a:lnTo>
                  <a:lnTo>
                    <a:pt x="270" y="386"/>
                  </a:lnTo>
                  <a:lnTo>
                    <a:pt x="254" y="366"/>
                  </a:lnTo>
                  <a:lnTo>
                    <a:pt x="254" y="366"/>
                  </a:lnTo>
                  <a:lnTo>
                    <a:pt x="256" y="352"/>
                  </a:lnTo>
                  <a:lnTo>
                    <a:pt x="256" y="346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46" y="334"/>
                  </a:lnTo>
                  <a:lnTo>
                    <a:pt x="244" y="328"/>
                  </a:lnTo>
                  <a:lnTo>
                    <a:pt x="242" y="320"/>
                  </a:lnTo>
                  <a:lnTo>
                    <a:pt x="242" y="314"/>
                  </a:lnTo>
                  <a:lnTo>
                    <a:pt x="244" y="300"/>
                  </a:lnTo>
                  <a:lnTo>
                    <a:pt x="244" y="292"/>
                  </a:lnTo>
                  <a:lnTo>
                    <a:pt x="242" y="286"/>
                  </a:lnTo>
                  <a:lnTo>
                    <a:pt x="242" y="286"/>
                  </a:lnTo>
                  <a:lnTo>
                    <a:pt x="230" y="270"/>
                  </a:lnTo>
                  <a:lnTo>
                    <a:pt x="218" y="254"/>
                  </a:lnTo>
                  <a:lnTo>
                    <a:pt x="210" y="236"/>
                  </a:lnTo>
                  <a:lnTo>
                    <a:pt x="206" y="218"/>
                  </a:lnTo>
                  <a:lnTo>
                    <a:pt x="206" y="218"/>
                  </a:lnTo>
                  <a:lnTo>
                    <a:pt x="202" y="190"/>
                  </a:lnTo>
                  <a:lnTo>
                    <a:pt x="200" y="176"/>
                  </a:lnTo>
                  <a:lnTo>
                    <a:pt x="196" y="164"/>
                  </a:lnTo>
                  <a:lnTo>
                    <a:pt x="192" y="150"/>
                  </a:lnTo>
                  <a:lnTo>
                    <a:pt x="184" y="140"/>
                  </a:lnTo>
                  <a:lnTo>
                    <a:pt x="174" y="132"/>
                  </a:lnTo>
                  <a:lnTo>
                    <a:pt x="162" y="124"/>
                  </a:lnTo>
                  <a:lnTo>
                    <a:pt x="162" y="124"/>
                  </a:lnTo>
                  <a:lnTo>
                    <a:pt x="154" y="122"/>
                  </a:lnTo>
                  <a:lnTo>
                    <a:pt x="144" y="122"/>
                  </a:lnTo>
                  <a:lnTo>
                    <a:pt x="128" y="126"/>
                  </a:lnTo>
                  <a:lnTo>
                    <a:pt x="128" y="126"/>
                  </a:lnTo>
                  <a:lnTo>
                    <a:pt x="116" y="108"/>
                  </a:lnTo>
                  <a:lnTo>
                    <a:pt x="108" y="102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76" y="96"/>
                  </a:lnTo>
                  <a:lnTo>
                    <a:pt x="72" y="94"/>
                  </a:lnTo>
                  <a:lnTo>
                    <a:pt x="68" y="92"/>
                  </a:lnTo>
                  <a:lnTo>
                    <a:pt x="64" y="88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56" y="74"/>
                  </a:lnTo>
                  <a:lnTo>
                    <a:pt x="52" y="66"/>
                  </a:lnTo>
                  <a:lnTo>
                    <a:pt x="48" y="58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8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6"/>
                  </a:lnTo>
                  <a:lnTo>
                    <a:pt x="38" y="14"/>
                  </a:lnTo>
                  <a:lnTo>
                    <a:pt x="56" y="22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close/>
                </a:path>
              </a:pathLst>
            </a:custGeom>
            <a:solidFill>
              <a:srgbClr val="65a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3"/>
            <p:cNvSpPr/>
            <p:nvPr/>
          </p:nvSpPr>
          <p:spPr>
            <a:xfrm>
              <a:off x="12720600" y="8103960"/>
              <a:ext cx="114120" cy="98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2" h="62">
                  <a:moveTo>
                    <a:pt x="72" y="8"/>
                  </a:moveTo>
                  <a:lnTo>
                    <a:pt x="72" y="8"/>
                  </a:lnTo>
                  <a:lnTo>
                    <a:pt x="52" y="20"/>
                  </a:lnTo>
                  <a:lnTo>
                    <a:pt x="34" y="32"/>
                  </a:lnTo>
                  <a:lnTo>
                    <a:pt x="18" y="4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36"/>
                  </a:lnTo>
                  <a:lnTo>
                    <a:pt x="6" y="2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4" y="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78b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4"/>
            <p:cNvSpPr/>
            <p:nvPr/>
          </p:nvSpPr>
          <p:spPr>
            <a:xfrm>
              <a:off x="12422160" y="8110440"/>
              <a:ext cx="1104840" cy="101268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696" h="638">
                  <a:moveTo>
                    <a:pt x="464" y="54"/>
                  </a:moveTo>
                  <a:lnTo>
                    <a:pt x="464" y="54"/>
                  </a:lnTo>
                  <a:lnTo>
                    <a:pt x="480" y="80"/>
                  </a:lnTo>
                  <a:lnTo>
                    <a:pt x="498" y="106"/>
                  </a:lnTo>
                  <a:lnTo>
                    <a:pt x="498" y="106"/>
                  </a:lnTo>
                  <a:lnTo>
                    <a:pt x="506" y="108"/>
                  </a:lnTo>
                  <a:lnTo>
                    <a:pt x="516" y="112"/>
                  </a:lnTo>
                  <a:lnTo>
                    <a:pt x="536" y="116"/>
                  </a:lnTo>
                  <a:lnTo>
                    <a:pt x="544" y="118"/>
                  </a:lnTo>
                  <a:lnTo>
                    <a:pt x="552" y="124"/>
                  </a:lnTo>
                  <a:lnTo>
                    <a:pt x="558" y="130"/>
                  </a:lnTo>
                  <a:lnTo>
                    <a:pt x="564" y="140"/>
                  </a:lnTo>
                  <a:lnTo>
                    <a:pt x="564" y="140"/>
                  </a:lnTo>
                  <a:lnTo>
                    <a:pt x="566" y="154"/>
                  </a:lnTo>
                  <a:lnTo>
                    <a:pt x="572" y="168"/>
                  </a:lnTo>
                  <a:lnTo>
                    <a:pt x="578" y="180"/>
                  </a:lnTo>
                  <a:lnTo>
                    <a:pt x="586" y="192"/>
                  </a:lnTo>
                  <a:lnTo>
                    <a:pt x="596" y="204"/>
                  </a:lnTo>
                  <a:lnTo>
                    <a:pt x="608" y="214"/>
                  </a:lnTo>
                  <a:lnTo>
                    <a:pt x="620" y="222"/>
                  </a:lnTo>
                  <a:lnTo>
                    <a:pt x="632" y="228"/>
                  </a:lnTo>
                  <a:lnTo>
                    <a:pt x="632" y="228"/>
                  </a:lnTo>
                  <a:lnTo>
                    <a:pt x="636" y="238"/>
                  </a:lnTo>
                  <a:lnTo>
                    <a:pt x="640" y="246"/>
                  </a:lnTo>
                  <a:lnTo>
                    <a:pt x="640" y="256"/>
                  </a:lnTo>
                  <a:lnTo>
                    <a:pt x="640" y="264"/>
                  </a:lnTo>
                  <a:lnTo>
                    <a:pt x="638" y="282"/>
                  </a:lnTo>
                  <a:lnTo>
                    <a:pt x="634" y="302"/>
                  </a:lnTo>
                  <a:lnTo>
                    <a:pt x="630" y="320"/>
                  </a:lnTo>
                  <a:lnTo>
                    <a:pt x="628" y="338"/>
                  </a:lnTo>
                  <a:lnTo>
                    <a:pt x="628" y="348"/>
                  </a:lnTo>
                  <a:lnTo>
                    <a:pt x="628" y="358"/>
                  </a:lnTo>
                  <a:lnTo>
                    <a:pt x="630" y="368"/>
                  </a:lnTo>
                  <a:lnTo>
                    <a:pt x="634" y="376"/>
                  </a:lnTo>
                  <a:lnTo>
                    <a:pt x="634" y="376"/>
                  </a:lnTo>
                  <a:lnTo>
                    <a:pt x="642" y="390"/>
                  </a:lnTo>
                  <a:lnTo>
                    <a:pt x="652" y="402"/>
                  </a:lnTo>
                  <a:lnTo>
                    <a:pt x="660" y="414"/>
                  </a:lnTo>
                  <a:lnTo>
                    <a:pt x="670" y="426"/>
                  </a:lnTo>
                  <a:lnTo>
                    <a:pt x="670" y="426"/>
                  </a:lnTo>
                  <a:lnTo>
                    <a:pt x="674" y="426"/>
                  </a:lnTo>
                  <a:lnTo>
                    <a:pt x="676" y="430"/>
                  </a:lnTo>
                  <a:lnTo>
                    <a:pt x="678" y="432"/>
                  </a:lnTo>
                  <a:lnTo>
                    <a:pt x="682" y="436"/>
                  </a:lnTo>
                  <a:lnTo>
                    <a:pt x="682" y="436"/>
                  </a:lnTo>
                  <a:lnTo>
                    <a:pt x="692" y="450"/>
                  </a:lnTo>
                  <a:lnTo>
                    <a:pt x="696" y="458"/>
                  </a:lnTo>
                  <a:lnTo>
                    <a:pt x="696" y="466"/>
                  </a:lnTo>
                  <a:lnTo>
                    <a:pt x="696" y="466"/>
                  </a:lnTo>
                  <a:lnTo>
                    <a:pt x="674" y="492"/>
                  </a:lnTo>
                  <a:lnTo>
                    <a:pt x="662" y="504"/>
                  </a:lnTo>
                  <a:lnTo>
                    <a:pt x="652" y="518"/>
                  </a:lnTo>
                  <a:lnTo>
                    <a:pt x="644" y="532"/>
                  </a:lnTo>
                  <a:lnTo>
                    <a:pt x="638" y="548"/>
                  </a:lnTo>
                  <a:lnTo>
                    <a:pt x="634" y="564"/>
                  </a:lnTo>
                  <a:lnTo>
                    <a:pt x="634" y="582"/>
                  </a:lnTo>
                  <a:lnTo>
                    <a:pt x="634" y="582"/>
                  </a:lnTo>
                  <a:lnTo>
                    <a:pt x="628" y="596"/>
                  </a:lnTo>
                  <a:lnTo>
                    <a:pt x="620" y="610"/>
                  </a:lnTo>
                  <a:lnTo>
                    <a:pt x="614" y="622"/>
                  </a:lnTo>
                  <a:lnTo>
                    <a:pt x="610" y="638"/>
                  </a:lnTo>
                  <a:lnTo>
                    <a:pt x="610" y="638"/>
                  </a:lnTo>
                  <a:lnTo>
                    <a:pt x="598" y="624"/>
                  </a:lnTo>
                  <a:lnTo>
                    <a:pt x="584" y="614"/>
                  </a:lnTo>
                  <a:lnTo>
                    <a:pt x="568" y="604"/>
                  </a:lnTo>
                  <a:lnTo>
                    <a:pt x="554" y="598"/>
                  </a:lnTo>
                  <a:lnTo>
                    <a:pt x="554" y="598"/>
                  </a:lnTo>
                  <a:lnTo>
                    <a:pt x="542" y="590"/>
                  </a:lnTo>
                  <a:lnTo>
                    <a:pt x="532" y="586"/>
                  </a:lnTo>
                  <a:lnTo>
                    <a:pt x="510" y="580"/>
                  </a:lnTo>
                  <a:lnTo>
                    <a:pt x="486" y="572"/>
                  </a:lnTo>
                  <a:lnTo>
                    <a:pt x="476" y="568"/>
                  </a:lnTo>
                  <a:lnTo>
                    <a:pt x="466" y="562"/>
                  </a:lnTo>
                  <a:lnTo>
                    <a:pt x="466" y="562"/>
                  </a:lnTo>
                  <a:lnTo>
                    <a:pt x="446" y="556"/>
                  </a:lnTo>
                  <a:lnTo>
                    <a:pt x="428" y="552"/>
                  </a:lnTo>
                  <a:lnTo>
                    <a:pt x="408" y="552"/>
                  </a:lnTo>
                  <a:lnTo>
                    <a:pt x="388" y="554"/>
                  </a:lnTo>
                  <a:lnTo>
                    <a:pt x="388" y="554"/>
                  </a:lnTo>
                  <a:lnTo>
                    <a:pt x="394" y="550"/>
                  </a:lnTo>
                  <a:lnTo>
                    <a:pt x="396" y="548"/>
                  </a:lnTo>
                  <a:lnTo>
                    <a:pt x="396" y="544"/>
                  </a:lnTo>
                  <a:lnTo>
                    <a:pt x="396" y="544"/>
                  </a:lnTo>
                  <a:lnTo>
                    <a:pt x="390" y="540"/>
                  </a:lnTo>
                  <a:lnTo>
                    <a:pt x="382" y="538"/>
                  </a:lnTo>
                  <a:lnTo>
                    <a:pt x="364" y="536"/>
                  </a:lnTo>
                  <a:lnTo>
                    <a:pt x="348" y="538"/>
                  </a:lnTo>
                  <a:lnTo>
                    <a:pt x="330" y="540"/>
                  </a:lnTo>
                  <a:lnTo>
                    <a:pt x="330" y="540"/>
                  </a:lnTo>
                  <a:lnTo>
                    <a:pt x="314" y="546"/>
                  </a:lnTo>
                  <a:lnTo>
                    <a:pt x="296" y="552"/>
                  </a:lnTo>
                  <a:lnTo>
                    <a:pt x="280" y="560"/>
                  </a:lnTo>
                  <a:lnTo>
                    <a:pt x="272" y="566"/>
                  </a:lnTo>
                  <a:lnTo>
                    <a:pt x="266" y="574"/>
                  </a:lnTo>
                  <a:lnTo>
                    <a:pt x="266" y="574"/>
                  </a:lnTo>
                  <a:lnTo>
                    <a:pt x="260" y="570"/>
                  </a:lnTo>
                  <a:lnTo>
                    <a:pt x="256" y="570"/>
                  </a:lnTo>
                  <a:lnTo>
                    <a:pt x="244" y="572"/>
                  </a:lnTo>
                  <a:lnTo>
                    <a:pt x="244" y="572"/>
                  </a:lnTo>
                  <a:lnTo>
                    <a:pt x="236" y="578"/>
                  </a:lnTo>
                  <a:lnTo>
                    <a:pt x="234" y="584"/>
                  </a:lnTo>
                  <a:lnTo>
                    <a:pt x="232" y="588"/>
                  </a:lnTo>
                  <a:lnTo>
                    <a:pt x="232" y="588"/>
                  </a:lnTo>
                  <a:lnTo>
                    <a:pt x="234" y="596"/>
                  </a:lnTo>
                  <a:lnTo>
                    <a:pt x="232" y="598"/>
                  </a:lnTo>
                  <a:lnTo>
                    <a:pt x="232" y="598"/>
                  </a:lnTo>
                  <a:lnTo>
                    <a:pt x="224" y="592"/>
                  </a:lnTo>
                  <a:lnTo>
                    <a:pt x="218" y="584"/>
                  </a:lnTo>
                  <a:lnTo>
                    <a:pt x="214" y="576"/>
                  </a:lnTo>
                  <a:lnTo>
                    <a:pt x="210" y="568"/>
                  </a:lnTo>
                  <a:lnTo>
                    <a:pt x="208" y="560"/>
                  </a:lnTo>
                  <a:lnTo>
                    <a:pt x="206" y="550"/>
                  </a:lnTo>
                  <a:lnTo>
                    <a:pt x="208" y="532"/>
                  </a:lnTo>
                  <a:lnTo>
                    <a:pt x="208" y="532"/>
                  </a:lnTo>
                  <a:lnTo>
                    <a:pt x="212" y="520"/>
                  </a:lnTo>
                  <a:lnTo>
                    <a:pt x="216" y="508"/>
                  </a:lnTo>
                  <a:lnTo>
                    <a:pt x="216" y="508"/>
                  </a:lnTo>
                  <a:lnTo>
                    <a:pt x="214" y="506"/>
                  </a:lnTo>
                  <a:lnTo>
                    <a:pt x="210" y="506"/>
                  </a:lnTo>
                  <a:lnTo>
                    <a:pt x="206" y="508"/>
                  </a:lnTo>
                  <a:lnTo>
                    <a:pt x="202" y="508"/>
                  </a:lnTo>
                  <a:lnTo>
                    <a:pt x="202" y="508"/>
                  </a:lnTo>
                  <a:lnTo>
                    <a:pt x="182" y="520"/>
                  </a:lnTo>
                  <a:lnTo>
                    <a:pt x="166" y="536"/>
                  </a:lnTo>
                  <a:lnTo>
                    <a:pt x="154" y="554"/>
                  </a:lnTo>
                  <a:lnTo>
                    <a:pt x="150" y="564"/>
                  </a:lnTo>
                  <a:lnTo>
                    <a:pt x="146" y="576"/>
                  </a:lnTo>
                  <a:lnTo>
                    <a:pt x="146" y="576"/>
                  </a:lnTo>
                  <a:lnTo>
                    <a:pt x="134" y="572"/>
                  </a:lnTo>
                  <a:lnTo>
                    <a:pt x="122" y="566"/>
                  </a:lnTo>
                  <a:lnTo>
                    <a:pt x="112" y="560"/>
                  </a:lnTo>
                  <a:lnTo>
                    <a:pt x="102" y="554"/>
                  </a:lnTo>
                  <a:lnTo>
                    <a:pt x="84" y="536"/>
                  </a:lnTo>
                  <a:lnTo>
                    <a:pt x="68" y="516"/>
                  </a:lnTo>
                  <a:lnTo>
                    <a:pt x="54" y="496"/>
                  </a:lnTo>
                  <a:lnTo>
                    <a:pt x="42" y="474"/>
                  </a:lnTo>
                  <a:lnTo>
                    <a:pt x="32" y="450"/>
                  </a:lnTo>
                  <a:lnTo>
                    <a:pt x="24" y="428"/>
                  </a:lnTo>
                  <a:lnTo>
                    <a:pt x="24" y="428"/>
                  </a:lnTo>
                  <a:lnTo>
                    <a:pt x="14" y="404"/>
                  </a:lnTo>
                  <a:lnTo>
                    <a:pt x="8" y="378"/>
                  </a:lnTo>
                  <a:lnTo>
                    <a:pt x="4" y="350"/>
                  </a:lnTo>
                  <a:lnTo>
                    <a:pt x="0" y="324"/>
                  </a:lnTo>
                  <a:lnTo>
                    <a:pt x="0" y="296"/>
                  </a:lnTo>
                  <a:lnTo>
                    <a:pt x="2" y="268"/>
                  </a:lnTo>
                  <a:lnTo>
                    <a:pt x="4" y="240"/>
                  </a:lnTo>
                  <a:lnTo>
                    <a:pt x="10" y="214"/>
                  </a:lnTo>
                  <a:lnTo>
                    <a:pt x="10" y="214"/>
                  </a:lnTo>
                  <a:lnTo>
                    <a:pt x="14" y="204"/>
                  </a:lnTo>
                  <a:lnTo>
                    <a:pt x="20" y="196"/>
                  </a:lnTo>
                  <a:lnTo>
                    <a:pt x="36" y="180"/>
                  </a:lnTo>
                  <a:lnTo>
                    <a:pt x="52" y="164"/>
                  </a:lnTo>
                  <a:lnTo>
                    <a:pt x="58" y="156"/>
                  </a:lnTo>
                  <a:lnTo>
                    <a:pt x="62" y="146"/>
                  </a:lnTo>
                  <a:lnTo>
                    <a:pt x="62" y="146"/>
                  </a:lnTo>
                  <a:lnTo>
                    <a:pt x="64" y="134"/>
                  </a:lnTo>
                  <a:lnTo>
                    <a:pt x="68" y="122"/>
                  </a:lnTo>
                  <a:lnTo>
                    <a:pt x="74" y="108"/>
                  </a:lnTo>
                  <a:lnTo>
                    <a:pt x="82" y="98"/>
                  </a:lnTo>
                  <a:lnTo>
                    <a:pt x="90" y="88"/>
                  </a:lnTo>
                  <a:lnTo>
                    <a:pt x="100" y="78"/>
                  </a:lnTo>
                  <a:lnTo>
                    <a:pt x="112" y="72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150" y="40"/>
                  </a:lnTo>
                  <a:lnTo>
                    <a:pt x="164" y="28"/>
                  </a:lnTo>
                  <a:lnTo>
                    <a:pt x="178" y="16"/>
                  </a:lnTo>
                  <a:lnTo>
                    <a:pt x="178" y="16"/>
                  </a:lnTo>
                  <a:lnTo>
                    <a:pt x="180" y="22"/>
                  </a:lnTo>
                  <a:lnTo>
                    <a:pt x="184" y="28"/>
                  </a:lnTo>
                  <a:lnTo>
                    <a:pt x="184" y="28"/>
                  </a:lnTo>
                  <a:lnTo>
                    <a:pt x="180" y="44"/>
                  </a:lnTo>
                  <a:lnTo>
                    <a:pt x="178" y="62"/>
                  </a:lnTo>
                  <a:lnTo>
                    <a:pt x="176" y="70"/>
                  </a:lnTo>
                  <a:lnTo>
                    <a:pt x="174" y="78"/>
                  </a:lnTo>
                  <a:lnTo>
                    <a:pt x="170" y="86"/>
                  </a:lnTo>
                  <a:lnTo>
                    <a:pt x="162" y="92"/>
                  </a:lnTo>
                  <a:lnTo>
                    <a:pt x="162" y="92"/>
                  </a:lnTo>
                  <a:lnTo>
                    <a:pt x="160" y="102"/>
                  </a:lnTo>
                  <a:lnTo>
                    <a:pt x="156" y="114"/>
                  </a:lnTo>
                  <a:lnTo>
                    <a:pt x="162" y="116"/>
                  </a:lnTo>
                  <a:lnTo>
                    <a:pt x="162" y="116"/>
                  </a:lnTo>
                  <a:lnTo>
                    <a:pt x="170" y="98"/>
                  </a:lnTo>
                  <a:lnTo>
                    <a:pt x="174" y="88"/>
                  </a:lnTo>
                  <a:lnTo>
                    <a:pt x="180" y="80"/>
                  </a:lnTo>
                  <a:lnTo>
                    <a:pt x="180" y="80"/>
                  </a:lnTo>
                  <a:lnTo>
                    <a:pt x="200" y="58"/>
                  </a:lnTo>
                  <a:lnTo>
                    <a:pt x="222" y="38"/>
                  </a:lnTo>
                  <a:lnTo>
                    <a:pt x="244" y="22"/>
                  </a:lnTo>
                  <a:lnTo>
                    <a:pt x="268" y="8"/>
                  </a:lnTo>
                  <a:lnTo>
                    <a:pt x="268" y="8"/>
                  </a:lnTo>
                  <a:lnTo>
                    <a:pt x="280" y="12"/>
                  </a:lnTo>
                  <a:lnTo>
                    <a:pt x="290" y="12"/>
                  </a:lnTo>
                  <a:lnTo>
                    <a:pt x="300" y="12"/>
                  </a:lnTo>
                  <a:lnTo>
                    <a:pt x="312" y="10"/>
                  </a:lnTo>
                  <a:lnTo>
                    <a:pt x="332" y="4"/>
                  </a:lnTo>
                  <a:lnTo>
                    <a:pt x="344" y="2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70" y="0"/>
                  </a:lnTo>
                  <a:lnTo>
                    <a:pt x="388" y="2"/>
                  </a:lnTo>
                  <a:lnTo>
                    <a:pt x="402" y="6"/>
                  </a:lnTo>
                  <a:lnTo>
                    <a:pt x="416" y="12"/>
                  </a:lnTo>
                  <a:lnTo>
                    <a:pt x="430" y="20"/>
                  </a:lnTo>
                  <a:lnTo>
                    <a:pt x="442" y="28"/>
                  </a:lnTo>
                  <a:lnTo>
                    <a:pt x="454" y="40"/>
                  </a:lnTo>
                  <a:lnTo>
                    <a:pt x="464" y="54"/>
                  </a:lnTo>
                  <a:lnTo>
                    <a:pt x="464" y="54"/>
                  </a:lnTo>
                  <a:close/>
                </a:path>
              </a:pathLst>
            </a:custGeom>
            <a:solidFill>
              <a:srgbClr val="95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5"/>
            <p:cNvSpPr/>
            <p:nvPr/>
          </p:nvSpPr>
          <p:spPr>
            <a:xfrm>
              <a:off x="12742920" y="8316720"/>
              <a:ext cx="149040" cy="60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4" h="38">
                  <a:moveTo>
                    <a:pt x="94" y="28"/>
                  </a:moveTo>
                  <a:lnTo>
                    <a:pt x="94" y="28"/>
                  </a:lnTo>
                  <a:lnTo>
                    <a:pt x="92" y="34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80" y="26"/>
                  </a:lnTo>
                  <a:lnTo>
                    <a:pt x="70" y="18"/>
                  </a:lnTo>
                  <a:lnTo>
                    <a:pt x="60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8" y="12"/>
                  </a:lnTo>
                  <a:lnTo>
                    <a:pt x="22" y="1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70" y="6"/>
                  </a:lnTo>
                  <a:lnTo>
                    <a:pt x="78" y="12"/>
                  </a:lnTo>
                  <a:lnTo>
                    <a:pt x="86" y="20"/>
                  </a:lnTo>
                  <a:lnTo>
                    <a:pt x="94" y="28"/>
                  </a:lnTo>
                  <a:lnTo>
                    <a:pt x="9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6"/>
            <p:cNvSpPr/>
            <p:nvPr/>
          </p:nvSpPr>
          <p:spPr>
            <a:xfrm>
              <a:off x="13133520" y="8367480"/>
              <a:ext cx="145800" cy="60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2" h="38">
                  <a:moveTo>
                    <a:pt x="92" y="32"/>
                  </a:moveTo>
                  <a:lnTo>
                    <a:pt x="92" y="32"/>
                  </a:lnTo>
                  <a:lnTo>
                    <a:pt x="90" y="36"/>
                  </a:lnTo>
                  <a:lnTo>
                    <a:pt x="88" y="38"/>
                  </a:lnTo>
                  <a:lnTo>
                    <a:pt x="88" y="38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0" y="30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0" y="18"/>
                  </a:lnTo>
                  <a:lnTo>
                    <a:pt x="60" y="12"/>
                  </a:lnTo>
                  <a:lnTo>
                    <a:pt x="50" y="8"/>
                  </a:lnTo>
                  <a:lnTo>
                    <a:pt x="4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28" y="12"/>
                  </a:lnTo>
                  <a:lnTo>
                    <a:pt x="20" y="1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70" y="6"/>
                  </a:lnTo>
                  <a:lnTo>
                    <a:pt x="78" y="14"/>
                  </a:lnTo>
                  <a:lnTo>
                    <a:pt x="86" y="22"/>
                  </a:lnTo>
                  <a:lnTo>
                    <a:pt x="92" y="32"/>
                  </a:lnTo>
                  <a:lnTo>
                    <a:pt x="9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7"/>
            <p:cNvSpPr/>
            <p:nvPr/>
          </p:nvSpPr>
          <p:spPr>
            <a:xfrm>
              <a:off x="12196800" y="8405640"/>
              <a:ext cx="222120" cy="298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40" h="188">
                  <a:moveTo>
                    <a:pt x="76" y="6"/>
                  </a:moveTo>
                  <a:lnTo>
                    <a:pt x="76" y="6"/>
                  </a:lnTo>
                  <a:lnTo>
                    <a:pt x="80" y="1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74" y="22"/>
                  </a:lnTo>
                  <a:lnTo>
                    <a:pt x="64" y="22"/>
                  </a:lnTo>
                  <a:lnTo>
                    <a:pt x="54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0" y="38"/>
                  </a:lnTo>
                  <a:lnTo>
                    <a:pt x="38" y="4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52"/>
                  </a:lnTo>
                  <a:lnTo>
                    <a:pt x="44" y="54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6" y="60"/>
                  </a:lnTo>
                  <a:lnTo>
                    <a:pt x="40" y="60"/>
                  </a:lnTo>
                  <a:lnTo>
                    <a:pt x="34" y="60"/>
                  </a:lnTo>
                  <a:lnTo>
                    <a:pt x="32" y="62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28" y="68"/>
                  </a:lnTo>
                  <a:lnTo>
                    <a:pt x="24" y="68"/>
                  </a:lnTo>
                  <a:lnTo>
                    <a:pt x="20" y="6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74"/>
                  </a:lnTo>
                  <a:lnTo>
                    <a:pt x="20" y="76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8" y="78"/>
                  </a:lnTo>
                  <a:lnTo>
                    <a:pt x="32" y="76"/>
                  </a:lnTo>
                  <a:lnTo>
                    <a:pt x="36" y="72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66"/>
                  </a:lnTo>
                  <a:lnTo>
                    <a:pt x="58" y="62"/>
                  </a:lnTo>
                  <a:lnTo>
                    <a:pt x="62" y="56"/>
                  </a:lnTo>
                  <a:lnTo>
                    <a:pt x="66" y="56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66" y="48"/>
                  </a:lnTo>
                  <a:lnTo>
                    <a:pt x="62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8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32"/>
                  </a:lnTo>
                  <a:lnTo>
                    <a:pt x="80" y="3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86" y="44"/>
                  </a:lnTo>
                  <a:lnTo>
                    <a:pt x="90" y="46"/>
                  </a:lnTo>
                  <a:lnTo>
                    <a:pt x="94" y="48"/>
                  </a:lnTo>
                  <a:lnTo>
                    <a:pt x="96" y="50"/>
                  </a:lnTo>
                  <a:lnTo>
                    <a:pt x="98" y="52"/>
                  </a:lnTo>
                  <a:lnTo>
                    <a:pt x="98" y="52"/>
                  </a:lnTo>
                  <a:lnTo>
                    <a:pt x="98" y="58"/>
                  </a:lnTo>
                  <a:lnTo>
                    <a:pt x="98" y="62"/>
                  </a:lnTo>
                  <a:lnTo>
                    <a:pt x="94" y="72"/>
                  </a:lnTo>
                  <a:lnTo>
                    <a:pt x="86" y="80"/>
                  </a:lnTo>
                  <a:lnTo>
                    <a:pt x="78" y="86"/>
                  </a:lnTo>
                  <a:lnTo>
                    <a:pt x="76" y="86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8" y="110"/>
                  </a:lnTo>
                  <a:lnTo>
                    <a:pt x="84" y="126"/>
                  </a:lnTo>
                  <a:lnTo>
                    <a:pt x="88" y="134"/>
                  </a:lnTo>
                  <a:lnTo>
                    <a:pt x="94" y="142"/>
                  </a:lnTo>
                  <a:lnTo>
                    <a:pt x="100" y="146"/>
                  </a:lnTo>
                  <a:lnTo>
                    <a:pt x="110" y="150"/>
                  </a:lnTo>
                  <a:lnTo>
                    <a:pt x="110" y="150"/>
                  </a:lnTo>
                  <a:lnTo>
                    <a:pt x="124" y="152"/>
                  </a:lnTo>
                  <a:lnTo>
                    <a:pt x="130" y="154"/>
                  </a:lnTo>
                  <a:lnTo>
                    <a:pt x="134" y="156"/>
                  </a:lnTo>
                  <a:lnTo>
                    <a:pt x="140" y="188"/>
                  </a:lnTo>
                  <a:lnTo>
                    <a:pt x="140" y="188"/>
                  </a:lnTo>
                  <a:lnTo>
                    <a:pt x="118" y="186"/>
                  </a:lnTo>
                  <a:lnTo>
                    <a:pt x="96" y="184"/>
                  </a:lnTo>
                  <a:lnTo>
                    <a:pt x="84" y="180"/>
                  </a:lnTo>
                  <a:lnTo>
                    <a:pt x="74" y="176"/>
                  </a:lnTo>
                  <a:lnTo>
                    <a:pt x="66" y="168"/>
                  </a:lnTo>
                  <a:lnTo>
                    <a:pt x="60" y="158"/>
                  </a:lnTo>
                  <a:lnTo>
                    <a:pt x="60" y="158"/>
                  </a:lnTo>
                  <a:lnTo>
                    <a:pt x="54" y="144"/>
                  </a:lnTo>
                  <a:lnTo>
                    <a:pt x="48" y="130"/>
                  </a:lnTo>
                  <a:lnTo>
                    <a:pt x="46" y="116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2" y="98"/>
                  </a:lnTo>
                  <a:lnTo>
                    <a:pt x="38" y="98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0" y="78"/>
                  </a:lnTo>
                  <a:lnTo>
                    <a:pt x="4" y="6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14" y="22"/>
                  </a:lnTo>
                  <a:lnTo>
                    <a:pt x="22" y="18"/>
                  </a:lnTo>
                  <a:lnTo>
                    <a:pt x="30" y="1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1b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8"/>
            <p:cNvSpPr/>
            <p:nvPr/>
          </p:nvSpPr>
          <p:spPr>
            <a:xfrm>
              <a:off x="12758760" y="8491320"/>
              <a:ext cx="117360" cy="66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4" h="42">
                  <a:moveTo>
                    <a:pt x="50" y="0"/>
                  </a:moveTo>
                  <a:lnTo>
                    <a:pt x="50" y="0"/>
                  </a:lnTo>
                  <a:lnTo>
                    <a:pt x="58" y="8"/>
                  </a:lnTo>
                  <a:lnTo>
                    <a:pt x="64" y="16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4"/>
                  </a:lnTo>
                  <a:lnTo>
                    <a:pt x="56" y="28"/>
                  </a:lnTo>
                  <a:lnTo>
                    <a:pt x="54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2" y="14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10" y="16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9"/>
            <p:cNvSpPr/>
            <p:nvPr/>
          </p:nvSpPr>
          <p:spPr>
            <a:xfrm>
              <a:off x="13130280" y="854208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0" y="22"/>
                  </a:moveTo>
                  <a:lnTo>
                    <a:pt x="70" y="22"/>
                  </a:lnTo>
                  <a:lnTo>
                    <a:pt x="76" y="32"/>
                  </a:lnTo>
                  <a:lnTo>
                    <a:pt x="76" y="36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56" y="26"/>
                  </a:lnTo>
                  <a:lnTo>
                    <a:pt x="5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24" y="20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6" y="2"/>
                  </a:lnTo>
                  <a:lnTo>
                    <a:pt x="7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0"/>
            <p:cNvSpPr/>
            <p:nvPr/>
          </p:nvSpPr>
          <p:spPr>
            <a:xfrm>
              <a:off x="12593520" y="861840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8"/>
                  </a:moveTo>
                  <a:lnTo>
                    <a:pt x="44" y="8"/>
                  </a:lnTo>
                  <a:lnTo>
                    <a:pt x="44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2" y="8"/>
                  </a:lnTo>
                  <a:lnTo>
                    <a:pt x="12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44" y="8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1"/>
            <p:cNvSpPr/>
            <p:nvPr/>
          </p:nvSpPr>
          <p:spPr>
            <a:xfrm>
              <a:off x="12634920" y="8653320"/>
              <a:ext cx="69840" cy="1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4" h="12">
                  <a:moveTo>
                    <a:pt x="44" y="8"/>
                  </a:moveTo>
                  <a:lnTo>
                    <a:pt x="44" y="8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44" y="8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2"/>
            <p:cNvSpPr/>
            <p:nvPr/>
          </p:nvSpPr>
          <p:spPr>
            <a:xfrm>
              <a:off x="12787200" y="8691480"/>
              <a:ext cx="371160" cy="15876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34" h="100">
                  <a:moveTo>
                    <a:pt x="34" y="2"/>
                  </a:moveTo>
                  <a:lnTo>
                    <a:pt x="34" y="2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40" y="26"/>
                  </a:lnTo>
                  <a:lnTo>
                    <a:pt x="52" y="42"/>
                  </a:lnTo>
                  <a:lnTo>
                    <a:pt x="64" y="54"/>
                  </a:lnTo>
                  <a:lnTo>
                    <a:pt x="80" y="66"/>
                  </a:lnTo>
                  <a:lnTo>
                    <a:pt x="94" y="74"/>
                  </a:lnTo>
                  <a:lnTo>
                    <a:pt x="112" y="82"/>
                  </a:lnTo>
                  <a:lnTo>
                    <a:pt x="128" y="84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64" y="76"/>
                  </a:lnTo>
                  <a:lnTo>
                    <a:pt x="178" y="66"/>
                  </a:lnTo>
                  <a:lnTo>
                    <a:pt x="192" y="52"/>
                  </a:lnTo>
                  <a:lnTo>
                    <a:pt x="206" y="38"/>
                  </a:lnTo>
                  <a:lnTo>
                    <a:pt x="206" y="38"/>
                  </a:lnTo>
                  <a:lnTo>
                    <a:pt x="204" y="34"/>
                  </a:lnTo>
                  <a:lnTo>
                    <a:pt x="206" y="32"/>
                  </a:lnTo>
                  <a:lnTo>
                    <a:pt x="208" y="30"/>
                  </a:lnTo>
                  <a:lnTo>
                    <a:pt x="210" y="28"/>
                  </a:lnTo>
                  <a:lnTo>
                    <a:pt x="210" y="28"/>
                  </a:lnTo>
                  <a:lnTo>
                    <a:pt x="218" y="34"/>
                  </a:lnTo>
                  <a:lnTo>
                    <a:pt x="224" y="40"/>
                  </a:lnTo>
                  <a:lnTo>
                    <a:pt x="228" y="48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60"/>
                  </a:lnTo>
                  <a:lnTo>
                    <a:pt x="230" y="64"/>
                  </a:lnTo>
                  <a:lnTo>
                    <a:pt x="230" y="64"/>
                  </a:lnTo>
                  <a:lnTo>
                    <a:pt x="226" y="62"/>
                  </a:lnTo>
                  <a:lnTo>
                    <a:pt x="220" y="60"/>
                  </a:lnTo>
                  <a:lnTo>
                    <a:pt x="214" y="50"/>
                  </a:lnTo>
                  <a:lnTo>
                    <a:pt x="214" y="50"/>
                  </a:lnTo>
                  <a:lnTo>
                    <a:pt x="190" y="74"/>
                  </a:lnTo>
                  <a:lnTo>
                    <a:pt x="178" y="82"/>
                  </a:lnTo>
                  <a:lnTo>
                    <a:pt x="166" y="90"/>
                  </a:lnTo>
                  <a:lnTo>
                    <a:pt x="150" y="96"/>
                  </a:lnTo>
                  <a:lnTo>
                    <a:pt x="136" y="100"/>
                  </a:lnTo>
                  <a:lnTo>
                    <a:pt x="120" y="98"/>
                  </a:lnTo>
                  <a:lnTo>
                    <a:pt x="104" y="94"/>
                  </a:lnTo>
                  <a:lnTo>
                    <a:pt x="104" y="94"/>
                  </a:lnTo>
                  <a:lnTo>
                    <a:pt x="92" y="90"/>
                  </a:lnTo>
                  <a:lnTo>
                    <a:pt x="80" y="82"/>
                  </a:lnTo>
                  <a:lnTo>
                    <a:pt x="56" y="66"/>
                  </a:lnTo>
                  <a:lnTo>
                    <a:pt x="36" y="4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28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14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3"/>
            <p:cNvSpPr/>
            <p:nvPr/>
          </p:nvSpPr>
          <p:spPr>
            <a:xfrm>
              <a:off x="13238280" y="8710560"/>
              <a:ext cx="91800" cy="1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" h="12">
                  <a:moveTo>
                    <a:pt x="58" y="6"/>
                  </a:moveTo>
                  <a:lnTo>
                    <a:pt x="58" y="6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4"/>
            <p:cNvSpPr/>
            <p:nvPr/>
          </p:nvSpPr>
          <p:spPr>
            <a:xfrm>
              <a:off x="13406400" y="8710560"/>
              <a:ext cx="834840" cy="88884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526" h="560">
                  <a:moveTo>
                    <a:pt x="268" y="2"/>
                  </a:moveTo>
                  <a:lnTo>
                    <a:pt x="268" y="2"/>
                  </a:lnTo>
                  <a:lnTo>
                    <a:pt x="284" y="0"/>
                  </a:lnTo>
                  <a:lnTo>
                    <a:pt x="300" y="0"/>
                  </a:lnTo>
                  <a:lnTo>
                    <a:pt x="316" y="2"/>
                  </a:lnTo>
                  <a:lnTo>
                    <a:pt x="332" y="6"/>
                  </a:lnTo>
                  <a:lnTo>
                    <a:pt x="348" y="10"/>
                  </a:lnTo>
                  <a:lnTo>
                    <a:pt x="364" y="18"/>
                  </a:lnTo>
                  <a:lnTo>
                    <a:pt x="380" y="26"/>
                  </a:lnTo>
                  <a:lnTo>
                    <a:pt x="394" y="36"/>
                  </a:lnTo>
                  <a:lnTo>
                    <a:pt x="394" y="36"/>
                  </a:lnTo>
                  <a:lnTo>
                    <a:pt x="410" y="50"/>
                  </a:lnTo>
                  <a:lnTo>
                    <a:pt x="424" y="66"/>
                  </a:lnTo>
                  <a:lnTo>
                    <a:pt x="436" y="84"/>
                  </a:lnTo>
                  <a:lnTo>
                    <a:pt x="440" y="94"/>
                  </a:lnTo>
                  <a:lnTo>
                    <a:pt x="444" y="104"/>
                  </a:lnTo>
                  <a:lnTo>
                    <a:pt x="444" y="104"/>
                  </a:lnTo>
                  <a:lnTo>
                    <a:pt x="454" y="112"/>
                  </a:lnTo>
                  <a:lnTo>
                    <a:pt x="464" y="118"/>
                  </a:lnTo>
                  <a:lnTo>
                    <a:pt x="486" y="132"/>
                  </a:lnTo>
                  <a:lnTo>
                    <a:pt x="496" y="140"/>
                  </a:lnTo>
                  <a:lnTo>
                    <a:pt x="504" y="150"/>
                  </a:lnTo>
                  <a:lnTo>
                    <a:pt x="510" y="160"/>
                  </a:lnTo>
                  <a:lnTo>
                    <a:pt x="516" y="172"/>
                  </a:lnTo>
                  <a:lnTo>
                    <a:pt x="516" y="172"/>
                  </a:lnTo>
                  <a:lnTo>
                    <a:pt x="520" y="202"/>
                  </a:lnTo>
                  <a:lnTo>
                    <a:pt x="524" y="234"/>
                  </a:lnTo>
                  <a:lnTo>
                    <a:pt x="526" y="266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14" y="306"/>
                  </a:lnTo>
                  <a:lnTo>
                    <a:pt x="506" y="316"/>
                  </a:lnTo>
                  <a:lnTo>
                    <a:pt x="502" y="328"/>
                  </a:lnTo>
                  <a:lnTo>
                    <a:pt x="502" y="344"/>
                  </a:lnTo>
                  <a:lnTo>
                    <a:pt x="502" y="344"/>
                  </a:lnTo>
                  <a:lnTo>
                    <a:pt x="504" y="348"/>
                  </a:lnTo>
                  <a:lnTo>
                    <a:pt x="508" y="352"/>
                  </a:lnTo>
                  <a:lnTo>
                    <a:pt x="512" y="354"/>
                  </a:lnTo>
                  <a:lnTo>
                    <a:pt x="516" y="358"/>
                  </a:lnTo>
                  <a:lnTo>
                    <a:pt x="522" y="358"/>
                  </a:lnTo>
                  <a:lnTo>
                    <a:pt x="522" y="358"/>
                  </a:lnTo>
                  <a:lnTo>
                    <a:pt x="522" y="374"/>
                  </a:lnTo>
                  <a:lnTo>
                    <a:pt x="518" y="390"/>
                  </a:lnTo>
                  <a:lnTo>
                    <a:pt x="514" y="406"/>
                  </a:lnTo>
                  <a:lnTo>
                    <a:pt x="510" y="420"/>
                  </a:lnTo>
                  <a:lnTo>
                    <a:pt x="496" y="450"/>
                  </a:lnTo>
                  <a:lnTo>
                    <a:pt x="480" y="478"/>
                  </a:lnTo>
                  <a:lnTo>
                    <a:pt x="480" y="478"/>
                  </a:lnTo>
                  <a:lnTo>
                    <a:pt x="470" y="492"/>
                  </a:lnTo>
                  <a:lnTo>
                    <a:pt x="456" y="504"/>
                  </a:lnTo>
                  <a:lnTo>
                    <a:pt x="442" y="516"/>
                  </a:lnTo>
                  <a:lnTo>
                    <a:pt x="428" y="526"/>
                  </a:lnTo>
                  <a:lnTo>
                    <a:pt x="414" y="534"/>
                  </a:lnTo>
                  <a:lnTo>
                    <a:pt x="398" y="542"/>
                  </a:lnTo>
                  <a:lnTo>
                    <a:pt x="382" y="548"/>
                  </a:lnTo>
                  <a:lnTo>
                    <a:pt x="366" y="552"/>
                  </a:lnTo>
                  <a:lnTo>
                    <a:pt x="366" y="552"/>
                  </a:lnTo>
                  <a:lnTo>
                    <a:pt x="356" y="556"/>
                  </a:lnTo>
                  <a:lnTo>
                    <a:pt x="348" y="558"/>
                  </a:lnTo>
                  <a:lnTo>
                    <a:pt x="330" y="558"/>
                  </a:lnTo>
                  <a:lnTo>
                    <a:pt x="314" y="556"/>
                  </a:lnTo>
                  <a:lnTo>
                    <a:pt x="296" y="558"/>
                  </a:lnTo>
                  <a:lnTo>
                    <a:pt x="296" y="558"/>
                  </a:lnTo>
                  <a:lnTo>
                    <a:pt x="272" y="560"/>
                  </a:lnTo>
                  <a:lnTo>
                    <a:pt x="246" y="560"/>
                  </a:lnTo>
                  <a:lnTo>
                    <a:pt x="220" y="556"/>
                  </a:lnTo>
                  <a:lnTo>
                    <a:pt x="194" y="550"/>
                  </a:lnTo>
                  <a:lnTo>
                    <a:pt x="194" y="550"/>
                  </a:lnTo>
                  <a:lnTo>
                    <a:pt x="172" y="552"/>
                  </a:lnTo>
                  <a:lnTo>
                    <a:pt x="150" y="552"/>
                  </a:lnTo>
                  <a:lnTo>
                    <a:pt x="128" y="548"/>
                  </a:lnTo>
                  <a:lnTo>
                    <a:pt x="106" y="544"/>
                  </a:lnTo>
                  <a:lnTo>
                    <a:pt x="88" y="536"/>
                  </a:lnTo>
                  <a:lnTo>
                    <a:pt x="70" y="526"/>
                  </a:lnTo>
                  <a:lnTo>
                    <a:pt x="56" y="510"/>
                  </a:lnTo>
                  <a:lnTo>
                    <a:pt x="48" y="502"/>
                  </a:lnTo>
                  <a:lnTo>
                    <a:pt x="44" y="492"/>
                  </a:lnTo>
                  <a:lnTo>
                    <a:pt x="40" y="482"/>
                  </a:lnTo>
                  <a:lnTo>
                    <a:pt x="40" y="482"/>
                  </a:lnTo>
                  <a:lnTo>
                    <a:pt x="44" y="456"/>
                  </a:lnTo>
                  <a:lnTo>
                    <a:pt x="46" y="428"/>
                  </a:lnTo>
                  <a:lnTo>
                    <a:pt x="46" y="400"/>
                  </a:lnTo>
                  <a:lnTo>
                    <a:pt x="42" y="372"/>
                  </a:lnTo>
                  <a:lnTo>
                    <a:pt x="36" y="344"/>
                  </a:lnTo>
                  <a:lnTo>
                    <a:pt x="28" y="318"/>
                  </a:lnTo>
                  <a:lnTo>
                    <a:pt x="16" y="294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12" y="230"/>
                  </a:lnTo>
                  <a:lnTo>
                    <a:pt x="22" y="210"/>
                  </a:lnTo>
                  <a:lnTo>
                    <a:pt x="24" y="200"/>
                  </a:lnTo>
                  <a:lnTo>
                    <a:pt x="24" y="188"/>
                  </a:lnTo>
                  <a:lnTo>
                    <a:pt x="24" y="188"/>
                  </a:lnTo>
                  <a:lnTo>
                    <a:pt x="26" y="174"/>
                  </a:lnTo>
                  <a:lnTo>
                    <a:pt x="30" y="162"/>
                  </a:lnTo>
                  <a:lnTo>
                    <a:pt x="38" y="150"/>
                  </a:lnTo>
                  <a:lnTo>
                    <a:pt x="44" y="138"/>
                  </a:lnTo>
                  <a:lnTo>
                    <a:pt x="64" y="116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102" y="78"/>
                  </a:lnTo>
                  <a:lnTo>
                    <a:pt x="124" y="62"/>
                  </a:lnTo>
                  <a:lnTo>
                    <a:pt x="146" y="48"/>
                  </a:lnTo>
                  <a:lnTo>
                    <a:pt x="168" y="34"/>
                  </a:lnTo>
                  <a:lnTo>
                    <a:pt x="168" y="34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4" y="32"/>
                  </a:lnTo>
                  <a:lnTo>
                    <a:pt x="174" y="32"/>
                  </a:lnTo>
                  <a:lnTo>
                    <a:pt x="196" y="22"/>
                  </a:lnTo>
                  <a:lnTo>
                    <a:pt x="218" y="14"/>
                  </a:lnTo>
                  <a:lnTo>
                    <a:pt x="264" y="0"/>
                  </a:lnTo>
                  <a:lnTo>
                    <a:pt x="268" y="2"/>
                  </a:lnTo>
                  <a:close/>
                </a:path>
              </a:pathLst>
            </a:custGeom>
            <a:solidFill>
              <a:srgbClr val="e99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5"/>
            <p:cNvSpPr/>
            <p:nvPr/>
          </p:nvSpPr>
          <p:spPr>
            <a:xfrm>
              <a:off x="13295160" y="873576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50" y="6"/>
                  </a:moveTo>
                  <a:lnTo>
                    <a:pt x="50" y="6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28" y="6"/>
                  </a:lnTo>
                  <a:lnTo>
                    <a:pt x="2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6"/>
            <p:cNvSpPr/>
            <p:nvPr/>
          </p:nvSpPr>
          <p:spPr>
            <a:xfrm>
              <a:off x="13812840" y="8735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7"/>
            <p:cNvSpPr/>
            <p:nvPr/>
          </p:nvSpPr>
          <p:spPr>
            <a:xfrm>
              <a:off x="13736520" y="87548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4"/>
                  </a:move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8"/>
            <p:cNvSpPr/>
            <p:nvPr/>
          </p:nvSpPr>
          <p:spPr>
            <a:xfrm>
              <a:off x="13819320" y="8777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9"/>
            <p:cNvSpPr/>
            <p:nvPr/>
          </p:nvSpPr>
          <p:spPr>
            <a:xfrm>
              <a:off x="13692240" y="87771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6"/>
                  </a:move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0"/>
            <p:cNvSpPr/>
            <p:nvPr/>
          </p:nvSpPr>
          <p:spPr>
            <a:xfrm>
              <a:off x="13739760" y="87930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1"/>
            <p:cNvSpPr/>
            <p:nvPr/>
          </p:nvSpPr>
          <p:spPr>
            <a:xfrm>
              <a:off x="13962240" y="87930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4"/>
                  </a:move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2"/>
            <p:cNvSpPr/>
            <p:nvPr/>
          </p:nvSpPr>
          <p:spPr>
            <a:xfrm>
              <a:off x="14346360" y="882468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110" y="6"/>
                  </a:moveTo>
                  <a:lnTo>
                    <a:pt x="110" y="6"/>
                  </a:lnTo>
                  <a:lnTo>
                    <a:pt x="106" y="26"/>
                  </a:lnTo>
                  <a:lnTo>
                    <a:pt x="100" y="46"/>
                  </a:lnTo>
                  <a:lnTo>
                    <a:pt x="92" y="66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2" y="88"/>
                  </a:lnTo>
                  <a:lnTo>
                    <a:pt x="64" y="94"/>
                  </a:lnTo>
                  <a:lnTo>
                    <a:pt x="54" y="100"/>
                  </a:lnTo>
                  <a:lnTo>
                    <a:pt x="48" y="108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18" y="90"/>
                  </a:lnTo>
                  <a:lnTo>
                    <a:pt x="10" y="68"/>
                  </a:lnTo>
                  <a:lnTo>
                    <a:pt x="4" y="4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40"/>
                  </a:lnTo>
                  <a:lnTo>
                    <a:pt x="30" y="50"/>
                  </a:lnTo>
                  <a:lnTo>
                    <a:pt x="40" y="68"/>
                  </a:lnTo>
                  <a:lnTo>
                    <a:pt x="48" y="8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62" y="64"/>
                  </a:lnTo>
                  <a:lnTo>
                    <a:pt x="74" y="42"/>
                  </a:lnTo>
                  <a:lnTo>
                    <a:pt x="86" y="2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f1b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3"/>
            <p:cNvSpPr/>
            <p:nvPr/>
          </p:nvSpPr>
          <p:spPr>
            <a:xfrm>
              <a:off x="14057280" y="8853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4"/>
            <p:cNvSpPr/>
            <p:nvPr/>
          </p:nvSpPr>
          <p:spPr>
            <a:xfrm>
              <a:off x="13959000" y="8859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6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5"/>
            <p:cNvSpPr/>
            <p:nvPr/>
          </p:nvSpPr>
          <p:spPr>
            <a:xfrm>
              <a:off x="13581000" y="8869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6"/>
            <p:cNvSpPr/>
            <p:nvPr/>
          </p:nvSpPr>
          <p:spPr>
            <a:xfrm>
              <a:off x="14038200" y="88786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7"/>
            <p:cNvSpPr/>
            <p:nvPr/>
          </p:nvSpPr>
          <p:spPr>
            <a:xfrm>
              <a:off x="13622400" y="8891640"/>
              <a:ext cx="123480" cy="53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8" h="34">
                  <a:moveTo>
                    <a:pt x="78" y="28"/>
                  </a:moveTo>
                  <a:lnTo>
                    <a:pt x="78" y="28"/>
                  </a:lnTo>
                  <a:lnTo>
                    <a:pt x="78" y="32"/>
                  </a:lnTo>
                  <a:lnTo>
                    <a:pt x="76" y="32"/>
                  </a:lnTo>
                  <a:lnTo>
                    <a:pt x="74" y="34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62" y="24"/>
                  </a:lnTo>
                  <a:lnTo>
                    <a:pt x="52" y="16"/>
                  </a:lnTo>
                  <a:lnTo>
                    <a:pt x="48" y="12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6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6" y="20"/>
                  </a:lnTo>
                  <a:lnTo>
                    <a:pt x="14" y="12"/>
                  </a:lnTo>
                  <a:lnTo>
                    <a:pt x="22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8" y="8"/>
                  </a:lnTo>
                  <a:lnTo>
                    <a:pt x="70" y="18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8"/>
            <p:cNvSpPr/>
            <p:nvPr/>
          </p:nvSpPr>
          <p:spPr>
            <a:xfrm>
              <a:off x="13530240" y="8897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9"/>
            <p:cNvSpPr/>
            <p:nvPr/>
          </p:nvSpPr>
          <p:spPr>
            <a:xfrm>
              <a:off x="14070240" y="89074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2">
                  <a:moveTo>
                    <a:pt x="10" y="6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0"/>
            <p:cNvSpPr/>
            <p:nvPr/>
          </p:nvSpPr>
          <p:spPr>
            <a:xfrm>
              <a:off x="13511160" y="8916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1"/>
            <p:cNvSpPr/>
            <p:nvPr/>
          </p:nvSpPr>
          <p:spPr>
            <a:xfrm>
              <a:off x="13860360" y="8923320"/>
              <a:ext cx="133200" cy="7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4" h="48">
                  <a:moveTo>
                    <a:pt x="84" y="42"/>
                  </a:moveTo>
                  <a:lnTo>
                    <a:pt x="84" y="42"/>
                  </a:lnTo>
                  <a:lnTo>
                    <a:pt x="84" y="44"/>
                  </a:lnTo>
                  <a:lnTo>
                    <a:pt x="82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6" y="46"/>
                  </a:lnTo>
                  <a:lnTo>
                    <a:pt x="74" y="44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2" y="20"/>
                  </a:lnTo>
                  <a:lnTo>
                    <a:pt x="54" y="12"/>
                  </a:lnTo>
                  <a:lnTo>
                    <a:pt x="50" y="1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4" y="10"/>
                  </a:lnTo>
                  <a:lnTo>
                    <a:pt x="22" y="14"/>
                  </a:lnTo>
                  <a:lnTo>
                    <a:pt x="14" y="2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8"/>
                  </a:lnTo>
                  <a:lnTo>
                    <a:pt x="8" y="14"/>
                  </a:lnTo>
                  <a:lnTo>
                    <a:pt x="18" y="8"/>
                  </a:lnTo>
                  <a:lnTo>
                    <a:pt x="30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68" y="14"/>
                  </a:lnTo>
                  <a:lnTo>
                    <a:pt x="78" y="28"/>
                  </a:lnTo>
                  <a:lnTo>
                    <a:pt x="84" y="42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2"/>
            <p:cNvSpPr/>
            <p:nvPr/>
          </p:nvSpPr>
          <p:spPr>
            <a:xfrm>
              <a:off x="12536640" y="8932680"/>
              <a:ext cx="552240" cy="4032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48" h="254">
                  <a:moveTo>
                    <a:pt x="138" y="74"/>
                  </a:moveTo>
                  <a:lnTo>
                    <a:pt x="138" y="74"/>
                  </a:lnTo>
                  <a:lnTo>
                    <a:pt x="150" y="84"/>
                  </a:lnTo>
                  <a:lnTo>
                    <a:pt x="156" y="88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6" y="96"/>
                  </a:lnTo>
                  <a:lnTo>
                    <a:pt x="168" y="106"/>
                  </a:lnTo>
                  <a:lnTo>
                    <a:pt x="170" y="112"/>
                  </a:lnTo>
                  <a:lnTo>
                    <a:pt x="174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84" y="122"/>
                  </a:lnTo>
                  <a:lnTo>
                    <a:pt x="192" y="122"/>
                  </a:lnTo>
                  <a:lnTo>
                    <a:pt x="202" y="120"/>
                  </a:lnTo>
                  <a:lnTo>
                    <a:pt x="208" y="118"/>
                  </a:lnTo>
                  <a:lnTo>
                    <a:pt x="216" y="110"/>
                  </a:lnTo>
                  <a:lnTo>
                    <a:pt x="200" y="64"/>
                  </a:lnTo>
                  <a:lnTo>
                    <a:pt x="200" y="64"/>
                  </a:lnTo>
                  <a:lnTo>
                    <a:pt x="206" y="56"/>
                  </a:lnTo>
                  <a:lnTo>
                    <a:pt x="216" y="48"/>
                  </a:lnTo>
                  <a:lnTo>
                    <a:pt x="226" y="42"/>
                  </a:lnTo>
                  <a:lnTo>
                    <a:pt x="236" y="38"/>
                  </a:lnTo>
                  <a:lnTo>
                    <a:pt x="258" y="32"/>
                  </a:lnTo>
                  <a:lnTo>
                    <a:pt x="280" y="26"/>
                  </a:lnTo>
                  <a:lnTo>
                    <a:pt x="280" y="26"/>
                  </a:lnTo>
                  <a:lnTo>
                    <a:pt x="294" y="26"/>
                  </a:lnTo>
                  <a:lnTo>
                    <a:pt x="310" y="28"/>
                  </a:lnTo>
                  <a:lnTo>
                    <a:pt x="310" y="28"/>
                  </a:lnTo>
                  <a:lnTo>
                    <a:pt x="294" y="42"/>
                  </a:lnTo>
                  <a:lnTo>
                    <a:pt x="278" y="54"/>
                  </a:lnTo>
                  <a:lnTo>
                    <a:pt x="262" y="70"/>
                  </a:lnTo>
                  <a:lnTo>
                    <a:pt x="250" y="88"/>
                  </a:lnTo>
                  <a:lnTo>
                    <a:pt x="250" y="88"/>
                  </a:lnTo>
                  <a:lnTo>
                    <a:pt x="250" y="94"/>
                  </a:lnTo>
                  <a:lnTo>
                    <a:pt x="254" y="98"/>
                  </a:lnTo>
                  <a:lnTo>
                    <a:pt x="258" y="100"/>
                  </a:lnTo>
                  <a:lnTo>
                    <a:pt x="262" y="104"/>
                  </a:lnTo>
                  <a:lnTo>
                    <a:pt x="262" y="104"/>
                  </a:lnTo>
                  <a:lnTo>
                    <a:pt x="274" y="104"/>
                  </a:lnTo>
                  <a:lnTo>
                    <a:pt x="286" y="104"/>
                  </a:lnTo>
                  <a:lnTo>
                    <a:pt x="296" y="104"/>
                  </a:lnTo>
                  <a:lnTo>
                    <a:pt x="308" y="100"/>
                  </a:lnTo>
                  <a:lnTo>
                    <a:pt x="328" y="90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46" y="88"/>
                  </a:lnTo>
                  <a:lnTo>
                    <a:pt x="340" y="98"/>
                  </a:lnTo>
                  <a:lnTo>
                    <a:pt x="334" y="106"/>
                  </a:lnTo>
                  <a:lnTo>
                    <a:pt x="328" y="114"/>
                  </a:lnTo>
                  <a:lnTo>
                    <a:pt x="310" y="128"/>
                  </a:lnTo>
                  <a:lnTo>
                    <a:pt x="290" y="138"/>
                  </a:lnTo>
                  <a:lnTo>
                    <a:pt x="290" y="138"/>
                  </a:lnTo>
                  <a:lnTo>
                    <a:pt x="284" y="140"/>
                  </a:lnTo>
                  <a:lnTo>
                    <a:pt x="276" y="142"/>
                  </a:lnTo>
                  <a:lnTo>
                    <a:pt x="262" y="140"/>
                  </a:lnTo>
                  <a:lnTo>
                    <a:pt x="248" y="138"/>
                  </a:lnTo>
                  <a:lnTo>
                    <a:pt x="242" y="138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28" y="146"/>
                  </a:lnTo>
                  <a:lnTo>
                    <a:pt x="226" y="154"/>
                  </a:lnTo>
                  <a:lnTo>
                    <a:pt x="222" y="162"/>
                  </a:lnTo>
                  <a:lnTo>
                    <a:pt x="218" y="170"/>
                  </a:lnTo>
                  <a:lnTo>
                    <a:pt x="218" y="170"/>
                  </a:lnTo>
                  <a:lnTo>
                    <a:pt x="208" y="182"/>
                  </a:lnTo>
                  <a:lnTo>
                    <a:pt x="198" y="194"/>
                  </a:lnTo>
                  <a:lnTo>
                    <a:pt x="176" y="212"/>
                  </a:lnTo>
                  <a:lnTo>
                    <a:pt x="154" y="230"/>
                  </a:lnTo>
                  <a:lnTo>
                    <a:pt x="144" y="242"/>
                  </a:lnTo>
                  <a:lnTo>
                    <a:pt x="136" y="254"/>
                  </a:lnTo>
                  <a:lnTo>
                    <a:pt x="134" y="254"/>
                  </a:lnTo>
                  <a:lnTo>
                    <a:pt x="134" y="254"/>
                  </a:lnTo>
                  <a:lnTo>
                    <a:pt x="138" y="230"/>
                  </a:lnTo>
                  <a:lnTo>
                    <a:pt x="144" y="208"/>
                  </a:lnTo>
                  <a:lnTo>
                    <a:pt x="156" y="186"/>
                  </a:lnTo>
                  <a:lnTo>
                    <a:pt x="168" y="166"/>
                  </a:lnTo>
                  <a:lnTo>
                    <a:pt x="168" y="166"/>
                  </a:lnTo>
                  <a:lnTo>
                    <a:pt x="172" y="158"/>
                  </a:lnTo>
                  <a:lnTo>
                    <a:pt x="172" y="154"/>
                  </a:lnTo>
                  <a:lnTo>
                    <a:pt x="172" y="148"/>
                  </a:lnTo>
                  <a:lnTo>
                    <a:pt x="172" y="148"/>
                  </a:lnTo>
                  <a:lnTo>
                    <a:pt x="168" y="146"/>
                  </a:lnTo>
                  <a:lnTo>
                    <a:pt x="162" y="148"/>
                  </a:lnTo>
                  <a:lnTo>
                    <a:pt x="154" y="152"/>
                  </a:lnTo>
                  <a:lnTo>
                    <a:pt x="154" y="152"/>
                  </a:lnTo>
                  <a:lnTo>
                    <a:pt x="138" y="158"/>
                  </a:lnTo>
                  <a:lnTo>
                    <a:pt x="120" y="162"/>
                  </a:lnTo>
                  <a:lnTo>
                    <a:pt x="102" y="164"/>
                  </a:lnTo>
                  <a:lnTo>
                    <a:pt x="84" y="164"/>
                  </a:lnTo>
                  <a:lnTo>
                    <a:pt x="66" y="162"/>
                  </a:lnTo>
                  <a:lnTo>
                    <a:pt x="48" y="156"/>
                  </a:lnTo>
                  <a:lnTo>
                    <a:pt x="32" y="148"/>
                  </a:lnTo>
                  <a:lnTo>
                    <a:pt x="18" y="136"/>
                  </a:lnTo>
                  <a:lnTo>
                    <a:pt x="18" y="136"/>
                  </a:lnTo>
                  <a:lnTo>
                    <a:pt x="10" y="128"/>
                  </a:lnTo>
                  <a:lnTo>
                    <a:pt x="6" y="116"/>
                  </a:lnTo>
                  <a:lnTo>
                    <a:pt x="2" y="10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8" y="108"/>
                  </a:lnTo>
                  <a:lnTo>
                    <a:pt x="36" y="118"/>
                  </a:lnTo>
                  <a:lnTo>
                    <a:pt x="46" y="122"/>
                  </a:lnTo>
                  <a:lnTo>
                    <a:pt x="56" y="124"/>
                  </a:lnTo>
                  <a:lnTo>
                    <a:pt x="66" y="124"/>
                  </a:lnTo>
                  <a:lnTo>
                    <a:pt x="76" y="124"/>
                  </a:lnTo>
                  <a:lnTo>
                    <a:pt x="76" y="124"/>
                  </a:lnTo>
                  <a:lnTo>
                    <a:pt x="92" y="122"/>
                  </a:lnTo>
                  <a:lnTo>
                    <a:pt x="106" y="118"/>
                  </a:lnTo>
                  <a:lnTo>
                    <a:pt x="120" y="114"/>
                  </a:lnTo>
                  <a:lnTo>
                    <a:pt x="136" y="114"/>
                  </a:lnTo>
                  <a:lnTo>
                    <a:pt x="136" y="114"/>
                  </a:lnTo>
                  <a:lnTo>
                    <a:pt x="138" y="112"/>
                  </a:lnTo>
                  <a:lnTo>
                    <a:pt x="136" y="110"/>
                  </a:lnTo>
                  <a:lnTo>
                    <a:pt x="136" y="110"/>
                  </a:lnTo>
                  <a:lnTo>
                    <a:pt x="132" y="106"/>
                  </a:lnTo>
                  <a:lnTo>
                    <a:pt x="128" y="106"/>
                  </a:lnTo>
                  <a:lnTo>
                    <a:pt x="118" y="106"/>
                  </a:lnTo>
                  <a:lnTo>
                    <a:pt x="108" y="106"/>
                  </a:lnTo>
                  <a:lnTo>
                    <a:pt x="104" y="104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2" y="90"/>
                  </a:lnTo>
                  <a:lnTo>
                    <a:pt x="86" y="76"/>
                  </a:lnTo>
                  <a:lnTo>
                    <a:pt x="82" y="64"/>
                  </a:lnTo>
                  <a:lnTo>
                    <a:pt x="84" y="56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94" y="36"/>
                  </a:lnTo>
                  <a:lnTo>
                    <a:pt x="104" y="22"/>
                  </a:lnTo>
                  <a:lnTo>
                    <a:pt x="116" y="1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6" y="18"/>
                  </a:lnTo>
                  <a:lnTo>
                    <a:pt x="124" y="38"/>
                  </a:lnTo>
                  <a:lnTo>
                    <a:pt x="126" y="48"/>
                  </a:lnTo>
                  <a:lnTo>
                    <a:pt x="130" y="58"/>
                  </a:lnTo>
                  <a:lnTo>
                    <a:pt x="134" y="66"/>
                  </a:lnTo>
                  <a:lnTo>
                    <a:pt x="138" y="74"/>
                  </a:lnTo>
                  <a:lnTo>
                    <a:pt x="138" y="74"/>
                  </a:lnTo>
                  <a:close/>
                </a:path>
              </a:pathLst>
            </a:custGeom>
            <a:solidFill>
              <a:srgbClr val="16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3"/>
            <p:cNvSpPr/>
            <p:nvPr/>
          </p:nvSpPr>
          <p:spPr>
            <a:xfrm>
              <a:off x="13533480" y="8951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4"/>
            <p:cNvSpPr/>
            <p:nvPr/>
          </p:nvSpPr>
          <p:spPr>
            <a:xfrm>
              <a:off x="14219280" y="8977320"/>
              <a:ext cx="330120" cy="285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8" h="180">
                  <a:moveTo>
                    <a:pt x="188" y="10"/>
                  </a:moveTo>
                  <a:lnTo>
                    <a:pt x="188" y="10"/>
                  </a:lnTo>
                  <a:lnTo>
                    <a:pt x="192" y="20"/>
                  </a:lnTo>
                  <a:lnTo>
                    <a:pt x="194" y="30"/>
                  </a:lnTo>
                  <a:lnTo>
                    <a:pt x="194" y="30"/>
                  </a:lnTo>
                  <a:lnTo>
                    <a:pt x="200" y="36"/>
                  </a:lnTo>
                  <a:lnTo>
                    <a:pt x="204" y="42"/>
                  </a:lnTo>
                  <a:lnTo>
                    <a:pt x="208" y="48"/>
                  </a:lnTo>
                  <a:lnTo>
                    <a:pt x="208" y="56"/>
                  </a:lnTo>
                  <a:lnTo>
                    <a:pt x="208" y="56"/>
                  </a:lnTo>
                  <a:lnTo>
                    <a:pt x="208" y="62"/>
                  </a:lnTo>
                  <a:lnTo>
                    <a:pt x="206" y="66"/>
                  </a:lnTo>
                  <a:lnTo>
                    <a:pt x="198" y="72"/>
                  </a:lnTo>
                  <a:lnTo>
                    <a:pt x="190" y="78"/>
                  </a:lnTo>
                  <a:lnTo>
                    <a:pt x="186" y="82"/>
                  </a:lnTo>
                  <a:lnTo>
                    <a:pt x="184" y="86"/>
                  </a:lnTo>
                  <a:lnTo>
                    <a:pt x="184" y="86"/>
                  </a:lnTo>
                  <a:lnTo>
                    <a:pt x="178" y="92"/>
                  </a:lnTo>
                  <a:lnTo>
                    <a:pt x="172" y="96"/>
                  </a:lnTo>
                  <a:lnTo>
                    <a:pt x="164" y="98"/>
                  </a:lnTo>
                  <a:lnTo>
                    <a:pt x="158" y="102"/>
                  </a:lnTo>
                  <a:lnTo>
                    <a:pt x="158" y="102"/>
                  </a:lnTo>
                  <a:lnTo>
                    <a:pt x="158" y="104"/>
                  </a:lnTo>
                  <a:lnTo>
                    <a:pt x="158" y="106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2" y="120"/>
                  </a:lnTo>
                  <a:lnTo>
                    <a:pt x="158" y="132"/>
                  </a:lnTo>
                  <a:lnTo>
                    <a:pt x="148" y="152"/>
                  </a:lnTo>
                  <a:lnTo>
                    <a:pt x="148" y="152"/>
                  </a:lnTo>
                  <a:lnTo>
                    <a:pt x="130" y="158"/>
                  </a:lnTo>
                  <a:lnTo>
                    <a:pt x="114" y="164"/>
                  </a:lnTo>
                  <a:lnTo>
                    <a:pt x="78" y="170"/>
                  </a:lnTo>
                  <a:lnTo>
                    <a:pt x="40" y="174"/>
                  </a:lnTo>
                  <a:lnTo>
                    <a:pt x="4" y="180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68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6" y="150"/>
                  </a:lnTo>
                  <a:lnTo>
                    <a:pt x="10" y="144"/>
                  </a:lnTo>
                  <a:lnTo>
                    <a:pt x="22" y="136"/>
                  </a:lnTo>
                  <a:lnTo>
                    <a:pt x="22" y="136"/>
                  </a:lnTo>
                  <a:lnTo>
                    <a:pt x="42" y="132"/>
                  </a:lnTo>
                  <a:lnTo>
                    <a:pt x="64" y="130"/>
                  </a:lnTo>
                  <a:lnTo>
                    <a:pt x="86" y="128"/>
                  </a:lnTo>
                  <a:lnTo>
                    <a:pt x="108" y="126"/>
                  </a:lnTo>
                  <a:lnTo>
                    <a:pt x="108" y="126"/>
                  </a:lnTo>
                  <a:lnTo>
                    <a:pt x="114" y="118"/>
                  </a:lnTo>
                  <a:lnTo>
                    <a:pt x="118" y="112"/>
                  </a:lnTo>
                  <a:lnTo>
                    <a:pt x="122" y="104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0" y="96"/>
                  </a:lnTo>
                  <a:lnTo>
                    <a:pt x="128" y="94"/>
                  </a:lnTo>
                  <a:lnTo>
                    <a:pt x="128" y="94"/>
                  </a:lnTo>
                  <a:lnTo>
                    <a:pt x="114" y="90"/>
                  </a:lnTo>
                  <a:lnTo>
                    <a:pt x="100" y="86"/>
                  </a:lnTo>
                  <a:lnTo>
                    <a:pt x="94" y="82"/>
                  </a:lnTo>
                  <a:lnTo>
                    <a:pt x="88" y="78"/>
                  </a:lnTo>
                  <a:lnTo>
                    <a:pt x="84" y="72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78" y="56"/>
                  </a:lnTo>
                  <a:lnTo>
                    <a:pt x="80" y="48"/>
                  </a:lnTo>
                  <a:lnTo>
                    <a:pt x="82" y="40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100" y="28"/>
                  </a:lnTo>
                  <a:lnTo>
                    <a:pt x="116" y="22"/>
                  </a:lnTo>
                  <a:lnTo>
                    <a:pt x="132" y="22"/>
                  </a:lnTo>
                  <a:lnTo>
                    <a:pt x="140" y="24"/>
                  </a:lnTo>
                  <a:lnTo>
                    <a:pt x="146" y="26"/>
                  </a:lnTo>
                  <a:lnTo>
                    <a:pt x="150" y="30"/>
                  </a:lnTo>
                  <a:lnTo>
                    <a:pt x="150" y="30"/>
                  </a:lnTo>
                  <a:lnTo>
                    <a:pt x="140" y="40"/>
                  </a:lnTo>
                  <a:lnTo>
                    <a:pt x="130" y="46"/>
                  </a:lnTo>
                  <a:lnTo>
                    <a:pt x="106" y="56"/>
                  </a:lnTo>
                  <a:lnTo>
                    <a:pt x="106" y="56"/>
                  </a:lnTo>
                  <a:lnTo>
                    <a:pt x="106" y="60"/>
                  </a:lnTo>
                  <a:lnTo>
                    <a:pt x="108" y="62"/>
                  </a:lnTo>
                  <a:lnTo>
                    <a:pt x="110" y="64"/>
                  </a:lnTo>
                  <a:lnTo>
                    <a:pt x="114" y="66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34" y="60"/>
                  </a:lnTo>
                  <a:lnTo>
                    <a:pt x="138" y="62"/>
                  </a:lnTo>
                  <a:lnTo>
                    <a:pt x="142" y="64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48" y="68"/>
                  </a:lnTo>
                  <a:lnTo>
                    <a:pt x="150" y="70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8" y="76"/>
                  </a:lnTo>
                  <a:lnTo>
                    <a:pt x="164" y="76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74" y="70"/>
                  </a:lnTo>
                  <a:lnTo>
                    <a:pt x="174" y="70"/>
                  </a:lnTo>
                  <a:lnTo>
                    <a:pt x="172" y="68"/>
                  </a:lnTo>
                  <a:lnTo>
                    <a:pt x="172" y="68"/>
                  </a:lnTo>
                  <a:lnTo>
                    <a:pt x="170" y="64"/>
                  </a:lnTo>
                  <a:lnTo>
                    <a:pt x="168" y="64"/>
                  </a:lnTo>
                  <a:lnTo>
                    <a:pt x="162" y="64"/>
                  </a:lnTo>
                  <a:lnTo>
                    <a:pt x="160" y="64"/>
                  </a:lnTo>
                  <a:lnTo>
                    <a:pt x="158" y="64"/>
                  </a:lnTo>
                  <a:lnTo>
                    <a:pt x="156" y="60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0" y="30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6" y="16"/>
                  </a:lnTo>
                  <a:lnTo>
                    <a:pt x="144" y="16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6" y="10"/>
                  </a:lnTo>
                  <a:lnTo>
                    <a:pt x="150" y="6"/>
                  </a:lnTo>
                  <a:lnTo>
                    <a:pt x="160" y="2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82" y="4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f1b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"/>
            <p:cNvSpPr/>
            <p:nvPr/>
          </p:nvSpPr>
          <p:spPr>
            <a:xfrm>
              <a:off x="14159160" y="8980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6"/>
            <p:cNvSpPr/>
            <p:nvPr/>
          </p:nvSpPr>
          <p:spPr>
            <a:xfrm>
              <a:off x="13473000" y="89996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7"/>
            <p:cNvSpPr/>
            <p:nvPr/>
          </p:nvSpPr>
          <p:spPr>
            <a:xfrm>
              <a:off x="13473000" y="8999640"/>
              <a:ext cx="34920" cy="475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2" h="30">
                  <a:moveTo>
                    <a:pt x="20" y="16"/>
                  </a:moveTo>
                  <a:lnTo>
                    <a:pt x="20" y="16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8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4" y="16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8"/>
            <p:cNvSpPr/>
            <p:nvPr/>
          </p:nvSpPr>
          <p:spPr>
            <a:xfrm>
              <a:off x="12495240" y="9002520"/>
              <a:ext cx="968400" cy="79704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610" h="502">
                  <a:moveTo>
                    <a:pt x="436" y="18"/>
                  </a:moveTo>
                  <a:lnTo>
                    <a:pt x="436" y="18"/>
                  </a:lnTo>
                  <a:lnTo>
                    <a:pt x="422" y="24"/>
                  </a:lnTo>
                  <a:lnTo>
                    <a:pt x="416" y="30"/>
                  </a:lnTo>
                  <a:lnTo>
                    <a:pt x="412" y="36"/>
                  </a:lnTo>
                  <a:lnTo>
                    <a:pt x="412" y="36"/>
                  </a:lnTo>
                  <a:lnTo>
                    <a:pt x="414" y="38"/>
                  </a:lnTo>
                  <a:lnTo>
                    <a:pt x="416" y="38"/>
                  </a:lnTo>
                  <a:lnTo>
                    <a:pt x="420" y="36"/>
                  </a:lnTo>
                  <a:lnTo>
                    <a:pt x="422" y="32"/>
                  </a:lnTo>
                  <a:lnTo>
                    <a:pt x="426" y="32"/>
                  </a:lnTo>
                  <a:lnTo>
                    <a:pt x="426" y="32"/>
                  </a:lnTo>
                  <a:lnTo>
                    <a:pt x="446" y="28"/>
                  </a:lnTo>
                  <a:lnTo>
                    <a:pt x="458" y="28"/>
                  </a:lnTo>
                  <a:lnTo>
                    <a:pt x="468" y="28"/>
                  </a:lnTo>
                  <a:lnTo>
                    <a:pt x="468" y="28"/>
                  </a:lnTo>
                  <a:lnTo>
                    <a:pt x="492" y="38"/>
                  </a:lnTo>
                  <a:lnTo>
                    <a:pt x="516" y="50"/>
                  </a:lnTo>
                  <a:lnTo>
                    <a:pt x="538" y="66"/>
                  </a:lnTo>
                  <a:lnTo>
                    <a:pt x="558" y="84"/>
                  </a:lnTo>
                  <a:lnTo>
                    <a:pt x="574" y="106"/>
                  </a:lnTo>
                  <a:lnTo>
                    <a:pt x="588" y="128"/>
                  </a:lnTo>
                  <a:lnTo>
                    <a:pt x="600" y="154"/>
                  </a:lnTo>
                  <a:lnTo>
                    <a:pt x="606" y="178"/>
                  </a:lnTo>
                  <a:lnTo>
                    <a:pt x="606" y="178"/>
                  </a:lnTo>
                  <a:lnTo>
                    <a:pt x="610" y="208"/>
                  </a:lnTo>
                  <a:lnTo>
                    <a:pt x="610" y="238"/>
                  </a:lnTo>
                  <a:lnTo>
                    <a:pt x="608" y="268"/>
                  </a:lnTo>
                  <a:lnTo>
                    <a:pt x="604" y="296"/>
                  </a:lnTo>
                  <a:lnTo>
                    <a:pt x="594" y="324"/>
                  </a:lnTo>
                  <a:lnTo>
                    <a:pt x="584" y="350"/>
                  </a:lnTo>
                  <a:lnTo>
                    <a:pt x="570" y="374"/>
                  </a:lnTo>
                  <a:lnTo>
                    <a:pt x="552" y="398"/>
                  </a:lnTo>
                  <a:lnTo>
                    <a:pt x="552" y="398"/>
                  </a:lnTo>
                  <a:lnTo>
                    <a:pt x="528" y="422"/>
                  </a:lnTo>
                  <a:lnTo>
                    <a:pt x="502" y="442"/>
                  </a:lnTo>
                  <a:lnTo>
                    <a:pt x="476" y="460"/>
                  </a:lnTo>
                  <a:lnTo>
                    <a:pt x="448" y="474"/>
                  </a:lnTo>
                  <a:lnTo>
                    <a:pt x="418" y="486"/>
                  </a:lnTo>
                  <a:lnTo>
                    <a:pt x="388" y="494"/>
                  </a:lnTo>
                  <a:lnTo>
                    <a:pt x="358" y="500"/>
                  </a:lnTo>
                  <a:lnTo>
                    <a:pt x="326" y="502"/>
                  </a:lnTo>
                  <a:lnTo>
                    <a:pt x="326" y="502"/>
                  </a:lnTo>
                  <a:lnTo>
                    <a:pt x="288" y="500"/>
                  </a:lnTo>
                  <a:lnTo>
                    <a:pt x="250" y="498"/>
                  </a:lnTo>
                  <a:lnTo>
                    <a:pt x="214" y="494"/>
                  </a:lnTo>
                  <a:lnTo>
                    <a:pt x="178" y="486"/>
                  </a:lnTo>
                  <a:lnTo>
                    <a:pt x="142" y="476"/>
                  </a:lnTo>
                  <a:lnTo>
                    <a:pt x="126" y="468"/>
                  </a:lnTo>
                  <a:lnTo>
                    <a:pt x="110" y="460"/>
                  </a:lnTo>
                  <a:lnTo>
                    <a:pt x="94" y="452"/>
                  </a:lnTo>
                  <a:lnTo>
                    <a:pt x="80" y="440"/>
                  </a:lnTo>
                  <a:lnTo>
                    <a:pt x="66" y="428"/>
                  </a:lnTo>
                  <a:lnTo>
                    <a:pt x="52" y="414"/>
                  </a:lnTo>
                  <a:lnTo>
                    <a:pt x="52" y="414"/>
                  </a:lnTo>
                  <a:lnTo>
                    <a:pt x="42" y="404"/>
                  </a:lnTo>
                  <a:lnTo>
                    <a:pt x="32" y="394"/>
                  </a:lnTo>
                  <a:lnTo>
                    <a:pt x="26" y="382"/>
                  </a:lnTo>
                  <a:lnTo>
                    <a:pt x="18" y="372"/>
                  </a:lnTo>
                  <a:lnTo>
                    <a:pt x="10" y="346"/>
                  </a:lnTo>
                  <a:lnTo>
                    <a:pt x="4" y="320"/>
                  </a:lnTo>
                  <a:lnTo>
                    <a:pt x="0" y="294"/>
                  </a:lnTo>
                  <a:lnTo>
                    <a:pt x="0" y="266"/>
                  </a:lnTo>
                  <a:lnTo>
                    <a:pt x="2" y="238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16" y="186"/>
                  </a:lnTo>
                  <a:lnTo>
                    <a:pt x="28" y="162"/>
                  </a:lnTo>
                  <a:lnTo>
                    <a:pt x="36" y="150"/>
                  </a:lnTo>
                  <a:lnTo>
                    <a:pt x="44" y="138"/>
                  </a:lnTo>
                  <a:lnTo>
                    <a:pt x="54" y="128"/>
                  </a:lnTo>
                  <a:lnTo>
                    <a:pt x="64" y="118"/>
                  </a:lnTo>
                  <a:lnTo>
                    <a:pt x="64" y="118"/>
                  </a:lnTo>
                  <a:lnTo>
                    <a:pt x="82" y="124"/>
                  </a:lnTo>
                  <a:lnTo>
                    <a:pt x="100" y="128"/>
                  </a:lnTo>
                  <a:lnTo>
                    <a:pt x="12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20" y="148"/>
                  </a:lnTo>
                  <a:lnTo>
                    <a:pt x="104" y="168"/>
                  </a:lnTo>
                  <a:lnTo>
                    <a:pt x="98" y="178"/>
                  </a:lnTo>
                  <a:lnTo>
                    <a:pt x="92" y="190"/>
                  </a:lnTo>
                  <a:lnTo>
                    <a:pt x="88" y="202"/>
                  </a:lnTo>
                  <a:lnTo>
                    <a:pt x="86" y="214"/>
                  </a:lnTo>
                  <a:lnTo>
                    <a:pt x="88" y="216"/>
                  </a:lnTo>
                  <a:lnTo>
                    <a:pt x="88" y="216"/>
                  </a:lnTo>
                  <a:lnTo>
                    <a:pt x="96" y="202"/>
                  </a:lnTo>
                  <a:lnTo>
                    <a:pt x="102" y="188"/>
                  </a:lnTo>
                  <a:lnTo>
                    <a:pt x="110" y="174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34" y="146"/>
                  </a:lnTo>
                  <a:lnTo>
                    <a:pt x="152" y="134"/>
                  </a:lnTo>
                  <a:lnTo>
                    <a:pt x="170" y="122"/>
                  </a:lnTo>
                  <a:lnTo>
                    <a:pt x="188" y="114"/>
                  </a:lnTo>
                  <a:lnTo>
                    <a:pt x="188" y="114"/>
                  </a:lnTo>
                  <a:lnTo>
                    <a:pt x="176" y="132"/>
                  </a:lnTo>
                  <a:lnTo>
                    <a:pt x="164" y="152"/>
                  </a:lnTo>
                  <a:lnTo>
                    <a:pt x="156" y="174"/>
                  </a:lnTo>
                  <a:lnTo>
                    <a:pt x="154" y="184"/>
                  </a:lnTo>
                  <a:lnTo>
                    <a:pt x="152" y="196"/>
                  </a:lnTo>
                  <a:lnTo>
                    <a:pt x="152" y="196"/>
                  </a:lnTo>
                  <a:lnTo>
                    <a:pt x="152" y="208"/>
                  </a:lnTo>
                  <a:lnTo>
                    <a:pt x="152" y="214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60" y="222"/>
                  </a:lnTo>
                  <a:lnTo>
                    <a:pt x="166" y="220"/>
                  </a:lnTo>
                  <a:lnTo>
                    <a:pt x="166" y="220"/>
                  </a:lnTo>
                  <a:lnTo>
                    <a:pt x="180" y="200"/>
                  </a:lnTo>
                  <a:lnTo>
                    <a:pt x="188" y="190"/>
                  </a:lnTo>
                  <a:lnTo>
                    <a:pt x="198" y="182"/>
                  </a:lnTo>
                  <a:lnTo>
                    <a:pt x="198" y="182"/>
                  </a:lnTo>
                  <a:lnTo>
                    <a:pt x="218" y="166"/>
                  </a:lnTo>
                  <a:lnTo>
                    <a:pt x="238" y="148"/>
                  </a:lnTo>
                  <a:lnTo>
                    <a:pt x="246" y="138"/>
                  </a:lnTo>
                  <a:lnTo>
                    <a:pt x="254" y="128"/>
                  </a:lnTo>
                  <a:lnTo>
                    <a:pt x="260" y="116"/>
                  </a:lnTo>
                  <a:lnTo>
                    <a:pt x="264" y="104"/>
                  </a:lnTo>
                  <a:lnTo>
                    <a:pt x="264" y="104"/>
                  </a:lnTo>
                  <a:lnTo>
                    <a:pt x="282" y="104"/>
                  </a:lnTo>
                  <a:lnTo>
                    <a:pt x="298" y="106"/>
                  </a:lnTo>
                  <a:lnTo>
                    <a:pt x="314" y="104"/>
                  </a:lnTo>
                  <a:lnTo>
                    <a:pt x="322" y="102"/>
                  </a:lnTo>
                  <a:lnTo>
                    <a:pt x="330" y="98"/>
                  </a:lnTo>
                  <a:lnTo>
                    <a:pt x="330" y="98"/>
                  </a:lnTo>
                  <a:lnTo>
                    <a:pt x="336" y="94"/>
                  </a:lnTo>
                  <a:lnTo>
                    <a:pt x="342" y="90"/>
                  </a:lnTo>
                  <a:lnTo>
                    <a:pt x="348" y="86"/>
                  </a:lnTo>
                  <a:lnTo>
                    <a:pt x="352" y="86"/>
                  </a:lnTo>
                  <a:lnTo>
                    <a:pt x="356" y="88"/>
                  </a:lnTo>
                  <a:lnTo>
                    <a:pt x="356" y="88"/>
                  </a:lnTo>
                  <a:lnTo>
                    <a:pt x="378" y="100"/>
                  </a:lnTo>
                  <a:lnTo>
                    <a:pt x="398" y="114"/>
                  </a:lnTo>
                  <a:lnTo>
                    <a:pt x="408" y="124"/>
                  </a:lnTo>
                  <a:lnTo>
                    <a:pt x="416" y="132"/>
                  </a:lnTo>
                  <a:lnTo>
                    <a:pt x="424" y="144"/>
                  </a:lnTo>
                  <a:lnTo>
                    <a:pt x="430" y="154"/>
                  </a:lnTo>
                  <a:lnTo>
                    <a:pt x="430" y="154"/>
                  </a:lnTo>
                  <a:lnTo>
                    <a:pt x="432" y="154"/>
                  </a:lnTo>
                  <a:lnTo>
                    <a:pt x="432" y="152"/>
                  </a:lnTo>
                  <a:lnTo>
                    <a:pt x="432" y="148"/>
                  </a:lnTo>
                  <a:lnTo>
                    <a:pt x="432" y="148"/>
                  </a:lnTo>
                  <a:lnTo>
                    <a:pt x="428" y="138"/>
                  </a:lnTo>
                  <a:lnTo>
                    <a:pt x="422" y="126"/>
                  </a:lnTo>
                  <a:lnTo>
                    <a:pt x="412" y="116"/>
                  </a:lnTo>
                  <a:lnTo>
                    <a:pt x="404" y="106"/>
                  </a:lnTo>
                  <a:lnTo>
                    <a:pt x="392" y="98"/>
                  </a:lnTo>
                  <a:lnTo>
                    <a:pt x="382" y="90"/>
                  </a:lnTo>
                  <a:lnTo>
                    <a:pt x="358" y="78"/>
                  </a:lnTo>
                  <a:lnTo>
                    <a:pt x="358" y="78"/>
                  </a:lnTo>
                  <a:lnTo>
                    <a:pt x="370" y="66"/>
                  </a:lnTo>
                  <a:lnTo>
                    <a:pt x="378" y="52"/>
                  </a:lnTo>
                  <a:lnTo>
                    <a:pt x="382" y="38"/>
                  </a:lnTo>
                  <a:lnTo>
                    <a:pt x="384" y="30"/>
                  </a:lnTo>
                  <a:lnTo>
                    <a:pt x="384" y="22"/>
                  </a:lnTo>
                  <a:lnTo>
                    <a:pt x="380" y="18"/>
                  </a:lnTo>
                  <a:lnTo>
                    <a:pt x="380" y="18"/>
                  </a:lnTo>
                  <a:lnTo>
                    <a:pt x="358" y="32"/>
                  </a:lnTo>
                  <a:lnTo>
                    <a:pt x="348" y="40"/>
                  </a:lnTo>
                  <a:lnTo>
                    <a:pt x="336" y="46"/>
                  </a:lnTo>
                  <a:lnTo>
                    <a:pt x="324" y="48"/>
                  </a:lnTo>
                  <a:lnTo>
                    <a:pt x="312" y="50"/>
                  </a:lnTo>
                  <a:lnTo>
                    <a:pt x="300" y="50"/>
                  </a:lnTo>
                  <a:lnTo>
                    <a:pt x="286" y="46"/>
                  </a:lnTo>
                  <a:lnTo>
                    <a:pt x="286" y="46"/>
                  </a:lnTo>
                  <a:lnTo>
                    <a:pt x="292" y="34"/>
                  </a:lnTo>
                  <a:lnTo>
                    <a:pt x="302" y="24"/>
                  </a:lnTo>
                  <a:lnTo>
                    <a:pt x="324" y="6"/>
                  </a:lnTo>
                  <a:lnTo>
                    <a:pt x="324" y="6"/>
                  </a:lnTo>
                  <a:lnTo>
                    <a:pt x="338" y="2"/>
                  </a:lnTo>
                  <a:lnTo>
                    <a:pt x="352" y="0"/>
                  </a:lnTo>
                  <a:lnTo>
                    <a:pt x="368" y="0"/>
                  </a:lnTo>
                  <a:lnTo>
                    <a:pt x="382" y="0"/>
                  </a:lnTo>
                  <a:lnTo>
                    <a:pt x="396" y="2"/>
                  </a:lnTo>
                  <a:lnTo>
                    <a:pt x="410" y="6"/>
                  </a:lnTo>
                  <a:lnTo>
                    <a:pt x="424" y="12"/>
                  </a:lnTo>
                  <a:lnTo>
                    <a:pt x="436" y="18"/>
                  </a:lnTo>
                  <a:lnTo>
                    <a:pt x="436" y="18"/>
                  </a:lnTo>
                  <a:close/>
                </a:path>
              </a:pathLst>
            </a:custGeom>
            <a:solidFill>
              <a:srgbClr val="d93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9"/>
            <p:cNvSpPr/>
            <p:nvPr/>
          </p:nvSpPr>
          <p:spPr>
            <a:xfrm>
              <a:off x="13638240" y="9024840"/>
              <a:ext cx="41040" cy="107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6" h="68">
                  <a:moveTo>
                    <a:pt x="26" y="4"/>
                  </a:moveTo>
                  <a:lnTo>
                    <a:pt x="26" y="4"/>
                  </a:lnTo>
                  <a:lnTo>
                    <a:pt x="20" y="34"/>
                  </a:lnTo>
                  <a:lnTo>
                    <a:pt x="16" y="48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26"/>
                  </a:lnTo>
                  <a:lnTo>
                    <a:pt x="10" y="1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0"/>
            <p:cNvSpPr/>
            <p:nvPr/>
          </p:nvSpPr>
          <p:spPr>
            <a:xfrm>
              <a:off x="12806280" y="903132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6" y="6"/>
                  </a:moveTo>
                  <a:lnTo>
                    <a:pt x="16" y="6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16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1"/>
            <p:cNvSpPr/>
            <p:nvPr/>
          </p:nvSpPr>
          <p:spPr>
            <a:xfrm>
              <a:off x="14117760" y="9031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2"/>
            <p:cNvSpPr/>
            <p:nvPr/>
          </p:nvSpPr>
          <p:spPr>
            <a:xfrm>
              <a:off x="12806280" y="904716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38"/>
                  </a:moveTo>
                  <a:lnTo>
                    <a:pt x="36" y="38"/>
                  </a:lnTo>
                  <a:lnTo>
                    <a:pt x="2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8" y="34"/>
                  </a:lnTo>
                  <a:lnTo>
                    <a:pt x="4" y="2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6"/>
                  </a:lnTo>
                  <a:lnTo>
                    <a:pt x="18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18"/>
                  </a:lnTo>
                  <a:lnTo>
                    <a:pt x="36" y="38"/>
                  </a:lnTo>
                  <a:lnTo>
                    <a:pt x="36" y="38"/>
                  </a:lnTo>
                  <a:close/>
                </a:path>
              </a:pathLst>
            </a:custGeom>
            <a:solidFill>
              <a:srgbClr val="16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3"/>
            <p:cNvSpPr/>
            <p:nvPr/>
          </p:nvSpPr>
          <p:spPr>
            <a:xfrm>
              <a:off x="13860360" y="90597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6"/>
                  </a:moveTo>
                  <a:lnTo>
                    <a:pt x="14" y="52"/>
                  </a:lnTo>
                  <a:lnTo>
                    <a:pt x="14" y="52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4" y="2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4"/>
            <p:cNvSpPr/>
            <p:nvPr/>
          </p:nvSpPr>
          <p:spPr>
            <a:xfrm>
              <a:off x="14190840" y="9094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25"/>
            <p:cNvSpPr/>
            <p:nvPr/>
          </p:nvSpPr>
          <p:spPr>
            <a:xfrm>
              <a:off x="13542840" y="913608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36" y="6"/>
                  </a:moveTo>
                  <a:lnTo>
                    <a:pt x="36" y="6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8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26"/>
            <p:cNvSpPr/>
            <p:nvPr/>
          </p:nvSpPr>
          <p:spPr>
            <a:xfrm>
              <a:off x="14130360" y="91425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27"/>
            <p:cNvSpPr/>
            <p:nvPr/>
          </p:nvSpPr>
          <p:spPr>
            <a:xfrm>
              <a:off x="13451040" y="91454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28"/>
            <p:cNvSpPr/>
            <p:nvPr/>
          </p:nvSpPr>
          <p:spPr>
            <a:xfrm>
              <a:off x="14184360" y="9161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29"/>
            <p:cNvSpPr/>
            <p:nvPr/>
          </p:nvSpPr>
          <p:spPr>
            <a:xfrm>
              <a:off x="13546080" y="916128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2">
                  <a:moveTo>
                    <a:pt x="24" y="10"/>
                  </a:moveTo>
                  <a:lnTo>
                    <a:pt x="24" y="10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0"/>
            <p:cNvSpPr/>
            <p:nvPr/>
          </p:nvSpPr>
          <p:spPr>
            <a:xfrm>
              <a:off x="13971600" y="9177480"/>
              <a:ext cx="60120" cy="15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10">
                  <a:moveTo>
                    <a:pt x="38" y="4"/>
                  </a:moveTo>
                  <a:lnTo>
                    <a:pt x="38" y="4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4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1"/>
            <p:cNvSpPr/>
            <p:nvPr/>
          </p:nvSpPr>
          <p:spPr>
            <a:xfrm>
              <a:off x="13978080" y="9199440"/>
              <a:ext cx="50760" cy="15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2" h="10">
                  <a:moveTo>
                    <a:pt x="32" y="4"/>
                  </a:moveTo>
                  <a:lnTo>
                    <a:pt x="32" y="4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2"/>
            <p:cNvSpPr/>
            <p:nvPr/>
          </p:nvSpPr>
          <p:spPr>
            <a:xfrm>
              <a:off x="13457160" y="92059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3"/>
            <p:cNvSpPr/>
            <p:nvPr/>
          </p:nvSpPr>
          <p:spPr>
            <a:xfrm>
              <a:off x="13492080" y="92091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34"/>
            <p:cNvSpPr/>
            <p:nvPr/>
          </p:nvSpPr>
          <p:spPr>
            <a:xfrm>
              <a:off x="12552480" y="92217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6"/>
                  </a:moveTo>
                  <a:lnTo>
                    <a:pt x="42" y="6"/>
                  </a:lnTo>
                  <a:lnTo>
                    <a:pt x="38" y="14"/>
                  </a:lnTo>
                  <a:lnTo>
                    <a:pt x="32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2" y="10"/>
                  </a:lnTo>
                  <a:lnTo>
                    <a:pt x="18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5"/>
            <p:cNvSpPr/>
            <p:nvPr/>
          </p:nvSpPr>
          <p:spPr>
            <a:xfrm>
              <a:off x="12565080" y="9231480"/>
              <a:ext cx="41040" cy="475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6" h="30">
                  <a:moveTo>
                    <a:pt x="26" y="2"/>
                  </a:moveTo>
                  <a:lnTo>
                    <a:pt x="26" y="2"/>
                  </a:lnTo>
                  <a:lnTo>
                    <a:pt x="14" y="16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df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6"/>
            <p:cNvSpPr/>
            <p:nvPr/>
          </p:nvSpPr>
          <p:spPr>
            <a:xfrm>
              <a:off x="13638240" y="9250200"/>
              <a:ext cx="301320" cy="1396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0" h="88">
                  <a:moveTo>
                    <a:pt x="14" y="6"/>
                  </a:moveTo>
                  <a:lnTo>
                    <a:pt x="14" y="6"/>
                  </a:lnTo>
                  <a:lnTo>
                    <a:pt x="18" y="24"/>
                  </a:lnTo>
                  <a:lnTo>
                    <a:pt x="24" y="42"/>
                  </a:lnTo>
                  <a:lnTo>
                    <a:pt x="30" y="6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70" y="56"/>
                  </a:lnTo>
                  <a:lnTo>
                    <a:pt x="102" y="38"/>
                  </a:lnTo>
                  <a:lnTo>
                    <a:pt x="134" y="24"/>
                  </a:lnTo>
                  <a:lnTo>
                    <a:pt x="168" y="14"/>
                  </a:lnTo>
                  <a:lnTo>
                    <a:pt x="168" y="14"/>
                  </a:lnTo>
                  <a:lnTo>
                    <a:pt x="166" y="10"/>
                  </a:lnTo>
                  <a:lnTo>
                    <a:pt x="166" y="6"/>
                  </a:lnTo>
                  <a:lnTo>
                    <a:pt x="168" y="2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6" y="2"/>
                  </a:lnTo>
                  <a:lnTo>
                    <a:pt x="180" y="6"/>
                  </a:lnTo>
                  <a:lnTo>
                    <a:pt x="184" y="14"/>
                  </a:lnTo>
                  <a:lnTo>
                    <a:pt x="184" y="14"/>
                  </a:lnTo>
                  <a:lnTo>
                    <a:pt x="188" y="24"/>
                  </a:lnTo>
                  <a:lnTo>
                    <a:pt x="190" y="28"/>
                  </a:lnTo>
                  <a:lnTo>
                    <a:pt x="188" y="32"/>
                  </a:lnTo>
                  <a:lnTo>
                    <a:pt x="188" y="32"/>
                  </a:lnTo>
                  <a:lnTo>
                    <a:pt x="186" y="34"/>
                  </a:lnTo>
                  <a:lnTo>
                    <a:pt x="184" y="36"/>
                  </a:lnTo>
                  <a:lnTo>
                    <a:pt x="178" y="34"/>
                  </a:lnTo>
                  <a:lnTo>
                    <a:pt x="174" y="28"/>
                  </a:lnTo>
                  <a:lnTo>
                    <a:pt x="174" y="28"/>
                  </a:lnTo>
                  <a:lnTo>
                    <a:pt x="156" y="32"/>
                  </a:lnTo>
                  <a:lnTo>
                    <a:pt x="140" y="38"/>
                  </a:lnTo>
                  <a:lnTo>
                    <a:pt x="106" y="52"/>
                  </a:lnTo>
                  <a:lnTo>
                    <a:pt x="74" y="6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6" y="86"/>
                  </a:lnTo>
                  <a:lnTo>
                    <a:pt x="32" y="86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18" y="64"/>
                  </a:lnTo>
                  <a:lnTo>
                    <a:pt x="10" y="46"/>
                  </a:lnTo>
                  <a:lnTo>
                    <a:pt x="4" y="2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7"/>
            <p:cNvSpPr/>
            <p:nvPr/>
          </p:nvSpPr>
          <p:spPr>
            <a:xfrm>
              <a:off x="13057200" y="9282240"/>
              <a:ext cx="88560" cy="44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6" h="28">
                  <a:moveTo>
                    <a:pt x="56" y="20"/>
                  </a:moveTo>
                  <a:lnTo>
                    <a:pt x="56" y="20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2" y="20"/>
                  </a:lnTo>
                  <a:lnTo>
                    <a:pt x="36" y="16"/>
                  </a:lnTo>
                  <a:lnTo>
                    <a:pt x="2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6" y="20"/>
                  </a:lnTo>
                  <a:lnTo>
                    <a:pt x="5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8"/>
            <p:cNvSpPr/>
            <p:nvPr/>
          </p:nvSpPr>
          <p:spPr>
            <a:xfrm>
              <a:off x="13507920" y="9288360"/>
              <a:ext cx="34920" cy="31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20">
                  <a:moveTo>
                    <a:pt x="20" y="4"/>
                  </a:moveTo>
                  <a:lnTo>
                    <a:pt x="20" y="4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9"/>
            <p:cNvSpPr/>
            <p:nvPr/>
          </p:nvSpPr>
          <p:spPr>
            <a:xfrm>
              <a:off x="14117760" y="9304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0"/>
            <p:cNvSpPr/>
            <p:nvPr/>
          </p:nvSpPr>
          <p:spPr>
            <a:xfrm>
              <a:off x="13355640" y="9323280"/>
              <a:ext cx="63360" cy="1587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0" h="100">
                  <a:moveTo>
                    <a:pt x="34" y="4"/>
                  </a:moveTo>
                  <a:lnTo>
                    <a:pt x="34" y="4"/>
                  </a:lnTo>
                  <a:lnTo>
                    <a:pt x="38" y="12"/>
                  </a:lnTo>
                  <a:lnTo>
                    <a:pt x="40" y="22"/>
                  </a:lnTo>
                  <a:lnTo>
                    <a:pt x="40" y="32"/>
                  </a:lnTo>
                  <a:lnTo>
                    <a:pt x="38" y="42"/>
                  </a:lnTo>
                  <a:lnTo>
                    <a:pt x="34" y="6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2" y="92"/>
                  </a:lnTo>
                  <a:lnTo>
                    <a:pt x="18" y="96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8" y="100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6" y="54"/>
                  </a:lnTo>
                  <a:lnTo>
                    <a:pt x="6" y="3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1"/>
            <p:cNvSpPr/>
            <p:nvPr/>
          </p:nvSpPr>
          <p:spPr>
            <a:xfrm>
              <a:off x="13365360" y="9333000"/>
              <a:ext cx="41040" cy="139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4" y="4"/>
                  </a:moveTo>
                  <a:lnTo>
                    <a:pt x="24" y="4"/>
                  </a:lnTo>
                  <a:lnTo>
                    <a:pt x="26" y="26"/>
                  </a:lnTo>
                  <a:lnTo>
                    <a:pt x="24" y="48"/>
                  </a:lnTo>
                  <a:lnTo>
                    <a:pt x="22" y="58"/>
                  </a:lnTo>
                  <a:lnTo>
                    <a:pt x="18" y="68"/>
                  </a:lnTo>
                  <a:lnTo>
                    <a:pt x="12" y="78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4" y="88"/>
                  </a:lnTo>
                  <a:lnTo>
                    <a:pt x="2" y="86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66"/>
                  </a:lnTo>
                  <a:lnTo>
                    <a:pt x="6" y="50"/>
                  </a:lnTo>
                  <a:lnTo>
                    <a:pt x="6" y="3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df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2"/>
            <p:cNvSpPr/>
            <p:nvPr/>
          </p:nvSpPr>
          <p:spPr>
            <a:xfrm>
              <a:off x="14086080" y="93391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3"/>
            <p:cNvSpPr/>
            <p:nvPr/>
          </p:nvSpPr>
          <p:spPr>
            <a:xfrm>
              <a:off x="14159160" y="9345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4"/>
                  </a:move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4"/>
            <p:cNvSpPr/>
            <p:nvPr/>
          </p:nvSpPr>
          <p:spPr>
            <a:xfrm>
              <a:off x="12768120" y="9358200"/>
              <a:ext cx="82440" cy="60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2" h="38">
                  <a:moveTo>
                    <a:pt x="52" y="10"/>
                  </a:moveTo>
                  <a:lnTo>
                    <a:pt x="52" y="10"/>
                  </a:lnTo>
                  <a:lnTo>
                    <a:pt x="52" y="14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36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16"/>
                  </a:lnTo>
                  <a:lnTo>
                    <a:pt x="12" y="2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16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8" y="4"/>
                  </a:lnTo>
                  <a:lnTo>
                    <a:pt x="46" y="6"/>
                  </a:lnTo>
                  <a:lnTo>
                    <a:pt x="52" y="1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45"/>
            <p:cNvSpPr/>
            <p:nvPr/>
          </p:nvSpPr>
          <p:spPr>
            <a:xfrm>
              <a:off x="13511160" y="9361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6"/>
            <p:cNvSpPr/>
            <p:nvPr/>
          </p:nvSpPr>
          <p:spPr>
            <a:xfrm>
              <a:off x="13034880" y="9383760"/>
              <a:ext cx="133200" cy="120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4" h="76">
                  <a:moveTo>
                    <a:pt x="82" y="24"/>
                  </a:moveTo>
                  <a:lnTo>
                    <a:pt x="82" y="24"/>
                  </a:lnTo>
                  <a:lnTo>
                    <a:pt x="84" y="32"/>
                  </a:lnTo>
                  <a:lnTo>
                    <a:pt x="84" y="42"/>
                  </a:lnTo>
                  <a:lnTo>
                    <a:pt x="82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0" y="68"/>
                  </a:lnTo>
                  <a:lnTo>
                    <a:pt x="60" y="74"/>
                  </a:lnTo>
                  <a:lnTo>
                    <a:pt x="50" y="76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28" y="72"/>
                  </a:lnTo>
                  <a:lnTo>
                    <a:pt x="16" y="66"/>
                  </a:lnTo>
                  <a:lnTo>
                    <a:pt x="8" y="5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4" y="4"/>
                  </a:lnTo>
                  <a:lnTo>
                    <a:pt x="74" y="12"/>
                  </a:lnTo>
                  <a:lnTo>
                    <a:pt x="80" y="18"/>
                  </a:lnTo>
                  <a:lnTo>
                    <a:pt x="82" y="24"/>
                  </a:lnTo>
                  <a:lnTo>
                    <a:pt x="8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47"/>
            <p:cNvSpPr/>
            <p:nvPr/>
          </p:nvSpPr>
          <p:spPr>
            <a:xfrm>
              <a:off x="13041360" y="9393120"/>
              <a:ext cx="117360" cy="101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4" h="64">
                  <a:moveTo>
                    <a:pt x="72" y="18"/>
                  </a:moveTo>
                  <a:lnTo>
                    <a:pt x="72" y="18"/>
                  </a:lnTo>
                  <a:lnTo>
                    <a:pt x="74" y="26"/>
                  </a:lnTo>
                  <a:lnTo>
                    <a:pt x="74" y="34"/>
                  </a:lnTo>
                  <a:lnTo>
                    <a:pt x="72" y="42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62" y="56"/>
                  </a:lnTo>
                  <a:lnTo>
                    <a:pt x="54" y="62"/>
                  </a:lnTo>
                  <a:lnTo>
                    <a:pt x="44" y="64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24" y="60"/>
                  </a:lnTo>
                  <a:lnTo>
                    <a:pt x="16" y="54"/>
                  </a:lnTo>
                  <a:lnTo>
                    <a:pt x="8" y="4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4" y="8"/>
                  </a:lnTo>
                  <a:lnTo>
                    <a:pt x="72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48"/>
            <p:cNvSpPr/>
            <p:nvPr/>
          </p:nvSpPr>
          <p:spPr>
            <a:xfrm>
              <a:off x="13498560" y="9409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4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49"/>
            <p:cNvSpPr/>
            <p:nvPr/>
          </p:nvSpPr>
          <p:spPr>
            <a:xfrm>
              <a:off x="14121000" y="940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0"/>
            <p:cNvSpPr/>
            <p:nvPr/>
          </p:nvSpPr>
          <p:spPr>
            <a:xfrm>
              <a:off x="13196880" y="9415440"/>
              <a:ext cx="66600" cy="28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2" h="18">
                  <a:moveTo>
                    <a:pt x="36" y="2"/>
                  </a:moveTo>
                  <a:lnTo>
                    <a:pt x="36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2" y="12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34" y="0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1"/>
            <p:cNvSpPr/>
            <p:nvPr/>
          </p:nvSpPr>
          <p:spPr>
            <a:xfrm>
              <a:off x="13060440" y="9434520"/>
              <a:ext cx="56880" cy="31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20">
                  <a:moveTo>
                    <a:pt x="36" y="10"/>
                  </a:moveTo>
                  <a:lnTo>
                    <a:pt x="36" y="10"/>
                  </a:lnTo>
                  <a:lnTo>
                    <a:pt x="36" y="14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6" y="16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2"/>
            <p:cNvSpPr/>
            <p:nvPr/>
          </p:nvSpPr>
          <p:spPr>
            <a:xfrm>
              <a:off x="14019120" y="9434520"/>
              <a:ext cx="41040" cy="18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6" h="12">
                  <a:moveTo>
                    <a:pt x="26" y="8"/>
                  </a:moveTo>
                  <a:lnTo>
                    <a:pt x="26" y="8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3"/>
            <p:cNvSpPr/>
            <p:nvPr/>
          </p:nvSpPr>
          <p:spPr>
            <a:xfrm>
              <a:off x="13622400" y="94377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4"/>
            <p:cNvSpPr/>
            <p:nvPr/>
          </p:nvSpPr>
          <p:spPr>
            <a:xfrm>
              <a:off x="12800160" y="9444240"/>
              <a:ext cx="133200" cy="120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4" h="76">
                  <a:moveTo>
                    <a:pt x="80" y="24"/>
                  </a:moveTo>
                  <a:lnTo>
                    <a:pt x="80" y="24"/>
                  </a:lnTo>
                  <a:lnTo>
                    <a:pt x="84" y="34"/>
                  </a:lnTo>
                  <a:lnTo>
                    <a:pt x="84" y="46"/>
                  </a:lnTo>
                  <a:lnTo>
                    <a:pt x="80" y="54"/>
                  </a:lnTo>
                  <a:lnTo>
                    <a:pt x="74" y="64"/>
                  </a:lnTo>
                  <a:lnTo>
                    <a:pt x="74" y="64"/>
                  </a:lnTo>
                  <a:lnTo>
                    <a:pt x="64" y="70"/>
                  </a:lnTo>
                  <a:lnTo>
                    <a:pt x="52" y="74"/>
                  </a:lnTo>
                  <a:lnTo>
                    <a:pt x="40" y="76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4" y="74"/>
                  </a:lnTo>
                  <a:lnTo>
                    <a:pt x="20" y="72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6" y="60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6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4"/>
                  </a:lnTo>
                  <a:lnTo>
                    <a:pt x="70" y="10"/>
                  </a:lnTo>
                  <a:lnTo>
                    <a:pt x="76" y="16"/>
                  </a:lnTo>
                  <a:lnTo>
                    <a:pt x="80" y="24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5"/>
            <p:cNvSpPr/>
            <p:nvPr/>
          </p:nvSpPr>
          <p:spPr>
            <a:xfrm>
              <a:off x="12809520" y="9453600"/>
              <a:ext cx="110880" cy="10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0" h="64">
                  <a:moveTo>
                    <a:pt x="66" y="16"/>
                  </a:moveTo>
                  <a:lnTo>
                    <a:pt x="66" y="16"/>
                  </a:lnTo>
                  <a:lnTo>
                    <a:pt x="68" y="20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64" y="20"/>
                  </a:lnTo>
                  <a:lnTo>
                    <a:pt x="58" y="18"/>
                  </a:lnTo>
                  <a:lnTo>
                    <a:pt x="50" y="18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28"/>
                  </a:lnTo>
                  <a:lnTo>
                    <a:pt x="34" y="3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6" y="32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2" y="34"/>
                  </a:lnTo>
                  <a:lnTo>
                    <a:pt x="66" y="36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70" y="40"/>
                  </a:lnTo>
                  <a:lnTo>
                    <a:pt x="68" y="46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64"/>
                  </a:lnTo>
                  <a:lnTo>
                    <a:pt x="32" y="62"/>
                  </a:lnTo>
                  <a:lnTo>
                    <a:pt x="24" y="6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2" y="58"/>
                  </a:lnTo>
                  <a:lnTo>
                    <a:pt x="8" y="54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6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56"/>
            <p:cNvSpPr/>
            <p:nvPr/>
          </p:nvSpPr>
          <p:spPr>
            <a:xfrm>
              <a:off x="13527000" y="94568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57"/>
            <p:cNvSpPr/>
            <p:nvPr/>
          </p:nvSpPr>
          <p:spPr>
            <a:xfrm>
              <a:off x="13774680" y="9479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58"/>
            <p:cNvSpPr/>
            <p:nvPr/>
          </p:nvSpPr>
          <p:spPr>
            <a:xfrm>
              <a:off x="14000400" y="9488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59"/>
            <p:cNvSpPr/>
            <p:nvPr/>
          </p:nvSpPr>
          <p:spPr>
            <a:xfrm>
              <a:off x="13587480" y="94950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0"/>
            <p:cNvSpPr/>
            <p:nvPr/>
          </p:nvSpPr>
          <p:spPr>
            <a:xfrm>
              <a:off x="13908240" y="9504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2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1"/>
            <p:cNvSpPr/>
            <p:nvPr/>
          </p:nvSpPr>
          <p:spPr>
            <a:xfrm>
              <a:off x="13311360" y="9510840"/>
              <a:ext cx="56880" cy="72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36" h="46">
                  <a:moveTo>
                    <a:pt x="30" y="4"/>
                  </a:moveTo>
                  <a:lnTo>
                    <a:pt x="30" y="4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28" y="34"/>
                  </a:lnTo>
                  <a:lnTo>
                    <a:pt x="22" y="4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0" y="46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26"/>
                  </a:lnTo>
                  <a:lnTo>
                    <a:pt x="6" y="1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2"/>
            <p:cNvSpPr/>
            <p:nvPr/>
          </p:nvSpPr>
          <p:spPr>
            <a:xfrm>
              <a:off x="13730400" y="95140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2"/>
                  </a:moveTo>
                  <a:lnTo>
                    <a:pt x="6" y="2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3"/>
            <p:cNvSpPr/>
            <p:nvPr/>
          </p:nvSpPr>
          <p:spPr>
            <a:xfrm>
              <a:off x="13323960" y="9516960"/>
              <a:ext cx="31680" cy="536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0" h="34">
                  <a:moveTo>
                    <a:pt x="20" y="6"/>
                  </a:moveTo>
                  <a:lnTo>
                    <a:pt x="20" y="6"/>
                  </a:lnTo>
                  <a:lnTo>
                    <a:pt x="20" y="14"/>
                  </a:lnTo>
                  <a:lnTo>
                    <a:pt x="16" y="22"/>
                  </a:lnTo>
                  <a:lnTo>
                    <a:pt x="1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df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4"/>
            <p:cNvSpPr/>
            <p:nvPr/>
          </p:nvSpPr>
          <p:spPr>
            <a:xfrm>
              <a:off x="13819320" y="95266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2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65"/>
            <p:cNvSpPr/>
            <p:nvPr/>
          </p:nvSpPr>
          <p:spPr>
            <a:xfrm>
              <a:off x="14013000" y="95266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6"/>
            <p:cNvSpPr/>
            <p:nvPr/>
          </p:nvSpPr>
          <p:spPr>
            <a:xfrm>
              <a:off x="13930200" y="95457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4"/>
                  </a:move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67"/>
            <p:cNvSpPr/>
            <p:nvPr/>
          </p:nvSpPr>
          <p:spPr>
            <a:xfrm>
              <a:off x="13654080" y="95490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6" y="6"/>
                  </a:moveTo>
                  <a:lnTo>
                    <a:pt x="6" y="6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8"/>
            <p:cNvSpPr/>
            <p:nvPr/>
          </p:nvSpPr>
          <p:spPr>
            <a:xfrm>
              <a:off x="12945960" y="9552240"/>
              <a:ext cx="139680" cy="85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8" h="54">
                  <a:moveTo>
                    <a:pt x="88" y="6"/>
                  </a:moveTo>
                  <a:lnTo>
                    <a:pt x="88" y="6"/>
                  </a:lnTo>
                  <a:lnTo>
                    <a:pt x="86" y="18"/>
                  </a:lnTo>
                  <a:lnTo>
                    <a:pt x="82" y="32"/>
                  </a:lnTo>
                  <a:lnTo>
                    <a:pt x="74" y="4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4"/>
                  </a:lnTo>
                  <a:lnTo>
                    <a:pt x="42" y="54"/>
                  </a:lnTo>
                  <a:lnTo>
                    <a:pt x="30" y="5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10" y="3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18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4"/>
                  </a:lnTo>
                  <a:lnTo>
                    <a:pt x="38" y="38"/>
                  </a:lnTo>
                  <a:lnTo>
                    <a:pt x="46" y="4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4" y="32"/>
                  </a:lnTo>
                  <a:lnTo>
                    <a:pt x="68" y="24"/>
                  </a:lnTo>
                  <a:lnTo>
                    <a:pt x="72" y="14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88" y="6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69"/>
            <p:cNvSpPr/>
            <p:nvPr/>
          </p:nvSpPr>
          <p:spPr>
            <a:xfrm>
              <a:off x="13581000" y="95551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0"/>
            <p:cNvSpPr/>
            <p:nvPr/>
          </p:nvSpPr>
          <p:spPr>
            <a:xfrm>
              <a:off x="13777920" y="9558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1"/>
            <p:cNvSpPr/>
            <p:nvPr/>
          </p:nvSpPr>
          <p:spPr>
            <a:xfrm>
              <a:off x="12755520" y="95680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32" y="4"/>
                  </a:moveTo>
                  <a:lnTo>
                    <a:pt x="32" y="4"/>
                  </a:lnTo>
                  <a:lnTo>
                    <a:pt x="32" y="4"/>
                  </a:lnTo>
                  <a:lnTo>
                    <a:pt x="38" y="4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2"/>
            <p:cNvSpPr/>
            <p:nvPr/>
          </p:nvSpPr>
          <p:spPr>
            <a:xfrm>
              <a:off x="13838400" y="9568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2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グループ化 182"/>
          <p:cNvGrpSpPr/>
          <p:nvPr/>
        </p:nvGrpSpPr>
        <p:grpSpPr>
          <a:xfrm>
            <a:off x="798480" y="338040"/>
            <a:ext cx="6794640" cy="727200"/>
            <a:chOff x="798480" y="338040"/>
            <a:chExt cx="6794640" cy="727200"/>
          </a:xfrm>
        </p:grpSpPr>
        <p:sp>
          <p:nvSpPr>
            <p:cNvPr id="218" name="Freeform 173"/>
            <p:cNvSpPr/>
            <p:nvPr/>
          </p:nvSpPr>
          <p:spPr>
            <a:xfrm>
              <a:off x="798480" y="601560"/>
              <a:ext cx="177480" cy="177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12" h="112">
                  <a:moveTo>
                    <a:pt x="112" y="56"/>
                  </a:moveTo>
                  <a:lnTo>
                    <a:pt x="112" y="56"/>
                  </a:lnTo>
                  <a:lnTo>
                    <a:pt x="112" y="66"/>
                  </a:lnTo>
                  <a:lnTo>
                    <a:pt x="108" y="78"/>
                  </a:lnTo>
                  <a:lnTo>
                    <a:pt x="104" y="88"/>
                  </a:lnTo>
                  <a:lnTo>
                    <a:pt x="96" y="96"/>
                  </a:lnTo>
                  <a:lnTo>
                    <a:pt x="88" y="102"/>
                  </a:lnTo>
                  <a:lnTo>
                    <a:pt x="78" y="108"/>
                  </a:lnTo>
                  <a:lnTo>
                    <a:pt x="68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46" y="110"/>
                  </a:lnTo>
                  <a:lnTo>
                    <a:pt x="34" y="108"/>
                  </a:lnTo>
                  <a:lnTo>
                    <a:pt x="26" y="102"/>
                  </a:lnTo>
                  <a:lnTo>
                    <a:pt x="16" y="96"/>
                  </a:lnTo>
                  <a:lnTo>
                    <a:pt x="10" y="88"/>
                  </a:lnTo>
                  <a:lnTo>
                    <a:pt x="4" y="78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8" y="16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6"/>
                  </a:lnTo>
                  <a:lnTo>
                    <a:pt x="104" y="24"/>
                  </a:lnTo>
                  <a:lnTo>
                    <a:pt x="108" y="34"/>
                  </a:lnTo>
                  <a:lnTo>
                    <a:pt x="112" y="44"/>
                  </a:lnTo>
                  <a:lnTo>
                    <a:pt x="112" y="56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1360440" y="347400"/>
              <a:ext cx="612720" cy="69552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86" h="438">
                  <a:moveTo>
                    <a:pt x="206" y="0"/>
                  </a:moveTo>
                  <a:lnTo>
                    <a:pt x="206" y="0"/>
                  </a:lnTo>
                  <a:lnTo>
                    <a:pt x="210" y="16"/>
                  </a:lnTo>
                  <a:lnTo>
                    <a:pt x="214" y="34"/>
                  </a:lnTo>
                  <a:lnTo>
                    <a:pt x="220" y="56"/>
                  </a:lnTo>
                  <a:lnTo>
                    <a:pt x="232" y="80"/>
                  </a:lnTo>
                  <a:lnTo>
                    <a:pt x="232" y="80"/>
                  </a:lnTo>
                  <a:lnTo>
                    <a:pt x="278" y="60"/>
                  </a:lnTo>
                  <a:lnTo>
                    <a:pt x="310" y="44"/>
                  </a:lnTo>
                  <a:lnTo>
                    <a:pt x="332" y="30"/>
                  </a:lnTo>
                  <a:lnTo>
                    <a:pt x="344" y="22"/>
                  </a:lnTo>
                  <a:lnTo>
                    <a:pt x="344" y="22"/>
                  </a:lnTo>
                  <a:lnTo>
                    <a:pt x="368" y="52"/>
                  </a:lnTo>
                  <a:lnTo>
                    <a:pt x="386" y="72"/>
                  </a:lnTo>
                  <a:lnTo>
                    <a:pt x="386" y="72"/>
                  </a:lnTo>
                  <a:lnTo>
                    <a:pt x="354" y="92"/>
                  </a:lnTo>
                  <a:lnTo>
                    <a:pt x="322" y="108"/>
                  </a:lnTo>
                  <a:lnTo>
                    <a:pt x="288" y="124"/>
                  </a:lnTo>
                  <a:lnTo>
                    <a:pt x="258" y="136"/>
                  </a:lnTo>
                  <a:lnTo>
                    <a:pt x="258" y="136"/>
                  </a:lnTo>
                  <a:lnTo>
                    <a:pt x="284" y="176"/>
                  </a:lnTo>
                  <a:lnTo>
                    <a:pt x="312" y="216"/>
                  </a:lnTo>
                  <a:lnTo>
                    <a:pt x="342" y="250"/>
                  </a:lnTo>
                  <a:lnTo>
                    <a:pt x="356" y="264"/>
                  </a:lnTo>
                  <a:lnTo>
                    <a:pt x="370" y="276"/>
                  </a:lnTo>
                  <a:lnTo>
                    <a:pt x="328" y="312"/>
                  </a:lnTo>
                  <a:lnTo>
                    <a:pt x="328" y="312"/>
                  </a:lnTo>
                  <a:lnTo>
                    <a:pt x="310" y="302"/>
                  </a:lnTo>
                  <a:lnTo>
                    <a:pt x="290" y="294"/>
                  </a:lnTo>
                  <a:lnTo>
                    <a:pt x="272" y="286"/>
                  </a:lnTo>
                  <a:lnTo>
                    <a:pt x="252" y="282"/>
                  </a:lnTo>
                  <a:lnTo>
                    <a:pt x="218" y="276"/>
                  </a:lnTo>
                  <a:lnTo>
                    <a:pt x="190" y="274"/>
                  </a:lnTo>
                  <a:lnTo>
                    <a:pt x="190" y="274"/>
                  </a:lnTo>
                  <a:lnTo>
                    <a:pt x="172" y="276"/>
                  </a:lnTo>
                  <a:lnTo>
                    <a:pt x="156" y="278"/>
                  </a:lnTo>
                  <a:lnTo>
                    <a:pt x="140" y="282"/>
                  </a:lnTo>
                  <a:lnTo>
                    <a:pt x="126" y="288"/>
                  </a:lnTo>
                  <a:lnTo>
                    <a:pt x="112" y="296"/>
                  </a:lnTo>
                  <a:lnTo>
                    <a:pt x="108" y="302"/>
                  </a:lnTo>
                  <a:lnTo>
                    <a:pt x="104" y="310"/>
                  </a:lnTo>
                  <a:lnTo>
                    <a:pt x="102" y="316"/>
                  </a:lnTo>
                  <a:lnTo>
                    <a:pt x="100" y="326"/>
                  </a:lnTo>
                  <a:lnTo>
                    <a:pt x="100" y="326"/>
                  </a:lnTo>
                  <a:lnTo>
                    <a:pt x="102" y="334"/>
                  </a:lnTo>
                  <a:lnTo>
                    <a:pt x="102" y="340"/>
                  </a:lnTo>
                  <a:lnTo>
                    <a:pt x="106" y="346"/>
                  </a:lnTo>
                  <a:lnTo>
                    <a:pt x="110" y="352"/>
                  </a:lnTo>
                  <a:lnTo>
                    <a:pt x="120" y="360"/>
                  </a:lnTo>
                  <a:lnTo>
                    <a:pt x="134" y="368"/>
                  </a:lnTo>
                  <a:lnTo>
                    <a:pt x="152" y="372"/>
                  </a:lnTo>
                  <a:lnTo>
                    <a:pt x="170" y="376"/>
                  </a:lnTo>
                  <a:lnTo>
                    <a:pt x="192" y="378"/>
                  </a:lnTo>
                  <a:lnTo>
                    <a:pt x="214" y="378"/>
                  </a:lnTo>
                  <a:lnTo>
                    <a:pt x="214" y="378"/>
                  </a:lnTo>
                  <a:lnTo>
                    <a:pt x="248" y="376"/>
                  </a:lnTo>
                  <a:lnTo>
                    <a:pt x="278" y="372"/>
                  </a:lnTo>
                  <a:lnTo>
                    <a:pt x="304" y="364"/>
                  </a:lnTo>
                  <a:lnTo>
                    <a:pt x="330" y="354"/>
                  </a:lnTo>
                  <a:lnTo>
                    <a:pt x="330" y="354"/>
                  </a:lnTo>
                  <a:lnTo>
                    <a:pt x="332" y="370"/>
                  </a:lnTo>
                  <a:lnTo>
                    <a:pt x="336" y="388"/>
                  </a:lnTo>
                  <a:lnTo>
                    <a:pt x="344" y="420"/>
                  </a:lnTo>
                  <a:lnTo>
                    <a:pt x="344" y="420"/>
                  </a:lnTo>
                  <a:lnTo>
                    <a:pt x="314" y="428"/>
                  </a:lnTo>
                  <a:lnTo>
                    <a:pt x="282" y="434"/>
                  </a:lnTo>
                  <a:lnTo>
                    <a:pt x="250" y="436"/>
                  </a:lnTo>
                  <a:lnTo>
                    <a:pt x="216" y="438"/>
                  </a:lnTo>
                  <a:lnTo>
                    <a:pt x="216" y="438"/>
                  </a:lnTo>
                  <a:lnTo>
                    <a:pt x="174" y="436"/>
                  </a:lnTo>
                  <a:lnTo>
                    <a:pt x="156" y="432"/>
                  </a:lnTo>
                  <a:lnTo>
                    <a:pt x="138" y="428"/>
                  </a:lnTo>
                  <a:lnTo>
                    <a:pt x="120" y="424"/>
                  </a:lnTo>
                  <a:lnTo>
                    <a:pt x="106" y="418"/>
                  </a:lnTo>
                  <a:lnTo>
                    <a:pt x="92" y="412"/>
                  </a:lnTo>
                  <a:lnTo>
                    <a:pt x="80" y="406"/>
                  </a:lnTo>
                  <a:lnTo>
                    <a:pt x="68" y="398"/>
                  </a:lnTo>
                  <a:lnTo>
                    <a:pt x="58" y="390"/>
                  </a:lnTo>
                  <a:lnTo>
                    <a:pt x="50" y="380"/>
                  </a:lnTo>
                  <a:lnTo>
                    <a:pt x="44" y="370"/>
                  </a:lnTo>
                  <a:lnTo>
                    <a:pt x="38" y="360"/>
                  </a:lnTo>
                  <a:lnTo>
                    <a:pt x="34" y="350"/>
                  </a:lnTo>
                  <a:lnTo>
                    <a:pt x="32" y="338"/>
                  </a:lnTo>
                  <a:lnTo>
                    <a:pt x="32" y="328"/>
                  </a:lnTo>
                  <a:lnTo>
                    <a:pt x="32" y="328"/>
                  </a:lnTo>
                  <a:lnTo>
                    <a:pt x="32" y="318"/>
                  </a:lnTo>
                  <a:lnTo>
                    <a:pt x="34" y="308"/>
                  </a:lnTo>
                  <a:lnTo>
                    <a:pt x="38" y="298"/>
                  </a:lnTo>
                  <a:lnTo>
                    <a:pt x="42" y="288"/>
                  </a:lnTo>
                  <a:lnTo>
                    <a:pt x="54" y="270"/>
                  </a:lnTo>
                  <a:lnTo>
                    <a:pt x="70" y="254"/>
                  </a:lnTo>
                  <a:lnTo>
                    <a:pt x="90" y="242"/>
                  </a:lnTo>
                  <a:lnTo>
                    <a:pt x="116" y="230"/>
                  </a:lnTo>
                  <a:lnTo>
                    <a:pt x="144" y="224"/>
                  </a:lnTo>
                  <a:lnTo>
                    <a:pt x="160" y="222"/>
                  </a:lnTo>
                  <a:lnTo>
                    <a:pt x="176" y="222"/>
                  </a:lnTo>
                  <a:lnTo>
                    <a:pt x="176" y="222"/>
                  </a:lnTo>
                  <a:lnTo>
                    <a:pt x="200" y="222"/>
                  </a:lnTo>
                  <a:lnTo>
                    <a:pt x="218" y="226"/>
                  </a:lnTo>
                  <a:lnTo>
                    <a:pt x="242" y="230"/>
                  </a:lnTo>
                  <a:lnTo>
                    <a:pt x="242" y="230"/>
                  </a:lnTo>
                  <a:lnTo>
                    <a:pt x="222" y="200"/>
                  </a:lnTo>
                  <a:lnTo>
                    <a:pt x="196" y="156"/>
                  </a:lnTo>
                  <a:lnTo>
                    <a:pt x="196" y="156"/>
                  </a:lnTo>
                  <a:lnTo>
                    <a:pt x="144" y="170"/>
                  </a:lnTo>
                  <a:lnTo>
                    <a:pt x="96" y="180"/>
                  </a:lnTo>
                  <a:lnTo>
                    <a:pt x="54" y="186"/>
                  </a:lnTo>
                  <a:lnTo>
                    <a:pt x="20" y="188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32" y="122"/>
                  </a:lnTo>
                  <a:lnTo>
                    <a:pt x="72" y="120"/>
                  </a:lnTo>
                  <a:lnTo>
                    <a:pt x="118" y="112"/>
                  </a:lnTo>
                  <a:lnTo>
                    <a:pt x="170" y="100"/>
                  </a:lnTo>
                  <a:lnTo>
                    <a:pt x="170" y="100"/>
                  </a:lnTo>
                  <a:lnTo>
                    <a:pt x="152" y="58"/>
                  </a:lnTo>
                  <a:lnTo>
                    <a:pt x="134" y="16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75"/>
            <p:cNvSpPr/>
            <p:nvPr/>
          </p:nvSpPr>
          <p:spPr>
            <a:xfrm>
              <a:off x="2328840" y="347400"/>
              <a:ext cx="688680" cy="6987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434" h="440">
                  <a:moveTo>
                    <a:pt x="214" y="104"/>
                  </a:moveTo>
                  <a:lnTo>
                    <a:pt x="214" y="104"/>
                  </a:lnTo>
                  <a:lnTo>
                    <a:pt x="204" y="116"/>
                  </a:lnTo>
                  <a:lnTo>
                    <a:pt x="196" y="128"/>
                  </a:lnTo>
                  <a:lnTo>
                    <a:pt x="188" y="140"/>
                  </a:lnTo>
                  <a:lnTo>
                    <a:pt x="188" y="140"/>
                  </a:lnTo>
                  <a:lnTo>
                    <a:pt x="204" y="130"/>
                  </a:lnTo>
                  <a:lnTo>
                    <a:pt x="220" y="122"/>
                  </a:lnTo>
                  <a:lnTo>
                    <a:pt x="236" y="116"/>
                  </a:lnTo>
                  <a:lnTo>
                    <a:pt x="250" y="112"/>
                  </a:lnTo>
                  <a:lnTo>
                    <a:pt x="276" y="106"/>
                  </a:lnTo>
                  <a:lnTo>
                    <a:pt x="298" y="106"/>
                  </a:lnTo>
                  <a:lnTo>
                    <a:pt x="298" y="106"/>
                  </a:lnTo>
                  <a:lnTo>
                    <a:pt x="318" y="106"/>
                  </a:lnTo>
                  <a:lnTo>
                    <a:pt x="342" y="112"/>
                  </a:lnTo>
                  <a:lnTo>
                    <a:pt x="364" y="120"/>
                  </a:lnTo>
                  <a:lnTo>
                    <a:pt x="376" y="126"/>
                  </a:lnTo>
                  <a:lnTo>
                    <a:pt x="386" y="134"/>
                  </a:lnTo>
                  <a:lnTo>
                    <a:pt x="396" y="142"/>
                  </a:lnTo>
                  <a:lnTo>
                    <a:pt x="406" y="152"/>
                  </a:lnTo>
                  <a:lnTo>
                    <a:pt x="414" y="164"/>
                  </a:lnTo>
                  <a:lnTo>
                    <a:pt x="422" y="176"/>
                  </a:lnTo>
                  <a:lnTo>
                    <a:pt x="426" y="190"/>
                  </a:lnTo>
                  <a:lnTo>
                    <a:pt x="432" y="206"/>
                  </a:lnTo>
                  <a:lnTo>
                    <a:pt x="434" y="224"/>
                  </a:lnTo>
                  <a:lnTo>
                    <a:pt x="434" y="244"/>
                  </a:lnTo>
                  <a:lnTo>
                    <a:pt x="434" y="244"/>
                  </a:lnTo>
                  <a:lnTo>
                    <a:pt x="434" y="270"/>
                  </a:lnTo>
                  <a:lnTo>
                    <a:pt x="428" y="294"/>
                  </a:lnTo>
                  <a:lnTo>
                    <a:pt x="420" y="314"/>
                  </a:lnTo>
                  <a:lnTo>
                    <a:pt x="410" y="334"/>
                  </a:lnTo>
                  <a:lnTo>
                    <a:pt x="398" y="350"/>
                  </a:lnTo>
                  <a:lnTo>
                    <a:pt x="386" y="364"/>
                  </a:lnTo>
                  <a:lnTo>
                    <a:pt x="370" y="376"/>
                  </a:lnTo>
                  <a:lnTo>
                    <a:pt x="356" y="386"/>
                  </a:lnTo>
                  <a:lnTo>
                    <a:pt x="340" y="394"/>
                  </a:lnTo>
                  <a:lnTo>
                    <a:pt x="324" y="400"/>
                  </a:lnTo>
                  <a:lnTo>
                    <a:pt x="292" y="410"/>
                  </a:lnTo>
                  <a:lnTo>
                    <a:pt x="266" y="416"/>
                  </a:lnTo>
                  <a:lnTo>
                    <a:pt x="248" y="420"/>
                  </a:lnTo>
                  <a:lnTo>
                    <a:pt x="248" y="420"/>
                  </a:lnTo>
                  <a:lnTo>
                    <a:pt x="240" y="400"/>
                  </a:lnTo>
                  <a:lnTo>
                    <a:pt x="232" y="386"/>
                  </a:lnTo>
                  <a:lnTo>
                    <a:pt x="224" y="372"/>
                  </a:lnTo>
                  <a:lnTo>
                    <a:pt x="214" y="360"/>
                  </a:lnTo>
                  <a:lnTo>
                    <a:pt x="214" y="360"/>
                  </a:lnTo>
                  <a:lnTo>
                    <a:pt x="240" y="356"/>
                  </a:lnTo>
                  <a:lnTo>
                    <a:pt x="266" y="352"/>
                  </a:lnTo>
                  <a:lnTo>
                    <a:pt x="294" y="344"/>
                  </a:lnTo>
                  <a:lnTo>
                    <a:pt x="318" y="334"/>
                  </a:lnTo>
                  <a:lnTo>
                    <a:pt x="328" y="328"/>
                  </a:lnTo>
                  <a:lnTo>
                    <a:pt x="338" y="320"/>
                  </a:lnTo>
                  <a:lnTo>
                    <a:pt x="348" y="310"/>
                  </a:lnTo>
                  <a:lnTo>
                    <a:pt x="356" y="300"/>
                  </a:lnTo>
                  <a:lnTo>
                    <a:pt x="362" y="290"/>
                  </a:lnTo>
                  <a:lnTo>
                    <a:pt x="366" y="276"/>
                  </a:lnTo>
                  <a:lnTo>
                    <a:pt x="370" y="262"/>
                  </a:lnTo>
                  <a:lnTo>
                    <a:pt x="370" y="248"/>
                  </a:lnTo>
                  <a:lnTo>
                    <a:pt x="370" y="248"/>
                  </a:lnTo>
                  <a:lnTo>
                    <a:pt x="370" y="228"/>
                  </a:lnTo>
                  <a:lnTo>
                    <a:pt x="364" y="210"/>
                  </a:lnTo>
                  <a:lnTo>
                    <a:pt x="356" y="196"/>
                  </a:lnTo>
                  <a:lnTo>
                    <a:pt x="346" y="184"/>
                  </a:lnTo>
                  <a:lnTo>
                    <a:pt x="334" y="176"/>
                  </a:lnTo>
                  <a:lnTo>
                    <a:pt x="322" y="170"/>
                  </a:lnTo>
                  <a:lnTo>
                    <a:pt x="306" y="166"/>
                  </a:lnTo>
                  <a:lnTo>
                    <a:pt x="290" y="164"/>
                  </a:lnTo>
                  <a:lnTo>
                    <a:pt x="290" y="164"/>
                  </a:lnTo>
                  <a:lnTo>
                    <a:pt x="270" y="166"/>
                  </a:lnTo>
                  <a:lnTo>
                    <a:pt x="250" y="170"/>
                  </a:lnTo>
                  <a:lnTo>
                    <a:pt x="232" y="178"/>
                  </a:lnTo>
                  <a:lnTo>
                    <a:pt x="214" y="186"/>
                  </a:lnTo>
                  <a:lnTo>
                    <a:pt x="198" y="194"/>
                  </a:lnTo>
                  <a:lnTo>
                    <a:pt x="184" y="204"/>
                  </a:lnTo>
                  <a:lnTo>
                    <a:pt x="162" y="222"/>
                  </a:lnTo>
                  <a:lnTo>
                    <a:pt x="162" y="222"/>
                  </a:lnTo>
                  <a:lnTo>
                    <a:pt x="164" y="434"/>
                  </a:lnTo>
                  <a:lnTo>
                    <a:pt x="94" y="440"/>
                  </a:lnTo>
                  <a:lnTo>
                    <a:pt x="94" y="440"/>
                  </a:lnTo>
                  <a:lnTo>
                    <a:pt x="96" y="386"/>
                  </a:lnTo>
                  <a:lnTo>
                    <a:pt x="100" y="292"/>
                  </a:lnTo>
                  <a:lnTo>
                    <a:pt x="100" y="292"/>
                  </a:lnTo>
                  <a:lnTo>
                    <a:pt x="74" y="328"/>
                  </a:lnTo>
                  <a:lnTo>
                    <a:pt x="48" y="362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32" y="282"/>
                  </a:lnTo>
                  <a:lnTo>
                    <a:pt x="60" y="246"/>
                  </a:lnTo>
                  <a:lnTo>
                    <a:pt x="84" y="212"/>
                  </a:lnTo>
                  <a:lnTo>
                    <a:pt x="104" y="180"/>
                  </a:lnTo>
                  <a:lnTo>
                    <a:pt x="104" y="160"/>
                  </a:lnTo>
                  <a:lnTo>
                    <a:pt x="104" y="160"/>
                  </a:lnTo>
                  <a:lnTo>
                    <a:pt x="80" y="168"/>
                  </a:lnTo>
                  <a:lnTo>
                    <a:pt x="58" y="176"/>
                  </a:lnTo>
                  <a:lnTo>
                    <a:pt x="24" y="186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42" y="112"/>
                  </a:lnTo>
                  <a:lnTo>
                    <a:pt x="68" y="108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04" y="50"/>
                  </a:lnTo>
                  <a:lnTo>
                    <a:pt x="102" y="0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78" y="6"/>
                  </a:lnTo>
                  <a:lnTo>
                    <a:pt x="180" y="8"/>
                  </a:lnTo>
                  <a:lnTo>
                    <a:pt x="182" y="10"/>
                  </a:lnTo>
                  <a:lnTo>
                    <a:pt x="182" y="10"/>
                  </a:lnTo>
                  <a:lnTo>
                    <a:pt x="180" y="14"/>
                  </a:lnTo>
                  <a:lnTo>
                    <a:pt x="178" y="16"/>
                  </a:lnTo>
                  <a:lnTo>
                    <a:pt x="170" y="18"/>
                  </a:lnTo>
                  <a:lnTo>
                    <a:pt x="170" y="18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82" y="68"/>
                  </a:lnTo>
                  <a:lnTo>
                    <a:pt x="214" y="104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76"/>
            <p:cNvSpPr/>
            <p:nvPr/>
          </p:nvSpPr>
          <p:spPr>
            <a:xfrm>
              <a:off x="3338640" y="344160"/>
              <a:ext cx="711000" cy="7020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448" h="442">
                  <a:moveTo>
                    <a:pt x="0" y="190"/>
                  </a:moveTo>
                  <a:lnTo>
                    <a:pt x="0" y="190"/>
                  </a:lnTo>
                  <a:lnTo>
                    <a:pt x="36" y="174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72" y="102"/>
                  </a:lnTo>
                  <a:lnTo>
                    <a:pt x="56" y="78"/>
                  </a:lnTo>
                  <a:lnTo>
                    <a:pt x="38" y="52"/>
                  </a:lnTo>
                  <a:lnTo>
                    <a:pt x="106" y="26"/>
                  </a:lnTo>
                  <a:lnTo>
                    <a:pt x="106" y="26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18" y="34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38" y="82"/>
                  </a:lnTo>
                  <a:lnTo>
                    <a:pt x="138" y="82"/>
                  </a:lnTo>
                  <a:lnTo>
                    <a:pt x="150" y="110"/>
                  </a:lnTo>
                  <a:lnTo>
                    <a:pt x="150" y="110"/>
                  </a:lnTo>
                  <a:lnTo>
                    <a:pt x="172" y="98"/>
                  </a:lnTo>
                  <a:lnTo>
                    <a:pt x="210" y="82"/>
                  </a:lnTo>
                  <a:lnTo>
                    <a:pt x="210" y="82"/>
                  </a:lnTo>
                  <a:lnTo>
                    <a:pt x="182" y="46"/>
                  </a:lnTo>
                  <a:lnTo>
                    <a:pt x="164" y="26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36" y="20"/>
                  </a:lnTo>
                  <a:lnTo>
                    <a:pt x="250" y="36"/>
                  </a:lnTo>
                  <a:lnTo>
                    <a:pt x="270" y="60"/>
                  </a:lnTo>
                  <a:lnTo>
                    <a:pt x="270" y="60"/>
                  </a:lnTo>
                  <a:lnTo>
                    <a:pt x="300" y="54"/>
                  </a:lnTo>
                  <a:lnTo>
                    <a:pt x="330" y="52"/>
                  </a:lnTo>
                  <a:lnTo>
                    <a:pt x="330" y="52"/>
                  </a:lnTo>
                  <a:lnTo>
                    <a:pt x="346" y="52"/>
                  </a:lnTo>
                  <a:lnTo>
                    <a:pt x="360" y="54"/>
                  </a:lnTo>
                  <a:lnTo>
                    <a:pt x="374" y="58"/>
                  </a:lnTo>
                  <a:lnTo>
                    <a:pt x="386" y="62"/>
                  </a:lnTo>
                  <a:lnTo>
                    <a:pt x="396" y="66"/>
                  </a:lnTo>
                  <a:lnTo>
                    <a:pt x="406" y="72"/>
                  </a:lnTo>
                  <a:lnTo>
                    <a:pt x="414" y="80"/>
                  </a:lnTo>
                  <a:lnTo>
                    <a:pt x="422" y="88"/>
                  </a:lnTo>
                  <a:lnTo>
                    <a:pt x="434" y="104"/>
                  </a:lnTo>
                  <a:lnTo>
                    <a:pt x="442" y="122"/>
                  </a:lnTo>
                  <a:lnTo>
                    <a:pt x="446" y="140"/>
                  </a:lnTo>
                  <a:lnTo>
                    <a:pt x="448" y="158"/>
                  </a:lnTo>
                  <a:lnTo>
                    <a:pt x="448" y="158"/>
                  </a:lnTo>
                  <a:lnTo>
                    <a:pt x="446" y="180"/>
                  </a:lnTo>
                  <a:lnTo>
                    <a:pt x="442" y="198"/>
                  </a:lnTo>
                  <a:lnTo>
                    <a:pt x="434" y="214"/>
                  </a:lnTo>
                  <a:lnTo>
                    <a:pt x="424" y="228"/>
                  </a:lnTo>
                  <a:lnTo>
                    <a:pt x="414" y="240"/>
                  </a:lnTo>
                  <a:lnTo>
                    <a:pt x="402" y="250"/>
                  </a:lnTo>
                  <a:lnTo>
                    <a:pt x="388" y="258"/>
                  </a:lnTo>
                  <a:lnTo>
                    <a:pt x="372" y="264"/>
                  </a:lnTo>
                  <a:lnTo>
                    <a:pt x="358" y="270"/>
                  </a:lnTo>
                  <a:lnTo>
                    <a:pt x="342" y="274"/>
                  </a:lnTo>
                  <a:lnTo>
                    <a:pt x="312" y="278"/>
                  </a:lnTo>
                  <a:lnTo>
                    <a:pt x="286" y="282"/>
                  </a:lnTo>
                  <a:lnTo>
                    <a:pt x="266" y="282"/>
                  </a:lnTo>
                  <a:lnTo>
                    <a:pt x="266" y="282"/>
                  </a:lnTo>
                  <a:lnTo>
                    <a:pt x="256" y="250"/>
                  </a:lnTo>
                  <a:lnTo>
                    <a:pt x="242" y="220"/>
                  </a:lnTo>
                  <a:lnTo>
                    <a:pt x="242" y="220"/>
                  </a:lnTo>
                  <a:lnTo>
                    <a:pt x="276" y="220"/>
                  </a:lnTo>
                  <a:lnTo>
                    <a:pt x="300" y="218"/>
                  </a:lnTo>
                  <a:lnTo>
                    <a:pt x="324" y="214"/>
                  </a:lnTo>
                  <a:lnTo>
                    <a:pt x="346" y="206"/>
                  </a:lnTo>
                  <a:lnTo>
                    <a:pt x="358" y="202"/>
                  </a:lnTo>
                  <a:lnTo>
                    <a:pt x="366" y="196"/>
                  </a:lnTo>
                  <a:lnTo>
                    <a:pt x="374" y="188"/>
                  </a:lnTo>
                  <a:lnTo>
                    <a:pt x="380" y="180"/>
                  </a:lnTo>
                  <a:lnTo>
                    <a:pt x="382" y="168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82" y="146"/>
                  </a:lnTo>
                  <a:lnTo>
                    <a:pt x="380" y="138"/>
                  </a:lnTo>
                  <a:lnTo>
                    <a:pt x="376" y="130"/>
                  </a:lnTo>
                  <a:lnTo>
                    <a:pt x="370" y="122"/>
                  </a:lnTo>
                  <a:lnTo>
                    <a:pt x="362" y="118"/>
                  </a:lnTo>
                  <a:lnTo>
                    <a:pt x="352" y="114"/>
                  </a:lnTo>
                  <a:lnTo>
                    <a:pt x="342" y="110"/>
                  </a:lnTo>
                  <a:lnTo>
                    <a:pt x="332" y="110"/>
                  </a:lnTo>
                  <a:lnTo>
                    <a:pt x="332" y="110"/>
                  </a:lnTo>
                  <a:lnTo>
                    <a:pt x="322" y="110"/>
                  </a:lnTo>
                  <a:lnTo>
                    <a:pt x="306" y="112"/>
                  </a:lnTo>
                  <a:lnTo>
                    <a:pt x="306" y="112"/>
                  </a:lnTo>
                  <a:lnTo>
                    <a:pt x="322" y="144"/>
                  </a:lnTo>
                  <a:lnTo>
                    <a:pt x="334" y="164"/>
                  </a:lnTo>
                  <a:lnTo>
                    <a:pt x="334" y="164"/>
                  </a:lnTo>
                  <a:lnTo>
                    <a:pt x="300" y="178"/>
                  </a:lnTo>
                  <a:lnTo>
                    <a:pt x="272" y="192"/>
                  </a:lnTo>
                  <a:lnTo>
                    <a:pt x="272" y="192"/>
                  </a:lnTo>
                  <a:lnTo>
                    <a:pt x="260" y="166"/>
                  </a:lnTo>
                  <a:lnTo>
                    <a:pt x="242" y="132"/>
                  </a:lnTo>
                  <a:lnTo>
                    <a:pt x="242" y="132"/>
                  </a:lnTo>
                  <a:lnTo>
                    <a:pt x="202" y="150"/>
                  </a:lnTo>
                  <a:lnTo>
                    <a:pt x="176" y="162"/>
                  </a:lnTo>
                  <a:lnTo>
                    <a:pt x="176" y="162"/>
                  </a:lnTo>
                  <a:lnTo>
                    <a:pt x="204" y="224"/>
                  </a:lnTo>
                  <a:lnTo>
                    <a:pt x="230" y="292"/>
                  </a:lnTo>
                  <a:lnTo>
                    <a:pt x="252" y="356"/>
                  </a:lnTo>
                  <a:lnTo>
                    <a:pt x="262" y="384"/>
                  </a:lnTo>
                  <a:lnTo>
                    <a:pt x="268" y="410"/>
                  </a:lnTo>
                  <a:lnTo>
                    <a:pt x="268" y="410"/>
                  </a:lnTo>
                  <a:lnTo>
                    <a:pt x="196" y="442"/>
                  </a:lnTo>
                  <a:lnTo>
                    <a:pt x="196" y="442"/>
                  </a:lnTo>
                  <a:lnTo>
                    <a:pt x="192" y="412"/>
                  </a:lnTo>
                  <a:lnTo>
                    <a:pt x="186" y="380"/>
                  </a:lnTo>
                  <a:lnTo>
                    <a:pt x="178" y="350"/>
                  </a:lnTo>
                  <a:lnTo>
                    <a:pt x="168" y="318"/>
                  </a:lnTo>
                  <a:lnTo>
                    <a:pt x="146" y="256"/>
                  </a:lnTo>
                  <a:lnTo>
                    <a:pt x="120" y="196"/>
                  </a:lnTo>
                  <a:lnTo>
                    <a:pt x="120" y="196"/>
                  </a:lnTo>
                  <a:lnTo>
                    <a:pt x="96" y="212"/>
                  </a:lnTo>
                  <a:lnTo>
                    <a:pt x="76" y="226"/>
                  </a:lnTo>
                  <a:lnTo>
                    <a:pt x="40" y="254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77"/>
            <p:cNvSpPr/>
            <p:nvPr/>
          </p:nvSpPr>
          <p:spPr>
            <a:xfrm>
              <a:off x="4354560" y="347400"/>
              <a:ext cx="707760" cy="68292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682920"/>
                <a:gd name="textAreaBottom" fmla="*/ 683280 h 682920"/>
              </a:gdLst>
              <a:ahLst/>
              <a:rect l="textAreaLeft" t="textAreaTop" r="textAreaRight" b="textAreaBottom"/>
              <a:pathLst>
                <a:path w="446" h="430">
                  <a:moveTo>
                    <a:pt x="222" y="22"/>
                  </a:moveTo>
                  <a:lnTo>
                    <a:pt x="222" y="22"/>
                  </a:lnTo>
                  <a:lnTo>
                    <a:pt x="228" y="24"/>
                  </a:lnTo>
                  <a:lnTo>
                    <a:pt x="230" y="26"/>
                  </a:lnTo>
                  <a:lnTo>
                    <a:pt x="232" y="28"/>
                  </a:lnTo>
                  <a:lnTo>
                    <a:pt x="232" y="28"/>
                  </a:lnTo>
                  <a:lnTo>
                    <a:pt x="232" y="30"/>
                  </a:lnTo>
                  <a:lnTo>
                    <a:pt x="230" y="34"/>
                  </a:lnTo>
                  <a:lnTo>
                    <a:pt x="226" y="36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04" y="100"/>
                  </a:lnTo>
                  <a:lnTo>
                    <a:pt x="204" y="100"/>
                  </a:lnTo>
                  <a:lnTo>
                    <a:pt x="220" y="100"/>
                  </a:lnTo>
                  <a:lnTo>
                    <a:pt x="236" y="100"/>
                  </a:lnTo>
                  <a:lnTo>
                    <a:pt x="256" y="104"/>
                  </a:lnTo>
                  <a:lnTo>
                    <a:pt x="266" y="108"/>
                  </a:lnTo>
                  <a:lnTo>
                    <a:pt x="274" y="112"/>
                  </a:lnTo>
                  <a:lnTo>
                    <a:pt x="284" y="118"/>
                  </a:lnTo>
                  <a:lnTo>
                    <a:pt x="292" y="126"/>
                  </a:lnTo>
                  <a:lnTo>
                    <a:pt x="300" y="136"/>
                  </a:lnTo>
                  <a:lnTo>
                    <a:pt x="306" y="148"/>
                  </a:lnTo>
                  <a:lnTo>
                    <a:pt x="312" y="162"/>
                  </a:lnTo>
                  <a:lnTo>
                    <a:pt x="316" y="178"/>
                  </a:lnTo>
                  <a:lnTo>
                    <a:pt x="318" y="198"/>
                  </a:lnTo>
                  <a:lnTo>
                    <a:pt x="320" y="220"/>
                  </a:lnTo>
                  <a:lnTo>
                    <a:pt x="320" y="220"/>
                  </a:lnTo>
                  <a:lnTo>
                    <a:pt x="318" y="246"/>
                  </a:lnTo>
                  <a:lnTo>
                    <a:pt x="316" y="274"/>
                  </a:lnTo>
                  <a:lnTo>
                    <a:pt x="310" y="300"/>
                  </a:lnTo>
                  <a:lnTo>
                    <a:pt x="304" y="324"/>
                  </a:lnTo>
                  <a:lnTo>
                    <a:pt x="296" y="346"/>
                  </a:lnTo>
                  <a:lnTo>
                    <a:pt x="288" y="366"/>
                  </a:lnTo>
                  <a:lnTo>
                    <a:pt x="280" y="382"/>
                  </a:lnTo>
                  <a:lnTo>
                    <a:pt x="272" y="396"/>
                  </a:lnTo>
                  <a:lnTo>
                    <a:pt x="272" y="396"/>
                  </a:lnTo>
                  <a:lnTo>
                    <a:pt x="258" y="410"/>
                  </a:lnTo>
                  <a:lnTo>
                    <a:pt x="252" y="416"/>
                  </a:lnTo>
                  <a:lnTo>
                    <a:pt x="242" y="420"/>
                  </a:lnTo>
                  <a:lnTo>
                    <a:pt x="234" y="424"/>
                  </a:lnTo>
                  <a:lnTo>
                    <a:pt x="224" y="428"/>
                  </a:lnTo>
                  <a:lnTo>
                    <a:pt x="212" y="430"/>
                  </a:lnTo>
                  <a:lnTo>
                    <a:pt x="198" y="430"/>
                  </a:lnTo>
                  <a:lnTo>
                    <a:pt x="198" y="430"/>
                  </a:lnTo>
                  <a:lnTo>
                    <a:pt x="180" y="428"/>
                  </a:lnTo>
                  <a:lnTo>
                    <a:pt x="148" y="424"/>
                  </a:lnTo>
                  <a:lnTo>
                    <a:pt x="148" y="424"/>
                  </a:lnTo>
                  <a:lnTo>
                    <a:pt x="150" y="408"/>
                  </a:lnTo>
                  <a:lnTo>
                    <a:pt x="150" y="408"/>
                  </a:lnTo>
                  <a:lnTo>
                    <a:pt x="148" y="382"/>
                  </a:lnTo>
                  <a:lnTo>
                    <a:pt x="144" y="352"/>
                  </a:lnTo>
                  <a:lnTo>
                    <a:pt x="144" y="352"/>
                  </a:lnTo>
                  <a:lnTo>
                    <a:pt x="160" y="360"/>
                  </a:lnTo>
                  <a:lnTo>
                    <a:pt x="174" y="362"/>
                  </a:lnTo>
                  <a:lnTo>
                    <a:pt x="188" y="364"/>
                  </a:lnTo>
                  <a:lnTo>
                    <a:pt x="188" y="364"/>
                  </a:lnTo>
                  <a:lnTo>
                    <a:pt x="200" y="362"/>
                  </a:lnTo>
                  <a:lnTo>
                    <a:pt x="210" y="360"/>
                  </a:lnTo>
                  <a:lnTo>
                    <a:pt x="218" y="356"/>
                  </a:lnTo>
                  <a:lnTo>
                    <a:pt x="224" y="348"/>
                  </a:lnTo>
                  <a:lnTo>
                    <a:pt x="224" y="348"/>
                  </a:lnTo>
                  <a:lnTo>
                    <a:pt x="230" y="340"/>
                  </a:lnTo>
                  <a:lnTo>
                    <a:pt x="236" y="330"/>
                  </a:lnTo>
                  <a:lnTo>
                    <a:pt x="240" y="316"/>
                  </a:lnTo>
                  <a:lnTo>
                    <a:pt x="246" y="300"/>
                  </a:lnTo>
                  <a:lnTo>
                    <a:pt x="250" y="282"/>
                  </a:lnTo>
                  <a:lnTo>
                    <a:pt x="254" y="262"/>
                  </a:lnTo>
                  <a:lnTo>
                    <a:pt x="256" y="242"/>
                  </a:lnTo>
                  <a:lnTo>
                    <a:pt x="256" y="220"/>
                  </a:lnTo>
                  <a:lnTo>
                    <a:pt x="256" y="220"/>
                  </a:lnTo>
                  <a:lnTo>
                    <a:pt x="256" y="202"/>
                  </a:lnTo>
                  <a:lnTo>
                    <a:pt x="252" y="188"/>
                  </a:lnTo>
                  <a:lnTo>
                    <a:pt x="246" y="176"/>
                  </a:lnTo>
                  <a:lnTo>
                    <a:pt x="240" y="170"/>
                  </a:lnTo>
                  <a:lnTo>
                    <a:pt x="232" y="164"/>
                  </a:lnTo>
                  <a:lnTo>
                    <a:pt x="224" y="162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188" y="162"/>
                  </a:lnTo>
                  <a:lnTo>
                    <a:pt x="188" y="162"/>
                  </a:lnTo>
                  <a:lnTo>
                    <a:pt x="168" y="224"/>
                  </a:lnTo>
                  <a:lnTo>
                    <a:pt x="156" y="256"/>
                  </a:lnTo>
                  <a:lnTo>
                    <a:pt x="142" y="290"/>
                  </a:lnTo>
                  <a:lnTo>
                    <a:pt x="126" y="322"/>
                  </a:lnTo>
                  <a:lnTo>
                    <a:pt x="106" y="356"/>
                  </a:lnTo>
                  <a:lnTo>
                    <a:pt x="86" y="39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46" y="416"/>
                  </a:lnTo>
                  <a:lnTo>
                    <a:pt x="30" y="406"/>
                  </a:lnTo>
                  <a:lnTo>
                    <a:pt x="0" y="392"/>
                  </a:lnTo>
                  <a:lnTo>
                    <a:pt x="0" y="392"/>
                  </a:lnTo>
                  <a:lnTo>
                    <a:pt x="22" y="366"/>
                  </a:lnTo>
                  <a:lnTo>
                    <a:pt x="36" y="344"/>
                  </a:lnTo>
                  <a:lnTo>
                    <a:pt x="54" y="320"/>
                  </a:lnTo>
                  <a:lnTo>
                    <a:pt x="72" y="290"/>
                  </a:lnTo>
                  <a:lnTo>
                    <a:pt x="88" y="256"/>
                  </a:lnTo>
                  <a:lnTo>
                    <a:pt x="106" y="216"/>
                  </a:lnTo>
                  <a:lnTo>
                    <a:pt x="120" y="174"/>
                  </a:lnTo>
                  <a:lnTo>
                    <a:pt x="120" y="174"/>
                  </a:lnTo>
                  <a:lnTo>
                    <a:pt x="74" y="186"/>
                  </a:lnTo>
                  <a:lnTo>
                    <a:pt x="52" y="194"/>
                  </a:lnTo>
                  <a:lnTo>
                    <a:pt x="32" y="200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44" y="74"/>
                  </a:lnTo>
                  <a:lnTo>
                    <a:pt x="148" y="44"/>
                  </a:lnTo>
                  <a:lnTo>
                    <a:pt x="152" y="0"/>
                  </a:lnTo>
                  <a:lnTo>
                    <a:pt x="222" y="22"/>
                  </a:lnTo>
                  <a:close/>
                  <a:moveTo>
                    <a:pt x="358" y="50"/>
                  </a:moveTo>
                  <a:lnTo>
                    <a:pt x="358" y="50"/>
                  </a:lnTo>
                  <a:lnTo>
                    <a:pt x="376" y="74"/>
                  </a:lnTo>
                  <a:lnTo>
                    <a:pt x="394" y="98"/>
                  </a:lnTo>
                  <a:lnTo>
                    <a:pt x="410" y="124"/>
                  </a:lnTo>
                  <a:lnTo>
                    <a:pt x="422" y="148"/>
                  </a:lnTo>
                  <a:lnTo>
                    <a:pt x="432" y="172"/>
                  </a:lnTo>
                  <a:lnTo>
                    <a:pt x="440" y="194"/>
                  </a:lnTo>
                  <a:lnTo>
                    <a:pt x="444" y="214"/>
                  </a:lnTo>
                  <a:lnTo>
                    <a:pt x="446" y="230"/>
                  </a:lnTo>
                  <a:lnTo>
                    <a:pt x="446" y="230"/>
                  </a:lnTo>
                  <a:lnTo>
                    <a:pt x="444" y="246"/>
                  </a:lnTo>
                  <a:lnTo>
                    <a:pt x="442" y="254"/>
                  </a:lnTo>
                  <a:lnTo>
                    <a:pt x="438" y="260"/>
                  </a:lnTo>
                  <a:lnTo>
                    <a:pt x="434" y="266"/>
                  </a:lnTo>
                  <a:lnTo>
                    <a:pt x="428" y="270"/>
                  </a:lnTo>
                  <a:lnTo>
                    <a:pt x="412" y="282"/>
                  </a:lnTo>
                  <a:lnTo>
                    <a:pt x="412" y="282"/>
                  </a:lnTo>
                  <a:lnTo>
                    <a:pt x="394" y="288"/>
                  </a:lnTo>
                  <a:lnTo>
                    <a:pt x="380" y="292"/>
                  </a:lnTo>
                  <a:lnTo>
                    <a:pt x="362" y="296"/>
                  </a:lnTo>
                  <a:lnTo>
                    <a:pt x="362" y="296"/>
                  </a:lnTo>
                  <a:lnTo>
                    <a:pt x="350" y="266"/>
                  </a:lnTo>
                  <a:lnTo>
                    <a:pt x="338" y="240"/>
                  </a:lnTo>
                  <a:lnTo>
                    <a:pt x="338" y="240"/>
                  </a:lnTo>
                  <a:lnTo>
                    <a:pt x="352" y="238"/>
                  </a:lnTo>
                  <a:lnTo>
                    <a:pt x="364" y="232"/>
                  </a:lnTo>
                  <a:lnTo>
                    <a:pt x="370" y="230"/>
                  </a:lnTo>
                  <a:lnTo>
                    <a:pt x="374" y="226"/>
                  </a:lnTo>
                  <a:lnTo>
                    <a:pt x="376" y="220"/>
                  </a:lnTo>
                  <a:lnTo>
                    <a:pt x="378" y="214"/>
                  </a:lnTo>
                  <a:lnTo>
                    <a:pt x="378" y="214"/>
                  </a:lnTo>
                  <a:lnTo>
                    <a:pt x="376" y="202"/>
                  </a:lnTo>
                  <a:lnTo>
                    <a:pt x="372" y="190"/>
                  </a:lnTo>
                  <a:lnTo>
                    <a:pt x="366" y="174"/>
                  </a:lnTo>
                  <a:lnTo>
                    <a:pt x="358" y="154"/>
                  </a:lnTo>
                  <a:lnTo>
                    <a:pt x="346" y="134"/>
                  </a:lnTo>
                  <a:lnTo>
                    <a:pt x="328" y="110"/>
                  </a:lnTo>
                  <a:lnTo>
                    <a:pt x="306" y="84"/>
                  </a:lnTo>
                  <a:lnTo>
                    <a:pt x="358" y="50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8"/>
            <p:cNvSpPr/>
            <p:nvPr/>
          </p:nvSpPr>
          <p:spPr>
            <a:xfrm>
              <a:off x="5332680" y="338040"/>
              <a:ext cx="726840" cy="72720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458" h="458">
                  <a:moveTo>
                    <a:pt x="252" y="230"/>
                  </a:moveTo>
                  <a:lnTo>
                    <a:pt x="252" y="190"/>
                  </a:lnTo>
                  <a:lnTo>
                    <a:pt x="310" y="194"/>
                  </a:lnTo>
                  <a:lnTo>
                    <a:pt x="310" y="194"/>
                  </a:lnTo>
                  <a:lnTo>
                    <a:pt x="316" y="196"/>
                  </a:lnTo>
                  <a:lnTo>
                    <a:pt x="320" y="196"/>
                  </a:lnTo>
                  <a:lnTo>
                    <a:pt x="322" y="198"/>
                  </a:lnTo>
                  <a:lnTo>
                    <a:pt x="322" y="200"/>
                  </a:lnTo>
                  <a:lnTo>
                    <a:pt x="322" y="200"/>
                  </a:lnTo>
                  <a:lnTo>
                    <a:pt x="322" y="204"/>
                  </a:lnTo>
                  <a:lnTo>
                    <a:pt x="318" y="206"/>
                  </a:lnTo>
                  <a:lnTo>
                    <a:pt x="310" y="208"/>
                  </a:lnTo>
                  <a:lnTo>
                    <a:pt x="310" y="230"/>
                  </a:lnTo>
                  <a:lnTo>
                    <a:pt x="426" y="230"/>
                  </a:lnTo>
                  <a:lnTo>
                    <a:pt x="426" y="276"/>
                  </a:lnTo>
                  <a:lnTo>
                    <a:pt x="310" y="276"/>
                  </a:lnTo>
                  <a:lnTo>
                    <a:pt x="310" y="310"/>
                  </a:lnTo>
                  <a:lnTo>
                    <a:pt x="398" y="310"/>
                  </a:lnTo>
                  <a:lnTo>
                    <a:pt x="398" y="356"/>
                  </a:lnTo>
                  <a:lnTo>
                    <a:pt x="310" y="356"/>
                  </a:lnTo>
                  <a:lnTo>
                    <a:pt x="310" y="396"/>
                  </a:lnTo>
                  <a:lnTo>
                    <a:pt x="458" y="396"/>
                  </a:lnTo>
                  <a:lnTo>
                    <a:pt x="458" y="442"/>
                  </a:lnTo>
                  <a:lnTo>
                    <a:pt x="96" y="442"/>
                  </a:lnTo>
                  <a:lnTo>
                    <a:pt x="96" y="396"/>
                  </a:lnTo>
                  <a:lnTo>
                    <a:pt x="252" y="396"/>
                  </a:lnTo>
                  <a:lnTo>
                    <a:pt x="252" y="356"/>
                  </a:lnTo>
                  <a:lnTo>
                    <a:pt x="156" y="356"/>
                  </a:lnTo>
                  <a:lnTo>
                    <a:pt x="156" y="310"/>
                  </a:lnTo>
                  <a:lnTo>
                    <a:pt x="252" y="310"/>
                  </a:lnTo>
                  <a:lnTo>
                    <a:pt x="252" y="276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60" y="298"/>
                  </a:lnTo>
                  <a:lnTo>
                    <a:pt x="148" y="312"/>
                  </a:lnTo>
                  <a:lnTo>
                    <a:pt x="148" y="312"/>
                  </a:lnTo>
                  <a:lnTo>
                    <a:pt x="130" y="300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98" y="320"/>
                  </a:lnTo>
                  <a:lnTo>
                    <a:pt x="94" y="350"/>
                  </a:lnTo>
                  <a:lnTo>
                    <a:pt x="88" y="378"/>
                  </a:lnTo>
                  <a:lnTo>
                    <a:pt x="80" y="400"/>
                  </a:lnTo>
                  <a:lnTo>
                    <a:pt x="72" y="420"/>
                  </a:lnTo>
                  <a:lnTo>
                    <a:pt x="64" y="436"/>
                  </a:lnTo>
                  <a:lnTo>
                    <a:pt x="50" y="458"/>
                  </a:lnTo>
                  <a:lnTo>
                    <a:pt x="50" y="458"/>
                  </a:lnTo>
                  <a:lnTo>
                    <a:pt x="34" y="448"/>
                  </a:lnTo>
                  <a:lnTo>
                    <a:pt x="20" y="440"/>
                  </a:lnTo>
                  <a:lnTo>
                    <a:pt x="0" y="432"/>
                  </a:lnTo>
                  <a:lnTo>
                    <a:pt x="0" y="432"/>
                  </a:lnTo>
                  <a:lnTo>
                    <a:pt x="8" y="422"/>
                  </a:lnTo>
                  <a:lnTo>
                    <a:pt x="14" y="412"/>
                  </a:lnTo>
                  <a:lnTo>
                    <a:pt x="26" y="388"/>
                  </a:lnTo>
                  <a:lnTo>
                    <a:pt x="34" y="364"/>
                  </a:lnTo>
                  <a:lnTo>
                    <a:pt x="40" y="338"/>
                  </a:lnTo>
                  <a:lnTo>
                    <a:pt x="42" y="312"/>
                  </a:lnTo>
                  <a:lnTo>
                    <a:pt x="44" y="288"/>
                  </a:lnTo>
                  <a:lnTo>
                    <a:pt x="44" y="248"/>
                  </a:lnTo>
                  <a:lnTo>
                    <a:pt x="44" y="136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40" y="116"/>
                  </a:lnTo>
                  <a:lnTo>
                    <a:pt x="124" y="94"/>
                  </a:lnTo>
                  <a:lnTo>
                    <a:pt x="150" y="86"/>
                  </a:lnTo>
                  <a:lnTo>
                    <a:pt x="40" y="86"/>
                  </a:lnTo>
                  <a:lnTo>
                    <a:pt x="40" y="38"/>
                  </a:lnTo>
                  <a:lnTo>
                    <a:pt x="210" y="38"/>
                  </a:lnTo>
                  <a:lnTo>
                    <a:pt x="210" y="0"/>
                  </a:lnTo>
                  <a:lnTo>
                    <a:pt x="274" y="4"/>
                  </a:lnTo>
                  <a:lnTo>
                    <a:pt x="274" y="4"/>
                  </a:lnTo>
                  <a:lnTo>
                    <a:pt x="280" y="4"/>
                  </a:lnTo>
                  <a:lnTo>
                    <a:pt x="282" y="6"/>
                  </a:lnTo>
                  <a:lnTo>
                    <a:pt x="282" y="8"/>
                  </a:lnTo>
                  <a:lnTo>
                    <a:pt x="282" y="8"/>
                  </a:lnTo>
                  <a:lnTo>
                    <a:pt x="280" y="14"/>
                  </a:lnTo>
                  <a:lnTo>
                    <a:pt x="274" y="16"/>
                  </a:lnTo>
                  <a:lnTo>
                    <a:pt x="274" y="38"/>
                  </a:lnTo>
                  <a:lnTo>
                    <a:pt x="446" y="38"/>
                  </a:lnTo>
                  <a:lnTo>
                    <a:pt x="446" y="86"/>
                  </a:lnTo>
                  <a:lnTo>
                    <a:pt x="362" y="86"/>
                  </a:lnTo>
                  <a:lnTo>
                    <a:pt x="370" y="88"/>
                  </a:lnTo>
                  <a:lnTo>
                    <a:pt x="370" y="88"/>
                  </a:lnTo>
                  <a:lnTo>
                    <a:pt x="376" y="90"/>
                  </a:lnTo>
                  <a:lnTo>
                    <a:pt x="378" y="94"/>
                  </a:lnTo>
                  <a:lnTo>
                    <a:pt x="378" y="94"/>
                  </a:lnTo>
                  <a:lnTo>
                    <a:pt x="376" y="98"/>
                  </a:lnTo>
                  <a:lnTo>
                    <a:pt x="372" y="100"/>
                  </a:lnTo>
                  <a:lnTo>
                    <a:pt x="364" y="100"/>
                  </a:lnTo>
                  <a:lnTo>
                    <a:pt x="364" y="100"/>
                  </a:lnTo>
                  <a:lnTo>
                    <a:pt x="348" y="136"/>
                  </a:lnTo>
                  <a:lnTo>
                    <a:pt x="452" y="136"/>
                  </a:lnTo>
                  <a:lnTo>
                    <a:pt x="452" y="186"/>
                  </a:lnTo>
                  <a:lnTo>
                    <a:pt x="158" y="186"/>
                  </a:lnTo>
                  <a:lnTo>
                    <a:pt x="208" y="202"/>
                  </a:lnTo>
                  <a:lnTo>
                    <a:pt x="208" y="202"/>
                  </a:lnTo>
                  <a:lnTo>
                    <a:pt x="216" y="206"/>
                  </a:lnTo>
                  <a:lnTo>
                    <a:pt x="216" y="208"/>
                  </a:lnTo>
                  <a:lnTo>
                    <a:pt x="218" y="210"/>
                  </a:lnTo>
                  <a:lnTo>
                    <a:pt x="218" y="210"/>
                  </a:lnTo>
                  <a:lnTo>
                    <a:pt x="216" y="212"/>
                  </a:lnTo>
                  <a:lnTo>
                    <a:pt x="214" y="214"/>
                  </a:lnTo>
                  <a:lnTo>
                    <a:pt x="204" y="216"/>
                  </a:lnTo>
                  <a:lnTo>
                    <a:pt x="204" y="216"/>
                  </a:lnTo>
                  <a:lnTo>
                    <a:pt x="198" y="230"/>
                  </a:lnTo>
                  <a:lnTo>
                    <a:pt x="252" y="230"/>
                  </a:lnTo>
                  <a:close/>
                  <a:moveTo>
                    <a:pt x="104" y="186"/>
                  </a:moveTo>
                  <a:lnTo>
                    <a:pt x="104" y="254"/>
                  </a:lnTo>
                  <a:lnTo>
                    <a:pt x="104" y="254"/>
                  </a:lnTo>
                  <a:lnTo>
                    <a:pt x="102" y="282"/>
                  </a:lnTo>
                  <a:lnTo>
                    <a:pt x="102" y="282"/>
                  </a:lnTo>
                  <a:lnTo>
                    <a:pt x="118" y="264"/>
                  </a:lnTo>
                  <a:lnTo>
                    <a:pt x="134" y="240"/>
                  </a:lnTo>
                  <a:lnTo>
                    <a:pt x="148" y="212"/>
                  </a:lnTo>
                  <a:lnTo>
                    <a:pt x="158" y="186"/>
                  </a:lnTo>
                  <a:lnTo>
                    <a:pt x="104" y="186"/>
                  </a:lnTo>
                  <a:close/>
                  <a:moveTo>
                    <a:pt x="190" y="86"/>
                  </a:moveTo>
                  <a:lnTo>
                    <a:pt x="190" y="86"/>
                  </a:lnTo>
                  <a:lnTo>
                    <a:pt x="204" y="110"/>
                  </a:lnTo>
                  <a:lnTo>
                    <a:pt x="214" y="130"/>
                  </a:lnTo>
                  <a:lnTo>
                    <a:pt x="194" y="136"/>
                  </a:lnTo>
                  <a:lnTo>
                    <a:pt x="280" y="136"/>
                  </a:lnTo>
                  <a:lnTo>
                    <a:pt x="280" y="136"/>
                  </a:lnTo>
                  <a:lnTo>
                    <a:pt x="290" y="118"/>
                  </a:lnTo>
                  <a:lnTo>
                    <a:pt x="306" y="86"/>
                  </a:lnTo>
                  <a:lnTo>
                    <a:pt x="190" y="86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9"/>
            <p:cNvSpPr/>
            <p:nvPr/>
          </p:nvSpPr>
          <p:spPr>
            <a:xfrm>
              <a:off x="6367680" y="340920"/>
              <a:ext cx="701640" cy="71136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442" h="448">
                  <a:moveTo>
                    <a:pt x="442" y="40"/>
                  </a:moveTo>
                  <a:lnTo>
                    <a:pt x="442" y="90"/>
                  </a:lnTo>
                  <a:lnTo>
                    <a:pt x="250" y="90"/>
                  </a:lnTo>
                  <a:lnTo>
                    <a:pt x="250" y="116"/>
                  </a:lnTo>
                  <a:lnTo>
                    <a:pt x="386" y="116"/>
                  </a:lnTo>
                  <a:lnTo>
                    <a:pt x="386" y="354"/>
                  </a:lnTo>
                  <a:lnTo>
                    <a:pt x="118" y="354"/>
                  </a:lnTo>
                  <a:lnTo>
                    <a:pt x="118" y="116"/>
                  </a:lnTo>
                  <a:lnTo>
                    <a:pt x="190" y="116"/>
                  </a:lnTo>
                  <a:lnTo>
                    <a:pt x="190" y="90"/>
                  </a:lnTo>
                  <a:lnTo>
                    <a:pt x="0" y="90"/>
                  </a:lnTo>
                  <a:lnTo>
                    <a:pt x="0" y="40"/>
                  </a:lnTo>
                  <a:lnTo>
                    <a:pt x="190" y="40"/>
                  </a:lnTo>
                  <a:lnTo>
                    <a:pt x="190" y="0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60" y="8"/>
                  </a:lnTo>
                  <a:lnTo>
                    <a:pt x="264" y="10"/>
                  </a:lnTo>
                  <a:lnTo>
                    <a:pt x="264" y="12"/>
                  </a:lnTo>
                  <a:lnTo>
                    <a:pt x="264" y="12"/>
                  </a:lnTo>
                  <a:lnTo>
                    <a:pt x="264" y="16"/>
                  </a:lnTo>
                  <a:lnTo>
                    <a:pt x="262" y="18"/>
                  </a:lnTo>
                  <a:lnTo>
                    <a:pt x="250" y="22"/>
                  </a:lnTo>
                  <a:lnTo>
                    <a:pt x="250" y="40"/>
                  </a:lnTo>
                  <a:lnTo>
                    <a:pt x="442" y="40"/>
                  </a:lnTo>
                  <a:close/>
                  <a:moveTo>
                    <a:pt x="442" y="378"/>
                  </a:moveTo>
                  <a:lnTo>
                    <a:pt x="442" y="428"/>
                  </a:lnTo>
                  <a:lnTo>
                    <a:pt x="84" y="428"/>
                  </a:lnTo>
                  <a:lnTo>
                    <a:pt x="84" y="448"/>
                  </a:lnTo>
                  <a:lnTo>
                    <a:pt x="24" y="448"/>
                  </a:lnTo>
                  <a:lnTo>
                    <a:pt x="24" y="128"/>
                  </a:lnTo>
                  <a:lnTo>
                    <a:pt x="84" y="134"/>
                  </a:lnTo>
                  <a:lnTo>
                    <a:pt x="84" y="134"/>
                  </a:lnTo>
                  <a:lnTo>
                    <a:pt x="92" y="134"/>
                  </a:lnTo>
                  <a:lnTo>
                    <a:pt x="94" y="136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94" y="142"/>
                  </a:lnTo>
                  <a:lnTo>
                    <a:pt x="92" y="144"/>
                  </a:lnTo>
                  <a:lnTo>
                    <a:pt x="84" y="150"/>
                  </a:lnTo>
                  <a:lnTo>
                    <a:pt x="84" y="378"/>
                  </a:lnTo>
                  <a:lnTo>
                    <a:pt x="442" y="378"/>
                  </a:lnTo>
                  <a:close/>
                  <a:moveTo>
                    <a:pt x="182" y="184"/>
                  </a:moveTo>
                  <a:lnTo>
                    <a:pt x="326" y="184"/>
                  </a:lnTo>
                  <a:lnTo>
                    <a:pt x="326" y="158"/>
                  </a:lnTo>
                  <a:lnTo>
                    <a:pt x="182" y="158"/>
                  </a:lnTo>
                  <a:lnTo>
                    <a:pt x="182" y="184"/>
                  </a:lnTo>
                  <a:close/>
                  <a:moveTo>
                    <a:pt x="326" y="220"/>
                  </a:moveTo>
                  <a:lnTo>
                    <a:pt x="182" y="220"/>
                  </a:lnTo>
                  <a:lnTo>
                    <a:pt x="182" y="248"/>
                  </a:lnTo>
                  <a:lnTo>
                    <a:pt x="326" y="248"/>
                  </a:lnTo>
                  <a:lnTo>
                    <a:pt x="326" y="220"/>
                  </a:lnTo>
                  <a:close/>
                  <a:moveTo>
                    <a:pt x="326" y="284"/>
                  </a:moveTo>
                  <a:lnTo>
                    <a:pt x="182" y="284"/>
                  </a:lnTo>
                  <a:lnTo>
                    <a:pt x="182" y="312"/>
                  </a:lnTo>
                  <a:lnTo>
                    <a:pt x="326" y="312"/>
                  </a:lnTo>
                  <a:lnTo>
                    <a:pt x="326" y="284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0"/>
            <p:cNvSpPr/>
            <p:nvPr/>
          </p:nvSpPr>
          <p:spPr>
            <a:xfrm>
              <a:off x="7415640" y="601560"/>
              <a:ext cx="177480" cy="177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12" h="112">
                  <a:moveTo>
                    <a:pt x="112" y="56"/>
                  </a:moveTo>
                  <a:lnTo>
                    <a:pt x="112" y="56"/>
                  </a:lnTo>
                  <a:lnTo>
                    <a:pt x="112" y="66"/>
                  </a:lnTo>
                  <a:lnTo>
                    <a:pt x="108" y="78"/>
                  </a:lnTo>
                  <a:lnTo>
                    <a:pt x="102" y="88"/>
                  </a:lnTo>
                  <a:lnTo>
                    <a:pt x="96" y="96"/>
                  </a:lnTo>
                  <a:lnTo>
                    <a:pt x="88" y="102"/>
                  </a:lnTo>
                  <a:lnTo>
                    <a:pt x="78" y="108"/>
                  </a:lnTo>
                  <a:lnTo>
                    <a:pt x="68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44" y="110"/>
                  </a:lnTo>
                  <a:lnTo>
                    <a:pt x="34" y="108"/>
                  </a:lnTo>
                  <a:lnTo>
                    <a:pt x="24" y="102"/>
                  </a:lnTo>
                  <a:lnTo>
                    <a:pt x="16" y="96"/>
                  </a:lnTo>
                  <a:lnTo>
                    <a:pt x="10" y="88"/>
                  </a:lnTo>
                  <a:lnTo>
                    <a:pt x="4" y="78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4" y="34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6"/>
                  </a:lnTo>
                  <a:lnTo>
                    <a:pt x="102" y="24"/>
                  </a:lnTo>
                  <a:lnTo>
                    <a:pt x="108" y="34"/>
                  </a:lnTo>
                  <a:lnTo>
                    <a:pt x="112" y="44"/>
                  </a:lnTo>
                  <a:lnTo>
                    <a:pt x="112" y="56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243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グループ化 191"/>
          <p:cNvGrpSpPr/>
          <p:nvPr/>
        </p:nvGrpSpPr>
        <p:grpSpPr>
          <a:xfrm>
            <a:off x="11358720" y="404640"/>
            <a:ext cx="3260520" cy="533520"/>
            <a:chOff x="11358720" y="404640"/>
            <a:chExt cx="3260520" cy="533520"/>
          </a:xfrm>
        </p:grpSpPr>
        <p:sp>
          <p:nvSpPr>
            <p:cNvPr id="227" name="Freeform 123"/>
            <p:cNvSpPr/>
            <p:nvPr/>
          </p:nvSpPr>
          <p:spPr>
            <a:xfrm>
              <a:off x="11358720" y="407520"/>
              <a:ext cx="517320" cy="5274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326" h="332">
                  <a:moveTo>
                    <a:pt x="266" y="64"/>
                  </a:moveTo>
                  <a:lnTo>
                    <a:pt x="266" y="64"/>
                  </a:lnTo>
                  <a:lnTo>
                    <a:pt x="262" y="66"/>
                  </a:lnTo>
                  <a:lnTo>
                    <a:pt x="258" y="68"/>
                  </a:lnTo>
                  <a:lnTo>
                    <a:pt x="258" y="68"/>
                  </a:lnTo>
                  <a:lnTo>
                    <a:pt x="248" y="86"/>
                  </a:lnTo>
                  <a:lnTo>
                    <a:pt x="236" y="104"/>
                  </a:lnTo>
                  <a:lnTo>
                    <a:pt x="326" y="104"/>
                  </a:lnTo>
                  <a:lnTo>
                    <a:pt x="326" y="132"/>
                  </a:lnTo>
                  <a:lnTo>
                    <a:pt x="64" y="132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2" y="202"/>
                  </a:lnTo>
                  <a:lnTo>
                    <a:pt x="60" y="224"/>
                  </a:lnTo>
                  <a:lnTo>
                    <a:pt x="56" y="246"/>
                  </a:lnTo>
                  <a:lnTo>
                    <a:pt x="52" y="268"/>
                  </a:lnTo>
                  <a:lnTo>
                    <a:pt x="44" y="290"/>
                  </a:lnTo>
                  <a:lnTo>
                    <a:pt x="36" y="312"/>
                  </a:lnTo>
                  <a:lnTo>
                    <a:pt x="24" y="332"/>
                  </a:lnTo>
                  <a:lnTo>
                    <a:pt x="24" y="332"/>
                  </a:lnTo>
                  <a:lnTo>
                    <a:pt x="12" y="320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8" y="292"/>
                  </a:lnTo>
                  <a:lnTo>
                    <a:pt x="16" y="274"/>
                  </a:lnTo>
                  <a:lnTo>
                    <a:pt x="22" y="254"/>
                  </a:lnTo>
                  <a:lnTo>
                    <a:pt x="26" y="234"/>
                  </a:lnTo>
                  <a:lnTo>
                    <a:pt x="30" y="196"/>
                  </a:lnTo>
                  <a:lnTo>
                    <a:pt x="32" y="160"/>
                  </a:lnTo>
                  <a:lnTo>
                    <a:pt x="32" y="104"/>
                  </a:lnTo>
                  <a:lnTo>
                    <a:pt x="98" y="104"/>
                  </a:lnTo>
                  <a:lnTo>
                    <a:pt x="98" y="104"/>
                  </a:lnTo>
                  <a:lnTo>
                    <a:pt x="92" y="84"/>
                  </a:lnTo>
                  <a:lnTo>
                    <a:pt x="82" y="62"/>
                  </a:lnTo>
                  <a:lnTo>
                    <a:pt x="96" y="58"/>
                  </a:lnTo>
                  <a:lnTo>
                    <a:pt x="26" y="58"/>
                  </a:lnTo>
                  <a:lnTo>
                    <a:pt x="26" y="30"/>
                  </a:lnTo>
                  <a:lnTo>
                    <a:pt x="150" y="30"/>
                  </a:lnTo>
                  <a:lnTo>
                    <a:pt x="150" y="0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90" y="6"/>
                  </a:lnTo>
                  <a:lnTo>
                    <a:pt x="184" y="8"/>
                  </a:lnTo>
                  <a:lnTo>
                    <a:pt x="184" y="30"/>
                  </a:lnTo>
                  <a:lnTo>
                    <a:pt x="308" y="30"/>
                  </a:lnTo>
                  <a:lnTo>
                    <a:pt x="308" y="58"/>
                  </a:lnTo>
                  <a:lnTo>
                    <a:pt x="250" y="58"/>
                  </a:lnTo>
                  <a:lnTo>
                    <a:pt x="266" y="64"/>
                  </a:lnTo>
                  <a:close/>
                  <a:moveTo>
                    <a:pt x="212" y="256"/>
                  </a:moveTo>
                  <a:lnTo>
                    <a:pt x="212" y="294"/>
                  </a:lnTo>
                  <a:lnTo>
                    <a:pt x="326" y="294"/>
                  </a:lnTo>
                  <a:lnTo>
                    <a:pt x="326" y="324"/>
                  </a:lnTo>
                  <a:lnTo>
                    <a:pt x="72" y="324"/>
                  </a:lnTo>
                  <a:lnTo>
                    <a:pt x="72" y="294"/>
                  </a:lnTo>
                  <a:lnTo>
                    <a:pt x="180" y="294"/>
                  </a:lnTo>
                  <a:lnTo>
                    <a:pt x="180" y="256"/>
                  </a:lnTo>
                  <a:lnTo>
                    <a:pt x="104" y="256"/>
                  </a:lnTo>
                  <a:lnTo>
                    <a:pt x="104" y="230"/>
                  </a:lnTo>
                  <a:lnTo>
                    <a:pt x="180" y="230"/>
                  </a:lnTo>
                  <a:lnTo>
                    <a:pt x="180" y="196"/>
                  </a:lnTo>
                  <a:lnTo>
                    <a:pt x="120" y="196"/>
                  </a:lnTo>
                  <a:lnTo>
                    <a:pt x="120" y="196"/>
                  </a:lnTo>
                  <a:lnTo>
                    <a:pt x="108" y="214"/>
                  </a:lnTo>
                  <a:lnTo>
                    <a:pt x="96" y="228"/>
                  </a:lnTo>
                  <a:lnTo>
                    <a:pt x="96" y="228"/>
                  </a:lnTo>
                  <a:lnTo>
                    <a:pt x="70" y="214"/>
                  </a:lnTo>
                  <a:lnTo>
                    <a:pt x="70" y="214"/>
                  </a:lnTo>
                  <a:lnTo>
                    <a:pt x="84" y="198"/>
                  </a:lnTo>
                  <a:lnTo>
                    <a:pt x="96" y="182"/>
                  </a:lnTo>
                  <a:lnTo>
                    <a:pt x="106" y="162"/>
                  </a:lnTo>
                  <a:lnTo>
                    <a:pt x="114" y="140"/>
                  </a:lnTo>
                  <a:lnTo>
                    <a:pt x="148" y="150"/>
                  </a:lnTo>
                  <a:lnTo>
                    <a:pt x="148" y="150"/>
                  </a:lnTo>
                  <a:lnTo>
                    <a:pt x="146" y="154"/>
                  </a:lnTo>
                  <a:lnTo>
                    <a:pt x="140" y="154"/>
                  </a:lnTo>
                  <a:lnTo>
                    <a:pt x="140" y="154"/>
                  </a:lnTo>
                  <a:lnTo>
                    <a:pt x="134" y="170"/>
                  </a:lnTo>
                  <a:lnTo>
                    <a:pt x="180" y="170"/>
                  </a:lnTo>
                  <a:lnTo>
                    <a:pt x="180" y="140"/>
                  </a:lnTo>
                  <a:lnTo>
                    <a:pt x="222" y="142"/>
                  </a:lnTo>
                  <a:lnTo>
                    <a:pt x="222" y="142"/>
                  </a:lnTo>
                  <a:lnTo>
                    <a:pt x="218" y="146"/>
                  </a:lnTo>
                  <a:lnTo>
                    <a:pt x="212" y="148"/>
                  </a:lnTo>
                  <a:lnTo>
                    <a:pt x="212" y="170"/>
                  </a:lnTo>
                  <a:lnTo>
                    <a:pt x="304" y="170"/>
                  </a:lnTo>
                  <a:lnTo>
                    <a:pt x="304" y="196"/>
                  </a:lnTo>
                  <a:lnTo>
                    <a:pt x="212" y="196"/>
                  </a:lnTo>
                  <a:lnTo>
                    <a:pt x="212" y="230"/>
                  </a:lnTo>
                  <a:lnTo>
                    <a:pt x="296" y="230"/>
                  </a:lnTo>
                  <a:lnTo>
                    <a:pt x="296" y="256"/>
                  </a:lnTo>
                  <a:lnTo>
                    <a:pt x="212" y="256"/>
                  </a:lnTo>
                  <a:close/>
                  <a:moveTo>
                    <a:pt x="216" y="104"/>
                  </a:moveTo>
                  <a:lnTo>
                    <a:pt x="216" y="104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14" y="80"/>
                  </a:lnTo>
                  <a:lnTo>
                    <a:pt x="222" y="58"/>
                  </a:lnTo>
                  <a:lnTo>
                    <a:pt x="114" y="58"/>
                  </a:lnTo>
                  <a:lnTo>
                    <a:pt x="114" y="58"/>
                  </a:lnTo>
                  <a:lnTo>
                    <a:pt x="126" y="80"/>
                  </a:lnTo>
                  <a:lnTo>
                    <a:pt x="132" y="100"/>
                  </a:lnTo>
                  <a:lnTo>
                    <a:pt x="118" y="104"/>
                  </a:lnTo>
                  <a:lnTo>
                    <a:pt x="216" y="10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24"/>
            <p:cNvSpPr/>
            <p:nvPr/>
          </p:nvSpPr>
          <p:spPr>
            <a:xfrm>
              <a:off x="12269880" y="407520"/>
              <a:ext cx="529920" cy="5148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14800"/>
                <a:gd name="textAreaBottom" fmla="*/ 515160 h 514800"/>
              </a:gdLst>
              <a:ahLst/>
              <a:rect l="textAreaLeft" t="textAreaTop" r="textAreaRight" b="textAreaBottom"/>
              <a:pathLst>
                <a:path w="334" h="324">
                  <a:moveTo>
                    <a:pt x="76" y="214"/>
                  </a:moveTo>
                  <a:lnTo>
                    <a:pt x="112" y="200"/>
                  </a:lnTo>
                  <a:lnTo>
                    <a:pt x="118" y="230"/>
                  </a:lnTo>
                  <a:lnTo>
                    <a:pt x="118" y="230"/>
                  </a:lnTo>
                  <a:lnTo>
                    <a:pt x="20" y="274"/>
                  </a:lnTo>
                  <a:lnTo>
                    <a:pt x="20" y="274"/>
                  </a:lnTo>
                  <a:lnTo>
                    <a:pt x="18" y="278"/>
                  </a:lnTo>
                  <a:lnTo>
                    <a:pt x="16" y="28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44" y="226"/>
                  </a:lnTo>
                  <a:lnTo>
                    <a:pt x="44" y="118"/>
                  </a:lnTo>
                  <a:lnTo>
                    <a:pt x="6" y="118"/>
                  </a:lnTo>
                  <a:lnTo>
                    <a:pt x="6" y="86"/>
                  </a:lnTo>
                  <a:lnTo>
                    <a:pt x="44" y="86"/>
                  </a:lnTo>
                  <a:lnTo>
                    <a:pt x="44" y="4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2" y="10"/>
                  </a:lnTo>
                  <a:lnTo>
                    <a:pt x="76" y="12"/>
                  </a:lnTo>
                  <a:lnTo>
                    <a:pt x="76" y="86"/>
                  </a:lnTo>
                  <a:lnTo>
                    <a:pt x="112" y="86"/>
                  </a:lnTo>
                  <a:lnTo>
                    <a:pt x="112" y="118"/>
                  </a:lnTo>
                  <a:lnTo>
                    <a:pt x="76" y="118"/>
                  </a:lnTo>
                  <a:lnTo>
                    <a:pt x="76" y="214"/>
                  </a:lnTo>
                  <a:close/>
                  <a:moveTo>
                    <a:pt x="172" y="270"/>
                  </a:moveTo>
                  <a:lnTo>
                    <a:pt x="172" y="270"/>
                  </a:lnTo>
                  <a:lnTo>
                    <a:pt x="172" y="282"/>
                  </a:lnTo>
                  <a:lnTo>
                    <a:pt x="174" y="286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2"/>
                  </a:lnTo>
                  <a:lnTo>
                    <a:pt x="198" y="294"/>
                  </a:lnTo>
                  <a:lnTo>
                    <a:pt x="278" y="294"/>
                  </a:lnTo>
                  <a:lnTo>
                    <a:pt x="278" y="294"/>
                  </a:lnTo>
                  <a:lnTo>
                    <a:pt x="284" y="292"/>
                  </a:lnTo>
                  <a:lnTo>
                    <a:pt x="290" y="292"/>
                  </a:lnTo>
                  <a:lnTo>
                    <a:pt x="294" y="288"/>
                  </a:lnTo>
                  <a:lnTo>
                    <a:pt x="298" y="284"/>
                  </a:lnTo>
                  <a:lnTo>
                    <a:pt x="300" y="278"/>
                  </a:lnTo>
                  <a:lnTo>
                    <a:pt x="302" y="270"/>
                  </a:lnTo>
                  <a:lnTo>
                    <a:pt x="304" y="246"/>
                  </a:lnTo>
                  <a:lnTo>
                    <a:pt x="304" y="246"/>
                  </a:lnTo>
                  <a:lnTo>
                    <a:pt x="318" y="252"/>
                  </a:lnTo>
                  <a:lnTo>
                    <a:pt x="334" y="258"/>
                  </a:lnTo>
                  <a:lnTo>
                    <a:pt x="334" y="258"/>
                  </a:lnTo>
                  <a:lnTo>
                    <a:pt x="332" y="274"/>
                  </a:lnTo>
                  <a:lnTo>
                    <a:pt x="328" y="288"/>
                  </a:lnTo>
                  <a:lnTo>
                    <a:pt x="324" y="300"/>
                  </a:lnTo>
                  <a:lnTo>
                    <a:pt x="320" y="310"/>
                  </a:lnTo>
                  <a:lnTo>
                    <a:pt x="312" y="316"/>
                  </a:lnTo>
                  <a:lnTo>
                    <a:pt x="304" y="320"/>
                  </a:lnTo>
                  <a:lnTo>
                    <a:pt x="294" y="322"/>
                  </a:lnTo>
                  <a:lnTo>
                    <a:pt x="280" y="324"/>
                  </a:lnTo>
                  <a:lnTo>
                    <a:pt x="196" y="324"/>
                  </a:lnTo>
                  <a:lnTo>
                    <a:pt x="196" y="324"/>
                  </a:lnTo>
                  <a:lnTo>
                    <a:pt x="182" y="322"/>
                  </a:lnTo>
                  <a:lnTo>
                    <a:pt x="170" y="320"/>
                  </a:lnTo>
                  <a:lnTo>
                    <a:pt x="160" y="318"/>
                  </a:lnTo>
                  <a:lnTo>
                    <a:pt x="152" y="312"/>
                  </a:lnTo>
                  <a:lnTo>
                    <a:pt x="146" y="306"/>
                  </a:lnTo>
                  <a:lnTo>
                    <a:pt x="142" y="296"/>
                  </a:lnTo>
                  <a:lnTo>
                    <a:pt x="140" y="284"/>
                  </a:lnTo>
                  <a:lnTo>
                    <a:pt x="140" y="270"/>
                  </a:lnTo>
                  <a:lnTo>
                    <a:pt x="140" y="164"/>
                  </a:lnTo>
                  <a:lnTo>
                    <a:pt x="108" y="176"/>
                  </a:lnTo>
                  <a:lnTo>
                    <a:pt x="96" y="148"/>
                  </a:lnTo>
                  <a:lnTo>
                    <a:pt x="140" y="128"/>
                  </a:lnTo>
                  <a:lnTo>
                    <a:pt x="140" y="36"/>
                  </a:lnTo>
                  <a:lnTo>
                    <a:pt x="180" y="38"/>
                  </a:lnTo>
                  <a:lnTo>
                    <a:pt x="180" y="38"/>
                  </a:lnTo>
                  <a:lnTo>
                    <a:pt x="178" y="40"/>
                  </a:lnTo>
                  <a:lnTo>
                    <a:pt x="172" y="42"/>
                  </a:lnTo>
                  <a:lnTo>
                    <a:pt x="172" y="114"/>
                  </a:lnTo>
                  <a:lnTo>
                    <a:pt x="212" y="98"/>
                  </a:lnTo>
                  <a:lnTo>
                    <a:pt x="212" y="0"/>
                  </a:lnTo>
                  <a:lnTo>
                    <a:pt x="250" y="4"/>
                  </a:lnTo>
                  <a:lnTo>
                    <a:pt x="250" y="4"/>
                  </a:lnTo>
                  <a:lnTo>
                    <a:pt x="248" y="6"/>
                  </a:lnTo>
                  <a:lnTo>
                    <a:pt x="242" y="8"/>
                  </a:lnTo>
                  <a:lnTo>
                    <a:pt x="242" y="84"/>
                  </a:lnTo>
                  <a:lnTo>
                    <a:pt x="288" y="66"/>
                  </a:lnTo>
                  <a:lnTo>
                    <a:pt x="294" y="60"/>
                  </a:lnTo>
                  <a:lnTo>
                    <a:pt x="322" y="70"/>
                  </a:lnTo>
                  <a:lnTo>
                    <a:pt x="322" y="70"/>
                  </a:lnTo>
                  <a:lnTo>
                    <a:pt x="316" y="74"/>
                  </a:lnTo>
                  <a:lnTo>
                    <a:pt x="316" y="74"/>
                  </a:lnTo>
                  <a:lnTo>
                    <a:pt x="316" y="160"/>
                  </a:lnTo>
                  <a:lnTo>
                    <a:pt x="314" y="204"/>
                  </a:lnTo>
                  <a:lnTo>
                    <a:pt x="314" y="204"/>
                  </a:lnTo>
                  <a:lnTo>
                    <a:pt x="312" y="214"/>
                  </a:lnTo>
                  <a:lnTo>
                    <a:pt x="308" y="220"/>
                  </a:lnTo>
                  <a:lnTo>
                    <a:pt x="304" y="226"/>
                  </a:lnTo>
                  <a:lnTo>
                    <a:pt x="298" y="230"/>
                  </a:lnTo>
                  <a:lnTo>
                    <a:pt x="290" y="232"/>
                  </a:lnTo>
                  <a:lnTo>
                    <a:pt x="282" y="234"/>
                  </a:lnTo>
                  <a:lnTo>
                    <a:pt x="260" y="234"/>
                  </a:lnTo>
                  <a:lnTo>
                    <a:pt x="260" y="234"/>
                  </a:lnTo>
                  <a:lnTo>
                    <a:pt x="258" y="220"/>
                  </a:lnTo>
                  <a:lnTo>
                    <a:pt x="252" y="206"/>
                  </a:lnTo>
                  <a:lnTo>
                    <a:pt x="252" y="206"/>
                  </a:lnTo>
                  <a:lnTo>
                    <a:pt x="274" y="206"/>
                  </a:lnTo>
                  <a:lnTo>
                    <a:pt x="274" y="206"/>
                  </a:lnTo>
                  <a:lnTo>
                    <a:pt x="276" y="206"/>
                  </a:lnTo>
                  <a:lnTo>
                    <a:pt x="280" y="204"/>
                  </a:lnTo>
                  <a:lnTo>
                    <a:pt x="282" y="202"/>
                  </a:lnTo>
                  <a:lnTo>
                    <a:pt x="282" y="198"/>
                  </a:lnTo>
                  <a:lnTo>
                    <a:pt x="282" y="198"/>
                  </a:lnTo>
                  <a:lnTo>
                    <a:pt x="284" y="168"/>
                  </a:lnTo>
                  <a:lnTo>
                    <a:pt x="286" y="100"/>
                  </a:lnTo>
                  <a:lnTo>
                    <a:pt x="242" y="118"/>
                  </a:lnTo>
                  <a:lnTo>
                    <a:pt x="242" y="250"/>
                  </a:lnTo>
                  <a:lnTo>
                    <a:pt x="212" y="250"/>
                  </a:lnTo>
                  <a:lnTo>
                    <a:pt x="212" y="132"/>
                  </a:lnTo>
                  <a:lnTo>
                    <a:pt x="172" y="150"/>
                  </a:lnTo>
                  <a:lnTo>
                    <a:pt x="172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25"/>
            <p:cNvSpPr/>
            <p:nvPr/>
          </p:nvSpPr>
          <p:spPr>
            <a:xfrm>
              <a:off x="13187520" y="404640"/>
              <a:ext cx="536400" cy="53352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38" h="336">
                  <a:moveTo>
                    <a:pt x="104" y="80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60" y="62"/>
                  </a:lnTo>
                  <a:lnTo>
                    <a:pt x="22" y="42"/>
                  </a:lnTo>
                  <a:lnTo>
                    <a:pt x="26" y="12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74" y="0"/>
                  </a:lnTo>
                  <a:lnTo>
                    <a:pt x="218" y="10"/>
                  </a:lnTo>
                  <a:lnTo>
                    <a:pt x="218" y="10"/>
                  </a:lnTo>
                  <a:lnTo>
                    <a:pt x="214" y="14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2" y="38"/>
                  </a:lnTo>
                  <a:lnTo>
                    <a:pt x="338" y="58"/>
                  </a:lnTo>
                  <a:lnTo>
                    <a:pt x="332" y="88"/>
                  </a:lnTo>
                  <a:lnTo>
                    <a:pt x="194" y="68"/>
                  </a:lnTo>
                  <a:lnTo>
                    <a:pt x="194" y="68"/>
                  </a:lnTo>
                  <a:lnTo>
                    <a:pt x="186" y="92"/>
                  </a:lnTo>
                  <a:lnTo>
                    <a:pt x="290" y="106"/>
                  </a:lnTo>
                  <a:lnTo>
                    <a:pt x="266" y="274"/>
                  </a:lnTo>
                  <a:lnTo>
                    <a:pt x="78" y="246"/>
                  </a:lnTo>
                  <a:lnTo>
                    <a:pt x="104" y="80"/>
                  </a:lnTo>
                  <a:close/>
                  <a:moveTo>
                    <a:pt x="304" y="306"/>
                  </a:moveTo>
                  <a:lnTo>
                    <a:pt x="300" y="336"/>
                  </a:lnTo>
                  <a:lnTo>
                    <a:pt x="36" y="298"/>
                  </a:lnTo>
                  <a:lnTo>
                    <a:pt x="34" y="316"/>
                  </a:lnTo>
                  <a:lnTo>
                    <a:pt x="0" y="310"/>
                  </a:lnTo>
                  <a:lnTo>
                    <a:pt x="34" y="80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72" y="92"/>
                  </a:lnTo>
                  <a:lnTo>
                    <a:pt x="66" y="94"/>
                  </a:lnTo>
                  <a:lnTo>
                    <a:pt x="40" y="266"/>
                  </a:lnTo>
                  <a:lnTo>
                    <a:pt x="304" y="306"/>
                  </a:lnTo>
                  <a:close/>
                  <a:moveTo>
                    <a:pt x="252" y="150"/>
                  </a:moveTo>
                  <a:lnTo>
                    <a:pt x="254" y="126"/>
                  </a:lnTo>
                  <a:lnTo>
                    <a:pt x="132" y="108"/>
                  </a:lnTo>
                  <a:lnTo>
                    <a:pt x="128" y="132"/>
                  </a:lnTo>
                  <a:lnTo>
                    <a:pt x="252" y="150"/>
                  </a:lnTo>
                  <a:close/>
                  <a:moveTo>
                    <a:pt x="244" y="198"/>
                  </a:moveTo>
                  <a:lnTo>
                    <a:pt x="248" y="172"/>
                  </a:lnTo>
                  <a:lnTo>
                    <a:pt x="124" y="154"/>
                  </a:lnTo>
                  <a:lnTo>
                    <a:pt x="120" y="180"/>
                  </a:lnTo>
                  <a:lnTo>
                    <a:pt x="244" y="198"/>
                  </a:lnTo>
                  <a:close/>
                  <a:moveTo>
                    <a:pt x="238" y="244"/>
                  </a:moveTo>
                  <a:lnTo>
                    <a:pt x="240" y="220"/>
                  </a:lnTo>
                  <a:lnTo>
                    <a:pt x="118" y="202"/>
                  </a:lnTo>
                  <a:lnTo>
                    <a:pt x="114" y="226"/>
                  </a:lnTo>
                  <a:lnTo>
                    <a:pt x="238" y="244"/>
                  </a:lnTo>
                  <a:close/>
                </a:path>
              </a:pathLst>
            </a:custGeom>
            <a:solidFill>
              <a:srgbClr val="0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26"/>
            <p:cNvSpPr/>
            <p:nvPr/>
          </p:nvSpPr>
          <p:spPr>
            <a:xfrm>
              <a:off x="14092200" y="407520"/>
              <a:ext cx="527040" cy="5241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332" h="330">
                  <a:moveTo>
                    <a:pt x="84" y="140"/>
                  </a:moveTo>
                  <a:lnTo>
                    <a:pt x="84" y="254"/>
                  </a:lnTo>
                  <a:lnTo>
                    <a:pt x="84" y="254"/>
                  </a:lnTo>
                  <a:lnTo>
                    <a:pt x="94" y="266"/>
                  </a:lnTo>
                  <a:lnTo>
                    <a:pt x="106" y="276"/>
                  </a:lnTo>
                  <a:lnTo>
                    <a:pt x="120" y="282"/>
                  </a:lnTo>
                  <a:lnTo>
                    <a:pt x="136" y="288"/>
                  </a:lnTo>
                  <a:lnTo>
                    <a:pt x="154" y="290"/>
                  </a:lnTo>
                  <a:lnTo>
                    <a:pt x="172" y="292"/>
                  </a:lnTo>
                  <a:lnTo>
                    <a:pt x="212" y="292"/>
                  </a:lnTo>
                  <a:lnTo>
                    <a:pt x="212" y="292"/>
                  </a:lnTo>
                  <a:lnTo>
                    <a:pt x="276" y="292"/>
                  </a:lnTo>
                  <a:lnTo>
                    <a:pt x="332" y="288"/>
                  </a:lnTo>
                  <a:lnTo>
                    <a:pt x="332" y="288"/>
                  </a:lnTo>
                  <a:lnTo>
                    <a:pt x="326" y="304"/>
                  </a:lnTo>
                  <a:lnTo>
                    <a:pt x="322" y="322"/>
                  </a:lnTo>
                  <a:lnTo>
                    <a:pt x="322" y="322"/>
                  </a:lnTo>
                  <a:lnTo>
                    <a:pt x="228" y="324"/>
                  </a:lnTo>
                  <a:lnTo>
                    <a:pt x="228" y="324"/>
                  </a:lnTo>
                  <a:lnTo>
                    <a:pt x="176" y="324"/>
                  </a:lnTo>
                  <a:lnTo>
                    <a:pt x="152" y="322"/>
                  </a:lnTo>
                  <a:lnTo>
                    <a:pt x="132" y="320"/>
                  </a:lnTo>
                  <a:lnTo>
                    <a:pt x="114" y="314"/>
                  </a:lnTo>
                  <a:lnTo>
                    <a:pt x="98" y="306"/>
                  </a:lnTo>
                  <a:lnTo>
                    <a:pt x="82" y="296"/>
                  </a:lnTo>
                  <a:lnTo>
                    <a:pt x="68" y="282"/>
                  </a:lnTo>
                  <a:lnTo>
                    <a:pt x="68" y="282"/>
                  </a:lnTo>
                  <a:lnTo>
                    <a:pt x="20" y="322"/>
                  </a:lnTo>
                  <a:lnTo>
                    <a:pt x="20" y="322"/>
                  </a:lnTo>
                  <a:lnTo>
                    <a:pt x="20" y="326"/>
                  </a:lnTo>
                  <a:lnTo>
                    <a:pt x="16" y="330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24" y="276"/>
                  </a:lnTo>
                  <a:lnTo>
                    <a:pt x="50" y="256"/>
                  </a:lnTo>
                  <a:lnTo>
                    <a:pt x="50" y="170"/>
                  </a:lnTo>
                  <a:lnTo>
                    <a:pt x="4" y="170"/>
                  </a:lnTo>
                  <a:lnTo>
                    <a:pt x="4" y="140"/>
                  </a:lnTo>
                  <a:lnTo>
                    <a:pt x="84" y="140"/>
                  </a:lnTo>
                  <a:close/>
                  <a:moveTo>
                    <a:pt x="32" y="10"/>
                  </a:moveTo>
                  <a:lnTo>
                    <a:pt x="32" y="10"/>
                  </a:lnTo>
                  <a:lnTo>
                    <a:pt x="50" y="22"/>
                  </a:lnTo>
                  <a:lnTo>
                    <a:pt x="66" y="36"/>
                  </a:lnTo>
                  <a:lnTo>
                    <a:pt x="82" y="50"/>
                  </a:lnTo>
                  <a:lnTo>
                    <a:pt x="94" y="64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56" y="72"/>
                  </a:lnTo>
                  <a:lnTo>
                    <a:pt x="42" y="58"/>
                  </a:lnTo>
                  <a:lnTo>
                    <a:pt x="24" y="42"/>
                  </a:lnTo>
                  <a:lnTo>
                    <a:pt x="8" y="30"/>
                  </a:lnTo>
                  <a:lnTo>
                    <a:pt x="32" y="10"/>
                  </a:lnTo>
                  <a:close/>
                  <a:moveTo>
                    <a:pt x="326" y="170"/>
                  </a:moveTo>
                  <a:lnTo>
                    <a:pt x="238" y="170"/>
                  </a:lnTo>
                  <a:lnTo>
                    <a:pt x="238" y="170"/>
                  </a:lnTo>
                  <a:lnTo>
                    <a:pt x="244" y="184"/>
                  </a:lnTo>
                  <a:lnTo>
                    <a:pt x="252" y="198"/>
                  </a:lnTo>
                  <a:lnTo>
                    <a:pt x="260" y="210"/>
                  </a:lnTo>
                  <a:lnTo>
                    <a:pt x="270" y="220"/>
                  </a:lnTo>
                  <a:lnTo>
                    <a:pt x="282" y="228"/>
                  </a:lnTo>
                  <a:lnTo>
                    <a:pt x="296" y="236"/>
                  </a:lnTo>
                  <a:lnTo>
                    <a:pt x="312" y="244"/>
                  </a:lnTo>
                  <a:lnTo>
                    <a:pt x="328" y="248"/>
                  </a:lnTo>
                  <a:lnTo>
                    <a:pt x="328" y="248"/>
                  </a:lnTo>
                  <a:lnTo>
                    <a:pt x="316" y="262"/>
                  </a:lnTo>
                  <a:lnTo>
                    <a:pt x="306" y="276"/>
                  </a:lnTo>
                  <a:lnTo>
                    <a:pt x="306" y="276"/>
                  </a:lnTo>
                  <a:lnTo>
                    <a:pt x="290" y="270"/>
                  </a:lnTo>
                  <a:lnTo>
                    <a:pt x="276" y="264"/>
                  </a:lnTo>
                  <a:lnTo>
                    <a:pt x="262" y="254"/>
                  </a:lnTo>
                  <a:lnTo>
                    <a:pt x="252" y="246"/>
                  </a:lnTo>
                  <a:lnTo>
                    <a:pt x="240" y="234"/>
                  </a:lnTo>
                  <a:lnTo>
                    <a:pt x="232" y="222"/>
                  </a:lnTo>
                  <a:lnTo>
                    <a:pt x="222" y="208"/>
                  </a:lnTo>
                  <a:lnTo>
                    <a:pt x="216" y="194"/>
                  </a:lnTo>
                  <a:lnTo>
                    <a:pt x="216" y="194"/>
                  </a:lnTo>
                  <a:lnTo>
                    <a:pt x="210" y="204"/>
                  </a:lnTo>
                  <a:lnTo>
                    <a:pt x="204" y="216"/>
                  </a:lnTo>
                  <a:lnTo>
                    <a:pt x="194" y="226"/>
                  </a:lnTo>
                  <a:lnTo>
                    <a:pt x="184" y="238"/>
                  </a:lnTo>
                  <a:lnTo>
                    <a:pt x="172" y="248"/>
                  </a:lnTo>
                  <a:lnTo>
                    <a:pt x="158" y="258"/>
                  </a:lnTo>
                  <a:lnTo>
                    <a:pt x="142" y="266"/>
                  </a:lnTo>
                  <a:lnTo>
                    <a:pt x="124" y="276"/>
                  </a:lnTo>
                  <a:lnTo>
                    <a:pt x="124" y="276"/>
                  </a:lnTo>
                  <a:lnTo>
                    <a:pt x="114" y="264"/>
                  </a:lnTo>
                  <a:lnTo>
                    <a:pt x="102" y="252"/>
                  </a:lnTo>
                  <a:lnTo>
                    <a:pt x="102" y="252"/>
                  </a:lnTo>
                  <a:lnTo>
                    <a:pt x="122" y="242"/>
                  </a:lnTo>
                  <a:lnTo>
                    <a:pt x="140" y="234"/>
                  </a:lnTo>
                  <a:lnTo>
                    <a:pt x="154" y="224"/>
                  </a:lnTo>
                  <a:lnTo>
                    <a:pt x="164" y="212"/>
                  </a:lnTo>
                  <a:lnTo>
                    <a:pt x="174" y="202"/>
                  </a:lnTo>
                  <a:lnTo>
                    <a:pt x="180" y="192"/>
                  </a:lnTo>
                  <a:lnTo>
                    <a:pt x="186" y="180"/>
                  </a:lnTo>
                  <a:lnTo>
                    <a:pt x="190" y="170"/>
                  </a:lnTo>
                  <a:lnTo>
                    <a:pt x="102" y="170"/>
                  </a:lnTo>
                  <a:lnTo>
                    <a:pt x="102" y="140"/>
                  </a:lnTo>
                  <a:lnTo>
                    <a:pt x="194" y="140"/>
                  </a:lnTo>
                  <a:lnTo>
                    <a:pt x="194" y="96"/>
                  </a:lnTo>
                  <a:lnTo>
                    <a:pt x="114" y="96"/>
                  </a:lnTo>
                  <a:lnTo>
                    <a:pt x="114" y="66"/>
                  </a:lnTo>
                  <a:lnTo>
                    <a:pt x="154" y="66"/>
                  </a:lnTo>
                  <a:lnTo>
                    <a:pt x="154" y="66"/>
                  </a:lnTo>
                  <a:lnTo>
                    <a:pt x="150" y="54"/>
                  </a:lnTo>
                  <a:lnTo>
                    <a:pt x="142" y="40"/>
                  </a:lnTo>
                  <a:lnTo>
                    <a:pt x="126" y="14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64" y="14"/>
                  </a:lnTo>
                  <a:lnTo>
                    <a:pt x="172" y="30"/>
                  </a:lnTo>
                  <a:lnTo>
                    <a:pt x="180" y="44"/>
                  </a:lnTo>
                  <a:lnTo>
                    <a:pt x="186" y="58"/>
                  </a:lnTo>
                  <a:lnTo>
                    <a:pt x="166" y="66"/>
                  </a:lnTo>
                  <a:lnTo>
                    <a:pt x="248" y="66"/>
                  </a:lnTo>
                  <a:lnTo>
                    <a:pt x="232" y="60"/>
                  </a:lnTo>
                  <a:lnTo>
                    <a:pt x="232" y="60"/>
                  </a:lnTo>
                  <a:lnTo>
                    <a:pt x="250" y="30"/>
                  </a:lnTo>
                  <a:lnTo>
                    <a:pt x="266" y="0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0" y="18"/>
                  </a:lnTo>
                  <a:lnTo>
                    <a:pt x="296" y="18"/>
                  </a:lnTo>
                  <a:lnTo>
                    <a:pt x="296" y="18"/>
                  </a:lnTo>
                  <a:lnTo>
                    <a:pt x="280" y="42"/>
                  </a:lnTo>
                  <a:lnTo>
                    <a:pt x="262" y="66"/>
                  </a:lnTo>
                  <a:lnTo>
                    <a:pt x="316" y="66"/>
                  </a:lnTo>
                  <a:lnTo>
                    <a:pt x="316" y="96"/>
                  </a:lnTo>
                  <a:lnTo>
                    <a:pt x="226" y="96"/>
                  </a:lnTo>
                  <a:lnTo>
                    <a:pt x="226" y="140"/>
                  </a:lnTo>
                  <a:lnTo>
                    <a:pt x="326" y="140"/>
                  </a:lnTo>
                  <a:lnTo>
                    <a:pt x="32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テキスト ボックス 196"/>
          <p:cNvSpPr/>
          <p:nvPr/>
        </p:nvSpPr>
        <p:spPr>
          <a:xfrm>
            <a:off x="7386480" y="1962000"/>
            <a:ext cx="21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生産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テキスト ボックス 197"/>
          <p:cNvSpPr/>
          <p:nvPr/>
        </p:nvSpPr>
        <p:spPr>
          <a:xfrm>
            <a:off x="7737480" y="6367320"/>
            <a:ext cx="65120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安全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•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安心な野菜を皆様にお届けするため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除草剤、殺虫剤、殺菌剤などは一切使わず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生産してお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野菜は穫れたてが一番で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美味しい野菜を是非ご賞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テキスト ボックス 198"/>
          <p:cNvSpPr/>
          <p:nvPr/>
        </p:nvSpPr>
        <p:spPr>
          <a:xfrm>
            <a:off x="8636040" y="290664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林農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テキスト ボックス 199"/>
          <p:cNvSpPr/>
          <p:nvPr/>
        </p:nvSpPr>
        <p:spPr>
          <a:xfrm>
            <a:off x="8818560" y="4202280"/>
            <a:ext cx="45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armer  KOBAYAS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テキスト ボックス 200"/>
          <p:cNvSpPr/>
          <p:nvPr/>
        </p:nvSpPr>
        <p:spPr>
          <a:xfrm>
            <a:off x="9002880" y="4888080"/>
            <a:ext cx="26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埼玉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テキスト ボックス 201"/>
          <p:cNvSpPr/>
          <p:nvPr/>
        </p:nvSpPr>
        <p:spPr>
          <a:xfrm>
            <a:off x="11561760" y="4903920"/>
            <a:ext cx="26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林正雄さ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幸恵さ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4:29:45Z</dcterms:created>
  <dc:creator>seisaku</dc:creator>
  <dc:description/>
  <dc:language>en-US</dc:language>
  <cp:lastModifiedBy>eigyo_2</cp:lastModifiedBy>
  <dcterms:modified xsi:type="dcterms:W3CDTF">2012-05-17T04:43:42Z</dcterms:modified>
  <cp:revision>3</cp:revision>
  <dc:subject/>
  <dc:title>スライド 1</dc:title>
</cp:coreProperties>
</file>