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E6B-EF8D-411D-99A3-E32F3CA3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015-3705-49F9-8057-DA987B2D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7AE-4485-4DC8-B209-E016F7E7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FC3-5286-4012-AF2C-EFABCF53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C59-9891-4736-8704-6BE2C51B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EF9-5898-43FD-9B72-FF3F627B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609-52BB-42F5-B8C8-6ADA7083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2B2-52D9-4983-8085-C761F751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D2D-EC19-476F-9654-4EB02CBA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D17-30A5-4B1E-AA11-CCAF36A4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D5D-F13A-4183-A9DA-BDC2C8B4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C47-2B50-43AD-A2ED-9F24B11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920" indent="-565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359ADD36-A0C2-4981-BD99-F25B777529F6}" type="slidenum">
              <a:rPr b="0" lang="ja-JP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44080" y="1143000"/>
            <a:ext cx="8864280" cy="8864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412760" y="2171880"/>
            <a:ext cx="7480080" cy="748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19760" y="7270920"/>
            <a:ext cx="30165840" cy="314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6766440" y="1943280"/>
            <a:ext cx="5343480" cy="715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295280" y="1981080"/>
            <a:ext cx="5229360" cy="709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477120" y="1143000"/>
            <a:ext cx="30702240" cy="538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1633040" y="7924680"/>
            <a:ext cx="19937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7:26:37Z</dcterms:created>
  <dc:creator>fukase3</dc:creator>
  <dc:description/>
  <dc:language>en-US</dc:language>
  <cp:lastModifiedBy>TTBS</cp:lastModifiedBy>
  <dcterms:modified xsi:type="dcterms:W3CDTF">2009-06-02T02:24:06Z</dcterms:modified>
  <cp:revision>5</cp:revision>
  <dc:subject/>
  <dc:title>スライド 1</dc:title>
</cp:coreProperties>
</file>