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251950" cy="131032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2593-F5D0-4127-A2A4-EC6A552F8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1880" y="525240"/>
            <a:ext cx="8329680" cy="218268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1880" y="3057480"/>
            <a:ext cx="8329680" cy="41252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880" y="7575120"/>
            <a:ext cx="8329680" cy="41252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EEF2-0E56-4FD1-82D4-9BBF9AAD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1880" y="525240"/>
            <a:ext cx="8329680" cy="218268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1880" y="3057480"/>
            <a:ext cx="4064760" cy="41252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0400" y="3057480"/>
            <a:ext cx="4064760" cy="41252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1880" y="7575120"/>
            <a:ext cx="4064760" cy="41252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30400" y="7575120"/>
            <a:ext cx="4064760" cy="41252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BE1C-C3E7-47FB-AF15-419CA07A6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1880" y="525240"/>
            <a:ext cx="8329680" cy="218268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1880" y="3057480"/>
            <a:ext cx="2682000" cy="41252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8520" y="3057480"/>
            <a:ext cx="2682000" cy="41252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0" y="3057480"/>
            <a:ext cx="2682000" cy="41252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1880" y="7575120"/>
            <a:ext cx="2682000" cy="41252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8520" y="7575120"/>
            <a:ext cx="2682000" cy="41252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4800" y="7575120"/>
            <a:ext cx="2682000" cy="41252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270C-3868-4AC3-8A9E-A477358B8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1880" y="525240"/>
            <a:ext cx="8329680" cy="218268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1880" y="3057480"/>
            <a:ext cx="8329680" cy="86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A5AC-7A1C-4841-B16D-C12EBD72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1880" y="525240"/>
            <a:ext cx="8329680" cy="218268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1880" y="3057480"/>
            <a:ext cx="8329680" cy="86486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F246-380A-4667-8475-879458E8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1880" y="525240"/>
            <a:ext cx="8329680" cy="218268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1880" y="3057480"/>
            <a:ext cx="4064760" cy="86486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30400" y="3057480"/>
            <a:ext cx="4064760" cy="86486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2AA2-BEDA-4C90-9D1F-7D8D2D9D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1880" y="525240"/>
            <a:ext cx="8329680" cy="218268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4838-AFC0-4CAA-86E2-A7F6C16A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1880" y="525240"/>
            <a:ext cx="8329680" cy="101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4A3E-AC6B-4CE4-AF5D-658E710B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1880" y="525240"/>
            <a:ext cx="8329680" cy="218268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1880" y="3057480"/>
            <a:ext cx="4064760" cy="41252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0400" y="3057480"/>
            <a:ext cx="4064760" cy="86486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1880" y="7575120"/>
            <a:ext cx="4064760" cy="41252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FBC8-C4A4-45A4-A697-F2F5F7EC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1880" y="525240"/>
            <a:ext cx="8329680" cy="218268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1880" y="3057480"/>
            <a:ext cx="4064760" cy="86486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0400" y="3057480"/>
            <a:ext cx="4064760" cy="41252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30400" y="7575120"/>
            <a:ext cx="4064760" cy="41252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9FA9-F0EC-47CE-80B0-2F159179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1880" y="525240"/>
            <a:ext cx="8329680" cy="218268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1880" y="3057480"/>
            <a:ext cx="4064760" cy="41252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0400" y="3057480"/>
            <a:ext cx="4064760" cy="41252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1880" y="7575120"/>
            <a:ext cx="8329680" cy="41252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D35C-FF62-4191-A345-2C696E66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1880" y="525240"/>
            <a:ext cx="8329680" cy="218268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ctr">
            <a:noAutofit/>
          </a:bodyPr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1880" y="3057480"/>
            <a:ext cx="8329680" cy="864864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824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596960" indent="-3189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524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496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496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496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1880" y="11932920"/>
            <a:ext cx="2160720" cy="91116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Autofit/>
          </a:bodyPr>
          <a:lstStyle>
            <a:lvl1pPr indent="0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62240" y="11932920"/>
            <a:ext cx="2928960" cy="91116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Autofit/>
          </a:bodyPr>
          <a:lstStyle>
            <a:lvl1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30840" y="11932920"/>
            <a:ext cx="2160720" cy="911160"/>
          </a:xfrm>
          <a:prstGeom prst="rect">
            <a:avLst/>
          </a:prstGeom>
          <a:noFill/>
          <a:ln w="0">
            <a:noFill/>
          </a:ln>
        </p:spPr>
        <p:txBody>
          <a:bodyPr lIns="127800" rIns="127800" tIns="63720" bIns="63720" anchor="t">
            <a:noAutofit/>
          </a:bodyPr>
          <a:lstStyle>
            <a:lvl1pPr indent="0" algn="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fld id="{9D0500F3-68BF-45D9-BD5A-08DBBC98C0F2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image" Target="../media/image17.wmf"/><Relationship Id="rId18" Type="http://schemas.openxmlformats.org/officeDocument/2006/relationships/image" Target="../media/image18.wmf"/><Relationship Id="rId19" Type="http://schemas.openxmlformats.org/officeDocument/2006/relationships/image" Target="../media/image19.wmf"/><Relationship Id="rId20" Type="http://schemas.openxmlformats.org/officeDocument/2006/relationships/image" Target="../media/image20.wmf"/><Relationship Id="rId21" Type="http://schemas.openxmlformats.org/officeDocument/2006/relationships/image" Target="../media/image21.wmf"/><Relationship Id="rId22" Type="http://schemas.openxmlformats.org/officeDocument/2006/relationships/image" Target="../media/image22.wmf"/><Relationship Id="rId23" Type="http://schemas.openxmlformats.org/officeDocument/2006/relationships/image" Target="../media/image23.wmf"/><Relationship Id="rId24" Type="http://schemas.openxmlformats.org/officeDocument/2006/relationships/image" Target="../media/image24.wmf"/><Relationship Id="rId25" Type="http://schemas.openxmlformats.org/officeDocument/2006/relationships/image" Target="../media/image25.wmf"/><Relationship Id="rId26" Type="http://schemas.openxmlformats.org/officeDocument/2006/relationships/image" Target="../media/image26.wmf"/><Relationship Id="rId27" Type="http://schemas.openxmlformats.org/officeDocument/2006/relationships/image" Target="../media/image27.wmf"/><Relationship Id="rId2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9785520"/>
            <a:ext cx="4626000" cy="33192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26000" cy="3276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819600" y="2165400"/>
            <a:ext cx="428400" cy="825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57040" y="320760"/>
            <a:ext cx="4184640" cy="914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0" y="3259080"/>
            <a:ext cx="4626000" cy="3276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530280" y="3738600"/>
            <a:ext cx="3803760" cy="488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3174840" y="5213520"/>
            <a:ext cx="1111320" cy="968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3321000" y="4362480"/>
            <a:ext cx="787320" cy="822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0" y="6513480"/>
            <a:ext cx="4626000" cy="3279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3483000" y="8182080"/>
            <a:ext cx="851040" cy="1349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528480" y="6850080"/>
            <a:ext cx="3645000" cy="1025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3754440" y="11918880"/>
            <a:ext cx="596880" cy="565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609480" y="9896400"/>
            <a:ext cx="3492720" cy="72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4618080" y="0"/>
            <a:ext cx="4635360" cy="3286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>
            <a:off x="4989600" y="239760"/>
            <a:ext cx="3838320" cy="657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8502480" y="2214720"/>
            <a:ext cx="282600" cy="558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>
            <a:off x="4924440" y="1779480"/>
            <a:ext cx="866880" cy="1092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8"/>
          <a:stretch/>
        </p:blipFill>
        <p:spPr>
          <a:xfrm>
            <a:off x="4611600" y="3273480"/>
            <a:ext cx="4641840" cy="3273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9"/>
          <a:stretch/>
        </p:blipFill>
        <p:spPr>
          <a:xfrm>
            <a:off x="4941720" y="3753000"/>
            <a:ext cx="3816360" cy="495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0"/>
          <a:stretch/>
        </p:blipFill>
        <p:spPr>
          <a:xfrm>
            <a:off x="7620120" y="5149800"/>
            <a:ext cx="1108080" cy="968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1"/>
          <a:stretch/>
        </p:blipFill>
        <p:spPr>
          <a:xfrm>
            <a:off x="7669080" y="4265640"/>
            <a:ext cx="793800" cy="888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2"/>
          <a:stretch/>
        </p:blipFill>
        <p:spPr>
          <a:xfrm>
            <a:off x="4624560" y="6529320"/>
            <a:ext cx="4628880" cy="3273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3"/>
          <a:stretch/>
        </p:blipFill>
        <p:spPr>
          <a:xfrm>
            <a:off x="4811760" y="6624720"/>
            <a:ext cx="4162320" cy="787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4"/>
          <a:stretch/>
        </p:blipFill>
        <p:spPr>
          <a:xfrm>
            <a:off x="8229600" y="8326440"/>
            <a:ext cx="685800" cy="1111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5"/>
          <a:stretch/>
        </p:blipFill>
        <p:spPr>
          <a:xfrm>
            <a:off x="4627440" y="9796320"/>
            <a:ext cx="4626000" cy="3276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6"/>
          <a:stretch/>
        </p:blipFill>
        <p:spPr>
          <a:xfrm>
            <a:off x="8086680" y="11631600"/>
            <a:ext cx="587520" cy="914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7"/>
          <a:stretch/>
        </p:blipFill>
        <p:spPr>
          <a:xfrm>
            <a:off x="7075440" y="10202760"/>
            <a:ext cx="1609920" cy="1390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61120" y="1620720"/>
            <a:ext cx="312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00</a:t>
            </a:r>
            <a:r>
              <a:rPr b="1" lang="zh-CN" sz="6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46960" y="1152360"/>
            <a:ext cx="2923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lang="en-US" sz="1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98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89880" y="4390920"/>
            <a:ext cx="2923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lang="en-US" sz="1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78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6560" y="4390920"/>
            <a:ext cx="2923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lang="en-US" sz="1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78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89880" y="7848720"/>
            <a:ext cx="2923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lang="en-US" sz="1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98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680" y="8215200"/>
            <a:ext cx="360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lang="en-US" sz="9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1,00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15080" y="10999800"/>
            <a:ext cx="2923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lang="en-US" sz="1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78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6280" y="11214000"/>
            <a:ext cx="360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lang="en-US" sz="9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1,20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94960" y="104443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こどもの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01:52:32Z</dcterms:created>
  <dc:creator>fukase3</dc:creator>
  <dc:description/>
  <dc:language>en-US</dc:language>
  <cp:lastModifiedBy>TTBS</cp:lastModifiedBy>
  <dcterms:modified xsi:type="dcterms:W3CDTF">2009-06-01T05:18:48Z</dcterms:modified>
  <cp:revision>5</cp:revision>
  <dc:subject/>
  <dc:title>スライド 1</dc:title>
</cp:coreProperties>
</file>