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251950" cy="1310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404-979F-4ED2-B45F-13D328D9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832968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7575120"/>
            <a:ext cx="832968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1AF-4D44-4DF5-8322-70A20FB8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027-6907-421A-ADA5-B95A407A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305748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305748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757512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757512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757512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5F8-7EA0-45E7-9BD9-4FA1A7DA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3057480"/>
            <a:ext cx="832968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62C-F609-4BD5-AEB8-F25A60C3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832968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3DC-1571-4E3C-B995-BFCE606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347-7277-4D5B-987A-CBBAE827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95D-044C-442A-B7D7-6878E724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525240"/>
            <a:ext cx="8329680" cy="10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8F8-034A-4486-9313-331F56AC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5D5-390D-4FAE-9F2E-DBF071A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01C-AF52-467D-A712-BEE0258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7575120"/>
            <a:ext cx="832968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078-F54E-4A43-8B28-BB5BE7A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3057480"/>
            <a:ext cx="832968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524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496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496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496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11932920"/>
            <a:ext cx="2160720" cy="9111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11932920"/>
            <a:ext cx="2928960" cy="9111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11932920"/>
            <a:ext cx="2160720" cy="9111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 algn="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fld id="{42D2E3A6-01F0-4976-A9F8-8AB6466CD09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4560" cy="3265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21320" y="0"/>
            <a:ext cx="4632120" cy="327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440" y="3262320"/>
            <a:ext cx="4597200" cy="3246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16280" y="3267000"/>
            <a:ext cx="4637160" cy="325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46520" y="6539040"/>
            <a:ext cx="4606920" cy="328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6567480"/>
            <a:ext cx="4629240" cy="326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11600" y="9813960"/>
            <a:ext cx="4641840" cy="329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16080" y="5834160"/>
            <a:ext cx="388620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39760" y="8097840"/>
            <a:ext cx="4106880" cy="1825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9812160"/>
            <a:ext cx="4633920" cy="329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28600" y="403200"/>
            <a:ext cx="4181400" cy="72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884840" y="473040"/>
            <a:ext cx="4059000" cy="111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802480" y="4000680"/>
            <a:ext cx="31222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8:15:55Z</dcterms:created>
  <dc:creator>fukase3</dc:creator>
  <dc:description/>
  <dc:language>en-US</dc:language>
  <cp:lastModifiedBy>fukase3</cp:lastModifiedBy>
  <dcterms:modified xsi:type="dcterms:W3CDTF">2009-05-25T06:23:22Z</dcterms:modified>
  <cp:revision>3</cp:revision>
  <dc:subject/>
  <dc:title>スライド 1</dc:title>
</cp:coreProperties>
</file>