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1D2C-5240-46F0-8E27-FA3DCB80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356-AD25-4E7F-ACC9-E6EB47AC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BE4B-43BC-4EB7-B074-8D74AECF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D9EA-4A2B-4493-8FA7-25F9E034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085D-E525-41B4-AE33-4B954297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F14-4404-4BAC-AF9D-2094D187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9349-C127-49D2-8558-DDA5636A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2BD-0861-4A8F-9BE2-9CBCE924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D2A7-93AC-4C0F-B236-F096F23E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A006-15BC-44B4-BF9D-CCBD16B2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190C-F3E6-4747-8E44-53054C21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B240-EE31-4E96-B9BC-E50EED8B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920" indent="-5659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737640"/>
            <a:ext cx="1368108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72AEC713-E935-4087-A7B8-817F14868518}" type="slidenum">
              <a:rPr b="0" lang="ja-JP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205400" cy="10693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519960" y="7270920"/>
            <a:ext cx="30165480" cy="314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0336920" y="7477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17720" y="7018200"/>
            <a:ext cx="2514600" cy="251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9071520" y="2290680"/>
            <a:ext cx="3216240" cy="3591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62120" y="1219320"/>
            <a:ext cx="3330360" cy="3676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076640" y="7353360"/>
            <a:ext cx="1895400" cy="2676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6880920" y="7353360"/>
            <a:ext cx="1895400" cy="2676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286680" y="1409760"/>
            <a:ext cx="30747960" cy="538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8893080" y="7734240"/>
            <a:ext cx="254174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07:26:37Z</dcterms:created>
  <dc:creator>fukase3</dc:creator>
  <dc:description/>
  <dc:language>en-US</dc:language>
  <cp:lastModifiedBy>TTBS</cp:lastModifiedBy>
  <dcterms:modified xsi:type="dcterms:W3CDTF">2009-06-02T02:25:02Z</dcterms:modified>
  <cp:revision>5</cp:revision>
  <dc:subject/>
  <dc:title>スライド 1</dc:title>
</cp:coreProperties>
</file>