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B1B-1B54-4D51-A977-DC422ED7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9BC-61CB-4506-85AD-D6E678C5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1CE-8733-4EC8-89B0-40FCA75A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A61-69EF-4BAB-A962-555C175A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DB8-BFEF-4A4B-93C1-B1772E55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786-DAFA-4D78-867B-D006BA01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2EA-AABB-4176-8F52-16AEE198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4A4-98BE-4985-9065-893EFD97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470-31CD-43A5-AD1A-DF40BB68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9BA-624A-4F77-BFAD-AFB4E77B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A62-5424-45F6-A636-CB93B52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A93-3966-40D6-AE64-1DA6ABA3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A46AABE9-ED38-45F9-A28A-051A92410F9E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240" y="0"/>
            <a:ext cx="43198920" cy="10693440"/>
          </a:xfrm>
          <a:prstGeom prst="rect">
            <a:avLst/>
          </a:prstGeom>
          <a:solidFill>
            <a:srgbClr val="263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5"/>
          <p:cNvSpPr/>
          <p:nvPr/>
        </p:nvSpPr>
        <p:spPr>
          <a:xfrm>
            <a:off x="361800" y="361800"/>
            <a:ext cx="42481800" cy="9972720"/>
          </a:xfrm>
          <a:custGeom>
            <a:avLst/>
            <a:gdLst>
              <a:gd name="textAreaLeft" fmla="*/ 0 w 42481800"/>
              <a:gd name="textAreaRight" fmla="*/ 42482160 w 42481800"/>
              <a:gd name="textAreaTop" fmla="*/ 0 h 9972720"/>
              <a:gd name="textAreaBottom" fmla="*/ 9972720 h 9972720"/>
            </a:gdLst>
            <a:ahLst/>
            <a:rect l="textAreaLeft" t="textAreaTop" r="textAreaRight" b="textAreaBottom"/>
            <a:pathLst>
              <a:path w="26760" h="6282">
                <a:moveTo>
                  <a:pt x="26760" y="5828"/>
                </a:moveTo>
                <a:lnTo>
                  <a:pt x="26760" y="5828"/>
                </a:lnTo>
                <a:lnTo>
                  <a:pt x="26758" y="5874"/>
                </a:lnTo>
                <a:lnTo>
                  <a:pt x="26750" y="5918"/>
                </a:lnTo>
                <a:lnTo>
                  <a:pt x="26740" y="5962"/>
                </a:lnTo>
                <a:lnTo>
                  <a:pt x="26724" y="6004"/>
                </a:lnTo>
                <a:lnTo>
                  <a:pt x="26704" y="6044"/>
                </a:lnTo>
                <a:lnTo>
                  <a:pt x="26682" y="6080"/>
                </a:lnTo>
                <a:lnTo>
                  <a:pt x="26656" y="6116"/>
                </a:lnTo>
                <a:lnTo>
                  <a:pt x="26626" y="6148"/>
                </a:lnTo>
                <a:lnTo>
                  <a:pt x="26594" y="6178"/>
                </a:lnTo>
                <a:lnTo>
                  <a:pt x="26560" y="6204"/>
                </a:lnTo>
                <a:lnTo>
                  <a:pt x="26522" y="6226"/>
                </a:lnTo>
                <a:lnTo>
                  <a:pt x="26482" y="6246"/>
                </a:lnTo>
                <a:lnTo>
                  <a:pt x="26440" y="6260"/>
                </a:lnTo>
                <a:lnTo>
                  <a:pt x="26398" y="6272"/>
                </a:lnTo>
                <a:lnTo>
                  <a:pt x="26352" y="6278"/>
                </a:lnTo>
                <a:lnTo>
                  <a:pt x="26306" y="6282"/>
                </a:lnTo>
                <a:lnTo>
                  <a:pt x="454" y="6282"/>
                </a:lnTo>
                <a:lnTo>
                  <a:pt x="454" y="6282"/>
                </a:lnTo>
                <a:lnTo>
                  <a:pt x="408" y="6278"/>
                </a:lnTo>
                <a:lnTo>
                  <a:pt x="364" y="6272"/>
                </a:lnTo>
                <a:lnTo>
                  <a:pt x="320" y="6260"/>
                </a:lnTo>
                <a:lnTo>
                  <a:pt x="278" y="6246"/>
                </a:lnTo>
                <a:lnTo>
                  <a:pt x="238" y="6226"/>
                </a:lnTo>
                <a:lnTo>
                  <a:pt x="202" y="6204"/>
                </a:lnTo>
                <a:lnTo>
                  <a:pt x="166" y="6178"/>
                </a:lnTo>
                <a:lnTo>
                  <a:pt x="134" y="6148"/>
                </a:lnTo>
                <a:lnTo>
                  <a:pt x="104" y="6116"/>
                </a:lnTo>
                <a:lnTo>
                  <a:pt x="78" y="6080"/>
                </a:lnTo>
                <a:lnTo>
                  <a:pt x="56" y="6044"/>
                </a:lnTo>
                <a:lnTo>
                  <a:pt x="36" y="6004"/>
                </a:lnTo>
                <a:lnTo>
                  <a:pt x="22" y="5962"/>
                </a:lnTo>
                <a:lnTo>
                  <a:pt x="10" y="5918"/>
                </a:lnTo>
                <a:lnTo>
                  <a:pt x="4" y="5874"/>
                </a:lnTo>
                <a:lnTo>
                  <a:pt x="0" y="5828"/>
                </a:lnTo>
                <a:lnTo>
                  <a:pt x="0" y="454"/>
                </a:lnTo>
                <a:lnTo>
                  <a:pt x="0" y="454"/>
                </a:lnTo>
                <a:lnTo>
                  <a:pt x="4" y="406"/>
                </a:lnTo>
                <a:lnTo>
                  <a:pt x="10" y="362"/>
                </a:lnTo>
                <a:lnTo>
                  <a:pt x="22" y="318"/>
                </a:lnTo>
                <a:lnTo>
                  <a:pt x="36" y="278"/>
                </a:lnTo>
                <a:lnTo>
                  <a:pt x="56" y="238"/>
                </a:lnTo>
                <a:lnTo>
                  <a:pt x="78" y="200"/>
                </a:lnTo>
                <a:lnTo>
                  <a:pt x="104" y="166"/>
                </a:lnTo>
                <a:lnTo>
                  <a:pt x="134" y="132"/>
                </a:lnTo>
                <a:lnTo>
                  <a:pt x="166" y="104"/>
                </a:lnTo>
                <a:lnTo>
                  <a:pt x="202" y="78"/>
                </a:lnTo>
                <a:lnTo>
                  <a:pt x="238" y="54"/>
                </a:lnTo>
                <a:lnTo>
                  <a:pt x="278" y="36"/>
                </a:lnTo>
                <a:lnTo>
                  <a:pt x="320" y="20"/>
                </a:lnTo>
                <a:lnTo>
                  <a:pt x="364" y="8"/>
                </a:lnTo>
                <a:lnTo>
                  <a:pt x="408" y="2"/>
                </a:lnTo>
                <a:lnTo>
                  <a:pt x="454" y="0"/>
                </a:lnTo>
                <a:lnTo>
                  <a:pt x="26306" y="0"/>
                </a:lnTo>
                <a:lnTo>
                  <a:pt x="26306" y="0"/>
                </a:lnTo>
                <a:lnTo>
                  <a:pt x="26352" y="2"/>
                </a:lnTo>
                <a:lnTo>
                  <a:pt x="26398" y="8"/>
                </a:lnTo>
                <a:lnTo>
                  <a:pt x="26440" y="20"/>
                </a:lnTo>
                <a:lnTo>
                  <a:pt x="26482" y="36"/>
                </a:lnTo>
                <a:lnTo>
                  <a:pt x="26522" y="54"/>
                </a:lnTo>
                <a:lnTo>
                  <a:pt x="26560" y="78"/>
                </a:lnTo>
                <a:lnTo>
                  <a:pt x="26594" y="104"/>
                </a:lnTo>
                <a:lnTo>
                  <a:pt x="26626" y="132"/>
                </a:lnTo>
                <a:lnTo>
                  <a:pt x="26656" y="166"/>
                </a:lnTo>
                <a:lnTo>
                  <a:pt x="26682" y="200"/>
                </a:lnTo>
                <a:lnTo>
                  <a:pt x="26704" y="238"/>
                </a:lnTo>
                <a:lnTo>
                  <a:pt x="26724" y="278"/>
                </a:lnTo>
                <a:lnTo>
                  <a:pt x="26740" y="318"/>
                </a:lnTo>
                <a:lnTo>
                  <a:pt x="26750" y="362"/>
                </a:lnTo>
                <a:lnTo>
                  <a:pt x="26758" y="406"/>
                </a:lnTo>
                <a:lnTo>
                  <a:pt x="26760" y="454"/>
                </a:lnTo>
                <a:lnTo>
                  <a:pt x="26760" y="5828"/>
                </a:lnTo>
                <a:close/>
              </a:path>
            </a:pathLst>
          </a:custGeom>
          <a:noFill/>
          <a:ln w="181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グループ化 65"/>
          <p:cNvGrpSpPr/>
          <p:nvPr/>
        </p:nvGrpSpPr>
        <p:grpSpPr>
          <a:xfrm>
            <a:off x="1206360" y="1015920"/>
            <a:ext cx="40792680" cy="1800"/>
            <a:chOff x="1206360" y="1015920"/>
            <a:chExt cx="40792680" cy="1800"/>
          </a:xfrm>
        </p:grpSpPr>
        <p:sp>
          <p:nvSpPr>
            <p:cNvPr id="44" name="Line 6"/>
            <p:cNvSpPr/>
            <p:nvPr/>
          </p:nvSpPr>
          <p:spPr>
            <a:xfrm>
              <a:off x="120636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Line 7"/>
            <p:cNvSpPr/>
            <p:nvPr/>
          </p:nvSpPr>
          <p:spPr>
            <a:xfrm>
              <a:off x="354312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Line 8"/>
            <p:cNvSpPr/>
            <p:nvPr/>
          </p:nvSpPr>
          <p:spPr>
            <a:xfrm>
              <a:off x="587988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Line 9"/>
            <p:cNvSpPr/>
            <p:nvPr/>
          </p:nvSpPr>
          <p:spPr>
            <a:xfrm>
              <a:off x="821664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1055340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11"/>
            <p:cNvSpPr/>
            <p:nvPr/>
          </p:nvSpPr>
          <p:spPr>
            <a:xfrm>
              <a:off x="1289052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Line 12"/>
            <p:cNvSpPr/>
            <p:nvPr/>
          </p:nvSpPr>
          <p:spPr>
            <a:xfrm>
              <a:off x="1522728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Line 13"/>
            <p:cNvSpPr/>
            <p:nvPr/>
          </p:nvSpPr>
          <p:spPr>
            <a:xfrm>
              <a:off x="1756404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Line 14"/>
            <p:cNvSpPr/>
            <p:nvPr/>
          </p:nvSpPr>
          <p:spPr>
            <a:xfrm>
              <a:off x="1990080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Line 15"/>
            <p:cNvSpPr/>
            <p:nvPr/>
          </p:nvSpPr>
          <p:spPr>
            <a:xfrm>
              <a:off x="2223756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Line 16"/>
            <p:cNvSpPr/>
            <p:nvPr/>
          </p:nvSpPr>
          <p:spPr>
            <a:xfrm>
              <a:off x="2457468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17"/>
            <p:cNvSpPr/>
            <p:nvPr/>
          </p:nvSpPr>
          <p:spPr>
            <a:xfrm>
              <a:off x="2691144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8"/>
            <p:cNvSpPr/>
            <p:nvPr/>
          </p:nvSpPr>
          <p:spPr>
            <a:xfrm>
              <a:off x="2924820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3158496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>
              <a:off x="3392172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21"/>
            <p:cNvSpPr/>
            <p:nvPr/>
          </p:nvSpPr>
          <p:spPr>
            <a:xfrm>
              <a:off x="3625884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22"/>
            <p:cNvSpPr/>
            <p:nvPr/>
          </p:nvSpPr>
          <p:spPr>
            <a:xfrm>
              <a:off x="38595600" y="1015920"/>
              <a:ext cx="143496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23"/>
            <p:cNvSpPr/>
            <p:nvPr/>
          </p:nvSpPr>
          <p:spPr>
            <a:xfrm>
              <a:off x="40932360" y="1015920"/>
              <a:ext cx="1066680" cy="180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グループ化 64"/>
          <p:cNvGrpSpPr/>
          <p:nvPr/>
        </p:nvGrpSpPr>
        <p:grpSpPr>
          <a:xfrm>
            <a:off x="1206360" y="9696600"/>
            <a:ext cx="40792680" cy="1440"/>
            <a:chOff x="1206360" y="9696600"/>
            <a:chExt cx="40792680" cy="1440"/>
          </a:xfrm>
        </p:grpSpPr>
        <p:sp>
          <p:nvSpPr>
            <p:cNvPr id="63" name="Line 35"/>
            <p:cNvSpPr/>
            <p:nvPr/>
          </p:nvSpPr>
          <p:spPr>
            <a:xfrm>
              <a:off x="120636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36"/>
            <p:cNvSpPr/>
            <p:nvPr/>
          </p:nvSpPr>
          <p:spPr>
            <a:xfrm>
              <a:off x="354312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37"/>
            <p:cNvSpPr/>
            <p:nvPr/>
          </p:nvSpPr>
          <p:spPr>
            <a:xfrm>
              <a:off x="587988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38"/>
            <p:cNvSpPr/>
            <p:nvPr/>
          </p:nvSpPr>
          <p:spPr>
            <a:xfrm>
              <a:off x="821664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39"/>
            <p:cNvSpPr/>
            <p:nvPr/>
          </p:nvSpPr>
          <p:spPr>
            <a:xfrm>
              <a:off x="1055340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40"/>
            <p:cNvSpPr/>
            <p:nvPr/>
          </p:nvSpPr>
          <p:spPr>
            <a:xfrm>
              <a:off x="1289052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41"/>
            <p:cNvSpPr/>
            <p:nvPr/>
          </p:nvSpPr>
          <p:spPr>
            <a:xfrm>
              <a:off x="1522728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42"/>
            <p:cNvSpPr/>
            <p:nvPr/>
          </p:nvSpPr>
          <p:spPr>
            <a:xfrm>
              <a:off x="1756404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43"/>
            <p:cNvSpPr/>
            <p:nvPr/>
          </p:nvSpPr>
          <p:spPr>
            <a:xfrm>
              <a:off x="1990080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44"/>
            <p:cNvSpPr/>
            <p:nvPr/>
          </p:nvSpPr>
          <p:spPr>
            <a:xfrm>
              <a:off x="2223756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45"/>
            <p:cNvSpPr/>
            <p:nvPr/>
          </p:nvSpPr>
          <p:spPr>
            <a:xfrm>
              <a:off x="2457468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46"/>
            <p:cNvSpPr/>
            <p:nvPr/>
          </p:nvSpPr>
          <p:spPr>
            <a:xfrm>
              <a:off x="2691144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47"/>
            <p:cNvSpPr/>
            <p:nvPr/>
          </p:nvSpPr>
          <p:spPr>
            <a:xfrm>
              <a:off x="2924820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48"/>
            <p:cNvSpPr/>
            <p:nvPr/>
          </p:nvSpPr>
          <p:spPr>
            <a:xfrm>
              <a:off x="3158496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49"/>
            <p:cNvSpPr/>
            <p:nvPr/>
          </p:nvSpPr>
          <p:spPr>
            <a:xfrm>
              <a:off x="3392172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50"/>
            <p:cNvSpPr/>
            <p:nvPr/>
          </p:nvSpPr>
          <p:spPr>
            <a:xfrm>
              <a:off x="3625884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51"/>
            <p:cNvSpPr/>
            <p:nvPr/>
          </p:nvSpPr>
          <p:spPr>
            <a:xfrm>
              <a:off x="38595600" y="9696600"/>
              <a:ext cx="143496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52"/>
            <p:cNvSpPr/>
            <p:nvPr/>
          </p:nvSpPr>
          <p:spPr>
            <a:xfrm>
              <a:off x="40932360" y="9696600"/>
              <a:ext cx="1066680" cy="1440"/>
            </a:xfrm>
            <a:prstGeom prst="line">
              <a:avLst/>
            </a:prstGeom>
            <a:ln w="216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グループ化 66"/>
          <p:cNvGrpSpPr/>
          <p:nvPr/>
        </p:nvGrpSpPr>
        <p:grpSpPr>
          <a:xfrm>
            <a:off x="565200" y="619200"/>
            <a:ext cx="7788240" cy="9090000"/>
            <a:chOff x="565200" y="619200"/>
            <a:chExt cx="7788240" cy="9090000"/>
          </a:xfrm>
        </p:grpSpPr>
        <p:sp>
          <p:nvSpPr>
            <p:cNvPr id="82" name="Freeform 24"/>
            <p:cNvSpPr/>
            <p:nvPr/>
          </p:nvSpPr>
          <p:spPr>
            <a:xfrm>
              <a:off x="2657520" y="3632040"/>
              <a:ext cx="5499000" cy="5079960"/>
            </a:xfrm>
            <a:custGeom>
              <a:avLst/>
              <a:gdLst>
                <a:gd name="textAreaLeft" fmla="*/ 0 w 5499000"/>
                <a:gd name="textAreaRight" fmla="*/ 5499360 w 5499000"/>
                <a:gd name="textAreaTop" fmla="*/ 0 h 5079960"/>
                <a:gd name="textAreaBottom" fmla="*/ 5080320 h 5079960"/>
              </a:gdLst>
              <a:ahLst/>
              <a:rect l="textAreaLeft" t="textAreaTop" r="textAreaRight" b="textAreaBottom"/>
              <a:pathLst>
                <a:path w="3464" h="3200">
                  <a:moveTo>
                    <a:pt x="1182" y="2276"/>
                  </a:moveTo>
                  <a:lnTo>
                    <a:pt x="1182" y="2276"/>
                  </a:lnTo>
                  <a:lnTo>
                    <a:pt x="1138" y="2234"/>
                  </a:lnTo>
                  <a:lnTo>
                    <a:pt x="1096" y="2190"/>
                  </a:lnTo>
                  <a:lnTo>
                    <a:pt x="1012" y="2104"/>
                  </a:lnTo>
                  <a:lnTo>
                    <a:pt x="932" y="2014"/>
                  </a:lnTo>
                  <a:lnTo>
                    <a:pt x="858" y="1924"/>
                  </a:lnTo>
                  <a:lnTo>
                    <a:pt x="786" y="1830"/>
                  </a:lnTo>
                  <a:lnTo>
                    <a:pt x="718" y="1736"/>
                  </a:lnTo>
                  <a:lnTo>
                    <a:pt x="654" y="1642"/>
                  </a:lnTo>
                  <a:lnTo>
                    <a:pt x="594" y="1546"/>
                  </a:lnTo>
                  <a:lnTo>
                    <a:pt x="538" y="1450"/>
                  </a:lnTo>
                  <a:lnTo>
                    <a:pt x="484" y="1356"/>
                  </a:lnTo>
                  <a:lnTo>
                    <a:pt x="434" y="1260"/>
                  </a:lnTo>
                  <a:lnTo>
                    <a:pt x="388" y="1166"/>
                  </a:lnTo>
                  <a:lnTo>
                    <a:pt x="344" y="1074"/>
                  </a:lnTo>
                  <a:lnTo>
                    <a:pt x="304" y="982"/>
                  </a:lnTo>
                  <a:lnTo>
                    <a:pt x="266" y="892"/>
                  </a:lnTo>
                  <a:lnTo>
                    <a:pt x="232" y="806"/>
                  </a:lnTo>
                  <a:lnTo>
                    <a:pt x="200" y="722"/>
                  </a:lnTo>
                  <a:lnTo>
                    <a:pt x="172" y="640"/>
                  </a:lnTo>
                  <a:lnTo>
                    <a:pt x="146" y="560"/>
                  </a:lnTo>
                  <a:lnTo>
                    <a:pt x="122" y="486"/>
                  </a:lnTo>
                  <a:lnTo>
                    <a:pt x="80" y="350"/>
                  </a:lnTo>
                  <a:lnTo>
                    <a:pt x="50" y="230"/>
                  </a:lnTo>
                  <a:lnTo>
                    <a:pt x="26" y="134"/>
                  </a:lnTo>
                  <a:lnTo>
                    <a:pt x="1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8" y="2"/>
                  </a:lnTo>
                  <a:lnTo>
                    <a:pt x="128" y="8"/>
                  </a:lnTo>
                  <a:lnTo>
                    <a:pt x="220" y="20"/>
                  </a:lnTo>
                  <a:lnTo>
                    <a:pt x="336" y="36"/>
                  </a:lnTo>
                  <a:lnTo>
                    <a:pt x="468" y="60"/>
                  </a:lnTo>
                  <a:lnTo>
                    <a:pt x="542" y="74"/>
                  </a:lnTo>
                  <a:lnTo>
                    <a:pt x="618" y="90"/>
                  </a:lnTo>
                  <a:lnTo>
                    <a:pt x="698" y="110"/>
                  </a:lnTo>
                  <a:lnTo>
                    <a:pt x="780" y="130"/>
                  </a:lnTo>
                  <a:lnTo>
                    <a:pt x="866" y="154"/>
                  </a:lnTo>
                  <a:lnTo>
                    <a:pt x="954" y="182"/>
                  </a:lnTo>
                  <a:lnTo>
                    <a:pt x="1046" y="210"/>
                  </a:lnTo>
                  <a:lnTo>
                    <a:pt x="1138" y="244"/>
                  </a:lnTo>
                  <a:lnTo>
                    <a:pt x="1232" y="280"/>
                  </a:lnTo>
                  <a:lnTo>
                    <a:pt x="1328" y="318"/>
                  </a:lnTo>
                  <a:lnTo>
                    <a:pt x="1424" y="362"/>
                  </a:lnTo>
                  <a:lnTo>
                    <a:pt x="1520" y="408"/>
                  </a:lnTo>
                  <a:lnTo>
                    <a:pt x="1618" y="458"/>
                  </a:lnTo>
                  <a:lnTo>
                    <a:pt x="1714" y="512"/>
                  </a:lnTo>
                  <a:lnTo>
                    <a:pt x="1812" y="570"/>
                  </a:lnTo>
                  <a:lnTo>
                    <a:pt x="1908" y="632"/>
                  </a:lnTo>
                  <a:lnTo>
                    <a:pt x="2002" y="698"/>
                  </a:lnTo>
                  <a:lnTo>
                    <a:pt x="2096" y="768"/>
                  </a:lnTo>
                  <a:lnTo>
                    <a:pt x="2190" y="844"/>
                  </a:lnTo>
                  <a:lnTo>
                    <a:pt x="2236" y="884"/>
                  </a:lnTo>
                  <a:lnTo>
                    <a:pt x="2280" y="926"/>
                  </a:lnTo>
                  <a:lnTo>
                    <a:pt x="2280" y="926"/>
                  </a:lnTo>
                  <a:lnTo>
                    <a:pt x="2324" y="966"/>
                  </a:lnTo>
                  <a:lnTo>
                    <a:pt x="2368" y="1010"/>
                  </a:lnTo>
                  <a:lnTo>
                    <a:pt x="2452" y="1096"/>
                  </a:lnTo>
                  <a:lnTo>
                    <a:pt x="2530" y="1186"/>
                  </a:lnTo>
                  <a:lnTo>
                    <a:pt x="2606" y="1276"/>
                  </a:lnTo>
                  <a:lnTo>
                    <a:pt x="2678" y="1370"/>
                  </a:lnTo>
                  <a:lnTo>
                    <a:pt x="2744" y="1464"/>
                  </a:lnTo>
                  <a:lnTo>
                    <a:pt x="2808" y="1558"/>
                  </a:lnTo>
                  <a:lnTo>
                    <a:pt x="2868" y="1654"/>
                  </a:lnTo>
                  <a:lnTo>
                    <a:pt x="2926" y="1750"/>
                  </a:lnTo>
                  <a:lnTo>
                    <a:pt x="2978" y="1844"/>
                  </a:lnTo>
                  <a:lnTo>
                    <a:pt x="3028" y="1940"/>
                  </a:lnTo>
                  <a:lnTo>
                    <a:pt x="3076" y="2034"/>
                  </a:lnTo>
                  <a:lnTo>
                    <a:pt x="3118" y="2126"/>
                  </a:lnTo>
                  <a:lnTo>
                    <a:pt x="3158" y="2218"/>
                  </a:lnTo>
                  <a:lnTo>
                    <a:pt x="3196" y="2308"/>
                  </a:lnTo>
                  <a:lnTo>
                    <a:pt x="3230" y="2394"/>
                  </a:lnTo>
                  <a:lnTo>
                    <a:pt x="3262" y="2480"/>
                  </a:lnTo>
                  <a:lnTo>
                    <a:pt x="3292" y="2560"/>
                  </a:lnTo>
                  <a:lnTo>
                    <a:pt x="3318" y="2640"/>
                  </a:lnTo>
                  <a:lnTo>
                    <a:pt x="3342" y="2714"/>
                  </a:lnTo>
                  <a:lnTo>
                    <a:pt x="3382" y="2852"/>
                  </a:lnTo>
                  <a:lnTo>
                    <a:pt x="3414" y="2970"/>
                  </a:lnTo>
                  <a:lnTo>
                    <a:pt x="3436" y="3066"/>
                  </a:lnTo>
                  <a:lnTo>
                    <a:pt x="3452" y="3140"/>
                  </a:lnTo>
                  <a:lnTo>
                    <a:pt x="3464" y="3200"/>
                  </a:lnTo>
                  <a:lnTo>
                    <a:pt x="3464" y="3200"/>
                  </a:lnTo>
                  <a:lnTo>
                    <a:pt x="3404" y="3198"/>
                  </a:lnTo>
                  <a:lnTo>
                    <a:pt x="3336" y="3192"/>
                  </a:lnTo>
                  <a:lnTo>
                    <a:pt x="3242" y="3180"/>
                  </a:lnTo>
                  <a:lnTo>
                    <a:pt x="3128" y="3164"/>
                  </a:lnTo>
                  <a:lnTo>
                    <a:pt x="2994" y="3142"/>
                  </a:lnTo>
                  <a:lnTo>
                    <a:pt x="2922" y="3126"/>
                  </a:lnTo>
                  <a:lnTo>
                    <a:pt x="2844" y="3110"/>
                  </a:lnTo>
                  <a:lnTo>
                    <a:pt x="2766" y="3090"/>
                  </a:lnTo>
                  <a:lnTo>
                    <a:pt x="2682" y="3070"/>
                  </a:lnTo>
                  <a:lnTo>
                    <a:pt x="2596" y="3046"/>
                  </a:lnTo>
                  <a:lnTo>
                    <a:pt x="2508" y="3018"/>
                  </a:lnTo>
                  <a:lnTo>
                    <a:pt x="2418" y="2990"/>
                  </a:lnTo>
                  <a:lnTo>
                    <a:pt x="2324" y="2956"/>
                  </a:lnTo>
                  <a:lnTo>
                    <a:pt x="2230" y="2920"/>
                  </a:lnTo>
                  <a:lnTo>
                    <a:pt x="2136" y="2882"/>
                  </a:lnTo>
                  <a:lnTo>
                    <a:pt x="2040" y="2840"/>
                  </a:lnTo>
                  <a:lnTo>
                    <a:pt x="1942" y="2792"/>
                  </a:lnTo>
                  <a:lnTo>
                    <a:pt x="1846" y="2742"/>
                  </a:lnTo>
                  <a:lnTo>
                    <a:pt x="1748" y="2688"/>
                  </a:lnTo>
                  <a:lnTo>
                    <a:pt x="1652" y="2630"/>
                  </a:lnTo>
                  <a:lnTo>
                    <a:pt x="1556" y="2568"/>
                  </a:lnTo>
                  <a:lnTo>
                    <a:pt x="1460" y="2502"/>
                  </a:lnTo>
                  <a:lnTo>
                    <a:pt x="1366" y="2432"/>
                  </a:lnTo>
                  <a:lnTo>
                    <a:pt x="1274" y="2356"/>
                  </a:lnTo>
                  <a:lnTo>
                    <a:pt x="1228" y="2316"/>
                  </a:lnTo>
                  <a:lnTo>
                    <a:pt x="1182" y="2276"/>
                  </a:lnTo>
                  <a:lnTo>
                    <a:pt x="1182" y="2276"/>
                  </a:lnTo>
                  <a:close/>
                </a:path>
              </a:pathLst>
            </a:custGeom>
            <a:solidFill>
              <a:srgbClr val="f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2533680" y="3524400"/>
              <a:ext cx="5746680" cy="5295960"/>
            </a:xfrm>
            <a:custGeom>
              <a:avLst/>
              <a:gdLst>
                <a:gd name="textAreaLeft" fmla="*/ 0 w 5746680"/>
                <a:gd name="textAreaRight" fmla="*/ 5747040 w 574668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3620" h="3336">
                  <a:moveTo>
                    <a:pt x="12" y="78"/>
                  </a:moveTo>
                  <a:lnTo>
                    <a:pt x="12" y="78"/>
                  </a:lnTo>
                  <a:lnTo>
                    <a:pt x="28" y="158"/>
                  </a:lnTo>
                  <a:lnTo>
                    <a:pt x="44" y="236"/>
                  </a:lnTo>
                  <a:lnTo>
                    <a:pt x="70" y="338"/>
                  </a:lnTo>
                  <a:lnTo>
                    <a:pt x="102" y="460"/>
                  </a:lnTo>
                  <a:lnTo>
                    <a:pt x="144" y="600"/>
                  </a:lnTo>
                  <a:lnTo>
                    <a:pt x="168" y="676"/>
                  </a:lnTo>
                  <a:lnTo>
                    <a:pt x="196" y="756"/>
                  </a:lnTo>
                  <a:lnTo>
                    <a:pt x="224" y="838"/>
                  </a:lnTo>
                  <a:lnTo>
                    <a:pt x="256" y="922"/>
                  </a:lnTo>
                  <a:lnTo>
                    <a:pt x="292" y="1010"/>
                  </a:lnTo>
                  <a:lnTo>
                    <a:pt x="330" y="1100"/>
                  </a:lnTo>
                  <a:lnTo>
                    <a:pt x="370" y="1190"/>
                  </a:lnTo>
                  <a:lnTo>
                    <a:pt x="414" y="1284"/>
                  </a:lnTo>
                  <a:lnTo>
                    <a:pt x="462" y="1378"/>
                  </a:lnTo>
                  <a:lnTo>
                    <a:pt x="512" y="1472"/>
                  </a:lnTo>
                  <a:lnTo>
                    <a:pt x="566" y="1568"/>
                  </a:lnTo>
                  <a:lnTo>
                    <a:pt x="624" y="1662"/>
                  </a:lnTo>
                  <a:lnTo>
                    <a:pt x="684" y="1758"/>
                  </a:lnTo>
                  <a:lnTo>
                    <a:pt x="748" y="1852"/>
                  </a:lnTo>
                  <a:lnTo>
                    <a:pt x="816" y="1946"/>
                  </a:lnTo>
                  <a:lnTo>
                    <a:pt x="888" y="2038"/>
                  </a:lnTo>
                  <a:lnTo>
                    <a:pt x="964" y="2130"/>
                  </a:lnTo>
                  <a:lnTo>
                    <a:pt x="1044" y="2220"/>
                  </a:lnTo>
                  <a:lnTo>
                    <a:pt x="1128" y="2306"/>
                  </a:lnTo>
                  <a:lnTo>
                    <a:pt x="1172" y="2350"/>
                  </a:lnTo>
                  <a:lnTo>
                    <a:pt x="1216" y="2392"/>
                  </a:lnTo>
                  <a:lnTo>
                    <a:pt x="1216" y="2392"/>
                  </a:lnTo>
                  <a:lnTo>
                    <a:pt x="1216" y="2392"/>
                  </a:lnTo>
                  <a:lnTo>
                    <a:pt x="1262" y="2432"/>
                  </a:lnTo>
                  <a:lnTo>
                    <a:pt x="1308" y="2472"/>
                  </a:lnTo>
                  <a:lnTo>
                    <a:pt x="1400" y="2548"/>
                  </a:lnTo>
                  <a:lnTo>
                    <a:pt x="1494" y="2620"/>
                  </a:lnTo>
                  <a:lnTo>
                    <a:pt x="1590" y="2688"/>
                  </a:lnTo>
                  <a:lnTo>
                    <a:pt x="1686" y="2750"/>
                  </a:lnTo>
                  <a:lnTo>
                    <a:pt x="1784" y="2808"/>
                  </a:lnTo>
                  <a:lnTo>
                    <a:pt x="1880" y="2864"/>
                  </a:lnTo>
                  <a:lnTo>
                    <a:pt x="1978" y="2914"/>
                  </a:lnTo>
                  <a:lnTo>
                    <a:pt x="2074" y="2960"/>
                  </a:lnTo>
                  <a:lnTo>
                    <a:pt x="2170" y="3004"/>
                  </a:lnTo>
                  <a:lnTo>
                    <a:pt x="2266" y="3044"/>
                  </a:lnTo>
                  <a:lnTo>
                    <a:pt x="2360" y="3080"/>
                  </a:lnTo>
                  <a:lnTo>
                    <a:pt x="2452" y="3114"/>
                  </a:lnTo>
                  <a:lnTo>
                    <a:pt x="2544" y="3144"/>
                  </a:lnTo>
                  <a:lnTo>
                    <a:pt x="2632" y="3172"/>
                  </a:lnTo>
                  <a:lnTo>
                    <a:pt x="2718" y="3196"/>
                  </a:lnTo>
                  <a:lnTo>
                    <a:pt x="2802" y="3218"/>
                  </a:lnTo>
                  <a:lnTo>
                    <a:pt x="2884" y="3238"/>
                  </a:lnTo>
                  <a:lnTo>
                    <a:pt x="2960" y="3254"/>
                  </a:lnTo>
                  <a:lnTo>
                    <a:pt x="3034" y="3270"/>
                  </a:lnTo>
                  <a:lnTo>
                    <a:pt x="3170" y="3294"/>
                  </a:lnTo>
                  <a:lnTo>
                    <a:pt x="3288" y="3312"/>
                  </a:lnTo>
                  <a:lnTo>
                    <a:pt x="3388" y="3324"/>
                  </a:lnTo>
                  <a:lnTo>
                    <a:pt x="3464" y="3330"/>
                  </a:lnTo>
                  <a:lnTo>
                    <a:pt x="3540" y="3334"/>
                  </a:lnTo>
                  <a:lnTo>
                    <a:pt x="3620" y="3336"/>
                  </a:lnTo>
                  <a:lnTo>
                    <a:pt x="3606" y="3258"/>
                  </a:lnTo>
                  <a:lnTo>
                    <a:pt x="3606" y="3258"/>
                  </a:lnTo>
                  <a:lnTo>
                    <a:pt x="3592" y="3178"/>
                  </a:lnTo>
                  <a:lnTo>
                    <a:pt x="3574" y="3100"/>
                  </a:lnTo>
                  <a:lnTo>
                    <a:pt x="3550" y="2998"/>
                  </a:lnTo>
                  <a:lnTo>
                    <a:pt x="3516" y="2876"/>
                  </a:lnTo>
                  <a:lnTo>
                    <a:pt x="3476" y="2736"/>
                  </a:lnTo>
                  <a:lnTo>
                    <a:pt x="3450" y="2660"/>
                  </a:lnTo>
                  <a:lnTo>
                    <a:pt x="3424" y="2580"/>
                  </a:lnTo>
                  <a:lnTo>
                    <a:pt x="3394" y="2498"/>
                  </a:lnTo>
                  <a:lnTo>
                    <a:pt x="3362" y="2414"/>
                  </a:lnTo>
                  <a:lnTo>
                    <a:pt x="3326" y="2326"/>
                  </a:lnTo>
                  <a:lnTo>
                    <a:pt x="3288" y="2236"/>
                  </a:lnTo>
                  <a:lnTo>
                    <a:pt x="3248" y="2146"/>
                  </a:lnTo>
                  <a:lnTo>
                    <a:pt x="3204" y="2052"/>
                  </a:lnTo>
                  <a:lnTo>
                    <a:pt x="3156" y="1958"/>
                  </a:lnTo>
                  <a:lnTo>
                    <a:pt x="3106" y="1864"/>
                  </a:lnTo>
                  <a:lnTo>
                    <a:pt x="3052" y="1768"/>
                  </a:lnTo>
                  <a:lnTo>
                    <a:pt x="2996" y="1674"/>
                  </a:lnTo>
                  <a:lnTo>
                    <a:pt x="2934" y="1578"/>
                  </a:lnTo>
                  <a:lnTo>
                    <a:pt x="2870" y="1484"/>
                  </a:lnTo>
                  <a:lnTo>
                    <a:pt x="2802" y="1390"/>
                  </a:lnTo>
                  <a:lnTo>
                    <a:pt x="2730" y="1298"/>
                  </a:lnTo>
                  <a:lnTo>
                    <a:pt x="2654" y="1206"/>
                  </a:lnTo>
                  <a:lnTo>
                    <a:pt x="2574" y="1116"/>
                  </a:lnTo>
                  <a:lnTo>
                    <a:pt x="2490" y="1030"/>
                  </a:lnTo>
                  <a:lnTo>
                    <a:pt x="2448" y="986"/>
                  </a:lnTo>
                  <a:lnTo>
                    <a:pt x="2402" y="944"/>
                  </a:lnTo>
                  <a:lnTo>
                    <a:pt x="2402" y="944"/>
                  </a:lnTo>
                  <a:lnTo>
                    <a:pt x="2358" y="904"/>
                  </a:lnTo>
                  <a:lnTo>
                    <a:pt x="2312" y="864"/>
                  </a:lnTo>
                  <a:lnTo>
                    <a:pt x="2218" y="788"/>
                  </a:lnTo>
                  <a:lnTo>
                    <a:pt x="2124" y="716"/>
                  </a:lnTo>
                  <a:lnTo>
                    <a:pt x="2028" y="648"/>
                  </a:lnTo>
                  <a:lnTo>
                    <a:pt x="1932" y="586"/>
                  </a:lnTo>
                  <a:lnTo>
                    <a:pt x="1836" y="528"/>
                  </a:lnTo>
                  <a:lnTo>
                    <a:pt x="1738" y="472"/>
                  </a:lnTo>
                  <a:lnTo>
                    <a:pt x="1640" y="422"/>
                  </a:lnTo>
                  <a:lnTo>
                    <a:pt x="1544" y="376"/>
                  </a:lnTo>
                  <a:lnTo>
                    <a:pt x="1448" y="332"/>
                  </a:lnTo>
                  <a:lnTo>
                    <a:pt x="1352" y="292"/>
                  </a:lnTo>
                  <a:lnTo>
                    <a:pt x="1258" y="256"/>
                  </a:lnTo>
                  <a:lnTo>
                    <a:pt x="1166" y="222"/>
                  </a:lnTo>
                  <a:lnTo>
                    <a:pt x="1076" y="192"/>
                  </a:lnTo>
                  <a:lnTo>
                    <a:pt x="986" y="164"/>
                  </a:lnTo>
                  <a:lnTo>
                    <a:pt x="900" y="140"/>
                  </a:lnTo>
                  <a:lnTo>
                    <a:pt x="816" y="118"/>
                  </a:lnTo>
                  <a:lnTo>
                    <a:pt x="736" y="98"/>
                  </a:lnTo>
                  <a:lnTo>
                    <a:pt x="658" y="82"/>
                  </a:lnTo>
                  <a:lnTo>
                    <a:pt x="584" y="66"/>
                  </a:lnTo>
                  <a:lnTo>
                    <a:pt x="448" y="42"/>
                  </a:lnTo>
                  <a:lnTo>
                    <a:pt x="330" y="24"/>
                  </a:lnTo>
                  <a:lnTo>
                    <a:pt x="232" y="14"/>
                  </a:lnTo>
                  <a:lnTo>
                    <a:pt x="156" y="6"/>
                  </a:lnTo>
                  <a:lnTo>
                    <a:pt x="80" y="2"/>
                  </a:lnTo>
                  <a:lnTo>
                    <a:pt x="0" y="0"/>
                  </a:lnTo>
                  <a:lnTo>
                    <a:pt x="12" y="78"/>
                  </a:lnTo>
                  <a:close/>
                  <a:moveTo>
                    <a:pt x="1306" y="2294"/>
                  </a:moveTo>
                  <a:lnTo>
                    <a:pt x="1306" y="2294"/>
                  </a:lnTo>
                  <a:lnTo>
                    <a:pt x="1306" y="2294"/>
                  </a:lnTo>
                  <a:lnTo>
                    <a:pt x="1232" y="2224"/>
                  </a:lnTo>
                  <a:lnTo>
                    <a:pt x="1162" y="2152"/>
                  </a:lnTo>
                  <a:lnTo>
                    <a:pt x="1094" y="2078"/>
                  </a:lnTo>
                  <a:lnTo>
                    <a:pt x="1030" y="2002"/>
                  </a:lnTo>
                  <a:lnTo>
                    <a:pt x="968" y="1926"/>
                  </a:lnTo>
                  <a:lnTo>
                    <a:pt x="908" y="1848"/>
                  </a:lnTo>
                  <a:lnTo>
                    <a:pt x="852" y="1770"/>
                  </a:lnTo>
                  <a:lnTo>
                    <a:pt x="798" y="1690"/>
                  </a:lnTo>
                  <a:lnTo>
                    <a:pt x="746" y="1610"/>
                  </a:lnTo>
                  <a:lnTo>
                    <a:pt x="698" y="1530"/>
                  </a:lnTo>
                  <a:lnTo>
                    <a:pt x="652" y="1450"/>
                  </a:lnTo>
                  <a:lnTo>
                    <a:pt x="608" y="1368"/>
                  </a:lnTo>
                  <a:lnTo>
                    <a:pt x="566" y="1290"/>
                  </a:lnTo>
                  <a:lnTo>
                    <a:pt x="528" y="1210"/>
                  </a:lnTo>
                  <a:lnTo>
                    <a:pt x="492" y="1132"/>
                  </a:lnTo>
                  <a:lnTo>
                    <a:pt x="456" y="1054"/>
                  </a:lnTo>
                  <a:lnTo>
                    <a:pt x="424" y="978"/>
                  </a:lnTo>
                  <a:lnTo>
                    <a:pt x="394" y="904"/>
                  </a:lnTo>
                  <a:lnTo>
                    <a:pt x="366" y="832"/>
                  </a:lnTo>
                  <a:lnTo>
                    <a:pt x="340" y="760"/>
                  </a:lnTo>
                  <a:lnTo>
                    <a:pt x="292" y="626"/>
                  </a:lnTo>
                  <a:lnTo>
                    <a:pt x="252" y="500"/>
                  </a:lnTo>
                  <a:lnTo>
                    <a:pt x="220" y="388"/>
                  </a:lnTo>
                  <a:lnTo>
                    <a:pt x="194" y="288"/>
                  </a:lnTo>
                  <a:lnTo>
                    <a:pt x="172" y="20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222" y="146"/>
                  </a:lnTo>
                  <a:lnTo>
                    <a:pt x="304" y="156"/>
                  </a:lnTo>
                  <a:lnTo>
                    <a:pt x="400" y="168"/>
                  </a:lnTo>
                  <a:lnTo>
                    <a:pt x="510" y="188"/>
                  </a:lnTo>
                  <a:lnTo>
                    <a:pt x="630" y="212"/>
                  </a:lnTo>
                  <a:lnTo>
                    <a:pt x="762" y="242"/>
                  </a:lnTo>
                  <a:lnTo>
                    <a:pt x="832" y="260"/>
                  </a:lnTo>
                  <a:lnTo>
                    <a:pt x="902" y="280"/>
                  </a:lnTo>
                  <a:lnTo>
                    <a:pt x="976" y="302"/>
                  </a:lnTo>
                  <a:lnTo>
                    <a:pt x="1050" y="324"/>
                  </a:lnTo>
                  <a:lnTo>
                    <a:pt x="1126" y="350"/>
                  </a:lnTo>
                  <a:lnTo>
                    <a:pt x="1204" y="378"/>
                  </a:lnTo>
                  <a:lnTo>
                    <a:pt x="1282" y="408"/>
                  </a:lnTo>
                  <a:lnTo>
                    <a:pt x="1362" y="440"/>
                  </a:lnTo>
                  <a:lnTo>
                    <a:pt x="1442" y="476"/>
                  </a:lnTo>
                  <a:lnTo>
                    <a:pt x="1522" y="512"/>
                  </a:lnTo>
                  <a:lnTo>
                    <a:pt x="1604" y="552"/>
                  </a:lnTo>
                  <a:lnTo>
                    <a:pt x="1684" y="594"/>
                  </a:lnTo>
                  <a:lnTo>
                    <a:pt x="1764" y="640"/>
                  </a:lnTo>
                  <a:lnTo>
                    <a:pt x="1846" y="688"/>
                  </a:lnTo>
                  <a:lnTo>
                    <a:pt x="1926" y="738"/>
                  </a:lnTo>
                  <a:lnTo>
                    <a:pt x="2006" y="794"/>
                  </a:lnTo>
                  <a:lnTo>
                    <a:pt x="2084" y="850"/>
                  </a:lnTo>
                  <a:lnTo>
                    <a:pt x="2162" y="910"/>
                  </a:lnTo>
                  <a:lnTo>
                    <a:pt x="2238" y="974"/>
                  </a:lnTo>
                  <a:lnTo>
                    <a:pt x="2314" y="1042"/>
                  </a:lnTo>
                  <a:lnTo>
                    <a:pt x="2314" y="1042"/>
                  </a:lnTo>
                  <a:lnTo>
                    <a:pt x="2386" y="1112"/>
                  </a:lnTo>
                  <a:lnTo>
                    <a:pt x="2458" y="1184"/>
                  </a:lnTo>
                  <a:lnTo>
                    <a:pt x="2524" y="1258"/>
                  </a:lnTo>
                  <a:lnTo>
                    <a:pt x="2590" y="1334"/>
                  </a:lnTo>
                  <a:lnTo>
                    <a:pt x="2652" y="1410"/>
                  </a:lnTo>
                  <a:lnTo>
                    <a:pt x="2710" y="1488"/>
                  </a:lnTo>
                  <a:lnTo>
                    <a:pt x="2766" y="1566"/>
                  </a:lnTo>
                  <a:lnTo>
                    <a:pt x="2820" y="1646"/>
                  </a:lnTo>
                  <a:lnTo>
                    <a:pt x="2872" y="1726"/>
                  </a:lnTo>
                  <a:lnTo>
                    <a:pt x="2920" y="1806"/>
                  </a:lnTo>
                  <a:lnTo>
                    <a:pt x="2966" y="1888"/>
                  </a:lnTo>
                  <a:lnTo>
                    <a:pt x="3010" y="1968"/>
                  </a:lnTo>
                  <a:lnTo>
                    <a:pt x="3052" y="2046"/>
                  </a:lnTo>
                  <a:lnTo>
                    <a:pt x="3090" y="2126"/>
                  </a:lnTo>
                  <a:lnTo>
                    <a:pt x="3128" y="2204"/>
                  </a:lnTo>
                  <a:lnTo>
                    <a:pt x="3162" y="2282"/>
                  </a:lnTo>
                  <a:lnTo>
                    <a:pt x="3194" y="2358"/>
                  </a:lnTo>
                  <a:lnTo>
                    <a:pt x="3226" y="2432"/>
                  </a:lnTo>
                  <a:lnTo>
                    <a:pt x="3254" y="2504"/>
                  </a:lnTo>
                  <a:lnTo>
                    <a:pt x="3280" y="2576"/>
                  </a:lnTo>
                  <a:lnTo>
                    <a:pt x="3326" y="2710"/>
                  </a:lnTo>
                  <a:lnTo>
                    <a:pt x="3366" y="2836"/>
                  </a:lnTo>
                  <a:lnTo>
                    <a:pt x="3400" y="2948"/>
                  </a:lnTo>
                  <a:lnTo>
                    <a:pt x="3426" y="3048"/>
                  </a:lnTo>
                  <a:lnTo>
                    <a:pt x="3446" y="3130"/>
                  </a:lnTo>
                  <a:lnTo>
                    <a:pt x="3460" y="3198"/>
                  </a:lnTo>
                  <a:lnTo>
                    <a:pt x="3460" y="3198"/>
                  </a:lnTo>
                  <a:lnTo>
                    <a:pt x="3396" y="3192"/>
                  </a:lnTo>
                  <a:lnTo>
                    <a:pt x="3314" y="3182"/>
                  </a:lnTo>
                  <a:lnTo>
                    <a:pt x="3218" y="3168"/>
                  </a:lnTo>
                  <a:lnTo>
                    <a:pt x="3110" y="3148"/>
                  </a:lnTo>
                  <a:lnTo>
                    <a:pt x="2988" y="3124"/>
                  </a:lnTo>
                  <a:lnTo>
                    <a:pt x="2856" y="3094"/>
                  </a:lnTo>
                  <a:lnTo>
                    <a:pt x="2788" y="3076"/>
                  </a:lnTo>
                  <a:lnTo>
                    <a:pt x="2716" y="3056"/>
                  </a:lnTo>
                  <a:lnTo>
                    <a:pt x="2644" y="3034"/>
                  </a:lnTo>
                  <a:lnTo>
                    <a:pt x="2568" y="3012"/>
                  </a:lnTo>
                  <a:lnTo>
                    <a:pt x="2492" y="2986"/>
                  </a:lnTo>
                  <a:lnTo>
                    <a:pt x="2416" y="2958"/>
                  </a:lnTo>
                  <a:lnTo>
                    <a:pt x="2336" y="2928"/>
                  </a:lnTo>
                  <a:lnTo>
                    <a:pt x="2258" y="2896"/>
                  </a:lnTo>
                  <a:lnTo>
                    <a:pt x="2178" y="2862"/>
                  </a:lnTo>
                  <a:lnTo>
                    <a:pt x="2096" y="2824"/>
                  </a:lnTo>
                  <a:lnTo>
                    <a:pt x="2016" y="2784"/>
                  </a:lnTo>
                  <a:lnTo>
                    <a:pt x="1934" y="2742"/>
                  </a:lnTo>
                  <a:lnTo>
                    <a:pt x="1854" y="2696"/>
                  </a:lnTo>
                  <a:lnTo>
                    <a:pt x="1774" y="2648"/>
                  </a:lnTo>
                  <a:lnTo>
                    <a:pt x="1692" y="2598"/>
                  </a:lnTo>
                  <a:lnTo>
                    <a:pt x="1614" y="2544"/>
                  </a:lnTo>
                  <a:lnTo>
                    <a:pt x="1534" y="2486"/>
                  </a:lnTo>
                  <a:lnTo>
                    <a:pt x="1456" y="2426"/>
                  </a:lnTo>
                  <a:lnTo>
                    <a:pt x="1380" y="2362"/>
                  </a:lnTo>
                  <a:lnTo>
                    <a:pt x="1306" y="2294"/>
                  </a:lnTo>
                  <a:lnTo>
                    <a:pt x="1306" y="2294"/>
                  </a:lnTo>
                  <a:close/>
                </a:path>
              </a:pathLst>
            </a:custGeom>
            <a:solidFill>
              <a:srgbClr val="f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2657520" y="2330280"/>
              <a:ext cx="5540400" cy="2178000"/>
            </a:xfrm>
            <a:custGeom>
              <a:avLst/>
              <a:gdLst>
                <a:gd name="textAreaLeft" fmla="*/ 0 w 5540400"/>
                <a:gd name="textAreaRight" fmla="*/ 5540760 w 5540400"/>
                <a:gd name="textAreaTop" fmla="*/ 0 h 2178000"/>
                <a:gd name="textAreaBottom" fmla="*/ 2178360 h 2178000"/>
              </a:gdLst>
              <a:ahLst/>
              <a:rect l="textAreaLeft" t="textAreaTop" r="textAreaRight" b="textAreaBottom"/>
              <a:pathLst>
                <a:path w="3490" h="1372">
                  <a:moveTo>
                    <a:pt x="1790" y="1366"/>
                  </a:moveTo>
                  <a:lnTo>
                    <a:pt x="1790" y="1366"/>
                  </a:lnTo>
                  <a:lnTo>
                    <a:pt x="1700" y="1372"/>
                  </a:lnTo>
                  <a:lnTo>
                    <a:pt x="1610" y="1372"/>
                  </a:lnTo>
                  <a:lnTo>
                    <a:pt x="1522" y="1370"/>
                  </a:lnTo>
                  <a:lnTo>
                    <a:pt x="1436" y="1364"/>
                  </a:lnTo>
                  <a:lnTo>
                    <a:pt x="1350" y="1354"/>
                  </a:lnTo>
                  <a:lnTo>
                    <a:pt x="1266" y="1344"/>
                  </a:lnTo>
                  <a:lnTo>
                    <a:pt x="1184" y="1328"/>
                  </a:lnTo>
                  <a:lnTo>
                    <a:pt x="1104" y="1312"/>
                  </a:lnTo>
                  <a:lnTo>
                    <a:pt x="1024" y="1292"/>
                  </a:lnTo>
                  <a:lnTo>
                    <a:pt x="948" y="1272"/>
                  </a:lnTo>
                  <a:lnTo>
                    <a:pt x="872" y="1250"/>
                  </a:lnTo>
                  <a:lnTo>
                    <a:pt x="800" y="1226"/>
                  </a:lnTo>
                  <a:lnTo>
                    <a:pt x="730" y="1200"/>
                  </a:lnTo>
                  <a:lnTo>
                    <a:pt x="662" y="1174"/>
                  </a:lnTo>
                  <a:lnTo>
                    <a:pt x="596" y="1148"/>
                  </a:lnTo>
                  <a:lnTo>
                    <a:pt x="532" y="1120"/>
                  </a:lnTo>
                  <a:lnTo>
                    <a:pt x="474" y="1092"/>
                  </a:lnTo>
                  <a:lnTo>
                    <a:pt x="416" y="1066"/>
                  </a:lnTo>
                  <a:lnTo>
                    <a:pt x="312" y="1012"/>
                  </a:lnTo>
                  <a:lnTo>
                    <a:pt x="220" y="960"/>
                  </a:lnTo>
                  <a:lnTo>
                    <a:pt x="144" y="916"/>
                  </a:lnTo>
                  <a:lnTo>
                    <a:pt x="82" y="876"/>
                  </a:lnTo>
                  <a:lnTo>
                    <a:pt x="36" y="846"/>
                  </a:lnTo>
                  <a:lnTo>
                    <a:pt x="0" y="820"/>
                  </a:lnTo>
                  <a:lnTo>
                    <a:pt x="0" y="820"/>
                  </a:lnTo>
                  <a:lnTo>
                    <a:pt x="32" y="788"/>
                  </a:lnTo>
                  <a:lnTo>
                    <a:pt x="74" y="750"/>
                  </a:lnTo>
                  <a:lnTo>
                    <a:pt x="130" y="702"/>
                  </a:lnTo>
                  <a:lnTo>
                    <a:pt x="200" y="646"/>
                  </a:lnTo>
                  <a:lnTo>
                    <a:pt x="282" y="582"/>
                  </a:lnTo>
                  <a:lnTo>
                    <a:pt x="380" y="512"/>
                  </a:lnTo>
                  <a:lnTo>
                    <a:pt x="432" y="476"/>
                  </a:lnTo>
                  <a:lnTo>
                    <a:pt x="488" y="440"/>
                  </a:lnTo>
                  <a:lnTo>
                    <a:pt x="546" y="404"/>
                  </a:lnTo>
                  <a:lnTo>
                    <a:pt x="608" y="368"/>
                  </a:lnTo>
                  <a:lnTo>
                    <a:pt x="670" y="332"/>
                  </a:lnTo>
                  <a:lnTo>
                    <a:pt x="738" y="296"/>
                  </a:lnTo>
                  <a:lnTo>
                    <a:pt x="806" y="262"/>
                  </a:lnTo>
                  <a:lnTo>
                    <a:pt x="878" y="228"/>
                  </a:lnTo>
                  <a:lnTo>
                    <a:pt x="950" y="196"/>
                  </a:lnTo>
                  <a:lnTo>
                    <a:pt x="1026" y="164"/>
                  </a:lnTo>
                  <a:lnTo>
                    <a:pt x="1104" y="136"/>
                  </a:lnTo>
                  <a:lnTo>
                    <a:pt x="1184" y="108"/>
                  </a:lnTo>
                  <a:lnTo>
                    <a:pt x="1266" y="84"/>
                  </a:lnTo>
                  <a:lnTo>
                    <a:pt x="1348" y="62"/>
                  </a:lnTo>
                  <a:lnTo>
                    <a:pt x="1434" y="44"/>
                  </a:lnTo>
                  <a:lnTo>
                    <a:pt x="1520" y="28"/>
                  </a:lnTo>
                  <a:lnTo>
                    <a:pt x="1608" y="16"/>
                  </a:lnTo>
                  <a:lnTo>
                    <a:pt x="1698" y="6"/>
                  </a:lnTo>
                  <a:lnTo>
                    <a:pt x="1698" y="6"/>
                  </a:lnTo>
                  <a:lnTo>
                    <a:pt x="1788" y="2"/>
                  </a:lnTo>
                  <a:lnTo>
                    <a:pt x="1878" y="0"/>
                  </a:lnTo>
                  <a:lnTo>
                    <a:pt x="1966" y="4"/>
                  </a:lnTo>
                  <a:lnTo>
                    <a:pt x="2052" y="8"/>
                  </a:lnTo>
                  <a:lnTo>
                    <a:pt x="2138" y="18"/>
                  </a:lnTo>
                  <a:lnTo>
                    <a:pt x="2222" y="30"/>
                  </a:lnTo>
                  <a:lnTo>
                    <a:pt x="2304" y="44"/>
                  </a:lnTo>
                  <a:lnTo>
                    <a:pt x="2384" y="62"/>
                  </a:lnTo>
                  <a:lnTo>
                    <a:pt x="2464" y="80"/>
                  </a:lnTo>
                  <a:lnTo>
                    <a:pt x="2540" y="100"/>
                  </a:lnTo>
                  <a:lnTo>
                    <a:pt x="2616" y="124"/>
                  </a:lnTo>
                  <a:lnTo>
                    <a:pt x="2688" y="148"/>
                  </a:lnTo>
                  <a:lnTo>
                    <a:pt x="2758" y="172"/>
                  </a:lnTo>
                  <a:lnTo>
                    <a:pt x="2826" y="198"/>
                  </a:lnTo>
                  <a:lnTo>
                    <a:pt x="2892" y="226"/>
                  </a:lnTo>
                  <a:lnTo>
                    <a:pt x="2956" y="252"/>
                  </a:lnTo>
                  <a:lnTo>
                    <a:pt x="3016" y="280"/>
                  </a:lnTo>
                  <a:lnTo>
                    <a:pt x="3072" y="308"/>
                  </a:lnTo>
                  <a:lnTo>
                    <a:pt x="3176" y="362"/>
                  </a:lnTo>
                  <a:lnTo>
                    <a:pt x="3268" y="412"/>
                  </a:lnTo>
                  <a:lnTo>
                    <a:pt x="3344" y="458"/>
                  </a:lnTo>
                  <a:lnTo>
                    <a:pt x="3406" y="496"/>
                  </a:lnTo>
                  <a:lnTo>
                    <a:pt x="3452" y="528"/>
                  </a:lnTo>
                  <a:lnTo>
                    <a:pt x="3490" y="554"/>
                  </a:lnTo>
                  <a:lnTo>
                    <a:pt x="3490" y="554"/>
                  </a:lnTo>
                  <a:lnTo>
                    <a:pt x="3456" y="586"/>
                  </a:lnTo>
                  <a:lnTo>
                    <a:pt x="3414" y="622"/>
                  </a:lnTo>
                  <a:lnTo>
                    <a:pt x="3360" y="670"/>
                  </a:lnTo>
                  <a:lnTo>
                    <a:pt x="3288" y="728"/>
                  </a:lnTo>
                  <a:lnTo>
                    <a:pt x="3206" y="792"/>
                  </a:lnTo>
                  <a:lnTo>
                    <a:pt x="3110" y="860"/>
                  </a:lnTo>
                  <a:lnTo>
                    <a:pt x="3056" y="896"/>
                  </a:lnTo>
                  <a:lnTo>
                    <a:pt x="3000" y="932"/>
                  </a:lnTo>
                  <a:lnTo>
                    <a:pt x="2942" y="968"/>
                  </a:lnTo>
                  <a:lnTo>
                    <a:pt x="2882" y="1006"/>
                  </a:lnTo>
                  <a:lnTo>
                    <a:pt x="2818" y="1042"/>
                  </a:lnTo>
                  <a:lnTo>
                    <a:pt x="2750" y="1076"/>
                  </a:lnTo>
                  <a:lnTo>
                    <a:pt x="2682" y="1112"/>
                  </a:lnTo>
                  <a:lnTo>
                    <a:pt x="2610" y="1146"/>
                  </a:lnTo>
                  <a:lnTo>
                    <a:pt x="2538" y="1178"/>
                  </a:lnTo>
                  <a:lnTo>
                    <a:pt x="2462" y="1208"/>
                  </a:lnTo>
                  <a:lnTo>
                    <a:pt x="2384" y="1238"/>
                  </a:lnTo>
                  <a:lnTo>
                    <a:pt x="2304" y="1264"/>
                  </a:lnTo>
                  <a:lnTo>
                    <a:pt x="2222" y="1288"/>
                  </a:lnTo>
                  <a:lnTo>
                    <a:pt x="2140" y="1310"/>
                  </a:lnTo>
                  <a:lnTo>
                    <a:pt x="2054" y="1330"/>
                  </a:lnTo>
                  <a:lnTo>
                    <a:pt x="1968" y="1346"/>
                  </a:lnTo>
                  <a:lnTo>
                    <a:pt x="1880" y="1358"/>
                  </a:lnTo>
                  <a:lnTo>
                    <a:pt x="1790" y="1366"/>
                  </a:lnTo>
                  <a:lnTo>
                    <a:pt x="1790" y="1366"/>
                  </a:lnTo>
                  <a:close/>
                </a:path>
              </a:pathLst>
            </a:custGeom>
            <a:solidFill>
              <a:srgbClr val="f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7"/>
            <p:cNvSpPr/>
            <p:nvPr/>
          </p:nvSpPr>
          <p:spPr>
            <a:xfrm>
              <a:off x="2498760" y="2225520"/>
              <a:ext cx="5854680" cy="2387520"/>
            </a:xfrm>
            <a:custGeom>
              <a:avLst/>
              <a:gdLst>
                <a:gd name="textAreaLeft" fmla="*/ 0 w 5854680"/>
                <a:gd name="textAreaRight" fmla="*/ 5855040 w 5854680"/>
                <a:gd name="textAreaTop" fmla="*/ 0 h 2387520"/>
                <a:gd name="textAreaBottom" fmla="*/ 2387880 h 2387520"/>
              </a:gdLst>
              <a:ahLst/>
              <a:rect l="textAreaLeft" t="textAreaTop" r="textAreaRight" b="textAreaBottom"/>
              <a:pathLst>
                <a:path w="3688" h="1504">
                  <a:moveTo>
                    <a:pt x="1794" y="8"/>
                  </a:moveTo>
                  <a:lnTo>
                    <a:pt x="1794" y="8"/>
                  </a:lnTo>
                  <a:lnTo>
                    <a:pt x="1702" y="16"/>
                  </a:lnTo>
                  <a:lnTo>
                    <a:pt x="1614" y="28"/>
                  </a:lnTo>
                  <a:lnTo>
                    <a:pt x="1526" y="44"/>
                  </a:lnTo>
                  <a:lnTo>
                    <a:pt x="1440" y="64"/>
                  </a:lnTo>
                  <a:lnTo>
                    <a:pt x="1356" y="84"/>
                  </a:lnTo>
                  <a:lnTo>
                    <a:pt x="1272" y="108"/>
                  </a:lnTo>
                  <a:lnTo>
                    <a:pt x="1192" y="136"/>
                  </a:lnTo>
                  <a:lnTo>
                    <a:pt x="1114" y="164"/>
                  </a:lnTo>
                  <a:lnTo>
                    <a:pt x="1038" y="194"/>
                  </a:lnTo>
                  <a:lnTo>
                    <a:pt x="964" y="226"/>
                  </a:lnTo>
                  <a:lnTo>
                    <a:pt x="892" y="260"/>
                  </a:lnTo>
                  <a:lnTo>
                    <a:pt x="822" y="294"/>
                  </a:lnTo>
                  <a:lnTo>
                    <a:pt x="754" y="330"/>
                  </a:lnTo>
                  <a:lnTo>
                    <a:pt x="690" y="366"/>
                  </a:lnTo>
                  <a:lnTo>
                    <a:pt x="628" y="402"/>
                  </a:lnTo>
                  <a:lnTo>
                    <a:pt x="568" y="440"/>
                  </a:lnTo>
                  <a:lnTo>
                    <a:pt x="512" y="476"/>
                  </a:lnTo>
                  <a:lnTo>
                    <a:pt x="458" y="512"/>
                  </a:lnTo>
                  <a:lnTo>
                    <a:pt x="360" y="582"/>
                  </a:lnTo>
                  <a:lnTo>
                    <a:pt x="274" y="648"/>
                  </a:lnTo>
                  <a:lnTo>
                    <a:pt x="200" y="706"/>
                  </a:lnTo>
                  <a:lnTo>
                    <a:pt x="142" y="758"/>
                  </a:lnTo>
                  <a:lnTo>
                    <a:pt x="96" y="798"/>
                  </a:lnTo>
                  <a:lnTo>
                    <a:pt x="52" y="838"/>
                  </a:lnTo>
                  <a:lnTo>
                    <a:pt x="0" y="892"/>
                  </a:lnTo>
                  <a:lnTo>
                    <a:pt x="60" y="938"/>
                  </a:lnTo>
                  <a:lnTo>
                    <a:pt x="60" y="938"/>
                  </a:lnTo>
                  <a:lnTo>
                    <a:pt x="108" y="972"/>
                  </a:lnTo>
                  <a:lnTo>
                    <a:pt x="158" y="1006"/>
                  </a:lnTo>
                  <a:lnTo>
                    <a:pt x="224" y="1046"/>
                  </a:lnTo>
                  <a:lnTo>
                    <a:pt x="304" y="1094"/>
                  </a:lnTo>
                  <a:lnTo>
                    <a:pt x="398" y="1146"/>
                  </a:lnTo>
                  <a:lnTo>
                    <a:pt x="504" y="1200"/>
                  </a:lnTo>
                  <a:lnTo>
                    <a:pt x="562" y="1228"/>
                  </a:lnTo>
                  <a:lnTo>
                    <a:pt x="624" y="1256"/>
                  </a:lnTo>
                  <a:lnTo>
                    <a:pt x="688" y="1282"/>
                  </a:lnTo>
                  <a:lnTo>
                    <a:pt x="754" y="1310"/>
                  </a:lnTo>
                  <a:lnTo>
                    <a:pt x="822" y="1336"/>
                  </a:lnTo>
                  <a:lnTo>
                    <a:pt x="894" y="1360"/>
                  </a:lnTo>
                  <a:lnTo>
                    <a:pt x="968" y="1384"/>
                  </a:lnTo>
                  <a:lnTo>
                    <a:pt x="1042" y="1406"/>
                  </a:lnTo>
                  <a:lnTo>
                    <a:pt x="1120" y="1426"/>
                  </a:lnTo>
                  <a:lnTo>
                    <a:pt x="1200" y="1446"/>
                  </a:lnTo>
                  <a:lnTo>
                    <a:pt x="1282" y="1462"/>
                  </a:lnTo>
                  <a:lnTo>
                    <a:pt x="1366" y="1476"/>
                  </a:lnTo>
                  <a:lnTo>
                    <a:pt x="1450" y="1488"/>
                  </a:lnTo>
                  <a:lnTo>
                    <a:pt x="1536" y="1496"/>
                  </a:lnTo>
                  <a:lnTo>
                    <a:pt x="1624" y="1502"/>
                  </a:lnTo>
                  <a:lnTo>
                    <a:pt x="1714" y="1504"/>
                  </a:lnTo>
                  <a:lnTo>
                    <a:pt x="1804" y="1502"/>
                  </a:lnTo>
                  <a:lnTo>
                    <a:pt x="1894" y="1498"/>
                  </a:lnTo>
                  <a:lnTo>
                    <a:pt x="1894" y="1498"/>
                  </a:lnTo>
                  <a:lnTo>
                    <a:pt x="1894" y="1498"/>
                  </a:lnTo>
                  <a:lnTo>
                    <a:pt x="1986" y="1488"/>
                  </a:lnTo>
                  <a:lnTo>
                    <a:pt x="2074" y="1476"/>
                  </a:lnTo>
                  <a:lnTo>
                    <a:pt x="2162" y="1460"/>
                  </a:lnTo>
                  <a:lnTo>
                    <a:pt x="2248" y="1442"/>
                  </a:lnTo>
                  <a:lnTo>
                    <a:pt x="2332" y="1420"/>
                  </a:lnTo>
                  <a:lnTo>
                    <a:pt x="2416" y="1396"/>
                  </a:lnTo>
                  <a:lnTo>
                    <a:pt x="2496" y="1370"/>
                  </a:lnTo>
                  <a:lnTo>
                    <a:pt x="2574" y="1340"/>
                  </a:lnTo>
                  <a:lnTo>
                    <a:pt x="2650" y="1310"/>
                  </a:lnTo>
                  <a:lnTo>
                    <a:pt x="2724" y="1278"/>
                  </a:lnTo>
                  <a:lnTo>
                    <a:pt x="2796" y="1244"/>
                  </a:lnTo>
                  <a:lnTo>
                    <a:pt x="2866" y="1210"/>
                  </a:lnTo>
                  <a:lnTo>
                    <a:pt x="2934" y="1174"/>
                  </a:lnTo>
                  <a:lnTo>
                    <a:pt x="2998" y="1138"/>
                  </a:lnTo>
                  <a:lnTo>
                    <a:pt x="3060" y="1102"/>
                  </a:lnTo>
                  <a:lnTo>
                    <a:pt x="3120" y="1066"/>
                  </a:lnTo>
                  <a:lnTo>
                    <a:pt x="3176" y="1030"/>
                  </a:lnTo>
                  <a:lnTo>
                    <a:pt x="3230" y="992"/>
                  </a:lnTo>
                  <a:lnTo>
                    <a:pt x="3328" y="922"/>
                  </a:lnTo>
                  <a:lnTo>
                    <a:pt x="3414" y="858"/>
                  </a:lnTo>
                  <a:lnTo>
                    <a:pt x="3488" y="798"/>
                  </a:lnTo>
                  <a:lnTo>
                    <a:pt x="3548" y="748"/>
                  </a:lnTo>
                  <a:lnTo>
                    <a:pt x="3592" y="708"/>
                  </a:lnTo>
                  <a:lnTo>
                    <a:pt x="3636" y="666"/>
                  </a:lnTo>
                  <a:lnTo>
                    <a:pt x="3688" y="612"/>
                  </a:lnTo>
                  <a:lnTo>
                    <a:pt x="3628" y="568"/>
                  </a:lnTo>
                  <a:lnTo>
                    <a:pt x="3628" y="568"/>
                  </a:lnTo>
                  <a:lnTo>
                    <a:pt x="3580" y="532"/>
                  </a:lnTo>
                  <a:lnTo>
                    <a:pt x="3530" y="500"/>
                  </a:lnTo>
                  <a:lnTo>
                    <a:pt x="3464" y="458"/>
                  </a:lnTo>
                  <a:lnTo>
                    <a:pt x="3384" y="410"/>
                  </a:lnTo>
                  <a:lnTo>
                    <a:pt x="3290" y="358"/>
                  </a:lnTo>
                  <a:lnTo>
                    <a:pt x="3184" y="304"/>
                  </a:lnTo>
                  <a:lnTo>
                    <a:pt x="3126" y="276"/>
                  </a:lnTo>
                  <a:lnTo>
                    <a:pt x="3064" y="250"/>
                  </a:lnTo>
                  <a:lnTo>
                    <a:pt x="3000" y="222"/>
                  </a:lnTo>
                  <a:lnTo>
                    <a:pt x="2934" y="196"/>
                  </a:lnTo>
                  <a:lnTo>
                    <a:pt x="2866" y="170"/>
                  </a:lnTo>
                  <a:lnTo>
                    <a:pt x="2794" y="144"/>
                  </a:lnTo>
                  <a:lnTo>
                    <a:pt x="2720" y="122"/>
                  </a:lnTo>
                  <a:lnTo>
                    <a:pt x="2646" y="98"/>
                  </a:lnTo>
                  <a:lnTo>
                    <a:pt x="2568" y="78"/>
                  </a:lnTo>
                  <a:lnTo>
                    <a:pt x="2488" y="60"/>
                  </a:lnTo>
                  <a:lnTo>
                    <a:pt x="2406" y="44"/>
                  </a:lnTo>
                  <a:lnTo>
                    <a:pt x="2322" y="28"/>
                  </a:lnTo>
                  <a:lnTo>
                    <a:pt x="2238" y="18"/>
                  </a:lnTo>
                  <a:lnTo>
                    <a:pt x="2152" y="8"/>
                  </a:lnTo>
                  <a:lnTo>
                    <a:pt x="2064" y="4"/>
                  </a:lnTo>
                  <a:lnTo>
                    <a:pt x="1974" y="0"/>
                  </a:lnTo>
                  <a:lnTo>
                    <a:pt x="1884" y="2"/>
                  </a:lnTo>
                  <a:lnTo>
                    <a:pt x="1794" y="8"/>
                  </a:lnTo>
                  <a:lnTo>
                    <a:pt x="1794" y="8"/>
                  </a:lnTo>
                  <a:close/>
                  <a:moveTo>
                    <a:pt x="1804" y="138"/>
                  </a:moveTo>
                  <a:lnTo>
                    <a:pt x="1804" y="138"/>
                  </a:lnTo>
                  <a:lnTo>
                    <a:pt x="1876" y="134"/>
                  </a:lnTo>
                  <a:lnTo>
                    <a:pt x="1948" y="132"/>
                  </a:lnTo>
                  <a:lnTo>
                    <a:pt x="2020" y="132"/>
                  </a:lnTo>
                  <a:lnTo>
                    <a:pt x="2092" y="136"/>
                  </a:lnTo>
                  <a:lnTo>
                    <a:pt x="2162" y="142"/>
                  </a:lnTo>
                  <a:lnTo>
                    <a:pt x="2232" y="150"/>
                  </a:lnTo>
                  <a:lnTo>
                    <a:pt x="2300" y="158"/>
                  </a:lnTo>
                  <a:lnTo>
                    <a:pt x="2368" y="170"/>
                  </a:lnTo>
                  <a:lnTo>
                    <a:pt x="2434" y="184"/>
                  </a:lnTo>
                  <a:lnTo>
                    <a:pt x="2498" y="198"/>
                  </a:lnTo>
                  <a:lnTo>
                    <a:pt x="2562" y="214"/>
                  </a:lnTo>
                  <a:lnTo>
                    <a:pt x="2626" y="230"/>
                  </a:lnTo>
                  <a:lnTo>
                    <a:pt x="2686" y="250"/>
                  </a:lnTo>
                  <a:lnTo>
                    <a:pt x="2746" y="268"/>
                  </a:lnTo>
                  <a:lnTo>
                    <a:pt x="2804" y="288"/>
                  </a:lnTo>
                  <a:lnTo>
                    <a:pt x="2860" y="310"/>
                  </a:lnTo>
                  <a:lnTo>
                    <a:pt x="2968" y="352"/>
                  </a:lnTo>
                  <a:lnTo>
                    <a:pt x="3068" y="398"/>
                  </a:lnTo>
                  <a:lnTo>
                    <a:pt x="3162" y="442"/>
                  </a:lnTo>
                  <a:lnTo>
                    <a:pt x="3244" y="486"/>
                  </a:lnTo>
                  <a:lnTo>
                    <a:pt x="3320" y="526"/>
                  </a:lnTo>
                  <a:lnTo>
                    <a:pt x="3384" y="564"/>
                  </a:lnTo>
                  <a:lnTo>
                    <a:pt x="3440" y="598"/>
                  </a:lnTo>
                  <a:lnTo>
                    <a:pt x="3484" y="628"/>
                  </a:lnTo>
                  <a:lnTo>
                    <a:pt x="3484" y="628"/>
                  </a:lnTo>
                  <a:lnTo>
                    <a:pt x="3444" y="662"/>
                  </a:lnTo>
                  <a:lnTo>
                    <a:pt x="3394" y="704"/>
                  </a:lnTo>
                  <a:lnTo>
                    <a:pt x="3334" y="752"/>
                  </a:lnTo>
                  <a:lnTo>
                    <a:pt x="3266" y="804"/>
                  </a:lnTo>
                  <a:lnTo>
                    <a:pt x="3188" y="860"/>
                  </a:lnTo>
                  <a:lnTo>
                    <a:pt x="3104" y="918"/>
                  </a:lnTo>
                  <a:lnTo>
                    <a:pt x="3010" y="978"/>
                  </a:lnTo>
                  <a:lnTo>
                    <a:pt x="2908" y="1036"/>
                  </a:lnTo>
                  <a:lnTo>
                    <a:pt x="2856" y="1066"/>
                  </a:lnTo>
                  <a:lnTo>
                    <a:pt x="2800" y="1094"/>
                  </a:lnTo>
                  <a:lnTo>
                    <a:pt x="2744" y="1122"/>
                  </a:lnTo>
                  <a:lnTo>
                    <a:pt x="2686" y="1150"/>
                  </a:lnTo>
                  <a:lnTo>
                    <a:pt x="2626" y="1176"/>
                  </a:lnTo>
                  <a:lnTo>
                    <a:pt x="2566" y="1202"/>
                  </a:lnTo>
                  <a:lnTo>
                    <a:pt x="2502" y="1226"/>
                  </a:lnTo>
                  <a:lnTo>
                    <a:pt x="2438" y="1250"/>
                  </a:lnTo>
                  <a:lnTo>
                    <a:pt x="2374" y="1270"/>
                  </a:lnTo>
                  <a:lnTo>
                    <a:pt x="2308" y="1290"/>
                  </a:lnTo>
                  <a:lnTo>
                    <a:pt x="2240" y="1308"/>
                  </a:lnTo>
                  <a:lnTo>
                    <a:pt x="2170" y="1324"/>
                  </a:lnTo>
                  <a:lnTo>
                    <a:pt x="2100" y="1338"/>
                  </a:lnTo>
                  <a:lnTo>
                    <a:pt x="2030" y="1350"/>
                  </a:lnTo>
                  <a:lnTo>
                    <a:pt x="1958" y="1360"/>
                  </a:lnTo>
                  <a:lnTo>
                    <a:pt x="1884" y="1366"/>
                  </a:lnTo>
                  <a:lnTo>
                    <a:pt x="1884" y="1366"/>
                  </a:lnTo>
                  <a:lnTo>
                    <a:pt x="1884" y="1366"/>
                  </a:lnTo>
                  <a:lnTo>
                    <a:pt x="1812" y="1372"/>
                  </a:lnTo>
                  <a:lnTo>
                    <a:pt x="1738" y="1372"/>
                  </a:lnTo>
                  <a:lnTo>
                    <a:pt x="1668" y="1372"/>
                  </a:lnTo>
                  <a:lnTo>
                    <a:pt x="1596" y="1368"/>
                  </a:lnTo>
                  <a:lnTo>
                    <a:pt x="1526" y="1364"/>
                  </a:lnTo>
                  <a:lnTo>
                    <a:pt x="1456" y="1356"/>
                  </a:lnTo>
                  <a:lnTo>
                    <a:pt x="1388" y="1346"/>
                  </a:lnTo>
                  <a:lnTo>
                    <a:pt x="1320" y="1334"/>
                  </a:lnTo>
                  <a:lnTo>
                    <a:pt x="1254" y="1322"/>
                  </a:lnTo>
                  <a:lnTo>
                    <a:pt x="1190" y="1308"/>
                  </a:lnTo>
                  <a:lnTo>
                    <a:pt x="1126" y="1292"/>
                  </a:lnTo>
                  <a:lnTo>
                    <a:pt x="1064" y="1274"/>
                  </a:lnTo>
                  <a:lnTo>
                    <a:pt x="1002" y="1256"/>
                  </a:lnTo>
                  <a:lnTo>
                    <a:pt x="942" y="1236"/>
                  </a:lnTo>
                  <a:lnTo>
                    <a:pt x="884" y="1216"/>
                  </a:lnTo>
                  <a:lnTo>
                    <a:pt x="828" y="1196"/>
                  </a:lnTo>
                  <a:lnTo>
                    <a:pt x="720" y="1152"/>
                  </a:lnTo>
                  <a:lnTo>
                    <a:pt x="620" y="1108"/>
                  </a:lnTo>
                  <a:lnTo>
                    <a:pt x="528" y="1064"/>
                  </a:lnTo>
                  <a:lnTo>
                    <a:pt x="444" y="1020"/>
                  </a:lnTo>
                  <a:lnTo>
                    <a:pt x="368" y="978"/>
                  </a:lnTo>
                  <a:lnTo>
                    <a:pt x="304" y="940"/>
                  </a:lnTo>
                  <a:lnTo>
                    <a:pt x="248" y="906"/>
                  </a:lnTo>
                  <a:lnTo>
                    <a:pt x="204" y="878"/>
                  </a:lnTo>
                  <a:lnTo>
                    <a:pt x="204" y="878"/>
                  </a:lnTo>
                  <a:lnTo>
                    <a:pt x="244" y="842"/>
                  </a:lnTo>
                  <a:lnTo>
                    <a:pt x="294" y="800"/>
                  </a:lnTo>
                  <a:lnTo>
                    <a:pt x="354" y="754"/>
                  </a:lnTo>
                  <a:lnTo>
                    <a:pt x="422" y="700"/>
                  </a:lnTo>
                  <a:lnTo>
                    <a:pt x="500" y="646"/>
                  </a:lnTo>
                  <a:lnTo>
                    <a:pt x="584" y="586"/>
                  </a:lnTo>
                  <a:lnTo>
                    <a:pt x="678" y="528"/>
                  </a:lnTo>
                  <a:lnTo>
                    <a:pt x="780" y="468"/>
                  </a:lnTo>
                  <a:lnTo>
                    <a:pt x="832" y="440"/>
                  </a:lnTo>
                  <a:lnTo>
                    <a:pt x="888" y="410"/>
                  </a:lnTo>
                  <a:lnTo>
                    <a:pt x="944" y="382"/>
                  </a:lnTo>
                  <a:lnTo>
                    <a:pt x="1002" y="354"/>
                  </a:lnTo>
                  <a:lnTo>
                    <a:pt x="1062" y="328"/>
                  </a:lnTo>
                  <a:lnTo>
                    <a:pt x="1122" y="302"/>
                  </a:lnTo>
                  <a:lnTo>
                    <a:pt x="1186" y="278"/>
                  </a:lnTo>
                  <a:lnTo>
                    <a:pt x="1250" y="256"/>
                  </a:lnTo>
                  <a:lnTo>
                    <a:pt x="1314" y="234"/>
                  </a:lnTo>
                  <a:lnTo>
                    <a:pt x="1382" y="214"/>
                  </a:lnTo>
                  <a:lnTo>
                    <a:pt x="1448" y="196"/>
                  </a:lnTo>
                  <a:lnTo>
                    <a:pt x="1518" y="180"/>
                  </a:lnTo>
                  <a:lnTo>
                    <a:pt x="1588" y="166"/>
                  </a:lnTo>
                  <a:lnTo>
                    <a:pt x="1658" y="154"/>
                  </a:lnTo>
                  <a:lnTo>
                    <a:pt x="1730" y="144"/>
                  </a:lnTo>
                  <a:lnTo>
                    <a:pt x="1804" y="138"/>
                  </a:lnTo>
                  <a:lnTo>
                    <a:pt x="1804" y="138"/>
                  </a:lnTo>
                  <a:close/>
                </a:path>
              </a:pathLst>
            </a:custGeom>
            <a:solidFill>
              <a:srgbClr val="f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8"/>
            <p:cNvSpPr/>
            <p:nvPr/>
          </p:nvSpPr>
          <p:spPr>
            <a:xfrm>
              <a:off x="2657520" y="742680"/>
              <a:ext cx="2346120" cy="2889000"/>
            </a:xfrm>
            <a:custGeom>
              <a:avLst/>
              <a:gdLst>
                <a:gd name="textAreaLeft" fmla="*/ 0 w 2346120"/>
                <a:gd name="textAreaRight" fmla="*/ 2346480 w 2346120"/>
                <a:gd name="textAreaTop" fmla="*/ 0 h 2889000"/>
                <a:gd name="textAreaBottom" fmla="*/ 2889360 h 2889000"/>
              </a:gdLst>
              <a:ahLst/>
              <a:rect l="textAreaLeft" t="textAreaTop" r="textAreaRight" b="textAreaBottom"/>
              <a:pathLst>
                <a:path w="1478" h="1820">
                  <a:moveTo>
                    <a:pt x="1050" y="1198"/>
                  </a:moveTo>
                  <a:lnTo>
                    <a:pt x="1050" y="1198"/>
                  </a:lnTo>
                  <a:lnTo>
                    <a:pt x="1012" y="1244"/>
                  </a:lnTo>
                  <a:lnTo>
                    <a:pt x="972" y="1288"/>
                  </a:lnTo>
                  <a:lnTo>
                    <a:pt x="930" y="1330"/>
                  </a:lnTo>
                  <a:lnTo>
                    <a:pt x="888" y="1368"/>
                  </a:lnTo>
                  <a:lnTo>
                    <a:pt x="844" y="1406"/>
                  </a:lnTo>
                  <a:lnTo>
                    <a:pt x="802" y="1442"/>
                  </a:lnTo>
                  <a:lnTo>
                    <a:pt x="758" y="1476"/>
                  </a:lnTo>
                  <a:lnTo>
                    <a:pt x="714" y="1506"/>
                  </a:lnTo>
                  <a:lnTo>
                    <a:pt x="670" y="1536"/>
                  </a:lnTo>
                  <a:lnTo>
                    <a:pt x="626" y="1564"/>
                  </a:lnTo>
                  <a:lnTo>
                    <a:pt x="582" y="1590"/>
                  </a:lnTo>
                  <a:lnTo>
                    <a:pt x="538" y="1616"/>
                  </a:lnTo>
                  <a:lnTo>
                    <a:pt x="454" y="1660"/>
                  </a:lnTo>
                  <a:lnTo>
                    <a:pt x="372" y="1696"/>
                  </a:lnTo>
                  <a:lnTo>
                    <a:pt x="294" y="1728"/>
                  </a:lnTo>
                  <a:lnTo>
                    <a:pt x="224" y="1756"/>
                  </a:lnTo>
                  <a:lnTo>
                    <a:pt x="160" y="1776"/>
                  </a:lnTo>
                  <a:lnTo>
                    <a:pt x="106" y="1792"/>
                  </a:lnTo>
                  <a:lnTo>
                    <a:pt x="62" y="1804"/>
                  </a:lnTo>
                  <a:lnTo>
                    <a:pt x="28" y="1814"/>
                  </a:lnTo>
                  <a:lnTo>
                    <a:pt x="0" y="1820"/>
                  </a:lnTo>
                  <a:lnTo>
                    <a:pt x="0" y="1820"/>
                  </a:lnTo>
                  <a:lnTo>
                    <a:pt x="0" y="1788"/>
                  </a:lnTo>
                  <a:lnTo>
                    <a:pt x="8" y="1702"/>
                  </a:lnTo>
                  <a:lnTo>
                    <a:pt x="16" y="1642"/>
                  </a:lnTo>
                  <a:lnTo>
                    <a:pt x="26" y="1572"/>
                  </a:lnTo>
                  <a:lnTo>
                    <a:pt x="42" y="1494"/>
                  </a:lnTo>
                  <a:lnTo>
                    <a:pt x="60" y="1408"/>
                  </a:lnTo>
                  <a:lnTo>
                    <a:pt x="84" y="1318"/>
                  </a:lnTo>
                  <a:lnTo>
                    <a:pt x="112" y="1222"/>
                  </a:lnTo>
                  <a:lnTo>
                    <a:pt x="128" y="1172"/>
                  </a:lnTo>
                  <a:lnTo>
                    <a:pt x="146" y="1122"/>
                  </a:lnTo>
                  <a:lnTo>
                    <a:pt x="166" y="1072"/>
                  </a:lnTo>
                  <a:lnTo>
                    <a:pt x="188" y="1020"/>
                  </a:lnTo>
                  <a:lnTo>
                    <a:pt x="210" y="970"/>
                  </a:lnTo>
                  <a:lnTo>
                    <a:pt x="236" y="918"/>
                  </a:lnTo>
                  <a:lnTo>
                    <a:pt x="262" y="868"/>
                  </a:lnTo>
                  <a:lnTo>
                    <a:pt x="292" y="818"/>
                  </a:lnTo>
                  <a:lnTo>
                    <a:pt x="322" y="768"/>
                  </a:lnTo>
                  <a:lnTo>
                    <a:pt x="354" y="718"/>
                  </a:lnTo>
                  <a:lnTo>
                    <a:pt x="390" y="670"/>
                  </a:lnTo>
                  <a:lnTo>
                    <a:pt x="426" y="622"/>
                  </a:lnTo>
                  <a:lnTo>
                    <a:pt x="426" y="622"/>
                  </a:lnTo>
                  <a:lnTo>
                    <a:pt x="466" y="576"/>
                  </a:lnTo>
                  <a:lnTo>
                    <a:pt x="506" y="532"/>
                  </a:lnTo>
                  <a:lnTo>
                    <a:pt x="546" y="490"/>
                  </a:lnTo>
                  <a:lnTo>
                    <a:pt x="590" y="450"/>
                  </a:lnTo>
                  <a:lnTo>
                    <a:pt x="632" y="414"/>
                  </a:lnTo>
                  <a:lnTo>
                    <a:pt x="676" y="378"/>
                  </a:lnTo>
                  <a:lnTo>
                    <a:pt x="720" y="344"/>
                  </a:lnTo>
                  <a:lnTo>
                    <a:pt x="764" y="312"/>
                  </a:lnTo>
                  <a:lnTo>
                    <a:pt x="808" y="284"/>
                  </a:lnTo>
                  <a:lnTo>
                    <a:pt x="852" y="256"/>
                  </a:lnTo>
                  <a:lnTo>
                    <a:pt x="896" y="228"/>
                  </a:lnTo>
                  <a:lnTo>
                    <a:pt x="938" y="204"/>
                  </a:lnTo>
                  <a:lnTo>
                    <a:pt x="1024" y="160"/>
                  </a:lnTo>
                  <a:lnTo>
                    <a:pt x="1106" y="122"/>
                  </a:lnTo>
                  <a:lnTo>
                    <a:pt x="1182" y="90"/>
                  </a:lnTo>
                  <a:lnTo>
                    <a:pt x="1252" y="64"/>
                  </a:lnTo>
                  <a:lnTo>
                    <a:pt x="1316" y="44"/>
                  </a:lnTo>
                  <a:lnTo>
                    <a:pt x="1370" y="26"/>
                  </a:lnTo>
                  <a:lnTo>
                    <a:pt x="1416" y="14"/>
                  </a:lnTo>
                  <a:lnTo>
                    <a:pt x="1450" y="6"/>
                  </a:lnTo>
                  <a:lnTo>
                    <a:pt x="1478" y="0"/>
                  </a:lnTo>
                  <a:lnTo>
                    <a:pt x="1478" y="0"/>
                  </a:lnTo>
                  <a:lnTo>
                    <a:pt x="1476" y="32"/>
                  </a:lnTo>
                  <a:lnTo>
                    <a:pt x="1468" y="116"/>
                  </a:lnTo>
                  <a:lnTo>
                    <a:pt x="1460" y="176"/>
                  </a:lnTo>
                  <a:lnTo>
                    <a:pt x="1450" y="246"/>
                  </a:lnTo>
                  <a:lnTo>
                    <a:pt x="1436" y="326"/>
                  </a:lnTo>
                  <a:lnTo>
                    <a:pt x="1418" y="410"/>
                  </a:lnTo>
                  <a:lnTo>
                    <a:pt x="1394" y="502"/>
                  </a:lnTo>
                  <a:lnTo>
                    <a:pt x="1364" y="598"/>
                  </a:lnTo>
                  <a:lnTo>
                    <a:pt x="1348" y="648"/>
                  </a:lnTo>
                  <a:lnTo>
                    <a:pt x="1330" y="698"/>
                  </a:lnTo>
                  <a:lnTo>
                    <a:pt x="1310" y="748"/>
                  </a:lnTo>
                  <a:lnTo>
                    <a:pt x="1290" y="798"/>
                  </a:lnTo>
                  <a:lnTo>
                    <a:pt x="1266" y="850"/>
                  </a:lnTo>
                  <a:lnTo>
                    <a:pt x="1242" y="900"/>
                  </a:lnTo>
                  <a:lnTo>
                    <a:pt x="1214" y="952"/>
                  </a:lnTo>
                  <a:lnTo>
                    <a:pt x="1186" y="1002"/>
                  </a:lnTo>
                  <a:lnTo>
                    <a:pt x="1156" y="1052"/>
                  </a:lnTo>
                  <a:lnTo>
                    <a:pt x="1122" y="1102"/>
                  </a:lnTo>
                  <a:lnTo>
                    <a:pt x="1088" y="1150"/>
                  </a:lnTo>
                  <a:lnTo>
                    <a:pt x="1050" y="1198"/>
                  </a:lnTo>
                  <a:lnTo>
                    <a:pt x="1050" y="1198"/>
                  </a:lnTo>
                  <a:close/>
                </a:path>
              </a:pathLst>
            </a:custGeom>
            <a:solidFill>
              <a:srgbClr val="f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29"/>
            <p:cNvSpPr/>
            <p:nvPr/>
          </p:nvSpPr>
          <p:spPr>
            <a:xfrm>
              <a:off x="2549520" y="619200"/>
              <a:ext cx="2562120" cy="3136680"/>
            </a:xfrm>
            <a:custGeom>
              <a:avLst/>
              <a:gdLst>
                <a:gd name="textAreaLeft" fmla="*/ 0 w 2562120"/>
                <a:gd name="textAreaRight" fmla="*/ 2562480 w 2562120"/>
                <a:gd name="textAreaTop" fmla="*/ 0 h 3136680"/>
                <a:gd name="textAreaBottom" fmla="*/ 3137040 h 3136680"/>
              </a:gdLst>
              <a:ahLst/>
              <a:rect l="textAreaLeft" t="textAreaTop" r="textAreaRight" b="textAreaBottom"/>
              <a:pathLst>
                <a:path w="1614" h="1976">
                  <a:moveTo>
                    <a:pt x="1534" y="14"/>
                  </a:moveTo>
                  <a:lnTo>
                    <a:pt x="1534" y="14"/>
                  </a:lnTo>
                  <a:lnTo>
                    <a:pt x="1496" y="22"/>
                  </a:lnTo>
                  <a:lnTo>
                    <a:pt x="1458" y="32"/>
                  </a:lnTo>
                  <a:lnTo>
                    <a:pt x="1410" y="44"/>
                  </a:lnTo>
                  <a:lnTo>
                    <a:pt x="1354" y="62"/>
                  </a:lnTo>
                  <a:lnTo>
                    <a:pt x="1288" y="84"/>
                  </a:lnTo>
                  <a:lnTo>
                    <a:pt x="1214" y="112"/>
                  </a:lnTo>
                  <a:lnTo>
                    <a:pt x="1136" y="144"/>
                  </a:lnTo>
                  <a:lnTo>
                    <a:pt x="1052" y="184"/>
                  </a:lnTo>
                  <a:lnTo>
                    <a:pt x="966" y="230"/>
                  </a:lnTo>
                  <a:lnTo>
                    <a:pt x="922" y="254"/>
                  </a:lnTo>
                  <a:lnTo>
                    <a:pt x="876" y="282"/>
                  </a:lnTo>
                  <a:lnTo>
                    <a:pt x="832" y="310"/>
                  </a:lnTo>
                  <a:lnTo>
                    <a:pt x="786" y="342"/>
                  </a:lnTo>
                  <a:lnTo>
                    <a:pt x="742" y="374"/>
                  </a:lnTo>
                  <a:lnTo>
                    <a:pt x="698" y="408"/>
                  </a:lnTo>
                  <a:lnTo>
                    <a:pt x="654" y="444"/>
                  </a:lnTo>
                  <a:lnTo>
                    <a:pt x="610" y="484"/>
                  </a:lnTo>
                  <a:lnTo>
                    <a:pt x="566" y="524"/>
                  </a:lnTo>
                  <a:lnTo>
                    <a:pt x="524" y="566"/>
                  </a:lnTo>
                  <a:lnTo>
                    <a:pt x="484" y="612"/>
                  </a:lnTo>
                  <a:lnTo>
                    <a:pt x="444" y="658"/>
                  </a:lnTo>
                  <a:lnTo>
                    <a:pt x="444" y="658"/>
                  </a:lnTo>
                  <a:lnTo>
                    <a:pt x="406" y="706"/>
                  </a:lnTo>
                  <a:lnTo>
                    <a:pt x="370" y="756"/>
                  </a:lnTo>
                  <a:lnTo>
                    <a:pt x="336" y="806"/>
                  </a:lnTo>
                  <a:lnTo>
                    <a:pt x="304" y="858"/>
                  </a:lnTo>
                  <a:lnTo>
                    <a:pt x="276" y="910"/>
                  </a:lnTo>
                  <a:lnTo>
                    <a:pt x="248" y="960"/>
                  </a:lnTo>
                  <a:lnTo>
                    <a:pt x="222" y="1012"/>
                  </a:lnTo>
                  <a:lnTo>
                    <a:pt x="198" y="1064"/>
                  </a:lnTo>
                  <a:lnTo>
                    <a:pt x="176" y="1116"/>
                  </a:lnTo>
                  <a:lnTo>
                    <a:pt x="156" y="1168"/>
                  </a:lnTo>
                  <a:lnTo>
                    <a:pt x="138" y="1218"/>
                  </a:lnTo>
                  <a:lnTo>
                    <a:pt x="120" y="1268"/>
                  </a:lnTo>
                  <a:lnTo>
                    <a:pt x="90" y="1366"/>
                  </a:lnTo>
                  <a:lnTo>
                    <a:pt x="66" y="1458"/>
                  </a:lnTo>
                  <a:lnTo>
                    <a:pt x="46" y="1546"/>
                  </a:lnTo>
                  <a:lnTo>
                    <a:pt x="32" y="1626"/>
                  </a:lnTo>
                  <a:lnTo>
                    <a:pt x="20" y="1698"/>
                  </a:lnTo>
                  <a:lnTo>
                    <a:pt x="12" y="1762"/>
                  </a:lnTo>
                  <a:lnTo>
                    <a:pt x="6" y="1814"/>
                  </a:lnTo>
                  <a:lnTo>
                    <a:pt x="4" y="1854"/>
                  </a:lnTo>
                  <a:lnTo>
                    <a:pt x="2" y="1896"/>
                  </a:lnTo>
                  <a:lnTo>
                    <a:pt x="0" y="1976"/>
                  </a:lnTo>
                  <a:lnTo>
                    <a:pt x="80" y="1962"/>
                  </a:lnTo>
                  <a:lnTo>
                    <a:pt x="80" y="1962"/>
                  </a:lnTo>
                  <a:lnTo>
                    <a:pt x="116" y="1954"/>
                  </a:lnTo>
                  <a:lnTo>
                    <a:pt x="154" y="1944"/>
                  </a:lnTo>
                  <a:lnTo>
                    <a:pt x="202" y="1932"/>
                  </a:lnTo>
                  <a:lnTo>
                    <a:pt x="260" y="1914"/>
                  </a:lnTo>
                  <a:lnTo>
                    <a:pt x="326" y="1892"/>
                  </a:lnTo>
                  <a:lnTo>
                    <a:pt x="398" y="1864"/>
                  </a:lnTo>
                  <a:lnTo>
                    <a:pt x="478" y="1830"/>
                  </a:lnTo>
                  <a:lnTo>
                    <a:pt x="560" y="1792"/>
                  </a:lnTo>
                  <a:lnTo>
                    <a:pt x="648" y="1746"/>
                  </a:lnTo>
                  <a:lnTo>
                    <a:pt x="692" y="1720"/>
                  </a:lnTo>
                  <a:lnTo>
                    <a:pt x="736" y="1694"/>
                  </a:lnTo>
                  <a:lnTo>
                    <a:pt x="780" y="1666"/>
                  </a:lnTo>
                  <a:lnTo>
                    <a:pt x="826" y="1634"/>
                  </a:lnTo>
                  <a:lnTo>
                    <a:pt x="870" y="1602"/>
                  </a:lnTo>
                  <a:lnTo>
                    <a:pt x="916" y="1568"/>
                  </a:lnTo>
                  <a:lnTo>
                    <a:pt x="960" y="1532"/>
                  </a:lnTo>
                  <a:lnTo>
                    <a:pt x="1004" y="1492"/>
                  </a:lnTo>
                  <a:lnTo>
                    <a:pt x="1046" y="1452"/>
                  </a:lnTo>
                  <a:lnTo>
                    <a:pt x="1088" y="1410"/>
                  </a:lnTo>
                  <a:lnTo>
                    <a:pt x="1130" y="1364"/>
                  </a:lnTo>
                  <a:lnTo>
                    <a:pt x="1168" y="1318"/>
                  </a:lnTo>
                  <a:lnTo>
                    <a:pt x="1168" y="1318"/>
                  </a:lnTo>
                  <a:lnTo>
                    <a:pt x="1168" y="1318"/>
                  </a:lnTo>
                  <a:lnTo>
                    <a:pt x="1206" y="1268"/>
                  </a:lnTo>
                  <a:lnTo>
                    <a:pt x="1242" y="1220"/>
                  </a:lnTo>
                  <a:lnTo>
                    <a:pt x="1276" y="1168"/>
                  </a:lnTo>
                  <a:lnTo>
                    <a:pt x="1308" y="1118"/>
                  </a:lnTo>
                  <a:lnTo>
                    <a:pt x="1338" y="1066"/>
                  </a:lnTo>
                  <a:lnTo>
                    <a:pt x="1364" y="1014"/>
                  </a:lnTo>
                  <a:lnTo>
                    <a:pt x="1390" y="964"/>
                  </a:lnTo>
                  <a:lnTo>
                    <a:pt x="1414" y="912"/>
                  </a:lnTo>
                  <a:lnTo>
                    <a:pt x="1436" y="860"/>
                  </a:lnTo>
                  <a:lnTo>
                    <a:pt x="1456" y="808"/>
                  </a:lnTo>
                  <a:lnTo>
                    <a:pt x="1476" y="758"/>
                  </a:lnTo>
                  <a:lnTo>
                    <a:pt x="1492" y="708"/>
                  </a:lnTo>
                  <a:lnTo>
                    <a:pt x="1522" y="610"/>
                  </a:lnTo>
                  <a:lnTo>
                    <a:pt x="1546" y="518"/>
                  </a:lnTo>
                  <a:lnTo>
                    <a:pt x="1566" y="430"/>
                  </a:lnTo>
                  <a:lnTo>
                    <a:pt x="1582" y="350"/>
                  </a:lnTo>
                  <a:lnTo>
                    <a:pt x="1592" y="276"/>
                  </a:lnTo>
                  <a:lnTo>
                    <a:pt x="1600" y="214"/>
                  </a:lnTo>
                  <a:lnTo>
                    <a:pt x="1606" y="162"/>
                  </a:lnTo>
                  <a:lnTo>
                    <a:pt x="1610" y="120"/>
                  </a:lnTo>
                  <a:lnTo>
                    <a:pt x="1612" y="80"/>
                  </a:lnTo>
                  <a:lnTo>
                    <a:pt x="1614" y="0"/>
                  </a:lnTo>
                  <a:lnTo>
                    <a:pt x="1534" y="14"/>
                  </a:lnTo>
                  <a:close/>
                  <a:moveTo>
                    <a:pt x="546" y="742"/>
                  </a:moveTo>
                  <a:lnTo>
                    <a:pt x="546" y="742"/>
                  </a:lnTo>
                  <a:lnTo>
                    <a:pt x="574" y="706"/>
                  </a:lnTo>
                  <a:lnTo>
                    <a:pt x="604" y="674"/>
                  </a:lnTo>
                  <a:lnTo>
                    <a:pt x="634" y="642"/>
                  </a:lnTo>
                  <a:lnTo>
                    <a:pt x="666" y="610"/>
                  </a:lnTo>
                  <a:lnTo>
                    <a:pt x="728" y="554"/>
                  </a:lnTo>
                  <a:lnTo>
                    <a:pt x="794" y="500"/>
                  </a:lnTo>
                  <a:lnTo>
                    <a:pt x="860" y="452"/>
                  </a:lnTo>
                  <a:lnTo>
                    <a:pt x="926" y="408"/>
                  </a:lnTo>
                  <a:lnTo>
                    <a:pt x="990" y="366"/>
                  </a:lnTo>
                  <a:lnTo>
                    <a:pt x="1056" y="330"/>
                  </a:lnTo>
                  <a:lnTo>
                    <a:pt x="1118" y="298"/>
                  </a:lnTo>
                  <a:lnTo>
                    <a:pt x="1180" y="270"/>
                  </a:lnTo>
                  <a:lnTo>
                    <a:pt x="1240" y="244"/>
                  </a:lnTo>
                  <a:lnTo>
                    <a:pt x="1294" y="222"/>
                  </a:lnTo>
                  <a:lnTo>
                    <a:pt x="1346" y="204"/>
                  </a:lnTo>
                  <a:lnTo>
                    <a:pt x="1394" y="188"/>
                  </a:lnTo>
                  <a:lnTo>
                    <a:pt x="1474" y="164"/>
                  </a:lnTo>
                  <a:lnTo>
                    <a:pt x="1474" y="164"/>
                  </a:lnTo>
                  <a:lnTo>
                    <a:pt x="1462" y="250"/>
                  </a:lnTo>
                  <a:lnTo>
                    <a:pt x="1454" y="302"/>
                  </a:lnTo>
                  <a:lnTo>
                    <a:pt x="1444" y="360"/>
                  </a:lnTo>
                  <a:lnTo>
                    <a:pt x="1432" y="422"/>
                  </a:lnTo>
                  <a:lnTo>
                    <a:pt x="1418" y="488"/>
                  </a:lnTo>
                  <a:lnTo>
                    <a:pt x="1400" y="558"/>
                  </a:lnTo>
                  <a:lnTo>
                    <a:pt x="1378" y="630"/>
                  </a:lnTo>
                  <a:lnTo>
                    <a:pt x="1354" y="704"/>
                  </a:lnTo>
                  <a:lnTo>
                    <a:pt x="1326" y="780"/>
                  </a:lnTo>
                  <a:lnTo>
                    <a:pt x="1294" y="858"/>
                  </a:lnTo>
                  <a:lnTo>
                    <a:pt x="1258" y="934"/>
                  </a:lnTo>
                  <a:lnTo>
                    <a:pt x="1218" y="1012"/>
                  </a:lnTo>
                  <a:lnTo>
                    <a:pt x="1196" y="1050"/>
                  </a:lnTo>
                  <a:lnTo>
                    <a:pt x="1172" y="1088"/>
                  </a:lnTo>
                  <a:lnTo>
                    <a:pt x="1148" y="1126"/>
                  </a:lnTo>
                  <a:lnTo>
                    <a:pt x="1122" y="1162"/>
                  </a:lnTo>
                  <a:lnTo>
                    <a:pt x="1096" y="1198"/>
                  </a:lnTo>
                  <a:lnTo>
                    <a:pt x="1068" y="1234"/>
                  </a:lnTo>
                  <a:lnTo>
                    <a:pt x="1068" y="1234"/>
                  </a:lnTo>
                  <a:lnTo>
                    <a:pt x="1068" y="1234"/>
                  </a:lnTo>
                  <a:lnTo>
                    <a:pt x="1038" y="1268"/>
                  </a:lnTo>
                  <a:lnTo>
                    <a:pt x="1008" y="1302"/>
                  </a:lnTo>
                  <a:lnTo>
                    <a:pt x="978" y="1334"/>
                  </a:lnTo>
                  <a:lnTo>
                    <a:pt x="948" y="1364"/>
                  </a:lnTo>
                  <a:lnTo>
                    <a:pt x="884" y="1422"/>
                  </a:lnTo>
                  <a:lnTo>
                    <a:pt x="820" y="1476"/>
                  </a:lnTo>
                  <a:lnTo>
                    <a:pt x="754" y="1524"/>
                  </a:lnTo>
                  <a:lnTo>
                    <a:pt x="688" y="1568"/>
                  </a:lnTo>
                  <a:lnTo>
                    <a:pt x="622" y="1608"/>
                  </a:lnTo>
                  <a:lnTo>
                    <a:pt x="558" y="1644"/>
                  </a:lnTo>
                  <a:lnTo>
                    <a:pt x="494" y="1678"/>
                  </a:lnTo>
                  <a:lnTo>
                    <a:pt x="432" y="1706"/>
                  </a:lnTo>
                  <a:lnTo>
                    <a:pt x="374" y="1732"/>
                  </a:lnTo>
                  <a:lnTo>
                    <a:pt x="318" y="1754"/>
                  </a:lnTo>
                  <a:lnTo>
                    <a:pt x="266" y="1772"/>
                  </a:lnTo>
                  <a:lnTo>
                    <a:pt x="218" y="1788"/>
                  </a:lnTo>
                  <a:lnTo>
                    <a:pt x="140" y="1812"/>
                  </a:lnTo>
                  <a:lnTo>
                    <a:pt x="140" y="1812"/>
                  </a:lnTo>
                  <a:lnTo>
                    <a:pt x="150" y="1726"/>
                  </a:lnTo>
                  <a:lnTo>
                    <a:pt x="158" y="1674"/>
                  </a:lnTo>
                  <a:lnTo>
                    <a:pt x="168" y="1616"/>
                  </a:lnTo>
                  <a:lnTo>
                    <a:pt x="180" y="1554"/>
                  </a:lnTo>
                  <a:lnTo>
                    <a:pt x="196" y="1488"/>
                  </a:lnTo>
                  <a:lnTo>
                    <a:pt x="214" y="1418"/>
                  </a:lnTo>
                  <a:lnTo>
                    <a:pt x="234" y="1346"/>
                  </a:lnTo>
                  <a:lnTo>
                    <a:pt x="258" y="1272"/>
                  </a:lnTo>
                  <a:lnTo>
                    <a:pt x="286" y="1196"/>
                  </a:lnTo>
                  <a:lnTo>
                    <a:pt x="318" y="1118"/>
                  </a:lnTo>
                  <a:lnTo>
                    <a:pt x="354" y="1040"/>
                  </a:lnTo>
                  <a:lnTo>
                    <a:pt x="396" y="964"/>
                  </a:lnTo>
                  <a:lnTo>
                    <a:pt x="418" y="926"/>
                  </a:lnTo>
                  <a:lnTo>
                    <a:pt x="440" y="888"/>
                  </a:lnTo>
                  <a:lnTo>
                    <a:pt x="464" y="850"/>
                  </a:lnTo>
                  <a:lnTo>
                    <a:pt x="490" y="814"/>
                  </a:lnTo>
                  <a:lnTo>
                    <a:pt x="518" y="776"/>
                  </a:lnTo>
                  <a:lnTo>
                    <a:pt x="546" y="742"/>
                  </a:lnTo>
                  <a:lnTo>
                    <a:pt x="546" y="742"/>
                  </a:lnTo>
                  <a:close/>
                </a:path>
              </a:pathLst>
            </a:custGeom>
            <a:solidFill>
              <a:srgbClr val="f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0"/>
            <p:cNvSpPr/>
            <p:nvPr/>
          </p:nvSpPr>
          <p:spPr>
            <a:xfrm>
              <a:off x="672840" y="3632040"/>
              <a:ext cx="1984320" cy="2438280"/>
            </a:xfrm>
            <a:custGeom>
              <a:avLst/>
              <a:gdLst>
                <a:gd name="textAreaLeft" fmla="*/ 0 w 1984320"/>
                <a:gd name="textAreaRight" fmla="*/ 1984680 w 19843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1250" h="1536">
                  <a:moveTo>
                    <a:pt x="888" y="1012"/>
                  </a:moveTo>
                  <a:lnTo>
                    <a:pt x="888" y="1012"/>
                  </a:lnTo>
                  <a:lnTo>
                    <a:pt x="854" y="1050"/>
                  </a:lnTo>
                  <a:lnTo>
                    <a:pt x="820" y="1088"/>
                  </a:lnTo>
                  <a:lnTo>
                    <a:pt x="786" y="1122"/>
                  </a:lnTo>
                  <a:lnTo>
                    <a:pt x="750" y="1156"/>
                  </a:lnTo>
                  <a:lnTo>
                    <a:pt x="714" y="1188"/>
                  </a:lnTo>
                  <a:lnTo>
                    <a:pt x="678" y="1218"/>
                  </a:lnTo>
                  <a:lnTo>
                    <a:pt x="640" y="1246"/>
                  </a:lnTo>
                  <a:lnTo>
                    <a:pt x="604" y="1272"/>
                  </a:lnTo>
                  <a:lnTo>
                    <a:pt x="566" y="1298"/>
                  </a:lnTo>
                  <a:lnTo>
                    <a:pt x="528" y="1322"/>
                  </a:lnTo>
                  <a:lnTo>
                    <a:pt x="454" y="1364"/>
                  </a:lnTo>
                  <a:lnTo>
                    <a:pt x="382" y="1402"/>
                  </a:lnTo>
                  <a:lnTo>
                    <a:pt x="314" y="1434"/>
                  </a:lnTo>
                  <a:lnTo>
                    <a:pt x="250" y="1460"/>
                  </a:lnTo>
                  <a:lnTo>
                    <a:pt x="190" y="1482"/>
                  </a:lnTo>
                  <a:lnTo>
                    <a:pt x="136" y="1500"/>
                  </a:lnTo>
                  <a:lnTo>
                    <a:pt x="90" y="1514"/>
                  </a:lnTo>
                  <a:lnTo>
                    <a:pt x="24" y="1532"/>
                  </a:lnTo>
                  <a:lnTo>
                    <a:pt x="0" y="1536"/>
                  </a:lnTo>
                  <a:lnTo>
                    <a:pt x="0" y="1536"/>
                  </a:lnTo>
                  <a:lnTo>
                    <a:pt x="0" y="1510"/>
                  </a:lnTo>
                  <a:lnTo>
                    <a:pt x="8" y="1438"/>
                  </a:lnTo>
                  <a:lnTo>
                    <a:pt x="14" y="1388"/>
                  </a:lnTo>
                  <a:lnTo>
                    <a:pt x="22" y="1328"/>
                  </a:lnTo>
                  <a:lnTo>
                    <a:pt x="34" y="1262"/>
                  </a:lnTo>
                  <a:lnTo>
                    <a:pt x="50" y="1190"/>
                  </a:lnTo>
                  <a:lnTo>
                    <a:pt x="70" y="1112"/>
                  </a:lnTo>
                  <a:lnTo>
                    <a:pt x="94" y="1032"/>
                  </a:lnTo>
                  <a:lnTo>
                    <a:pt x="124" y="948"/>
                  </a:lnTo>
                  <a:lnTo>
                    <a:pt x="140" y="904"/>
                  </a:lnTo>
                  <a:lnTo>
                    <a:pt x="158" y="862"/>
                  </a:lnTo>
                  <a:lnTo>
                    <a:pt x="178" y="818"/>
                  </a:lnTo>
                  <a:lnTo>
                    <a:pt x="200" y="776"/>
                  </a:lnTo>
                  <a:lnTo>
                    <a:pt x="222" y="732"/>
                  </a:lnTo>
                  <a:lnTo>
                    <a:pt x="246" y="690"/>
                  </a:lnTo>
                  <a:lnTo>
                    <a:pt x="272" y="648"/>
                  </a:lnTo>
                  <a:lnTo>
                    <a:pt x="300" y="606"/>
                  </a:lnTo>
                  <a:lnTo>
                    <a:pt x="330" y="564"/>
                  </a:lnTo>
                  <a:lnTo>
                    <a:pt x="360" y="524"/>
                  </a:lnTo>
                  <a:lnTo>
                    <a:pt x="360" y="524"/>
                  </a:lnTo>
                  <a:lnTo>
                    <a:pt x="394" y="486"/>
                  </a:lnTo>
                  <a:lnTo>
                    <a:pt x="428" y="448"/>
                  </a:lnTo>
                  <a:lnTo>
                    <a:pt x="462" y="414"/>
                  </a:lnTo>
                  <a:lnTo>
                    <a:pt x="498" y="380"/>
                  </a:lnTo>
                  <a:lnTo>
                    <a:pt x="534" y="348"/>
                  </a:lnTo>
                  <a:lnTo>
                    <a:pt x="570" y="318"/>
                  </a:lnTo>
                  <a:lnTo>
                    <a:pt x="608" y="290"/>
                  </a:lnTo>
                  <a:lnTo>
                    <a:pt x="646" y="264"/>
                  </a:lnTo>
                  <a:lnTo>
                    <a:pt x="682" y="238"/>
                  </a:lnTo>
                  <a:lnTo>
                    <a:pt x="720" y="214"/>
                  </a:lnTo>
                  <a:lnTo>
                    <a:pt x="794" y="172"/>
                  </a:lnTo>
                  <a:lnTo>
                    <a:pt x="866" y="134"/>
                  </a:lnTo>
                  <a:lnTo>
                    <a:pt x="934" y="102"/>
                  </a:lnTo>
                  <a:lnTo>
                    <a:pt x="1000" y="76"/>
                  </a:lnTo>
                  <a:lnTo>
                    <a:pt x="1058" y="54"/>
                  </a:lnTo>
                  <a:lnTo>
                    <a:pt x="1112" y="36"/>
                  </a:lnTo>
                  <a:lnTo>
                    <a:pt x="1158" y="22"/>
                  </a:lnTo>
                  <a:lnTo>
                    <a:pt x="1226" y="4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1248" y="26"/>
                  </a:lnTo>
                  <a:lnTo>
                    <a:pt x="1242" y="98"/>
                  </a:lnTo>
                  <a:lnTo>
                    <a:pt x="1234" y="148"/>
                  </a:lnTo>
                  <a:lnTo>
                    <a:pt x="1226" y="208"/>
                  </a:lnTo>
                  <a:lnTo>
                    <a:pt x="1214" y="274"/>
                  </a:lnTo>
                  <a:lnTo>
                    <a:pt x="1198" y="346"/>
                  </a:lnTo>
                  <a:lnTo>
                    <a:pt x="1178" y="424"/>
                  </a:lnTo>
                  <a:lnTo>
                    <a:pt x="1154" y="504"/>
                  </a:lnTo>
                  <a:lnTo>
                    <a:pt x="1124" y="588"/>
                  </a:lnTo>
                  <a:lnTo>
                    <a:pt x="1108" y="632"/>
                  </a:lnTo>
                  <a:lnTo>
                    <a:pt x="1090" y="674"/>
                  </a:lnTo>
                  <a:lnTo>
                    <a:pt x="1070" y="718"/>
                  </a:lnTo>
                  <a:lnTo>
                    <a:pt x="1050" y="760"/>
                  </a:lnTo>
                  <a:lnTo>
                    <a:pt x="1026" y="804"/>
                  </a:lnTo>
                  <a:lnTo>
                    <a:pt x="1002" y="846"/>
                  </a:lnTo>
                  <a:lnTo>
                    <a:pt x="976" y="888"/>
                  </a:lnTo>
                  <a:lnTo>
                    <a:pt x="948" y="930"/>
                  </a:lnTo>
                  <a:lnTo>
                    <a:pt x="920" y="972"/>
                  </a:lnTo>
                  <a:lnTo>
                    <a:pt x="888" y="1012"/>
                  </a:lnTo>
                  <a:lnTo>
                    <a:pt x="888" y="1012"/>
                  </a:lnTo>
                  <a:close/>
                </a:path>
              </a:pathLst>
            </a:custGeom>
            <a:solidFill>
              <a:srgbClr val="f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1"/>
            <p:cNvSpPr/>
            <p:nvPr/>
          </p:nvSpPr>
          <p:spPr>
            <a:xfrm>
              <a:off x="565200" y="3505320"/>
              <a:ext cx="2197080" cy="2692440"/>
            </a:xfrm>
            <a:custGeom>
              <a:avLst/>
              <a:gdLst>
                <a:gd name="textAreaLeft" fmla="*/ 0 w 2197080"/>
                <a:gd name="textAreaRight" fmla="*/ 2197440 w 2197080"/>
                <a:gd name="textAreaTop" fmla="*/ 0 h 2692440"/>
                <a:gd name="textAreaBottom" fmla="*/ 2692440 h 2692440"/>
              </a:gdLst>
              <a:ahLst/>
              <a:rect l="textAreaLeft" t="textAreaTop" r="textAreaRight" b="textAreaBottom"/>
              <a:pathLst>
                <a:path w="1384" h="1696">
                  <a:moveTo>
                    <a:pt x="1306" y="14"/>
                  </a:moveTo>
                  <a:lnTo>
                    <a:pt x="1306" y="14"/>
                  </a:lnTo>
                  <a:lnTo>
                    <a:pt x="1274" y="22"/>
                  </a:lnTo>
                  <a:lnTo>
                    <a:pt x="1200" y="40"/>
                  </a:lnTo>
                  <a:lnTo>
                    <a:pt x="1152" y="56"/>
                  </a:lnTo>
                  <a:lnTo>
                    <a:pt x="1096" y="74"/>
                  </a:lnTo>
                  <a:lnTo>
                    <a:pt x="1034" y="98"/>
                  </a:lnTo>
                  <a:lnTo>
                    <a:pt x="966" y="126"/>
                  </a:lnTo>
                  <a:lnTo>
                    <a:pt x="896" y="160"/>
                  </a:lnTo>
                  <a:lnTo>
                    <a:pt x="822" y="198"/>
                  </a:lnTo>
                  <a:lnTo>
                    <a:pt x="746" y="242"/>
                  </a:lnTo>
                  <a:lnTo>
                    <a:pt x="708" y="268"/>
                  </a:lnTo>
                  <a:lnTo>
                    <a:pt x="670" y="294"/>
                  </a:lnTo>
                  <a:lnTo>
                    <a:pt x="632" y="320"/>
                  </a:lnTo>
                  <a:lnTo>
                    <a:pt x="594" y="350"/>
                  </a:lnTo>
                  <a:lnTo>
                    <a:pt x="556" y="382"/>
                  </a:lnTo>
                  <a:lnTo>
                    <a:pt x="520" y="414"/>
                  </a:lnTo>
                  <a:lnTo>
                    <a:pt x="482" y="448"/>
                  </a:lnTo>
                  <a:lnTo>
                    <a:pt x="446" y="484"/>
                  </a:lnTo>
                  <a:lnTo>
                    <a:pt x="412" y="524"/>
                  </a:lnTo>
                  <a:lnTo>
                    <a:pt x="378" y="564"/>
                  </a:lnTo>
                  <a:lnTo>
                    <a:pt x="378" y="564"/>
                  </a:lnTo>
                  <a:lnTo>
                    <a:pt x="346" y="604"/>
                  </a:lnTo>
                  <a:lnTo>
                    <a:pt x="316" y="646"/>
                  </a:lnTo>
                  <a:lnTo>
                    <a:pt x="286" y="690"/>
                  </a:lnTo>
                  <a:lnTo>
                    <a:pt x="260" y="732"/>
                  </a:lnTo>
                  <a:lnTo>
                    <a:pt x="234" y="776"/>
                  </a:lnTo>
                  <a:lnTo>
                    <a:pt x="212" y="820"/>
                  </a:lnTo>
                  <a:lnTo>
                    <a:pt x="190" y="864"/>
                  </a:lnTo>
                  <a:lnTo>
                    <a:pt x="170" y="908"/>
                  </a:lnTo>
                  <a:lnTo>
                    <a:pt x="150" y="952"/>
                  </a:lnTo>
                  <a:lnTo>
                    <a:pt x="134" y="996"/>
                  </a:lnTo>
                  <a:lnTo>
                    <a:pt x="102" y="1082"/>
                  </a:lnTo>
                  <a:lnTo>
                    <a:pt x="78" y="1164"/>
                  </a:lnTo>
                  <a:lnTo>
                    <a:pt x="56" y="1244"/>
                  </a:lnTo>
                  <a:lnTo>
                    <a:pt x="40" y="1318"/>
                  </a:lnTo>
                  <a:lnTo>
                    <a:pt x="28" y="1386"/>
                  </a:lnTo>
                  <a:lnTo>
                    <a:pt x="18" y="1448"/>
                  </a:lnTo>
                  <a:lnTo>
                    <a:pt x="10" y="1502"/>
                  </a:lnTo>
                  <a:lnTo>
                    <a:pt x="4" y="1580"/>
                  </a:lnTo>
                  <a:lnTo>
                    <a:pt x="2" y="1616"/>
                  </a:lnTo>
                  <a:lnTo>
                    <a:pt x="0" y="1696"/>
                  </a:lnTo>
                  <a:lnTo>
                    <a:pt x="80" y="1682"/>
                  </a:lnTo>
                  <a:lnTo>
                    <a:pt x="80" y="1682"/>
                  </a:lnTo>
                  <a:lnTo>
                    <a:pt x="110" y="1674"/>
                  </a:lnTo>
                  <a:lnTo>
                    <a:pt x="184" y="1656"/>
                  </a:lnTo>
                  <a:lnTo>
                    <a:pt x="232" y="1640"/>
                  </a:lnTo>
                  <a:lnTo>
                    <a:pt x="288" y="1622"/>
                  </a:lnTo>
                  <a:lnTo>
                    <a:pt x="350" y="1598"/>
                  </a:lnTo>
                  <a:lnTo>
                    <a:pt x="418" y="1570"/>
                  </a:lnTo>
                  <a:lnTo>
                    <a:pt x="488" y="1536"/>
                  </a:lnTo>
                  <a:lnTo>
                    <a:pt x="562" y="1498"/>
                  </a:lnTo>
                  <a:lnTo>
                    <a:pt x="638" y="1454"/>
                  </a:lnTo>
                  <a:lnTo>
                    <a:pt x="676" y="1428"/>
                  </a:lnTo>
                  <a:lnTo>
                    <a:pt x="714" y="1402"/>
                  </a:lnTo>
                  <a:lnTo>
                    <a:pt x="752" y="1376"/>
                  </a:lnTo>
                  <a:lnTo>
                    <a:pt x="790" y="1346"/>
                  </a:lnTo>
                  <a:lnTo>
                    <a:pt x="828" y="1314"/>
                  </a:lnTo>
                  <a:lnTo>
                    <a:pt x="866" y="1282"/>
                  </a:lnTo>
                  <a:lnTo>
                    <a:pt x="902" y="1248"/>
                  </a:lnTo>
                  <a:lnTo>
                    <a:pt x="938" y="1212"/>
                  </a:lnTo>
                  <a:lnTo>
                    <a:pt x="972" y="1174"/>
                  </a:lnTo>
                  <a:lnTo>
                    <a:pt x="1006" y="1134"/>
                  </a:lnTo>
                  <a:lnTo>
                    <a:pt x="1006" y="1134"/>
                  </a:lnTo>
                  <a:lnTo>
                    <a:pt x="1006" y="1134"/>
                  </a:lnTo>
                  <a:lnTo>
                    <a:pt x="1038" y="1092"/>
                  </a:lnTo>
                  <a:lnTo>
                    <a:pt x="1070" y="1050"/>
                  </a:lnTo>
                  <a:lnTo>
                    <a:pt x="1098" y="1006"/>
                  </a:lnTo>
                  <a:lnTo>
                    <a:pt x="1124" y="964"/>
                  </a:lnTo>
                  <a:lnTo>
                    <a:pt x="1150" y="920"/>
                  </a:lnTo>
                  <a:lnTo>
                    <a:pt x="1174" y="876"/>
                  </a:lnTo>
                  <a:lnTo>
                    <a:pt x="1194" y="832"/>
                  </a:lnTo>
                  <a:lnTo>
                    <a:pt x="1214" y="788"/>
                  </a:lnTo>
                  <a:lnTo>
                    <a:pt x="1234" y="744"/>
                  </a:lnTo>
                  <a:lnTo>
                    <a:pt x="1250" y="700"/>
                  </a:lnTo>
                  <a:lnTo>
                    <a:pt x="1282" y="614"/>
                  </a:lnTo>
                  <a:lnTo>
                    <a:pt x="1306" y="532"/>
                  </a:lnTo>
                  <a:lnTo>
                    <a:pt x="1328" y="452"/>
                  </a:lnTo>
                  <a:lnTo>
                    <a:pt x="1344" y="378"/>
                  </a:lnTo>
                  <a:lnTo>
                    <a:pt x="1356" y="310"/>
                  </a:lnTo>
                  <a:lnTo>
                    <a:pt x="1366" y="248"/>
                  </a:lnTo>
                  <a:lnTo>
                    <a:pt x="1374" y="194"/>
                  </a:lnTo>
                  <a:lnTo>
                    <a:pt x="1380" y="116"/>
                  </a:lnTo>
                  <a:lnTo>
                    <a:pt x="1382" y="82"/>
                  </a:lnTo>
                  <a:lnTo>
                    <a:pt x="1384" y="0"/>
                  </a:lnTo>
                  <a:lnTo>
                    <a:pt x="1306" y="14"/>
                  </a:lnTo>
                  <a:close/>
                  <a:moveTo>
                    <a:pt x="480" y="646"/>
                  </a:moveTo>
                  <a:lnTo>
                    <a:pt x="480" y="646"/>
                  </a:lnTo>
                  <a:lnTo>
                    <a:pt x="526" y="592"/>
                  </a:lnTo>
                  <a:lnTo>
                    <a:pt x="576" y="540"/>
                  </a:lnTo>
                  <a:lnTo>
                    <a:pt x="628" y="492"/>
                  </a:lnTo>
                  <a:lnTo>
                    <a:pt x="680" y="450"/>
                  </a:lnTo>
                  <a:lnTo>
                    <a:pt x="734" y="410"/>
                  </a:lnTo>
                  <a:lnTo>
                    <a:pt x="788" y="372"/>
                  </a:lnTo>
                  <a:lnTo>
                    <a:pt x="840" y="340"/>
                  </a:lnTo>
                  <a:lnTo>
                    <a:pt x="894" y="310"/>
                  </a:lnTo>
                  <a:lnTo>
                    <a:pt x="946" y="282"/>
                  </a:lnTo>
                  <a:lnTo>
                    <a:pt x="996" y="258"/>
                  </a:lnTo>
                  <a:lnTo>
                    <a:pt x="1046" y="236"/>
                  </a:lnTo>
                  <a:lnTo>
                    <a:pt x="1092" y="218"/>
                  </a:lnTo>
                  <a:lnTo>
                    <a:pt x="1134" y="200"/>
                  </a:lnTo>
                  <a:lnTo>
                    <a:pt x="1176" y="186"/>
                  </a:lnTo>
                  <a:lnTo>
                    <a:pt x="1244" y="166"/>
                  </a:lnTo>
                  <a:lnTo>
                    <a:pt x="1244" y="166"/>
                  </a:lnTo>
                  <a:lnTo>
                    <a:pt x="1234" y="240"/>
                  </a:lnTo>
                  <a:lnTo>
                    <a:pt x="1218" y="334"/>
                  </a:lnTo>
                  <a:lnTo>
                    <a:pt x="1208" y="386"/>
                  </a:lnTo>
                  <a:lnTo>
                    <a:pt x="1194" y="440"/>
                  </a:lnTo>
                  <a:lnTo>
                    <a:pt x="1180" y="498"/>
                  </a:lnTo>
                  <a:lnTo>
                    <a:pt x="1162" y="558"/>
                  </a:lnTo>
                  <a:lnTo>
                    <a:pt x="1140" y="618"/>
                  </a:lnTo>
                  <a:lnTo>
                    <a:pt x="1118" y="680"/>
                  </a:lnTo>
                  <a:lnTo>
                    <a:pt x="1090" y="744"/>
                  </a:lnTo>
                  <a:lnTo>
                    <a:pt x="1060" y="806"/>
                  </a:lnTo>
                  <a:lnTo>
                    <a:pt x="1028" y="870"/>
                  </a:lnTo>
                  <a:lnTo>
                    <a:pt x="990" y="930"/>
                  </a:lnTo>
                  <a:lnTo>
                    <a:pt x="950" y="992"/>
                  </a:lnTo>
                  <a:lnTo>
                    <a:pt x="904" y="1050"/>
                  </a:lnTo>
                  <a:lnTo>
                    <a:pt x="904" y="1050"/>
                  </a:lnTo>
                  <a:lnTo>
                    <a:pt x="858" y="1106"/>
                  </a:lnTo>
                  <a:lnTo>
                    <a:pt x="808" y="1156"/>
                  </a:lnTo>
                  <a:lnTo>
                    <a:pt x="756" y="1204"/>
                  </a:lnTo>
                  <a:lnTo>
                    <a:pt x="704" y="1246"/>
                  </a:lnTo>
                  <a:lnTo>
                    <a:pt x="650" y="1286"/>
                  </a:lnTo>
                  <a:lnTo>
                    <a:pt x="596" y="1324"/>
                  </a:lnTo>
                  <a:lnTo>
                    <a:pt x="544" y="1356"/>
                  </a:lnTo>
                  <a:lnTo>
                    <a:pt x="490" y="1388"/>
                  </a:lnTo>
                  <a:lnTo>
                    <a:pt x="438" y="1414"/>
                  </a:lnTo>
                  <a:lnTo>
                    <a:pt x="388" y="1438"/>
                  </a:lnTo>
                  <a:lnTo>
                    <a:pt x="340" y="1460"/>
                  </a:lnTo>
                  <a:lnTo>
                    <a:pt x="292" y="1480"/>
                  </a:lnTo>
                  <a:lnTo>
                    <a:pt x="250" y="1496"/>
                  </a:lnTo>
                  <a:lnTo>
                    <a:pt x="208" y="1510"/>
                  </a:lnTo>
                  <a:lnTo>
                    <a:pt x="140" y="1532"/>
                  </a:lnTo>
                  <a:lnTo>
                    <a:pt x="140" y="1532"/>
                  </a:lnTo>
                  <a:lnTo>
                    <a:pt x="150" y="1456"/>
                  </a:lnTo>
                  <a:lnTo>
                    <a:pt x="166" y="1362"/>
                  </a:lnTo>
                  <a:lnTo>
                    <a:pt x="176" y="1310"/>
                  </a:lnTo>
                  <a:lnTo>
                    <a:pt x="190" y="1256"/>
                  </a:lnTo>
                  <a:lnTo>
                    <a:pt x="206" y="1198"/>
                  </a:lnTo>
                  <a:lnTo>
                    <a:pt x="222" y="1138"/>
                  </a:lnTo>
                  <a:lnTo>
                    <a:pt x="244" y="1078"/>
                  </a:lnTo>
                  <a:lnTo>
                    <a:pt x="266" y="1016"/>
                  </a:lnTo>
                  <a:lnTo>
                    <a:pt x="294" y="952"/>
                  </a:lnTo>
                  <a:lnTo>
                    <a:pt x="324" y="890"/>
                  </a:lnTo>
                  <a:lnTo>
                    <a:pt x="356" y="828"/>
                  </a:lnTo>
                  <a:lnTo>
                    <a:pt x="394" y="766"/>
                  </a:lnTo>
                  <a:lnTo>
                    <a:pt x="434" y="704"/>
                  </a:lnTo>
                  <a:lnTo>
                    <a:pt x="480" y="646"/>
                  </a:lnTo>
                  <a:lnTo>
                    <a:pt x="480" y="646"/>
                  </a:lnTo>
                  <a:close/>
                </a:path>
              </a:pathLst>
            </a:custGeom>
            <a:solidFill>
              <a:srgbClr val="f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2"/>
            <p:cNvSpPr/>
            <p:nvPr/>
          </p:nvSpPr>
          <p:spPr>
            <a:xfrm>
              <a:off x="1832040" y="3632040"/>
              <a:ext cx="2044440" cy="5905440"/>
            </a:xfrm>
            <a:custGeom>
              <a:avLst/>
              <a:gdLst>
                <a:gd name="textAreaLeft" fmla="*/ 0 w 2044440"/>
                <a:gd name="textAreaRight" fmla="*/ 2044800 w 2044440"/>
                <a:gd name="textAreaTop" fmla="*/ 0 h 5905440"/>
                <a:gd name="textAreaBottom" fmla="*/ 5905800 h 5905440"/>
              </a:gdLst>
              <a:ahLst/>
              <a:rect l="textAreaLeft" t="textAreaTop" r="textAreaRight" b="textAreaBottom"/>
              <a:pathLst>
                <a:path w="1288" h="3720">
                  <a:moveTo>
                    <a:pt x="1282" y="1812"/>
                  </a:moveTo>
                  <a:lnTo>
                    <a:pt x="1282" y="1812"/>
                  </a:lnTo>
                  <a:lnTo>
                    <a:pt x="1286" y="1908"/>
                  </a:lnTo>
                  <a:lnTo>
                    <a:pt x="1288" y="2002"/>
                  </a:lnTo>
                  <a:lnTo>
                    <a:pt x="1284" y="2096"/>
                  </a:lnTo>
                  <a:lnTo>
                    <a:pt x="1280" y="2188"/>
                  </a:lnTo>
                  <a:lnTo>
                    <a:pt x="1270" y="2280"/>
                  </a:lnTo>
                  <a:lnTo>
                    <a:pt x="1260" y="2368"/>
                  </a:lnTo>
                  <a:lnTo>
                    <a:pt x="1246" y="2456"/>
                  </a:lnTo>
                  <a:lnTo>
                    <a:pt x="1230" y="2542"/>
                  </a:lnTo>
                  <a:lnTo>
                    <a:pt x="1212" y="2628"/>
                  </a:lnTo>
                  <a:lnTo>
                    <a:pt x="1192" y="2710"/>
                  </a:lnTo>
                  <a:lnTo>
                    <a:pt x="1172" y="2790"/>
                  </a:lnTo>
                  <a:lnTo>
                    <a:pt x="1150" y="2866"/>
                  </a:lnTo>
                  <a:lnTo>
                    <a:pt x="1126" y="2942"/>
                  </a:lnTo>
                  <a:lnTo>
                    <a:pt x="1102" y="3014"/>
                  </a:lnTo>
                  <a:lnTo>
                    <a:pt x="1076" y="3084"/>
                  </a:lnTo>
                  <a:lnTo>
                    <a:pt x="1050" y="3150"/>
                  </a:lnTo>
                  <a:lnTo>
                    <a:pt x="1024" y="3214"/>
                  </a:lnTo>
                  <a:lnTo>
                    <a:pt x="1000" y="3276"/>
                  </a:lnTo>
                  <a:lnTo>
                    <a:pt x="948" y="3386"/>
                  </a:lnTo>
                  <a:lnTo>
                    <a:pt x="902" y="3484"/>
                  </a:lnTo>
                  <a:lnTo>
                    <a:pt x="858" y="3566"/>
                  </a:lnTo>
                  <a:lnTo>
                    <a:pt x="822" y="3632"/>
                  </a:lnTo>
                  <a:lnTo>
                    <a:pt x="794" y="3680"/>
                  </a:lnTo>
                  <a:lnTo>
                    <a:pt x="768" y="3720"/>
                  </a:lnTo>
                  <a:lnTo>
                    <a:pt x="768" y="3720"/>
                  </a:lnTo>
                  <a:lnTo>
                    <a:pt x="738" y="3684"/>
                  </a:lnTo>
                  <a:lnTo>
                    <a:pt x="704" y="3640"/>
                  </a:lnTo>
                  <a:lnTo>
                    <a:pt x="658" y="3582"/>
                  </a:lnTo>
                  <a:lnTo>
                    <a:pt x="606" y="3506"/>
                  </a:lnTo>
                  <a:lnTo>
                    <a:pt x="546" y="3418"/>
                  </a:lnTo>
                  <a:lnTo>
                    <a:pt x="480" y="3316"/>
                  </a:lnTo>
                  <a:lnTo>
                    <a:pt x="446" y="3258"/>
                  </a:lnTo>
                  <a:lnTo>
                    <a:pt x="412" y="3200"/>
                  </a:lnTo>
                  <a:lnTo>
                    <a:pt x="378" y="3138"/>
                  </a:lnTo>
                  <a:lnTo>
                    <a:pt x="344" y="3072"/>
                  </a:lnTo>
                  <a:lnTo>
                    <a:pt x="310" y="3004"/>
                  </a:lnTo>
                  <a:lnTo>
                    <a:pt x="278" y="2934"/>
                  </a:lnTo>
                  <a:lnTo>
                    <a:pt x="244" y="2860"/>
                  </a:lnTo>
                  <a:lnTo>
                    <a:pt x="214" y="2784"/>
                  </a:lnTo>
                  <a:lnTo>
                    <a:pt x="184" y="2706"/>
                  </a:lnTo>
                  <a:lnTo>
                    <a:pt x="154" y="2624"/>
                  </a:lnTo>
                  <a:lnTo>
                    <a:pt x="128" y="2542"/>
                  </a:lnTo>
                  <a:lnTo>
                    <a:pt x="102" y="2456"/>
                  </a:lnTo>
                  <a:lnTo>
                    <a:pt x="80" y="2370"/>
                  </a:lnTo>
                  <a:lnTo>
                    <a:pt x="58" y="2282"/>
                  </a:lnTo>
                  <a:lnTo>
                    <a:pt x="40" y="2190"/>
                  </a:lnTo>
                  <a:lnTo>
                    <a:pt x="26" y="2098"/>
                  </a:lnTo>
                  <a:lnTo>
                    <a:pt x="14" y="2004"/>
                  </a:lnTo>
                  <a:lnTo>
                    <a:pt x="6" y="1908"/>
                  </a:lnTo>
                  <a:lnTo>
                    <a:pt x="6" y="1908"/>
                  </a:lnTo>
                  <a:lnTo>
                    <a:pt x="2" y="1812"/>
                  </a:lnTo>
                  <a:lnTo>
                    <a:pt x="0" y="1718"/>
                  </a:lnTo>
                  <a:lnTo>
                    <a:pt x="2" y="1624"/>
                  </a:lnTo>
                  <a:lnTo>
                    <a:pt x="8" y="1532"/>
                  </a:lnTo>
                  <a:lnTo>
                    <a:pt x="16" y="1440"/>
                  </a:lnTo>
                  <a:lnTo>
                    <a:pt x="28" y="1350"/>
                  </a:lnTo>
                  <a:lnTo>
                    <a:pt x="42" y="1262"/>
                  </a:lnTo>
                  <a:lnTo>
                    <a:pt x="58" y="1176"/>
                  </a:lnTo>
                  <a:lnTo>
                    <a:pt x="74" y="1092"/>
                  </a:lnTo>
                  <a:lnTo>
                    <a:pt x="94" y="1010"/>
                  </a:lnTo>
                  <a:lnTo>
                    <a:pt x="116" y="930"/>
                  </a:lnTo>
                  <a:lnTo>
                    <a:pt x="138" y="852"/>
                  </a:lnTo>
                  <a:lnTo>
                    <a:pt x="162" y="778"/>
                  </a:lnTo>
                  <a:lnTo>
                    <a:pt x="186" y="706"/>
                  </a:lnTo>
                  <a:lnTo>
                    <a:pt x="212" y="636"/>
                  </a:lnTo>
                  <a:lnTo>
                    <a:pt x="236" y="568"/>
                  </a:lnTo>
                  <a:lnTo>
                    <a:pt x="262" y="504"/>
                  </a:lnTo>
                  <a:lnTo>
                    <a:pt x="288" y="444"/>
                  </a:lnTo>
                  <a:lnTo>
                    <a:pt x="338" y="332"/>
                  </a:lnTo>
                  <a:lnTo>
                    <a:pt x="386" y="234"/>
                  </a:lnTo>
                  <a:lnTo>
                    <a:pt x="430" y="152"/>
                  </a:lnTo>
                  <a:lnTo>
                    <a:pt x="466" y="88"/>
                  </a:lnTo>
                  <a:lnTo>
                    <a:pt x="494" y="40"/>
                  </a:lnTo>
                  <a:lnTo>
                    <a:pt x="520" y="0"/>
                  </a:lnTo>
                  <a:lnTo>
                    <a:pt x="520" y="0"/>
                  </a:lnTo>
                  <a:lnTo>
                    <a:pt x="548" y="34"/>
                  </a:lnTo>
                  <a:lnTo>
                    <a:pt x="584" y="78"/>
                  </a:lnTo>
                  <a:lnTo>
                    <a:pt x="628" y="138"/>
                  </a:lnTo>
                  <a:lnTo>
                    <a:pt x="682" y="212"/>
                  </a:lnTo>
                  <a:lnTo>
                    <a:pt x="742" y="302"/>
                  </a:lnTo>
                  <a:lnTo>
                    <a:pt x="806" y="404"/>
                  </a:lnTo>
                  <a:lnTo>
                    <a:pt x="840" y="460"/>
                  </a:lnTo>
                  <a:lnTo>
                    <a:pt x="874" y="520"/>
                  </a:lnTo>
                  <a:lnTo>
                    <a:pt x="908" y="582"/>
                  </a:lnTo>
                  <a:lnTo>
                    <a:pt x="942" y="648"/>
                  </a:lnTo>
                  <a:lnTo>
                    <a:pt x="976" y="716"/>
                  </a:lnTo>
                  <a:lnTo>
                    <a:pt x="1010" y="786"/>
                  </a:lnTo>
                  <a:lnTo>
                    <a:pt x="1042" y="860"/>
                  </a:lnTo>
                  <a:lnTo>
                    <a:pt x="1074" y="936"/>
                  </a:lnTo>
                  <a:lnTo>
                    <a:pt x="1104" y="1014"/>
                  </a:lnTo>
                  <a:lnTo>
                    <a:pt x="1134" y="1094"/>
                  </a:lnTo>
                  <a:lnTo>
                    <a:pt x="1160" y="1178"/>
                  </a:lnTo>
                  <a:lnTo>
                    <a:pt x="1186" y="1262"/>
                  </a:lnTo>
                  <a:lnTo>
                    <a:pt x="1208" y="1350"/>
                  </a:lnTo>
                  <a:lnTo>
                    <a:pt x="1228" y="1438"/>
                  </a:lnTo>
                  <a:lnTo>
                    <a:pt x="1246" y="1530"/>
                  </a:lnTo>
                  <a:lnTo>
                    <a:pt x="1262" y="1622"/>
                  </a:lnTo>
                  <a:lnTo>
                    <a:pt x="1274" y="1716"/>
                  </a:lnTo>
                  <a:lnTo>
                    <a:pt x="1282" y="1812"/>
                  </a:lnTo>
                  <a:lnTo>
                    <a:pt x="1282" y="1812"/>
                  </a:lnTo>
                  <a:close/>
                </a:path>
              </a:pathLst>
            </a:custGeom>
            <a:solidFill>
              <a:srgbClr val="f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1727280" y="3460680"/>
              <a:ext cx="2251080" cy="6248520"/>
            </a:xfrm>
            <a:custGeom>
              <a:avLst/>
              <a:gdLst>
                <a:gd name="textAreaLeft" fmla="*/ 0 w 2251080"/>
                <a:gd name="textAreaRight" fmla="*/ 2251080 w 2251080"/>
                <a:gd name="textAreaTop" fmla="*/ 0 h 6248520"/>
                <a:gd name="textAreaBottom" fmla="*/ 6248880 h 6248520"/>
              </a:gdLst>
              <a:ahLst/>
              <a:rect l="textAreaLeft" t="textAreaTop" r="textAreaRight" b="textAreaBottom"/>
              <a:pathLst>
                <a:path w="1418" h="3936">
                  <a:moveTo>
                    <a:pt x="530" y="72"/>
                  </a:moveTo>
                  <a:lnTo>
                    <a:pt x="530" y="72"/>
                  </a:lnTo>
                  <a:lnTo>
                    <a:pt x="498" y="122"/>
                  </a:lnTo>
                  <a:lnTo>
                    <a:pt x="468" y="176"/>
                  </a:lnTo>
                  <a:lnTo>
                    <a:pt x="428" y="246"/>
                  </a:lnTo>
                  <a:lnTo>
                    <a:pt x="384" y="330"/>
                  </a:lnTo>
                  <a:lnTo>
                    <a:pt x="336" y="430"/>
                  </a:lnTo>
                  <a:lnTo>
                    <a:pt x="284" y="544"/>
                  </a:lnTo>
                  <a:lnTo>
                    <a:pt x="260" y="606"/>
                  </a:lnTo>
                  <a:lnTo>
                    <a:pt x="234" y="670"/>
                  </a:lnTo>
                  <a:lnTo>
                    <a:pt x="208" y="738"/>
                  </a:lnTo>
                  <a:lnTo>
                    <a:pt x="182" y="808"/>
                  </a:lnTo>
                  <a:lnTo>
                    <a:pt x="158" y="882"/>
                  </a:lnTo>
                  <a:lnTo>
                    <a:pt x="136" y="958"/>
                  </a:lnTo>
                  <a:lnTo>
                    <a:pt x="114" y="1036"/>
                  </a:lnTo>
                  <a:lnTo>
                    <a:pt x="92" y="1116"/>
                  </a:lnTo>
                  <a:lnTo>
                    <a:pt x="74" y="1198"/>
                  </a:lnTo>
                  <a:lnTo>
                    <a:pt x="56" y="1284"/>
                  </a:lnTo>
                  <a:lnTo>
                    <a:pt x="40" y="1370"/>
                  </a:lnTo>
                  <a:lnTo>
                    <a:pt x="28" y="1458"/>
                  </a:lnTo>
                  <a:lnTo>
                    <a:pt x="16" y="1548"/>
                  </a:lnTo>
                  <a:lnTo>
                    <a:pt x="8" y="1640"/>
                  </a:lnTo>
                  <a:lnTo>
                    <a:pt x="2" y="1734"/>
                  </a:lnTo>
                  <a:lnTo>
                    <a:pt x="0" y="1828"/>
                  </a:lnTo>
                  <a:lnTo>
                    <a:pt x="2" y="1924"/>
                  </a:lnTo>
                  <a:lnTo>
                    <a:pt x="6" y="2020"/>
                  </a:lnTo>
                  <a:lnTo>
                    <a:pt x="6" y="2020"/>
                  </a:lnTo>
                  <a:lnTo>
                    <a:pt x="14" y="2118"/>
                  </a:lnTo>
                  <a:lnTo>
                    <a:pt x="26" y="2212"/>
                  </a:lnTo>
                  <a:lnTo>
                    <a:pt x="42" y="2306"/>
                  </a:lnTo>
                  <a:lnTo>
                    <a:pt x="58" y="2396"/>
                  </a:lnTo>
                  <a:lnTo>
                    <a:pt x="80" y="2486"/>
                  </a:lnTo>
                  <a:lnTo>
                    <a:pt x="102" y="2574"/>
                  </a:lnTo>
                  <a:lnTo>
                    <a:pt x="126" y="2660"/>
                  </a:lnTo>
                  <a:lnTo>
                    <a:pt x="154" y="2744"/>
                  </a:lnTo>
                  <a:lnTo>
                    <a:pt x="182" y="2824"/>
                  </a:lnTo>
                  <a:lnTo>
                    <a:pt x="212" y="2904"/>
                  </a:lnTo>
                  <a:lnTo>
                    <a:pt x="244" y="2980"/>
                  </a:lnTo>
                  <a:lnTo>
                    <a:pt x="276" y="3054"/>
                  </a:lnTo>
                  <a:lnTo>
                    <a:pt x="310" y="3126"/>
                  </a:lnTo>
                  <a:lnTo>
                    <a:pt x="342" y="3194"/>
                  </a:lnTo>
                  <a:lnTo>
                    <a:pt x="376" y="3260"/>
                  </a:lnTo>
                  <a:lnTo>
                    <a:pt x="412" y="3324"/>
                  </a:lnTo>
                  <a:lnTo>
                    <a:pt x="446" y="3384"/>
                  </a:lnTo>
                  <a:lnTo>
                    <a:pt x="480" y="3440"/>
                  </a:lnTo>
                  <a:lnTo>
                    <a:pt x="544" y="3546"/>
                  </a:lnTo>
                  <a:lnTo>
                    <a:pt x="606" y="3636"/>
                  </a:lnTo>
                  <a:lnTo>
                    <a:pt x="662" y="3714"/>
                  </a:lnTo>
                  <a:lnTo>
                    <a:pt x="708" y="3778"/>
                  </a:lnTo>
                  <a:lnTo>
                    <a:pt x="746" y="3826"/>
                  </a:lnTo>
                  <a:lnTo>
                    <a:pt x="786" y="3872"/>
                  </a:lnTo>
                  <a:lnTo>
                    <a:pt x="842" y="3936"/>
                  </a:lnTo>
                  <a:lnTo>
                    <a:pt x="890" y="3864"/>
                  </a:lnTo>
                  <a:lnTo>
                    <a:pt x="890" y="3864"/>
                  </a:lnTo>
                  <a:lnTo>
                    <a:pt x="922" y="3812"/>
                  </a:lnTo>
                  <a:lnTo>
                    <a:pt x="952" y="3760"/>
                  </a:lnTo>
                  <a:lnTo>
                    <a:pt x="990" y="3690"/>
                  </a:lnTo>
                  <a:lnTo>
                    <a:pt x="1036" y="3604"/>
                  </a:lnTo>
                  <a:lnTo>
                    <a:pt x="1084" y="3504"/>
                  </a:lnTo>
                  <a:lnTo>
                    <a:pt x="1134" y="3392"/>
                  </a:lnTo>
                  <a:lnTo>
                    <a:pt x="1160" y="3330"/>
                  </a:lnTo>
                  <a:lnTo>
                    <a:pt x="1186" y="3264"/>
                  </a:lnTo>
                  <a:lnTo>
                    <a:pt x="1212" y="3198"/>
                  </a:lnTo>
                  <a:lnTo>
                    <a:pt x="1236" y="3126"/>
                  </a:lnTo>
                  <a:lnTo>
                    <a:pt x="1260" y="3054"/>
                  </a:lnTo>
                  <a:lnTo>
                    <a:pt x="1284" y="2978"/>
                  </a:lnTo>
                  <a:lnTo>
                    <a:pt x="1306" y="2900"/>
                  </a:lnTo>
                  <a:lnTo>
                    <a:pt x="1328" y="2820"/>
                  </a:lnTo>
                  <a:lnTo>
                    <a:pt x="1346" y="2736"/>
                  </a:lnTo>
                  <a:lnTo>
                    <a:pt x="1364" y="2652"/>
                  </a:lnTo>
                  <a:lnTo>
                    <a:pt x="1380" y="2566"/>
                  </a:lnTo>
                  <a:lnTo>
                    <a:pt x="1392" y="2476"/>
                  </a:lnTo>
                  <a:lnTo>
                    <a:pt x="1404" y="2386"/>
                  </a:lnTo>
                  <a:lnTo>
                    <a:pt x="1412" y="2294"/>
                  </a:lnTo>
                  <a:lnTo>
                    <a:pt x="1416" y="2202"/>
                  </a:lnTo>
                  <a:lnTo>
                    <a:pt x="1418" y="2108"/>
                  </a:lnTo>
                  <a:lnTo>
                    <a:pt x="1418" y="2012"/>
                  </a:lnTo>
                  <a:lnTo>
                    <a:pt x="1412" y="1914"/>
                  </a:lnTo>
                  <a:lnTo>
                    <a:pt x="1412" y="1914"/>
                  </a:lnTo>
                  <a:lnTo>
                    <a:pt x="1412" y="1914"/>
                  </a:lnTo>
                  <a:lnTo>
                    <a:pt x="1404" y="1818"/>
                  </a:lnTo>
                  <a:lnTo>
                    <a:pt x="1392" y="1724"/>
                  </a:lnTo>
                  <a:lnTo>
                    <a:pt x="1378" y="1630"/>
                  </a:lnTo>
                  <a:lnTo>
                    <a:pt x="1360" y="1538"/>
                  </a:lnTo>
                  <a:lnTo>
                    <a:pt x="1340" y="1448"/>
                  </a:lnTo>
                  <a:lnTo>
                    <a:pt x="1318" y="1362"/>
                  </a:lnTo>
                  <a:lnTo>
                    <a:pt x="1292" y="1276"/>
                  </a:lnTo>
                  <a:lnTo>
                    <a:pt x="1266" y="1192"/>
                  </a:lnTo>
                  <a:lnTo>
                    <a:pt x="1238" y="1112"/>
                  </a:lnTo>
                  <a:lnTo>
                    <a:pt x="1208" y="1032"/>
                  </a:lnTo>
                  <a:lnTo>
                    <a:pt x="1176" y="956"/>
                  </a:lnTo>
                  <a:lnTo>
                    <a:pt x="1144" y="882"/>
                  </a:lnTo>
                  <a:lnTo>
                    <a:pt x="1110" y="810"/>
                  </a:lnTo>
                  <a:lnTo>
                    <a:pt x="1076" y="742"/>
                  </a:lnTo>
                  <a:lnTo>
                    <a:pt x="1042" y="676"/>
                  </a:lnTo>
                  <a:lnTo>
                    <a:pt x="1008" y="612"/>
                  </a:lnTo>
                  <a:lnTo>
                    <a:pt x="974" y="552"/>
                  </a:lnTo>
                  <a:lnTo>
                    <a:pt x="940" y="496"/>
                  </a:lnTo>
                  <a:lnTo>
                    <a:pt x="874" y="390"/>
                  </a:lnTo>
                  <a:lnTo>
                    <a:pt x="814" y="298"/>
                  </a:lnTo>
                  <a:lnTo>
                    <a:pt x="758" y="220"/>
                  </a:lnTo>
                  <a:lnTo>
                    <a:pt x="710" y="158"/>
                  </a:lnTo>
                  <a:lnTo>
                    <a:pt x="674" y="110"/>
                  </a:lnTo>
                  <a:lnTo>
                    <a:pt x="634" y="64"/>
                  </a:lnTo>
                  <a:lnTo>
                    <a:pt x="578" y="0"/>
                  </a:lnTo>
                  <a:lnTo>
                    <a:pt x="530" y="72"/>
                  </a:lnTo>
                  <a:close/>
                  <a:moveTo>
                    <a:pt x="138" y="2012"/>
                  </a:moveTo>
                  <a:lnTo>
                    <a:pt x="138" y="2012"/>
                  </a:lnTo>
                  <a:lnTo>
                    <a:pt x="134" y="1930"/>
                  </a:lnTo>
                  <a:lnTo>
                    <a:pt x="132" y="1848"/>
                  </a:lnTo>
                  <a:lnTo>
                    <a:pt x="132" y="1848"/>
                  </a:lnTo>
                  <a:lnTo>
                    <a:pt x="132" y="1776"/>
                  </a:lnTo>
                  <a:lnTo>
                    <a:pt x="136" y="1706"/>
                  </a:lnTo>
                  <a:lnTo>
                    <a:pt x="140" y="1636"/>
                  </a:lnTo>
                  <a:lnTo>
                    <a:pt x="146" y="1568"/>
                  </a:lnTo>
                  <a:lnTo>
                    <a:pt x="154" y="1500"/>
                  </a:lnTo>
                  <a:lnTo>
                    <a:pt x="164" y="1432"/>
                  </a:lnTo>
                  <a:lnTo>
                    <a:pt x="174" y="1368"/>
                  </a:lnTo>
                  <a:lnTo>
                    <a:pt x="186" y="1302"/>
                  </a:lnTo>
                  <a:lnTo>
                    <a:pt x="200" y="1238"/>
                  </a:lnTo>
                  <a:lnTo>
                    <a:pt x="214" y="1176"/>
                  </a:lnTo>
                  <a:lnTo>
                    <a:pt x="246" y="1054"/>
                  </a:lnTo>
                  <a:lnTo>
                    <a:pt x="280" y="938"/>
                  </a:lnTo>
                  <a:lnTo>
                    <a:pt x="316" y="830"/>
                  </a:lnTo>
                  <a:lnTo>
                    <a:pt x="354" y="726"/>
                  </a:lnTo>
                  <a:lnTo>
                    <a:pt x="394" y="630"/>
                  </a:lnTo>
                  <a:lnTo>
                    <a:pt x="432" y="540"/>
                  </a:lnTo>
                  <a:lnTo>
                    <a:pt x="470" y="458"/>
                  </a:lnTo>
                  <a:lnTo>
                    <a:pt x="504" y="386"/>
                  </a:lnTo>
                  <a:lnTo>
                    <a:pt x="538" y="322"/>
                  </a:lnTo>
                  <a:lnTo>
                    <a:pt x="568" y="266"/>
                  </a:lnTo>
                  <a:lnTo>
                    <a:pt x="594" y="222"/>
                  </a:lnTo>
                  <a:lnTo>
                    <a:pt x="594" y="222"/>
                  </a:lnTo>
                  <a:lnTo>
                    <a:pt x="626" y="266"/>
                  </a:lnTo>
                  <a:lnTo>
                    <a:pt x="666" y="320"/>
                  </a:lnTo>
                  <a:lnTo>
                    <a:pt x="712" y="384"/>
                  </a:lnTo>
                  <a:lnTo>
                    <a:pt x="760" y="458"/>
                  </a:lnTo>
                  <a:lnTo>
                    <a:pt x="812" y="542"/>
                  </a:lnTo>
                  <a:lnTo>
                    <a:pt x="868" y="632"/>
                  </a:lnTo>
                  <a:lnTo>
                    <a:pt x="922" y="732"/>
                  </a:lnTo>
                  <a:lnTo>
                    <a:pt x="978" y="840"/>
                  </a:lnTo>
                  <a:lnTo>
                    <a:pt x="1030" y="954"/>
                  </a:lnTo>
                  <a:lnTo>
                    <a:pt x="1056" y="1014"/>
                  </a:lnTo>
                  <a:lnTo>
                    <a:pt x="1082" y="1076"/>
                  </a:lnTo>
                  <a:lnTo>
                    <a:pt x="1106" y="1138"/>
                  </a:lnTo>
                  <a:lnTo>
                    <a:pt x="1130" y="1204"/>
                  </a:lnTo>
                  <a:lnTo>
                    <a:pt x="1152" y="1270"/>
                  </a:lnTo>
                  <a:lnTo>
                    <a:pt x="1174" y="1338"/>
                  </a:lnTo>
                  <a:lnTo>
                    <a:pt x="1194" y="1406"/>
                  </a:lnTo>
                  <a:lnTo>
                    <a:pt x="1212" y="1476"/>
                  </a:lnTo>
                  <a:lnTo>
                    <a:pt x="1228" y="1548"/>
                  </a:lnTo>
                  <a:lnTo>
                    <a:pt x="1244" y="1622"/>
                  </a:lnTo>
                  <a:lnTo>
                    <a:pt x="1256" y="1696"/>
                  </a:lnTo>
                  <a:lnTo>
                    <a:pt x="1266" y="1770"/>
                  </a:lnTo>
                  <a:lnTo>
                    <a:pt x="1276" y="1846"/>
                  </a:lnTo>
                  <a:lnTo>
                    <a:pt x="1282" y="1924"/>
                  </a:lnTo>
                  <a:lnTo>
                    <a:pt x="1282" y="1924"/>
                  </a:lnTo>
                  <a:lnTo>
                    <a:pt x="1282" y="1924"/>
                  </a:lnTo>
                  <a:lnTo>
                    <a:pt x="1286" y="2006"/>
                  </a:lnTo>
                  <a:lnTo>
                    <a:pt x="1288" y="2088"/>
                  </a:lnTo>
                  <a:lnTo>
                    <a:pt x="1288" y="2088"/>
                  </a:lnTo>
                  <a:lnTo>
                    <a:pt x="1286" y="2160"/>
                  </a:lnTo>
                  <a:lnTo>
                    <a:pt x="1284" y="2230"/>
                  </a:lnTo>
                  <a:lnTo>
                    <a:pt x="1280" y="2298"/>
                  </a:lnTo>
                  <a:lnTo>
                    <a:pt x="1272" y="2368"/>
                  </a:lnTo>
                  <a:lnTo>
                    <a:pt x="1264" y="2436"/>
                  </a:lnTo>
                  <a:lnTo>
                    <a:pt x="1256" y="2502"/>
                  </a:lnTo>
                  <a:lnTo>
                    <a:pt x="1244" y="2568"/>
                  </a:lnTo>
                  <a:lnTo>
                    <a:pt x="1232" y="2634"/>
                  </a:lnTo>
                  <a:lnTo>
                    <a:pt x="1220" y="2696"/>
                  </a:lnTo>
                  <a:lnTo>
                    <a:pt x="1206" y="2760"/>
                  </a:lnTo>
                  <a:lnTo>
                    <a:pt x="1174" y="2880"/>
                  </a:lnTo>
                  <a:lnTo>
                    <a:pt x="1140" y="2996"/>
                  </a:lnTo>
                  <a:lnTo>
                    <a:pt x="1104" y="3106"/>
                  </a:lnTo>
                  <a:lnTo>
                    <a:pt x="1064" y="3210"/>
                  </a:lnTo>
                  <a:lnTo>
                    <a:pt x="1026" y="3306"/>
                  </a:lnTo>
                  <a:lnTo>
                    <a:pt x="988" y="3396"/>
                  </a:lnTo>
                  <a:lnTo>
                    <a:pt x="950" y="3476"/>
                  </a:lnTo>
                  <a:lnTo>
                    <a:pt x="914" y="3550"/>
                  </a:lnTo>
                  <a:lnTo>
                    <a:pt x="882" y="3614"/>
                  </a:lnTo>
                  <a:lnTo>
                    <a:pt x="852" y="3668"/>
                  </a:lnTo>
                  <a:lnTo>
                    <a:pt x="826" y="3714"/>
                  </a:lnTo>
                  <a:lnTo>
                    <a:pt x="826" y="3714"/>
                  </a:lnTo>
                  <a:lnTo>
                    <a:pt x="792" y="3670"/>
                  </a:lnTo>
                  <a:lnTo>
                    <a:pt x="752" y="3616"/>
                  </a:lnTo>
                  <a:lnTo>
                    <a:pt x="708" y="3550"/>
                  </a:lnTo>
                  <a:lnTo>
                    <a:pt x="658" y="3478"/>
                  </a:lnTo>
                  <a:lnTo>
                    <a:pt x="606" y="3394"/>
                  </a:lnTo>
                  <a:lnTo>
                    <a:pt x="552" y="3302"/>
                  </a:lnTo>
                  <a:lnTo>
                    <a:pt x="498" y="3204"/>
                  </a:lnTo>
                  <a:lnTo>
                    <a:pt x="442" y="3096"/>
                  </a:lnTo>
                  <a:lnTo>
                    <a:pt x="388" y="2982"/>
                  </a:lnTo>
                  <a:lnTo>
                    <a:pt x="362" y="2922"/>
                  </a:lnTo>
                  <a:lnTo>
                    <a:pt x="338" y="2860"/>
                  </a:lnTo>
                  <a:lnTo>
                    <a:pt x="312" y="2796"/>
                  </a:lnTo>
                  <a:lnTo>
                    <a:pt x="290" y="2732"/>
                  </a:lnTo>
                  <a:lnTo>
                    <a:pt x="266" y="2666"/>
                  </a:lnTo>
                  <a:lnTo>
                    <a:pt x="246" y="2598"/>
                  </a:lnTo>
                  <a:lnTo>
                    <a:pt x="226" y="2528"/>
                  </a:lnTo>
                  <a:lnTo>
                    <a:pt x="208" y="2458"/>
                  </a:lnTo>
                  <a:lnTo>
                    <a:pt x="192" y="2386"/>
                  </a:lnTo>
                  <a:lnTo>
                    <a:pt x="176" y="2314"/>
                  </a:lnTo>
                  <a:lnTo>
                    <a:pt x="164" y="2240"/>
                  </a:lnTo>
                  <a:lnTo>
                    <a:pt x="152" y="2166"/>
                  </a:lnTo>
                  <a:lnTo>
                    <a:pt x="144" y="2088"/>
                  </a:lnTo>
                  <a:lnTo>
                    <a:pt x="138" y="2012"/>
                  </a:lnTo>
                  <a:lnTo>
                    <a:pt x="138" y="2012"/>
                  </a:lnTo>
                  <a:close/>
                </a:path>
              </a:pathLst>
            </a:custGeom>
            <a:solidFill>
              <a:srgbClr val="f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701640" y="619200"/>
              <a:ext cx="2101680" cy="3159000"/>
            </a:xfrm>
            <a:custGeom>
              <a:avLst/>
              <a:gdLst>
                <a:gd name="textAreaLeft" fmla="*/ 0 w 2101680"/>
                <a:gd name="textAreaRight" fmla="*/ 2102040 w 210168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324" h="1990">
                  <a:moveTo>
                    <a:pt x="128" y="38"/>
                  </a:moveTo>
                  <a:lnTo>
                    <a:pt x="128" y="38"/>
                  </a:lnTo>
                  <a:lnTo>
                    <a:pt x="112" y="60"/>
                  </a:lnTo>
                  <a:lnTo>
                    <a:pt x="98" y="82"/>
                  </a:lnTo>
                  <a:lnTo>
                    <a:pt x="84" y="106"/>
                  </a:lnTo>
                  <a:lnTo>
                    <a:pt x="72" y="132"/>
                  </a:lnTo>
                  <a:lnTo>
                    <a:pt x="60" y="156"/>
                  </a:lnTo>
                  <a:lnTo>
                    <a:pt x="48" y="184"/>
                  </a:lnTo>
                  <a:lnTo>
                    <a:pt x="40" y="210"/>
                  </a:lnTo>
                  <a:lnTo>
                    <a:pt x="30" y="238"/>
                  </a:lnTo>
                  <a:lnTo>
                    <a:pt x="16" y="296"/>
                  </a:lnTo>
                  <a:lnTo>
                    <a:pt x="6" y="356"/>
                  </a:lnTo>
                  <a:lnTo>
                    <a:pt x="2" y="418"/>
                  </a:lnTo>
                  <a:lnTo>
                    <a:pt x="0" y="484"/>
                  </a:lnTo>
                  <a:lnTo>
                    <a:pt x="2" y="550"/>
                  </a:lnTo>
                  <a:lnTo>
                    <a:pt x="8" y="618"/>
                  </a:lnTo>
                  <a:lnTo>
                    <a:pt x="20" y="690"/>
                  </a:lnTo>
                  <a:lnTo>
                    <a:pt x="34" y="762"/>
                  </a:lnTo>
                  <a:lnTo>
                    <a:pt x="54" y="834"/>
                  </a:lnTo>
                  <a:lnTo>
                    <a:pt x="78" y="910"/>
                  </a:lnTo>
                  <a:lnTo>
                    <a:pt x="104" y="984"/>
                  </a:lnTo>
                  <a:lnTo>
                    <a:pt x="136" y="1060"/>
                  </a:lnTo>
                  <a:lnTo>
                    <a:pt x="136" y="1060"/>
                  </a:lnTo>
                  <a:lnTo>
                    <a:pt x="172" y="1136"/>
                  </a:lnTo>
                  <a:lnTo>
                    <a:pt x="212" y="1212"/>
                  </a:lnTo>
                  <a:lnTo>
                    <a:pt x="256" y="1290"/>
                  </a:lnTo>
                  <a:lnTo>
                    <a:pt x="306" y="1366"/>
                  </a:lnTo>
                  <a:lnTo>
                    <a:pt x="360" y="1442"/>
                  </a:lnTo>
                  <a:lnTo>
                    <a:pt x="388" y="1478"/>
                  </a:lnTo>
                  <a:lnTo>
                    <a:pt x="418" y="1516"/>
                  </a:lnTo>
                  <a:lnTo>
                    <a:pt x="448" y="1552"/>
                  </a:lnTo>
                  <a:lnTo>
                    <a:pt x="480" y="1586"/>
                  </a:lnTo>
                  <a:lnTo>
                    <a:pt x="514" y="1620"/>
                  </a:lnTo>
                  <a:lnTo>
                    <a:pt x="548" y="1654"/>
                  </a:lnTo>
                  <a:lnTo>
                    <a:pt x="582" y="1686"/>
                  </a:lnTo>
                  <a:lnTo>
                    <a:pt x="620" y="1718"/>
                  </a:lnTo>
                  <a:lnTo>
                    <a:pt x="656" y="1748"/>
                  </a:lnTo>
                  <a:lnTo>
                    <a:pt x="694" y="1778"/>
                  </a:lnTo>
                  <a:lnTo>
                    <a:pt x="734" y="1806"/>
                  </a:lnTo>
                  <a:lnTo>
                    <a:pt x="774" y="1832"/>
                  </a:lnTo>
                  <a:lnTo>
                    <a:pt x="814" y="1856"/>
                  </a:lnTo>
                  <a:lnTo>
                    <a:pt x="856" y="1878"/>
                  </a:lnTo>
                  <a:lnTo>
                    <a:pt x="898" y="1900"/>
                  </a:lnTo>
                  <a:lnTo>
                    <a:pt x="942" y="1918"/>
                  </a:lnTo>
                  <a:lnTo>
                    <a:pt x="986" y="1936"/>
                  </a:lnTo>
                  <a:lnTo>
                    <a:pt x="1032" y="1952"/>
                  </a:lnTo>
                  <a:lnTo>
                    <a:pt x="1078" y="1964"/>
                  </a:lnTo>
                  <a:lnTo>
                    <a:pt x="1126" y="1976"/>
                  </a:lnTo>
                  <a:lnTo>
                    <a:pt x="1174" y="1984"/>
                  </a:lnTo>
                  <a:lnTo>
                    <a:pt x="1222" y="1990"/>
                  </a:lnTo>
                  <a:lnTo>
                    <a:pt x="1222" y="1990"/>
                  </a:lnTo>
                  <a:lnTo>
                    <a:pt x="1240" y="1990"/>
                  </a:lnTo>
                  <a:lnTo>
                    <a:pt x="1258" y="1986"/>
                  </a:lnTo>
                  <a:lnTo>
                    <a:pt x="1276" y="1980"/>
                  </a:lnTo>
                  <a:lnTo>
                    <a:pt x="1290" y="1970"/>
                  </a:lnTo>
                  <a:lnTo>
                    <a:pt x="1302" y="1956"/>
                  </a:lnTo>
                  <a:lnTo>
                    <a:pt x="1314" y="1942"/>
                  </a:lnTo>
                  <a:lnTo>
                    <a:pt x="1320" y="1926"/>
                  </a:lnTo>
                  <a:lnTo>
                    <a:pt x="1324" y="1906"/>
                  </a:lnTo>
                  <a:lnTo>
                    <a:pt x="1324" y="1906"/>
                  </a:lnTo>
                  <a:lnTo>
                    <a:pt x="1324" y="1888"/>
                  </a:lnTo>
                  <a:lnTo>
                    <a:pt x="1320" y="1870"/>
                  </a:lnTo>
                  <a:lnTo>
                    <a:pt x="1314" y="1852"/>
                  </a:lnTo>
                  <a:lnTo>
                    <a:pt x="1304" y="1838"/>
                  </a:lnTo>
                  <a:lnTo>
                    <a:pt x="1290" y="1826"/>
                  </a:lnTo>
                  <a:lnTo>
                    <a:pt x="1276" y="1816"/>
                  </a:lnTo>
                  <a:lnTo>
                    <a:pt x="1258" y="1808"/>
                  </a:lnTo>
                  <a:lnTo>
                    <a:pt x="1240" y="1804"/>
                  </a:lnTo>
                  <a:lnTo>
                    <a:pt x="1240" y="1804"/>
                  </a:lnTo>
                  <a:lnTo>
                    <a:pt x="1200" y="1798"/>
                  </a:lnTo>
                  <a:lnTo>
                    <a:pt x="1158" y="1792"/>
                  </a:lnTo>
                  <a:lnTo>
                    <a:pt x="1118" y="1782"/>
                  </a:lnTo>
                  <a:lnTo>
                    <a:pt x="1080" y="1770"/>
                  </a:lnTo>
                  <a:lnTo>
                    <a:pt x="1040" y="1758"/>
                  </a:lnTo>
                  <a:lnTo>
                    <a:pt x="1002" y="1742"/>
                  </a:lnTo>
                  <a:lnTo>
                    <a:pt x="966" y="1726"/>
                  </a:lnTo>
                  <a:lnTo>
                    <a:pt x="930" y="1706"/>
                  </a:lnTo>
                  <a:lnTo>
                    <a:pt x="894" y="1686"/>
                  </a:lnTo>
                  <a:lnTo>
                    <a:pt x="858" y="1666"/>
                  </a:lnTo>
                  <a:lnTo>
                    <a:pt x="824" y="1642"/>
                  </a:lnTo>
                  <a:lnTo>
                    <a:pt x="790" y="1618"/>
                  </a:lnTo>
                  <a:lnTo>
                    <a:pt x="758" y="1592"/>
                  </a:lnTo>
                  <a:lnTo>
                    <a:pt x="726" y="1566"/>
                  </a:lnTo>
                  <a:lnTo>
                    <a:pt x="696" y="1538"/>
                  </a:lnTo>
                  <a:lnTo>
                    <a:pt x="666" y="1510"/>
                  </a:lnTo>
                  <a:lnTo>
                    <a:pt x="608" y="1450"/>
                  </a:lnTo>
                  <a:lnTo>
                    <a:pt x="554" y="1386"/>
                  </a:lnTo>
                  <a:lnTo>
                    <a:pt x="502" y="1322"/>
                  </a:lnTo>
                  <a:lnTo>
                    <a:pt x="456" y="1254"/>
                  </a:lnTo>
                  <a:lnTo>
                    <a:pt x="412" y="1188"/>
                  </a:lnTo>
                  <a:lnTo>
                    <a:pt x="374" y="1120"/>
                  </a:lnTo>
                  <a:lnTo>
                    <a:pt x="338" y="1052"/>
                  </a:lnTo>
                  <a:lnTo>
                    <a:pt x="308" y="986"/>
                  </a:lnTo>
                  <a:lnTo>
                    <a:pt x="308" y="986"/>
                  </a:lnTo>
                  <a:lnTo>
                    <a:pt x="280" y="922"/>
                  </a:lnTo>
                  <a:lnTo>
                    <a:pt x="258" y="860"/>
                  </a:lnTo>
                  <a:lnTo>
                    <a:pt x="238" y="798"/>
                  </a:lnTo>
                  <a:lnTo>
                    <a:pt x="222" y="736"/>
                  </a:lnTo>
                  <a:lnTo>
                    <a:pt x="208" y="676"/>
                  </a:lnTo>
                  <a:lnTo>
                    <a:pt x="198" y="618"/>
                  </a:lnTo>
                  <a:lnTo>
                    <a:pt x="190" y="560"/>
                  </a:lnTo>
                  <a:lnTo>
                    <a:pt x="188" y="506"/>
                  </a:lnTo>
                  <a:lnTo>
                    <a:pt x="186" y="452"/>
                  </a:lnTo>
                  <a:lnTo>
                    <a:pt x="190" y="402"/>
                  </a:lnTo>
                  <a:lnTo>
                    <a:pt x="196" y="352"/>
                  </a:lnTo>
                  <a:lnTo>
                    <a:pt x="206" y="306"/>
                  </a:lnTo>
                  <a:lnTo>
                    <a:pt x="218" y="262"/>
                  </a:lnTo>
                  <a:lnTo>
                    <a:pt x="236" y="222"/>
                  </a:lnTo>
                  <a:lnTo>
                    <a:pt x="254" y="184"/>
                  </a:lnTo>
                  <a:lnTo>
                    <a:pt x="278" y="150"/>
                  </a:lnTo>
                  <a:lnTo>
                    <a:pt x="278" y="150"/>
                  </a:lnTo>
                  <a:lnTo>
                    <a:pt x="288" y="134"/>
                  </a:lnTo>
                  <a:lnTo>
                    <a:pt x="294" y="116"/>
                  </a:lnTo>
                  <a:lnTo>
                    <a:pt x="296" y="98"/>
                  </a:lnTo>
                  <a:lnTo>
                    <a:pt x="296" y="80"/>
                  </a:lnTo>
                  <a:lnTo>
                    <a:pt x="292" y="62"/>
                  </a:lnTo>
                  <a:lnTo>
                    <a:pt x="284" y="46"/>
                  </a:lnTo>
                  <a:lnTo>
                    <a:pt x="272" y="32"/>
                  </a:lnTo>
                  <a:lnTo>
                    <a:pt x="258" y="18"/>
                  </a:lnTo>
                  <a:lnTo>
                    <a:pt x="258" y="18"/>
                  </a:lnTo>
                  <a:lnTo>
                    <a:pt x="242" y="8"/>
                  </a:lnTo>
                  <a:lnTo>
                    <a:pt x="226" y="2"/>
                  </a:lnTo>
                  <a:lnTo>
                    <a:pt x="208" y="0"/>
                  </a:lnTo>
                  <a:lnTo>
                    <a:pt x="190" y="0"/>
                  </a:lnTo>
                  <a:lnTo>
                    <a:pt x="172" y="4"/>
                  </a:lnTo>
                  <a:lnTo>
                    <a:pt x="156" y="12"/>
                  </a:lnTo>
                  <a:lnTo>
                    <a:pt x="140" y="24"/>
                  </a:lnTo>
                  <a:lnTo>
                    <a:pt x="128" y="38"/>
                  </a:lnTo>
                  <a:lnTo>
                    <a:pt x="128" y="38"/>
                  </a:lnTo>
                  <a:close/>
                </a:path>
              </a:pathLst>
            </a:custGeom>
            <a:solidFill>
              <a:srgbClr val="f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3"/>
            <p:cNvSpPr/>
            <p:nvPr/>
          </p:nvSpPr>
          <p:spPr>
            <a:xfrm>
              <a:off x="2886120" y="6642360"/>
              <a:ext cx="917280" cy="20858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578" h="1314">
                  <a:moveTo>
                    <a:pt x="502" y="738"/>
                  </a:moveTo>
                  <a:lnTo>
                    <a:pt x="502" y="738"/>
                  </a:lnTo>
                  <a:lnTo>
                    <a:pt x="488" y="772"/>
                  </a:lnTo>
                  <a:lnTo>
                    <a:pt x="472" y="806"/>
                  </a:lnTo>
                  <a:lnTo>
                    <a:pt x="440" y="868"/>
                  </a:lnTo>
                  <a:lnTo>
                    <a:pt x="406" y="926"/>
                  </a:lnTo>
                  <a:lnTo>
                    <a:pt x="368" y="982"/>
                  </a:lnTo>
                  <a:lnTo>
                    <a:pt x="330" y="1032"/>
                  </a:lnTo>
                  <a:lnTo>
                    <a:pt x="292" y="1080"/>
                  </a:lnTo>
                  <a:lnTo>
                    <a:pt x="252" y="1124"/>
                  </a:lnTo>
                  <a:lnTo>
                    <a:pt x="214" y="1162"/>
                  </a:lnTo>
                  <a:lnTo>
                    <a:pt x="178" y="1196"/>
                  </a:lnTo>
                  <a:lnTo>
                    <a:pt x="144" y="1228"/>
                  </a:lnTo>
                  <a:lnTo>
                    <a:pt x="86" y="1274"/>
                  </a:lnTo>
                  <a:lnTo>
                    <a:pt x="48" y="1304"/>
                  </a:lnTo>
                  <a:lnTo>
                    <a:pt x="32" y="1314"/>
                  </a:lnTo>
                  <a:lnTo>
                    <a:pt x="32" y="1314"/>
                  </a:lnTo>
                  <a:lnTo>
                    <a:pt x="30" y="1296"/>
                  </a:lnTo>
                  <a:lnTo>
                    <a:pt x="20" y="1248"/>
                  </a:lnTo>
                  <a:lnTo>
                    <a:pt x="10" y="1174"/>
                  </a:lnTo>
                  <a:lnTo>
                    <a:pt x="4" y="1130"/>
                  </a:lnTo>
                  <a:lnTo>
                    <a:pt x="2" y="1080"/>
                  </a:lnTo>
                  <a:lnTo>
                    <a:pt x="0" y="1024"/>
                  </a:lnTo>
                  <a:lnTo>
                    <a:pt x="0" y="966"/>
                  </a:lnTo>
                  <a:lnTo>
                    <a:pt x="4" y="906"/>
                  </a:lnTo>
                  <a:lnTo>
                    <a:pt x="10" y="842"/>
                  </a:lnTo>
                  <a:lnTo>
                    <a:pt x="20" y="776"/>
                  </a:lnTo>
                  <a:lnTo>
                    <a:pt x="34" y="710"/>
                  </a:lnTo>
                  <a:lnTo>
                    <a:pt x="52" y="642"/>
                  </a:lnTo>
                  <a:lnTo>
                    <a:pt x="64" y="608"/>
                  </a:lnTo>
                  <a:lnTo>
                    <a:pt x="76" y="574"/>
                  </a:lnTo>
                  <a:lnTo>
                    <a:pt x="76" y="574"/>
                  </a:lnTo>
                  <a:lnTo>
                    <a:pt x="90" y="540"/>
                  </a:lnTo>
                  <a:lnTo>
                    <a:pt x="104" y="508"/>
                  </a:lnTo>
                  <a:lnTo>
                    <a:pt x="136" y="444"/>
                  </a:lnTo>
                  <a:lnTo>
                    <a:pt x="172" y="386"/>
                  </a:lnTo>
                  <a:lnTo>
                    <a:pt x="208" y="330"/>
                  </a:lnTo>
                  <a:lnTo>
                    <a:pt x="246" y="280"/>
                  </a:lnTo>
                  <a:lnTo>
                    <a:pt x="286" y="232"/>
                  </a:lnTo>
                  <a:lnTo>
                    <a:pt x="324" y="190"/>
                  </a:lnTo>
                  <a:lnTo>
                    <a:pt x="362" y="150"/>
                  </a:lnTo>
                  <a:lnTo>
                    <a:pt x="400" y="116"/>
                  </a:lnTo>
                  <a:lnTo>
                    <a:pt x="432" y="86"/>
                  </a:lnTo>
                  <a:lnTo>
                    <a:pt x="490" y="38"/>
                  </a:lnTo>
                  <a:lnTo>
                    <a:pt x="530" y="8"/>
                  </a:lnTo>
                  <a:lnTo>
                    <a:pt x="544" y="0"/>
                  </a:lnTo>
                  <a:lnTo>
                    <a:pt x="544" y="0"/>
                  </a:lnTo>
                  <a:lnTo>
                    <a:pt x="548" y="16"/>
                  </a:lnTo>
                  <a:lnTo>
                    <a:pt x="558" y="64"/>
                  </a:lnTo>
                  <a:lnTo>
                    <a:pt x="568" y="138"/>
                  </a:lnTo>
                  <a:lnTo>
                    <a:pt x="572" y="182"/>
                  </a:lnTo>
                  <a:lnTo>
                    <a:pt x="576" y="232"/>
                  </a:lnTo>
                  <a:lnTo>
                    <a:pt x="578" y="288"/>
                  </a:lnTo>
                  <a:lnTo>
                    <a:pt x="576" y="346"/>
                  </a:lnTo>
                  <a:lnTo>
                    <a:pt x="574" y="406"/>
                  </a:lnTo>
                  <a:lnTo>
                    <a:pt x="568" y="470"/>
                  </a:lnTo>
                  <a:lnTo>
                    <a:pt x="558" y="536"/>
                  </a:lnTo>
                  <a:lnTo>
                    <a:pt x="544" y="602"/>
                  </a:lnTo>
                  <a:lnTo>
                    <a:pt x="526" y="670"/>
                  </a:lnTo>
                  <a:lnTo>
                    <a:pt x="514" y="704"/>
                  </a:lnTo>
                  <a:lnTo>
                    <a:pt x="502" y="738"/>
                  </a:lnTo>
                  <a:lnTo>
                    <a:pt x="502" y="738"/>
                  </a:lnTo>
                  <a:close/>
                </a:path>
              </a:pathLst>
            </a:custGeom>
            <a:solidFill>
              <a:srgbClr val="f6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4"/>
            <p:cNvSpPr/>
            <p:nvPr/>
          </p:nvSpPr>
          <p:spPr>
            <a:xfrm>
              <a:off x="2324160" y="7213680"/>
              <a:ext cx="669600" cy="1514520"/>
            </a:xfrm>
            <a:custGeom>
              <a:avLst/>
              <a:gdLst>
                <a:gd name="textAreaLeft" fmla="*/ 0 w 669600"/>
                <a:gd name="textAreaRight" fmla="*/ 669600 w 66960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422" h="954">
                  <a:moveTo>
                    <a:pt x="376" y="392"/>
                  </a:moveTo>
                  <a:lnTo>
                    <a:pt x="376" y="392"/>
                  </a:lnTo>
                  <a:lnTo>
                    <a:pt x="392" y="442"/>
                  </a:lnTo>
                  <a:lnTo>
                    <a:pt x="404" y="492"/>
                  </a:lnTo>
                  <a:lnTo>
                    <a:pt x="414" y="542"/>
                  </a:lnTo>
                  <a:lnTo>
                    <a:pt x="418" y="590"/>
                  </a:lnTo>
                  <a:lnTo>
                    <a:pt x="422" y="638"/>
                  </a:lnTo>
                  <a:lnTo>
                    <a:pt x="422" y="684"/>
                  </a:lnTo>
                  <a:lnTo>
                    <a:pt x="420" y="730"/>
                  </a:lnTo>
                  <a:lnTo>
                    <a:pt x="418" y="772"/>
                  </a:lnTo>
                  <a:lnTo>
                    <a:pt x="414" y="810"/>
                  </a:lnTo>
                  <a:lnTo>
                    <a:pt x="410" y="844"/>
                  </a:lnTo>
                  <a:lnTo>
                    <a:pt x="398" y="902"/>
                  </a:lnTo>
                  <a:lnTo>
                    <a:pt x="390" y="940"/>
                  </a:lnTo>
                  <a:lnTo>
                    <a:pt x="386" y="954"/>
                  </a:lnTo>
                  <a:lnTo>
                    <a:pt x="386" y="954"/>
                  </a:lnTo>
                  <a:lnTo>
                    <a:pt x="376" y="948"/>
                  </a:lnTo>
                  <a:lnTo>
                    <a:pt x="348" y="928"/>
                  </a:lnTo>
                  <a:lnTo>
                    <a:pt x="304" y="898"/>
                  </a:lnTo>
                  <a:lnTo>
                    <a:pt x="280" y="878"/>
                  </a:lnTo>
                  <a:lnTo>
                    <a:pt x="252" y="856"/>
                  </a:lnTo>
                  <a:lnTo>
                    <a:pt x="224" y="830"/>
                  </a:lnTo>
                  <a:lnTo>
                    <a:pt x="196" y="800"/>
                  </a:lnTo>
                  <a:lnTo>
                    <a:pt x="168" y="768"/>
                  </a:lnTo>
                  <a:lnTo>
                    <a:pt x="140" y="734"/>
                  </a:lnTo>
                  <a:lnTo>
                    <a:pt x="114" y="696"/>
                  </a:lnTo>
                  <a:lnTo>
                    <a:pt x="88" y="654"/>
                  </a:lnTo>
                  <a:lnTo>
                    <a:pt x="66" y="610"/>
                  </a:lnTo>
                  <a:lnTo>
                    <a:pt x="46" y="562"/>
                  </a:lnTo>
                  <a:lnTo>
                    <a:pt x="46" y="562"/>
                  </a:lnTo>
                  <a:lnTo>
                    <a:pt x="30" y="512"/>
                  </a:lnTo>
                  <a:lnTo>
                    <a:pt x="16" y="462"/>
                  </a:lnTo>
                  <a:lnTo>
                    <a:pt x="8" y="412"/>
                  </a:lnTo>
                  <a:lnTo>
                    <a:pt x="2" y="362"/>
                  </a:lnTo>
                  <a:lnTo>
                    <a:pt x="0" y="314"/>
                  </a:lnTo>
                  <a:lnTo>
                    <a:pt x="0" y="268"/>
                  </a:lnTo>
                  <a:lnTo>
                    <a:pt x="0" y="224"/>
                  </a:lnTo>
                  <a:lnTo>
                    <a:pt x="4" y="182"/>
                  </a:lnTo>
                  <a:lnTo>
                    <a:pt x="8" y="144"/>
                  </a:lnTo>
                  <a:lnTo>
                    <a:pt x="12" y="108"/>
                  </a:lnTo>
                  <a:lnTo>
                    <a:pt x="22" y="50"/>
                  </a:lnTo>
                  <a:lnTo>
                    <a:pt x="30" y="1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4" y="6"/>
                  </a:lnTo>
                  <a:lnTo>
                    <a:pt x="74" y="24"/>
                  </a:lnTo>
                  <a:lnTo>
                    <a:pt x="116" y="54"/>
                  </a:lnTo>
                  <a:lnTo>
                    <a:pt x="142" y="74"/>
                  </a:lnTo>
                  <a:lnTo>
                    <a:pt x="168" y="96"/>
                  </a:lnTo>
                  <a:lnTo>
                    <a:pt x="196" y="122"/>
                  </a:lnTo>
                  <a:lnTo>
                    <a:pt x="224" y="152"/>
                  </a:lnTo>
                  <a:lnTo>
                    <a:pt x="254" y="184"/>
                  </a:lnTo>
                  <a:lnTo>
                    <a:pt x="282" y="220"/>
                  </a:lnTo>
                  <a:lnTo>
                    <a:pt x="308" y="258"/>
                  </a:lnTo>
                  <a:lnTo>
                    <a:pt x="334" y="300"/>
                  </a:lnTo>
                  <a:lnTo>
                    <a:pt x="356" y="344"/>
                  </a:lnTo>
                  <a:lnTo>
                    <a:pt x="376" y="392"/>
                  </a:lnTo>
                  <a:lnTo>
                    <a:pt x="376" y="392"/>
                  </a:lnTo>
                  <a:close/>
                </a:path>
              </a:pathLst>
            </a:custGeom>
            <a:solidFill>
              <a:srgbClr val="f6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5"/>
            <p:cNvSpPr/>
            <p:nvPr/>
          </p:nvSpPr>
          <p:spPr>
            <a:xfrm>
              <a:off x="2028600" y="8321760"/>
              <a:ext cx="907920" cy="4572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2" h="288">
                  <a:moveTo>
                    <a:pt x="332" y="26"/>
                  </a:moveTo>
                  <a:lnTo>
                    <a:pt x="332" y="26"/>
                  </a:lnTo>
                  <a:lnTo>
                    <a:pt x="362" y="38"/>
                  </a:lnTo>
                  <a:lnTo>
                    <a:pt x="388" y="52"/>
                  </a:lnTo>
                  <a:lnTo>
                    <a:pt x="414" y="70"/>
                  </a:lnTo>
                  <a:lnTo>
                    <a:pt x="436" y="88"/>
                  </a:lnTo>
                  <a:lnTo>
                    <a:pt x="458" y="106"/>
                  </a:lnTo>
                  <a:lnTo>
                    <a:pt x="478" y="126"/>
                  </a:lnTo>
                  <a:lnTo>
                    <a:pt x="496" y="144"/>
                  </a:lnTo>
                  <a:lnTo>
                    <a:pt x="512" y="164"/>
                  </a:lnTo>
                  <a:lnTo>
                    <a:pt x="538" y="198"/>
                  </a:lnTo>
                  <a:lnTo>
                    <a:pt x="558" y="228"/>
                  </a:lnTo>
                  <a:lnTo>
                    <a:pt x="572" y="256"/>
                  </a:lnTo>
                  <a:lnTo>
                    <a:pt x="572" y="256"/>
                  </a:lnTo>
                  <a:lnTo>
                    <a:pt x="544" y="264"/>
                  </a:lnTo>
                  <a:lnTo>
                    <a:pt x="510" y="274"/>
                  </a:lnTo>
                  <a:lnTo>
                    <a:pt x="466" y="282"/>
                  </a:lnTo>
                  <a:lnTo>
                    <a:pt x="442" y="284"/>
                  </a:lnTo>
                  <a:lnTo>
                    <a:pt x="416" y="286"/>
                  </a:lnTo>
                  <a:lnTo>
                    <a:pt x="388" y="288"/>
                  </a:lnTo>
                  <a:lnTo>
                    <a:pt x="360" y="286"/>
                  </a:lnTo>
                  <a:lnTo>
                    <a:pt x="330" y="284"/>
                  </a:lnTo>
                  <a:lnTo>
                    <a:pt x="300" y="280"/>
                  </a:lnTo>
                  <a:lnTo>
                    <a:pt x="270" y="272"/>
                  </a:lnTo>
                  <a:lnTo>
                    <a:pt x="240" y="262"/>
                  </a:lnTo>
                  <a:lnTo>
                    <a:pt x="240" y="262"/>
                  </a:lnTo>
                  <a:lnTo>
                    <a:pt x="212" y="250"/>
                  </a:lnTo>
                  <a:lnTo>
                    <a:pt x="184" y="234"/>
                  </a:lnTo>
                  <a:lnTo>
                    <a:pt x="160" y="218"/>
                  </a:lnTo>
                  <a:lnTo>
                    <a:pt x="136" y="200"/>
                  </a:lnTo>
                  <a:lnTo>
                    <a:pt x="114" y="182"/>
                  </a:lnTo>
                  <a:lnTo>
                    <a:pt x="94" y="162"/>
                  </a:lnTo>
                  <a:lnTo>
                    <a:pt x="76" y="142"/>
                  </a:lnTo>
                  <a:lnTo>
                    <a:pt x="60" y="124"/>
                  </a:lnTo>
                  <a:lnTo>
                    <a:pt x="34" y="88"/>
                  </a:lnTo>
                  <a:lnTo>
                    <a:pt x="14" y="6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30" y="22"/>
                  </a:lnTo>
                  <a:lnTo>
                    <a:pt x="64" y="14"/>
                  </a:lnTo>
                  <a:lnTo>
                    <a:pt x="106" y="6"/>
                  </a:lnTo>
                  <a:lnTo>
                    <a:pt x="132" y="2"/>
                  </a:lnTo>
                  <a:lnTo>
                    <a:pt x="158" y="0"/>
                  </a:lnTo>
                  <a:lnTo>
                    <a:pt x="184" y="0"/>
                  </a:lnTo>
                  <a:lnTo>
                    <a:pt x="214" y="0"/>
                  </a:lnTo>
                  <a:lnTo>
                    <a:pt x="242" y="4"/>
                  </a:lnTo>
                  <a:lnTo>
                    <a:pt x="272" y="8"/>
                  </a:lnTo>
                  <a:lnTo>
                    <a:pt x="302" y="16"/>
                  </a:lnTo>
                  <a:lnTo>
                    <a:pt x="332" y="26"/>
                  </a:lnTo>
                  <a:lnTo>
                    <a:pt x="332" y="26"/>
                  </a:lnTo>
                  <a:close/>
                </a:path>
              </a:pathLst>
            </a:custGeom>
            <a:solidFill>
              <a:srgbClr val="f6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6"/>
            <p:cNvSpPr/>
            <p:nvPr/>
          </p:nvSpPr>
          <p:spPr>
            <a:xfrm>
              <a:off x="2936880" y="8683920"/>
              <a:ext cx="771480" cy="38736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486" h="244">
                  <a:moveTo>
                    <a:pt x="282" y="22"/>
                  </a:moveTo>
                  <a:lnTo>
                    <a:pt x="282" y="22"/>
                  </a:lnTo>
                  <a:lnTo>
                    <a:pt x="306" y="32"/>
                  </a:lnTo>
                  <a:lnTo>
                    <a:pt x="330" y="44"/>
                  </a:lnTo>
                  <a:lnTo>
                    <a:pt x="350" y="58"/>
                  </a:lnTo>
                  <a:lnTo>
                    <a:pt x="370" y="74"/>
                  </a:lnTo>
                  <a:lnTo>
                    <a:pt x="388" y="90"/>
                  </a:lnTo>
                  <a:lnTo>
                    <a:pt x="406" y="106"/>
                  </a:lnTo>
                  <a:lnTo>
                    <a:pt x="434" y="138"/>
                  </a:lnTo>
                  <a:lnTo>
                    <a:pt x="456" y="168"/>
                  </a:lnTo>
                  <a:lnTo>
                    <a:pt x="472" y="192"/>
                  </a:lnTo>
                  <a:lnTo>
                    <a:pt x="486" y="216"/>
                  </a:lnTo>
                  <a:lnTo>
                    <a:pt x="486" y="216"/>
                  </a:lnTo>
                  <a:lnTo>
                    <a:pt x="460" y="224"/>
                  </a:lnTo>
                  <a:lnTo>
                    <a:pt x="432" y="232"/>
                  </a:lnTo>
                  <a:lnTo>
                    <a:pt x="396" y="238"/>
                  </a:lnTo>
                  <a:lnTo>
                    <a:pt x="352" y="242"/>
                  </a:lnTo>
                  <a:lnTo>
                    <a:pt x="330" y="244"/>
                  </a:lnTo>
                  <a:lnTo>
                    <a:pt x="304" y="242"/>
                  </a:lnTo>
                  <a:lnTo>
                    <a:pt x="280" y="240"/>
                  </a:lnTo>
                  <a:lnTo>
                    <a:pt x="256" y="236"/>
                  </a:lnTo>
                  <a:lnTo>
                    <a:pt x="230" y="230"/>
                  </a:lnTo>
                  <a:lnTo>
                    <a:pt x="204" y="222"/>
                  </a:lnTo>
                  <a:lnTo>
                    <a:pt x="204" y="222"/>
                  </a:lnTo>
                  <a:lnTo>
                    <a:pt x="180" y="210"/>
                  </a:lnTo>
                  <a:lnTo>
                    <a:pt x="158" y="198"/>
                  </a:lnTo>
                  <a:lnTo>
                    <a:pt x="136" y="184"/>
                  </a:lnTo>
                  <a:lnTo>
                    <a:pt x="116" y="168"/>
                  </a:lnTo>
                  <a:lnTo>
                    <a:pt x="98" y="154"/>
                  </a:lnTo>
                  <a:lnTo>
                    <a:pt x="82" y="136"/>
                  </a:lnTo>
                  <a:lnTo>
                    <a:pt x="52" y="104"/>
                  </a:lnTo>
                  <a:lnTo>
                    <a:pt x="30" y="74"/>
                  </a:lnTo>
                  <a:lnTo>
                    <a:pt x="14" y="5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6" y="18"/>
                  </a:lnTo>
                  <a:lnTo>
                    <a:pt x="54" y="12"/>
                  </a:lnTo>
                  <a:lnTo>
                    <a:pt x="92" y="4"/>
                  </a:lnTo>
                  <a:lnTo>
                    <a:pt x="134" y="0"/>
                  </a:lnTo>
                  <a:lnTo>
                    <a:pt x="158" y="0"/>
                  </a:lnTo>
                  <a:lnTo>
                    <a:pt x="182" y="0"/>
                  </a:lnTo>
                  <a:lnTo>
                    <a:pt x="206" y="2"/>
                  </a:lnTo>
                  <a:lnTo>
                    <a:pt x="232" y="6"/>
                  </a:lnTo>
                  <a:lnTo>
                    <a:pt x="258" y="12"/>
                  </a:lnTo>
                  <a:lnTo>
                    <a:pt x="282" y="22"/>
                  </a:lnTo>
                  <a:lnTo>
                    <a:pt x="282" y="22"/>
                  </a:lnTo>
                  <a:close/>
                </a:path>
              </a:pathLst>
            </a:custGeom>
            <a:solidFill>
              <a:srgbClr val="f6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7"/>
            <p:cNvSpPr/>
            <p:nvPr/>
          </p:nvSpPr>
          <p:spPr>
            <a:xfrm>
              <a:off x="2936880" y="7959960"/>
              <a:ext cx="1438200" cy="796680"/>
            </a:xfrm>
            <a:custGeom>
              <a:avLst/>
              <a:gdLst>
                <a:gd name="textAreaLeft" fmla="*/ 0 w 1438200"/>
                <a:gd name="textAreaRight" fmla="*/ 1438560 w 143820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906" h="502">
                  <a:moveTo>
                    <a:pt x="388" y="76"/>
                  </a:moveTo>
                  <a:lnTo>
                    <a:pt x="388" y="76"/>
                  </a:lnTo>
                  <a:lnTo>
                    <a:pt x="436" y="54"/>
                  </a:lnTo>
                  <a:lnTo>
                    <a:pt x="482" y="38"/>
                  </a:lnTo>
                  <a:lnTo>
                    <a:pt x="528" y="24"/>
                  </a:lnTo>
                  <a:lnTo>
                    <a:pt x="574" y="14"/>
                  </a:lnTo>
                  <a:lnTo>
                    <a:pt x="620" y="6"/>
                  </a:lnTo>
                  <a:lnTo>
                    <a:pt x="662" y="2"/>
                  </a:lnTo>
                  <a:lnTo>
                    <a:pt x="702" y="0"/>
                  </a:lnTo>
                  <a:lnTo>
                    <a:pt x="740" y="0"/>
                  </a:lnTo>
                  <a:lnTo>
                    <a:pt x="776" y="0"/>
                  </a:lnTo>
                  <a:lnTo>
                    <a:pt x="808" y="4"/>
                  </a:lnTo>
                  <a:lnTo>
                    <a:pt x="860" y="10"/>
                  </a:lnTo>
                  <a:lnTo>
                    <a:pt x="894" y="16"/>
                  </a:lnTo>
                  <a:lnTo>
                    <a:pt x="906" y="18"/>
                  </a:lnTo>
                  <a:lnTo>
                    <a:pt x="906" y="18"/>
                  </a:lnTo>
                  <a:lnTo>
                    <a:pt x="898" y="30"/>
                  </a:lnTo>
                  <a:lnTo>
                    <a:pt x="880" y="64"/>
                  </a:lnTo>
                  <a:lnTo>
                    <a:pt x="848" y="114"/>
                  </a:lnTo>
                  <a:lnTo>
                    <a:pt x="828" y="142"/>
                  </a:lnTo>
                  <a:lnTo>
                    <a:pt x="804" y="174"/>
                  </a:lnTo>
                  <a:lnTo>
                    <a:pt x="778" y="206"/>
                  </a:lnTo>
                  <a:lnTo>
                    <a:pt x="750" y="240"/>
                  </a:lnTo>
                  <a:lnTo>
                    <a:pt x="718" y="274"/>
                  </a:lnTo>
                  <a:lnTo>
                    <a:pt x="684" y="308"/>
                  </a:lnTo>
                  <a:lnTo>
                    <a:pt x="646" y="340"/>
                  </a:lnTo>
                  <a:lnTo>
                    <a:pt x="606" y="370"/>
                  </a:lnTo>
                  <a:lnTo>
                    <a:pt x="564" y="400"/>
                  </a:lnTo>
                  <a:lnTo>
                    <a:pt x="518" y="424"/>
                  </a:lnTo>
                  <a:lnTo>
                    <a:pt x="518" y="424"/>
                  </a:lnTo>
                  <a:lnTo>
                    <a:pt x="470" y="446"/>
                  </a:lnTo>
                  <a:lnTo>
                    <a:pt x="424" y="464"/>
                  </a:lnTo>
                  <a:lnTo>
                    <a:pt x="378" y="478"/>
                  </a:lnTo>
                  <a:lnTo>
                    <a:pt x="332" y="488"/>
                  </a:lnTo>
                  <a:lnTo>
                    <a:pt x="288" y="496"/>
                  </a:lnTo>
                  <a:lnTo>
                    <a:pt x="244" y="500"/>
                  </a:lnTo>
                  <a:lnTo>
                    <a:pt x="204" y="502"/>
                  </a:lnTo>
                  <a:lnTo>
                    <a:pt x="166" y="502"/>
                  </a:lnTo>
                  <a:lnTo>
                    <a:pt x="130" y="500"/>
                  </a:lnTo>
                  <a:lnTo>
                    <a:pt x="98" y="498"/>
                  </a:lnTo>
                  <a:lnTo>
                    <a:pt x="46" y="492"/>
                  </a:lnTo>
                  <a:lnTo>
                    <a:pt x="12" y="486"/>
                  </a:lnTo>
                  <a:lnTo>
                    <a:pt x="0" y="484"/>
                  </a:lnTo>
                  <a:lnTo>
                    <a:pt x="0" y="484"/>
                  </a:lnTo>
                  <a:lnTo>
                    <a:pt x="8" y="470"/>
                  </a:lnTo>
                  <a:lnTo>
                    <a:pt x="26" y="438"/>
                  </a:lnTo>
                  <a:lnTo>
                    <a:pt x="58" y="388"/>
                  </a:lnTo>
                  <a:lnTo>
                    <a:pt x="78" y="360"/>
                  </a:lnTo>
                  <a:lnTo>
                    <a:pt x="102" y="328"/>
                  </a:lnTo>
                  <a:lnTo>
                    <a:pt x="128" y="296"/>
                  </a:lnTo>
                  <a:lnTo>
                    <a:pt x="156" y="262"/>
                  </a:lnTo>
                  <a:lnTo>
                    <a:pt x="188" y="228"/>
                  </a:lnTo>
                  <a:lnTo>
                    <a:pt x="222" y="194"/>
                  </a:lnTo>
                  <a:lnTo>
                    <a:pt x="260" y="162"/>
                  </a:lnTo>
                  <a:lnTo>
                    <a:pt x="300" y="130"/>
                  </a:lnTo>
                  <a:lnTo>
                    <a:pt x="344" y="102"/>
                  </a:lnTo>
                  <a:lnTo>
                    <a:pt x="388" y="76"/>
                  </a:lnTo>
                  <a:lnTo>
                    <a:pt x="388" y="76"/>
                  </a:lnTo>
                  <a:close/>
                </a:path>
              </a:pathLst>
            </a:custGeom>
            <a:solidFill>
              <a:srgbClr val="f6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8"/>
            <p:cNvSpPr/>
            <p:nvPr/>
          </p:nvSpPr>
          <p:spPr>
            <a:xfrm>
              <a:off x="2320920" y="8687160"/>
              <a:ext cx="666720" cy="8539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420" h="538">
                  <a:moveTo>
                    <a:pt x="384" y="0"/>
                  </a:moveTo>
                  <a:lnTo>
                    <a:pt x="384" y="0"/>
                  </a:lnTo>
                  <a:lnTo>
                    <a:pt x="374" y="4"/>
                  </a:lnTo>
                  <a:lnTo>
                    <a:pt x="368" y="10"/>
                  </a:lnTo>
                  <a:lnTo>
                    <a:pt x="364" y="20"/>
                  </a:lnTo>
                  <a:lnTo>
                    <a:pt x="364" y="30"/>
                  </a:lnTo>
                  <a:lnTo>
                    <a:pt x="364" y="30"/>
                  </a:lnTo>
                  <a:lnTo>
                    <a:pt x="366" y="56"/>
                  </a:lnTo>
                  <a:lnTo>
                    <a:pt x="368" y="82"/>
                  </a:lnTo>
                  <a:lnTo>
                    <a:pt x="366" y="110"/>
                  </a:lnTo>
                  <a:lnTo>
                    <a:pt x="364" y="136"/>
                  </a:lnTo>
                  <a:lnTo>
                    <a:pt x="358" y="164"/>
                  </a:lnTo>
                  <a:lnTo>
                    <a:pt x="350" y="190"/>
                  </a:lnTo>
                  <a:lnTo>
                    <a:pt x="340" y="216"/>
                  </a:lnTo>
                  <a:lnTo>
                    <a:pt x="330" y="242"/>
                  </a:lnTo>
                  <a:lnTo>
                    <a:pt x="318" y="268"/>
                  </a:lnTo>
                  <a:lnTo>
                    <a:pt x="304" y="292"/>
                  </a:lnTo>
                  <a:lnTo>
                    <a:pt x="288" y="316"/>
                  </a:lnTo>
                  <a:lnTo>
                    <a:pt x="272" y="340"/>
                  </a:lnTo>
                  <a:lnTo>
                    <a:pt x="256" y="362"/>
                  </a:lnTo>
                  <a:lnTo>
                    <a:pt x="238" y="382"/>
                  </a:lnTo>
                  <a:lnTo>
                    <a:pt x="220" y="400"/>
                  </a:lnTo>
                  <a:lnTo>
                    <a:pt x="200" y="418"/>
                  </a:lnTo>
                  <a:lnTo>
                    <a:pt x="200" y="418"/>
                  </a:lnTo>
                  <a:lnTo>
                    <a:pt x="178" y="436"/>
                  </a:lnTo>
                  <a:lnTo>
                    <a:pt x="154" y="452"/>
                  </a:lnTo>
                  <a:lnTo>
                    <a:pt x="132" y="466"/>
                  </a:lnTo>
                  <a:lnTo>
                    <a:pt x="110" y="476"/>
                  </a:lnTo>
                  <a:lnTo>
                    <a:pt x="90" y="482"/>
                  </a:lnTo>
                  <a:lnTo>
                    <a:pt x="70" y="484"/>
                  </a:lnTo>
                  <a:lnTo>
                    <a:pt x="50" y="484"/>
                  </a:lnTo>
                  <a:lnTo>
                    <a:pt x="34" y="480"/>
                  </a:lnTo>
                  <a:lnTo>
                    <a:pt x="34" y="480"/>
                  </a:lnTo>
                  <a:lnTo>
                    <a:pt x="24" y="480"/>
                  </a:lnTo>
                  <a:lnTo>
                    <a:pt x="14" y="482"/>
                  </a:lnTo>
                  <a:lnTo>
                    <a:pt x="6" y="488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0" y="508"/>
                  </a:lnTo>
                  <a:lnTo>
                    <a:pt x="2" y="518"/>
                  </a:lnTo>
                  <a:lnTo>
                    <a:pt x="8" y="526"/>
                  </a:lnTo>
                  <a:lnTo>
                    <a:pt x="16" y="530"/>
                  </a:lnTo>
                  <a:lnTo>
                    <a:pt x="16" y="530"/>
                  </a:lnTo>
                  <a:lnTo>
                    <a:pt x="40" y="536"/>
                  </a:lnTo>
                  <a:lnTo>
                    <a:pt x="66" y="538"/>
                  </a:lnTo>
                  <a:lnTo>
                    <a:pt x="92" y="534"/>
                  </a:lnTo>
                  <a:lnTo>
                    <a:pt x="120" y="528"/>
                  </a:lnTo>
                  <a:lnTo>
                    <a:pt x="148" y="516"/>
                  </a:lnTo>
                  <a:lnTo>
                    <a:pt x="178" y="500"/>
                  </a:lnTo>
                  <a:lnTo>
                    <a:pt x="206" y="480"/>
                  </a:lnTo>
                  <a:lnTo>
                    <a:pt x="236" y="458"/>
                  </a:lnTo>
                  <a:lnTo>
                    <a:pt x="236" y="458"/>
                  </a:lnTo>
                  <a:lnTo>
                    <a:pt x="256" y="438"/>
                  </a:lnTo>
                  <a:lnTo>
                    <a:pt x="276" y="416"/>
                  </a:lnTo>
                  <a:lnTo>
                    <a:pt x="296" y="394"/>
                  </a:lnTo>
                  <a:lnTo>
                    <a:pt x="314" y="370"/>
                  </a:lnTo>
                  <a:lnTo>
                    <a:pt x="332" y="344"/>
                  </a:lnTo>
                  <a:lnTo>
                    <a:pt x="350" y="318"/>
                  </a:lnTo>
                  <a:lnTo>
                    <a:pt x="364" y="290"/>
                  </a:lnTo>
                  <a:lnTo>
                    <a:pt x="378" y="260"/>
                  </a:lnTo>
                  <a:lnTo>
                    <a:pt x="390" y="232"/>
                  </a:lnTo>
                  <a:lnTo>
                    <a:pt x="402" y="202"/>
                  </a:lnTo>
                  <a:lnTo>
                    <a:pt x="410" y="172"/>
                  </a:lnTo>
                  <a:lnTo>
                    <a:pt x="416" y="140"/>
                  </a:lnTo>
                  <a:lnTo>
                    <a:pt x="420" y="110"/>
                  </a:lnTo>
                  <a:lnTo>
                    <a:pt x="420" y="80"/>
                  </a:lnTo>
                  <a:lnTo>
                    <a:pt x="418" y="50"/>
                  </a:lnTo>
                  <a:lnTo>
                    <a:pt x="414" y="20"/>
                  </a:lnTo>
                  <a:lnTo>
                    <a:pt x="414" y="20"/>
                  </a:lnTo>
                  <a:lnTo>
                    <a:pt x="410" y="10"/>
                  </a:lnTo>
                  <a:lnTo>
                    <a:pt x="404" y="4"/>
                  </a:lnTo>
                  <a:lnTo>
                    <a:pt x="394" y="0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6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59"/>
            <p:cNvSpPr/>
            <p:nvPr/>
          </p:nvSpPr>
          <p:spPr>
            <a:xfrm>
              <a:off x="663480" y="6743880"/>
              <a:ext cx="2171520" cy="1761840"/>
            </a:xfrm>
            <a:custGeom>
              <a:avLst/>
              <a:gdLst>
                <a:gd name="textAreaLeft" fmla="*/ 0 w 2171520"/>
                <a:gd name="textAreaRight" fmla="*/ 2171880 w 21715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368" h="1110">
                  <a:moveTo>
                    <a:pt x="904" y="290"/>
                  </a:moveTo>
                  <a:lnTo>
                    <a:pt x="904" y="290"/>
                  </a:lnTo>
                  <a:lnTo>
                    <a:pt x="938" y="320"/>
                  </a:lnTo>
                  <a:lnTo>
                    <a:pt x="970" y="350"/>
                  </a:lnTo>
                  <a:lnTo>
                    <a:pt x="1002" y="382"/>
                  </a:lnTo>
                  <a:lnTo>
                    <a:pt x="1032" y="414"/>
                  </a:lnTo>
                  <a:lnTo>
                    <a:pt x="1060" y="446"/>
                  </a:lnTo>
                  <a:lnTo>
                    <a:pt x="1086" y="480"/>
                  </a:lnTo>
                  <a:lnTo>
                    <a:pt x="1112" y="514"/>
                  </a:lnTo>
                  <a:lnTo>
                    <a:pt x="1136" y="548"/>
                  </a:lnTo>
                  <a:lnTo>
                    <a:pt x="1158" y="582"/>
                  </a:lnTo>
                  <a:lnTo>
                    <a:pt x="1178" y="616"/>
                  </a:lnTo>
                  <a:lnTo>
                    <a:pt x="1216" y="684"/>
                  </a:lnTo>
                  <a:lnTo>
                    <a:pt x="1250" y="752"/>
                  </a:lnTo>
                  <a:lnTo>
                    <a:pt x="1278" y="816"/>
                  </a:lnTo>
                  <a:lnTo>
                    <a:pt x="1302" y="876"/>
                  </a:lnTo>
                  <a:lnTo>
                    <a:pt x="1320" y="932"/>
                  </a:lnTo>
                  <a:lnTo>
                    <a:pt x="1336" y="982"/>
                  </a:lnTo>
                  <a:lnTo>
                    <a:pt x="1348" y="1026"/>
                  </a:lnTo>
                  <a:lnTo>
                    <a:pt x="1364" y="1088"/>
                  </a:lnTo>
                  <a:lnTo>
                    <a:pt x="1368" y="1110"/>
                  </a:lnTo>
                  <a:lnTo>
                    <a:pt x="1368" y="1110"/>
                  </a:lnTo>
                  <a:lnTo>
                    <a:pt x="1346" y="1110"/>
                  </a:lnTo>
                  <a:lnTo>
                    <a:pt x="1280" y="1108"/>
                  </a:lnTo>
                  <a:lnTo>
                    <a:pt x="1236" y="1104"/>
                  </a:lnTo>
                  <a:lnTo>
                    <a:pt x="1182" y="1098"/>
                  </a:lnTo>
                  <a:lnTo>
                    <a:pt x="1124" y="1090"/>
                  </a:lnTo>
                  <a:lnTo>
                    <a:pt x="1058" y="1080"/>
                  </a:lnTo>
                  <a:lnTo>
                    <a:pt x="990" y="1064"/>
                  </a:lnTo>
                  <a:lnTo>
                    <a:pt x="918" y="1046"/>
                  </a:lnTo>
                  <a:lnTo>
                    <a:pt x="842" y="1022"/>
                  </a:lnTo>
                  <a:lnTo>
                    <a:pt x="766" y="994"/>
                  </a:lnTo>
                  <a:lnTo>
                    <a:pt x="728" y="978"/>
                  </a:lnTo>
                  <a:lnTo>
                    <a:pt x="690" y="960"/>
                  </a:lnTo>
                  <a:lnTo>
                    <a:pt x="652" y="940"/>
                  </a:lnTo>
                  <a:lnTo>
                    <a:pt x="614" y="920"/>
                  </a:lnTo>
                  <a:lnTo>
                    <a:pt x="576" y="898"/>
                  </a:lnTo>
                  <a:lnTo>
                    <a:pt x="538" y="872"/>
                  </a:lnTo>
                  <a:lnTo>
                    <a:pt x="502" y="846"/>
                  </a:lnTo>
                  <a:lnTo>
                    <a:pt x="466" y="818"/>
                  </a:lnTo>
                  <a:lnTo>
                    <a:pt x="466" y="818"/>
                  </a:lnTo>
                  <a:lnTo>
                    <a:pt x="432" y="790"/>
                  </a:lnTo>
                  <a:lnTo>
                    <a:pt x="398" y="760"/>
                  </a:lnTo>
                  <a:lnTo>
                    <a:pt x="368" y="728"/>
                  </a:lnTo>
                  <a:lnTo>
                    <a:pt x="338" y="696"/>
                  </a:lnTo>
                  <a:lnTo>
                    <a:pt x="310" y="662"/>
                  </a:lnTo>
                  <a:lnTo>
                    <a:pt x="282" y="630"/>
                  </a:lnTo>
                  <a:lnTo>
                    <a:pt x="258" y="596"/>
                  </a:lnTo>
                  <a:lnTo>
                    <a:pt x="234" y="562"/>
                  </a:lnTo>
                  <a:lnTo>
                    <a:pt x="212" y="528"/>
                  </a:lnTo>
                  <a:lnTo>
                    <a:pt x="190" y="492"/>
                  </a:lnTo>
                  <a:lnTo>
                    <a:pt x="152" y="424"/>
                  </a:lnTo>
                  <a:lnTo>
                    <a:pt x="120" y="358"/>
                  </a:lnTo>
                  <a:lnTo>
                    <a:pt x="92" y="294"/>
                  </a:lnTo>
                  <a:lnTo>
                    <a:pt x="68" y="234"/>
                  </a:lnTo>
                  <a:lnTo>
                    <a:pt x="48" y="178"/>
                  </a:lnTo>
                  <a:lnTo>
                    <a:pt x="32" y="128"/>
                  </a:lnTo>
                  <a:lnTo>
                    <a:pt x="20" y="84"/>
                  </a:lnTo>
                  <a:lnTo>
                    <a:pt x="6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88" y="2"/>
                  </a:lnTo>
                  <a:lnTo>
                    <a:pt x="134" y="6"/>
                  </a:lnTo>
                  <a:lnTo>
                    <a:pt x="186" y="10"/>
                  </a:lnTo>
                  <a:lnTo>
                    <a:pt x="246" y="18"/>
                  </a:lnTo>
                  <a:lnTo>
                    <a:pt x="310" y="30"/>
                  </a:lnTo>
                  <a:lnTo>
                    <a:pt x="380" y="44"/>
                  </a:lnTo>
                  <a:lnTo>
                    <a:pt x="452" y="64"/>
                  </a:lnTo>
                  <a:lnTo>
                    <a:pt x="526" y="86"/>
                  </a:lnTo>
                  <a:lnTo>
                    <a:pt x="602" y="116"/>
                  </a:lnTo>
                  <a:lnTo>
                    <a:pt x="642" y="132"/>
                  </a:lnTo>
                  <a:lnTo>
                    <a:pt x="680" y="150"/>
                  </a:lnTo>
                  <a:lnTo>
                    <a:pt x="718" y="168"/>
                  </a:lnTo>
                  <a:lnTo>
                    <a:pt x="756" y="190"/>
                  </a:lnTo>
                  <a:lnTo>
                    <a:pt x="794" y="212"/>
                  </a:lnTo>
                  <a:lnTo>
                    <a:pt x="830" y="236"/>
                  </a:lnTo>
                  <a:lnTo>
                    <a:pt x="868" y="262"/>
                  </a:lnTo>
                  <a:lnTo>
                    <a:pt x="904" y="290"/>
                  </a:lnTo>
                  <a:lnTo>
                    <a:pt x="904" y="290"/>
                  </a:lnTo>
                  <a:close/>
                </a:path>
              </a:pathLst>
            </a:custGeom>
            <a:solidFill>
              <a:srgbClr val="ea6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0"/>
            <p:cNvSpPr/>
            <p:nvPr/>
          </p:nvSpPr>
          <p:spPr>
            <a:xfrm>
              <a:off x="637920" y="8236080"/>
              <a:ext cx="2197080" cy="825480"/>
            </a:xfrm>
            <a:custGeom>
              <a:avLst/>
              <a:gdLst>
                <a:gd name="textAreaLeft" fmla="*/ 0 w 2197080"/>
                <a:gd name="textAreaRight" fmla="*/ 2197440 w 219708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1384" h="520">
                  <a:moveTo>
                    <a:pt x="676" y="8"/>
                  </a:moveTo>
                  <a:lnTo>
                    <a:pt x="676" y="8"/>
                  </a:lnTo>
                  <a:lnTo>
                    <a:pt x="712" y="4"/>
                  </a:lnTo>
                  <a:lnTo>
                    <a:pt x="746" y="2"/>
                  </a:lnTo>
                  <a:lnTo>
                    <a:pt x="782" y="0"/>
                  </a:lnTo>
                  <a:lnTo>
                    <a:pt x="816" y="2"/>
                  </a:lnTo>
                  <a:lnTo>
                    <a:pt x="882" y="4"/>
                  </a:lnTo>
                  <a:lnTo>
                    <a:pt x="948" y="12"/>
                  </a:lnTo>
                  <a:lnTo>
                    <a:pt x="1010" y="24"/>
                  </a:lnTo>
                  <a:lnTo>
                    <a:pt x="1068" y="38"/>
                  </a:lnTo>
                  <a:lnTo>
                    <a:pt x="1122" y="54"/>
                  </a:lnTo>
                  <a:lnTo>
                    <a:pt x="1174" y="70"/>
                  </a:lnTo>
                  <a:lnTo>
                    <a:pt x="1220" y="88"/>
                  </a:lnTo>
                  <a:lnTo>
                    <a:pt x="1260" y="106"/>
                  </a:lnTo>
                  <a:lnTo>
                    <a:pt x="1296" y="122"/>
                  </a:lnTo>
                  <a:lnTo>
                    <a:pt x="1328" y="138"/>
                  </a:lnTo>
                  <a:lnTo>
                    <a:pt x="1370" y="162"/>
                  </a:lnTo>
                  <a:lnTo>
                    <a:pt x="1384" y="170"/>
                  </a:lnTo>
                  <a:lnTo>
                    <a:pt x="1384" y="170"/>
                  </a:lnTo>
                  <a:lnTo>
                    <a:pt x="1370" y="182"/>
                  </a:lnTo>
                  <a:lnTo>
                    <a:pt x="1332" y="216"/>
                  </a:lnTo>
                  <a:lnTo>
                    <a:pt x="1272" y="266"/>
                  </a:lnTo>
                  <a:lnTo>
                    <a:pt x="1234" y="294"/>
                  </a:lnTo>
                  <a:lnTo>
                    <a:pt x="1190" y="322"/>
                  </a:lnTo>
                  <a:lnTo>
                    <a:pt x="1142" y="352"/>
                  </a:lnTo>
                  <a:lnTo>
                    <a:pt x="1090" y="382"/>
                  </a:lnTo>
                  <a:lnTo>
                    <a:pt x="1036" y="412"/>
                  </a:lnTo>
                  <a:lnTo>
                    <a:pt x="976" y="438"/>
                  </a:lnTo>
                  <a:lnTo>
                    <a:pt x="914" y="462"/>
                  </a:lnTo>
                  <a:lnTo>
                    <a:pt x="848" y="484"/>
                  </a:lnTo>
                  <a:lnTo>
                    <a:pt x="814" y="492"/>
                  </a:lnTo>
                  <a:lnTo>
                    <a:pt x="780" y="500"/>
                  </a:lnTo>
                  <a:lnTo>
                    <a:pt x="744" y="508"/>
                  </a:lnTo>
                  <a:lnTo>
                    <a:pt x="710" y="512"/>
                  </a:lnTo>
                  <a:lnTo>
                    <a:pt x="710" y="512"/>
                  </a:lnTo>
                  <a:lnTo>
                    <a:pt x="674" y="516"/>
                  </a:lnTo>
                  <a:lnTo>
                    <a:pt x="638" y="520"/>
                  </a:lnTo>
                  <a:lnTo>
                    <a:pt x="604" y="520"/>
                  </a:lnTo>
                  <a:lnTo>
                    <a:pt x="570" y="520"/>
                  </a:lnTo>
                  <a:lnTo>
                    <a:pt x="502" y="516"/>
                  </a:lnTo>
                  <a:lnTo>
                    <a:pt x="438" y="508"/>
                  </a:lnTo>
                  <a:lnTo>
                    <a:pt x="376" y="498"/>
                  </a:lnTo>
                  <a:lnTo>
                    <a:pt x="318" y="484"/>
                  </a:lnTo>
                  <a:lnTo>
                    <a:pt x="262" y="468"/>
                  </a:lnTo>
                  <a:lnTo>
                    <a:pt x="212" y="450"/>
                  </a:lnTo>
                  <a:lnTo>
                    <a:pt x="166" y="432"/>
                  </a:lnTo>
                  <a:lnTo>
                    <a:pt x="124" y="416"/>
                  </a:lnTo>
                  <a:lnTo>
                    <a:pt x="88" y="398"/>
                  </a:lnTo>
                  <a:lnTo>
                    <a:pt x="58" y="384"/>
                  </a:lnTo>
                  <a:lnTo>
                    <a:pt x="16" y="360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14" y="338"/>
                  </a:lnTo>
                  <a:lnTo>
                    <a:pt x="52" y="304"/>
                  </a:lnTo>
                  <a:lnTo>
                    <a:pt x="114" y="256"/>
                  </a:lnTo>
                  <a:lnTo>
                    <a:pt x="152" y="228"/>
                  </a:lnTo>
                  <a:lnTo>
                    <a:pt x="194" y="198"/>
                  </a:lnTo>
                  <a:lnTo>
                    <a:pt x="242" y="168"/>
                  </a:lnTo>
                  <a:lnTo>
                    <a:pt x="294" y="138"/>
                  </a:lnTo>
                  <a:lnTo>
                    <a:pt x="350" y="110"/>
                  </a:lnTo>
                  <a:lnTo>
                    <a:pt x="408" y="84"/>
                  </a:lnTo>
                  <a:lnTo>
                    <a:pt x="472" y="58"/>
                  </a:lnTo>
                  <a:lnTo>
                    <a:pt x="536" y="38"/>
                  </a:lnTo>
                  <a:lnTo>
                    <a:pt x="570" y="28"/>
                  </a:lnTo>
                  <a:lnTo>
                    <a:pt x="606" y="20"/>
                  </a:lnTo>
                  <a:lnTo>
                    <a:pt x="640" y="14"/>
                  </a:lnTo>
                  <a:lnTo>
                    <a:pt x="676" y="8"/>
                  </a:lnTo>
                  <a:lnTo>
                    <a:pt x="676" y="8"/>
                  </a:lnTo>
                  <a:close/>
                </a:path>
              </a:pathLst>
            </a:custGeom>
            <a:solidFill>
              <a:srgbClr val="ea6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1"/>
            <p:cNvSpPr/>
            <p:nvPr/>
          </p:nvSpPr>
          <p:spPr>
            <a:xfrm>
              <a:off x="1901880" y="8506080"/>
              <a:ext cx="933480" cy="113004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130040"/>
                <a:gd name="textAreaBottom" fmla="*/ 1130400 h 1130040"/>
              </a:gdLst>
              <a:ahLst/>
              <a:rect l="textAreaLeft" t="textAreaTop" r="textAreaRight" b="textAreaBottom"/>
              <a:pathLst>
                <a:path w="588" h="712">
                  <a:moveTo>
                    <a:pt x="170" y="256"/>
                  </a:moveTo>
                  <a:lnTo>
                    <a:pt x="170" y="256"/>
                  </a:lnTo>
                  <a:lnTo>
                    <a:pt x="202" y="220"/>
                  </a:lnTo>
                  <a:lnTo>
                    <a:pt x="236" y="188"/>
                  </a:lnTo>
                  <a:lnTo>
                    <a:pt x="270" y="160"/>
                  </a:lnTo>
                  <a:lnTo>
                    <a:pt x="304" y="134"/>
                  </a:lnTo>
                  <a:lnTo>
                    <a:pt x="340" y="110"/>
                  </a:lnTo>
                  <a:lnTo>
                    <a:pt x="374" y="88"/>
                  </a:lnTo>
                  <a:lnTo>
                    <a:pt x="408" y="70"/>
                  </a:lnTo>
                  <a:lnTo>
                    <a:pt x="440" y="54"/>
                  </a:lnTo>
                  <a:lnTo>
                    <a:pt x="500" y="30"/>
                  </a:lnTo>
                  <a:lnTo>
                    <a:pt x="546" y="12"/>
                  </a:lnTo>
                  <a:lnTo>
                    <a:pt x="578" y="4"/>
                  </a:lnTo>
                  <a:lnTo>
                    <a:pt x="588" y="0"/>
                  </a:lnTo>
                  <a:lnTo>
                    <a:pt x="588" y="0"/>
                  </a:lnTo>
                  <a:lnTo>
                    <a:pt x="588" y="12"/>
                  </a:lnTo>
                  <a:lnTo>
                    <a:pt x="584" y="44"/>
                  </a:lnTo>
                  <a:lnTo>
                    <a:pt x="576" y="92"/>
                  </a:lnTo>
                  <a:lnTo>
                    <a:pt x="564" y="154"/>
                  </a:lnTo>
                  <a:lnTo>
                    <a:pt x="554" y="188"/>
                  </a:lnTo>
                  <a:lnTo>
                    <a:pt x="542" y="226"/>
                  </a:lnTo>
                  <a:lnTo>
                    <a:pt x="528" y="264"/>
                  </a:lnTo>
                  <a:lnTo>
                    <a:pt x="512" y="302"/>
                  </a:lnTo>
                  <a:lnTo>
                    <a:pt x="492" y="340"/>
                  </a:lnTo>
                  <a:lnTo>
                    <a:pt x="470" y="380"/>
                  </a:lnTo>
                  <a:lnTo>
                    <a:pt x="446" y="418"/>
                  </a:lnTo>
                  <a:lnTo>
                    <a:pt x="416" y="456"/>
                  </a:lnTo>
                  <a:lnTo>
                    <a:pt x="416" y="456"/>
                  </a:lnTo>
                  <a:lnTo>
                    <a:pt x="386" y="492"/>
                  </a:lnTo>
                  <a:lnTo>
                    <a:pt x="352" y="524"/>
                  </a:lnTo>
                  <a:lnTo>
                    <a:pt x="318" y="552"/>
                  </a:lnTo>
                  <a:lnTo>
                    <a:pt x="282" y="580"/>
                  </a:lnTo>
                  <a:lnTo>
                    <a:pt x="248" y="602"/>
                  </a:lnTo>
                  <a:lnTo>
                    <a:pt x="214" y="624"/>
                  </a:lnTo>
                  <a:lnTo>
                    <a:pt x="180" y="642"/>
                  </a:lnTo>
                  <a:lnTo>
                    <a:pt x="146" y="658"/>
                  </a:lnTo>
                  <a:lnTo>
                    <a:pt x="88" y="682"/>
                  </a:lnTo>
                  <a:lnTo>
                    <a:pt x="42" y="700"/>
                  </a:lnTo>
                  <a:lnTo>
                    <a:pt x="10" y="710"/>
                  </a:lnTo>
                  <a:lnTo>
                    <a:pt x="0" y="712"/>
                  </a:lnTo>
                  <a:lnTo>
                    <a:pt x="0" y="712"/>
                  </a:lnTo>
                  <a:lnTo>
                    <a:pt x="0" y="700"/>
                  </a:lnTo>
                  <a:lnTo>
                    <a:pt x="2" y="668"/>
                  </a:lnTo>
                  <a:lnTo>
                    <a:pt x="10" y="620"/>
                  </a:lnTo>
                  <a:lnTo>
                    <a:pt x="24" y="558"/>
                  </a:lnTo>
                  <a:lnTo>
                    <a:pt x="34" y="524"/>
                  </a:lnTo>
                  <a:lnTo>
                    <a:pt x="44" y="486"/>
                  </a:lnTo>
                  <a:lnTo>
                    <a:pt x="58" y="450"/>
                  </a:lnTo>
                  <a:lnTo>
                    <a:pt x="76" y="410"/>
                  </a:lnTo>
                  <a:lnTo>
                    <a:pt x="94" y="372"/>
                  </a:lnTo>
                  <a:lnTo>
                    <a:pt x="116" y="332"/>
                  </a:lnTo>
                  <a:lnTo>
                    <a:pt x="142" y="294"/>
                  </a:lnTo>
                  <a:lnTo>
                    <a:pt x="170" y="256"/>
                  </a:lnTo>
                  <a:lnTo>
                    <a:pt x="170" y="256"/>
                  </a:lnTo>
                  <a:close/>
                </a:path>
              </a:pathLst>
            </a:custGeom>
            <a:solidFill>
              <a:srgbClr val="ea6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2"/>
            <p:cNvSpPr/>
            <p:nvPr/>
          </p:nvSpPr>
          <p:spPr>
            <a:xfrm>
              <a:off x="2835360" y="7550280"/>
              <a:ext cx="790560" cy="95544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498" h="602">
                  <a:moveTo>
                    <a:pt x="146" y="216"/>
                  </a:moveTo>
                  <a:lnTo>
                    <a:pt x="146" y="216"/>
                  </a:lnTo>
                  <a:lnTo>
                    <a:pt x="172" y="186"/>
                  </a:lnTo>
                  <a:lnTo>
                    <a:pt x="200" y="160"/>
                  </a:lnTo>
                  <a:lnTo>
                    <a:pt x="230" y="134"/>
                  </a:lnTo>
                  <a:lnTo>
                    <a:pt x="258" y="112"/>
                  </a:lnTo>
                  <a:lnTo>
                    <a:pt x="288" y="92"/>
                  </a:lnTo>
                  <a:lnTo>
                    <a:pt x="318" y="76"/>
                  </a:lnTo>
                  <a:lnTo>
                    <a:pt x="346" y="60"/>
                  </a:lnTo>
                  <a:lnTo>
                    <a:pt x="374" y="46"/>
                  </a:lnTo>
                  <a:lnTo>
                    <a:pt x="424" y="24"/>
                  </a:lnTo>
                  <a:lnTo>
                    <a:pt x="462" y="10"/>
                  </a:lnTo>
                  <a:lnTo>
                    <a:pt x="498" y="0"/>
                  </a:lnTo>
                  <a:lnTo>
                    <a:pt x="498" y="0"/>
                  </a:lnTo>
                  <a:lnTo>
                    <a:pt x="496" y="36"/>
                  </a:lnTo>
                  <a:lnTo>
                    <a:pt x="488" y="78"/>
                  </a:lnTo>
                  <a:lnTo>
                    <a:pt x="478" y="130"/>
                  </a:lnTo>
                  <a:lnTo>
                    <a:pt x="470" y="160"/>
                  </a:lnTo>
                  <a:lnTo>
                    <a:pt x="460" y="190"/>
                  </a:lnTo>
                  <a:lnTo>
                    <a:pt x="448" y="222"/>
                  </a:lnTo>
                  <a:lnTo>
                    <a:pt x="434" y="256"/>
                  </a:lnTo>
                  <a:lnTo>
                    <a:pt x="418" y="288"/>
                  </a:lnTo>
                  <a:lnTo>
                    <a:pt x="400" y="322"/>
                  </a:lnTo>
                  <a:lnTo>
                    <a:pt x="378" y="354"/>
                  </a:lnTo>
                  <a:lnTo>
                    <a:pt x="354" y="386"/>
                  </a:lnTo>
                  <a:lnTo>
                    <a:pt x="354" y="386"/>
                  </a:lnTo>
                  <a:lnTo>
                    <a:pt x="326" y="416"/>
                  </a:lnTo>
                  <a:lnTo>
                    <a:pt x="298" y="442"/>
                  </a:lnTo>
                  <a:lnTo>
                    <a:pt x="270" y="468"/>
                  </a:lnTo>
                  <a:lnTo>
                    <a:pt x="240" y="490"/>
                  </a:lnTo>
                  <a:lnTo>
                    <a:pt x="210" y="510"/>
                  </a:lnTo>
                  <a:lnTo>
                    <a:pt x="182" y="528"/>
                  </a:lnTo>
                  <a:lnTo>
                    <a:pt x="152" y="542"/>
                  </a:lnTo>
                  <a:lnTo>
                    <a:pt x="126" y="556"/>
                  </a:lnTo>
                  <a:lnTo>
                    <a:pt x="76" y="578"/>
                  </a:lnTo>
                  <a:lnTo>
                    <a:pt x="36" y="592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4" y="566"/>
                  </a:lnTo>
                  <a:lnTo>
                    <a:pt x="10" y="524"/>
                  </a:lnTo>
                  <a:lnTo>
                    <a:pt x="22" y="472"/>
                  </a:lnTo>
                  <a:lnTo>
                    <a:pt x="30" y="442"/>
                  </a:lnTo>
                  <a:lnTo>
                    <a:pt x="40" y="412"/>
                  </a:lnTo>
                  <a:lnTo>
                    <a:pt x="50" y="380"/>
                  </a:lnTo>
                  <a:lnTo>
                    <a:pt x="64" y="346"/>
                  </a:lnTo>
                  <a:lnTo>
                    <a:pt x="80" y="314"/>
                  </a:lnTo>
                  <a:lnTo>
                    <a:pt x="100" y="280"/>
                  </a:lnTo>
                  <a:lnTo>
                    <a:pt x="122" y="248"/>
                  </a:lnTo>
                  <a:lnTo>
                    <a:pt x="146" y="216"/>
                  </a:lnTo>
                  <a:lnTo>
                    <a:pt x="146" y="216"/>
                  </a:lnTo>
                  <a:close/>
                </a:path>
              </a:pathLst>
            </a:custGeom>
            <a:solidFill>
              <a:srgbClr val="ea6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3"/>
            <p:cNvSpPr/>
            <p:nvPr/>
          </p:nvSpPr>
          <p:spPr>
            <a:xfrm>
              <a:off x="2359080" y="6315120"/>
              <a:ext cx="806400" cy="219060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508" h="1380">
                  <a:moveTo>
                    <a:pt x="2" y="724"/>
                  </a:moveTo>
                  <a:lnTo>
                    <a:pt x="2" y="724"/>
                  </a:lnTo>
                  <a:lnTo>
                    <a:pt x="0" y="688"/>
                  </a:lnTo>
                  <a:lnTo>
                    <a:pt x="0" y="652"/>
                  </a:lnTo>
                  <a:lnTo>
                    <a:pt x="0" y="618"/>
                  </a:lnTo>
                  <a:lnTo>
                    <a:pt x="2" y="582"/>
                  </a:lnTo>
                  <a:lnTo>
                    <a:pt x="12" y="516"/>
                  </a:lnTo>
                  <a:lnTo>
                    <a:pt x="22" y="450"/>
                  </a:lnTo>
                  <a:lnTo>
                    <a:pt x="38" y="386"/>
                  </a:lnTo>
                  <a:lnTo>
                    <a:pt x="56" y="328"/>
                  </a:lnTo>
                  <a:lnTo>
                    <a:pt x="74" y="270"/>
                  </a:lnTo>
                  <a:lnTo>
                    <a:pt x="96" y="218"/>
                  </a:lnTo>
                  <a:lnTo>
                    <a:pt x="116" y="172"/>
                  </a:lnTo>
                  <a:lnTo>
                    <a:pt x="136" y="128"/>
                  </a:lnTo>
                  <a:lnTo>
                    <a:pt x="156" y="92"/>
                  </a:lnTo>
                  <a:lnTo>
                    <a:pt x="172" y="60"/>
                  </a:lnTo>
                  <a:lnTo>
                    <a:pt x="198" y="16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20" y="12"/>
                  </a:lnTo>
                  <a:lnTo>
                    <a:pt x="252" y="50"/>
                  </a:lnTo>
                  <a:lnTo>
                    <a:pt x="272" y="76"/>
                  </a:lnTo>
                  <a:lnTo>
                    <a:pt x="296" y="108"/>
                  </a:lnTo>
                  <a:lnTo>
                    <a:pt x="322" y="144"/>
                  </a:lnTo>
                  <a:lnTo>
                    <a:pt x="348" y="186"/>
                  </a:lnTo>
                  <a:lnTo>
                    <a:pt x="374" y="232"/>
                  </a:lnTo>
                  <a:lnTo>
                    <a:pt x="402" y="282"/>
                  </a:lnTo>
                  <a:lnTo>
                    <a:pt x="426" y="336"/>
                  </a:lnTo>
                  <a:lnTo>
                    <a:pt x="450" y="394"/>
                  </a:lnTo>
                  <a:lnTo>
                    <a:pt x="470" y="456"/>
                  </a:lnTo>
                  <a:lnTo>
                    <a:pt x="486" y="520"/>
                  </a:lnTo>
                  <a:lnTo>
                    <a:pt x="494" y="552"/>
                  </a:lnTo>
                  <a:lnTo>
                    <a:pt x="500" y="586"/>
                  </a:lnTo>
                  <a:lnTo>
                    <a:pt x="504" y="622"/>
                  </a:lnTo>
                  <a:lnTo>
                    <a:pt x="508" y="658"/>
                  </a:lnTo>
                  <a:lnTo>
                    <a:pt x="508" y="658"/>
                  </a:lnTo>
                  <a:lnTo>
                    <a:pt x="508" y="692"/>
                  </a:lnTo>
                  <a:lnTo>
                    <a:pt x="508" y="728"/>
                  </a:lnTo>
                  <a:lnTo>
                    <a:pt x="508" y="762"/>
                  </a:lnTo>
                  <a:lnTo>
                    <a:pt x="506" y="798"/>
                  </a:lnTo>
                  <a:lnTo>
                    <a:pt x="498" y="866"/>
                  </a:lnTo>
                  <a:lnTo>
                    <a:pt x="486" y="930"/>
                  </a:lnTo>
                  <a:lnTo>
                    <a:pt x="470" y="994"/>
                  </a:lnTo>
                  <a:lnTo>
                    <a:pt x="452" y="1054"/>
                  </a:lnTo>
                  <a:lnTo>
                    <a:pt x="434" y="1110"/>
                  </a:lnTo>
                  <a:lnTo>
                    <a:pt x="414" y="1162"/>
                  </a:lnTo>
                  <a:lnTo>
                    <a:pt x="392" y="1210"/>
                  </a:lnTo>
                  <a:lnTo>
                    <a:pt x="372" y="1252"/>
                  </a:lnTo>
                  <a:lnTo>
                    <a:pt x="354" y="1290"/>
                  </a:lnTo>
                  <a:lnTo>
                    <a:pt x="336" y="1320"/>
                  </a:lnTo>
                  <a:lnTo>
                    <a:pt x="310" y="1364"/>
                  </a:lnTo>
                  <a:lnTo>
                    <a:pt x="300" y="1380"/>
                  </a:lnTo>
                  <a:lnTo>
                    <a:pt x="300" y="1380"/>
                  </a:lnTo>
                  <a:lnTo>
                    <a:pt x="288" y="1368"/>
                  </a:lnTo>
                  <a:lnTo>
                    <a:pt x="258" y="1332"/>
                  </a:lnTo>
                  <a:lnTo>
                    <a:pt x="236" y="1304"/>
                  </a:lnTo>
                  <a:lnTo>
                    <a:pt x="212" y="1272"/>
                  </a:lnTo>
                  <a:lnTo>
                    <a:pt x="186" y="1236"/>
                  </a:lnTo>
                  <a:lnTo>
                    <a:pt x="160" y="1194"/>
                  </a:lnTo>
                  <a:lnTo>
                    <a:pt x="134" y="1148"/>
                  </a:lnTo>
                  <a:lnTo>
                    <a:pt x="108" y="1098"/>
                  </a:lnTo>
                  <a:lnTo>
                    <a:pt x="82" y="1044"/>
                  </a:lnTo>
                  <a:lnTo>
                    <a:pt x="58" y="986"/>
                  </a:lnTo>
                  <a:lnTo>
                    <a:pt x="38" y="926"/>
                  </a:lnTo>
                  <a:lnTo>
                    <a:pt x="22" y="860"/>
                  </a:lnTo>
                  <a:lnTo>
                    <a:pt x="14" y="828"/>
                  </a:lnTo>
                  <a:lnTo>
                    <a:pt x="8" y="794"/>
                  </a:lnTo>
                  <a:lnTo>
                    <a:pt x="4" y="758"/>
                  </a:lnTo>
                  <a:lnTo>
                    <a:pt x="2" y="724"/>
                  </a:lnTo>
                  <a:lnTo>
                    <a:pt x="2" y="724"/>
                  </a:lnTo>
                  <a:close/>
                </a:path>
              </a:pathLst>
            </a:custGeom>
            <a:solidFill>
              <a:srgbClr val="ea6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4"/>
            <p:cNvSpPr/>
            <p:nvPr/>
          </p:nvSpPr>
          <p:spPr>
            <a:xfrm>
              <a:off x="2778120" y="8448840"/>
              <a:ext cx="825480" cy="114300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520" h="720">
                  <a:moveTo>
                    <a:pt x="418" y="712"/>
                  </a:moveTo>
                  <a:lnTo>
                    <a:pt x="418" y="712"/>
                  </a:lnTo>
                  <a:lnTo>
                    <a:pt x="426" y="716"/>
                  </a:lnTo>
                  <a:lnTo>
                    <a:pt x="432" y="718"/>
                  </a:lnTo>
                  <a:lnTo>
                    <a:pt x="438" y="720"/>
                  </a:lnTo>
                  <a:lnTo>
                    <a:pt x="446" y="720"/>
                  </a:lnTo>
                  <a:lnTo>
                    <a:pt x="452" y="718"/>
                  </a:lnTo>
                  <a:lnTo>
                    <a:pt x="458" y="714"/>
                  </a:lnTo>
                  <a:lnTo>
                    <a:pt x="464" y="710"/>
                  </a:lnTo>
                  <a:lnTo>
                    <a:pt x="470" y="706"/>
                  </a:lnTo>
                  <a:lnTo>
                    <a:pt x="470" y="706"/>
                  </a:lnTo>
                  <a:lnTo>
                    <a:pt x="482" y="688"/>
                  </a:lnTo>
                  <a:lnTo>
                    <a:pt x="492" y="670"/>
                  </a:lnTo>
                  <a:lnTo>
                    <a:pt x="500" y="650"/>
                  </a:lnTo>
                  <a:lnTo>
                    <a:pt x="508" y="628"/>
                  </a:lnTo>
                  <a:lnTo>
                    <a:pt x="514" y="606"/>
                  </a:lnTo>
                  <a:lnTo>
                    <a:pt x="518" y="584"/>
                  </a:lnTo>
                  <a:lnTo>
                    <a:pt x="520" y="560"/>
                  </a:lnTo>
                  <a:lnTo>
                    <a:pt x="520" y="536"/>
                  </a:lnTo>
                  <a:lnTo>
                    <a:pt x="520" y="512"/>
                  </a:lnTo>
                  <a:lnTo>
                    <a:pt x="518" y="486"/>
                  </a:lnTo>
                  <a:lnTo>
                    <a:pt x="514" y="460"/>
                  </a:lnTo>
                  <a:lnTo>
                    <a:pt x="508" y="434"/>
                  </a:lnTo>
                  <a:lnTo>
                    <a:pt x="500" y="406"/>
                  </a:lnTo>
                  <a:lnTo>
                    <a:pt x="492" y="380"/>
                  </a:lnTo>
                  <a:lnTo>
                    <a:pt x="480" y="352"/>
                  </a:lnTo>
                  <a:lnTo>
                    <a:pt x="468" y="324"/>
                  </a:lnTo>
                  <a:lnTo>
                    <a:pt x="468" y="324"/>
                  </a:lnTo>
                  <a:lnTo>
                    <a:pt x="454" y="296"/>
                  </a:lnTo>
                  <a:lnTo>
                    <a:pt x="438" y="268"/>
                  </a:lnTo>
                  <a:lnTo>
                    <a:pt x="420" y="242"/>
                  </a:lnTo>
                  <a:lnTo>
                    <a:pt x="402" y="214"/>
                  </a:lnTo>
                  <a:lnTo>
                    <a:pt x="380" y="186"/>
                  </a:lnTo>
                  <a:lnTo>
                    <a:pt x="356" y="160"/>
                  </a:lnTo>
                  <a:lnTo>
                    <a:pt x="332" y="134"/>
                  </a:lnTo>
                  <a:lnTo>
                    <a:pt x="306" y="110"/>
                  </a:lnTo>
                  <a:lnTo>
                    <a:pt x="278" y="88"/>
                  </a:lnTo>
                  <a:lnTo>
                    <a:pt x="248" y="68"/>
                  </a:lnTo>
                  <a:lnTo>
                    <a:pt x="216" y="50"/>
                  </a:lnTo>
                  <a:lnTo>
                    <a:pt x="184" y="34"/>
                  </a:lnTo>
                  <a:lnTo>
                    <a:pt x="148" y="20"/>
                  </a:lnTo>
                  <a:lnTo>
                    <a:pt x="114" y="10"/>
                  </a:lnTo>
                  <a:lnTo>
                    <a:pt x="76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6" y="56"/>
                  </a:lnTo>
                  <a:lnTo>
                    <a:pt x="10" y="60"/>
                  </a:lnTo>
                  <a:lnTo>
                    <a:pt x="16" y="66"/>
                  </a:lnTo>
                  <a:lnTo>
                    <a:pt x="22" y="68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68" y="74"/>
                  </a:lnTo>
                  <a:lnTo>
                    <a:pt x="98" y="80"/>
                  </a:lnTo>
                  <a:lnTo>
                    <a:pt x="130" y="90"/>
                  </a:lnTo>
                  <a:lnTo>
                    <a:pt x="158" y="100"/>
                  </a:lnTo>
                  <a:lnTo>
                    <a:pt x="186" y="114"/>
                  </a:lnTo>
                  <a:lnTo>
                    <a:pt x="214" y="130"/>
                  </a:lnTo>
                  <a:lnTo>
                    <a:pt x="238" y="148"/>
                  </a:lnTo>
                  <a:lnTo>
                    <a:pt x="262" y="168"/>
                  </a:lnTo>
                  <a:lnTo>
                    <a:pt x="286" y="190"/>
                  </a:lnTo>
                  <a:lnTo>
                    <a:pt x="306" y="212"/>
                  </a:lnTo>
                  <a:lnTo>
                    <a:pt x="326" y="234"/>
                  </a:lnTo>
                  <a:lnTo>
                    <a:pt x="346" y="258"/>
                  </a:lnTo>
                  <a:lnTo>
                    <a:pt x="362" y="282"/>
                  </a:lnTo>
                  <a:lnTo>
                    <a:pt x="378" y="306"/>
                  </a:lnTo>
                  <a:lnTo>
                    <a:pt x="392" y="330"/>
                  </a:lnTo>
                  <a:lnTo>
                    <a:pt x="404" y="354"/>
                  </a:lnTo>
                  <a:lnTo>
                    <a:pt x="404" y="354"/>
                  </a:lnTo>
                  <a:lnTo>
                    <a:pt x="422" y="400"/>
                  </a:lnTo>
                  <a:lnTo>
                    <a:pt x="436" y="444"/>
                  </a:lnTo>
                  <a:lnTo>
                    <a:pt x="444" y="488"/>
                  </a:lnTo>
                  <a:lnTo>
                    <a:pt x="448" y="508"/>
                  </a:lnTo>
                  <a:lnTo>
                    <a:pt x="448" y="528"/>
                  </a:lnTo>
                  <a:lnTo>
                    <a:pt x="448" y="548"/>
                  </a:lnTo>
                  <a:lnTo>
                    <a:pt x="448" y="568"/>
                  </a:lnTo>
                  <a:lnTo>
                    <a:pt x="444" y="586"/>
                  </a:lnTo>
                  <a:lnTo>
                    <a:pt x="440" y="602"/>
                  </a:lnTo>
                  <a:lnTo>
                    <a:pt x="436" y="618"/>
                  </a:lnTo>
                  <a:lnTo>
                    <a:pt x="428" y="634"/>
                  </a:lnTo>
                  <a:lnTo>
                    <a:pt x="422" y="648"/>
                  </a:lnTo>
                  <a:lnTo>
                    <a:pt x="412" y="662"/>
                  </a:lnTo>
                  <a:lnTo>
                    <a:pt x="412" y="662"/>
                  </a:lnTo>
                  <a:lnTo>
                    <a:pt x="408" y="668"/>
                  </a:lnTo>
                  <a:lnTo>
                    <a:pt x="406" y="674"/>
                  </a:lnTo>
                  <a:lnTo>
                    <a:pt x="404" y="682"/>
                  </a:lnTo>
                  <a:lnTo>
                    <a:pt x="406" y="688"/>
                  </a:lnTo>
                  <a:lnTo>
                    <a:pt x="406" y="696"/>
                  </a:lnTo>
                  <a:lnTo>
                    <a:pt x="410" y="702"/>
                  </a:lnTo>
                  <a:lnTo>
                    <a:pt x="414" y="708"/>
                  </a:lnTo>
                  <a:lnTo>
                    <a:pt x="418" y="712"/>
                  </a:lnTo>
                  <a:lnTo>
                    <a:pt x="418" y="712"/>
                  </a:lnTo>
                  <a:close/>
                </a:path>
              </a:pathLst>
            </a:custGeom>
            <a:solidFill>
              <a:srgbClr val="ea6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34893360" y="6708600"/>
            <a:ext cx="2708280" cy="219744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2197440"/>
              <a:gd name="textAreaBottom" fmla="*/ 2197800 h 2197440"/>
            </a:gdLst>
            <a:ahLst/>
            <a:rect l="textAreaLeft" t="textAreaTop" r="textAreaRight" b="textAreaBottom"/>
            <a:pathLst>
              <a:path w="1706" h="1384">
                <a:moveTo>
                  <a:pt x="1264" y="1370"/>
                </a:moveTo>
                <a:lnTo>
                  <a:pt x="1706" y="1104"/>
                </a:lnTo>
                <a:lnTo>
                  <a:pt x="1264" y="838"/>
                </a:lnTo>
                <a:lnTo>
                  <a:pt x="1264" y="838"/>
                </a:lnTo>
                <a:lnTo>
                  <a:pt x="1244" y="828"/>
                </a:lnTo>
                <a:lnTo>
                  <a:pt x="1232" y="824"/>
                </a:lnTo>
                <a:lnTo>
                  <a:pt x="1222" y="822"/>
                </a:lnTo>
                <a:lnTo>
                  <a:pt x="1210" y="822"/>
                </a:lnTo>
                <a:lnTo>
                  <a:pt x="1200" y="824"/>
                </a:lnTo>
                <a:lnTo>
                  <a:pt x="1190" y="828"/>
                </a:lnTo>
                <a:lnTo>
                  <a:pt x="1182" y="832"/>
                </a:lnTo>
                <a:lnTo>
                  <a:pt x="1182" y="832"/>
                </a:lnTo>
                <a:lnTo>
                  <a:pt x="1176" y="842"/>
                </a:lnTo>
                <a:lnTo>
                  <a:pt x="1172" y="854"/>
                </a:lnTo>
                <a:lnTo>
                  <a:pt x="1170" y="866"/>
                </a:lnTo>
                <a:lnTo>
                  <a:pt x="1170" y="880"/>
                </a:lnTo>
                <a:lnTo>
                  <a:pt x="1172" y="896"/>
                </a:lnTo>
                <a:lnTo>
                  <a:pt x="1174" y="910"/>
                </a:lnTo>
                <a:lnTo>
                  <a:pt x="1180" y="924"/>
                </a:lnTo>
                <a:lnTo>
                  <a:pt x="1188" y="934"/>
                </a:lnTo>
                <a:lnTo>
                  <a:pt x="1188" y="934"/>
                </a:lnTo>
                <a:lnTo>
                  <a:pt x="1206" y="958"/>
                </a:lnTo>
                <a:lnTo>
                  <a:pt x="1228" y="992"/>
                </a:lnTo>
                <a:lnTo>
                  <a:pt x="540" y="992"/>
                </a:lnTo>
                <a:lnTo>
                  <a:pt x="540" y="992"/>
                </a:lnTo>
                <a:lnTo>
                  <a:pt x="558" y="964"/>
                </a:lnTo>
                <a:lnTo>
                  <a:pt x="574" y="934"/>
                </a:lnTo>
                <a:lnTo>
                  <a:pt x="586" y="902"/>
                </a:lnTo>
                <a:lnTo>
                  <a:pt x="598" y="870"/>
                </a:lnTo>
                <a:lnTo>
                  <a:pt x="606" y="836"/>
                </a:lnTo>
                <a:lnTo>
                  <a:pt x="612" y="800"/>
                </a:lnTo>
                <a:lnTo>
                  <a:pt x="616" y="764"/>
                </a:lnTo>
                <a:lnTo>
                  <a:pt x="616" y="728"/>
                </a:lnTo>
                <a:lnTo>
                  <a:pt x="616" y="474"/>
                </a:lnTo>
                <a:lnTo>
                  <a:pt x="616" y="474"/>
                </a:lnTo>
                <a:lnTo>
                  <a:pt x="652" y="498"/>
                </a:lnTo>
                <a:lnTo>
                  <a:pt x="676" y="516"/>
                </a:lnTo>
                <a:lnTo>
                  <a:pt x="676" y="516"/>
                </a:lnTo>
                <a:lnTo>
                  <a:pt x="688" y="524"/>
                </a:lnTo>
                <a:lnTo>
                  <a:pt x="702" y="530"/>
                </a:lnTo>
                <a:lnTo>
                  <a:pt x="716" y="534"/>
                </a:lnTo>
                <a:lnTo>
                  <a:pt x="730" y="536"/>
                </a:lnTo>
                <a:lnTo>
                  <a:pt x="744" y="536"/>
                </a:lnTo>
                <a:lnTo>
                  <a:pt x="758" y="532"/>
                </a:lnTo>
                <a:lnTo>
                  <a:pt x="770" y="528"/>
                </a:lnTo>
                <a:lnTo>
                  <a:pt x="778" y="522"/>
                </a:lnTo>
                <a:lnTo>
                  <a:pt x="778" y="522"/>
                </a:lnTo>
                <a:lnTo>
                  <a:pt x="784" y="514"/>
                </a:lnTo>
                <a:lnTo>
                  <a:pt x="788" y="504"/>
                </a:lnTo>
                <a:lnTo>
                  <a:pt x="788" y="494"/>
                </a:lnTo>
                <a:lnTo>
                  <a:pt x="788" y="484"/>
                </a:lnTo>
                <a:lnTo>
                  <a:pt x="786" y="472"/>
                </a:lnTo>
                <a:lnTo>
                  <a:pt x="782" y="462"/>
                </a:lnTo>
                <a:lnTo>
                  <a:pt x="772" y="442"/>
                </a:lnTo>
                <a:lnTo>
                  <a:pt x="508" y="0"/>
                </a:lnTo>
                <a:lnTo>
                  <a:pt x="242" y="442"/>
                </a:lnTo>
                <a:lnTo>
                  <a:pt x="242" y="442"/>
                </a:lnTo>
                <a:lnTo>
                  <a:pt x="232" y="462"/>
                </a:lnTo>
                <a:lnTo>
                  <a:pt x="228" y="472"/>
                </a:lnTo>
                <a:lnTo>
                  <a:pt x="226" y="484"/>
                </a:lnTo>
                <a:lnTo>
                  <a:pt x="226" y="494"/>
                </a:lnTo>
                <a:lnTo>
                  <a:pt x="228" y="504"/>
                </a:lnTo>
                <a:lnTo>
                  <a:pt x="230" y="514"/>
                </a:lnTo>
                <a:lnTo>
                  <a:pt x="236" y="522"/>
                </a:lnTo>
                <a:lnTo>
                  <a:pt x="236" y="522"/>
                </a:lnTo>
                <a:lnTo>
                  <a:pt x="246" y="528"/>
                </a:lnTo>
                <a:lnTo>
                  <a:pt x="256" y="532"/>
                </a:lnTo>
                <a:lnTo>
                  <a:pt x="270" y="536"/>
                </a:lnTo>
                <a:lnTo>
                  <a:pt x="284" y="536"/>
                </a:lnTo>
                <a:lnTo>
                  <a:pt x="298" y="534"/>
                </a:lnTo>
                <a:lnTo>
                  <a:pt x="314" y="530"/>
                </a:lnTo>
                <a:lnTo>
                  <a:pt x="326" y="524"/>
                </a:lnTo>
                <a:lnTo>
                  <a:pt x="338" y="516"/>
                </a:lnTo>
                <a:lnTo>
                  <a:pt x="338" y="516"/>
                </a:lnTo>
                <a:lnTo>
                  <a:pt x="362" y="500"/>
                </a:lnTo>
                <a:lnTo>
                  <a:pt x="394" y="476"/>
                </a:lnTo>
                <a:lnTo>
                  <a:pt x="394" y="728"/>
                </a:lnTo>
                <a:lnTo>
                  <a:pt x="394" y="728"/>
                </a:lnTo>
                <a:lnTo>
                  <a:pt x="394" y="754"/>
                </a:lnTo>
                <a:lnTo>
                  <a:pt x="390" y="780"/>
                </a:lnTo>
                <a:lnTo>
                  <a:pt x="386" y="804"/>
                </a:lnTo>
                <a:lnTo>
                  <a:pt x="378" y="826"/>
                </a:lnTo>
                <a:lnTo>
                  <a:pt x="368" y="848"/>
                </a:lnTo>
                <a:lnTo>
                  <a:pt x="358" y="868"/>
                </a:lnTo>
                <a:lnTo>
                  <a:pt x="344" y="888"/>
                </a:lnTo>
                <a:lnTo>
                  <a:pt x="328" y="904"/>
                </a:lnTo>
                <a:lnTo>
                  <a:pt x="328" y="904"/>
                </a:lnTo>
                <a:lnTo>
                  <a:pt x="306" y="924"/>
                </a:lnTo>
                <a:lnTo>
                  <a:pt x="280" y="942"/>
                </a:lnTo>
                <a:lnTo>
                  <a:pt x="250" y="958"/>
                </a:lnTo>
                <a:lnTo>
                  <a:pt x="218" y="970"/>
                </a:lnTo>
                <a:lnTo>
                  <a:pt x="184" y="980"/>
                </a:lnTo>
                <a:lnTo>
                  <a:pt x="148" y="986"/>
                </a:lnTo>
                <a:lnTo>
                  <a:pt x="110" y="992"/>
                </a:lnTo>
                <a:lnTo>
                  <a:pt x="68" y="992"/>
                </a:lnTo>
                <a:lnTo>
                  <a:pt x="0" y="992"/>
                </a:lnTo>
                <a:lnTo>
                  <a:pt x="0" y="1214"/>
                </a:lnTo>
                <a:lnTo>
                  <a:pt x="1228" y="1214"/>
                </a:lnTo>
                <a:lnTo>
                  <a:pt x="1228" y="1214"/>
                </a:lnTo>
                <a:lnTo>
                  <a:pt x="1206" y="1248"/>
                </a:lnTo>
                <a:lnTo>
                  <a:pt x="1188" y="1272"/>
                </a:lnTo>
                <a:lnTo>
                  <a:pt x="1188" y="1272"/>
                </a:lnTo>
                <a:lnTo>
                  <a:pt x="1180" y="1284"/>
                </a:lnTo>
                <a:lnTo>
                  <a:pt x="1174" y="1298"/>
                </a:lnTo>
                <a:lnTo>
                  <a:pt x="1172" y="1312"/>
                </a:lnTo>
                <a:lnTo>
                  <a:pt x="1170" y="1326"/>
                </a:lnTo>
                <a:lnTo>
                  <a:pt x="1170" y="1340"/>
                </a:lnTo>
                <a:lnTo>
                  <a:pt x="1172" y="1354"/>
                </a:lnTo>
                <a:lnTo>
                  <a:pt x="1176" y="1366"/>
                </a:lnTo>
                <a:lnTo>
                  <a:pt x="1182" y="1374"/>
                </a:lnTo>
                <a:lnTo>
                  <a:pt x="1182" y="1374"/>
                </a:lnTo>
                <a:lnTo>
                  <a:pt x="1190" y="1380"/>
                </a:lnTo>
                <a:lnTo>
                  <a:pt x="1200" y="1384"/>
                </a:lnTo>
                <a:lnTo>
                  <a:pt x="1210" y="1384"/>
                </a:lnTo>
                <a:lnTo>
                  <a:pt x="1222" y="1384"/>
                </a:lnTo>
                <a:lnTo>
                  <a:pt x="1232" y="1382"/>
                </a:lnTo>
                <a:lnTo>
                  <a:pt x="1244" y="1378"/>
                </a:lnTo>
                <a:lnTo>
                  <a:pt x="1264" y="1370"/>
                </a:lnTo>
                <a:lnTo>
                  <a:pt x="1264" y="13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グループ化 69"/>
          <p:cNvGrpSpPr/>
          <p:nvPr/>
        </p:nvGrpSpPr>
        <p:grpSpPr>
          <a:xfrm>
            <a:off x="7201080" y="6311880"/>
            <a:ext cx="3009600" cy="3009960"/>
            <a:chOff x="7201080" y="6311880"/>
            <a:chExt cx="3009600" cy="3009960"/>
          </a:xfrm>
        </p:grpSpPr>
        <p:sp>
          <p:nvSpPr>
            <p:cNvPr id="107" name="Freeform 6"/>
            <p:cNvSpPr/>
            <p:nvPr/>
          </p:nvSpPr>
          <p:spPr>
            <a:xfrm>
              <a:off x="7201080" y="6311880"/>
              <a:ext cx="3009600" cy="3009960"/>
            </a:xfrm>
            <a:custGeom>
              <a:avLst/>
              <a:gdLst>
                <a:gd name="textAreaLeft" fmla="*/ 0 w 3009600"/>
                <a:gd name="textAreaRight" fmla="*/ 3009960 w 3009600"/>
                <a:gd name="textAreaTop" fmla="*/ 0 h 3009960"/>
                <a:gd name="textAreaBottom" fmla="*/ 3010320 h 3009960"/>
              </a:gdLst>
              <a:ahLst/>
              <a:rect l="textAreaLeft" t="textAreaTop" r="textAreaRight" b="textAreaBottom"/>
              <a:pathLst>
                <a:path w="1896" h="1896">
                  <a:moveTo>
                    <a:pt x="1896" y="948"/>
                  </a:moveTo>
                  <a:lnTo>
                    <a:pt x="1896" y="948"/>
                  </a:lnTo>
                  <a:lnTo>
                    <a:pt x="1894" y="996"/>
                  </a:lnTo>
                  <a:lnTo>
                    <a:pt x="1890" y="1044"/>
                  </a:lnTo>
                  <a:lnTo>
                    <a:pt x="1884" y="1092"/>
                  </a:lnTo>
                  <a:lnTo>
                    <a:pt x="1876" y="1138"/>
                  </a:lnTo>
                  <a:lnTo>
                    <a:pt x="1866" y="1184"/>
                  </a:lnTo>
                  <a:lnTo>
                    <a:pt x="1852" y="1230"/>
                  </a:lnTo>
                  <a:lnTo>
                    <a:pt x="1838" y="1274"/>
                  </a:lnTo>
                  <a:lnTo>
                    <a:pt x="1822" y="1316"/>
                  </a:lnTo>
                  <a:lnTo>
                    <a:pt x="1802" y="1358"/>
                  </a:lnTo>
                  <a:lnTo>
                    <a:pt x="1782" y="1400"/>
                  </a:lnTo>
                  <a:lnTo>
                    <a:pt x="1758" y="1440"/>
                  </a:lnTo>
                  <a:lnTo>
                    <a:pt x="1734" y="1478"/>
                  </a:lnTo>
                  <a:lnTo>
                    <a:pt x="1708" y="1514"/>
                  </a:lnTo>
                  <a:lnTo>
                    <a:pt x="1680" y="1550"/>
                  </a:lnTo>
                  <a:lnTo>
                    <a:pt x="1650" y="1584"/>
                  </a:lnTo>
                  <a:lnTo>
                    <a:pt x="1618" y="1618"/>
                  </a:lnTo>
                  <a:lnTo>
                    <a:pt x="1584" y="1650"/>
                  </a:lnTo>
                  <a:lnTo>
                    <a:pt x="1550" y="1680"/>
                  </a:lnTo>
                  <a:lnTo>
                    <a:pt x="1514" y="1708"/>
                  </a:lnTo>
                  <a:lnTo>
                    <a:pt x="1478" y="1734"/>
                  </a:lnTo>
                  <a:lnTo>
                    <a:pt x="1440" y="1758"/>
                  </a:lnTo>
                  <a:lnTo>
                    <a:pt x="1400" y="1782"/>
                  </a:lnTo>
                  <a:lnTo>
                    <a:pt x="1358" y="1802"/>
                  </a:lnTo>
                  <a:lnTo>
                    <a:pt x="1316" y="1822"/>
                  </a:lnTo>
                  <a:lnTo>
                    <a:pt x="1274" y="1838"/>
                  </a:lnTo>
                  <a:lnTo>
                    <a:pt x="1230" y="1852"/>
                  </a:lnTo>
                  <a:lnTo>
                    <a:pt x="1184" y="1866"/>
                  </a:lnTo>
                  <a:lnTo>
                    <a:pt x="1138" y="1876"/>
                  </a:lnTo>
                  <a:lnTo>
                    <a:pt x="1092" y="1884"/>
                  </a:lnTo>
                  <a:lnTo>
                    <a:pt x="1044" y="1890"/>
                  </a:lnTo>
                  <a:lnTo>
                    <a:pt x="996" y="1894"/>
                  </a:lnTo>
                  <a:lnTo>
                    <a:pt x="948" y="1896"/>
                  </a:lnTo>
                  <a:lnTo>
                    <a:pt x="948" y="1896"/>
                  </a:lnTo>
                  <a:lnTo>
                    <a:pt x="898" y="1894"/>
                  </a:lnTo>
                  <a:lnTo>
                    <a:pt x="850" y="1890"/>
                  </a:lnTo>
                  <a:lnTo>
                    <a:pt x="804" y="1884"/>
                  </a:lnTo>
                  <a:lnTo>
                    <a:pt x="756" y="1876"/>
                  </a:lnTo>
                  <a:lnTo>
                    <a:pt x="710" y="1866"/>
                  </a:lnTo>
                  <a:lnTo>
                    <a:pt x="666" y="1852"/>
                  </a:lnTo>
                  <a:lnTo>
                    <a:pt x="622" y="1838"/>
                  </a:lnTo>
                  <a:lnTo>
                    <a:pt x="578" y="1822"/>
                  </a:lnTo>
                  <a:lnTo>
                    <a:pt x="536" y="1802"/>
                  </a:lnTo>
                  <a:lnTo>
                    <a:pt x="496" y="1782"/>
                  </a:lnTo>
                  <a:lnTo>
                    <a:pt x="456" y="1758"/>
                  </a:lnTo>
                  <a:lnTo>
                    <a:pt x="418" y="1734"/>
                  </a:lnTo>
                  <a:lnTo>
                    <a:pt x="380" y="1708"/>
                  </a:lnTo>
                  <a:lnTo>
                    <a:pt x="344" y="1680"/>
                  </a:lnTo>
                  <a:lnTo>
                    <a:pt x="310" y="1650"/>
                  </a:lnTo>
                  <a:lnTo>
                    <a:pt x="278" y="1618"/>
                  </a:lnTo>
                  <a:lnTo>
                    <a:pt x="246" y="1584"/>
                  </a:lnTo>
                  <a:lnTo>
                    <a:pt x="216" y="1550"/>
                  </a:lnTo>
                  <a:lnTo>
                    <a:pt x="188" y="1514"/>
                  </a:lnTo>
                  <a:lnTo>
                    <a:pt x="162" y="1478"/>
                  </a:lnTo>
                  <a:lnTo>
                    <a:pt x="136" y="1440"/>
                  </a:lnTo>
                  <a:lnTo>
                    <a:pt x="114" y="1400"/>
                  </a:lnTo>
                  <a:lnTo>
                    <a:pt x="94" y="1358"/>
                  </a:lnTo>
                  <a:lnTo>
                    <a:pt x="74" y="1316"/>
                  </a:lnTo>
                  <a:lnTo>
                    <a:pt x="58" y="1274"/>
                  </a:lnTo>
                  <a:lnTo>
                    <a:pt x="42" y="1230"/>
                  </a:lnTo>
                  <a:lnTo>
                    <a:pt x="30" y="1184"/>
                  </a:lnTo>
                  <a:lnTo>
                    <a:pt x="18" y="1138"/>
                  </a:lnTo>
                  <a:lnTo>
                    <a:pt x="10" y="1092"/>
                  </a:lnTo>
                  <a:lnTo>
                    <a:pt x="4" y="1044"/>
                  </a:lnTo>
                  <a:lnTo>
                    <a:pt x="0" y="996"/>
                  </a:lnTo>
                  <a:lnTo>
                    <a:pt x="0" y="948"/>
                  </a:lnTo>
                  <a:lnTo>
                    <a:pt x="0" y="948"/>
                  </a:lnTo>
                  <a:lnTo>
                    <a:pt x="0" y="898"/>
                  </a:lnTo>
                  <a:lnTo>
                    <a:pt x="4" y="850"/>
                  </a:lnTo>
                  <a:lnTo>
                    <a:pt x="10" y="804"/>
                  </a:lnTo>
                  <a:lnTo>
                    <a:pt x="18" y="756"/>
                  </a:lnTo>
                  <a:lnTo>
                    <a:pt x="30" y="710"/>
                  </a:lnTo>
                  <a:lnTo>
                    <a:pt x="42" y="666"/>
                  </a:lnTo>
                  <a:lnTo>
                    <a:pt x="58" y="622"/>
                  </a:lnTo>
                  <a:lnTo>
                    <a:pt x="74" y="578"/>
                  </a:lnTo>
                  <a:lnTo>
                    <a:pt x="94" y="536"/>
                  </a:lnTo>
                  <a:lnTo>
                    <a:pt x="114" y="496"/>
                  </a:lnTo>
                  <a:lnTo>
                    <a:pt x="136" y="456"/>
                  </a:lnTo>
                  <a:lnTo>
                    <a:pt x="162" y="418"/>
                  </a:lnTo>
                  <a:lnTo>
                    <a:pt x="188" y="380"/>
                  </a:lnTo>
                  <a:lnTo>
                    <a:pt x="216" y="344"/>
                  </a:lnTo>
                  <a:lnTo>
                    <a:pt x="246" y="310"/>
                  </a:lnTo>
                  <a:lnTo>
                    <a:pt x="278" y="278"/>
                  </a:lnTo>
                  <a:lnTo>
                    <a:pt x="310" y="246"/>
                  </a:lnTo>
                  <a:lnTo>
                    <a:pt x="344" y="216"/>
                  </a:lnTo>
                  <a:lnTo>
                    <a:pt x="380" y="188"/>
                  </a:lnTo>
                  <a:lnTo>
                    <a:pt x="418" y="162"/>
                  </a:lnTo>
                  <a:lnTo>
                    <a:pt x="456" y="136"/>
                  </a:lnTo>
                  <a:lnTo>
                    <a:pt x="496" y="114"/>
                  </a:lnTo>
                  <a:lnTo>
                    <a:pt x="536" y="94"/>
                  </a:lnTo>
                  <a:lnTo>
                    <a:pt x="578" y="74"/>
                  </a:lnTo>
                  <a:lnTo>
                    <a:pt x="622" y="58"/>
                  </a:lnTo>
                  <a:lnTo>
                    <a:pt x="666" y="42"/>
                  </a:lnTo>
                  <a:lnTo>
                    <a:pt x="710" y="30"/>
                  </a:lnTo>
                  <a:lnTo>
                    <a:pt x="756" y="18"/>
                  </a:lnTo>
                  <a:lnTo>
                    <a:pt x="804" y="10"/>
                  </a:lnTo>
                  <a:lnTo>
                    <a:pt x="850" y="4"/>
                  </a:lnTo>
                  <a:lnTo>
                    <a:pt x="898" y="0"/>
                  </a:lnTo>
                  <a:lnTo>
                    <a:pt x="948" y="0"/>
                  </a:lnTo>
                  <a:lnTo>
                    <a:pt x="948" y="0"/>
                  </a:lnTo>
                  <a:lnTo>
                    <a:pt x="996" y="0"/>
                  </a:lnTo>
                  <a:lnTo>
                    <a:pt x="1044" y="4"/>
                  </a:lnTo>
                  <a:lnTo>
                    <a:pt x="1092" y="10"/>
                  </a:lnTo>
                  <a:lnTo>
                    <a:pt x="1138" y="18"/>
                  </a:lnTo>
                  <a:lnTo>
                    <a:pt x="1184" y="30"/>
                  </a:lnTo>
                  <a:lnTo>
                    <a:pt x="1230" y="42"/>
                  </a:lnTo>
                  <a:lnTo>
                    <a:pt x="1274" y="58"/>
                  </a:lnTo>
                  <a:lnTo>
                    <a:pt x="1316" y="74"/>
                  </a:lnTo>
                  <a:lnTo>
                    <a:pt x="1358" y="94"/>
                  </a:lnTo>
                  <a:lnTo>
                    <a:pt x="1400" y="114"/>
                  </a:lnTo>
                  <a:lnTo>
                    <a:pt x="1440" y="136"/>
                  </a:lnTo>
                  <a:lnTo>
                    <a:pt x="1478" y="162"/>
                  </a:lnTo>
                  <a:lnTo>
                    <a:pt x="1514" y="188"/>
                  </a:lnTo>
                  <a:lnTo>
                    <a:pt x="1550" y="216"/>
                  </a:lnTo>
                  <a:lnTo>
                    <a:pt x="1584" y="246"/>
                  </a:lnTo>
                  <a:lnTo>
                    <a:pt x="1618" y="278"/>
                  </a:lnTo>
                  <a:lnTo>
                    <a:pt x="1650" y="310"/>
                  </a:lnTo>
                  <a:lnTo>
                    <a:pt x="1680" y="344"/>
                  </a:lnTo>
                  <a:lnTo>
                    <a:pt x="1708" y="380"/>
                  </a:lnTo>
                  <a:lnTo>
                    <a:pt x="1734" y="418"/>
                  </a:lnTo>
                  <a:lnTo>
                    <a:pt x="1758" y="456"/>
                  </a:lnTo>
                  <a:lnTo>
                    <a:pt x="1782" y="496"/>
                  </a:lnTo>
                  <a:lnTo>
                    <a:pt x="1802" y="536"/>
                  </a:lnTo>
                  <a:lnTo>
                    <a:pt x="1822" y="578"/>
                  </a:lnTo>
                  <a:lnTo>
                    <a:pt x="1838" y="622"/>
                  </a:lnTo>
                  <a:lnTo>
                    <a:pt x="1852" y="666"/>
                  </a:lnTo>
                  <a:lnTo>
                    <a:pt x="1866" y="710"/>
                  </a:lnTo>
                  <a:lnTo>
                    <a:pt x="1876" y="756"/>
                  </a:lnTo>
                  <a:lnTo>
                    <a:pt x="1884" y="804"/>
                  </a:lnTo>
                  <a:lnTo>
                    <a:pt x="1890" y="850"/>
                  </a:lnTo>
                  <a:lnTo>
                    <a:pt x="1894" y="898"/>
                  </a:lnTo>
                  <a:lnTo>
                    <a:pt x="1896" y="948"/>
                  </a:lnTo>
                  <a:lnTo>
                    <a:pt x="1896" y="948"/>
                  </a:lnTo>
                  <a:close/>
                </a:path>
              </a:pathLst>
            </a:custGeom>
            <a:solidFill>
              <a:srgbClr val="ffffff"/>
            </a:solidFill>
            <a:ln w="14292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 flipV="1">
              <a:off x="7610400" y="6857640"/>
              <a:ext cx="2133360" cy="1971720"/>
            </a:xfrm>
            <a:prstGeom prst="line">
              <a:avLst/>
            </a:prstGeom>
            <a:ln w="142920">
              <a:solidFill>
                <a:srgbClr val="e721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7839000" y="7219800"/>
              <a:ext cx="330120" cy="5554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208" h="350">
                  <a:moveTo>
                    <a:pt x="182" y="70"/>
                  </a:moveTo>
                  <a:lnTo>
                    <a:pt x="182" y="70"/>
                  </a:lnTo>
                  <a:lnTo>
                    <a:pt x="170" y="64"/>
                  </a:lnTo>
                  <a:lnTo>
                    <a:pt x="156" y="60"/>
                  </a:lnTo>
                  <a:lnTo>
                    <a:pt x="140" y="56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08" y="56"/>
                  </a:lnTo>
                  <a:lnTo>
                    <a:pt x="98" y="58"/>
                  </a:lnTo>
                  <a:lnTo>
                    <a:pt x="90" y="62"/>
                  </a:lnTo>
                  <a:lnTo>
                    <a:pt x="82" y="66"/>
                  </a:lnTo>
                  <a:lnTo>
                    <a:pt x="78" y="72"/>
                  </a:lnTo>
                  <a:lnTo>
                    <a:pt x="74" y="78"/>
                  </a:lnTo>
                  <a:lnTo>
                    <a:pt x="72" y="86"/>
                  </a:lnTo>
                  <a:lnTo>
                    <a:pt x="70" y="92"/>
                  </a:lnTo>
                  <a:lnTo>
                    <a:pt x="70" y="92"/>
                  </a:lnTo>
                  <a:lnTo>
                    <a:pt x="72" y="100"/>
                  </a:lnTo>
                  <a:lnTo>
                    <a:pt x="74" y="108"/>
                  </a:lnTo>
                  <a:lnTo>
                    <a:pt x="78" y="116"/>
                  </a:lnTo>
                  <a:lnTo>
                    <a:pt x="84" y="122"/>
                  </a:lnTo>
                  <a:lnTo>
                    <a:pt x="102" y="134"/>
                  </a:lnTo>
                  <a:lnTo>
                    <a:pt x="128" y="146"/>
                  </a:lnTo>
                  <a:lnTo>
                    <a:pt x="128" y="146"/>
                  </a:lnTo>
                  <a:lnTo>
                    <a:pt x="148" y="156"/>
                  </a:lnTo>
                  <a:lnTo>
                    <a:pt x="164" y="166"/>
                  </a:lnTo>
                  <a:lnTo>
                    <a:pt x="178" y="178"/>
                  </a:lnTo>
                  <a:lnTo>
                    <a:pt x="188" y="190"/>
                  </a:lnTo>
                  <a:lnTo>
                    <a:pt x="198" y="202"/>
                  </a:lnTo>
                  <a:lnTo>
                    <a:pt x="204" y="216"/>
                  </a:lnTo>
                  <a:lnTo>
                    <a:pt x="206" y="232"/>
                  </a:lnTo>
                  <a:lnTo>
                    <a:pt x="208" y="248"/>
                  </a:lnTo>
                  <a:lnTo>
                    <a:pt x="208" y="248"/>
                  </a:lnTo>
                  <a:lnTo>
                    <a:pt x="206" y="270"/>
                  </a:lnTo>
                  <a:lnTo>
                    <a:pt x="200" y="288"/>
                  </a:lnTo>
                  <a:lnTo>
                    <a:pt x="190" y="306"/>
                  </a:lnTo>
                  <a:lnTo>
                    <a:pt x="176" y="322"/>
                  </a:lnTo>
                  <a:lnTo>
                    <a:pt x="158" y="334"/>
                  </a:lnTo>
                  <a:lnTo>
                    <a:pt x="136" y="342"/>
                  </a:lnTo>
                  <a:lnTo>
                    <a:pt x="112" y="348"/>
                  </a:lnTo>
                  <a:lnTo>
                    <a:pt x="84" y="350"/>
                  </a:lnTo>
                  <a:lnTo>
                    <a:pt x="84" y="350"/>
                  </a:lnTo>
                  <a:lnTo>
                    <a:pt x="58" y="348"/>
                  </a:lnTo>
                  <a:lnTo>
                    <a:pt x="34" y="344"/>
                  </a:lnTo>
                  <a:lnTo>
                    <a:pt x="14" y="338"/>
                  </a:lnTo>
                  <a:lnTo>
                    <a:pt x="0" y="332"/>
                  </a:lnTo>
                  <a:lnTo>
                    <a:pt x="12" y="276"/>
                  </a:lnTo>
                  <a:lnTo>
                    <a:pt x="12" y="276"/>
                  </a:lnTo>
                  <a:lnTo>
                    <a:pt x="28" y="284"/>
                  </a:lnTo>
                  <a:lnTo>
                    <a:pt x="46" y="290"/>
                  </a:lnTo>
                  <a:lnTo>
                    <a:pt x="66" y="294"/>
                  </a:lnTo>
                  <a:lnTo>
                    <a:pt x="86" y="296"/>
                  </a:lnTo>
                  <a:lnTo>
                    <a:pt x="86" y="296"/>
                  </a:lnTo>
                  <a:lnTo>
                    <a:pt x="100" y="294"/>
                  </a:lnTo>
                  <a:lnTo>
                    <a:pt x="110" y="292"/>
                  </a:lnTo>
                  <a:lnTo>
                    <a:pt x="120" y="288"/>
                  </a:lnTo>
                  <a:lnTo>
                    <a:pt x="128" y="284"/>
                  </a:lnTo>
                  <a:lnTo>
                    <a:pt x="134" y="278"/>
                  </a:lnTo>
                  <a:lnTo>
                    <a:pt x="138" y="270"/>
                  </a:lnTo>
                  <a:lnTo>
                    <a:pt x="140" y="262"/>
                  </a:lnTo>
                  <a:lnTo>
                    <a:pt x="142" y="252"/>
                  </a:lnTo>
                  <a:lnTo>
                    <a:pt x="142" y="252"/>
                  </a:lnTo>
                  <a:lnTo>
                    <a:pt x="140" y="244"/>
                  </a:lnTo>
                  <a:lnTo>
                    <a:pt x="138" y="236"/>
                  </a:lnTo>
                  <a:lnTo>
                    <a:pt x="134" y="228"/>
                  </a:lnTo>
                  <a:lnTo>
                    <a:pt x="128" y="222"/>
                  </a:lnTo>
                  <a:lnTo>
                    <a:pt x="122" y="216"/>
                  </a:lnTo>
                  <a:lnTo>
                    <a:pt x="112" y="210"/>
                  </a:lnTo>
                  <a:lnTo>
                    <a:pt x="88" y="198"/>
                  </a:lnTo>
                  <a:lnTo>
                    <a:pt x="88" y="198"/>
                  </a:lnTo>
                  <a:lnTo>
                    <a:pt x="70" y="188"/>
                  </a:lnTo>
                  <a:lnTo>
                    <a:pt x="52" y="178"/>
                  </a:lnTo>
                  <a:lnTo>
                    <a:pt x="38" y="168"/>
                  </a:lnTo>
                  <a:lnTo>
                    <a:pt x="26" y="156"/>
                  </a:lnTo>
                  <a:lnTo>
                    <a:pt x="16" y="144"/>
                  </a:lnTo>
                  <a:lnTo>
                    <a:pt x="10" y="130"/>
                  </a:lnTo>
                  <a:lnTo>
                    <a:pt x="6" y="114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6" y="78"/>
                  </a:lnTo>
                  <a:lnTo>
                    <a:pt x="12" y="60"/>
                  </a:lnTo>
                  <a:lnTo>
                    <a:pt x="22" y="42"/>
                  </a:lnTo>
                  <a:lnTo>
                    <a:pt x="36" y="28"/>
                  </a:lnTo>
                  <a:lnTo>
                    <a:pt x="52" y="16"/>
                  </a:lnTo>
                  <a:lnTo>
                    <a:pt x="72" y="8"/>
                  </a:lnTo>
                  <a:lnTo>
                    <a:pt x="96" y="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44" y="2"/>
                  </a:lnTo>
                  <a:lnTo>
                    <a:pt x="164" y="4"/>
                  </a:lnTo>
                  <a:lnTo>
                    <a:pt x="182" y="10"/>
                  </a:lnTo>
                  <a:lnTo>
                    <a:pt x="196" y="16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040000"/>
            </a:solidFill>
            <a:ln w="2160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8210520" y="7226280"/>
              <a:ext cx="371160" cy="54288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34" h="342">
                  <a:moveTo>
                    <a:pt x="234" y="58"/>
                  </a:moveTo>
                  <a:lnTo>
                    <a:pt x="150" y="58"/>
                  </a:lnTo>
                  <a:lnTo>
                    <a:pt x="150" y="342"/>
                  </a:lnTo>
                  <a:lnTo>
                    <a:pt x="84" y="342"/>
                  </a:lnTo>
                  <a:lnTo>
                    <a:pt x="84" y="58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34" y="0"/>
                  </a:lnTo>
                  <a:lnTo>
                    <a:pt x="234" y="58"/>
                  </a:lnTo>
                  <a:close/>
                </a:path>
              </a:pathLst>
            </a:custGeom>
            <a:solidFill>
              <a:srgbClr val="040000"/>
            </a:solidFill>
            <a:ln w="2160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>
              <a:off x="8626680" y="7219800"/>
              <a:ext cx="453960" cy="55872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286" h="352">
                  <a:moveTo>
                    <a:pt x="286" y="172"/>
                  </a:moveTo>
                  <a:lnTo>
                    <a:pt x="286" y="172"/>
                  </a:lnTo>
                  <a:lnTo>
                    <a:pt x="284" y="192"/>
                  </a:lnTo>
                  <a:lnTo>
                    <a:pt x="282" y="214"/>
                  </a:lnTo>
                  <a:lnTo>
                    <a:pt x="280" y="232"/>
                  </a:lnTo>
                  <a:lnTo>
                    <a:pt x="274" y="250"/>
                  </a:lnTo>
                  <a:lnTo>
                    <a:pt x="268" y="266"/>
                  </a:lnTo>
                  <a:lnTo>
                    <a:pt x="262" y="280"/>
                  </a:lnTo>
                  <a:lnTo>
                    <a:pt x="254" y="294"/>
                  </a:lnTo>
                  <a:lnTo>
                    <a:pt x="244" y="306"/>
                  </a:lnTo>
                  <a:lnTo>
                    <a:pt x="234" y="316"/>
                  </a:lnTo>
                  <a:lnTo>
                    <a:pt x="224" y="326"/>
                  </a:lnTo>
                  <a:lnTo>
                    <a:pt x="212" y="334"/>
                  </a:lnTo>
                  <a:lnTo>
                    <a:pt x="198" y="340"/>
                  </a:lnTo>
                  <a:lnTo>
                    <a:pt x="186" y="344"/>
                  </a:lnTo>
                  <a:lnTo>
                    <a:pt x="170" y="348"/>
                  </a:lnTo>
                  <a:lnTo>
                    <a:pt x="156" y="350"/>
                  </a:lnTo>
                  <a:lnTo>
                    <a:pt x="140" y="352"/>
                  </a:lnTo>
                  <a:lnTo>
                    <a:pt x="140" y="352"/>
                  </a:lnTo>
                  <a:lnTo>
                    <a:pt x="124" y="350"/>
                  </a:lnTo>
                  <a:lnTo>
                    <a:pt x="108" y="348"/>
                  </a:lnTo>
                  <a:lnTo>
                    <a:pt x="94" y="344"/>
                  </a:lnTo>
                  <a:lnTo>
                    <a:pt x="80" y="338"/>
                  </a:lnTo>
                  <a:lnTo>
                    <a:pt x="68" y="330"/>
                  </a:lnTo>
                  <a:lnTo>
                    <a:pt x="56" y="322"/>
                  </a:lnTo>
                  <a:lnTo>
                    <a:pt x="46" y="312"/>
                  </a:lnTo>
                  <a:lnTo>
                    <a:pt x="36" y="300"/>
                  </a:lnTo>
                  <a:lnTo>
                    <a:pt x="28" y="288"/>
                  </a:lnTo>
                  <a:lnTo>
                    <a:pt x="20" y="276"/>
                  </a:lnTo>
                  <a:lnTo>
                    <a:pt x="14" y="260"/>
                  </a:lnTo>
                  <a:lnTo>
                    <a:pt x="8" y="246"/>
                  </a:lnTo>
                  <a:lnTo>
                    <a:pt x="4" y="230"/>
                  </a:lnTo>
                  <a:lnTo>
                    <a:pt x="2" y="212"/>
                  </a:lnTo>
                  <a:lnTo>
                    <a:pt x="0" y="19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58"/>
                  </a:lnTo>
                  <a:lnTo>
                    <a:pt x="2" y="140"/>
                  </a:lnTo>
                  <a:lnTo>
                    <a:pt x="4" y="122"/>
                  </a:lnTo>
                  <a:lnTo>
                    <a:pt x="10" y="106"/>
                  </a:lnTo>
                  <a:lnTo>
                    <a:pt x="14" y="90"/>
                  </a:lnTo>
                  <a:lnTo>
                    <a:pt x="22" y="76"/>
                  </a:lnTo>
                  <a:lnTo>
                    <a:pt x="30" y="62"/>
                  </a:lnTo>
                  <a:lnTo>
                    <a:pt x="38" y="50"/>
                  </a:lnTo>
                  <a:lnTo>
                    <a:pt x="48" y="38"/>
                  </a:lnTo>
                  <a:lnTo>
                    <a:pt x="60" y="28"/>
                  </a:lnTo>
                  <a:lnTo>
                    <a:pt x="72" y="20"/>
                  </a:lnTo>
                  <a:lnTo>
                    <a:pt x="84" y="12"/>
                  </a:lnTo>
                  <a:lnTo>
                    <a:pt x="98" y="8"/>
                  </a:lnTo>
                  <a:lnTo>
                    <a:pt x="112" y="2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78" y="4"/>
                  </a:lnTo>
                  <a:lnTo>
                    <a:pt x="192" y="8"/>
                  </a:lnTo>
                  <a:lnTo>
                    <a:pt x="206" y="14"/>
                  </a:lnTo>
                  <a:lnTo>
                    <a:pt x="220" y="20"/>
                  </a:lnTo>
                  <a:lnTo>
                    <a:pt x="230" y="30"/>
                  </a:lnTo>
                  <a:lnTo>
                    <a:pt x="242" y="40"/>
                  </a:lnTo>
                  <a:lnTo>
                    <a:pt x="250" y="52"/>
                  </a:lnTo>
                  <a:lnTo>
                    <a:pt x="258" y="64"/>
                  </a:lnTo>
                  <a:lnTo>
                    <a:pt x="266" y="76"/>
                  </a:lnTo>
                  <a:lnTo>
                    <a:pt x="272" y="92"/>
                  </a:lnTo>
                  <a:lnTo>
                    <a:pt x="276" y="106"/>
                  </a:lnTo>
                  <a:lnTo>
                    <a:pt x="284" y="138"/>
                  </a:lnTo>
                  <a:lnTo>
                    <a:pt x="286" y="172"/>
                  </a:lnTo>
                  <a:lnTo>
                    <a:pt x="286" y="172"/>
                  </a:lnTo>
                  <a:close/>
                  <a:moveTo>
                    <a:pt x="68" y="176"/>
                  </a:moveTo>
                  <a:lnTo>
                    <a:pt x="68" y="176"/>
                  </a:lnTo>
                  <a:lnTo>
                    <a:pt x="70" y="200"/>
                  </a:lnTo>
                  <a:lnTo>
                    <a:pt x="72" y="222"/>
                  </a:lnTo>
                  <a:lnTo>
                    <a:pt x="78" y="244"/>
                  </a:lnTo>
                  <a:lnTo>
                    <a:pt x="88" y="262"/>
                  </a:lnTo>
                  <a:lnTo>
                    <a:pt x="98" y="276"/>
                  </a:lnTo>
                  <a:lnTo>
                    <a:pt x="110" y="288"/>
                  </a:lnTo>
                  <a:lnTo>
                    <a:pt x="118" y="292"/>
                  </a:lnTo>
                  <a:lnTo>
                    <a:pt x="126" y="294"/>
                  </a:lnTo>
                  <a:lnTo>
                    <a:pt x="134" y="296"/>
                  </a:lnTo>
                  <a:lnTo>
                    <a:pt x="142" y="298"/>
                  </a:lnTo>
                  <a:lnTo>
                    <a:pt x="142" y="298"/>
                  </a:lnTo>
                  <a:lnTo>
                    <a:pt x="152" y="296"/>
                  </a:lnTo>
                  <a:lnTo>
                    <a:pt x="160" y="294"/>
                  </a:lnTo>
                  <a:lnTo>
                    <a:pt x="168" y="292"/>
                  </a:lnTo>
                  <a:lnTo>
                    <a:pt x="174" y="288"/>
                  </a:lnTo>
                  <a:lnTo>
                    <a:pt x="188" y="276"/>
                  </a:lnTo>
                  <a:lnTo>
                    <a:pt x="198" y="262"/>
                  </a:lnTo>
                  <a:lnTo>
                    <a:pt x="206" y="244"/>
                  </a:lnTo>
                  <a:lnTo>
                    <a:pt x="212" y="222"/>
                  </a:lnTo>
                  <a:lnTo>
                    <a:pt x="216" y="198"/>
                  </a:lnTo>
                  <a:lnTo>
                    <a:pt x="216" y="174"/>
                  </a:lnTo>
                  <a:lnTo>
                    <a:pt x="216" y="174"/>
                  </a:lnTo>
                  <a:lnTo>
                    <a:pt x="216" y="150"/>
                  </a:lnTo>
                  <a:lnTo>
                    <a:pt x="212" y="128"/>
                  </a:lnTo>
                  <a:lnTo>
                    <a:pt x="206" y="108"/>
                  </a:lnTo>
                  <a:lnTo>
                    <a:pt x="198" y="90"/>
                  </a:lnTo>
                  <a:lnTo>
                    <a:pt x="188" y="74"/>
                  </a:lnTo>
                  <a:lnTo>
                    <a:pt x="176" y="64"/>
                  </a:lnTo>
                  <a:lnTo>
                    <a:pt x="168" y="58"/>
                  </a:lnTo>
                  <a:lnTo>
                    <a:pt x="160" y="56"/>
                  </a:lnTo>
                  <a:lnTo>
                    <a:pt x="152" y="54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34" y="54"/>
                  </a:lnTo>
                  <a:lnTo>
                    <a:pt x="124" y="56"/>
                  </a:lnTo>
                  <a:lnTo>
                    <a:pt x="116" y="60"/>
                  </a:lnTo>
                  <a:lnTo>
                    <a:pt x="110" y="64"/>
                  </a:lnTo>
                  <a:lnTo>
                    <a:pt x="96" y="76"/>
                  </a:lnTo>
                  <a:lnTo>
                    <a:pt x="86" y="90"/>
                  </a:lnTo>
                  <a:lnTo>
                    <a:pt x="78" y="110"/>
                  </a:lnTo>
                  <a:lnTo>
                    <a:pt x="72" y="130"/>
                  </a:lnTo>
                  <a:lnTo>
                    <a:pt x="70" y="152"/>
                  </a:lnTo>
                  <a:lnTo>
                    <a:pt x="68" y="176"/>
                  </a:lnTo>
                  <a:lnTo>
                    <a:pt x="68" y="176"/>
                  </a:lnTo>
                  <a:close/>
                </a:path>
              </a:pathLst>
            </a:custGeom>
            <a:solidFill>
              <a:srgbClr val="040000"/>
            </a:solidFill>
            <a:ln w="2160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>
              <a:off x="9166320" y="7223040"/>
              <a:ext cx="345960" cy="546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18" h="344">
                  <a:moveTo>
                    <a:pt x="0" y="8"/>
                  </a:moveTo>
                  <a:lnTo>
                    <a:pt x="0" y="8"/>
                  </a:lnTo>
                  <a:lnTo>
                    <a:pt x="38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18" y="2"/>
                  </a:lnTo>
                  <a:lnTo>
                    <a:pt x="144" y="6"/>
                  </a:lnTo>
                  <a:lnTo>
                    <a:pt x="168" y="16"/>
                  </a:lnTo>
                  <a:lnTo>
                    <a:pt x="176" y="20"/>
                  </a:lnTo>
                  <a:lnTo>
                    <a:pt x="186" y="28"/>
                  </a:lnTo>
                  <a:lnTo>
                    <a:pt x="186" y="28"/>
                  </a:lnTo>
                  <a:lnTo>
                    <a:pt x="200" y="42"/>
                  </a:lnTo>
                  <a:lnTo>
                    <a:pt x="210" y="60"/>
                  </a:lnTo>
                  <a:lnTo>
                    <a:pt x="216" y="80"/>
                  </a:lnTo>
                  <a:lnTo>
                    <a:pt x="218" y="104"/>
                  </a:lnTo>
                  <a:lnTo>
                    <a:pt x="218" y="104"/>
                  </a:lnTo>
                  <a:lnTo>
                    <a:pt x="218" y="120"/>
                  </a:lnTo>
                  <a:lnTo>
                    <a:pt x="214" y="136"/>
                  </a:lnTo>
                  <a:lnTo>
                    <a:pt x="210" y="148"/>
                  </a:lnTo>
                  <a:lnTo>
                    <a:pt x="206" y="160"/>
                  </a:lnTo>
                  <a:lnTo>
                    <a:pt x="198" y="172"/>
                  </a:lnTo>
                  <a:lnTo>
                    <a:pt x="192" y="180"/>
                  </a:lnTo>
                  <a:lnTo>
                    <a:pt x="182" y="190"/>
                  </a:lnTo>
                  <a:lnTo>
                    <a:pt x="172" y="196"/>
                  </a:lnTo>
                  <a:lnTo>
                    <a:pt x="152" y="206"/>
                  </a:lnTo>
                  <a:lnTo>
                    <a:pt x="130" y="214"/>
                  </a:lnTo>
                  <a:lnTo>
                    <a:pt x="110" y="216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76" y="218"/>
                  </a:lnTo>
                  <a:lnTo>
                    <a:pt x="66" y="216"/>
                  </a:lnTo>
                  <a:lnTo>
                    <a:pt x="66" y="344"/>
                  </a:lnTo>
                  <a:lnTo>
                    <a:pt x="0" y="344"/>
                  </a:lnTo>
                  <a:lnTo>
                    <a:pt x="0" y="8"/>
                  </a:lnTo>
                  <a:close/>
                  <a:moveTo>
                    <a:pt x="66" y="164"/>
                  </a:moveTo>
                  <a:lnTo>
                    <a:pt x="66" y="164"/>
                  </a:lnTo>
                  <a:lnTo>
                    <a:pt x="76" y="166"/>
                  </a:lnTo>
                  <a:lnTo>
                    <a:pt x="88" y="166"/>
                  </a:lnTo>
                  <a:lnTo>
                    <a:pt x="88" y="166"/>
                  </a:lnTo>
                  <a:lnTo>
                    <a:pt x="102" y="166"/>
                  </a:lnTo>
                  <a:lnTo>
                    <a:pt x="116" y="162"/>
                  </a:lnTo>
                  <a:lnTo>
                    <a:pt x="126" y="158"/>
                  </a:lnTo>
                  <a:lnTo>
                    <a:pt x="136" y="150"/>
                  </a:lnTo>
                  <a:lnTo>
                    <a:pt x="144" y="142"/>
                  </a:lnTo>
                  <a:lnTo>
                    <a:pt x="148" y="132"/>
                  </a:lnTo>
                  <a:lnTo>
                    <a:pt x="152" y="120"/>
                  </a:lnTo>
                  <a:lnTo>
                    <a:pt x="154" y="106"/>
                  </a:lnTo>
                  <a:lnTo>
                    <a:pt x="154" y="106"/>
                  </a:lnTo>
                  <a:lnTo>
                    <a:pt x="152" y="94"/>
                  </a:lnTo>
                  <a:lnTo>
                    <a:pt x="148" y="82"/>
                  </a:lnTo>
                  <a:lnTo>
                    <a:pt x="144" y="74"/>
                  </a:lnTo>
                  <a:lnTo>
                    <a:pt x="138" y="66"/>
                  </a:lnTo>
                  <a:lnTo>
                    <a:pt x="128" y="60"/>
                  </a:lnTo>
                  <a:lnTo>
                    <a:pt x="118" y="54"/>
                  </a:lnTo>
                  <a:lnTo>
                    <a:pt x="106" y="52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76" y="52"/>
                  </a:lnTo>
                  <a:lnTo>
                    <a:pt x="66" y="54"/>
                  </a:lnTo>
                  <a:lnTo>
                    <a:pt x="66" y="164"/>
                  </a:lnTo>
                  <a:close/>
                </a:path>
              </a:pathLst>
            </a:custGeom>
            <a:solidFill>
              <a:srgbClr val="040000"/>
            </a:solidFill>
            <a:ln w="2160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"/>
            <p:cNvSpPr/>
            <p:nvPr/>
          </p:nvSpPr>
          <p:spPr>
            <a:xfrm>
              <a:off x="7553160" y="7839000"/>
              <a:ext cx="660240" cy="6602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16" h="416">
                  <a:moveTo>
                    <a:pt x="386" y="174"/>
                  </a:moveTo>
                  <a:lnTo>
                    <a:pt x="298" y="174"/>
                  </a:lnTo>
                  <a:lnTo>
                    <a:pt x="298" y="190"/>
                  </a:lnTo>
                  <a:lnTo>
                    <a:pt x="298" y="190"/>
                  </a:lnTo>
                  <a:lnTo>
                    <a:pt x="296" y="224"/>
                  </a:lnTo>
                  <a:lnTo>
                    <a:pt x="292" y="258"/>
                  </a:lnTo>
                  <a:lnTo>
                    <a:pt x="282" y="288"/>
                  </a:lnTo>
                  <a:lnTo>
                    <a:pt x="276" y="304"/>
                  </a:lnTo>
                  <a:lnTo>
                    <a:pt x="270" y="318"/>
                  </a:lnTo>
                  <a:lnTo>
                    <a:pt x="260" y="332"/>
                  </a:lnTo>
                  <a:lnTo>
                    <a:pt x="250" y="346"/>
                  </a:lnTo>
                  <a:lnTo>
                    <a:pt x="240" y="358"/>
                  </a:lnTo>
                  <a:lnTo>
                    <a:pt x="226" y="372"/>
                  </a:lnTo>
                  <a:lnTo>
                    <a:pt x="212" y="384"/>
                  </a:lnTo>
                  <a:lnTo>
                    <a:pt x="196" y="394"/>
                  </a:lnTo>
                  <a:lnTo>
                    <a:pt x="178" y="406"/>
                  </a:lnTo>
                  <a:lnTo>
                    <a:pt x="158" y="416"/>
                  </a:lnTo>
                  <a:lnTo>
                    <a:pt x="158" y="416"/>
                  </a:lnTo>
                  <a:lnTo>
                    <a:pt x="140" y="396"/>
                  </a:lnTo>
                  <a:lnTo>
                    <a:pt x="118" y="376"/>
                  </a:lnTo>
                  <a:lnTo>
                    <a:pt x="118" y="376"/>
                  </a:lnTo>
                  <a:lnTo>
                    <a:pt x="136" y="368"/>
                  </a:lnTo>
                  <a:lnTo>
                    <a:pt x="152" y="358"/>
                  </a:lnTo>
                  <a:lnTo>
                    <a:pt x="168" y="348"/>
                  </a:lnTo>
                  <a:lnTo>
                    <a:pt x="180" y="338"/>
                  </a:lnTo>
                  <a:lnTo>
                    <a:pt x="192" y="328"/>
                  </a:lnTo>
                  <a:lnTo>
                    <a:pt x="202" y="316"/>
                  </a:lnTo>
                  <a:lnTo>
                    <a:pt x="210" y="306"/>
                  </a:lnTo>
                  <a:lnTo>
                    <a:pt x="218" y="294"/>
                  </a:lnTo>
                  <a:lnTo>
                    <a:pt x="230" y="270"/>
                  </a:lnTo>
                  <a:lnTo>
                    <a:pt x="236" y="244"/>
                  </a:lnTo>
                  <a:lnTo>
                    <a:pt x="240" y="218"/>
                  </a:lnTo>
                  <a:lnTo>
                    <a:pt x="242" y="190"/>
                  </a:lnTo>
                  <a:lnTo>
                    <a:pt x="242" y="174"/>
                  </a:lnTo>
                  <a:lnTo>
                    <a:pt x="132" y="174"/>
                  </a:lnTo>
                  <a:lnTo>
                    <a:pt x="132" y="270"/>
                  </a:lnTo>
                  <a:lnTo>
                    <a:pt x="78" y="270"/>
                  </a:lnTo>
                  <a:lnTo>
                    <a:pt x="78" y="174"/>
                  </a:lnTo>
                  <a:lnTo>
                    <a:pt x="0" y="174"/>
                  </a:lnTo>
                  <a:lnTo>
                    <a:pt x="0" y="120"/>
                  </a:lnTo>
                  <a:lnTo>
                    <a:pt x="78" y="120"/>
                  </a:lnTo>
                  <a:lnTo>
                    <a:pt x="78" y="28"/>
                  </a:lnTo>
                  <a:lnTo>
                    <a:pt x="146" y="32"/>
                  </a:lnTo>
                  <a:lnTo>
                    <a:pt x="146" y="32"/>
                  </a:lnTo>
                  <a:lnTo>
                    <a:pt x="146" y="36"/>
                  </a:lnTo>
                  <a:lnTo>
                    <a:pt x="142" y="40"/>
                  </a:lnTo>
                  <a:lnTo>
                    <a:pt x="138" y="42"/>
                  </a:lnTo>
                  <a:lnTo>
                    <a:pt x="132" y="44"/>
                  </a:lnTo>
                  <a:lnTo>
                    <a:pt x="132" y="120"/>
                  </a:lnTo>
                  <a:lnTo>
                    <a:pt x="242" y="120"/>
                  </a:lnTo>
                  <a:lnTo>
                    <a:pt x="242" y="24"/>
                  </a:lnTo>
                  <a:lnTo>
                    <a:pt x="312" y="28"/>
                  </a:lnTo>
                  <a:lnTo>
                    <a:pt x="312" y="28"/>
                  </a:lnTo>
                  <a:lnTo>
                    <a:pt x="310" y="30"/>
                  </a:lnTo>
                  <a:lnTo>
                    <a:pt x="308" y="34"/>
                  </a:lnTo>
                  <a:lnTo>
                    <a:pt x="304" y="36"/>
                  </a:lnTo>
                  <a:lnTo>
                    <a:pt x="298" y="38"/>
                  </a:lnTo>
                  <a:lnTo>
                    <a:pt x="298" y="120"/>
                  </a:lnTo>
                  <a:lnTo>
                    <a:pt x="386" y="120"/>
                  </a:lnTo>
                  <a:lnTo>
                    <a:pt x="386" y="174"/>
                  </a:lnTo>
                  <a:close/>
                  <a:moveTo>
                    <a:pt x="324" y="38"/>
                  </a:moveTo>
                  <a:lnTo>
                    <a:pt x="324" y="38"/>
                  </a:lnTo>
                  <a:lnTo>
                    <a:pt x="336" y="50"/>
                  </a:lnTo>
                  <a:lnTo>
                    <a:pt x="348" y="64"/>
                  </a:lnTo>
                  <a:lnTo>
                    <a:pt x="368" y="92"/>
                  </a:lnTo>
                  <a:lnTo>
                    <a:pt x="346" y="110"/>
                  </a:lnTo>
                  <a:lnTo>
                    <a:pt x="346" y="110"/>
                  </a:lnTo>
                  <a:lnTo>
                    <a:pt x="324" y="82"/>
                  </a:lnTo>
                  <a:lnTo>
                    <a:pt x="312" y="68"/>
                  </a:lnTo>
                  <a:lnTo>
                    <a:pt x="300" y="56"/>
                  </a:lnTo>
                  <a:lnTo>
                    <a:pt x="324" y="38"/>
                  </a:lnTo>
                  <a:close/>
                  <a:moveTo>
                    <a:pt x="368" y="0"/>
                  </a:moveTo>
                  <a:lnTo>
                    <a:pt x="368" y="0"/>
                  </a:lnTo>
                  <a:lnTo>
                    <a:pt x="394" y="28"/>
                  </a:lnTo>
                  <a:lnTo>
                    <a:pt x="406" y="42"/>
                  </a:lnTo>
                  <a:lnTo>
                    <a:pt x="416" y="56"/>
                  </a:lnTo>
                  <a:lnTo>
                    <a:pt x="392" y="74"/>
                  </a:lnTo>
                  <a:lnTo>
                    <a:pt x="392" y="74"/>
                  </a:lnTo>
                  <a:lnTo>
                    <a:pt x="372" y="46"/>
                  </a:lnTo>
                  <a:lnTo>
                    <a:pt x="360" y="32"/>
                  </a:lnTo>
                  <a:lnTo>
                    <a:pt x="346" y="18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040000"/>
            </a:solidFill>
            <a:ln w="2160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3"/>
            <p:cNvSpPr/>
            <p:nvPr/>
          </p:nvSpPr>
          <p:spPr>
            <a:xfrm>
              <a:off x="8194680" y="8074080"/>
              <a:ext cx="187200" cy="1904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18" h="120">
                  <a:moveTo>
                    <a:pt x="0" y="60"/>
                  </a:moveTo>
                  <a:lnTo>
                    <a:pt x="0" y="60"/>
                  </a:lnTo>
                  <a:lnTo>
                    <a:pt x="2" y="48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6"/>
                  </a:lnTo>
                  <a:lnTo>
                    <a:pt x="26" y="10"/>
                  </a:lnTo>
                  <a:lnTo>
                    <a:pt x="36" y="4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2" y="4"/>
                  </a:lnTo>
                  <a:lnTo>
                    <a:pt x="92" y="10"/>
                  </a:lnTo>
                  <a:lnTo>
                    <a:pt x="102" y="16"/>
                  </a:lnTo>
                  <a:lnTo>
                    <a:pt x="108" y="26"/>
                  </a:lnTo>
                  <a:lnTo>
                    <a:pt x="114" y="36"/>
                  </a:lnTo>
                  <a:lnTo>
                    <a:pt x="118" y="46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8" y="72"/>
                  </a:lnTo>
                  <a:lnTo>
                    <a:pt x="114" y="82"/>
                  </a:lnTo>
                  <a:lnTo>
                    <a:pt x="108" y="94"/>
                  </a:lnTo>
                  <a:lnTo>
                    <a:pt x="102" y="102"/>
                  </a:lnTo>
                  <a:lnTo>
                    <a:pt x="92" y="110"/>
                  </a:lnTo>
                  <a:lnTo>
                    <a:pt x="82" y="114"/>
                  </a:lnTo>
                  <a:lnTo>
                    <a:pt x="72" y="118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48" y="118"/>
                  </a:lnTo>
                  <a:lnTo>
                    <a:pt x="36" y="114"/>
                  </a:lnTo>
                  <a:lnTo>
                    <a:pt x="26" y="110"/>
                  </a:lnTo>
                  <a:lnTo>
                    <a:pt x="18" y="102"/>
                  </a:lnTo>
                  <a:lnTo>
                    <a:pt x="10" y="94"/>
                  </a:lnTo>
                  <a:lnTo>
                    <a:pt x="4" y="82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40000"/>
            </a:solidFill>
            <a:ln w="2160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4"/>
            <p:cNvSpPr/>
            <p:nvPr/>
          </p:nvSpPr>
          <p:spPr>
            <a:xfrm>
              <a:off x="8445600" y="7851960"/>
              <a:ext cx="653760" cy="66672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412" h="420">
                  <a:moveTo>
                    <a:pt x="412" y="256"/>
                  </a:moveTo>
                  <a:lnTo>
                    <a:pt x="412" y="296"/>
                  </a:lnTo>
                  <a:lnTo>
                    <a:pt x="366" y="296"/>
                  </a:lnTo>
                  <a:lnTo>
                    <a:pt x="366" y="374"/>
                  </a:lnTo>
                  <a:lnTo>
                    <a:pt x="312" y="374"/>
                  </a:lnTo>
                  <a:lnTo>
                    <a:pt x="312" y="356"/>
                  </a:lnTo>
                  <a:lnTo>
                    <a:pt x="232" y="356"/>
                  </a:lnTo>
                  <a:lnTo>
                    <a:pt x="232" y="356"/>
                  </a:lnTo>
                  <a:lnTo>
                    <a:pt x="232" y="374"/>
                  </a:lnTo>
                  <a:lnTo>
                    <a:pt x="230" y="388"/>
                  </a:lnTo>
                  <a:lnTo>
                    <a:pt x="226" y="400"/>
                  </a:lnTo>
                  <a:lnTo>
                    <a:pt x="222" y="404"/>
                  </a:lnTo>
                  <a:lnTo>
                    <a:pt x="218" y="408"/>
                  </a:lnTo>
                  <a:lnTo>
                    <a:pt x="204" y="414"/>
                  </a:lnTo>
                  <a:lnTo>
                    <a:pt x="186" y="418"/>
                  </a:lnTo>
                  <a:lnTo>
                    <a:pt x="162" y="420"/>
                  </a:lnTo>
                  <a:lnTo>
                    <a:pt x="128" y="420"/>
                  </a:lnTo>
                  <a:lnTo>
                    <a:pt x="128" y="420"/>
                  </a:lnTo>
                  <a:lnTo>
                    <a:pt x="122" y="400"/>
                  </a:lnTo>
                  <a:lnTo>
                    <a:pt x="112" y="378"/>
                  </a:lnTo>
                  <a:lnTo>
                    <a:pt x="112" y="378"/>
                  </a:lnTo>
                  <a:lnTo>
                    <a:pt x="166" y="380"/>
                  </a:lnTo>
                  <a:lnTo>
                    <a:pt x="166" y="380"/>
                  </a:lnTo>
                  <a:lnTo>
                    <a:pt x="172" y="378"/>
                  </a:lnTo>
                  <a:lnTo>
                    <a:pt x="174" y="376"/>
                  </a:lnTo>
                  <a:lnTo>
                    <a:pt x="176" y="374"/>
                  </a:lnTo>
                  <a:lnTo>
                    <a:pt x="178" y="368"/>
                  </a:lnTo>
                  <a:lnTo>
                    <a:pt x="178" y="356"/>
                  </a:lnTo>
                  <a:lnTo>
                    <a:pt x="42" y="356"/>
                  </a:lnTo>
                  <a:lnTo>
                    <a:pt x="42" y="316"/>
                  </a:lnTo>
                  <a:lnTo>
                    <a:pt x="178" y="316"/>
                  </a:lnTo>
                  <a:lnTo>
                    <a:pt x="178" y="296"/>
                  </a:lnTo>
                  <a:lnTo>
                    <a:pt x="0" y="296"/>
                  </a:lnTo>
                  <a:lnTo>
                    <a:pt x="0" y="256"/>
                  </a:lnTo>
                  <a:lnTo>
                    <a:pt x="178" y="256"/>
                  </a:lnTo>
                  <a:lnTo>
                    <a:pt x="178" y="236"/>
                  </a:lnTo>
                  <a:lnTo>
                    <a:pt x="44" y="236"/>
                  </a:lnTo>
                  <a:lnTo>
                    <a:pt x="44" y="200"/>
                  </a:lnTo>
                  <a:lnTo>
                    <a:pt x="178" y="200"/>
                  </a:lnTo>
                  <a:lnTo>
                    <a:pt x="178" y="182"/>
                  </a:lnTo>
                  <a:lnTo>
                    <a:pt x="56" y="182"/>
                  </a:lnTo>
                  <a:lnTo>
                    <a:pt x="56" y="90"/>
                  </a:lnTo>
                  <a:lnTo>
                    <a:pt x="178" y="90"/>
                  </a:lnTo>
                  <a:lnTo>
                    <a:pt x="178" y="72"/>
                  </a:lnTo>
                  <a:lnTo>
                    <a:pt x="10" y="72"/>
                  </a:lnTo>
                  <a:lnTo>
                    <a:pt x="10" y="30"/>
                  </a:lnTo>
                  <a:lnTo>
                    <a:pt x="178" y="30"/>
                  </a:lnTo>
                  <a:lnTo>
                    <a:pt x="178" y="0"/>
                  </a:lnTo>
                  <a:lnTo>
                    <a:pt x="244" y="4"/>
                  </a:lnTo>
                  <a:lnTo>
                    <a:pt x="244" y="4"/>
                  </a:lnTo>
                  <a:lnTo>
                    <a:pt x="242" y="6"/>
                  </a:lnTo>
                  <a:lnTo>
                    <a:pt x="240" y="10"/>
                  </a:lnTo>
                  <a:lnTo>
                    <a:pt x="236" y="12"/>
                  </a:lnTo>
                  <a:lnTo>
                    <a:pt x="232" y="12"/>
                  </a:lnTo>
                  <a:lnTo>
                    <a:pt x="232" y="30"/>
                  </a:lnTo>
                  <a:lnTo>
                    <a:pt x="402" y="30"/>
                  </a:lnTo>
                  <a:lnTo>
                    <a:pt x="402" y="72"/>
                  </a:lnTo>
                  <a:lnTo>
                    <a:pt x="232" y="72"/>
                  </a:lnTo>
                  <a:lnTo>
                    <a:pt x="232" y="90"/>
                  </a:lnTo>
                  <a:lnTo>
                    <a:pt x="358" y="90"/>
                  </a:lnTo>
                  <a:lnTo>
                    <a:pt x="358" y="182"/>
                  </a:lnTo>
                  <a:lnTo>
                    <a:pt x="232" y="182"/>
                  </a:lnTo>
                  <a:lnTo>
                    <a:pt x="232" y="200"/>
                  </a:lnTo>
                  <a:lnTo>
                    <a:pt x="366" y="200"/>
                  </a:lnTo>
                  <a:lnTo>
                    <a:pt x="366" y="256"/>
                  </a:lnTo>
                  <a:lnTo>
                    <a:pt x="412" y="256"/>
                  </a:lnTo>
                  <a:close/>
                  <a:moveTo>
                    <a:pt x="108" y="148"/>
                  </a:moveTo>
                  <a:lnTo>
                    <a:pt x="178" y="148"/>
                  </a:lnTo>
                  <a:lnTo>
                    <a:pt x="178" y="122"/>
                  </a:lnTo>
                  <a:lnTo>
                    <a:pt x="108" y="122"/>
                  </a:lnTo>
                  <a:lnTo>
                    <a:pt x="108" y="148"/>
                  </a:lnTo>
                  <a:close/>
                  <a:moveTo>
                    <a:pt x="304" y="122"/>
                  </a:moveTo>
                  <a:lnTo>
                    <a:pt x="232" y="122"/>
                  </a:lnTo>
                  <a:lnTo>
                    <a:pt x="232" y="148"/>
                  </a:lnTo>
                  <a:lnTo>
                    <a:pt x="304" y="148"/>
                  </a:lnTo>
                  <a:lnTo>
                    <a:pt x="304" y="122"/>
                  </a:lnTo>
                  <a:close/>
                  <a:moveTo>
                    <a:pt x="232" y="236"/>
                  </a:moveTo>
                  <a:lnTo>
                    <a:pt x="232" y="256"/>
                  </a:lnTo>
                  <a:lnTo>
                    <a:pt x="312" y="256"/>
                  </a:lnTo>
                  <a:lnTo>
                    <a:pt x="312" y="236"/>
                  </a:lnTo>
                  <a:lnTo>
                    <a:pt x="232" y="236"/>
                  </a:lnTo>
                  <a:close/>
                  <a:moveTo>
                    <a:pt x="312" y="316"/>
                  </a:moveTo>
                  <a:lnTo>
                    <a:pt x="312" y="296"/>
                  </a:lnTo>
                  <a:lnTo>
                    <a:pt x="232" y="296"/>
                  </a:lnTo>
                  <a:lnTo>
                    <a:pt x="232" y="316"/>
                  </a:lnTo>
                  <a:lnTo>
                    <a:pt x="312" y="316"/>
                  </a:lnTo>
                  <a:close/>
                </a:path>
              </a:pathLst>
            </a:custGeom>
            <a:solidFill>
              <a:srgbClr val="040000"/>
            </a:solidFill>
            <a:ln w="2160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5"/>
            <p:cNvSpPr/>
            <p:nvPr/>
          </p:nvSpPr>
          <p:spPr>
            <a:xfrm>
              <a:off x="9150480" y="7851960"/>
              <a:ext cx="672840" cy="66672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424" h="420">
                  <a:moveTo>
                    <a:pt x="420" y="130"/>
                  </a:moveTo>
                  <a:lnTo>
                    <a:pt x="388" y="130"/>
                  </a:lnTo>
                  <a:lnTo>
                    <a:pt x="388" y="130"/>
                  </a:lnTo>
                  <a:lnTo>
                    <a:pt x="380" y="178"/>
                  </a:lnTo>
                  <a:lnTo>
                    <a:pt x="368" y="222"/>
                  </a:lnTo>
                  <a:lnTo>
                    <a:pt x="352" y="264"/>
                  </a:lnTo>
                  <a:lnTo>
                    <a:pt x="344" y="282"/>
                  </a:lnTo>
                  <a:lnTo>
                    <a:pt x="334" y="300"/>
                  </a:lnTo>
                  <a:lnTo>
                    <a:pt x="334" y="300"/>
                  </a:lnTo>
                  <a:lnTo>
                    <a:pt x="354" y="322"/>
                  </a:lnTo>
                  <a:lnTo>
                    <a:pt x="374" y="342"/>
                  </a:lnTo>
                  <a:lnTo>
                    <a:pt x="398" y="358"/>
                  </a:lnTo>
                  <a:lnTo>
                    <a:pt x="424" y="372"/>
                  </a:lnTo>
                  <a:lnTo>
                    <a:pt x="424" y="372"/>
                  </a:lnTo>
                  <a:lnTo>
                    <a:pt x="414" y="382"/>
                  </a:lnTo>
                  <a:lnTo>
                    <a:pt x="404" y="394"/>
                  </a:lnTo>
                  <a:lnTo>
                    <a:pt x="388" y="420"/>
                  </a:lnTo>
                  <a:lnTo>
                    <a:pt x="388" y="420"/>
                  </a:lnTo>
                  <a:lnTo>
                    <a:pt x="362" y="406"/>
                  </a:lnTo>
                  <a:lnTo>
                    <a:pt x="340" y="388"/>
                  </a:lnTo>
                  <a:lnTo>
                    <a:pt x="318" y="368"/>
                  </a:lnTo>
                  <a:lnTo>
                    <a:pt x="300" y="348"/>
                  </a:lnTo>
                  <a:lnTo>
                    <a:pt x="300" y="348"/>
                  </a:lnTo>
                  <a:lnTo>
                    <a:pt x="278" y="368"/>
                  </a:lnTo>
                  <a:lnTo>
                    <a:pt x="254" y="388"/>
                  </a:lnTo>
                  <a:lnTo>
                    <a:pt x="226" y="406"/>
                  </a:lnTo>
                  <a:lnTo>
                    <a:pt x="194" y="420"/>
                  </a:lnTo>
                  <a:lnTo>
                    <a:pt x="194" y="420"/>
                  </a:lnTo>
                  <a:lnTo>
                    <a:pt x="182" y="396"/>
                  </a:lnTo>
                  <a:lnTo>
                    <a:pt x="168" y="374"/>
                  </a:lnTo>
                  <a:lnTo>
                    <a:pt x="70" y="374"/>
                  </a:lnTo>
                  <a:lnTo>
                    <a:pt x="70" y="400"/>
                  </a:lnTo>
                  <a:lnTo>
                    <a:pt x="20" y="400"/>
                  </a:lnTo>
                  <a:lnTo>
                    <a:pt x="20" y="202"/>
                  </a:lnTo>
                  <a:lnTo>
                    <a:pt x="80" y="202"/>
                  </a:lnTo>
                  <a:lnTo>
                    <a:pt x="80" y="132"/>
                  </a:lnTo>
                  <a:lnTo>
                    <a:pt x="0" y="132"/>
                  </a:lnTo>
                  <a:lnTo>
                    <a:pt x="0" y="82"/>
                  </a:lnTo>
                  <a:lnTo>
                    <a:pt x="80" y="82"/>
                  </a:lnTo>
                  <a:lnTo>
                    <a:pt x="80" y="0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8"/>
                  </a:lnTo>
                  <a:lnTo>
                    <a:pt x="140" y="10"/>
                  </a:lnTo>
                  <a:lnTo>
                    <a:pt x="130" y="12"/>
                  </a:lnTo>
                  <a:lnTo>
                    <a:pt x="130" y="82"/>
                  </a:lnTo>
                  <a:lnTo>
                    <a:pt x="206" y="82"/>
                  </a:lnTo>
                  <a:lnTo>
                    <a:pt x="206" y="132"/>
                  </a:lnTo>
                  <a:lnTo>
                    <a:pt x="130" y="132"/>
                  </a:lnTo>
                  <a:lnTo>
                    <a:pt x="130" y="202"/>
                  </a:lnTo>
                  <a:lnTo>
                    <a:pt x="184" y="202"/>
                  </a:lnTo>
                  <a:lnTo>
                    <a:pt x="184" y="202"/>
                  </a:lnTo>
                  <a:lnTo>
                    <a:pt x="174" y="194"/>
                  </a:lnTo>
                  <a:lnTo>
                    <a:pt x="174" y="194"/>
                  </a:lnTo>
                  <a:lnTo>
                    <a:pt x="186" y="178"/>
                  </a:lnTo>
                  <a:lnTo>
                    <a:pt x="198" y="158"/>
                  </a:lnTo>
                  <a:lnTo>
                    <a:pt x="210" y="134"/>
                  </a:lnTo>
                  <a:lnTo>
                    <a:pt x="218" y="110"/>
                  </a:lnTo>
                  <a:lnTo>
                    <a:pt x="228" y="84"/>
                  </a:lnTo>
                  <a:lnTo>
                    <a:pt x="234" y="58"/>
                  </a:lnTo>
                  <a:lnTo>
                    <a:pt x="240" y="30"/>
                  </a:lnTo>
                  <a:lnTo>
                    <a:pt x="246" y="0"/>
                  </a:lnTo>
                  <a:lnTo>
                    <a:pt x="310" y="14"/>
                  </a:lnTo>
                  <a:lnTo>
                    <a:pt x="310" y="14"/>
                  </a:lnTo>
                  <a:lnTo>
                    <a:pt x="308" y="18"/>
                  </a:lnTo>
                  <a:lnTo>
                    <a:pt x="306" y="20"/>
                  </a:lnTo>
                  <a:lnTo>
                    <a:pt x="298" y="20"/>
                  </a:lnTo>
                  <a:lnTo>
                    <a:pt x="298" y="20"/>
                  </a:lnTo>
                  <a:lnTo>
                    <a:pt x="292" y="50"/>
                  </a:lnTo>
                  <a:lnTo>
                    <a:pt x="284" y="80"/>
                  </a:lnTo>
                  <a:lnTo>
                    <a:pt x="420" y="80"/>
                  </a:lnTo>
                  <a:lnTo>
                    <a:pt x="420" y="130"/>
                  </a:lnTo>
                  <a:close/>
                  <a:moveTo>
                    <a:pt x="140" y="324"/>
                  </a:moveTo>
                  <a:lnTo>
                    <a:pt x="140" y="252"/>
                  </a:lnTo>
                  <a:lnTo>
                    <a:pt x="70" y="252"/>
                  </a:lnTo>
                  <a:lnTo>
                    <a:pt x="70" y="324"/>
                  </a:lnTo>
                  <a:lnTo>
                    <a:pt x="140" y="324"/>
                  </a:lnTo>
                  <a:close/>
                  <a:moveTo>
                    <a:pt x="192" y="362"/>
                  </a:moveTo>
                  <a:lnTo>
                    <a:pt x="192" y="362"/>
                  </a:lnTo>
                  <a:lnTo>
                    <a:pt x="214" y="350"/>
                  </a:lnTo>
                  <a:lnTo>
                    <a:pt x="234" y="334"/>
                  </a:lnTo>
                  <a:lnTo>
                    <a:pt x="254" y="318"/>
                  </a:lnTo>
                  <a:lnTo>
                    <a:pt x="270" y="300"/>
                  </a:lnTo>
                  <a:lnTo>
                    <a:pt x="270" y="300"/>
                  </a:lnTo>
                  <a:lnTo>
                    <a:pt x="258" y="278"/>
                  </a:lnTo>
                  <a:lnTo>
                    <a:pt x="250" y="254"/>
                  </a:lnTo>
                  <a:lnTo>
                    <a:pt x="240" y="230"/>
                  </a:lnTo>
                  <a:lnTo>
                    <a:pt x="234" y="204"/>
                  </a:lnTo>
                  <a:lnTo>
                    <a:pt x="234" y="204"/>
                  </a:lnTo>
                  <a:lnTo>
                    <a:pt x="214" y="228"/>
                  </a:lnTo>
                  <a:lnTo>
                    <a:pt x="214" y="228"/>
                  </a:lnTo>
                  <a:lnTo>
                    <a:pt x="192" y="208"/>
                  </a:lnTo>
                  <a:lnTo>
                    <a:pt x="192" y="362"/>
                  </a:lnTo>
                  <a:close/>
                  <a:moveTo>
                    <a:pt x="268" y="132"/>
                  </a:moveTo>
                  <a:lnTo>
                    <a:pt x="268" y="132"/>
                  </a:lnTo>
                  <a:lnTo>
                    <a:pt x="274" y="162"/>
                  </a:lnTo>
                  <a:lnTo>
                    <a:pt x="282" y="192"/>
                  </a:lnTo>
                  <a:lnTo>
                    <a:pt x="292" y="218"/>
                  </a:lnTo>
                  <a:lnTo>
                    <a:pt x="302" y="244"/>
                  </a:lnTo>
                  <a:lnTo>
                    <a:pt x="302" y="244"/>
                  </a:lnTo>
                  <a:lnTo>
                    <a:pt x="312" y="218"/>
                  </a:lnTo>
                  <a:lnTo>
                    <a:pt x="320" y="192"/>
                  </a:lnTo>
                  <a:lnTo>
                    <a:pt x="328" y="162"/>
                  </a:lnTo>
                  <a:lnTo>
                    <a:pt x="332" y="130"/>
                  </a:lnTo>
                  <a:lnTo>
                    <a:pt x="268" y="130"/>
                  </a:lnTo>
                  <a:lnTo>
                    <a:pt x="268" y="132"/>
                  </a:lnTo>
                  <a:close/>
                </a:path>
              </a:pathLst>
            </a:custGeom>
            <a:solidFill>
              <a:srgbClr val="040000"/>
            </a:solidFill>
            <a:ln w="2160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6"/>
            <p:cNvSpPr/>
            <p:nvPr/>
          </p:nvSpPr>
          <p:spPr>
            <a:xfrm>
              <a:off x="7839000" y="7219800"/>
              <a:ext cx="330120" cy="5554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208" h="350">
                  <a:moveTo>
                    <a:pt x="182" y="70"/>
                  </a:moveTo>
                  <a:lnTo>
                    <a:pt x="182" y="70"/>
                  </a:lnTo>
                  <a:lnTo>
                    <a:pt x="170" y="64"/>
                  </a:lnTo>
                  <a:lnTo>
                    <a:pt x="156" y="60"/>
                  </a:lnTo>
                  <a:lnTo>
                    <a:pt x="140" y="56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08" y="56"/>
                  </a:lnTo>
                  <a:lnTo>
                    <a:pt x="98" y="58"/>
                  </a:lnTo>
                  <a:lnTo>
                    <a:pt x="90" y="62"/>
                  </a:lnTo>
                  <a:lnTo>
                    <a:pt x="82" y="66"/>
                  </a:lnTo>
                  <a:lnTo>
                    <a:pt x="78" y="72"/>
                  </a:lnTo>
                  <a:lnTo>
                    <a:pt x="74" y="78"/>
                  </a:lnTo>
                  <a:lnTo>
                    <a:pt x="72" y="86"/>
                  </a:lnTo>
                  <a:lnTo>
                    <a:pt x="70" y="92"/>
                  </a:lnTo>
                  <a:lnTo>
                    <a:pt x="70" y="92"/>
                  </a:lnTo>
                  <a:lnTo>
                    <a:pt x="72" y="100"/>
                  </a:lnTo>
                  <a:lnTo>
                    <a:pt x="74" y="108"/>
                  </a:lnTo>
                  <a:lnTo>
                    <a:pt x="78" y="116"/>
                  </a:lnTo>
                  <a:lnTo>
                    <a:pt x="84" y="122"/>
                  </a:lnTo>
                  <a:lnTo>
                    <a:pt x="102" y="134"/>
                  </a:lnTo>
                  <a:lnTo>
                    <a:pt x="128" y="146"/>
                  </a:lnTo>
                  <a:lnTo>
                    <a:pt x="128" y="146"/>
                  </a:lnTo>
                  <a:lnTo>
                    <a:pt x="148" y="156"/>
                  </a:lnTo>
                  <a:lnTo>
                    <a:pt x="164" y="166"/>
                  </a:lnTo>
                  <a:lnTo>
                    <a:pt x="178" y="178"/>
                  </a:lnTo>
                  <a:lnTo>
                    <a:pt x="188" y="190"/>
                  </a:lnTo>
                  <a:lnTo>
                    <a:pt x="198" y="202"/>
                  </a:lnTo>
                  <a:lnTo>
                    <a:pt x="204" y="216"/>
                  </a:lnTo>
                  <a:lnTo>
                    <a:pt x="206" y="232"/>
                  </a:lnTo>
                  <a:lnTo>
                    <a:pt x="208" y="248"/>
                  </a:lnTo>
                  <a:lnTo>
                    <a:pt x="208" y="248"/>
                  </a:lnTo>
                  <a:lnTo>
                    <a:pt x="206" y="270"/>
                  </a:lnTo>
                  <a:lnTo>
                    <a:pt x="200" y="288"/>
                  </a:lnTo>
                  <a:lnTo>
                    <a:pt x="190" y="306"/>
                  </a:lnTo>
                  <a:lnTo>
                    <a:pt x="176" y="322"/>
                  </a:lnTo>
                  <a:lnTo>
                    <a:pt x="158" y="334"/>
                  </a:lnTo>
                  <a:lnTo>
                    <a:pt x="136" y="342"/>
                  </a:lnTo>
                  <a:lnTo>
                    <a:pt x="112" y="348"/>
                  </a:lnTo>
                  <a:lnTo>
                    <a:pt x="84" y="350"/>
                  </a:lnTo>
                  <a:lnTo>
                    <a:pt x="84" y="350"/>
                  </a:lnTo>
                  <a:lnTo>
                    <a:pt x="58" y="348"/>
                  </a:lnTo>
                  <a:lnTo>
                    <a:pt x="34" y="344"/>
                  </a:lnTo>
                  <a:lnTo>
                    <a:pt x="14" y="338"/>
                  </a:lnTo>
                  <a:lnTo>
                    <a:pt x="0" y="332"/>
                  </a:lnTo>
                  <a:lnTo>
                    <a:pt x="12" y="276"/>
                  </a:lnTo>
                  <a:lnTo>
                    <a:pt x="12" y="276"/>
                  </a:lnTo>
                  <a:lnTo>
                    <a:pt x="28" y="284"/>
                  </a:lnTo>
                  <a:lnTo>
                    <a:pt x="46" y="290"/>
                  </a:lnTo>
                  <a:lnTo>
                    <a:pt x="66" y="294"/>
                  </a:lnTo>
                  <a:lnTo>
                    <a:pt x="86" y="296"/>
                  </a:lnTo>
                  <a:lnTo>
                    <a:pt x="86" y="296"/>
                  </a:lnTo>
                  <a:lnTo>
                    <a:pt x="100" y="294"/>
                  </a:lnTo>
                  <a:lnTo>
                    <a:pt x="110" y="292"/>
                  </a:lnTo>
                  <a:lnTo>
                    <a:pt x="120" y="288"/>
                  </a:lnTo>
                  <a:lnTo>
                    <a:pt x="128" y="284"/>
                  </a:lnTo>
                  <a:lnTo>
                    <a:pt x="134" y="278"/>
                  </a:lnTo>
                  <a:lnTo>
                    <a:pt x="138" y="270"/>
                  </a:lnTo>
                  <a:lnTo>
                    <a:pt x="140" y="262"/>
                  </a:lnTo>
                  <a:lnTo>
                    <a:pt x="142" y="252"/>
                  </a:lnTo>
                  <a:lnTo>
                    <a:pt x="142" y="252"/>
                  </a:lnTo>
                  <a:lnTo>
                    <a:pt x="140" y="244"/>
                  </a:lnTo>
                  <a:lnTo>
                    <a:pt x="138" y="236"/>
                  </a:lnTo>
                  <a:lnTo>
                    <a:pt x="134" y="228"/>
                  </a:lnTo>
                  <a:lnTo>
                    <a:pt x="128" y="222"/>
                  </a:lnTo>
                  <a:lnTo>
                    <a:pt x="122" y="216"/>
                  </a:lnTo>
                  <a:lnTo>
                    <a:pt x="112" y="210"/>
                  </a:lnTo>
                  <a:lnTo>
                    <a:pt x="88" y="198"/>
                  </a:lnTo>
                  <a:lnTo>
                    <a:pt x="88" y="198"/>
                  </a:lnTo>
                  <a:lnTo>
                    <a:pt x="70" y="188"/>
                  </a:lnTo>
                  <a:lnTo>
                    <a:pt x="52" y="178"/>
                  </a:lnTo>
                  <a:lnTo>
                    <a:pt x="38" y="168"/>
                  </a:lnTo>
                  <a:lnTo>
                    <a:pt x="26" y="156"/>
                  </a:lnTo>
                  <a:lnTo>
                    <a:pt x="16" y="144"/>
                  </a:lnTo>
                  <a:lnTo>
                    <a:pt x="10" y="130"/>
                  </a:lnTo>
                  <a:lnTo>
                    <a:pt x="6" y="114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6" y="78"/>
                  </a:lnTo>
                  <a:lnTo>
                    <a:pt x="12" y="60"/>
                  </a:lnTo>
                  <a:lnTo>
                    <a:pt x="22" y="42"/>
                  </a:lnTo>
                  <a:lnTo>
                    <a:pt x="36" y="28"/>
                  </a:lnTo>
                  <a:lnTo>
                    <a:pt x="52" y="16"/>
                  </a:lnTo>
                  <a:lnTo>
                    <a:pt x="72" y="8"/>
                  </a:lnTo>
                  <a:lnTo>
                    <a:pt x="96" y="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44" y="2"/>
                  </a:lnTo>
                  <a:lnTo>
                    <a:pt x="164" y="4"/>
                  </a:lnTo>
                  <a:lnTo>
                    <a:pt x="182" y="10"/>
                  </a:lnTo>
                  <a:lnTo>
                    <a:pt x="196" y="16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040000"/>
            </a:solidFill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7"/>
            <p:cNvSpPr/>
            <p:nvPr/>
          </p:nvSpPr>
          <p:spPr>
            <a:xfrm>
              <a:off x="8210520" y="7226280"/>
              <a:ext cx="371160" cy="54288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34" h="342">
                  <a:moveTo>
                    <a:pt x="234" y="58"/>
                  </a:moveTo>
                  <a:lnTo>
                    <a:pt x="150" y="58"/>
                  </a:lnTo>
                  <a:lnTo>
                    <a:pt x="150" y="342"/>
                  </a:lnTo>
                  <a:lnTo>
                    <a:pt x="84" y="342"/>
                  </a:lnTo>
                  <a:lnTo>
                    <a:pt x="84" y="58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34" y="0"/>
                  </a:lnTo>
                  <a:lnTo>
                    <a:pt x="234" y="58"/>
                  </a:lnTo>
                  <a:close/>
                </a:path>
              </a:pathLst>
            </a:custGeom>
            <a:solidFill>
              <a:srgbClr val="040000"/>
            </a:solidFill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8"/>
            <p:cNvSpPr/>
            <p:nvPr/>
          </p:nvSpPr>
          <p:spPr>
            <a:xfrm>
              <a:off x="8626680" y="7219800"/>
              <a:ext cx="453960" cy="55872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286" h="352">
                  <a:moveTo>
                    <a:pt x="286" y="172"/>
                  </a:moveTo>
                  <a:lnTo>
                    <a:pt x="286" y="172"/>
                  </a:lnTo>
                  <a:lnTo>
                    <a:pt x="284" y="192"/>
                  </a:lnTo>
                  <a:lnTo>
                    <a:pt x="282" y="214"/>
                  </a:lnTo>
                  <a:lnTo>
                    <a:pt x="280" y="232"/>
                  </a:lnTo>
                  <a:lnTo>
                    <a:pt x="274" y="250"/>
                  </a:lnTo>
                  <a:lnTo>
                    <a:pt x="268" y="266"/>
                  </a:lnTo>
                  <a:lnTo>
                    <a:pt x="262" y="280"/>
                  </a:lnTo>
                  <a:lnTo>
                    <a:pt x="254" y="294"/>
                  </a:lnTo>
                  <a:lnTo>
                    <a:pt x="244" y="306"/>
                  </a:lnTo>
                  <a:lnTo>
                    <a:pt x="234" y="316"/>
                  </a:lnTo>
                  <a:lnTo>
                    <a:pt x="224" y="326"/>
                  </a:lnTo>
                  <a:lnTo>
                    <a:pt x="212" y="334"/>
                  </a:lnTo>
                  <a:lnTo>
                    <a:pt x="198" y="340"/>
                  </a:lnTo>
                  <a:lnTo>
                    <a:pt x="186" y="344"/>
                  </a:lnTo>
                  <a:lnTo>
                    <a:pt x="170" y="348"/>
                  </a:lnTo>
                  <a:lnTo>
                    <a:pt x="156" y="350"/>
                  </a:lnTo>
                  <a:lnTo>
                    <a:pt x="140" y="352"/>
                  </a:lnTo>
                  <a:lnTo>
                    <a:pt x="140" y="352"/>
                  </a:lnTo>
                  <a:lnTo>
                    <a:pt x="124" y="350"/>
                  </a:lnTo>
                  <a:lnTo>
                    <a:pt x="108" y="348"/>
                  </a:lnTo>
                  <a:lnTo>
                    <a:pt x="94" y="344"/>
                  </a:lnTo>
                  <a:lnTo>
                    <a:pt x="80" y="338"/>
                  </a:lnTo>
                  <a:lnTo>
                    <a:pt x="68" y="330"/>
                  </a:lnTo>
                  <a:lnTo>
                    <a:pt x="56" y="322"/>
                  </a:lnTo>
                  <a:lnTo>
                    <a:pt x="46" y="312"/>
                  </a:lnTo>
                  <a:lnTo>
                    <a:pt x="36" y="300"/>
                  </a:lnTo>
                  <a:lnTo>
                    <a:pt x="28" y="288"/>
                  </a:lnTo>
                  <a:lnTo>
                    <a:pt x="20" y="276"/>
                  </a:lnTo>
                  <a:lnTo>
                    <a:pt x="14" y="260"/>
                  </a:lnTo>
                  <a:lnTo>
                    <a:pt x="8" y="246"/>
                  </a:lnTo>
                  <a:lnTo>
                    <a:pt x="4" y="230"/>
                  </a:lnTo>
                  <a:lnTo>
                    <a:pt x="2" y="212"/>
                  </a:lnTo>
                  <a:lnTo>
                    <a:pt x="0" y="19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58"/>
                  </a:lnTo>
                  <a:lnTo>
                    <a:pt x="2" y="140"/>
                  </a:lnTo>
                  <a:lnTo>
                    <a:pt x="4" y="122"/>
                  </a:lnTo>
                  <a:lnTo>
                    <a:pt x="10" y="106"/>
                  </a:lnTo>
                  <a:lnTo>
                    <a:pt x="14" y="90"/>
                  </a:lnTo>
                  <a:lnTo>
                    <a:pt x="22" y="76"/>
                  </a:lnTo>
                  <a:lnTo>
                    <a:pt x="30" y="62"/>
                  </a:lnTo>
                  <a:lnTo>
                    <a:pt x="38" y="50"/>
                  </a:lnTo>
                  <a:lnTo>
                    <a:pt x="48" y="38"/>
                  </a:lnTo>
                  <a:lnTo>
                    <a:pt x="60" y="28"/>
                  </a:lnTo>
                  <a:lnTo>
                    <a:pt x="72" y="20"/>
                  </a:lnTo>
                  <a:lnTo>
                    <a:pt x="84" y="12"/>
                  </a:lnTo>
                  <a:lnTo>
                    <a:pt x="98" y="8"/>
                  </a:lnTo>
                  <a:lnTo>
                    <a:pt x="112" y="2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78" y="4"/>
                  </a:lnTo>
                  <a:lnTo>
                    <a:pt x="192" y="8"/>
                  </a:lnTo>
                  <a:lnTo>
                    <a:pt x="206" y="14"/>
                  </a:lnTo>
                  <a:lnTo>
                    <a:pt x="220" y="20"/>
                  </a:lnTo>
                  <a:lnTo>
                    <a:pt x="230" y="30"/>
                  </a:lnTo>
                  <a:lnTo>
                    <a:pt x="242" y="40"/>
                  </a:lnTo>
                  <a:lnTo>
                    <a:pt x="250" y="52"/>
                  </a:lnTo>
                  <a:lnTo>
                    <a:pt x="258" y="64"/>
                  </a:lnTo>
                  <a:lnTo>
                    <a:pt x="266" y="76"/>
                  </a:lnTo>
                  <a:lnTo>
                    <a:pt x="272" y="92"/>
                  </a:lnTo>
                  <a:lnTo>
                    <a:pt x="276" y="106"/>
                  </a:lnTo>
                  <a:lnTo>
                    <a:pt x="284" y="138"/>
                  </a:lnTo>
                  <a:lnTo>
                    <a:pt x="286" y="172"/>
                  </a:lnTo>
                  <a:lnTo>
                    <a:pt x="286" y="172"/>
                  </a:lnTo>
                  <a:close/>
                  <a:moveTo>
                    <a:pt x="68" y="176"/>
                  </a:moveTo>
                  <a:lnTo>
                    <a:pt x="68" y="176"/>
                  </a:lnTo>
                  <a:lnTo>
                    <a:pt x="70" y="200"/>
                  </a:lnTo>
                  <a:lnTo>
                    <a:pt x="72" y="222"/>
                  </a:lnTo>
                  <a:lnTo>
                    <a:pt x="78" y="244"/>
                  </a:lnTo>
                  <a:lnTo>
                    <a:pt x="88" y="262"/>
                  </a:lnTo>
                  <a:lnTo>
                    <a:pt x="98" y="276"/>
                  </a:lnTo>
                  <a:lnTo>
                    <a:pt x="110" y="288"/>
                  </a:lnTo>
                  <a:lnTo>
                    <a:pt x="118" y="292"/>
                  </a:lnTo>
                  <a:lnTo>
                    <a:pt x="126" y="294"/>
                  </a:lnTo>
                  <a:lnTo>
                    <a:pt x="134" y="296"/>
                  </a:lnTo>
                  <a:lnTo>
                    <a:pt x="142" y="298"/>
                  </a:lnTo>
                  <a:lnTo>
                    <a:pt x="142" y="298"/>
                  </a:lnTo>
                  <a:lnTo>
                    <a:pt x="152" y="296"/>
                  </a:lnTo>
                  <a:lnTo>
                    <a:pt x="160" y="294"/>
                  </a:lnTo>
                  <a:lnTo>
                    <a:pt x="168" y="292"/>
                  </a:lnTo>
                  <a:lnTo>
                    <a:pt x="174" y="288"/>
                  </a:lnTo>
                  <a:lnTo>
                    <a:pt x="188" y="276"/>
                  </a:lnTo>
                  <a:lnTo>
                    <a:pt x="198" y="262"/>
                  </a:lnTo>
                  <a:lnTo>
                    <a:pt x="206" y="244"/>
                  </a:lnTo>
                  <a:lnTo>
                    <a:pt x="212" y="222"/>
                  </a:lnTo>
                  <a:lnTo>
                    <a:pt x="216" y="198"/>
                  </a:lnTo>
                  <a:lnTo>
                    <a:pt x="216" y="174"/>
                  </a:lnTo>
                  <a:lnTo>
                    <a:pt x="216" y="174"/>
                  </a:lnTo>
                  <a:lnTo>
                    <a:pt x="216" y="150"/>
                  </a:lnTo>
                  <a:lnTo>
                    <a:pt x="212" y="128"/>
                  </a:lnTo>
                  <a:lnTo>
                    <a:pt x="206" y="108"/>
                  </a:lnTo>
                  <a:lnTo>
                    <a:pt x="198" y="90"/>
                  </a:lnTo>
                  <a:lnTo>
                    <a:pt x="188" y="74"/>
                  </a:lnTo>
                  <a:lnTo>
                    <a:pt x="176" y="64"/>
                  </a:lnTo>
                  <a:lnTo>
                    <a:pt x="168" y="58"/>
                  </a:lnTo>
                  <a:lnTo>
                    <a:pt x="160" y="56"/>
                  </a:lnTo>
                  <a:lnTo>
                    <a:pt x="152" y="54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34" y="54"/>
                  </a:lnTo>
                  <a:lnTo>
                    <a:pt x="124" y="56"/>
                  </a:lnTo>
                  <a:lnTo>
                    <a:pt x="116" y="60"/>
                  </a:lnTo>
                  <a:lnTo>
                    <a:pt x="110" y="64"/>
                  </a:lnTo>
                  <a:lnTo>
                    <a:pt x="96" y="76"/>
                  </a:lnTo>
                  <a:lnTo>
                    <a:pt x="86" y="90"/>
                  </a:lnTo>
                  <a:lnTo>
                    <a:pt x="78" y="110"/>
                  </a:lnTo>
                  <a:lnTo>
                    <a:pt x="72" y="130"/>
                  </a:lnTo>
                  <a:lnTo>
                    <a:pt x="70" y="152"/>
                  </a:lnTo>
                  <a:lnTo>
                    <a:pt x="68" y="176"/>
                  </a:lnTo>
                  <a:lnTo>
                    <a:pt x="68" y="176"/>
                  </a:lnTo>
                  <a:close/>
                </a:path>
              </a:pathLst>
            </a:custGeom>
            <a:solidFill>
              <a:srgbClr val="040000"/>
            </a:solidFill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9166320" y="7223040"/>
              <a:ext cx="345960" cy="546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18" h="344">
                  <a:moveTo>
                    <a:pt x="0" y="8"/>
                  </a:moveTo>
                  <a:lnTo>
                    <a:pt x="0" y="8"/>
                  </a:lnTo>
                  <a:lnTo>
                    <a:pt x="38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18" y="2"/>
                  </a:lnTo>
                  <a:lnTo>
                    <a:pt x="144" y="6"/>
                  </a:lnTo>
                  <a:lnTo>
                    <a:pt x="168" y="16"/>
                  </a:lnTo>
                  <a:lnTo>
                    <a:pt x="176" y="20"/>
                  </a:lnTo>
                  <a:lnTo>
                    <a:pt x="186" y="28"/>
                  </a:lnTo>
                  <a:lnTo>
                    <a:pt x="186" y="28"/>
                  </a:lnTo>
                  <a:lnTo>
                    <a:pt x="200" y="42"/>
                  </a:lnTo>
                  <a:lnTo>
                    <a:pt x="210" y="60"/>
                  </a:lnTo>
                  <a:lnTo>
                    <a:pt x="216" y="80"/>
                  </a:lnTo>
                  <a:lnTo>
                    <a:pt x="218" y="104"/>
                  </a:lnTo>
                  <a:lnTo>
                    <a:pt x="218" y="104"/>
                  </a:lnTo>
                  <a:lnTo>
                    <a:pt x="218" y="120"/>
                  </a:lnTo>
                  <a:lnTo>
                    <a:pt x="214" y="136"/>
                  </a:lnTo>
                  <a:lnTo>
                    <a:pt x="210" y="148"/>
                  </a:lnTo>
                  <a:lnTo>
                    <a:pt x="206" y="160"/>
                  </a:lnTo>
                  <a:lnTo>
                    <a:pt x="198" y="172"/>
                  </a:lnTo>
                  <a:lnTo>
                    <a:pt x="192" y="180"/>
                  </a:lnTo>
                  <a:lnTo>
                    <a:pt x="182" y="190"/>
                  </a:lnTo>
                  <a:lnTo>
                    <a:pt x="172" y="196"/>
                  </a:lnTo>
                  <a:lnTo>
                    <a:pt x="152" y="206"/>
                  </a:lnTo>
                  <a:lnTo>
                    <a:pt x="130" y="214"/>
                  </a:lnTo>
                  <a:lnTo>
                    <a:pt x="110" y="216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76" y="218"/>
                  </a:lnTo>
                  <a:lnTo>
                    <a:pt x="66" y="216"/>
                  </a:lnTo>
                  <a:lnTo>
                    <a:pt x="66" y="344"/>
                  </a:lnTo>
                  <a:lnTo>
                    <a:pt x="0" y="344"/>
                  </a:lnTo>
                  <a:lnTo>
                    <a:pt x="0" y="8"/>
                  </a:lnTo>
                  <a:close/>
                  <a:moveTo>
                    <a:pt x="66" y="164"/>
                  </a:moveTo>
                  <a:lnTo>
                    <a:pt x="66" y="164"/>
                  </a:lnTo>
                  <a:lnTo>
                    <a:pt x="76" y="166"/>
                  </a:lnTo>
                  <a:lnTo>
                    <a:pt x="88" y="166"/>
                  </a:lnTo>
                  <a:lnTo>
                    <a:pt x="88" y="166"/>
                  </a:lnTo>
                  <a:lnTo>
                    <a:pt x="102" y="166"/>
                  </a:lnTo>
                  <a:lnTo>
                    <a:pt x="116" y="162"/>
                  </a:lnTo>
                  <a:lnTo>
                    <a:pt x="126" y="158"/>
                  </a:lnTo>
                  <a:lnTo>
                    <a:pt x="136" y="150"/>
                  </a:lnTo>
                  <a:lnTo>
                    <a:pt x="144" y="142"/>
                  </a:lnTo>
                  <a:lnTo>
                    <a:pt x="148" y="132"/>
                  </a:lnTo>
                  <a:lnTo>
                    <a:pt x="152" y="120"/>
                  </a:lnTo>
                  <a:lnTo>
                    <a:pt x="154" y="106"/>
                  </a:lnTo>
                  <a:lnTo>
                    <a:pt x="154" y="106"/>
                  </a:lnTo>
                  <a:lnTo>
                    <a:pt x="152" y="94"/>
                  </a:lnTo>
                  <a:lnTo>
                    <a:pt x="148" y="82"/>
                  </a:lnTo>
                  <a:lnTo>
                    <a:pt x="144" y="74"/>
                  </a:lnTo>
                  <a:lnTo>
                    <a:pt x="138" y="66"/>
                  </a:lnTo>
                  <a:lnTo>
                    <a:pt x="128" y="60"/>
                  </a:lnTo>
                  <a:lnTo>
                    <a:pt x="118" y="54"/>
                  </a:lnTo>
                  <a:lnTo>
                    <a:pt x="106" y="52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76" y="52"/>
                  </a:lnTo>
                  <a:lnTo>
                    <a:pt x="66" y="54"/>
                  </a:lnTo>
                  <a:lnTo>
                    <a:pt x="66" y="164"/>
                  </a:lnTo>
                  <a:close/>
                </a:path>
              </a:pathLst>
            </a:custGeom>
            <a:solidFill>
              <a:srgbClr val="040000"/>
            </a:solidFill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7553160" y="7839000"/>
              <a:ext cx="660240" cy="6602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16" h="416">
                  <a:moveTo>
                    <a:pt x="386" y="174"/>
                  </a:moveTo>
                  <a:lnTo>
                    <a:pt x="298" y="174"/>
                  </a:lnTo>
                  <a:lnTo>
                    <a:pt x="298" y="190"/>
                  </a:lnTo>
                  <a:lnTo>
                    <a:pt x="298" y="190"/>
                  </a:lnTo>
                  <a:lnTo>
                    <a:pt x="296" y="224"/>
                  </a:lnTo>
                  <a:lnTo>
                    <a:pt x="292" y="258"/>
                  </a:lnTo>
                  <a:lnTo>
                    <a:pt x="282" y="288"/>
                  </a:lnTo>
                  <a:lnTo>
                    <a:pt x="276" y="304"/>
                  </a:lnTo>
                  <a:lnTo>
                    <a:pt x="270" y="318"/>
                  </a:lnTo>
                  <a:lnTo>
                    <a:pt x="260" y="332"/>
                  </a:lnTo>
                  <a:lnTo>
                    <a:pt x="250" y="346"/>
                  </a:lnTo>
                  <a:lnTo>
                    <a:pt x="240" y="358"/>
                  </a:lnTo>
                  <a:lnTo>
                    <a:pt x="226" y="372"/>
                  </a:lnTo>
                  <a:lnTo>
                    <a:pt x="212" y="384"/>
                  </a:lnTo>
                  <a:lnTo>
                    <a:pt x="196" y="394"/>
                  </a:lnTo>
                  <a:lnTo>
                    <a:pt x="178" y="406"/>
                  </a:lnTo>
                  <a:lnTo>
                    <a:pt x="158" y="416"/>
                  </a:lnTo>
                  <a:lnTo>
                    <a:pt x="158" y="416"/>
                  </a:lnTo>
                  <a:lnTo>
                    <a:pt x="140" y="396"/>
                  </a:lnTo>
                  <a:lnTo>
                    <a:pt x="118" y="376"/>
                  </a:lnTo>
                  <a:lnTo>
                    <a:pt x="118" y="376"/>
                  </a:lnTo>
                  <a:lnTo>
                    <a:pt x="136" y="368"/>
                  </a:lnTo>
                  <a:lnTo>
                    <a:pt x="152" y="358"/>
                  </a:lnTo>
                  <a:lnTo>
                    <a:pt x="168" y="348"/>
                  </a:lnTo>
                  <a:lnTo>
                    <a:pt x="180" y="338"/>
                  </a:lnTo>
                  <a:lnTo>
                    <a:pt x="192" y="328"/>
                  </a:lnTo>
                  <a:lnTo>
                    <a:pt x="202" y="316"/>
                  </a:lnTo>
                  <a:lnTo>
                    <a:pt x="210" y="306"/>
                  </a:lnTo>
                  <a:lnTo>
                    <a:pt x="218" y="294"/>
                  </a:lnTo>
                  <a:lnTo>
                    <a:pt x="230" y="270"/>
                  </a:lnTo>
                  <a:lnTo>
                    <a:pt x="236" y="244"/>
                  </a:lnTo>
                  <a:lnTo>
                    <a:pt x="240" y="218"/>
                  </a:lnTo>
                  <a:lnTo>
                    <a:pt x="242" y="190"/>
                  </a:lnTo>
                  <a:lnTo>
                    <a:pt x="242" y="174"/>
                  </a:lnTo>
                  <a:lnTo>
                    <a:pt x="132" y="174"/>
                  </a:lnTo>
                  <a:lnTo>
                    <a:pt x="132" y="270"/>
                  </a:lnTo>
                  <a:lnTo>
                    <a:pt x="78" y="270"/>
                  </a:lnTo>
                  <a:lnTo>
                    <a:pt x="78" y="174"/>
                  </a:lnTo>
                  <a:lnTo>
                    <a:pt x="0" y="174"/>
                  </a:lnTo>
                  <a:lnTo>
                    <a:pt x="0" y="120"/>
                  </a:lnTo>
                  <a:lnTo>
                    <a:pt x="78" y="120"/>
                  </a:lnTo>
                  <a:lnTo>
                    <a:pt x="78" y="28"/>
                  </a:lnTo>
                  <a:lnTo>
                    <a:pt x="146" y="32"/>
                  </a:lnTo>
                  <a:lnTo>
                    <a:pt x="146" y="32"/>
                  </a:lnTo>
                  <a:lnTo>
                    <a:pt x="146" y="36"/>
                  </a:lnTo>
                  <a:lnTo>
                    <a:pt x="142" y="40"/>
                  </a:lnTo>
                  <a:lnTo>
                    <a:pt x="138" y="42"/>
                  </a:lnTo>
                  <a:lnTo>
                    <a:pt x="132" y="44"/>
                  </a:lnTo>
                  <a:lnTo>
                    <a:pt x="132" y="120"/>
                  </a:lnTo>
                  <a:lnTo>
                    <a:pt x="242" y="120"/>
                  </a:lnTo>
                  <a:lnTo>
                    <a:pt x="242" y="24"/>
                  </a:lnTo>
                  <a:lnTo>
                    <a:pt x="312" y="28"/>
                  </a:lnTo>
                  <a:lnTo>
                    <a:pt x="312" y="28"/>
                  </a:lnTo>
                  <a:lnTo>
                    <a:pt x="310" y="30"/>
                  </a:lnTo>
                  <a:lnTo>
                    <a:pt x="308" y="34"/>
                  </a:lnTo>
                  <a:lnTo>
                    <a:pt x="304" y="36"/>
                  </a:lnTo>
                  <a:lnTo>
                    <a:pt x="298" y="38"/>
                  </a:lnTo>
                  <a:lnTo>
                    <a:pt x="298" y="120"/>
                  </a:lnTo>
                  <a:lnTo>
                    <a:pt x="386" y="120"/>
                  </a:lnTo>
                  <a:lnTo>
                    <a:pt x="386" y="174"/>
                  </a:lnTo>
                  <a:close/>
                  <a:moveTo>
                    <a:pt x="324" y="38"/>
                  </a:moveTo>
                  <a:lnTo>
                    <a:pt x="324" y="38"/>
                  </a:lnTo>
                  <a:lnTo>
                    <a:pt x="336" y="50"/>
                  </a:lnTo>
                  <a:lnTo>
                    <a:pt x="348" y="64"/>
                  </a:lnTo>
                  <a:lnTo>
                    <a:pt x="368" y="92"/>
                  </a:lnTo>
                  <a:lnTo>
                    <a:pt x="346" y="110"/>
                  </a:lnTo>
                  <a:lnTo>
                    <a:pt x="346" y="110"/>
                  </a:lnTo>
                  <a:lnTo>
                    <a:pt x="324" y="82"/>
                  </a:lnTo>
                  <a:lnTo>
                    <a:pt x="312" y="68"/>
                  </a:lnTo>
                  <a:lnTo>
                    <a:pt x="300" y="56"/>
                  </a:lnTo>
                  <a:lnTo>
                    <a:pt x="324" y="38"/>
                  </a:lnTo>
                  <a:close/>
                  <a:moveTo>
                    <a:pt x="368" y="0"/>
                  </a:moveTo>
                  <a:lnTo>
                    <a:pt x="368" y="0"/>
                  </a:lnTo>
                  <a:lnTo>
                    <a:pt x="394" y="28"/>
                  </a:lnTo>
                  <a:lnTo>
                    <a:pt x="406" y="42"/>
                  </a:lnTo>
                  <a:lnTo>
                    <a:pt x="416" y="56"/>
                  </a:lnTo>
                  <a:lnTo>
                    <a:pt x="392" y="74"/>
                  </a:lnTo>
                  <a:lnTo>
                    <a:pt x="392" y="74"/>
                  </a:lnTo>
                  <a:lnTo>
                    <a:pt x="372" y="46"/>
                  </a:lnTo>
                  <a:lnTo>
                    <a:pt x="360" y="32"/>
                  </a:lnTo>
                  <a:lnTo>
                    <a:pt x="346" y="18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040000"/>
            </a:solidFill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1"/>
            <p:cNvSpPr/>
            <p:nvPr/>
          </p:nvSpPr>
          <p:spPr>
            <a:xfrm>
              <a:off x="8194680" y="8074080"/>
              <a:ext cx="187200" cy="1904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18" h="120">
                  <a:moveTo>
                    <a:pt x="0" y="60"/>
                  </a:moveTo>
                  <a:lnTo>
                    <a:pt x="0" y="60"/>
                  </a:lnTo>
                  <a:lnTo>
                    <a:pt x="2" y="48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6"/>
                  </a:lnTo>
                  <a:lnTo>
                    <a:pt x="26" y="10"/>
                  </a:lnTo>
                  <a:lnTo>
                    <a:pt x="36" y="4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2" y="4"/>
                  </a:lnTo>
                  <a:lnTo>
                    <a:pt x="92" y="10"/>
                  </a:lnTo>
                  <a:lnTo>
                    <a:pt x="102" y="16"/>
                  </a:lnTo>
                  <a:lnTo>
                    <a:pt x="108" y="26"/>
                  </a:lnTo>
                  <a:lnTo>
                    <a:pt x="114" y="36"/>
                  </a:lnTo>
                  <a:lnTo>
                    <a:pt x="118" y="46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8" y="72"/>
                  </a:lnTo>
                  <a:lnTo>
                    <a:pt x="114" y="82"/>
                  </a:lnTo>
                  <a:lnTo>
                    <a:pt x="108" y="94"/>
                  </a:lnTo>
                  <a:lnTo>
                    <a:pt x="102" y="102"/>
                  </a:lnTo>
                  <a:lnTo>
                    <a:pt x="92" y="110"/>
                  </a:lnTo>
                  <a:lnTo>
                    <a:pt x="82" y="114"/>
                  </a:lnTo>
                  <a:lnTo>
                    <a:pt x="72" y="118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48" y="118"/>
                  </a:lnTo>
                  <a:lnTo>
                    <a:pt x="36" y="114"/>
                  </a:lnTo>
                  <a:lnTo>
                    <a:pt x="26" y="110"/>
                  </a:lnTo>
                  <a:lnTo>
                    <a:pt x="18" y="102"/>
                  </a:lnTo>
                  <a:lnTo>
                    <a:pt x="10" y="94"/>
                  </a:lnTo>
                  <a:lnTo>
                    <a:pt x="4" y="82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40000"/>
            </a:solidFill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2"/>
            <p:cNvSpPr/>
            <p:nvPr/>
          </p:nvSpPr>
          <p:spPr>
            <a:xfrm>
              <a:off x="8445600" y="7851960"/>
              <a:ext cx="653760" cy="66672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412" h="420">
                  <a:moveTo>
                    <a:pt x="412" y="256"/>
                  </a:moveTo>
                  <a:lnTo>
                    <a:pt x="412" y="296"/>
                  </a:lnTo>
                  <a:lnTo>
                    <a:pt x="366" y="296"/>
                  </a:lnTo>
                  <a:lnTo>
                    <a:pt x="366" y="374"/>
                  </a:lnTo>
                  <a:lnTo>
                    <a:pt x="312" y="374"/>
                  </a:lnTo>
                  <a:lnTo>
                    <a:pt x="312" y="356"/>
                  </a:lnTo>
                  <a:lnTo>
                    <a:pt x="232" y="356"/>
                  </a:lnTo>
                  <a:lnTo>
                    <a:pt x="232" y="356"/>
                  </a:lnTo>
                  <a:lnTo>
                    <a:pt x="232" y="374"/>
                  </a:lnTo>
                  <a:lnTo>
                    <a:pt x="230" y="388"/>
                  </a:lnTo>
                  <a:lnTo>
                    <a:pt x="226" y="400"/>
                  </a:lnTo>
                  <a:lnTo>
                    <a:pt x="222" y="404"/>
                  </a:lnTo>
                  <a:lnTo>
                    <a:pt x="218" y="408"/>
                  </a:lnTo>
                  <a:lnTo>
                    <a:pt x="204" y="414"/>
                  </a:lnTo>
                  <a:lnTo>
                    <a:pt x="186" y="418"/>
                  </a:lnTo>
                  <a:lnTo>
                    <a:pt x="162" y="420"/>
                  </a:lnTo>
                  <a:lnTo>
                    <a:pt x="128" y="420"/>
                  </a:lnTo>
                  <a:lnTo>
                    <a:pt x="128" y="420"/>
                  </a:lnTo>
                  <a:lnTo>
                    <a:pt x="122" y="400"/>
                  </a:lnTo>
                  <a:lnTo>
                    <a:pt x="112" y="378"/>
                  </a:lnTo>
                  <a:lnTo>
                    <a:pt x="112" y="378"/>
                  </a:lnTo>
                  <a:lnTo>
                    <a:pt x="166" y="380"/>
                  </a:lnTo>
                  <a:lnTo>
                    <a:pt x="166" y="380"/>
                  </a:lnTo>
                  <a:lnTo>
                    <a:pt x="172" y="378"/>
                  </a:lnTo>
                  <a:lnTo>
                    <a:pt x="174" y="376"/>
                  </a:lnTo>
                  <a:lnTo>
                    <a:pt x="176" y="374"/>
                  </a:lnTo>
                  <a:lnTo>
                    <a:pt x="178" y="368"/>
                  </a:lnTo>
                  <a:lnTo>
                    <a:pt x="178" y="356"/>
                  </a:lnTo>
                  <a:lnTo>
                    <a:pt x="42" y="356"/>
                  </a:lnTo>
                  <a:lnTo>
                    <a:pt x="42" y="316"/>
                  </a:lnTo>
                  <a:lnTo>
                    <a:pt x="178" y="316"/>
                  </a:lnTo>
                  <a:lnTo>
                    <a:pt x="178" y="296"/>
                  </a:lnTo>
                  <a:lnTo>
                    <a:pt x="0" y="296"/>
                  </a:lnTo>
                  <a:lnTo>
                    <a:pt x="0" y="256"/>
                  </a:lnTo>
                  <a:lnTo>
                    <a:pt x="178" y="256"/>
                  </a:lnTo>
                  <a:lnTo>
                    <a:pt x="178" y="236"/>
                  </a:lnTo>
                  <a:lnTo>
                    <a:pt x="44" y="236"/>
                  </a:lnTo>
                  <a:lnTo>
                    <a:pt x="44" y="200"/>
                  </a:lnTo>
                  <a:lnTo>
                    <a:pt x="178" y="200"/>
                  </a:lnTo>
                  <a:lnTo>
                    <a:pt x="178" y="182"/>
                  </a:lnTo>
                  <a:lnTo>
                    <a:pt x="56" y="182"/>
                  </a:lnTo>
                  <a:lnTo>
                    <a:pt x="56" y="90"/>
                  </a:lnTo>
                  <a:lnTo>
                    <a:pt x="178" y="90"/>
                  </a:lnTo>
                  <a:lnTo>
                    <a:pt x="178" y="72"/>
                  </a:lnTo>
                  <a:lnTo>
                    <a:pt x="10" y="72"/>
                  </a:lnTo>
                  <a:lnTo>
                    <a:pt x="10" y="30"/>
                  </a:lnTo>
                  <a:lnTo>
                    <a:pt x="178" y="30"/>
                  </a:lnTo>
                  <a:lnTo>
                    <a:pt x="178" y="0"/>
                  </a:lnTo>
                  <a:lnTo>
                    <a:pt x="244" y="4"/>
                  </a:lnTo>
                  <a:lnTo>
                    <a:pt x="244" y="4"/>
                  </a:lnTo>
                  <a:lnTo>
                    <a:pt x="242" y="6"/>
                  </a:lnTo>
                  <a:lnTo>
                    <a:pt x="240" y="10"/>
                  </a:lnTo>
                  <a:lnTo>
                    <a:pt x="236" y="12"/>
                  </a:lnTo>
                  <a:lnTo>
                    <a:pt x="232" y="12"/>
                  </a:lnTo>
                  <a:lnTo>
                    <a:pt x="232" y="30"/>
                  </a:lnTo>
                  <a:lnTo>
                    <a:pt x="402" y="30"/>
                  </a:lnTo>
                  <a:lnTo>
                    <a:pt x="402" y="72"/>
                  </a:lnTo>
                  <a:lnTo>
                    <a:pt x="232" y="72"/>
                  </a:lnTo>
                  <a:lnTo>
                    <a:pt x="232" y="90"/>
                  </a:lnTo>
                  <a:lnTo>
                    <a:pt x="358" y="90"/>
                  </a:lnTo>
                  <a:lnTo>
                    <a:pt x="358" y="182"/>
                  </a:lnTo>
                  <a:lnTo>
                    <a:pt x="232" y="182"/>
                  </a:lnTo>
                  <a:lnTo>
                    <a:pt x="232" y="200"/>
                  </a:lnTo>
                  <a:lnTo>
                    <a:pt x="366" y="200"/>
                  </a:lnTo>
                  <a:lnTo>
                    <a:pt x="366" y="256"/>
                  </a:lnTo>
                  <a:lnTo>
                    <a:pt x="412" y="256"/>
                  </a:lnTo>
                  <a:close/>
                  <a:moveTo>
                    <a:pt x="108" y="148"/>
                  </a:moveTo>
                  <a:lnTo>
                    <a:pt x="178" y="148"/>
                  </a:lnTo>
                  <a:lnTo>
                    <a:pt x="178" y="122"/>
                  </a:lnTo>
                  <a:lnTo>
                    <a:pt x="108" y="122"/>
                  </a:lnTo>
                  <a:lnTo>
                    <a:pt x="108" y="148"/>
                  </a:lnTo>
                  <a:close/>
                  <a:moveTo>
                    <a:pt x="304" y="122"/>
                  </a:moveTo>
                  <a:lnTo>
                    <a:pt x="232" y="122"/>
                  </a:lnTo>
                  <a:lnTo>
                    <a:pt x="232" y="148"/>
                  </a:lnTo>
                  <a:lnTo>
                    <a:pt x="304" y="148"/>
                  </a:lnTo>
                  <a:lnTo>
                    <a:pt x="304" y="122"/>
                  </a:lnTo>
                  <a:close/>
                  <a:moveTo>
                    <a:pt x="232" y="236"/>
                  </a:moveTo>
                  <a:lnTo>
                    <a:pt x="232" y="256"/>
                  </a:lnTo>
                  <a:lnTo>
                    <a:pt x="312" y="256"/>
                  </a:lnTo>
                  <a:lnTo>
                    <a:pt x="312" y="236"/>
                  </a:lnTo>
                  <a:lnTo>
                    <a:pt x="232" y="236"/>
                  </a:lnTo>
                  <a:close/>
                  <a:moveTo>
                    <a:pt x="312" y="316"/>
                  </a:moveTo>
                  <a:lnTo>
                    <a:pt x="312" y="296"/>
                  </a:lnTo>
                  <a:lnTo>
                    <a:pt x="232" y="296"/>
                  </a:lnTo>
                  <a:lnTo>
                    <a:pt x="232" y="316"/>
                  </a:lnTo>
                  <a:lnTo>
                    <a:pt x="312" y="316"/>
                  </a:lnTo>
                  <a:close/>
                </a:path>
              </a:pathLst>
            </a:custGeom>
            <a:solidFill>
              <a:srgbClr val="040000"/>
            </a:solidFill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23"/>
            <p:cNvSpPr/>
            <p:nvPr/>
          </p:nvSpPr>
          <p:spPr>
            <a:xfrm>
              <a:off x="9150480" y="7851960"/>
              <a:ext cx="672840" cy="66672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424" h="420">
                  <a:moveTo>
                    <a:pt x="420" y="130"/>
                  </a:moveTo>
                  <a:lnTo>
                    <a:pt x="388" y="130"/>
                  </a:lnTo>
                  <a:lnTo>
                    <a:pt x="388" y="130"/>
                  </a:lnTo>
                  <a:lnTo>
                    <a:pt x="380" y="178"/>
                  </a:lnTo>
                  <a:lnTo>
                    <a:pt x="368" y="222"/>
                  </a:lnTo>
                  <a:lnTo>
                    <a:pt x="352" y="264"/>
                  </a:lnTo>
                  <a:lnTo>
                    <a:pt x="344" y="282"/>
                  </a:lnTo>
                  <a:lnTo>
                    <a:pt x="334" y="300"/>
                  </a:lnTo>
                  <a:lnTo>
                    <a:pt x="334" y="300"/>
                  </a:lnTo>
                  <a:lnTo>
                    <a:pt x="354" y="322"/>
                  </a:lnTo>
                  <a:lnTo>
                    <a:pt x="374" y="342"/>
                  </a:lnTo>
                  <a:lnTo>
                    <a:pt x="398" y="358"/>
                  </a:lnTo>
                  <a:lnTo>
                    <a:pt x="424" y="372"/>
                  </a:lnTo>
                  <a:lnTo>
                    <a:pt x="424" y="372"/>
                  </a:lnTo>
                  <a:lnTo>
                    <a:pt x="414" y="382"/>
                  </a:lnTo>
                  <a:lnTo>
                    <a:pt x="404" y="394"/>
                  </a:lnTo>
                  <a:lnTo>
                    <a:pt x="388" y="420"/>
                  </a:lnTo>
                  <a:lnTo>
                    <a:pt x="388" y="420"/>
                  </a:lnTo>
                  <a:lnTo>
                    <a:pt x="362" y="406"/>
                  </a:lnTo>
                  <a:lnTo>
                    <a:pt x="340" y="388"/>
                  </a:lnTo>
                  <a:lnTo>
                    <a:pt x="318" y="368"/>
                  </a:lnTo>
                  <a:lnTo>
                    <a:pt x="300" y="348"/>
                  </a:lnTo>
                  <a:lnTo>
                    <a:pt x="300" y="348"/>
                  </a:lnTo>
                  <a:lnTo>
                    <a:pt x="278" y="368"/>
                  </a:lnTo>
                  <a:lnTo>
                    <a:pt x="254" y="388"/>
                  </a:lnTo>
                  <a:lnTo>
                    <a:pt x="226" y="406"/>
                  </a:lnTo>
                  <a:lnTo>
                    <a:pt x="194" y="420"/>
                  </a:lnTo>
                  <a:lnTo>
                    <a:pt x="194" y="420"/>
                  </a:lnTo>
                  <a:lnTo>
                    <a:pt x="182" y="396"/>
                  </a:lnTo>
                  <a:lnTo>
                    <a:pt x="168" y="374"/>
                  </a:lnTo>
                  <a:lnTo>
                    <a:pt x="70" y="374"/>
                  </a:lnTo>
                  <a:lnTo>
                    <a:pt x="70" y="400"/>
                  </a:lnTo>
                  <a:lnTo>
                    <a:pt x="20" y="400"/>
                  </a:lnTo>
                  <a:lnTo>
                    <a:pt x="20" y="202"/>
                  </a:lnTo>
                  <a:lnTo>
                    <a:pt x="80" y="202"/>
                  </a:lnTo>
                  <a:lnTo>
                    <a:pt x="80" y="132"/>
                  </a:lnTo>
                  <a:lnTo>
                    <a:pt x="0" y="132"/>
                  </a:lnTo>
                  <a:lnTo>
                    <a:pt x="0" y="82"/>
                  </a:lnTo>
                  <a:lnTo>
                    <a:pt x="80" y="82"/>
                  </a:lnTo>
                  <a:lnTo>
                    <a:pt x="80" y="0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8"/>
                  </a:lnTo>
                  <a:lnTo>
                    <a:pt x="140" y="10"/>
                  </a:lnTo>
                  <a:lnTo>
                    <a:pt x="130" y="12"/>
                  </a:lnTo>
                  <a:lnTo>
                    <a:pt x="130" y="82"/>
                  </a:lnTo>
                  <a:lnTo>
                    <a:pt x="206" y="82"/>
                  </a:lnTo>
                  <a:lnTo>
                    <a:pt x="206" y="132"/>
                  </a:lnTo>
                  <a:lnTo>
                    <a:pt x="130" y="132"/>
                  </a:lnTo>
                  <a:lnTo>
                    <a:pt x="130" y="202"/>
                  </a:lnTo>
                  <a:lnTo>
                    <a:pt x="184" y="202"/>
                  </a:lnTo>
                  <a:lnTo>
                    <a:pt x="184" y="202"/>
                  </a:lnTo>
                  <a:lnTo>
                    <a:pt x="174" y="194"/>
                  </a:lnTo>
                  <a:lnTo>
                    <a:pt x="174" y="194"/>
                  </a:lnTo>
                  <a:lnTo>
                    <a:pt x="186" y="178"/>
                  </a:lnTo>
                  <a:lnTo>
                    <a:pt x="198" y="158"/>
                  </a:lnTo>
                  <a:lnTo>
                    <a:pt x="210" y="134"/>
                  </a:lnTo>
                  <a:lnTo>
                    <a:pt x="218" y="110"/>
                  </a:lnTo>
                  <a:lnTo>
                    <a:pt x="228" y="84"/>
                  </a:lnTo>
                  <a:lnTo>
                    <a:pt x="234" y="58"/>
                  </a:lnTo>
                  <a:lnTo>
                    <a:pt x="240" y="30"/>
                  </a:lnTo>
                  <a:lnTo>
                    <a:pt x="246" y="0"/>
                  </a:lnTo>
                  <a:lnTo>
                    <a:pt x="310" y="14"/>
                  </a:lnTo>
                  <a:lnTo>
                    <a:pt x="310" y="14"/>
                  </a:lnTo>
                  <a:lnTo>
                    <a:pt x="308" y="18"/>
                  </a:lnTo>
                  <a:lnTo>
                    <a:pt x="306" y="20"/>
                  </a:lnTo>
                  <a:lnTo>
                    <a:pt x="298" y="20"/>
                  </a:lnTo>
                  <a:lnTo>
                    <a:pt x="298" y="20"/>
                  </a:lnTo>
                  <a:lnTo>
                    <a:pt x="292" y="50"/>
                  </a:lnTo>
                  <a:lnTo>
                    <a:pt x="284" y="80"/>
                  </a:lnTo>
                  <a:lnTo>
                    <a:pt x="420" y="80"/>
                  </a:lnTo>
                  <a:lnTo>
                    <a:pt x="420" y="130"/>
                  </a:lnTo>
                  <a:close/>
                  <a:moveTo>
                    <a:pt x="140" y="324"/>
                  </a:moveTo>
                  <a:lnTo>
                    <a:pt x="140" y="252"/>
                  </a:lnTo>
                  <a:lnTo>
                    <a:pt x="70" y="252"/>
                  </a:lnTo>
                  <a:lnTo>
                    <a:pt x="70" y="324"/>
                  </a:lnTo>
                  <a:lnTo>
                    <a:pt x="140" y="324"/>
                  </a:lnTo>
                  <a:close/>
                  <a:moveTo>
                    <a:pt x="192" y="362"/>
                  </a:moveTo>
                  <a:lnTo>
                    <a:pt x="192" y="362"/>
                  </a:lnTo>
                  <a:lnTo>
                    <a:pt x="214" y="350"/>
                  </a:lnTo>
                  <a:lnTo>
                    <a:pt x="234" y="334"/>
                  </a:lnTo>
                  <a:lnTo>
                    <a:pt x="254" y="318"/>
                  </a:lnTo>
                  <a:lnTo>
                    <a:pt x="270" y="300"/>
                  </a:lnTo>
                  <a:lnTo>
                    <a:pt x="270" y="300"/>
                  </a:lnTo>
                  <a:lnTo>
                    <a:pt x="258" y="278"/>
                  </a:lnTo>
                  <a:lnTo>
                    <a:pt x="250" y="254"/>
                  </a:lnTo>
                  <a:lnTo>
                    <a:pt x="240" y="230"/>
                  </a:lnTo>
                  <a:lnTo>
                    <a:pt x="234" y="204"/>
                  </a:lnTo>
                  <a:lnTo>
                    <a:pt x="234" y="204"/>
                  </a:lnTo>
                  <a:lnTo>
                    <a:pt x="214" y="228"/>
                  </a:lnTo>
                  <a:lnTo>
                    <a:pt x="214" y="228"/>
                  </a:lnTo>
                  <a:lnTo>
                    <a:pt x="192" y="208"/>
                  </a:lnTo>
                  <a:lnTo>
                    <a:pt x="192" y="362"/>
                  </a:lnTo>
                  <a:close/>
                  <a:moveTo>
                    <a:pt x="268" y="132"/>
                  </a:moveTo>
                  <a:lnTo>
                    <a:pt x="268" y="132"/>
                  </a:lnTo>
                  <a:lnTo>
                    <a:pt x="274" y="162"/>
                  </a:lnTo>
                  <a:lnTo>
                    <a:pt x="282" y="192"/>
                  </a:lnTo>
                  <a:lnTo>
                    <a:pt x="292" y="218"/>
                  </a:lnTo>
                  <a:lnTo>
                    <a:pt x="302" y="244"/>
                  </a:lnTo>
                  <a:lnTo>
                    <a:pt x="302" y="244"/>
                  </a:lnTo>
                  <a:lnTo>
                    <a:pt x="312" y="218"/>
                  </a:lnTo>
                  <a:lnTo>
                    <a:pt x="320" y="192"/>
                  </a:lnTo>
                  <a:lnTo>
                    <a:pt x="328" y="162"/>
                  </a:lnTo>
                  <a:lnTo>
                    <a:pt x="332" y="130"/>
                  </a:lnTo>
                  <a:lnTo>
                    <a:pt x="268" y="130"/>
                  </a:lnTo>
                  <a:lnTo>
                    <a:pt x="268" y="132"/>
                  </a:lnTo>
                  <a:close/>
                </a:path>
              </a:pathLst>
            </a:custGeom>
            <a:solidFill>
              <a:srgbClr val="040000"/>
            </a:solidFill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4"/>
            <p:cNvSpPr/>
            <p:nvPr/>
          </p:nvSpPr>
          <p:spPr>
            <a:xfrm>
              <a:off x="7839000" y="7219800"/>
              <a:ext cx="330120" cy="5554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208" h="350">
                  <a:moveTo>
                    <a:pt x="182" y="70"/>
                  </a:moveTo>
                  <a:lnTo>
                    <a:pt x="182" y="70"/>
                  </a:lnTo>
                  <a:lnTo>
                    <a:pt x="170" y="64"/>
                  </a:lnTo>
                  <a:lnTo>
                    <a:pt x="156" y="60"/>
                  </a:lnTo>
                  <a:lnTo>
                    <a:pt x="140" y="56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08" y="56"/>
                  </a:lnTo>
                  <a:lnTo>
                    <a:pt x="98" y="58"/>
                  </a:lnTo>
                  <a:lnTo>
                    <a:pt x="90" y="62"/>
                  </a:lnTo>
                  <a:lnTo>
                    <a:pt x="82" y="66"/>
                  </a:lnTo>
                  <a:lnTo>
                    <a:pt x="78" y="72"/>
                  </a:lnTo>
                  <a:lnTo>
                    <a:pt x="74" y="78"/>
                  </a:lnTo>
                  <a:lnTo>
                    <a:pt x="72" y="86"/>
                  </a:lnTo>
                  <a:lnTo>
                    <a:pt x="70" y="92"/>
                  </a:lnTo>
                  <a:lnTo>
                    <a:pt x="70" y="92"/>
                  </a:lnTo>
                  <a:lnTo>
                    <a:pt x="72" y="100"/>
                  </a:lnTo>
                  <a:lnTo>
                    <a:pt x="74" y="108"/>
                  </a:lnTo>
                  <a:lnTo>
                    <a:pt x="78" y="116"/>
                  </a:lnTo>
                  <a:lnTo>
                    <a:pt x="84" y="122"/>
                  </a:lnTo>
                  <a:lnTo>
                    <a:pt x="102" y="134"/>
                  </a:lnTo>
                  <a:lnTo>
                    <a:pt x="128" y="146"/>
                  </a:lnTo>
                  <a:lnTo>
                    <a:pt x="128" y="146"/>
                  </a:lnTo>
                  <a:lnTo>
                    <a:pt x="148" y="156"/>
                  </a:lnTo>
                  <a:lnTo>
                    <a:pt x="164" y="166"/>
                  </a:lnTo>
                  <a:lnTo>
                    <a:pt x="178" y="178"/>
                  </a:lnTo>
                  <a:lnTo>
                    <a:pt x="188" y="190"/>
                  </a:lnTo>
                  <a:lnTo>
                    <a:pt x="198" y="202"/>
                  </a:lnTo>
                  <a:lnTo>
                    <a:pt x="204" y="216"/>
                  </a:lnTo>
                  <a:lnTo>
                    <a:pt x="206" y="232"/>
                  </a:lnTo>
                  <a:lnTo>
                    <a:pt x="208" y="248"/>
                  </a:lnTo>
                  <a:lnTo>
                    <a:pt x="208" y="248"/>
                  </a:lnTo>
                  <a:lnTo>
                    <a:pt x="206" y="270"/>
                  </a:lnTo>
                  <a:lnTo>
                    <a:pt x="200" y="288"/>
                  </a:lnTo>
                  <a:lnTo>
                    <a:pt x="190" y="306"/>
                  </a:lnTo>
                  <a:lnTo>
                    <a:pt x="176" y="322"/>
                  </a:lnTo>
                  <a:lnTo>
                    <a:pt x="158" y="334"/>
                  </a:lnTo>
                  <a:lnTo>
                    <a:pt x="136" y="342"/>
                  </a:lnTo>
                  <a:lnTo>
                    <a:pt x="112" y="348"/>
                  </a:lnTo>
                  <a:lnTo>
                    <a:pt x="84" y="350"/>
                  </a:lnTo>
                  <a:lnTo>
                    <a:pt x="84" y="350"/>
                  </a:lnTo>
                  <a:lnTo>
                    <a:pt x="58" y="348"/>
                  </a:lnTo>
                  <a:lnTo>
                    <a:pt x="34" y="344"/>
                  </a:lnTo>
                  <a:lnTo>
                    <a:pt x="14" y="338"/>
                  </a:lnTo>
                  <a:lnTo>
                    <a:pt x="0" y="332"/>
                  </a:lnTo>
                  <a:lnTo>
                    <a:pt x="12" y="276"/>
                  </a:lnTo>
                  <a:lnTo>
                    <a:pt x="12" y="276"/>
                  </a:lnTo>
                  <a:lnTo>
                    <a:pt x="28" y="284"/>
                  </a:lnTo>
                  <a:lnTo>
                    <a:pt x="46" y="290"/>
                  </a:lnTo>
                  <a:lnTo>
                    <a:pt x="66" y="294"/>
                  </a:lnTo>
                  <a:lnTo>
                    <a:pt x="86" y="296"/>
                  </a:lnTo>
                  <a:lnTo>
                    <a:pt x="86" y="296"/>
                  </a:lnTo>
                  <a:lnTo>
                    <a:pt x="100" y="294"/>
                  </a:lnTo>
                  <a:lnTo>
                    <a:pt x="110" y="292"/>
                  </a:lnTo>
                  <a:lnTo>
                    <a:pt x="120" y="288"/>
                  </a:lnTo>
                  <a:lnTo>
                    <a:pt x="128" y="284"/>
                  </a:lnTo>
                  <a:lnTo>
                    <a:pt x="134" y="278"/>
                  </a:lnTo>
                  <a:lnTo>
                    <a:pt x="138" y="270"/>
                  </a:lnTo>
                  <a:lnTo>
                    <a:pt x="140" y="262"/>
                  </a:lnTo>
                  <a:lnTo>
                    <a:pt x="142" y="252"/>
                  </a:lnTo>
                  <a:lnTo>
                    <a:pt x="142" y="252"/>
                  </a:lnTo>
                  <a:lnTo>
                    <a:pt x="140" y="244"/>
                  </a:lnTo>
                  <a:lnTo>
                    <a:pt x="138" y="236"/>
                  </a:lnTo>
                  <a:lnTo>
                    <a:pt x="134" y="228"/>
                  </a:lnTo>
                  <a:lnTo>
                    <a:pt x="128" y="222"/>
                  </a:lnTo>
                  <a:lnTo>
                    <a:pt x="122" y="216"/>
                  </a:lnTo>
                  <a:lnTo>
                    <a:pt x="112" y="210"/>
                  </a:lnTo>
                  <a:lnTo>
                    <a:pt x="88" y="198"/>
                  </a:lnTo>
                  <a:lnTo>
                    <a:pt x="88" y="198"/>
                  </a:lnTo>
                  <a:lnTo>
                    <a:pt x="70" y="188"/>
                  </a:lnTo>
                  <a:lnTo>
                    <a:pt x="52" y="178"/>
                  </a:lnTo>
                  <a:lnTo>
                    <a:pt x="38" y="168"/>
                  </a:lnTo>
                  <a:lnTo>
                    <a:pt x="26" y="156"/>
                  </a:lnTo>
                  <a:lnTo>
                    <a:pt x="16" y="144"/>
                  </a:lnTo>
                  <a:lnTo>
                    <a:pt x="10" y="130"/>
                  </a:lnTo>
                  <a:lnTo>
                    <a:pt x="6" y="114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6" y="78"/>
                  </a:lnTo>
                  <a:lnTo>
                    <a:pt x="12" y="60"/>
                  </a:lnTo>
                  <a:lnTo>
                    <a:pt x="22" y="42"/>
                  </a:lnTo>
                  <a:lnTo>
                    <a:pt x="36" y="28"/>
                  </a:lnTo>
                  <a:lnTo>
                    <a:pt x="52" y="16"/>
                  </a:lnTo>
                  <a:lnTo>
                    <a:pt x="72" y="8"/>
                  </a:lnTo>
                  <a:lnTo>
                    <a:pt x="96" y="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44" y="2"/>
                  </a:lnTo>
                  <a:lnTo>
                    <a:pt x="164" y="4"/>
                  </a:lnTo>
                  <a:lnTo>
                    <a:pt x="182" y="10"/>
                  </a:lnTo>
                  <a:lnTo>
                    <a:pt x="196" y="16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5"/>
            <p:cNvSpPr/>
            <p:nvPr/>
          </p:nvSpPr>
          <p:spPr>
            <a:xfrm>
              <a:off x="8210520" y="7226280"/>
              <a:ext cx="371160" cy="54288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34" h="342">
                  <a:moveTo>
                    <a:pt x="234" y="58"/>
                  </a:moveTo>
                  <a:lnTo>
                    <a:pt x="150" y="58"/>
                  </a:lnTo>
                  <a:lnTo>
                    <a:pt x="150" y="342"/>
                  </a:lnTo>
                  <a:lnTo>
                    <a:pt x="84" y="342"/>
                  </a:lnTo>
                  <a:lnTo>
                    <a:pt x="84" y="58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34" y="0"/>
                  </a:lnTo>
                  <a:lnTo>
                    <a:pt x="234" y="58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6"/>
            <p:cNvSpPr/>
            <p:nvPr/>
          </p:nvSpPr>
          <p:spPr>
            <a:xfrm>
              <a:off x="8626680" y="7219800"/>
              <a:ext cx="453960" cy="55872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286" h="352">
                  <a:moveTo>
                    <a:pt x="286" y="172"/>
                  </a:moveTo>
                  <a:lnTo>
                    <a:pt x="286" y="172"/>
                  </a:lnTo>
                  <a:lnTo>
                    <a:pt x="284" y="192"/>
                  </a:lnTo>
                  <a:lnTo>
                    <a:pt x="282" y="214"/>
                  </a:lnTo>
                  <a:lnTo>
                    <a:pt x="280" y="232"/>
                  </a:lnTo>
                  <a:lnTo>
                    <a:pt x="274" y="250"/>
                  </a:lnTo>
                  <a:lnTo>
                    <a:pt x="268" y="266"/>
                  </a:lnTo>
                  <a:lnTo>
                    <a:pt x="262" y="280"/>
                  </a:lnTo>
                  <a:lnTo>
                    <a:pt x="254" y="294"/>
                  </a:lnTo>
                  <a:lnTo>
                    <a:pt x="244" y="306"/>
                  </a:lnTo>
                  <a:lnTo>
                    <a:pt x="234" y="316"/>
                  </a:lnTo>
                  <a:lnTo>
                    <a:pt x="224" y="326"/>
                  </a:lnTo>
                  <a:lnTo>
                    <a:pt x="212" y="334"/>
                  </a:lnTo>
                  <a:lnTo>
                    <a:pt x="198" y="340"/>
                  </a:lnTo>
                  <a:lnTo>
                    <a:pt x="186" y="344"/>
                  </a:lnTo>
                  <a:lnTo>
                    <a:pt x="170" y="348"/>
                  </a:lnTo>
                  <a:lnTo>
                    <a:pt x="156" y="350"/>
                  </a:lnTo>
                  <a:lnTo>
                    <a:pt x="140" y="352"/>
                  </a:lnTo>
                  <a:lnTo>
                    <a:pt x="140" y="352"/>
                  </a:lnTo>
                  <a:lnTo>
                    <a:pt x="124" y="350"/>
                  </a:lnTo>
                  <a:lnTo>
                    <a:pt x="108" y="348"/>
                  </a:lnTo>
                  <a:lnTo>
                    <a:pt x="94" y="344"/>
                  </a:lnTo>
                  <a:lnTo>
                    <a:pt x="80" y="338"/>
                  </a:lnTo>
                  <a:lnTo>
                    <a:pt x="68" y="330"/>
                  </a:lnTo>
                  <a:lnTo>
                    <a:pt x="56" y="322"/>
                  </a:lnTo>
                  <a:lnTo>
                    <a:pt x="46" y="312"/>
                  </a:lnTo>
                  <a:lnTo>
                    <a:pt x="36" y="300"/>
                  </a:lnTo>
                  <a:lnTo>
                    <a:pt x="28" y="288"/>
                  </a:lnTo>
                  <a:lnTo>
                    <a:pt x="20" y="276"/>
                  </a:lnTo>
                  <a:lnTo>
                    <a:pt x="14" y="260"/>
                  </a:lnTo>
                  <a:lnTo>
                    <a:pt x="8" y="246"/>
                  </a:lnTo>
                  <a:lnTo>
                    <a:pt x="4" y="230"/>
                  </a:lnTo>
                  <a:lnTo>
                    <a:pt x="2" y="212"/>
                  </a:lnTo>
                  <a:lnTo>
                    <a:pt x="0" y="19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58"/>
                  </a:lnTo>
                  <a:lnTo>
                    <a:pt x="2" y="140"/>
                  </a:lnTo>
                  <a:lnTo>
                    <a:pt x="4" y="122"/>
                  </a:lnTo>
                  <a:lnTo>
                    <a:pt x="10" y="106"/>
                  </a:lnTo>
                  <a:lnTo>
                    <a:pt x="14" y="90"/>
                  </a:lnTo>
                  <a:lnTo>
                    <a:pt x="22" y="76"/>
                  </a:lnTo>
                  <a:lnTo>
                    <a:pt x="30" y="62"/>
                  </a:lnTo>
                  <a:lnTo>
                    <a:pt x="38" y="50"/>
                  </a:lnTo>
                  <a:lnTo>
                    <a:pt x="48" y="38"/>
                  </a:lnTo>
                  <a:lnTo>
                    <a:pt x="60" y="28"/>
                  </a:lnTo>
                  <a:lnTo>
                    <a:pt x="72" y="20"/>
                  </a:lnTo>
                  <a:lnTo>
                    <a:pt x="84" y="12"/>
                  </a:lnTo>
                  <a:lnTo>
                    <a:pt x="98" y="8"/>
                  </a:lnTo>
                  <a:lnTo>
                    <a:pt x="112" y="2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78" y="4"/>
                  </a:lnTo>
                  <a:lnTo>
                    <a:pt x="192" y="8"/>
                  </a:lnTo>
                  <a:lnTo>
                    <a:pt x="206" y="14"/>
                  </a:lnTo>
                  <a:lnTo>
                    <a:pt x="220" y="20"/>
                  </a:lnTo>
                  <a:lnTo>
                    <a:pt x="230" y="30"/>
                  </a:lnTo>
                  <a:lnTo>
                    <a:pt x="242" y="40"/>
                  </a:lnTo>
                  <a:lnTo>
                    <a:pt x="250" y="52"/>
                  </a:lnTo>
                  <a:lnTo>
                    <a:pt x="258" y="64"/>
                  </a:lnTo>
                  <a:lnTo>
                    <a:pt x="266" y="76"/>
                  </a:lnTo>
                  <a:lnTo>
                    <a:pt x="272" y="92"/>
                  </a:lnTo>
                  <a:lnTo>
                    <a:pt x="276" y="106"/>
                  </a:lnTo>
                  <a:lnTo>
                    <a:pt x="284" y="138"/>
                  </a:lnTo>
                  <a:lnTo>
                    <a:pt x="286" y="172"/>
                  </a:lnTo>
                  <a:lnTo>
                    <a:pt x="286" y="172"/>
                  </a:lnTo>
                  <a:close/>
                  <a:moveTo>
                    <a:pt x="68" y="176"/>
                  </a:moveTo>
                  <a:lnTo>
                    <a:pt x="68" y="176"/>
                  </a:lnTo>
                  <a:lnTo>
                    <a:pt x="70" y="200"/>
                  </a:lnTo>
                  <a:lnTo>
                    <a:pt x="72" y="222"/>
                  </a:lnTo>
                  <a:lnTo>
                    <a:pt x="78" y="244"/>
                  </a:lnTo>
                  <a:lnTo>
                    <a:pt x="88" y="262"/>
                  </a:lnTo>
                  <a:lnTo>
                    <a:pt x="98" y="276"/>
                  </a:lnTo>
                  <a:lnTo>
                    <a:pt x="110" y="288"/>
                  </a:lnTo>
                  <a:lnTo>
                    <a:pt x="118" y="292"/>
                  </a:lnTo>
                  <a:lnTo>
                    <a:pt x="126" y="294"/>
                  </a:lnTo>
                  <a:lnTo>
                    <a:pt x="134" y="296"/>
                  </a:lnTo>
                  <a:lnTo>
                    <a:pt x="142" y="298"/>
                  </a:lnTo>
                  <a:lnTo>
                    <a:pt x="142" y="298"/>
                  </a:lnTo>
                  <a:lnTo>
                    <a:pt x="152" y="296"/>
                  </a:lnTo>
                  <a:lnTo>
                    <a:pt x="160" y="294"/>
                  </a:lnTo>
                  <a:lnTo>
                    <a:pt x="168" y="292"/>
                  </a:lnTo>
                  <a:lnTo>
                    <a:pt x="174" y="288"/>
                  </a:lnTo>
                  <a:lnTo>
                    <a:pt x="188" y="276"/>
                  </a:lnTo>
                  <a:lnTo>
                    <a:pt x="198" y="262"/>
                  </a:lnTo>
                  <a:lnTo>
                    <a:pt x="206" y="244"/>
                  </a:lnTo>
                  <a:lnTo>
                    <a:pt x="212" y="222"/>
                  </a:lnTo>
                  <a:lnTo>
                    <a:pt x="216" y="198"/>
                  </a:lnTo>
                  <a:lnTo>
                    <a:pt x="216" y="174"/>
                  </a:lnTo>
                  <a:lnTo>
                    <a:pt x="216" y="174"/>
                  </a:lnTo>
                  <a:lnTo>
                    <a:pt x="216" y="150"/>
                  </a:lnTo>
                  <a:lnTo>
                    <a:pt x="212" y="128"/>
                  </a:lnTo>
                  <a:lnTo>
                    <a:pt x="206" y="108"/>
                  </a:lnTo>
                  <a:lnTo>
                    <a:pt x="198" y="90"/>
                  </a:lnTo>
                  <a:lnTo>
                    <a:pt x="188" y="74"/>
                  </a:lnTo>
                  <a:lnTo>
                    <a:pt x="176" y="64"/>
                  </a:lnTo>
                  <a:lnTo>
                    <a:pt x="168" y="58"/>
                  </a:lnTo>
                  <a:lnTo>
                    <a:pt x="160" y="56"/>
                  </a:lnTo>
                  <a:lnTo>
                    <a:pt x="152" y="54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34" y="54"/>
                  </a:lnTo>
                  <a:lnTo>
                    <a:pt x="124" y="56"/>
                  </a:lnTo>
                  <a:lnTo>
                    <a:pt x="116" y="60"/>
                  </a:lnTo>
                  <a:lnTo>
                    <a:pt x="110" y="64"/>
                  </a:lnTo>
                  <a:lnTo>
                    <a:pt x="96" y="76"/>
                  </a:lnTo>
                  <a:lnTo>
                    <a:pt x="86" y="90"/>
                  </a:lnTo>
                  <a:lnTo>
                    <a:pt x="78" y="110"/>
                  </a:lnTo>
                  <a:lnTo>
                    <a:pt x="72" y="130"/>
                  </a:lnTo>
                  <a:lnTo>
                    <a:pt x="70" y="152"/>
                  </a:lnTo>
                  <a:lnTo>
                    <a:pt x="68" y="176"/>
                  </a:lnTo>
                  <a:lnTo>
                    <a:pt x="68" y="176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7"/>
            <p:cNvSpPr/>
            <p:nvPr/>
          </p:nvSpPr>
          <p:spPr>
            <a:xfrm>
              <a:off x="9166320" y="7223040"/>
              <a:ext cx="345960" cy="546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18" h="344">
                  <a:moveTo>
                    <a:pt x="0" y="8"/>
                  </a:moveTo>
                  <a:lnTo>
                    <a:pt x="0" y="8"/>
                  </a:lnTo>
                  <a:lnTo>
                    <a:pt x="38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18" y="2"/>
                  </a:lnTo>
                  <a:lnTo>
                    <a:pt x="144" y="6"/>
                  </a:lnTo>
                  <a:lnTo>
                    <a:pt x="168" y="16"/>
                  </a:lnTo>
                  <a:lnTo>
                    <a:pt x="176" y="20"/>
                  </a:lnTo>
                  <a:lnTo>
                    <a:pt x="186" y="28"/>
                  </a:lnTo>
                  <a:lnTo>
                    <a:pt x="186" y="28"/>
                  </a:lnTo>
                  <a:lnTo>
                    <a:pt x="200" y="42"/>
                  </a:lnTo>
                  <a:lnTo>
                    <a:pt x="210" y="60"/>
                  </a:lnTo>
                  <a:lnTo>
                    <a:pt x="216" y="80"/>
                  </a:lnTo>
                  <a:lnTo>
                    <a:pt x="218" y="104"/>
                  </a:lnTo>
                  <a:lnTo>
                    <a:pt x="218" y="104"/>
                  </a:lnTo>
                  <a:lnTo>
                    <a:pt x="218" y="120"/>
                  </a:lnTo>
                  <a:lnTo>
                    <a:pt x="214" y="136"/>
                  </a:lnTo>
                  <a:lnTo>
                    <a:pt x="210" y="148"/>
                  </a:lnTo>
                  <a:lnTo>
                    <a:pt x="206" y="160"/>
                  </a:lnTo>
                  <a:lnTo>
                    <a:pt x="198" y="172"/>
                  </a:lnTo>
                  <a:lnTo>
                    <a:pt x="192" y="180"/>
                  </a:lnTo>
                  <a:lnTo>
                    <a:pt x="182" y="190"/>
                  </a:lnTo>
                  <a:lnTo>
                    <a:pt x="172" y="196"/>
                  </a:lnTo>
                  <a:lnTo>
                    <a:pt x="152" y="206"/>
                  </a:lnTo>
                  <a:lnTo>
                    <a:pt x="130" y="214"/>
                  </a:lnTo>
                  <a:lnTo>
                    <a:pt x="110" y="216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76" y="218"/>
                  </a:lnTo>
                  <a:lnTo>
                    <a:pt x="66" y="216"/>
                  </a:lnTo>
                  <a:lnTo>
                    <a:pt x="66" y="344"/>
                  </a:lnTo>
                  <a:lnTo>
                    <a:pt x="0" y="344"/>
                  </a:lnTo>
                  <a:lnTo>
                    <a:pt x="0" y="8"/>
                  </a:lnTo>
                  <a:close/>
                  <a:moveTo>
                    <a:pt x="66" y="164"/>
                  </a:moveTo>
                  <a:lnTo>
                    <a:pt x="66" y="164"/>
                  </a:lnTo>
                  <a:lnTo>
                    <a:pt x="76" y="166"/>
                  </a:lnTo>
                  <a:lnTo>
                    <a:pt x="88" y="166"/>
                  </a:lnTo>
                  <a:lnTo>
                    <a:pt x="88" y="166"/>
                  </a:lnTo>
                  <a:lnTo>
                    <a:pt x="102" y="166"/>
                  </a:lnTo>
                  <a:lnTo>
                    <a:pt x="116" y="162"/>
                  </a:lnTo>
                  <a:lnTo>
                    <a:pt x="126" y="158"/>
                  </a:lnTo>
                  <a:lnTo>
                    <a:pt x="136" y="150"/>
                  </a:lnTo>
                  <a:lnTo>
                    <a:pt x="144" y="142"/>
                  </a:lnTo>
                  <a:lnTo>
                    <a:pt x="148" y="132"/>
                  </a:lnTo>
                  <a:lnTo>
                    <a:pt x="152" y="120"/>
                  </a:lnTo>
                  <a:lnTo>
                    <a:pt x="154" y="106"/>
                  </a:lnTo>
                  <a:lnTo>
                    <a:pt x="154" y="106"/>
                  </a:lnTo>
                  <a:lnTo>
                    <a:pt x="152" y="94"/>
                  </a:lnTo>
                  <a:lnTo>
                    <a:pt x="148" y="82"/>
                  </a:lnTo>
                  <a:lnTo>
                    <a:pt x="144" y="74"/>
                  </a:lnTo>
                  <a:lnTo>
                    <a:pt x="138" y="66"/>
                  </a:lnTo>
                  <a:lnTo>
                    <a:pt x="128" y="60"/>
                  </a:lnTo>
                  <a:lnTo>
                    <a:pt x="118" y="54"/>
                  </a:lnTo>
                  <a:lnTo>
                    <a:pt x="106" y="52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76" y="52"/>
                  </a:lnTo>
                  <a:lnTo>
                    <a:pt x="66" y="54"/>
                  </a:lnTo>
                  <a:lnTo>
                    <a:pt x="66" y="164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8"/>
            <p:cNvSpPr/>
            <p:nvPr/>
          </p:nvSpPr>
          <p:spPr>
            <a:xfrm>
              <a:off x="7553160" y="7839000"/>
              <a:ext cx="660240" cy="6602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16" h="416">
                  <a:moveTo>
                    <a:pt x="386" y="174"/>
                  </a:moveTo>
                  <a:lnTo>
                    <a:pt x="298" y="174"/>
                  </a:lnTo>
                  <a:lnTo>
                    <a:pt x="298" y="190"/>
                  </a:lnTo>
                  <a:lnTo>
                    <a:pt x="298" y="190"/>
                  </a:lnTo>
                  <a:lnTo>
                    <a:pt x="296" y="224"/>
                  </a:lnTo>
                  <a:lnTo>
                    <a:pt x="292" y="258"/>
                  </a:lnTo>
                  <a:lnTo>
                    <a:pt x="282" y="288"/>
                  </a:lnTo>
                  <a:lnTo>
                    <a:pt x="276" y="304"/>
                  </a:lnTo>
                  <a:lnTo>
                    <a:pt x="270" y="318"/>
                  </a:lnTo>
                  <a:lnTo>
                    <a:pt x="260" y="332"/>
                  </a:lnTo>
                  <a:lnTo>
                    <a:pt x="250" y="346"/>
                  </a:lnTo>
                  <a:lnTo>
                    <a:pt x="240" y="358"/>
                  </a:lnTo>
                  <a:lnTo>
                    <a:pt x="226" y="372"/>
                  </a:lnTo>
                  <a:lnTo>
                    <a:pt x="212" y="384"/>
                  </a:lnTo>
                  <a:lnTo>
                    <a:pt x="196" y="394"/>
                  </a:lnTo>
                  <a:lnTo>
                    <a:pt x="178" y="406"/>
                  </a:lnTo>
                  <a:lnTo>
                    <a:pt x="158" y="416"/>
                  </a:lnTo>
                  <a:lnTo>
                    <a:pt x="158" y="416"/>
                  </a:lnTo>
                  <a:lnTo>
                    <a:pt x="140" y="396"/>
                  </a:lnTo>
                  <a:lnTo>
                    <a:pt x="118" y="376"/>
                  </a:lnTo>
                  <a:lnTo>
                    <a:pt x="118" y="376"/>
                  </a:lnTo>
                  <a:lnTo>
                    <a:pt x="136" y="368"/>
                  </a:lnTo>
                  <a:lnTo>
                    <a:pt x="152" y="358"/>
                  </a:lnTo>
                  <a:lnTo>
                    <a:pt x="168" y="348"/>
                  </a:lnTo>
                  <a:lnTo>
                    <a:pt x="180" y="338"/>
                  </a:lnTo>
                  <a:lnTo>
                    <a:pt x="192" y="328"/>
                  </a:lnTo>
                  <a:lnTo>
                    <a:pt x="202" y="316"/>
                  </a:lnTo>
                  <a:lnTo>
                    <a:pt x="210" y="306"/>
                  </a:lnTo>
                  <a:lnTo>
                    <a:pt x="218" y="294"/>
                  </a:lnTo>
                  <a:lnTo>
                    <a:pt x="230" y="270"/>
                  </a:lnTo>
                  <a:lnTo>
                    <a:pt x="236" y="244"/>
                  </a:lnTo>
                  <a:lnTo>
                    <a:pt x="240" y="218"/>
                  </a:lnTo>
                  <a:lnTo>
                    <a:pt x="242" y="190"/>
                  </a:lnTo>
                  <a:lnTo>
                    <a:pt x="242" y="174"/>
                  </a:lnTo>
                  <a:lnTo>
                    <a:pt x="132" y="174"/>
                  </a:lnTo>
                  <a:lnTo>
                    <a:pt x="132" y="270"/>
                  </a:lnTo>
                  <a:lnTo>
                    <a:pt x="78" y="270"/>
                  </a:lnTo>
                  <a:lnTo>
                    <a:pt x="78" y="174"/>
                  </a:lnTo>
                  <a:lnTo>
                    <a:pt x="0" y="174"/>
                  </a:lnTo>
                  <a:lnTo>
                    <a:pt x="0" y="120"/>
                  </a:lnTo>
                  <a:lnTo>
                    <a:pt x="78" y="120"/>
                  </a:lnTo>
                  <a:lnTo>
                    <a:pt x="78" y="28"/>
                  </a:lnTo>
                  <a:lnTo>
                    <a:pt x="146" y="32"/>
                  </a:lnTo>
                  <a:lnTo>
                    <a:pt x="146" y="32"/>
                  </a:lnTo>
                  <a:lnTo>
                    <a:pt x="146" y="36"/>
                  </a:lnTo>
                  <a:lnTo>
                    <a:pt x="142" y="40"/>
                  </a:lnTo>
                  <a:lnTo>
                    <a:pt x="138" y="42"/>
                  </a:lnTo>
                  <a:lnTo>
                    <a:pt x="132" y="44"/>
                  </a:lnTo>
                  <a:lnTo>
                    <a:pt x="132" y="120"/>
                  </a:lnTo>
                  <a:lnTo>
                    <a:pt x="242" y="120"/>
                  </a:lnTo>
                  <a:lnTo>
                    <a:pt x="242" y="24"/>
                  </a:lnTo>
                  <a:lnTo>
                    <a:pt x="312" y="28"/>
                  </a:lnTo>
                  <a:lnTo>
                    <a:pt x="312" y="28"/>
                  </a:lnTo>
                  <a:lnTo>
                    <a:pt x="310" y="30"/>
                  </a:lnTo>
                  <a:lnTo>
                    <a:pt x="308" y="34"/>
                  </a:lnTo>
                  <a:lnTo>
                    <a:pt x="304" y="36"/>
                  </a:lnTo>
                  <a:lnTo>
                    <a:pt x="298" y="38"/>
                  </a:lnTo>
                  <a:lnTo>
                    <a:pt x="298" y="120"/>
                  </a:lnTo>
                  <a:lnTo>
                    <a:pt x="386" y="120"/>
                  </a:lnTo>
                  <a:lnTo>
                    <a:pt x="386" y="174"/>
                  </a:lnTo>
                  <a:close/>
                  <a:moveTo>
                    <a:pt x="324" y="38"/>
                  </a:moveTo>
                  <a:lnTo>
                    <a:pt x="324" y="38"/>
                  </a:lnTo>
                  <a:lnTo>
                    <a:pt x="336" y="50"/>
                  </a:lnTo>
                  <a:lnTo>
                    <a:pt x="348" y="64"/>
                  </a:lnTo>
                  <a:lnTo>
                    <a:pt x="368" y="92"/>
                  </a:lnTo>
                  <a:lnTo>
                    <a:pt x="346" y="110"/>
                  </a:lnTo>
                  <a:lnTo>
                    <a:pt x="346" y="110"/>
                  </a:lnTo>
                  <a:lnTo>
                    <a:pt x="324" y="82"/>
                  </a:lnTo>
                  <a:lnTo>
                    <a:pt x="312" y="68"/>
                  </a:lnTo>
                  <a:lnTo>
                    <a:pt x="300" y="56"/>
                  </a:lnTo>
                  <a:lnTo>
                    <a:pt x="324" y="38"/>
                  </a:lnTo>
                  <a:close/>
                  <a:moveTo>
                    <a:pt x="368" y="0"/>
                  </a:moveTo>
                  <a:lnTo>
                    <a:pt x="368" y="0"/>
                  </a:lnTo>
                  <a:lnTo>
                    <a:pt x="394" y="28"/>
                  </a:lnTo>
                  <a:lnTo>
                    <a:pt x="406" y="42"/>
                  </a:lnTo>
                  <a:lnTo>
                    <a:pt x="416" y="56"/>
                  </a:lnTo>
                  <a:lnTo>
                    <a:pt x="392" y="74"/>
                  </a:lnTo>
                  <a:lnTo>
                    <a:pt x="392" y="74"/>
                  </a:lnTo>
                  <a:lnTo>
                    <a:pt x="372" y="46"/>
                  </a:lnTo>
                  <a:lnTo>
                    <a:pt x="360" y="32"/>
                  </a:lnTo>
                  <a:lnTo>
                    <a:pt x="346" y="18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9"/>
            <p:cNvSpPr/>
            <p:nvPr/>
          </p:nvSpPr>
          <p:spPr>
            <a:xfrm>
              <a:off x="8194680" y="8074080"/>
              <a:ext cx="187200" cy="1904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18" h="120">
                  <a:moveTo>
                    <a:pt x="0" y="60"/>
                  </a:moveTo>
                  <a:lnTo>
                    <a:pt x="0" y="60"/>
                  </a:lnTo>
                  <a:lnTo>
                    <a:pt x="2" y="48"/>
                  </a:lnTo>
                  <a:lnTo>
                    <a:pt x="4" y="36"/>
                  </a:lnTo>
                  <a:lnTo>
                    <a:pt x="10" y="26"/>
                  </a:lnTo>
                  <a:lnTo>
                    <a:pt x="18" y="16"/>
                  </a:lnTo>
                  <a:lnTo>
                    <a:pt x="26" y="10"/>
                  </a:lnTo>
                  <a:lnTo>
                    <a:pt x="36" y="4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2" y="4"/>
                  </a:lnTo>
                  <a:lnTo>
                    <a:pt x="92" y="10"/>
                  </a:lnTo>
                  <a:lnTo>
                    <a:pt x="102" y="16"/>
                  </a:lnTo>
                  <a:lnTo>
                    <a:pt x="108" y="26"/>
                  </a:lnTo>
                  <a:lnTo>
                    <a:pt x="114" y="36"/>
                  </a:lnTo>
                  <a:lnTo>
                    <a:pt x="118" y="46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8" y="72"/>
                  </a:lnTo>
                  <a:lnTo>
                    <a:pt x="114" y="82"/>
                  </a:lnTo>
                  <a:lnTo>
                    <a:pt x="108" y="94"/>
                  </a:lnTo>
                  <a:lnTo>
                    <a:pt x="102" y="102"/>
                  </a:lnTo>
                  <a:lnTo>
                    <a:pt x="92" y="110"/>
                  </a:lnTo>
                  <a:lnTo>
                    <a:pt x="82" y="114"/>
                  </a:lnTo>
                  <a:lnTo>
                    <a:pt x="72" y="118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48" y="118"/>
                  </a:lnTo>
                  <a:lnTo>
                    <a:pt x="36" y="114"/>
                  </a:lnTo>
                  <a:lnTo>
                    <a:pt x="26" y="110"/>
                  </a:lnTo>
                  <a:lnTo>
                    <a:pt x="18" y="102"/>
                  </a:lnTo>
                  <a:lnTo>
                    <a:pt x="10" y="94"/>
                  </a:lnTo>
                  <a:lnTo>
                    <a:pt x="4" y="82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30"/>
            <p:cNvSpPr/>
            <p:nvPr/>
          </p:nvSpPr>
          <p:spPr>
            <a:xfrm>
              <a:off x="8445600" y="7851960"/>
              <a:ext cx="653760" cy="66672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412" h="420">
                  <a:moveTo>
                    <a:pt x="412" y="256"/>
                  </a:moveTo>
                  <a:lnTo>
                    <a:pt x="412" y="296"/>
                  </a:lnTo>
                  <a:lnTo>
                    <a:pt x="366" y="296"/>
                  </a:lnTo>
                  <a:lnTo>
                    <a:pt x="366" y="374"/>
                  </a:lnTo>
                  <a:lnTo>
                    <a:pt x="312" y="374"/>
                  </a:lnTo>
                  <a:lnTo>
                    <a:pt x="312" y="356"/>
                  </a:lnTo>
                  <a:lnTo>
                    <a:pt x="232" y="356"/>
                  </a:lnTo>
                  <a:lnTo>
                    <a:pt x="232" y="356"/>
                  </a:lnTo>
                  <a:lnTo>
                    <a:pt x="232" y="374"/>
                  </a:lnTo>
                  <a:lnTo>
                    <a:pt x="230" y="388"/>
                  </a:lnTo>
                  <a:lnTo>
                    <a:pt x="226" y="400"/>
                  </a:lnTo>
                  <a:lnTo>
                    <a:pt x="222" y="404"/>
                  </a:lnTo>
                  <a:lnTo>
                    <a:pt x="218" y="408"/>
                  </a:lnTo>
                  <a:lnTo>
                    <a:pt x="204" y="414"/>
                  </a:lnTo>
                  <a:lnTo>
                    <a:pt x="186" y="418"/>
                  </a:lnTo>
                  <a:lnTo>
                    <a:pt x="162" y="420"/>
                  </a:lnTo>
                  <a:lnTo>
                    <a:pt x="128" y="420"/>
                  </a:lnTo>
                  <a:lnTo>
                    <a:pt x="128" y="420"/>
                  </a:lnTo>
                  <a:lnTo>
                    <a:pt x="122" y="400"/>
                  </a:lnTo>
                  <a:lnTo>
                    <a:pt x="112" y="378"/>
                  </a:lnTo>
                  <a:lnTo>
                    <a:pt x="112" y="378"/>
                  </a:lnTo>
                  <a:lnTo>
                    <a:pt x="166" y="380"/>
                  </a:lnTo>
                  <a:lnTo>
                    <a:pt x="166" y="380"/>
                  </a:lnTo>
                  <a:lnTo>
                    <a:pt x="172" y="378"/>
                  </a:lnTo>
                  <a:lnTo>
                    <a:pt x="174" y="376"/>
                  </a:lnTo>
                  <a:lnTo>
                    <a:pt x="176" y="374"/>
                  </a:lnTo>
                  <a:lnTo>
                    <a:pt x="178" y="368"/>
                  </a:lnTo>
                  <a:lnTo>
                    <a:pt x="178" y="356"/>
                  </a:lnTo>
                  <a:lnTo>
                    <a:pt x="42" y="356"/>
                  </a:lnTo>
                  <a:lnTo>
                    <a:pt x="42" y="316"/>
                  </a:lnTo>
                  <a:lnTo>
                    <a:pt x="178" y="316"/>
                  </a:lnTo>
                  <a:lnTo>
                    <a:pt x="178" y="296"/>
                  </a:lnTo>
                  <a:lnTo>
                    <a:pt x="0" y="296"/>
                  </a:lnTo>
                  <a:lnTo>
                    <a:pt x="0" y="256"/>
                  </a:lnTo>
                  <a:lnTo>
                    <a:pt x="178" y="256"/>
                  </a:lnTo>
                  <a:lnTo>
                    <a:pt x="178" y="236"/>
                  </a:lnTo>
                  <a:lnTo>
                    <a:pt x="44" y="236"/>
                  </a:lnTo>
                  <a:lnTo>
                    <a:pt x="44" y="200"/>
                  </a:lnTo>
                  <a:lnTo>
                    <a:pt x="178" y="200"/>
                  </a:lnTo>
                  <a:lnTo>
                    <a:pt x="178" y="182"/>
                  </a:lnTo>
                  <a:lnTo>
                    <a:pt x="56" y="182"/>
                  </a:lnTo>
                  <a:lnTo>
                    <a:pt x="56" y="90"/>
                  </a:lnTo>
                  <a:lnTo>
                    <a:pt x="178" y="90"/>
                  </a:lnTo>
                  <a:lnTo>
                    <a:pt x="178" y="72"/>
                  </a:lnTo>
                  <a:lnTo>
                    <a:pt x="10" y="72"/>
                  </a:lnTo>
                  <a:lnTo>
                    <a:pt x="10" y="30"/>
                  </a:lnTo>
                  <a:lnTo>
                    <a:pt x="178" y="30"/>
                  </a:lnTo>
                  <a:lnTo>
                    <a:pt x="178" y="0"/>
                  </a:lnTo>
                  <a:lnTo>
                    <a:pt x="244" y="4"/>
                  </a:lnTo>
                  <a:lnTo>
                    <a:pt x="244" y="4"/>
                  </a:lnTo>
                  <a:lnTo>
                    <a:pt x="242" y="6"/>
                  </a:lnTo>
                  <a:lnTo>
                    <a:pt x="240" y="10"/>
                  </a:lnTo>
                  <a:lnTo>
                    <a:pt x="236" y="12"/>
                  </a:lnTo>
                  <a:lnTo>
                    <a:pt x="232" y="12"/>
                  </a:lnTo>
                  <a:lnTo>
                    <a:pt x="232" y="30"/>
                  </a:lnTo>
                  <a:lnTo>
                    <a:pt x="402" y="30"/>
                  </a:lnTo>
                  <a:lnTo>
                    <a:pt x="402" y="72"/>
                  </a:lnTo>
                  <a:lnTo>
                    <a:pt x="232" y="72"/>
                  </a:lnTo>
                  <a:lnTo>
                    <a:pt x="232" y="90"/>
                  </a:lnTo>
                  <a:lnTo>
                    <a:pt x="358" y="90"/>
                  </a:lnTo>
                  <a:lnTo>
                    <a:pt x="358" y="182"/>
                  </a:lnTo>
                  <a:lnTo>
                    <a:pt x="232" y="182"/>
                  </a:lnTo>
                  <a:lnTo>
                    <a:pt x="232" y="200"/>
                  </a:lnTo>
                  <a:lnTo>
                    <a:pt x="366" y="200"/>
                  </a:lnTo>
                  <a:lnTo>
                    <a:pt x="366" y="256"/>
                  </a:lnTo>
                  <a:lnTo>
                    <a:pt x="412" y="256"/>
                  </a:lnTo>
                  <a:close/>
                  <a:moveTo>
                    <a:pt x="108" y="148"/>
                  </a:moveTo>
                  <a:lnTo>
                    <a:pt x="178" y="148"/>
                  </a:lnTo>
                  <a:lnTo>
                    <a:pt x="178" y="122"/>
                  </a:lnTo>
                  <a:lnTo>
                    <a:pt x="108" y="122"/>
                  </a:lnTo>
                  <a:lnTo>
                    <a:pt x="108" y="148"/>
                  </a:lnTo>
                  <a:close/>
                  <a:moveTo>
                    <a:pt x="304" y="122"/>
                  </a:moveTo>
                  <a:lnTo>
                    <a:pt x="232" y="122"/>
                  </a:lnTo>
                  <a:lnTo>
                    <a:pt x="232" y="148"/>
                  </a:lnTo>
                  <a:lnTo>
                    <a:pt x="304" y="148"/>
                  </a:lnTo>
                  <a:lnTo>
                    <a:pt x="304" y="122"/>
                  </a:lnTo>
                  <a:close/>
                  <a:moveTo>
                    <a:pt x="232" y="236"/>
                  </a:moveTo>
                  <a:lnTo>
                    <a:pt x="232" y="256"/>
                  </a:lnTo>
                  <a:lnTo>
                    <a:pt x="312" y="256"/>
                  </a:lnTo>
                  <a:lnTo>
                    <a:pt x="312" y="236"/>
                  </a:lnTo>
                  <a:lnTo>
                    <a:pt x="232" y="236"/>
                  </a:lnTo>
                  <a:close/>
                  <a:moveTo>
                    <a:pt x="312" y="316"/>
                  </a:moveTo>
                  <a:lnTo>
                    <a:pt x="312" y="296"/>
                  </a:lnTo>
                  <a:lnTo>
                    <a:pt x="232" y="296"/>
                  </a:lnTo>
                  <a:lnTo>
                    <a:pt x="232" y="316"/>
                  </a:lnTo>
                  <a:lnTo>
                    <a:pt x="312" y="316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1"/>
            <p:cNvSpPr/>
            <p:nvPr/>
          </p:nvSpPr>
          <p:spPr>
            <a:xfrm>
              <a:off x="9150480" y="7851960"/>
              <a:ext cx="672840" cy="66672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424" h="420">
                  <a:moveTo>
                    <a:pt x="420" y="130"/>
                  </a:moveTo>
                  <a:lnTo>
                    <a:pt x="388" y="130"/>
                  </a:lnTo>
                  <a:lnTo>
                    <a:pt x="388" y="130"/>
                  </a:lnTo>
                  <a:lnTo>
                    <a:pt x="380" y="178"/>
                  </a:lnTo>
                  <a:lnTo>
                    <a:pt x="368" y="222"/>
                  </a:lnTo>
                  <a:lnTo>
                    <a:pt x="352" y="264"/>
                  </a:lnTo>
                  <a:lnTo>
                    <a:pt x="344" y="282"/>
                  </a:lnTo>
                  <a:lnTo>
                    <a:pt x="334" y="300"/>
                  </a:lnTo>
                  <a:lnTo>
                    <a:pt x="334" y="300"/>
                  </a:lnTo>
                  <a:lnTo>
                    <a:pt x="354" y="322"/>
                  </a:lnTo>
                  <a:lnTo>
                    <a:pt x="374" y="342"/>
                  </a:lnTo>
                  <a:lnTo>
                    <a:pt x="398" y="358"/>
                  </a:lnTo>
                  <a:lnTo>
                    <a:pt x="424" y="372"/>
                  </a:lnTo>
                  <a:lnTo>
                    <a:pt x="424" y="372"/>
                  </a:lnTo>
                  <a:lnTo>
                    <a:pt x="414" y="382"/>
                  </a:lnTo>
                  <a:lnTo>
                    <a:pt x="404" y="394"/>
                  </a:lnTo>
                  <a:lnTo>
                    <a:pt x="388" y="420"/>
                  </a:lnTo>
                  <a:lnTo>
                    <a:pt x="388" y="420"/>
                  </a:lnTo>
                  <a:lnTo>
                    <a:pt x="362" y="406"/>
                  </a:lnTo>
                  <a:lnTo>
                    <a:pt x="340" y="388"/>
                  </a:lnTo>
                  <a:lnTo>
                    <a:pt x="318" y="368"/>
                  </a:lnTo>
                  <a:lnTo>
                    <a:pt x="300" y="348"/>
                  </a:lnTo>
                  <a:lnTo>
                    <a:pt x="300" y="348"/>
                  </a:lnTo>
                  <a:lnTo>
                    <a:pt x="278" y="368"/>
                  </a:lnTo>
                  <a:lnTo>
                    <a:pt x="254" y="388"/>
                  </a:lnTo>
                  <a:lnTo>
                    <a:pt x="226" y="406"/>
                  </a:lnTo>
                  <a:lnTo>
                    <a:pt x="194" y="420"/>
                  </a:lnTo>
                  <a:lnTo>
                    <a:pt x="194" y="420"/>
                  </a:lnTo>
                  <a:lnTo>
                    <a:pt x="182" y="396"/>
                  </a:lnTo>
                  <a:lnTo>
                    <a:pt x="168" y="374"/>
                  </a:lnTo>
                  <a:lnTo>
                    <a:pt x="70" y="374"/>
                  </a:lnTo>
                  <a:lnTo>
                    <a:pt x="70" y="400"/>
                  </a:lnTo>
                  <a:lnTo>
                    <a:pt x="20" y="400"/>
                  </a:lnTo>
                  <a:lnTo>
                    <a:pt x="20" y="202"/>
                  </a:lnTo>
                  <a:lnTo>
                    <a:pt x="80" y="202"/>
                  </a:lnTo>
                  <a:lnTo>
                    <a:pt x="80" y="132"/>
                  </a:lnTo>
                  <a:lnTo>
                    <a:pt x="0" y="132"/>
                  </a:lnTo>
                  <a:lnTo>
                    <a:pt x="0" y="82"/>
                  </a:lnTo>
                  <a:lnTo>
                    <a:pt x="80" y="82"/>
                  </a:lnTo>
                  <a:lnTo>
                    <a:pt x="80" y="0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8"/>
                  </a:lnTo>
                  <a:lnTo>
                    <a:pt x="140" y="10"/>
                  </a:lnTo>
                  <a:lnTo>
                    <a:pt x="130" y="12"/>
                  </a:lnTo>
                  <a:lnTo>
                    <a:pt x="130" y="82"/>
                  </a:lnTo>
                  <a:lnTo>
                    <a:pt x="206" y="82"/>
                  </a:lnTo>
                  <a:lnTo>
                    <a:pt x="206" y="132"/>
                  </a:lnTo>
                  <a:lnTo>
                    <a:pt x="130" y="132"/>
                  </a:lnTo>
                  <a:lnTo>
                    <a:pt x="130" y="202"/>
                  </a:lnTo>
                  <a:lnTo>
                    <a:pt x="184" y="202"/>
                  </a:lnTo>
                  <a:lnTo>
                    <a:pt x="184" y="202"/>
                  </a:lnTo>
                  <a:lnTo>
                    <a:pt x="174" y="194"/>
                  </a:lnTo>
                  <a:lnTo>
                    <a:pt x="174" y="194"/>
                  </a:lnTo>
                  <a:lnTo>
                    <a:pt x="186" y="178"/>
                  </a:lnTo>
                  <a:lnTo>
                    <a:pt x="198" y="158"/>
                  </a:lnTo>
                  <a:lnTo>
                    <a:pt x="210" y="134"/>
                  </a:lnTo>
                  <a:lnTo>
                    <a:pt x="218" y="110"/>
                  </a:lnTo>
                  <a:lnTo>
                    <a:pt x="228" y="84"/>
                  </a:lnTo>
                  <a:lnTo>
                    <a:pt x="234" y="58"/>
                  </a:lnTo>
                  <a:lnTo>
                    <a:pt x="240" y="30"/>
                  </a:lnTo>
                  <a:lnTo>
                    <a:pt x="246" y="0"/>
                  </a:lnTo>
                  <a:lnTo>
                    <a:pt x="310" y="14"/>
                  </a:lnTo>
                  <a:lnTo>
                    <a:pt x="310" y="14"/>
                  </a:lnTo>
                  <a:lnTo>
                    <a:pt x="308" y="18"/>
                  </a:lnTo>
                  <a:lnTo>
                    <a:pt x="306" y="20"/>
                  </a:lnTo>
                  <a:lnTo>
                    <a:pt x="298" y="20"/>
                  </a:lnTo>
                  <a:lnTo>
                    <a:pt x="298" y="20"/>
                  </a:lnTo>
                  <a:lnTo>
                    <a:pt x="292" y="50"/>
                  </a:lnTo>
                  <a:lnTo>
                    <a:pt x="284" y="80"/>
                  </a:lnTo>
                  <a:lnTo>
                    <a:pt x="420" y="80"/>
                  </a:lnTo>
                  <a:lnTo>
                    <a:pt x="420" y="130"/>
                  </a:lnTo>
                  <a:close/>
                  <a:moveTo>
                    <a:pt x="140" y="324"/>
                  </a:moveTo>
                  <a:lnTo>
                    <a:pt x="140" y="252"/>
                  </a:lnTo>
                  <a:lnTo>
                    <a:pt x="70" y="252"/>
                  </a:lnTo>
                  <a:lnTo>
                    <a:pt x="70" y="324"/>
                  </a:lnTo>
                  <a:lnTo>
                    <a:pt x="140" y="324"/>
                  </a:lnTo>
                  <a:close/>
                  <a:moveTo>
                    <a:pt x="192" y="362"/>
                  </a:moveTo>
                  <a:lnTo>
                    <a:pt x="192" y="362"/>
                  </a:lnTo>
                  <a:lnTo>
                    <a:pt x="214" y="350"/>
                  </a:lnTo>
                  <a:lnTo>
                    <a:pt x="234" y="334"/>
                  </a:lnTo>
                  <a:lnTo>
                    <a:pt x="254" y="318"/>
                  </a:lnTo>
                  <a:lnTo>
                    <a:pt x="270" y="300"/>
                  </a:lnTo>
                  <a:lnTo>
                    <a:pt x="270" y="300"/>
                  </a:lnTo>
                  <a:lnTo>
                    <a:pt x="258" y="278"/>
                  </a:lnTo>
                  <a:lnTo>
                    <a:pt x="250" y="254"/>
                  </a:lnTo>
                  <a:lnTo>
                    <a:pt x="240" y="230"/>
                  </a:lnTo>
                  <a:lnTo>
                    <a:pt x="234" y="204"/>
                  </a:lnTo>
                  <a:lnTo>
                    <a:pt x="234" y="204"/>
                  </a:lnTo>
                  <a:lnTo>
                    <a:pt x="214" y="228"/>
                  </a:lnTo>
                  <a:lnTo>
                    <a:pt x="214" y="228"/>
                  </a:lnTo>
                  <a:lnTo>
                    <a:pt x="192" y="208"/>
                  </a:lnTo>
                  <a:lnTo>
                    <a:pt x="192" y="362"/>
                  </a:lnTo>
                  <a:close/>
                  <a:moveTo>
                    <a:pt x="268" y="132"/>
                  </a:moveTo>
                  <a:lnTo>
                    <a:pt x="268" y="132"/>
                  </a:lnTo>
                  <a:lnTo>
                    <a:pt x="274" y="162"/>
                  </a:lnTo>
                  <a:lnTo>
                    <a:pt x="282" y="192"/>
                  </a:lnTo>
                  <a:lnTo>
                    <a:pt x="292" y="218"/>
                  </a:lnTo>
                  <a:lnTo>
                    <a:pt x="302" y="244"/>
                  </a:lnTo>
                  <a:lnTo>
                    <a:pt x="302" y="244"/>
                  </a:lnTo>
                  <a:lnTo>
                    <a:pt x="312" y="218"/>
                  </a:lnTo>
                  <a:lnTo>
                    <a:pt x="320" y="192"/>
                  </a:lnTo>
                  <a:lnTo>
                    <a:pt x="328" y="162"/>
                  </a:lnTo>
                  <a:lnTo>
                    <a:pt x="332" y="130"/>
                  </a:lnTo>
                  <a:lnTo>
                    <a:pt x="268" y="130"/>
                  </a:lnTo>
                  <a:lnTo>
                    <a:pt x="268" y="13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Rectangle 32"/>
          <p:cNvSpPr/>
          <p:nvPr/>
        </p:nvSpPr>
        <p:spPr>
          <a:xfrm>
            <a:off x="16246440" y="8397720"/>
            <a:ext cx="11226960" cy="1625760"/>
          </a:xfrm>
          <a:prstGeom prst="rect">
            <a:avLst/>
          </a:prstGeom>
          <a:solidFill>
            <a:srgbClr val="263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グループ化 127"/>
          <p:cNvGrpSpPr/>
          <p:nvPr/>
        </p:nvGrpSpPr>
        <p:grpSpPr>
          <a:xfrm>
            <a:off x="10686960" y="6924600"/>
            <a:ext cx="23272920" cy="1336680"/>
            <a:chOff x="10686960" y="6924600"/>
            <a:chExt cx="23272920" cy="1336680"/>
          </a:xfrm>
        </p:grpSpPr>
        <p:sp>
          <p:nvSpPr>
            <p:cNvPr id="135" name="Freeform 33"/>
            <p:cNvSpPr/>
            <p:nvPr/>
          </p:nvSpPr>
          <p:spPr>
            <a:xfrm>
              <a:off x="10686960" y="6981480"/>
              <a:ext cx="1323720" cy="1247760"/>
            </a:xfrm>
            <a:custGeom>
              <a:avLst/>
              <a:gdLst>
                <a:gd name="textAreaLeft" fmla="*/ 0 w 1323720"/>
                <a:gd name="textAreaRight" fmla="*/ 1324080 w 132372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834" h="786">
                  <a:moveTo>
                    <a:pt x="826" y="230"/>
                  </a:moveTo>
                  <a:lnTo>
                    <a:pt x="826" y="230"/>
                  </a:lnTo>
                  <a:lnTo>
                    <a:pt x="820" y="238"/>
                  </a:lnTo>
                  <a:lnTo>
                    <a:pt x="812" y="244"/>
                  </a:lnTo>
                  <a:lnTo>
                    <a:pt x="804" y="248"/>
                  </a:lnTo>
                  <a:lnTo>
                    <a:pt x="794" y="248"/>
                  </a:lnTo>
                  <a:lnTo>
                    <a:pt x="794" y="248"/>
                  </a:lnTo>
                  <a:lnTo>
                    <a:pt x="762" y="326"/>
                  </a:lnTo>
                  <a:lnTo>
                    <a:pt x="724" y="410"/>
                  </a:lnTo>
                  <a:lnTo>
                    <a:pt x="724" y="410"/>
                  </a:lnTo>
                  <a:lnTo>
                    <a:pt x="778" y="438"/>
                  </a:lnTo>
                  <a:lnTo>
                    <a:pt x="834" y="470"/>
                  </a:lnTo>
                  <a:lnTo>
                    <a:pt x="752" y="598"/>
                  </a:lnTo>
                  <a:lnTo>
                    <a:pt x="752" y="598"/>
                  </a:lnTo>
                  <a:lnTo>
                    <a:pt x="658" y="540"/>
                  </a:lnTo>
                  <a:lnTo>
                    <a:pt x="658" y="540"/>
                  </a:lnTo>
                  <a:lnTo>
                    <a:pt x="634" y="578"/>
                  </a:lnTo>
                  <a:lnTo>
                    <a:pt x="610" y="616"/>
                  </a:lnTo>
                  <a:lnTo>
                    <a:pt x="584" y="650"/>
                  </a:lnTo>
                  <a:lnTo>
                    <a:pt x="558" y="682"/>
                  </a:lnTo>
                  <a:lnTo>
                    <a:pt x="530" y="714"/>
                  </a:lnTo>
                  <a:lnTo>
                    <a:pt x="500" y="740"/>
                  </a:lnTo>
                  <a:lnTo>
                    <a:pt x="468" y="766"/>
                  </a:lnTo>
                  <a:lnTo>
                    <a:pt x="436" y="786"/>
                  </a:lnTo>
                  <a:lnTo>
                    <a:pt x="436" y="786"/>
                  </a:lnTo>
                  <a:lnTo>
                    <a:pt x="416" y="768"/>
                  </a:lnTo>
                  <a:lnTo>
                    <a:pt x="390" y="748"/>
                  </a:lnTo>
                  <a:lnTo>
                    <a:pt x="364" y="728"/>
                  </a:lnTo>
                  <a:lnTo>
                    <a:pt x="340" y="712"/>
                  </a:lnTo>
                  <a:lnTo>
                    <a:pt x="340" y="712"/>
                  </a:lnTo>
                  <a:lnTo>
                    <a:pt x="370" y="692"/>
                  </a:lnTo>
                  <a:lnTo>
                    <a:pt x="400" y="670"/>
                  </a:lnTo>
                  <a:lnTo>
                    <a:pt x="428" y="646"/>
                  </a:lnTo>
                  <a:lnTo>
                    <a:pt x="454" y="618"/>
                  </a:lnTo>
                  <a:lnTo>
                    <a:pt x="480" y="588"/>
                  </a:lnTo>
                  <a:lnTo>
                    <a:pt x="502" y="556"/>
                  </a:lnTo>
                  <a:lnTo>
                    <a:pt x="526" y="520"/>
                  </a:lnTo>
                  <a:lnTo>
                    <a:pt x="546" y="484"/>
                  </a:lnTo>
                  <a:lnTo>
                    <a:pt x="546" y="484"/>
                  </a:lnTo>
                  <a:lnTo>
                    <a:pt x="510" y="470"/>
                  </a:lnTo>
                  <a:lnTo>
                    <a:pt x="476" y="458"/>
                  </a:lnTo>
                  <a:lnTo>
                    <a:pt x="442" y="448"/>
                  </a:lnTo>
                  <a:lnTo>
                    <a:pt x="410" y="440"/>
                  </a:lnTo>
                  <a:lnTo>
                    <a:pt x="410" y="440"/>
                  </a:lnTo>
                  <a:lnTo>
                    <a:pt x="374" y="506"/>
                  </a:lnTo>
                  <a:lnTo>
                    <a:pt x="358" y="536"/>
                  </a:lnTo>
                  <a:lnTo>
                    <a:pt x="340" y="562"/>
                  </a:lnTo>
                  <a:lnTo>
                    <a:pt x="324" y="586"/>
                  </a:lnTo>
                  <a:lnTo>
                    <a:pt x="308" y="606"/>
                  </a:lnTo>
                  <a:lnTo>
                    <a:pt x="290" y="626"/>
                  </a:lnTo>
                  <a:lnTo>
                    <a:pt x="274" y="642"/>
                  </a:lnTo>
                  <a:lnTo>
                    <a:pt x="258" y="656"/>
                  </a:lnTo>
                  <a:lnTo>
                    <a:pt x="240" y="668"/>
                  </a:lnTo>
                  <a:lnTo>
                    <a:pt x="222" y="676"/>
                  </a:lnTo>
                  <a:lnTo>
                    <a:pt x="204" y="684"/>
                  </a:lnTo>
                  <a:lnTo>
                    <a:pt x="184" y="690"/>
                  </a:lnTo>
                  <a:lnTo>
                    <a:pt x="164" y="694"/>
                  </a:lnTo>
                  <a:lnTo>
                    <a:pt x="144" y="696"/>
                  </a:lnTo>
                  <a:lnTo>
                    <a:pt x="122" y="696"/>
                  </a:lnTo>
                  <a:lnTo>
                    <a:pt x="122" y="696"/>
                  </a:lnTo>
                  <a:lnTo>
                    <a:pt x="104" y="696"/>
                  </a:lnTo>
                  <a:lnTo>
                    <a:pt x="88" y="694"/>
                  </a:lnTo>
                  <a:lnTo>
                    <a:pt x="72" y="690"/>
                  </a:lnTo>
                  <a:lnTo>
                    <a:pt x="58" y="684"/>
                  </a:lnTo>
                  <a:lnTo>
                    <a:pt x="46" y="678"/>
                  </a:lnTo>
                  <a:lnTo>
                    <a:pt x="36" y="670"/>
                  </a:lnTo>
                  <a:lnTo>
                    <a:pt x="28" y="660"/>
                  </a:lnTo>
                  <a:lnTo>
                    <a:pt x="20" y="650"/>
                  </a:lnTo>
                  <a:lnTo>
                    <a:pt x="12" y="638"/>
                  </a:lnTo>
                  <a:lnTo>
                    <a:pt x="8" y="624"/>
                  </a:lnTo>
                  <a:lnTo>
                    <a:pt x="4" y="610"/>
                  </a:lnTo>
                  <a:lnTo>
                    <a:pt x="2" y="596"/>
                  </a:lnTo>
                  <a:lnTo>
                    <a:pt x="0" y="580"/>
                  </a:lnTo>
                  <a:lnTo>
                    <a:pt x="2" y="564"/>
                  </a:lnTo>
                  <a:lnTo>
                    <a:pt x="6" y="528"/>
                  </a:lnTo>
                  <a:lnTo>
                    <a:pt x="6" y="528"/>
                  </a:lnTo>
                  <a:lnTo>
                    <a:pt x="12" y="502"/>
                  </a:lnTo>
                  <a:lnTo>
                    <a:pt x="22" y="478"/>
                  </a:lnTo>
                  <a:lnTo>
                    <a:pt x="34" y="456"/>
                  </a:lnTo>
                  <a:lnTo>
                    <a:pt x="50" y="434"/>
                  </a:lnTo>
                  <a:lnTo>
                    <a:pt x="66" y="416"/>
                  </a:lnTo>
                  <a:lnTo>
                    <a:pt x="86" y="398"/>
                  </a:lnTo>
                  <a:lnTo>
                    <a:pt x="106" y="382"/>
                  </a:lnTo>
                  <a:lnTo>
                    <a:pt x="130" y="368"/>
                  </a:lnTo>
                  <a:lnTo>
                    <a:pt x="154" y="354"/>
                  </a:lnTo>
                  <a:lnTo>
                    <a:pt x="178" y="344"/>
                  </a:lnTo>
                  <a:lnTo>
                    <a:pt x="204" y="334"/>
                  </a:lnTo>
                  <a:lnTo>
                    <a:pt x="230" y="326"/>
                  </a:lnTo>
                  <a:lnTo>
                    <a:pt x="256" y="320"/>
                  </a:lnTo>
                  <a:lnTo>
                    <a:pt x="282" y="316"/>
                  </a:lnTo>
                  <a:lnTo>
                    <a:pt x="308" y="314"/>
                  </a:lnTo>
                  <a:lnTo>
                    <a:pt x="334" y="314"/>
                  </a:lnTo>
                  <a:lnTo>
                    <a:pt x="334" y="314"/>
                  </a:lnTo>
                  <a:lnTo>
                    <a:pt x="352" y="270"/>
                  </a:lnTo>
                  <a:lnTo>
                    <a:pt x="370" y="226"/>
                  </a:lnTo>
                  <a:lnTo>
                    <a:pt x="388" y="180"/>
                  </a:lnTo>
                  <a:lnTo>
                    <a:pt x="402" y="136"/>
                  </a:lnTo>
                  <a:lnTo>
                    <a:pt x="402" y="136"/>
                  </a:lnTo>
                  <a:lnTo>
                    <a:pt x="306" y="146"/>
                  </a:lnTo>
                  <a:lnTo>
                    <a:pt x="192" y="154"/>
                  </a:lnTo>
                  <a:lnTo>
                    <a:pt x="192" y="154"/>
                  </a:lnTo>
                  <a:lnTo>
                    <a:pt x="186" y="160"/>
                  </a:lnTo>
                  <a:lnTo>
                    <a:pt x="180" y="164"/>
                  </a:lnTo>
                  <a:lnTo>
                    <a:pt x="166" y="168"/>
                  </a:lnTo>
                  <a:lnTo>
                    <a:pt x="180" y="30"/>
                  </a:lnTo>
                  <a:lnTo>
                    <a:pt x="180" y="30"/>
                  </a:lnTo>
                  <a:lnTo>
                    <a:pt x="266" y="26"/>
                  </a:lnTo>
                  <a:lnTo>
                    <a:pt x="354" y="22"/>
                  </a:lnTo>
                  <a:lnTo>
                    <a:pt x="474" y="14"/>
                  </a:lnTo>
                  <a:lnTo>
                    <a:pt x="474" y="14"/>
                  </a:lnTo>
                  <a:lnTo>
                    <a:pt x="482" y="10"/>
                  </a:lnTo>
                  <a:lnTo>
                    <a:pt x="490" y="8"/>
                  </a:lnTo>
                  <a:lnTo>
                    <a:pt x="502" y="0"/>
                  </a:lnTo>
                  <a:lnTo>
                    <a:pt x="596" y="50"/>
                  </a:lnTo>
                  <a:lnTo>
                    <a:pt x="596" y="50"/>
                  </a:lnTo>
                  <a:lnTo>
                    <a:pt x="584" y="62"/>
                  </a:lnTo>
                  <a:lnTo>
                    <a:pt x="568" y="70"/>
                  </a:lnTo>
                  <a:lnTo>
                    <a:pt x="568" y="70"/>
                  </a:lnTo>
                  <a:lnTo>
                    <a:pt x="518" y="196"/>
                  </a:lnTo>
                  <a:lnTo>
                    <a:pt x="490" y="264"/>
                  </a:lnTo>
                  <a:lnTo>
                    <a:pt x="464" y="322"/>
                  </a:lnTo>
                  <a:lnTo>
                    <a:pt x="464" y="322"/>
                  </a:lnTo>
                  <a:lnTo>
                    <a:pt x="498" y="330"/>
                  </a:lnTo>
                  <a:lnTo>
                    <a:pt x="534" y="338"/>
                  </a:lnTo>
                  <a:lnTo>
                    <a:pt x="604" y="362"/>
                  </a:lnTo>
                  <a:lnTo>
                    <a:pt x="604" y="362"/>
                  </a:lnTo>
                  <a:lnTo>
                    <a:pt x="622" y="326"/>
                  </a:lnTo>
                  <a:lnTo>
                    <a:pt x="638" y="284"/>
                  </a:lnTo>
                  <a:lnTo>
                    <a:pt x="656" y="240"/>
                  </a:lnTo>
                  <a:lnTo>
                    <a:pt x="672" y="196"/>
                  </a:lnTo>
                  <a:lnTo>
                    <a:pt x="826" y="230"/>
                  </a:lnTo>
                  <a:close/>
                  <a:moveTo>
                    <a:pt x="284" y="428"/>
                  </a:moveTo>
                  <a:lnTo>
                    <a:pt x="284" y="428"/>
                  </a:lnTo>
                  <a:lnTo>
                    <a:pt x="254" y="430"/>
                  </a:lnTo>
                  <a:lnTo>
                    <a:pt x="226" y="436"/>
                  </a:lnTo>
                  <a:lnTo>
                    <a:pt x="200" y="444"/>
                  </a:lnTo>
                  <a:lnTo>
                    <a:pt x="178" y="456"/>
                  </a:lnTo>
                  <a:lnTo>
                    <a:pt x="158" y="472"/>
                  </a:lnTo>
                  <a:lnTo>
                    <a:pt x="142" y="488"/>
                  </a:lnTo>
                  <a:lnTo>
                    <a:pt x="136" y="498"/>
                  </a:lnTo>
                  <a:lnTo>
                    <a:pt x="132" y="508"/>
                  </a:lnTo>
                  <a:lnTo>
                    <a:pt x="128" y="518"/>
                  </a:lnTo>
                  <a:lnTo>
                    <a:pt x="124" y="530"/>
                  </a:lnTo>
                  <a:lnTo>
                    <a:pt x="124" y="530"/>
                  </a:lnTo>
                  <a:lnTo>
                    <a:pt x="124" y="540"/>
                  </a:lnTo>
                  <a:lnTo>
                    <a:pt x="124" y="550"/>
                  </a:lnTo>
                  <a:lnTo>
                    <a:pt x="124" y="558"/>
                  </a:lnTo>
                  <a:lnTo>
                    <a:pt x="128" y="566"/>
                  </a:lnTo>
                  <a:lnTo>
                    <a:pt x="132" y="572"/>
                  </a:lnTo>
                  <a:lnTo>
                    <a:pt x="136" y="576"/>
                  </a:lnTo>
                  <a:lnTo>
                    <a:pt x="144" y="578"/>
                  </a:lnTo>
                  <a:lnTo>
                    <a:pt x="152" y="580"/>
                  </a:lnTo>
                  <a:lnTo>
                    <a:pt x="152" y="580"/>
                  </a:lnTo>
                  <a:lnTo>
                    <a:pt x="168" y="578"/>
                  </a:lnTo>
                  <a:lnTo>
                    <a:pt x="184" y="570"/>
                  </a:lnTo>
                  <a:lnTo>
                    <a:pt x="200" y="558"/>
                  </a:lnTo>
                  <a:lnTo>
                    <a:pt x="216" y="542"/>
                  </a:lnTo>
                  <a:lnTo>
                    <a:pt x="230" y="522"/>
                  </a:lnTo>
                  <a:lnTo>
                    <a:pt x="248" y="496"/>
                  </a:lnTo>
                  <a:lnTo>
                    <a:pt x="264" y="464"/>
                  </a:lnTo>
                  <a:lnTo>
                    <a:pt x="284" y="428"/>
                  </a:lnTo>
                  <a:lnTo>
                    <a:pt x="284" y="428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34"/>
            <p:cNvSpPr/>
            <p:nvPr/>
          </p:nvSpPr>
          <p:spPr>
            <a:xfrm>
              <a:off x="12382200" y="6972120"/>
              <a:ext cx="1368360" cy="12319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231920"/>
                <a:gd name="textAreaBottom" fmla="*/ 1232280 h 1231920"/>
              </a:gdLst>
              <a:ahLst/>
              <a:rect l="textAreaLeft" t="textAreaTop" r="textAreaRight" b="textAreaBottom"/>
              <a:pathLst>
                <a:path w="862" h="776">
                  <a:moveTo>
                    <a:pt x="0" y="730"/>
                  </a:moveTo>
                  <a:lnTo>
                    <a:pt x="0" y="730"/>
                  </a:lnTo>
                  <a:lnTo>
                    <a:pt x="162" y="428"/>
                  </a:lnTo>
                  <a:lnTo>
                    <a:pt x="298" y="178"/>
                  </a:lnTo>
                  <a:lnTo>
                    <a:pt x="298" y="178"/>
                  </a:lnTo>
                  <a:lnTo>
                    <a:pt x="348" y="82"/>
                  </a:lnTo>
                  <a:lnTo>
                    <a:pt x="372" y="34"/>
                  </a:lnTo>
                  <a:lnTo>
                    <a:pt x="388" y="0"/>
                  </a:lnTo>
                  <a:lnTo>
                    <a:pt x="558" y="42"/>
                  </a:lnTo>
                  <a:lnTo>
                    <a:pt x="558" y="42"/>
                  </a:lnTo>
                  <a:lnTo>
                    <a:pt x="550" y="52"/>
                  </a:lnTo>
                  <a:lnTo>
                    <a:pt x="542" y="58"/>
                  </a:lnTo>
                  <a:lnTo>
                    <a:pt x="530" y="64"/>
                  </a:lnTo>
                  <a:lnTo>
                    <a:pt x="514" y="66"/>
                  </a:lnTo>
                  <a:lnTo>
                    <a:pt x="514" y="66"/>
                  </a:lnTo>
                  <a:lnTo>
                    <a:pt x="472" y="132"/>
                  </a:lnTo>
                  <a:lnTo>
                    <a:pt x="420" y="220"/>
                  </a:lnTo>
                  <a:lnTo>
                    <a:pt x="320" y="388"/>
                  </a:lnTo>
                  <a:lnTo>
                    <a:pt x="320" y="388"/>
                  </a:lnTo>
                  <a:lnTo>
                    <a:pt x="342" y="376"/>
                  </a:lnTo>
                  <a:lnTo>
                    <a:pt x="362" y="364"/>
                  </a:lnTo>
                  <a:lnTo>
                    <a:pt x="382" y="354"/>
                  </a:lnTo>
                  <a:lnTo>
                    <a:pt x="404" y="346"/>
                  </a:lnTo>
                  <a:lnTo>
                    <a:pt x="422" y="340"/>
                  </a:lnTo>
                  <a:lnTo>
                    <a:pt x="442" y="338"/>
                  </a:lnTo>
                  <a:lnTo>
                    <a:pt x="460" y="334"/>
                  </a:lnTo>
                  <a:lnTo>
                    <a:pt x="478" y="334"/>
                  </a:lnTo>
                  <a:lnTo>
                    <a:pt x="478" y="334"/>
                  </a:lnTo>
                  <a:lnTo>
                    <a:pt x="492" y="334"/>
                  </a:lnTo>
                  <a:lnTo>
                    <a:pt x="504" y="336"/>
                  </a:lnTo>
                  <a:lnTo>
                    <a:pt x="514" y="340"/>
                  </a:lnTo>
                  <a:lnTo>
                    <a:pt x="526" y="344"/>
                  </a:lnTo>
                  <a:lnTo>
                    <a:pt x="534" y="348"/>
                  </a:lnTo>
                  <a:lnTo>
                    <a:pt x="544" y="354"/>
                  </a:lnTo>
                  <a:lnTo>
                    <a:pt x="550" y="362"/>
                  </a:lnTo>
                  <a:lnTo>
                    <a:pt x="556" y="370"/>
                  </a:lnTo>
                  <a:lnTo>
                    <a:pt x="562" y="380"/>
                  </a:lnTo>
                  <a:lnTo>
                    <a:pt x="566" y="390"/>
                  </a:lnTo>
                  <a:lnTo>
                    <a:pt x="570" y="400"/>
                  </a:lnTo>
                  <a:lnTo>
                    <a:pt x="572" y="412"/>
                  </a:lnTo>
                  <a:lnTo>
                    <a:pt x="572" y="438"/>
                  </a:lnTo>
                  <a:lnTo>
                    <a:pt x="568" y="466"/>
                  </a:lnTo>
                  <a:lnTo>
                    <a:pt x="568" y="466"/>
                  </a:lnTo>
                  <a:lnTo>
                    <a:pt x="542" y="580"/>
                  </a:lnTo>
                  <a:lnTo>
                    <a:pt x="542" y="580"/>
                  </a:lnTo>
                  <a:lnTo>
                    <a:pt x="540" y="594"/>
                  </a:lnTo>
                  <a:lnTo>
                    <a:pt x="540" y="606"/>
                  </a:lnTo>
                  <a:lnTo>
                    <a:pt x="542" y="616"/>
                  </a:lnTo>
                  <a:lnTo>
                    <a:pt x="544" y="624"/>
                  </a:lnTo>
                  <a:lnTo>
                    <a:pt x="548" y="630"/>
                  </a:lnTo>
                  <a:lnTo>
                    <a:pt x="554" y="634"/>
                  </a:lnTo>
                  <a:lnTo>
                    <a:pt x="562" y="636"/>
                  </a:lnTo>
                  <a:lnTo>
                    <a:pt x="572" y="636"/>
                  </a:lnTo>
                  <a:lnTo>
                    <a:pt x="572" y="636"/>
                  </a:lnTo>
                  <a:lnTo>
                    <a:pt x="582" y="636"/>
                  </a:lnTo>
                  <a:lnTo>
                    <a:pt x="594" y="634"/>
                  </a:lnTo>
                  <a:lnTo>
                    <a:pt x="606" y="630"/>
                  </a:lnTo>
                  <a:lnTo>
                    <a:pt x="616" y="624"/>
                  </a:lnTo>
                  <a:lnTo>
                    <a:pt x="628" y="616"/>
                  </a:lnTo>
                  <a:lnTo>
                    <a:pt x="638" y="606"/>
                  </a:lnTo>
                  <a:lnTo>
                    <a:pt x="660" y="584"/>
                  </a:lnTo>
                  <a:lnTo>
                    <a:pt x="682" y="554"/>
                  </a:lnTo>
                  <a:lnTo>
                    <a:pt x="704" y="518"/>
                  </a:lnTo>
                  <a:lnTo>
                    <a:pt x="728" y="474"/>
                  </a:lnTo>
                  <a:lnTo>
                    <a:pt x="752" y="426"/>
                  </a:lnTo>
                  <a:lnTo>
                    <a:pt x="752" y="426"/>
                  </a:lnTo>
                  <a:lnTo>
                    <a:pt x="778" y="446"/>
                  </a:lnTo>
                  <a:lnTo>
                    <a:pt x="806" y="466"/>
                  </a:lnTo>
                  <a:lnTo>
                    <a:pt x="834" y="486"/>
                  </a:lnTo>
                  <a:lnTo>
                    <a:pt x="862" y="502"/>
                  </a:lnTo>
                  <a:lnTo>
                    <a:pt x="862" y="502"/>
                  </a:lnTo>
                  <a:lnTo>
                    <a:pt x="828" y="562"/>
                  </a:lnTo>
                  <a:lnTo>
                    <a:pt x="810" y="590"/>
                  </a:lnTo>
                  <a:lnTo>
                    <a:pt x="792" y="616"/>
                  </a:lnTo>
                  <a:lnTo>
                    <a:pt x="774" y="642"/>
                  </a:lnTo>
                  <a:lnTo>
                    <a:pt x="756" y="664"/>
                  </a:lnTo>
                  <a:lnTo>
                    <a:pt x="736" y="684"/>
                  </a:lnTo>
                  <a:lnTo>
                    <a:pt x="718" y="704"/>
                  </a:lnTo>
                  <a:lnTo>
                    <a:pt x="698" y="720"/>
                  </a:lnTo>
                  <a:lnTo>
                    <a:pt x="676" y="734"/>
                  </a:lnTo>
                  <a:lnTo>
                    <a:pt x="656" y="748"/>
                  </a:lnTo>
                  <a:lnTo>
                    <a:pt x="634" y="758"/>
                  </a:lnTo>
                  <a:lnTo>
                    <a:pt x="612" y="766"/>
                  </a:lnTo>
                  <a:lnTo>
                    <a:pt x="588" y="772"/>
                  </a:lnTo>
                  <a:lnTo>
                    <a:pt x="564" y="774"/>
                  </a:lnTo>
                  <a:lnTo>
                    <a:pt x="540" y="776"/>
                  </a:lnTo>
                  <a:lnTo>
                    <a:pt x="540" y="776"/>
                  </a:lnTo>
                  <a:lnTo>
                    <a:pt x="520" y="776"/>
                  </a:lnTo>
                  <a:lnTo>
                    <a:pt x="500" y="774"/>
                  </a:lnTo>
                  <a:lnTo>
                    <a:pt x="482" y="770"/>
                  </a:lnTo>
                  <a:lnTo>
                    <a:pt x="466" y="766"/>
                  </a:lnTo>
                  <a:lnTo>
                    <a:pt x="452" y="760"/>
                  </a:lnTo>
                  <a:lnTo>
                    <a:pt x="438" y="752"/>
                  </a:lnTo>
                  <a:lnTo>
                    <a:pt x="426" y="744"/>
                  </a:lnTo>
                  <a:lnTo>
                    <a:pt x="416" y="736"/>
                  </a:lnTo>
                  <a:lnTo>
                    <a:pt x="406" y="724"/>
                  </a:lnTo>
                  <a:lnTo>
                    <a:pt x="400" y="714"/>
                  </a:lnTo>
                  <a:lnTo>
                    <a:pt x="394" y="700"/>
                  </a:lnTo>
                  <a:lnTo>
                    <a:pt x="390" y="688"/>
                  </a:lnTo>
                  <a:lnTo>
                    <a:pt x="388" y="672"/>
                  </a:lnTo>
                  <a:lnTo>
                    <a:pt x="388" y="658"/>
                  </a:lnTo>
                  <a:lnTo>
                    <a:pt x="388" y="640"/>
                  </a:lnTo>
                  <a:lnTo>
                    <a:pt x="390" y="624"/>
                  </a:lnTo>
                  <a:lnTo>
                    <a:pt x="390" y="624"/>
                  </a:lnTo>
                  <a:lnTo>
                    <a:pt x="416" y="510"/>
                  </a:lnTo>
                  <a:lnTo>
                    <a:pt x="416" y="510"/>
                  </a:lnTo>
                  <a:lnTo>
                    <a:pt x="420" y="490"/>
                  </a:lnTo>
                  <a:lnTo>
                    <a:pt x="418" y="474"/>
                  </a:lnTo>
                  <a:lnTo>
                    <a:pt x="416" y="470"/>
                  </a:lnTo>
                  <a:lnTo>
                    <a:pt x="412" y="466"/>
                  </a:lnTo>
                  <a:lnTo>
                    <a:pt x="408" y="464"/>
                  </a:lnTo>
                  <a:lnTo>
                    <a:pt x="402" y="464"/>
                  </a:lnTo>
                  <a:lnTo>
                    <a:pt x="402" y="464"/>
                  </a:lnTo>
                  <a:lnTo>
                    <a:pt x="388" y="466"/>
                  </a:lnTo>
                  <a:lnTo>
                    <a:pt x="374" y="468"/>
                  </a:lnTo>
                  <a:lnTo>
                    <a:pt x="360" y="474"/>
                  </a:lnTo>
                  <a:lnTo>
                    <a:pt x="344" y="482"/>
                  </a:lnTo>
                  <a:lnTo>
                    <a:pt x="328" y="492"/>
                  </a:lnTo>
                  <a:lnTo>
                    <a:pt x="314" y="504"/>
                  </a:lnTo>
                  <a:lnTo>
                    <a:pt x="284" y="530"/>
                  </a:lnTo>
                  <a:lnTo>
                    <a:pt x="256" y="560"/>
                  </a:lnTo>
                  <a:lnTo>
                    <a:pt x="228" y="592"/>
                  </a:lnTo>
                  <a:lnTo>
                    <a:pt x="206" y="626"/>
                  </a:lnTo>
                  <a:lnTo>
                    <a:pt x="188" y="658"/>
                  </a:lnTo>
                  <a:lnTo>
                    <a:pt x="188" y="658"/>
                  </a:lnTo>
                  <a:lnTo>
                    <a:pt x="130" y="772"/>
                  </a:lnTo>
                  <a:lnTo>
                    <a:pt x="0" y="730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5"/>
            <p:cNvSpPr/>
            <p:nvPr/>
          </p:nvSpPr>
          <p:spPr>
            <a:xfrm>
              <a:off x="14214240" y="6953040"/>
              <a:ext cx="1285560" cy="1283040"/>
            </a:xfrm>
            <a:custGeom>
              <a:avLst/>
              <a:gdLst>
                <a:gd name="textAreaLeft" fmla="*/ 0 w 1285560"/>
                <a:gd name="textAreaRight" fmla="*/ 1285920 w 1285560"/>
                <a:gd name="textAreaTop" fmla="*/ 0 h 1283040"/>
                <a:gd name="textAreaBottom" fmla="*/ 1283400 h 1283040"/>
              </a:gdLst>
              <a:ahLst/>
              <a:rect l="textAreaLeft" t="textAreaTop" r="textAreaRight" b="textAreaBottom"/>
              <a:pathLst>
                <a:path w="810" h="808">
                  <a:moveTo>
                    <a:pt x="482" y="12"/>
                  </a:moveTo>
                  <a:lnTo>
                    <a:pt x="482" y="12"/>
                  </a:lnTo>
                  <a:lnTo>
                    <a:pt x="478" y="20"/>
                  </a:lnTo>
                  <a:lnTo>
                    <a:pt x="470" y="24"/>
                  </a:lnTo>
                  <a:lnTo>
                    <a:pt x="462" y="30"/>
                  </a:lnTo>
                  <a:lnTo>
                    <a:pt x="452" y="32"/>
                  </a:lnTo>
                  <a:lnTo>
                    <a:pt x="452" y="32"/>
                  </a:lnTo>
                  <a:lnTo>
                    <a:pt x="434" y="80"/>
                  </a:lnTo>
                  <a:lnTo>
                    <a:pt x="416" y="124"/>
                  </a:lnTo>
                  <a:lnTo>
                    <a:pt x="416" y="124"/>
                  </a:lnTo>
                  <a:lnTo>
                    <a:pt x="462" y="118"/>
                  </a:lnTo>
                  <a:lnTo>
                    <a:pt x="514" y="110"/>
                  </a:lnTo>
                  <a:lnTo>
                    <a:pt x="570" y="98"/>
                  </a:lnTo>
                  <a:lnTo>
                    <a:pt x="620" y="84"/>
                  </a:lnTo>
                  <a:lnTo>
                    <a:pt x="612" y="212"/>
                  </a:lnTo>
                  <a:lnTo>
                    <a:pt x="612" y="212"/>
                  </a:lnTo>
                  <a:lnTo>
                    <a:pt x="552" y="222"/>
                  </a:lnTo>
                  <a:lnTo>
                    <a:pt x="492" y="234"/>
                  </a:lnTo>
                  <a:lnTo>
                    <a:pt x="430" y="242"/>
                  </a:lnTo>
                  <a:lnTo>
                    <a:pt x="368" y="248"/>
                  </a:lnTo>
                  <a:lnTo>
                    <a:pt x="368" y="248"/>
                  </a:lnTo>
                  <a:lnTo>
                    <a:pt x="342" y="306"/>
                  </a:lnTo>
                  <a:lnTo>
                    <a:pt x="314" y="360"/>
                  </a:lnTo>
                  <a:lnTo>
                    <a:pt x="286" y="414"/>
                  </a:lnTo>
                  <a:lnTo>
                    <a:pt x="256" y="468"/>
                  </a:lnTo>
                  <a:lnTo>
                    <a:pt x="224" y="518"/>
                  </a:lnTo>
                  <a:lnTo>
                    <a:pt x="192" y="568"/>
                  </a:lnTo>
                  <a:lnTo>
                    <a:pt x="160" y="616"/>
                  </a:lnTo>
                  <a:lnTo>
                    <a:pt x="124" y="662"/>
                  </a:lnTo>
                  <a:lnTo>
                    <a:pt x="0" y="616"/>
                  </a:lnTo>
                  <a:lnTo>
                    <a:pt x="0" y="616"/>
                  </a:lnTo>
                  <a:lnTo>
                    <a:pt x="34" y="576"/>
                  </a:lnTo>
                  <a:lnTo>
                    <a:pt x="66" y="532"/>
                  </a:lnTo>
                  <a:lnTo>
                    <a:pt x="98" y="486"/>
                  </a:lnTo>
                  <a:lnTo>
                    <a:pt x="126" y="440"/>
                  </a:lnTo>
                  <a:lnTo>
                    <a:pt x="154" y="394"/>
                  </a:lnTo>
                  <a:lnTo>
                    <a:pt x="180" y="346"/>
                  </a:lnTo>
                  <a:lnTo>
                    <a:pt x="204" y="298"/>
                  </a:lnTo>
                  <a:lnTo>
                    <a:pt x="224" y="250"/>
                  </a:lnTo>
                  <a:lnTo>
                    <a:pt x="84" y="250"/>
                  </a:lnTo>
                  <a:lnTo>
                    <a:pt x="106" y="130"/>
                  </a:lnTo>
                  <a:lnTo>
                    <a:pt x="270" y="130"/>
                  </a:lnTo>
                  <a:lnTo>
                    <a:pt x="270" y="130"/>
                  </a:lnTo>
                  <a:lnTo>
                    <a:pt x="292" y="66"/>
                  </a:lnTo>
                  <a:lnTo>
                    <a:pt x="310" y="0"/>
                  </a:lnTo>
                  <a:lnTo>
                    <a:pt x="482" y="12"/>
                  </a:lnTo>
                  <a:close/>
                  <a:moveTo>
                    <a:pt x="628" y="400"/>
                  </a:moveTo>
                  <a:lnTo>
                    <a:pt x="628" y="400"/>
                  </a:lnTo>
                  <a:lnTo>
                    <a:pt x="614" y="472"/>
                  </a:lnTo>
                  <a:lnTo>
                    <a:pt x="606" y="542"/>
                  </a:lnTo>
                  <a:lnTo>
                    <a:pt x="606" y="542"/>
                  </a:lnTo>
                  <a:lnTo>
                    <a:pt x="640" y="560"/>
                  </a:lnTo>
                  <a:lnTo>
                    <a:pt x="680" y="580"/>
                  </a:lnTo>
                  <a:lnTo>
                    <a:pt x="720" y="604"/>
                  </a:lnTo>
                  <a:lnTo>
                    <a:pt x="752" y="626"/>
                  </a:lnTo>
                  <a:lnTo>
                    <a:pt x="666" y="752"/>
                  </a:lnTo>
                  <a:lnTo>
                    <a:pt x="666" y="752"/>
                  </a:lnTo>
                  <a:lnTo>
                    <a:pt x="646" y="734"/>
                  </a:lnTo>
                  <a:lnTo>
                    <a:pt x="622" y="716"/>
                  </a:lnTo>
                  <a:lnTo>
                    <a:pt x="578" y="684"/>
                  </a:lnTo>
                  <a:lnTo>
                    <a:pt x="578" y="684"/>
                  </a:lnTo>
                  <a:lnTo>
                    <a:pt x="574" y="696"/>
                  </a:lnTo>
                  <a:lnTo>
                    <a:pt x="566" y="714"/>
                  </a:lnTo>
                  <a:lnTo>
                    <a:pt x="554" y="734"/>
                  </a:lnTo>
                  <a:lnTo>
                    <a:pt x="546" y="744"/>
                  </a:lnTo>
                  <a:lnTo>
                    <a:pt x="534" y="754"/>
                  </a:lnTo>
                  <a:lnTo>
                    <a:pt x="522" y="764"/>
                  </a:lnTo>
                  <a:lnTo>
                    <a:pt x="508" y="774"/>
                  </a:lnTo>
                  <a:lnTo>
                    <a:pt x="492" y="784"/>
                  </a:lnTo>
                  <a:lnTo>
                    <a:pt x="472" y="792"/>
                  </a:lnTo>
                  <a:lnTo>
                    <a:pt x="450" y="798"/>
                  </a:lnTo>
                  <a:lnTo>
                    <a:pt x="426" y="804"/>
                  </a:lnTo>
                  <a:lnTo>
                    <a:pt x="400" y="806"/>
                  </a:lnTo>
                  <a:lnTo>
                    <a:pt x="368" y="808"/>
                  </a:lnTo>
                  <a:lnTo>
                    <a:pt x="368" y="808"/>
                  </a:lnTo>
                  <a:lnTo>
                    <a:pt x="340" y="806"/>
                  </a:lnTo>
                  <a:lnTo>
                    <a:pt x="312" y="800"/>
                  </a:lnTo>
                  <a:lnTo>
                    <a:pt x="298" y="796"/>
                  </a:lnTo>
                  <a:lnTo>
                    <a:pt x="284" y="790"/>
                  </a:lnTo>
                  <a:lnTo>
                    <a:pt x="270" y="784"/>
                  </a:lnTo>
                  <a:lnTo>
                    <a:pt x="258" y="776"/>
                  </a:lnTo>
                  <a:lnTo>
                    <a:pt x="248" y="766"/>
                  </a:lnTo>
                  <a:lnTo>
                    <a:pt x="238" y="756"/>
                  </a:lnTo>
                  <a:lnTo>
                    <a:pt x="230" y="742"/>
                  </a:lnTo>
                  <a:lnTo>
                    <a:pt x="222" y="730"/>
                  </a:lnTo>
                  <a:lnTo>
                    <a:pt x="218" y="714"/>
                  </a:lnTo>
                  <a:lnTo>
                    <a:pt x="216" y="696"/>
                  </a:lnTo>
                  <a:lnTo>
                    <a:pt x="216" y="678"/>
                  </a:lnTo>
                  <a:lnTo>
                    <a:pt x="218" y="658"/>
                  </a:lnTo>
                  <a:lnTo>
                    <a:pt x="218" y="658"/>
                  </a:lnTo>
                  <a:lnTo>
                    <a:pt x="224" y="640"/>
                  </a:lnTo>
                  <a:lnTo>
                    <a:pt x="230" y="624"/>
                  </a:lnTo>
                  <a:lnTo>
                    <a:pt x="238" y="610"/>
                  </a:lnTo>
                  <a:lnTo>
                    <a:pt x="248" y="596"/>
                  </a:lnTo>
                  <a:lnTo>
                    <a:pt x="258" y="582"/>
                  </a:lnTo>
                  <a:lnTo>
                    <a:pt x="270" y="570"/>
                  </a:lnTo>
                  <a:lnTo>
                    <a:pt x="284" y="558"/>
                  </a:lnTo>
                  <a:lnTo>
                    <a:pt x="298" y="548"/>
                  </a:lnTo>
                  <a:lnTo>
                    <a:pt x="312" y="540"/>
                  </a:lnTo>
                  <a:lnTo>
                    <a:pt x="328" y="532"/>
                  </a:lnTo>
                  <a:lnTo>
                    <a:pt x="344" y="524"/>
                  </a:lnTo>
                  <a:lnTo>
                    <a:pt x="360" y="518"/>
                  </a:lnTo>
                  <a:lnTo>
                    <a:pt x="378" y="514"/>
                  </a:lnTo>
                  <a:lnTo>
                    <a:pt x="394" y="512"/>
                  </a:lnTo>
                  <a:lnTo>
                    <a:pt x="412" y="510"/>
                  </a:lnTo>
                  <a:lnTo>
                    <a:pt x="428" y="508"/>
                  </a:lnTo>
                  <a:lnTo>
                    <a:pt x="428" y="508"/>
                  </a:lnTo>
                  <a:lnTo>
                    <a:pt x="454" y="510"/>
                  </a:lnTo>
                  <a:lnTo>
                    <a:pt x="482" y="512"/>
                  </a:lnTo>
                  <a:lnTo>
                    <a:pt x="482" y="512"/>
                  </a:lnTo>
                  <a:lnTo>
                    <a:pt x="488" y="466"/>
                  </a:lnTo>
                  <a:lnTo>
                    <a:pt x="498" y="416"/>
                  </a:lnTo>
                  <a:lnTo>
                    <a:pt x="628" y="400"/>
                  </a:lnTo>
                  <a:close/>
                  <a:moveTo>
                    <a:pt x="466" y="626"/>
                  </a:moveTo>
                  <a:lnTo>
                    <a:pt x="466" y="626"/>
                  </a:lnTo>
                  <a:lnTo>
                    <a:pt x="452" y="622"/>
                  </a:lnTo>
                  <a:lnTo>
                    <a:pt x="436" y="618"/>
                  </a:lnTo>
                  <a:lnTo>
                    <a:pt x="418" y="616"/>
                  </a:lnTo>
                  <a:lnTo>
                    <a:pt x="404" y="616"/>
                  </a:lnTo>
                  <a:lnTo>
                    <a:pt x="404" y="616"/>
                  </a:lnTo>
                  <a:lnTo>
                    <a:pt x="390" y="616"/>
                  </a:lnTo>
                  <a:lnTo>
                    <a:pt x="378" y="618"/>
                  </a:lnTo>
                  <a:lnTo>
                    <a:pt x="366" y="622"/>
                  </a:lnTo>
                  <a:lnTo>
                    <a:pt x="356" y="628"/>
                  </a:lnTo>
                  <a:lnTo>
                    <a:pt x="346" y="634"/>
                  </a:lnTo>
                  <a:lnTo>
                    <a:pt x="340" y="642"/>
                  </a:lnTo>
                  <a:lnTo>
                    <a:pt x="334" y="650"/>
                  </a:lnTo>
                  <a:lnTo>
                    <a:pt x="332" y="658"/>
                  </a:lnTo>
                  <a:lnTo>
                    <a:pt x="332" y="658"/>
                  </a:lnTo>
                  <a:lnTo>
                    <a:pt x="332" y="666"/>
                  </a:lnTo>
                  <a:lnTo>
                    <a:pt x="334" y="674"/>
                  </a:lnTo>
                  <a:lnTo>
                    <a:pt x="338" y="682"/>
                  </a:lnTo>
                  <a:lnTo>
                    <a:pt x="344" y="688"/>
                  </a:lnTo>
                  <a:lnTo>
                    <a:pt x="352" y="694"/>
                  </a:lnTo>
                  <a:lnTo>
                    <a:pt x="362" y="696"/>
                  </a:lnTo>
                  <a:lnTo>
                    <a:pt x="376" y="700"/>
                  </a:lnTo>
                  <a:lnTo>
                    <a:pt x="390" y="700"/>
                  </a:lnTo>
                  <a:lnTo>
                    <a:pt x="390" y="700"/>
                  </a:lnTo>
                  <a:lnTo>
                    <a:pt x="404" y="698"/>
                  </a:lnTo>
                  <a:lnTo>
                    <a:pt x="416" y="696"/>
                  </a:lnTo>
                  <a:lnTo>
                    <a:pt x="428" y="692"/>
                  </a:lnTo>
                  <a:lnTo>
                    <a:pt x="438" y="686"/>
                  </a:lnTo>
                  <a:lnTo>
                    <a:pt x="446" y="678"/>
                  </a:lnTo>
                  <a:lnTo>
                    <a:pt x="454" y="670"/>
                  </a:lnTo>
                  <a:lnTo>
                    <a:pt x="458" y="660"/>
                  </a:lnTo>
                  <a:lnTo>
                    <a:pt x="462" y="648"/>
                  </a:lnTo>
                  <a:lnTo>
                    <a:pt x="466" y="626"/>
                  </a:lnTo>
                  <a:close/>
                  <a:moveTo>
                    <a:pt x="794" y="350"/>
                  </a:moveTo>
                  <a:lnTo>
                    <a:pt x="794" y="350"/>
                  </a:lnTo>
                  <a:lnTo>
                    <a:pt x="720" y="354"/>
                  </a:lnTo>
                  <a:lnTo>
                    <a:pt x="642" y="360"/>
                  </a:lnTo>
                  <a:lnTo>
                    <a:pt x="562" y="370"/>
                  </a:lnTo>
                  <a:lnTo>
                    <a:pt x="482" y="384"/>
                  </a:lnTo>
                  <a:lnTo>
                    <a:pt x="488" y="268"/>
                  </a:lnTo>
                  <a:lnTo>
                    <a:pt x="488" y="268"/>
                  </a:lnTo>
                  <a:lnTo>
                    <a:pt x="568" y="250"/>
                  </a:lnTo>
                  <a:lnTo>
                    <a:pt x="652" y="238"/>
                  </a:lnTo>
                  <a:lnTo>
                    <a:pt x="694" y="232"/>
                  </a:lnTo>
                  <a:lnTo>
                    <a:pt x="734" y="228"/>
                  </a:lnTo>
                  <a:lnTo>
                    <a:pt x="774" y="226"/>
                  </a:lnTo>
                  <a:lnTo>
                    <a:pt x="810" y="226"/>
                  </a:lnTo>
                  <a:lnTo>
                    <a:pt x="794" y="350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6"/>
            <p:cNvSpPr/>
            <p:nvPr/>
          </p:nvSpPr>
          <p:spPr>
            <a:xfrm>
              <a:off x="16116120" y="7026120"/>
              <a:ext cx="1228680" cy="12034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203480"/>
                <a:gd name="textAreaBottom" fmla="*/ 1203840 h 1203480"/>
              </a:gdLst>
              <a:ahLst/>
              <a:rect l="textAreaLeft" t="textAreaTop" r="textAreaRight" b="textAreaBottom"/>
              <a:pathLst>
                <a:path w="774" h="758">
                  <a:moveTo>
                    <a:pt x="16" y="40"/>
                  </a:moveTo>
                  <a:lnTo>
                    <a:pt x="16" y="40"/>
                  </a:lnTo>
                  <a:lnTo>
                    <a:pt x="66" y="40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410" y="20"/>
                  </a:lnTo>
                  <a:lnTo>
                    <a:pt x="748" y="0"/>
                  </a:lnTo>
                  <a:lnTo>
                    <a:pt x="722" y="144"/>
                  </a:lnTo>
                  <a:lnTo>
                    <a:pt x="722" y="144"/>
                  </a:lnTo>
                  <a:lnTo>
                    <a:pt x="692" y="144"/>
                  </a:lnTo>
                  <a:lnTo>
                    <a:pt x="666" y="146"/>
                  </a:lnTo>
                  <a:lnTo>
                    <a:pt x="642" y="148"/>
                  </a:lnTo>
                  <a:lnTo>
                    <a:pt x="618" y="154"/>
                  </a:lnTo>
                  <a:lnTo>
                    <a:pt x="594" y="162"/>
                  </a:lnTo>
                  <a:lnTo>
                    <a:pt x="570" y="172"/>
                  </a:lnTo>
                  <a:lnTo>
                    <a:pt x="544" y="186"/>
                  </a:lnTo>
                  <a:lnTo>
                    <a:pt x="516" y="202"/>
                  </a:lnTo>
                  <a:lnTo>
                    <a:pt x="516" y="202"/>
                  </a:lnTo>
                  <a:lnTo>
                    <a:pt x="480" y="226"/>
                  </a:lnTo>
                  <a:lnTo>
                    <a:pt x="440" y="256"/>
                  </a:lnTo>
                  <a:lnTo>
                    <a:pt x="402" y="286"/>
                  </a:lnTo>
                  <a:lnTo>
                    <a:pt x="364" y="322"/>
                  </a:lnTo>
                  <a:lnTo>
                    <a:pt x="330" y="356"/>
                  </a:lnTo>
                  <a:lnTo>
                    <a:pt x="314" y="376"/>
                  </a:lnTo>
                  <a:lnTo>
                    <a:pt x="302" y="394"/>
                  </a:lnTo>
                  <a:lnTo>
                    <a:pt x="290" y="412"/>
                  </a:lnTo>
                  <a:lnTo>
                    <a:pt x="280" y="430"/>
                  </a:lnTo>
                  <a:lnTo>
                    <a:pt x="272" y="448"/>
                  </a:lnTo>
                  <a:lnTo>
                    <a:pt x="268" y="466"/>
                  </a:lnTo>
                  <a:lnTo>
                    <a:pt x="268" y="466"/>
                  </a:lnTo>
                  <a:lnTo>
                    <a:pt x="266" y="484"/>
                  </a:lnTo>
                  <a:lnTo>
                    <a:pt x="266" y="498"/>
                  </a:lnTo>
                  <a:lnTo>
                    <a:pt x="268" y="514"/>
                  </a:lnTo>
                  <a:lnTo>
                    <a:pt x="274" y="528"/>
                  </a:lnTo>
                  <a:lnTo>
                    <a:pt x="280" y="540"/>
                  </a:lnTo>
                  <a:lnTo>
                    <a:pt x="290" y="552"/>
                  </a:lnTo>
                  <a:lnTo>
                    <a:pt x="300" y="562"/>
                  </a:lnTo>
                  <a:lnTo>
                    <a:pt x="314" y="572"/>
                  </a:lnTo>
                  <a:lnTo>
                    <a:pt x="330" y="582"/>
                  </a:lnTo>
                  <a:lnTo>
                    <a:pt x="350" y="590"/>
                  </a:lnTo>
                  <a:lnTo>
                    <a:pt x="370" y="598"/>
                  </a:lnTo>
                  <a:lnTo>
                    <a:pt x="394" y="604"/>
                  </a:lnTo>
                  <a:lnTo>
                    <a:pt x="418" y="610"/>
                  </a:lnTo>
                  <a:lnTo>
                    <a:pt x="446" y="616"/>
                  </a:lnTo>
                  <a:lnTo>
                    <a:pt x="508" y="624"/>
                  </a:lnTo>
                  <a:lnTo>
                    <a:pt x="416" y="758"/>
                  </a:lnTo>
                  <a:lnTo>
                    <a:pt x="416" y="758"/>
                  </a:lnTo>
                  <a:lnTo>
                    <a:pt x="372" y="752"/>
                  </a:lnTo>
                  <a:lnTo>
                    <a:pt x="332" y="744"/>
                  </a:lnTo>
                  <a:lnTo>
                    <a:pt x="294" y="734"/>
                  </a:lnTo>
                  <a:lnTo>
                    <a:pt x="262" y="722"/>
                  </a:lnTo>
                  <a:lnTo>
                    <a:pt x="232" y="710"/>
                  </a:lnTo>
                  <a:lnTo>
                    <a:pt x="206" y="694"/>
                  </a:lnTo>
                  <a:lnTo>
                    <a:pt x="184" y="678"/>
                  </a:lnTo>
                  <a:lnTo>
                    <a:pt x="164" y="660"/>
                  </a:lnTo>
                  <a:lnTo>
                    <a:pt x="148" y="640"/>
                  </a:lnTo>
                  <a:lnTo>
                    <a:pt x="136" y="618"/>
                  </a:lnTo>
                  <a:lnTo>
                    <a:pt x="126" y="596"/>
                  </a:lnTo>
                  <a:lnTo>
                    <a:pt x="118" y="574"/>
                  </a:lnTo>
                  <a:lnTo>
                    <a:pt x="114" y="548"/>
                  </a:lnTo>
                  <a:lnTo>
                    <a:pt x="114" y="522"/>
                  </a:lnTo>
                  <a:lnTo>
                    <a:pt x="116" y="496"/>
                  </a:lnTo>
                  <a:lnTo>
                    <a:pt x="120" y="468"/>
                  </a:lnTo>
                  <a:lnTo>
                    <a:pt x="120" y="468"/>
                  </a:lnTo>
                  <a:lnTo>
                    <a:pt x="124" y="450"/>
                  </a:lnTo>
                  <a:lnTo>
                    <a:pt x="130" y="430"/>
                  </a:lnTo>
                  <a:lnTo>
                    <a:pt x="140" y="410"/>
                  </a:lnTo>
                  <a:lnTo>
                    <a:pt x="150" y="388"/>
                  </a:lnTo>
                  <a:lnTo>
                    <a:pt x="164" y="368"/>
                  </a:lnTo>
                  <a:lnTo>
                    <a:pt x="178" y="346"/>
                  </a:lnTo>
                  <a:lnTo>
                    <a:pt x="210" y="304"/>
                  </a:lnTo>
                  <a:lnTo>
                    <a:pt x="250" y="260"/>
                  </a:lnTo>
                  <a:lnTo>
                    <a:pt x="292" y="220"/>
                  </a:lnTo>
                  <a:lnTo>
                    <a:pt x="338" y="182"/>
                  </a:lnTo>
                  <a:lnTo>
                    <a:pt x="388" y="146"/>
                  </a:lnTo>
                  <a:lnTo>
                    <a:pt x="388" y="146"/>
                  </a:lnTo>
                  <a:lnTo>
                    <a:pt x="188" y="164"/>
                  </a:lnTo>
                  <a:lnTo>
                    <a:pt x="94" y="172"/>
                  </a:lnTo>
                  <a:lnTo>
                    <a:pt x="24" y="180"/>
                  </a:lnTo>
                  <a:lnTo>
                    <a:pt x="24" y="180"/>
                  </a:lnTo>
                  <a:lnTo>
                    <a:pt x="20" y="184"/>
                  </a:lnTo>
                  <a:lnTo>
                    <a:pt x="14" y="188"/>
                  </a:lnTo>
                  <a:lnTo>
                    <a:pt x="6" y="192"/>
                  </a:lnTo>
                  <a:lnTo>
                    <a:pt x="0" y="194"/>
                  </a:lnTo>
                  <a:lnTo>
                    <a:pt x="16" y="40"/>
                  </a:lnTo>
                  <a:close/>
                  <a:moveTo>
                    <a:pt x="570" y="268"/>
                  </a:moveTo>
                  <a:lnTo>
                    <a:pt x="570" y="268"/>
                  </a:lnTo>
                  <a:lnTo>
                    <a:pt x="592" y="294"/>
                  </a:lnTo>
                  <a:lnTo>
                    <a:pt x="614" y="324"/>
                  </a:lnTo>
                  <a:lnTo>
                    <a:pt x="634" y="356"/>
                  </a:lnTo>
                  <a:lnTo>
                    <a:pt x="648" y="386"/>
                  </a:lnTo>
                  <a:lnTo>
                    <a:pt x="578" y="434"/>
                  </a:lnTo>
                  <a:lnTo>
                    <a:pt x="578" y="434"/>
                  </a:lnTo>
                  <a:lnTo>
                    <a:pt x="572" y="420"/>
                  </a:lnTo>
                  <a:lnTo>
                    <a:pt x="566" y="404"/>
                  </a:lnTo>
                  <a:lnTo>
                    <a:pt x="546" y="372"/>
                  </a:lnTo>
                  <a:lnTo>
                    <a:pt x="524" y="338"/>
                  </a:lnTo>
                  <a:lnTo>
                    <a:pt x="504" y="314"/>
                  </a:lnTo>
                  <a:lnTo>
                    <a:pt x="570" y="268"/>
                  </a:lnTo>
                  <a:close/>
                  <a:moveTo>
                    <a:pt x="694" y="188"/>
                  </a:moveTo>
                  <a:lnTo>
                    <a:pt x="694" y="188"/>
                  </a:lnTo>
                  <a:lnTo>
                    <a:pt x="718" y="214"/>
                  </a:lnTo>
                  <a:lnTo>
                    <a:pt x="740" y="244"/>
                  </a:lnTo>
                  <a:lnTo>
                    <a:pt x="760" y="274"/>
                  </a:lnTo>
                  <a:lnTo>
                    <a:pt x="768" y="290"/>
                  </a:lnTo>
                  <a:lnTo>
                    <a:pt x="774" y="304"/>
                  </a:lnTo>
                  <a:lnTo>
                    <a:pt x="704" y="352"/>
                  </a:lnTo>
                  <a:lnTo>
                    <a:pt x="704" y="352"/>
                  </a:lnTo>
                  <a:lnTo>
                    <a:pt x="690" y="324"/>
                  </a:lnTo>
                  <a:lnTo>
                    <a:pt x="672" y="292"/>
                  </a:lnTo>
                  <a:lnTo>
                    <a:pt x="650" y="260"/>
                  </a:lnTo>
                  <a:lnTo>
                    <a:pt x="628" y="234"/>
                  </a:lnTo>
                  <a:lnTo>
                    <a:pt x="694" y="188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7"/>
            <p:cNvSpPr/>
            <p:nvPr/>
          </p:nvSpPr>
          <p:spPr>
            <a:xfrm>
              <a:off x="17630640" y="6924600"/>
              <a:ext cx="1476360" cy="133380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1333800"/>
                <a:gd name="textAreaBottom" fmla="*/ 1334160 h 1333800"/>
              </a:gdLst>
              <a:ahLst/>
              <a:rect l="textAreaLeft" t="textAreaTop" r="textAreaRight" b="textAreaBottom"/>
              <a:pathLst>
                <a:path w="930" h="840">
                  <a:moveTo>
                    <a:pt x="718" y="222"/>
                  </a:moveTo>
                  <a:lnTo>
                    <a:pt x="718" y="222"/>
                  </a:lnTo>
                  <a:lnTo>
                    <a:pt x="766" y="260"/>
                  </a:lnTo>
                  <a:lnTo>
                    <a:pt x="814" y="304"/>
                  </a:lnTo>
                  <a:lnTo>
                    <a:pt x="856" y="348"/>
                  </a:lnTo>
                  <a:lnTo>
                    <a:pt x="874" y="368"/>
                  </a:lnTo>
                  <a:lnTo>
                    <a:pt x="890" y="388"/>
                  </a:lnTo>
                  <a:lnTo>
                    <a:pt x="758" y="476"/>
                  </a:lnTo>
                  <a:lnTo>
                    <a:pt x="758" y="476"/>
                  </a:lnTo>
                  <a:lnTo>
                    <a:pt x="740" y="450"/>
                  </a:lnTo>
                  <a:lnTo>
                    <a:pt x="718" y="422"/>
                  </a:lnTo>
                  <a:lnTo>
                    <a:pt x="718" y="422"/>
                  </a:lnTo>
                  <a:lnTo>
                    <a:pt x="712" y="426"/>
                  </a:lnTo>
                  <a:lnTo>
                    <a:pt x="706" y="428"/>
                  </a:lnTo>
                  <a:lnTo>
                    <a:pt x="698" y="430"/>
                  </a:lnTo>
                  <a:lnTo>
                    <a:pt x="688" y="432"/>
                  </a:lnTo>
                  <a:lnTo>
                    <a:pt x="688" y="432"/>
                  </a:lnTo>
                  <a:lnTo>
                    <a:pt x="654" y="480"/>
                  </a:lnTo>
                  <a:lnTo>
                    <a:pt x="618" y="524"/>
                  </a:lnTo>
                  <a:lnTo>
                    <a:pt x="580" y="566"/>
                  </a:lnTo>
                  <a:lnTo>
                    <a:pt x="540" y="604"/>
                  </a:lnTo>
                  <a:lnTo>
                    <a:pt x="540" y="604"/>
                  </a:lnTo>
                  <a:lnTo>
                    <a:pt x="568" y="624"/>
                  </a:lnTo>
                  <a:lnTo>
                    <a:pt x="598" y="644"/>
                  </a:lnTo>
                  <a:lnTo>
                    <a:pt x="632" y="660"/>
                  </a:lnTo>
                  <a:lnTo>
                    <a:pt x="668" y="676"/>
                  </a:lnTo>
                  <a:lnTo>
                    <a:pt x="706" y="688"/>
                  </a:lnTo>
                  <a:lnTo>
                    <a:pt x="748" y="700"/>
                  </a:lnTo>
                  <a:lnTo>
                    <a:pt x="792" y="710"/>
                  </a:lnTo>
                  <a:lnTo>
                    <a:pt x="838" y="718"/>
                  </a:lnTo>
                  <a:lnTo>
                    <a:pt x="838" y="718"/>
                  </a:lnTo>
                  <a:lnTo>
                    <a:pt x="810" y="744"/>
                  </a:lnTo>
                  <a:lnTo>
                    <a:pt x="780" y="776"/>
                  </a:lnTo>
                  <a:lnTo>
                    <a:pt x="752" y="810"/>
                  </a:lnTo>
                  <a:lnTo>
                    <a:pt x="730" y="840"/>
                  </a:lnTo>
                  <a:lnTo>
                    <a:pt x="730" y="840"/>
                  </a:lnTo>
                  <a:lnTo>
                    <a:pt x="680" y="830"/>
                  </a:lnTo>
                  <a:lnTo>
                    <a:pt x="634" y="816"/>
                  </a:lnTo>
                  <a:lnTo>
                    <a:pt x="590" y="802"/>
                  </a:lnTo>
                  <a:lnTo>
                    <a:pt x="550" y="784"/>
                  </a:lnTo>
                  <a:lnTo>
                    <a:pt x="512" y="766"/>
                  </a:lnTo>
                  <a:lnTo>
                    <a:pt x="478" y="744"/>
                  </a:lnTo>
                  <a:lnTo>
                    <a:pt x="446" y="722"/>
                  </a:lnTo>
                  <a:lnTo>
                    <a:pt x="418" y="696"/>
                  </a:lnTo>
                  <a:lnTo>
                    <a:pt x="418" y="696"/>
                  </a:lnTo>
                  <a:lnTo>
                    <a:pt x="376" y="720"/>
                  </a:lnTo>
                  <a:lnTo>
                    <a:pt x="336" y="742"/>
                  </a:lnTo>
                  <a:lnTo>
                    <a:pt x="292" y="762"/>
                  </a:lnTo>
                  <a:lnTo>
                    <a:pt x="246" y="782"/>
                  </a:lnTo>
                  <a:lnTo>
                    <a:pt x="200" y="798"/>
                  </a:lnTo>
                  <a:lnTo>
                    <a:pt x="152" y="814"/>
                  </a:lnTo>
                  <a:lnTo>
                    <a:pt x="104" y="828"/>
                  </a:lnTo>
                  <a:lnTo>
                    <a:pt x="52" y="840"/>
                  </a:lnTo>
                  <a:lnTo>
                    <a:pt x="52" y="840"/>
                  </a:lnTo>
                  <a:lnTo>
                    <a:pt x="42" y="812"/>
                  </a:lnTo>
                  <a:lnTo>
                    <a:pt x="30" y="780"/>
                  </a:lnTo>
                  <a:lnTo>
                    <a:pt x="14" y="750"/>
                  </a:lnTo>
                  <a:lnTo>
                    <a:pt x="0" y="724"/>
                  </a:lnTo>
                  <a:lnTo>
                    <a:pt x="0" y="724"/>
                  </a:lnTo>
                  <a:lnTo>
                    <a:pt x="48" y="714"/>
                  </a:lnTo>
                  <a:lnTo>
                    <a:pt x="94" y="704"/>
                  </a:lnTo>
                  <a:lnTo>
                    <a:pt x="140" y="692"/>
                  </a:lnTo>
                  <a:lnTo>
                    <a:pt x="184" y="678"/>
                  </a:lnTo>
                  <a:lnTo>
                    <a:pt x="226" y="662"/>
                  </a:lnTo>
                  <a:lnTo>
                    <a:pt x="266" y="644"/>
                  </a:lnTo>
                  <a:lnTo>
                    <a:pt x="304" y="624"/>
                  </a:lnTo>
                  <a:lnTo>
                    <a:pt x="342" y="604"/>
                  </a:lnTo>
                  <a:lnTo>
                    <a:pt x="342" y="604"/>
                  </a:lnTo>
                  <a:lnTo>
                    <a:pt x="318" y="562"/>
                  </a:lnTo>
                  <a:lnTo>
                    <a:pt x="298" y="516"/>
                  </a:lnTo>
                  <a:lnTo>
                    <a:pt x="282" y="466"/>
                  </a:lnTo>
                  <a:lnTo>
                    <a:pt x="266" y="414"/>
                  </a:lnTo>
                  <a:lnTo>
                    <a:pt x="266" y="414"/>
                  </a:lnTo>
                  <a:lnTo>
                    <a:pt x="212" y="450"/>
                  </a:lnTo>
                  <a:lnTo>
                    <a:pt x="156" y="482"/>
                  </a:lnTo>
                  <a:lnTo>
                    <a:pt x="156" y="482"/>
                  </a:lnTo>
                  <a:lnTo>
                    <a:pt x="140" y="460"/>
                  </a:lnTo>
                  <a:lnTo>
                    <a:pt x="118" y="434"/>
                  </a:lnTo>
                  <a:lnTo>
                    <a:pt x="96" y="408"/>
                  </a:lnTo>
                  <a:lnTo>
                    <a:pt x="74" y="388"/>
                  </a:lnTo>
                  <a:lnTo>
                    <a:pt x="74" y="388"/>
                  </a:lnTo>
                  <a:lnTo>
                    <a:pt x="108" y="372"/>
                  </a:lnTo>
                  <a:lnTo>
                    <a:pt x="140" y="354"/>
                  </a:lnTo>
                  <a:lnTo>
                    <a:pt x="174" y="334"/>
                  </a:lnTo>
                  <a:lnTo>
                    <a:pt x="206" y="314"/>
                  </a:lnTo>
                  <a:lnTo>
                    <a:pt x="238" y="292"/>
                  </a:lnTo>
                  <a:lnTo>
                    <a:pt x="268" y="268"/>
                  </a:lnTo>
                  <a:lnTo>
                    <a:pt x="294" y="244"/>
                  </a:lnTo>
                  <a:lnTo>
                    <a:pt x="320" y="222"/>
                  </a:lnTo>
                  <a:lnTo>
                    <a:pt x="120" y="222"/>
                  </a:lnTo>
                  <a:lnTo>
                    <a:pt x="144" y="96"/>
                  </a:lnTo>
                  <a:lnTo>
                    <a:pt x="470" y="96"/>
                  </a:lnTo>
                  <a:lnTo>
                    <a:pt x="488" y="0"/>
                  </a:lnTo>
                  <a:lnTo>
                    <a:pt x="646" y="8"/>
                  </a:lnTo>
                  <a:lnTo>
                    <a:pt x="646" y="8"/>
                  </a:lnTo>
                  <a:lnTo>
                    <a:pt x="642" y="16"/>
                  </a:lnTo>
                  <a:lnTo>
                    <a:pt x="638" y="20"/>
                  </a:lnTo>
                  <a:lnTo>
                    <a:pt x="628" y="24"/>
                  </a:lnTo>
                  <a:lnTo>
                    <a:pt x="616" y="26"/>
                  </a:lnTo>
                  <a:lnTo>
                    <a:pt x="602" y="96"/>
                  </a:lnTo>
                  <a:lnTo>
                    <a:pt x="930" y="96"/>
                  </a:lnTo>
                  <a:lnTo>
                    <a:pt x="906" y="222"/>
                  </a:lnTo>
                  <a:lnTo>
                    <a:pt x="718" y="222"/>
                  </a:lnTo>
                  <a:close/>
                  <a:moveTo>
                    <a:pt x="334" y="222"/>
                  </a:moveTo>
                  <a:lnTo>
                    <a:pt x="458" y="280"/>
                  </a:lnTo>
                  <a:lnTo>
                    <a:pt x="458" y="280"/>
                  </a:lnTo>
                  <a:lnTo>
                    <a:pt x="448" y="286"/>
                  </a:lnTo>
                  <a:lnTo>
                    <a:pt x="444" y="288"/>
                  </a:lnTo>
                  <a:lnTo>
                    <a:pt x="436" y="288"/>
                  </a:lnTo>
                  <a:lnTo>
                    <a:pt x="436" y="288"/>
                  </a:lnTo>
                  <a:lnTo>
                    <a:pt x="428" y="288"/>
                  </a:lnTo>
                  <a:lnTo>
                    <a:pt x="428" y="288"/>
                  </a:lnTo>
                  <a:lnTo>
                    <a:pt x="394" y="316"/>
                  </a:lnTo>
                  <a:lnTo>
                    <a:pt x="358" y="348"/>
                  </a:lnTo>
                  <a:lnTo>
                    <a:pt x="318" y="378"/>
                  </a:lnTo>
                  <a:lnTo>
                    <a:pt x="278" y="406"/>
                  </a:lnTo>
                  <a:lnTo>
                    <a:pt x="396" y="374"/>
                  </a:lnTo>
                  <a:lnTo>
                    <a:pt x="396" y="374"/>
                  </a:lnTo>
                  <a:lnTo>
                    <a:pt x="406" y="414"/>
                  </a:lnTo>
                  <a:lnTo>
                    <a:pt x="420" y="452"/>
                  </a:lnTo>
                  <a:lnTo>
                    <a:pt x="436" y="486"/>
                  </a:lnTo>
                  <a:lnTo>
                    <a:pt x="456" y="518"/>
                  </a:lnTo>
                  <a:lnTo>
                    <a:pt x="456" y="518"/>
                  </a:lnTo>
                  <a:lnTo>
                    <a:pt x="490" y="486"/>
                  </a:lnTo>
                  <a:lnTo>
                    <a:pt x="522" y="450"/>
                  </a:lnTo>
                  <a:lnTo>
                    <a:pt x="550" y="410"/>
                  </a:lnTo>
                  <a:lnTo>
                    <a:pt x="576" y="370"/>
                  </a:lnTo>
                  <a:lnTo>
                    <a:pt x="712" y="418"/>
                  </a:lnTo>
                  <a:lnTo>
                    <a:pt x="712" y="418"/>
                  </a:lnTo>
                  <a:lnTo>
                    <a:pt x="680" y="382"/>
                  </a:lnTo>
                  <a:lnTo>
                    <a:pt x="646" y="346"/>
                  </a:lnTo>
                  <a:lnTo>
                    <a:pt x="610" y="314"/>
                  </a:lnTo>
                  <a:lnTo>
                    <a:pt x="574" y="282"/>
                  </a:lnTo>
                  <a:lnTo>
                    <a:pt x="670" y="222"/>
                  </a:lnTo>
                  <a:lnTo>
                    <a:pt x="334" y="222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8"/>
            <p:cNvSpPr/>
            <p:nvPr/>
          </p:nvSpPr>
          <p:spPr>
            <a:xfrm>
              <a:off x="19367280" y="6956280"/>
              <a:ext cx="1501560" cy="129888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298880"/>
                <a:gd name="textAreaBottom" fmla="*/ 1299240 h 1298880"/>
              </a:gdLst>
              <a:ahLst/>
              <a:rect l="textAreaLeft" t="textAreaTop" r="textAreaRight" b="textAreaBottom"/>
              <a:pathLst>
                <a:path w="946" h="818">
                  <a:moveTo>
                    <a:pt x="308" y="322"/>
                  </a:moveTo>
                  <a:lnTo>
                    <a:pt x="254" y="606"/>
                  </a:lnTo>
                  <a:lnTo>
                    <a:pt x="254" y="606"/>
                  </a:lnTo>
                  <a:lnTo>
                    <a:pt x="260" y="620"/>
                  </a:lnTo>
                  <a:lnTo>
                    <a:pt x="266" y="632"/>
                  </a:lnTo>
                  <a:lnTo>
                    <a:pt x="276" y="644"/>
                  </a:lnTo>
                  <a:lnTo>
                    <a:pt x="286" y="654"/>
                  </a:lnTo>
                  <a:lnTo>
                    <a:pt x="298" y="662"/>
                  </a:lnTo>
                  <a:lnTo>
                    <a:pt x="310" y="668"/>
                  </a:lnTo>
                  <a:lnTo>
                    <a:pt x="326" y="674"/>
                  </a:lnTo>
                  <a:lnTo>
                    <a:pt x="342" y="678"/>
                  </a:lnTo>
                  <a:lnTo>
                    <a:pt x="380" y="684"/>
                  </a:lnTo>
                  <a:lnTo>
                    <a:pt x="424" y="688"/>
                  </a:lnTo>
                  <a:lnTo>
                    <a:pt x="478" y="688"/>
                  </a:lnTo>
                  <a:lnTo>
                    <a:pt x="538" y="690"/>
                  </a:lnTo>
                  <a:lnTo>
                    <a:pt x="538" y="690"/>
                  </a:lnTo>
                  <a:lnTo>
                    <a:pt x="620" y="688"/>
                  </a:lnTo>
                  <a:lnTo>
                    <a:pt x="704" y="686"/>
                  </a:lnTo>
                  <a:lnTo>
                    <a:pt x="786" y="682"/>
                  </a:lnTo>
                  <a:lnTo>
                    <a:pt x="860" y="678"/>
                  </a:lnTo>
                  <a:lnTo>
                    <a:pt x="860" y="678"/>
                  </a:lnTo>
                  <a:lnTo>
                    <a:pt x="842" y="704"/>
                  </a:lnTo>
                  <a:lnTo>
                    <a:pt x="824" y="738"/>
                  </a:lnTo>
                  <a:lnTo>
                    <a:pt x="808" y="772"/>
                  </a:lnTo>
                  <a:lnTo>
                    <a:pt x="796" y="802"/>
                  </a:lnTo>
                  <a:lnTo>
                    <a:pt x="796" y="802"/>
                  </a:lnTo>
                  <a:lnTo>
                    <a:pt x="676" y="806"/>
                  </a:lnTo>
                  <a:lnTo>
                    <a:pt x="542" y="808"/>
                  </a:lnTo>
                  <a:lnTo>
                    <a:pt x="542" y="808"/>
                  </a:lnTo>
                  <a:lnTo>
                    <a:pt x="466" y="808"/>
                  </a:lnTo>
                  <a:lnTo>
                    <a:pt x="402" y="806"/>
                  </a:lnTo>
                  <a:lnTo>
                    <a:pt x="346" y="802"/>
                  </a:lnTo>
                  <a:lnTo>
                    <a:pt x="322" y="800"/>
                  </a:lnTo>
                  <a:lnTo>
                    <a:pt x="300" y="796"/>
                  </a:lnTo>
                  <a:lnTo>
                    <a:pt x="280" y="790"/>
                  </a:lnTo>
                  <a:lnTo>
                    <a:pt x="260" y="784"/>
                  </a:lnTo>
                  <a:lnTo>
                    <a:pt x="244" y="776"/>
                  </a:lnTo>
                  <a:lnTo>
                    <a:pt x="228" y="766"/>
                  </a:lnTo>
                  <a:lnTo>
                    <a:pt x="214" y="756"/>
                  </a:lnTo>
                  <a:lnTo>
                    <a:pt x="202" y="742"/>
                  </a:lnTo>
                  <a:lnTo>
                    <a:pt x="190" y="728"/>
                  </a:lnTo>
                  <a:lnTo>
                    <a:pt x="178" y="710"/>
                  </a:lnTo>
                  <a:lnTo>
                    <a:pt x="178" y="710"/>
                  </a:lnTo>
                  <a:lnTo>
                    <a:pt x="112" y="758"/>
                  </a:lnTo>
                  <a:lnTo>
                    <a:pt x="52" y="798"/>
                  </a:lnTo>
                  <a:lnTo>
                    <a:pt x="52" y="798"/>
                  </a:lnTo>
                  <a:lnTo>
                    <a:pt x="50" y="806"/>
                  </a:lnTo>
                  <a:lnTo>
                    <a:pt x="46" y="812"/>
                  </a:lnTo>
                  <a:lnTo>
                    <a:pt x="40" y="816"/>
                  </a:lnTo>
                  <a:lnTo>
                    <a:pt x="34" y="818"/>
                  </a:lnTo>
                  <a:lnTo>
                    <a:pt x="0" y="684"/>
                  </a:lnTo>
                  <a:lnTo>
                    <a:pt x="0" y="684"/>
                  </a:lnTo>
                  <a:lnTo>
                    <a:pt x="64" y="650"/>
                  </a:lnTo>
                  <a:lnTo>
                    <a:pt x="128" y="614"/>
                  </a:lnTo>
                  <a:lnTo>
                    <a:pt x="162" y="442"/>
                  </a:lnTo>
                  <a:lnTo>
                    <a:pt x="58" y="442"/>
                  </a:lnTo>
                  <a:lnTo>
                    <a:pt x="82" y="322"/>
                  </a:lnTo>
                  <a:lnTo>
                    <a:pt x="308" y="322"/>
                  </a:lnTo>
                  <a:close/>
                  <a:moveTo>
                    <a:pt x="244" y="0"/>
                  </a:moveTo>
                  <a:lnTo>
                    <a:pt x="244" y="0"/>
                  </a:lnTo>
                  <a:lnTo>
                    <a:pt x="282" y="30"/>
                  </a:lnTo>
                  <a:lnTo>
                    <a:pt x="318" y="64"/>
                  </a:lnTo>
                  <a:lnTo>
                    <a:pt x="352" y="100"/>
                  </a:lnTo>
                  <a:lnTo>
                    <a:pt x="364" y="116"/>
                  </a:lnTo>
                  <a:lnTo>
                    <a:pt x="376" y="132"/>
                  </a:lnTo>
                  <a:lnTo>
                    <a:pt x="262" y="224"/>
                  </a:lnTo>
                  <a:lnTo>
                    <a:pt x="262" y="224"/>
                  </a:lnTo>
                  <a:lnTo>
                    <a:pt x="252" y="208"/>
                  </a:lnTo>
                  <a:lnTo>
                    <a:pt x="240" y="190"/>
                  </a:lnTo>
                  <a:lnTo>
                    <a:pt x="210" y="154"/>
                  </a:lnTo>
                  <a:lnTo>
                    <a:pt x="176" y="116"/>
                  </a:lnTo>
                  <a:lnTo>
                    <a:pt x="140" y="82"/>
                  </a:lnTo>
                  <a:lnTo>
                    <a:pt x="244" y="0"/>
                  </a:lnTo>
                  <a:close/>
                  <a:moveTo>
                    <a:pt x="452" y="536"/>
                  </a:moveTo>
                  <a:lnTo>
                    <a:pt x="428" y="660"/>
                  </a:lnTo>
                  <a:lnTo>
                    <a:pt x="308" y="660"/>
                  </a:lnTo>
                  <a:lnTo>
                    <a:pt x="398" y="202"/>
                  </a:lnTo>
                  <a:lnTo>
                    <a:pt x="562" y="202"/>
                  </a:lnTo>
                  <a:lnTo>
                    <a:pt x="562" y="202"/>
                  </a:lnTo>
                  <a:lnTo>
                    <a:pt x="482" y="166"/>
                  </a:lnTo>
                  <a:lnTo>
                    <a:pt x="572" y="102"/>
                  </a:lnTo>
                  <a:lnTo>
                    <a:pt x="430" y="102"/>
                  </a:lnTo>
                  <a:lnTo>
                    <a:pt x="448" y="6"/>
                  </a:lnTo>
                  <a:lnTo>
                    <a:pt x="846" y="6"/>
                  </a:lnTo>
                  <a:lnTo>
                    <a:pt x="866" y="0"/>
                  </a:lnTo>
                  <a:lnTo>
                    <a:pt x="946" y="58"/>
                  </a:lnTo>
                  <a:lnTo>
                    <a:pt x="946" y="58"/>
                  </a:lnTo>
                  <a:lnTo>
                    <a:pt x="940" y="62"/>
                  </a:lnTo>
                  <a:lnTo>
                    <a:pt x="934" y="66"/>
                  </a:lnTo>
                  <a:lnTo>
                    <a:pt x="920" y="70"/>
                  </a:lnTo>
                  <a:lnTo>
                    <a:pt x="920" y="70"/>
                  </a:lnTo>
                  <a:lnTo>
                    <a:pt x="884" y="96"/>
                  </a:lnTo>
                  <a:lnTo>
                    <a:pt x="846" y="124"/>
                  </a:lnTo>
                  <a:lnTo>
                    <a:pt x="804" y="152"/>
                  </a:lnTo>
                  <a:lnTo>
                    <a:pt x="758" y="180"/>
                  </a:lnTo>
                  <a:lnTo>
                    <a:pt x="758" y="180"/>
                  </a:lnTo>
                  <a:lnTo>
                    <a:pt x="800" y="202"/>
                  </a:lnTo>
                  <a:lnTo>
                    <a:pt x="906" y="202"/>
                  </a:lnTo>
                  <a:lnTo>
                    <a:pt x="836" y="554"/>
                  </a:lnTo>
                  <a:lnTo>
                    <a:pt x="836" y="554"/>
                  </a:lnTo>
                  <a:lnTo>
                    <a:pt x="830" y="584"/>
                  </a:lnTo>
                  <a:lnTo>
                    <a:pt x="824" y="596"/>
                  </a:lnTo>
                  <a:lnTo>
                    <a:pt x="820" y="608"/>
                  </a:lnTo>
                  <a:lnTo>
                    <a:pt x="814" y="618"/>
                  </a:lnTo>
                  <a:lnTo>
                    <a:pt x="806" y="628"/>
                  </a:lnTo>
                  <a:lnTo>
                    <a:pt x="798" y="634"/>
                  </a:lnTo>
                  <a:lnTo>
                    <a:pt x="788" y="642"/>
                  </a:lnTo>
                  <a:lnTo>
                    <a:pt x="778" y="648"/>
                  </a:lnTo>
                  <a:lnTo>
                    <a:pt x="764" y="652"/>
                  </a:lnTo>
                  <a:lnTo>
                    <a:pt x="736" y="658"/>
                  </a:lnTo>
                  <a:lnTo>
                    <a:pt x="700" y="662"/>
                  </a:lnTo>
                  <a:lnTo>
                    <a:pt x="656" y="664"/>
                  </a:lnTo>
                  <a:lnTo>
                    <a:pt x="656" y="664"/>
                  </a:lnTo>
                  <a:lnTo>
                    <a:pt x="656" y="638"/>
                  </a:lnTo>
                  <a:lnTo>
                    <a:pt x="654" y="612"/>
                  </a:lnTo>
                  <a:lnTo>
                    <a:pt x="650" y="586"/>
                  </a:lnTo>
                  <a:lnTo>
                    <a:pt x="646" y="564"/>
                  </a:lnTo>
                  <a:lnTo>
                    <a:pt x="646" y="564"/>
                  </a:lnTo>
                  <a:lnTo>
                    <a:pt x="700" y="564"/>
                  </a:lnTo>
                  <a:lnTo>
                    <a:pt x="700" y="564"/>
                  </a:lnTo>
                  <a:lnTo>
                    <a:pt x="708" y="564"/>
                  </a:lnTo>
                  <a:lnTo>
                    <a:pt x="712" y="560"/>
                  </a:lnTo>
                  <a:lnTo>
                    <a:pt x="716" y="552"/>
                  </a:lnTo>
                  <a:lnTo>
                    <a:pt x="718" y="536"/>
                  </a:lnTo>
                  <a:lnTo>
                    <a:pt x="642" y="536"/>
                  </a:lnTo>
                  <a:lnTo>
                    <a:pt x="618" y="656"/>
                  </a:lnTo>
                  <a:lnTo>
                    <a:pt x="504" y="656"/>
                  </a:lnTo>
                  <a:lnTo>
                    <a:pt x="528" y="536"/>
                  </a:lnTo>
                  <a:lnTo>
                    <a:pt x="452" y="536"/>
                  </a:lnTo>
                  <a:close/>
                  <a:moveTo>
                    <a:pt x="470" y="444"/>
                  </a:moveTo>
                  <a:lnTo>
                    <a:pt x="546" y="444"/>
                  </a:lnTo>
                  <a:lnTo>
                    <a:pt x="552" y="412"/>
                  </a:lnTo>
                  <a:lnTo>
                    <a:pt x="478" y="412"/>
                  </a:lnTo>
                  <a:lnTo>
                    <a:pt x="470" y="444"/>
                  </a:lnTo>
                  <a:close/>
                  <a:moveTo>
                    <a:pt x="576" y="294"/>
                  </a:moveTo>
                  <a:lnTo>
                    <a:pt x="500" y="294"/>
                  </a:lnTo>
                  <a:lnTo>
                    <a:pt x="494" y="324"/>
                  </a:lnTo>
                  <a:lnTo>
                    <a:pt x="570" y="324"/>
                  </a:lnTo>
                  <a:lnTo>
                    <a:pt x="576" y="294"/>
                  </a:lnTo>
                  <a:close/>
                  <a:moveTo>
                    <a:pt x="586" y="102"/>
                  </a:moveTo>
                  <a:lnTo>
                    <a:pt x="586" y="102"/>
                  </a:lnTo>
                  <a:lnTo>
                    <a:pt x="624" y="118"/>
                  </a:lnTo>
                  <a:lnTo>
                    <a:pt x="664" y="134"/>
                  </a:lnTo>
                  <a:lnTo>
                    <a:pt x="664" y="134"/>
                  </a:lnTo>
                  <a:lnTo>
                    <a:pt x="690" y="118"/>
                  </a:lnTo>
                  <a:lnTo>
                    <a:pt x="714" y="102"/>
                  </a:lnTo>
                  <a:lnTo>
                    <a:pt x="586" y="102"/>
                  </a:lnTo>
                  <a:close/>
                  <a:moveTo>
                    <a:pt x="660" y="444"/>
                  </a:moveTo>
                  <a:lnTo>
                    <a:pt x="736" y="444"/>
                  </a:lnTo>
                  <a:lnTo>
                    <a:pt x="742" y="412"/>
                  </a:lnTo>
                  <a:lnTo>
                    <a:pt x="666" y="412"/>
                  </a:lnTo>
                  <a:lnTo>
                    <a:pt x="660" y="444"/>
                  </a:lnTo>
                  <a:close/>
                  <a:moveTo>
                    <a:pt x="766" y="294"/>
                  </a:moveTo>
                  <a:lnTo>
                    <a:pt x="690" y="294"/>
                  </a:lnTo>
                  <a:lnTo>
                    <a:pt x="682" y="324"/>
                  </a:lnTo>
                  <a:lnTo>
                    <a:pt x="760" y="324"/>
                  </a:lnTo>
                  <a:lnTo>
                    <a:pt x="766" y="294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9"/>
            <p:cNvSpPr/>
            <p:nvPr/>
          </p:nvSpPr>
          <p:spPr>
            <a:xfrm>
              <a:off x="21177360" y="6924600"/>
              <a:ext cx="1444320" cy="1336680"/>
            </a:xfrm>
            <a:custGeom>
              <a:avLst/>
              <a:gdLst>
                <a:gd name="textAreaLeft" fmla="*/ 0 w 1444320"/>
                <a:gd name="textAreaRight" fmla="*/ 1444680 w 144432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910" h="842">
                  <a:moveTo>
                    <a:pt x="846" y="500"/>
                  </a:moveTo>
                  <a:lnTo>
                    <a:pt x="826" y="596"/>
                  </a:lnTo>
                  <a:lnTo>
                    <a:pt x="734" y="596"/>
                  </a:lnTo>
                  <a:lnTo>
                    <a:pt x="704" y="750"/>
                  </a:lnTo>
                  <a:lnTo>
                    <a:pt x="574" y="750"/>
                  </a:lnTo>
                  <a:lnTo>
                    <a:pt x="580" y="714"/>
                  </a:lnTo>
                  <a:lnTo>
                    <a:pt x="452" y="714"/>
                  </a:lnTo>
                  <a:lnTo>
                    <a:pt x="452" y="714"/>
                  </a:lnTo>
                  <a:lnTo>
                    <a:pt x="442" y="750"/>
                  </a:lnTo>
                  <a:lnTo>
                    <a:pt x="438" y="764"/>
                  </a:lnTo>
                  <a:lnTo>
                    <a:pt x="432" y="778"/>
                  </a:lnTo>
                  <a:lnTo>
                    <a:pt x="424" y="790"/>
                  </a:lnTo>
                  <a:lnTo>
                    <a:pt x="416" y="800"/>
                  </a:lnTo>
                  <a:lnTo>
                    <a:pt x="406" y="810"/>
                  </a:lnTo>
                  <a:lnTo>
                    <a:pt x="394" y="818"/>
                  </a:lnTo>
                  <a:lnTo>
                    <a:pt x="380" y="824"/>
                  </a:lnTo>
                  <a:lnTo>
                    <a:pt x="364" y="828"/>
                  </a:lnTo>
                  <a:lnTo>
                    <a:pt x="346" y="834"/>
                  </a:lnTo>
                  <a:lnTo>
                    <a:pt x="326" y="836"/>
                  </a:lnTo>
                  <a:lnTo>
                    <a:pt x="276" y="840"/>
                  </a:lnTo>
                  <a:lnTo>
                    <a:pt x="212" y="842"/>
                  </a:lnTo>
                  <a:lnTo>
                    <a:pt x="212" y="842"/>
                  </a:lnTo>
                  <a:lnTo>
                    <a:pt x="210" y="818"/>
                  </a:lnTo>
                  <a:lnTo>
                    <a:pt x="206" y="790"/>
                  </a:lnTo>
                  <a:lnTo>
                    <a:pt x="198" y="764"/>
                  </a:lnTo>
                  <a:lnTo>
                    <a:pt x="190" y="742"/>
                  </a:lnTo>
                  <a:lnTo>
                    <a:pt x="190" y="742"/>
                  </a:lnTo>
                  <a:lnTo>
                    <a:pt x="250" y="744"/>
                  </a:lnTo>
                  <a:lnTo>
                    <a:pt x="292" y="744"/>
                  </a:lnTo>
                  <a:lnTo>
                    <a:pt x="292" y="744"/>
                  </a:lnTo>
                  <a:lnTo>
                    <a:pt x="300" y="744"/>
                  </a:lnTo>
                  <a:lnTo>
                    <a:pt x="306" y="742"/>
                  </a:lnTo>
                  <a:lnTo>
                    <a:pt x="310" y="740"/>
                  </a:lnTo>
                  <a:lnTo>
                    <a:pt x="314" y="736"/>
                  </a:lnTo>
                  <a:lnTo>
                    <a:pt x="318" y="726"/>
                  </a:lnTo>
                  <a:lnTo>
                    <a:pt x="320" y="714"/>
                  </a:lnTo>
                  <a:lnTo>
                    <a:pt x="62" y="714"/>
                  </a:lnTo>
                  <a:lnTo>
                    <a:pt x="80" y="622"/>
                  </a:lnTo>
                  <a:lnTo>
                    <a:pt x="338" y="622"/>
                  </a:lnTo>
                  <a:lnTo>
                    <a:pt x="344" y="596"/>
                  </a:lnTo>
                  <a:lnTo>
                    <a:pt x="0" y="596"/>
                  </a:lnTo>
                  <a:lnTo>
                    <a:pt x="18" y="500"/>
                  </a:lnTo>
                  <a:lnTo>
                    <a:pt x="362" y="500"/>
                  </a:lnTo>
                  <a:lnTo>
                    <a:pt x="368" y="476"/>
                  </a:lnTo>
                  <a:lnTo>
                    <a:pt x="114" y="476"/>
                  </a:lnTo>
                  <a:lnTo>
                    <a:pt x="132" y="392"/>
                  </a:lnTo>
                  <a:lnTo>
                    <a:pt x="384" y="392"/>
                  </a:lnTo>
                  <a:lnTo>
                    <a:pt x="388" y="366"/>
                  </a:lnTo>
                  <a:lnTo>
                    <a:pt x="156" y="366"/>
                  </a:lnTo>
                  <a:lnTo>
                    <a:pt x="194" y="174"/>
                  </a:lnTo>
                  <a:lnTo>
                    <a:pt x="426" y="174"/>
                  </a:lnTo>
                  <a:lnTo>
                    <a:pt x="430" y="152"/>
                  </a:lnTo>
                  <a:lnTo>
                    <a:pt x="108" y="152"/>
                  </a:lnTo>
                  <a:lnTo>
                    <a:pt x="128" y="52"/>
                  </a:lnTo>
                  <a:lnTo>
                    <a:pt x="450" y="52"/>
                  </a:lnTo>
                  <a:lnTo>
                    <a:pt x="460" y="0"/>
                  </a:lnTo>
                  <a:lnTo>
                    <a:pt x="616" y="6"/>
                  </a:lnTo>
                  <a:lnTo>
                    <a:pt x="616" y="6"/>
                  </a:lnTo>
                  <a:lnTo>
                    <a:pt x="612" y="14"/>
                  </a:lnTo>
                  <a:lnTo>
                    <a:pt x="606" y="20"/>
                  </a:lnTo>
                  <a:lnTo>
                    <a:pt x="598" y="24"/>
                  </a:lnTo>
                  <a:lnTo>
                    <a:pt x="586" y="28"/>
                  </a:lnTo>
                  <a:lnTo>
                    <a:pt x="580" y="52"/>
                  </a:lnTo>
                  <a:lnTo>
                    <a:pt x="910" y="52"/>
                  </a:lnTo>
                  <a:lnTo>
                    <a:pt x="892" y="152"/>
                  </a:lnTo>
                  <a:lnTo>
                    <a:pt x="562" y="152"/>
                  </a:lnTo>
                  <a:lnTo>
                    <a:pt x="556" y="174"/>
                  </a:lnTo>
                  <a:lnTo>
                    <a:pt x="800" y="174"/>
                  </a:lnTo>
                  <a:lnTo>
                    <a:pt x="762" y="366"/>
                  </a:lnTo>
                  <a:lnTo>
                    <a:pt x="520" y="366"/>
                  </a:lnTo>
                  <a:lnTo>
                    <a:pt x="514" y="392"/>
                  </a:lnTo>
                  <a:lnTo>
                    <a:pt x="774" y="392"/>
                  </a:lnTo>
                  <a:lnTo>
                    <a:pt x="752" y="500"/>
                  </a:lnTo>
                  <a:lnTo>
                    <a:pt x="846" y="500"/>
                  </a:lnTo>
                  <a:close/>
                  <a:moveTo>
                    <a:pt x="294" y="288"/>
                  </a:moveTo>
                  <a:lnTo>
                    <a:pt x="404" y="288"/>
                  </a:lnTo>
                  <a:lnTo>
                    <a:pt x="410" y="252"/>
                  </a:lnTo>
                  <a:lnTo>
                    <a:pt x="300" y="252"/>
                  </a:lnTo>
                  <a:lnTo>
                    <a:pt x="294" y="288"/>
                  </a:lnTo>
                  <a:close/>
                  <a:moveTo>
                    <a:pt x="598" y="622"/>
                  </a:moveTo>
                  <a:lnTo>
                    <a:pt x="604" y="596"/>
                  </a:lnTo>
                  <a:lnTo>
                    <a:pt x="474" y="596"/>
                  </a:lnTo>
                  <a:lnTo>
                    <a:pt x="470" y="622"/>
                  </a:lnTo>
                  <a:lnTo>
                    <a:pt x="598" y="622"/>
                  </a:lnTo>
                  <a:close/>
                  <a:moveTo>
                    <a:pt x="498" y="476"/>
                  </a:moveTo>
                  <a:lnTo>
                    <a:pt x="494" y="500"/>
                  </a:lnTo>
                  <a:lnTo>
                    <a:pt x="622" y="500"/>
                  </a:lnTo>
                  <a:lnTo>
                    <a:pt x="626" y="476"/>
                  </a:lnTo>
                  <a:lnTo>
                    <a:pt x="498" y="476"/>
                  </a:lnTo>
                  <a:close/>
                  <a:moveTo>
                    <a:pt x="654" y="252"/>
                  </a:moveTo>
                  <a:lnTo>
                    <a:pt x="542" y="252"/>
                  </a:lnTo>
                  <a:lnTo>
                    <a:pt x="534" y="288"/>
                  </a:lnTo>
                  <a:lnTo>
                    <a:pt x="646" y="288"/>
                  </a:lnTo>
                  <a:lnTo>
                    <a:pt x="654" y="252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40"/>
            <p:cNvSpPr/>
            <p:nvPr/>
          </p:nvSpPr>
          <p:spPr>
            <a:xfrm>
              <a:off x="22910760" y="6924600"/>
              <a:ext cx="1473120" cy="133668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928" h="842">
                  <a:moveTo>
                    <a:pt x="906" y="276"/>
                  </a:moveTo>
                  <a:lnTo>
                    <a:pt x="846" y="276"/>
                  </a:lnTo>
                  <a:lnTo>
                    <a:pt x="846" y="276"/>
                  </a:lnTo>
                  <a:lnTo>
                    <a:pt x="830" y="322"/>
                  </a:lnTo>
                  <a:lnTo>
                    <a:pt x="812" y="366"/>
                  </a:lnTo>
                  <a:lnTo>
                    <a:pt x="794" y="408"/>
                  </a:lnTo>
                  <a:lnTo>
                    <a:pt x="774" y="450"/>
                  </a:lnTo>
                  <a:lnTo>
                    <a:pt x="754" y="488"/>
                  </a:lnTo>
                  <a:lnTo>
                    <a:pt x="732" y="526"/>
                  </a:lnTo>
                  <a:lnTo>
                    <a:pt x="710" y="562"/>
                  </a:lnTo>
                  <a:lnTo>
                    <a:pt x="686" y="596"/>
                  </a:lnTo>
                  <a:lnTo>
                    <a:pt x="686" y="596"/>
                  </a:lnTo>
                  <a:lnTo>
                    <a:pt x="700" y="616"/>
                  </a:lnTo>
                  <a:lnTo>
                    <a:pt x="714" y="634"/>
                  </a:lnTo>
                  <a:lnTo>
                    <a:pt x="730" y="652"/>
                  </a:lnTo>
                  <a:lnTo>
                    <a:pt x="746" y="668"/>
                  </a:lnTo>
                  <a:lnTo>
                    <a:pt x="766" y="684"/>
                  </a:lnTo>
                  <a:lnTo>
                    <a:pt x="786" y="700"/>
                  </a:lnTo>
                  <a:lnTo>
                    <a:pt x="806" y="712"/>
                  </a:lnTo>
                  <a:lnTo>
                    <a:pt x="830" y="724"/>
                  </a:lnTo>
                  <a:lnTo>
                    <a:pt x="830" y="724"/>
                  </a:lnTo>
                  <a:lnTo>
                    <a:pt x="802" y="748"/>
                  </a:lnTo>
                  <a:lnTo>
                    <a:pt x="770" y="778"/>
                  </a:lnTo>
                  <a:lnTo>
                    <a:pt x="742" y="810"/>
                  </a:lnTo>
                  <a:lnTo>
                    <a:pt x="718" y="840"/>
                  </a:lnTo>
                  <a:lnTo>
                    <a:pt x="718" y="840"/>
                  </a:lnTo>
                  <a:lnTo>
                    <a:pt x="696" y="826"/>
                  </a:lnTo>
                  <a:lnTo>
                    <a:pt x="676" y="812"/>
                  </a:lnTo>
                  <a:lnTo>
                    <a:pt x="658" y="798"/>
                  </a:lnTo>
                  <a:lnTo>
                    <a:pt x="640" y="782"/>
                  </a:lnTo>
                  <a:lnTo>
                    <a:pt x="622" y="766"/>
                  </a:lnTo>
                  <a:lnTo>
                    <a:pt x="608" y="748"/>
                  </a:lnTo>
                  <a:lnTo>
                    <a:pt x="594" y="730"/>
                  </a:lnTo>
                  <a:lnTo>
                    <a:pt x="580" y="710"/>
                  </a:lnTo>
                  <a:lnTo>
                    <a:pt x="580" y="710"/>
                  </a:lnTo>
                  <a:lnTo>
                    <a:pt x="556" y="730"/>
                  </a:lnTo>
                  <a:lnTo>
                    <a:pt x="532" y="748"/>
                  </a:lnTo>
                  <a:lnTo>
                    <a:pt x="506" y="766"/>
                  </a:lnTo>
                  <a:lnTo>
                    <a:pt x="480" y="784"/>
                  </a:lnTo>
                  <a:lnTo>
                    <a:pt x="452" y="800"/>
                  </a:lnTo>
                  <a:lnTo>
                    <a:pt x="424" y="814"/>
                  </a:lnTo>
                  <a:lnTo>
                    <a:pt x="392" y="828"/>
                  </a:lnTo>
                  <a:lnTo>
                    <a:pt x="362" y="842"/>
                  </a:lnTo>
                  <a:lnTo>
                    <a:pt x="362" y="842"/>
                  </a:lnTo>
                  <a:lnTo>
                    <a:pt x="356" y="822"/>
                  </a:lnTo>
                  <a:lnTo>
                    <a:pt x="350" y="800"/>
                  </a:lnTo>
                  <a:lnTo>
                    <a:pt x="332" y="754"/>
                  </a:lnTo>
                  <a:lnTo>
                    <a:pt x="128" y="754"/>
                  </a:lnTo>
                  <a:lnTo>
                    <a:pt x="118" y="800"/>
                  </a:lnTo>
                  <a:lnTo>
                    <a:pt x="0" y="800"/>
                  </a:lnTo>
                  <a:lnTo>
                    <a:pt x="78" y="400"/>
                  </a:lnTo>
                  <a:lnTo>
                    <a:pt x="192" y="400"/>
                  </a:lnTo>
                  <a:lnTo>
                    <a:pt x="214" y="278"/>
                  </a:lnTo>
                  <a:lnTo>
                    <a:pt x="66" y="278"/>
                  </a:lnTo>
                  <a:lnTo>
                    <a:pt x="90" y="158"/>
                  </a:lnTo>
                  <a:lnTo>
                    <a:pt x="238" y="158"/>
                  </a:lnTo>
                  <a:lnTo>
                    <a:pt x="268" y="2"/>
                  </a:lnTo>
                  <a:lnTo>
                    <a:pt x="418" y="10"/>
                  </a:lnTo>
                  <a:lnTo>
                    <a:pt x="418" y="10"/>
                  </a:lnTo>
                  <a:lnTo>
                    <a:pt x="414" y="16"/>
                  </a:lnTo>
                  <a:lnTo>
                    <a:pt x="408" y="22"/>
                  </a:lnTo>
                  <a:lnTo>
                    <a:pt x="400" y="26"/>
                  </a:lnTo>
                  <a:lnTo>
                    <a:pt x="388" y="28"/>
                  </a:lnTo>
                  <a:lnTo>
                    <a:pt x="362" y="158"/>
                  </a:lnTo>
                  <a:lnTo>
                    <a:pt x="502" y="158"/>
                  </a:lnTo>
                  <a:lnTo>
                    <a:pt x="482" y="264"/>
                  </a:lnTo>
                  <a:lnTo>
                    <a:pt x="482" y="264"/>
                  </a:lnTo>
                  <a:lnTo>
                    <a:pt x="500" y="234"/>
                  </a:lnTo>
                  <a:lnTo>
                    <a:pt x="518" y="204"/>
                  </a:lnTo>
                  <a:lnTo>
                    <a:pt x="550" y="138"/>
                  </a:lnTo>
                  <a:lnTo>
                    <a:pt x="578" y="70"/>
                  </a:lnTo>
                  <a:lnTo>
                    <a:pt x="604" y="0"/>
                  </a:lnTo>
                  <a:lnTo>
                    <a:pt x="750" y="32"/>
                  </a:lnTo>
                  <a:lnTo>
                    <a:pt x="750" y="32"/>
                  </a:lnTo>
                  <a:lnTo>
                    <a:pt x="746" y="38"/>
                  </a:lnTo>
                  <a:lnTo>
                    <a:pt x="740" y="42"/>
                  </a:lnTo>
                  <a:lnTo>
                    <a:pt x="732" y="46"/>
                  </a:lnTo>
                  <a:lnTo>
                    <a:pt x="722" y="46"/>
                  </a:lnTo>
                  <a:lnTo>
                    <a:pt x="722" y="46"/>
                  </a:lnTo>
                  <a:lnTo>
                    <a:pt x="700" y="102"/>
                  </a:lnTo>
                  <a:lnTo>
                    <a:pt x="676" y="156"/>
                  </a:lnTo>
                  <a:lnTo>
                    <a:pt x="928" y="156"/>
                  </a:lnTo>
                  <a:lnTo>
                    <a:pt x="906" y="276"/>
                  </a:lnTo>
                  <a:close/>
                  <a:moveTo>
                    <a:pt x="264" y="634"/>
                  </a:moveTo>
                  <a:lnTo>
                    <a:pt x="286" y="518"/>
                  </a:lnTo>
                  <a:lnTo>
                    <a:pt x="174" y="518"/>
                  </a:lnTo>
                  <a:lnTo>
                    <a:pt x="150" y="634"/>
                  </a:lnTo>
                  <a:lnTo>
                    <a:pt x="264" y="634"/>
                  </a:lnTo>
                  <a:close/>
                  <a:moveTo>
                    <a:pt x="386" y="380"/>
                  </a:moveTo>
                  <a:lnTo>
                    <a:pt x="386" y="380"/>
                  </a:lnTo>
                  <a:lnTo>
                    <a:pt x="410" y="358"/>
                  </a:lnTo>
                  <a:lnTo>
                    <a:pt x="432" y="334"/>
                  </a:lnTo>
                  <a:lnTo>
                    <a:pt x="452" y="306"/>
                  </a:lnTo>
                  <a:lnTo>
                    <a:pt x="474" y="278"/>
                  </a:lnTo>
                  <a:lnTo>
                    <a:pt x="340" y="278"/>
                  </a:lnTo>
                  <a:lnTo>
                    <a:pt x="316" y="400"/>
                  </a:lnTo>
                  <a:lnTo>
                    <a:pt x="408" y="400"/>
                  </a:lnTo>
                  <a:lnTo>
                    <a:pt x="386" y="380"/>
                  </a:lnTo>
                  <a:close/>
                  <a:moveTo>
                    <a:pt x="372" y="704"/>
                  </a:moveTo>
                  <a:lnTo>
                    <a:pt x="372" y="704"/>
                  </a:lnTo>
                  <a:lnTo>
                    <a:pt x="416" y="682"/>
                  </a:lnTo>
                  <a:lnTo>
                    <a:pt x="456" y="656"/>
                  </a:lnTo>
                  <a:lnTo>
                    <a:pt x="492" y="628"/>
                  </a:lnTo>
                  <a:lnTo>
                    <a:pt x="528" y="596"/>
                  </a:lnTo>
                  <a:lnTo>
                    <a:pt x="528" y="596"/>
                  </a:lnTo>
                  <a:lnTo>
                    <a:pt x="518" y="558"/>
                  </a:lnTo>
                  <a:lnTo>
                    <a:pt x="510" y="520"/>
                  </a:lnTo>
                  <a:lnTo>
                    <a:pt x="502" y="480"/>
                  </a:lnTo>
                  <a:lnTo>
                    <a:pt x="498" y="436"/>
                  </a:lnTo>
                  <a:lnTo>
                    <a:pt x="498" y="436"/>
                  </a:lnTo>
                  <a:lnTo>
                    <a:pt x="470" y="464"/>
                  </a:lnTo>
                  <a:lnTo>
                    <a:pt x="470" y="464"/>
                  </a:lnTo>
                  <a:lnTo>
                    <a:pt x="452" y="442"/>
                  </a:lnTo>
                  <a:lnTo>
                    <a:pt x="428" y="418"/>
                  </a:lnTo>
                  <a:lnTo>
                    <a:pt x="372" y="704"/>
                  </a:lnTo>
                  <a:close/>
                  <a:moveTo>
                    <a:pt x="614" y="276"/>
                  </a:moveTo>
                  <a:lnTo>
                    <a:pt x="614" y="276"/>
                  </a:lnTo>
                  <a:lnTo>
                    <a:pt x="614" y="324"/>
                  </a:lnTo>
                  <a:lnTo>
                    <a:pt x="618" y="372"/>
                  </a:lnTo>
                  <a:lnTo>
                    <a:pt x="624" y="416"/>
                  </a:lnTo>
                  <a:lnTo>
                    <a:pt x="632" y="458"/>
                  </a:lnTo>
                  <a:lnTo>
                    <a:pt x="632" y="458"/>
                  </a:lnTo>
                  <a:lnTo>
                    <a:pt x="654" y="416"/>
                  </a:lnTo>
                  <a:lnTo>
                    <a:pt x="676" y="372"/>
                  </a:lnTo>
                  <a:lnTo>
                    <a:pt x="694" y="326"/>
                  </a:lnTo>
                  <a:lnTo>
                    <a:pt x="712" y="276"/>
                  </a:lnTo>
                  <a:lnTo>
                    <a:pt x="614" y="276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41"/>
            <p:cNvSpPr/>
            <p:nvPr/>
          </p:nvSpPr>
          <p:spPr>
            <a:xfrm>
              <a:off x="24746040" y="6956280"/>
              <a:ext cx="1247760" cy="1247760"/>
            </a:xfrm>
            <a:custGeom>
              <a:avLst/>
              <a:gdLst>
                <a:gd name="textAreaLeft" fmla="*/ 0 w 1247760"/>
                <a:gd name="textAreaRight" fmla="*/ 1248120 w 124776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786" h="786">
                  <a:moveTo>
                    <a:pt x="786" y="420"/>
                  </a:moveTo>
                  <a:lnTo>
                    <a:pt x="786" y="420"/>
                  </a:lnTo>
                  <a:lnTo>
                    <a:pt x="778" y="422"/>
                  </a:lnTo>
                  <a:lnTo>
                    <a:pt x="778" y="422"/>
                  </a:lnTo>
                  <a:lnTo>
                    <a:pt x="772" y="420"/>
                  </a:lnTo>
                  <a:lnTo>
                    <a:pt x="766" y="418"/>
                  </a:lnTo>
                  <a:lnTo>
                    <a:pt x="766" y="418"/>
                  </a:lnTo>
                  <a:lnTo>
                    <a:pt x="654" y="448"/>
                  </a:lnTo>
                  <a:lnTo>
                    <a:pt x="596" y="464"/>
                  </a:lnTo>
                  <a:lnTo>
                    <a:pt x="544" y="480"/>
                  </a:lnTo>
                  <a:lnTo>
                    <a:pt x="544" y="480"/>
                  </a:lnTo>
                  <a:lnTo>
                    <a:pt x="536" y="534"/>
                  </a:lnTo>
                  <a:lnTo>
                    <a:pt x="536" y="534"/>
                  </a:lnTo>
                  <a:lnTo>
                    <a:pt x="522" y="594"/>
                  </a:lnTo>
                  <a:lnTo>
                    <a:pt x="386" y="604"/>
                  </a:lnTo>
                  <a:lnTo>
                    <a:pt x="386" y="604"/>
                  </a:lnTo>
                  <a:lnTo>
                    <a:pt x="396" y="566"/>
                  </a:lnTo>
                  <a:lnTo>
                    <a:pt x="404" y="532"/>
                  </a:lnTo>
                  <a:lnTo>
                    <a:pt x="404" y="532"/>
                  </a:lnTo>
                  <a:lnTo>
                    <a:pt x="382" y="544"/>
                  </a:lnTo>
                  <a:lnTo>
                    <a:pt x="362" y="554"/>
                  </a:lnTo>
                  <a:lnTo>
                    <a:pt x="344" y="566"/>
                  </a:lnTo>
                  <a:lnTo>
                    <a:pt x="330" y="578"/>
                  </a:lnTo>
                  <a:lnTo>
                    <a:pt x="316" y="590"/>
                  </a:lnTo>
                  <a:lnTo>
                    <a:pt x="306" y="602"/>
                  </a:lnTo>
                  <a:lnTo>
                    <a:pt x="300" y="612"/>
                  </a:lnTo>
                  <a:lnTo>
                    <a:pt x="296" y="622"/>
                  </a:lnTo>
                  <a:lnTo>
                    <a:pt x="296" y="622"/>
                  </a:lnTo>
                  <a:lnTo>
                    <a:pt x="296" y="634"/>
                  </a:lnTo>
                  <a:lnTo>
                    <a:pt x="298" y="638"/>
                  </a:lnTo>
                  <a:lnTo>
                    <a:pt x="300" y="644"/>
                  </a:lnTo>
                  <a:lnTo>
                    <a:pt x="308" y="652"/>
                  </a:lnTo>
                  <a:lnTo>
                    <a:pt x="322" y="658"/>
                  </a:lnTo>
                  <a:lnTo>
                    <a:pt x="340" y="662"/>
                  </a:lnTo>
                  <a:lnTo>
                    <a:pt x="362" y="664"/>
                  </a:lnTo>
                  <a:lnTo>
                    <a:pt x="388" y="666"/>
                  </a:lnTo>
                  <a:lnTo>
                    <a:pt x="420" y="668"/>
                  </a:lnTo>
                  <a:lnTo>
                    <a:pt x="420" y="668"/>
                  </a:lnTo>
                  <a:lnTo>
                    <a:pt x="476" y="666"/>
                  </a:lnTo>
                  <a:lnTo>
                    <a:pt x="536" y="664"/>
                  </a:lnTo>
                  <a:lnTo>
                    <a:pt x="592" y="662"/>
                  </a:lnTo>
                  <a:lnTo>
                    <a:pt x="640" y="656"/>
                  </a:lnTo>
                  <a:lnTo>
                    <a:pt x="616" y="780"/>
                  </a:lnTo>
                  <a:lnTo>
                    <a:pt x="616" y="780"/>
                  </a:lnTo>
                  <a:lnTo>
                    <a:pt x="578" y="782"/>
                  </a:lnTo>
                  <a:lnTo>
                    <a:pt x="528" y="784"/>
                  </a:lnTo>
                  <a:lnTo>
                    <a:pt x="396" y="786"/>
                  </a:lnTo>
                  <a:lnTo>
                    <a:pt x="396" y="786"/>
                  </a:lnTo>
                  <a:lnTo>
                    <a:pt x="336" y="784"/>
                  </a:lnTo>
                  <a:lnTo>
                    <a:pt x="308" y="782"/>
                  </a:lnTo>
                  <a:lnTo>
                    <a:pt x="284" y="778"/>
                  </a:lnTo>
                  <a:lnTo>
                    <a:pt x="262" y="774"/>
                  </a:lnTo>
                  <a:lnTo>
                    <a:pt x="242" y="768"/>
                  </a:lnTo>
                  <a:lnTo>
                    <a:pt x="224" y="760"/>
                  </a:lnTo>
                  <a:lnTo>
                    <a:pt x="208" y="752"/>
                  </a:lnTo>
                  <a:lnTo>
                    <a:pt x="194" y="742"/>
                  </a:lnTo>
                  <a:lnTo>
                    <a:pt x="182" y="732"/>
                  </a:lnTo>
                  <a:lnTo>
                    <a:pt x="174" y="718"/>
                  </a:lnTo>
                  <a:lnTo>
                    <a:pt x="168" y="704"/>
                  </a:lnTo>
                  <a:lnTo>
                    <a:pt x="164" y="688"/>
                  </a:lnTo>
                  <a:lnTo>
                    <a:pt x="162" y="670"/>
                  </a:lnTo>
                  <a:lnTo>
                    <a:pt x="162" y="652"/>
                  </a:lnTo>
                  <a:lnTo>
                    <a:pt x="166" y="630"/>
                  </a:lnTo>
                  <a:lnTo>
                    <a:pt x="166" y="630"/>
                  </a:lnTo>
                  <a:lnTo>
                    <a:pt x="168" y="618"/>
                  </a:lnTo>
                  <a:lnTo>
                    <a:pt x="174" y="604"/>
                  </a:lnTo>
                  <a:lnTo>
                    <a:pt x="182" y="590"/>
                  </a:lnTo>
                  <a:lnTo>
                    <a:pt x="190" y="578"/>
                  </a:lnTo>
                  <a:lnTo>
                    <a:pt x="202" y="564"/>
                  </a:lnTo>
                  <a:lnTo>
                    <a:pt x="214" y="550"/>
                  </a:lnTo>
                  <a:lnTo>
                    <a:pt x="244" y="522"/>
                  </a:lnTo>
                  <a:lnTo>
                    <a:pt x="280" y="494"/>
                  </a:lnTo>
                  <a:lnTo>
                    <a:pt x="320" y="468"/>
                  </a:lnTo>
                  <a:lnTo>
                    <a:pt x="366" y="442"/>
                  </a:lnTo>
                  <a:lnTo>
                    <a:pt x="414" y="418"/>
                  </a:lnTo>
                  <a:lnTo>
                    <a:pt x="414" y="418"/>
                  </a:lnTo>
                  <a:lnTo>
                    <a:pt x="414" y="408"/>
                  </a:lnTo>
                  <a:lnTo>
                    <a:pt x="410" y="398"/>
                  </a:lnTo>
                  <a:lnTo>
                    <a:pt x="408" y="392"/>
                  </a:lnTo>
                  <a:lnTo>
                    <a:pt x="402" y="388"/>
                  </a:lnTo>
                  <a:lnTo>
                    <a:pt x="396" y="386"/>
                  </a:lnTo>
                  <a:lnTo>
                    <a:pt x="390" y="384"/>
                  </a:lnTo>
                  <a:lnTo>
                    <a:pt x="390" y="384"/>
                  </a:lnTo>
                  <a:lnTo>
                    <a:pt x="368" y="386"/>
                  </a:lnTo>
                  <a:lnTo>
                    <a:pt x="346" y="390"/>
                  </a:lnTo>
                  <a:lnTo>
                    <a:pt x="322" y="398"/>
                  </a:lnTo>
                  <a:lnTo>
                    <a:pt x="298" y="408"/>
                  </a:lnTo>
                  <a:lnTo>
                    <a:pt x="272" y="422"/>
                  </a:lnTo>
                  <a:lnTo>
                    <a:pt x="244" y="440"/>
                  </a:lnTo>
                  <a:lnTo>
                    <a:pt x="216" y="464"/>
                  </a:lnTo>
                  <a:lnTo>
                    <a:pt x="186" y="490"/>
                  </a:lnTo>
                  <a:lnTo>
                    <a:pt x="186" y="490"/>
                  </a:lnTo>
                  <a:lnTo>
                    <a:pt x="138" y="534"/>
                  </a:lnTo>
                  <a:lnTo>
                    <a:pt x="76" y="586"/>
                  </a:lnTo>
                  <a:lnTo>
                    <a:pt x="0" y="494"/>
                  </a:lnTo>
                  <a:lnTo>
                    <a:pt x="0" y="494"/>
                  </a:lnTo>
                  <a:lnTo>
                    <a:pt x="60" y="452"/>
                  </a:lnTo>
                  <a:lnTo>
                    <a:pt x="90" y="428"/>
                  </a:lnTo>
                  <a:lnTo>
                    <a:pt x="116" y="406"/>
                  </a:lnTo>
                  <a:lnTo>
                    <a:pt x="116" y="406"/>
                  </a:lnTo>
                  <a:lnTo>
                    <a:pt x="134" y="388"/>
                  </a:lnTo>
                  <a:lnTo>
                    <a:pt x="152" y="368"/>
                  </a:lnTo>
                  <a:lnTo>
                    <a:pt x="190" y="322"/>
                  </a:lnTo>
                  <a:lnTo>
                    <a:pt x="208" y="298"/>
                  </a:lnTo>
                  <a:lnTo>
                    <a:pt x="224" y="274"/>
                  </a:lnTo>
                  <a:lnTo>
                    <a:pt x="240" y="250"/>
                  </a:lnTo>
                  <a:lnTo>
                    <a:pt x="250" y="228"/>
                  </a:lnTo>
                  <a:lnTo>
                    <a:pt x="250" y="228"/>
                  </a:lnTo>
                  <a:lnTo>
                    <a:pt x="160" y="228"/>
                  </a:lnTo>
                  <a:lnTo>
                    <a:pt x="160" y="228"/>
                  </a:lnTo>
                  <a:lnTo>
                    <a:pt x="92" y="228"/>
                  </a:lnTo>
                  <a:lnTo>
                    <a:pt x="116" y="108"/>
                  </a:lnTo>
                  <a:lnTo>
                    <a:pt x="116" y="108"/>
                  </a:lnTo>
                  <a:lnTo>
                    <a:pt x="194" y="112"/>
                  </a:lnTo>
                  <a:lnTo>
                    <a:pt x="266" y="112"/>
                  </a:lnTo>
                  <a:lnTo>
                    <a:pt x="308" y="112"/>
                  </a:lnTo>
                  <a:lnTo>
                    <a:pt x="308" y="112"/>
                  </a:lnTo>
                  <a:lnTo>
                    <a:pt x="326" y="58"/>
                  </a:lnTo>
                  <a:lnTo>
                    <a:pt x="346" y="0"/>
                  </a:lnTo>
                  <a:lnTo>
                    <a:pt x="500" y="14"/>
                  </a:lnTo>
                  <a:lnTo>
                    <a:pt x="500" y="14"/>
                  </a:lnTo>
                  <a:lnTo>
                    <a:pt x="498" y="20"/>
                  </a:lnTo>
                  <a:lnTo>
                    <a:pt x="492" y="24"/>
                  </a:lnTo>
                  <a:lnTo>
                    <a:pt x="484" y="28"/>
                  </a:lnTo>
                  <a:lnTo>
                    <a:pt x="476" y="30"/>
                  </a:lnTo>
                  <a:lnTo>
                    <a:pt x="476" y="30"/>
                  </a:lnTo>
                  <a:lnTo>
                    <a:pt x="460" y="68"/>
                  </a:lnTo>
                  <a:lnTo>
                    <a:pt x="444" y="104"/>
                  </a:lnTo>
                  <a:lnTo>
                    <a:pt x="444" y="104"/>
                  </a:lnTo>
                  <a:lnTo>
                    <a:pt x="504" y="100"/>
                  </a:lnTo>
                  <a:lnTo>
                    <a:pt x="568" y="92"/>
                  </a:lnTo>
                  <a:lnTo>
                    <a:pt x="636" y="78"/>
                  </a:lnTo>
                  <a:lnTo>
                    <a:pt x="670" y="68"/>
                  </a:lnTo>
                  <a:lnTo>
                    <a:pt x="704" y="58"/>
                  </a:lnTo>
                  <a:lnTo>
                    <a:pt x="702" y="184"/>
                  </a:lnTo>
                  <a:lnTo>
                    <a:pt x="702" y="184"/>
                  </a:lnTo>
                  <a:lnTo>
                    <a:pt x="670" y="192"/>
                  </a:lnTo>
                  <a:lnTo>
                    <a:pt x="636" y="198"/>
                  </a:lnTo>
                  <a:lnTo>
                    <a:pt x="598" y="204"/>
                  </a:lnTo>
                  <a:lnTo>
                    <a:pt x="560" y="210"/>
                  </a:lnTo>
                  <a:lnTo>
                    <a:pt x="474" y="218"/>
                  </a:lnTo>
                  <a:lnTo>
                    <a:pt x="386" y="224"/>
                  </a:lnTo>
                  <a:lnTo>
                    <a:pt x="386" y="224"/>
                  </a:lnTo>
                  <a:lnTo>
                    <a:pt x="358" y="274"/>
                  </a:lnTo>
                  <a:lnTo>
                    <a:pt x="346" y="292"/>
                  </a:lnTo>
                  <a:lnTo>
                    <a:pt x="336" y="306"/>
                  </a:lnTo>
                  <a:lnTo>
                    <a:pt x="338" y="306"/>
                  </a:lnTo>
                  <a:lnTo>
                    <a:pt x="338" y="306"/>
                  </a:lnTo>
                  <a:lnTo>
                    <a:pt x="364" y="290"/>
                  </a:lnTo>
                  <a:lnTo>
                    <a:pt x="392" y="280"/>
                  </a:lnTo>
                  <a:lnTo>
                    <a:pt x="424" y="272"/>
                  </a:lnTo>
                  <a:lnTo>
                    <a:pt x="440" y="268"/>
                  </a:lnTo>
                  <a:lnTo>
                    <a:pt x="456" y="268"/>
                  </a:lnTo>
                  <a:lnTo>
                    <a:pt x="456" y="268"/>
                  </a:lnTo>
                  <a:lnTo>
                    <a:pt x="472" y="270"/>
                  </a:lnTo>
                  <a:lnTo>
                    <a:pt x="490" y="274"/>
                  </a:lnTo>
                  <a:lnTo>
                    <a:pt x="504" y="282"/>
                  </a:lnTo>
                  <a:lnTo>
                    <a:pt x="518" y="292"/>
                  </a:lnTo>
                  <a:lnTo>
                    <a:pt x="528" y="306"/>
                  </a:lnTo>
                  <a:lnTo>
                    <a:pt x="536" y="324"/>
                  </a:lnTo>
                  <a:lnTo>
                    <a:pt x="542" y="344"/>
                  </a:lnTo>
                  <a:lnTo>
                    <a:pt x="544" y="366"/>
                  </a:lnTo>
                  <a:lnTo>
                    <a:pt x="544" y="366"/>
                  </a:lnTo>
                  <a:lnTo>
                    <a:pt x="600" y="346"/>
                  </a:lnTo>
                  <a:lnTo>
                    <a:pt x="656" y="326"/>
                  </a:lnTo>
                  <a:lnTo>
                    <a:pt x="764" y="288"/>
                  </a:lnTo>
                  <a:lnTo>
                    <a:pt x="786" y="420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42"/>
            <p:cNvSpPr/>
            <p:nvPr/>
          </p:nvSpPr>
          <p:spPr>
            <a:xfrm>
              <a:off x="26470080" y="6953040"/>
              <a:ext cx="1288800" cy="128304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283040"/>
                <a:gd name="textAreaBottom" fmla="*/ 1283400 h 1283040"/>
              </a:gdLst>
              <a:ahLst/>
              <a:rect l="textAreaLeft" t="textAreaTop" r="textAreaRight" b="textAreaBottom"/>
              <a:pathLst>
                <a:path w="812" h="808">
                  <a:moveTo>
                    <a:pt x="484" y="12"/>
                  </a:moveTo>
                  <a:lnTo>
                    <a:pt x="484" y="12"/>
                  </a:lnTo>
                  <a:lnTo>
                    <a:pt x="478" y="20"/>
                  </a:lnTo>
                  <a:lnTo>
                    <a:pt x="472" y="24"/>
                  </a:lnTo>
                  <a:lnTo>
                    <a:pt x="464" y="30"/>
                  </a:lnTo>
                  <a:lnTo>
                    <a:pt x="452" y="32"/>
                  </a:lnTo>
                  <a:lnTo>
                    <a:pt x="452" y="32"/>
                  </a:lnTo>
                  <a:lnTo>
                    <a:pt x="434" y="80"/>
                  </a:lnTo>
                  <a:lnTo>
                    <a:pt x="418" y="124"/>
                  </a:lnTo>
                  <a:lnTo>
                    <a:pt x="418" y="124"/>
                  </a:lnTo>
                  <a:lnTo>
                    <a:pt x="462" y="118"/>
                  </a:lnTo>
                  <a:lnTo>
                    <a:pt x="516" y="110"/>
                  </a:lnTo>
                  <a:lnTo>
                    <a:pt x="570" y="98"/>
                  </a:lnTo>
                  <a:lnTo>
                    <a:pt x="622" y="84"/>
                  </a:lnTo>
                  <a:lnTo>
                    <a:pt x="612" y="212"/>
                  </a:lnTo>
                  <a:lnTo>
                    <a:pt x="612" y="212"/>
                  </a:lnTo>
                  <a:lnTo>
                    <a:pt x="554" y="222"/>
                  </a:lnTo>
                  <a:lnTo>
                    <a:pt x="492" y="234"/>
                  </a:lnTo>
                  <a:lnTo>
                    <a:pt x="430" y="242"/>
                  </a:lnTo>
                  <a:lnTo>
                    <a:pt x="370" y="248"/>
                  </a:lnTo>
                  <a:lnTo>
                    <a:pt x="370" y="248"/>
                  </a:lnTo>
                  <a:lnTo>
                    <a:pt x="342" y="306"/>
                  </a:lnTo>
                  <a:lnTo>
                    <a:pt x="316" y="360"/>
                  </a:lnTo>
                  <a:lnTo>
                    <a:pt x="286" y="414"/>
                  </a:lnTo>
                  <a:lnTo>
                    <a:pt x="258" y="468"/>
                  </a:lnTo>
                  <a:lnTo>
                    <a:pt x="226" y="518"/>
                  </a:lnTo>
                  <a:lnTo>
                    <a:pt x="194" y="568"/>
                  </a:lnTo>
                  <a:lnTo>
                    <a:pt x="160" y="616"/>
                  </a:lnTo>
                  <a:lnTo>
                    <a:pt x="126" y="662"/>
                  </a:lnTo>
                  <a:lnTo>
                    <a:pt x="0" y="616"/>
                  </a:lnTo>
                  <a:lnTo>
                    <a:pt x="0" y="616"/>
                  </a:lnTo>
                  <a:lnTo>
                    <a:pt x="34" y="576"/>
                  </a:lnTo>
                  <a:lnTo>
                    <a:pt x="68" y="532"/>
                  </a:lnTo>
                  <a:lnTo>
                    <a:pt x="98" y="486"/>
                  </a:lnTo>
                  <a:lnTo>
                    <a:pt x="128" y="440"/>
                  </a:lnTo>
                  <a:lnTo>
                    <a:pt x="156" y="394"/>
                  </a:lnTo>
                  <a:lnTo>
                    <a:pt x="182" y="346"/>
                  </a:lnTo>
                  <a:lnTo>
                    <a:pt x="206" y="298"/>
                  </a:lnTo>
                  <a:lnTo>
                    <a:pt x="226" y="250"/>
                  </a:lnTo>
                  <a:lnTo>
                    <a:pt x="84" y="250"/>
                  </a:lnTo>
                  <a:lnTo>
                    <a:pt x="108" y="130"/>
                  </a:lnTo>
                  <a:lnTo>
                    <a:pt x="270" y="130"/>
                  </a:lnTo>
                  <a:lnTo>
                    <a:pt x="270" y="130"/>
                  </a:lnTo>
                  <a:lnTo>
                    <a:pt x="292" y="66"/>
                  </a:lnTo>
                  <a:lnTo>
                    <a:pt x="312" y="0"/>
                  </a:lnTo>
                  <a:lnTo>
                    <a:pt x="484" y="12"/>
                  </a:lnTo>
                  <a:close/>
                  <a:moveTo>
                    <a:pt x="628" y="400"/>
                  </a:moveTo>
                  <a:lnTo>
                    <a:pt x="628" y="400"/>
                  </a:lnTo>
                  <a:lnTo>
                    <a:pt x="616" y="472"/>
                  </a:lnTo>
                  <a:lnTo>
                    <a:pt x="608" y="542"/>
                  </a:lnTo>
                  <a:lnTo>
                    <a:pt x="608" y="542"/>
                  </a:lnTo>
                  <a:lnTo>
                    <a:pt x="642" y="560"/>
                  </a:lnTo>
                  <a:lnTo>
                    <a:pt x="682" y="580"/>
                  </a:lnTo>
                  <a:lnTo>
                    <a:pt x="722" y="604"/>
                  </a:lnTo>
                  <a:lnTo>
                    <a:pt x="754" y="626"/>
                  </a:lnTo>
                  <a:lnTo>
                    <a:pt x="668" y="752"/>
                  </a:lnTo>
                  <a:lnTo>
                    <a:pt x="668" y="752"/>
                  </a:lnTo>
                  <a:lnTo>
                    <a:pt x="648" y="734"/>
                  </a:lnTo>
                  <a:lnTo>
                    <a:pt x="624" y="716"/>
                  </a:lnTo>
                  <a:lnTo>
                    <a:pt x="578" y="684"/>
                  </a:lnTo>
                  <a:lnTo>
                    <a:pt x="578" y="684"/>
                  </a:lnTo>
                  <a:lnTo>
                    <a:pt x="576" y="696"/>
                  </a:lnTo>
                  <a:lnTo>
                    <a:pt x="568" y="714"/>
                  </a:lnTo>
                  <a:lnTo>
                    <a:pt x="556" y="734"/>
                  </a:lnTo>
                  <a:lnTo>
                    <a:pt x="546" y="744"/>
                  </a:lnTo>
                  <a:lnTo>
                    <a:pt x="536" y="754"/>
                  </a:lnTo>
                  <a:lnTo>
                    <a:pt x="524" y="764"/>
                  </a:lnTo>
                  <a:lnTo>
                    <a:pt x="510" y="774"/>
                  </a:lnTo>
                  <a:lnTo>
                    <a:pt x="492" y="784"/>
                  </a:lnTo>
                  <a:lnTo>
                    <a:pt x="474" y="792"/>
                  </a:lnTo>
                  <a:lnTo>
                    <a:pt x="452" y="798"/>
                  </a:lnTo>
                  <a:lnTo>
                    <a:pt x="428" y="804"/>
                  </a:lnTo>
                  <a:lnTo>
                    <a:pt x="400" y="806"/>
                  </a:lnTo>
                  <a:lnTo>
                    <a:pt x="370" y="808"/>
                  </a:lnTo>
                  <a:lnTo>
                    <a:pt x="370" y="808"/>
                  </a:lnTo>
                  <a:lnTo>
                    <a:pt x="342" y="806"/>
                  </a:lnTo>
                  <a:lnTo>
                    <a:pt x="312" y="800"/>
                  </a:lnTo>
                  <a:lnTo>
                    <a:pt x="298" y="796"/>
                  </a:lnTo>
                  <a:lnTo>
                    <a:pt x="284" y="790"/>
                  </a:lnTo>
                  <a:lnTo>
                    <a:pt x="272" y="784"/>
                  </a:lnTo>
                  <a:lnTo>
                    <a:pt x="260" y="776"/>
                  </a:lnTo>
                  <a:lnTo>
                    <a:pt x="248" y="766"/>
                  </a:lnTo>
                  <a:lnTo>
                    <a:pt x="238" y="756"/>
                  </a:lnTo>
                  <a:lnTo>
                    <a:pt x="230" y="742"/>
                  </a:lnTo>
                  <a:lnTo>
                    <a:pt x="224" y="730"/>
                  </a:lnTo>
                  <a:lnTo>
                    <a:pt x="220" y="714"/>
                  </a:lnTo>
                  <a:lnTo>
                    <a:pt x="218" y="696"/>
                  </a:lnTo>
                  <a:lnTo>
                    <a:pt x="218" y="678"/>
                  </a:lnTo>
                  <a:lnTo>
                    <a:pt x="220" y="658"/>
                  </a:lnTo>
                  <a:lnTo>
                    <a:pt x="220" y="658"/>
                  </a:lnTo>
                  <a:lnTo>
                    <a:pt x="226" y="640"/>
                  </a:lnTo>
                  <a:lnTo>
                    <a:pt x="232" y="624"/>
                  </a:lnTo>
                  <a:lnTo>
                    <a:pt x="240" y="610"/>
                  </a:lnTo>
                  <a:lnTo>
                    <a:pt x="248" y="596"/>
                  </a:lnTo>
                  <a:lnTo>
                    <a:pt x="260" y="582"/>
                  </a:lnTo>
                  <a:lnTo>
                    <a:pt x="272" y="570"/>
                  </a:lnTo>
                  <a:lnTo>
                    <a:pt x="284" y="558"/>
                  </a:lnTo>
                  <a:lnTo>
                    <a:pt x="298" y="548"/>
                  </a:lnTo>
                  <a:lnTo>
                    <a:pt x="314" y="540"/>
                  </a:lnTo>
                  <a:lnTo>
                    <a:pt x="330" y="532"/>
                  </a:lnTo>
                  <a:lnTo>
                    <a:pt x="346" y="524"/>
                  </a:lnTo>
                  <a:lnTo>
                    <a:pt x="362" y="518"/>
                  </a:lnTo>
                  <a:lnTo>
                    <a:pt x="378" y="514"/>
                  </a:lnTo>
                  <a:lnTo>
                    <a:pt x="396" y="512"/>
                  </a:lnTo>
                  <a:lnTo>
                    <a:pt x="412" y="510"/>
                  </a:lnTo>
                  <a:lnTo>
                    <a:pt x="430" y="508"/>
                  </a:lnTo>
                  <a:lnTo>
                    <a:pt x="430" y="508"/>
                  </a:lnTo>
                  <a:lnTo>
                    <a:pt x="456" y="510"/>
                  </a:lnTo>
                  <a:lnTo>
                    <a:pt x="482" y="512"/>
                  </a:lnTo>
                  <a:lnTo>
                    <a:pt x="482" y="512"/>
                  </a:lnTo>
                  <a:lnTo>
                    <a:pt x="490" y="466"/>
                  </a:lnTo>
                  <a:lnTo>
                    <a:pt x="500" y="416"/>
                  </a:lnTo>
                  <a:lnTo>
                    <a:pt x="628" y="400"/>
                  </a:lnTo>
                  <a:close/>
                  <a:moveTo>
                    <a:pt x="468" y="626"/>
                  </a:moveTo>
                  <a:lnTo>
                    <a:pt x="468" y="626"/>
                  </a:lnTo>
                  <a:lnTo>
                    <a:pt x="454" y="622"/>
                  </a:lnTo>
                  <a:lnTo>
                    <a:pt x="436" y="618"/>
                  </a:lnTo>
                  <a:lnTo>
                    <a:pt x="420" y="616"/>
                  </a:lnTo>
                  <a:lnTo>
                    <a:pt x="406" y="616"/>
                  </a:lnTo>
                  <a:lnTo>
                    <a:pt x="406" y="616"/>
                  </a:lnTo>
                  <a:lnTo>
                    <a:pt x="392" y="616"/>
                  </a:lnTo>
                  <a:lnTo>
                    <a:pt x="378" y="618"/>
                  </a:lnTo>
                  <a:lnTo>
                    <a:pt x="368" y="622"/>
                  </a:lnTo>
                  <a:lnTo>
                    <a:pt x="358" y="628"/>
                  </a:lnTo>
                  <a:lnTo>
                    <a:pt x="348" y="634"/>
                  </a:lnTo>
                  <a:lnTo>
                    <a:pt x="342" y="642"/>
                  </a:lnTo>
                  <a:lnTo>
                    <a:pt x="336" y="650"/>
                  </a:lnTo>
                  <a:lnTo>
                    <a:pt x="334" y="658"/>
                  </a:lnTo>
                  <a:lnTo>
                    <a:pt x="334" y="658"/>
                  </a:lnTo>
                  <a:lnTo>
                    <a:pt x="332" y="666"/>
                  </a:lnTo>
                  <a:lnTo>
                    <a:pt x="334" y="674"/>
                  </a:lnTo>
                  <a:lnTo>
                    <a:pt x="338" y="682"/>
                  </a:lnTo>
                  <a:lnTo>
                    <a:pt x="346" y="688"/>
                  </a:lnTo>
                  <a:lnTo>
                    <a:pt x="354" y="694"/>
                  </a:lnTo>
                  <a:lnTo>
                    <a:pt x="364" y="696"/>
                  </a:lnTo>
                  <a:lnTo>
                    <a:pt x="376" y="700"/>
                  </a:lnTo>
                  <a:lnTo>
                    <a:pt x="392" y="700"/>
                  </a:lnTo>
                  <a:lnTo>
                    <a:pt x="392" y="700"/>
                  </a:lnTo>
                  <a:lnTo>
                    <a:pt x="404" y="698"/>
                  </a:lnTo>
                  <a:lnTo>
                    <a:pt x="418" y="696"/>
                  </a:lnTo>
                  <a:lnTo>
                    <a:pt x="428" y="692"/>
                  </a:lnTo>
                  <a:lnTo>
                    <a:pt x="438" y="686"/>
                  </a:lnTo>
                  <a:lnTo>
                    <a:pt x="448" y="678"/>
                  </a:lnTo>
                  <a:lnTo>
                    <a:pt x="454" y="670"/>
                  </a:lnTo>
                  <a:lnTo>
                    <a:pt x="460" y="660"/>
                  </a:lnTo>
                  <a:lnTo>
                    <a:pt x="464" y="648"/>
                  </a:lnTo>
                  <a:lnTo>
                    <a:pt x="468" y="626"/>
                  </a:lnTo>
                  <a:close/>
                  <a:moveTo>
                    <a:pt x="796" y="350"/>
                  </a:moveTo>
                  <a:lnTo>
                    <a:pt x="796" y="350"/>
                  </a:lnTo>
                  <a:lnTo>
                    <a:pt x="722" y="354"/>
                  </a:lnTo>
                  <a:lnTo>
                    <a:pt x="644" y="360"/>
                  </a:lnTo>
                  <a:lnTo>
                    <a:pt x="564" y="370"/>
                  </a:lnTo>
                  <a:lnTo>
                    <a:pt x="484" y="384"/>
                  </a:lnTo>
                  <a:lnTo>
                    <a:pt x="490" y="268"/>
                  </a:lnTo>
                  <a:lnTo>
                    <a:pt x="490" y="268"/>
                  </a:lnTo>
                  <a:lnTo>
                    <a:pt x="570" y="250"/>
                  </a:lnTo>
                  <a:lnTo>
                    <a:pt x="654" y="238"/>
                  </a:lnTo>
                  <a:lnTo>
                    <a:pt x="696" y="232"/>
                  </a:lnTo>
                  <a:lnTo>
                    <a:pt x="736" y="228"/>
                  </a:lnTo>
                  <a:lnTo>
                    <a:pt x="774" y="226"/>
                  </a:lnTo>
                  <a:lnTo>
                    <a:pt x="812" y="226"/>
                  </a:lnTo>
                  <a:lnTo>
                    <a:pt x="796" y="350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43"/>
            <p:cNvSpPr/>
            <p:nvPr/>
          </p:nvSpPr>
          <p:spPr>
            <a:xfrm>
              <a:off x="28441800" y="6940440"/>
              <a:ext cx="898200" cy="1305000"/>
            </a:xfrm>
            <a:custGeom>
              <a:avLst/>
              <a:gdLst>
                <a:gd name="textAreaLeft" fmla="*/ 0 w 898200"/>
                <a:gd name="textAreaRight" fmla="*/ 898560 w 89820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566" h="822">
                  <a:moveTo>
                    <a:pt x="326" y="822"/>
                  </a:moveTo>
                  <a:lnTo>
                    <a:pt x="326" y="822"/>
                  </a:lnTo>
                  <a:lnTo>
                    <a:pt x="302" y="790"/>
                  </a:lnTo>
                  <a:lnTo>
                    <a:pt x="276" y="756"/>
                  </a:lnTo>
                  <a:lnTo>
                    <a:pt x="244" y="718"/>
                  </a:lnTo>
                  <a:lnTo>
                    <a:pt x="210" y="680"/>
                  </a:lnTo>
                  <a:lnTo>
                    <a:pt x="174" y="640"/>
                  </a:lnTo>
                  <a:lnTo>
                    <a:pt x="134" y="600"/>
                  </a:lnTo>
                  <a:lnTo>
                    <a:pt x="92" y="558"/>
                  </a:lnTo>
                  <a:lnTo>
                    <a:pt x="48" y="518"/>
                  </a:lnTo>
                  <a:lnTo>
                    <a:pt x="48" y="518"/>
                  </a:lnTo>
                  <a:lnTo>
                    <a:pt x="32" y="502"/>
                  </a:lnTo>
                  <a:lnTo>
                    <a:pt x="20" y="488"/>
                  </a:lnTo>
                  <a:lnTo>
                    <a:pt x="10" y="474"/>
                  </a:lnTo>
                  <a:lnTo>
                    <a:pt x="4" y="462"/>
                  </a:lnTo>
                  <a:lnTo>
                    <a:pt x="0" y="448"/>
                  </a:lnTo>
                  <a:lnTo>
                    <a:pt x="0" y="434"/>
                  </a:lnTo>
                  <a:lnTo>
                    <a:pt x="0" y="418"/>
                  </a:lnTo>
                  <a:lnTo>
                    <a:pt x="4" y="400"/>
                  </a:lnTo>
                  <a:lnTo>
                    <a:pt x="4" y="400"/>
                  </a:lnTo>
                  <a:lnTo>
                    <a:pt x="10" y="378"/>
                  </a:lnTo>
                  <a:lnTo>
                    <a:pt x="14" y="368"/>
                  </a:lnTo>
                  <a:lnTo>
                    <a:pt x="20" y="356"/>
                  </a:lnTo>
                  <a:lnTo>
                    <a:pt x="26" y="346"/>
                  </a:lnTo>
                  <a:lnTo>
                    <a:pt x="36" y="334"/>
                  </a:lnTo>
                  <a:lnTo>
                    <a:pt x="46" y="324"/>
                  </a:lnTo>
                  <a:lnTo>
                    <a:pt x="60" y="312"/>
                  </a:lnTo>
                  <a:lnTo>
                    <a:pt x="60" y="312"/>
                  </a:lnTo>
                  <a:lnTo>
                    <a:pt x="154" y="236"/>
                  </a:lnTo>
                  <a:lnTo>
                    <a:pt x="260" y="148"/>
                  </a:lnTo>
                  <a:lnTo>
                    <a:pt x="360" y="64"/>
                  </a:lnTo>
                  <a:lnTo>
                    <a:pt x="434" y="0"/>
                  </a:lnTo>
                  <a:lnTo>
                    <a:pt x="566" y="96"/>
                  </a:lnTo>
                  <a:lnTo>
                    <a:pt x="566" y="96"/>
                  </a:lnTo>
                  <a:lnTo>
                    <a:pt x="556" y="102"/>
                  </a:lnTo>
                  <a:lnTo>
                    <a:pt x="548" y="106"/>
                  </a:lnTo>
                  <a:lnTo>
                    <a:pt x="538" y="108"/>
                  </a:lnTo>
                  <a:lnTo>
                    <a:pt x="528" y="106"/>
                  </a:lnTo>
                  <a:lnTo>
                    <a:pt x="528" y="106"/>
                  </a:lnTo>
                  <a:lnTo>
                    <a:pt x="368" y="228"/>
                  </a:lnTo>
                  <a:lnTo>
                    <a:pt x="212" y="346"/>
                  </a:lnTo>
                  <a:lnTo>
                    <a:pt x="212" y="346"/>
                  </a:lnTo>
                  <a:lnTo>
                    <a:pt x="180" y="374"/>
                  </a:lnTo>
                  <a:lnTo>
                    <a:pt x="168" y="386"/>
                  </a:lnTo>
                  <a:lnTo>
                    <a:pt x="164" y="390"/>
                  </a:lnTo>
                  <a:lnTo>
                    <a:pt x="162" y="396"/>
                  </a:lnTo>
                  <a:lnTo>
                    <a:pt x="162" y="396"/>
                  </a:lnTo>
                  <a:lnTo>
                    <a:pt x="162" y="400"/>
                  </a:lnTo>
                  <a:lnTo>
                    <a:pt x="164" y="406"/>
                  </a:lnTo>
                  <a:lnTo>
                    <a:pt x="174" y="418"/>
                  </a:lnTo>
                  <a:lnTo>
                    <a:pt x="190" y="432"/>
                  </a:lnTo>
                  <a:lnTo>
                    <a:pt x="208" y="448"/>
                  </a:lnTo>
                  <a:lnTo>
                    <a:pt x="208" y="448"/>
                  </a:lnTo>
                  <a:lnTo>
                    <a:pt x="242" y="476"/>
                  </a:lnTo>
                  <a:lnTo>
                    <a:pt x="278" y="506"/>
                  </a:lnTo>
                  <a:lnTo>
                    <a:pt x="348" y="572"/>
                  </a:lnTo>
                  <a:lnTo>
                    <a:pt x="418" y="642"/>
                  </a:lnTo>
                  <a:lnTo>
                    <a:pt x="452" y="680"/>
                  </a:lnTo>
                  <a:lnTo>
                    <a:pt x="484" y="716"/>
                  </a:lnTo>
                  <a:lnTo>
                    <a:pt x="326" y="822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44"/>
            <p:cNvSpPr/>
            <p:nvPr/>
          </p:nvSpPr>
          <p:spPr>
            <a:xfrm>
              <a:off x="30032640" y="6968880"/>
              <a:ext cx="1228680" cy="126072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260720"/>
                <a:gd name="textAreaBottom" fmla="*/ 1260720 h 1260720"/>
              </a:gdLst>
              <a:ahLst/>
              <a:rect l="textAreaLeft" t="textAreaTop" r="textAreaRight" b="textAreaBottom"/>
              <a:pathLst>
                <a:path w="774" h="794">
                  <a:moveTo>
                    <a:pt x="176" y="34"/>
                  </a:moveTo>
                  <a:lnTo>
                    <a:pt x="176" y="34"/>
                  </a:lnTo>
                  <a:lnTo>
                    <a:pt x="286" y="32"/>
                  </a:lnTo>
                  <a:lnTo>
                    <a:pt x="286" y="32"/>
                  </a:lnTo>
                  <a:lnTo>
                    <a:pt x="366" y="30"/>
                  </a:lnTo>
                  <a:lnTo>
                    <a:pt x="470" y="22"/>
                  </a:lnTo>
                  <a:lnTo>
                    <a:pt x="572" y="12"/>
                  </a:lnTo>
                  <a:lnTo>
                    <a:pt x="614" y="6"/>
                  </a:lnTo>
                  <a:lnTo>
                    <a:pt x="648" y="0"/>
                  </a:lnTo>
                  <a:lnTo>
                    <a:pt x="652" y="122"/>
                  </a:lnTo>
                  <a:lnTo>
                    <a:pt x="652" y="122"/>
                  </a:lnTo>
                  <a:lnTo>
                    <a:pt x="634" y="126"/>
                  </a:lnTo>
                  <a:lnTo>
                    <a:pt x="618" y="134"/>
                  </a:lnTo>
                  <a:lnTo>
                    <a:pt x="618" y="134"/>
                  </a:lnTo>
                  <a:lnTo>
                    <a:pt x="586" y="148"/>
                  </a:lnTo>
                  <a:lnTo>
                    <a:pt x="552" y="168"/>
                  </a:lnTo>
                  <a:lnTo>
                    <a:pt x="478" y="212"/>
                  </a:lnTo>
                  <a:lnTo>
                    <a:pt x="332" y="302"/>
                  </a:lnTo>
                  <a:lnTo>
                    <a:pt x="332" y="302"/>
                  </a:lnTo>
                  <a:lnTo>
                    <a:pt x="398" y="290"/>
                  </a:lnTo>
                  <a:lnTo>
                    <a:pt x="466" y="280"/>
                  </a:lnTo>
                  <a:lnTo>
                    <a:pt x="532" y="272"/>
                  </a:lnTo>
                  <a:lnTo>
                    <a:pt x="596" y="266"/>
                  </a:lnTo>
                  <a:lnTo>
                    <a:pt x="702" y="258"/>
                  </a:lnTo>
                  <a:lnTo>
                    <a:pt x="774" y="254"/>
                  </a:lnTo>
                  <a:lnTo>
                    <a:pt x="750" y="384"/>
                  </a:lnTo>
                  <a:lnTo>
                    <a:pt x="750" y="384"/>
                  </a:lnTo>
                  <a:lnTo>
                    <a:pt x="704" y="384"/>
                  </a:lnTo>
                  <a:lnTo>
                    <a:pt x="652" y="386"/>
                  </a:lnTo>
                  <a:lnTo>
                    <a:pt x="602" y="392"/>
                  </a:lnTo>
                  <a:lnTo>
                    <a:pt x="580" y="396"/>
                  </a:lnTo>
                  <a:lnTo>
                    <a:pt x="560" y="402"/>
                  </a:lnTo>
                  <a:lnTo>
                    <a:pt x="560" y="402"/>
                  </a:lnTo>
                  <a:lnTo>
                    <a:pt x="528" y="414"/>
                  </a:lnTo>
                  <a:lnTo>
                    <a:pt x="492" y="432"/>
                  </a:lnTo>
                  <a:lnTo>
                    <a:pt x="456" y="454"/>
                  </a:lnTo>
                  <a:lnTo>
                    <a:pt x="422" y="478"/>
                  </a:lnTo>
                  <a:lnTo>
                    <a:pt x="390" y="506"/>
                  </a:lnTo>
                  <a:lnTo>
                    <a:pt x="376" y="520"/>
                  </a:lnTo>
                  <a:lnTo>
                    <a:pt x="362" y="534"/>
                  </a:lnTo>
                  <a:lnTo>
                    <a:pt x="352" y="548"/>
                  </a:lnTo>
                  <a:lnTo>
                    <a:pt x="344" y="562"/>
                  </a:lnTo>
                  <a:lnTo>
                    <a:pt x="336" y="576"/>
                  </a:lnTo>
                  <a:lnTo>
                    <a:pt x="332" y="590"/>
                  </a:lnTo>
                  <a:lnTo>
                    <a:pt x="332" y="590"/>
                  </a:lnTo>
                  <a:lnTo>
                    <a:pt x="332" y="602"/>
                  </a:lnTo>
                  <a:lnTo>
                    <a:pt x="332" y="614"/>
                  </a:lnTo>
                  <a:lnTo>
                    <a:pt x="336" y="622"/>
                  </a:lnTo>
                  <a:lnTo>
                    <a:pt x="342" y="630"/>
                  </a:lnTo>
                  <a:lnTo>
                    <a:pt x="348" y="634"/>
                  </a:lnTo>
                  <a:lnTo>
                    <a:pt x="354" y="638"/>
                  </a:lnTo>
                  <a:lnTo>
                    <a:pt x="362" y="642"/>
                  </a:lnTo>
                  <a:lnTo>
                    <a:pt x="362" y="642"/>
                  </a:lnTo>
                  <a:lnTo>
                    <a:pt x="378" y="646"/>
                  </a:lnTo>
                  <a:lnTo>
                    <a:pt x="398" y="650"/>
                  </a:lnTo>
                  <a:lnTo>
                    <a:pt x="446" y="656"/>
                  </a:lnTo>
                  <a:lnTo>
                    <a:pt x="498" y="660"/>
                  </a:lnTo>
                  <a:lnTo>
                    <a:pt x="544" y="660"/>
                  </a:lnTo>
                  <a:lnTo>
                    <a:pt x="478" y="794"/>
                  </a:lnTo>
                  <a:lnTo>
                    <a:pt x="478" y="794"/>
                  </a:lnTo>
                  <a:lnTo>
                    <a:pt x="440" y="792"/>
                  </a:lnTo>
                  <a:lnTo>
                    <a:pt x="402" y="788"/>
                  </a:lnTo>
                  <a:lnTo>
                    <a:pt x="366" y="782"/>
                  </a:lnTo>
                  <a:lnTo>
                    <a:pt x="332" y="774"/>
                  </a:lnTo>
                  <a:lnTo>
                    <a:pt x="300" y="766"/>
                  </a:lnTo>
                  <a:lnTo>
                    <a:pt x="270" y="756"/>
                  </a:lnTo>
                  <a:lnTo>
                    <a:pt x="246" y="742"/>
                  </a:lnTo>
                  <a:lnTo>
                    <a:pt x="224" y="728"/>
                  </a:lnTo>
                  <a:lnTo>
                    <a:pt x="224" y="728"/>
                  </a:lnTo>
                  <a:lnTo>
                    <a:pt x="212" y="716"/>
                  </a:lnTo>
                  <a:lnTo>
                    <a:pt x="202" y="702"/>
                  </a:lnTo>
                  <a:lnTo>
                    <a:pt x="194" y="686"/>
                  </a:lnTo>
                  <a:lnTo>
                    <a:pt x="188" y="670"/>
                  </a:lnTo>
                  <a:lnTo>
                    <a:pt x="184" y="652"/>
                  </a:lnTo>
                  <a:lnTo>
                    <a:pt x="182" y="636"/>
                  </a:lnTo>
                  <a:lnTo>
                    <a:pt x="182" y="620"/>
                  </a:lnTo>
                  <a:lnTo>
                    <a:pt x="184" y="604"/>
                  </a:lnTo>
                  <a:lnTo>
                    <a:pt x="184" y="604"/>
                  </a:lnTo>
                  <a:lnTo>
                    <a:pt x="188" y="586"/>
                  </a:lnTo>
                  <a:lnTo>
                    <a:pt x="194" y="568"/>
                  </a:lnTo>
                  <a:lnTo>
                    <a:pt x="202" y="550"/>
                  </a:lnTo>
                  <a:lnTo>
                    <a:pt x="212" y="534"/>
                  </a:lnTo>
                  <a:lnTo>
                    <a:pt x="222" y="518"/>
                  </a:lnTo>
                  <a:lnTo>
                    <a:pt x="234" y="504"/>
                  </a:lnTo>
                  <a:lnTo>
                    <a:pt x="258" y="476"/>
                  </a:lnTo>
                  <a:lnTo>
                    <a:pt x="286" y="452"/>
                  </a:lnTo>
                  <a:lnTo>
                    <a:pt x="312" y="430"/>
                  </a:lnTo>
                  <a:lnTo>
                    <a:pt x="338" y="412"/>
                  </a:lnTo>
                  <a:lnTo>
                    <a:pt x="360" y="398"/>
                  </a:lnTo>
                  <a:lnTo>
                    <a:pt x="360" y="398"/>
                  </a:lnTo>
                  <a:lnTo>
                    <a:pt x="270" y="414"/>
                  </a:lnTo>
                  <a:lnTo>
                    <a:pt x="180" y="432"/>
                  </a:lnTo>
                  <a:lnTo>
                    <a:pt x="90" y="452"/>
                  </a:lnTo>
                  <a:lnTo>
                    <a:pt x="0" y="474"/>
                  </a:lnTo>
                  <a:lnTo>
                    <a:pt x="6" y="344"/>
                  </a:lnTo>
                  <a:lnTo>
                    <a:pt x="6" y="344"/>
                  </a:lnTo>
                  <a:lnTo>
                    <a:pt x="42" y="338"/>
                  </a:lnTo>
                  <a:lnTo>
                    <a:pt x="74" y="328"/>
                  </a:lnTo>
                  <a:lnTo>
                    <a:pt x="104" y="318"/>
                  </a:lnTo>
                  <a:lnTo>
                    <a:pt x="134" y="304"/>
                  </a:lnTo>
                  <a:lnTo>
                    <a:pt x="134" y="304"/>
                  </a:lnTo>
                  <a:lnTo>
                    <a:pt x="158" y="292"/>
                  </a:lnTo>
                  <a:lnTo>
                    <a:pt x="190" y="274"/>
                  </a:lnTo>
                  <a:lnTo>
                    <a:pt x="268" y="226"/>
                  </a:lnTo>
                  <a:lnTo>
                    <a:pt x="346" y="176"/>
                  </a:lnTo>
                  <a:lnTo>
                    <a:pt x="378" y="154"/>
                  </a:lnTo>
                  <a:lnTo>
                    <a:pt x="400" y="138"/>
                  </a:lnTo>
                  <a:lnTo>
                    <a:pt x="400" y="138"/>
                  </a:lnTo>
                  <a:lnTo>
                    <a:pt x="344" y="144"/>
                  </a:lnTo>
                  <a:lnTo>
                    <a:pt x="284" y="150"/>
                  </a:lnTo>
                  <a:lnTo>
                    <a:pt x="198" y="156"/>
                  </a:lnTo>
                  <a:lnTo>
                    <a:pt x="198" y="156"/>
                  </a:lnTo>
                  <a:lnTo>
                    <a:pt x="190" y="162"/>
                  </a:lnTo>
                  <a:lnTo>
                    <a:pt x="180" y="166"/>
                  </a:lnTo>
                  <a:lnTo>
                    <a:pt x="168" y="170"/>
                  </a:lnTo>
                  <a:lnTo>
                    <a:pt x="158" y="170"/>
                  </a:lnTo>
                  <a:lnTo>
                    <a:pt x="176" y="34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5"/>
            <p:cNvSpPr/>
            <p:nvPr/>
          </p:nvSpPr>
          <p:spPr>
            <a:xfrm>
              <a:off x="31918320" y="6956280"/>
              <a:ext cx="933120" cy="128304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1283040"/>
                <a:gd name="textAreaBottom" fmla="*/ 1283400 h 1283040"/>
              </a:gdLst>
              <a:ahLst/>
              <a:rect l="textAreaLeft" t="textAreaTop" r="textAreaRight" b="textAreaBottom"/>
              <a:pathLst>
                <a:path w="588" h="808">
                  <a:moveTo>
                    <a:pt x="0" y="298"/>
                  </a:moveTo>
                  <a:lnTo>
                    <a:pt x="0" y="298"/>
                  </a:lnTo>
                  <a:lnTo>
                    <a:pt x="114" y="270"/>
                  </a:lnTo>
                  <a:lnTo>
                    <a:pt x="224" y="248"/>
                  </a:lnTo>
                  <a:lnTo>
                    <a:pt x="276" y="238"/>
                  </a:lnTo>
                  <a:lnTo>
                    <a:pt x="322" y="230"/>
                  </a:lnTo>
                  <a:lnTo>
                    <a:pt x="362" y="226"/>
                  </a:lnTo>
                  <a:lnTo>
                    <a:pt x="394" y="224"/>
                  </a:lnTo>
                  <a:lnTo>
                    <a:pt x="394" y="224"/>
                  </a:lnTo>
                  <a:lnTo>
                    <a:pt x="416" y="224"/>
                  </a:lnTo>
                  <a:lnTo>
                    <a:pt x="436" y="226"/>
                  </a:lnTo>
                  <a:lnTo>
                    <a:pt x="456" y="230"/>
                  </a:lnTo>
                  <a:lnTo>
                    <a:pt x="476" y="236"/>
                  </a:lnTo>
                  <a:lnTo>
                    <a:pt x="496" y="242"/>
                  </a:lnTo>
                  <a:lnTo>
                    <a:pt x="512" y="250"/>
                  </a:lnTo>
                  <a:lnTo>
                    <a:pt x="528" y="260"/>
                  </a:lnTo>
                  <a:lnTo>
                    <a:pt x="544" y="272"/>
                  </a:lnTo>
                  <a:lnTo>
                    <a:pt x="556" y="286"/>
                  </a:lnTo>
                  <a:lnTo>
                    <a:pt x="566" y="302"/>
                  </a:lnTo>
                  <a:lnTo>
                    <a:pt x="576" y="320"/>
                  </a:lnTo>
                  <a:lnTo>
                    <a:pt x="582" y="340"/>
                  </a:lnTo>
                  <a:lnTo>
                    <a:pt x="586" y="362"/>
                  </a:lnTo>
                  <a:lnTo>
                    <a:pt x="588" y="388"/>
                  </a:lnTo>
                  <a:lnTo>
                    <a:pt x="586" y="414"/>
                  </a:lnTo>
                  <a:lnTo>
                    <a:pt x="582" y="444"/>
                  </a:lnTo>
                  <a:lnTo>
                    <a:pt x="582" y="444"/>
                  </a:lnTo>
                  <a:lnTo>
                    <a:pt x="574" y="476"/>
                  </a:lnTo>
                  <a:lnTo>
                    <a:pt x="564" y="508"/>
                  </a:lnTo>
                  <a:lnTo>
                    <a:pt x="550" y="538"/>
                  </a:lnTo>
                  <a:lnTo>
                    <a:pt x="534" y="566"/>
                  </a:lnTo>
                  <a:lnTo>
                    <a:pt x="516" y="592"/>
                  </a:lnTo>
                  <a:lnTo>
                    <a:pt x="496" y="618"/>
                  </a:lnTo>
                  <a:lnTo>
                    <a:pt x="472" y="642"/>
                  </a:lnTo>
                  <a:lnTo>
                    <a:pt x="446" y="664"/>
                  </a:lnTo>
                  <a:lnTo>
                    <a:pt x="416" y="686"/>
                  </a:lnTo>
                  <a:lnTo>
                    <a:pt x="386" y="706"/>
                  </a:lnTo>
                  <a:lnTo>
                    <a:pt x="352" y="726"/>
                  </a:lnTo>
                  <a:lnTo>
                    <a:pt x="314" y="744"/>
                  </a:lnTo>
                  <a:lnTo>
                    <a:pt x="276" y="762"/>
                  </a:lnTo>
                  <a:lnTo>
                    <a:pt x="234" y="778"/>
                  </a:lnTo>
                  <a:lnTo>
                    <a:pt x="190" y="794"/>
                  </a:lnTo>
                  <a:lnTo>
                    <a:pt x="144" y="808"/>
                  </a:lnTo>
                  <a:lnTo>
                    <a:pt x="144" y="808"/>
                  </a:lnTo>
                  <a:lnTo>
                    <a:pt x="132" y="780"/>
                  </a:lnTo>
                  <a:lnTo>
                    <a:pt x="114" y="750"/>
                  </a:lnTo>
                  <a:lnTo>
                    <a:pt x="94" y="718"/>
                  </a:lnTo>
                  <a:lnTo>
                    <a:pt x="74" y="690"/>
                  </a:lnTo>
                  <a:lnTo>
                    <a:pt x="74" y="690"/>
                  </a:lnTo>
                  <a:lnTo>
                    <a:pt x="116" y="680"/>
                  </a:lnTo>
                  <a:lnTo>
                    <a:pt x="154" y="670"/>
                  </a:lnTo>
                  <a:lnTo>
                    <a:pt x="190" y="658"/>
                  </a:lnTo>
                  <a:lnTo>
                    <a:pt x="222" y="644"/>
                  </a:lnTo>
                  <a:lnTo>
                    <a:pt x="254" y="630"/>
                  </a:lnTo>
                  <a:lnTo>
                    <a:pt x="282" y="616"/>
                  </a:lnTo>
                  <a:lnTo>
                    <a:pt x="306" y="602"/>
                  </a:lnTo>
                  <a:lnTo>
                    <a:pt x="330" y="588"/>
                  </a:lnTo>
                  <a:lnTo>
                    <a:pt x="350" y="572"/>
                  </a:lnTo>
                  <a:lnTo>
                    <a:pt x="370" y="556"/>
                  </a:lnTo>
                  <a:lnTo>
                    <a:pt x="384" y="540"/>
                  </a:lnTo>
                  <a:lnTo>
                    <a:pt x="398" y="522"/>
                  </a:lnTo>
                  <a:lnTo>
                    <a:pt x="410" y="506"/>
                  </a:lnTo>
                  <a:lnTo>
                    <a:pt x="418" y="490"/>
                  </a:lnTo>
                  <a:lnTo>
                    <a:pt x="426" y="472"/>
                  </a:lnTo>
                  <a:lnTo>
                    <a:pt x="430" y="456"/>
                  </a:lnTo>
                  <a:lnTo>
                    <a:pt x="430" y="456"/>
                  </a:lnTo>
                  <a:lnTo>
                    <a:pt x="432" y="434"/>
                  </a:lnTo>
                  <a:lnTo>
                    <a:pt x="432" y="412"/>
                  </a:lnTo>
                  <a:lnTo>
                    <a:pt x="428" y="396"/>
                  </a:lnTo>
                  <a:lnTo>
                    <a:pt x="420" y="380"/>
                  </a:lnTo>
                  <a:lnTo>
                    <a:pt x="410" y="370"/>
                  </a:lnTo>
                  <a:lnTo>
                    <a:pt x="396" y="360"/>
                  </a:lnTo>
                  <a:lnTo>
                    <a:pt x="380" y="356"/>
                  </a:lnTo>
                  <a:lnTo>
                    <a:pt x="360" y="354"/>
                  </a:lnTo>
                  <a:lnTo>
                    <a:pt x="360" y="354"/>
                  </a:lnTo>
                  <a:lnTo>
                    <a:pt x="330" y="354"/>
                  </a:lnTo>
                  <a:lnTo>
                    <a:pt x="296" y="358"/>
                  </a:lnTo>
                  <a:lnTo>
                    <a:pt x="260" y="364"/>
                  </a:lnTo>
                  <a:lnTo>
                    <a:pt x="222" y="372"/>
                  </a:lnTo>
                  <a:lnTo>
                    <a:pt x="180" y="384"/>
                  </a:lnTo>
                  <a:lnTo>
                    <a:pt x="136" y="396"/>
                  </a:lnTo>
                  <a:lnTo>
                    <a:pt x="92" y="412"/>
                  </a:lnTo>
                  <a:lnTo>
                    <a:pt x="46" y="428"/>
                  </a:lnTo>
                  <a:lnTo>
                    <a:pt x="46" y="428"/>
                  </a:lnTo>
                  <a:lnTo>
                    <a:pt x="42" y="434"/>
                  </a:lnTo>
                  <a:lnTo>
                    <a:pt x="38" y="442"/>
                  </a:lnTo>
                  <a:lnTo>
                    <a:pt x="30" y="448"/>
                  </a:lnTo>
                  <a:lnTo>
                    <a:pt x="22" y="450"/>
                  </a:lnTo>
                  <a:lnTo>
                    <a:pt x="0" y="298"/>
                  </a:lnTo>
                  <a:close/>
                  <a:moveTo>
                    <a:pt x="212" y="0"/>
                  </a:moveTo>
                  <a:lnTo>
                    <a:pt x="212" y="0"/>
                  </a:lnTo>
                  <a:lnTo>
                    <a:pt x="258" y="2"/>
                  </a:lnTo>
                  <a:lnTo>
                    <a:pt x="304" y="6"/>
                  </a:lnTo>
                  <a:lnTo>
                    <a:pt x="350" y="12"/>
                  </a:lnTo>
                  <a:lnTo>
                    <a:pt x="396" y="18"/>
                  </a:lnTo>
                  <a:lnTo>
                    <a:pt x="438" y="26"/>
                  </a:lnTo>
                  <a:lnTo>
                    <a:pt x="478" y="34"/>
                  </a:lnTo>
                  <a:lnTo>
                    <a:pt x="514" y="44"/>
                  </a:lnTo>
                  <a:lnTo>
                    <a:pt x="548" y="54"/>
                  </a:lnTo>
                  <a:lnTo>
                    <a:pt x="486" y="188"/>
                  </a:lnTo>
                  <a:lnTo>
                    <a:pt x="486" y="188"/>
                  </a:lnTo>
                  <a:lnTo>
                    <a:pt x="452" y="178"/>
                  </a:lnTo>
                  <a:lnTo>
                    <a:pt x="412" y="166"/>
                  </a:lnTo>
                  <a:lnTo>
                    <a:pt x="370" y="158"/>
                  </a:lnTo>
                  <a:lnTo>
                    <a:pt x="326" y="148"/>
                  </a:lnTo>
                  <a:lnTo>
                    <a:pt x="282" y="142"/>
                  </a:lnTo>
                  <a:lnTo>
                    <a:pt x="238" y="136"/>
                  </a:lnTo>
                  <a:lnTo>
                    <a:pt x="194" y="130"/>
                  </a:lnTo>
                  <a:lnTo>
                    <a:pt x="152" y="128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6"/>
            <p:cNvSpPr/>
            <p:nvPr/>
          </p:nvSpPr>
          <p:spPr>
            <a:xfrm>
              <a:off x="33499800" y="7041960"/>
              <a:ext cx="460080" cy="109872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290" h="692">
                  <a:moveTo>
                    <a:pt x="2" y="600"/>
                  </a:moveTo>
                  <a:lnTo>
                    <a:pt x="2" y="600"/>
                  </a:lnTo>
                  <a:lnTo>
                    <a:pt x="8" y="580"/>
                  </a:lnTo>
                  <a:lnTo>
                    <a:pt x="16" y="562"/>
                  </a:lnTo>
                  <a:lnTo>
                    <a:pt x="28" y="546"/>
                  </a:lnTo>
                  <a:lnTo>
                    <a:pt x="40" y="532"/>
                  </a:lnTo>
                  <a:lnTo>
                    <a:pt x="56" y="522"/>
                  </a:lnTo>
                  <a:lnTo>
                    <a:pt x="72" y="514"/>
                  </a:lnTo>
                  <a:lnTo>
                    <a:pt x="90" y="508"/>
                  </a:lnTo>
                  <a:lnTo>
                    <a:pt x="110" y="508"/>
                  </a:lnTo>
                  <a:lnTo>
                    <a:pt x="110" y="508"/>
                  </a:lnTo>
                  <a:lnTo>
                    <a:pt x="128" y="508"/>
                  </a:lnTo>
                  <a:lnTo>
                    <a:pt x="144" y="514"/>
                  </a:lnTo>
                  <a:lnTo>
                    <a:pt x="158" y="522"/>
                  </a:lnTo>
                  <a:lnTo>
                    <a:pt x="168" y="532"/>
                  </a:lnTo>
                  <a:lnTo>
                    <a:pt x="176" y="546"/>
                  </a:lnTo>
                  <a:lnTo>
                    <a:pt x="182" y="562"/>
                  </a:lnTo>
                  <a:lnTo>
                    <a:pt x="182" y="580"/>
                  </a:lnTo>
                  <a:lnTo>
                    <a:pt x="180" y="600"/>
                  </a:lnTo>
                  <a:lnTo>
                    <a:pt x="180" y="600"/>
                  </a:lnTo>
                  <a:lnTo>
                    <a:pt x="176" y="618"/>
                  </a:lnTo>
                  <a:lnTo>
                    <a:pt x="168" y="636"/>
                  </a:lnTo>
                  <a:lnTo>
                    <a:pt x="156" y="652"/>
                  </a:lnTo>
                  <a:lnTo>
                    <a:pt x="144" y="666"/>
                  </a:lnTo>
                  <a:lnTo>
                    <a:pt x="128" y="676"/>
                  </a:lnTo>
                  <a:lnTo>
                    <a:pt x="112" y="684"/>
                  </a:lnTo>
                  <a:lnTo>
                    <a:pt x="94" y="690"/>
                  </a:lnTo>
                  <a:lnTo>
                    <a:pt x="74" y="692"/>
                  </a:lnTo>
                  <a:lnTo>
                    <a:pt x="74" y="692"/>
                  </a:lnTo>
                  <a:lnTo>
                    <a:pt x="54" y="690"/>
                  </a:lnTo>
                  <a:lnTo>
                    <a:pt x="38" y="684"/>
                  </a:lnTo>
                  <a:lnTo>
                    <a:pt x="24" y="676"/>
                  </a:lnTo>
                  <a:lnTo>
                    <a:pt x="14" y="664"/>
                  </a:lnTo>
                  <a:lnTo>
                    <a:pt x="6" y="652"/>
                  </a:lnTo>
                  <a:lnTo>
                    <a:pt x="2" y="636"/>
                  </a:lnTo>
                  <a:lnTo>
                    <a:pt x="0" y="618"/>
                  </a:lnTo>
                  <a:lnTo>
                    <a:pt x="2" y="600"/>
                  </a:lnTo>
                  <a:lnTo>
                    <a:pt x="2" y="600"/>
                  </a:lnTo>
                  <a:close/>
                  <a:moveTo>
                    <a:pt x="180" y="454"/>
                  </a:moveTo>
                  <a:lnTo>
                    <a:pt x="58" y="454"/>
                  </a:lnTo>
                  <a:lnTo>
                    <a:pt x="126" y="0"/>
                  </a:lnTo>
                  <a:lnTo>
                    <a:pt x="290" y="0"/>
                  </a:lnTo>
                  <a:lnTo>
                    <a:pt x="180" y="454"/>
                  </a:lnTo>
                  <a:close/>
                </a:path>
              </a:pathLst>
            </a:custGeom>
            <a:solidFill>
              <a:srgbClr val="f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テキスト ボックス 142"/>
          <p:cNvSpPr/>
          <p:nvPr/>
        </p:nvSpPr>
        <p:spPr>
          <a:xfrm>
            <a:off x="16849800" y="8621640"/>
            <a:ext cx="100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9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●●</a:t>
            </a:r>
            <a:r>
              <a:rPr b="0" lang="ja-JP" sz="9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株式会社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グループ化 144"/>
          <p:cNvGrpSpPr/>
          <p:nvPr/>
        </p:nvGrpSpPr>
        <p:grpSpPr>
          <a:xfrm>
            <a:off x="1469880" y="2216160"/>
            <a:ext cx="40329000" cy="3857760"/>
            <a:chOff x="1469880" y="2216160"/>
            <a:chExt cx="40329000" cy="3857760"/>
          </a:xfrm>
        </p:grpSpPr>
        <p:sp>
          <p:nvSpPr>
            <p:cNvPr id="151" name="正方形/長方形 145"/>
            <p:cNvSpPr/>
            <p:nvPr/>
          </p:nvSpPr>
          <p:spPr>
            <a:xfrm>
              <a:off x="38452680" y="3546360"/>
              <a:ext cx="1512000" cy="10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正方形/長方形 146"/>
            <p:cNvSpPr/>
            <p:nvPr/>
          </p:nvSpPr>
          <p:spPr>
            <a:xfrm>
              <a:off x="35500320" y="3546360"/>
              <a:ext cx="1800000" cy="10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正方形/長方形 147"/>
            <p:cNvSpPr/>
            <p:nvPr/>
          </p:nvSpPr>
          <p:spPr>
            <a:xfrm>
              <a:off x="23186880" y="3258360"/>
              <a:ext cx="2016000" cy="129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4" name="グループ化 106"/>
            <p:cNvGrpSpPr/>
            <p:nvPr/>
          </p:nvGrpSpPr>
          <p:grpSpPr>
            <a:xfrm>
              <a:off x="1469880" y="2216160"/>
              <a:ext cx="40329000" cy="3857760"/>
              <a:chOff x="1469880" y="2216160"/>
              <a:chExt cx="40329000" cy="3857760"/>
            </a:xfrm>
          </p:grpSpPr>
          <p:sp>
            <p:nvSpPr>
              <p:cNvPr id="155" name="Freeform 13"/>
              <p:cNvSpPr/>
              <p:nvPr/>
            </p:nvSpPr>
            <p:spPr>
              <a:xfrm>
                <a:off x="1469880" y="2216160"/>
                <a:ext cx="3851280" cy="3797640"/>
              </a:xfrm>
              <a:custGeom>
                <a:avLst/>
                <a:gdLst>
                  <a:gd name="textAreaLeft" fmla="*/ 0 w 3851280"/>
                  <a:gd name="textAreaRight" fmla="*/ 3851640 w 3851280"/>
                  <a:gd name="textAreaTop" fmla="*/ 0 h 3797640"/>
                  <a:gd name="textAreaBottom" fmla="*/ 3798000 h 3797640"/>
                </a:gdLst>
                <a:ahLst/>
                <a:rect l="textAreaLeft" t="textAreaTop" r="textAreaRight" b="textAreaBottom"/>
                <a:pathLst>
                  <a:path w="2426" h="2392">
                    <a:moveTo>
                      <a:pt x="948" y="1152"/>
                    </a:moveTo>
                    <a:lnTo>
                      <a:pt x="948" y="1152"/>
                    </a:lnTo>
                    <a:lnTo>
                      <a:pt x="966" y="1118"/>
                    </a:lnTo>
                    <a:lnTo>
                      <a:pt x="980" y="1094"/>
                    </a:lnTo>
                    <a:lnTo>
                      <a:pt x="990" y="1070"/>
                    </a:lnTo>
                    <a:lnTo>
                      <a:pt x="1002" y="1042"/>
                    </a:lnTo>
                    <a:lnTo>
                      <a:pt x="1002" y="1042"/>
                    </a:lnTo>
                    <a:lnTo>
                      <a:pt x="960" y="1036"/>
                    </a:lnTo>
                    <a:lnTo>
                      <a:pt x="916" y="1034"/>
                    </a:lnTo>
                    <a:lnTo>
                      <a:pt x="862" y="1032"/>
                    </a:lnTo>
                    <a:lnTo>
                      <a:pt x="794" y="1032"/>
                    </a:lnTo>
                    <a:lnTo>
                      <a:pt x="794" y="1032"/>
                    </a:lnTo>
                    <a:lnTo>
                      <a:pt x="830" y="1088"/>
                    </a:lnTo>
                    <a:lnTo>
                      <a:pt x="864" y="1138"/>
                    </a:lnTo>
                    <a:lnTo>
                      <a:pt x="898" y="1184"/>
                    </a:lnTo>
                    <a:lnTo>
                      <a:pt x="934" y="1226"/>
                    </a:lnTo>
                    <a:lnTo>
                      <a:pt x="972" y="1268"/>
                    </a:lnTo>
                    <a:lnTo>
                      <a:pt x="1014" y="1310"/>
                    </a:lnTo>
                    <a:lnTo>
                      <a:pt x="1064" y="1354"/>
                    </a:lnTo>
                    <a:lnTo>
                      <a:pt x="1120" y="1402"/>
                    </a:lnTo>
                    <a:lnTo>
                      <a:pt x="1120" y="1402"/>
                    </a:lnTo>
                    <a:lnTo>
                      <a:pt x="1094" y="1440"/>
                    </a:lnTo>
                    <a:lnTo>
                      <a:pt x="1072" y="1478"/>
                    </a:lnTo>
                    <a:lnTo>
                      <a:pt x="1050" y="1516"/>
                    </a:lnTo>
                    <a:lnTo>
                      <a:pt x="1030" y="1556"/>
                    </a:lnTo>
                    <a:lnTo>
                      <a:pt x="1010" y="1596"/>
                    </a:lnTo>
                    <a:lnTo>
                      <a:pt x="990" y="1640"/>
                    </a:lnTo>
                    <a:lnTo>
                      <a:pt x="948" y="1740"/>
                    </a:lnTo>
                    <a:lnTo>
                      <a:pt x="948" y="1740"/>
                    </a:lnTo>
                    <a:lnTo>
                      <a:pt x="900" y="1686"/>
                    </a:lnTo>
                    <a:lnTo>
                      <a:pt x="878" y="1660"/>
                    </a:lnTo>
                    <a:lnTo>
                      <a:pt x="858" y="1632"/>
                    </a:lnTo>
                    <a:lnTo>
                      <a:pt x="820" y="1576"/>
                    </a:lnTo>
                    <a:lnTo>
                      <a:pt x="780" y="1508"/>
                    </a:lnTo>
                    <a:lnTo>
                      <a:pt x="780" y="1508"/>
                    </a:lnTo>
                    <a:lnTo>
                      <a:pt x="786" y="1606"/>
                    </a:lnTo>
                    <a:lnTo>
                      <a:pt x="788" y="1660"/>
                    </a:lnTo>
                    <a:lnTo>
                      <a:pt x="788" y="1710"/>
                    </a:lnTo>
                    <a:lnTo>
                      <a:pt x="788" y="2062"/>
                    </a:lnTo>
                    <a:lnTo>
                      <a:pt x="788" y="2062"/>
                    </a:lnTo>
                    <a:lnTo>
                      <a:pt x="788" y="2168"/>
                    </a:lnTo>
                    <a:lnTo>
                      <a:pt x="792" y="2252"/>
                    </a:lnTo>
                    <a:lnTo>
                      <a:pt x="796" y="2322"/>
                    </a:lnTo>
                    <a:lnTo>
                      <a:pt x="804" y="2392"/>
                    </a:lnTo>
                    <a:lnTo>
                      <a:pt x="396" y="2392"/>
                    </a:lnTo>
                    <a:lnTo>
                      <a:pt x="396" y="2392"/>
                    </a:lnTo>
                    <a:lnTo>
                      <a:pt x="402" y="2320"/>
                    </a:lnTo>
                    <a:lnTo>
                      <a:pt x="406" y="2248"/>
                    </a:lnTo>
                    <a:lnTo>
                      <a:pt x="410" y="2164"/>
                    </a:lnTo>
                    <a:lnTo>
                      <a:pt x="410" y="2062"/>
                    </a:lnTo>
                    <a:lnTo>
                      <a:pt x="410" y="1768"/>
                    </a:lnTo>
                    <a:lnTo>
                      <a:pt x="410" y="1768"/>
                    </a:lnTo>
                    <a:lnTo>
                      <a:pt x="412" y="1658"/>
                    </a:lnTo>
                    <a:lnTo>
                      <a:pt x="418" y="1560"/>
                    </a:lnTo>
                    <a:lnTo>
                      <a:pt x="418" y="1560"/>
                    </a:lnTo>
                    <a:lnTo>
                      <a:pt x="392" y="1626"/>
                    </a:lnTo>
                    <a:lnTo>
                      <a:pt x="366" y="1686"/>
                    </a:lnTo>
                    <a:lnTo>
                      <a:pt x="340" y="1738"/>
                    </a:lnTo>
                    <a:lnTo>
                      <a:pt x="312" y="1788"/>
                    </a:lnTo>
                    <a:lnTo>
                      <a:pt x="282" y="1836"/>
                    </a:lnTo>
                    <a:lnTo>
                      <a:pt x="250" y="1882"/>
                    </a:lnTo>
                    <a:lnTo>
                      <a:pt x="214" y="1928"/>
                    </a:lnTo>
                    <a:lnTo>
                      <a:pt x="172" y="1976"/>
                    </a:lnTo>
                    <a:lnTo>
                      <a:pt x="172" y="1976"/>
                    </a:lnTo>
                    <a:lnTo>
                      <a:pt x="152" y="1918"/>
                    </a:lnTo>
                    <a:lnTo>
                      <a:pt x="134" y="1868"/>
                    </a:lnTo>
                    <a:lnTo>
                      <a:pt x="116" y="1820"/>
                    </a:lnTo>
                    <a:lnTo>
                      <a:pt x="96" y="1776"/>
                    </a:lnTo>
                    <a:lnTo>
                      <a:pt x="76" y="1732"/>
                    </a:lnTo>
                    <a:lnTo>
                      <a:pt x="52" y="1690"/>
                    </a:lnTo>
                    <a:lnTo>
                      <a:pt x="28" y="1646"/>
                    </a:lnTo>
                    <a:lnTo>
                      <a:pt x="0" y="1598"/>
                    </a:lnTo>
                    <a:lnTo>
                      <a:pt x="0" y="1598"/>
                    </a:lnTo>
                    <a:lnTo>
                      <a:pt x="30" y="1570"/>
                    </a:lnTo>
                    <a:lnTo>
                      <a:pt x="60" y="1540"/>
                    </a:lnTo>
                    <a:lnTo>
                      <a:pt x="88" y="1510"/>
                    </a:lnTo>
                    <a:lnTo>
                      <a:pt x="116" y="1478"/>
                    </a:lnTo>
                    <a:lnTo>
                      <a:pt x="142" y="1444"/>
                    </a:lnTo>
                    <a:lnTo>
                      <a:pt x="168" y="1410"/>
                    </a:lnTo>
                    <a:lnTo>
                      <a:pt x="194" y="1374"/>
                    </a:lnTo>
                    <a:lnTo>
                      <a:pt x="218" y="1338"/>
                    </a:lnTo>
                    <a:lnTo>
                      <a:pt x="240" y="1300"/>
                    </a:lnTo>
                    <a:lnTo>
                      <a:pt x="262" y="1264"/>
                    </a:lnTo>
                    <a:lnTo>
                      <a:pt x="282" y="1226"/>
                    </a:lnTo>
                    <a:lnTo>
                      <a:pt x="300" y="1186"/>
                    </a:lnTo>
                    <a:lnTo>
                      <a:pt x="318" y="1148"/>
                    </a:lnTo>
                    <a:lnTo>
                      <a:pt x="334" y="1110"/>
                    </a:lnTo>
                    <a:lnTo>
                      <a:pt x="350" y="1070"/>
                    </a:lnTo>
                    <a:lnTo>
                      <a:pt x="362" y="1032"/>
                    </a:lnTo>
                    <a:lnTo>
                      <a:pt x="264" y="1032"/>
                    </a:lnTo>
                    <a:lnTo>
                      <a:pt x="264" y="1032"/>
                    </a:lnTo>
                    <a:lnTo>
                      <a:pt x="202" y="1032"/>
                    </a:lnTo>
                    <a:lnTo>
                      <a:pt x="148" y="1034"/>
                    </a:lnTo>
                    <a:lnTo>
                      <a:pt x="98" y="1038"/>
                    </a:lnTo>
                    <a:lnTo>
                      <a:pt x="48" y="1044"/>
                    </a:lnTo>
                    <a:lnTo>
                      <a:pt x="48" y="672"/>
                    </a:lnTo>
                    <a:lnTo>
                      <a:pt x="48" y="672"/>
                    </a:lnTo>
                    <a:lnTo>
                      <a:pt x="100" y="678"/>
                    </a:lnTo>
                    <a:lnTo>
                      <a:pt x="150" y="682"/>
                    </a:lnTo>
                    <a:lnTo>
                      <a:pt x="206" y="684"/>
                    </a:lnTo>
                    <a:lnTo>
                      <a:pt x="272" y="684"/>
                    </a:lnTo>
                    <a:lnTo>
                      <a:pt x="410" y="684"/>
                    </a:lnTo>
                    <a:lnTo>
                      <a:pt x="410" y="506"/>
                    </a:lnTo>
                    <a:lnTo>
                      <a:pt x="410" y="506"/>
                    </a:lnTo>
                    <a:lnTo>
                      <a:pt x="302" y="522"/>
                    </a:lnTo>
                    <a:lnTo>
                      <a:pt x="170" y="540"/>
                    </a:lnTo>
                    <a:lnTo>
                      <a:pt x="170" y="540"/>
                    </a:lnTo>
                    <a:lnTo>
                      <a:pt x="142" y="448"/>
                    </a:lnTo>
                    <a:lnTo>
                      <a:pt x="116" y="372"/>
                    </a:lnTo>
                    <a:lnTo>
                      <a:pt x="86" y="296"/>
                    </a:lnTo>
                    <a:lnTo>
                      <a:pt x="44" y="202"/>
                    </a:lnTo>
                    <a:lnTo>
                      <a:pt x="44" y="202"/>
                    </a:lnTo>
                    <a:lnTo>
                      <a:pt x="196" y="186"/>
                    </a:lnTo>
                    <a:lnTo>
                      <a:pt x="336" y="166"/>
                    </a:lnTo>
                    <a:lnTo>
                      <a:pt x="464" y="144"/>
                    </a:lnTo>
                    <a:lnTo>
                      <a:pt x="580" y="120"/>
                    </a:lnTo>
                    <a:lnTo>
                      <a:pt x="634" y="106"/>
                    </a:lnTo>
                    <a:lnTo>
                      <a:pt x="684" y="92"/>
                    </a:lnTo>
                    <a:lnTo>
                      <a:pt x="732" y="78"/>
                    </a:lnTo>
                    <a:lnTo>
                      <a:pt x="776" y="64"/>
                    </a:lnTo>
                    <a:lnTo>
                      <a:pt x="816" y="48"/>
                    </a:lnTo>
                    <a:lnTo>
                      <a:pt x="854" y="32"/>
                    </a:lnTo>
                    <a:lnTo>
                      <a:pt x="888" y="16"/>
                    </a:lnTo>
                    <a:lnTo>
                      <a:pt x="918" y="0"/>
                    </a:lnTo>
                    <a:lnTo>
                      <a:pt x="1140" y="318"/>
                    </a:lnTo>
                    <a:lnTo>
                      <a:pt x="1140" y="318"/>
                    </a:lnTo>
                    <a:lnTo>
                      <a:pt x="1094" y="334"/>
                    </a:lnTo>
                    <a:lnTo>
                      <a:pt x="1028" y="356"/>
                    </a:lnTo>
                    <a:lnTo>
                      <a:pt x="1028" y="356"/>
                    </a:lnTo>
                    <a:lnTo>
                      <a:pt x="922" y="392"/>
                    </a:lnTo>
                    <a:lnTo>
                      <a:pt x="860" y="410"/>
                    </a:lnTo>
                    <a:lnTo>
                      <a:pt x="788" y="428"/>
                    </a:lnTo>
                    <a:lnTo>
                      <a:pt x="788" y="684"/>
                    </a:lnTo>
                    <a:lnTo>
                      <a:pt x="804" y="684"/>
                    </a:lnTo>
                    <a:lnTo>
                      <a:pt x="804" y="684"/>
                    </a:lnTo>
                    <a:lnTo>
                      <a:pt x="868" y="684"/>
                    </a:lnTo>
                    <a:lnTo>
                      <a:pt x="920" y="682"/>
                    </a:lnTo>
                    <a:lnTo>
                      <a:pt x="966" y="678"/>
                    </a:lnTo>
                    <a:lnTo>
                      <a:pt x="1008" y="672"/>
                    </a:lnTo>
                    <a:lnTo>
                      <a:pt x="1008" y="1024"/>
                    </a:lnTo>
                    <a:lnTo>
                      <a:pt x="1008" y="1024"/>
                    </a:lnTo>
                    <a:lnTo>
                      <a:pt x="1028" y="964"/>
                    </a:lnTo>
                    <a:lnTo>
                      <a:pt x="1042" y="904"/>
                    </a:lnTo>
                    <a:lnTo>
                      <a:pt x="1056" y="840"/>
                    </a:lnTo>
                    <a:lnTo>
                      <a:pt x="1066" y="774"/>
                    </a:lnTo>
                    <a:lnTo>
                      <a:pt x="1074" y="702"/>
                    </a:lnTo>
                    <a:lnTo>
                      <a:pt x="1080" y="626"/>
                    </a:lnTo>
                    <a:lnTo>
                      <a:pt x="1082" y="540"/>
                    </a:lnTo>
                    <a:lnTo>
                      <a:pt x="1084" y="448"/>
                    </a:lnTo>
                    <a:lnTo>
                      <a:pt x="1398" y="542"/>
                    </a:lnTo>
                    <a:lnTo>
                      <a:pt x="1398" y="542"/>
                    </a:lnTo>
                    <a:lnTo>
                      <a:pt x="1392" y="670"/>
                    </a:lnTo>
                    <a:lnTo>
                      <a:pt x="1382" y="788"/>
                    </a:lnTo>
                    <a:lnTo>
                      <a:pt x="1376" y="844"/>
                    </a:lnTo>
                    <a:lnTo>
                      <a:pt x="1370" y="896"/>
                    </a:lnTo>
                    <a:lnTo>
                      <a:pt x="1362" y="948"/>
                    </a:lnTo>
                    <a:lnTo>
                      <a:pt x="1352" y="996"/>
                    </a:lnTo>
                    <a:lnTo>
                      <a:pt x="1342" y="1044"/>
                    </a:lnTo>
                    <a:lnTo>
                      <a:pt x="1332" y="1090"/>
                    </a:lnTo>
                    <a:lnTo>
                      <a:pt x="1318" y="1134"/>
                    </a:lnTo>
                    <a:lnTo>
                      <a:pt x="1306" y="1178"/>
                    </a:lnTo>
                    <a:lnTo>
                      <a:pt x="1290" y="1222"/>
                    </a:lnTo>
                    <a:lnTo>
                      <a:pt x="1274" y="1264"/>
                    </a:lnTo>
                    <a:lnTo>
                      <a:pt x="1258" y="1306"/>
                    </a:lnTo>
                    <a:lnTo>
                      <a:pt x="1240" y="1348"/>
                    </a:lnTo>
                    <a:lnTo>
                      <a:pt x="948" y="1152"/>
                    </a:lnTo>
                    <a:close/>
                    <a:moveTo>
                      <a:pt x="1856" y="40"/>
                    </a:moveTo>
                    <a:lnTo>
                      <a:pt x="1856" y="40"/>
                    </a:lnTo>
                    <a:lnTo>
                      <a:pt x="1850" y="102"/>
                    </a:lnTo>
                    <a:lnTo>
                      <a:pt x="1848" y="196"/>
                    </a:lnTo>
                    <a:lnTo>
                      <a:pt x="1846" y="324"/>
                    </a:lnTo>
                    <a:lnTo>
                      <a:pt x="1846" y="486"/>
                    </a:lnTo>
                    <a:lnTo>
                      <a:pt x="1846" y="486"/>
                    </a:lnTo>
                    <a:lnTo>
                      <a:pt x="1846" y="662"/>
                    </a:lnTo>
                    <a:lnTo>
                      <a:pt x="1852" y="810"/>
                    </a:lnTo>
                    <a:lnTo>
                      <a:pt x="1858" y="938"/>
                    </a:lnTo>
                    <a:lnTo>
                      <a:pt x="1864" y="996"/>
                    </a:lnTo>
                    <a:lnTo>
                      <a:pt x="1870" y="1052"/>
                    </a:lnTo>
                    <a:lnTo>
                      <a:pt x="1870" y="1052"/>
                    </a:lnTo>
                    <a:lnTo>
                      <a:pt x="1900" y="992"/>
                    </a:lnTo>
                    <a:lnTo>
                      <a:pt x="1928" y="930"/>
                    </a:lnTo>
                    <a:lnTo>
                      <a:pt x="1952" y="860"/>
                    </a:lnTo>
                    <a:lnTo>
                      <a:pt x="1976" y="786"/>
                    </a:lnTo>
                    <a:lnTo>
                      <a:pt x="1998" y="706"/>
                    </a:lnTo>
                    <a:lnTo>
                      <a:pt x="2018" y="618"/>
                    </a:lnTo>
                    <a:lnTo>
                      <a:pt x="2038" y="522"/>
                    </a:lnTo>
                    <a:lnTo>
                      <a:pt x="2056" y="420"/>
                    </a:lnTo>
                    <a:lnTo>
                      <a:pt x="2392" y="590"/>
                    </a:lnTo>
                    <a:lnTo>
                      <a:pt x="2392" y="590"/>
                    </a:lnTo>
                    <a:lnTo>
                      <a:pt x="2362" y="698"/>
                    </a:lnTo>
                    <a:lnTo>
                      <a:pt x="2332" y="798"/>
                    </a:lnTo>
                    <a:lnTo>
                      <a:pt x="2302" y="890"/>
                    </a:lnTo>
                    <a:lnTo>
                      <a:pt x="2270" y="976"/>
                    </a:lnTo>
                    <a:lnTo>
                      <a:pt x="2238" y="1060"/>
                    </a:lnTo>
                    <a:lnTo>
                      <a:pt x="2204" y="1140"/>
                    </a:lnTo>
                    <a:lnTo>
                      <a:pt x="2166" y="1222"/>
                    </a:lnTo>
                    <a:lnTo>
                      <a:pt x="2124" y="1304"/>
                    </a:lnTo>
                    <a:lnTo>
                      <a:pt x="2124" y="1304"/>
                    </a:lnTo>
                    <a:lnTo>
                      <a:pt x="2068" y="1250"/>
                    </a:lnTo>
                    <a:lnTo>
                      <a:pt x="2006" y="1198"/>
                    </a:lnTo>
                    <a:lnTo>
                      <a:pt x="1944" y="1148"/>
                    </a:lnTo>
                    <a:lnTo>
                      <a:pt x="1912" y="1126"/>
                    </a:lnTo>
                    <a:lnTo>
                      <a:pt x="1880" y="1104"/>
                    </a:lnTo>
                    <a:lnTo>
                      <a:pt x="1880" y="1104"/>
                    </a:lnTo>
                    <a:lnTo>
                      <a:pt x="1894" y="1178"/>
                    </a:lnTo>
                    <a:lnTo>
                      <a:pt x="1910" y="1246"/>
                    </a:lnTo>
                    <a:lnTo>
                      <a:pt x="1928" y="1314"/>
                    </a:lnTo>
                    <a:lnTo>
                      <a:pt x="1948" y="1378"/>
                    </a:lnTo>
                    <a:lnTo>
                      <a:pt x="1972" y="1440"/>
                    </a:lnTo>
                    <a:lnTo>
                      <a:pt x="1998" y="1500"/>
                    </a:lnTo>
                    <a:lnTo>
                      <a:pt x="2028" y="1556"/>
                    </a:lnTo>
                    <a:lnTo>
                      <a:pt x="2058" y="1612"/>
                    </a:lnTo>
                    <a:lnTo>
                      <a:pt x="2094" y="1666"/>
                    </a:lnTo>
                    <a:lnTo>
                      <a:pt x="2132" y="1716"/>
                    </a:lnTo>
                    <a:lnTo>
                      <a:pt x="2172" y="1766"/>
                    </a:lnTo>
                    <a:lnTo>
                      <a:pt x="2216" y="1814"/>
                    </a:lnTo>
                    <a:lnTo>
                      <a:pt x="2264" y="1862"/>
                    </a:lnTo>
                    <a:lnTo>
                      <a:pt x="2314" y="1906"/>
                    </a:lnTo>
                    <a:lnTo>
                      <a:pt x="2368" y="1950"/>
                    </a:lnTo>
                    <a:lnTo>
                      <a:pt x="2426" y="1994"/>
                    </a:lnTo>
                    <a:lnTo>
                      <a:pt x="2426" y="1994"/>
                    </a:lnTo>
                    <a:lnTo>
                      <a:pt x="2386" y="2044"/>
                    </a:lnTo>
                    <a:lnTo>
                      <a:pt x="2350" y="2088"/>
                    </a:lnTo>
                    <a:lnTo>
                      <a:pt x="2318" y="2132"/>
                    </a:lnTo>
                    <a:lnTo>
                      <a:pt x="2290" y="2174"/>
                    </a:lnTo>
                    <a:lnTo>
                      <a:pt x="2262" y="2218"/>
                    </a:lnTo>
                    <a:lnTo>
                      <a:pt x="2236" y="2264"/>
                    </a:lnTo>
                    <a:lnTo>
                      <a:pt x="2208" y="2316"/>
                    </a:lnTo>
                    <a:lnTo>
                      <a:pt x="2180" y="2374"/>
                    </a:lnTo>
                    <a:lnTo>
                      <a:pt x="2180" y="2374"/>
                    </a:lnTo>
                    <a:lnTo>
                      <a:pt x="2118" y="2320"/>
                    </a:lnTo>
                    <a:lnTo>
                      <a:pt x="2064" y="2270"/>
                    </a:lnTo>
                    <a:lnTo>
                      <a:pt x="2016" y="2220"/>
                    </a:lnTo>
                    <a:lnTo>
                      <a:pt x="1972" y="2170"/>
                    </a:lnTo>
                    <a:lnTo>
                      <a:pt x="1932" y="2122"/>
                    </a:lnTo>
                    <a:lnTo>
                      <a:pt x="1894" y="2070"/>
                    </a:lnTo>
                    <a:lnTo>
                      <a:pt x="1856" y="2016"/>
                    </a:lnTo>
                    <a:lnTo>
                      <a:pt x="1820" y="1956"/>
                    </a:lnTo>
                    <a:lnTo>
                      <a:pt x="1820" y="1956"/>
                    </a:lnTo>
                    <a:lnTo>
                      <a:pt x="1794" y="1912"/>
                    </a:lnTo>
                    <a:lnTo>
                      <a:pt x="1772" y="1870"/>
                    </a:lnTo>
                    <a:lnTo>
                      <a:pt x="1754" y="1830"/>
                    </a:lnTo>
                    <a:lnTo>
                      <a:pt x="1734" y="1786"/>
                    </a:lnTo>
                    <a:lnTo>
                      <a:pt x="1716" y="1738"/>
                    </a:lnTo>
                    <a:lnTo>
                      <a:pt x="1698" y="1684"/>
                    </a:lnTo>
                    <a:lnTo>
                      <a:pt x="1654" y="1546"/>
                    </a:lnTo>
                    <a:lnTo>
                      <a:pt x="1654" y="1546"/>
                    </a:lnTo>
                    <a:lnTo>
                      <a:pt x="1636" y="1616"/>
                    </a:lnTo>
                    <a:lnTo>
                      <a:pt x="1616" y="1682"/>
                    </a:lnTo>
                    <a:lnTo>
                      <a:pt x="1596" y="1746"/>
                    </a:lnTo>
                    <a:lnTo>
                      <a:pt x="1572" y="1808"/>
                    </a:lnTo>
                    <a:lnTo>
                      <a:pt x="1546" y="1866"/>
                    </a:lnTo>
                    <a:lnTo>
                      <a:pt x="1518" y="1922"/>
                    </a:lnTo>
                    <a:lnTo>
                      <a:pt x="1490" y="1974"/>
                    </a:lnTo>
                    <a:lnTo>
                      <a:pt x="1458" y="2026"/>
                    </a:lnTo>
                    <a:lnTo>
                      <a:pt x="1422" y="2076"/>
                    </a:lnTo>
                    <a:lnTo>
                      <a:pt x="1386" y="2124"/>
                    </a:lnTo>
                    <a:lnTo>
                      <a:pt x="1346" y="2170"/>
                    </a:lnTo>
                    <a:lnTo>
                      <a:pt x="1302" y="2216"/>
                    </a:lnTo>
                    <a:lnTo>
                      <a:pt x="1256" y="2260"/>
                    </a:lnTo>
                    <a:lnTo>
                      <a:pt x="1208" y="2304"/>
                    </a:lnTo>
                    <a:lnTo>
                      <a:pt x="1156" y="2348"/>
                    </a:lnTo>
                    <a:lnTo>
                      <a:pt x="1100" y="2390"/>
                    </a:lnTo>
                    <a:lnTo>
                      <a:pt x="1100" y="2390"/>
                    </a:lnTo>
                    <a:lnTo>
                      <a:pt x="1064" y="2328"/>
                    </a:lnTo>
                    <a:lnTo>
                      <a:pt x="1034" y="2274"/>
                    </a:lnTo>
                    <a:lnTo>
                      <a:pt x="1004" y="2228"/>
                    </a:lnTo>
                    <a:lnTo>
                      <a:pt x="976" y="2186"/>
                    </a:lnTo>
                    <a:lnTo>
                      <a:pt x="946" y="2148"/>
                    </a:lnTo>
                    <a:lnTo>
                      <a:pt x="918" y="2112"/>
                    </a:lnTo>
                    <a:lnTo>
                      <a:pt x="884" y="2074"/>
                    </a:lnTo>
                    <a:lnTo>
                      <a:pt x="848" y="2038"/>
                    </a:lnTo>
                    <a:lnTo>
                      <a:pt x="848" y="2038"/>
                    </a:lnTo>
                    <a:lnTo>
                      <a:pt x="894" y="2008"/>
                    </a:lnTo>
                    <a:lnTo>
                      <a:pt x="936" y="1978"/>
                    </a:lnTo>
                    <a:lnTo>
                      <a:pt x="976" y="1948"/>
                    </a:lnTo>
                    <a:lnTo>
                      <a:pt x="1014" y="1916"/>
                    </a:lnTo>
                    <a:lnTo>
                      <a:pt x="1052" y="1882"/>
                    </a:lnTo>
                    <a:lnTo>
                      <a:pt x="1086" y="1848"/>
                    </a:lnTo>
                    <a:lnTo>
                      <a:pt x="1118" y="1814"/>
                    </a:lnTo>
                    <a:lnTo>
                      <a:pt x="1148" y="1778"/>
                    </a:lnTo>
                    <a:lnTo>
                      <a:pt x="1176" y="1740"/>
                    </a:lnTo>
                    <a:lnTo>
                      <a:pt x="1204" y="1700"/>
                    </a:lnTo>
                    <a:lnTo>
                      <a:pt x="1230" y="1658"/>
                    </a:lnTo>
                    <a:lnTo>
                      <a:pt x="1254" y="1616"/>
                    </a:lnTo>
                    <a:lnTo>
                      <a:pt x="1278" y="1570"/>
                    </a:lnTo>
                    <a:lnTo>
                      <a:pt x="1300" y="1524"/>
                    </a:lnTo>
                    <a:lnTo>
                      <a:pt x="1320" y="1476"/>
                    </a:lnTo>
                    <a:lnTo>
                      <a:pt x="1340" y="1424"/>
                    </a:lnTo>
                    <a:lnTo>
                      <a:pt x="1340" y="1424"/>
                    </a:lnTo>
                    <a:lnTo>
                      <a:pt x="1358" y="1378"/>
                    </a:lnTo>
                    <a:lnTo>
                      <a:pt x="1372" y="1330"/>
                    </a:lnTo>
                    <a:lnTo>
                      <a:pt x="1386" y="1282"/>
                    </a:lnTo>
                    <a:lnTo>
                      <a:pt x="1400" y="1234"/>
                    </a:lnTo>
                    <a:lnTo>
                      <a:pt x="1412" y="1184"/>
                    </a:lnTo>
                    <a:lnTo>
                      <a:pt x="1422" y="1132"/>
                    </a:lnTo>
                    <a:lnTo>
                      <a:pt x="1432" y="1078"/>
                    </a:lnTo>
                    <a:lnTo>
                      <a:pt x="1440" y="1022"/>
                    </a:lnTo>
                    <a:lnTo>
                      <a:pt x="1446" y="964"/>
                    </a:lnTo>
                    <a:lnTo>
                      <a:pt x="1454" y="904"/>
                    </a:lnTo>
                    <a:lnTo>
                      <a:pt x="1458" y="842"/>
                    </a:lnTo>
                    <a:lnTo>
                      <a:pt x="1462" y="776"/>
                    </a:lnTo>
                    <a:lnTo>
                      <a:pt x="1468" y="636"/>
                    </a:lnTo>
                    <a:lnTo>
                      <a:pt x="1470" y="484"/>
                    </a:lnTo>
                    <a:lnTo>
                      <a:pt x="1470" y="484"/>
                    </a:lnTo>
                    <a:lnTo>
                      <a:pt x="1468" y="332"/>
                    </a:lnTo>
                    <a:lnTo>
                      <a:pt x="1466" y="210"/>
                    </a:lnTo>
                    <a:lnTo>
                      <a:pt x="1460" y="114"/>
                    </a:lnTo>
                    <a:lnTo>
                      <a:pt x="1456" y="74"/>
                    </a:lnTo>
                    <a:lnTo>
                      <a:pt x="1452" y="40"/>
                    </a:lnTo>
                    <a:lnTo>
                      <a:pt x="1856" y="40"/>
                    </a:lnTo>
                    <a:close/>
                  </a:path>
                </a:pathLst>
              </a:custGeom>
              <a:solidFill>
                <a:srgbClr val="e7211a"/>
              </a:solidFill>
              <a:ln w="5396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14"/>
              <p:cNvSpPr/>
              <p:nvPr/>
            </p:nvSpPr>
            <p:spPr>
              <a:xfrm>
                <a:off x="5622480" y="2520720"/>
                <a:ext cx="3622680" cy="3375360"/>
              </a:xfrm>
              <a:custGeom>
                <a:avLst/>
                <a:gdLst>
                  <a:gd name="textAreaLeft" fmla="*/ 0 w 3622680"/>
                  <a:gd name="textAreaRight" fmla="*/ 3623040 w 3622680"/>
                  <a:gd name="textAreaTop" fmla="*/ 0 h 3375360"/>
                  <a:gd name="textAreaBottom" fmla="*/ 3375720 h 3375360"/>
                </a:gdLst>
                <a:ahLst/>
                <a:rect l="textAreaLeft" t="textAreaTop" r="textAreaRight" b="textAreaBottom"/>
                <a:pathLst>
                  <a:path w="2282" h="2126">
                    <a:moveTo>
                      <a:pt x="1124" y="1468"/>
                    </a:moveTo>
                    <a:lnTo>
                      <a:pt x="1124" y="1468"/>
                    </a:lnTo>
                    <a:lnTo>
                      <a:pt x="1096" y="1526"/>
                    </a:lnTo>
                    <a:lnTo>
                      <a:pt x="1068" y="1580"/>
                    </a:lnTo>
                    <a:lnTo>
                      <a:pt x="1040" y="1632"/>
                    </a:lnTo>
                    <a:lnTo>
                      <a:pt x="1010" y="1678"/>
                    </a:lnTo>
                    <a:lnTo>
                      <a:pt x="980" y="1720"/>
                    </a:lnTo>
                    <a:lnTo>
                      <a:pt x="948" y="1758"/>
                    </a:lnTo>
                    <a:lnTo>
                      <a:pt x="916" y="1792"/>
                    </a:lnTo>
                    <a:lnTo>
                      <a:pt x="882" y="1822"/>
                    </a:lnTo>
                    <a:lnTo>
                      <a:pt x="848" y="1850"/>
                    </a:lnTo>
                    <a:lnTo>
                      <a:pt x="814" y="1872"/>
                    </a:lnTo>
                    <a:lnTo>
                      <a:pt x="776" y="1892"/>
                    </a:lnTo>
                    <a:lnTo>
                      <a:pt x="740" y="1906"/>
                    </a:lnTo>
                    <a:lnTo>
                      <a:pt x="700" y="1918"/>
                    </a:lnTo>
                    <a:lnTo>
                      <a:pt x="662" y="1928"/>
                    </a:lnTo>
                    <a:lnTo>
                      <a:pt x="620" y="1932"/>
                    </a:lnTo>
                    <a:lnTo>
                      <a:pt x="578" y="1934"/>
                    </a:lnTo>
                    <a:lnTo>
                      <a:pt x="578" y="1934"/>
                    </a:lnTo>
                    <a:lnTo>
                      <a:pt x="546" y="1934"/>
                    </a:lnTo>
                    <a:lnTo>
                      <a:pt x="514" y="1930"/>
                    </a:lnTo>
                    <a:lnTo>
                      <a:pt x="484" y="1926"/>
                    </a:lnTo>
                    <a:lnTo>
                      <a:pt x="454" y="1920"/>
                    </a:lnTo>
                    <a:lnTo>
                      <a:pt x="426" y="1910"/>
                    </a:lnTo>
                    <a:lnTo>
                      <a:pt x="398" y="1900"/>
                    </a:lnTo>
                    <a:lnTo>
                      <a:pt x="370" y="1890"/>
                    </a:lnTo>
                    <a:lnTo>
                      <a:pt x="344" y="1876"/>
                    </a:lnTo>
                    <a:lnTo>
                      <a:pt x="318" y="1862"/>
                    </a:lnTo>
                    <a:lnTo>
                      <a:pt x="292" y="1844"/>
                    </a:lnTo>
                    <a:lnTo>
                      <a:pt x="268" y="1826"/>
                    </a:lnTo>
                    <a:lnTo>
                      <a:pt x="246" y="1806"/>
                    </a:lnTo>
                    <a:lnTo>
                      <a:pt x="222" y="1786"/>
                    </a:lnTo>
                    <a:lnTo>
                      <a:pt x="202" y="1764"/>
                    </a:lnTo>
                    <a:lnTo>
                      <a:pt x="180" y="1740"/>
                    </a:lnTo>
                    <a:lnTo>
                      <a:pt x="162" y="1714"/>
                    </a:lnTo>
                    <a:lnTo>
                      <a:pt x="142" y="1688"/>
                    </a:lnTo>
                    <a:lnTo>
                      <a:pt x="124" y="1658"/>
                    </a:lnTo>
                    <a:lnTo>
                      <a:pt x="108" y="1630"/>
                    </a:lnTo>
                    <a:lnTo>
                      <a:pt x="92" y="1598"/>
                    </a:lnTo>
                    <a:lnTo>
                      <a:pt x="78" y="1568"/>
                    </a:lnTo>
                    <a:lnTo>
                      <a:pt x="66" y="1534"/>
                    </a:lnTo>
                    <a:lnTo>
                      <a:pt x="52" y="1500"/>
                    </a:lnTo>
                    <a:lnTo>
                      <a:pt x="42" y="1464"/>
                    </a:lnTo>
                    <a:lnTo>
                      <a:pt x="32" y="1428"/>
                    </a:lnTo>
                    <a:lnTo>
                      <a:pt x="24" y="1390"/>
                    </a:lnTo>
                    <a:lnTo>
                      <a:pt x="16" y="1352"/>
                    </a:lnTo>
                    <a:lnTo>
                      <a:pt x="10" y="1312"/>
                    </a:lnTo>
                    <a:lnTo>
                      <a:pt x="6" y="1272"/>
                    </a:lnTo>
                    <a:lnTo>
                      <a:pt x="2" y="1232"/>
                    </a:lnTo>
                    <a:lnTo>
                      <a:pt x="0" y="1188"/>
                    </a:lnTo>
                    <a:lnTo>
                      <a:pt x="0" y="1146"/>
                    </a:lnTo>
                    <a:lnTo>
                      <a:pt x="0" y="1146"/>
                    </a:lnTo>
                    <a:lnTo>
                      <a:pt x="0" y="1090"/>
                    </a:lnTo>
                    <a:lnTo>
                      <a:pt x="4" y="1036"/>
                    </a:lnTo>
                    <a:lnTo>
                      <a:pt x="10" y="982"/>
                    </a:lnTo>
                    <a:lnTo>
                      <a:pt x="18" y="930"/>
                    </a:lnTo>
                    <a:lnTo>
                      <a:pt x="28" y="876"/>
                    </a:lnTo>
                    <a:lnTo>
                      <a:pt x="42" y="826"/>
                    </a:lnTo>
                    <a:lnTo>
                      <a:pt x="56" y="776"/>
                    </a:lnTo>
                    <a:lnTo>
                      <a:pt x="74" y="726"/>
                    </a:lnTo>
                    <a:lnTo>
                      <a:pt x="94" y="678"/>
                    </a:lnTo>
                    <a:lnTo>
                      <a:pt x="116" y="630"/>
                    </a:lnTo>
                    <a:lnTo>
                      <a:pt x="140" y="584"/>
                    </a:lnTo>
                    <a:lnTo>
                      <a:pt x="166" y="540"/>
                    </a:lnTo>
                    <a:lnTo>
                      <a:pt x="194" y="496"/>
                    </a:lnTo>
                    <a:lnTo>
                      <a:pt x="224" y="454"/>
                    </a:lnTo>
                    <a:lnTo>
                      <a:pt x="256" y="412"/>
                    </a:lnTo>
                    <a:lnTo>
                      <a:pt x="290" y="372"/>
                    </a:lnTo>
                    <a:lnTo>
                      <a:pt x="290" y="372"/>
                    </a:lnTo>
                    <a:lnTo>
                      <a:pt x="334" y="328"/>
                    </a:lnTo>
                    <a:lnTo>
                      <a:pt x="380" y="286"/>
                    </a:lnTo>
                    <a:lnTo>
                      <a:pt x="426" y="248"/>
                    </a:lnTo>
                    <a:lnTo>
                      <a:pt x="476" y="212"/>
                    </a:lnTo>
                    <a:lnTo>
                      <a:pt x="528" y="178"/>
                    </a:lnTo>
                    <a:lnTo>
                      <a:pt x="580" y="148"/>
                    </a:lnTo>
                    <a:lnTo>
                      <a:pt x="636" y="120"/>
                    </a:lnTo>
                    <a:lnTo>
                      <a:pt x="694" y="96"/>
                    </a:lnTo>
                    <a:lnTo>
                      <a:pt x="752" y="74"/>
                    </a:lnTo>
                    <a:lnTo>
                      <a:pt x="814" y="54"/>
                    </a:lnTo>
                    <a:lnTo>
                      <a:pt x="876" y="38"/>
                    </a:lnTo>
                    <a:lnTo>
                      <a:pt x="940" y="24"/>
                    </a:lnTo>
                    <a:lnTo>
                      <a:pt x="1004" y="14"/>
                    </a:lnTo>
                    <a:lnTo>
                      <a:pt x="1072" y="6"/>
                    </a:lnTo>
                    <a:lnTo>
                      <a:pt x="1140" y="2"/>
                    </a:lnTo>
                    <a:lnTo>
                      <a:pt x="1208" y="0"/>
                    </a:lnTo>
                    <a:lnTo>
                      <a:pt x="1208" y="0"/>
                    </a:lnTo>
                    <a:lnTo>
                      <a:pt x="1272" y="2"/>
                    </a:lnTo>
                    <a:lnTo>
                      <a:pt x="1334" y="6"/>
                    </a:lnTo>
                    <a:lnTo>
                      <a:pt x="1394" y="12"/>
                    </a:lnTo>
                    <a:lnTo>
                      <a:pt x="1454" y="22"/>
                    </a:lnTo>
                    <a:lnTo>
                      <a:pt x="1512" y="32"/>
                    </a:lnTo>
                    <a:lnTo>
                      <a:pt x="1570" y="46"/>
                    </a:lnTo>
                    <a:lnTo>
                      <a:pt x="1624" y="64"/>
                    </a:lnTo>
                    <a:lnTo>
                      <a:pt x="1678" y="82"/>
                    </a:lnTo>
                    <a:lnTo>
                      <a:pt x="1730" y="104"/>
                    </a:lnTo>
                    <a:lnTo>
                      <a:pt x="1780" y="126"/>
                    </a:lnTo>
                    <a:lnTo>
                      <a:pt x="1828" y="152"/>
                    </a:lnTo>
                    <a:lnTo>
                      <a:pt x="1874" y="180"/>
                    </a:lnTo>
                    <a:lnTo>
                      <a:pt x="1918" y="210"/>
                    </a:lnTo>
                    <a:lnTo>
                      <a:pt x="1960" y="242"/>
                    </a:lnTo>
                    <a:lnTo>
                      <a:pt x="1998" y="276"/>
                    </a:lnTo>
                    <a:lnTo>
                      <a:pt x="2034" y="312"/>
                    </a:lnTo>
                    <a:lnTo>
                      <a:pt x="2034" y="312"/>
                    </a:lnTo>
                    <a:lnTo>
                      <a:pt x="2064" y="346"/>
                    </a:lnTo>
                    <a:lnTo>
                      <a:pt x="2092" y="380"/>
                    </a:lnTo>
                    <a:lnTo>
                      <a:pt x="2118" y="416"/>
                    </a:lnTo>
                    <a:lnTo>
                      <a:pt x="2142" y="454"/>
                    </a:lnTo>
                    <a:lnTo>
                      <a:pt x="2164" y="494"/>
                    </a:lnTo>
                    <a:lnTo>
                      <a:pt x="2184" y="536"/>
                    </a:lnTo>
                    <a:lnTo>
                      <a:pt x="2202" y="578"/>
                    </a:lnTo>
                    <a:lnTo>
                      <a:pt x="2220" y="622"/>
                    </a:lnTo>
                    <a:lnTo>
                      <a:pt x="2234" y="666"/>
                    </a:lnTo>
                    <a:lnTo>
                      <a:pt x="2248" y="714"/>
                    </a:lnTo>
                    <a:lnTo>
                      <a:pt x="2258" y="760"/>
                    </a:lnTo>
                    <a:lnTo>
                      <a:pt x="2266" y="810"/>
                    </a:lnTo>
                    <a:lnTo>
                      <a:pt x="2274" y="860"/>
                    </a:lnTo>
                    <a:lnTo>
                      <a:pt x="2278" y="912"/>
                    </a:lnTo>
                    <a:lnTo>
                      <a:pt x="2282" y="964"/>
                    </a:lnTo>
                    <a:lnTo>
                      <a:pt x="2282" y="1016"/>
                    </a:lnTo>
                    <a:lnTo>
                      <a:pt x="2282" y="1016"/>
                    </a:lnTo>
                    <a:lnTo>
                      <a:pt x="2282" y="1078"/>
                    </a:lnTo>
                    <a:lnTo>
                      <a:pt x="2278" y="1138"/>
                    </a:lnTo>
                    <a:lnTo>
                      <a:pt x="2270" y="1198"/>
                    </a:lnTo>
                    <a:lnTo>
                      <a:pt x="2260" y="1256"/>
                    </a:lnTo>
                    <a:lnTo>
                      <a:pt x="2248" y="1314"/>
                    </a:lnTo>
                    <a:lnTo>
                      <a:pt x="2232" y="1370"/>
                    </a:lnTo>
                    <a:lnTo>
                      <a:pt x="2214" y="1424"/>
                    </a:lnTo>
                    <a:lnTo>
                      <a:pt x="2194" y="1478"/>
                    </a:lnTo>
                    <a:lnTo>
                      <a:pt x="2172" y="1530"/>
                    </a:lnTo>
                    <a:lnTo>
                      <a:pt x="2146" y="1580"/>
                    </a:lnTo>
                    <a:lnTo>
                      <a:pt x="2118" y="1628"/>
                    </a:lnTo>
                    <a:lnTo>
                      <a:pt x="2088" y="1674"/>
                    </a:lnTo>
                    <a:lnTo>
                      <a:pt x="2056" y="1718"/>
                    </a:lnTo>
                    <a:lnTo>
                      <a:pt x="2022" y="1758"/>
                    </a:lnTo>
                    <a:lnTo>
                      <a:pt x="1984" y="1798"/>
                    </a:lnTo>
                    <a:lnTo>
                      <a:pt x="1946" y="1836"/>
                    </a:lnTo>
                    <a:lnTo>
                      <a:pt x="1946" y="1836"/>
                    </a:lnTo>
                    <a:lnTo>
                      <a:pt x="1914" y="1864"/>
                    </a:lnTo>
                    <a:lnTo>
                      <a:pt x="1880" y="1890"/>
                    </a:lnTo>
                    <a:lnTo>
                      <a:pt x="1846" y="1914"/>
                    </a:lnTo>
                    <a:lnTo>
                      <a:pt x="1810" y="1938"/>
                    </a:lnTo>
                    <a:lnTo>
                      <a:pt x="1772" y="1960"/>
                    </a:lnTo>
                    <a:lnTo>
                      <a:pt x="1734" y="1980"/>
                    </a:lnTo>
                    <a:lnTo>
                      <a:pt x="1694" y="2000"/>
                    </a:lnTo>
                    <a:lnTo>
                      <a:pt x="1650" y="2018"/>
                    </a:lnTo>
                    <a:lnTo>
                      <a:pt x="1606" y="2034"/>
                    </a:lnTo>
                    <a:lnTo>
                      <a:pt x="1560" y="2050"/>
                    </a:lnTo>
                    <a:lnTo>
                      <a:pt x="1510" y="2066"/>
                    </a:lnTo>
                    <a:lnTo>
                      <a:pt x="1458" y="2080"/>
                    </a:lnTo>
                    <a:lnTo>
                      <a:pt x="1402" y="2092"/>
                    </a:lnTo>
                    <a:lnTo>
                      <a:pt x="1344" y="2104"/>
                    </a:lnTo>
                    <a:lnTo>
                      <a:pt x="1284" y="2116"/>
                    </a:lnTo>
                    <a:lnTo>
                      <a:pt x="1218" y="2126"/>
                    </a:lnTo>
                    <a:lnTo>
                      <a:pt x="1218" y="2126"/>
                    </a:lnTo>
                    <a:lnTo>
                      <a:pt x="1196" y="2062"/>
                    </a:lnTo>
                    <a:lnTo>
                      <a:pt x="1174" y="2004"/>
                    </a:lnTo>
                    <a:lnTo>
                      <a:pt x="1152" y="1952"/>
                    </a:lnTo>
                    <a:lnTo>
                      <a:pt x="1128" y="1904"/>
                    </a:lnTo>
                    <a:lnTo>
                      <a:pt x="1102" y="1856"/>
                    </a:lnTo>
                    <a:lnTo>
                      <a:pt x="1074" y="1810"/>
                    </a:lnTo>
                    <a:lnTo>
                      <a:pt x="1040" y="1762"/>
                    </a:lnTo>
                    <a:lnTo>
                      <a:pt x="1004" y="1710"/>
                    </a:lnTo>
                    <a:lnTo>
                      <a:pt x="1004" y="1710"/>
                    </a:lnTo>
                    <a:lnTo>
                      <a:pt x="1088" y="1704"/>
                    </a:lnTo>
                    <a:lnTo>
                      <a:pt x="1168" y="1694"/>
                    </a:lnTo>
                    <a:lnTo>
                      <a:pt x="1240" y="1680"/>
                    </a:lnTo>
                    <a:lnTo>
                      <a:pt x="1308" y="1666"/>
                    </a:lnTo>
                    <a:lnTo>
                      <a:pt x="1370" y="1650"/>
                    </a:lnTo>
                    <a:lnTo>
                      <a:pt x="1428" y="1630"/>
                    </a:lnTo>
                    <a:lnTo>
                      <a:pt x="1482" y="1606"/>
                    </a:lnTo>
                    <a:lnTo>
                      <a:pt x="1536" y="1582"/>
                    </a:lnTo>
                    <a:lnTo>
                      <a:pt x="1536" y="1582"/>
                    </a:lnTo>
                    <a:lnTo>
                      <a:pt x="1570" y="1560"/>
                    </a:lnTo>
                    <a:lnTo>
                      <a:pt x="1604" y="1538"/>
                    </a:lnTo>
                    <a:lnTo>
                      <a:pt x="1636" y="1512"/>
                    </a:lnTo>
                    <a:lnTo>
                      <a:pt x="1666" y="1484"/>
                    </a:lnTo>
                    <a:lnTo>
                      <a:pt x="1692" y="1454"/>
                    </a:lnTo>
                    <a:lnTo>
                      <a:pt x="1718" y="1422"/>
                    </a:lnTo>
                    <a:lnTo>
                      <a:pt x="1740" y="1386"/>
                    </a:lnTo>
                    <a:lnTo>
                      <a:pt x="1760" y="1350"/>
                    </a:lnTo>
                    <a:lnTo>
                      <a:pt x="1778" y="1312"/>
                    </a:lnTo>
                    <a:lnTo>
                      <a:pt x="1794" y="1272"/>
                    </a:lnTo>
                    <a:lnTo>
                      <a:pt x="1808" y="1230"/>
                    </a:lnTo>
                    <a:lnTo>
                      <a:pt x="1820" y="1186"/>
                    </a:lnTo>
                    <a:lnTo>
                      <a:pt x="1828" y="1140"/>
                    </a:lnTo>
                    <a:lnTo>
                      <a:pt x="1834" y="1092"/>
                    </a:lnTo>
                    <a:lnTo>
                      <a:pt x="1838" y="1044"/>
                    </a:lnTo>
                    <a:lnTo>
                      <a:pt x="1840" y="994"/>
                    </a:lnTo>
                    <a:lnTo>
                      <a:pt x="1840" y="994"/>
                    </a:lnTo>
                    <a:lnTo>
                      <a:pt x="1838" y="954"/>
                    </a:lnTo>
                    <a:lnTo>
                      <a:pt x="1836" y="914"/>
                    </a:lnTo>
                    <a:lnTo>
                      <a:pt x="1832" y="878"/>
                    </a:lnTo>
                    <a:lnTo>
                      <a:pt x="1826" y="840"/>
                    </a:lnTo>
                    <a:lnTo>
                      <a:pt x="1818" y="804"/>
                    </a:lnTo>
                    <a:lnTo>
                      <a:pt x="1808" y="770"/>
                    </a:lnTo>
                    <a:lnTo>
                      <a:pt x="1796" y="738"/>
                    </a:lnTo>
                    <a:lnTo>
                      <a:pt x="1784" y="706"/>
                    </a:lnTo>
                    <a:lnTo>
                      <a:pt x="1768" y="674"/>
                    </a:lnTo>
                    <a:lnTo>
                      <a:pt x="1752" y="644"/>
                    </a:lnTo>
                    <a:lnTo>
                      <a:pt x="1734" y="616"/>
                    </a:lnTo>
                    <a:lnTo>
                      <a:pt x="1714" y="590"/>
                    </a:lnTo>
                    <a:lnTo>
                      <a:pt x="1692" y="564"/>
                    </a:lnTo>
                    <a:lnTo>
                      <a:pt x="1668" y="540"/>
                    </a:lnTo>
                    <a:lnTo>
                      <a:pt x="1644" y="516"/>
                    </a:lnTo>
                    <a:lnTo>
                      <a:pt x="1616" y="494"/>
                    </a:lnTo>
                    <a:lnTo>
                      <a:pt x="1616" y="494"/>
                    </a:lnTo>
                    <a:lnTo>
                      <a:pt x="1592" y="476"/>
                    </a:lnTo>
                    <a:lnTo>
                      <a:pt x="1568" y="462"/>
                    </a:lnTo>
                    <a:lnTo>
                      <a:pt x="1544" y="448"/>
                    </a:lnTo>
                    <a:lnTo>
                      <a:pt x="1520" y="436"/>
                    </a:lnTo>
                    <a:lnTo>
                      <a:pt x="1494" y="428"/>
                    </a:lnTo>
                    <a:lnTo>
                      <a:pt x="1466" y="418"/>
                    </a:lnTo>
                    <a:lnTo>
                      <a:pt x="1436" y="412"/>
                    </a:lnTo>
                    <a:lnTo>
                      <a:pt x="1404" y="406"/>
                    </a:lnTo>
                    <a:lnTo>
                      <a:pt x="1404" y="406"/>
                    </a:lnTo>
                    <a:lnTo>
                      <a:pt x="1382" y="564"/>
                    </a:lnTo>
                    <a:lnTo>
                      <a:pt x="1356" y="714"/>
                    </a:lnTo>
                    <a:lnTo>
                      <a:pt x="1342" y="784"/>
                    </a:lnTo>
                    <a:lnTo>
                      <a:pt x="1326" y="854"/>
                    </a:lnTo>
                    <a:lnTo>
                      <a:pt x="1312" y="922"/>
                    </a:lnTo>
                    <a:lnTo>
                      <a:pt x="1294" y="988"/>
                    </a:lnTo>
                    <a:lnTo>
                      <a:pt x="1276" y="1052"/>
                    </a:lnTo>
                    <a:lnTo>
                      <a:pt x="1258" y="1116"/>
                    </a:lnTo>
                    <a:lnTo>
                      <a:pt x="1238" y="1176"/>
                    </a:lnTo>
                    <a:lnTo>
                      <a:pt x="1218" y="1236"/>
                    </a:lnTo>
                    <a:lnTo>
                      <a:pt x="1196" y="1296"/>
                    </a:lnTo>
                    <a:lnTo>
                      <a:pt x="1174" y="1354"/>
                    </a:lnTo>
                    <a:lnTo>
                      <a:pt x="1150" y="1412"/>
                    </a:lnTo>
                    <a:lnTo>
                      <a:pt x="1124" y="1468"/>
                    </a:lnTo>
                    <a:lnTo>
                      <a:pt x="1124" y="1468"/>
                    </a:lnTo>
                    <a:close/>
                    <a:moveTo>
                      <a:pt x="688" y="540"/>
                    </a:moveTo>
                    <a:lnTo>
                      <a:pt x="688" y="540"/>
                    </a:lnTo>
                    <a:lnTo>
                      <a:pt x="658" y="568"/>
                    </a:lnTo>
                    <a:lnTo>
                      <a:pt x="628" y="598"/>
                    </a:lnTo>
                    <a:lnTo>
                      <a:pt x="602" y="630"/>
                    </a:lnTo>
                    <a:lnTo>
                      <a:pt x="576" y="662"/>
                    </a:lnTo>
                    <a:lnTo>
                      <a:pt x="550" y="698"/>
                    </a:lnTo>
                    <a:lnTo>
                      <a:pt x="528" y="734"/>
                    </a:lnTo>
                    <a:lnTo>
                      <a:pt x="506" y="772"/>
                    </a:lnTo>
                    <a:lnTo>
                      <a:pt x="488" y="810"/>
                    </a:lnTo>
                    <a:lnTo>
                      <a:pt x="470" y="850"/>
                    </a:lnTo>
                    <a:lnTo>
                      <a:pt x="456" y="890"/>
                    </a:lnTo>
                    <a:lnTo>
                      <a:pt x="442" y="932"/>
                    </a:lnTo>
                    <a:lnTo>
                      <a:pt x="432" y="974"/>
                    </a:lnTo>
                    <a:lnTo>
                      <a:pt x="424" y="1016"/>
                    </a:lnTo>
                    <a:lnTo>
                      <a:pt x="418" y="1058"/>
                    </a:lnTo>
                    <a:lnTo>
                      <a:pt x="414" y="1100"/>
                    </a:lnTo>
                    <a:lnTo>
                      <a:pt x="412" y="1144"/>
                    </a:lnTo>
                    <a:lnTo>
                      <a:pt x="412" y="1144"/>
                    </a:lnTo>
                    <a:lnTo>
                      <a:pt x="414" y="1176"/>
                    </a:lnTo>
                    <a:lnTo>
                      <a:pt x="416" y="1208"/>
                    </a:lnTo>
                    <a:lnTo>
                      <a:pt x="420" y="1240"/>
                    </a:lnTo>
                    <a:lnTo>
                      <a:pt x="424" y="1270"/>
                    </a:lnTo>
                    <a:lnTo>
                      <a:pt x="432" y="1298"/>
                    </a:lnTo>
                    <a:lnTo>
                      <a:pt x="438" y="1324"/>
                    </a:lnTo>
                    <a:lnTo>
                      <a:pt x="448" y="1348"/>
                    </a:lnTo>
                    <a:lnTo>
                      <a:pt x="458" y="1372"/>
                    </a:lnTo>
                    <a:lnTo>
                      <a:pt x="468" y="1392"/>
                    </a:lnTo>
                    <a:lnTo>
                      <a:pt x="482" y="1410"/>
                    </a:lnTo>
                    <a:lnTo>
                      <a:pt x="494" y="1426"/>
                    </a:lnTo>
                    <a:lnTo>
                      <a:pt x="508" y="1440"/>
                    </a:lnTo>
                    <a:lnTo>
                      <a:pt x="522" y="1450"/>
                    </a:lnTo>
                    <a:lnTo>
                      <a:pt x="538" y="1458"/>
                    </a:lnTo>
                    <a:lnTo>
                      <a:pt x="554" y="1464"/>
                    </a:lnTo>
                    <a:lnTo>
                      <a:pt x="570" y="1466"/>
                    </a:lnTo>
                    <a:lnTo>
                      <a:pt x="570" y="1466"/>
                    </a:lnTo>
                    <a:lnTo>
                      <a:pt x="582" y="1464"/>
                    </a:lnTo>
                    <a:lnTo>
                      <a:pt x="594" y="1460"/>
                    </a:lnTo>
                    <a:lnTo>
                      <a:pt x="606" y="1456"/>
                    </a:lnTo>
                    <a:lnTo>
                      <a:pt x="618" y="1448"/>
                    </a:lnTo>
                    <a:lnTo>
                      <a:pt x="630" y="1438"/>
                    </a:lnTo>
                    <a:lnTo>
                      <a:pt x="642" y="1426"/>
                    </a:lnTo>
                    <a:lnTo>
                      <a:pt x="654" y="1412"/>
                    </a:lnTo>
                    <a:lnTo>
                      <a:pt x="668" y="1396"/>
                    </a:lnTo>
                    <a:lnTo>
                      <a:pt x="694" y="1358"/>
                    </a:lnTo>
                    <a:lnTo>
                      <a:pt x="720" y="1308"/>
                    </a:lnTo>
                    <a:lnTo>
                      <a:pt x="746" y="1252"/>
                    </a:lnTo>
                    <a:lnTo>
                      <a:pt x="774" y="1184"/>
                    </a:lnTo>
                    <a:lnTo>
                      <a:pt x="774" y="1184"/>
                    </a:lnTo>
                    <a:lnTo>
                      <a:pt x="808" y="1096"/>
                    </a:lnTo>
                    <a:lnTo>
                      <a:pt x="838" y="1002"/>
                    </a:lnTo>
                    <a:lnTo>
                      <a:pt x="866" y="906"/>
                    </a:lnTo>
                    <a:lnTo>
                      <a:pt x="892" y="806"/>
                    </a:lnTo>
                    <a:lnTo>
                      <a:pt x="916" y="706"/>
                    </a:lnTo>
                    <a:lnTo>
                      <a:pt x="936" y="606"/>
                    </a:lnTo>
                    <a:lnTo>
                      <a:pt x="952" y="506"/>
                    </a:lnTo>
                    <a:lnTo>
                      <a:pt x="966" y="410"/>
                    </a:lnTo>
                    <a:lnTo>
                      <a:pt x="966" y="410"/>
                    </a:lnTo>
                    <a:lnTo>
                      <a:pt x="926" y="418"/>
                    </a:lnTo>
                    <a:lnTo>
                      <a:pt x="890" y="426"/>
                    </a:lnTo>
                    <a:lnTo>
                      <a:pt x="854" y="438"/>
                    </a:lnTo>
                    <a:lnTo>
                      <a:pt x="820" y="452"/>
                    </a:lnTo>
                    <a:lnTo>
                      <a:pt x="788" y="470"/>
                    </a:lnTo>
                    <a:lnTo>
                      <a:pt x="754" y="490"/>
                    </a:lnTo>
                    <a:lnTo>
                      <a:pt x="722" y="514"/>
                    </a:lnTo>
                    <a:lnTo>
                      <a:pt x="688" y="540"/>
                    </a:lnTo>
                    <a:lnTo>
                      <a:pt x="688" y="540"/>
                    </a:lnTo>
                    <a:close/>
                  </a:path>
                </a:pathLst>
              </a:custGeom>
              <a:solidFill>
                <a:srgbClr val="e7211a"/>
              </a:solidFill>
              <a:ln w="5396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15"/>
              <p:cNvSpPr/>
              <p:nvPr/>
            </p:nvSpPr>
            <p:spPr>
              <a:xfrm>
                <a:off x="9553320" y="2266920"/>
                <a:ext cx="3892320" cy="3670560"/>
              </a:xfrm>
              <a:custGeom>
                <a:avLst/>
                <a:gdLst>
                  <a:gd name="textAreaLeft" fmla="*/ 0 w 3892320"/>
                  <a:gd name="textAreaRight" fmla="*/ 3892680 w 3892320"/>
                  <a:gd name="textAreaTop" fmla="*/ 0 h 3670560"/>
                  <a:gd name="textAreaBottom" fmla="*/ 3670920 h 3670560"/>
                </a:gdLst>
                <a:ahLst/>
                <a:rect l="textAreaLeft" t="textAreaTop" r="textAreaRight" b="textAreaBottom"/>
                <a:pathLst>
                  <a:path w="2452" h="2312">
                    <a:moveTo>
                      <a:pt x="742" y="1114"/>
                    </a:moveTo>
                    <a:lnTo>
                      <a:pt x="742" y="1114"/>
                    </a:lnTo>
                    <a:lnTo>
                      <a:pt x="644" y="1114"/>
                    </a:lnTo>
                    <a:lnTo>
                      <a:pt x="558" y="1116"/>
                    </a:lnTo>
                    <a:lnTo>
                      <a:pt x="484" y="1122"/>
                    </a:lnTo>
                    <a:lnTo>
                      <a:pt x="422" y="1128"/>
                    </a:lnTo>
                    <a:lnTo>
                      <a:pt x="422" y="966"/>
                    </a:lnTo>
                    <a:lnTo>
                      <a:pt x="422" y="966"/>
                    </a:lnTo>
                    <a:lnTo>
                      <a:pt x="364" y="996"/>
                    </a:lnTo>
                    <a:lnTo>
                      <a:pt x="316" y="1020"/>
                    </a:lnTo>
                    <a:lnTo>
                      <a:pt x="264" y="1042"/>
                    </a:lnTo>
                    <a:lnTo>
                      <a:pt x="198" y="1070"/>
                    </a:lnTo>
                    <a:lnTo>
                      <a:pt x="198" y="1070"/>
                    </a:lnTo>
                    <a:lnTo>
                      <a:pt x="148" y="958"/>
                    </a:lnTo>
                    <a:lnTo>
                      <a:pt x="128" y="912"/>
                    </a:lnTo>
                    <a:lnTo>
                      <a:pt x="106" y="872"/>
                    </a:lnTo>
                    <a:lnTo>
                      <a:pt x="86" y="832"/>
                    </a:lnTo>
                    <a:lnTo>
                      <a:pt x="60" y="790"/>
                    </a:lnTo>
                    <a:lnTo>
                      <a:pt x="0" y="694"/>
                    </a:lnTo>
                    <a:lnTo>
                      <a:pt x="0" y="694"/>
                    </a:lnTo>
                    <a:lnTo>
                      <a:pt x="82" y="668"/>
                    </a:lnTo>
                    <a:lnTo>
                      <a:pt x="160" y="640"/>
                    </a:lnTo>
                    <a:lnTo>
                      <a:pt x="232" y="610"/>
                    </a:lnTo>
                    <a:lnTo>
                      <a:pt x="302" y="578"/>
                    </a:lnTo>
                    <a:lnTo>
                      <a:pt x="372" y="542"/>
                    </a:lnTo>
                    <a:lnTo>
                      <a:pt x="438" y="504"/>
                    </a:lnTo>
                    <a:lnTo>
                      <a:pt x="508" y="460"/>
                    </a:lnTo>
                    <a:lnTo>
                      <a:pt x="578" y="414"/>
                    </a:lnTo>
                    <a:lnTo>
                      <a:pt x="578" y="414"/>
                    </a:lnTo>
                    <a:lnTo>
                      <a:pt x="646" y="364"/>
                    </a:lnTo>
                    <a:lnTo>
                      <a:pt x="710" y="316"/>
                    </a:lnTo>
                    <a:lnTo>
                      <a:pt x="768" y="268"/>
                    </a:lnTo>
                    <a:lnTo>
                      <a:pt x="822" y="218"/>
                    </a:lnTo>
                    <a:lnTo>
                      <a:pt x="872" y="166"/>
                    </a:lnTo>
                    <a:lnTo>
                      <a:pt x="918" y="114"/>
                    </a:lnTo>
                    <a:lnTo>
                      <a:pt x="962" y="58"/>
                    </a:lnTo>
                    <a:lnTo>
                      <a:pt x="1004" y="0"/>
                    </a:lnTo>
                    <a:lnTo>
                      <a:pt x="1424" y="0"/>
                    </a:lnTo>
                    <a:lnTo>
                      <a:pt x="1424" y="0"/>
                    </a:lnTo>
                    <a:lnTo>
                      <a:pt x="1470" y="60"/>
                    </a:lnTo>
                    <a:lnTo>
                      <a:pt x="1516" y="114"/>
                    </a:lnTo>
                    <a:lnTo>
                      <a:pt x="1566" y="166"/>
                    </a:lnTo>
                    <a:lnTo>
                      <a:pt x="1616" y="216"/>
                    </a:lnTo>
                    <a:lnTo>
                      <a:pt x="1670" y="262"/>
                    </a:lnTo>
                    <a:lnTo>
                      <a:pt x="1728" y="308"/>
                    </a:lnTo>
                    <a:lnTo>
                      <a:pt x="1792" y="354"/>
                    </a:lnTo>
                    <a:lnTo>
                      <a:pt x="1860" y="400"/>
                    </a:lnTo>
                    <a:lnTo>
                      <a:pt x="1860" y="400"/>
                    </a:lnTo>
                    <a:lnTo>
                      <a:pt x="1934" y="448"/>
                    </a:lnTo>
                    <a:lnTo>
                      <a:pt x="2004" y="490"/>
                    </a:lnTo>
                    <a:lnTo>
                      <a:pt x="2074" y="528"/>
                    </a:lnTo>
                    <a:lnTo>
                      <a:pt x="2144" y="562"/>
                    </a:lnTo>
                    <a:lnTo>
                      <a:pt x="2216" y="594"/>
                    </a:lnTo>
                    <a:lnTo>
                      <a:pt x="2290" y="624"/>
                    </a:lnTo>
                    <a:lnTo>
                      <a:pt x="2368" y="652"/>
                    </a:lnTo>
                    <a:lnTo>
                      <a:pt x="2452" y="678"/>
                    </a:lnTo>
                    <a:lnTo>
                      <a:pt x="2452" y="678"/>
                    </a:lnTo>
                    <a:lnTo>
                      <a:pt x="2422" y="730"/>
                    </a:lnTo>
                    <a:lnTo>
                      <a:pt x="2394" y="780"/>
                    </a:lnTo>
                    <a:lnTo>
                      <a:pt x="2370" y="828"/>
                    </a:lnTo>
                    <a:lnTo>
                      <a:pt x="2348" y="874"/>
                    </a:lnTo>
                    <a:lnTo>
                      <a:pt x="2328" y="920"/>
                    </a:lnTo>
                    <a:lnTo>
                      <a:pt x="2308" y="968"/>
                    </a:lnTo>
                    <a:lnTo>
                      <a:pt x="2268" y="1078"/>
                    </a:lnTo>
                    <a:lnTo>
                      <a:pt x="2268" y="1078"/>
                    </a:lnTo>
                    <a:lnTo>
                      <a:pt x="2198" y="1050"/>
                    </a:lnTo>
                    <a:lnTo>
                      <a:pt x="2146" y="1026"/>
                    </a:lnTo>
                    <a:lnTo>
                      <a:pt x="2094" y="1002"/>
                    </a:lnTo>
                    <a:lnTo>
                      <a:pt x="2028" y="968"/>
                    </a:lnTo>
                    <a:lnTo>
                      <a:pt x="2028" y="1128"/>
                    </a:lnTo>
                    <a:lnTo>
                      <a:pt x="2028" y="1128"/>
                    </a:lnTo>
                    <a:lnTo>
                      <a:pt x="1962" y="1122"/>
                    </a:lnTo>
                    <a:lnTo>
                      <a:pt x="1890" y="1116"/>
                    </a:lnTo>
                    <a:lnTo>
                      <a:pt x="1812" y="1114"/>
                    </a:lnTo>
                    <a:lnTo>
                      <a:pt x="1720" y="1114"/>
                    </a:lnTo>
                    <a:lnTo>
                      <a:pt x="1416" y="1114"/>
                    </a:lnTo>
                    <a:lnTo>
                      <a:pt x="1416" y="1334"/>
                    </a:lnTo>
                    <a:lnTo>
                      <a:pt x="1772" y="1334"/>
                    </a:lnTo>
                    <a:lnTo>
                      <a:pt x="1772" y="1334"/>
                    </a:lnTo>
                    <a:lnTo>
                      <a:pt x="1870" y="1332"/>
                    </a:lnTo>
                    <a:lnTo>
                      <a:pt x="1958" y="1330"/>
                    </a:lnTo>
                    <a:lnTo>
                      <a:pt x="2032" y="1326"/>
                    </a:lnTo>
                    <a:lnTo>
                      <a:pt x="2092" y="1318"/>
                    </a:lnTo>
                    <a:lnTo>
                      <a:pt x="2092" y="1702"/>
                    </a:lnTo>
                    <a:lnTo>
                      <a:pt x="2092" y="1702"/>
                    </a:lnTo>
                    <a:lnTo>
                      <a:pt x="2030" y="1694"/>
                    </a:lnTo>
                    <a:lnTo>
                      <a:pt x="1954" y="1690"/>
                    </a:lnTo>
                    <a:lnTo>
                      <a:pt x="1868" y="1686"/>
                    </a:lnTo>
                    <a:lnTo>
                      <a:pt x="1768" y="1686"/>
                    </a:lnTo>
                    <a:lnTo>
                      <a:pt x="1416" y="1686"/>
                    </a:lnTo>
                    <a:lnTo>
                      <a:pt x="1416" y="1940"/>
                    </a:lnTo>
                    <a:lnTo>
                      <a:pt x="1966" y="1940"/>
                    </a:lnTo>
                    <a:lnTo>
                      <a:pt x="1966" y="1940"/>
                    </a:lnTo>
                    <a:lnTo>
                      <a:pt x="2078" y="1938"/>
                    </a:lnTo>
                    <a:lnTo>
                      <a:pt x="2178" y="1936"/>
                    </a:lnTo>
                    <a:lnTo>
                      <a:pt x="2264" y="1930"/>
                    </a:lnTo>
                    <a:lnTo>
                      <a:pt x="2336" y="1924"/>
                    </a:lnTo>
                    <a:lnTo>
                      <a:pt x="2336" y="2312"/>
                    </a:lnTo>
                    <a:lnTo>
                      <a:pt x="2336" y="2312"/>
                    </a:lnTo>
                    <a:lnTo>
                      <a:pt x="2266" y="2306"/>
                    </a:lnTo>
                    <a:lnTo>
                      <a:pt x="2180" y="2300"/>
                    </a:lnTo>
                    <a:lnTo>
                      <a:pt x="2082" y="2298"/>
                    </a:lnTo>
                    <a:lnTo>
                      <a:pt x="1974" y="2296"/>
                    </a:lnTo>
                    <a:lnTo>
                      <a:pt x="464" y="2296"/>
                    </a:lnTo>
                    <a:lnTo>
                      <a:pt x="464" y="2296"/>
                    </a:lnTo>
                    <a:lnTo>
                      <a:pt x="358" y="2298"/>
                    </a:lnTo>
                    <a:lnTo>
                      <a:pt x="264" y="2300"/>
                    </a:lnTo>
                    <a:lnTo>
                      <a:pt x="182" y="2306"/>
                    </a:lnTo>
                    <a:lnTo>
                      <a:pt x="114" y="2312"/>
                    </a:lnTo>
                    <a:lnTo>
                      <a:pt x="114" y="1924"/>
                    </a:lnTo>
                    <a:lnTo>
                      <a:pt x="114" y="1924"/>
                    </a:lnTo>
                    <a:lnTo>
                      <a:pt x="182" y="1930"/>
                    </a:lnTo>
                    <a:lnTo>
                      <a:pt x="266" y="1936"/>
                    </a:lnTo>
                    <a:lnTo>
                      <a:pt x="364" y="1938"/>
                    </a:lnTo>
                    <a:lnTo>
                      <a:pt x="474" y="1940"/>
                    </a:lnTo>
                    <a:lnTo>
                      <a:pt x="1014" y="1940"/>
                    </a:lnTo>
                    <a:lnTo>
                      <a:pt x="1014" y="1686"/>
                    </a:lnTo>
                    <a:lnTo>
                      <a:pt x="688" y="1686"/>
                    </a:lnTo>
                    <a:lnTo>
                      <a:pt x="688" y="1686"/>
                    </a:lnTo>
                    <a:lnTo>
                      <a:pt x="592" y="1686"/>
                    </a:lnTo>
                    <a:lnTo>
                      <a:pt x="506" y="1690"/>
                    </a:lnTo>
                    <a:lnTo>
                      <a:pt x="432" y="1694"/>
                    </a:lnTo>
                    <a:lnTo>
                      <a:pt x="370" y="1702"/>
                    </a:lnTo>
                    <a:lnTo>
                      <a:pt x="370" y="1318"/>
                    </a:lnTo>
                    <a:lnTo>
                      <a:pt x="370" y="1318"/>
                    </a:lnTo>
                    <a:lnTo>
                      <a:pt x="438" y="1326"/>
                    </a:lnTo>
                    <a:lnTo>
                      <a:pt x="512" y="1330"/>
                    </a:lnTo>
                    <a:lnTo>
                      <a:pt x="594" y="1332"/>
                    </a:lnTo>
                    <a:lnTo>
                      <a:pt x="688" y="1334"/>
                    </a:lnTo>
                    <a:lnTo>
                      <a:pt x="1014" y="1334"/>
                    </a:lnTo>
                    <a:lnTo>
                      <a:pt x="1014" y="1114"/>
                    </a:lnTo>
                    <a:lnTo>
                      <a:pt x="742" y="1114"/>
                    </a:lnTo>
                    <a:close/>
                    <a:moveTo>
                      <a:pt x="1692" y="766"/>
                    </a:moveTo>
                    <a:lnTo>
                      <a:pt x="1692" y="766"/>
                    </a:lnTo>
                    <a:lnTo>
                      <a:pt x="1614" y="710"/>
                    </a:lnTo>
                    <a:lnTo>
                      <a:pt x="1546" y="660"/>
                    </a:lnTo>
                    <a:lnTo>
                      <a:pt x="1484" y="610"/>
                    </a:lnTo>
                    <a:lnTo>
                      <a:pt x="1428" y="562"/>
                    </a:lnTo>
                    <a:lnTo>
                      <a:pt x="1374" y="512"/>
                    </a:lnTo>
                    <a:lnTo>
                      <a:pt x="1324" y="460"/>
                    </a:lnTo>
                    <a:lnTo>
                      <a:pt x="1274" y="404"/>
                    </a:lnTo>
                    <a:lnTo>
                      <a:pt x="1222" y="342"/>
                    </a:lnTo>
                    <a:lnTo>
                      <a:pt x="1222" y="342"/>
                    </a:lnTo>
                    <a:lnTo>
                      <a:pt x="1174" y="402"/>
                    </a:lnTo>
                    <a:lnTo>
                      <a:pt x="1124" y="458"/>
                    </a:lnTo>
                    <a:lnTo>
                      <a:pt x="1074" y="510"/>
                    </a:lnTo>
                    <a:lnTo>
                      <a:pt x="1020" y="562"/>
                    </a:lnTo>
                    <a:lnTo>
                      <a:pt x="964" y="612"/>
                    </a:lnTo>
                    <a:lnTo>
                      <a:pt x="900" y="662"/>
                    </a:lnTo>
                    <a:lnTo>
                      <a:pt x="832" y="714"/>
                    </a:lnTo>
                    <a:lnTo>
                      <a:pt x="758" y="766"/>
                    </a:lnTo>
                    <a:lnTo>
                      <a:pt x="1692" y="766"/>
                    </a:lnTo>
                    <a:close/>
                  </a:path>
                </a:pathLst>
              </a:custGeom>
              <a:solidFill>
                <a:srgbClr val="e7211a"/>
              </a:solidFill>
              <a:ln w="5396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16"/>
              <p:cNvSpPr/>
              <p:nvPr/>
            </p:nvSpPr>
            <p:spPr>
              <a:xfrm>
                <a:off x="13760280" y="2340000"/>
                <a:ext cx="3622680" cy="3677040"/>
              </a:xfrm>
              <a:custGeom>
                <a:avLst/>
                <a:gdLst>
                  <a:gd name="textAreaLeft" fmla="*/ 0 w 3622680"/>
                  <a:gd name="textAreaRight" fmla="*/ 3623040 w 3622680"/>
                  <a:gd name="textAreaTop" fmla="*/ 0 h 3677040"/>
                  <a:gd name="textAreaBottom" fmla="*/ 3677400 h 3677040"/>
                </a:gdLst>
                <a:ahLst/>
                <a:rect l="textAreaLeft" t="textAreaTop" r="textAreaRight" b="textAreaBottom"/>
                <a:pathLst>
                  <a:path w="2282" h="2316">
                    <a:moveTo>
                      <a:pt x="16" y="300"/>
                    </a:moveTo>
                    <a:lnTo>
                      <a:pt x="16" y="300"/>
                    </a:lnTo>
                    <a:lnTo>
                      <a:pt x="14" y="226"/>
                    </a:lnTo>
                    <a:lnTo>
                      <a:pt x="12" y="156"/>
                    </a:lnTo>
                    <a:lnTo>
                      <a:pt x="8" y="8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2" y="6"/>
                    </a:lnTo>
                    <a:lnTo>
                      <a:pt x="128" y="10"/>
                    </a:lnTo>
                    <a:lnTo>
                      <a:pt x="202" y="10"/>
                    </a:lnTo>
                    <a:lnTo>
                      <a:pt x="300" y="10"/>
                    </a:lnTo>
                    <a:lnTo>
                      <a:pt x="1982" y="12"/>
                    </a:lnTo>
                    <a:lnTo>
                      <a:pt x="1982" y="12"/>
                    </a:lnTo>
                    <a:lnTo>
                      <a:pt x="2064" y="12"/>
                    </a:lnTo>
                    <a:lnTo>
                      <a:pt x="2138" y="10"/>
                    </a:lnTo>
                    <a:lnTo>
                      <a:pt x="2210" y="6"/>
                    </a:lnTo>
                    <a:lnTo>
                      <a:pt x="2278" y="0"/>
                    </a:lnTo>
                    <a:lnTo>
                      <a:pt x="2278" y="0"/>
                    </a:lnTo>
                    <a:lnTo>
                      <a:pt x="2272" y="68"/>
                    </a:lnTo>
                    <a:lnTo>
                      <a:pt x="2268" y="138"/>
                    </a:lnTo>
                    <a:lnTo>
                      <a:pt x="2266" y="212"/>
                    </a:lnTo>
                    <a:lnTo>
                      <a:pt x="2266" y="300"/>
                    </a:lnTo>
                    <a:lnTo>
                      <a:pt x="2266" y="1966"/>
                    </a:lnTo>
                    <a:lnTo>
                      <a:pt x="2266" y="1966"/>
                    </a:lnTo>
                    <a:lnTo>
                      <a:pt x="2268" y="2074"/>
                    </a:lnTo>
                    <a:lnTo>
                      <a:pt x="2270" y="2168"/>
                    </a:lnTo>
                    <a:lnTo>
                      <a:pt x="2274" y="2248"/>
                    </a:lnTo>
                    <a:lnTo>
                      <a:pt x="2282" y="2316"/>
                    </a:lnTo>
                    <a:lnTo>
                      <a:pt x="1882" y="2316"/>
                    </a:lnTo>
                    <a:lnTo>
                      <a:pt x="1882" y="2182"/>
                    </a:lnTo>
                    <a:lnTo>
                      <a:pt x="400" y="2182"/>
                    </a:lnTo>
                    <a:lnTo>
                      <a:pt x="400" y="2316"/>
                    </a:lnTo>
                    <a:lnTo>
                      <a:pt x="0" y="2316"/>
                    </a:lnTo>
                    <a:lnTo>
                      <a:pt x="0" y="2316"/>
                    </a:lnTo>
                    <a:lnTo>
                      <a:pt x="8" y="2250"/>
                    </a:lnTo>
                    <a:lnTo>
                      <a:pt x="12" y="2174"/>
                    </a:lnTo>
                    <a:lnTo>
                      <a:pt x="14" y="2082"/>
                    </a:lnTo>
                    <a:lnTo>
                      <a:pt x="16" y="1966"/>
                    </a:lnTo>
                    <a:lnTo>
                      <a:pt x="16" y="300"/>
                    </a:lnTo>
                    <a:close/>
                    <a:moveTo>
                      <a:pt x="400" y="1838"/>
                    </a:moveTo>
                    <a:lnTo>
                      <a:pt x="1878" y="1838"/>
                    </a:lnTo>
                    <a:lnTo>
                      <a:pt x="1878" y="360"/>
                    </a:lnTo>
                    <a:lnTo>
                      <a:pt x="400" y="360"/>
                    </a:lnTo>
                    <a:lnTo>
                      <a:pt x="400" y="1838"/>
                    </a:lnTo>
                    <a:close/>
                    <a:moveTo>
                      <a:pt x="728" y="776"/>
                    </a:moveTo>
                    <a:lnTo>
                      <a:pt x="728" y="776"/>
                    </a:lnTo>
                    <a:lnTo>
                      <a:pt x="656" y="776"/>
                    </a:lnTo>
                    <a:lnTo>
                      <a:pt x="602" y="778"/>
                    </a:lnTo>
                    <a:lnTo>
                      <a:pt x="554" y="782"/>
                    </a:lnTo>
                    <a:lnTo>
                      <a:pt x="504" y="788"/>
                    </a:lnTo>
                    <a:lnTo>
                      <a:pt x="504" y="444"/>
                    </a:lnTo>
                    <a:lnTo>
                      <a:pt x="504" y="444"/>
                    </a:lnTo>
                    <a:lnTo>
                      <a:pt x="550" y="448"/>
                    </a:lnTo>
                    <a:lnTo>
                      <a:pt x="596" y="452"/>
                    </a:lnTo>
                    <a:lnTo>
                      <a:pt x="652" y="454"/>
                    </a:lnTo>
                    <a:lnTo>
                      <a:pt x="728" y="454"/>
                    </a:lnTo>
                    <a:lnTo>
                      <a:pt x="1556" y="454"/>
                    </a:lnTo>
                    <a:lnTo>
                      <a:pt x="1556" y="454"/>
                    </a:lnTo>
                    <a:lnTo>
                      <a:pt x="1632" y="454"/>
                    </a:lnTo>
                    <a:lnTo>
                      <a:pt x="1690" y="452"/>
                    </a:lnTo>
                    <a:lnTo>
                      <a:pt x="1738" y="448"/>
                    </a:lnTo>
                    <a:lnTo>
                      <a:pt x="1782" y="444"/>
                    </a:lnTo>
                    <a:lnTo>
                      <a:pt x="1782" y="788"/>
                    </a:lnTo>
                    <a:lnTo>
                      <a:pt x="1782" y="788"/>
                    </a:lnTo>
                    <a:lnTo>
                      <a:pt x="1734" y="782"/>
                    </a:lnTo>
                    <a:lnTo>
                      <a:pt x="1686" y="778"/>
                    </a:lnTo>
                    <a:lnTo>
                      <a:pt x="1630" y="776"/>
                    </a:lnTo>
                    <a:lnTo>
                      <a:pt x="1556" y="776"/>
                    </a:lnTo>
                    <a:lnTo>
                      <a:pt x="1306" y="776"/>
                    </a:lnTo>
                    <a:lnTo>
                      <a:pt x="1306" y="920"/>
                    </a:lnTo>
                    <a:lnTo>
                      <a:pt x="1514" y="920"/>
                    </a:lnTo>
                    <a:lnTo>
                      <a:pt x="1514" y="920"/>
                    </a:lnTo>
                    <a:lnTo>
                      <a:pt x="1584" y="920"/>
                    </a:lnTo>
                    <a:lnTo>
                      <a:pt x="1634" y="918"/>
                    </a:lnTo>
                    <a:lnTo>
                      <a:pt x="1676" y="914"/>
                    </a:lnTo>
                    <a:lnTo>
                      <a:pt x="1718" y="908"/>
                    </a:lnTo>
                    <a:lnTo>
                      <a:pt x="1718" y="1250"/>
                    </a:lnTo>
                    <a:lnTo>
                      <a:pt x="1718" y="1250"/>
                    </a:lnTo>
                    <a:lnTo>
                      <a:pt x="1670" y="1242"/>
                    </a:lnTo>
                    <a:lnTo>
                      <a:pt x="1620" y="1240"/>
                    </a:lnTo>
                    <a:lnTo>
                      <a:pt x="1620" y="1240"/>
                    </a:lnTo>
                    <a:lnTo>
                      <a:pt x="1642" y="1274"/>
                    </a:lnTo>
                    <a:lnTo>
                      <a:pt x="1658" y="1304"/>
                    </a:lnTo>
                    <a:lnTo>
                      <a:pt x="1676" y="1336"/>
                    </a:lnTo>
                    <a:lnTo>
                      <a:pt x="1696" y="1384"/>
                    </a:lnTo>
                    <a:lnTo>
                      <a:pt x="1566" y="1416"/>
                    </a:lnTo>
                    <a:lnTo>
                      <a:pt x="1566" y="1416"/>
                    </a:lnTo>
                    <a:lnTo>
                      <a:pt x="1646" y="1416"/>
                    </a:lnTo>
                    <a:lnTo>
                      <a:pt x="1706" y="1414"/>
                    </a:lnTo>
                    <a:lnTo>
                      <a:pt x="1754" y="1410"/>
                    </a:lnTo>
                    <a:lnTo>
                      <a:pt x="1802" y="1404"/>
                    </a:lnTo>
                    <a:lnTo>
                      <a:pt x="1802" y="1752"/>
                    </a:lnTo>
                    <a:lnTo>
                      <a:pt x="1802" y="1752"/>
                    </a:lnTo>
                    <a:lnTo>
                      <a:pt x="1754" y="1746"/>
                    </a:lnTo>
                    <a:lnTo>
                      <a:pt x="1704" y="1744"/>
                    </a:lnTo>
                    <a:lnTo>
                      <a:pt x="1646" y="1742"/>
                    </a:lnTo>
                    <a:lnTo>
                      <a:pt x="1572" y="1742"/>
                    </a:lnTo>
                    <a:lnTo>
                      <a:pt x="706" y="1742"/>
                    </a:lnTo>
                    <a:lnTo>
                      <a:pt x="706" y="1742"/>
                    </a:lnTo>
                    <a:lnTo>
                      <a:pt x="624" y="1742"/>
                    </a:lnTo>
                    <a:lnTo>
                      <a:pt x="566" y="1744"/>
                    </a:lnTo>
                    <a:lnTo>
                      <a:pt x="522" y="1746"/>
                    </a:lnTo>
                    <a:lnTo>
                      <a:pt x="476" y="1752"/>
                    </a:lnTo>
                    <a:lnTo>
                      <a:pt x="476" y="1404"/>
                    </a:lnTo>
                    <a:lnTo>
                      <a:pt x="476" y="1404"/>
                    </a:lnTo>
                    <a:lnTo>
                      <a:pt x="524" y="1410"/>
                    </a:lnTo>
                    <a:lnTo>
                      <a:pt x="572" y="1414"/>
                    </a:lnTo>
                    <a:lnTo>
                      <a:pt x="630" y="1416"/>
                    </a:lnTo>
                    <a:lnTo>
                      <a:pt x="706" y="1416"/>
                    </a:lnTo>
                    <a:lnTo>
                      <a:pt x="934" y="1416"/>
                    </a:lnTo>
                    <a:lnTo>
                      <a:pt x="934" y="1236"/>
                    </a:lnTo>
                    <a:lnTo>
                      <a:pt x="768" y="1236"/>
                    </a:lnTo>
                    <a:lnTo>
                      <a:pt x="768" y="1236"/>
                    </a:lnTo>
                    <a:lnTo>
                      <a:pt x="698" y="1238"/>
                    </a:lnTo>
                    <a:lnTo>
                      <a:pt x="648" y="1240"/>
                    </a:lnTo>
                    <a:lnTo>
                      <a:pt x="604" y="1244"/>
                    </a:lnTo>
                    <a:lnTo>
                      <a:pt x="560" y="1250"/>
                    </a:lnTo>
                    <a:lnTo>
                      <a:pt x="560" y="908"/>
                    </a:lnTo>
                    <a:lnTo>
                      <a:pt x="560" y="908"/>
                    </a:lnTo>
                    <a:lnTo>
                      <a:pt x="604" y="914"/>
                    </a:lnTo>
                    <a:lnTo>
                      <a:pt x="646" y="918"/>
                    </a:lnTo>
                    <a:lnTo>
                      <a:pt x="698" y="920"/>
                    </a:lnTo>
                    <a:lnTo>
                      <a:pt x="768" y="920"/>
                    </a:lnTo>
                    <a:lnTo>
                      <a:pt x="934" y="920"/>
                    </a:lnTo>
                    <a:lnTo>
                      <a:pt x="934" y="776"/>
                    </a:lnTo>
                    <a:lnTo>
                      <a:pt x="728" y="776"/>
                    </a:lnTo>
                    <a:close/>
                    <a:moveTo>
                      <a:pt x="1306" y="1416"/>
                    </a:moveTo>
                    <a:lnTo>
                      <a:pt x="1460" y="1416"/>
                    </a:lnTo>
                    <a:lnTo>
                      <a:pt x="1460" y="1416"/>
                    </a:lnTo>
                    <a:lnTo>
                      <a:pt x="1442" y="1372"/>
                    </a:lnTo>
                    <a:lnTo>
                      <a:pt x="1424" y="1334"/>
                    </a:lnTo>
                    <a:lnTo>
                      <a:pt x="1404" y="1300"/>
                    </a:lnTo>
                    <a:lnTo>
                      <a:pt x="1380" y="1260"/>
                    </a:lnTo>
                    <a:lnTo>
                      <a:pt x="1470" y="1236"/>
                    </a:lnTo>
                    <a:lnTo>
                      <a:pt x="1306" y="1236"/>
                    </a:lnTo>
                    <a:lnTo>
                      <a:pt x="1306" y="1416"/>
                    </a:lnTo>
                    <a:close/>
                  </a:path>
                </a:pathLst>
              </a:custGeom>
              <a:solidFill>
                <a:srgbClr val="e7211a"/>
              </a:solidFill>
              <a:ln w="5396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17"/>
              <p:cNvSpPr/>
              <p:nvPr/>
            </p:nvSpPr>
            <p:spPr>
              <a:xfrm>
                <a:off x="17741880" y="2234880"/>
                <a:ext cx="3809880" cy="3810240"/>
              </a:xfrm>
              <a:custGeom>
                <a:avLst/>
                <a:gdLst>
                  <a:gd name="textAreaLeft" fmla="*/ 0 w 3809880"/>
                  <a:gd name="textAreaRight" fmla="*/ 3810240 w 3809880"/>
                  <a:gd name="textAreaTop" fmla="*/ 0 h 3810240"/>
                  <a:gd name="textAreaBottom" fmla="*/ 3810600 h 3810240"/>
                </a:gdLst>
                <a:ahLst/>
                <a:rect l="textAreaLeft" t="textAreaTop" r="textAreaRight" b="textAreaBottom"/>
                <a:pathLst>
                  <a:path w="2400" h="2400">
                    <a:moveTo>
                      <a:pt x="1646" y="586"/>
                    </a:moveTo>
                    <a:lnTo>
                      <a:pt x="1646" y="586"/>
                    </a:lnTo>
                    <a:lnTo>
                      <a:pt x="1712" y="660"/>
                    </a:lnTo>
                    <a:lnTo>
                      <a:pt x="1766" y="714"/>
                    </a:lnTo>
                    <a:lnTo>
                      <a:pt x="1814" y="760"/>
                    </a:lnTo>
                    <a:lnTo>
                      <a:pt x="1870" y="806"/>
                    </a:lnTo>
                    <a:lnTo>
                      <a:pt x="1870" y="806"/>
                    </a:lnTo>
                    <a:lnTo>
                      <a:pt x="1926" y="852"/>
                    </a:lnTo>
                    <a:lnTo>
                      <a:pt x="1982" y="892"/>
                    </a:lnTo>
                    <a:lnTo>
                      <a:pt x="2036" y="928"/>
                    </a:lnTo>
                    <a:lnTo>
                      <a:pt x="2094" y="962"/>
                    </a:lnTo>
                    <a:lnTo>
                      <a:pt x="2152" y="992"/>
                    </a:lnTo>
                    <a:lnTo>
                      <a:pt x="2216" y="1024"/>
                    </a:lnTo>
                    <a:lnTo>
                      <a:pt x="2288" y="1056"/>
                    </a:lnTo>
                    <a:lnTo>
                      <a:pt x="2366" y="1088"/>
                    </a:lnTo>
                    <a:lnTo>
                      <a:pt x="2366" y="1088"/>
                    </a:lnTo>
                    <a:lnTo>
                      <a:pt x="2332" y="1130"/>
                    </a:lnTo>
                    <a:lnTo>
                      <a:pt x="2302" y="1170"/>
                    </a:lnTo>
                    <a:lnTo>
                      <a:pt x="2276" y="1210"/>
                    </a:lnTo>
                    <a:lnTo>
                      <a:pt x="2250" y="1250"/>
                    </a:lnTo>
                    <a:lnTo>
                      <a:pt x="2226" y="1292"/>
                    </a:lnTo>
                    <a:lnTo>
                      <a:pt x="2202" y="1336"/>
                    </a:lnTo>
                    <a:lnTo>
                      <a:pt x="2180" y="1384"/>
                    </a:lnTo>
                    <a:lnTo>
                      <a:pt x="2156" y="1434"/>
                    </a:lnTo>
                    <a:lnTo>
                      <a:pt x="2156" y="1434"/>
                    </a:lnTo>
                    <a:lnTo>
                      <a:pt x="2040" y="1374"/>
                    </a:lnTo>
                    <a:lnTo>
                      <a:pt x="1952" y="1322"/>
                    </a:lnTo>
                    <a:lnTo>
                      <a:pt x="1878" y="1276"/>
                    </a:lnTo>
                    <a:lnTo>
                      <a:pt x="1800" y="1224"/>
                    </a:lnTo>
                    <a:lnTo>
                      <a:pt x="1800" y="1224"/>
                    </a:lnTo>
                    <a:lnTo>
                      <a:pt x="1762" y="1294"/>
                    </a:lnTo>
                    <a:lnTo>
                      <a:pt x="1724" y="1356"/>
                    </a:lnTo>
                    <a:lnTo>
                      <a:pt x="1688" y="1416"/>
                    </a:lnTo>
                    <a:lnTo>
                      <a:pt x="1652" y="1470"/>
                    </a:lnTo>
                    <a:lnTo>
                      <a:pt x="1614" y="1522"/>
                    </a:lnTo>
                    <a:lnTo>
                      <a:pt x="1576" y="1574"/>
                    </a:lnTo>
                    <a:lnTo>
                      <a:pt x="1534" y="1624"/>
                    </a:lnTo>
                    <a:lnTo>
                      <a:pt x="1490" y="1676"/>
                    </a:lnTo>
                    <a:lnTo>
                      <a:pt x="1490" y="1676"/>
                    </a:lnTo>
                    <a:lnTo>
                      <a:pt x="1540" y="1702"/>
                    </a:lnTo>
                    <a:lnTo>
                      <a:pt x="1590" y="1728"/>
                    </a:lnTo>
                    <a:lnTo>
                      <a:pt x="1642" y="1754"/>
                    </a:lnTo>
                    <a:lnTo>
                      <a:pt x="1696" y="1778"/>
                    </a:lnTo>
                    <a:lnTo>
                      <a:pt x="1750" y="1800"/>
                    </a:lnTo>
                    <a:lnTo>
                      <a:pt x="1804" y="1822"/>
                    </a:lnTo>
                    <a:lnTo>
                      <a:pt x="1860" y="1844"/>
                    </a:lnTo>
                    <a:lnTo>
                      <a:pt x="1916" y="1864"/>
                    </a:lnTo>
                    <a:lnTo>
                      <a:pt x="1972" y="1882"/>
                    </a:lnTo>
                    <a:lnTo>
                      <a:pt x="2032" y="1900"/>
                    </a:lnTo>
                    <a:lnTo>
                      <a:pt x="2090" y="1916"/>
                    </a:lnTo>
                    <a:lnTo>
                      <a:pt x="2150" y="1932"/>
                    </a:lnTo>
                    <a:lnTo>
                      <a:pt x="2210" y="1948"/>
                    </a:lnTo>
                    <a:lnTo>
                      <a:pt x="2272" y="1960"/>
                    </a:lnTo>
                    <a:lnTo>
                      <a:pt x="2336" y="1974"/>
                    </a:lnTo>
                    <a:lnTo>
                      <a:pt x="2400" y="1984"/>
                    </a:lnTo>
                    <a:lnTo>
                      <a:pt x="2400" y="1984"/>
                    </a:lnTo>
                    <a:lnTo>
                      <a:pt x="2368" y="2034"/>
                    </a:lnTo>
                    <a:lnTo>
                      <a:pt x="2340" y="2080"/>
                    </a:lnTo>
                    <a:lnTo>
                      <a:pt x="2316" y="2124"/>
                    </a:lnTo>
                    <a:lnTo>
                      <a:pt x="2294" y="2168"/>
                    </a:lnTo>
                    <a:lnTo>
                      <a:pt x="2274" y="2214"/>
                    </a:lnTo>
                    <a:lnTo>
                      <a:pt x="2256" y="2264"/>
                    </a:lnTo>
                    <a:lnTo>
                      <a:pt x="2236" y="2322"/>
                    </a:lnTo>
                    <a:lnTo>
                      <a:pt x="2216" y="2386"/>
                    </a:lnTo>
                    <a:lnTo>
                      <a:pt x="2216" y="2386"/>
                    </a:lnTo>
                    <a:lnTo>
                      <a:pt x="2120" y="2362"/>
                    </a:lnTo>
                    <a:lnTo>
                      <a:pt x="2034" y="2340"/>
                    </a:lnTo>
                    <a:lnTo>
                      <a:pt x="1954" y="2316"/>
                    </a:lnTo>
                    <a:lnTo>
                      <a:pt x="1878" y="2294"/>
                    </a:lnTo>
                    <a:lnTo>
                      <a:pt x="1808" y="2268"/>
                    </a:lnTo>
                    <a:lnTo>
                      <a:pt x="1738" y="2242"/>
                    </a:lnTo>
                    <a:lnTo>
                      <a:pt x="1670" y="2214"/>
                    </a:lnTo>
                    <a:lnTo>
                      <a:pt x="1598" y="2182"/>
                    </a:lnTo>
                    <a:lnTo>
                      <a:pt x="1598" y="2182"/>
                    </a:lnTo>
                    <a:lnTo>
                      <a:pt x="1542" y="2154"/>
                    </a:lnTo>
                    <a:lnTo>
                      <a:pt x="1488" y="2128"/>
                    </a:lnTo>
                    <a:lnTo>
                      <a:pt x="1436" y="2100"/>
                    </a:lnTo>
                    <a:lnTo>
                      <a:pt x="1386" y="2070"/>
                    </a:lnTo>
                    <a:lnTo>
                      <a:pt x="1336" y="2042"/>
                    </a:lnTo>
                    <a:lnTo>
                      <a:pt x="1288" y="2010"/>
                    </a:lnTo>
                    <a:lnTo>
                      <a:pt x="1240" y="1978"/>
                    </a:lnTo>
                    <a:lnTo>
                      <a:pt x="1190" y="1944"/>
                    </a:lnTo>
                    <a:lnTo>
                      <a:pt x="1190" y="1944"/>
                    </a:lnTo>
                    <a:lnTo>
                      <a:pt x="1126" y="1990"/>
                    </a:lnTo>
                    <a:lnTo>
                      <a:pt x="1062" y="2032"/>
                    </a:lnTo>
                    <a:lnTo>
                      <a:pt x="998" y="2072"/>
                    </a:lnTo>
                    <a:lnTo>
                      <a:pt x="932" y="2110"/>
                    </a:lnTo>
                    <a:lnTo>
                      <a:pt x="866" y="2144"/>
                    </a:lnTo>
                    <a:lnTo>
                      <a:pt x="798" y="2178"/>
                    </a:lnTo>
                    <a:lnTo>
                      <a:pt x="728" y="2208"/>
                    </a:lnTo>
                    <a:lnTo>
                      <a:pt x="658" y="2238"/>
                    </a:lnTo>
                    <a:lnTo>
                      <a:pt x="658" y="2238"/>
                    </a:lnTo>
                    <a:lnTo>
                      <a:pt x="594" y="2264"/>
                    </a:lnTo>
                    <a:lnTo>
                      <a:pt x="532" y="2288"/>
                    </a:lnTo>
                    <a:lnTo>
                      <a:pt x="410" y="2332"/>
                    </a:lnTo>
                    <a:lnTo>
                      <a:pt x="294" y="2368"/>
                    </a:lnTo>
                    <a:lnTo>
                      <a:pt x="184" y="2400"/>
                    </a:lnTo>
                    <a:lnTo>
                      <a:pt x="184" y="2400"/>
                    </a:lnTo>
                    <a:lnTo>
                      <a:pt x="166" y="2346"/>
                    </a:lnTo>
                    <a:lnTo>
                      <a:pt x="146" y="2296"/>
                    </a:lnTo>
                    <a:lnTo>
                      <a:pt x="128" y="2248"/>
                    </a:lnTo>
                    <a:lnTo>
                      <a:pt x="106" y="2204"/>
                    </a:lnTo>
                    <a:lnTo>
                      <a:pt x="84" y="2162"/>
                    </a:lnTo>
                    <a:lnTo>
                      <a:pt x="60" y="2118"/>
                    </a:lnTo>
                    <a:lnTo>
                      <a:pt x="32" y="2074"/>
                    </a:lnTo>
                    <a:lnTo>
                      <a:pt x="0" y="2028"/>
                    </a:lnTo>
                    <a:lnTo>
                      <a:pt x="0" y="2028"/>
                    </a:lnTo>
                    <a:lnTo>
                      <a:pt x="116" y="2004"/>
                    </a:lnTo>
                    <a:lnTo>
                      <a:pt x="208" y="1982"/>
                    </a:lnTo>
                    <a:lnTo>
                      <a:pt x="292" y="1958"/>
                    </a:lnTo>
                    <a:lnTo>
                      <a:pt x="384" y="1926"/>
                    </a:lnTo>
                    <a:lnTo>
                      <a:pt x="384" y="1926"/>
                    </a:lnTo>
                    <a:lnTo>
                      <a:pt x="466" y="1898"/>
                    </a:lnTo>
                    <a:lnTo>
                      <a:pt x="540" y="1870"/>
                    </a:lnTo>
                    <a:lnTo>
                      <a:pt x="608" y="1842"/>
                    </a:lnTo>
                    <a:lnTo>
                      <a:pt x="672" y="1814"/>
                    </a:lnTo>
                    <a:lnTo>
                      <a:pt x="730" y="1784"/>
                    </a:lnTo>
                    <a:lnTo>
                      <a:pt x="788" y="1752"/>
                    </a:lnTo>
                    <a:lnTo>
                      <a:pt x="844" y="1720"/>
                    </a:lnTo>
                    <a:lnTo>
                      <a:pt x="902" y="1684"/>
                    </a:lnTo>
                    <a:lnTo>
                      <a:pt x="902" y="1684"/>
                    </a:lnTo>
                    <a:lnTo>
                      <a:pt x="852" y="1626"/>
                    </a:lnTo>
                    <a:lnTo>
                      <a:pt x="806" y="1570"/>
                    </a:lnTo>
                    <a:lnTo>
                      <a:pt x="762" y="1514"/>
                    </a:lnTo>
                    <a:lnTo>
                      <a:pt x="722" y="1460"/>
                    </a:lnTo>
                    <a:lnTo>
                      <a:pt x="686" y="1404"/>
                    </a:lnTo>
                    <a:lnTo>
                      <a:pt x="650" y="1346"/>
                    </a:lnTo>
                    <a:lnTo>
                      <a:pt x="616" y="1288"/>
                    </a:lnTo>
                    <a:lnTo>
                      <a:pt x="582" y="1224"/>
                    </a:lnTo>
                    <a:lnTo>
                      <a:pt x="582" y="1224"/>
                    </a:lnTo>
                    <a:lnTo>
                      <a:pt x="512" y="1282"/>
                    </a:lnTo>
                    <a:lnTo>
                      <a:pt x="444" y="1334"/>
                    </a:lnTo>
                    <a:lnTo>
                      <a:pt x="364" y="1390"/>
                    </a:lnTo>
                    <a:lnTo>
                      <a:pt x="262" y="1458"/>
                    </a:lnTo>
                    <a:lnTo>
                      <a:pt x="262" y="1458"/>
                    </a:lnTo>
                    <a:lnTo>
                      <a:pt x="232" y="1410"/>
                    </a:lnTo>
                    <a:lnTo>
                      <a:pt x="204" y="1368"/>
                    </a:lnTo>
                    <a:lnTo>
                      <a:pt x="174" y="1326"/>
                    </a:lnTo>
                    <a:lnTo>
                      <a:pt x="146" y="1290"/>
                    </a:lnTo>
                    <a:lnTo>
                      <a:pt x="114" y="1252"/>
                    </a:lnTo>
                    <a:lnTo>
                      <a:pt x="82" y="1216"/>
                    </a:lnTo>
                    <a:lnTo>
                      <a:pt x="48" y="1180"/>
                    </a:lnTo>
                    <a:lnTo>
                      <a:pt x="10" y="1144"/>
                    </a:lnTo>
                    <a:lnTo>
                      <a:pt x="10" y="1144"/>
                    </a:lnTo>
                    <a:lnTo>
                      <a:pt x="82" y="1104"/>
                    </a:lnTo>
                    <a:lnTo>
                      <a:pt x="148" y="1068"/>
                    </a:lnTo>
                    <a:lnTo>
                      <a:pt x="208" y="1030"/>
                    </a:lnTo>
                    <a:lnTo>
                      <a:pt x="264" y="994"/>
                    </a:lnTo>
                    <a:lnTo>
                      <a:pt x="318" y="954"/>
                    </a:lnTo>
                    <a:lnTo>
                      <a:pt x="370" y="914"/>
                    </a:lnTo>
                    <a:lnTo>
                      <a:pt x="422" y="872"/>
                    </a:lnTo>
                    <a:lnTo>
                      <a:pt x="472" y="824"/>
                    </a:lnTo>
                    <a:lnTo>
                      <a:pt x="472" y="824"/>
                    </a:lnTo>
                    <a:lnTo>
                      <a:pt x="528" y="772"/>
                    </a:lnTo>
                    <a:lnTo>
                      <a:pt x="576" y="722"/>
                    </a:lnTo>
                    <a:lnTo>
                      <a:pt x="626" y="662"/>
                    </a:lnTo>
                    <a:lnTo>
                      <a:pt x="686" y="586"/>
                    </a:lnTo>
                    <a:lnTo>
                      <a:pt x="386" y="586"/>
                    </a:lnTo>
                    <a:lnTo>
                      <a:pt x="386" y="586"/>
                    </a:lnTo>
                    <a:lnTo>
                      <a:pt x="276" y="586"/>
                    </a:lnTo>
                    <a:lnTo>
                      <a:pt x="182" y="590"/>
                    </a:lnTo>
                    <a:lnTo>
                      <a:pt x="104" y="594"/>
                    </a:lnTo>
                    <a:lnTo>
                      <a:pt x="40" y="600"/>
                    </a:lnTo>
                    <a:lnTo>
                      <a:pt x="40" y="204"/>
                    </a:lnTo>
                    <a:lnTo>
                      <a:pt x="40" y="204"/>
                    </a:lnTo>
                    <a:lnTo>
                      <a:pt x="104" y="210"/>
                    </a:lnTo>
                    <a:lnTo>
                      <a:pt x="182" y="214"/>
                    </a:lnTo>
                    <a:lnTo>
                      <a:pt x="278" y="218"/>
                    </a:lnTo>
                    <a:lnTo>
                      <a:pt x="386" y="218"/>
                    </a:lnTo>
                    <a:lnTo>
                      <a:pt x="974" y="218"/>
                    </a:lnTo>
                    <a:lnTo>
                      <a:pt x="974" y="154"/>
                    </a:lnTo>
                    <a:lnTo>
                      <a:pt x="974" y="154"/>
                    </a:lnTo>
                    <a:lnTo>
                      <a:pt x="974" y="116"/>
                    </a:lnTo>
                    <a:lnTo>
                      <a:pt x="970" y="76"/>
                    </a:lnTo>
                    <a:lnTo>
                      <a:pt x="966" y="38"/>
                    </a:lnTo>
                    <a:lnTo>
                      <a:pt x="960" y="0"/>
                    </a:lnTo>
                    <a:lnTo>
                      <a:pt x="1388" y="0"/>
                    </a:lnTo>
                    <a:lnTo>
                      <a:pt x="1388" y="0"/>
                    </a:lnTo>
                    <a:lnTo>
                      <a:pt x="1382" y="36"/>
                    </a:lnTo>
                    <a:lnTo>
                      <a:pt x="1378" y="72"/>
                    </a:lnTo>
                    <a:lnTo>
                      <a:pt x="1376" y="112"/>
                    </a:lnTo>
                    <a:lnTo>
                      <a:pt x="1376" y="154"/>
                    </a:lnTo>
                    <a:lnTo>
                      <a:pt x="1376" y="218"/>
                    </a:lnTo>
                    <a:lnTo>
                      <a:pt x="1998" y="218"/>
                    </a:lnTo>
                    <a:lnTo>
                      <a:pt x="1998" y="218"/>
                    </a:lnTo>
                    <a:lnTo>
                      <a:pt x="2106" y="218"/>
                    </a:lnTo>
                    <a:lnTo>
                      <a:pt x="2200" y="214"/>
                    </a:lnTo>
                    <a:lnTo>
                      <a:pt x="2280" y="210"/>
                    </a:lnTo>
                    <a:lnTo>
                      <a:pt x="2344" y="204"/>
                    </a:lnTo>
                    <a:lnTo>
                      <a:pt x="2344" y="600"/>
                    </a:lnTo>
                    <a:lnTo>
                      <a:pt x="2344" y="600"/>
                    </a:lnTo>
                    <a:lnTo>
                      <a:pt x="2280" y="594"/>
                    </a:lnTo>
                    <a:lnTo>
                      <a:pt x="2198" y="590"/>
                    </a:lnTo>
                    <a:lnTo>
                      <a:pt x="2102" y="586"/>
                    </a:lnTo>
                    <a:lnTo>
                      <a:pt x="1994" y="586"/>
                    </a:lnTo>
                    <a:lnTo>
                      <a:pt x="1646" y="586"/>
                    </a:lnTo>
                    <a:close/>
                    <a:moveTo>
                      <a:pt x="914" y="1052"/>
                    </a:moveTo>
                    <a:lnTo>
                      <a:pt x="914" y="1052"/>
                    </a:lnTo>
                    <a:lnTo>
                      <a:pt x="946" y="1120"/>
                    </a:lnTo>
                    <a:lnTo>
                      <a:pt x="978" y="1178"/>
                    </a:lnTo>
                    <a:lnTo>
                      <a:pt x="1008" y="1232"/>
                    </a:lnTo>
                    <a:lnTo>
                      <a:pt x="1038" y="1278"/>
                    </a:lnTo>
                    <a:lnTo>
                      <a:pt x="1070" y="1322"/>
                    </a:lnTo>
                    <a:lnTo>
                      <a:pt x="1104" y="1364"/>
                    </a:lnTo>
                    <a:lnTo>
                      <a:pt x="1142" y="1406"/>
                    </a:lnTo>
                    <a:lnTo>
                      <a:pt x="1186" y="1450"/>
                    </a:lnTo>
                    <a:lnTo>
                      <a:pt x="1186" y="1450"/>
                    </a:lnTo>
                    <a:lnTo>
                      <a:pt x="1224" y="1406"/>
                    </a:lnTo>
                    <a:lnTo>
                      <a:pt x="1262" y="1362"/>
                    </a:lnTo>
                    <a:lnTo>
                      <a:pt x="1298" y="1316"/>
                    </a:lnTo>
                    <a:lnTo>
                      <a:pt x="1332" y="1266"/>
                    </a:lnTo>
                    <a:lnTo>
                      <a:pt x="1362" y="1216"/>
                    </a:lnTo>
                    <a:lnTo>
                      <a:pt x="1392" y="1164"/>
                    </a:lnTo>
                    <a:lnTo>
                      <a:pt x="1422" y="1108"/>
                    </a:lnTo>
                    <a:lnTo>
                      <a:pt x="1448" y="1050"/>
                    </a:lnTo>
                    <a:lnTo>
                      <a:pt x="1778" y="1210"/>
                    </a:lnTo>
                    <a:lnTo>
                      <a:pt x="1778" y="1210"/>
                    </a:lnTo>
                    <a:lnTo>
                      <a:pt x="1710" y="1158"/>
                    </a:lnTo>
                    <a:lnTo>
                      <a:pt x="1648" y="1108"/>
                    </a:lnTo>
                    <a:lnTo>
                      <a:pt x="1590" y="1060"/>
                    </a:lnTo>
                    <a:lnTo>
                      <a:pt x="1536" y="1008"/>
                    </a:lnTo>
                    <a:lnTo>
                      <a:pt x="1484" y="956"/>
                    </a:lnTo>
                    <a:lnTo>
                      <a:pt x="1430" y="898"/>
                    </a:lnTo>
                    <a:lnTo>
                      <a:pt x="1376" y="834"/>
                    </a:lnTo>
                    <a:lnTo>
                      <a:pt x="1316" y="764"/>
                    </a:lnTo>
                    <a:lnTo>
                      <a:pt x="1604" y="586"/>
                    </a:lnTo>
                    <a:lnTo>
                      <a:pt x="716" y="586"/>
                    </a:lnTo>
                    <a:lnTo>
                      <a:pt x="1034" y="758"/>
                    </a:lnTo>
                    <a:lnTo>
                      <a:pt x="1034" y="758"/>
                    </a:lnTo>
                    <a:lnTo>
                      <a:pt x="982" y="826"/>
                    </a:lnTo>
                    <a:lnTo>
                      <a:pt x="934" y="886"/>
                    </a:lnTo>
                    <a:lnTo>
                      <a:pt x="886" y="940"/>
                    </a:lnTo>
                    <a:lnTo>
                      <a:pt x="840" y="992"/>
                    </a:lnTo>
                    <a:lnTo>
                      <a:pt x="790" y="1042"/>
                    </a:lnTo>
                    <a:lnTo>
                      <a:pt x="736" y="1092"/>
                    </a:lnTo>
                    <a:lnTo>
                      <a:pt x="676" y="1146"/>
                    </a:lnTo>
                    <a:lnTo>
                      <a:pt x="608" y="1204"/>
                    </a:lnTo>
                    <a:lnTo>
                      <a:pt x="914" y="1052"/>
                    </a:lnTo>
                    <a:close/>
                  </a:path>
                </a:pathLst>
              </a:custGeom>
              <a:solidFill>
                <a:srgbClr val="e7211a"/>
              </a:solidFill>
              <a:ln w="5396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18"/>
              <p:cNvSpPr/>
              <p:nvPr/>
            </p:nvSpPr>
            <p:spPr>
              <a:xfrm>
                <a:off x="21732840" y="2260440"/>
                <a:ext cx="3908160" cy="3711960"/>
              </a:xfrm>
              <a:custGeom>
                <a:avLst/>
                <a:gdLst>
                  <a:gd name="textAreaLeft" fmla="*/ 0 w 3908160"/>
                  <a:gd name="textAreaRight" fmla="*/ 3908520 w 3908160"/>
                  <a:gd name="textAreaTop" fmla="*/ 0 h 3711960"/>
                  <a:gd name="textAreaBottom" fmla="*/ 3711960 h 3711960"/>
                </a:gdLst>
                <a:ahLst/>
                <a:rect l="textAreaLeft" t="textAreaTop" r="textAreaRight" b="textAreaBottom"/>
                <a:pathLst>
                  <a:path w="2462" h="2338">
                    <a:moveTo>
                      <a:pt x="676" y="1772"/>
                    </a:moveTo>
                    <a:lnTo>
                      <a:pt x="676" y="1772"/>
                    </a:lnTo>
                    <a:lnTo>
                      <a:pt x="698" y="1806"/>
                    </a:lnTo>
                    <a:lnTo>
                      <a:pt x="708" y="1820"/>
                    </a:lnTo>
                    <a:lnTo>
                      <a:pt x="718" y="1832"/>
                    </a:lnTo>
                    <a:lnTo>
                      <a:pt x="730" y="1842"/>
                    </a:lnTo>
                    <a:lnTo>
                      <a:pt x="744" y="1854"/>
                    </a:lnTo>
                    <a:lnTo>
                      <a:pt x="778" y="1878"/>
                    </a:lnTo>
                    <a:lnTo>
                      <a:pt x="778" y="1878"/>
                    </a:lnTo>
                    <a:lnTo>
                      <a:pt x="782" y="1824"/>
                    </a:lnTo>
                    <a:lnTo>
                      <a:pt x="786" y="1760"/>
                    </a:lnTo>
                    <a:lnTo>
                      <a:pt x="788" y="1688"/>
                    </a:lnTo>
                    <a:lnTo>
                      <a:pt x="790" y="1606"/>
                    </a:lnTo>
                    <a:lnTo>
                      <a:pt x="790" y="818"/>
                    </a:lnTo>
                    <a:lnTo>
                      <a:pt x="790" y="818"/>
                    </a:lnTo>
                    <a:lnTo>
                      <a:pt x="790" y="728"/>
                    </a:lnTo>
                    <a:lnTo>
                      <a:pt x="788" y="654"/>
                    </a:lnTo>
                    <a:lnTo>
                      <a:pt x="784" y="588"/>
                    </a:lnTo>
                    <a:lnTo>
                      <a:pt x="778" y="516"/>
                    </a:lnTo>
                    <a:lnTo>
                      <a:pt x="778" y="516"/>
                    </a:lnTo>
                    <a:lnTo>
                      <a:pt x="838" y="522"/>
                    </a:lnTo>
                    <a:lnTo>
                      <a:pt x="902" y="524"/>
                    </a:lnTo>
                    <a:lnTo>
                      <a:pt x="976" y="526"/>
                    </a:lnTo>
                    <a:lnTo>
                      <a:pt x="1068" y="526"/>
                    </a:lnTo>
                    <a:lnTo>
                      <a:pt x="1140" y="526"/>
                    </a:lnTo>
                    <a:lnTo>
                      <a:pt x="1140" y="526"/>
                    </a:lnTo>
                    <a:lnTo>
                      <a:pt x="1060" y="476"/>
                    </a:lnTo>
                    <a:lnTo>
                      <a:pt x="992" y="440"/>
                    </a:lnTo>
                    <a:lnTo>
                      <a:pt x="1134" y="362"/>
                    </a:lnTo>
                    <a:lnTo>
                      <a:pt x="1018" y="362"/>
                    </a:lnTo>
                    <a:lnTo>
                      <a:pt x="1018" y="362"/>
                    </a:lnTo>
                    <a:lnTo>
                      <a:pt x="934" y="362"/>
                    </a:lnTo>
                    <a:lnTo>
                      <a:pt x="866" y="364"/>
                    </a:lnTo>
                    <a:lnTo>
                      <a:pt x="806" y="368"/>
                    </a:lnTo>
                    <a:lnTo>
                      <a:pt x="750" y="374"/>
                    </a:lnTo>
                    <a:lnTo>
                      <a:pt x="750" y="18"/>
                    </a:lnTo>
                    <a:lnTo>
                      <a:pt x="750" y="18"/>
                    </a:lnTo>
                    <a:lnTo>
                      <a:pt x="818" y="24"/>
                    </a:lnTo>
                    <a:lnTo>
                      <a:pt x="894" y="28"/>
                    </a:lnTo>
                    <a:lnTo>
                      <a:pt x="980" y="32"/>
                    </a:lnTo>
                    <a:lnTo>
                      <a:pt x="1086" y="32"/>
                    </a:lnTo>
                    <a:lnTo>
                      <a:pt x="1842" y="32"/>
                    </a:lnTo>
                    <a:lnTo>
                      <a:pt x="1842" y="32"/>
                    </a:lnTo>
                    <a:lnTo>
                      <a:pt x="1962" y="32"/>
                    </a:lnTo>
                    <a:lnTo>
                      <a:pt x="2052" y="28"/>
                    </a:lnTo>
                    <a:lnTo>
                      <a:pt x="2116" y="24"/>
                    </a:lnTo>
                    <a:lnTo>
                      <a:pt x="2160" y="18"/>
                    </a:lnTo>
                    <a:lnTo>
                      <a:pt x="2348" y="220"/>
                    </a:lnTo>
                    <a:lnTo>
                      <a:pt x="2348" y="220"/>
                    </a:lnTo>
                    <a:lnTo>
                      <a:pt x="2328" y="234"/>
                    </a:lnTo>
                    <a:lnTo>
                      <a:pt x="2308" y="250"/>
                    </a:lnTo>
                    <a:lnTo>
                      <a:pt x="2230" y="318"/>
                    </a:lnTo>
                    <a:lnTo>
                      <a:pt x="2230" y="318"/>
                    </a:lnTo>
                    <a:lnTo>
                      <a:pt x="2168" y="374"/>
                    </a:lnTo>
                    <a:lnTo>
                      <a:pt x="2102" y="430"/>
                    </a:lnTo>
                    <a:lnTo>
                      <a:pt x="2036" y="480"/>
                    </a:lnTo>
                    <a:lnTo>
                      <a:pt x="1974" y="526"/>
                    </a:lnTo>
                    <a:lnTo>
                      <a:pt x="2090" y="526"/>
                    </a:lnTo>
                    <a:lnTo>
                      <a:pt x="2090" y="526"/>
                    </a:lnTo>
                    <a:lnTo>
                      <a:pt x="2166" y="526"/>
                    </a:lnTo>
                    <a:lnTo>
                      <a:pt x="2228" y="524"/>
                    </a:lnTo>
                    <a:lnTo>
                      <a:pt x="2280" y="522"/>
                    </a:lnTo>
                    <a:lnTo>
                      <a:pt x="2330" y="516"/>
                    </a:lnTo>
                    <a:lnTo>
                      <a:pt x="2330" y="516"/>
                    </a:lnTo>
                    <a:lnTo>
                      <a:pt x="2326" y="566"/>
                    </a:lnTo>
                    <a:lnTo>
                      <a:pt x="2322" y="626"/>
                    </a:lnTo>
                    <a:lnTo>
                      <a:pt x="2322" y="698"/>
                    </a:lnTo>
                    <a:lnTo>
                      <a:pt x="2320" y="788"/>
                    </a:lnTo>
                    <a:lnTo>
                      <a:pt x="2320" y="1622"/>
                    </a:lnTo>
                    <a:lnTo>
                      <a:pt x="2320" y="1622"/>
                    </a:lnTo>
                    <a:lnTo>
                      <a:pt x="2320" y="1668"/>
                    </a:lnTo>
                    <a:lnTo>
                      <a:pt x="2316" y="1706"/>
                    </a:lnTo>
                    <a:lnTo>
                      <a:pt x="2310" y="1740"/>
                    </a:lnTo>
                    <a:lnTo>
                      <a:pt x="2300" y="1766"/>
                    </a:lnTo>
                    <a:lnTo>
                      <a:pt x="2294" y="1780"/>
                    </a:lnTo>
                    <a:lnTo>
                      <a:pt x="2288" y="1790"/>
                    </a:lnTo>
                    <a:lnTo>
                      <a:pt x="2280" y="1800"/>
                    </a:lnTo>
                    <a:lnTo>
                      <a:pt x="2272" y="1810"/>
                    </a:lnTo>
                    <a:lnTo>
                      <a:pt x="2252" y="1826"/>
                    </a:lnTo>
                    <a:lnTo>
                      <a:pt x="2230" y="1842"/>
                    </a:lnTo>
                    <a:lnTo>
                      <a:pt x="2230" y="1842"/>
                    </a:lnTo>
                    <a:lnTo>
                      <a:pt x="2210" y="1850"/>
                    </a:lnTo>
                    <a:lnTo>
                      <a:pt x="2186" y="1858"/>
                    </a:lnTo>
                    <a:lnTo>
                      <a:pt x="2156" y="1866"/>
                    </a:lnTo>
                    <a:lnTo>
                      <a:pt x="2124" y="1870"/>
                    </a:lnTo>
                    <a:lnTo>
                      <a:pt x="2086" y="1874"/>
                    </a:lnTo>
                    <a:lnTo>
                      <a:pt x="2044" y="1878"/>
                    </a:lnTo>
                    <a:lnTo>
                      <a:pt x="1998" y="1880"/>
                    </a:lnTo>
                    <a:lnTo>
                      <a:pt x="1946" y="1880"/>
                    </a:lnTo>
                    <a:lnTo>
                      <a:pt x="1946" y="1880"/>
                    </a:lnTo>
                    <a:lnTo>
                      <a:pt x="1860" y="1880"/>
                    </a:lnTo>
                    <a:lnTo>
                      <a:pt x="1860" y="1880"/>
                    </a:lnTo>
                    <a:lnTo>
                      <a:pt x="1848" y="1804"/>
                    </a:lnTo>
                    <a:lnTo>
                      <a:pt x="1836" y="1742"/>
                    </a:lnTo>
                    <a:lnTo>
                      <a:pt x="1820" y="1682"/>
                    </a:lnTo>
                    <a:lnTo>
                      <a:pt x="1798" y="1618"/>
                    </a:lnTo>
                    <a:lnTo>
                      <a:pt x="1798" y="1618"/>
                    </a:lnTo>
                    <a:lnTo>
                      <a:pt x="1858" y="1624"/>
                    </a:lnTo>
                    <a:lnTo>
                      <a:pt x="1908" y="1626"/>
                    </a:lnTo>
                    <a:lnTo>
                      <a:pt x="1908" y="1626"/>
                    </a:lnTo>
                    <a:lnTo>
                      <a:pt x="1922" y="1626"/>
                    </a:lnTo>
                    <a:lnTo>
                      <a:pt x="1932" y="1626"/>
                    </a:lnTo>
                    <a:lnTo>
                      <a:pt x="1940" y="1622"/>
                    </a:lnTo>
                    <a:lnTo>
                      <a:pt x="1946" y="1618"/>
                    </a:lnTo>
                    <a:lnTo>
                      <a:pt x="1950" y="1612"/>
                    </a:lnTo>
                    <a:lnTo>
                      <a:pt x="1952" y="1602"/>
                    </a:lnTo>
                    <a:lnTo>
                      <a:pt x="1954" y="1574"/>
                    </a:lnTo>
                    <a:lnTo>
                      <a:pt x="1954" y="1522"/>
                    </a:lnTo>
                    <a:lnTo>
                      <a:pt x="1722" y="1522"/>
                    </a:lnTo>
                    <a:lnTo>
                      <a:pt x="1722" y="1596"/>
                    </a:lnTo>
                    <a:lnTo>
                      <a:pt x="1722" y="1596"/>
                    </a:lnTo>
                    <a:lnTo>
                      <a:pt x="1724" y="1692"/>
                    </a:lnTo>
                    <a:lnTo>
                      <a:pt x="1726" y="1762"/>
                    </a:lnTo>
                    <a:lnTo>
                      <a:pt x="1728" y="1822"/>
                    </a:lnTo>
                    <a:lnTo>
                      <a:pt x="1736" y="1880"/>
                    </a:lnTo>
                    <a:lnTo>
                      <a:pt x="1352" y="1880"/>
                    </a:lnTo>
                    <a:lnTo>
                      <a:pt x="1352" y="1880"/>
                    </a:lnTo>
                    <a:lnTo>
                      <a:pt x="1360" y="1822"/>
                    </a:lnTo>
                    <a:lnTo>
                      <a:pt x="1364" y="1760"/>
                    </a:lnTo>
                    <a:lnTo>
                      <a:pt x="1366" y="1688"/>
                    </a:lnTo>
                    <a:lnTo>
                      <a:pt x="1368" y="1596"/>
                    </a:lnTo>
                    <a:lnTo>
                      <a:pt x="1368" y="1522"/>
                    </a:lnTo>
                    <a:lnTo>
                      <a:pt x="1158" y="1522"/>
                    </a:lnTo>
                    <a:lnTo>
                      <a:pt x="1158" y="1606"/>
                    </a:lnTo>
                    <a:lnTo>
                      <a:pt x="1158" y="1606"/>
                    </a:lnTo>
                    <a:lnTo>
                      <a:pt x="1158" y="1704"/>
                    </a:lnTo>
                    <a:lnTo>
                      <a:pt x="1160" y="1782"/>
                    </a:lnTo>
                    <a:lnTo>
                      <a:pt x="1164" y="1842"/>
                    </a:lnTo>
                    <a:lnTo>
                      <a:pt x="1168" y="1866"/>
                    </a:lnTo>
                    <a:lnTo>
                      <a:pt x="1172" y="1888"/>
                    </a:lnTo>
                    <a:lnTo>
                      <a:pt x="798" y="1888"/>
                    </a:lnTo>
                    <a:lnTo>
                      <a:pt x="798" y="1888"/>
                    </a:lnTo>
                    <a:lnTo>
                      <a:pt x="822" y="1900"/>
                    </a:lnTo>
                    <a:lnTo>
                      <a:pt x="848" y="1910"/>
                    </a:lnTo>
                    <a:lnTo>
                      <a:pt x="872" y="1918"/>
                    </a:lnTo>
                    <a:lnTo>
                      <a:pt x="896" y="1924"/>
                    </a:lnTo>
                    <a:lnTo>
                      <a:pt x="924" y="1930"/>
                    </a:lnTo>
                    <a:lnTo>
                      <a:pt x="954" y="1936"/>
                    </a:lnTo>
                    <a:lnTo>
                      <a:pt x="1034" y="1944"/>
                    </a:lnTo>
                    <a:lnTo>
                      <a:pt x="1034" y="1944"/>
                    </a:lnTo>
                    <a:lnTo>
                      <a:pt x="1132" y="1948"/>
                    </a:lnTo>
                    <a:lnTo>
                      <a:pt x="1292" y="1952"/>
                    </a:lnTo>
                    <a:lnTo>
                      <a:pt x="1460" y="1956"/>
                    </a:lnTo>
                    <a:lnTo>
                      <a:pt x="1584" y="1958"/>
                    </a:lnTo>
                    <a:lnTo>
                      <a:pt x="1584" y="1958"/>
                    </a:lnTo>
                    <a:lnTo>
                      <a:pt x="1680" y="1958"/>
                    </a:lnTo>
                    <a:lnTo>
                      <a:pt x="1782" y="1954"/>
                    </a:lnTo>
                    <a:lnTo>
                      <a:pt x="1888" y="1950"/>
                    </a:lnTo>
                    <a:lnTo>
                      <a:pt x="1998" y="1944"/>
                    </a:lnTo>
                    <a:lnTo>
                      <a:pt x="2112" y="1936"/>
                    </a:lnTo>
                    <a:lnTo>
                      <a:pt x="2226" y="1926"/>
                    </a:lnTo>
                    <a:lnTo>
                      <a:pt x="2344" y="1914"/>
                    </a:lnTo>
                    <a:lnTo>
                      <a:pt x="2462" y="1900"/>
                    </a:lnTo>
                    <a:lnTo>
                      <a:pt x="2462" y="1900"/>
                    </a:lnTo>
                    <a:lnTo>
                      <a:pt x="2446" y="1954"/>
                    </a:lnTo>
                    <a:lnTo>
                      <a:pt x="2430" y="2004"/>
                    </a:lnTo>
                    <a:lnTo>
                      <a:pt x="2418" y="2052"/>
                    </a:lnTo>
                    <a:lnTo>
                      <a:pt x="2406" y="2102"/>
                    </a:lnTo>
                    <a:lnTo>
                      <a:pt x="2396" y="2150"/>
                    </a:lnTo>
                    <a:lnTo>
                      <a:pt x="2388" y="2202"/>
                    </a:lnTo>
                    <a:lnTo>
                      <a:pt x="2372" y="2314"/>
                    </a:lnTo>
                    <a:lnTo>
                      <a:pt x="2372" y="2314"/>
                    </a:lnTo>
                    <a:lnTo>
                      <a:pt x="2174" y="2320"/>
                    </a:lnTo>
                    <a:lnTo>
                      <a:pt x="1978" y="2324"/>
                    </a:lnTo>
                    <a:lnTo>
                      <a:pt x="1752" y="2326"/>
                    </a:lnTo>
                    <a:lnTo>
                      <a:pt x="1470" y="2326"/>
                    </a:lnTo>
                    <a:lnTo>
                      <a:pt x="1470" y="2326"/>
                    </a:lnTo>
                    <a:lnTo>
                      <a:pt x="1374" y="2326"/>
                    </a:lnTo>
                    <a:lnTo>
                      <a:pt x="1282" y="2324"/>
                    </a:lnTo>
                    <a:lnTo>
                      <a:pt x="1194" y="2320"/>
                    </a:lnTo>
                    <a:lnTo>
                      <a:pt x="1112" y="2316"/>
                    </a:lnTo>
                    <a:lnTo>
                      <a:pt x="1036" y="2312"/>
                    </a:lnTo>
                    <a:lnTo>
                      <a:pt x="966" y="2306"/>
                    </a:lnTo>
                    <a:lnTo>
                      <a:pt x="906" y="2298"/>
                    </a:lnTo>
                    <a:lnTo>
                      <a:pt x="854" y="2290"/>
                    </a:lnTo>
                    <a:lnTo>
                      <a:pt x="854" y="2290"/>
                    </a:lnTo>
                    <a:lnTo>
                      <a:pt x="800" y="2278"/>
                    </a:lnTo>
                    <a:lnTo>
                      <a:pt x="750" y="2264"/>
                    </a:lnTo>
                    <a:lnTo>
                      <a:pt x="704" y="2246"/>
                    </a:lnTo>
                    <a:lnTo>
                      <a:pt x="660" y="2224"/>
                    </a:lnTo>
                    <a:lnTo>
                      <a:pt x="618" y="2200"/>
                    </a:lnTo>
                    <a:lnTo>
                      <a:pt x="576" y="2170"/>
                    </a:lnTo>
                    <a:lnTo>
                      <a:pt x="534" y="2134"/>
                    </a:lnTo>
                    <a:lnTo>
                      <a:pt x="494" y="2092"/>
                    </a:lnTo>
                    <a:lnTo>
                      <a:pt x="494" y="2092"/>
                    </a:lnTo>
                    <a:lnTo>
                      <a:pt x="420" y="2160"/>
                    </a:lnTo>
                    <a:lnTo>
                      <a:pt x="386" y="2190"/>
                    </a:lnTo>
                    <a:lnTo>
                      <a:pt x="352" y="2216"/>
                    </a:lnTo>
                    <a:lnTo>
                      <a:pt x="278" y="2272"/>
                    </a:lnTo>
                    <a:lnTo>
                      <a:pt x="182" y="2338"/>
                    </a:lnTo>
                    <a:lnTo>
                      <a:pt x="0" y="1946"/>
                    </a:lnTo>
                    <a:lnTo>
                      <a:pt x="0" y="1946"/>
                    </a:lnTo>
                    <a:lnTo>
                      <a:pt x="36" y="1930"/>
                    </a:lnTo>
                    <a:lnTo>
                      <a:pt x="74" y="1912"/>
                    </a:lnTo>
                    <a:lnTo>
                      <a:pt x="112" y="1892"/>
                    </a:lnTo>
                    <a:lnTo>
                      <a:pt x="148" y="1870"/>
                    </a:lnTo>
                    <a:lnTo>
                      <a:pt x="188" y="1844"/>
                    </a:lnTo>
                    <a:lnTo>
                      <a:pt x="226" y="1818"/>
                    </a:lnTo>
                    <a:lnTo>
                      <a:pt x="268" y="1790"/>
                    </a:lnTo>
                    <a:lnTo>
                      <a:pt x="308" y="1758"/>
                    </a:lnTo>
                    <a:lnTo>
                      <a:pt x="308" y="1286"/>
                    </a:lnTo>
                    <a:lnTo>
                      <a:pt x="202" y="1286"/>
                    </a:lnTo>
                    <a:lnTo>
                      <a:pt x="202" y="1286"/>
                    </a:lnTo>
                    <a:lnTo>
                      <a:pt x="166" y="1288"/>
                    </a:lnTo>
                    <a:lnTo>
                      <a:pt x="132" y="1290"/>
                    </a:lnTo>
                    <a:lnTo>
                      <a:pt x="94" y="1294"/>
                    </a:lnTo>
                    <a:lnTo>
                      <a:pt x="50" y="1300"/>
                    </a:lnTo>
                    <a:lnTo>
                      <a:pt x="50" y="912"/>
                    </a:lnTo>
                    <a:lnTo>
                      <a:pt x="50" y="912"/>
                    </a:lnTo>
                    <a:lnTo>
                      <a:pt x="100" y="918"/>
                    </a:lnTo>
                    <a:lnTo>
                      <a:pt x="146" y="922"/>
                    </a:lnTo>
                    <a:lnTo>
                      <a:pt x="194" y="924"/>
                    </a:lnTo>
                    <a:lnTo>
                      <a:pt x="256" y="924"/>
                    </a:lnTo>
                    <a:lnTo>
                      <a:pt x="490" y="924"/>
                    </a:lnTo>
                    <a:lnTo>
                      <a:pt x="490" y="924"/>
                    </a:lnTo>
                    <a:lnTo>
                      <a:pt x="544" y="924"/>
                    </a:lnTo>
                    <a:lnTo>
                      <a:pt x="594" y="922"/>
                    </a:lnTo>
                    <a:lnTo>
                      <a:pt x="640" y="918"/>
                    </a:lnTo>
                    <a:lnTo>
                      <a:pt x="686" y="912"/>
                    </a:lnTo>
                    <a:lnTo>
                      <a:pt x="686" y="912"/>
                    </a:lnTo>
                    <a:lnTo>
                      <a:pt x="682" y="966"/>
                    </a:lnTo>
                    <a:lnTo>
                      <a:pt x="678" y="1028"/>
                    </a:lnTo>
                    <a:lnTo>
                      <a:pt x="676" y="1102"/>
                    </a:lnTo>
                    <a:lnTo>
                      <a:pt x="676" y="1200"/>
                    </a:lnTo>
                    <a:lnTo>
                      <a:pt x="676" y="1772"/>
                    </a:lnTo>
                    <a:close/>
                    <a:moveTo>
                      <a:pt x="298" y="0"/>
                    </a:moveTo>
                    <a:lnTo>
                      <a:pt x="298" y="0"/>
                    </a:lnTo>
                    <a:lnTo>
                      <a:pt x="374" y="62"/>
                    </a:lnTo>
                    <a:lnTo>
                      <a:pt x="442" y="122"/>
                    </a:lnTo>
                    <a:lnTo>
                      <a:pt x="506" y="178"/>
                    </a:lnTo>
                    <a:lnTo>
                      <a:pt x="564" y="234"/>
                    </a:lnTo>
                    <a:lnTo>
                      <a:pt x="618" y="290"/>
                    </a:lnTo>
                    <a:lnTo>
                      <a:pt x="670" y="346"/>
                    </a:lnTo>
                    <a:lnTo>
                      <a:pt x="722" y="404"/>
                    </a:lnTo>
                    <a:lnTo>
                      <a:pt x="772" y="466"/>
                    </a:lnTo>
                    <a:lnTo>
                      <a:pt x="478" y="762"/>
                    </a:lnTo>
                    <a:lnTo>
                      <a:pt x="478" y="762"/>
                    </a:lnTo>
                    <a:lnTo>
                      <a:pt x="420" y="688"/>
                    </a:lnTo>
                    <a:lnTo>
                      <a:pt x="366" y="622"/>
                    </a:lnTo>
                    <a:lnTo>
                      <a:pt x="312" y="560"/>
                    </a:lnTo>
                    <a:lnTo>
                      <a:pt x="260" y="502"/>
                    </a:lnTo>
                    <a:lnTo>
                      <a:pt x="204" y="448"/>
                    </a:lnTo>
                    <a:lnTo>
                      <a:pt x="146" y="392"/>
                    </a:lnTo>
                    <a:lnTo>
                      <a:pt x="82" y="336"/>
                    </a:lnTo>
                    <a:lnTo>
                      <a:pt x="12" y="276"/>
                    </a:lnTo>
                    <a:lnTo>
                      <a:pt x="298" y="0"/>
                    </a:lnTo>
                    <a:close/>
                    <a:moveTo>
                      <a:pt x="1158" y="814"/>
                    </a:moveTo>
                    <a:lnTo>
                      <a:pt x="1158" y="916"/>
                    </a:lnTo>
                    <a:lnTo>
                      <a:pt x="1368" y="916"/>
                    </a:lnTo>
                    <a:lnTo>
                      <a:pt x="1368" y="814"/>
                    </a:lnTo>
                    <a:lnTo>
                      <a:pt x="1158" y="814"/>
                    </a:lnTo>
                    <a:close/>
                    <a:moveTo>
                      <a:pt x="1158" y="1266"/>
                    </a:moveTo>
                    <a:lnTo>
                      <a:pt x="1368" y="1266"/>
                    </a:lnTo>
                    <a:lnTo>
                      <a:pt x="1368" y="1160"/>
                    </a:lnTo>
                    <a:lnTo>
                      <a:pt x="1158" y="1160"/>
                    </a:lnTo>
                    <a:lnTo>
                      <a:pt x="1158" y="1266"/>
                    </a:lnTo>
                    <a:close/>
                    <a:moveTo>
                      <a:pt x="1378" y="362"/>
                    </a:moveTo>
                    <a:lnTo>
                      <a:pt x="1378" y="362"/>
                    </a:lnTo>
                    <a:lnTo>
                      <a:pt x="1466" y="428"/>
                    </a:lnTo>
                    <a:lnTo>
                      <a:pt x="1558" y="502"/>
                    </a:lnTo>
                    <a:lnTo>
                      <a:pt x="1558" y="502"/>
                    </a:lnTo>
                    <a:lnTo>
                      <a:pt x="1604" y="468"/>
                    </a:lnTo>
                    <a:lnTo>
                      <a:pt x="1646" y="436"/>
                    </a:lnTo>
                    <a:lnTo>
                      <a:pt x="1688" y="402"/>
                    </a:lnTo>
                    <a:lnTo>
                      <a:pt x="1732" y="362"/>
                    </a:lnTo>
                    <a:lnTo>
                      <a:pt x="1378" y="362"/>
                    </a:lnTo>
                    <a:close/>
                    <a:moveTo>
                      <a:pt x="1722" y="916"/>
                    </a:moveTo>
                    <a:lnTo>
                      <a:pt x="1954" y="916"/>
                    </a:lnTo>
                    <a:lnTo>
                      <a:pt x="1954" y="814"/>
                    </a:lnTo>
                    <a:lnTo>
                      <a:pt x="1722" y="814"/>
                    </a:lnTo>
                    <a:lnTo>
                      <a:pt x="1722" y="916"/>
                    </a:lnTo>
                    <a:close/>
                    <a:moveTo>
                      <a:pt x="1954" y="1160"/>
                    </a:moveTo>
                    <a:lnTo>
                      <a:pt x="1722" y="1160"/>
                    </a:lnTo>
                    <a:lnTo>
                      <a:pt x="1722" y="1266"/>
                    </a:lnTo>
                    <a:lnTo>
                      <a:pt x="1954" y="1266"/>
                    </a:lnTo>
                    <a:lnTo>
                      <a:pt x="1954" y="1160"/>
                    </a:lnTo>
                    <a:close/>
                  </a:path>
                </a:pathLst>
              </a:custGeom>
              <a:solidFill>
                <a:srgbClr val="e7211a"/>
              </a:solidFill>
              <a:ln w="5396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19"/>
              <p:cNvSpPr/>
              <p:nvPr/>
            </p:nvSpPr>
            <p:spPr>
              <a:xfrm>
                <a:off x="25898400" y="2238120"/>
                <a:ext cx="3705120" cy="3804120"/>
              </a:xfrm>
              <a:custGeom>
                <a:avLst/>
                <a:gdLst>
                  <a:gd name="textAreaLeft" fmla="*/ 0 w 3705120"/>
                  <a:gd name="textAreaRight" fmla="*/ 3705480 w 3705120"/>
                  <a:gd name="textAreaTop" fmla="*/ 0 h 3804120"/>
                  <a:gd name="textAreaBottom" fmla="*/ 3804480 h 3804120"/>
                </a:gdLst>
                <a:ahLst/>
                <a:rect l="textAreaLeft" t="textAreaTop" r="textAreaRight" b="textAreaBottom"/>
                <a:pathLst>
                  <a:path w="2334" h="2396">
                    <a:moveTo>
                      <a:pt x="1898" y="1242"/>
                    </a:moveTo>
                    <a:lnTo>
                      <a:pt x="1898" y="1242"/>
                    </a:lnTo>
                    <a:lnTo>
                      <a:pt x="1866" y="1324"/>
                    </a:lnTo>
                    <a:lnTo>
                      <a:pt x="1836" y="1396"/>
                    </a:lnTo>
                    <a:lnTo>
                      <a:pt x="1804" y="1462"/>
                    </a:lnTo>
                    <a:lnTo>
                      <a:pt x="1772" y="1520"/>
                    </a:lnTo>
                    <a:lnTo>
                      <a:pt x="1738" y="1576"/>
                    </a:lnTo>
                    <a:lnTo>
                      <a:pt x="1700" y="1630"/>
                    </a:lnTo>
                    <a:lnTo>
                      <a:pt x="1660" y="1684"/>
                    </a:lnTo>
                    <a:lnTo>
                      <a:pt x="1612" y="1740"/>
                    </a:lnTo>
                    <a:lnTo>
                      <a:pt x="1612" y="1740"/>
                    </a:lnTo>
                    <a:lnTo>
                      <a:pt x="1710" y="1780"/>
                    </a:lnTo>
                    <a:lnTo>
                      <a:pt x="1798" y="1818"/>
                    </a:lnTo>
                    <a:lnTo>
                      <a:pt x="1880" y="1856"/>
                    </a:lnTo>
                    <a:lnTo>
                      <a:pt x="1960" y="1894"/>
                    </a:lnTo>
                    <a:lnTo>
                      <a:pt x="2038" y="1934"/>
                    </a:lnTo>
                    <a:lnTo>
                      <a:pt x="2122" y="1976"/>
                    </a:lnTo>
                    <a:lnTo>
                      <a:pt x="2310" y="2076"/>
                    </a:lnTo>
                    <a:lnTo>
                      <a:pt x="2016" y="2396"/>
                    </a:lnTo>
                    <a:lnTo>
                      <a:pt x="2016" y="2396"/>
                    </a:lnTo>
                    <a:lnTo>
                      <a:pt x="1922" y="2336"/>
                    </a:lnTo>
                    <a:lnTo>
                      <a:pt x="1834" y="2280"/>
                    </a:lnTo>
                    <a:lnTo>
                      <a:pt x="1750" y="2230"/>
                    </a:lnTo>
                    <a:lnTo>
                      <a:pt x="1668" y="2184"/>
                    </a:lnTo>
                    <a:lnTo>
                      <a:pt x="1584" y="2140"/>
                    </a:lnTo>
                    <a:lnTo>
                      <a:pt x="1498" y="2096"/>
                    </a:lnTo>
                    <a:lnTo>
                      <a:pt x="1408" y="2050"/>
                    </a:lnTo>
                    <a:lnTo>
                      <a:pt x="1308" y="2002"/>
                    </a:lnTo>
                    <a:lnTo>
                      <a:pt x="1308" y="2002"/>
                    </a:lnTo>
                    <a:lnTo>
                      <a:pt x="1260" y="2034"/>
                    </a:lnTo>
                    <a:lnTo>
                      <a:pt x="1214" y="2064"/>
                    </a:lnTo>
                    <a:lnTo>
                      <a:pt x="1166" y="2090"/>
                    </a:lnTo>
                    <a:lnTo>
                      <a:pt x="1118" y="2116"/>
                    </a:lnTo>
                    <a:lnTo>
                      <a:pt x="1068" y="2140"/>
                    </a:lnTo>
                    <a:lnTo>
                      <a:pt x="1016" y="2164"/>
                    </a:lnTo>
                    <a:lnTo>
                      <a:pt x="962" y="2186"/>
                    </a:lnTo>
                    <a:lnTo>
                      <a:pt x="906" y="2208"/>
                    </a:lnTo>
                    <a:lnTo>
                      <a:pt x="906" y="2208"/>
                    </a:lnTo>
                    <a:lnTo>
                      <a:pt x="826" y="2238"/>
                    </a:lnTo>
                    <a:lnTo>
                      <a:pt x="746" y="2264"/>
                    </a:lnTo>
                    <a:lnTo>
                      <a:pt x="668" y="2288"/>
                    </a:lnTo>
                    <a:lnTo>
                      <a:pt x="584" y="2312"/>
                    </a:lnTo>
                    <a:lnTo>
                      <a:pt x="498" y="2332"/>
                    </a:lnTo>
                    <a:lnTo>
                      <a:pt x="402" y="2352"/>
                    </a:lnTo>
                    <a:lnTo>
                      <a:pt x="298" y="2372"/>
                    </a:lnTo>
                    <a:lnTo>
                      <a:pt x="180" y="2394"/>
                    </a:lnTo>
                    <a:lnTo>
                      <a:pt x="180" y="2394"/>
                    </a:lnTo>
                    <a:lnTo>
                      <a:pt x="164" y="2340"/>
                    </a:lnTo>
                    <a:lnTo>
                      <a:pt x="148" y="2294"/>
                    </a:lnTo>
                    <a:lnTo>
                      <a:pt x="132" y="2250"/>
                    </a:lnTo>
                    <a:lnTo>
                      <a:pt x="112" y="2208"/>
                    </a:lnTo>
                    <a:lnTo>
                      <a:pt x="92" y="2166"/>
                    </a:lnTo>
                    <a:lnTo>
                      <a:pt x="66" y="2122"/>
                    </a:lnTo>
                    <a:lnTo>
                      <a:pt x="38" y="2074"/>
                    </a:lnTo>
                    <a:lnTo>
                      <a:pt x="4" y="2020"/>
                    </a:lnTo>
                    <a:lnTo>
                      <a:pt x="4" y="2020"/>
                    </a:lnTo>
                    <a:lnTo>
                      <a:pt x="144" y="2008"/>
                    </a:lnTo>
                    <a:lnTo>
                      <a:pt x="270" y="1992"/>
                    </a:lnTo>
                    <a:lnTo>
                      <a:pt x="384" y="1976"/>
                    </a:lnTo>
                    <a:lnTo>
                      <a:pt x="438" y="1966"/>
                    </a:lnTo>
                    <a:lnTo>
                      <a:pt x="490" y="1954"/>
                    </a:lnTo>
                    <a:lnTo>
                      <a:pt x="540" y="1944"/>
                    </a:lnTo>
                    <a:lnTo>
                      <a:pt x="590" y="1930"/>
                    </a:lnTo>
                    <a:lnTo>
                      <a:pt x="638" y="1916"/>
                    </a:lnTo>
                    <a:lnTo>
                      <a:pt x="686" y="1902"/>
                    </a:lnTo>
                    <a:lnTo>
                      <a:pt x="784" y="1868"/>
                    </a:lnTo>
                    <a:lnTo>
                      <a:pt x="882" y="1828"/>
                    </a:lnTo>
                    <a:lnTo>
                      <a:pt x="882" y="1828"/>
                    </a:lnTo>
                    <a:lnTo>
                      <a:pt x="744" y="1778"/>
                    </a:lnTo>
                    <a:lnTo>
                      <a:pt x="604" y="1732"/>
                    </a:lnTo>
                    <a:lnTo>
                      <a:pt x="442" y="1682"/>
                    </a:lnTo>
                    <a:lnTo>
                      <a:pt x="236" y="1622"/>
                    </a:lnTo>
                    <a:lnTo>
                      <a:pt x="236" y="1622"/>
                    </a:lnTo>
                    <a:lnTo>
                      <a:pt x="324" y="1514"/>
                    </a:lnTo>
                    <a:lnTo>
                      <a:pt x="392" y="1424"/>
                    </a:lnTo>
                    <a:lnTo>
                      <a:pt x="452" y="1340"/>
                    </a:lnTo>
                    <a:lnTo>
                      <a:pt x="516" y="1242"/>
                    </a:lnTo>
                    <a:lnTo>
                      <a:pt x="302" y="1242"/>
                    </a:lnTo>
                    <a:lnTo>
                      <a:pt x="302" y="1242"/>
                    </a:lnTo>
                    <a:lnTo>
                      <a:pt x="206" y="1244"/>
                    </a:lnTo>
                    <a:lnTo>
                      <a:pt x="126" y="1246"/>
                    </a:lnTo>
                    <a:lnTo>
                      <a:pt x="60" y="1250"/>
                    </a:lnTo>
                    <a:lnTo>
                      <a:pt x="0" y="1256"/>
                    </a:lnTo>
                    <a:lnTo>
                      <a:pt x="0" y="880"/>
                    </a:lnTo>
                    <a:lnTo>
                      <a:pt x="0" y="880"/>
                    </a:lnTo>
                    <a:lnTo>
                      <a:pt x="56" y="886"/>
                    </a:lnTo>
                    <a:lnTo>
                      <a:pt x="116" y="888"/>
                    </a:lnTo>
                    <a:lnTo>
                      <a:pt x="192" y="890"/>
                    </a:lnTo>
                    <a:lnTo>
                      <a:pt x="302" y="890"/>
                    </a:lnTo>
                    <a:lnTo>
                      <a:pt x="720" y="890"/>
                    </a:lnTo>
                    <a:lnTo>
                      <a:pt x="720" y="890"/>
                    </a:lnTo>
                    <a:lnTo>
                      <a:pt x="770" y="792"/>
                    </a:lnTo>
                    <a:lnTo>
                      <a:pt x="808" y="710"/>
                    </a:lnTo>
                    <a:lnTo>
                      <a:pt x="836" y="640"/>
                    </a:lnTo>
                    <a:lnTo>
                      <a:pt x="858" y="582"/>
                    </a:lnTo>
                    <a:lnTo>
                      <a:pt x="1278" y="636"/>
                    </a:lnTo>
                    <a:lnTo>
                      <a:pt x="1278" y="636"/>
                    </a:lnTo>
                    <a:lnTo>
                      <a:pt x="1210" y="776"/>
                    </a:lnTo>
                    <a:lnTo>
                      <a:pt x="1154" y="890"/>
                    </a:lnTo>
                    <a:lnTo>
                      <a:pt x="2036" y="890"/>
                    </a:lnTo>
                    <a:lnTo>
                      <a:pt x="2036" y="890"/>
                    </a:lnTo>
                    <a:lnTo>
                      <a:pt x="2148" y="890"/>
                    </a:lnTo>
                    <a:lnTo>
                      <a:pt x="2228" y="888"/>
                    </a:lnTo>
                    <a:lnTo>
                      <a:pt x="2284" y="886"/>
                    </a:lnTo>
                    <a:lnTo>
                      <a:pt x="2334" y="880"/>
                    </a:lnTo>
                    <a:lnTo>
                      <a:pt x="2334" y="1256"/>
                    </a:lnTo>
                    <a:lnTo>
                      <a:pt x="2334" y="1256"/>
                    </a:lnTo>
                    <a:lnTo>
                      <a:pt x="2274" y="1250"/>
                    </a:lnTo>
                    <a:lnTo>
                      <a:pt x="2208" y="1246"/>
                    </a:lnTo>
                    <a:lnTo>
                      <a:pt x="2132" y="1244"/>
                    </a:lnTo>
                    <a:lnTo>
                      <a:pt x="2036" y="1242"/>
                    </a:lnTo>
                    <a:lnTo>
                      <a:pt x="1898" y="1242"/>
                    </a:lnTo>
                    <a:close/>
                    <a:moveTo>
                      <a:pt x="946" y="176"/>
                    </a:moveTo>
                    <a:lnTo>
                      <a:pt x="946" y="176"/>
                    </a:lnTo>
                    <a:lnTo>
                      <a:pt x="946" y="126"/>
                    </a:lnTo>
                    <a:lnTo>
                      <a:pt x="944" y="82"/>
                    </a:lnTo>
                    <a:lnTo>
                      <a:pt x="940" y="40"/>
                    </a:lnTo>
                    <a:lnTo>
                      <a:pt x="936" y="0"/>
                    </a:lnTo>
                    <a:lnTo>
                      <a:pt x="1360" y="0"/>
                    </a:lnTo>
                    <a:lnTo>
                      <a:pt x="1360" y="0"/>
                    </a:lnTo>
                    <a:lnTo>
                      <a:pt x="1352" y="80"/>
                    </a:lnTo>
                    <a:lnTo>
                      <a:pt x="1350" y="124"/>
                    </a:lnTo>
                    <a:lnTo>
                      <a:pt x="1350" y="174"/>
                    </a:lnTo>
                    <a:lnTo>
                      <a:pt x="1350" y="198"/>
                    </a:lnTo>
                    <a:lnTo>
                      <a:pt x="1996" y="198"/>
                    </a:lnTo>
                    <a:lnTo>
                      <a:pt x="1996" y="198"/>
                    </a:lnTo>
                    <a:lnTo>
                      <a:pt x="2094" y="198"/>
                    </a:lnTo>
                    <a:lnTo>
                      <a:pt x="2174" y="196"/>
                    </a:lnTo>
                    <a:lnTo>
                      <a:pt x="2242" y="194"/>
                    </a:lnTo>
                    <a:lnTo>
                      <a:pt x="2304" y="188"/>
                    </a:lnTo>
                    <a:lnTo>
                      <a:pt x="2304" y="188"/>
                    </a:lnTo>
                    <a:lnTo>
                      <a:pt x="2300" y="238"/>
                    </a:lnTo>
                    <a:lnTo>
                      <a:pt x="2296" y="288"/>
                    </a:lnTo>
                    <a:lnTo>
                      <a:pt x="2294" y="336"/>
                    </a:lnTo>
                    <a:lnTo>
                      <a:pt x="2294" y="386"/>
                    </a:lnTo>
                    <a:lnTo>
                      <a:pt x="2294" y="616"/>
                    </a:lnTo>
                    <a:lnTo>
                      <a:pt x="2294" y="616"/>
                    </a:lnTo>
                    <a:lnTo>
                      <a:pt x="2296" y="670"/>
                    </a:lnTo>
                    <a:lnTo>
                      <a:pt x="2298" y="720"/>
                    </a:lnTo>
                    <a:lnTo>
                      <a:pt x="2302" y="766"/>
                    </a:lnTo>
                    <a:lnTo>
                      <a:pt x="2308" y="812"/>
                    </a:lnTo>
                    <a:lnTo>
                      <a:pt x="1922" y="812"/>
                    </a:lnTo>
                    <a:lnTo>
                      <a:pt x="1922" y="550"/>
                    </a:lnTo>
                    <a:lnTo>
                      <a:pt x="412" y="550"/>
                    </a:lnTo>
                    <a:lnTo>
                      <a:pt x="412" y="812"/>
                    </a:lnTo>
                    <a:lnTo>
                      <a:pt x="24" y="812"/>
                    </a:lnTo>
                    <a:lnTo>
                      <a:pt x="24" y="812"/>
                    </a:lnTo>
                    <a:lnTo>
                      <a:pt x="30" y="770"/>
                    </a:lnTo>
                    <a:lnTo>
                      <a:pt x="34" y="726"/>
                    </a:lnTo>
                    <a:lnTo>
                      <a:pt x="36" y="674"/>
                    </a:lnTo>
                    <a:lnTo>
                      <a:pt x="36" y="614"/>
                    </a:lnTo>
                    <a:lnTo>
                      <a:pt x="36" y="386"/>
                    </a:lnTo>
                    <a:lnTo>
                      <a:pt x="36" y="386"/>
                    </a:lnTo>
                    <a:lnTo>
                      <a:pt x="36" y="338"/>
                    </a:lnTo>
                    <a:lnTo>
                      <a:pt x="34" y="290"/>
                    </a:lnTo>
                    <a:lnTo>
                      <a:pt x="30" y="238"/>
                    </a:lnTo>
                    <a:lnTo>
                      <a:pt x="26" y="188"/>
                    </a:lnTo>
                    <a:lnTo>
                      <a:pt x="26" y="188"/>
                    </a:lnTo>
                    <a:lnTo>
                      <a:pt x="90" y="194"/>
                    </a:lnTo>
                    <a:lnTo>
                      <a:pt x="156" y="196"/>
                    </a:lnTo>
                    <a:lnTo>
                      <a:pt x="236" y="198"/>
                    </a:lnTo>
                    <a:lnTo>
                      <a:pt x="336" y="198"/>
                    </a:lnTo>
                    <a:lnTo>
                      <a:pt x="946" y="198"/>
                    </a:lnTo>
                    <a:lnTo>
                      <a:pt x="946" y="176"/>
                    </a:lnTo>
                    <a:close/>
                    <a:moveTo>
                      <a:pt x="962" y="1242"/>
                    </a:moveTo>
                    <a:lnTo>
                      <a:pt x="962" y="1242"/>
                    </a:lnTo>
                    <a:lnTo>
                      <a:pt x="930" y="1296"/>
                    </a:lnTo>
                    <a:lnTo>
                      <a:pt x="900" y="1342"/>
                    </a:lnTo>
                    <a:lnTo>
                      <a:pt x="822" y="1456"/>
                    </a:lnTo>
                    <a:lnTo>
                      <a:pt x="822" y="1456"/>
                    </a:lnTo>
                    <a:lnTo>
                      <a:pt x="938" y="1488"/>
                    </a:lnTo>
                    <a:lnTo>
                      <a:pt x="1030" y="1518"/>
                    </a:lnTo>
                    <a:lnTo>
                      <a:pt x="1126" y="1550"/>
                    </a:lnTo>
                    <a:lnTo>
                      <a:pt x="1246" y="1592"/>
                    </a:lnTo>
                    <a:lnTo>
                      <a:pt x="1246" y="1592"/>
                    </a:lnTo>
                    <a:lnTo>
                      <a:pt x="1284" y="1552"/>
                    </a:lnTo>
                    <a:lnTo>
                      <a:pt x="1320" y="1512"/>
                    </a:lnTo>
                    <a:lnTo>
                      <a:pt x="1352" y="1472"/>
                    </a:lnTo>
                    <a:lnTo>
                      <a:pt x="1380" y="1432"/>
                    </a:lnTo>
                    <a:lnTo>
                      <a:pt x="1406" y="1390"/>
                    </a:lnTo>
                    <a:lnTo>
                      <a:pt x="1432" y="1346"/>
                    </a:lnTo>
                    <a:lnTo>
                      <a:pt x="1456" y="1296"/>
                    </a:lnTo>
                    <a:lnTo>
                      <a:pt x="1480" y="1242"/>
                    </a:lnTo>
                    <a:lnTo>
                      <a:pt x="962" y="1242"/>
                    </a:lnTo>
                    <a:close/>
                  </a:path>
                </a:pathLst>
              </a:custGeom>
              <a:solidFill>
                <a:srgbClr val="e7211a"/>
              </a:solidFill>
              <a:ln w="5396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20"/>
              <p:cNvSpPr/>
              <p:nvPr/>
            </p:nvSpPr>
            <p:spPr>
              <a:xfrm>
                <a:off x="29870280" y="2266920"/>
                <a:ext cx="3895560" cy="3670560"/>
              </a:xfrm>
              <a:custGeom>
                <a:avLst/>
                <a:gdLst>
                  <a:gd name="textAreaLeft" fmla="*/ 0 w 3895560"/>
                  <a:gd name="textAreaRight" fmla="*/ 3895920 w 3895560"/>
                  <a:gd name="textAreaTop" fmla="*/ 0 h 3670560"/>
                  <a:gd name="textAreaBottom" fmla="*/ 3670920 h 3670560"/>
                </a:gdLst>
                <a:ahLst/>
                <a:rect l="textAreaLeft" t="textAreaTop" r="textAreaRight" b="textAreaBottom"/>
                <a:pathLst>
                  <a:path w="2454" h="2312">
                    <a:moveTo>
                      <a:pt x="742" y="1114"/>
                    </a:moveTo>
                    <a:lnTo>
                      <a:pt x="742" y="1114"/>
                    </a:lnTo>
                    <a:lnTo>
                      <a:pt x="644" y="1114"/>
                    </a:lnTo>
                    <a:lnTo>
                      <a:pt x="558" y="1116"/>
                    </a:lnTo>
                    <a:lnTo>
                      <a:pt x="486" y="1122"/>
                    </a:lnTo>
                    <a:lnTo>
                      <a:pt x="424" y="1128"/>
                    </a:lnTo>
                    <a:lnTo>
                      <a:pt x="424" y="966"/>
                    </a:lnTo>
                    <a:lnTo>
                      <a:pt x="424" y="966"/>
                    </a:lnTo>
                    <a:lnTo>
                      <a:pt x="366" y="996"/>
                    </a:lnTo>
                    <a:lnTo>
                      <a:pt x="316" y="1020"/>
                    </a:lnTo>
                    <a:lnTo>
                      <a:pt x="264" y="1042"/>
                    </a:lnTo>
                    <a:lnTo>
                      <a:pt x="198" y="1070"/>
                    </a:lnTo>
                    <a:lnTo>
                      <a:pt x="198" y="1070"/>
                    </a:lnTo>
                    <a:lnTo>
                      <a:pt x="150" y="958"/>
                    </a:lnTo>
                    <a:lnTo>
                      <a:pt x="128" y="912"/>
                    </a:lnTo>
                    <a:lnTo>
                      <a:pt x="108" y="872"/>
                    </a:lnTo>
                    <a:lnTo>
                      <a:pt x="86" y="832"/>
                    </a:lnTo>
                    <a:lnTo>
                      <a:pt x="62" y="790"/>
                    </a:lnTo>
                    <a:lnTo>
                      <a:pt x="0" y="694"/>
                    </a:lnTo>
                    <a:lnTo>
                      <a:pt x="0" y="694"/>
                    </a:lnTo>
                    <a:lnTo>
                      <a:pt x="82" y="668"/>
                    </a:lnTo>
                    <a:lnTo>
                      <a:pt x="160" y="640"/>
                    </a:lnTo>
                    <a:lnTo>
                      <a:pt x="234" y="610"/>
                    </a:lnTo>
                    <a:lnTo>
                      <a:pt x="304" y="578"/>
                    </a:lnTo>
                    <a:lnTo>
                      <a:pt x="372" y="542"/>
                    </a:lnTo>
                    <a:lnTo>
                      <a:pt x="440" y="504"/>
                    </a:lnTo>
                    <a:lnTo>
                      <a:pt x="508" y="460"/>
                    </a:lnTo>
                    <a:lnTo>
                      <a:pt x="578" y="414"/>
                    </a:lnTo>
                    <a:lnTo>
                      <a:pt x="578" y="414"/>
                    </a:lnTo>
                    <a:lnTo>
                      <a:pt x="648" y="364"/>
                    </a:lnTo>
                    <a:lnTo>
                      <a:pt x="710" y="316"/>
                    </a:lnTo>
                    <a:lnTo>
                      <a:pt x="770" y="268"/>
                    </a:lnTo>
                    <a:lnTo>
                      <a:pt x="824" y="218"/>
                    </a:lnTo>
                    <a:lnTo>
                      <a:pt x="874" y="166"/>
                    </a:lnTo>
                    <a:lnTo>
                      <a:pt x="920" y="114"/>
                    </a:lnTo>
                    <a:lnTo>
                      <a:pt x="962" y="58"/>
                    </a:lnTo>
                    <a:lnTo>
                      <a:pt x="1004" y="0"/>
                    </a:lnTo>
                    <a:lnTo>
                      <a:pt x="1424" y="0"/>
                    </a:lnTo>
                    <a:lnTo>
                      <a:pt x="1424" y="0"/>
                    </a:lnTo>
                    <a:lnTo>
                      <a:pt x="1470" y="60"/>
                    </a:lnTo>
                    <a:lnTo>
                      <a:pt x="1518" y="114"/>
                    </a:lnTo>
                    <a:lnTo>
                      <a:pt x="1566" y="166"/>
                    </a:lnTo>
                    <a:lnTo>
                      <a:pt x="1616" y="216"/>
                    </a:lnTo>
                    <a:lnTo>
                      <a:pt x="1672" y="262"/>
                    </a:lnTo>
                    <a:lnTo>
                      <a:pt x="1730" y="308"/>
                    </a:lnTo>
                    <a:lnTo>
                      <a:pt x="1792" y="354"/>
                    </a:lnTo>
                    <a:lnTo>
                      <a:pt x="1860" y="400"/>
                    </a:lnTo>
                    <a:lnTo>
                      <a:pt x="1860" y="400"/>
                    </a:lnTo>
                    <a:lnTo>
                      <a:pt x="1934" y="448"/>
                    </a:lnTo>
                    <a:lnTo>
                      <a:pt x="2004" y="490"/>
                    </a:lnTo>
                    <a:lnTo>
                      <a:pt x="2074" y="528"/>
                    </a:lnTo>
                    <a:lnTo>
                      <a:pt x="2144" y="562"/>
                    </a:lnTo>
                    <a:lnTo>
                      <a:pt x="2216" y="594"/>
                    </a:lnTo>
                    <a:lnTo>
                      <a:pt x="2290" y="624"/>
                    </a:lnTo>
                    <a:lnTo>
                      <a:pt x="2370" y="652"/>
                    </a:lnTo>
                    <a:lnTo>
                      <a:pt x="2454" y="678"/>
                    </a:lnTo>
                    <a:lnTo>
                      <a:pt x="2454" y="678"/>
                    </a:lnTo>
                    <a:lnTo>
                      <a:pt x="2422" y="730"/>
                    </a:lnTo>
                    <a:lnTo>
                      <a:pt x="2394" y="780"/>
                    </a:lnTo>
                    <a:lnTo>
                      <a:pt x="2370" y="828"/>
                    </a:lnTo>
                    <a:lnTo>
                      <a:pt x="2348" y="874"/>
                    </a:lnTo>
                    <a:lnTo>
                      <a:pt x="2328" y="920"/>
                    </a:lnTo>
                    <a:lnTo>
                      <a:pt x="2308" y="968"/>
                    </a:lnTo>
                    <a:lnTo>
                      <a:pt x="2268" y="1078"/>
                    </a:lnTo>
                    <a:lnTo>
                      <a:pt x="2268" y="1078"/>
                    </a:lnTo>
                    <a:lnTo>
                      <a:pt x="2200" y="1050"/>
                    </a:lnTo>
                    <a:lnTo>
                      <a:pt x="2146" y="1026"/>
                    </a:lnTo>
                    <a:lnTo>
                      <a:pt x="2094" y="1002"/>
                    </a:lnTo>
                    <a:lnTo>
                      <a:pt x="2028" y="968"/>
                    </a:lnTo>
                    <a:lnTo>
                      <a:pt x="2028" y="1128"/>
                    </a:lnTo>
                    <a:lnTo>
                      <a:pt x="2028" y="1128"/>
                    </a:lnTo>
                    <a:lnTo>
                      <a:pt x="1962" y="1122"/>
                    </a:lnTo>
                    <a:lnTo>
                      <a:pt x="1892" y="1116"/>
                    </a:lnTo>
                    <a:lnTo>
                      <a:pt x="1812" y="1114"/>
                    </a:lnTo>
                    <a:lnTo>
                      <a:pt x="1722" y="1114"/>
                    </a:lnTo>
                    <a:lnTo>
                      <a:pt x="1416" y="1114"/>
                    </a:lnTo>
                    <a:lnTo>
                      <a:pt x="1416" y="1334"/>
                    </a:lnTo>
                    <a:lnTo>
                      <a:pt x="1772" y="1334"/>
                    </a:lnTo>
                    <a:lnTo>
                      <a:pt x="1772" y="1334"/>
                    </a:lnTo>
                    <a:lnTo>
                      <a:pt x="1872" y="1332"/>
                    </a:lnTo>
                    <a:lnTo>
                      <a:pt x="1958" y="1330"/>
                    </a:lnTo>
                    <a:lnTo>
                      <a:pt x="2032" y="1326"/>
                    </a:lnTo>
                    <a:lnTo>
                      <a:pt x="2094" y="1318"/>
                    </a:lnTo>
                    <a:lnTo>
                      <a:pt x="2094" y="1702"/>
                    </a:lnTo>
                    <a:lnTo>
                      <a:pt x="2094" y="1702"/>
                    </a:lnTo>
                    <a:lnTo>
                      <a:pt x="2030" y="1694"/>
                    </a:lnTo>
                    <a:lnTo>
                      <a:pt x="1956" y="1690"/>
                    </a:lnTo>
                    <a:lnTo>
                      <a:pt x="1868" y="1686"/>
                    </a:lnTo>
                    <a:lnTo>
                      <a:pt x="1770" y="1686"/>
                    </a:lnTo>
                    <a:lnTo>
                      <a:pt x="1416" y="1686"/>
                    </a:lnTo>
                    <a:lnTo>
                      <a:pt x="1416" y="1940"/>
                    </a:lnTo>
                    <a:lnTo>
                      <a:pt x="1966" y="1940"/>
                    </a:lnTo>
                    <a:lnTo>
                      <a:pt x="1966" y="1940"/>
                    </a:lnTo>
                    <a:lnTo>
                      <a:pt x="2078" y="1938"/>
                    </a:lnTo>
                    <a:lnTo>
                      <a:pt x="2178" y="1936"/>
                    </a:lnTo>
                    <a:lnTo>
                      <a:pt x="2264" y="1930"/>
                    </a:lnTo>
                    <a:lnTo>
                      <a:pt x="2336" y="1924"/>
                    </a:lnTo>
                    <a:lnTo>
                      <a:pt x="2336" y="2312"/>
                    </a:lnTo>
                    <a:lnTo>
                      <a:pt x="2336" y="2312"/>
                    </a:lnTo>
                    <a:lnTo>
                      <a:pt x="2266" y="2306"/>
                    </a:lnTo>
                    <a:lnTo>
                      <a:pt x="2182" y="2300"/>
                    </a:lnTo>
                    <a:lnTo>
                      <a:pt x="2084" y="2298"/>
                    </a:lnTo>
                    <a:lnTo>
                      <a:pt x="1974" y="2296"/>
                    </a:lnTo>
                    <a:lnTo>
                      <a:pt x="464" y="2296"/>
                    </a:lnTo>
                    <a:lnTo>
                      <a:pt x="464" y="2296"/>
                    </a:lnTo>
                    <a:lnTo>
                      <a:pt x="358" y="2298"/>
                    </a:lnTo>
                    <a:lnTo>
                      <a:pt x="264" y="2300"/>
                    </a:lnTo>
                    <a:lnTo>
                      <a:pt x="184" y="2306"/>
                    </a:lnTo>
                    <a:lnTo>
                      <a:pt x="114" y="2312"/>
                    </a:lnTo>
                    <a:lnTo>
                      <a:pt x="114" y="1924"/>
                    </a:lnTo>
                    <a:lnTo>
                      <a:pt x="114" y="1924"/>
                    </a:lnTo>
                    <a:lnTo>
                      <a:pt x="182" y="1930"/>
                    </a:lnTo>
                    <a:lnTo>
                      <a:pt x="266" y="1936"/>
                    </a:lnTo>
                    <a:lnTo>
                      <a:pt x="364" y="1938"/>
                    </a:lnTo>
                    <a:lnTo>
                      <a:pt x="474" y="1940"/>
                    </a:lnTo>
                    <a:lnTo>
                      <a:pt x="1014" y="1940"/>
                    </a:lnTo>
                    <a:lnTo>
                      <a:pt x="1014" y="1686"/>
                    </a:lnTo>
                    <a:lnTo>
                      <a:pt x="690" y="1686"/>
                    </a:lnTo>
                    <a:lnTo>
                      <a:pt x="690" y="1686"/>
                    </a:lnTo>
                    <a:lnTo>
                      <a:pt x="592" y="1686"/>
                    </a:lnTo>
                    <a:lnTo>
                      <a:pt x="506" y="1690"/>
                    </a:lnTo>
                    <a:lnTo>
                      <a:pt x="432" y="1694"/>
                    </a:lnTo>
                    <a:lnTo>
                      <a:pt x="370" y="1702"/>
                    </a:lnTo>
                    <a:lnTo>
                      <a:pt x="370" y="1318"/>
                    </a:lnTo>
                    <a:lnTo>
                      <a:pt x="370" y="1318"/>
                    </a:lnTo>
                    <a:lnTo>
                      <a:pt x="438" y="1326"/>
                    </a:lnTo>
                    <a:lnTo>
                      <a:pt x="512" y="1330"/>
                    </a:lnTo>
                    <a:lnTo>
                      <a:pt x="594" y="1332"/>
                    </a:lnTo>
                    <a:lnTo>
                      <a:pt x="690" y="1334"/>
                    </a:lnTo>
                    <a:lnTo>
                      <a:pt x="1014" y="1334"/>
                    </a:lnTo>
                    <a:lnTo>
                      <a:pt x="1014" y="1114"/>
                    </a:lnTo>
                    <a:lnTo>
                      <a:pt x="742" y="1114"/>
                    </a:lnTo>
                    <a:close/>
                    <a:moveTo>
                      <a:pt x="1694" y="766"/>
                    </a:moveTo>
                    <a:lnTo>
                      <a:pt x="1694" y="766"/>
                    </a:lnTo>
                    <a:lnTo>
                      <a:pt x="1614" y="710"/>
                    </a:lnTo>
                    <a:lnTo>
                      <a:pt x="1546" y="660"/>
                    </a:lnTo>
                    <a:lnTo>
                      <a:pt x="1484" y="610"/>
                    </a:lnTo>
                    <a:lnTo>
                      <a:pt x="1428" y="562"/>
                    </a:lnTo>
                    <a:lnTo>
                      <a:pt x="1376" y="512"/>
                    </a:lnTo>
                    <a:lnTo>
                      <a:pt x="1324" y="460"/>
                    </a:lnTo>
                    <a:lnTo>
                      <a:pt x="1274" y="404"/>
                    </a:lnTo>
                    <a:lnTo>
                      <a:pt x="1222" y="342"/>
                    </a:lnTo>
                    <a:lnTo>
                      <a:pt x="1222" y="342"/>
                    </a:lnTo>
                    <a:lnTo>
                      <a:pt x="1174" y="402"/>
                    </a:lnTo>
                    <a:lnTo>
                      <a:pt x="1126" y="458"/>
                    </a:lnTo>
                    <a:lnTo>
                      <a:pt x="1074" y="510"/>
                    </a:lnTo>
                    <a:lnTo>
                      <a:pt x="1022" y="562"/>
                    </a:lnTo>
                    <a:lnTo>
                      <a:pt x="964" y="612"/>
                    </a:lnTo>
                    <a:lnTo>
                      <a:pt x="902" y="662"/>
                    </a:lnTo>
                    <a:lnTo>
                      <a:pt x="834" y="714"/>
                    </a:lnTo>
                    <a:lnTo>
                      <a:pt x="758" y="766"/>
                    </a:lnTo>
                    <a:lnTo>
                      <a:pt x="1694" y="766"/>
                    </a:lnTo>
                    <a:close/>
                  </a:path>
                </a:pathLst>
              </a:custGeom>
              <a:solidFill>
                <a:srgbClr val="e7211a"/>
              </a:solidFill>
              <a:ln w="5396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21"/>
              <p:cNvSpPr/>
              <p:nvPr/>
            </p:nvSpPr>
            <p:spPr>
              <a:xfrm>
                <a:off x="33918480" y="2234880"/>
                <a:ext cx="3921120" cy="3778560"/>
              </a:xfrm>
              <a:custGeom>
                <a:avLst/>
                <a:gdLst>
                  <a:gd name="textAreaLeft" fmla="*/ 0 w 3921120"/>
                  <a:gd name="textAreaRight" fmla="*/ 3921120 w 3921120"/>
                  <a:gd name="textAreaTop" fmla="*/ 0 h 3778560"/>
                  <a:gd name="textAreaBottom" fmla="*/ 3778920 h 3778560"/>
                </a:gdLst>
                <a:ahLst/>
                <a:rect l="textAreaLeft" t="textAreaTop" r="textAreaRight" b="textAreaBottom"/>
                <a:pathLst>
                  <a:path w="2470" h="2380">
                    <a:moveTo>
                      <a:pt x="976" y="694"/>
                    </a:moveTo>
                    <a:lnTo>
                      <a:pt x="976" y="694"/>
                    </a:lnTo>
                    <a:lnTo>
                      <a:pt x="880" y="696"/>
                    </a:lnTo>
                    <a:lnTo>
                      <a:pt x="794" y="702"/>
                    </a:lnTo>
                    <a:lnTo>
                      <a:pt x="794" y="578"/>
                    </a:lnTo>
                    <a:lnTo>
                      <a:pt x="694" y="578"/>
                    </a:lnTo>
                    <a:lnTo>
                      <a:pt x="504" y="792"/>
                    </a:lnTo>
                    <a:lnTo>
                      <a:pt x="504" y="792"/>
                    </a:lnTo>
                    <a:lnTo>
                      <a:pt x="446" y="712"/>
                    </a:lnTo>
                    <a:lnTo>
                      <a:pt x="392" y="644"/>
                    </a:lnTo>
                    <a:lnTo>
                      <a:pt x="340" y="580"/>
                    </a:lnTo>
                    <a:lnTo>
                      <a:pt x="288" y="522"/>
                    </a:lnTo>
                    <a:lnTo>
                      <a:pt x="232" y="464"/>
                    </a:lnTo>
                    <a:lnTo>
                      <a:pt x="174" y="404"/>
                    </a:lnTo>
                    <a:lnTo>
                      <a:pt x="106" y="342"/>
                    </a:lnTo>
                    <a:lnTo>
                      <a:pt x="30" y="274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68" y="40"/>
                    </a:lnTo>
                    <a:lnTo>
                      <a:pt x="414" y="82"/>
                    </a:lnTo>
                    <a:lnTo>
                      <a:pt x="460" y="126"/>
                    </a:lnTo>
                    <a:lnTo>
                      <a:pt x="506" y="170"/>
                    </a:lnTo>
                    <a:lnTo>
                      <a:pt x="552" y="216"/>
                    </a:lnTo>
                    <a:lnTo>
                      <a:pt x="598" y="264"/>
                    </a:lnTo>
                    <a:lnTo>
                      <a:pt x="690" y="366"/>
                    </a:lnTo>
                    <a:lnTo>
                      <a:pt x="690" y="236"/>
                    </a:lnTo>
                    <a:lnTo>
                      <a:pt x="690" y="236"/>
                    </a:lnTo>
                    <a:lnTo>
                      <a:pt x="688" y="144"/>
                    </a:lnTo>
                    <a:lnTo>
                      <a:pt x="682" y="62"/>
                    </a:lnTo>
                    <a:lnTo>
                      <a:pt x="682" y="62"/>
                    </a:lnTo>
                    <a:lnTo>
                      <a:pt x="734" y="64"/>
                    </a:lnTo>
                    <a:lnTo>
                      <a:pt x="792" y="66"/>
                    </a:lnTo>
                    <a:lnTo>
                      <a:pt x="934" y="68"/>
                    </a:lnTo>
                    <a:lnTo>
                      <a:pt x="2148" y="68"/>
                    </a:lnTo>
                    <a:lnTo>
                      <a:pt x="2148" y="68"/>
                    </a:lnTo>
                    <a:lnTo>
                      <a:pt x="2218" y="68"/>
                    </a:lnTo>
                    <a:lnTo>
                      <a:pt x="2280" y="66"/>
                    </a:lnTo>
                    <a:lnTo>
                      <a:pt x="2340" y="64"/>
                    </a:lnTo>
                    <a:lnTo>
                      <a:pt x="2398" y="58"/>
                    </a:lnTo>
                    <a:lnTo>
                      <a:pt x="2398" y="58"/>
                    </a:lnTo>
                    <a:lnTo>
                      <a:pt x="2392" y="94"/>
                    </a:lnTo>
                    <a:lnTo>
                      <a:pt x="2390" y="132"/>
                    </a:lnTo>
                    <a:lnTo>
                      <a:pt x="2388" y="176"/>
                    </a:lnTo>
                    <a:lnTo>
                      <a:pt x="2388" y="228"/>
                    </a:lnTo>
                    <a:lnTo>
                      <a:pt x="2388" y="408"/>
                    </a:lnTo>
                    <a:lnTo>
                      <a:pt x="2388" y="408"/>
                    </a:lnTo>
                    <a:lnTo>
                      <a:pt x="2388" y="454"/>
                    </a:lnTo>
                    <a:lnTo>
                      <a:pt x="2390" y="498"/>
                    </a:lnTo>
                    <a:lnTo>
                      <a:pt x="2394" y="538"/>
                    </a:lnTo>
                    <a:lnTo>
                      <a:pt x="2400" y="578"/>
                    </a:lnTo>
                    <a:lnTo>
                      <a:pt x="2274" y="578"/>
                    </a:lnTo>
                    <a:lnTo>
                      <a:pt x="2274" y="702"/>
                    </a:lnTo>
                    <a:lnTo>
                      <a:pt x="2274" y="702"/>
                    </a:lnTo>
                    <a:lnTo>
                      <a:pt x="2200" y="696"/>
                    </a:lnTo>
                    <a:lnTo>
                      <a:pt x="2156" y="696"/>
                    </a:lnTo>
                    <a:lnTo>
                      <a:pt x="2100" y="694"/>
                    </a:lnTo>
                    <a:lnTo>
                      <a:pt x="1708" y="694"/>
                    </a:lnTo>
                    <a:lnTo>
                      <a:pt x="1708" y="760"/>
                    </a:lnTo>
                    <a:lnTo>
                      <a:pt x="2072" y="760"/>
                    </a:lnTo>
                    <a:lnTo>
                      <a:pt x="2072" y="760"/>
                    </a:lnTo>
                    <a:lnTo>
                      <a:pt x="2204" y="760"/>
                    </a:lnTo>
                    <a:lnTo>
                      <a:pt x="2244" y="758"/>
                    </a:lnTo>
                    <a:lnTo>
                      <a:pt x="2284" y="756"/>
                    </a:lnTo>
                    <a:lnTo>
                      <a:pt x="2284" y="756"/>
                    </a:lnTo>
                    <a:lnTo>
                      <a:pt x="2278" y="850"/>
                    </a:lnTo>
                    <a:lnTo>
                      <a:pt x="2276" y="900"/>
                    </a:lnTo>
                    <a:lnTo>
                      <a:pt x="2276" y="960"/>
                    </a:lnTo>
                    <a:lnTo>
                      <a:pt x="2276" y="1346"/>
                    </a:lnTo>
                    <a:lnTo>
                      <a:pt x="2276" y="1346"/>
                    </a:lnTo>
                    <a:lnTo>
                      <a:pt x="2276" y="1412"/>
                    </a:lnTo>
                    <a:lnTo>
                      <a:pt x="2278" y="1464"/>
                    </a:lnTo>
                    <a:lnTo>
                      <a:pt x="2284" y="1554"/>
                    </a:lnTo>
                    <a:lnTo>
                      <a:pt x="2284" y="1554"/>
                    </a:lnTo>
                    <a:lnTo>
                      <a:pt x="2168" y="1550"/>
                    </a:lnTo>
                    <a:lnTo>
                      <a:pt x="2070" y="1548"/>
                    </a:lnTo>
                    <a:lnTo>
                      <a:pt x="1708" y="1548"/>
                    </a:lnTo>
                    <a:lnTo>
                      <a:pt x="1708" y="1620"/>
                    </a:lnTo>
                    <a:lnTo>
                      <a:pt x="2162" y="1620"/>
                    </a:lnTo>
                    <a:lnTo>
                      <a:pt x="2162" y="1620"/>
                    </a:lnTo>
                    <a:lnTo>
                      <a:pt x="2246" y="1620"/>
                    </a:lnTo>
                    <a:lnTo>
                      <a:pt x="2306" y="1618"/>
                    </a:lnTo>
                    <a:lnTo>
                      <a:pt x="2352" y="1614"/>
                    </a:lnTo>
                    <a:lnTo>
                      <a:pt x="2388" y="1610"/>
                    </a:lnTo>
                    <a:lnTo>
                      <a:pt x="2388" y="1906"/>
                    </a:lnTo>
                    <a:lnTo>
                      <a:pt x="2388" y="1906"/>
                    </a:lnTo>
                    <a:lnTo>
                      <a:pt x="2348" y="1902"/>
                    </a:lnTo>
                    <a:lnTo>
                      <a:pt x="2298" y="1900"/>
                    </a:lnTo>
                    <a:lnTo>
                      <a:pt x="2234" y="1900"/>
                    </a:lnTo>
                    <a:lnTo>
                      <a:pt x="2152" y="1898"/>
                    </a:lnTo>
                    <a:lnTo>
                      <a:pt x="1708" y="1898"/>
                    </a:lnTo>
                    <a:lnTo>
                      <a:pt x="1708" y="2010"/>
                    </a:lnTo>
                    <a:lnTo>
                      <a:pt x="1708" y="2010"/>
                    </a:lnTo>
                    <a:lnTo>
                      <a:pt x="1804" y="2010"/>
                    </a:lnTo>
                    <a:lnTo>
                      <a:pt x="1870" y="2008"/>
                    </a:lnTo>
                    <a:lnTo>
                      <a:pt x="1870" y="2008"/>
                    </a:lnTo>
                    <a:lnTo>
                      <a:pt x="2050" y="2006"/>
                    </a:lnTo>
                    <a:lnTo>
                      <a:pt x="2196" y="2002"/>
                    </a:lnTo>
                    <a:lnTo>
                      <a:pt x="2328" y="1992"/>
                    </a:lnTo>
                    <a:lnTo>
                      <a:pt x="2470" y="1980"/>
                    </a:lnTo>
                    <a:lnTo>
                      <a:pt x="2470" y="1980"/>
                    </a:lnTo>
                    <a:lnTo>
                      <a:pt x="2436" y="2080"/>
                    </a:lnTo>
                    <a:lnTo>
                      <a:pt x="2424" y="2124"/>
                    </a:lnTo>
                    <a:lnTo>
                      <a:pt x="2412" y="2166"/>
                    </a:lnTo>
                    <a:lnTo>
                      <a:pt x="2402" y="2206"/>
                    </a:lnTo>
                    <a:lnTo>
                      <a:pt x="2394" y="2248"/>
                    </a:lnTo>
                    <a:lnTo>
                      <a:pt x="2386" y="2294"/>
                    </a:lnTo>
                    <a:lnTo>
                      <a:pt x="2380" y="2342"/>
                    </a:lnTo>
                    <a:lnTo>
                      <a:pt x="2380" y="2342"/>
                    </a:lnTo>
                    <a:lnTo>
                      <a:pt x="2166" y="2348"/>
                    </a:lnTo>
                    <a:lnTo>
                      <a:pt x="1944" y="2354"/>
                    </a:lnTo>
                    <a:lnTo>
                      <a:pt x="1700" y="2356"/>
                    </a:lnTo>
                    <a:lnTo>
                      <a:pt x="1430" y="2358"/>
                    </a:lnTo>
                    <a:lnTo>
                      <a:pt x="1430" y="2358"/>
                    </a:lnTo>
                    <a:lnTo>
                      <a:pt x="1296" y="2356"/>
                    </a:lnTo>
                    <a:lnTo>
                      <a:pt x="1182" y="2354"/>
                    </a:lnTo>
                    <a:lnTo>
                      <a:pt x="1084" y="2352"/>
                    </a:lnTo>
                    <a:lnTo>
                      <a:pt x="1002" y="2346"/>
                    </a:lnTo>
                    <a:lnTo>
                      <a:pt x="934" y="2338"/>
                    </a:lnTo>
                    <a:lnTo>
                      <a:pt x="874" y="2330"/>
                    </a:lnTo>
                    <a:lnTo>
                      <a:pt x="824" y="2318"/>
                    </a:lnTo>
                    <a:lnTo>
                      <a:pt x="778" y="2304"/>
                    </a:lnTo>
                    <a:lnTo>
                      <a:pt x="778" y="2304"/>
                    </a:lnTo>
                    <a:lnTo>
                      <a:pt x="740" y="2290"/>
                    </a:lnTo>
                    <a:lnTo>
                      <a:pt x="706" y="2276"/>
                    </a:lnTo>
                    <a:lnTo>
                      <a:pt x="672" y="2258"/>
                    </a:lnTo>
                    <a:lnTo>
                      <a:pt x="638" y="2236"/>
                    </a:lnTo>
                    <a:lnTo>
                      <a:pt x="606" y="2214"/>
                    </a:lnTo>
                    <a:lnTo>
                      <a:pt x="574" y="2188"/>
                    </a:lnTo>
                    <a:lnTo>
                      <a:pt x="540" y="2158"/>
                    </a:lnTo>
                    <a:lnTo>
                      <a:pt x="506" y="2124"/>
                    </a:lnTo>
                    <a:lnTo>
                      <a:pt x="506" y="2124"/>
                    </a:lnTo>
                    <a:lnTo>
                      <a:pt x="422" y="2194"/>
                    </a:lnTo>
                    <a:lnTo>
                      <a:pt x="348" y="2252"/>
                    </a:lnTo>
                    <a:lnTo>
                      <a:pt x="278" y="2302"/>
                    </a:lnTo>
                    <a:lnTo>
                      <a:pt x="208" y="2350"/>
                    </a:lnTo>
                    <a:lnTo>
                      <a:pt x="208" y="2350"/>
                    </a:lnTo>
                    <a:lnTo>
                      <a:pt x="164" y="2380"/>
                    </a:lnTo>
                    <a:lnTo>
                      <a:pt x="0" y="1972"/>
                    </a:lnTo>
                    <a:lnTo>
                      <a:pt x="0" y="1972"/>
                    </a:lnTo>
                    <a:lnTo>
                      <a:pt x="30" y="1960"/>
                    </a:lnTo>
                    <a:lnTo>
                      <a:pt x="62" y="1944"/>
                    </a:lnTo>
                    <a:lnTo>
                      <a:pt x="94" y="1928"/>
                    </a:lnTo>
                    <a:lnTo>
                      <a:pt x="130" y="1906"/>
                    </a:lnTo>
                    <a:lnTo>
                      <a:pt x="170" y="1882"/>
                    </a:lnTo>
                    <a:lnTo>
                      <a:pt x="216" y="1852"/>
                    </a:lnTo>
                    <a:lnTo>
                      <a:pt x="320" y="1780"/>
                    </a:lnTo>
                    <a:lnTo>
                      <a:pt x="320" y="1298"/>
                    </a:lnTo>
                    <a:lnTo>
                      <a:pt x="212" y="1298"/>
                    </a:lnTo>
                    <a:lnTo>
                      <a:pt x="212" y="1298"/>
                    </a:lnTo>
                    <a:lnTo>
                      <a:pt x="174" y="1298"/>
                    </a:lnTo>
                    <a:lnTo>
                      <a:pt x="138" y="1300"/>
                    </a:lnTo>
                    <a:lnTo>
                      <a:pt x="100" y="1304"/>
                    </a:lnTo>
                    <a:lnTo>
                      <a:pt x="54" y="1310"/>
                    </a:lnTo>
                    <a:lnTo>
                      <a:pt x="54" y="928"/>
                    </a:lnTo>
                    <a:lnTo>
                      <a:pt x="54" y="928"/>
                    </a:lnTo>
                    <a:lnTo>
                      <a:pt x="104" y="934"/>
                    </a:lnTo>
                    <a:lnTo>
                      <a:pt x="150" y="938"/>
                    </a:lnTo>
                    <a:lnTo>
                      <a:pt x="202" y="940"/>
                    </a:lnTo>
                    <a:lnTo>
                      <a:pt x="266" y="940"/>
                    </a:lnTo>
                    <a:lnTo>
                      <a:pt x="510" y="940"/>
                    </a:lnTo>
                    <a:lnTo>
                      <a:pt x="510" y="940"/>
                    </a:lnTo>
                    <a:lnTo>
                      <a:pt x="564" y="940"/>
                    </a:lnTo>
                    <a:lnTo>
                      <a:pt x="612" y="938"/>
                    </a:lnTo>
                    <a:lnTo>
                      <a:pt x="658" y="936"/>
                    </a:lnTo>
                    <a:lnTo>
                      <a:pt x="704" y="930"/>
                    </a:lnTo>
                    <a:lnTo>
                      <a:pt x="704" y="930"/>
                    </a:lnTo>
                    <a:lnTo>
                      <a:pt x="700" y="988"/>
                    </a:lnTo>
                    <a:lnTo>
                      <a:pt x="696" y="1048"/>
                    </a:lnTo>
                    <a:lnTo>
                      <a:pt x="694" y="1122"/>
                    </a:lnTo>
                    <a:lnTo>
                      <a:pt x="694" y="1220"/>
                    </a:lnTo>
                    <a:lnTo>
                      <a:pt x="694" y="1846"/>
                    </a:lnTo>
                    <a:lnTo>
                      <a:pt x="694" y="1846"/>
                    </a:lnTo>
                    <a:lnTo>
                      <a:pt x="722" y="1884"/>
                    </a:lnTo>
                    <a:lnTo>
                      <a:pt x="736" y="1898"/>
                    </a:lnTo>
                    <a:lnTo>
                      <a:pt x="748" y="1912"/>
                    </a:lnTo>
                    <a:lnTo>
                      <a:pt x="762" y="1924"/>
                    </a:lnTo>
                    <a:lnTo>
                      <a:pt x="776" y="1934"/>
                    </a:lnTo>
                    <a:lnTo>
                      <a:pt x="792" y="1944"/>
                    </a:lnTo>
                    <a:lnTo>
                      <a:pt x="808" y="1952"/>
                    </a:lnTo>
                    <a:lnTo>
                      <a:pt x="808" y="1952"/>
                    </a:lnTo>
                    <a:lnTo>
                      <a:pt x="846" y="1968"/>
                    </a:lnTo>
                    <a:lnTo>
                      <a:pt x="888" y="1982"/>
                    </a:lnTo>
                    <a:lnTo>
                      <a:pt x="936" y="1992"/>
                    </a:lnTo>
                    <a:lnTo>
                      <a:pt x="990" y="2002"/>
                    </a:lnTo>
                    <a:lnTo>
                      <a:pt x="1048" y="2008"/>
                    </a:lnTo>
                    <a:lnTo>
                      <a:pt x="1114" y="2014"/>
                    </a:lnTo>
                    <a:lnTo>
                      <a:pt x="1188" y="2016"/>
                    </a:lnTo>
                    <a:lnTo>
                      <a:pt x="1266" y="2018"/>
                    </a:lnTo>
                    <a:lnTo>
                      <a:pt x="1266" y="2018"/>
                    </a:lnTo>
                    <a:lnTo>
                      <a:pt x="1346" y="2016"/>
                    </a:lnTo>
                    <a:lnTo>
                      <a:pt x="1346" y="1898"/>
                    </a:lnTo>
                    <a:lnTo>
                      <a:pt x="970" y="1898"/>
                    </a:lnTo>
                    <a:lnTo>
                      <a:pt x="970" y="1898"/>
                    </a:lnTo>
                    <a:lnTo>
                      <a:pt x="898" y="1900"/>
                    </a:lnTo>
                    <a:lnTo>
                      <a:pt x="838" y="1900"/>
                    </a:lnTo>
                    <a:lnTo>
                      <a:pt x="790" y="1904"/>
                    </a:lnTo>
                    <a:lnTo>
                      <a:pt x="748" y="1908"/>
                    </a:lnTo>
                    <a:lnTo>
                      <a:pt x="748" y="1610"/>
                    </a:lnTo>
                    <a:lnTo>
                      <a:pt x="748" y="1610"/>
                    </a:lnTo>
                    <a:lnTo>
                      <a:pt x="854" y="1618"/>
                    </a:lnTo>
                    <a:lnTo>
                      <a:pt x="904" y="1620"/>
                    </a:lnTo>
                    <a:lnTo>
                      <a:pt x="966" y="1620"/>
                    </a:lnTo>
                    <a:lnTo>
                      <a:pt x="1346" y="1620"/>
                    </a:lnTo>
                    <a:lnTo>
                      <a:pt x="1346" y="1548"/>
                    </a:lnTo>
                    <a:lnTo>
                      <a:pt x="1008" y="1548"/>
                    </a:lnTo>
                    <a:lnTo>
                      <a:pt x="1008" y="1548"/>
                    </a:lnTo>
                    <a:lnTo>
                      <a:pt x="894" y="1550"/>
                    </a:lnTo>
                    <a:lnTo>
                      <a:pt x="796" y="1554"/>
                    </a:lnTo>
                    <a:lnTo>
                      <a:pt x="796" y="1554"/>
                    </a:lnTo>
                    <a:lnTo>
                      <a:pt x="800" y="1518"/>
                    </a:lnTo>
                    <a:lnTo>
                      <a:pt x="802" y="1480"/>
                    </a:lnTo>
                    <a:lnTo>
                      <a:pt x="804" y="1346"/>
                    </a:lnTo>
                    <a:lnTo>
                      <a:pt x="804" y="890"/>
                    </a:lnTo>
                    <a:lnTo>
                      <a:pt x="804" y="890"/>
                    </a:lnTo>
                    <a:lnTo>
                      <a:pt x="802" y="810"/>
                    </a:lnTo>
                    <a:lnTo>
                      <a:pt x="800" y="782"/>
                    </a:lnTo>
                    <a:lnTo>
                      <a:pt x="796" y="756"/>
                    </a:lnTo>
                    <a:lnTo>
                      <a:pt x="796" y="756"/>
                    </a:lnTo>
                    <a:lnTo>
                      <a:pt x="842" y="758"/>
                    </a:lnTo>
                    <a:lnTo>
                      <a:pt x="884" y="760"/>
                    </a:lnTo>
                    <a:lnTo>
                      <a:pt x="1008" y="760"/>
                    </a:lnTo>
                    <a:lnTo>
                      <a:pt x="1346" y="760"/>
                    </a:lnTo>
                    <a:lnTo>
                      <a:pt x="1346" y="694"/>
                    </a:lnTo>
                    <a:lnTo>
                      <a:pt x="976" y="694"/>
                    </a:lnTo>
                    <a:close/>
                    <a:moveTo>
                      <a:pt x="1346" y="408"/>
                    </a:moveTo>
                    <a:lnTo>
                      <a:pt x="1346" y="370"/>
                    </a:lnTo>
                    <a:lnTo>
                      <a:pt x="1054" y="370"/>
                    </a:lnTo>
                    <a:lnTo>
                      <a:pt x="1054" y="452"/>
                    </a:lnTo>
                    <a:lnTo>
                      <a:pt x="1346" y="452"/>
                    </a:lnTo>
                    <a:lnTo>
                      <a:pt x="1346" y="408"/>
                    </a:lnTo>
                    <a:close/>
                    <a:moveTo>
                      <a:pt x="1152" y="976"/>
                    </a:moveTo>
                    <a:lnTo>
                      <a:pt x="1152" y="1058"/>
                    </a:lnTo>
                    <a:lnTo>
                      <a:pt x="1346" y="1058"/>
                    </a:lnTo>
                    <a:lnTo>
                      <a:pt x="1346" y="976"/>
                    </a:lnTo>
                    <a:lnTo>
                      <a:pt x="1152" y="976"/>
                    </a:lnTo>
                    <a:close/>
                    <a:moveTo>
                      <a:pt x="1152" y="1254"/>
                    </a:moveTo>
                    <a:lnTo>
                      <a:pt x="1152" y="1334"/>
                    </a:lnTo>
                    <a:lnTo>
                      <a:pt x="1346" y="1334"/>
                    </a:lnTo>
                    <a:lnTo>
                      <a:pt x="1346" y="1254"/>
                    </a:lnTo>
                    <a:lnTo>
                      <a:pt x="1152" y="1254"/>
                    </a:lnTo>
                    <a:close/>
                    <a:moveTo>
                      <a:pt x="2018" y="452"/>
                    </a:moveTo>
                    <a:lnTo>
                      <a:pt x="2018" y="370"/>
                    </a:lnTo>
                    <a:lnTo>
                      <a:pt x="1708" y="370"/>
                    </a:lnTo>
                    <a:lnTo>
                      <a:pt x="1708" y="370"/>
                    </a:lnTo>
                    <a:lnTo>
                      <a:pt x="1708" y="408"/>
                    </a:lnTo>
                    <a:lnTo>
                      <a:pt x="1708" y="452"/>
                    </a:lnTo>
                    <a:lnTo>
                      <a:pt x="2018" y="452"/>
                    </a:lnTo>
                    <a:close/>
                    <a:moveTo>
                      <a:pt x="1708" y="1058"/>
                    </a:moveTo>
                    <a:lnTo>
                      <a:pt x="1920" y="1058"/>
                    </a:lnTo>
                    <a:lnTo>
                      <a:pt x="1920" y="976"/>
                    </a:lnTo>
                    <a:lnTo>
                      <a:pt x="1708" y="976"/>
                    </a:lnTo>
                    <a:lnTo>
                      <a:pt x="1708" y="1058"/>
                    </a:lnTo>
                    <a:close/>
                    <a:moveTo>
                      <a:pt x="1708" y="1334"/>
                    </a:moveTo>
                    <a:lnTo>
                      <a:pt x="1920" y="1334"/>
                    </a:lnTo>
                    <a:lnTo>
                      <a:pt x="1920" y="1254"/>
                    </a:lnTo>
                    <a:lnTo>
                      <a:pt x="1708" y="1254"/>
                    </a:lnTo>
                    <a:lnTo>
                      <a:pt x="1708" y="1334"/>
                    </a:lnTo>
                    <a:close/>
                  </a:path>
                </a:pathLst>
              </a:custGeom>
              <a:solidFill>
                <a:srgbClr val="e7211a"/>
              </a:solidFill>
              <a:ln w="5396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22"/>
              <p:cNvSpPr/>
              <p:nvPr/>
            </p:nvSpPr>
            <p:spPr>
              <a:xfrm>
                <a:off x="38058840" y="2219040"/>
                <a:ext cx="3740040" cy="3854880"/>
              </a:xfrm>
              <a:custGeom>
                <a:avLst/>
                <a:gdLst>
                  <a:gd name="textAreaLeft" fmla="*/ 0 w 3740040"/>
                  <a:gd name="textAreaRight" fmla="*/ 3740400 w 3740040"/>
                  <a:gd name="textAreaTop" fmla="*/ 0 h 3854880"/>
                  <a:gd name="textAreaBottom" fmla="*/ 3855240 h 3854880"/>
                </a:gdLst>
                <a:ahLst/>
                <a:rect l="textAreaLeft" t="textAreaTop" r="textAreaRight" b="textAreaBottom"/>
                <a:pathLst>
                  <a:path w="2356" h="2428">
                    <a:moveTo>
                      <a:pt x="2108" y="496"/>
                    </a:moveTo>
                    <a:lnTo>
                      <a:pt x="2108" y="496"/>
                    </a:lnTo>
                    <a:lnTo>
                      <a:pt x="2186" y="496"/>
                    </a:lnTo>
                    <a:lnTo>
                      <a:pt x="2250" y="494"/>
                    </a:lnTo>
                    <a:lnTo>
                      <a:pt x="2304" y="492"/>
                    </a:lnTo>
                    <a:lnTo>
                      <a:pt x="2356" y="486"/>
                    </a:lnTo>
                    <a:lnTo>
                      <a:pt x="2356" y="486"/>
                    </a:lnTo>
                    <a:lnTo>
                      <a:pt x="2350" y="558"/>
                    </a:lnTo>
                    <a:lnTo>
                      <a:pt x="2348" y="634"/>
                    </a:lnTo>
                    <a:lnTo>
                      <a:pt x="2344" y="762"/>
                    </a:lnTo>
                    <a:lnTo>
                      <a:pt x="2342" y="988"/>
                    </a:lnTo>
                    <a:lnTo>
                      <a:pt x="2342" y="988"/>
                    </a:lnTo>
                    <a:lnTo>
                      <a:pt x="2336" y="1252"/>
                    </a:lnTo>
                    <a:lnTo>
                      <a:pt x="2328" y="1482"/>
                    </a:lnTo>
                    <a:lnTo>
                      <a:pt x="2318" y="1680"/>
                    </a:lnTo>
                    <a:lnTo>
                      <a:pt x="2312" y="1768"/>
                    </a:lnTo>
                    <a:lnTo>
                      <a:pt x="2306" y="1848"/>
                    </a:lnTo>
                    <a:lnTo>
                      <a:pt x="2298" y="1920"/>
                    </a:lnTo>
                    <a:lnTo>
                      <a:pt x="2290" y="1986"/>
                    </a:lnTo>
                    <a:lnTo>
                      <a:pt x="2280" y="2046"/>
                    </a:lnTo>
                    <a:lnTo>
                      <a:pt x="2270" y="2096"/>
                    </a:lnTo>
                    <a:lnTo>
                      <a:pt x="2260" y="2142"/>
                    </a:lnTo>
                    <a:lnTo>
                      <a:pt x="2248" y="2182"/>
                    </a:lnTo>
                    <a:lnTo>
                      <a:pt x="2236" y="2214"/>
                    </a:lnTo>
                    <a:lnTo>
                      <a:pt x="2222" y="2240"/>
                    </a:lnTo>
                    <a:lnTo>
                      <a:pt x="2222" y="2240"/>
                    </a:lnTo>
                    <a:lnTo>
                      <a:pt x="2210" y="2260"/>
                    </a:lnTo>
                    <a:lnTo>
                      <a:pt x="2196" y="2278"/>
                    </a:lnTo>
                    <a:lnTo>
                      <a:pt x="2182" y="2294"/>
                    </a:lnTo>
                    <a:lnTo>
                      <a:pt x="2166" y="2310"/>
                    </a:lnTo>
                    <a:lnTo>
                      <a:pt x="2148" y="2322"/>
                    </a:lnTo>
                    <a:lnTo>
                      <a:pt x="2130" y="2334"/>
                    </a:lnTo>
                    <a:lnTo>
                      <a:pt x="2108" y="2344"/>
                    </a:lnTo>
                    <a:lnTo>
                      <a:pt x="2082" y="2352"/>
                    </a:lnTo>
                    <a:lnTo>
                      <a:pt x="2056" y="2360"/>
                    </a:lnTo>
                    <a:lnTo>
                      <a:pt x="2026" y="2366"/>
                    </a:lnTo>
                    <a:lnTo>
                      <a:pt x="1992" y="2370"/>
                    </a:lnTo>
                    <a:lnTo>
                      <a:pt x="1956" y="2374"/>
                    </a:lnTo>
                    <a:lnTo>
                      <a:pt x="1870" y="2378"/>
                    </a:lnTo>
                    <a:lnTo>
                      <a:pt x="1768" y="2380"/>
                    </a:lnTo>
                    <a:lnTo>
                      <a:pt x="1768" y="2380"/>
                    </a:lnTo>
                    <a:lnTo>
                      <a:pt x="1736" y="2380"/>
                    </a:lnTo>
                    <a:lnTo>
                      <a:pt x="1690" y="2378"/>
                    </a:lnTo>
                    <a:lnTo>
                      <a:pt x="1690" y="2378"/>
                    </a:lnTo>
                    <a:lnTo>
                      <a:pt x="1684" y="2296"/>
                    </a:lnTo>
                    <a:lnTo>
                      <a:pt x="1676" y="2228"/>
                    </a:lnTo>
                    <a:lnTo>
                      <a:pt x="1664" y="2164"/>
                    </a:lnTo>
                    <a:lnTo>
                      <a:pt x="1648" y="2096"/>
                    </a:lnTo>
                    <a:lnTo>
                      <a:pt x="1648" y="2096"/>
                    </a:lnTo>
                    <a:lnTo>
                      <a:pt x="1604" y="2182"/>
                    </a:lnTo>
                    <a:lnTo>
                      <a:pt x="1584" y="2218"/>
                    </a:lnTo>
                    <a:lnTo>
                      <a:pt x="1562" y="2256"/>
                    </a:lnTo>
                    <a:lnTo>
                      <a:pt x="1512" y="2334"/>
                    </a:lnTo>
                    <a:lnTo>
                      <a:pt x="1444" y="2428"/>
                    </a:lnTo>
                    <a:lnTo>
                      <a:pt x="1444" y="2428"/>
                    </a:lnTo>
                    <a:lnTo>
                      <a:pt x="1410" y="2382"/>
                    </a:lnTo>
                    <a:lnTo>
                      <a:pt x="1380" y="2346"/>
                    </a:lnTo>
                    <a:lnTo>
                      <a:pt x="1350" y="2312"/>
                    </a:lnTo>
                    <a:lnTo>
                      <a:pt x="1310" y="2270"/>
                    </a:lnTo>
                    <a:lnTo>
                      <a:pt x="1310" y="2270"/>
                    </a:lnTo>
                    <a:lnTo>
                      <a:pt x="994" y="2302"/>
                    </a:lnTo>
                    <a:lnTo>
                      <a:pt x="762" y="2322"/>
                    </a:lnTo>
                    <a:lnTo>
                      <a:pt x="532" y="2340"/>
                    </a:lnTo>
                    <a:lnTo>
                      <a:pt x="222" y="2360"/>
                    </a:lnTo>
                    <a:lnTo>
                      <a:pt x="222" y="2360"/>
                    </a:lnTo>
                    <a:lnTo>
                      <a:pt x="150" y="2366"/>
                    </a:lnTo>
                    <a:lnTo>
                      <a:pt x="56" y="2374"/>
                    </a:lnTo>
                    <a:lnTo>
                      <a:pt x="0" y="2020"/>
                    </a:lnTo>
                    <a:lnTo>
                      <a:pt x="0" y="2020"/>
                    </a:lnTo>
                    <a:lnTo>
                      <a:pt x="38" y="2022"/>
                    </a:lnTo>
                    <a:lnTo>
                      <a:pt x="80" y="2024"/>
                    </a:lnTo>
                    <a:lnTo>
                      <a:pt x="210" y="2026"/>
                    </a:lnTo>
                    <a:lnTo>
                      <a:pt x="210" y="2026"/>
                    </a:lnTo>
                    <a:lnTo>
                      <a:pt x="356" y="2024"/>
                    </a:lnTo>
                    <a:lnTo>
                      <a:pt x="548" y="2020"/>
                    </a:lnTo>
                    <a:lnTo>
                      <a:pt x="548" y="1924"/>
                    </a:lnTo>
                    <a:lnTo>
                      <a:pt x="304" y="1924"/>
                    </a:lnTo>
                    <a:lnTo>
                      <a:pt x="304" y="1924"/>
                    </a:lnTo>
                    <a:lnTo>
                      <a:pt x="178" y="1926"/>
                    </a:lnTo>
                    <a:lnTo>
                      <a:pt x="58" y="1932"/>
                    </a:lnTo>
                    <a:lnTo>
                      <a:pt x="58" y="1648"/>
                    </a:lnTo>
                    <a:lnTo>
                      <a:pt x="58" y="1648"/>
                    </a:lnTo>
                    <a:lnTo>
                      <a:pt x="110" y="1652"/>
                    </a:lnTo>
                    <a:lnTo>
                      <a:pt x="164" y="1656"/>
                    </a:lnTo>
                    <a:lnTo>
                      <a:pt x="226" y="1658"/>
                    </a:lnTo>
                    <a:lnTo>
                      <a:pt x="306" y="1658"/>
                    </a:lnTo>
                    <a:lnTo>
                      <a:pt x="548" y="1658"/>
                    </a:lnTo>
                    <a:lnTo>
                      <a:pt x="548" y="1582"/>
                    </a:lnTo>
                    <a:lnTo>
                      <a:pt x="344" y="1582"/>
                    </a:lnTo>
                    <a:lnTo>
                      <a:pt x="344" y="1582"/>
                    </a:lnTo>
                    <a:lnTo>
                      <a:pt x="198" y="1582"/>
                    </a:lnTo>
                    <a:lnTo>
                      <a:pt x="142" y="1584"/>
                    </a:lnTo>
                    <a:lnTo>
                      <a:pt x="86" y="1586"/>
                    </a:lnTo>
                    <a:lnTo>
                      <a:pt x="86" y="1586"/>
                    </a:lnTo>
                    <a:lnTo>
                      <a:pt x="90" y="1538"/>
                    </a:lnTo>
                    <a:lnTo>
                      <a:pt x="94" y="1486"/>
                    </a:lnTo>
                    <a:lnTo>
                      <a:pt x="96" y="1424"/>
                    </a:lnTo>
                    <a:lnTo>
                      <a:pt x="96" y="1346"/>
                    </a:lnTo>
                    <a:lnTo>
                      <a:pt x="96" y="1012"/>
                    </a:lnTo>
                    <a:lnTo>
                      <a:pt x="96" y="1012"/>
                    </a:lnTo>
                    <a:lnTo>
                      <a:pt x="96" y="936"/>
                    </a:lnTo>
                    <a:lnTo>
                      <a:pt x="94" y="878"/>
                    </a:lnTo>
                    <a:lnTo>
                      <a:pt x="90" y="826"/>
                    </a:lnTo>
                    <a:lnTo>
                      <a:pt x="86" y="776"/>
                    </a:lnTo>
                    <a:lnTo>
                      <a:pt x="86" y="776"/>
                    </a:lnTo>
                    <a:lnTo>
                      <a:pt x="200" y="782"/>
                    </a:lnTo>
                    <a:lnTo>
                      <a:pt x="344" y="784"/>
                    </a:lnTo>
                    <a:lnTo>
                      <a:pt x="548" y="784"/>
                    </a:lnTo>
                    <a:lnTo>
                      <a:pt x="548" y="710"/>
                    </a:lnTo>
                    <a:lnTo>
                      <a:pt x="266" y="710"/>
                    </a:lnTo>
                    <a:lnTo>
                      <a:pt x="266" y="710"/>
                    </a:lnTo>
                    <a:lnTo>
                      <a:pt x="192" y="710"/>
                    </a:lnTo>
                    <a:lnTo>
                      <a:pt x="130" y="712"/>
                    </a:lnTo>
                    <a:lnTo>
                      <a:pt x="74" y="716"/>
                    </a:lnTo>
                    <a:lnTo>
                      <a:pt x="20" y="720"/>
                    </a:lnTo>
                    <a:lnTo>
                      <a:pt x="20" y="420"/>
                    </a:lnTo>
                    <a:lnTo>
                      <a:pt x="20" y="420"/>
                    </a:lnTo>
                    <a:lnTo>
                      <a:pt x="74" y="426"/>
                    </a:lnTo>
                    <a:lnTo>
                      <a:pt x="128" y="428"/>
                    </a:lnTo>
                    <a:lnTo>
                      <a:pt x="190" y="430"/>
                    </a:lnTo>
                    <a:lnTo>
                      <a:pt x="266" y="430"/>
                    </a:lnTo>
                    <a:lnTo>
                      <a:pt x="548" y="430"/>
                    </a:lnTo>
                    <a:lnTo>
                      <a:pt x="548" y="358"/>
                    </a:lnTo>
                    <a:lnTo>
                      <a:pt x="548" y="358"/>
                    </a:lnTo>
                    <a:lnTo>
                      <a:pt x="302" y="366"/>
                    </a:lnTo>
                    <a:lnTo>
                      <a:pt x="140" y="370"/>
                    </a:lnTo>
                    <a:lnTo>
                      <a:pt x="140" y="370"/>
                    </a:lnTo>
                    <a:lnTo>
                      <a:pt x="116" y="300"/>
                    </a:lnTo>
                    <a:lnTo>
                      <a:pt x="90" y="238"/>
                    </a:lnTo>
                    <a:lnTo>
                      <a:pt x="60" y="176"/>
                    </a:lnTo>
                    <a:lnTo>
                      <a:pt x="22" y="104"/>
                    </a:lnTo>
                    <a:lnTo>
                      <a:pt x="22" y="104"/>
                    </a:lnTo>
                    <a:lnTo>
                      <a:pt x="226" y="100"/>
                    </a:lnTo>
                    <a:lnTo>
                      <a:pt x="418" y="94"/>
                    </a:lnTo>
                    <a:lnTo>
                      <a:pt x="592" y="84"/>
                    </a:lnTo>
                    <a:lnTo>
                      <a:pt x="750" y="74"/>
                    </a:lnTo>
                    <a:lnTo>
                      <a:pt x="890" y="58"/>
                    </a:lnTo>
                    <a:lnTo>
                      <a:pt x="952" y="50"/>
                    </a:lnTo>
                    <a:lnTo>
                      <a:pt x="1008" y="42"/>
                    </a:lnTo>
                    <a:lnTo>
                      <a:pt x="1058" y="32"/>
                    </a:lnTo>
                    <a:lnTo>
                      <a:pt x="1102" y="22"/>
                    </a:lnTo>
                    <a:lnTo>
                      <a:pt x="1142" y="12"/>
                    </a:lnTo>
                    <a:lnTo>
                      <a:pt x="1174" y="0"/>
                    </a:lnTo>
                    <a:lnTo>
                      <a:pt x="1364" y="286"/>
                    </a:lnTo>
                    <a:lnTo>
                      <a:pt x="1364" y="286"/>
                    </a:lnTo>
                    <a:lnTo>
                      <a:pt x="1328" y="292"/>
                    </a:lnTo>
                    <a:lnTo>
                      <a:pt x="1290" y="294"/>
                    </a:lnTo>
                    <a:lnTo>
                      <a:pt x="1290" y="294"/>
                    </a:lnTo>
                    <a:lnTo>
                      <a:pt x="1258" y="298"/>
                    </a:lnTo>
                    <a:lnTo>
                      <a:pt x="1212" y="304"/>
                    </a:lnTo>
                    <a:lnTo>
                      <a:pt x="1212" y="304"/>
                    </a:lnTo>
                    <a:lnTo>
                      <a:pt x="1096" y="316"/>
                    </a:lnTo>
                    <a:lnTo>
                      <a:pt x="876" y="338"/>
                    </a:lnTo>
                    <a:lnTo>
                      <a:pt x="876" y="430"/>
                    </a:lnTo>
                    <a:lnTo>
                      <a:pt x="1120" y="430"/>
                    </a:lnTo>
                    <a:lnTo>
                      <a:pt x="1120" y="430"/>
                    </a:lnTo>
                    <a:lnTo>
                      <a:pt x="1202" y="430"/>
                    </a:lnTo>
                    <a:lnTo>
                      <a:pt x="1266" y="428"/>
                    </a:lnTo>
                    <a:lnTo>
                      <a:pt x="1316" y="426"/>
                    </a:lnTo>
                    <a:lnTo>
                      <a:pt x="1364" y="420"/>
                    </a:lnTo>
                    <a:lnTo>
                      <a:pt x="1364" y="490"/>
                    </a:lnTo>
                    <a:lnTo>
                      <a:pt x="1364" y="490"/>
                    </a:lnTo>
                    <a:lnTo>
                      <a:pt x="1420" y="494"/>
                    </a:lnTo>
                    <a:lnTo>
                      <a:pt x="1454" y="496"/>
                    </a:lnTo>
                    <a:lnTo>
                      <a:pt x="1498" y="496"/>
                    </a:lnTo>
                    <a:lnTo>
                      <a:pt x="1530" y="496"/>
                    </a:lnTo>
                    <a:lnTo>
                      <a:pt x="1530" y="496"/>
                    </a:lnTo>
                    <a:lnTo>
                      <a:pt x="1530" y="258"/>
                    </a:lnTo>
                    <a:lnTo>
                      <a:pt x="1530" y="258"/>
                    </a:lnTo>
                    <a:lnTo>
                      <a:pt x="1530" y="182"/>
                    </a:lnTo>
                    <a:lnTo>
                      <a:pt x="1528" y="122"/>
                    </a:lnTo>
                    <a:lnTo>
                      <a:pt x="1522" y="72"/>
                    </a:lnTo>
                    <a:lnTo>
                      <a:pt x="1516" y="28"/>
                    </a:lnTo>
                    <a:lnTo>
                      <a:pt x="1918" y="28"/>
                    </a:lnTo>
                    <a:lnTo>
                      <a:pt x="1918" y="28"/>
                    </a:lnTo>
                    <a:lnTo>
                      <a:pt x="1910" y="76"/>
                    </a:lnTo>
                    <a:lnTo>
                      <a:pt x="1908" y="102"/>
                    </a:lnTo>
                    <a:lnTo>
                      <a:pt x="1906" y="140"/>
                    </a:lnTo>
                    <a:lnTo>
                      <a:pt x="1904" y="266"/>
                    </a:lnTo>
                    <a:lnTo>
                      <a:pt x="1900" y="496"/>
                    </a:lnTo>
                    <a:lnTo>
                      <a:pt x="2108" y="496"/>
                    </a:lnTo>
                    <a:close/>
                    <a:moveTo>
                      <a:pt x="412" y="998"/>
                    </a:moveTo>
                    <a:lnTo>
                      <a:pt x="412" y="1084"/>
                    </a:lnTo>
                    <a:lnTo>
                      <a:pt x="548" y="1084"/>
                    </a:lnTo>
                    <a:lnTo>
                      <a:pt x="548" y="998"/>
                    </a:lnTo>
                    <a:lnTo>
                      <a:pt x="412" y="998"/>
                    </a:lnTo>
                    <a:close/>
                    <a:moveTo>
                      <a:pt x="412" y="1278"/>
                    </a:moveTo>
                    <a:lnTo>
                      <a:pt x="412" y="1368"/>
                    </a:lnTo>
                    <a:lnTo>
                      <a:pt x="548" y="1368"/>
                    </a:lnTo>
                    <a:lnTo>
                      <a:pt x="548" y="1278"/>
                    </a:lnTo>
                    <a:lnTo>
                      <a:pt x="412" y="1278"/>
                    </a:lnTo>
                    <a:close/>
                    <a:moveTo>
                      <a:pt x="1320" y="1894"/>
                    </a:moveTo>
                    <a:lnTo>
                      <a:pt x="1320" y="1894"/>
                    </a:lnTo>
                    <a:lnTo>
                      <a:pt x="1342" y="1850"/>
                    </a:lnTo>
                    <a:lnTo>
                      <a:pt x="1364" y="1804"/>
                    </a:lnTo>
                    <a:lnTo>
                      <a:pt x="1382" y="1756"/>
                    </a:lnTo>
                    <a:lnTo>
                      <a:pt x="1400" y="1708"/>
                    </a:lnTo>
                    <a:lnTo>
                      <a:pt x="1418" y="1656"/>
                    </a:lnTo>
                    <a:lnTo>
                      <a:pt x="1432" y="1602"/>
                    </a:lnTo>
                    <a:lnTo>
                      <a:pt x="1446" y="1546"/>
                    </a:lnTo>
                    <a:lnTo>
                      <a:pt x="1458" y="1486"/>
                    </a:lnTo>
                    <a:lnTo>
                      <a:pt x="1470" y="1422"/>
                    </a:lnTo>
                    <a:lnTo>
                      <a:pt x="1480" y="1354"/>
                    </a:lnTo>
                    <a:lnTo>
                      <a:pt x="1490" y="1284"/>
                    </a:lnTo>
                    <a:lnTo>
                      <a:pt x="1498" y="1208"/>
                    </a:lnTo>
                    <a:lnTo>
                      <a:pt x="1506" y="1128"/>
                    </a:lnTo>
                    <a:lnTo>
                      <a:pt x="1512" y="1044"/>
                    </a:lnTo>
                    <a:lnTo>
                      <a:pt x="1522" y="856"/>
                    </a:lnTo>
                    <a:lnTo>
                      <a:pt x="1522" y="856"/>
                    </a:lnTo>
                    <a:lnTo>
                      <a:pt x="1438" y="858"/>
                    </a:lnTo>
                    <a:lnTo>
                      <a:pt x="1364" y="864"/>
                    </a:lnTo>
                    <a:lnTo>
                      <a:pt x="1364" y="718"/>
                    </a:lnTo>
                    <a:lnTo>
                      <a:pt x="1364" y="718"/>
                    </a:lnTo>
                    <a:lnTo>
                      <a:pt x="1336" y="712"/>
                    </a:lnTo>
                    <a:lnTo>
                      <a:pt x="1308" y="710"/>
                    </a:lnTo>
                    <a:lnTo>
                      <a:pt x="1204" y="710"/>
                    </a:lnTo>
                    <a:lnTo>
                      <a:pt x="876" y="710"/>
                    </a:lnTo>
                    <a:lnTo>
                      <a:pt x="876" y="784"/>
                    </a:lnTo>
                    <a:lnTo>
                      <a:pt x="1124" y="784"/>
                    </a:lnTo>
                    <a:lnTo>
                      <a:pt x="1124" y="784"/>
                    </a:lnTo>
                    <a:lnTo>
                      <a:pt x="1252" y="782"/>
                    </a:lnTo>
                    <a:lnTo>
                      <a:pt x="1290" y="782"/>
                    </a:lnTo>
                    <a:lnTo>
                      <a:pt x="1328" y="778"/>
                    </a:lnTo>
                    <a:lnTo>
                      <a:pt x="1328" y="778"/>
                    </a:lnTo>
                    <a:lnTo>
                      <a:pt x="1324" y="818"/>
                    </a:lnTo>
                    <a:lnTo>
                      <a:pt x="1322" y="862"/>
                    </a:lnTo>
                    <a:lnTo>
                      <a:pt x="1320" y="998"/>
                    </a:lnTo>
                    <a:lnTo>
                      <a:pt x="1320" y="1364"/>
                    </a:lnTo>
                    <a:lnTo>
                      <a:pt x="1320" y="1364"/>
                    </a:lnTo>
                    <a:lnTo>
                      <a:pt x="1322" y="1486"/>
                    </a:lnTo>
                    <a:lnTo>
                      <a:pt x="1326" y="1584"/>
                    </a:lnTo>
                    <a:lnTo>
                      <a:pt x="1326" y="1584"/>
                    </a:lnTo>
                    <a:lnTo>
                      <a:pt x="1240" y="1582"/>
                    </a:lnTo>
                    <a:lnTo>
                      <a:pt x="1104" y="1582"/>
                    </a:lnTo>
                    <a:lnTo>
                      <a:pt x="876" y="1582"/>
                    </a:lnTo>
                    <a:lnTo>
                      <a:pt x="876" y="1658"/>
                    </a:lnTo>
                    <a:lnTo>
                      <a:pt x="1074" y="1658"/>
                    </a:lnTo>
                    <a:lnTo>
                      <a:pt x="1074" y="1658"/>
                    </a:lnTo>
                    <a:lnTo>
                      <a:pt x="1158" y="1658"/>
                    </a:lnTo>
                    <a:lnTo>
                      <a:pt x="1220" y="1656"/>
                    </a:lnTo>
                    <a:lnTo>
                      <a:pt x="1270" y="1654"/>
                    </a:lnTo>
                    <a:lnTo>
                      <a:pt x="1320" y="1650"/>
                    </a:lnTo>
                    <a:lnTo>
                      <a:pt x="1320" y="1894"/>
                    </a:lnTo>
                    <a:close/>
                    <a:moveTo>
                      <a:pt x="876" y="1084"/>
                    </a:moveTo>
                    <a:lnTo>
                      <a:pt x="1010" y="1084"/>
                    </a:lnTo>
                    <a:lnTo>
                      <a:pt x="1010" y="998"/>
                    </a:lnTo>
                    <a:lnTo>
                      <a:pt x="876" y="998"/>
                    </a:lnTo>
                    <a:lnTo>
                      <a:pt x="876" y="1084"/>
                    </a:lnTo>
                    <a:close/>
                    <a:moveTo>
                      <a:pt x="876" y="1368"/>
                    </a:moveTo>
                    <a:lnTo>
                      <a:pt x="1010" y="1368"/>
                    </a:lnTo>
                    <a:lnTo>
                      <a:pt x="1010" y="1278"/>
                    </a:lnTo>
                    <a:lnTo>
                      <a:pt x="876" y="1278"/>
                    </a:lnTo>
                    <a:lnTo>
                      <a:pt x="876" y="1368"/>
                    </a:lnTo>
                    <a:close/>
                    <a:moveTo>
                      <a:pt x="876" y="2010"/>
                    </a:moveTo>
                    <a:lnTo>
                      <a:pt x="876" y="2010"/>
                    </a:lnTo>
                    <a:lnTo>
                      <a:pt x="1062" y="2002"/>
                    </a:lnTo>
                    <a:lnTo>
                      <a:pt x="1262" y="1988"/>
                    </a:lnTo>
                    <a:lnTo>
                      <a:pt x="1262" y="1988"/>
                    </a:lnTo>
                    <a:lnTo>
                      <a:pt x="1298" y="1932"/>
                    </a:lnTo>
                    <a:lnTo>
                      <a:pt x="1298" y="1932"/>
                    </a:lnTo>
                    <a:lnTo>
                      <a:pt x="1272" y="1928"/>
                    </a:lnTo>
                    <a:lnTo>
                      <a:pt x="1244" y="1926"/>
                    </a:lnTo>
                    <a:lnTo>
                      <a:pt x="1176" y="1924"/>
                    </a:lnTo>
                    <a:lnTo>
                      <a:pt x="876" y="1924"/>
                    </a:lnTo>
                    <a:lnTo>
                      <a:pt x="876" y="2010"/>
                    </a:lnTo>
                    <a:close/>
                    <a:moveTo>
                      <a:pt x="1890" y="856"/>
                    </a:moveTo>
                    <a:lnTo>
                      <a:pt x="1890" y="856"/>
                    </a:lnTo>
                    <a:lnTo>
                      <a:pt x="1880" y="1040"/>
                    </a:lnTo>
                    <a:lnTo>
                      <a:pt x="1874" y="1128"/>
                    </a:lnTo>
                    <a:lnTo>
                      <a:pt x="1868" y="1210"/>
                    </a:lnTo>
                    <a:lnTo>
                      <a:pt x="1858" y="1290"/>
                    </a:lnTo>
                    <a:lnTo>
                      <a:pt x="1850" y="1366"/>
                    </a:lnTo>
                    <a:lnTo>
                      <a:pt x="1838" y="1440"/>
                    </a:lnTo>
                    <a:lnTo>
                      <a:pt x="1826" y="1512"/>
                    </a:lnTo>
                    <a:lnTo>
                      <a:pt x="1814" y="1580"/>
                    </a:lnTo>
                    <a:lnTo>
                      <a:pt x="1800" y="1646"/>
                    </a:lnTo>
                    <a:lnTo>
                      <a:pt x="1784" y="1712"/>
                    </a:lnTo>
                    <a:lnTo>
                      <a:pt x="1766" y="1774"/>
                    </a:lnTo>
                    <a:lnTo>
                      <a:pt x="1748" y="1834"/>
                    </a:lnTo>
                    <a:lnTo>
                      <a:pt x="1728" y="1894"/>
                    </a:lnTo>
                    <a:lnTo>
                      <a:pt x="1708" y="1950"/>
                    </a:lnTo>
                    <a:lnTo>
                      <a:pt x="1686" y="2008"/>
                    </a:lnTo>
                    <a:lnTo>
                      <a:pt x="1686" y="2008"/>
                    </a:lnTo>
                    <a:lnTo>
                      <a:pt x="1720" y="2012"/>
                    </a:lnTo>
                    <a:lnTo>
                      <a:pt x="1750" y="2016"/>
                    </a:lnTo>
                    <a:lnTo>
                      <a:pt x="1796" y="2018"/>
                    </a:lnTo>
                    <a:lnTo>
                      <a:pt x="1796" y="2018"/>
                    </a:lnTo>
                    <a:lnTo>
                      <a:pt x="1832" y="2016"/>
                    </a:lnTo>
                    <a:lnTo>
                      <a:pt x="1846" y="2014"/>
                    </a:lnTo>
                    <a:lnTo>
                      <a:pt x="1860" y="2010"/>
                    </a:lnTo>
                    <a:lnTo>
                      <a:pt x="1872" y="2004"/>
                    </a:lnTo>
                    <a:lnTo>
                      <a:pt x="1882" y="1998"/>
                    </a:lnTo>
                    <a:lnTo>
                      <a:pt x="1892" y="1990"/>
                    </a:lnTo>
                    <a:lnTo>
                      <a:pt x="1900" y="1978"/>
                    </a:lnTo>
                    <a:lnTo>
                      <a:pt x="1908" y="1966"/>
                    </a:lnTo>
                    <a:lnTo>
                      <a:pt x="1916" y="1950"/>
                    </a:lnTo>
                    <a:lnTo>
                      <a:pt x="1922" y="1932"/>
                    </a:lnTo>
                    <a:lnTo>
                      <a:pt x="1926" y="1910"/>
                    </a:lnTo>
                    <a:lnTo>
                      <a:pt x="1936" y="1860"/>
                    </a:lnTo>
                    <a:lnTo>
                      <a:pt x="1946" y="1794"/>
                    </a:lnTo>
                    <a:lnTo>
                      <a:pt x="1946" y="1794"/>
                    </a:lnTo>
                    <a:lnTo>
                      <a:pt x="1954" y="1726"/>
                    </a:lnTo>
                    <a:lnTo>
                      <a:pt x="1962" y="1652"/>
                    </a:lnTo>
                    <a:lnTo>
                      <a:pt x="1970" y="1572"/>
                    </a:lnTo>
                    <a:lnTo>
                      <a:pt x="1976" y="1478"/>
                    </a:lnTo>
                    <a:lnTo>
                      <a:pt x="1982" y="1364"/>
                    </a:lnTo>
                    <a:lnTo>
                      <a:pt x="1988" y="1226"/>
                    </a:lnTo>
                    <a:lnTo>
                      <a:pt x="2000" y="856"/>
                    </a:lnTo>
                    <a:lnTo>
                      <a:pt x="1890" y="856"/>
                    </a:lnTo>
                    <a:close/>
                  </a:path>
                </a:pathLst>
              </a:custGeom>
              <a:solidFill>
                <a:srgbClr val="e7211a"/>
              </a:solidFill>
              <a:ln w="5396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23"/>
              <p:cNvSpPr/>
              <p:nvPr/>
            </p:nvSpPr>
            <p:spPr>
              <a:xfrm>
                <a:off x="1469880" y="2216160"/>
                <a:ext cx="3851280" cy="3797640"/>
              </a:xfrm>
              <a:custGeom>
                <a:avLst/>
                <a:gdLst>
                  <a:gd name="textAreaLeft" fmla="*/ 0 w 3851280"/>
                  <a:gd name="textAreaRight" fmla="*/ 3851640 w 3851280"/>
                  <a:gd name="textAreaTop" fmla="*/ 0 h 3797640"/>
                  <a:gd name="textAreaBottom" fmla="*/ 3798000 h 3797640"/>
                </a:gdLst>
                <a:ahLst/>
                <a:rect l="textAreaLeft" t="textAreaTop" r="textAreaRight" b="textAreaBottom"/>
                <a:pathLst>
                  <a:path w="2426" h="2392">
                    <a:moveTo>
                      <a:pt x="948" y="1152"/>
                    </a:moveTo>
                    <a:lnTo>
                      <a:pt x="948" y="1152"/>
                    </a:lnTo>
                    <a:lnTo>
                      <a:pt x="966" y="1118"/>
                    </a:lnTo>
                    <a:lnTo>
                      <a:pt x="980" y="1094"/>
                    </a:lnTo>
                    <a:lnTo>
                      <a:pt x="990" y="1070"/>
                    </a:lnTo>
                    <a:lnTo>
                      <a:pt x="1002" y="1042"/>
                    </a:lnTo>
                    <a:lnTo>
                      <a:pt x="1002" y="1042"/>
                    </a:lnTo>
                    <a:lnTo>
                      <a:pt x="960" y="1036"/>
                    </a:lnTo>
                    <a:lnTo>
                      <a:pt x="916" y="1034"/>
                    </a:lnTo>
                    <a:lnTo>
                      <a:pt x="862" y="1032"/>
                    </a:lnTo>
                    <a:lnTo>
                      <a:pt x="794" y="1032"/>
                    </a:lnTo>
                    <a:lnTo>
                      <a:pt x="794" y="1032"/>
                    </a:lnTo>
                    <a:lnTo>
                      <a:pt x="830" y="1088"/>
                    </a:lnTo>
                    <a:lnTo>
                      <a:pt x="864" y="1138"/>
                    </a:lnTo>
                    <a:lnTo>
                      <a:pt x="898" y="1184"/>
                    </a:lnTo>
                    <a:lnTo>
                      <a:pt x="934" y="1226"/>
                    </a:lnTo>
                    <a:lnTo>
                      <a:pt x="972" y="1268"/>
                    </a:lnTo>
                    <a:lnTo>
                      <a:pt x="1014" y="1310"/>
                    </a:lnTo>
                    <a:lnTo>
                      <a:pt x="1064" y="1354"/>
                    </a:lnTo>
                    <a:lnTo>
                      <a:pt x="1120" y="1402"/>
                    </a:lnTo>
                    <a:lnTo>
                      <a:pt x="1120" y="1402"/>
                    </a:lnTo>
                    <a:lnTo>
                      <a:pt x="1094" y="1440"/>
                    </a:lnTo>
                    <a:lnTo>
                      <a:pt x="1072" y="1478"/>
                    </a:lnTo>
                    <a:lnTo>
                      <a:pt x="1050" y="1516"/>
                    </a:lnTo>
                    <a:lnTo>
                      <a:pt x="1030" y="1556"/>
                    </a:lnTo>
                    <a:lnTo>
                      <a:pt x="1010" y="1596"/>
                    </a:lnTo>
                    <a:lnTo>
                      <a:pt x="990" y="1640"/>
                    </a:lnTo>
                    <a:lnTo>
                      <a:pt x="948" y="1740"/>
                    </a:lnTo>
                    <a:lnTo>
                      <a:pt x="948" y="1740"/>
                    </a:lnTo>
                    <a:lnTo>
                      <a:pt x="900" y="1686"/>
                    </a:lnTo>
                    <a:lnTo>
                      <a:pt x="878" y="1660"/>
                    </a:lnTo>
                    <a:lnTo>
                      <a:pt x="858" y="1632"/>
                    </a:lnTo>
                    <a:lnTo>
                      <a:pt x="820" y="1576"/>
                    </a:lnTo>
                    <a:lnTo>
                      <a:pt x="780" y="1508"/>
                    </a:lnTo>
                    <a:lnTo>
                      <a:pt x="780" y="1508"/>
                    </a:lnTo>
                    <a:lnTo>
                      <a:pt x="786" y="1606"/>
                    </a:lnTo>
                    <a:lnTo>
                      <a:pt x="788" y="1660"/>
                    </a:lnTo>
                    <a:lnTo>
                      <a:pt x="788" y="1710"/>
                    </a:lnTo>
                    <a:lnTo>
                      <a:pt x="788" y="2062"/>
                    </a:lnTo>
                    <a:lnTo>
                      <a:pt x="788" y="2062"/>
                    </a:lnTo>
                    <a:lnTo>
                      <a:pt x="788" y="2168"/>
                    </a:lnTo>
                    <a:lnTo>
                      <a:pt x="792" y="2252"/>
                    </a:lnTo>
                    <a:lnTo>
                      <a:pt x="796" y="2322"/>
                    </a:lnTo>
                    <a:lnTo>
                      <a:pt x="804" y="2392"/>
                    </a:lnTo>
                    <a:lnTo>
                      <a:pt x="396" y="2392"/>
                    </a:lnTo>
                    <a:lnTo>
                      <a:pt x="396" y="2392"/>
                    </a:lnTo>
                    <a:lnTo>
                      <a:pt x="402" y="2320"/>
                    </a:lnTo>
                    <a:lnTo>
                      <a:pt x="406" y="2248"/>
                    </a:lnTo>
                    <a:lnTo>
                      <a:pt x="410" y="2164"/>
                    </a:lnTo>
                    <a:lnTo>
                      <a:pt x="410" y="2062"/>
                    </a:lnTo>
                    <a:lnTo>
                      <a:pt x="410" y="1768"/>
                    </a:lnTo>
                    <a:lnTo>
                      <a:pt x="410" y="1768"/>
                    </a:lnTo>
                    <a:lnTo>
                      <a:pt x="412" y="1658"/>
                    </a:lnTo>
                    <a:lnTo>
                      <a:pt x="418" y="1560"/>
                    </a:lnTo>
                    <a:lnTo>
                      <a:pt x="418" y="1560"/>
                    </a:lnTo>
                    <a:lnTo>
                      <a:pt x="392" y="1626"/>
                    </a:lnTo>
                    <a:lnTo>
                      <a:pt x="366" y="1686"/>
                    </a:lnTo>
                    <a:lnTo>
                      <a:pt x="340" y="1738"/>
                    </a:lnTo>
                    <a:lnTo>
                      <a:pt x="312" y="1788"/>
                    </a:lnTo>
                    <a:lnTo>
                      <a:pt x="282" y="1836"/>
                    </a:lnTo>
                    <a:lnTo>
                      <a:pt x="250" y="1882"/>
                    </a:lnTo>
                    <a:lnTo>
                      <a:pt x="214" y="1928"/>
                    </a:lnTo>
                    <a:lnTo>
                      <a:pt x="172" y="1976"/>
                    </a:lnTo>
                    <a:lnTo>
                      <a:pt x="172" y="1976"/>
                    </a:lnTo>
                    <a:lnTo>
                      <a:pt x="152" y="1918"/>
                    </a:lnTo>
                    <a:lnTo>
                      <a:pt x="134" y="1868"/>
                    </a:lnTo>
                    <a:lnTo>
                      <a:pt x="116" y="1820"/>
                    </a:lnTo>
                    <a:lnTo>
                      <a:pt x="96" y="1776"/>
                    </a:lnTo>
                    <a:lnTo>
                      <a:pt x="76" y="1732"/>
                    </a:lnTo>
                    <a:lnTo>
                      <a:pt x="52" y="1690"/>
                    </a:lnTo>
                    <a:lnTo>
                      <a:pt x="28" y="1646"/>
                    </a:lnTo>
                    <a:lnTo>
                      <a:pt x="0" y="1598"/>
                    </a:lnTo>
                    <a:lnTo>
                      <a:pt x="0" y="1598"/>
                    </a:lnTo>
                    <a:lnTo>
                      <a:pt x="30" y="1570"/>
                    </a:lnTo>
                    <a:lnTo>
                      <a:pt x="60" y="1540"/>
                    </a:lnTo>
                    <a:lnTo>
                      <a:pt x="88" y="1510"/>
                    </a:lnTo>
                    <a:lnTo>
                      <a:pt x="116" y="1478"/>
                    </a:lnTo>
                    <a:lnTo>
                      <a:pt x="142" y="1444"/>
                    </a:lnTo>
                    <a:lnTo>
                      <a:pt x="168" y="1410"/>
                    </a:lnTo>
                    <a:lnTo>
                      <a:pt x="194" y="1374"/>
                    </a:lnTo>
                    <a:lnTo>
                      <a:pt x="218" y="1338"/>
                    </a:lnTo>
                    <a:lnTo>
                      <a:pt x="240" y="1300"/>
                    </a:lnTo>
                    <a:lnTo>
                      <a:pt x="262" y="1264"/>
                    </a:lnTo>
                    <a:lnTo>
                      <a:pt x="282" y="1226"/>
                    </a:lnTo>
                    <a:lnTo>
                      <a:pt x="300" y="1186"/>
                    </a:lnTo>
                    <a:lnTo>
                      <a:pt x="318" y="1148"/>
                    </a:lnTo>
                    <a:lnTo>
                      <a:pt x="334" y="1110"/>
                    </a:lnTo>
                    <a:lnTo>
                      <a:pt x="350" y="1070"/>
                    </a:lnTo>
                    <a:lnTo>
                      <a:pt x="362" y="1032"/>
                    </a:lnTo>
                    <a:lnTo>
                      <a:pt x="264" y="1032"/>
                    </a:lnTo>
                    <a:lnTo>
                      <a:pt x="264" y="1032"/>
                    </a:lnTo>
                    <a:lnTo>
                      <a:pt x="202" y="1032"/>
                    </a:lnTo>
                    <a:lnTo>
                      <a:pt x="148" y="1034"/>
                    </a:lnTo>
                    <a:lnTo>
                      <a:pt x="98" y="1038"/>
                    </a:lnTo>
                    <a:lnTo>
                      <a:pt x="48" y="1044"/>
                    </a:lnTo>
                    <a:lnTo>
                      <a:pt x="48" y="672"/>
                    </a:lnTo>
                    <a:lnTo>
                      <a:pt x="48" y="672"/>
                    </a:lnTo>
                    <a:lnTo>
                      <a:pt x="100" y="678"/>
                    </a:lnTo>
                    <a:lnTo>
                      <a:pt x="150" y="682"/>
                    </a:lnTo>
                    <a:lnTo>
                      <a:pt x="206" y="684"/>
                    </a:lnTo>
                    <a:lnTo>
                      <a:pt x="272" y="684"/>
                    </a:lnTo>
                    <a:lnTo>
                      <a:pt x="410" y="684"/>
                    </a:lnTo>
                    <a:lnTo>
                      <a:pt x="410" y="506"/>
                    </a:lnTo>
                    <a:lnTo>
                      <a:pt x="410" y="506"/>
                    </a:lnTo>
                    <a:lnTo>
                      <a:pt x="302" y="522"/>
                    </a:lnTo>
                    <a:lnTo>
                      <a:pt x="170" y="540"/>
                    </a:lnTo>
                    <a:lnTo>
                      <a:pt x="170" y="540"/>
                    </a:lnTo>
                    <a:lnTo>
                      <a:pt x="142" y="448"/>
                    </a:lnTo>
                    <a:lnTo>
                      <a:pt x="116" y="372"/>
                    </a:lnTo>
                    <a:lnTo>
                      <a:pt x="86" y="296"/>
                    </a:lnTo>
                    <a:lnTo>
                      <a:pt x="44" y="202"/>
                    </a:lnTo>
                    <a:lnTo>
                      <a:pt x="44" y="202"/>
                    </a:lnTo>
                    <a:lnTo>
                      <a:pt x="196" y="186"/>
                    </a:lnTo>
                    <a:lnTo>
                      <a:pt x="336" y="166"/>
                    </a:lnTo>
                    <a:lnTo>
                      <a:pt x="464" y="144"/>
                    </a:lnTo>
                    <a:lnTo>
                      <a:pt x="580" y="120"/>
                    </a:lnTo>
                    <a:lnTo>
                      <a:pt x="634" y="106"/>
                    </a:lnTo>
                    <a:lnTo>
                      <a:pt x="684" y="92"/>
                    </a:lnTo>
                    <a:lnTo>
                      <a:pt x="732" y="78"/>
                    </a:lnTo>
                    <a:lnTo>
                      <a:pt x="776" y="64"/>
                    </a:lnTo>
                    <a:lnTo>
                      <a:pt x="816" y="48"/>
                    </a:lnTo>
                    <a:lnTo>
                      <a:pt x="854" y="32"/>
                    </a:lnTo>
                    <a:lnTo>
                      <a:pt x="888" y="16"/>
                    </a:lnTo>
                    <a:lnTo>
                      <a:pt x="918" y="0"/>
                    </a:lnTo>
                    <a:lnTo>
                      <a:pt x="1140" y="318"/>
                    </a:lnTo>
                    <a:lnTo>
                      <a:pt x="1140" y="318"/>
                    </a:lnTo>
                    <a:lnTo>
                      <a:pt x="1094" y="334"/>
                    </a:lnTo>
                    <a:lnTo>
                      <a:pt x="1028" y="356"/>
                    </a:lnTo>
                    <a:lnTo>
                      <a:pt x="1028" y="356"/>
                    </a:lnTo>
                    <a:lnTo>
                      <a:pt x="922" y="392"/>
                    </a:lnTo>
                    <a:lnTo>
                      <a:pt x="860" y="410"/>
                    </a:lnTo>
                    <a:lnTo>
                      <a:pt x="788" y="428"/>
                    </a:lnTo>
                    <a:lnTo>
                      <a:pt x="788" y="684"/>
                    </a:lnTo>
                    <a:lnTo>
                      <a:pt x="804" y="684"/>
                    </a:lnTo>
                    <a:lnTo>
                      <a:pt x="804" y="684"/>
                    </a:lnTo>
                    <a:lnTo>
                      <a:pt x="868" y="684"/>
                    </a:lnTo>
                    <a:lnTo>
                      <a:pt x="920" y="682"/>
                    </a:lnTo>
                    <a:lnTo>
                      <a:pt x="966" y="678"/>
                    </a:lnTo>
                    <a:lnTo>
                      <a:pt x="1008" y="672"/>
                    </a:lnTo>
                    <a:lnTo>
                      <a:pt x="1008" y="1024"/>
                    </a:lnTo>
                    <a:lnTo>
                      <a:pt x="1008" y="1024"/>
                    </a:lnTo>
                    <a:lnTo>
                      <a:pt x="1028" y="964"/>
                    </a:lnTo>
                    <a:lnTo>
                      <a:pt x="1042" y="904"/>
                    </a:lnTo>
                    <a:lnTo>
                      <a:pt x="1056" y="840"/>
                    </a:lnTo>
                    <a:lnTo>
                      <a:pt x="1066" y="774"/>
                    </a:lnTo>
                    <a:lnTo>
                      <a:pt x="1074" y="702"/>
                    </a:lnTo>
                    <a:lnTo>
                      <a:pt x="1080" y="626"/>
                    </a:lnTo>
                    <a:lnTo>
                      <a:pt x="1082" y="540"/>
                    </a:lnTo>
                    <a:lnTo>
                      <a:pt x="1084" y="448"/>
                    </a:lnTo>
                    <a:lnTo>
                      <a:pt x="1398" y="542"/>
                    </a:lnTo>
                    <a:lnTo>
                      <a:pt x="1398" y="542"/>
                    </a:lnTo>
                    <a:lnTo>
                      <a:pt x="1392" y="670"/>
                    </a:lnTo>
                    <a:lnTo>
                      <a:pt x="1382" y="788"/>
                    </a:lnTo>
                    <a:lnTo>
                      <a:pt x="1376" y="844"/>
                    </a:lnTo>
                    <a:lnTo>
                      <a:pt x="1370" y="896"/>
                    </a:lnTo>
                    <a:lnTo>
                      <a:pt x="1362" y="948"/>
                    </a:lnTo>
                    <a:lnTo>
                      <a:pt x="1352" y="996"/>
                    </a:lnTo>
                    <a:lnTo>
                      <a:pt x="1342" y="1044"/>
                    </a:lnTo>
                    <a:lnTo>
                      <a:pt x="1332" y="1090"/>
                    </a:lnTo>
                    <a:lnTo>
                      <a:pt x="1318" y="1134"/>
                    </a:lnTo>
                    <a:lnTo>
                      <a:pt x="1306" y="1178"/>
                    </a:lnTo>
                    <a:lnTo>
                      <a:pt x="1290" y="1222"/>
                    </a:lnTo>
                    <a:lnTo>
                      <a:pt x="1274" y="1264"/>
                    </a:lnTo>
                    <a:lnTo>
                      <a:pt x="1258" y="1306"/>
                    </a:lnTo>
                    <a:lnTo>
                      <a:pt x="1240" y="1348"/>
                    </a:lnTo>
                    <a:lnTo>
                      <a:pt x="948" y="1152"/>
                    </a:lnTo>
                    <a:close/>
                    <a:moveTo>
                      <a:pt x="1856" y="40"/>
                    </a:moveTo>
                    <a:lnTo>
                      <a:pt x="1856" y="40"/>
                    </a:lnTo>
                    <a:lnTo>
                      <a:pt x="1850" y="102"/>
                    </a:lnTo>
                    <a:lnTo>
                      <a:pt x="1848" y="196"/>
                    </a:lnTo>
                    <a:lnTo>
                      <a:pt x="1846" y="324"/>
                    </a:lnTo>
                    <a:lnTo>
                      <a:pt x="1846" y="486"/>
                    </a:lnTo>
                    <a:lnTo>
                      <a:pt x="1846" y="486"/>
                    </a:lnTo>
                    <a:lnTo>
                      <a:pt x="1846" y="662"/>
                    </a:lnTo>
                    <a:lnTo>
                      <a:pt x="1852" y="810"/>
                    </a:lnTo>
                    <a:lnTo>
                      <a:pt x="1858" y="938"/>
                    </a:lnTo>
                    <a:lnTo>
                      <a:pt x="1864" y="996"/>
                    </a:lnTo>
                    <a:lnTo>
                      <a:pt x="1870" y="1052"/>
                    </a:lnTo>
                    <a:lnTo>
                      <a:pt x="1870" y="1052"/>
                    </a:lnTo>
                    <a:lnTo>
                      <a:pt x="1900" y="992"/>
                    </a:lnTo>
                    <a:lnTo>
                      <a:pt x="1928" y="930"/>
                    </a:lnTo>
                    <a:lnTo>
                      <a:pt x="1952" y="860"/>
                    </a:lnTo>
                    <a:lnTo>
                      <a:pt x="1976" y="786"/>
                    </a:lnTo>
                    <a:lnTo>
                      <a:pt x="1998" y="706"/>
                    </a:lnTo>
                    <a:lnTo>
                      <a:pt x="2018" y="618"/>
                    </a:lnTo>
                    <a:lnTo>
                      <a:pt x="2038" y="522"/>
                    </a:lnTo>
                    <a:lnTo>
                      <a:pt x="2056" y="420"/>
                    </a:lnTo>
                    <a:lnTo>
                      <a:pt x="2392" y="590"/>
                    </a:lnTo>
                    <a:lnTo>
                      <a:pt x="2392" y="590"/>
                    </a:lnTo>
                    <a:lnTo>
                      <a:pt x="2362" y="698"/>
                    </a:lnTo>
                    <a:lnTo>
                      <a:pt x="2332" y="798"/>
                    </a:lnTo>
                    <a:lnTo>
                      <a:pt x="2302" y="890"/>
                    </a:lnTo>
                    <a:lnTo>
                      <a:pt x="2270" y="976"/>
                    </a:lnTo>
                    <a:lnTo>
                      <a:pt x="2238" y="1060"/>
                    </a:lnTo>
                    <a:lnTo>
                      <a:pt x="2204" y="1140"/>
                    </a:lnTo>
                    <a:lnTo>
                      <a:pt x="2166" y="1222"/>
                    </a:lnTo>
                    <a:lnTo>
                      <a:pt x="2124" y="1304"/>
                    </a:lnTo>
                    <a:lnTo>
                      <a:pt x="2124" y="1304"/>
                    </a:lnTo>
                    <a:lnTo>
                      <a:pt x="2068" y="1250"/>
                    </a:lnTo>
                    <a:lnTo>
                      <a:pt x="2006" y="1198"/>
                    </a:lnTo>
                    <a:lnTo>
                      <a:pt x="1944" y="1148"/>
                    </a:lnTo>
                    <a:lnTo>
                      <a:pt x="1912" y="1126"/>
                    </a:lnTo>
                    <a:lnTo>
                      <a:pt x="1880" y="1104"/>
                    </a:lnTo>
                    <a:lnTo>
                      <a:pt x="1880" y="1104"/>
                    </a:lnTo>
                    <a:lnTo>
                      <a:pt x="1894" y="1178"/>
                    </a:lnTo>
                    <a:lnTo>
                      <a:pt x="1910" y="1246"/>
                    </a:lnTo>
                    <a:lnTo>
                      <a:pt x="1928" y="1314"/>
                    </a:lnTo>
                    <a:lnTo>
                      <a:pt x="1948" y="1378"/>
                    </a:lnTo>
                    <a:lnTo>
                      <a:pt x="1972" y="1440"/>
                    </a:lnTo>
                    <a:lnTo>
                      <a:pt x="1998" y="1500"/>
                    </a:lnTo>
                    <a:lnTo>
                      <a:pt x="2028" y="1556"/>
                    </a:lnTo>
                    <a:lnTo>
                      <a:pt x="2058" y="1612"/>
                    </a:lnTo>
                    <a:lnTo>
                      <a:pt x="2094" y="1666"/>
                    </a:lnTo>
                    <a:lnTo>
                      <a:pt x="2132" y="1716"/>
                    </a:lnTo>
                    <a:lnTo>
                      <a:pt x="2172" y="1766"/>
                    </a:lnTo>
                    <a:lnTo>
                      <a:pt x="2216" y="1814"/>
                    </a:lnTo>
                    <a:lnTo>
                      <a:pt x="2264" y="1862"/>
                    </a:lnTo>
                    <a:lnTo>
                      <a:pt x="2314" y="1906"/>
                    </a:lnTo>
                    <a:lnTo>
                      <a:pt x="2368" y="1950"/>
                    </a:lnTo>
                    <a:lnTo>
                      <a:pt x="2426" y="1994"/>
                    </a:lnTo>
                    <a:lnTo>
                      <a:pt x="2426" y="1994"/>
                    </a:lnTo>
                    <a:lnTo>
                      <a:pt x="2386" y="2044"/>
                    </a:lnTo>
                    <a:lnTo>
                      <a:pt x="2350" y="2088"/>
                    </a:lnTo>
                    <a:lnTo>
                      <a:pt x="2318" y="2132"/>
                    </a:lnTo>
                    <a:lnTo>
                      <a:pt x="2290" y="2174"/>
                    </a:lnTo>
                    <a:lnTo>
                      <a:pt x="2262" y="2218"/>
                    </a:lnTo>
                    <a:lnTo>
                      <a:pt x="2236" y="2264"/>
                    </a:lnTo>
                    <a:lnTo>
                      <a:pt x="2208" y="2316"/>
                    </a:lnTo>
                    <a:lnTo>
                      <a:pt x="2180" y="2374"/>
                    </a:lnTo>
                    <a:lnTo>
                      <a:pt x="2180" y="2374"/>
                    </a:lnTo>
                    <a:lnTo>
                      <a:pt x="2118" y="2320"/>
                    </a:lnTo>
                    <a:lnTo>
                      <a:pt x="2064" y="2270"/>
                    </a:lnTo>
                    <a:lnTo>
                      <a:pt x="2016" y="2220"/>
                    </a:lnTo>
                    <a:lnTo>
                      <a:pt x="1972" y="2170"/>
                    </a:lnTo>
                    <a:lnTo>
                      <a:pt x="1932" y="2122"/>
                    </a:lnTo>
                    <a:lnTo>
                      <a:pt x="1894" y="2070"/>
                    </a:lnTo>
                    <a:lnTo>
                      <a:pt x="1856" y="2016"/>
                    </a:lnTo>
                    <a:lnTo>
                      <a:pt x="1820" y="1956"/>
                    </a:lnTo>
                    <a:lnTo>
                      <a:pt x="1820" y="1956"/>
                    </a:lnTo>
                    <a:lnTo>
                      <a:pt x="1794" y="1912"/>
                    </a:lnTo>
                    <a:lnTo>
                      <a:pt x="1772" y="1870"/>
                    </a:lnTo>
                    <a:lnTo>
                      <a:pt x="1754" y="1830"/>
                    </a:lnTo>
                    <a:lnTo>
                      <a:pt x="1734" y="1786"/>
                    </a:lnTo>
                    <a:lnTo>
                      <a:pt x="1716" y="1738"/>
                    </a:lnTo>
                    <a:lnTo>
                      <a:pt x="1698" y="1684"/>
                    </a:lnTo>
                    <a:lnTo>
                      <a:pt x="1654" y="1546"/>
                    </a:lnTo>
                    <a:lnTo>
                      <a:pt x="1654" y="1546"/>
                    </a:lnTo>
                    <a:lnTo>
                      <a:pt x="1636" y="1616"/>
                    </a:lnTo>
                    <a:lnTo>
                      <a:pt x="1616" y="1682"/>
                    </a:lnTo>
                    <a:lnTo>
                      <a:pt x="1596" y="1746"/>
                    </a:lnTo>
                    <a:lnTo>
                      <a:pt x="1572" y="1808"/>
                    </a:lnTo>
                    <a:lnTo>
                      <a:pt x="1546" y="1866"/>
                    </a:lnTo>
                    <a:lnTo>
                      <a:pt x="1518" y="1922"/>
                    </a:lnTo>
                    <a:lnTo>
                      <a:pt x="1490" y="1974"/>
                    </a:lnTo>
                    <a:lnTo>
                      <a:pt x="1458" y="2026"/>
                    </a:lnTo>
                    <a:lnTo>
                      <a:pt x="1422" y="2076"/>
                    </a:lnTo>
                    <a:lnTo>
                      <a:pt x="1386" y="2124"/>
                    </a:lnTo>
                    <a:lnTo>
                      <a:pt x="1346" y="2170"/>
                    </a:lnTo>
                    <a:lnTo>
                      <a:pt x="1302" y="2216"/>
                    </a:lnTo>
                    <a:lnTo>
                      <a:pt x="1256" y="2260"/>
                    </a:lnTo>
                    <a:lnTo>
                      <a:pt x="1208" y="2304"/>
                    </a:lnTo>
                    <a:lnTo>
                      <a:pt x="1156" y="2348"/>
                    </a:lnTo>
                    <a:lnTo>
                      <a:pt x="1100" y="2390"/>
                    </a:lnTo>
                    <a:lnTo>
                      <a:pt x="1100" y="2390"/>
                    </a:lnTo>
                    <a:lnTo>
                      <a:pt x="1064" y="2328"/>
                    </a:lnTo>
                    <a:lnTo>
                      <a:pt x="1034" y="2274"/>
                    </a:lnTo>
                    <a:lnTo>
                      <a:pt x="1004" y="2228"/>
                    </a:lnTo>
                    <a:lnTo>
                      <a:pt x="976" y="2186"/>
                    </a:lnTo>
                    <a:lnTo>
                      <a:pt x="946" y="2148"/>
                    </a:lnTo>
                    <a:lnTo>
                      <a:pt x="918" y="2112"/>
                    </a:lnTo>
                    <a:lnTo>
                      <a:pt x="884" y="2074"/>
                    </a:lnTo>
                    <a:lnTo>
                      <a:pt x="848" y="2038"/>
                    </a:lnTo>
                    <a:lnTo>
                      <a:pt x="848" y="2038"/>
                    </a:lnTo>
                    <a:lnTo>
                      <a:pt x="894" y="2008"/>
                    </a:lnTo>
                    <a:lnTo>
                      <a:pt x="936" y="1978"/>
                    </a:lnTo>
                    <a:lnTo>
                      <a:pt x="976" y="1948"/>
                    </a:lnTo>
                    <a:lnTo>
                      <a:pt x="1014" y="1916"/>
                    </a:lnTo>
                    <a:lnTo>
                      <a:pt x="1052" y="1882"/>
                    </a:lnTo>
                    <a:lnTo>
                      <a:pt x="1086" y="1848"/>
                    </a:lnTo>
                    <a:lnTo>
                      <a:pt x="1118" y="1814"/>
                    </a:lnTo>
                    <a:lnTo>
                      <a:pt x="1148" y="1778"/>
                    </a:lnTo>
                    <a:lnTo>
                      <a:pt x="1176" y="1740"/>
                    </a:lnTo>
                    <a:lnTo>
                      <a:pt x="1204" y="1700"/>
                    </a:lnTo>
                    <a:lnTo>
                      <a:pt x="1230" y="1658"/>
                    </a:lnTo>
                    <a:lnTo>
                      <a:pt x="1254" y="1616"/>
                    </a:lnTo>
                    <a:lnTo>
                      <a:pt x="1278" y="1570"/>
                    </a:lnTo>
                    <a:lnTo>
                      <a:pt x="1300" y="1524"/>
                    </a:lnTo>
                    <a:lnTo>
                      <a:pt x="1320" y="1476"/>
                    </a:lnTo>
                    <a:lnTo>
                      <a:pt x="1340" y="1424"/>
                    </a:lnTo>
                    <a:lnTo>
                      <a:pt x="1340" y="1424"/>
                    </a:lnTo>
                    <a:lnTo>
                      <a:pt x="1358" y="1378"/>
                    </a:lnTo>
                    <a:lnTo>
                      <a:pt x="1372" y="1330"/>
                    </a:lnTo>
                    <a:lnTo>
                      <a:pt x="1386" y="1282"/>
                    </a:lnTo>
                    <a:lnTo>
                      <a:pt x="1400" y="1234"/>
                    </a:lnTo>
                    <a:lnTo>
                      <a:pt x="1412" y="1184"/>
                    </a:lnTo>
                    <a:lnTo>
                      <a:pt x="1422" y="1132"/>
                    </a:lnTo>
                    <a:lnTo>
                      <a:pt x="1432" y="1078"/>
                    </a:lnTo>
                    <a:lnTo>
                      <a:pt x="1440" y="1022"/>
                    </a:lnTo>
                    <a:lnTo>
                      <a:pt x="1446" y="964"/>
                    </a:lnTo>
                    <a:lnTo>
                      <a:pt x="1454" y="904"/>
                    </a:lnTo>
                    <a:lnTo>
                      <a:pt x="1458" y="842"/>
                    </a:lnTo>
                    <a:lnTo>
                      <a:pt x="1462" y="776"/>
                    </a:lnTo>
                    <a:lnTo>
                      <a:pt x="1468" y="636"/>
                    </a:lnTo>
                    <a:lnTo>
                      <a:pt x="1470" y="484"/>
                    </a:lnTo>
                    <a:lnTo>
                      <a:pt x="1470" y="484"/>
                    </a:lnTo>
                    <a:lnTo>
                      <a:pt x="1468" y="332"/>
                    </a:lnTo>
                    <a:lnTo>
                      <a:pt x="1466" y="210"/>
                    </a:lnTo>
                    <a:lnTo>
                      <a:pt x="1460" y="114"/>
                    </a:lnTo>
                    <a:lnTo>
                      <a:pt x="1456" y="74"/>
                    </a:lnTo>
                    <a:lnTo>
                      <a:pt x="1452" y="40"/>
                    </a:lnTo>
                    <a:lnTo>
                      <a:pt x="1856" y="40"/>
                    </a:lnTo>
                    <a:close/>
                  </a:path>
                </a:pathLst>
              </a:custGeom>
              <a:solidFill>
                <a:srgbClr val="e7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24"/>
              <p:cNvSpPr/>
              <p:nvPr/>
            </p:nvSpPr>
            <p:spPr>
              <a:xfrm>
                <a:off x="5622480" y="2520720"/>
                <a:ext cx="3622680" cy="3375360"/>
              </a:xfrm>
              <a:custGeom>
                <a:avLst/>
                <a:gdLst>
                  <a:gd name="textAreaLeft" fmla="*/ 0 w 3622680"/>
                  <a:gd name="textAreaRight" fmla="*/ 3623040 w 3622680"/>
                  <a:gd name="textAreaTop" fmla="*/ 0 h 3375360"/>
                  <a:gd name="textAreaBottom" fmla="*/ 3375720 h 3375360"/>
                </a:gdLst>
                <a:ahLst/>
                <a:rect l="textAreaLeft" t="textAreaTop" r="textAreaRight" b="textAreaBottom"/>
                <a:pathLst>
                  <a:path w="2282" h="2126">
                    <a:moveTo>
                      <a:pt x="1124" y="1468"/>
                    </a:moveTo>
                    <a:lnTo>
                      <a:pt x="1124" y="1468"/>
                    </a:lnTo>
                    <a:lnTo>
                      <a:pt x="1096" y="1526"/>
                    </a:lnTo>
                    <a:lnTo>
                      <a:pt x="1068" y="1580"/>
                    </a:lnTo>
                    <a:lnTo>
                      <a:pt x="1040" y="1632"/>
                    </a:lnTo>
                    <a:lnTo>
                      <a:pt x="1010" y="1678"/>
                    </a:lnTo>
                    <a:lnTo>
                      <a:pt x="980" y="1720"/>
                    </a:lnTo>
                    <a:lnTo>
                      <a:pt x="948" y="1758"/>
                    </a:lnTo>
                    <a:lnTo>
                      <a:pt x="916" y="1792"/>
                    </a:lnTo>
                    <a:lnTo>
                      <a:pt x="882" y="1822"/>
                    </a:lnTo>
                    <a:lnTo>
                      <a:pt x="848" y="1850"/>
                    </a:lnTo>
                    <a:lnTo>
                      <a:pt x="814" y="1872"/>
                    </a:lnTo>
                    <a:lnTo>
                      <a:pt x="776" y="1892"/>
                    </a:lnTo>
                    <a:lnTo>
                      <a:pt x="740" y="1906"/>
                    </a:lnTo>
                    <a:lnTo>
                      <a:pt x="700" y="1918"/>
                    </a:lnTo>
                    <a:lnTo>
                      <a:pt x="662" y="1928"/>
                    </a:lnTo>
                    <a:lnTo>
                      <a:pt x="620" y="1932"/>
                    </a:lnTo>
                    <a:lnTo>
                      <a:pt x="578" y="1934"/>
                    </a:lnTo>
                    <a:lnTo>
                      <a:pt x="578" y="1934"/>
                    </a:lnTo>
                    <a:lnTo>
                      <a:pt x="546" y="1934"/>
                    </a:lnTo>
                    <a:lnTo>
                      <a:pt x="514" y="1930"/>
                    </a:lnTo>
                    <a:lnTo>
                      <a:pt x="484" y="1926"/>
                    </a:lnTo>
                    <a:lnTo>
                      <a:pt x="454" y="1920"/>
                    </a:lnTo>
                    <a:lnTo>
                      <a:pt x="426" y="1910"/>
                    </a:lnTo>
                    <a:lnTo>
                      <a:pt x="398" y="1900"/>
                    </a:lnTo>
                    <a:lnTo>
                      <a:pt x="370" y="1890"/>
                    </a:lnTo>
                    <a:lnTo>
                      <a:pt x="344" y="1876"/>
                    </a:lnTo>
                    <a:lnTo>
                      <a:pt x="318" y="1862"/>
                    </a:lnTo>
                    <a:lnTo>
                      <a:pt x="292" y="1844"/>
                    </a:lnTo>
                    <a:lnTo>
                      <a:pt x="268" y="1826"/>
                    </a:lnTo>
                    <a:lnTo>
                      <a:pt x="246" y="1806"/>
                    </a:lnTo>
                    <a:lnTo>
                      <a:pt x="222" y="1786"/>
                    </a:lnTo>
                    <a:lnTo>
                      <a:pt x="202" y="1764"/>
                    </a:lnTo>
                    <a:lnTo>
                      <a:pt x="180" y="1740"/>
                    </a:lnTo>
                    <a:lnTo>
                      <a:pt x="162" y="1714"/>
                    </a:lnTo>
                    <a:lnTo>
                      <a:pt x="142" y="1688"/>
                    </a:lnTo>
                    <a:lnTo>
                      <a:pt x="124" y="1658"/>
                    </a:lnTo>
                    <a:lnTo>
                      <a:pt x="108" y="1630"/>
                    </a:lnTo>
                    <a:lnTo>
                      <a:pt x="92" y="1598"/>
                    </a:lnTo>
                    <a:lnTo>
                      <a:pt x="78" y="1568"/>
                    </a:lnTo>
                    <a:lnTo>
                      <a:pt x="66" y="1534"/>
                    </a:lnTo>
                    <a:lnTo>
                      <a:pt x="52" y="1500"/>
                    </a:lnTo>
                    <a:lnTo>
                      <a:pt x="42" y="1464"/>
                    </a:lnTo>
                    <a:lnTo>
                      <a:pt x="32" y="1428"/>
                    </a:lnTo>
                    <a:lnTo>
                      <a:pt x="24" y="1390"/>
                    </a:lnTo>
                    <a:lnTo>
                      <a:pt x="16" y="1352"/>
                    </a:lnTo>
                    <a:lnTo>
                      <a:pt x="10" y="1312"/>
                    </a:lnTo>
                    <a:lnTo>
                      <a:pt x="6" y="1272"/>
                    </a:lnTo>
                    <a:lnTo>
                      <a:pt x="2" y="1232"/>
                    </a:lnTo>
                    <a:lnTo>
                      <a:pt x="0" y="1188"/>
                    </a:lnTo>
                    <a:lnTo>
                      <a:pt x="0" y="1146"/>
                    </a:lnTo>
                    <a:lnTo>
                      <a:pt x="0" y="1146"/>
                    </a:lnTo>
                    <a:lnTo>
                      <a:pt x="0" y="1090"/>
                    </a:lnTo>
                    <a:lnTo>
                      <a:pt x="4" y="1036"/>
                    </a:lnTo>
                    <a:lnTo>
                      <a:pt x="10" y="982"/>
                    </a:lnTo>
                    <a:lnTo>
                      <a:pt x="18" y="930"/>
                    </a:lnTo>
                    <a:lnTo>
                      <a:pt x="28" y="876"/>
                    </a:lnTo>
                    <a:lnTo>
                      <a:pt x="42" y="826"/>
                    </a:lnTo>
                    <a:lnTo>
                      <a:pt x="56" y="776"/>
                    </a:lnTo>
                    <a:lnTo>
                      <a:pt x="74" y="726"/>
                    </a:lnTo>
                    <a:lnTo>
                      <a:pt x="94" y="678"/>
                    </a:lnTo>
                    <a:lnTo>
                      <a:pt x="116" y="630"/>
                    </a:lnTo>
                    <a:lnTo>
                      <a:pt x="140" y="584"/>
                    </a:lnTo>
                    <a:lnTo>
                      <a:pt x="166" y="540"/>
                    </a:lnTo>
                    <a:lnTo>
                      <a:pt x="194" y="496"/>
                    </a:lnTo>
                    <a:lnTo>
                      <a:pt x="224" y="454"/>
                    </a:lnTo>
                    <a:lnTo>
                      <a:pt x="256" y="412"/>
                    </a:lnTo>
                    <a:lnTo>
                      <a:pt x="290" y="372"/>
                    </a:lnTo>
                    <a:lnTo>
                      <a:pt x="290" y="372"/>
                    </a:lnTo>
                    <a:lnTo>
                      <a:pt x="334" y="328"/>
                    </a:lnTo>
                    <a:lnTo>
                      <a:pt x="380" y="286"/>
                    </a:lnTo>
                    <a:lnTo>
                      <a:pt x="426" y="248"/>
                    </a:lnTo>
                    <a:lnTo>
                      <a:pt x="476" y="212"/>
                    </a:lnTo>
                    <a:lnTo>
                      <a:pt x="528" y="178"/>
                    </a:lnTo>
                    <a:lnTo>
                      <a:pt x="580" y="148"/>
                    </a:lnTo>
                    <a:lnTo>
                      <a:pt x="636" y="120"/>
                    </a:lnTo>
                    <a:lnTo>
                      <a:pt x="694" y="96"/>
                    </a:lnTo>
                    <a:lnTo>
                      <a:pt x="752" y="74"/>
                    </a:lnTo>
                    <a:lnTo>
                      <a:pt x="814" y="54"/>
                    </a:lnTo>
                    <a:lnTo>
                      <a:pt x="876" y="38"/>
                    </a:lnTo>
                    <a:lnTo>
                      <a:pt x="940" y="24"/>
                    </a:lnTo>
                    <a:lnTo>
                      <a:pt x="1004" y="14"/>
                    </a:lnTo>
                    <a:lnTo>
                      <a:pt x="1072" y="6"/>
                    </a:lnTo>
                    <a:lnTo>
                      <a:pt x="1140" y="2"/>
                    </a:lnTo>
                    <a:lnTo>
                      <a:pt x="1208" y="0"/>
                    </a:lnTo>
                    <a:lnTo>
                      <a:pt x="1208" y="0"/>
                    </a:lnTo>
                    <a:lnTo>
                      <a:pt x="1272" y="2"/>
                    </a:lnTo>
                    <a:lnTo>
                      <a:pt x="1334" y="6"/>
                    </a:lnTo>
                    <a:lnTo>
                      <a:pt x="1394" y="12"/>
                    </a:lnTo>
                    <a:lnTo>
                      <a:pt x="1454" y="22"/>
                    </a:lnTo>
                    <a:lnTo>
                      <a:pt x="1512" y="32"/>
                    </a:lnTo>
                    <a:lnTo>
                      <a:pt x="1570" y="46"/>
                    </a:lnTo>
                    <a:lnTo>
                      <a:pt x="1624" y="64"/>
                    </a:lnTo>
                    <a:lnTo>
                      <a:pt x="1678" y="82"/>
                    </a:lnTo>
                    <a:lnTo>
                      <a:pt x="1730" y="104"/>
                    </a:lnTo>
                    <a:lnTo>
                      <a:pt x="1780" y="126"/>
                    </a:lnTo>
                    <a:lnTo>
                      <a:pt x="1828" y="152"/>
                    </a:lnTo>
                    <a:lnTo>
                      <a:pt x="1874" y="180"/>
                    </a:lnTo>
                    <a:lnTo>
                      <a:pt x="1918" y="210"/>
                    </a:lnTo>
                    <a:lnTo>
                      <a:pt x="1960" y="242"/>
                    </a:lnTo>
                    <a:lnTo>
                      <a:pt x="1998" y="276"/>
                    </a:lnTo>
                    <a:lnTo>
                      <a:pt x="2034" y="312"/>
                    </a:lnTo>
                    <a:lnTo>
                      <a:pt x="2034" y="312"/>
                    </a:lnTo>
                    <a:lnTo>
                      <a:pt x="2064" y="346"/>
                    </a:lnTo>
                    <a:lnTo>
                      <a:pt x="2092" y="380"/>
                    </a:lnTo>
                    <a:lnTo>
                      <a:pt x="2118" y="416"/>
                    </a:lnTo>
                    <a:lnTo>
                      <a:pt x="2142" y="454"/>
                    </a:lnTo>
                    <a:lnTo>
                      <a:pt x="2164" y="494"/>
                    </a:lnTo>
                    <a:lnTo>
                      <a:pt x="2184" y="536"/>
                    </a:lnTo>
                    <a:lnTo>
                      <a:pt x="2202" y="578"/>
                    </a:lnTo>
                    <a:lnTo>
                      <a:pt x="2220" y="622"/>
                    </a:lnTo>
                    <a:lnTo>
                      <a:pt x="2234" y="666"/>
                    </a:lnTo>
                    <a:lnTo>
                      <a:pt x="2248" y="714"/>
                    </a:lnTo>
                    <a:lnTo>
                      <a:pt x="2258" y="760"/>
                    </a:lnTo>
                    <a:lnTo>
                      <a:pt x="2266" y="810"/>
                    </a:lnTo>
                    <a:lnTo>
                      <a:pt x="2274" y="860"/>
                    </a:lnTo>
                    <a:lnTo>
                      <a:pt x="2278" y="912"/>
                    </a:lnTo>
                    <a:lnTo>
                      <a:pt x="2282" y="964"/>
                    </a:lnTo>
                    <a:lnTo>
                      <a:pt x="2282" y="1016"/>
                    </a:lnTo>
                    <a:lnTo>
                      <a:pt x="2282" y="1016"/>
                    </a:lnTo>
                    <a:lnTo>
                      <a:pt x="2282" y="1078"/>
                    </a:lnTo>
                    <a:lnTo>
                      <a:pt x="2278" y="1138"/>
                    </a:lnTo>
                    <a:lnTo>
                      <a:pt x="2270" y="1198"/>
                    </a:lnTo>
                    <a:lnTo>
                      <a:pt x="2260" y="1256"/>
                    </a:lnTo>
                    <a:lnTo>
                      <a:pt x="2248" y="1314"/>
                    </a:lnTo>
                    <a:lnTo>
                      <a:pt x="2232" y="1370"/>
                    </a:lnTo>
                    <a:lnTo>
                      <a:pt x="2214" y="1424"/>
                    </a:lnTo>
                    <a:lnTo>
                      <a:pt x="2194" y="1478"/>
                    </a:lnTo>
                    <a:lnTo>
                      <a:pt x="2172" y="1530"/>
                    </a:lnTo>
                    <a:lnTo>
                      <a:pt x="2146" y="1580"/>
                    </a:lnTo>
                    <a:lnTo>
                      <a:pt x="2118" y="1628"/>
                    </a:lnTo>
                    <a:lnTo>
                      <a:pt x="2088" y="1674"/>
                    </a:lnTo>
                    <a:lnTo>
                      <a:pt x="2056" y="1718"/>
                    </a:lnTo>
                    <a:lnTo>
                      <a:pt x="2022" y="1758"/>
                    </a:lnTo>
                    <a:lnTo>
                      <a:pt x="1984" y="1798"/>
                    </a:lnTo>
                    <a:lnTo>
                      <a:pt x="1946" y="1836"/>
                    </a:lnTo>
                    <a:lnTo>
                      <a:pt x="1946" y="1836"/>
                    </a:lnTo>
                    <a:lnTo>
                      <a:pt x="1914" y="1864"/>
                    </a:lnTo>
                    <a:lnTo>
                      <a:pt x="1880" y="1890"/>
                    </a:lnTo>
                    <a:lnTo>
                      <a:pt x="1846" y="1914"/>
                    </a:lnTo>
                    <a:lnTo>
                      <a:pt x="1810" y="1938"/>
                    </a:lnTo>
                    <a:lnTo>
                      <a:pt x="1772" y="1960"/>
                    </a:lnTo>
                    <a:lnTo>
                      <a:pt x="1734" y="1980"/>
                    </a:lnTo>
                    <a:lnTo>
                      <a:pt x="1694" y="2000"/>
                    </a:lnTo>
                    <a:lnTo>
                      <a:pt x="1650" y="2018"/>
                    </a:lnTo>
                    <a:lnTo>
                      <a:pt x="1606" y="2034"/>
                    </a:lnTo>
                    <a:lnTo>
                      <a:pt x="1560" y="2050"/>
                    </a:lnTo>
                    <a:lnTo>
                      <a:pt x="1510" y="2066"/>
                    </a:lnTo>
                    <a:lnTo>
                      <a:pt x="1458" y="2080"/>
                    </a:lnTo>
                    <a:lnTo>
                      <a:pt x="1402" y="2092"/>
                    </a:lnTo>
                    <a:lnTo>
                      <a:pt x="1344" y="2104"/>
                    </a:lnTo>
                    <a:lnTo>
                      <a:pt x="1284" y="2116"/>
                    </a:lnTo>
                    <a:lnTo>
                      <a:pt x="1218" y="2126"/>
                    </a:lnTo>
                    <a:lnTo>
                      <a:pt x="1218" y="2126"/>
                    </a:lnTo>
                    <a:lnTo>
                      <a:pt x="1196" y="2062"/>
                    </a:lnTo>
                    <a:lnTo>
                      <a:pt x="1174" y="2004"/>
                    </a:lnTo>
                    <a:lnTo>
                      <a:pt x="1152" y="1952"/>
                    </a:lnTo>
                    <a:lnTo>
                      <a:pt x="1128" y="1904"/>
                    </a:lnTo>
                    <a:lnTo>
                      <a:pt x="1102" y="1856"/>
                    </a:lnTo>
                    <a:lnTo>
                      <a:pt x="1074" y="1810"/>
                    </a:lnTo>
                    <a:lnTo>
                      <a:pt x="1040" y="1762"/>
                    </a:lnTo>
                    <a:lnTo>
                      <a:pt x="1004" y="1710"/>
                    </a:lnTo>
                    <a:lnTo>
                      <a:pt x="1004" y="1710"/>
                    </a:lnTo>
                    <a:lnTo>
                      <a:pt x="1088" y="1704"/>
                    </a:lnTo>
                    <a:lnTo>
                      <a:pt x="1168" y="1694"/>
                    </a:lnTo>
                    <a:lnTo>
                      <a:pt x="1240" y="1680"/>
                    </a:lnTo>
                    <a:lnTo>
                      <a:pt x="1308" y="1666"/>
                    </a:lnTo>
                    <a:lnTo>
                      <a:pt x="1370" y="1650"/>
                    </a:lnTo>
                    <a:lnTo>
                      <a:pt x="1428" y="1630"/>
                    </a:lnTo>
                    <a:lnTo>
                      <a:pt x="1482" y="1606"/>
                    </a:lnTo>
                    <a:lnTo>
                      <a:pt x="1536" y="1582"/>
                    </a:lnTo>
                    <a:lnTo>
                      <a:pt x="1536" y="1582"/>
                    </a:lnTo>
                    <a:lnTo>
                      <a:pt x="1570" y="1560"/>
                    </a:lnTo>
                    <a:lnTo>
                      <a:pt x="1604" y="1538"/>
                    </a:lnTo>
                    <a:lnTo>
                      <a:pt x="1636" y="1512"/>
                    </a:lnTo>
                    <a:lnTo>
                      <a:pt x="1666" y="1484"/>
                    </a:lnTo>
                    <a:lnTo>
                      <a:pt x="1692" y="1454"/>
                    </a:lnTo>
                    <a:lnTo>
                      <a:pt x="1718" y="1422"/>
                    </a:lnTo>
                    <a:lnTo>
                      <a:pt x="1740" y="1386"/>
                    </a:lnTo>
                    <a:lnTo>
                      <a:pt x="1760" y="1350"/>
                    </a:lnTo>
                    <a:lnTo>
                      <a:pt x="1778" y="1312"/>
                    </a:lnTo>
                    <a:lnTo>
                      <a:pt x="1794" y="1272"/>
                    </a:lnTo>
                    <a:lnTo>
                      <a:pt x="1808" y="1230"/>
                    </a:lnTo>
                    <a:lnTo>
                      <a:pt x="1820" y="1186"/>
                    </a:lnTo>
                    <a:lnTo>
                      <a:pt x="1828" y="1140"/>
                    </a:lnTo>
                    <a:lnTo>
                      <a:pt x="1834" y="1092"/>
                    </a:lnTo>
                    <a:lnTo>
                      <a:pt x="1838" y="1044"/>
                    </a:lnTo>
                    <a:lnTo>
                      <a:pt x="1840" y="994"/>
                    </a:lnTo>
                    <a:lnTo>
                      <a:pt x="1840" y="994"/>
                    </a:lnTo>
                    <a:lnTo>
                      <a:pt x="1838" y="954"/>
                    </a:lnTo>
                    <a:lnTo>
                      <a:pt x="1836" y="914"/>
                    </a:lnTo>
                    <a:lnTo>
                      <a:pt x="1832" y="878"/>
                    </a:lnTo>
                    <a:lnTo>
                      <a:pt x="1826" y="840"/>
                    </a:lnTo>
                    <a:lnTo>
                      <a:pt x="1818" y="804"/>
                    </a:lnTo>
                    <a:lnTo>
                      <a:pt x="1808" y="770"/>
                    </a:lnTo>
                    <a:lnTo>
                      <a:pt x="1796" y="738"/>
                    </a:lnTo>
                    <a:lnTo>
                      <a:pt x="1784" y="706"/>
                    </a:lnTo>
                    <a:lnTo>
                      <a:pt x="1768" y="674"/>
                    </a:lnTo>
                    <a:lnTo>
                      <a:pt x="1752" y="644"/>
                    </a:lnTo>
                    <a:lnTo>
                      <a:pt x="1734" y="616"/>
                    </a:lnTo>
                    <a:lnTo>
                      <a:pt x="1714" y="590"/>
                    </a:lnTo>
                    <a:lnTo>
                      <a:pt x="1692" y="564"/>
                    </a:lnTo>
                    <a:lnTo>
                      <a:pt x="1668" y="540"/>
                    </a:lnTo>
                    <a:lnTo>
                      <a:pt x="1644" y="516"/>
                    </a:lnTo>
                    <a:lnTo>
                      <a:pt x="1616" y="494"/>
                    </a:lnTo>
                    <a:lnTo>
                      <a:pt x="1616" y="494"/>
                    </a:lnTo>
                    <a:lnTo>
                      <a:pt x="1592" y="476"/>
                    </a:lnTo>
                    <a:lnTo>
                      <a:pt x="1568" y="462"/>
                    </a:lnTo>
                    <a:lnTo>
                      <a:pt x="1544" y="448"/>
                    </a:lnTo>
                    <a:lnTo>
                      <a:pt x="1520" y="436"/>
                    </a:lnTo>
                    <a:lnTo>
                      <a:pt x="1494" y="428"/>
                    </a:lnTo>
                    <a:lnTo>
                      <a:pt x="1466" y="418"/>
                    </a:lnTo>
                    <a:lnTo>
                      <a:pt x="1436" y="412"/>
                    </a:lnTo>
                    <a:lnTo>
                      <a:pt x="1404" y="406"/>
                    </a:lnTo>
                    <a:lnTo>
                      <a:pt x="1404" y="406"/>
                    </a:lnTo>
                    <a:lnTo>
                      <a:pt x="1382" y="564"/>
                    </a:lnTo>
                    <a:lnTo>
                      <a:pt x="1356" y="714"/>
                    </a:lnTo>
                    <a:lnTo>
                      <a:pt x="1342" y="784"/>
                    </a:lnTo>
                    <a:lnTo>
                      <a:pt x="1326" y="854"/>
                    </a:lnTo>
                    <a:lnTo>
                      <a:pt x="1312" y="922"/>
                    </a:lnTo>
                    <a:lnTo>
                      <a:pt x="1294" y="988"/>
                    </a:lnTo>
                    <a:lnTo>
                      <a:pt x="1276" y="1052"/>
                    </a:lnTo>
                    <a:lnTo>
                      <a:pt x="1258" y="1116"/>
                    </a:lnTo>
                    <a:lnTo>
                      <a:pt x="1238" y="1176"/>
                    </a:lnTo>
                    <a:lnTo>
                      <a:pt x="1218" y="1236"/>
                    </a:lnTo>
                    <a:lnTo>
                      <a:pt x="1196" y="1296"/>
                    </a:lnTo>
                    <a:lnTo>
                      <a:pt x="1174" y="1354"/>
                    </a:lnTo>
                    <a:lnTo>
                      <a:pt x="1150" y="1412"/>
                    </a:lnTo>
                    <a:lnTo>
                      <a:pt x="1124" y="1468"/>
                    </a:lnTo>
                    <a:lnTo>
                      <a:pt x="1124" y="1468"/>
                    </a:lnTo>
                    <a:close/>
                    <a:moveTo>
                      <a:pt x="688" y="540"/>
                    </a:moveTo>
                    <a:lnTo>
                      <a:pt x="688" y="540"/>
                    </a:lnTo>
                    <a:lnTo>
                      <a:pt x="658" y="568"/>
                    </a:lnTo>
                    <a:lnTo>
                      <a:pt x="628" y="598"/>
                    </a:lnTo>
                    <a:lnTo>
                      <a:pt x="602" y="630"/>
                    </a:lnTo>
                    <a:lnTo>
                      <a:pt x="576" y="662"/>
                    </a:lnTo>
                    <a:lnTo>
                      <a:pt x="550" y="698"/>
                    </a:lnTo>
                    <a:lnTo>
                      <a:pt x="528" y="734"/>
                    </a:lnTo>
                    <a:lnTo>
                      <a:pt x="506" y="772"/>
                    </a:lnTo>
                    <a:lnTo>
                      <a:pt x="488" y="810"/>
                    </a:lnTo>
                    <a:lnTo>
                      <a:pt x="470" y="850"/>
                    </a:lnTo>
                    <a:lnTo>
                      <a:pt x="456" y="890"/>
                    </a:lnTo>
                    <a:lnTo>
                      <a:pt x="442" y="932"/>
                    </a:lnTo>
                    <a:lnTo>
                      <a:pt x="432" y="974"/>
                    </a:lnTo>
                    <a:lnTo>
                      <a:pt x="424" y="1016"/>
                    </a:lnTo>
                    <a:lnTo>
                      <a:pt x="418" y="1058"/>
                    </a:lnTo>
                    <a:lnTo>
                      <a:pt x="414" y="1100"/>
                    </a:lnTo>
                    <a:lnTo>
                      <a:pt x="412" y="1144"/>
                    </a:lnTo>
                    <a:lnTo>
                      <a:pt x="412" y="1144"/>
                    </a:lnTo>
                    <a:lnTo>
                      <a:pt x="414" y="1176"/>
                    </a:lnTo>
                    <a:lnTo>
                      <a:pt x="416" y="1208"/>
                    </a:lnTo>
                    <a:lnTo>
                      <a:pt x="420" y="1240"/>
                    </a:lnTo>
                    <a:lnTo>
                      <a:pt x="424" y="1270"/>
                    </a:lnTo>
                    <a:lnTo>
                      <a:pt x="432" y="1298"/>
                    </a:lnTo>
                    <a:lnTo>
                      <a:pt x="438" y="1324"/>
                    </a:lnTo>
                    <a:lnTo>
                      <a:pt x="448" y="1348"/>
                    </a:lnTo>
                    <a:lnTo>
                      <a:pt x="458" y="1372"/>
                    </a:lnTo>
                    <a:lnTo>
                      <a:pt x="468" y="1392"/>
                    </a:lnTo>
                    <a:lnTo>
                      <a:pt x="482" y="1410"/>
                    </a:lnTo>
                    <a:lnTo>
                      <a:pt x="494" y="1426"/>
                    </a:lnTo>
                    <a:lnTo>
                      <a:pt x="508" y="1440"/>
                    </a:lnTo>
                    <a:lnTo>
                      <a:pt x="522" y="1450"/>
                    </a:lnTo>
                    <a:lnTo>
                      <a:pt x="538" y="1458"/>
                    </a:lnTo>
                    <a:lnTo>
                      <a:pt x="554" y="1464"/>
                    </a:lnTo>
                    <a:lnTo>
                      <a:pt x="570" y="1466"/>
                    </a:lnTo>
                    <a:lnTo>
                      <a:pt x="570" y="1466"/>
                    </a:lnTo>
                    <a:lnTo>
                      <a:pt x="582" y="1464"/>
                    </a:lnTo>
                    <a:lnTo>
                      <a:pt x="594" y="1460"/>
                    </a:lnTo>
                    <a:lnTo>
                      <a:pt x="606" y="1456"/>
                    </a:lnTo>
                    <a:lnTo>
                      <a:pt x="618" y="1448"/>
                    </a:lnTo>
                    <a:lnTo>
                      <a:pt x="630" y="1438"/>
                    </a:lnTo>
                    <a:lnTo>
                      <a:pt x="642" y="1426"/>
                    </a:lnTo>
                    <a:lnTo>
                      <a:pt x="654" y="1412"/>
                    </a:lnTo>
                    <a:lnTo>
                      <a:pt x="668" y="1396"/>
                    </a:lnTo>
                    <a:lnTo>
                      <a:pt x="694" y="1358"/>
                    </a:lnTo>
                    <a:lnTo>
                      <a:pt x="720" y="1308"/>
                    </a:lnTo>
                    <a:lnTo>
                      <a:pt x="746" y="1252"/>
                    </a:lnTo>
                    <a:lnTo>
                      <a:pt x="774" y="1184"/>
                    </a:lnTo>
                    <a:lnTo>
                      <a:pt x="774" y="1184"/>
                    </a:lnTo>
                    <a:lnTo>
                      <a:pt x="808" y="1096"/>
                    </a:lnTo>
                    <a:lnTo>
                      <a:pt x="838" y="1002"/>
                    </a:lnTo>
                    <a:lnTo>
                      <a:pt x="866" y="906"/>
                    </a:lnTo>
                    <a:lnTo>
                      <a:pt x="892" y="806"/>
                    </a:lnTo>
                    <a:lnTo>
                      <a:pt x="916" y="706"/>
                    </a:lnTo>
                    <a:lnTo>
                      <a:pt x="936" y="606"/>
                    </a:lnTo>
                    <a:lnTo>
                      <a:pt x="952" y="506"/>
                    </a:lnTo>
                    <a:lnTo>
                      <a:pt x="966" y="410"/>
                    </a:lnTo>
                    <a:lnTo>
                      <a:pt x="966" y="410"/>
                    </a:lnTo>
                    <a:lnTo>
                      <a:pt x="926" y="418"/>
                    </a:lnTo>
                    <a:lnTo>
                      <a:pt x="890" y="426"/>
                    </a:lnTo>
                    <a:lnTo>
                      <a:pt x="854" y="438"/>
                    </a:lnTo>
                    <a:lnTo>
                      <a:pt x="820" y="452"/>
                    </a:lnTo>
                    <a:lnTo>
                      <a:pt x="788" y="470"/>
                    </a:lnTo>
                    <a:lnTo>
                      <a:pt x="754" y="490"/>
                    </a:lnTo>
                    <a:lnTo>
                      <a:pt x="722" y="514"/>
                    </a:lnTo>
                    <a:lnTo>
                      <a:pt x="688" y="540"/>
                    </a:lnTo>
                    <a:lnTo>
                      <a:pt x="688" y="540"/>
                    </a:lnTo>
                    <a:close/>
                  </a:path>
                </a:pathLst>
              </a:custGeom>
              <a:solidFill>
                <a:srgbClr val="e7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25"/>
              <p:cNvSpPr/>
              <p:nvPr/>
            </p:nvSpPr>
            <p:spPr>
              <a:xfrm>
                <a:off x="9553320" y="2266920"/>
                <a:ext cx="3892320" cy="3670560"/>
              </a:xfrm>
              <a:custGeom>
                <a:avLst/>
                <a:gdLst>
                  <a:gd name="textAreaLeft" fmla="*/ 0 w 3892320"/>
                  <a:gd name="textAreaRight" fmla="*/ 3892680 w 3892320"/>
                  <a:gd name="textAreaTop" fmla="*/ 0 h 3670560"/>
                  <a:gd name="textAreaBottom" fmla="*/ 3670920 h 3670560"/>
                </a:gdLst>
                <a:ahLst/>
                <a:rect l="textAreaLeft" t="textAreaTop" r="textAreaRight" b="textAreaBottom"/>
                <a:pathLst>
                  <a:path w="2452" h="2312">
                    <a:moveTo>
                      <a:pt x="742" y="1114"/>
                    </a:moveTo>
                    <a:lnTo>
                      <a:pt x="742" y="1114"/>
                    </a:lnTo>
                    <a:lnTo>
                      <a:pt x="644" y="1114"/>
                    </a:lnTo>
                    <a:lnTo>
                      <a:pt x="558" y="1116"/>
                    </a:lnTo>
                    <a:lnTo>
                      <a:pt x="484" y="1122"/>
                    </a:lnTo>
                    <a:lnTo>
                      <a:pt x="422" y="1128"/>
                    </a:lnTo>
                    <a:lnTo>
                      <a:pt x="422" y="966"/>
                    </a:lnTo>
                    <a:lnTo>
                      <a:pt x="422" y="966"/>
                    </a:lnTo>
                    <a:lnTo>
                      <a:pt x="364" y="996"/>
                    </a:lnTo>
                    <a:lnTo>
                      <a:pt x="316" y="1020"/>
                    </a:lnTo>
                    <a:lnTo>
                      <a:pt x="264" y="1042"/>
                    </a:lnTo>
                    <a:lnTo>
                      <a:pt x="198" y="1070"/>
                    </a:lnTo>
                    <a:lnTo>
                      <a:pt x="198" y="1070"/>
                    </a:lnTo>
                    <a:lnTo>
                      <a:pt x="148" y="958"/>
                    </a:lnTo>
                    <a:lnTo>
                      <a:pt x="128" y="912"/>
                    </a:lnTo>
                    <a:lnTo>
                      <a:pt x="106" y="872"/>
                    </a:lnTo>
                    <a:lnTo>
                      <a:pt x="86" y="832"/>
                    </a:lnTo>
                    <a:lnTo>
                      <a:pt x="60" y="790"/>
                    </a:lnTo>
                    <a:lnTo>
                      <a:pt x="0" y="694"/>
                    </a:lnTo>
                    <a:lnTo>
                      <a:pt x="0" y="694"/>
                    </a:lnTo>
                    <a:lnTo>
                      <a:pt x="82" y="668"/>
                    </a:lnTo>
                    <a:lnTo>
                      <a:pt x="160" y="640"/>
                    </a:lnTo>
                    <a:lnTo>
                      <a:pt x="232" y="610"/>
                    </a:lnTo>
                    <a:lnTo>
                      <a:pt x="302" y="578"/>
                    </a:lnTo>
                    <a:lnTo>
                      <a:pt x="372" y="542"/>
                    </a:lnTo>
                    <a:lnTo>
                      <a:pt x="438" y="504"/>
                    </a:lnTo>
                    <a:lnTo>
                      <a:pt x="508" y="460"/>
                    </a:lnTo>
                    <a:lnTo>
                      <a:pt x="578" y="414"/>
                    </a:lnTo>
                    <a:lnTo>
                      <a:pt x="578" y="414"/>
                    </a:lnTo>
                    <a:lnTo>
                      <a:pt x="646" y="364"/>
                    </a:lnTo>
                    <a:lnTo>
                      <a:pt x="710" y="316"/>
                    </a:lnTo>
                    <a:lnTo>
                      <a:pt x="768" y="268"/>
                    </a:lnTo>
                    <a:lnTo>
                      <a:pt x="822" y="218"/>
                    </a:lnTo>
                    <a:lnTo>
                      <a:pt x="872" y="166"/>
                    </a:lnTo>
                    <a:lnTo>
                      <a:pt x="918" y="114"/>
                    </a:lnTo>
                    <a:lnTo>
                      <a:pt x="962" y="58"/>
                    </a:lnTo>
                    <a:lnTo>
                      <a:pt x="1004" y="0"/>
                    </a:lnTo>
                    <a:lnTo>
                      <a:pt x="1424" y="0"/>
                    </a:lnTo>
                    <a:lnTo>
                      <a:pt x="1424" y="0"/>
                    </a:lnTo>
                    <a:lnTo>
                      <a:pt x="1470" y="60"/>
                    </a:lnTo>
                    <a:lnTo>
                      <a:pt x="1516" y="114"/>
                    </a:lnTo>
                    <a:lnTo>
                      <a:pt x="1566" y="166"/>
                    </a:lnTo>
                    <a:lnTo>
                      <a:pt x="1616" y="216"/>
                    </a:lnTo>
                    <a:lnTo>
                      <a:pt x="1670" y="262"/>
                    </a:lnTo>
                    <a:lnTo>
                      <a:pt x="1728" y="308"/>
                    </a:lnTo>
                    <a:lnTo>
                      <a:pt x="1792" y="354"/>
                    </a:lnTo>
                    <a:lnTo>
                      <a:pt x="1860" y="400"/>
                    </a:lnTo>
                    <a:lnTo>
                      <a:pt x="1860" y="400"/>
                    </a:lnTo>
                    <a:lnTo>
                      <a:pt x="1934" y="448"/>
                    </a:lnTo>
                    <a:lnTo>
                      <a:pt x="2004" y="490"/>
                    </a:lnTo>
                    <a:lnTo>
                      <a:pt x="2074" y="528"/>
                    </a:lnTo>
                    <a:lnTo>
                      <a:pt x="2144" y="562"/>
                    </a:lnTo>
                    <a:lnTo>
                      <a:pt x="2216" y="594"/>
                    </a:lnTo>
                    <a:lnTo>
                      <a:pt x="2290" y="624"/>
                    </a:lnTo>
                    <a:lnTo>
                      <a:pt x="2368" y="652"/>
                    </a:lnTo>
                    <a:lnTo>
                      <a:pt x="2452" y="678"/>
                    </a:lnTo>
                    <a:lnTo>
                      <a:pt x="2452" y="678"/>
                    </a:lnTo>
                    <a:lnTo>
                      <a:pt x="2422" y="730"/>
                    </a:lnTo>
                    <a:lnTo>
                      <a:pt x="2394" y="780"/>
                    </a:lnTo>
                    <a:lnTo>
                      <a:pt x="2370" y="828"/>
                    </a:lnTo>
                    <a:lnTo>
                      <a:pt x="2348" y="874"/>
                    </a:lnTo>
                    <a:lnTo>
                      <a:pt x="2328" y="920"/>
                    </a:lnTo>
                    <a:lnTo>
                      <a:pt x="2308" y="968"/>
                    </a:lnTo>
                    <a:lnTo>
                      <a:pt x="2268" y="1078"/>
                    </a:lnTo>
                    <a:lnTo>
                      <a:pt x="2268" y="1078"/>
                    </a:lnTo>
                    <a:lnTo>
                      <a:pt x="2198" y="1050"/>
                    </a:lnTo>
                    <a:lnTo>
                      <a:pt x="2146" y="1026"/>
                    </a:lnTo>
                    <a:lnTo>
                      <a:pt x="2094" y="1002"/>
                    </a:lnTo>
                    <a:lnTo>
                      <a:pt x="2028" y="968"/>
                    </a:lnTo>
                    <a:lnTo>
                      <a:pt x="2028" y="1128"/>
                    </a:lnTo>
                    <a:lnTo>
                      <a:pt x="2028" y="1128"/>
                    </a:lnTo>
                    <a:lnTo>
                      <a:pt x="1962" y="1122"/>
                    </a:lnTo>
                    <a:lnTo>
                      <a:pt x="1890" y="1116"/>
                    </a:lnTo>
                    <a:lnTo>
                      <a:pt x="1812" y="1114"/>
                    </a:lnTo>
                    <a:lnTo>
                      <a:pt x="1720" y="1114"/>
                    </a:lnTo>
                    <a:lnTo>
                      <a:pt x="1416" y="1114"/>
                    </a:lnTo>
                    <a:lnTo>
                      <a:pt x="1416" y="1334"/>
                    </a:lnTo>
                    <a:lnTo>
                      <a:pt x="1772" y="1334"/>
                    </a:lnTo>
                    <a:lnTo>
                      <a:pt x="1772" y="1334"/>
                    </a:lnTo>
                    <a:lnTo>
                      <a:pt x="1870" y="1332"/>
                    </a:lnTo>
                    <a:lnTo>
                      <a:pt x="1958" y="1330"/>
                    </a:lnTo>
                    <a:lnTo>
                      <a:pt x="2032" y="1326"/>
                    </a:lnTo>
                    <a:lnTo>
                      <a:pt x="2092" y="1318"/>
                    </a:lnTo>
                    <a:lnTo>
                      <a:pt x="2092" y="1702"/>
                    </a:lnTo>
                    <a:lnTo>
                      <a:pt x="2092" y="1702"/>
                    </a:lnTo>
                    <a:lnTo>
                      <a:pt x="2030" y="1694"/>
                    </a:lnTo>
                    <a:lnTo>
                      <a:pt x="1954" y="1690"/>
                    </a:lnTo>
                    <a:lnTo>
                      <a:pt x="1868" y="1686"/>
                    </a:lnTo>
                    <a:lnTo>
                      <a:pt x="1768" y="1686"/>
                    </a:lnTo>
                    <a:lnTo>
                      <a:pt x="1416" y="1686"/>
                    </a:lnTo>
                    <a:lnTo>
                      <a:pt x="1416" y="1940"/>
                    </a:lnTo>
                    <a:lnTo>
                      <a:pt x="1966" y="1940"/>
                    </a:lnTo>
                    <a:lnTo>
                      <a:pt x="1966" y="1940"/>
                    </a:lnTo>
                    <a:lnTo>
                      <a:pt x="2078" y="1938"/>
                    </a:lnTo>
                    <a:lnTo>
                      <a:pt x="2178" y="1936"/>
                    </a:lnTo>
                    <a:lnTo>
                      <a:pt x="2264" y="1930"/>
                    </a:lnTo>
                    <a:lnTo>
                      <a:pt x="2336" y="1924"/>
                    </a:lnTo>
                    <a:lnTo>
                      <a:pt x="2336" y="2312"/>
                    </a:lnTo>
                    <a:lnTo>
                      <a:pt x="2336" y="2312"/>
                    </a:lnTo>
                    <a:lnTo>
                      <a:pt x="2266" y="2306"/>
                    </a:lnTo>
                    <a:lnTo>
                      <a:pt x="2180" y="2300"/>
                    </a:lnTo>
                    <a:lnTo>
                      <a:pt x="2082" y="2298"/>
                    </a:lnTo>
                    <a:lnTo>
                      <a:pt x="1974" y="2296"/>
                    </a:lnTo>
                    <a:lnTo>
                      <a:pt x="464" y="2296"/>
                    </a:lnTo>
                    <a:lnTo>
                      <a:pt x="464" y="2296"/>
                    </a:lnTo>
                    <a:lnTo>
                      <a:pt x="358" y="2298"/>
                    </a:lnTo>
                    <a:lnTo>
                      <a:pt x="264" y="2300"/>
                    </a:lnTo>
                    <a:lnTo>
                      <a:pt x="182" y="2306"/>
                    </a:lnTo>
                    <a:lnTo>
                      <a:pt x="114" y="2312"/>
                    </a:lnTo>
                    <a:lnTo>
                      <a:pt x="114" y="1924"/>
                    </a:lnTo>
                    <a:lnTo>
                      <a:pt x="114" y="1924"/>
                    </a:lnTo>
                    <a:lnTo>
                      <a:pt x="182" y="1930"/>
                    </a:lnTo>
                    <a:lnTo>
                      <a:pt x="266" y="1936"/>
                    </a:lnTo>
                    <a:lnTo>
                      <a:pt x="364" y="1938"/>
                    </a:lnTo>
                    <a:lnTo>
                      <a:pt x="474" y="1940"/>
                    </a:lnTo>
                    <a:lnTo>
                      <a:pt x="1014" y="1940"/>
                    </a:lnTo>
                    <a:lnTo>
                      <a:pt x="1014" y="1686"/>
                    </a:lnTo>
                    <a:lnTo>
                      <a:pt x="688" y="1686"/>
                    </a:lnTo>
                    <a:lnTo>
                      <a:pt x="688" y="1686"/>
                    </a:lnTo>
                    <a:lnTo>
                      <a:pt x="592" y="1686"/>
                    </a:lnTo>
                    <a:lnTo>
                      <a:pt x="506" y="1690"/>
                    </a:lnTo>
                    <a:lnTo>
                      <a:pt x="432" y="1694"/>
                    </a:lnTo>
                    <a:lnTo>
                      <a:pt x="370" y="1702"/>
                    </a:lnTo>
                    <a:lnTo>
                      <a:pt x="370" y="1318"/>
                    </a:lnTo>
                    <a:lnTo>
                      <a:pt x="370" y="1318"/>
                    </a:lnTo>
                    <a:lnTo>
                      <a:pt x="438" y="1326"/>
                    </a:lnTo>
                    <a:lnTo>
                      <a:pt x="512" y="1330"/>
                    </a:lnTo>
                    <a:lnTo>
                      <a:pt x="594" y="1332"/>
                    </a:lnTo>
                    <a:lnTo>
                      <a:pt x="688" y="1334"/>
                    </a:lnTo>
                    <a:lnTo>
                      <a:pt x="1014" y="1334"/>
                    </a:lnTo>
                    <a:lnTo>
                      <a:pt x="1014" y="1114"/>
                    </a:lnTo>
                    <a:lnTo>
                      <a:pt x="742" y="1114"/>
                    </a:lnTo>
                    <a:close/>
                    <a:moveTo>
                      <a:pt x="1692" y="766"/>
                    </a:moveTo>
                    <a:lnTo>
                      <a:pt x="1692" y="766"/>
                    </a:lnTo>
                    <a:lnTo>
                      <a:pt x="1614" y="710"/>
                    </a:lnTo>
                    <a:lnTo>
                      <a:pt x="1546" y="660"/>
                    </a:lnTo>
                    <a:lnTo>
                      <a:pt x="1484" y="610"/>
                    </a:lnTo>
                    <a:lnTo>
                      <a:pt x="1428" y="562"/>
                    </a:lnTo>
                    <a:lnTo>
                      <a:pt x="1374" y="512"/>
                    </a:lnTo>
                    <a:lnTo>
                      <a:pt x="1324" y="460"/>
                    </a:lnTo>
                    <a:lnTo>
                      <a:pt x="1274" y="404"/>
                    </a:lnTo>
                    <a:lnTo>
                      <a:pt x="1222" y="342"/>
                    </a:lnTo>
                    <a:lnTo>
                      <a:pt x="1222" y="342"/>
                    </a:lnTo>
                    <a:lnTo>
                      <a:pt x="1174" y="402"/>
                    </a:lnTo>
                    <a:lnTo>
                      <a:pt x="1124" y="458"/>
                    </a:lnTo>
                    <a:lnTo>
                      <a:pt x="1074" y="510"/>
                    </a:lnTo>
                    <a:lnTo>
                      <a:pt x="1020" y="562"/>
                    </a:lnTo>
                    <a:lnTo>
                      <a:pt x="964" y="612"/>
                    </a:lnTo>
                    <a:lnTo>
                      <a:pt x="900" y="662"/>
                    </a:lnTo>
                    <a:lnTo>
                      <a:pt x="832" y="714"/>
                    </a:lnTo>
                    <a:lnTo>
                      <a:pt x="758" y="766"/>
                    </a:lnTo>
                    <a:lnTo>
                      <a:pt x="1692" y="766"/>
                    </a:lnTo>
                    <a:close/>
                  </a:path>
                </a:pathLst>
              </a:custGeom>
              <a:solidFill>
                <a:srgbClr val="e7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26"/>
              <p:cNvSpPr/>
              <p:nvPr/>
            </p:nvSpPr>
            <p:spPr>
              <a:xfrm>
                <a:off x="13760280" y="2340000"/>
                <a:ext cx="3622680" cy="3677040"/>
              </a:xfrm>
              <a:custGeom>
                <a:avLst/>
                <a:gdLst>
                  <a:gd name="textAreaLeft" fmla="*/ 0 w 3622680"/>
                  <a:gd name="textAreaRight" fmla="*/ 3623040 w 3622680"/>
                  <a:gd name="textAreaTop" fmla="*/ 0 h 3677040"/>
                  <a:gd name="textAreaBottom" fmla="*/ 3677400 h 3677040"/>
                </a:gdLst>
                <a:ahLst/>
                <a:rect l="textAreaLeft" t="textAreaTop" r="textAreaRight" b="textAreaBottom"/>
                <a:pathLst>
                  <a:path w="2282" h="2316">
                    <a:moveTo>
                      <a:pt x="16" y="300"/>
                    </a:moveTo>
                    <a:lnTo>
                      <a:pt x="16" y="300"/>
                    </a:lnTo>
                    <a:lnTo>
                      <a:pt x="14" y="226"/>
                    </a:lnTo>
                    <a:lnTo>
                      <a:pt x="12" y="156"/>
                    </a:lnTo>
                    <a:lnTo>
                      <a:pt x="8" y="8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2" y="6"/>
                    </a:lnTo>
                    <a:lnTo>
                      <a:pt x="128" y="10"/>
                    </a:lnTo>
                    <a:lnTo>
                      <a:pt x="202" y="10"/>
                    </a:lnTo>
                    <a:lnTo>
                      <a:pt x="300" y="10"/>
                    </a:lnTo>
                    <a:lnTo>
                      <a:pt x="1982" y="12"/>
                    </a:lnTo>
                    <a:lnTo>
                      <a:pt x="1982" y="12"/>
                    </a:lnTo>
                    <a:lnTo>
                      <a:pt x="2064" y="12"/>
                    </a:lnTo>
                    <a:lnTo>
                      <a:pt x="2138" y="10"/>
                    </a:lnTo>
                    <a:lnTo>
                      <a:pt x="2210" y="6"/>
                    </a:lnTo>
                    <a:lnTo>
                      <a:pt x="2278" y="0"/>
                    </a:lnTo>
                    <a:lnTo>
                      <a:pt x="2278" y="0"/>
                    </a:lnTo>
                    <a:lnTo>
                      <a:pt x="2272" y="68"/>
                    </a:lnTo>
                    <a:lnTo>
                      <a:pt x="2268" y="138"/>
                    </a:lnTo>
                    <a:lnTo>
                      <a:pt x="2266" y="212"/>
                    </a:lnTo>
                    <a:lnTo>
                      <a:pt x="2266" y="300"/>
                    </a:lnTo>
                    <a:lnTo>
                      <a:pt x="2266" y="1966"/>
                    </a:lnTo>
                    <a:lnTo>
                      <a:pt x="2266" y="1966"/>
                    </a:lnTo>
                    <a:lnTo>
                      <a:pt x="2268" y="2074"/>
                    </a:lnTo>
                    <a:lnTo>
                      <a:pt x="2270" y="2168"/>
                    </a:lnTo>
                    <a:lnTo>
                      <a:pt x="2274" y="2248"/>
                    </a:lnTo>
                    <a:lnTo>
                      <a:pt x="2282" y="2316"/>
                    </a:lnTo>
                    <a:lnTo>
                      <a:pt x="1882" y="2316"/>
                    </a:lnTo>
                    <a:lnTo>
                      <a:pt x="1882" y="2182"/>
                    </a:lnTo>
                    <a:lnTo>
                      <a:pt x="400" y="2182"/>
                    </a:lnTo>
                    <a:lnTo>
                      <a:pt x="400" y="2316"/>
                    </a:lnTo>
                    <a:lnTo>
                      <a:pt x="0" y="2316"/>
                    </a:lnTo>
                    <a:lnTo>
                      <a:pt x="0" y="2316"/>
                    </a:lnTo>
                    <a:lnTo>
                      <a:pt x="8" y="2250"/>
                    </a:lnTo>
                    <a:lnTo>
                      <a:pt x="12" y="2174"/>
                    </a:lnTo>
                    <a:lnTo>
                      <a:pt x="14" y="2082"/>
                    </a:lnTo>
                    <a:lnTo>
                      <a:pt x="16" y="1966"/>
                    </a:lnTo>
                    <a:lnTo>
                      <a:pt x="16" y="300"/>
                    </a:lnTo>
                    <a:close/>
                    <a:moveTo>
                      <a:pt x="400" y="1838"/>
                    </a:moveTo>
                    <a:lnTo>
                      <a:pt x="1878" y="1838"/>
                    </a:lnTo>
                    <a:lnTo>
                      <a:pt x="1878" y="360"/>
                    </a:lnTo>
                    <a:lnTo>
                      <a:pt x="400" y="360"/>
                    </a:lnTo>
                    <a:lnTo>
                      <a:pt x="400" y="1838"/>
                    </a:lnTo>
                    <a:close/>
                    <a:moveTo>
                      <a:pt x="728" y="776"/>
                    </a:moveTo>
                    <a:lnTo>
                      <a:pt x="728" y="776"/>
                    </a:lnTo>
                    <a:lnTo>
                      <a:pt x="656" y="776"/>
                    </a:lnTo>
                    <a:lnTo>
                      <a:pt x="602" y="778"/>
                    </a:lnTo>
                    <a:lnTo>
                      <a:pt x="554" y="782"/>
                    </a:lnTo>
                    <a:lnTo>
                      <a:pt x="504" y="788"/>
                    </a:lnTo>
                    <a:lnTo>
                      <a:pt x="504" y="444"/>
                    </a:lnTo>
                    <a:lnTo>
                      <a:pt x="504" y="444"/>
                    </a:lnTo>
                    <a:lnTo>
                      <a:pt x="550" y="448"/>
                    </a:lnTo>
                    <a:lnTo>
                      <a:pt x="596" y="452"/>
                    </a:lnTo>
                    <a:lnTo>
                      <a:pt x="652" y="454"/>
                    </a:lnTo>
                    <a:lnTo>
                      <a:pt x="728" y="454"/>
                    </a:lnTo>
                    <a:lnTo>
                      <a:pt x="1556" y="454"/>
                    </a:lnTo>
                    <a:lnTo>
                      <a:pt x="1556" y="454"/>
                    </a:lnTo>
                    <a:lnTo>
                      <a:pt x="1632" y="454"/>
                    </a:lnTo>
                    <a:lnTo>
                      <a:pt x="1690" y="452"/>
                    </a:lnTo>
                    <a:lnTo>
                      <a:pt x="1738" y="448"/>
                    </a:lnTo>
                    <a:lnTo>
                      <a:pt x="1782" y="444"/>
                    </a:lnTo>
                    <a:lnTo>
                      <a:pt x="1782" y="788"/>
                    </a:lnTo>
                    <a:lnTo>
                      <a:pt x="1782" y="788"/>
                    </a:lnTo>
                    <a:lnTo>
                      <a:pt x="1734" y="782"/>
                    </a:lnTo>
                    <a:lnTo>
                      <a:pt x="1686" y="778"/>
                    </a:lnTo>
                    <a:lnTo>
                      <a:pt x="1630" y="776"/>
                    </a:lnTo>
                    <a:lnTo>
                      <a:pt x="1556" y="776"/>
                    </a:lnTo>
                    <a:lnTo>
                      <a:pt x="1306" y="776"/>
                    </a:lnTo>
                    <a:lnTo>
                      <a:pt x="1306" y="920"/>
                    </a:lnTo>
                    <a:lnTo>
                      <a:pt x="1514" y="920"/>
                    </a:lnTo>
                    <a:lnTo>
                      <a:pt x="1514" y="920"/>
                    </a:lnTo>
                    <a:lnTo>
                      <a:pt x="1584" y="920"/>
                    </a:lnTo>
                    <a:lnTo>
                      <a:pt x="1634" y="918"/>
                    </a:lnTo>
                    <a:lnTo>
                      <a:pt x="1676" y="914"/>
                    </a:lnTo>
                    <a:lnTo>
                      <a:pt x="1718" y="908"/>
                    </a:lnTo>
                    <a:lnTo>
                      <a:pt x="1718" y="1250"/>
                    </a:lnTo>
                    <a:lnTo>
                      <a:pt x="1718" y="1250"/>
                    </a:lnTo>
                    <a:lnTo>
                      <a:pt x="1670" y="1242"/>
                    </a:lnTo>
                    <a:lnTo>
                      <a:pt x="1620" y="1240"/>
                    </a:lnTo>
                    <a:lnTo>
                      <a:pt x="1620" y="1240"/>
                    </a:lnTo>
                    <a:lnTo>
                      <a:pt x="1642" y="1274"/>
                    </a:lnTo>
                    <a:lnTo>
                      <a:pt x="1658" y="1304"/>
                    </a:lnTo>
                    <a:lnTo>
                      <a:pt x="1676" y="1336"/>
                    </a:lnTo>
                    <a:lnTo>
                      <a:pt x="1696" y="1384"/>
                    </a:lnTo>
                    <a:lnTo>
                      <a:pt x="1566" y="1416"/>
                    </a:lnTo>
                    <a:lnTo>
                      <a:pt x="1566" y="1416"/>
                    </a:lnTo>
                    <a:lnTo>
                      <a:pt x="1646" y="1416"/>
                    </a:lnTo>
                    <a:lnTo>
                      <a:pt x="1706" y="1414"/>
                    </a:lnTo>
                    <a:lnTo>
                      <a:pt x="1754" y="1410"/>
                    </a:lnTo>
                    <a:lnTo>
                      <a:pt x="1802" y="1404"/>
                    </a:lnTo>
                    <a:lnTo>
                      <a:pt x="1802" y="1752"/>
                    </a:lnTo>
                    <a:lnTo>
                      <a:pt x="1802" y="1752"/>
                    </a:lnTo>
                    <a:lnTo>
                      <a:pt x="1754" y="1746"/>
                    </a:lnTo>
                    <a:lnTo>
                      <a:pt x="1704" y="1744"/>
                    </a:lnTo>
                    <a:lnTo>
                      <a:pt x="1646" y="1742"/>
                    </a:lnTo>
                    <a:lnTo>
                      <a:pt x="1572" y="1742"/>
                    </a:lnTo>
                    <a:lnTo>
                      <a:pt x="706" y="1742"/>
                    </a:lnTo>
                    <a:lnTo>
                      <a:pt x="706" y="1742"/>
                    </a:lnTo>
                    <a:lnTo>
                      <a:pt x="624" y="1742"/>
                    </a:lnTo>
                    <a:lnTo>
                      <a:pt x="566" y="1744"/>
                    </a:lnTo>
                    <a:lnTo>
                      <a:pt x="522" y="1746"/>
                    </a:lnTo>
                    <a:lnTo>
                      <a:pt x="476" y="1752"/>
                    </a:lnTo>
                    <a:lnTo>
                      <a:pt x="476" y="1404"/>
                    </a:lnTo>
                    <a:lnTo>
                      <a:pt x="476" y="1404"/>
                    </a:lnTo>
                    <a:lnTo>
                      <a:pt x="524" y="1410"/>
                    </a:lnTo>
                    <a:lnTo>
                      <a:pt x="572" y="1414"/>
                    </a:lnTo>
                    <a:lnTo>
                      <a:pt x="630" y="1416"/>
                    </a:lnTo>
                    <a:lnTo>
                      <a:pt x="706" y="1416"/>
                    </a:lnTo>
                    <a:lnTo>
                      <a:pt x="934" y="1416"/>
                    </a:lnTo>
                    <a:lnTo>
                      <a:pt x="934" y="1236"/>
                    </a:lnTo>
                    <a:lnTo>
                      <a:pt x="768" y="1236"/>
                    </a:lnTo>
                    <a:lnTo>
                      <a:pt x="768" y="1236"/>
                    </a:lnTo>
                    <a:lnTo>
                      <a:pt x="698" y="1238"/>
                    </a:lnTo>
                    <a:lnTo>
                      <a:pt x="648" y="1240"/>
                    </a:lnTo>
                    <a:lnTo>
                      <a:pt x="604" y="1244"/>
                    </a:lnTo>
                    <a:lnTo>
                      <a:pt x="560" y="1250"/>
                    </a:lnTo>
                    <a:lnTo>
                      <a:pt x="560" y="908"/>
                    </a:lnTo>
                    <a:lnTo>
                      <a:pt x="560" y="908"/>
                    </a:lnTo>
                    <a:lnTo>
                      <a:pt x="604" y="914"/>
                    </a:lnTo>
                    <a:lnTo>
                      <a:pt x="646" y="918"/>
                    </a:lnTo>
                    <a:lnTo>
                      <a:pt x="698" y="920"/>
                    </a:lnTo>
                    <a:lnTo>
                      <a:pt x="768" y="920"/>
                    </a:lnTo>
                    <a:lnTo>
                      <a:pt x="934" y="920"/>
                    </a:lnTo>
                    <a:lnTo>
                      <a:pt x="934" y="776"/>
                    </a:lnTo>
                    <a:lnTo>
                      <a:pt x="728" y="776"/>
                    </a:lnTo>
                    <a:close/>
                    <a:moveTo>
                      <a:pt x="1306" y="1416"/>
                    </a:moveTo>
                    <a:lnTo>
                      <a:pt x="1460" y="1416"/>
                    </a:lnTo>
                    <a:lnTo>
                      <a:pt x="1460" y="1416"/>
                    </a:lnTo>
                    <a:lnTo>
                      <a:pt x="1442" y="1372"/>
                    </a:lnTo>
                    <a:lnTo>
                      <a:pt x="1424" y="1334"/>
                    </a:lnTo>
                    <a:lnTo>
                      <a:pt x="1404" y="1300"/>
                    </a:lnTo>
                    <a:lnTo>
                      <a:pt x="1380" y="1260"/>
                    </a:lnTo>
                    <a:lnTo>
                      <a:pt x="1470" y="1236"/>
                    </a:lnTo>
                    <a:lnTo>
                      <a:pt x="1306" y="1236"/>
                    </a:lnTo>
                    <a:lnTo>
                      <a:pt x="1306" y="1416"/>
                    </a:lnTo>
                    <a:close/>
                  </a:path>
                </a:pathLst>
              </a:custGeom>
              <a:solidFill>
                <a:srgbClr val="e7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27"/>
              <p:cNvSpPr/>
              <p:nvPr/>
            </p:nvSpPr>
            <p:spPr>
              <a:xfrm>
                <a:off x="17741880" y="2234880"/>
                <a:ext cx="3809880" cy="3810240"/>
              </a:xfrm>
              <a:custGeom>
                <a:avLst/>
                <a:gdLst>
                  <a:gd name="textAreaLeft" fmla="*/ 0 w 3809880"/>
                  <a:gd name="textAreaRight" fmla="*/ 3810240 w 3809880"/>
                  <a:gd name="textAreaTop" fmla="*/ 0 h 3810240"/>
                  <a:gd name="textAreaBottom" fmla="*/ 3810600 h 3810240"/>
                </a:gdLst>
                <a:ahLst/>
                <a:rect l="textAreaLeft" t="textAreaTop" r="textAreaRight" b="textAreaBottom"/>
                <a:pathLst>
                  <a:path w="2400" h="2400">
                    <a:moveTo>
                      <a:pt x="1646" y="586"/>
                    </a:moveTo>
                    <a:lnTo>
                      <a:pt x="1646" y="586"/>
                    </a:lnTo>
                    <a:lnTo>
                      <a:pt x="1712" y="660"/>
                    </a:lnTo>
                    <a:lnTo>
                      <a:pt x="1766" y="714"/>
                    </a:lnTo>
                    <a:lnTo>
                      <a:pt x="1814" y="760"/>
                    </a:lnTo>
                    <a:lnTo>
                      <a:pt x="1870" y="806"/>
                    </a:lnTo>
                    <a:lnTo>
                      <a:pt x="1870" y="806"/>
                    </a:lnTo>
                    <a:lnTo>
                      <a:pt x="1926" y="852"/>
                    </a:lnTo>
                    <a:lnTo>
                      <a:pt x="1982" y="892"/>
                    </a:lnTo>
                    <a:lnTo>
                      <a:pt x="2036" y="928"/>
                    </a:lnTo>
                    <a:lnTo>
                      <a:pt x="2094" y="962"/>
                    </a:lnTo>
                    <a:lnTo>
                      <a:pt x="2152" y="992"/>
                    </a:lnTo>
                    <a:lnTo>
                      <a:pt x="2216" y="1024"/>
                    </a:lnTo>
                    <a:lnTo>
                      <a:pt x="2288" y="1056"/>
                    </a:lnTo>
                    <a:lnTo>
                      <a:pt x="2366" y="1088"/>
                    </a:lnTo>
                    <a:lnTo>
                      <a:pt x="2366" y="1088"/>
                    </a:lnTo>
                    <a:lnTo>
                      <a:pt x="2332" y="1130"/>
                    </a:lnTo>
                    <a:lnTo>
                      <a:pt x="2302" y="1170"/>
                    </a:lnTo>
                    <a:lnTo>
                      <a:pt x="2276" y="1210"/>
                    </a:lnTo>
                    <a:lnTo>
                      <a:pt x="2250" y="1250"/>
                    </a:lnTo>
                    <a:lnTo>
                      <a:pt x="2226" y="1292"/>
                    </a:lnTo>
                    <a:lnTo>
                      <a:pt x="2202" y="1336"/>
                    </a:lnTo>
                    <a:lnTo>
                      <a:pt x="2180" y="1384"/>
                    </a:lnTo>
                    <a:lnTo>
                      <a:pt x="2156" y="1434"/>
                    </a:lnTo>
                    <a:lnTo>
                      <a:pt x="2156" y="1434"/>
                    </a:lnTo>
                    <a:lnTo>
                      <a:pt x="2040" y="1374"/>
                    </a:lnTo>
                    <a:lnTo>
                      <a:pt x="1952" y="1322"/>
                    </a:lnTo>
                    <a:lnTo>
                      <a:pt x="1878" y="1276"/>
                    </a:lnTo>
                    <a:lnTo>
                      <a:pt x="1800" y="1224"/>
                    </a:lnTo>
                    <a:lnTo>
                      <a:pt x="1800" y="1224"/>
                    </a:lnTo>
                    <a:lnTo>
                      <a:pt x="1762" y="1294"/>
                    </a:lnTo>
                    <a:lnTo>
                      <a:pt x="1724" y="1356"/>
                    </a:lnTo>
                    <a:lnTo>
                      <a:pt x="1688" y="1416"/>
                    </a:lnTo>
                    <a:lnTo>
                      <a:pt x="1652" y="1470"/>
                    </a:lnTo>
                    <a:lnTo>
                      <a:pt x="1614" y="1522"/>
                    </a:lnTo>
                    <a:lnTo>
                      <a:pt x="1576" y="1574"/>
                    </a:lnTo>
                    <a:lnTo>
                      <a:pt x="1534" y="1624"/>
                    </a:lnTo>
                    <a:lnTo>
                      <a:pt x="1490" y="1676"/>
                    </a:lnTo>
                    <a:lnTo>
                      <a:pt x="1490" y="1676"/>
                    </a:lnTo>
                    <a:lnTo>
                      <a:pt x="1540" y="1702"/>
                    </a:lnTo>
                    <a:lnTo>
                      <a:pt x="1590" y="1728"/>
                    </a:lnTo>
                    <a:lnTo>
                      <a:pt x="1642" y="1754"/>
                    </a:lnTo>
                    <a:lnTo>
                      <a:pt x="1696" y="1778"/>
                    </a:lnTo>
                    <a:lnTo>
                      <a:pt x="1750" y="1800"/>
                    </a:lnTo>
                    <a:lnTo>
                      <a:pt x="1804" y="1822"/>
                    </a:lnTo>
                    <a:lnTo>
                      <a:pt x="1860" y="1844"/>
                    </a:lnTo>
                    <a:lnTo>
                      <a:pt x="1916" y="1864"/>
                    </a:lnTo>
                    <a:lnTo>
                      <a:pt x="1972" y="1882"/>
                    </a:lnTo>
                    <a:lnTo>
                      <a:pt x="2032" y="1900"/>
                    </a:lnTo>
                    <a:lnTo>
                      <a:pt x="2090" y="1916"/>
                    </a:lnTo>
                    <a:lnTo>
                      <a:pt x="2150" y="1932"/>
                    </a:lnTo>
                    <a:lnTo>
                      <a:pt x="2210" y="1948"/>
                    </a:lnTo>
                    <a:lnTo>
                      <a:pt x="2272" y="1960"/>
                    </a:lnTo>
                    <a:lnTo>
                      <a:pt x="2336" y="1974"/>
                    </a:lnTo>
                    <a:lnTo>
                      <a:pt x="2400" y="1984"/>
                    </a:lnTo>
                    <a:lnTo>
                      <a:pt x="2400" y="1984"/>
                    </a:lnTo>
                    <a:lnTo>
                      <a:pt x="2368" y="2034"/>
                    </a:lnTo>
                    <a:lnTo>
                      <a:pt x="2340" y="2080"/>
                    </a:lnTo>
                    <a:lnTo>
                      <a:pt x="2316" y="2124"/>
                    </a:lnTo>
                    <a:lnTo>
                      <a:pt x="2294" y="2168"/>
                    </a:lnTo>
                    <a:lnTo>
                      <a:pt x="2274" y="2214"/>
                    </a:lnTo>
                    <a:lnTo>
                      <a:pt x="2256" y="2264"/>
                    </a:lnTo>
                    <a:lnTo>
                      <a:pt x="2236" y="2322"/>
                    </a:lnTo>
                    <a:lnTo>
                      <a:pt x="2216" y="2386"/>
                    </a:lnTo>
                    <a:lnTo>
                      <a:pt x="2216" y="2386"/>
                    </a:lnTo>
                    <a:lnTo>
                      <a:pt x="2120" y="2362"/>
                    </a:lnTo>
                    <a:lnTo>
                      <a:pt x="2034" y="2340"/>
                    </a:lnTo>
                    <a:lnTo>
                      <a:pt x="1954" y="2316"/>
                    </a:lnTo>
                    <a:lnTo>
                      <a:pt x="1878" y="2294"/>
                    </a:lnTo>
                    <a:lnTo>
                      <a:pt x="1808" y="2268"/>
                    </a:lnTo>
                    <a:lnTo>
                      <a:pt x="1738" y="2242"/>
                    </a:lnTo>
                    <a:lnTo>
                      <a:pt x="1670" y="2214"/>
                    </a:lnTo>
                    <a:lnTo>
                      <a:pt x="1598" y="2182"/>
                    </a:lnTo>
                    <a:lnTo>
                      <a:pt x="1598" y="2182"/>
                    </a:lnTo>
                    <a:lnTo>
                      <a:pt x="1542" y="2154"/>
                    </a:lnTo>
                    <a:lnTo>
                      <a:pt x="1488" y="2128"/>
                    </a:lnTo>
                    <a:lnTo>
                      <a:pt x="1436" y="2100"/>
                    </a:lnTo>
                    <a:lnTo>
                      <a:pt x="1386" y="2070"/>
                    </a:lnTo>
                    <a:lnTo>
                      <a:pt x="1336" y="2042"/>
                    </a:lnTo>
                    <a:lnTo>
                      <a:pt x="1288" y="2010"/>
                    </a:lnTo>
                    <a:lnTo>
                      <a:pt x="1240" y="1978"/>
                    </a:lnTo>
                    <a:lnTo>
                      <a:pt x="1190" y="1944"/>
                    </a:lnTo>
                    <a:lnTo>
                      <a:pt x="1190" y="1944"/>
                    </a:lnTo>
                    <a:lnTo>
                      <a:pt x="1126" y="1990"/>
                    </a:lnTo>
                    <a:lnTo>
                      <a:pt x="1062" y="2032"/>
                    </a:lnTo>
                    <a:lnTo>
                      <a:pt x="998" y="2072"/>
                    </a:lnTo>
                    <a:lnTo>
                      <a:pt x="932" y="2110"/>
                    </a:lnTo>
                    <a:lnTo>
                      <a:pt x="866" y="2144"/>
                    </a:lnTo>
                    <a:lnTo>
                      <a:pt x="798" y="2178"/>
                    </a:lnTo>
                    <a:lnTo>
                      <a:pt x="728" y="2208"/>
                    </a:lnTo>
                    <a:lnTo>
                      <a:pt x="658" y="2238"/>
                    </a:lnTo>
                    <a:lnTo>
                      <a:pt x="658" y="2238"/>
                    </a:lnTo>
                    <a:lnTo>
                      <a:pt x="594" y="2264"/>
                    </a:lnTo>
                    <a:lnTo>
                      <a:pt x="532" y="2288"/>
                    </a:lnTo>
                    <a:lnTo>
                      <a:pt x="410" y="2332"/>
                    </a:lnTo>
                    <a:lnTo>
                      <a:pt x="294" y="2368"/>
                    </a:lnTo>
                    <a:lnTo>
                      <a:pt x="184" y="2400"/>
                    </a:lnTo>
                    <a:lnTo>
                      <a:pt x="184" y="2400"/>
                    </a:lnTo>
                    <a:lnTo>
                      <a:pt x="166" y="2346"/>
                    </a:lnTo>
                    <a:lnTo>
                      <a:pt x="146" y="2296"/>
                    </a:lnTo>
                    <a:lnTo>
                      <a:pt x="128" y="2248"/>
                    </a:lnTo>
                    <a:lnTo>
                      <a:pt x="106" y="2204"/>
                    </a:lnTo>
                    <a:lnTo>
                      <a:pt x="84" y="2162"/>
                    </a:lnTo>
                    <a:lnTo>
                      <a:pt x="60" y="2118"/>
                    </a:lnTo>
                    <a:lnTo>
                      <a:pt x="32" y="2074"/>
                    </a:lnTo>
                    <a:lnTo>
                      <a:pt x="0" y="2028"/>
                    </a:lnTo>
                    <a:lnTo>
                      <a:pt x="0" y="2028"/>
                    </a:lnTo>
                    <a:lnTo>
                      <a:pt x="116" y="2004"/>
                    </a:lnTo>
                    <a:lnTo>
                      <a:pt x="208" y="1982"/>
                    </a:lnTo>
                    <a:lnTo>
                      <a:pt x="292" y="1958"/>
                    </a:lnTo>
                    <a:lnTo>
                      <a:pt x="384" y="1926"/>
                    </a:lnTo>
                    <a:lnTo>
                      <a:pt x="384" y="1926"/>
                    </a:lnTo>
                    <a:lnTo>
                      <a:pt x="466" y="1898"/>
                    </a:lnTo>
                    <a:lnTo>
                      <a:pt x="540" y="1870"/>
                    </a:lnTo>
                    <a:lnTo>
                      <a:pt x="608" y="1842"/>
                    </a:lnTo>
                    <a:lnTo>
                      <a:pt x="672" y="1814"/>
                    </a:lnTo>
                    <a:lnTo>
                      <a:pt x="730" y="1784"/>
                    </a:lnTo>
                    <a:lnTo>
                      <a:pt x="788" y="1752"/>
                    </a:lnTo>
                    <a:lnTo>
                      <a:pt x="844" y="1720"/>
                    </a:lnTo>
                    <a:lnTo>
                      <a:pt x="902" y="1684"/>
                    </a:lnTo>
                    <a:lnTo>
                      <a:pt x="902" y="1684"/>
                    </a:lnTo>
                    <a:lnTo>
                      <a:pt x="852" y="1626"/>
                    </a:lnTo>
                    <a:lnTo>
                      <a:pt x="806" y="1570"/>
                    </a:lnTo>
                    <a:lnTo>
                      <a:pt x="762" y="1514"/>
                    </a:lnTo>
                    <a:lnTo>
                      <a:pt x="722" y="1460"/>
                    </a:lnTo>
                    <a:lnTo>
                      <a:pt x="686" y="1404"/>
                    </a:lnTo>
                    <a:lnTo>
                      <a:pt x="650" y="1346"/>
                    </a:lnTo>
                    <a:lnTo>
                      <a:pt x="616" y="1288"/>
                    </a:lnTo>
                    <a:lnTo>
                      <a:pt x="582" y="1224"/>
                    </a:lnTo>
                    <a:lnTo>
                      <a:pt x="582" y="1224"/>
                    </a:lnTo>
                    <a:lnTo>
                      <a:pt x="512" y="1282"/>
                    </a:lnTo>
                    <a:lnTo>
                      <a:pt x="444" y="1334"/>
                    </a:lnTo>
                    <a:lnTo>
                      <a:pt x="364" y="1390"/>
                    </a:lnTo>
                    <a:lnTo>
                      <a:pt x="262" y="1458"/>
                    </a:lnTo>
                    <a:lnTo>
                      <a:pt x="262" y="1458"/>
                    </a:lnTo>
                    <a:lnTo>
                      <a:pt x="232" y="1410"/>
                    </a:lnTo>
                    <a:lnTo>
                      <a:pt x="204" y="1368"/>
                    </a:lnTo>
                    <a:lnTo>
                      <a:pt x="174" y="1326"/>
                    </a:lnTo>
                    <a:lnTo>
                      <a:pt x="146" y="1290"/>
                    </a:lnTo>
                    <a:lnTo>
                      <a:pt x="114" y="1252"/>
                    </a:lnTo>
                    <a:lnTo>
                      <a:pt x="82" y="1216"/>
                    </a:lnTo>
                    <a:lnTo>
                      <a:pt x="48" y="1180"/>
                    </a:lnTo>
                    <a:lnTo>
                      <a:pt x="10" y="1144"/>
                    </a:lnTo>
                    <a:lnTo>
                      <a:pt x="10" y="1144"/>
                    </a:lnTo>
                    <a:lnTo>
                      <a:pt x="82" y="1104"/>
                    </a:lnTo>
                    <a:lnTo>
                      <a:pt x="148" y="1068"/>
                    </a:lnTo>
                    <a:lnTo>
                      <a:pt x="208" y="1030"/>
                    </a:lnTo>
                    <a:lnTo>
                      <a:pt x="264" y="994"/>
                    </a:lnTo>
                    <a:lnTo>
                      <a:pt x="318" y="954"/>
                    </a:lnTo>
                    <a:lnTo>
                      <a:pt x="370" y="914"/>
                    </a:lnTo>
                    <a:lnTo>
                      <a:pt x="422" y="872"/>
                    </a:lnTo>
                    <a:lnTo>
                      <a:pt x="472" y="824"/>
                    </a:lnTo>
                    <a:lnTo>
                      <a:pt x="472" y="824"/>
                    </a:lnTo>
                    <a:lnTo>
                      <a:pt x="528" y="772"/>
                    </a:lnTo>
                    <a:lnTo>
                      <a:pt x="576" y="722"/>
                    </a:lnTo>
                    <a:lnTo>
                      <a:pt x="626" y="662"/>
                    </a:lnTo>
                    <a:lnTo>
                      <a:pt x="686" y="586"/>
                    </a:lnTo>
                    <a:lnTo>
                      <a:pt x="386" y="586"/>
                    </a:lnTo>
                    <a:lnTo>
                      <a:pt x="386" y="586"/>
                    </a:lnTo>
                    <a:lnTo>
                      <a:pt x="276" y="586"/>
                    </a:lnTo>
                    <a:lnTo>
                      <a:pt x="182" y="590"/>
                    </a:lnTo>
                    <a:lnTo>
                      <a:pt x="104" y="594"/>
                    </a:lnTo>
                    <a:lnTo>
                      <a:pt x="40" y="600"/>
                    </a:lnTo>
                    <a:lnTo>
                      <a:pt x="40" y="204"/>
                    </a:lnTo>
                    <a:lnTo>
                      <a:pt x="40" y="204"/>
                    </a:lnTo>
                    <a:lnTo>
                      <a:pt x="104" y="210"/>
                    </a:lnTo>
                    <a:lnTo>
                      <a:pt x="182" y="214"/>
                    </a:lnTo>
                    <a:lnTo>
                      <a:pt x="278" y="218"/>
                    </a:lnTo>
                    <a:lnTo>
                      <a:pt x="386" y="218"/>
                    </a:lnTo>
                    <a:lnTo>
                      <a:pt x="974" y="218"/>
                    </a:lnTo>
                    <a:lnTo>
                      <a:pt x="974" y="154"/>
                    </a:lnTo>
                    <a:lnTo>
                      <a:pt x="974" y="154"/>
                    </a:lnTo>
                    <a:lnTo>
                      <a:pt x="974" y="116"/>
                    </a:lnTo>
                    <a:lnTo>
                      <a:pt x="970" y="76"/>
                    </a:lnTo>
                    <a:lnTo>
                      <a:pt x="966" y="38"/>
                    </a:lnTo>
                    <a:lnTo>
                      <a:pt x="960" y="0"/>
                    </a:lnTo>
                    <a:lnTo>
                      <a:pt x="1388" y="0"/>
                    </a:lnTo>
                    <a:lnTo>
                      <a:pt x="1388" y="0"/>
                    </a:lnTo>
                    <a:lnTo>
                      <a:pt x="1382" y="36"/>
                    </a:lnTo>
                    <a:lnTo>
                      <a:pt x="1378" y="72"/>
                    </a:lnTo>
                    <a:lnTo>
                      <a:pt x="1376" y="112"/>
                    </a:lnTo>
                    <a:lnTo>
                      <a:pt x="1376" y="154"/>
                    </a:lnTo>
                    <a:lnTo>
                      <a:pt x="1376" y="218"/>
                    </a:lnTo>
                    <a:lnTo>
                      <a:pt x="1998" y="218"/>
                    </a:lnTo>
                    <a:lnTo>
                      <a:pt x="1998" y="218"/>
                    </a:lnTo>
                    <a:lnTo>
                      <a:pt x="2106" y="218"/>
                    </a:lnTo>
                    <a:lnTo>
                      <a:pt x="2200" y="214"/>
                    </a:lnTo>
                    <a:lnTo>
                      <a:pt x="2280" y="210"/>
                    </a:lnTo>
                    <a:lnTo>
                      <a:pt x="2344" y="204"/>
                    </a:lnTo>
                    <a:lnTo>
                      <a:pt x="2344" y="600"/>
                    </a:lnTo>
                    <a:lnTo>
                      <a:pt x="2344" y="600"/>
                    </a:lnTo>
                    <a:lnTo>
                      <a:pt x="2280" y="594"/>
                    </a:lnTo>
                    <a:lnTo>
                      <a:pt x="2198" y="590"/>
                    </a:lnTo>
                    <a:lnTo>
                      <a:pt x="2102" y="586"/>
                    </a:lnTo>
                    <a:lnTo>
                      <a:pt x="1994" y="586"/>
                    </a:lnTo>
                    <a:lnTo>
                      <a:pt x="1646" y="586"/>
                    </a:lnTo>
                    <a:close/>
                    <a:moveTo>
                      <a:pt x="914" y="1052"/>
                    </a:moveTo>
                    <a:lnTo>
                      <a:pt x="914" y="1052"/>
                    </a:lnTo>
                    <a:lnTo>
                      <a:pt x="946" y="1120"/>
                    </a:lnTo>
                    <a:lnTo>
                      <a:pt x="978" y="1178"/>
                    </a:lnTo>
                    <a:lnTo>
                      <a:pt x="1008" y="1232"/>
                    </a:lnTo>
                    <a:lnTo>
                      <a:pt x="1038" y="1278"/>
                    </a:lnTo>
                    <a:lnTo>
                      <a:pt x="1070" y="1322"/>
                    </a:lnTo>
                    <a:lnTo>
                      <a:pt x="1104" y="1364"/>
                    </a:lnTo>
                    <a:lnTo>
                      <a:pt x="1142" y="1406"/>
                    </a:lnTo>
                    <a:lnTo>
                      <a:pt x="1186" y="1450"/>
                    </a:lnTo>
                    <a:lnTo>
                      <a:pt x="1186" y="1450"/>
                    </a:lnTo>
                    <a:lnTo>
                      <a:pt x="1224" y="1406"/>
                    </a:lnTo>
                    <a:lnTo>
                      <a:pt x="1262" y="1362"/>
                    </a:lnTo>
                    <a:lnTo>
                      <a:pt x="1298" y="1316"/>
                    </a:lnTo>
                    <a:lnTo>
                      <a:pt x="1332" y="1266"/>
                    </a:lnTo>
                    <a:lnTo>
                      <a:pt x="1362" y="1216"/>
                    </a:lnTo>
                    <a:lnTo>
                      <a:pt x="1392" y="1164"/>
                    </a:lnTo>
                    <a:lnTo>
                      <a:pt x="1422" y="1108"/>
                    </a:lnTo>
                    <a:lnTo>
                      <a:pt x="1448" y="1050"/>
                    </a:lnTo>
                    <a:lnTo>
                      <a:pt x="1778" y="1210"/>
                    </a:lnTo>
                    <a:lnTo>
                      <a:pt x="1778" y="1210"/>
                    </a:lnTo>
                    <a:lnTo>
                      <a:pt x="1710" y="1158"/>
                    </a:lnTo>
                    <a:lnTo>
                      <a:pt x="1648" y="1108"/>
                    </a:lnTo>
                    <a:lnTo>
                      <a:pt x="1590" y="1060"/>
                    </a:lnTo>
                    <a:lnTo>
                      <a:pt x="1536" y="1008"/>
                    </a:lnTo>
                    <a:lnTo>
                      <a:pt x="1484" y="956"/>
                    </a:lnTo>
                    <a:lnTo>
                      <a:pt x="1430" y="898"/>
                    </a:lnTo>
                    <a:lnTo>
                      <a:pt x="1376" y="834"/>
                    </a:lnTo>
                    <a:lnTo>
                      <a:pt x="1316" y="764"/>
                    </a:lnTo>
                    <a:lnTo>
                      <a:pt x="1604" y="586"/>
                    </a:lnTo>
                    <a:lnTo>
                      <a:pt x="716" y="586"/>
                    </a:lnTo>
                    <a:lnTo>
                      <a:pt x="1034" y="758"/>
                    </a:lnTo>
                    <a:lnTo>
                      <a:pt x="1034" y="758"/>
                    </a:lnTo>
                    <a:lnTo>
                      <a:pt x="982" y="826"/>
                    </a:lnTo>
                    <a:lnTo>
                      <a:pt x="934" y="886"/>
                    </a:lnTo>
                    <a:lnTo>
                      <a:pt x="886" y="940"/>
                    </a:lnTo>
                    <a:lnTo>
                      <a:pt x="840" y="992"/>
                    </a:lnTo>
                    <a:lnTo>
                      <a:pt x="790" y="1042"/>
                    </a:lnTo>
                    <a:lnTo>
                      <a:pt x="736" y="1092"/>
                    </a:lnTo>
                    <a:lnTo>
                      <a:pt x="676" y="1146"/>
                    </a:lnTo>
                    <a:lnTo>
                      <a:pt x="608" y="1204"/>
                    </a:lnTo>
                    <a:lnTo>
                      <a:pt x="914" y="1052"/>
                    </a:lnTo>
                    <a:close/>
                  </a:path>
                </a:pathLst>
              </a:custGeom>
              <a:solidFill>
                <a:srgbClr val="e7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28"/>
              <p:cNvSpPr/>
              <p:nvPr/>
            </p:nvSpPr>
            <p:spPr>
              <a:xfrm>
                <a:off x="21732840" y="2260440"/>
                <a:ext cx="3908160" cy="3711960"/>
              </a:xfrm>
              <a:custGeom>
                <a:avLst/>
                <a:gdLst>
                  <a:gd name="textAreaLeft" fmla="*/ 0 w 3908160"/>
                  <a:gd name="textAreaRight" fmla="*/ 3908520 w 3908160"/>
                  <a:gd name="textAreaTop" fmla="*/ 0 h 3711960"/>
                  <a:gd name="textAreaBottom" fmla="*/ 3711960 h 3711960"/>
                </a:gdLst>
                <a:ahLst/>
                <a:rect l="textAreaLeft" t="textAreaTop" r="textAreaRight" b="textAreaBottom"/>
                <a:pathLst>
                  <a:path w="2462" h="2338">
                    <a:moveTo>
                      <a:pt x="676" y="1772"/>
                    </a:moveTo>
                    <a:lnTo>
                      <a:pt x="676" y="1772"/>
                    </a:lnTo>
                    <a:lnTo>
                      <a:pt x="698" y="1806"/>
                    </a:lnTo>
                    <a:lnTo>
                      <a:pt x="708" y="1820"/>
                    </a:lnTo>
                    <a:lnTo>
                      <a:pt x="718" y="1832"/>
                    </a:lnTo>
                    <a:lnTo>
                      <a:pt x="730" y="1842"/>
                    </a:lnTo>
                    <a:lnTo>
                      <a:pt x="744" y="1854"/>
                    </a:lnTo>
                    <a:lnTo>
                      <a:pt x="778" y="1878"/>
                    </a:lnTo>
                    <a:lnTo>
                      <a:pt x="778" y="1878"/>
                    </a:lnTo>
                    <a:lnTo>
                      <a:pt x="782" y="1824"/>
                    </a:lnTo>
                    <a:lnTo>
                      <a:pt x="786" y="1760"/>
                    </a:lnTo>
                    <a:lnTo>
                      <a:pt x="788" y="1688"/>
                    </a:lnTo>
                    <a:lnTo>
                      <a:pt x="790" y="1606"/>
                    </a:lnTo>
                    <a:lnTo>
                      <a:pt x="790" y="818"/>
                    </a:lnTo>
                    <a:lnTo>
                      <a:pt x="790" y="818"/>
                    </a:lnTo>
                    <a:lnTo>
                      <a:pt x="790" y="728"/>
                    </a:lnTo>
                    <a:lnTo>
                      <a:pt x="788" y="654"/>
                    </a:lnTo>
                    <a:lnTo>
                      <a:pt x="784" y="588"/>
                    </a:lnTo>
                    <a:lnTo>
                      <a:pt x="778" y="516"/>
                    </a:lnTo>
                    <a:lnTo>
                      <a:pt x="778" y="516"/>
                    </a:lnTo>
                    <a:lnTo>
                      <a:pt x="838" y="522"/>
                    </a:lnTo>
                    <a:lnTo>
                      <a:pt x="902" y="524"/>
                    </a:lnTo>
                    <a:lnTo>
                      <a:pt x="976" y="526"/>
                    </a:lnTo>
                    <a:lnTo>
                      <a:pt x="1068" y="526"/>
                    </a:lnTo>
                    <a:lnTo>
                      <a:pt x="1140" y="526"/>
                    </a:lnTo>
                    <a:lnTo>
                      <a:pt x="1140" y="526"/>
                    </a:lnTo>
                    <a:lnTo>
                      <a:pt x="1060" y="476"/>
                    </a:lnTo>
                    <a:lnTo>
                      <a:pt x="992" y="440"/>
                    </a:lnTo>
                    <a:lnTo>
                      <a:pt x="1134" y="362"/>
                    </a:lnTo>
                    <a:lnTo>
                      <a:pt x="1018" y="362"/>
                    </a:lnTo>
                    <a:lnTo>
                      <a:pt x="1018" y="362"/>
                    </a:lnTo>
                    <a:lnTo>
                      <a:pt x="934" y="362"/>
                    </a:lnTo>
                    <a:lnTo>
                      <a:pt x="866" y="364"/>
                    </a:lnTo>
                    <a:lnTo>
                      <a:pt x="806" y="368"/>
                    </a:lnTo>
                    <a:lnTo>
                      <a:pt x="750" y="374"/>
                    </a:lnTo>
                    <a:lnTo>
                      <a:pt x="750" y="18"/>
                    </a:lnTo>
                    <a:lnTo>
                      <a:pt x="750" y="18"/>
                    </a:lnTo>
                    <a:lnTo>
                      <a:pt x="818" y="24"/>
                    </a:lnTo>
                    <a:lnTo>
                      <a:pt x="894" y="28"/>
                    </a:lnTo>
                    <a:lnTo>
                      <a:pt x="980" y="32"/>
                    </a:lnTo>
                    <a:lnTo>
                      <a:pt x="1086" y="32"/>
                    </a:lnTo>
                    <a:lnTo>
                      <a:pt x="1842" y="32"/>
                    </a:lnTo>
                    <a:lnTo>
                      <a:pt x="1842" y="32"/>
                    </a:lnTo>
                    <a:lnTo>
                      <a:pt x="1962" y="32"/>
                    </a:lnTo>
                    <a:lnTo>
                      <a:pt x="2052" y="28"/>
                    </a:lnTo>
                    <a:lnTo>
                      <a:pt x="2116" y="24"/>
                    </a:lnTo>
                    <a:lnTo>
                      <a:pt x="2160" y="18"/>
                    </a:lnTo>
                    <a:lnTo>
                      <a:pt x="2348" y="220"/>
                    </a:lnTo>
                    <a:lnTo>
                      <a:pt x="2348" y="220"/>
                    </a:lnTo>
                    <a:lnTo>
                      <a:pt x="2328" y="234"/>
                    </a:lnTo>
                    <a:lnTo>
                      <a:pt x="2308" y="250"/>
                    </a:lnTo>
                    <a:lnTo>
                      <a:pt x="2230" y="318"/>
                    </a:lnTo>
                    <a:lnTo>
                      <a:pt x="2230" y="318"/>
                    </a:lnTo>
                    <a:lnTo>
                      <a:pt x="2168" y="374"/>
                    </a:lnTo>
                    <a:lnTo>
                      <a:pt x="2102" y="430"/>
                    </a:lnTo>
                    <a:lnTo>
                      <a:pt x="2036" y="480"/>
                    </a:lnTo>
                    <a:lnTo>
                      <a:pt x="1974" y="526"/>
                    </a:lnTo>
                    <a:lnTo>
                      <a:pt x="2090" y="526"/>
                    </a:lnTo>
                    <a:lnTo>
                      <a:pt x="2090" y="526"/>
                    </a:lnTo>
                    <a:lnTo>
                      <a:pt x="2166" y="526"/>
                    </a:lnTo>
                    <a:lnTo>
                      <a:pt x="2228" y="524"/>
                    </a:lnTo>
                    <a:lnTo>
                      <a:pt x="2280" y="522"/>
                    </a:lnTo>
                    <a:lnTo>
                      <a:pt x="2330" y="516"/>
                    </a:lnTo>
                    <a:lnTo>
                      <a:pt x="2330" y="516"/>
                    </a:lnTo>
                    <a:lnTo>
                      <a:pt x="2326" y="566"/>
                    </a:lnTo>
                    <a:lnTo>
                      <a:pt x="2322" y="626"/>
                    </a:lnTo>
                    <a:lnTo>
                      <a:pt x="2322" y="698"/>
                    </a:lnTo>
                    <a:lnTo>
                      <a:pt x="2320" y="788"/>
                    </a:lnTo>
                    <a:lnTo>
                      <a:pt x="2320" y="1622"/>
                    </a:lnTo>
                    <a:lnTo>
                      <a:pt x="2320" y="1622"/>
                    </a:lnTo>
                    <a:lnTo>
                      <a:pt x="2320" y="1668"/>
                    </a:lnTo>
                    <a:lnTo>
                      <a:pt x="2316" y="1706"/>
                    </a:lnTo>
                    <a:lnTo>
                      <a:pt x="2310" y="1740"/>
                    </a:lnTo>
                    <a:lnTo>
                      <a:pt x="2300" y="1766"/>
                    </a:lnTo>
                    <a:lnTo>
                      <a:pt x="2294" y="1780"/>
                    </a:lnTo>
                    <a:lnTo>
                      <a:pt x="2288" y="1790"/>
                    </a:lnTo>
                    <a:lnTo>
                      <a:pt x="2280" y="1800"/>
                    </a:lnTo>
                    <a:lnTo>
                      <a:pt x="2272" y="1810"/>
                    </a:lnTo>
                    <a:lnTo>
                      <a:pt x="2252" y="1826"/>
                    </a:lnTo>
                    <a:lnTo>
                      <a:pt x="2230" y="1842"/>
                    </a:lnTo>
                    <a:lnTo>
                      <a:pt x="2230" y="1842"/>
                    </a:lnTo>
                    <a:lnTo>
                      <a:pt x="2210" y="1850"/>
                    </a:lnTo>
                    <a:lnTo>
                      <a:pt x="2186" y="1858"/>
                    </a:lnTo>
                    <a:lnTo>
                      <a:pt x="2156" y="1866"/>
                    </a:lnTo>
                    <a:lnTo>
                      <a:pt x="2124" y="1870"/>
                    </a:lnTo>
                    <a:lnTo>
                      <a:pt x="2086" y="1874"/>
                    </a:lnTo>
                    <a:lnTo>
                      <a:pt x="2044" y="1878"/>
                    </a:lnTo>
                    <a:lnTo>
                      <a:pt x="1998" y="1880"/>
                    </a:lnTo>
                    <a:lnTo>
                      <a:pt x="1946" y="1880"/>
                    </a:lnTo>
                    <a:lnTo>
                      <a:pt x="1946" y="1880"/>
                    </a:lnTo>
                    <a:lnTo>
                      <a:pt x="1860" y="1880"/>
                    </a:lnTo>
                    <a:lnTo>
                      <a:pt x="1860" y="1880"/>
                    </a:lnTo>
                    <a:lnTo>
                      <a:pt x="1848" y="1804"/>
                    </a:lnTo>
                    <a:lnTo>
                      <a:pt x="1836" y="1742"/>
                    </a:lnTo>
                    <a:lnTo>
                      <a:pt x="1820" y="1682"/>
                    </a:lnTo>
                    <a:lnTo>
                      <a:pt x="1798" y="1618"/>
                    </a:lnTo>
                    <a:lnTo>
                      <a:pt x="1798" y="1618"/>
                    </a:lnTo>
                    <a:lnTo>
                      <a:pt x="1858" y="1624"/>
                    </a:lnTo>
                    <a:lnTo>
                      <a:pt x="1908" y="1626"/>
                    </a:lnTo>
                    <a:lnTo>
                      <a:pt x="1908" y="1626"/>
                    </a:lnTo>
                    <a:lnTo>
                      <a:pt x="1922" y="1626"/>
                    </a:lnTo>
                    <a:lnTo>
                      <a:pt x="1932" y="1626"/>
                    </a:lnTo>
                    <a:lnTo>
                      <a:pt x="1940" y="1622"/>
                    </a:lnTo>
                    <a:lnTo>
                      <a:pt x="1946" y="1618"/>
                    </a:lnTo>
                    <a:lnTo>
                      <a:pt x="1950" y="1612"/>
                    </a:lnTo>
                    <a:lnTo>
                      <a:pt x="1952" y="1602"/>
                    </a:lnTo>
                    <a:lnTo>
                      <a:pt x="1954" y="1574"/>
                    </a:lnTo>
                    <a:lnTo>
                      <a:pt x="1954" y="1522"/>
                    </a:lnTo>
                    <a:lnTo>
                      <a:pt x="1722" y="1522"/>
                    </a:lnTo>
                    <a:lnTo>
                      <a:pt x="1722" y="1596"/>
                    </a:lnTo>
                    <a:lnTo>
                      <a:pt x="1722" y="1596"/>
                    </a:lnTo>
                    <a:lnTo>
                      <a:pt x="1724" y="1692"/>
                    </a:lnTo>
                    <a:lnTo>
                      <a:pt x="1726" y="1762"/>
                    </a:lnTo>
                    <a:lnTo>
                      <a:pt x="1728" y="1822"/>
                    </a:lnTo>
                    <a:lnTo>
                      <a:pt x="1736" y="1880"/>
                    </a:lnTo>
                    <a:lnTo>
                      <a:pt x="1352" y="1880"/>
                    </a:lnTo>
                    <a:lnTo>
                      <a:pt x="1352" y="1880"/>
                    </a:lnTo>
                    <a:lnTo>
                      <a:pt x="1360" y="1822"/>
                    </a:lnTo>
                    <a:lnTo>
                      <a:pt x="1364" y="1760"/>
                    </a:lnTo>
                    <a:lnTo>
                      <a:pt x="1366" y="1688"/>
                    </a:lnTo>
                    <a:lnTo>
                      <a:pt x="1368" y="1596"/>
                    </a:lnTo>
                    <a:lnTo>
                      <a:pt x="1368" y="1522"/>
                    </a:lnTo>
                    <a:lnTo>
                      <a:pt x="1158" y="1522"/>
                    </a:lnTo>
                    <a:lnTo>
                      <a:pt x="1158" y="1606"/>
                    </a:lnTo>
                    <a:lnTo>
                      <a:pt x="1158" y="1606"/>
                    </a:lnTo>
                    <a:lnTo>
                      <a:pt x="1158" y="1704"/>
                    </a:lnTo>
                    <a:lnTo>
                      <a:pt x="1160" y="1782"/>
                    </a:lnTo>
                    <a:lnTo>
                      <a:pt x="1164" y="1842"/>
                    </a:lnTo>
                    <a:lnTo>
                      <a:pt x="1168" y="1866"/>
                    </a:lnTo>
                    <a:lnTo>
                      <a:pt x="1172" y="1888"/>
                    </a:lnTo>
                    <a:lnTo>
                      <a:pt x="798" y="1888"/>
                    </a:lnTo>
                    <a:lnTo>
                      <a:pt x="798" y="1888"/>
                    </a:lnTo>
                    <a:lnTo>
                      <a:pt x="822" y="1900"/>
                    </a:lnTo>
                    <a:lnTo>
                      <a:pt x="848" y="1910"/>
                    </a:lnTo>
                    <a:lnTo>
                      <a:pt x="872" y="1918"/>
                    </a:lnTo>
                    <a:lnTo>
                      <a:pt x="896" y="1924"/>
                    </a:lnTo>
                    <a:lnTo>
                      <a:pt x="924" y="1930"/>
                    </a:lnTo>
                    <a:lnTo>
                      <a:pt x="954" y="1936"/>
                    </a:lnTo>
                    <a:lnTo>
                      <a:pt x="1034" y="1944"/>
                    </a:lnTo>
                    <a:lnTo>
                      <a:pt x="1034" y="1944"/>
                    </a:lnTo>
                    <a:lnTo>
                      <a:pt x="1132" y="1948"/>
                    </a:lnTo>
                    <a:lnTo>
                      <a:pt x="1292" y="1952"/>
                    </a:lnTo>
                    <a:lnTo>
                      <a:pt x="1460" y="1956"/>
                    </a:lnTo>
                    <a:lnTo>
                      <a:pt x="1584" y="1958"/>
                    </a:lnTo>
                    <a:lnTo>
                      <a:pt x="1584" y="1958"/>
                    </a:lnTo>
                    <a:lnTo>
                      <a:pt x="1680" y="1958"/>
                    </a:lnTo>
                    <a:lnTo>
                      <a:pt x="1782" y="1954"/>
                    </a:lnTo>
                    <a:lnTo>
                      <a:pt x="1888" y="1950"/>
                    </a:lnTo>
                    <a:lnTo>
                      <a:pt x="1998" y="1944"/>
                    </a:lnTo>
                    <a:lnTo>
                      <a:pt x="2112" y="1936"/>
                    </a:lnTo>
                    <a:lnTo>
                      <a:pt x="2226" y="1926"/>
                    </a:lnTo>
                    <a:lnTo>
                      <a:pt x="2344" y="1914"/>
                    </a:lnTo>
                    <a:lnTo>
                      <a:pt x="2462" y="1900"/>
                    </a:lnTo>
                    <a:lnTo>
                      <a:pt x="2462" y="1900"/>
                    </a:lnTo>
                    <a:lnTo>
                      <a:pt x="2446" y="1954"/>
                    </a:lnTo>
                    <a:lnTo>
                      <a:pt x="2430" y="2004"/>
                    </a:lnTo>
                    <a:lnTo>
                      <a:pt x="2418" y="2052"/>
                    </a:lnTo>
                    <a:lnTo>
                      <a:pt x="2406" y="2102"/>
                    </a:lnTo>
                    <a:lnTo>
                      <a:pt x="2396" y="2150"/>
                    </a:lnTo>
                    <a:lnTo>
                      <a:pt x="2388" y="2202"/>
                    </a:lnTo>
                    <a:lnTo>
                      <a:pt x="2372" y="2314"/>
                    </a:lnTo>
                    <a:lnTo>
                      <a:pt x="2372" y="2314"/>
                    </a:lnTo>
                    <a:lnTo>
                      <a:pt x="2174" y="2320"/>
                    </a:lnTo>
                    <a:lnTo>
                      <a:pt x="1978" y="2324"/>
                    </a:lnTo>
                    <a:lnTo>
                      <a:pt x="1752" y="2326"/>
                    </a:lnTo>
                    <a:lnTo>
                      <a:pt x="1470" y="2326"/>
                    </a:lnTo>
                    <a:lnTo>
                      <a:pt x="1470" y="2326"/>
                    </a:lnTo>
                    <a:lnTo>
                      <a:pt x="1374" y="2326"/>
                    </a:lnTo>
                    <a:lnTo>
                      <a:pt x="1282" y="2324"/>
                    </a:lnTo>
                    <a:lnTo>
                      <a:pt x="1194" y="2320"/>
                    </a:lnTo>
                    <a:lnTo>
                      <a:pt x="1112" y="2316"/>
                    </a:lnTo>
                    <a:lnTo>
                      <a:pt x="1036" y="2312"/>
                    </a:lnTo>
                    <a:lnTo>
                      <a:pt x="966" y="2306"/>
                    </a:lnTo>
                    <a:lnTo>
                      <a:pt x="906" y="2298"/>
                    </a:lnTo>
                    <a:lnTo>
                      <a:pt x="854" y="2290"/>
                    </a:lnTo>
                    <a:lnTo>
                      <a:pt x="854" y="2290"/>
                    </a:lnTo>
                    <a:lnTo>
                      <a:pt x="800" y="2278"/>
                    </a:lnTo>
                    <a:lnTo>
                      <a:pt x="750" y="2264"/>
                    </a:lnTo>
                    <a:lnTo>
                      <a:pt x="704" y="2246"/>
                    </a:lnTo>
                    <a:lnTo>
                      <a:pt x="660" y="2224"/>
                    </a:lnTo>
                    <a:lnTo>
                      <a:pt x="618" y="2200"/>
                    </a:lnTo>
                    <a:lnTo>
                      <a:pt x="576" y="2170"/>
                    </a:lnTo>
                    <a:lnTo>
                      <a:pt x="534" y="2134"/>
                    </a:lnTo>
                    <a:lnTo>
                      <a:pt x="494" y="2092"/>
                    </a:lnTo>
                    <a:lnTo>
                      <a:pt x="494" y="2092"/>
                    </a:lnTo>
                    <a:lnTo>
                      <a:pt x="420" y="2160"/>
                    </a:lnTo>
                    <a:lnTo>
                      <a:pt x="386" y="2190"/>
                    </a:lnTo>
                    <a:lnTo>
                      <a:pt x="352" y="2216"/>
                    </a:lnTo>
                    <a:lnTo>
                      <a:pt x="278" y="2272"/>
                    </a:lnTo>
                    <a:lnTo>
                      <a:pt x="182" y="2338"/>
                    </a:lnTo>
                    <a:lnTo>
                      <a:pt x="0" y="1946"/>
                    </a:lnTo>
                    <a:lnTo>
                      <a:pt x="0" y="1946"/>
                    </a:lnTo>
                    <a:lnTo>
                      <a:pt x="36" y="1930"/>
                    </a:lnTo>
                    <a:lnTo>
                      <a:pt x="74" y="1912"/>
                    </a:lnTo>
                    <a:lnTo>
                      <a:pt x="112" y="1892"/>
                    </a:lnTo>
                    <a:lnTo>
                      <a:pt x="148" y="1870"/>
                    </a:lnTo>
                    <a:lnTo>
                      <a:pt x="188" y="1844"/>
                    </a:lnTo>
                    <a:lnTo>
                      <a:pt x="226" y="1818"/>
                    </a:lnTo>
                    <a:lnTo>
                      <a:pt x="268" y="1790"/>
                    </a:lnTo>
                    <a:lnTo>
                      <a:pt x="308" y="1758"/>
                    </a:lnTo>
                    <a:lnTo>
                      <a:pt x="308" y="1286"/>
                    </a:lnTo>
                    <a:lnTo>
                      <a:pt x="202" y="1286"/>
                    </a:lnTo>
                    <a:lnTo>
                      <a:pt x="202" y="1286"/>
                    </a:lnTo>
                    <a:lnTo>
                      <a:pt x="166" y="1288"/>
                    </a:lnTo>
                    <a:lnTo>
                      <a:pt x="132" y="1290"/>
                    </a:lnTo>
                    <a:lnTo>
                      <a:pt x="94" y="1294"/>
                    </a:lnTo>
                    <a:lnTo>
                      <a:pt x="50" y="1300"/>
                    </a:lnTo>
                    <a:lnTo>
                      <a:pt x="50" y="912"/>
                    </a:lnTo>
                    <a:lnTo>
                      <a:pt x="50" y="912"/>
                    </a:lnTo>
                    <a:lnTo>
                      <a:pt x="100" y="918"/>
                    </a:lnTo>
                    <a:lnTo>
                      <a:pt x="146" y="922"/>
                    </a:lnTo>
                    <a:lnTo>
                      <a:pt x="194" y="924"/>
                    </a:lnTo>
                    <a:lnTo>
                      <a:pt x="256" y="924"/>
                    </a:lnTo>
                    <a:lnTo>
                      <a:pt x="490" y="924"/>
                    </a:lnTo>
                    <a:lnTo>
                      <a:pt x="490" y="924"/>
                    </a:lnTo>
                    <a:lnTo>
                      <a:pt x="544" y="924"/>
                    </a:lnTo>
                    <a:lnTo>
                      <a:pt x="594" y="922"/>
                    </a:lnTo>
                    <a:lnTo>
                      <a:pt x="640" y="918"/>
                    </a:lnTo>
                    <a:lnTo>
                      <a:pt x="686" y="912"/>
                    </a:lnTo>
                    <a:lnTo>
                      <a:pt x="686" y="912"/>
                    </a:lnTo>
                    <a:lnTo>
                      <a:pt x="682" y="966"/>
                    </a:lnTo>
                    <a:lnTo>
                      <a:pt x="678" y="1028"/>
                    </a:lnTo>
                    <a:lnTo>
                      <a:pt x="676" y="1102"/>
                    </a:lnTo>
                    <a:lnTo>
                      <a:pt x="676" y="1200"/>
                    </a:lnTo>
                    <a:lnTo>
                      <a:pt x="676" y="1772"/>
                    </a:lnTo>
                    <a:close/>
                    <a:moveTo>
                      <a:pt x="298" y="0"/>
                    </a:moveTo>
                    <a:lnTo>
                      <a:pt x="298" y="0"/>
                    </a:lnTo>
                    <a:lnTo>
                      <a:pt x="374" y="62"/>
                    </a:lnTo>
                    <a:lnTo>
                      <a:pt x="442" y="122"/>
                    </a:lnTo>
                    <a:lnTo>
                      <a:pt x="506" y="178"/>
                    </a:lnTo>
                    <a:lnTo>
                      <a:pt x="564" y="234"/>
                    </a:lnTo>
                    <a:lnTo>
                      <a:pt x="618" y="290"/>
                    </a:lnTo>
                    <a:lnTo>
                      <a:pt x="670" y="346"/>
                    </a:lnTo>
                    <a:lnTo>
                      <a:pt x="722" y="404"/>
                    </a:lnTo>
                    <a:lnTo>
                      <a:pt x="772" y="466"/>
                    </a:lnTo>
                    <a:lnTo>
                      <a:pt x="478" y="762"/>
                    </a:lnTo>
                    <a:lnTo>
                      <a:pt x="478" y="762"/>
                    </a:lnTo>
                    <a:lnTo>
                      <a:pt x="420" y="688"/>
                    </a:lnTo>
                    <a:lnTo>
                      <a:pt x="366" y="622"/>
                    </a:lnTo>
                    <a:lnTo>
                      <a:pt x="312" y="560"/>
                    </a:lnTo>
                    <a:lnTo>
                      <a:pt x="260" y="502"/>
                    </a:lnTo>
                    <a:lnTo>
                      <a:pt x="204" y="448"/>
                    </a:lnTo>
                    <a:lnTo>
                      <a:pt x="146" y="392"/>
                    </a:lnTo>
                    <a:lnTo>
                      <a:pt x="82" y="336"/>
                    </a:lnTo>
                    <a:lnTo>
                      <a:pt x="12" y="276"/>
                    </a:lnTo>
                    <a:lnTo>
                      <a:pt x="298" y="0"/>
                    </a:lnTo>
                    <a:close/>
                    <a:moveTo>
                      <a:pt x="1158" y="814"/>
                    </a:moveTo>
                    <a:lnTo>
                      <a:pt x="1158" y="916"/>
                    </a:lnTo>
                    <a:lnTo>
                      <a:pt x="1368" y="916"/>
                    </a:lnTo>
                    <a:lnTo>
                      <a:pt x="1368" y="814"/>
                    </a:lnTo>
                    <a:lnTo>
                      <a:pt x="1158" y="814"/>
                    </a:lnTo>
                    <a:close/>
                    <a:moveTo>
                      <a:pt x="1158" y="1266"/>
                    </a:moveTo>
                    <a:lnTo>
                      <a:pt x="1368" y="1266"/>
                    </a:lnTo>
                    <a:lnTo>
                      <a:pt x="1368" y="1160"/>
                    </a:lnTo>
                    <a:lnTo>
                      <a:pt x="1158" y="1160"/>
                    </a:lnTo>
                    <a:lnTo>
                      <a:pt x="1158" y="1266"/>
                    </a:lnTo>
                    <a:close/>
                    <a:moveTo>
                      <a:pt x="1378" y="362"/>
                    </a:moveTo>
                    <a:lnTo>
                      <a:pt x="1378" y="362"/>
                    </a:lnTo>
                    <a:lnTo>
                      <a:pt x="1466" y="428"/>
                    </a:lnTo>
                    <a:lnTo>
                      <a:pt x="1558" y="502"/>
                    </a:lnTo>
                    <a:lnTo>
                      <a:pt x="1558" y="502"/>
                    </a:lnTo>
                    <a:lnTo>
                      <a:pt x="1604" y="468"/>
                    </a:lnTo>
                    <a:lnTo>
                      <a:pt x="1646" y="436"/>
                    </a:lnTo>
                    <a:lnTo>
                      <a:pt x="1688" y="402"/>
                    </a:lnTo>
                    <a:lnTo>
                      <a:pt x="1732" y="362"/>
                    </a:lnTo>
                    <a:lnTo>
                      <a:pt x="1378" y="362"/>
                    </a:lnTo>
                    <a:close/>
                    <a:moveTo>
                      <a:pt x="1722" y="916"/>
                    </a:moveTo>
                    <a:lnTo>
                      <a:pt x="1954" y="916"/>
                    </a:lnTo>
                    <a:lnTo>
                      <a:pt x="1954" y="814"/>
                    </a:lnTo>
                    <a:lnTo>
                      <a:pt x="1722" y="814"/>
                    </a:lnTo>
                    <a:lnTo>
                      <a:pt x="1722" y="916"/>
                    </a:lnTo>
                    <a:close/>
                    <a:moveTo>
                      <a:pt x="1954" y="1160"/>
                    </a:moveTo>
                    <a:lnTo>
                      <a:pt x="1722" y="1160"/>
                    </a:lnTo>
                    <a:lnTo>
                      <a:pt x="1722" y="1266"/>
                    </a:lnTo>
                    <a:lnTo>
                      <a:pt x="1954" y="1266"/>
                    </a:lnTo>
                    <a:lnTo>
                      <a:pt x="1954" y="1160"/>
                    </a:lnTo>
                    <a:close/>
                  </a:path>
                </a:pathLst>
              </a:custGeom>
              <a:solidFill>
                <a:srgbClr val="e7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29"/>
              <p:cNvSpPr/>
              <p:nvPr/>
            </p:nvSpPr>
            <p:spPr>
              <a:xfrm>
                <a:off x="25898400" y="2238120"/>
                <a:ext cx="3705120" cy="3804120"/>
              </a:xfrm>
              <a:custGeom>
                <a:avLst/>
                <a:gdLst>
                  <a:gd name="textAreaLeft" fmla="*/ 0 w 3705120"/>
                  <a:gd name="textAreaRight" fmla="*/ 3705480 w 3705120"/>
                  <a:gd name="textAreaTop" fmla="*/ 0 h 3804120"/>
                  <a:gd name="textAreaBottom" fmla="*/ 3804480 h 3804120"/>
                </a:gdLst>
                <a:ahLst/>
                <a:rect l="textAreaLeft" t="textAreaTop" r="textAreaRight" b="textAreaBottom"/>
                <a:pathLst>
                  <a:path w="2334" h="2396">
                    <a:moveTo>
                      <a:pt x="1898" y="1242"/>
                    </a:moveTo>
                    <a:lnTo>
                      <a:pt x="1898" y="1242"/>
                    </a:lnTo>
                    <a:lnTo>
                      <a:pt x="1866" y="1324"/>
                    </a:lnTo>
                    <a:lnTo>
                      <a:pt x="1836" y="1396"/>
                    </a:lnTo>
                    <a:lnTo>
                      <a:pt x="1804" y="1462"/>
                    </a:lnTo>
                    <a:lnTo>
                      <a:pt x="1772" y="1520"/>
                    </a:lnTo>
                    <a:lnTo>
                      <a:pt x="1738" y="1576"/>
                    </a:lnTo>
                    <a:lnTo>
                      <a:pt x="1700" y="1630"/>
                    </a:lnTo>
                    <a:lnTo>
                      <a:pt x="1660" y="1684"/>
                    </a:lnTo>
                    <a:lnTo>
                      <a:pt x="1612" y="1740"/>
                    </a:lnTo>
                    <a:lnTo>
                      <a:pt x="1612" y="1740"/>
                    </a:lnTo>
                    <a:lnTo>
                      <a:pt x="1710" y="1780"/>
                    </a:lnTo>
                    <a:lnTo>
                      <a:pt x="1798" y="1818"/>
                    </a:lnTo>
                    <a:lnTo>
                      <a:pt x="1880" y="1856"/>
                    </a:lnTo>
                    <a:lnTo>
                      <a:pt x="1960" y="1894"/>
                    </a:lnTo>
                    <a:lnTo>
                      <a:pt x="2038" y="1934"/>
                    </a:lnTo>
                    <a:lnTo>
                      <a:pt x="2122" y="1976"/>
                    </a:lnTo>
                    <a:lnTo>
                      <a:pt x="2310" y="2076"/>
                    </a:lnTo>
                    <a:lnTo>
                      <a:pt x="2016" y="2396"/>
                    </a:lnTo>
                    <a:lnTo>
                      <a:pt x="2016" y="2396"/>
                    </a:lnTo>
                    <a:lnTo>
                      <a:pt x="1922" y="2336"/>
                    </a:lnTo>
                    <a:lnTo>
                      <a:pt x="1834" y="2280"/>
                    </a:lnTo>
                    <a:lnTo>
                      <a:pt x="1750" y="2230"/>
                    </a:lnTo>
                    <a:lnTo>
                      <a:pt x="1668" y="2184"/>
                    </a:lnTo>
                    <a:lnTo>
                      <a:pt x="1584" y="2140"/>
                    </a:lnTo>
                    <a:lnTo>
                      <a:pt x="1498" y="2096"/>
                    </a:lnTo>
                    <a:lnTo>
                      <a:pt x="1408" y="2050"/>
                    </a:lnTo>
                    <a:lnTo>
                      <a:pt x="1308" y="2002"/>
                    </a:lnTo>
                    <a:lnTo>
                      <a:pt x="1308" y="2002"/>
                    </a:lnTo>
                    <a:lnTo>
                      <a:pt x="1260" y="2034"/>
                    </a:lnTo>
                    <a:lnTo>
                      <a:pt x="1214" y="2064"/>
                    </a:lnTo>
                    <a:lnTo>
                      <a:pt x="1166" y="2090"/>
                    </a:lnTo>
                    <a:lnTo>
                      <a:pt x="1118" y="2116"/>
                    </a:lnTo>
                    <a:lnTo>
                      <a:pt x="1068" y="2140"/>
                    </a:lnTo>
                    <a:lnTo>
                      <a:pt x="1016" y="2164"/>
                    </a:lnTo>
                    <a:lnTo>
                      <a:pt x="962" y="2186"/>
                    </a:lnTo>
                    <a:lnTo>
                      <a:pt x="906" y="2208"/>
                    </a:lnTo>
                    <a:lnTo>
                      <a:pt x="906" y="2208"/>
                    </a:lnTo>
                    <a:lnTo>
                      <a:pt x="826" y="2238"/>
                    </a:lnTo>
                    <a:lnTo>
                      <a:pt x="746" y="2264"/>
                    </a:lnTo>
                    <a:lnTo>
                      <a:pt x="668" y="2288"/>
                    </a:lnTo>
                    <a:lnTo>
                      <a:pt x="584" y="2312"/>
                    </a:lnTo>
                    <a:lnTo>
                      <a:pt x="498" y="2332"/>
                    </a:lnTo>
                    <a:lnTo>
                      <a:pt x="402" y="2352"/>
                    </a:lnTo>
                    <a:lnTo>
                      <a:pt x="298" y="2372"/>
                    </a:lnTo>
                    <a:lnTo>
                      <a:pt x="180" y="2394"/>
                    </a:lnTo>
                    <a:lnTo>
                      <a:pt x="180" y="2394"/>
                    </a:lnTo>
                    <a:lnTo>
                      <a:pt x="164" y="2340"/>
                    </a:lnTo>
                    <a:lnTo>
                      <a:pt x="148" y="2294"/>
                    </a:lnTo>
                    <a:lnTo>
                      <a:pt x="132" y="2250"/>
                    </a:lnTo>
                    <a:lnTo>
                      <a:pt x="112" y="2208"/>
                    </a:lnTo>
                    <a:lnTo>
                      <a:pt x="92" y="2166"/>
                    </a:lnTo>
                    <a:lnTo>
                      <a:pt x="66" y="2122"/>
                    </a:lnTo>
                    <a:lnTo>
                      <a:pt x="38" y="2074"/>
                    </a:lnTo>
                    <a:lnTo>
                      <a:pt x="4" y="2020"/>
                    </a:lnTo>
                    <a:lnTo>
                      <a:pt x="4" y="2020"/>
                    </a:lnTo>
                    <a:lnTo>
                      <a:pt x="144" y="2008"/>
                    </a:lnTo>
                    <a:lnTo>
                      <a:pt x="270" y="1992"/>
                    </a:lnTo>
                    <a:lnTo>
                      <a:pt x="384" y="1976"/>
                    </a:lnTo>
                    <a:lnTo>
                      <a:pt x="438" y="1966"/>
                    </a:lnTo>
                    <a:lnTo>
                      <a:pt x="490" y="1954"/>
                    </a:lnTo>
                    <a:lnTo>
                      <a:pt x="540" y="1944"/>
                    </a:lnTo>
                    <a:lnTo>
                      <a:pt x="590" y="1930"/>
                    </a:lnTo>
                    <a:lnTo>
                      <a:pt x="638" y="1916"/>
                    </a:lnTo>
                    <a:lnTo>
                      <a:pt x="686" y="1902"/>
                    </a:lnTo>
                    <a:lnTo>
                      <a:pt x="784" y="1868"/>
                    </a:lnTo>
                    <a:lnTo>
                      <a:pt x="882" y="1828"/>
                    </a:lnTo>
                    <a:lnTo>
                      <a:pt x="882" y="1828"/>
                    </a:lnTo>
                    <a:lnTo>
                      <a:pt x="744" y="1778"/>
                    </a:lnTo>
                    <a:lnTo>
                      <a:pt x="604" y="1732"/>
                    </a:lnTo>
                    <a:lnTo>
                      <a:pt x="442" y="1682"/>
                    </a:lnTo>
                    <a:lnTo>
                      <a:pt x="236" y="1622"/>
                    </a:lnTo>
                    <a:lnTo>
                      <a:pt x="236" y="1622"/>
                    </a:lnTo>
                    <a:lnTo>
                      <a:pt x="324" y="1514"/>
                    </a:lnTo>
                    <a:lnTo>
                      <a:pt x="392" y="1424"/>
                    </a:lnTo>
                    <a:lnTo>
                      <a:pt x="452" y="1340"/>
                    </a:lnTo>
                    <a:lnTo>
                      <a:pt x="516" y="1242"/>
                    </a:lnTo>
                    <a:lnTo>
                      <a:pt x="302" y="1242"/>
                    </a:lnTo>
                    <a:lnTo>
                      <a:pt x="302" y="1242"/>
                    </a:lnTo>
                    <a:lnTo>
                      <a:pt x="206" y="1244"/>
                    </a:lnTo>
                    <a:lnTo>
                      <a:pt x="126" y="1246"/>
                    </a:lnTo>
                    <a:lnTo>
                      <a:pt x="60" y="1250"/>
                    </a:lnTo>
                    <a:lnTo>
                      <a:pt x="0" y="1256"/>
                    </a:lnTo>
                    <a:lnTo>
                      <a:pt x="0" y="880"/>
                    </a:lnTo>
                    <a:lnTo>
                      <a:pt x="0" y="880"/>
                    </a:lnTo>
                    <a:lnTo>
                      <a:pt x="56" y="886"/>
                    </a:lnTo>
                    <a:lnTo>
                      <a:pt x="116" y="888"/>
                    </a:lnTo>
                    <a:lnTo>
                      <a:pt x="192" y="890"/>
                    </a:lnTo>
                    <a:lnTo>
                      <a:pt x="302" y="890"/>
                    </a:lnTo>
                    <a:lnTo>
                      <a:pt x="720" y="890"/>
                    </a:lnTo>
                    <a:lnTo>
                      <a:pt x="720" y="890"/>
                    </a:lnTo>
                    <a:lnTo>
                      <a:pt x="770" y="792"/>
                    </a:lnTo>
                    <a:lnTo>
                      <a:pt x="808" y="710"/>
                    </a:lnTo>
                    <a:lnTo>
                      <a:pt x="836" y="640"/>
                    </a:lnTo>
                    <a:lnTo>
                      <a:pt x="858" y="582"/>
                    </a:lnTo>
                    <a:lnTo>
                      <a:pt x="1278" y="636"/>
                    </a:lnTo>
                    <a:lnTo>
                      <a:pt x="1278" y="636"/>
                    </a:lnTo>
                    <a:lnTo>
                      <a:pt x="1210" y="776"/>
                    </a:lnTo>
                    <a:lnTo>
                      <a:pt x="1154" y="890"/>
                    </a:lnTo>
                    <a:lnTo>
                      <a:pt x="2036" y="890"/>
                    </a:lnTo>
                    <a:lnTo>
                      <a:pt x="2036" y="890"/>
                    </a:lnTo>
                    <a:lnTo>
                      <a:pt x="2148" y="890"/>
                    </a:lnTo>
                    <a:lnTo>
                      <a:pt x="2228" y="888"/>
                    </a:lnTo>
                    <a:lnTo>
                      <a:pt x="2284" y="886"/>
                    </a:lnTo>
                    <a:lnTo>
                      <a:pt x="2334" y="880"/>
                    </a:lnTo>
                    <a:lnTo>
                      <a:pt x="2334" y="1256"/>
                    </a:lnTo>
                    <a:lnTo>
                      <a:pt x="2334" y="1256"/>
                    </a:lnTo>
                    <a:lnTo>
                      <a:pt x="2274" y="1250"/>
                    </a:lnTo>
                    <a:lnTo>
                      <a:pt x="2208" y="1246"/>
                    </a:lnTo>
                    <a:lnTo>
                      <a:pt x="2132" y="1244"/>
                    </a:lnTo>
                    <a:lnTo>
                      <a:pt x="2036" y="1242"/>
                    </a:lnTo>
                    <a:lnTo>
                      <a:pt x="1898" y="1242"/>
                    </a:lnTo>
                    <a:close/>
                    <a:moveTo>
                      <a:pt x="946" y="176"/>
                    </a:moveTo>
                    <a:lnTo>
                      <a:pt x="946" y="176"/>
                    </a:lnTo>
                    <a:lnTo>
                      <a:pt x="946" y="126"/>
                    </a:lnTo>
                    <a:lnTo>
                      <a:pt x="944" y="82"/>
                    </a:lnTo>
                    <a:lnTo>
                      <a:pt x="940" y="40"/>
                    </a:lnTo>
                    <a:lnTo>
                      <a:pt x="936" y="0"/>
                    </a:lnTo>
                    <a:lnTo>
                      <a:pt x="1360" y="0"/>
                    </a:lnTo>
                    <a:lnTo>
                      <a:pt x="1360" y="0"/>
                    </a:lnTo>
                    <a:lnTo>
                      <a:pt x="1352" y="80"/>
                    </a:lnTo>
                    <a:lnTo>
                      <a:pt x="1350" y="124"/>
                    </a:lnTo>
                    <a:lnTo>
                      <a:pt x="1350" y="174"/>
                    </a:lnTo>
                    <a:lnTo>
                      <a:pt x="1350" y="198"/>
                    </a:lnTo>
                    <a:lnTo>
                      <a:pt x="1996" y="198"/>
                    </a:lnTo>
                    <a:lnTo>
                      <a:pt x="1996" y="198"/>
                    </a:lnTo>
                    <a:lnTo>
                      <a:pt x="2094" y="198"/>
                    </a:lnTo>
                    <a:lnTo>
                      <a:pt x="2174" y="196"/>
                    </a:lnTo>
                    <a:lnTo>
                      <a:pt x="2242" y="194"/>
                    </a:lnTo>
                    <a:lnTo>
                      <a:pt x="2304" y="188"/>
                    </a:lnTo>
                    <a:lnTo>
                      <a:pt x="2304" y="188"/>
                    </a:lnTo>
                    <a:lnTo>
                      <a:pt x="2300" y="238"/>
                    </a:lnTo>
                    <a:lnTo>
                      <a:pt x="2296" y="288"/>
                    </a:lnTo>
                    <a:lnTo>
                      <a:pt x="2294" y="336"/>
                    </a:lnTo>
                    <a:lnTo>
                      <a:pt x="2294" y="386"/>
                    </a:lnTo>
                    <a:lnTo>
                      <a:pt x="2294" y="616"/>
                    </a:lnTo>
                    <a:lnTo>
                      <a:pt x="2294" y="616"/>
                    </a:lnTo>
                    <a:lnTo>
                      <a:pt x="2296" y="670"/>
                    </a:lnTo>
                    <a:lnTo>
                      <a:pt x="2298" y="720"/>
                    </a:lnTo>
                    <a:lnTo>
                      <a:pt x="2302" y="766"/>
                    </a:lnTo>
                    <a:lnTo>
                      <a:pt x="2308" y="812"/>
                    </a:lnTo>
                    <a:lnTo>
                      <a:pt x="1922" y="812"/>
                    </a:lnTo>
                    <a:lnTo>
                      <a:pt x="1922" y="550"/>
                    </a:lnTo>
                    <a:lnTo>
                      <a:pt x="412" y="550"/>
                    </a:lnTo>
                    <a:lnTo>
                      <a:pt x="412" y="812"/>
                    </a:lnTo>
                    <a:lnTo>
                      <a:pt x="24" y="812"/>
                    </a:lnTo>
                    <a:lnTo>
                      <a:pt x="24" y="812"/>
                    </a:lnTo>
                    <a:lnTo>
                      <a:pt x="30" y="770"/>
                    </a:lnTo>
                    <a:lnTo>
                      <a:pt x="34" y="726"/>
                    </a:lnTo>
                    <a:lnTo>
                      <a:pt x="36" y="674"/>
                    </a:lnTo>
                    <a:lnTo>
                      <a:pt x="36" y="614"/>
                    </a:lnTo>
                    <a:lnTo>
                      <a:pt x="36" y="386"/>
                    </a:lnTo>
                    <a:lnTo>
                      <a:pt x="36" y="386"/>
                    </a:lnTo>
                    <a:lnTo>
                      <a:pt x="36" y="338"/>
                    </a:lnTo>
                    <a:lnTo>
                      <a:pt x="34" y="290"/>
                    </a:lnTo>
                    <a:lnTo>
                      <a:pt x="30" y="238"/>
                    </a:lnTo>
                    <a:lnTo>
                      <a:pt x="26" y="188"/>
                    </a:lnTo>
                    <a:lnTo>
                      <a:pt x="26" y="188"/>
                    </a:lnTo>
                    <a:lnTo>
                      <a:pt x="90" y="194"/>
                    </a:lnTo>
                    <a:lnTo>
                      <a:pt x="156" y="196"/>
                    </a:lnTo>
                    <a:lnTo>
                      <a:pt x="236" y="198"/>
                    </a:lnTo>
                    <a:lnTo>
                      <a:pt x="336" y="198"/>
                    </a:lnTo>
                    <a:lnTo>
                      <a:pt x="946" y="198"/>
                    </a:lnTo>
                    <a:lnTo>
                      <a:pt x="946" y="176"/>
                    </a:lnTo>
                    <a:close/>
                    <a:moveTo>
                      <a:pt x="962" y="1242"/>
                    </a:moveTo>
                    <a:lnTo>
                      <a:pt x="962" y="1242"/>
                    </a:lnTo>
                    <a:lnTo>
                      <a:pt x="930" y="1296"/>
                    </a:lnTo>
                    <a:lnTo>
                      <a:pt x="900" y="1342"/>
                    </a:lnTo>
                    <a:lnTo>
                      <a:pt x="822" y="1456"/>
                    </a:lnTo>
                    <a:lnTo>
                      <a:pt x="822" y="1456"/>
                    </a:lnTo>
                    <a:lnTo>
                      <a:pt x="938" y="1488"/>
                    </a:lnTo>
                    <a:lnTo>
                      <a:pt x="1030" y="1518"/>
                    </a:lnTo>
                    <a:lnTo>
                      <a:pt x="1126" y="1550"/>
                    </a:lnTo>
                    <a:lnTo>
                      <a:pt x="1246" y="1592"/>
                    </a:lnTo>
                    <a:lnTo>
                      <a:pt x="1246" y="1592"/>
                    </a:lnTo>
                    <a:lnTo>
                      <a:pt x="1284" y="1552"/>
                    </a:lnTo>
                    <a:lnTo>
                      <a:pt x="1320" y="1512"/>
                    </a:lnTo>
                    <a:lnTo>
                      <a:pt x="1352" y="1472"/>
                    </a:lnTo>
                    <a:lnTo>
                      <a:pt x="1380" y="1432"/>
                    </a:lnTo>
                    <a:lnTo>
                      <a:pt x="1406" y="1390"/>
                    </a:lnTo>
                    <a:lnTo>
                      <a:pt x="1432" y="1346"/>
                    </a:lnTo>
                    <a:lnTo>
                      <a:pt x="1456" y="1296"/>
                    </a:lnTo>
                    <a:lnTo>
                      <a:pt x="1480" y="1242"/>
                    </a:lnTo>
                    <a:lnTo>
                      <a:pt x="962" y="1242"/>
                    </a:lnTo>
                    <a:close/>
                  </a:path>
                </a:pathLst>
              </a:custGeom>
              <a:solidFill>
                <a:srgbClr val="e7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30"/>
              <p:cNvSpPr/>
              <p:nvPr/>
            </p:nvSpPr>
            <p:spPr>
              <a:xfrm>
                <a:off x="29870280" y="2266920"/>
                <a:ext cx="3895560" cy="3670560"/>
              </a:xfrm>
              <a:custGeom>
                <a:avLst/>
                <a:gdLst>
                  <a:gd name="textAreaLeft" fmla="*/ 0 w 3895560"/>
                  <a:gd name="textAreaRight" fmla="*/ 3895920 w 3895560"/>
                  <a:gd name="textAreaTop" fmla="*/ 0 h 3670560"/>
                  <a:gd name="textAreaBottom" fmla="*/ 3670920 h 3670560"/>
                </a:gdLst>
                <a:ahLst/>
                <a:rect l="textAreaLeft" t="textAreaTop" r="textAreaRight" b="textAreaBottom"/>
                <a:pathLst>
                  <a:path w="2454" h="2312">
                    <a:moveTo>
                      <a:pt x="742" y="1114"/>
                    </a:moveTo>
                    <a:lnTo>
                      <a:pt x="742" y="1114"/>
                    </a:lnTo>
                    <a:lnTo>
                      <a:pt x="644" y="1114"/>
                    </a:lnTo>
                    <a:lnTo>
                      <a:pt x="558" y="1116"/>
                    </a:lnTo>
                    <a:lnTo>
                      <a:pt x="486" y="1122"/>
                    </a:lnTo>
                    <a:lnTo>
                      <a:pt x="424" y="1128"/>
                    </a:lnTo>
                    <a:lnTo>
                      <a:pt x="424" y="966"/>
                    </a:lnTo>
                    <a:lnTo>
                      <a:pt x="424" y="966"/>
                    </a:lnTo>
                    <a:lnTo>
                      <a:pt x="366" y="996"/>
                    </a:lnTo>
                    <a:lnTo>
                      <a:pt x="316" y="1020"/>
                    </a:lnTo>
                    <a:lnTo>
                      <a:pt x="264" y="1042"/>
                    </a:lnTo>
                    <a:lnTo>
                      <a:pt x="198" y="1070"/>
                    </a:lnTo>
                    <a:lnTo>
                      <a:pt x="198" y="1070"/>
                    </a:lnTo>
                    <a:lnTo>
                      <a:pt x="150" y="958"/>
                    </a:lnTo>
                    <a:lnTo>
                      <a:pt x="128" y="912"/>
                    </a:lnTo>
                    <a:lnTo>
                      <a:pt x="108" y="872"/>
                    </a:lnTo>
                    <a:lnTo>
                      <a:pt x="86" y="832"/>
                    </a:lnTo>
                    <a:lnTo>
                      <a:pt x="62" y="790"/>
                    </a:lnTo>
                    <a:lnTo>
                      <a:pt x="0" y="694"/>
                    </a:lnTo>
                    <a:lnTo>
                      <a:pt x="0" y="694"/>
                    </a:lnTo>
                    <a:lnTo>
                      <a:pt x="82" y="668"/>
                    </a:lnTo>
                    <a:lnTo>
                      <a:pt x="160" y="640"/>
                    </a:lnTo>
                    <a:lnTo>
                      <a:pt x="234" y="610"/>
                    </a:lnTo>
                    <a:lnTo>
                      <a:pt x="304" y="578"/>
                    </a:lnTo>
                    <a:lnTo>
                      <a:pt x="372" y="542"/>
                    </a:lnTo>
                    <a:lnTo>
                      <a:pt x="440" y="504"/>
                    </a:lnTo>
                    <a:lnTo>
                      <a:pt x="508" y="460"/>
                    </a:lnTo>
                    <a:lnTo>
                      <a:pt x="578" y="414"/>
                    </a:lnTo>
                    <a:lnTo>
                      <a:pt x="578" y="414"/>
                    </a:lnTo>
                    <a:lnTo>
                      <a:pt x="648" y="364"/>
                    </a:lnTo>
                    <a:lnTo>
                      <a:pt x="710" y="316"/>
                    </a:lnTo>
                    <a:lnTo>
                      <a:pt x="770" y="268"/>
                    </a:lnTo>
                    <a:lnTo>
                      <a:pt x="824" y="218"/>
                    </a:lnTo>
                    <a:lnTo>
                      <a:pt x="874" y="166"/>
                    </a:lnTo>
                    <a:lnTo>
                      <a:pt x="920" y="114"/>
                    </a:lnTo>
                    <a:lnTo>
                      <a:pt x="962" y="58"/>
                    </a:lnTo>
                    <a:lnTo>
                      <a:pt x="1004" y="0"/>
                    </a:lnTo>
                    <a:lnTo>
                      <a:pt x="1424" y="0"/>
                    </a:lnTo>
                    <a:lnTo>
                      <a:pt x="1424" y="0"/>
                    </a:lnTo>
                    <a:lnTo>
                      <a:pt x="1470" y="60"/>
                    </a:lnTo>
                    <a:lnTo>
                      <a:pt x="1518" y="114"/>
                    </a:lnTo>
                    <a:lnTo>
                      <a:pt x="1566" y="166"/>
                    </a:lnTo>
                    <a:lnTo>
                      <a:pt x="1616" y="216"/>
                    </a:lnTo>
                    <a:lnTo>
                      <a:pt x="1672" y="262"/>
                    </a:lnTo>
                    <a:lnTo>
                      <a:pt x="1730" y="308"/>
                    </a:lnTo>
                    <a:lnTo>
                      <a:pt x="1792" y="354"/>
                    </a:lnTo>
                    <a:lnTo>
                      <a:pt x="1860" y="400"/>
                    </a:lnTo>
                    <a:lnTo>
                      <a:pt x="1860" y="400"/>
                    </a:lnTo>
                    <a:lnTo>
                      <a:pt x="1934" y="448"/>
                    </a:lnTo>
                    <a:lnTo>
                      <a:pt x="2004" y="490"/>
                    </a:lnTo>
                    <a:lnTo>
                      <a:pt x="2074" y="528"/>
                    </a:lnTo>
                    <a:lnTo>
                      <a:pt x="2144" y="562"/>
                    </a:lnTo>
                    <a:lnTo>
                      <a:pt x="2216" y="594"/>
                    </a:lnTo>
                    <a:lnTo>
                      <a:pt x="2290" y="624"/>
                    </a:lnTo>
                    <a:lnTo>
                      <a:pt x="2370" y="652"/>
                    </a:lnTo>
                    <a:lnTo>
                      <a:pt x="2454" y="678"/>
                    </a:lnTo>
                    <a:lnTo>
                      <a:pt x="2454" y="678"/>
                    </a:lnTo>
                    <a:lnTo>
                      <a:pt x="2422" y="730"/>
                    </a:lnTo>
                    <a:lnTo>
                      <a:pt x="2394" y="780"/>
                    </a:lnTo>
                    <a:lnTo>
                      <a:pt x="2370" y="828"/>
                    </a:lnTo>
                    <a:lnTo>
                      <a:pt x="2348" y="874"/>
                    </a:lnTo>
                    <a:lnTo>
                      <a:pt x="2328" y="920"/>
                    </a:lnTo>
                    <a:lnTo>
                      <a:pt x="2308" y="968"/>
                    </a:lnTo>
                    <a:lnTo>
                      <a:pt x="2268" y="1078"/>
                    </a:lnTo>
                    <a:lnTo>
                      <a:pt x="2268" y="1078"/>
                    </a:lnTo>
                    <a:lnTo>
                      <a:pt x="2200" y="1050"/>
                    </a:lnTo>
                    <a:lnTo>
                      <a:pt x="2146" y="1026"/>
                    </a:lnTo>
                    <a:lnTo>
                      <a:pt x="2094" y="1002"/>
                    </a:lnTo>
                    <a:lnTo>
                      <a:pt x="2028" y="968"/>
                    </a:lnTo>
                    <a:lnTo>
                      <a:pt x="2028" y="1128"/>
                    </a:lnTo>
                    <a:lnTo>
                      <a:pt x="2028" y="1128"/>
                    </a:lnTo>
                    <a:lnTo>
                      <a:pt x="1962" y="1122"/>
                    </a:lnTo>
                    <a:lnTo>
                      <a:pt x="1892" y="1116"/>
                    </a:lnTo>
                    <a:lnTo>
                      <a:pt x="1812" y="1114"/>
                    </a:lnTo>
                    <a:lnTo>
                      <a:pt x="1722" y="1114"/>
                    </a:lnTo>
                    <a:lnTo>
                      <a:pt x="1416" y="1114"/>
                    </a:lnTo>
                    <a:lnTo>
                      <a:pt x="1416" y="1334"/>
                    </a:lnTo>
                    <a:lnTo>
                      <a:pt x="1772" y="1334"/>
                    </a:lnTo>
                    <a:lnTo>
                      <a:pt x="1772" y="1334"/>
                    </a:lnTo>
                    <a:lnTo>
                      <a:pt x="1872" y="1332"/>
                    </a:lnTo>
                    <a:lnTo>
                      <a:pt x="1958" y="1330"/>
                    </a:lnTo>
                    <a:lnTo>
                      <a:pt x="2032" y="1326"/>
                    </a:lnTo>
                    <a:lnTo>
                      <a:pt x="2094" y="1318"/>
                    </a:lnTo>
                    <a:lnTo>
                      <a:pt x="2094" y="1702"/>
                    </a:lnTo>
                    <a:lnTo>
                      <a:pt x="2094" y="1702"/>
                    </a:lnTo>
                    <a:lnTo>
                      <a:pt x="2030" y="1694"/>
                    </a:lnTo>
                    <a:lnTo>
                      <a:pt x="1956" y="1690"/>
                    </a:lnTo>
                    <a:lnTo>
                      <a:pt x="1868" y="1686"/>
                    </a:lnTo>
                    <a:lnTo>
                      <a:pt x="1770" y="1686"/>
                    </a:lnTo>
                    <a:lnTo>
                      <a:pt x="1416" y="1686"/>
                    </a:lnTo>
                    <a:lnTo>
                      <a:pt x="1416" y="1940"/>
                    </a:lnTo>
                    <a:lnTo>
                      <a:pt x="1966" y="1940"/>
                    </a:lnTo>
                    <a:lnTo>
                      <a:pt x="1966" y="1940"/>
                    </a:lnTo>
                    <a:lnTo>
                      <a:pt x="2078" y="1938"/>
                    </a:lnTo>
                    <a:lnTo>
                      <a:pt x="2178" y="1936"/>
                    </a:lnTo>
                    <a:lnTo>
                      <a:pt x="2264" y="1930"/>
                    </a:lnTo>
                    <a:lnTo>
                      <a:pt x="2336" y="1924"/>
                    </a:lnTo>
                    <a:lnTo>
                      <a:pt x="2336" y="2312"/>
                    </a:lnTo>
                    <a:lnTo>
                      <a:pt x="2336" y="2312"/>
                    </a:lnTo>
                    <a:lnTo>
                      <a:pt x="2266" y="2306"/>
                    </a:lnTo>
                    <a:lnTo>
                      <a:pt x="2182" y="2300"/>
                    </a:lnTo>
                    <a:lnTo>
                      <a:pt x="2084" y="2298"/>
                    </a:lnTo>
                    <a:lnTo>
                      <a:pt x="1974" y="2296"/>
                    </a:lnTo>
                    <a:lnTo>
                      <a:pt x="464" y="2296"/>
                    </a:lnTo>
                    <a:lnTo>
                      <a:pt x="464" y="2296"/>
                    </a:lnTo>
                    <a:lnTo>
                      <a:pt x="358" y="2298"/>
                    </a:lnTo>
                    <a:lnTo>
                      <a:pt x="264" y="2300"/>
                    </a:lnTo>
                    <a:lnTo>
                      <a:pt x="184" y="2306"/>
                    </a:lnTo>
                    <a:lnTo>
                      <a:pt x="114" y="2312"/>
                    </a:lnTo>
                    <a:lnTo>
                      <a:pt x="114" y="1924"/>
                    </a:lnTo>
                    <a:lnTo>
                      <a:pt x="114" y="1924"/>
                    </a:lnTo>
                    <a:lnTo>
                      <a:pt x="182" y="1930"/>
                    </a:lnTo>
                    <a:lnTo>
                      <a:pt x="266" y="1936"/>
                    </a:lnTo>
                    <a:lnTo>
                      <a:pt x="364" y="1938"/>
                    </a:lnTo>
                    <a:lnTo>
                      <a:pt x="474" y="1940"/>
                    </a:lnTo>
                    <a:lnTo>
                      <a:pt x="1014" y="1940"/>
                    </a:lnTo>
                    <a:lnTo>
                      <a:pt x="1014" y="1686"/>
                    </a:lnTo>
                    <a:lnTo>
                      <a:pt x="690" y="1686"/>
                    </a:lnTo>
                    <a:lnTo>
                      <a:pt x="690" y="1686"/>
                    </a:lnTo>
                    <a:lnTo>
                      <a:pt x="592" y="1686"/>
                    </a:lnTo>
                    <a:lnTo>
                      <a:pt x="506" y="1690"/>
                    </a:lnTo>
                    <a:lnTo>
                      <a:pt x="432" y="1694"/>
                    </a:lnTo>
                    <a:lnTo>
                      <a:pt x="370" y="1702"/>
                    </a:lnTo>
                    <a:lnTo>
                      <a:pt x="370" y="1318"/>
                    </a:lnTo>
                    <a:lnTo>
                      <a:pt x="370" y="1318"/>
                    </a:lnTo>
                    <a:lnTo>
                      <a:pt x="438" y="1326"/>
                    </a:lnTo>
                    <a:lnTo>
                      <a:pt x="512" y="1330"/>
                    </a:lnTo>
                    <a:lnTo>
                      <a:pt x="594" y="1332"/>
                    </a:lnTo>
                    <a:lnTo>
                      <a:pt x="690" y="1334"/>
                    </a:lnTo>
                    <a:lnTo>
                      <a:pt x="1014" y="1334"/>
                    </a:lnTo>
                    <a:lnTo>
                      <a:pt x="1014" y="1114"/>
                    </a:lnTo>
                    <a:lnTo>
                      <a:pt x="742" y="1114"/>
                    </a:lnTo>
                    <a:close/>
                    <a:moveTo>
                      <a:pt x="1694" y="766"/>
                    </a:moveTo>
                    <a:lnTo>
                      <a:pt x="1694" y="766"/>
                    </a:lnTo>
                    <a:lnTo>
                      <a:pt x="1614" y="710"/>
                    </a:lnTo>
                    <a:lnTo>
                      <a:pt x="1546" y="660"/>
                    </a:lnTo>
                    <a:lnTo>
                      <a:pt x="1484" y="610"/>
                    </a:lnTo>
                    <a:lnTo>
                      <a:pt x="1428" y="562"/>
                    </a:lnTo>
                    <a:lnTo>
                      <a:pt x="1376" y="512"/>
                    </a:lnTo>
                    <a:lnTo>
                      <a:pt x="1324" y="460"/>
                    </a:lnTo>
                    <a:lnTo>
                      <a:pt x="1274" y="404"/>
                    </a:lnTo>
                    <a:lnTo>
                      <a:pt x="1222" y="342"/>
                    </a:lnTo>
                    <a:lnTo>
                      <a:pt x="1222" y="342"/>
                    </a:lnTo>
                    <a:lnTo>
                      <a:pt x="1174" y="402"/>
                    </a:lnTo>
                    <a:lnTo>
                      <a:pt x="1126" y="458"/>
                    </a:lnTo>
                    <a:lnTo>
                      <a:pt x="1074" y="510"/>
                    </a:lnTo>
                    <a:lnTo>
                      <a:pt x="1022" y="562"/>
                    </a:lnTo>
                    <a:lnTo>
                      <a:pt x="964" y="612"/>
                    </a:lnTo>
                    <a:lnTo>
                      <a:pt x="902" y="662"/>
                    </a:lnTo>
                    <a:lnTo>
                      <a:pt x="834" y="714"/>
                    </a:lnTo>
                    <a:lnTo>
                      <a:pt x="758" y="766"/>
                    </a:lnTo>
                    <a:lnTo>
                      <a:pt x="1694" y="766"/>
                    </a:lnTo>
                    <a:close/>
                  </a:path>
                </a:pathLst>
              </a:custGeom>
              <a:solidFill>
                <a:srgbClr val="e7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1"/>
              <p:cNvSpPr/>
              <p:nvPr/>
            </p:nvSpPr>
            <p:spPr>
              <a:xfrm>
                <a:off x="33918480" y="2234880"/>
                <a:ext cx="3921120" cy="3778560"/>
              </a:xfrm>
              <a:custGeom>
                <a:avLst/>
                <a:gdLst>
                  <a:gd name="textAreaLeft" fmla="*/ 0 w 3921120"/>
                  <a:gd name="textAreaRight" fmla="*/ 3921120 w 3921120"/>
                  <a:gd name="textAreaTop" fmla="*/ 0 h 3778560"/>
                  <a:gd name="textAreaBottom" fmla="*/ 3778920 h 3778560"/>
                </a:gdLst>
                <a:ahLst/>
                <a:rect l="textAreaLeft" t="textAreaTop" r="textAreaRight" b="textAreaBottom"/>
                <a:pathLst>
                  <a:path w="2470" h="2380">
                    <a:moveTo>
                      <a:pt x="976" y="694"/>
                    </a:moveTo>
                    <a:lnTo>
                      <a:pt x="976" y="694"/>
                    </a:lnTo>
                    <a:lnTo>
                      <a:pt x="880" y="696"/>
                    </a:lnTo>
                    <a:lnTo>
                      <a:pt x="794" y="702"/>
                    </a:lnTo>
                    <a:lnTo>
                      <a:pt x="794" y="578"/>
                    </a:lnTo>
                    <a:lnTo>
                      <a:pt x="694" y="578"/>
                    </a:lnTo>
                    <a:lnTo>
                      <a:pt x="504" y="792"/>
                    </a:lnTo>
                    <a:lnTo>
                      <a:pt x="504" y="792"/>
                    </a:lnTo>
                    <a:lnTo>
                      <a:pt x="446" y="712"/>
                    </a:lnTo>
                    <a:lnTo>
                      <a:pt x="392" y="644"/>
                    </a:lnTo>
                    <a:lnTo>
                      <a:pt x="340" y="580"/>
                    </a:lnTo>
                    <a:lnTo>
                      <a:pt x="288" y="522"/>
                    </a:lnTo>
                    <a:lnTo>
                      <a:pt x="232" y="464"/>
                    </a:lnTo>
                    <a:lnTo>
                      <a:pt x="174" y="404"/>
                    </a:lnTo>
                    <a:lnTo>
                      <a:pt x="106" y="342"/>
                    </a:lnTo>
                    <a:lnTo>
                      <a:pt x="30" y="274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68" y="40"/>
                    </a:lnTo>
                    <a:lnTo>
                      <a:pt x="414" y="82"/>
                    </a:lnTo>
                    <a:lnTo>
                      <a:pt x="460" y="126"/>
                    </a:lnTo>
                    <a:lnTo>
                      <a:pt x="506" y="170"/>
                    </a:lnTo>
                    <a:lnTo>
                      <a:pt x="552" y="216"/>
                    </a:lnTo>
                    <a:lnTo>
                      <a:pt x="598" y="264"/>
                    </a:lnTo>
                    <a:lnTo>
                      <a:pt x="690" y="366"/>
                    </a:lnTo>
                    <a:lnTo>
                      <a:pt x="690" y="236"/>
                    </a:lnTo>
                    <a:lnTo>
                      <a:pt x="690" y="236"/>
                    </a:lnTo>
                    <a:lnTo>
                      <a:pt x="688" y="144"/>
                    </a:lnTo>
                    <a:lnTo>
                      <a:pt x="682" y="62"/>
                    </a:lnTo>
                    <a:lnTo>
                      <a:pt x="682" y="62"/>
                    </a:lnTo>
                    <a:lnTo>
                      <a:pt x="734" y="64"/>
                    </a:lnTo>
                    <a:lnTo>
                      <a:pt x="792" y="66"/>
                    </a:lnTo>
                    <a:lnTo>
                      <a:pt x="934" y="68"/>
                    </a:lnTo>
                    <a:lnTo>
                      <a:pt x="2148" y="68"/>
                    </a:lnTo>
                    <a:lnTo>
                      <a:pt x="2148" y="68"/>
                    </a:lnTo>
                    <a:lnTo>
                      <a:pt x="2218" y="68"/>
                    </a:lnTo>
                    <a:lnTo>
                      <a:pt x="2280" y="66"/>
                    </a:lnTo>
                    <a:lnTo>
                      <a:pt x="2340" y="64"/>
                    </a:lnTo>
                    <a:lnTo>
                      <a:pt x="2398" y="58"/>
                    </a:lnTo>
                    <a:lnTo>
                      <a:pt x="2398" y="58"/>
                    </a:lnTo>
                    <a:lnTo>
                      <a:pt x="2392" y="94"/>
                    </a:lnTo>
                    <a:lnTo>
                      <a:pt x="2390" y="132"/>
                    </a:lnTo>
                    <a:lnTo>
                      <a:pt x="2388" y="176"/>
                    </a:lnTo>
                    <a:lnTo>
                      <a:pt x="2388" y="228"/>
                    </a:lnTo>
                    <a:lnTo>
                      <a:pt x="2388" y="408"/>
                    </a:lnTo>
                    <a:lnTo>
                      <a:pt x="2388" y="408"/>
                    </a:lnTo>
                    <a:lnTo>
                      <a:pt x="2388" y="454"/>
                    </a:lnTo>
                    <a:lnTo>
                      <a:pt x="2390" y="498"/>
                    </a:lnTo>
                    <a:lnTo>
                      <a:pt x="2394" y="538"/>
                    </a:lnTo>
                    <a:lnTo>
                      <a:pt x="2400" y="578"/>
                    </a:lnTo>
                    <a:lnTo>
                      <a:pt x="2274" y="578"/>
                    </a:lnTo>
                    <a:lnTo>
                      <a:pt x="2274" y="702"/>
                    </a:lnTo>
                    <a:lnTo>
                      <a:pt x="2274" y="702"/>
                    </a:lnTo>
                    <a:lnTo>
                      <a:pt x="2200" y="696"/>
                    </a:lnTo>
                    <a:lnTo>
                      <a:pt x="2156" y="696"/>
                    </a:lnTo>
                    <a:lnTo>
                      <a:pt x="2100" y="694"/>
                    </a:lnTo>
                    <a:lnTo>
                      <a:pt x="1708" y="694"/>
                    </a:lnTo>
                    <a:lnTo>
                      <a:pt x="1708" y="760"/>
                    </a:lnTo>
                    <a:lnTo>
                      <a:pt x="2072" y="760"/>
                    </a:lnTo>
                    <a:lnTo>
                      <a:pt x="2072" y="760"/>
                    </a:lnTo>
                    <a:lnTo>
                      <a:pt x="2204" y="760"/>
                    </a:lnTo>
                    <a:lnTo>
                      <a:pt x="2244" y="758"/>
                    </a:lnTo>
                    <a:lnTo>
                      <a:pt x="2284" y="756"/>
                    </a:lnTo>
                    <a:lnTo>
                      <a:pt x="2284" y="756"/>
                    </a:lnTo>
                    <a:lnTo>
                      <a:pt x="2278" y="850"/>
                    </a:lnTo>
                    <a:lnTo>
                      <a:pt x="2276" y="900"/>
                    </a:lnTo>
                    <a:lnTo>
                      <a:pt x="2276" y="960"/>
                    </a:lnTo>
                    <a:lnTo>
                      <a:pt x="2276" y="1346"/>
                    </a:lnTo>
                    <a:lnTo>
                      <a:pt x="2276" y="1346"/>
                    </a:lnTo>
                    <a:lnTo>
                      <a:pt x="2276" y="1412"/>
                    </a:lnTo>
                    <a:lnTo>
                      <a:pt x="2278" y="1464"/>
                    </a:lnTo>
                    <a:lnTo>
                      <a:pt x="2284" y="1554"/>
                    </a:lnTo>
                    <a:lnTo>
                      <a:pt x="2284" y="1554"/>
                    </a:lnTo>
                    <a:lnTo>
                      <a:pt x="2168" y="1550"/>
                    </a:lnTo>
                    <a:lnTo>
                      <a:pt x="2070" y="1548"/>
                    </a:lnTo>
                    <a:lnTo>
                      <a:pt x="1708" y="1548"/>
                    </a:lnTo>
                    <a:lnTo>
                      <a:pt x="1708" y="1620"/>
                    </a:lnTo>
                    <a:lnTo>
                      <a:pt x="2162" y="1620"/>
                    </a:lnTo>
                    <a:lnTo>
                      <a:pt x="2162" y="1620"/>
                    </a:lnTo>
                    <a:lnTo>
                      <a:pt x="2246" y="1620"/>
                    </a:lnTo>
                    <a:lnTo>
                      <a:pt x="2306" y="1618"/>
                    </a:lnTo>
                    <a:lnTo>
                      <a:pt x="2352" y="1614"/>
                    </a:lnTo>
                    <a:lnTo>
                      <a:pt x="2388" y="1610"/>
                    </a:lnTo>
                    <a:lnTo>
                      <a:pt x="2388" y="1906"/>
                    </a:lnTo>
                    <a:lnTo>
                      <a:pt x="2388" y="1906"/>
                    </a:lnTo>
                    <a:lnTo>
                      <a:pt x="2348" y="1902"/>
                    </a:lnTo>
                    <a:lnTo>
                      <a:pt x="2298" y="1900"/>
                    </a:lnTo>
                    <a:lnTo>
                      <a:pt x="2234" y="1900"/>
                    </a:lnTo>
                    <a:lnTo>
                      <a:pt x="2152" y="1898"/>
                    </a:lnTo>
                    <a:lnTo>
                      <a:pt x="1708" y="1898"/>
                    </a:lnTo>
                    <a:lnTo>
                      <a:pt x="1708" y="2010"/>
                    </a:lnTo>
                    <a:lnTo>
                      <a:pt x="1708" y="2010"/>
                    </a:lnTo>
                    <a:lnTo>
                      <a:pt x="1804" y="2010"/>
                    </a:lnTo>
                    <a:lnTo>
                      <a:pt x="1870" y="2008"/>
                    </a:lnTo>
                    <a:lnTo>
                      <a:pt x="1870" y="2008"/>
                    </a:lnTo>
                    <a:lnTo>
                      <a:pt x="2050" y="2006"/>
                    </a:lnTo>
                    <a:lnTo>
                      <a:pt x="2196" y="2002"/>
                    </a:lnTo>
                    <a:lnTo>
                      <a:pt x="2328" y="1992"/>
                    </a:lnTo>
                    <a:lnTo>
                      <a:pt x="2470" y="1980"/>
                    </a:lnTo>
                    <a:lnTo>
                      <a:pt x="2470" y="1980"/>
                    </a:lnTo>
                    <a:lnTo>
                      <a:pt x="2436" y="2080"/>
                    </a:lnTo>
                    <a:lnTo>
                      <a:pt x="2424" y="2124"/>
                    </a:lnTo>
                    <a:lnTo>
                      <a:pt x="2412" y="2166"/>
                    </a:lnTo>
                    <a:lnTo>
                      <a:pt x="2402" y="2206"/>
                    </a:lnTo>
                    <a:lnTo>
                      <a:pt x="2394" y="2248"/>
                    </a:lnTo>
                    <a:lnTo>
                      <a:pt x="2386" y="2294"/>
                    </a:lnTo>
                    <a:lnTo>
                      <a:pt x="2380" y="2342"/>
                    </a:lnTo>
                    <a:lnTo>
                      <a:pt x="2380" y="2342"/>
                    </a:lnTo>
                    <a:lnTo>
                      <a:pt x="2166" y="2348"/>
                    </a:lnTo>
                    <a:lnTo>
                      <a:pt x="1944" y="2354"/>
                    </a:lnTo>
                    <a:lnTo>
                      <a:pt x="1700" y="2356"/>
                    </a:lnTo>
                    <a:lnTo>
                      <a:pt x="1430" y="2358"/>
                    </a:lnTo>
                    <a:lnTo>
                      <a:pt x="1430" y="2358"/>
                    </a:lnTo>
                    <a:lnTo>
                      <a:pt x="1296" y="2356"/>
                    </a:lnTo>
                    <a:lnTo>
                      <a:pt x="1182" y="2354"/>
                    </a:lnTo>
                    <a:lnTo>
                      <a:pt x="1084" y="2352"/>
                    </a:lnTo>
                    <a:lnTo>
                      <a:pt x="1002" y="2346"/>
                    </a:lnTo>
                    <a:lnTo>
                      <a:pt x="934" y="2338"/>
                    </a:lnTo>
                    <a:lnTo>
                      <a:pt x="874" y="2330"/>
                    </a:lnTo>
                    <a:lnTo>
                      <a:pt x="824" y="2318"/>
                    </a:lnTo>
                    <a:lnTo>
                      <a:pt x="778" y="2304"/>
                    </a:lnTo>
                    <a:lnTo>
                      <a:pt x="778" y="2304"/>
                    </a:lnTo>
                    <a:lnTo>
                      <a:pt x="740" y="2290"/>
                    </a:lnTo>
                    <a:lnTo>
                      <a:pt x="706" y="2276"/>
                    </a:lnTo>
                    <a:lnTo>
                      <a:pt x="672" y="2258"/>
                    </a:lnTo>
                    <a:lnTo>
                      <a:pt x="638" y="2236"/>
                    </a:lnTo>
                    <a:lnTo>
                      <a:pt x="606" y="2214"/>
                    </a:lnTo>
                    <a:lnTo>
                      <a:pt x="574" y="2188"/>
                    </a:lnTo>
                    <a:lnTo>
                      <a:pt x="540" y="2158"/>
                    </a:lnTo>
                    <a:lnTo>
                      <a:pt x="506" y="2124"/>
                    </a:lnTo>
                    <a:lnTo>
                      <a:pt x="506" y="2124"/>
                    </a:lnTo>
                    <a:lnTo>
                      <a:pt x="422" y="2194"/>
                    </a:lnTo>
                    <a:lnTo>
                      <a:pt x="348" y="2252"/>
                    </a:lnTo>
                    <a:lnTo>
                      <a:pt x="278" y="2302"/>
                    </a:lnTo>
                    <a:lnTo>
                      <a:pt x="208" y="2350"/>
                    </a:lnTo>
                    <a:lnTo>
                      <a:pt x="208" y="2350"/>
                    </a:lnTo>
                    <a:lnTo>
                      <a:pt x="164" y="2380"/>
                    </a:lnTo>
                    <a:lnTo>
                      <a:pt x="0" y="1972"/>
                    </a:lnTo>
                    <a:lnTo>
                      <a:pt x="0" y="1972"/>
                    </a:lnTo>
                    <a:lnTo>
                      <a:pt x="30" y="1960"/>
                    </a:lnTo>
                    <a:lnTo>
                      <a:pt x="62" y="1944"/>
                    </a:lnTo>
                    <a:lnTo>
                      <a:pt x="94" y="1928"/>
                    </a:lnTo>
                    <a:lnTo>
                      <a:pt x="130" y="1906"/>
                    </a:lnTo>
                    <a:lnTo>
                      <a:pt x="170" y="1882"/>
                    </a:lnTo>
                    <a:lnTo>
                      <a:pt x="216" y="1852"/>
                    </a:lnTo>
                    <a:lnTo>
                      <a:pt x="320" y="1780"/>
                    </a:lnTo>
                    <a:lnTo>
                      <a:pt x="320" y="1298"/>
                    </a:lnTo>
                    <a:lnTo>
                      <a:pt x="212" y="1298"/>
                    </a:lnTo>
                    <a:lnTo>
                      <a:pt x="212" y="1298"/>
                    </a:lnTo>
                    <a:lnTo>
                      <a:pt x="174" y="1298"/>
                    </a:lnTo>
                    <a:lnTo>
                      <a:pt x="138" y="1300"/>
                    </a:lnTo>
                    <a:lnTo>
                      <a:pt x="100" y="1304"/>
                    </a:lnTo>
                    <a:lnTo>
                      <a:pt x="54" y="1310"/>
                    </a:lnTo>
                    <a:lnTo>
                      <a:pt x="54" y="928"/>
                    </a:lnTo>
                    <a:lnTo>
                      <a:pt x="54" y="928"/>
                    </a:lnTo>
                    <a:lnTo>
                      <a:pt x="104" y="934"/>
                    </a:lnTo>
                    <a:lnTo>
                      <a:pt x="150" y="938"/>
                    </a:lnTo>
                    <a:lnTo>
                      <a:pt x="202" y="940"/>
                    </a:lnTo>
                    <a:lnTo>
                      <a:pt x="266" y="940"/>
                    </a:lnTo>
                    <a:lnTo>
                      <a:pt x="510" y="940"/>
                    </a:lnTo>
                    <a:lnTo>
                      <a:pt x="510" y="940"/>
                    </a:lnTo>
                    <a:lnTo>
                      <a:pt x="564" y="940"/>
                    </a:lnTo>
                    <a:lnTo>
                      <a:pt x="612" y="938"/>
                    </a:lnTo>
                    <a:lnTo>
                      <a:pt x="658" y="936"/>
                    </a:lnTo>
                    <a:lnTo>
                      <a:pt x="704" y="930"/>
                    </a:lnTo>
                    <a:lnTo>
                      <a:pt x="704" y="930"/>
                    </a:lnTo>
                    <a:lnTo>
                      <a:pt x="700" y="988"/>
                    </a:lnTo>
                    <a:lnTo>
                      <a:pt x="696" y="1048"/>
                    </a:lnTo>
                    <a:lnTo>
                      <a:pt x="694" y="1122"/>
                    </a:lnTo>
                    <a:lnTo>
                      <a:pt x="694" y="1220"/>
                    </a:lnTo>
                    <a:lnTo>
                      <a:pt x="694" y="1846"/>
                    </a:lnTo>
                    <a:lnTo>
                      <a:pt x="694" y="1846"/>
                    </a:lnTo>
                    <a:lnTo>
                      <a:pt x="722" y="1884"/>
                    </a:lnTo>
                    <a:lnTo>
                      <a:pt x="736" y="1898"/>
                    </a:lnTo>
                    <a:lnTo>
                      <a:pt x="748" y="1912"/>
                    </a:lnTo>
                    <a:lnTo>
                      <a:pt x="762" y="1924"/>
                    </a:lnTo>
                    <a:lnTo>
                      <a:pt x="776" y="1934"/>
                    </a:lnTo>
                    <a:lnTo>
                      <a:pt x="792" y="1944"/>
                    </a:lnTo>
                    <a:lnTo>
                      <a:pt x="808" y="1952"/>
                    </a:lnTo>
                    <a:lnTo>
                      <a:pt x="808" y="1952"/>
                    </a:lnTo>
                    <a:lnTo>
                      <a:pt x="846" y="1968"/>
                    </a:lnTo>
                    <a:lnTo>
                      <a:pt x="888" y="1982"/>
                    </a:lnTo>
                    <a:lnTo>
                      <a:pt x="936" y="1992"/>
                    </a:lnTo>
                    <a:lnTo>
                      <a:pt x="990" y="2002"/>
                    </a:lnTo>
                    <a:lnTo>
                      <a:pt x="1048" y="2008"/>
                    </a:lnTo>
                    <a:lnTo>
                      <a:pt x="1114" y="2014"/>
                    </a:lnTo>
                    <a:lnTo>
                      <a:pt x="1188" y="2016"/>
                    </a:lnTo>
                    <a:lnTo>
                      <a:pt x="1266" y="2018"/>
                    </a:lnTo>
                    <a:lnTo>
                      <a:pt x="1266" y="2018"/>
                    </a:lnTo>
                    <a:lnTo>
                      <a:pt x="1346" y="2016"/>
                    </a:lnTo>
                    <a:lnTo>
                      <a:pt x="1346" y="1898"/>
                    </a:lnTo>
                    <a:lnTo>
                      <a:pt x="970" y="1898"/>
                    </a:lnTo>
                    <a:lnTo>
                      <a:pt x="970" y="1898"/>
                    </a:lnTo>
                    <a:lnTo>
                      <a:pt x="898" y="1900"/>
                    </a:lnTo>
                    <a:lnTo>
                      <a:pt x="838" y="1900"/>
                    </a:lnTo>
                    <a:lnTo>
                      <a:pt x="790" y="1904"/>
                    </a:lnTo>
                    <a:lnTo>
                      <a:pt x="748" y="1908"/>
                    </a:lnTo>
                    <a:lnTo>
                      <a:pt x="748" y="1610"/>
                    </a:lnTo>
                    <a:lnTo>
                      <a:pt x="748" y="1610"/>
                    </a:lnTo>
                    <a:lnTo>
                      <a:pt x="854" y="1618"/>
                    </a:lnTo>
                    <a:lnTo>
                      <a:pt x="904" y="1620"/>
                    </a:lnTo>
                    <a:lnTo>
                      <a:pt x="966" y="1620"/>
                    </a:lnTo>
                    <a:lnTo>
                      <a:pt x="1346" y="1620"/>
                    </a:lnTo>
                    <a:lnTo>
                      <a:pt x="1346" y="1548"/>
                    </a:lnTo>
                    <a:lnTo>
                      <a:pt x="1008" y="1548"/>
                    </a:lnTo>
                    <a:lnTo>
                      <a:pt x="1008" y="1548"/>
                    </a:lnTo>
                    <a:lnTo>
                      <a:pt x="894" y="1550"/>
                    </a:lnTo>
                    <a:lnTo>
                      <a:pt x="796" y="1554"/>
                    </a:lnTo>
                    <a:lnTo>
                      <a:pt x="796" y="1554"/>
                    </a:lnTo>
                    <a:lnTo>
                      <a:pt x="800" y="1518"/>
                    </a:lnTo>
                    <a:lnTo>
                      <a:pt x="802" y="1480"/>
                    </a:lnTo>
                    <a:lnTo>
                      <a:pt x="804" y="1346"/>
                    </a:lnTo>
                    <a:lnTo>
                      <a:pt x="804" y="890"/>
                    </a:lnTo>
                    <a:lnTo>
                      <a:pt x="804" y="890"/>
                    </a:lnTo>
                    <a:lnTo>
                      <a:pt x="802" y="810"/>
                    </a:lnTo>
                    <a:lnTo>
                      <a:pt x="800" y="782"/>
                    </a:lnTo>
                    <a:lnTo>
                      <a:pt x="796" y="756"/>
                    </a:lnTo>
                    <a:lnTo>
                      <a:pt x="796" y="756"/>
                    </a:lnTo>
                    <a:lnTo>
                      <a:pt x="842" y="758"/>
                    </a:lnTo>
                    <a:lnTo>
                      <a:pt x="884" y="760"/>
                    </a:lnTo>
                    <a:lnTo>
                      <a:pt x="1008" y="760"/>
                    </a:lnTo>
                    <a:lnTo>
                      <a:pt x="1346" y="760"/>
                    </a:lnTo>
                    <a:lnTo>
                      <a:pt x="1346" y="694"/>
                    </a:lnTo>
                    <a:lnTo>
                      <a:pt x="976" y="694"/>
                    </a:lnTo>
                    <a:close/>
                    <a:moveTo>
                      <a:pt x="1346" y="408"/>
                    </a:moveTo>
                    <a:lnTo>
                      <a:pt x="1346" y="370"/>
                    </a:lnTo>
                    <a:lnTo>
                      <a:pt x="1054" y="370"/>
                    </a:lnTo>
                    <a:lnTo>
                      <a:pt x="1054" y="452"/>
                    </a:lnTo>
                    <a:lnTo>
                      <a:pt x="1346" y="452"/>
                    </a:lnTo>
                    <a:lnTo>
                      <a:pt x="1346" y="408"/>
                    </a:lnTo>
                    <a:close/>
                    <a:moveTo>
                      <a:pt x="1152" y="976"/>
                    </a:moveTo>
                    <a:lnTo>
                      <a:pt x="1152" y="1058"/>
                    </a:lnTo>
                    <a:lnTo>
                      <a:pt x="1346" y="1058"/>
                    </a:lnTo>
                    <a:lnTo>
                      <a:pt x="1346" y="976"/>
                    </a:lnTo>
                    <a:lnTo>
                      <a:pt x="1152" y="976"/>
                    </a:lnTo>
                    <a:close/>
                    <a:moveTo>
                      <a:pt x="1152" y="1254"/>
                    </a:moveTo>
                    <a:lnTo>
                      <a:pt x="1152" y="1334"/>
                    </a:lnTo>
                    <a:lnTo>
                      <a:pt x="1346" y="1334"/>
                    </a:lnTo>
                    <a:lnTo>
                      <a:pt x="1346" y="1254"/>
                    </a:lnTo>
                    <a:lnTo>
                      <a:pt x="1152" y="1254"/>
                    </a:lnTo>
                    <a:close/>
                    <a:moveTo>
                      <a:pt x="2018" y="452"/>
                    </a:moveTo>
                    <a:lnTo>
                      <a:pt x="2018" y="370"/>
                    </a:lnTo>
                    <a:lnTo>
                      <a:pt x="1708" y="370"/>
                    </a:lnTo>
                    <a:lnTo>
                      <a:pt x="1708" y="370"/>
                    </a:lnTo>
                    <a:lnTo>
                      <a:pt x="1708" y="408"/>
                    </a:lnTo>
                    <a:lnTo>
                      <a:pt x="1708" y="452"/>
                    </a:lnTo>
                    <a:lnTo>
                      <a:pt x="2018" y="452"/>
                    </a:lnTo>
                    <a:close/>
                    <a:moveTo>
                      <a:pt x="1708" y="1058"/>
                    </a:moveTo>
                    <a:lnTo>
                      <a:pt x="1920" y="1058"/>
                    </a:lnTo>
                    <a:lnTo>
                      <a:pt x="1920" y="976"/>
                    </a:lnTo>
                    <a:lnTo>
                      <a:pt x="1708" y="976"/>
                    </a:lnTo>
                    <a:lnTo>
                      <a:pt x="1708" y="1058"/>
                    </a:lnTo>
                    <a:close/>
                    <a:moveTo>
                      <a:pt x="1708" y="1334"/>
                    </a:moveTo>
                    <a:lnTo>
                      <a:pt x="1920" y="1334"/>
                    </a:lnTo>
                    <a:lnTo>
                      <a:pt x="1920" y="1254"/>
                    </a:lnTo>
                    <a:lnTo>
                      <a:pt x="1708" y="1254"/>
                    </a:lnTo>
                    <a:lnTo>
                      <a:pt x="1708" y="1334"/>
                    </a:lnTo>
                    <a:close/>
                  </a:path>
                </a:pathLst>
              </a:custGeom>
              <a:solidFill>
                <a:srgbClr val="e7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2"/>
              <p:cNvSpPr/>
              <p:nvPr/>
            </p:nvSpPr>
            <p:spPr>
              <a:xfrm>
                <a:off x="38058840" y="2219040"/>
                <a:ext cx="3740040" cy="3854880"/>
              </a:xfrm>
              <a:custGeom>
                <a:avLst/>
                <a:gdLst>
                  <a:gd name="textAreaLeft" fmla="*/ 0 w 3740040"/>
                  <a:gd name="textAreaRight" fmla="*/ 3740400 w 3740040"/>
                  <a:gd name="textAreaTop" fmla="*/ 0 h 3854880"/>
                  <a:gd name="textAreaBottom" fmla="*/ 3855240 h 3854880"/>
                </a:gdLst>
                <a:ahLst/>
                <a:rect l="textAreaLeft" t="textAreaTop" r="textAreaRight" b="textAreaBottom"/>
                <a:pathLst>
                  <a:path w="2356" h="2428">
                    <a:moveTo>
                      <a:pt x="2108" y="496"/>
                    </a:moveTo>
                    <a:lnTo>
                      <a:pt x="2108" y="496"/>
                    </a:lnTo>
                    <a:lnTo>
                      <a:pt x="2186" y="496"/>
                    </a:lnTo>
                    <a:lnTo>
                      <a:pt x="2250" y="494"/>
                    </a:lnTo>
                    <a:lnTo>
                      <a:pt x="2304" y="492"/>
                    </a:lnTo>
                    <a:lnTo>
                      <a:pt x="2356" y="486"/>
                    </a:lnTo>
                    <a:lnTo>
                      <a:pt x="2356" y="486"/>
                    </a:lnTo>
                    <a:lnTo>
                      <a:pt x="2350" y="558"/>
                    </a:lnTo>
                    <a:lnTo>
                      <a:pt x="2348" y="634"/>
                    </a:lnTo>
                    <a:lnTo>
                      <a:pt x="2344" y="762"/>
                    </a:lnTo>
                    <a:lnTo>
                      <a:pt x="2342" y="988"/>
                    </a:lnTo>
                    <a:lnTo>
                      <a:pt x="2342" y="988"/>
                    </a:lnTo>
                    <a:lnTo>
                      <a:pt x="2336" y="1252"/>
                    </a:lnTo>
                    <a:lnTo>
                      <a:pt x="2328" y="1482"/>
                    </a:lnTo>
                    <a:lnTo>
                      <a:pt x="2318" y="1680"/>
                    </a:lnTo>
                    <a:lnTo>
                      <a:pt x="2312" y="1768"/>
                    </a:lnTo>
                    <a:lnTo>
                      <a:pt x="2306" y="1848"/>
                    </a:lnTo>
                    <a:lnTo>
                      <a:pt x="2298" y="1920"/>
                    </a:lnTo>
                    <a:lnTo>
                      <a:pt x="2290" y="1986"/>
                    </a:lnTo>
                    <a:lnTo>
                      <a:pt x="2280" y="2046"/>
                    </a:lnTo>
                    <a:lnTo>
                      <a:pt x="2270" y="2096"/>
                    </a:lnTo>
                    <a:lnTo>
                      <a:pt x="2260" y="2142"/>
                    </a:lnTo>
                    <a:lnTo>
                      <a:pt x="2248" y="2182"/>
                    </a:lnTo>
                    <a:lnTo>
                      <a:pt x="2236" y="2214"/>
                    </a:lnTo>
                    <a:lnTo>
                      <a:pt x="2222" y="2240"/>
                    </a:lnTo>
                    <a:lnTo>
                      <a:pt x="2222" y="2240"/>
                    </a:lnTo>
                    <a:lnTo>
                      <a:pt x="2210" y="2260"/>
                    </a:lnTo>
                    <a:lnTo>
                      <a:pt x="2196" y="2278"/>
                    </a:lnTo>
                    <a:lnTo>
                      <a:pt x="2182" y="2294"/>
                    </a:lnTo>
                    <a:lnTo>
                      <a:pt x="2166" y="2310"/>
                    </a:lnTo>
                    <a:lnTo>
                      <a:pt x="2148" y="2322"/>
                    </a:lnTo>
                    <a:lnTo>
                      <a:pt x="2130" y="2334"/>
                    </a:lnTo>
                    <a:lnTo>
                      <a:pt x="2108" y="2344"/>
                    </a:lnTo>
                    <a:lnTo>
                      <a:pt x="2082" y="2352"/>
                    </a:lnTo>
                    <a:lnTo>
                      <a:pt x="2056" y="2360"/>
                    </a:lnTo>
                    <a:lnTo>
                      <a:pt x="2026" y="2366"/>
                    </a:lnTo>
                    <a:lnTo>
                      <a:pt x="1992" y="2370"/>
                    </a:lnTo>
                    <a:lnTo>
                      <a:pt x="1956" y="2374"/>
                    </a:lnTo>
                    <a:lnTo>
                      <a:pt x="1870" y="2378"/>
                    </a:lnTo>
                    <a:lnTo>
                      <a:pt x="1768" y="2380"/>
                    </a:lnTo>
                    <a:lnTo>
                      <a:pt x="1768" y="2380"/>
                    </a:lnTo>
                    <a:lnTo>
                      <a:pt x="1736" y="2380"/>
                    </a:lnTo>
                    <a:lnTo>
                      <a:pt x="1690" y="2378"/>
                    </a:lnTo>
                    <a:lnTo>
                      <a:pt x="1690" y="2378"/>
                    </a:lnTo>
                    <a:lnTo>
                      <a:pt x="1684" y="2296"/>
                    </a:lnTo>
                    <a:lnTo>
                      <a:pt x="1676" y="2228"/>
                    </a:lnTo>
                    <a:lnTo>
                      <a:pt x="1664" y="2164"/>
                    </a:lnTo>
                    <a:lnTo>
                      <a:pt x="1648" y="2096"/>
                    </a:lnTo>
                    <a:lnTo>
                      <a:pt x="1648" y="2096"/>
                    </a:lnTo>
                    <a:lnTo>
                      <a:pt x="1604" y="2182"/>
                    </a:lnTo>
                    <a:lnTo>
                      <a:pt x="1584" y="2218"/>
                    </a:lnTo>
                    <a:lnTo>
                      <a:pt x="1562" y="2256"/>
                    </a:lnTo>
                    <a:lnTo>
                      <a:pt x="1512" y="2334"/>
                    </a:lnTo>
                    <a:lnTo>
                      <a:pt x="1444" y="2428"/>
                    </a:lnTo>
                    <a:lnTo>
                      <a:pt x="1444" y="2428"/>
                    </a:lnTo>
                    <a:lnTo>
                      <a:pt x="1410" y="2382"/>
                    </a:lnTo>
                    <a:lnTo>
                      <a:pt x="1380" y="2346"/>
                    </a:lnTo>
                    <a:lnTo>
                      <a:pt x="1350" y="2312"/>
                    </a:lnTo>
                    <a:lnTo>
                      <a:pt x="1310" y="2270"/>
                    </a:lnTo>
                    <a:lnTo>
                      <a:pt x="1310" y="2270"/>
                    </a:lnTo>
                    <a:lnTo>
                      <a:pt x="994" y="2302"/>
                    </a:lnTo>
                    <a:lnTo>
                      <a:pt x="762" y="2322"/>
                    </a:lnTo>
                    <a:lnTo>
                      <a:pt x="532" y="2340"/>
                    </a:lnTo>
                    <a:lnTo>
                      <a:pt x="222" y="2360"/>
                    </a:lnTo>
                    <a:lnTo>
                      <a:pt x="222" y="2360"/>
                    </a:lnTo>
                    <a:lnTo>
                      <a:pt x="150" y="2366"/>
                    </a:lnTo>
                    <a:lnTo>
                      <a:pt x="56" y="2374"/>
                    </a:lnTo>
                    <a:lnTo>
                      <a:pt x="0" y="2020"/>
                    </a:lnTo>
                    <a:lnTo>
                      <a:pt x="0" y="2020"/>
                    </a:lnTo>
                    <a:lnTo>
                      <a:pt x="38" y="2022"/>
                    </a:lnTo>
                    <a:lnTo>
                      <a:pt x="80" y="2024"/>
                    </a:lnTo>
                    <a:lnTo>
                      <a:pt x="210" y="2026"/>
                    </a:lnTo>
                    <a:lnTo>
                      <a:pt x="210" y="2026"/>
                    </a:lnTo>
                    <a:lnTo>
                      <a:pt x="356" y="2024"/>
                    </a:lnTo>
                    <a:lnTo>
                      <a:pt x="548" y="2020"/>
                    </a:lnTo>
                    <a:lnTo>
                      <a:pt x="548" y="1924"/>
                    </a:lnTo>
                    <a:lnTo>
                      <a:pt x="304" y="1924"/>
                    </a:lnTo>
                    <a:lnTo>
                      <a:pt x="304" y="1924"/>
                    </a:lnTo>
                    <a:lnTo>
                      <a:pt x="178" y="1926"/>
                    </a:lnTo>
                    <a:lnTo>
                      <a:pt x="58" y="1932"/>
                    </a:lnTo>
                    <a:lnTo>
                      <a:pt x="58" y="1648"/>
                    </a:lnTo>
                    <a:lnTo>
                      <a:pt x="58" y="1648"/>
                    </a:lnTo>
                    <a:lnTo>
                      <a:pt x="110" y="1652"/>
                    </a:lnTo>
                    <a:lnTo>
                      <a:pt x="164" y="1656"/>
                    </a:lnTo>
                    <a:lnTo>
                      <a:pt x="226" y="1658"/>
                    </a:lnTo>
                    <a:lnTo>
                      <a:pt x="306" y="1658"/>
                    </a:lnTo>
                    <a:lnTo>
                      <a:pt x="548" y="1658"/>
                    </a:lnTo>
                    <a:lnTo>
                      <a:pt x="548" y="1582"/>
                    </a:lnTo>
                    <a:lnTo>
                      <a:pt x="344" y="1582"/>
                    </a:lnTo>
                    <a:lnTo>
                      <a:pt x="344" y="1582"/>
                    </a:lnTo>
                    <a:lnTo>
                      <a:pt x="198" y="1582"/>
                    </a:lnTo>
                    <a:lnTo>
                      <a:pt x="142" y="1584"/>
                    </a:lnTo>
                    <a:lnTo>
                      <a:pt x="86" y="1586"/>
                    </a:lnTo>
                    <a:lnTo>
                      <a:pt x="86" y="1586"/>
                    </a:lnTo>
                    <a:lnTo>
                      <a:pt x="90" y="1538"/>
                    </a:lnTo>
                    <a:lnTo>
                      <a:pt x="94" y="1486"/>
                    </a:lnTo>
                    <a:lnTo>
                      <a:pt x="96" y="1424"/>
                    </a:lnTo>
                    <a:lnTo>
                      <a:pt x="96" y="1346"/>
                    </a:lnTo>
                    <a:lnTo>
                      <a:pt x="96" y="1012"/>
                    </a:lnTo>
                    <a:lnTo>
                      <a:pt x="96" y="1012"/>
                    </a:lnTo>
                    <a:lnTo>
                      <a:pt x="96" y="936"/>
                    </a:lnTo>
                    <a:lnTo>
                      <a:pt x="94" y="878"/>
                    </a:lnTo>
                    <a:lnTo>
                      <a:pt x="90" y="826"/>
                    </a:lnTo>
                    <a:lnTo>
                      <a:pt x="86" y="776"/>
                    </a:lnTo>
                    <a:lnTo>
                      <a:pt x="86" y="776"/>
                    </a:lnTo>
                    <a:lnTo>
                      <a:pt x="200" y="782"/>
                    </a:lnTo>
                    <a:lnTo>
                      <a:pt x="344" y="784"/>
                    </a:lnTo>
                    <a:lnTo>
                      <a:pt x="548" y="784"/>
                    </a:lnTo>
                    <a:lnTo>
                      <a:pt x="548" y="710"/>
                    </a:lnTo>
                    <a:lnTo>
                      <a:pt x="266" y="710"/>
                    </a:lnTo>
                    <a:lnTo>
                      <a:pt x="266" y="710"/>
                    </a:lnTo>
                    <a:lnTo>
                      <a:pt x="192" y="710"/>
                    </a:lnTo>
                    <a:lnTo>
                      <a:pt x="130" y="712"/>
                    </a:lnTo>
                    <a:lnTo>
                      <a:pt x="74" y="716"/>
                    </a:lnTo>
                    <a:lnTo>
                      <a:pt x="20" y="720"/>
                    </a:lnTo>
                    <a:lnTo>
                      <a:pt x="20" y="420"/>
                    </a:lnTo>
                    <a:lnTo>
                      <a:pt x="20" y="420"/>
                    </a:lnTo>
                    <a:lnTo>
                      <a:pt x="74" y="426"/>
                    </a:lnTo>
                    <a:lnTo>
                      <a:pt x="128" y="428"/>
                    </a:lnTo>
                    <a:lnTo>
                      <a:pt x="190" y="430"/>
                    </a:lnTo>
                    <a:lnTo>
                      <a:pt x="266" y="430"/>
                    </a:lnTo>
                    <a:lnTo>
                      <a:pt x="548" y="430"/>
                    </a:lnTo>
                    <a:lnTo>
                      <a:pt x="548" y="358"/>
                    </a:lnTo>
                    <a:lnTo>
                      <a:pt x="548" y="358"/>
                    </a:lnTo>
                    <a:lnTo>
                      <a:pt x="302" y="366"/>
                    </a:lnTo>
                    <a:lnTo>
                      <a:pt x="140" y="370"/>
                    </a:lnTo>
                    <a:lnTo>
                      <a:pt x="140" y="370"/>
                    </a:lnTo>
                    <a:lnTo>
                      <a:pt x="116" y="300"/>
                    </a:lnTo>
                    <a:lnTo>
                      <a:pt x="90" y="238"/>
                    </a:lnTo>
                    <a:lnTo>
                      <a:pt x="60" y="176"/>
                    </a:lnTo>
                    <a:lnTo>
                      <a:pt x="22" y="104"/>
                    </a:lnTo>
                    <a:lnTo>
                      <a:pt x="22" y="104"/>
                    </a:lnTo>
                    <a:lnTo>
                      <a:pt x="226" y="100"/>
                    </a:lnTo>
                    <a:lnTo>
                      <a:pt x="418" y="94"/>
                    </a:lnTo>
                    <a:lnTo>
                      <a:pt x="592" y="84"/>
                    </a:lnTo>
                    <a:lnTo>
                      <a:pt x="750" y="74"/>
                    </a:lnTo>
                    <a:lnTo>
                      <a:pt x="890" y="58"/>
                    </a:lnTo>
                    <a:lnTo>
                      <a:pt x="952" y="50"/>
                    </a:lnTo>
                    <a:lnTo>
                      <a:pt x="1008" y="42"/>
                    </a:lnTo>
                    <a:lnTo>
                      <a:pt x="1058" y="32"/>
                    </a:lnTo>
                    <a:lnTo>
                      <a:pt x="1102" y="22"/>
                    </a:lnTo>
                    <a:lnTo>
                      <a:pt x="1142" y="12"/>
                    </a:lnTo>
                    <a:lnTo>
                      <a:pt x="1174" y="0"/>
                    </a:lnTo>
                    <a:lnTo>
                      <a:pt x="1364" y="286"/>
                    </a:lnTo>
                    <a:lnTo>
                      <a:pt x="1364" y="286"/>
                    </a:lnTo>
                    <a:lnTo>
                      <a:pt x="1328" y="292"/>
                    </a:lnTo>
                    <a:lnTo>
                      <a:pt x="1290" y="294"/>
                    </a:lnTo>
                    <a:lnTo>
                      <a:pt x="1290" y="294"/>
                    </a:lnTo>
                    <a:lnTo>
                      <a:pt x="1258" y="298"/>
                    </a:lnTo>
                    <a:lnTo>
                      <a:pt x="1212" y="304"/>
                    </a:lnTo>
                    <a:lnTo>
                      <a:pt x="1212" y="304"/>
                    </a:lnTo>
                    <a:lnTo>
                      <a:pt x="1096" y="316"/>
                    </a:lnTo>
                    <a:lnTo>
                      <a:pt x="876" y="338"/>
                    </a:lnTo>
                    <a:lnTo>
                      <a:pt x="876" y="430"/>
                    </a:lnTo>
                    <a:lnTo>
                      <a:pt x="1120" y="430"/>
                    </a:lnTo>
                    <a:lnTo>
                      <a:pt x="1120" y="430"/>
                    </a:lnTo>
                    <a:lnTo>
                      <a:pt x="1202" y="430"/>
                    </a:lnTo>
                    <a:lnTo>
                      <a:pt x="1266" y="428"/>
                    </a:lnTo>
                    <a:lnTo>
                      <a:pt x="1316" y="426"/>
                    </a:lnTo>
                    <a:lnTo>
                      <a:pt x="1364" y="420"/>
                    </a:lnTo>
                    <a:lnTo>
                      <a:pt x="1364" y="490"/>
                    </a:lnTo>
                    <a:lnTo>
                      <a:pt x="1364" y="490"/>
                    </a:lnTo>
                    <a:lnTo>
                      <a:pt x="1420" y="494"/>
                    </a:lnTo>
                    <a:lnTo>
                      <a:pt x="1454" y="496"/>
                    </a:lnTo>
                    <a:lnTo>
                      <a:pt x="1498" y="496"/>
                    </a:lnTo>
                    <a:lnTo>
                      <a:pt x="1530" y="496"/>
                    </a:lnTo>
                    <a:lnTo>
                      <a:pt x="1530" y="496"/>
                    </a:lnTo>
                    <a:lnTo>
                      <a:pt x="1530" y="258"/>
                    </a:lnTo>
                    <a:lnTo>
                      <a:pt x="1530" y="258"/>
                    </a:lnTo>
                    <a:lnTo>
                      <a:pt x="1530" y="182"/>
                    </a:lnTo>
                    <a:lnTo>
                      <a:pt x="1528" y="122"/>
                    </a:lnTo>
                    <a:lnTo>
                      <a:pt x="1522" y="72"/>
                    </a:lnTo>
                    <a:lnTo>
                      <a:pt x="1516" y="28"/>
                    </a:lnTo>
                    <a:lnTo>
                      <a:pt x="1918" y="28"/>
                    </a:lnTo>
                    <a:lnTo>
                      <a:pt x="1918" y="28"/>
                    </a:lnTo>
                    <a:lnTo>
                      <a:pt x="1910" y="76"/>
                    </a:lnTo>
                    <a:lnTo>
                      <a:pt x="1908" y="102"/>
                    </a:lnTo>
                    <a:lnTo>
                      <a:pt x="1906" y="140"/>
                    </a:lnTo>
                    <a:lnTo>
                      <a:pt x="1904" y="266"/>
                    </a:lnTo>
                    <a:lnTo>
                      <a:pt x="1900" y="496"/>
                    </a:lnTo>
                    <a:lnTo>
                      <a:pt x="2108" y="496"/>
                    </a:lnTo>
                    <a:close/>
                    <a:moveTo>
                      <a:pt x="412" y="998"/>
                    </a:moveTo>
                    <a:lnTo>
                      <a:pt x="412" y="1084"/>
                    </a:lnTo>
                    <a:lnTo>
                      <a:pt x="548" y="1084"/>
                    </a:lnTo>
                    <a:lnTo>
                      <a:pt x="548" y="998"/>
                    </a:lnTo>
                    <a:lnTo>
                      <a:pt x="412" y="998"/>
                    </a:lnTo>
                    <a:close/>
                    <a:moveTo>
                      <a:pt x="412" y="1278"/>
                    </a:moveTo>
                    <a:lnTo>
                      <a:pt x="412" y="1368"/>
                    </a:lnTo>
                    <a:lnTo>
                      <a:pt x="548" y="1368"/>
                    </a:lnTo>
                    <a:lnTo>
                      <a:pt x="548" y="1278"/>
                    </a:lnTo>
                    <a:lnTo>
                      <a:pt x="412" y="1278"/>
                    </a:lnTo>
                    <a:close/>
                    <a:moveTo>
                      <a:pt x="1320" y="1894"/>
                    </a:moveTo>
                    <a:lnTo>
                      <a:pt x="1320" y="1894"/>
                    </a:lnTo>
                    <a:lnTo>
                      <a:pt x="1342" y="1850"/>
                    </a:lnTo>
                    <a:lnTo>
                      <a:pt x="1364" y="1804"/>
                    </a:lnTo>
                    <a:lnTo>
                      <a:pt x="1382" y="1756"/>
                    </a:lnTo>
                    <a:lnTo>
                      <a:pt x="1400" y="1708"/>
                    </a:lnTo>
                    <a:lnTo>
                      <a:pt x="1418" y="1656"/>
                    </a:lnTo>
                    <a:lnTo>
                      <a:pt x="1432" y="1602"/>
                    </a:lnTo>
                    <a:lnTo>
                      <a:pt x="1446" y="1546"/>
                    </a:lnTo>
                    <a:lnTo>
                      <a:pt x="1458" y="1486"/>
                    </a:lnTo>
                    <a:lnTo>
                      <a:pt x="1470" y="1422"/>
                    </a:lnTo>
                    <a:lnTo>
                      <a:pt x="1480" y="1354"/>
                    </a:lnTo>
                    <a:lnTo>
                      <a:pt x="1490" y="1284"/>
                    </a:lnTo>
                    <a:lnTo>
                      <a:pt x="1498" y="1208"/>
                    </a:lnTo>
                    <a:lnTo>
                      <a:pt x="1506" y="1128"/>
                    </a:lnTo>
                    <a:lnTo>
                      <a:pt x="1512" y="1044"/>
                    </a:lnTo>
                    <a:lnTo>
                      <a:pt x="1522" y="856"/>
                    </a:lnTo>
                    <a:lnTo>
                      <a:pt x="1522" y="856"/>
                    </a:lnTo>
                    <a:lnTo>
                      <a:pt x="1438" y="858"/>
                    </a:lnTo>
                    <a:lnTo>
                      <a:pt x="1364" y="864"/>
                    </a:lnTo>
                    <a:lnTo>
                      <a:pt x="1364" y="718"/>
                    </a:lnTo>
                    <a:lnTo>
                      <a:pt x="1364" y="718"/>
                    </a:lnTo>
                    <a:lnTo>
                      <a:pt x="1336" y="712"/>
                    </a:lnTo>
                    <a:lnTo>
                      <a:pt x="1308" y="710"/>
                    </a:lnTo>
                    <a:lnTo>
                      <a:pt x="1204" y="710"/>
                    </a:lnTo>
                    <a:lnTo>
                      <a:pt x="876" y="710"/>
                    </a:lnTo>
                    <a:lnTo>
                      <a:pt x="876" y="784"/>
                    </a:lnTo>
                    <a:lnTo>
                      <a:pt x="1124" y="784"/>
                    </a:lnTo>
                    <a:lnTo>
                      <a:pt x="1124" y="784"/>
                    </a:lnTo>
                    <a:lnTo>
                      <a:pt x="1252" y="782"/>
                    </a:lnTo>
                    <a:lnTo>
                      <a:pt x="1290" y="782"/>
                    </a:lnTo>
                    <a:lnTo>
                      <a:pt x="1328" y="778"/>
                    </a:lnTo>
                    <a:lnTo>
                      <a:pt x="1328" y="778"/>
                    </a:lnTo>
                    <a:lnTo>
                      <a:pt x="1324" y="818"/>
                    </a:lnTo>
                    <a:lnTo>
                      <a:pt x="1322" y="862"/>
                    </a:lnTo>
                    <a:lnTo>
                      <a:pt x="1320" y="998"/>
                    </a:lnTo>
                    <a:lnTo>
                      <a:pt x="1320" y="1364"/>
                    </a:lnTo>
                    <a:lnTo>
                      <a:pt x="1320" y="1364"/>
                    </a:lnTo>
                    <a:lnTo>
                      <a:pt x="1322" y="1486"/>
                    </a:lnTo>
                    <a:lnTo>
                      <a:pt x="1326" y="1584"/>
                    </a:lnTo>
                    <a:lnTo>
                      <a:pt x="1326" y="1584"/>
                    </a:lnTo>
                    <a:lnTo>
                      <a:pt x="1240" y="1582"/>
                    </a:lnTo>
                    <a:lnTo>
                      <a:pt x="1104" y="1582"/>
                    </a:lnTo>
                    <a:lnTo>
                      <a:pt x="876" y="1582"/>
                    </a:lnTo>
                    <a:lnTo>
                      <a:pt x="876" y="1658"/>
                    </a:lnTo>
                    <a:lnTo>
                      <a:pt x="1074" y="1658"/>
                    </a:lnTo>
                    <a:lnTo>
                      <a:pt x="1074" y="1658"/>
                    </a:lnTo>
                    <a:lnTo>
                      <a:pt x="1158" y="1658"/>
                    </a:lnTo>
                    <a:lnTo>
                      <a:pt x="1220" y="1656"/>
                    </a:lnTo>
                    <a:lnTo>
                      <a:pt x="1270" y="1654"/>
                    </a:lnTo>
                    <a:lnTo>
                      <a:pt x="1320" y="1650"/>
                    </a:lnTo>
                    <a:lnTo>
                      <a:pt x="1320" y="1894"/>
                    </a:lnTo>
                    <a:close/>
                    <a:moveTo>
                      <a:pt x="876" y="1084"/>
                    </a:moveTo>
                    <a:lnTo>
                      <a:pt x="1010" y="1084"/>
                    </a:lnTo>
                    <a:lnTo>
                      <a:pt x="1010" y="998"/>
                    </a:lnTo>
                    <a:lnTo>
                      <a:pt x="876" y="998"/>
                    </a:lnTo>
                    <a:lnTo>
                      <a:pt x="876" y="1084"/>
                    </a:lnTo>
                    <a:close/>
                    <a:moveTo>
                      <a:pt x="876" y="1368"/>
                    </a:moveTo>
                    <a:lnTo>
                      <a:pt x="1010" y="1368"/>
                    </a:lnTo>
                    <a:lnTo>
                      <a:pt x="1010" y="1278"/>
                    </a:lnTo>
                    <a:lnTo>
                      <a:pt x="876" y="1278"/>
                    </a:lnTo>
                    <a:lnTo>
                      <a:pt x="876" y="1368"/>
                    </a:lnTo>
                    <a:close/>
                    <a:moveTo>
                      <a:pt x="876" y="2010"/>
                    </a:moveTo>
                    <a:lnTo>
                      <a:pt x="876" y="2010"/>
                    </a:lnTo>
                    <a:lnTo>
                      <a:pt x="1062" y="2002"/>
                    </a:lnTo>
                    <a:lnTo>
                      <a:pt x="1262" y="1988"/>
                    </a:lnTo>
                    <a:lnTo>
                      <a:pt x="1262" y="1988"/>
                    </a:lnTo>
                    <a:lnTo>
                      <a:pt x="1298" y="1932"/>
                    </a:lnTo>
                    <a:lnTo>
                      <a:pt x="1298" y="1932"/>
                    </a:lnTo>
                    <a:lnTo>
                      <a:pt x="1272" y="1928"/>
                    </a:lnTo>
                    <a:lnTo>
                      <a:pt x="1244" y="1926"/>
                    </a:lnTo>
                    <a:lnTo>
                      <a:pt x="1176" y="1924"/>
                    </a:lnTo>
                    <a:lnTo>
                      <a:pt x="876" y="1924"/>
                    </a:lnTo>
                    <a:lnTo>
                      <a:pt x="876" y="2010"/>
                    </a:lnTo>
                    <a:close/>
                    <a:moveTo>
                      <a:pt x="1890" y="856"/>
                    </a:moveTo>
                    <a:lnTo>
                      <a:pt x="1890" y="856"/>
                    </a:lnTo>
                    <a:lnTo>
                      <a:pt x="1880" y="1040"/>
                    </a:lnTo>
                    <a:lnTo>
                      <a:pt x="1874" y="1128"/>
                    </a:lnTo>
                    <a:lnTo>
                      <a:pt x="1868" y="1210"/>
                    </a:lnTo>
                    <a:lnTo>
                      <a:pt x="1858" y="1290"/>
                    </a:lnTo>
                    <a:lnTo>
                      <a:pt x="1850" y="1366"/>
                    </a:lnTo>
                    <a:lnTo>
                      <a:pt x="1838" y="1440"/>
                    </a:lnTo>
                    <a:lnTo>
                      <a:pt x="1826" y="1512"/>
                    </a:lnTo>
                    <a:lnTo>
                      <a:pt x="1814" y="1580"/>
                    </a:lnTo>
                    <a:lnTo>
                      <a:pt x="1800" y="1646"/>
                    </a:lnTo>
                    <a:lnTo>
                      <a:pt x="1784" y="1712"/>
                    </a:lnTo>
                    <a:lnTo>
                      <a:pt x="1766" y="1774"/>
                    </a:lnTo>
                    <a:lnTo>
                      <a:pt x="1748" y="1834"/>
                    </a:lnTo>
                    <a:lnTo>
                      <a:pt x="1728" y="1894"/>
                    </a:lnTo>
                    <a:lnTo>
                      <a:pt x="1708" y="1950"/>
                    </a:lnTo>
                    <a:lnTo>
                      <a:pt x="1686" y="2008"/>
                    </a:lnTo>
                    <a:lnTo>
                      <a:pt x="1686" y="2008"/>
                    </a:lnTo>
                    <a:lnTo>
                      <a:pt x="1720" y="2012"/>
                    </a:lnTo>
                    <a:lnTo>
                      <a:pt x="1750" y="2016"/>
                    </a:lnTo>
                    <a:lnTo>
                      <a:pt x="1796" y="2018"/>
                    </a:lnTo>
                    <a:lnTo>
                      <a:pt x="1796" y="2018"/>
                    </a:lnTo>
                    <a:lnTo>
                      <a:pt x="1832" y="2016"/>
                    </a:lnTo>
                    <a:lnTo>
                      <a:pt x="1846" y="2014"/>
                    </a:lnTo>
                    <a:lnTo>
                      <a:pt x="1860" y="2010"/>
                    </a:lnTo>
                    <a:lnTo>
                      <a:pt x="1872" y="2004"/>
                    </a:lnTo>
                    <a:lnTo>
                      <a:pt x="1882" y="1998"/>
                    </a:lnTo>
                    <a:lnTo>
                      <a:pt x="1892" y="1990"/>
                    </a:lnTo>
                    <a:lnTo>
                      <a:pt x="1900" y="1978"/>
                    </a:lnTo>
                    <a:lnTo>
                      <a:pt x="1908" y="1966"/>
                    </a:lnTo>
                    <a:lnTo>
                      <a:pt x="1916" y="1950"/>
                    </a:lnTo>
                    <a:lnTo>
                      <a:pt x="1922" y="1932"/>
                    </a:lnTo>
                    <a:lnTo>
                      <a:pt x="1926" y="1910"/>
                    </a:lnTo>
                    <a:lnTo>
                      <a:pt x="1936" y="1860"/>
                    </a:lnTo>
                    <a:lnTo>
                      <a:pt x="1946" y="1794"/>
                    </a:lnTo>
                    <a:lnTo>
                      <a:pt x="1946" y="1794"/>
                    </a:lnTo>
                    <a:lnTo>
                      <a:pt x="1954" y="1726"/>
                    </a:lnTo>
                    <a:lnTo>
                      <a:pt x="1962" y="1652"/>
                    </a:lnTo>
                    <a:lnTo>
                      <a:pt x="1970" y="1572"/>
                    </a:lnTo>
                    <a:lnTo>
                      <a:pt x="1976" y="1478"/>
                    </a:lnTo>
                    <a:lnTo>
                      <a:pt x="1982" y="1364"/>
                    </a:lnTo>
                    <a:lnTo>
                      <a:pt x="1988" y="1226"/>
                    </a:lnTo>
                    <a:lnTo>
                      <a:pt x="2000" y="856"/>
                    </a:lnTo>
                    <a:lnTo>
                      <a:pt x="1890" y="856"/>
                    </a:lnTo>
                    <a:close/>
                  </a:path>
                </a:pathLst>
              </a:custGeom>
              <a:solidFill>
                <a:srgbClr val="e7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6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2:17:04Z</dcterms:created>
  <dc:creator>seisaku</dc:creator>
  <dc:description/>
  <dc:language>en-US</dc:language>
  <cp:lastModifiedBy>ttec</cp:lastModifiedBy>
  <dcterms:modified xsi:type="dcterms:W3CDTF">2012-05-31T02:32:15Z</dcterms:modified>
  <cp:revision>4</cp:revision>
  <dc:subject/>
  <dc:title>スライド 1</dc:title>
</cp:coreProperties>
</file>