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3497400" y="685440"/>
            <a:ext cx="13852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F193-26C1-4B52-9B7A-527BD0D8F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A7EB-61E8-4327-BE18-F4C0A346C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-3497400" y="685800"/>
            <a:ext cx="138528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728-F2EB-4241-A69D-873C052E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143-3E2D-462E-BD97-DC5C2EB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6A2-83CD-487E-A16E-139818A5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A75-4242-4A3D-8609-1A26EC56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FEE-8D3D-4633-B03F-2351CD63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79D-47E3-4E17-8448-C7131AA2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04D-F0DA-47B7-81FA-E117FF33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498-D07E-4743-83DD-552A93A8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CB2-4412-4520-AEDC-F8E1FE31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BED-1E60-4BC8-928E-5A039F8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553-58CA-4F90-BB40-53B702D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D60-AE2E-4202-A12D-1BDA1C23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2DE0-1762-4906-8202-B8E3C993D851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03" descr="C:\Documents and Settings\moosawa\デスクトップ\名称未設定 1.gif"/>
          <p:cNvPicPr/>
          <p:nvPr/>
        </p:nvPicPr>
        <p:blipFill>
          <a:blip r:embed="rId1"/>
          <a:stretch/>
        </p:blipFill>
        <p:spPr>
          <a:xfrm>
            <a:off x="-14400" y="-57240"/>
            <a:ext cx="43219800" cy="1070316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787"/>
          <p:cNvGrpSpPr/>
          <p:nvPr/>
        </p:nvGrpSpPr>
        <p:grpSpPr>
          <a:xfrm>
            <a:off x="2354400" y="1081080"/>
            <a:ext cx="3334320" cy="3470040"/>
            <a:chOff x="2354400" y="1081080"/>
            <a:chExt cx="3334320" cy="3470040"/>
          </a:xfrm>
        </p:grpSpPr>
        <p:sp>
          <p:nvSpPr>
            <p:cNvPr id="50" name="Freeform 732"/>
            <p:cNvSpPr/>
            <p:nvPr/>
          </p:nvSpPr>
          <p:spPr>
            <a:xfrm>
              <a:off x="2549880" y="1305360"/>
              <a:ext cx="3138840" cy="324576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746"/>
            <p:cNvSpPr/>
            <p:nvPr/>
          </p:nvSpPr>
          <p:spPr>
            <a:xfrm>
              <a:off x="2354400" y="1081080"/>
              <a:ext cx="3137040" cy="326556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60"/>
            <p:cNvSpPr/>
            <p:nvPr/>
          </p:nvSpPr>
          <p:spPr>
            <a:xfrm>
              <a:off x="2354400" y="1081080"/>
              <a:ext cx="3137040" cy="3265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788"/>
          <p:cNvGrpSpPr/>
          <p:nvPr/>
        </p:nvGrpSpPr>
        <p:grpSpPr>
          <a:xfrm>
            <a:off x="5767560" y="1081080"/>
            <a:ext cx="3415680" cy="3407760"/>
            <a:chOff x="5767560" y="1081080"/>
            <a:chExt cx="3415680" cy="3407760"/>
          </a:xfrm>
        </p:grpSpPr>
        <p:sp>
          <p:nvSpPr>
            <p:cNvPr id="54" name="Freeform 733"/>
            <p:cNvSpPr/>
            <p:nvPr/>
          </p:nvSpPr>
          <p:spPr>
            <a:xfrm>
              <a:off x="5965200" y="1285200"/>
              <a:ext cx="3218040" cy="320364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47"/>
            <p:cNvSpPr/>
            <p:nvPr/>
          </p:nvSpPr>
          <p:spPr>
            <a:xfrm>
              <a:off x="5767560" y="1081080"/>
              <a:ext cx="3218040" cy="318384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761"/>
            <p:cNvSpPr/>
            <p:nvPr/>
          </p:nvSpPr>
          <p:spPr>
            <a:xfrm>
              <a:off x="5767560" y="1081080"/>
              <a:ext cx="3218040" cy="31838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789"/>
          <p:cNvGrpSpPr/>
          <p:nvPr/>
        </p:nvGrpSpPr>
        <p:grpSpPr>
          <a:xfrm>
            <a:off x="9204480" y="1143000"/>
            <a:ext cx="3434400" cy="3367800"/>
            <a:chOff x="9204480" y="1143000"/>
            <a:chExt cx="3434400" cy="3367800"/>
          </a:xfrm>
        </p:grpSpPr>
        <p:sp>
          <p:nvSpPr>
            <p:cNvPr id="58" name="Freeform 734"/>
            <p:cNvSpPr/>
            <p:nvPr/>
          </p:nvSpPr>
          <p:spPr>
            <a:xfrm>
              <a:off x="9399960" y="1347120"/>
              <a:ext cx="3238920" cy="316368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748"/>
            <p:cNvSpPr/>
            <p:nvPr/>
          </p:nvSpPr>
          <p:spPr>
            <a:xfrm>
              <a:off x="9204480" y="1143000"/>
              <a:ext cx="3217680" cy="316368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62"/>
            <p:cNvSpPr/>
            <p:nvPr/>
          </p:nvSpPr>
          <p:spPr>
            <a:xfrm>
              <a:off x="9204480" y="1143000"/>
              <a:ext cx="3217680" cy="3163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791"/>
          <p:cNvGrpSpPr/>
          <p:nvPr/>
        </p:nvGrpSpPr>
        <p:grpSpPr>
          <a:xfrm>
            <a:off x="16251120" y="1835280"/>
            <a:ext cx="2566800" cy="2551680"/>
            <a:chOff x="16251120" y="1835280"/>
            <a:chExt cx="2566800" cy="2551680"/>
          </a:xfrm>
        </p:grpSpPr>
        <p:sp>
          <p:nvSpPr>
            <p:cNvPr id="62" name="Freeform 736"/>
            <p:cNvSpPr/>
            <p:nvPr/>
          </p:nvSpPr>
          <p:spPr>
            <a:xfrm>
              <a:off x="16448760" y="2039400"/>
              <a:ext cx="2369160" cy="234756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750"/>
            <p:cNvSpPr/>
            <p:nvPr/>
          </p:nvSpPr>
          <p:spPr>
            <a:xfrm>
              <a:off x="16251120" y="1835280"/>
              <a:ext cx="2369160" cy="234756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64"/>
            <p:cNvSpPr/>
            <p:nvPr/>
          </p:nvSpPr>
          <p:spPr>
            <a:xfrm>
              <a:off x="16251120" y="1835280"/>
              <a:ext cx="2369160" cy="23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792"/>
          <p:cNvGrpSpPr/>
          <p:nvPr/>
        </p:nvGrpSpPr>
        <p:grpSpPr>
          <a:xfrm>
            <a:off x="19054800" y="1878120"/>
            <a:ext cx="2506320" cy="2428560"/>
            <a:chOff x="19054800" y="1878120"/>
            <a:chExt cx="2506320" cy="2428560"/>
          </a:xfrm>
        </p:grpSpPr>
        <p:sp>
          <p:nvSpPr>
            <p:cNvPr id="66" name="Freeform 737"/>
            <p:cNvSpPr/>
            <p:nvPr/>
          </p:nvSpPr>
          <p:spPr>
            <a:xfrm>
              <a:off x="19252440" y="2082960"/>
              <a:ext cx="2308680" cy="222372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51"/>
            <p:cNvSpPr/>
            <p:nvPr/>
          </p:nvSpPr>
          <p:spPr>
            <a:xfrm>
              <a:off x="19054800" y="1878120"/>
              <a:ext cx="2289600" cy="220428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65"/>
            <p:cNvSpPr/>
            <p:nvPr/>
          </p:nvSpPr>
          <p:spPr>
            <a:xfrm>
              <a:off x="19054800" y="1878120"/>
              <a:ext cx="2289600" cy="220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93"/>
          <p:cNvGrpSpPr/>
          <p:nvPr/>
        </p:nvGrpSpPr>
        <p:grpSpPr>
          <a:xfrm>
            <a:off x="21699360" y="2428920"/>
            <a:ext cx="2152080" cy="1877760"/>
            <a:chOff x="21699360" y="2428920"/>
            <a:chExt cx="2152080" cy="1877760"/>
          </a:xfrm>
        </p:grpSpPr>
        <p:sp>
          <p:nvSpPr>
            <p:cNvPr id="70" name="Freeform 738"/>
            <p:cNvSpPr/>
            <p:nvPr/>
          </p:nvSpPr>
          <p:spPr>
            <a:xfrm>
              <a:off x="21916080" y="2631240"/>
              <a:ext cx="1935360" cy="167544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52"/>
            <p:cNvSpPr/>
            <p:nvPr/>
          </p:nvSpPr>
          <p:spPr>
            <a:xfrm>
              <a:off x="21699360" y="2428920"/>
              <a:ext cx="1954800" cy="167328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66"/>
            <p:cNvSpPr/>
            <p:nvPr/>
          </p:nvSpPr>
          <p:spPr>
            <a:xfrm>
              <a:off x="21699360" y="2428920"/>
              <a:ext cx="1954800" cy="167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794"/>
          <p:cNvGrpSpPr/>
          <p:nvPr/>
        </p:nvGrpSpPr>
        <p:grpSpPr>
          <a:xfrm>
            <a:off x="23990400" y="1816200"/>
            <a:ext cx="2547000" cy="2570760"/>
            <a:chOff x="23990400" y="1816200"/>
            <a:chExt cx="2547000" cy="2570760"/>
          </a:xfrm>
        </p:grpSpPr>
        <p:sp>
          <p:nvSpPr>
            <p:cNvPr id="74" name="Freeform 739"/>
            <p:cNvSpPr/>
            <p:nvPr/>
          </p:nvSpPr>
          <p:spPr>
            <a:xfrm>
              <a:off x="24207120" y="2020320"/>
              <a:ext cx="2330280" cy="236664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53"/>
            <p:cNvSpPr/>
            <p:nvPr/>
          </p:nvSpPr>
          <p:spPr>
            <a:xfrm>
              <a:off x="23990400" y="1816200"/>
              <a:ext cx="2349720" cy="236664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67"/>
            <p:cNvSpPr/>
            <p:nvPr/>
          </p:nvSpPr>
          <p:spPr>
            <a:xfrm>
              <a:off x="23990400" y="1816200"/>
              <a:ext cx="2349720" cy="236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795"/>
          <p:cNvGrpSpPr/>
          <p:nvPr/>
        </p:nvGrpSpPr>
        <p:grpSpPr>
          <a:xfrm>
            <a:off x="26931960" y="1735200"/>
            <a:ext cx="2271240" cy="2672640"/>
            <a:chOff x="26931960" y="1735200"/>
            <a:chExt cx="2271240" cy="2672640"/>
          </a:xfrm>
        </p:grpSpPr>
        <p:sp>
          <p:nvSpPr>
            <p:cNvPr id="78" name="Freeform 740"/>
            <p:cNvSpPr/>
            <p:nvPr/>
          </p:nvSpPr>
          <p:spPr>
            <a:xfrm>
              <a:off x="27129600" y="1939320"/>
              <a:ext cx="2073600" cy="246852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754"/>
            <p:cNvSpPr/>
            <p:nvPr/>
          </p:nvSpPr>
          <p:spPr>
            <a:xfrm>
              <a:off x="26931960" y="1735200"/>
              <a:ext cx="2054160" cy="246852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768"/>
            <p:cNvSpPr/>
            <p:nvPr/>
          </p:nvSpPr>
          <p:spPr>
            <a:xfrm>
              <a:off x="26931960" y="1735200"/>
              <a:ext cx="2054160" cy="246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796"/>
          <p:cNvGrpSpPr/>
          <p:nvPr/>
        </p:nvGrpSpPr>
        <p:grpSpPr>
          <a:xfrm>
            <a:off x="29457720" y="2428920"/>
            <a:ext cx="2151720" cy="1877760"/>
            <a:chOff x="29457720" y="2428920"/>
            <a:chExt cx="2151720" cy="1877760"/>
          </a:xfrm>
        </p:grpSpPr>
        <p:sp>
          <p:nvSpPr>
            <p:cNvPr id="82" name="Freeform 741"/>
            <p:cNvSpPr/>
            <p:nvPr/>
          </p:nvSpPr>
          <p:spPr>
            <a:xfrm>
              <a:off x="29674440" y="2631240"/>
              <a:ext cx="1935000" cy="167544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55"/>
            <p:cNvSpPr/>
            <p:nvPr/>
          </p:nvSpPr>
          <p:spPr>
            <a:xfrm>
              <a:off x="29457720" y="2428920"/>
              <a:ext cx="1954080" cy="167328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69"/>
            <p:cNvSpPr/>
            <p:nvPr/>
          </p:nvSpPr>
          <p:spPr>
            <a:xfrm>
              <a:off x="29457720" y="2428920"/>
              <a:ext cx="1954080" cy="167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97"/>
          <p:cNvGrpSpPr/>
          <p:nvPr/>
        </p:nvGrpSpPr>
        <p:grpSpPr>
          <a:xfrm>
            <a:off x="32065920" y="1776240"/>
            <a:ext cx="2208960" cy="2610720"/>
            <a:chOff x="32065920" y="1776240"/>
            <a:chExt cx="2208960" cy="2610720"/>
          </a:xfrm>
        </p:grpSpPr>
        <p:sp>
          <p:nvSpPr>
            <p:cNvPr id="86" name="Freeform 742"/>
            <p:cNvSpPr/>
            <p:nvPr/>
          </p:nvSpPr>
          <p:spPr>
            <a:xfrm>
              <a:off x="32261400" y="1999800"/>
              <a:ext cx="2013480" cy="238716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56"/>
            <p:cNvSpPr/>
            <p:nvPr/>
          </p:nvSpPr>
          <p:spPr>
            <a:xfrm>
              <a:off x="32065920" y="1776240"/>
              <a:ext cx="2011680" cy="238716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70"/>
            <p:cNvSpPr/>
            <p:nvPr/>
          </p:nvSpPr>
          <p:spPr>
            <a:xfrm>
              <a:off x="32065920" y="1776240"/>
              <a:ext cx="2011680" cy="238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799"/>
          <p:cNvGrpSpPr/>
          <p:nvPr/>
        </p:nvGrpSpPr>
        <p:grpSpPr>
          <a:xfrm>
            <a:off x="34394760" y="2205000"/>
            <a:ext cx="2249280" cy="2284200"/>
            <a:chOff x="34394760" y="2205000"/>
            <a:chExt cx="2249280" cy="2284200"/>
          </a:xfrm>
        </p:grpSpPr>
        <p:sp>
          <p:nvSpPr>
            <p:cNvPr id="90" name="Freeform 743"/>
            <p:cNvSpPr/>
            <p:nvPr/>
          </p:nvSpPr>
          <p:spPr>
            <a:xfrm>
              <a:off x="34592400" y="2407320"/>
              <a:ext cx="2051640" cy="208188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57"/>
            <p:cNvSpPr/>
            <p:nvPr/>
          </p:nvSpPr>
          <p:spPr>
            <a:xfrm>
              <a:off x="34394760" y="2205000"/>
              <a:ext cx="2051640" cy="207972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71"/>
            <p:cNvSpPr/>
            <p:nvPr/>
          </p:nvSpPr>
          <p:spPr>
            <a:xfrm>
              <a:off x="34394760" y="2205000"/>
              <a:ext cx="2051640" cy="207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801"/>
          <p:cNvGrpSpPr/>
          <p:nvPr/>
        </p:nvGrpSpPr>
        <p:grpSpPr>
          <a:xfrm>
            <a:off x="36782280" y="1878120"/>
            <a:ext cx="2508120" cy="2428560"/>
            <a:chOff x="36782280" y="1878120"/>
            <a:chExt cx="2508120" cy="2428560"/>
          </a:xfrm>
        </p:grpSpPr>
        <p:sp>
          <p:nvSpPr>
            <p:cNvPr id="94" name="Freeform 744"/>
            <p:cNvSpPr/>
            <p:nvPr/>
          </p:nvSpPr>
          <p:spPr>
            <a:xfrm>
              <a:off x="36979920" y="2082960"/>
              <a:ext cx="2310480" cy="222372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58"/>
            <p:cNvSpPr/>
            <p:nvPr/>
          </p:nvSpPr>
          <p:spPr>
            <a:xfrm>
              <a:off x="36782280" y="1878120"/>
              <a:ext cx="2310480" cy="220428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72"/>
            <p:cNvSpPr/>
            <p:nvPr/>
          </p:nvSpPr>
          <p:spPr>
            <a:xfrm>
              <a:off x="36782280" y="1878120"/>
              <a:ext cx="2310480" cy="220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800"/>
          <p:cNvGrpSpPr/>
          <p:nvPr/>
        </p:nvGrpSpPr>
        <p:grpSpPr>
          <a:xfrm>
            <a:off x="39881160" y="1754280"/>
            <a:ext cx="712440" cy="2570760"/>
            <a:chOff x="39881160" y="1754280"/>
            <a:chExt cx="712440" cy="2570760"/>
          </a:xfrm>
        </p:grpSpPr>
        <p:sp>
          <p:nvSpPr>
            <p:cNvPr id="98" name="Freeform 745"/>
            <p:cNvSpPr/>
            <p:nvPr/>
          </p:nvSpPr>
          <p:spPr>
            <a:xfrm>
              <a:off x="40078800" y="1978200"/>
              <a:ext cx="514800" cy="234684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759"/>
            <p:cNvSpPr/>
            <p:nvPr/>
          </p:nvSpPr>
          <p:spPr>
            <a:xfrm>
              <a:off x="39881160" y="1754280"/>
              <a:ext cx="514800" cy="2367000"/>
            </a:xfrm>
            <a:prstGeom prst="pie">
              <a:avLst/>
            </a:prstGeom>
            <a:solidFill>
              <a:srgbClr val="ff0000"/>
            </a:solidFill>
            <a:ln w="368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73"/>
            <p:cNvSpPr/>
            <p:nvPr/>
          </p:nvSpPr>
          <p:spPr>
            <a:xfrm>
              <a:off x="39881160" y="1754280"/>
              <a:ext cx="514800" cy="236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774"/>
          <p:cNvSpPr/>
          <p:nvPr/>
        </p:nvSpPr>
        <p:spPr>
          <a:xfrm>
            <a:off x="-55440" y="8734320"/>
            <a:ext cx="43273440" cy="2040120"/>
          </a:xfrm>
          <a:prstGeom prst="rect">
            <a:avLst/>
          </a:prstGeom>
          <a:solidFill>
            <a:srgbClr val="0948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775"/>
          <p:cNvSpPr/>
          <p:nvPr/>
        </p:nvSpPr>
        <p:spPr>
          <a:xfrm>
            <a:off x="34907400" y="9510840"/>
            <a:ext cx="671760" cy="52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76"/>
          <p:cNvSpPr/>
          <p:nvPr/>
        </p:nvSpPr>
        <p:spPr>
          <a:xfrm>
            <a:off x="35736120" y="9510840"/>
            <a:ext cx="554040" cy="57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77"/>
          <p:cNvSpPr/>
          <p:nvPr/>
        </p:nvSpPr>
        <p:spPr>
          <a:xfrm>
            <a:off x="36487080" y="9429840"/>
            <a:ext cx="631800" cy="691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78"/>
          <p:cNvSpPr/>
          <p:nvPr/>
        </p:nvSpPr>
        <p:spPr>
          <a:xfrm>
            <a:off x="37336320" y="9448920"/>
            <a:ext cx="474840" cy="69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779"/>
          <p:cNvSpPr/>
          <p:nvPr/>
        </p:nvSpPr>
        <p:spPr>
          <a:xfrm>
            <a:off x="37987200" y="9407520"/>
            <a:ext cx="731880" cy="75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80"/>
          <p:cNvSpPr/>
          <p:nvPr/>
        </p:nvSpPr>
        <p:spPr>
          <a:xfrm>
            <a:off x="38757240" y="9407520"/>
            <a:ext cx="750960" cy="75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781"/>
          <p:cNvSpPr/>
          <p:nvPr/>
        </p:nvSpPr>
        <p:spPr>
          <a:xfrm>
            <a:off x="39527280" y="9407520"/>
            <a:ext cx="750600" cy="75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82"/>
          <p:cNvSpPr/>
          <p:nvPr/>
        </p:nvSpPr>
        <p:spPr>
          <a:xfrm>
            <a:off x="40317840" y="9407520"/>
            <a:ext cx="749160" cy="75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83"/>
          <p:cNvSpPr/>
          <p:nvPr/>
        </p:nvSpPr>
        <p:spPr>
          <a:xfrm>
            <a:off x="41087520" y="9407520"/>
            <a:ext cx="749520" cy="75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84"/>
          <p:cNvSpPr/>
          <p:nvPr/>
        </p:nvSpPr>
        <p:spPr>
          <a:xfrm>
            <a:off x="41857560" y="9407520"/>
            <a:ext cx="730440" cy="75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85"/>
          <p:cNvSpPr/>
          <p:nvPr/>
        </p:nvSpPr>
        <p:spPr>
          <a:xfrm>
            <a:off x="33782040" y="9468000"/>
            <a:ext cx="671400" cy="47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86"/>
          <p:cNvSpPr/>
          <p:nvPr/>
        </p:nvSpPr>
        <p:spPr>
          <a:xfrm>
            <a:off x="34215480" y="9653760"/>
            <a:ext cx="631800" cy="46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グループ化 149"/>
          <p:cNvGrpSpPr/>
          <p:nvPr/>
        </p:nvGrpSpPr>
        <p:grpSpPr>
          <a:xfrm>
            <a:off x="12700080" y="1101600"/>
            <a:ext cx="3433320" cy="3468240"/>
            <a:chOff x="12700080" y="1101600"/>
            <a:chExt cx="3433320" cy="3468240"/>
          </a:xfrm>
        </p:grpSpPr>
        <p:grpSp>
          <p:nvGrpSpPr>
            <p:cNvPr id="115" name="Group 790"/>
            <p:cNvGrpSpPr/>
            <p:nvPr/>
          </p:nvGrpSpPr>
          <p:grpSpPr>
            <a:xfrm>
              <a:off x="12700080" y="1101600"/>
              <a:ext cx="3433320" cy="3468240"/>
              <a:chOff x="12700080" y="1101600"/>
              <a:chExt cx="3433320" cy="3468240"/>
            </a:xfrm>
          </p:grpSpPr>
          <p:sp>
            <p:nvSpPr>
              <p:cNvPr id="116" name="Freeform 735"/>
              <p:cNvSpPr/>
              <p:nvPr/>
            </p:nvSpPr>
            <p:spPr>
              <a:xfrm>
                <a:off x="12916800" y="1305720"/>
                <a:ext cx="3216600" cy="3264120"/>
              </a:xfrm>
              <a:prstGeom prst="pie">
                <a:avLst/>
              </a:prstGeom>
              <a:solidFill>
                <a:srgbClr val="ff0000"/>
              </a:solidFill>
              <a:ln w="368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49"/>
              <p:cNvSpPr/>
              <p:nvPr/>
            </p:nvSpPr>
            <p:spPr>
              <a:xfrm>
                <a:off x="12700080" y="1101600"/>
                <a:ext cx="3216600" cy="3266640"/>
              </a:xfrm>
              <a:prstGeom prst="pie">
                <a:avLst/>
              </a:prstGeom>
              <a:solidFill>
                <a:srgbClr val="ff0000"/>
              </a:solidFill>
              <a:ln w="3682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63"/>
              <p:cNvSpPr/>
              <p:nvPr/>
            </p:nvSpPr>
            <p:spPr>
              <a:xfrm>
                <a:off x="12700080" y="1101600"/>
                <a:ext cx="3216600" cy="32666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正方形/長方形 145"/>
            <p:cNvSpPr/>
            <p:nvPr/>
          </p:nvSpPr>
          <p:spPr>
            <a:xfrm>
              <a:off x="13244760" y="2274840"/>
              <a:ext cx="9108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正方形/長方形 146"/>
            <p:cNvSpPr/>
            <p:nvPr/>
          </p:nvSpPr>
          <p:spPr>
            <a:xfrm>
              <a:off x="13244760" y="2715840"/>
              <a:ext cx="9108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正方形/長方形 147"/>
            <p:cNvSpPr/>
            <p:nvPr/>
          </p:nvSpPr>
          <p:spPr>
            <a:xfrm>
              <a:off x="13816440" y="2274840"/>
              <a:ext cx="11196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正方形/長方形 148"/>
            <p:cNvSpPr/>
            <p:nvPr/>
          </p:nvSpPr>
          <p:spPr>
            <a:xfrm>
              <a:off x="13835160" y="2715840"/>
              <a:ext cx="9108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1:11:52Z</dcterms:created>
  <dc:creator>NEC-PCuser</dc:creator>
  <dc:description/>
  <dc:language>en-US</dc:language>
  <cp:lastModifiedBy>moosawa</cp:lastModifiedBy>
  <dcterms:modified xsi:type="dcterms:W3CDTF">2009-05-28T02:56:59Z</dcterms:modified>
  <cp:revision>2</cp:revision>
  <dc:subject/>
  <dc:title>スライド 1</dc:title>
</cp:coreProperties>
</file>