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11012488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AC6-A0B1-4D1C-BAEC-8FB21948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8BC-BDAF-4980-9E40-837754C2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FD0-7176-4F8B-817A-3A628010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BA4-3412-4509-B711-4BF6439A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75C-D897-41CC-8D6A-C3791FE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279-2412-48F2-ADA2-3B61090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AD1-ABFD-45C0-AA70-3F070FE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6F4-CCA8-4389-8978-AE4E2B7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79200"/>
            <a:ext cx="6476760" cy="8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441-678D-466A-9BFF-DBA5BA17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6E4-661F-42F1-BD8E-8FFEDB2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3CB-0A0E-4B3A-9DCD-B389420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CAB-908A-4F23-A9C4-B04522E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10031400"/>
            <a:ext cx="1587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031400"/>
            <a:ext cx="2413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10031400"/>
            <a:ext cx="1587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C54B-B211-455B-80E0-A6CB30A97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3"/>
          <p:cNvSpPr/>
          <p:nvPr/>
        </p:nvSpPr>
        <p:spPr>
          <a:xfrm>
            <a:off x="353880" y="392040"/>
            <a:ext cx="6912000" cy="10226880"/>
          </a:xfrm>
          <a:custGeom>
            <a:avLst/>
            <a:gdLst>
              <a:gd name="textAreaLeft" fmla="*/ 103680 w 6912000"/>
              <a:gd name="textAreaRight" fmla="*/ 6808320 w 6912000"/>
              <a:gd name="textAreaTop" fmla="*/ 103680 h 10226880"/>
              <a:gd name="textAreaBottom" fmla="*/ 10123200 h 10226880"/>
            </a:gdLst>
            <a:ahLst/>
            <a:rect l="textAreaLeft" t="textAreaTop" r="textAreaRight" b="textAreaBottom"/>
            <a:pathLst>
              <a:path w="21600" h="31958">
                <a:moveTo>
                  <a:pt x="1108" y="0"/>
                </a:moveTo>
                <a:arcTo wR="1108" hR="1108" stAng="16200000" swAng="-5400000"/>
                <a:lnTo>
                  <a:pt x="0" y="30850"/>
                </a:lnTo>
                <a:arcTo wR="1108" hR="1108" stAng="10800000" swAng="-5400000"/>
                <a:lnTo>
                  <a:pt x="20492" y="31958"/>
                </a:lnTo>
                <a:arcTo wR="1108" hR="1108" stAng="5400000" swAng="-5400000"/>
                <a:lnTo>
                  <a:pt x="21600" y="1108"/>
                </a:lnTo>
                <a:arcTo wR="1108" hR="1108" stAng="0" swAng="-5400000"/>
                <a:close/>
              </a:path>
            </a:pathLst>
          </a:custGeom>
          <a:noFill/>
          <a:ln w="507960">
            <a:solidFill>
              <a:srgbClr val="172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図形グループ 11"/>
          <p:cNvGrpSpPr/>
          <p:nvPr/>
        </p:nvGrpSpPr>
        <p:grpSpPr>
          <a:xfrm>
            <a:off x="911160" y="934920"/>
            <a:ext cx="5796000" cy="5797800"/>
            <a:chOff x="911160" y="934920"/>
            <a:chExt cx="5796000" cy="5797800"/>
          </a:xfrm>
        </p:grpSpPr>
        <p:sp>
          <p:nvSpPr>
            <p:cNvPr id="43" name="正方形/長方形 2"/>
            <p:cNvSpPr/>
            <p:nvPr/>
          </p:nvSpPr>
          <p:spPr>
            <a:xfrm>
              <a:off x="911160" y="934920"/>
              <a:ext cx="5796000" cy="5797800"/>
            </a:xfrm>
            <a:prstGeom prst="rect">
              <a:avLst/>
            </a:prstGeom>
            <a:solidFill>
              <a:srgbClr val="2d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図 6" descr=""/>
            <p:cNvPicPr/>
            <p:nvPr/>
          </p:nvPicPr>
          <p:blipFill>
            <a:blip r:embed="rId1"/>
            <a:stretch/>
          </p:blipFill>
          <p:spPr>
            <a:xfrm>
              <a:off x="1214640" y="1298160"/>
              <a:ext cx="5188680" cy="507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図 8" descr=""/>
          <p:cNvPicPr/>
          <p:nvPr/>
        </p:nvPicPr>
        <p:blipFill>
          <a:blip r:embed="rId2"/>
          <a:stretch/>
        </p:blipFill>
        <p:spPr>
          <a:xfrm>
            <a:off x="857160" y="7091280"/>
            <a:ext cx="58309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01:00Z</dcterms:created>
  <dc:creator>ttec</dc:creator>
  <dc:description/>
  <dc:language>en-US</dc:language>
  <cp:lastModifiedBy>Jean</cp:lastModifiedBy>
  <cp:lastPrinted>2013-02-19T01:46:11Z</cp:lastPrinted>
  <dcterms:modified xsi:type="dcterms:W3CDTF">2013-02-19T06:54:58Z</dcterms:modified>
  <cp:revision>50</cp:revision>
  <dc:subject/>
  <dc:title>PowerPoint プレゼンテーション</dc:title>
</cp:coreProperties>
</file>