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E5F-EAE2-4F57-AE44-D9E1F096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B8C-7749-430F-8A9E-1850ADD8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50A-F9CA-4FA5-86EA-A9325CCB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E76-B558-4DA8-9B10-96435463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56F-AD5E-4096-906E-66C745AE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AF6-5D98-45F8-B120-BE7B25DB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056-CD85-44A6-B918-53A900A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178-9897-413A-A5BA-F6E00C98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0BF-44E6-4EAE-9C90-DBFC5101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197-0CD6-4159-9659-350E089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4A1-167C-4CF4-BC76-C96C764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944-848B-48C3-8447-68F2E17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514E4712-5D49-47C5-97EC-42DC5C39C748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3240" y="3240"/>
            <a:ext cx="36728280" cy="7477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14128920" y="2759040"/>
            <a:ext cx="29070000" cy="793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3240" y="3240"/>
            <a:ext cx="431956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3240" y="9779040"/>
            <a:ext cx="43195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45" name="グループ化 10"/>
          <p:cNvGrpSpPr/>
          <p:nvPr/>
        </p:nvGrpSpPr>
        <p:grpSpPr>
          <a:xfrm>
            <a:off x="3240" y="0"/>
            <a:ext cx="43198920" cy="10693440"/>
            <a:chOff x="3240" y="0"/>
            <a:chExt cx="43198920" cy="10693440"/>
          </a:xfrm>
        </p:grpSpPr>
        <p:sp>
          <p:nvSpPr>
            <p:cNvPr id="46" name="Freeform 5"/>
            <p:cNvSpPr/>
            <p:nvPr/>
          </p:nvSpPr>
          <p:spPr>
            <a:xfrm>
              <a:off x="3240" y="0"/>
              <a:ext cx="43198920" cy="10055520"/>
            </a:xfrm>
            <a:custGeom>
              <a:avLst/>
              <a:gdLst>
                <a:gd name="textAreaLeft" fmla="*/ 0 w 43198920"/>
                <a:gd name="textAreaRight" fmla="*/ 43199280 w 43198920"/>
                <a:gd name="textAreaTop" fmla="*/ 0 h 10055520"/>
                <a:gd name="textAreaBottom" fmla="*/ 10055880 h 10055520"/>
              </a:gdLst>
              <a:ahLst/>
              <a:rect l="textAreaLeft" t="textAreaTop" r="textAreaRight" b="textAreaBottom"/>
              <a:pathLst>
                <a:path w="27212" h="6334">
                  <a:moveTo>
                    <a:pt x="6122" y="6212"/>
                  </a:moveTo>
                  <a:lnTo>
                    <a:pt x="6122" y="6212"/>
                  </a:lnTo>
                  <a:lnTo>
                    <a:pt x="6454" y="6190"/>
                  </a:lnTo>
                  <a:lnTo>
                    <a:pt x="6772" y="6166"/>
                  </a:lnTo>
                  <a:lnTo>
                    <a:pt x="7078" y="6142"/>
                  </a:lnTo>
                  <a:lnTo>
                    <a:pt x="7372" y="6116"/>
                  </a:lnTo>
                  <a:lnTo>
                    <a:pt x="7656" y="6092"/>
                  </a:lnTo>
                  <a:lnTo>
                    <a:pt x="7930" y="6064"/>
                  </a:lnTo>
                  <a:lnTo>
                    <a:pt x="8192" y="6038"/>
                  </a:lnTo>
                  <a:lnTo>
                    <a:pt x="8446" y="6010"/>
                  </a:lnTo>
                  <a:lnTo>
                    <a:pt x="8690" y="5980"/>
                  </a:lnTo>
                  <a:lnTo>
                    <a:pt x="8926" y="5950"/>
                  </a:lnTo>
                  <a:lnTo>
                    <a:pt x="9154" y="5918"/>
                  </a:lnTo>
                  <a:lnTo>
                    <a:pt x="9374" y="5884"/>
                  </a:lnTo>
                  <a:lnTo>
                    <a:pt x="9588" y="5850"/>
                  </a:lnTo>
                  <a:lnTo>
                    <a:pt x="9794" y="5814"/>
                  </a:lnTo>
                  <a:lnTo>
                    <a:pt x="9994" y="5776"/>
                  </a:lnTo>
                  <a:lnTo>
                    <a:pt x="10190" y="5736"/>
                  </a:lnTo>
                  <a:lnTo>
                    <a:pt x="10380" y="5694"/>
                  </a:lnTo>
                  <a:lnTo>
                    <a:pt x="10564" y="5652"/>
                  </a:lnTo>
                  <a:lnTo>
                    <a:pt x="10746" y="5606"/>
                  </a:lnTo>
                  <a:lnTo>
                    <a:pt x="10924" y="5558"/>
                  </a:lnTo>
                  <a:lnTo>
                    <a:pt x="11098" y="5508"/>
                  </a:lnTo>
                  <a:lnTo>
                    <a:pt x="11270" y="5456"/>
                  </a:lnTo>
                  <a:lnTo>
                    <a:pt x="11440" y="5402"/>
                  </a:lnTo>
                  <a:lnTo>
                    <a:pt x="11608" y="5344"/>
                  </a:lnTo>
                  <a:lnTo>
                    <a:pt x="11774" y="5286"/>
                  </a:lnTo>
                  <a:lnTo>
                    <a:pt x="11942" y="5224"/>
                  </a:lnTo>
                  <a:lnTo>
                    <a:pt x="12108" y="5158"/>
                  </a:lnTo>
                  <a:lnTo>
                    <a:pt x="12276" y="5090"/>
                  </a:lnTo>
                  <a:lnTo>
                    <a:pt x="12442" y="5020"/>
                  </a:lnTo>
                  <a:lnTo>
                    <a:pt x="12612" y="4946"/>
                  </a:lnTo>
                  <a:lnTo>
                    <a:pt x="12784" y="4868"/>
                  </a:lnTo>
                  <a:lnTo>
                    <a:pt x="12958" y="4788"/>
                  </a:lnTo>
                  <a:lnTo>
                    <a:pt x="12958" y="4788"/>
                  </a:lnTo>
                  <a:lnTo>
                    <a:pt x="13604" y="4488"/>
                  </a:lnTo>
                  <a:lnTo>
                    <a:pt x="14000" y="4306"/>
                  </a:lnTo>
                  <a:lnTo>
                    <a:pt x="14438" y="4106"/>
                  </a:lnTo>
                  <a:lnTo>
                    <a:pt x="14910" y="3896"/>
                  </a:lnTo>
                  <a:lnTo>
                    <a:pt x="15408" y="3674"/>
                  </a:lnTo>
                  <a:lnTo>
                    <a:pt x="15930" y="3448"/>
                  </a:lnTo>
                  <a:lnTo>
                    <a:pt x="16468" y="3218"/>
                  </a:lnTo>
                  <a:lnTo>
                    <a:pt x="16742" y="3104"/>
                  </a:lnTo>
                  <a:lnTo>
                    <a:pt x="17016" y="2992"/>
                  </a:lnTo>
                  <a:lnTo>
                    <a:pt x="17292" y="2880"/>
                  </a:lnTo>
                  <a:lnTo>
                    <a:pt x="17568" y="2768"/>
                  </a:lnTo>
                  <a:lnTo>
                    <a:pt x="17842" y="2660"/>
                  </a:lnTo>
                  <a:lnTo>
                    <a:pt x="18116" y="2554"/>
                  </a:lnTo>
                  <a:lnTo>
                    <a:pt x="18388" y="2452"/>
                  </a:lnTo>
                  <a:lnTo>
                    <a:pt x="18658" y="2352"/>
                  </a:lnTo>
                  <a:lnTo>
                    <a:pt x="18922" y="2256"/>
                  </a:lnTo>
                  <a:lnTo>
                    <a:pt x="19184" y="2164"/>
                  </a:lnTo>
                  <a:lnTo>
                    <a:pt x="19440" y="2078"/>
                  </a:lnTo>
                  <a:lnTo>
                    <a:pt x="19690" y="1998"/>
                  </a:lnTo>
                  <a:lnTo>
                    <a:pt x="19932" y="1922"/>
                  </a:lnTo>
                  <a:lnTo>
                    <a:pt x="20168" y="1852"/>
                  </a:lnTo>
                  <a:lnTo>
                    <a:pt x="20396" y="1788"/>
                  </a:lnTo>
                  <a:lnTo>
                    <a:pt x="20614" y="1732"/>
                  </a:lnTo>
                  <a:lnTo>
                    <a:pt x="20614" y="1732"/>
                  </a:lnTo>
                  <a:lnTo>
                    <a:pt x="20800" y="1688"/>
                  </a:lnTo>
                  <a:lnTo>
                    <a:pt x="20990" y="1644"/>
                  </a:lnTo>
                  <a:lnTo>
                    <a:pt x="21184" y="1602"/>
                  </a:lnTo>
                  <a:lnTo>
                    <a:pt x="21380" y="1560"/>
                  </a:lnTo>
                  <a:lnTo>
                    <a:pt x="21580" y="1520"/>
                  </a:lnTo>
                  <a:lnTo>
                    <a:pt x="21782" y="1482"/>
                  </a:lnTo>
                  <a:lnTo>
                    <a:pt x="21986" y="1444"/>
                  </a:lnTo>
                  <a:lnTo>
                    <a:pt x="22192" y="1408"/>
                  </a:lnTo>
                  <a:lnTo>
                    <a:pt x="22398" y="1374"/>
                  </a:lnTo>
                  <a:lnTo>
                    <a:pt x="22608" y="1340"/>
                  </a:lnTo>
                  <a:lnTo>
                    <a:pt x="22820" y="1308"/>
                  </a:lnTo>
                  <a:lnTo>
                    <a:pt x="23032" y="1278"/>
                  </a:lnTo>
                  <a:lnTo>
                    <a:pt x="23244" y="1248"/>
                  </a:lnTo>
                  <a:lnTo>
                    <a:pt x="23458" y="1220"/>
                  </a:lnTo>
                  <a:lnTo>
                    <a:pt x="23674" y="1194"/>
                  </a:lnTo>
                  <a:lnTo>
                    <a:pt x="23888" y="1170"/>
                  </a:lnTo>
                  <a:lnTo>
                    <a:pt x="24104" y="1146"/>
                  </a:lnTo>
                  <a:lnTo>
                    <a:pt x="24318" y="1126"/>
                  </a:lnTo>
                  <a:lnTo>
                    <a:pt x="24534" y="1106"/>
                  </a:lnTo>
                  <a:lnTo>
                    <a:pt x="24748" y="1086"/>
                  </a:lnTo>
                  <a:lnTo>
                    <a:pt x="24962" y="1070"/>
                  </a:lnTo>
                  <a:lnTo>
                    <a:pt x="25176" y="1054"/>
                  </a:lnTo>
                  <a:lnTo>
                    <a:pt x="25388" y="1042"/>
                  </a:lnTo>
                  <a:lnTo>
                    <a:pt x="25598" y="1030"/>
                  </a:lnTo>
                  <a:lnTo>
                    <a:pt x="25808" y="1020"/>
                  </a:lnTo>
                  <a:lnTo>
                    <a:pt x="26014" y="1012"/>
                  </a:lnTo>
                  <a:lnTo>
                    <a:pt x="26220" y="1006"/>
                  </a:lnTo>
                  <a:lnTo>
                    <a:pt x="26424" y="1000"/>
                  </a:lnTo>
                  <a:lnTo>
                    <a:pt x="26626" y="998"/>
                  </a:lnTo>
                  <a:lnTo>
                    <a:pt x="26824" y="996"/>
                  </a:lnTo>
                  <a:lnTo>
                    <a:pt x="27020" y="998"/>
                  </a:lnTo>
                  <a:lnTo>
                    <a:pt x="27212" y="1000"/>
                  </a:lnTo>
                  <a:lnTo>
                    <a:pt x="27212" y="0"/>
                  </a:lnTo>
                  <a:lnTo>
                    <a:pt x="23128" y="0"/>
                  </a:lnTo>
                  <a:lnTo>
                    <a:pt x="23128" y="0"/>
                  </a:lnTo>
                  <a:lnTo>
                    <a:pt x="22988" y="22"/>
                  </a:lnTo>
                  <a:lnTo>
                    <a:pt x="22850" y="44"/>
                  </a:lnTo>
                  <a:lnTo>
                    <a:pt x="22710" y="68"/>
                  </a:lnTo>
                  <a:lnTo>
                    <a:pt x="22568" y="94"/>
                  </a:lnTo>
                  <a:lnTo>
                    <a:pt x="22428" y="120"/>
                  </a:lnTo>
                  <a:lnTo>
                    <a:pt x="22288" y="148"/>
                  </a:lnTo>
                  <a:lnTo>
                    <a:pt x="22146" y="178"/>
                  </a:lnTo>
                  <a:lnTo>
                    <a:pt x="22006" y="210"/>
                  </a:lnTo>
                  <a:lnTo>
                    <a:pt x="22006" y="210"/>
                  </a:lnTo>
                  <a:lnTo>
                    <a:pt x="21908" y="234"/>
                  </a:lnTo>
                  <a:lnTo>
                    <a:pt x="21808" y="258"/>
                  </a:lnTo>
                  <a:lnTo>
                    <a:pt x="21706" y="286"/>
                  </a:lnTo>
                  <a:lnTo>
                    <a:pt x="21602" y="314"/>
                  </a:lnTo>
                  <a:lnTo>
                    <a:pt x="21388" y="378"/>
                  </a:lnTo>
                  <a:lnTo>
                    <a:pt x="21164" y="450"/>
                  </a:lnTo>
                  <a:lnTo>
                    <a:pt x="20936" y="526"/>
                  </a:lnTo>
                  <a:lnTo>
                    <a:pt x="20700" y="610"/>
                  </a:lnTo>
                  <a:lnTo>
                    <a:pt x="20458" y="698"/>
                  </a:lnTo>
                  <a:lnTo>
                    <a:pt x="20210" y="794"/>
                  </a:lnTo>
                  <a:lnTo>
                    <a:pt x="19958" y="892"/>
                  </a:lnTo>
                  <a:lnTo>
                    <a:pt x="19700" y="996"/>
                  </a:lnTo>
                  <a:lnTo>
                    <a:pt x="19440" y="1102"/>
                  </a:lnTo>
                  <a:lnTo>
                    <a:pt x="19174" y="1212"/>
                  </a:lnTo>
                  <a:lnTo>
                    <a:pt x="18908" y="1326"/>
                  </a:lnTo>
                  <a:lnTo>
                    <a:pt x="18638" y="1442"/>
                  </a:lnTo>
                  <a:lnTo>
                    <a:pt x="18092" y="1678"/>
                  </a:lnTo>
                  <a:lnTo>
                    <a:pt x="17544" y="1920"/>
                  </a:lnTo>
                  <a:lnTo>
                    <a:pt x="16996" y="2162"/>
                  </a:lnTo>
                  <a:lnTo>
                    <a:pt x="16454" y="2402"/>
                  </a:lnTo>
                  <a:lnTo>
                    <a:pt x="15922" y="2634"/>
                  </a:lnTo>
                  <a:lnTo>
                    <a:pt x="15660" y="2746"/>
                  </a:lnTo>
                  <a:lnTo>
                    <a:pt x="15402" y="2856"/>
                  </a:lnTo>
                  <a:lnTo>
                    <a:pt x="15150" y="2962"/>
                  </a:lnTo>
                  <a:lnTo>
                    <a:pt x="14902" y="3064"/>
                  </a:lnTo>
                  <a:lnTo>
                    <a:pt x="14658" y="3162"/>
                  </a:lnTo>
                  <a:lnTo>
                    <a:pt x="14422" y="3256"/>
                  </a:lnTo>
                  <a:lnTo>
                    <a:pt x="14192" y="3342"/>
                  </a:lnTo>
                  <a:lnTo>
                    <a:pt x="13970" y="3424"/>
                  </a:lnTo>
                  <a:lnTo>
                    <a:pt x="13970" y="3424"/>
                  </a:lnTo>
                  <a:lnTo>
                    <a:pt x="13754" y="3502"/>
                  </a:lnTo>
                  <a:lnTo>
                    <a:pt x="13544" y="3574"/>
                  </a:lnTo>
                  <a:lnTo>
                    <a:pt x="13342" y="3642"/>
                  </a:lnTo>
                  <a:lnTo>
                    <a:pt x="13144" y="3708"/>
                  </a:lnTo>
                  <a:lnTo>
                    <a:pt x="12952" y="3768"/>
                  </a:lnTo>
                  <a:lnTo>
                    <a:pt x="12764" y="3826"/>
                  </a:lnTo>
                  <a:lnTo>
                    <a:pt x="12580" y="3880"/>
                  </a:lnTo>
                  <a:lnTo>
                    <a:pt x="12398" y="3930"/>
                  </a:lnTo>
                  <a:lnTo>
                    <a:pt x="12220" y="3978"/>
                  </a:lnTo>
                  <a:lnTo>
                    <a:pt x="12042" y="4022"/>
                  </a:lnTo>
                  <a:lnTo>
                    <a:pt x="11868" y="4064"/>
                  </a:lnTo>
                  <a:lnTo>
                    <a:pt x="11692" y="4102"/>
                  </a:lnTo>
                  <a:lnTo>
                    <a:pt x="11518" y="4138"/>
                  </a:lnTo>
                  <a:lnTo>
                    <a:pt x="11344" y="4172"/>
                  </a:lnTo>
                  <a:lnTo>
                    <a:pt x="11168" y="4204"/>
                  </a:lnTo>
                  <a:lnTo>
                    <a:pt x="10992" y="4234"/>
                  </a:lnTo>
                  <a:lnTo>
                    <a:pt x="10812" y="4262"/>
                  </a:lnTo>
                  <a:lnTo>
                    <a:pt x="10632" y="4288"/>
                  </a:lnTo>
                  <a:lnTo>
                    <a:pt x="10446" y="4312"/>
                  </a:lnTo>
                  <a:lnTo>
                    <a:pt x="10258" y="4334"/>
                  </a:lnTo>
                  <a:lnTo>
                    <a:pt x="10066" y="4356"/>
                  </a:lnTo>
                  <a:lnTo>
                    <a:pt x="9868" y="4376"/>
                  </a:lnTo>
                  <a:lnTo>
                    <a:pt x="9664" y="4396"/>
                  </a:lnTo>
                  <a:lnTo>
                    <a:pt x="9454" y="4414"/>
                  </a:lnTo>
                  <a:lnTo>
                    <a:pt x="9016" y="4448"/>
                  </a:lnTo>
                  <a:lnTo>
                    <a:pt x="8544" y="4480"/>
                  </a:lnTo>
                  <a:lnTo>
                    <a:pt x="8038" y="4512"/>
                  </a:lnTo>
                  <a:lnTo>
                    <a:pt x="7490" y="4546"/>
                  </a:lnTo>
                  <a:lnTo>
                    <a:pt x="7490" y="4546"/>
                  </a:lnTo>
                  <a:lnTo>
                    <a:pt x="7240" y="4558"/>
                  </a:lnTo>
                  <a:lnTo>
                    <a:pt x="6988" y="4570"/>
                  </a:lnTo>
                  <a:lnTo>
                    <a:pt x="6738" y="4578"/>
                  </a:lnTo>
                  <a:lnTo>
                    <a:pt x="6486" y="4584"/>
                  </a:lnTo>
                  <a:lnTo>
                    <a:pt x="6236" y="4588"/>
                  </a:lnTo>
                  <a:lnTo>
                    <a:pt x="5986" y="4590"/>
                  </a:lnTo>
                  <a:lnTo>
                    <a:pt x="5738" y="4590"/>
                  </a:lnTo>
                  <a:lnTo>
                    <a:pt x="5490" y="4588"/>
                  </a:lnTo>
                  <a:lnTo>
                    <a:pt x="5242" y="4584"/>
                  </a:lnTo>
                  <a:lnTo>
                    <a:pt x="4994" y="4578"/>
                  </a:lnTo>
                  <a:lnTo>
                    <a:pt x="4750" y="4572"/>
                  </a:lnTo>
                  <a:lnTo>
                    <a:pt x="4504" y="4562"/>
                  </a:lnTo>
                  <a:lnTo>
                    <a:pt x="4262" y="4552"/>
                  </a:lnTo>
                  <a:lnTo>
                    <a:pt x="4020" y="4542"/>
                  </a:lnTo>
                  <a:lnTo>
                    <a:pt x="3540" y="4516"/>
                  </a:lnTo>
                  <a:lnTo>
                    <a:pt x="3066" y="4488"/>
                  </a:lnTo>
                  <a:lnTo>
                    <a:pt x="2600" y="4456"/>
                  </a:lnTo>
                  <a:lnTo>
                    <a:pt x="2142" y="4422"/>
                  </a:lnTo>
                  <a:lnTo>
                    <a:pt x="1692" y="4388"/>
                  </a:lnTo>
                  <a:lnTo>
                    <a:pt x="824" y="4320"/>
                  </a:lnTo>
                  <a:lnTo>
                    <a:pt x="406" y="4290"/>
                  </a:lnTo>
                  <a:lnTo>
                    <a:pt x="0" y="4260"/>
                  </a:lnTo>
                  <a:lnTo>
                    <a:pt x="0" y="6174"/>
                  </a:lnTo>
                  <a:lnTo>
                    <a:pt x="0" y="6174"/>
                  </a:lnTo>
                  <a:lnTo>
                    <a:pt x="250" y="6204"/>
                  </a:lnTo>
                  <a:lnTo>
                    <a:pt x="514" y="6230"/>
                  </a:lnTo>
                  <a:lnTo>
                    <a:pt x="790" y="6256"/>
                  </a:lnTo>
                  <a:lnTo>
                    <a:pt x="1080" y="6278"/>
                  </a:lnTo>
                  <a:lnTo>
                    <a:pt x="1388" y="6296"/>
                  </a:lnTo>
                  <a:lnTo>
                    <a:pt x="1712" y="6312"/>
                  </a:lnTo>
                  <a:lnTo>
                    <a:pt x="2052" y="6324"/>
                  </a:lnTo>
                  <a:lnTo>
                    <a:pt x="2414" y="6330"/>
                  </a:lnTo>
                  <a:lnTo>
                    <a:pt x="2794" y="6334"/>
                  </a:lnTo>
                  <a:lnTo>
                    <a:pt x="3196" y="6334"/>
                  </a:lnTo>
                  <a:lnTo>
                    <a:pt x="3622" y="6328"/>
                  </a:lnTo>
                  <a:lnTo>
                    <a:pt x="3842" y="6322"/>
                  </a:lnTo>
                  <a:lnTo>
                    <a:pt x="4070" y="6316"/>
                  </a:lnTo>
                  <a:lnTo>
                    <a:pt x="4302" y="6308"/>
                  </a:lnTo>
                  <a:lnTo>
                    <a:pt x="4542" y="6298"/>
                  </a:lnTo>
                  <a:lnTo>
                    <a:pt x="4788" y="6288"/>
                  </a:lnTo>
                  <a:lnTo>
                    <a:pt x="5042" y="6276"/>
                  </a:lnTo>
                  <a:lnTo>
                    <a:pt x="5302" y="6262"/>
                  </a:lnTo>
                  <a:lnTo>
                    <a:pt x="5568" y="6248"/>
                  </a:lnTo>
                  <a:lnTo>
                    <a:pt x="5842" y="6230"/>
                  </a:lnTo>
                  <a:lnTo>
                    <a:pt x="6122" y="6212"/>
                  </a:lnTo>
                  <a:lnTo>
                    <a:pt x="6122" y="6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3240" y="269640"/>
              <a:ext cx="43198920" cy="10404720"/>
            </a:xfrm>
            <a:custGeom>
              <a:avLst/>
              <a:gdLst>
                <a:gd name="textAreaLeft" fmla="*/ 0 w 43198920"/>
                <a:gd name="textAreaRight" fmla="*/ 43199280 w 43198920"/>
                <a:gd name="textAreaTop" fmla="*/ 0 h 10404720"/>
                <a:gd name="textAreaBottom" fmla="*/ 10405080 h 10404720"/>
              </a:gdLst>
              <a:ahLst/>
              <a:rect l="textAreaLeft" t="textAreaTop" r="textAreaRight" b="textAreaBottom"/>
              <a:pathLst>
                <a:path w="27212" h="6554">
                  <a:moveTo>
                    <a:pt x="6122" y="6432"/>
                  </a:moveTo>
                  <a:lnTo>
                    <a:pt x="6122" y="6432"/>
                  </a:lnTo>
                  <a:lnTo>
                    <a:pt x="6454" y="6410"/>
                  </a:lnTo>
                  <a:lnTo>
                    <a:pt x="6772" y="6386"/>
                  </a:lnTo>
                  <a:lnTo>
                    <a:pt x="7078" y="6362"/>
                  </a:lnTo>
                  <a:lnTo>
                    <a:pt x="7372" y="6336"/>
                  </a:lnTo>
                  <a:lnTo>
                    <a:pt x="7656" y="6312"/>
                  </a:lnTo>
                  <a:lnTo>
                    <a:pt x="7930" y="6284"/>
                  </a:lnTo>
                  <a:lnTo>
                    <a:pt x="8192" y="6258"/>
                  </a:lnTo>
                  <a:lnTo>
                    <a:pt x="8446" y="6230"/>
                  </a:lnTo>
                  <a:lnTo>
                    <a:pt x="8690" y="6200"/>
                  </a:lnTo>
                  <a:lnTo>
                    <a:pt x="8926" y="6170"/>
                  </a:lnTo>
                  <a:lnTo>
                    <a:pt x="9154" y="6138"/>
                  </a:lnTo>
                  <a:lnTo>
                    <a:pt x="9374" y="6104"/>
                  </a:lnTo>
                  <a:lnTo>
                    <a:pt x="9588" y="6070"/>
                  </a:lnTo>
                  <a:lnTo>
                    <a:pt x="9794" y="6034"/>
                  </a:lnTo>
                  <a:lnTo>
                    <a:pt x="9994" y="5996"/>
                  </a:lnTo>
                  <a:lnTo>
                    <a:pt x="10190" y="5956"/>
                  </a:lnTo>
                  <a:lnTo>
                    <a:pt x="10380" y="5914"/>
                  </a:lnTo>
                  <a:lnTo>
                    <a:pt x="10564" y="5872"/>
                  </a:lnTo>
                  <a:lnTo>
                    <a:pt x="10746" y="5826"/>
                  </a:lnTo>
                  <a:lnTo>
                    <a:pt x="10924" y="5778"/>
                  </a:lnTo>
                  <a:lnTo>
                    <a:pt x="11098" y="5728"/>
                  </a:lnTo>
                  <a:lnTo>
                    <a:pt x="11270" y="5676"/>
                  </a:lnTo>
                  <a:lnTo>
                    <a:pt x="11440" y="5622"/>
                  </a:lnTo>
                  <a:lnTo>
                    <a:pt x="11608" y="5566"/>
                  </a:lnTo>
                  <a:lnTo>
                    <a:pt x="11774" y="5506"/>
                  </a:lnTo>
                  <a:lnTo>
                    <a:pt x="11942" y="5444"/>
                  </a:lnTo>
                  <a:lnTo>
                    <a:pt x="12108" y="5378"/>
                  </a:lnTo>
                  <a:lnTo>
                    <a:pt x="12276" y="5310"/>
                  </a:lnTo>
                  <a:lnTo>
                    <a:pt x="12442" y="5240"/>
                  </a:lnTo>
                  <a:lnTo>
                    <a:pt x="12612" y="5166"/>
                  </a:lnTo>
                  <a:lnTo>
                    <a:pt x="12784" y="5088"/>
                  </a:lnTo>
                  <a:lnTo>
                    <a:pt x="12958" y="5008"/>
                  </a:lnTo>
                  <a:lnTo>
                    <a:pt x="12958" y="5008"/>
                  </a:lnTo>
                  <a:lnTo>
                    <a:pt x="13604" y="4708"/>
                  </a:lnTo>
                  <a:lnTo>
                    <a:pt x="14000" y="4526"/>
                  </a:lnTo>
                  <a:lnTo>
                    <a:pt x="14438" y="4326"/>
                  </a:lnTo>
                  <a:lnTo>
                    <a:pt x="14910" y="4116"/>
                  </a:lnTo>
                  <a:lnTo>
                    <a:pt x="15408" y="3894"/>
                  </a:lnTo>
                  <a:lnTo>
                    <a:pt x="15930" y="3668"/>
                  </a:lnTo>
                  <a:lnTo>
                    <a:pt x="16468" y="3440"/>
                  </a:lnTo>
                  <a:lnTo>
                    <a:pt x="16742" y="3324"/>
                  </a:lnTo>
                  <a:lnTo>
                    <a:pt x="17016" y="3212"/>
                  </a:lnTo>
                  <a:lnTo>
                    <a:pt x="17292" y="3100"/>
                  </a:lnTo>
                  <a:lnTo>
                    <a:pt x="17568" y="2988"/>
                  </a:lnTo>
                  <a:lnTo>
                    <a:pt x="17842" y="2880"/>
                  </a:lnTo>
                  <a:lnTo>
                    <a:pt x="18116" y="2774"/>
                  </a:lnTo>
                  <a:lnTo>
                    <a:pt x="18388" y="2672"/>
                  </a:lnTo>
                  <a:lnTo>
                    <a:pt x="18658" y="2572"/>
                  </a:lnTo>
                  <a:lnTo>
                    <a:pt x="18922" y="2476"/>
                  </a:lnTo>
                  <a:lnTo>
                    <a:pt x="19184" y="2386"/>
                  </a:lnTo>
                  <a:lnTo>
                    <a:pt x="19440" y="2298"/>
                  </a:lnTo>
                  <a:lnTo>
                    <a:pt x="19690" y="2218"/>
                  </a:lnTo>
                  <a:lnTo>
                    <a:pt x="19932" y="2142"/>
                  </a:lnTo>
                  <a:lnTo>
                    <a:pt x="20168" y="2072"/>
                  </a:lnTo>
                  <a:lnTo>
                    <a:pt x="20396" y="2010"/>
                  </a:lnTo>
                  <a:lnTo>
                    <a:pt x="20614" y="1952"/>
                  </a:lnTo>
                  <a:lnTo>
                    <a:pt x="20614" y="1952"/>
                  </a:lnTo>
                  <a:lnTo>
                    <a:pt x="20800" y="1908"/>
                  </a:lnTo>
                  <a:lnTo>
                    <a:pt x="20990" y="1864"/>
                  </a:lnTo>
                  <a:lnTo>
                    <a:pt x="21184" y="1822"/>
                  </a:lnTo>
                  <a:lnTo>
                    <a:pt x="21380" y="1780"/>
                  </a:lnTo>
                  <a:lnTo>
                    <a:pt x="21580" y="1740"/>
                  </a:lnTo>
                  <a:lnTo>
                    <a:pt x="21782" y="1702"/>
                  </a:lnTo>
                  <a:lnTo>
                    <a:pt x="21986" y="1664"/>
                  </a:lnTo>
                  <a:lnTo>
                    <a:pt x="22192" y="1628"/>
                  </a:lnTo>
                  <a:lnTo>
                    <a:pt x="22398" y="1594"/>
                  </a:lnTo>
                  <a:lnTo>
                    <a:pt x="22608" y="1560"/>
                  </a:lnTo>
                  <a:lnTo>
                    <a:pt x="22820" y="1528"/>
                  </a:lnTo>
                  <a:lnTo>
                    <a:pt x="23032" y="1498"/>
                  </a:lnTo>
                  <a:lnTo>
                    <a:pt x="23244" y="1468"/>
                  </a:lnTo>
                  <a:lnTo>
                    <a:pt x="23458" y="1440"/>
                  </a:lnTo>
                  <a:lnTo>
                    <a:pt x="23674" y="1414"/>
                  </a:lnTo>
                  <a:lnTo>
                    <a:pt x="23888" y="1390"/>
                  </a:lnTo>
                  <a:lnTo>
                    <a:pt x="24104" y="1366"/>
                  </a:lnTo>
                  <a:lnTo>
                    <a:pt x="24318" y="1346"/>
                  </a:lnTo>
                  <a:lnTo>
                    <a:pt x="24534" y="1326"/>
                  </a:lnTo>
                  <a:lnTo>
                    <a:pt x="24748" y="1306"/>
                  </a:lnTo>
                  <a:lnTo>
                    <a:pt x="24962" y="1290"/>
                  </a:lnTo>
                  <a:lnTo>
                    <a:pt x="25176" y="1276"/>
                  </a:lnTo>
                  <a:lnTo>
                    <a:pt x="25388" y="1262"/>
                  </a:lnTo>
                  <a:lnTo>
                    <a:pt x="25598" y="1250"/>
                  </a:lnTo>
                  <a:lnTo>
                    <a:pt x="25808" y="1240"/>
                  </a:lnTo>
                  <a:lnTo>
                    <a:pt x="26014" y="1232"/>
                  </a:lnTo>
                  <a:lnTo>
                    <a:pt x="26220" y="1226"/>
                  </a:lnTo>
                  <a:lnTo>
                    <a:pt x="26424" y="1220"/>
                  </a:lnTo>
                  <a:lnTo>
                    <a:pt x="26626" y="1218"/>
                  </a:lnTo>
                  <a:lnTo>
                    <a:pt x="26824" y="1216"/>
                  </a:lnTo>
                  <a:lnTo>
                    <a:pt x="27020" y="1218"/>
                  </a:lnTo>
                  <a:lnTo>
                    <a:pt x="27212" y="1220"/>
                  </a:lnTo>
                  <a:lnTo>
                    <a:pt x="27212" y="0"/>
                  </a:lnTo>
                  <a:lnTo>
                    <a:pt x="27212" y="0"/>
                  </a:lnTo>
                  <a:lnTo>
                    <a:pt x="26642" y="4"/>
                  </a:lnTo>
                  <a:lnTo>
                    <a:pt x="26346" y="8"/>
                  </a:lnTo>
                  <a:lnTo>
                    <a:pt x="26042" y="12"/>
                  </a:lnTo>
                  <a:lnTo>
                    <a:pt x="25730" y="18"/>
                  </a:lnTo>
                  <a:lnTo>
                    <a:pt x="25412" y="28"/>
                  </a:lnTo>
                  <a:lnTo>
                    <a:pt x="25090" y="40"/>
                  </a:lnTo>
                  <a:lnTo>
                    <a:pt x="24762" y="58"/>
                  </a:lnTo>
                  <a:lnTo>
                    <a:pt x="24596" y="68"/>
                  </a:lnTo>
                  <a:lnTo>
                    <a:pt x="24428" y="80"/>
                  </a:lnTo>
                  <a:lnTo>
                    <a:pt x="24260" y="94"/>
                  </a:lnTo>
                  <a:lnTo>
                    <a:pt x="24092" y="108"/>
                  </a:lnTo>
                  <a:lnTo>
                    <a:pt x="23922" y="124"/>
                  </a:lnTo>
                  <a:lnTo>
                    <a:pt x="23750" y="142"/>
                  </a:lnTo>
                  <a:lnTo>
                    <a:pt x="23578" y="162"/>
                  </a:lnTo>
                  <a:lnTo>
                    <a:pt x="23406" y="182"/>
                  </a:lnTo>
                  <a:lnTo>
                    <a:pt x="23232" y="206"/>
                  </a:lnTo>
                  <a:lnTo>
                    <a:pt x="23058" y="232"/>
                  </a:lnTo>
                  <a:lnTo>
                    <a:pt x="22884" y="258"/>
                  </a:lnTo>
                  <a:lnTo>
                    <a:pt x="22710" y="288"/>
                  </a:lnTo>
                  <a:lnTo>
                    <a:pt x="22534" y="320"/>
                  </a:lnTo>
                  <a:lnTo>
                    <a:pt x="22358" y="354"/>
                  </a:lnTo>
                  <a:lnTo>
                    <a:pt x="22182" y="392"/>
                  </a:lnTo>
                  <a:lnTo>
                    <a:pt x="22006" y="430"/>
                  </a:lnTo>
                  <a:lnTo>
                    <a:pt x="22006" y="430"/>
                  </a:lnTo>
                  <a:lnTo>
                    <a:pt x="21908" y="454"/>
                  </a:lnTo>
                  <a:lnTo>
                    <a:pt x="21808" y="478"/>
                  </a:lnTo>
                  <a:lnTo>
                    <a:pt x="21706" y="506"/>
                  </a:lnTo>
                  <a:lnTo>
                    <a:pt x="21602" y="536"/>
                  </a:lnTo>
                  <a:lnTo>
                    <a:pt x="21388" y="598"/>
                  </a:lnTo>
                  <a:lnTo>
                    <a:pt x="21164" y="670"/>
                  </a:lnTo>
                  <a:lnTo>
                    <a:pt x="20936" y="746"/>
                  </a:lnTo>
                  <a:lnTo>
                    <a:pt x="20700" y="830"/>
                  </a:lnTo>
                  <a:lnTo>
                    <a:pt x="20458" y="920"/>
                  </a:lnTo>
                  <a:lnTo>
                    <a:pt x="20210" y="1014"/>
                  </a:lnTo>
                  <a:lnTo>
                    <a:pt x="19958" y="1112"/>
                  </a:lnTo>
                  <a:lnTo>
                    <a:pt x="19700" y="1216"/>
                  </a:lnTo>
                  <a:lnTo>
                    <a:pt x="19440" y="1322"/>
                  </a:lnTo>
                  <a:lnTo>
                    <a:pt x="19174" y="1432"/>
                  </a:lnTo>
                  <a:lnTo>
                    <a:pt x="18908" y="1546"/>
                  </a:lnTo>
                  <a:lnTo>
                    <a:pt x="18638" y="1662"/>
                  </a:lnTo>
                  <a:lnTo>
                    <a:pt x="18092" y="1898"/>
                  </a:lnTo>
                  <a:lnTo>
                    <a:pt x="17544" y="2140"/>
                  </a:lnTo>
                  <a:lnTo>
                    <a:pt x="16996" y="2382"/>
                  </a:lnTo>
                  <a:lnTo>
                    <a:pt x="16454" y="2622"/>
                  </a:lnTo>
                  <a:lnTo>
                    <a:pt x="15922" y="2854"/>
                  </a:lnTo>
                  <a:lnTo>
                    <a:pt x="15660" y="2966"/>
                  </a:lnTo>
                  <a:lnTo>
                    <a:pt x="15402" y="3076"/>
                  </a:lnTo>
                  <a:lnTo>
                    <a:pt x="15150" y="3182"/>
                  </a:lnTo>
                  <a:lnTo>
                    <a:pt x="14902" y="3284"/>
                  </a:lnTo>
                  <a:lnTo>
                    <a:pt x="14658" y="3382"/>
                  </a:lnTo>
                  <a:lnTo>
                    <a:pt x="14422" y="3476"/>
                  </a:lnTo>
                  <a:lnTo>
                    <a:pt x="14192" y="3564"/>
                  </a:lnTo>
                  <a:lnTo>
                    <a:pt x="13970" y="3646"/>
                  </a:lnTo>
                  <a:lnTo>
                    <a:pt x="13970" y="3646"/>
                  </a:lnTo>
                  <a:lnTo>
                    <a:pt x="13754" y="3722"/>
                  </a:lnTo>
                  <a:lnTo>
                    <a:pt x="13544" y="3794"/>
                  </a:lnTo>
                  <a:lnTo>
                    <a:pt x="13342" y="3864"/>
                  </a:lnTo>
                  <a:lnTo>
                    <a:pt x="13144" y="3928"/>
                  </a:lnTo>
                  <a:lnTo>
                    <a:pt x="12952" y="3988"/>
                  </a:lnTo>
                  <a:lnTo>
                    <a:pt x="12764" y="4046"/>
                  </a:lnTo>
                  <a:lnTo>
                    <a:pt x="12580" y="4100"/>
                  </a:lnTo>
                  <a:lnTo>
                    <a:pt x="12398" y="4150"/>
                  </a:lnTo>
                  <a:lnTo>
                    <a:pt x="12220" y="4198"/>
                  </a:lnTo>
                  <a:lnTo>
                    <a:pt x="12042" y="4242"/>
                  </a:lnTo>
                  <a:lnTo>
                    <a:pt x="11868" y="4284"/>
                  </a:lnTo>
                  <a:lnTo>
                    <a:pt x="11692" y="4322"/>
                  </a:lnTo>
                  <a:lnTo>
                    <a:pt x="11518" y="4358"/>
                  </a:lnTo>
                  <a:lnTo>
                    <a:pt x="11344" y="4392"/>
                  </a:lnTo>
                  <a:lnTo>
                    <a:pt x="11168" y="4424"/>
                  </a:lnTo>
                  <a:lnTo>
                    <a:pt x="10992" y="4454"/>
                  </a:lnTo>
                  <a:lnTo>
                    <a:pt x="10812" y="4482"/>
                  </a:lnTo>
                  <a:lnTo>
                    <a:pt x="10632" y="4508"/>
                  </a:lnTo>
                  <a:lnTo>
                    <a:pt x="10446" y="4532"/>
                  </a:lnTo>
                  <a:lnTo>
                    <a:pt x="10258" y="4554"/>
                  </a:lnTo>
                  <a:lnTo>
                    <a:pt x="10066" y="4576"/>
                  </a:lnTo>
                  <a:lnTo>
                    <a:pt x="9868" y="4596"/>
                  </a:lnTo>
                  <a:lnTo>
                    <a:pt x="9664" y="4616"/>
                  </a:lnTo>
                  <a:lnTo>
                    <a:pt x="9454" y="4634"/>
                  </a:lnTo>
                  <a:lnTo>
                    <a:pt x="9016" y="4668"/>
                  </a:lnTo>
                  <a:lnTo>
                    <a:pt x="8544" y="4700"/>
                  </a:lnTo>
                  <a:lnTo>
                    <a:pt x="8038" y="4732"/>
                  </a:lnTo>
                  <a:lnTo>
                    <a:pt x="7490" y="4766"/>
                  </a:lnTo>
                  <a:lnTo>
                    <a:pt x="7490" y="4766"/>
                  </a:lnTo>
                  <a:lnTo>
                    <a:pt x="7240" y="4778"/>
                  </a:lnTo>
                  <a:lnTo>
                    <a:pt x="6988" y="4790"/>
                  </a:lnTo>
                  <a:lnTo>
                    <a:pt x="6738" y="4798"/>
                  </a:lnTo>
                  <a:lnTo>
                    <a:pt x="6486" y="4804"/>
                  </a:lnTo>
                  <a:lnTo>
                    <a:pt x="6236" y="4808"/>
                  </a:lnTo>
                  <a:lnTo>
                    <a:pt x="5986" y="4810"/>
                  </a:lnTo>
                  <a:lnTo>
                    <a:pt x="5738" y="4810"/>
                  </a:lnTo>
                  <a:lnTo>
                    <a:pt x="5490" y="4808"/>
                  </a:lnTo>
                  <a:lnTo>
                    <a:pt x="5242" y="4804"/>
                  </a:lnTo>
                  <a:lnTo>
                    <a:pt x="4994" y="4798"/>
                  </a:lnTo>
                  <a:lnTo>
                    <a:pt x="4750" y="4792"/>
                  </a:lnTo>
                  <a:lnTo>
                    <a:pt x="4504" y="4782"/>
                  </a:lnTo>
                  <a:lnTo>
                    <a:pt x="4262" y="4772"/>
                  </a:lnTo>
                  <a:lnTo>
                    <a:pt x="4020" y="4762"/>
                  </a:lnTo>
                  <a:lnTo>
                    <a:pt x="3540" y="4736"/>
                  </a:lnTo>
                  <a:lnTo>
                    <a:pt x="3066" y="4708"/>
                  </a:lnTo>
                  <a:lnTo>
                    <a:pt x="2600" y="4676"/>
                  </a:lnTo>
                  <a:lnTo>
                    <a:pt x="2142" y="4642"/>
                  </a:lnTo>
                  <a:lnTo>
                    <a:pt x="1692" y="4608"/>
                  </a:lnTo>
                  <a:lnTo>
                    <a:pt x="824" y="4540"/>
                  </a:lnTo>
                  <a:lnTo>
                    <a:pt x="406" y="4510"/>
                  </a:lnTo>
                  <a:lnTo>
                    <a:pt x="0" y="4480"/>
                  </a:lnTo>
                  <a:lnTo>
                    <a:pt x="0" y="6394"/>
                  </a:lnTo>
                  <a:lnTo>
                    <a:pt x="0" y="6394"/>
                  </a:lnTo>
                  <a:lnTo>
                    <a:pt x="250" y="6424"/>
                  </a:lnTo>
                  <a:lnTo>
                    <a:pt x="514" y="6450"/>
                  </a:lnTo>
                  <a:lnTo>
                    <a:pt x="790" y="6476"/>
                  </a:lnTo>
                  <a:lnTo>
                    <a:pt x="1080" y="6498"/>
                  </a:lnTo>
                  <a:lnTo>
                    <a:pt x="1388" y="6516"/>
                  </a:lnTo>
                  <a:lnTo>
                    <a:pt x="1712" y="6532"/>
                  </a:lnTo>
                  <a:lnTo>
                    <a:pt x="2052" y="6544"/>
                  </a:lnTo>
                  <a:lnTo>
                    <a:pt x="2414" y="6552"/>
                  </a:lnTo>
                  <a:lnTo>
                    <a:pt x="2794" y="6554"/>
                  </a:lnTo>
                  <a:lnTo>
                    <a:pt x="3196" y="6554"/>
                  </a:lnTo>
                  <a:lnTo>
                    <a:pt x="3622" y="6548"/>
                  </a:lnTo>
                  <a:lnTo>
                    <a:pt x="3842" y="6542"/>
                  </a:lnTo>
                  <a:lnTo>
                    <a:pt x="4070" y="6536"/>
                  </a:lnTo>
                  <a:lnTo>
                    <a:pt x="4302" y="6528"/>
                  </a:lnTo>
                  <a:lnTo>
                    <a:pt x="4542" y="6520"/>
                  </a:lnTo>
                  <a:lnTo>
                    <a:pt x="4788" y="6508"/>
                  </a:lnTo>
                  <a:lnTo>
                    <a:pt x="5042" y="6496"/>
                  </a:lnTo>
                  <a:lnTo>
                    <a:pt x="5302" y="6482"/>
                  </a:lnTo>
                  <a:lnTo>
                    <a:pt x="5568" y="6468"/>
                  </a:lnTo>
                  <a:lnTo>
                    <a:pt x="5842" y="6450"/>
                  </a:lnTo>
                  <a:lnTo>
                    <a:pt x="6122" y="6432"/>
                  </a:lnTo>
                  <a:lnTo>
                    <a:pt x="6122" y="6432"/>
                  </a:lnTo>
                  <a:close/>
                </a:path>
              </a:pathLst>
            </a:custGeom>
            <a:solidFill>
              <a:srgbClr val="f19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3240" y="895320"/>
              <a:ext cx="43198920" cy="9798120"/>
            </a:xfrm>
            <a:custGeom>
              <a:avLst/>
              <a:gdLst>
                <a:gd name="textAreaLeft" fmla="*/ 0 w 43198920"/>
                <a:gd name="textAreaRight" fmla="*/ 43199280 w 43198920"/>
                <a:gd name="textAreaTop" fmla="*/ 0 h 9798120"/>
                <a:gd name="textAreaBottom" fmla="*/ 9798480 h 9798120"/>
              </a:gdLst>
              <a:ahLst/>
              <a:rect l="textAreaLeft" t="textAreaTop" r="textAreaRight" b="textAreaBottom"/>
              <a:pathLst>
                <a:path w="27212" h="6172">
                  <a:moveTo>
                    <a:pt x="20614" y="1952"/>
                  </a:moveTo>
                  <a:lnTo>
                    <a:pt x="20614" y="1952"/>
                  </a:lnTo>
                  <a:lnTo>
                    <a:pt x="20800" y="1908"/>
                  </a:lnTo>
                  <a:lnTo>
                    <a:pt x="20990" y="1864"/>
                  </a:lnTo>
                  <a:lnTo>
                    <a:pt x="21184" y="1822"/>
                  </a:lnTo>
                  <a:lnTo>
                    <a:pt x="21380" y="1780"/>
                  </a:lnTo>
                  <a:lnTo>
                    <a:pt x="21580" y="1740"/>
                  </a:lnTo>
                  <a:lnTo>
                    <a:pt x="21782" y="1702"/>
                  </a:lnTo>
                  <a:lnTo>
                    <a:pt x="21986" y="1664"/>
                  </a:lnTo>
                  <a:lnTo>
                    <a:pt x="22192" y="1628"/>
                  </a:lnTo>
                  <a:lnTo>
                    <a:pt x="22398" y="1594"/>
                  </a:lnTo>
                  <a:lnTo>
                    <a:pt x="22608" y="1560"/>
                  </a:lnTo>
                  <a:lnTo>
                    <a:pt x="22820" y="1528"/>
                  </a:lnTo>
                  <a:lnTo>
                    <a:pt x="23032" y="1498"/>
                  </a:lnTo>
                  <a:lnTo>
                    <a:pt x="23244" y="1468"/>
                  </a:lnTo>
                  <a:lnTo>
                    <a:pt x="23458" y="1440"/>
                  </a:lnTo>
                  <a:lnTo>
                    <a:pt x="23674" y="1414"/>
                  </a:lnTo>
                  <a:lnTo>
                    <a:pt x="23888" y="1390"/>
                  </a:lnTo>
                  <a:lnTo>
                    <a:pt x="24104" y="1366"/>
                  </a:lnTo>
                  <a:lnTo>
                    <a:pt x="24318" y="1346"/>
                  </a:lnTo>
                  <a:lnTo>
                    <a:pt x="24534" y="1326"/>
                  </a:lnTo>
                  <a:lnTo>
                    <a:pt x="24748" y="1306"/>
                  </a:lnTo>
                  <a:lnTo>
                    <a:pt x="24962" y="1290"/>
                  </a:lnTo>
                  <a:lnTo>
                    <a:pt x="25176" y="1274"/>
                  </a:lnTo>
                  <a:lnTo>
                    <a:pt x="25388" y="1262"/>
                  </a:lnTo>
                  <a:lnTo>
                    <a:pt x="25598" y="1250"/>
                  </a:lnTo>
                  <a:lnTo>
                    <a:pt x="25808" y="1240"/>
                  </a:lnTo>
                  <a:lnTo>
                    <a:pt x="26014" y="1232"/>
                  </a:lnTo>
                  <a:lnTo>
                    <a:pt x="26220" y="1224"/>
                  </a:lnTo>
                  <a:lnTo>
                    <a:pt x="26424" y="1220"/>
                  </a:lnTo>
                  <a:lnTo>
                    <a:pt x="26626" y="1218"/>
                  </a:lnTo>
                  <a:lnTo>
                    <a:pt x="26824" y="1216"/>
                  </a:lnTo>
                  <a:lnTo>
                    <a:pt x="27020" y="1218"/>
                  </a:lnTo>
                  <a:lnTo>
                    <a:pt x="27212" y="1220"/>
                  </a:lnTo>
                  <a:lnTo>
                    <a:pt x="27212" y="0"/>
                  </a:lnTo>
                  <a:lnTo>
                    <a:pt x="27212" y="0"/>
                  </a:lnTo>
                  <a:lnTo>
                    <a:pt x="26642" y="4"/>
                  </a:lnTo>
                  <a:lnTo>
                    <a:pt x="26346" y="8"/>
                  </a:lnTo>
                  <a:lnTo>
                    <a:pt x="26042" y="12"/>
                  </a:lnTo>
                  <a:lnTo>
                    <a:pt x="25730" y="18"/>
                  </a:lnTo>
                  <a:lnTo>
                    <a:pt x="25412" y="28"/>
                  </a:lnTo>
                  <a:lnTo>
                    <a:pt x="25090" y="40"/>
                  </a:lnTo>
                  <a:lnTo>
                    <a:pt x="24762" y="58"/>
                  </a:lnTo>
                  <a:lnTo>
                    <a:pt x="24596" y="68"/>
                  </a:lnTo>
                  <a:lnTo>
                    <a:pt x="24428" y="80"/>
                  </a:lnTo>
                  <a:lnTo>
                    <a:pt x="24260" y="92"/>
                  </a:lnTo>
                  <a:lnTo>
                    <a:pt x="24092" y="108"/>
                  </a:lnTo>
                  <a:lnTo>
                    <a:pt x="23922" y="124"/>
                  </a:lnTo>
                  <a:lnTo>
                    <a:pt x="23750" y="142"/>
                  </a:lnTo>
                  <a:lnTo>
                    <a:pt x="23578" y="160"/>
                  </a:lnTo>
                  <a:lnTo>
                    <a:pt x="23406" y="182"/>
                  </a:lnTo>
                  <a:lnTo>
                    <a:pt x="23232" y="206"/>
                  </a:lnTo>
                  <a:lnTo>
                    <a:pt x="23058" y="232"/>
                  </a:lnTo>
                  <a:lnTo>
                    <a:pt x="22884" y="258"/>
                  </a:lnTo>
                  <a:lnTo>
                    <a:pt x="22710" y="288"/>
                  </a:lnTo>
                  <a:lnTo>
                    <a:pt x="22534" y="320"/>
                  </a:lnTo>
                  <a:lnTo>
                    <a:pt x="22358" y="354"/>
                  </a:lnTo>
                  <a:lnTo>
                    <a:pt x="22182" y="390"/>
                  </a:lnTo>
                  <a:lnTo>
                    <a:pt x="22006" y="430"/>
                  </a:lnTo>
                  <a:lnTo>
                    <a:pt x="22006" y="430"/>
                  </a:lnTo>
                  <a:lnTo>
                    <a:pt x="21908" y="454"/>
                  </a:lnTo>
                  <a:lnTo>
                    <a:pt x="21808" y="478"/>
                  </a:lnTo>
                  <a:lnTo>
                    <a:pt x="21706" y="506"/>
                  </a:lnTo>
                  <a:lnTo>
                    <a:pt x="21602" y="534"/>
                  </a:lnTo>
                  <a:lnTo>
                    <a:pt x="21388" y="598"/>
                  </a:lnTo>
                  <a:lnTo>
                    <a:pt x="21164" y="670"/>
                  </a:lnTo>
                  <a:lnTo>
                    <a:pt x="20936" y="746"/>
                  </a:lnTo>
                  <a:lnTo>
                    <a:pt x="20700" y="830"/>
                  </a:lnTo>
                  <a:lnTo>
                    <a:pt x="20458" y="918"/>
                  </a:lnTo>
                  <a:lnTo>
                    <a:pt x="20210" y="1014"/>
                  </a:lnTo>
                  <a:lnTo>
                    <a:pt x="19958" y="1112"/>
                  </a:lnTo>
                  <a:lnTo>
                    <a:pt x="19700" y="1216"/>
                  </a:lnTo>
                  <a:lnTo>
                    <a:pt x="19440" y="1322"/>
                  </a:lnTo>
                  <a:lnTo>
                    <a:pt x="19174" y="1432"/>
                  </a:lnTo>
                  <a:lnTo>
                    <a:pt x="18908" y="1546"/>
                  </a:lnTo>
                  <a:lnTo>
                    <a:pt x="18638" y="1662"/>
                  </a:lnTo>
                  <a:lnTo>
                    <a:pt x="18092" y="1898"/>
                  </a:lnTo>
                  <a:lnTo>
                    <a:pt x="17544" y="2140"/>
                  </a:lnTo>
                  <a:lnTo>
                    <a:pt x="16996" y="2382"/>
                  </a:lnTo>
                  <a:lnTo>
                    <a:pt x="16454" y="2622"/>
                  </a:lnTo>
                  <a:lnTo>
                    <a:pt x="15922" y="2854"/>
                  </a:lnTo>
                  <a:lnTo>
                    <a:pt x="15660" y="2966"/>
                  </a:lnTo>
                  <a:lnTo>
                    <a:pt x="15402" y="3076"/>
                  </a:lnTo>
                  <a:lnTo>
                    <a:pt x="15150" y="3182"/>
                  </a:lnTo>
                  <a:lnTo>
                    <a:pt x="14902" y="3284"/>
                  </a:lnTo>
                  <a:lnTo>
                    <a:pt x="14658" y="3382"/>
                  </a:lnTo>
                  <a:lnTo>
                    <a:pt x="14422" y="3476"/>
                  </a:lnTo>
                  <a:lnTo>
                    <a:pt x="14192" y="3562"/>
                  </a:lnTo>
                  <a:lnTo>
                    <a:pt x="13970" y="3644"/>
                  </a:lnTo>
                  <a:lnTo>
                    <a:pt x="13970" y="3644"/>
                  </a:lnTo>
                  <a:lnTo>
                    <a:pt x="13754" y="3722"/>
                  </a:lnTo>
                  <a:lnTo>
                    <a:pt x="13544" y="3794"/>
                  </a:lnTo>
                  <a:lnTo>
                    <a:pt x="13342" y="3862"/>
                  </a:lnTo>
                  <a:lnTo>
                    <a:pt x="13144" y="3928"/>
                  </a:lnTo>
                  <a:lnTo>
                    <a:pt x="12952" y="3988"/>
                  </a:lnTo>
                  <a:lnTo>
                    <a:pt x="12764" y="4046"/>
                  </a:lnTo>
                  <a:lnTo>
                    <a:pt x="12580" y="4100"/>
                  </a:lnTo>
                  <a:lnTo>
                    <a:pt x="12398" y="4150"/>
                  </a:lnTo>
                  <a:lnTo>
                    <a:pt x="12220" y="4198"/>
                  </a:lnTo>
                  <a:lnTo>
                    <a:pt x="12042" y="4242"/>
                  </a:lnTo>
                  <a:lnTo>
                    <a:pt x="11868" y="4284"/>
                  </a:lnTo>
                  <a:lnTo>
                    <a:pt x="11692" y="4322"/>
                  </a:lnTo>
                  <a:lnTo>
                    <a:pt x="11518" y="4358"/>
                  </a:lnTo>
                  <a:lnTo>
                    <a:pt x="11344" y="4392"/>
                  </a:lnTo>
                  <a:lnTo>
                    <a:pt x="11168" y="4424"/>
                  </a:lnTo>
                  <a:lnTo>
                    <a:pt x="10992" y="4454"/>
                  </a:lnTo>
                  <a:lnTo>
                    <a:pt x="10812" y="4482"/>
                  </a:lnTo>
                  <a:lnTo>
                    <a:pt x="10632" y="4508"/>
                  </a:lnTo>
                  <a:lnTo>
                    <a:pt x="10446" y="4532"/>
                  </a:lnTo>
                  <a:lnTo>
                    <a:pt x="10258" y="4554"/>
                  </a:lnTo>
                  <a:lnTo>
                    <a:pt x="10066" y="4576"/>
                  </a:lnTo>
                  <a:lnTo>
                    <a:pt x="9868" y="4596"/>
                  </a:lnTo>
                  <a:lnTo>
                    <a:pt x="9664" y="4614"/>
                  </a:lnTo>
                  <a:lnTo>
                    <a:pt x="9454" y="4634"/>
                  </a:lnTo>
                  <a:lnTo>
                    <a:pt x="9016" y="4668"/>
                  </a:lnTo>
                  <a:lnTo>
                    <a:pt x="8544" y="4700"/>
                  </a:lnTo>
                  <a:lnTo>
                    <a:pt x="8038" y="4732"/>
                  </a:lnTo>
                  <a:lnTo>
                    <a:pt x="7490" y="4766"/>
                  </a:lnTo>
                  <a:lnTo>
                    <a:pt x="7490" y="4766"/>
                  </a:lnTo>
                  <a:lnTo>
                    <a:pt x="7240" y="4778"/>
                  </a:lnTo>
                  <a:lnTo>
                    <a:pt x="6988" y="4790"/>
                  </a:lnTo>
                  <a:lnTo>
                    <a:pt x="6738" y="4798"/>
                  </a:lnTo>
                  <a:lnTo>
                    <a:pt x="6486" y="4804"/>
                  </a:lnTo>
                  <a:lnTo>
                    <a:pt x="6236" y="4808"/>
                  </a:lnTo>
                  <a:lnTo>
                    <a:pt x="5986" y="4810"/>
                  </a:lnTo>
                  <a:lnTo>
                    <a:pt x="5738" y="4810"/>
                  </a:lnTo>
                  <a:lnTo>
                    <a:pt x="5490" y="4808"/>
                  </a:lnTo>
                  <a:lnTo>
                    <a:pt x="5242" y="4804"/>
                  </a:lnTo>
                  <a:lnTo>
                    <a:pt x="4994" y="4798"/>
                  </a:lnTo>
                  <a:lnTo>
                    <a:pt x="4750" y="4792"/>
                  </a:lnTo>
                  <a:lnTo>
                    <a:pt x="4504" y="4782"/>
                  </a:lnTo>
                  <a:lnTo>
                    <a:pt x="4262" y="4772"/>
                  </a:lnTo>
                  <a:lnTo>
                    <a:pt x="4020" y="4762"/>
                  </a:lnTo>
                  <a:lnTo>
                    <a:pt x="3540" y="4736"/>
                  </a:lnTo>
                  <a:lnTo>
                    <a:pt x="3066" y="4708"/>
                  </a:lnTo>
                  <a:lnTo>
                    <a:pt x="2600" y="4676"/>
                  </a:lnTo>
                  <a:lnTo>
                    <a:pt x="2142" y="4642"/>
                  </a:lnTo>
                  <a:lnTo>
                    <a:pt x="1692" y="4608"/>
                  </a:lnTo>
                  <a:lnTo>
                    <a:pt x="824" y="4540"/>
                  </a:lnTo>
                  <a:lnTo>
                    <a:pt x="406" y="4508"/>
                  </a:lnTo>
                  <a:lnTo>
                    <a:pt x="0" y="4480"/>
                  </a:lnTo>
                  <a:lnTo>
                    <a:pt x="0" y="6172"/>
                  </a:lnTo>
                  <a:lnTo>
                    <a:pt x="8906" y="6172"/>
                  </a:lnTo>
                  <a:lnTo>
                    <a:pt x="8906" y="6172"/>
                  </a:lnTo>
                  <a:lnTo>
                    <a:pt x="9220" y="6128"/>
                  </a:lnTo>
                  <a:lnTo>
                    <a:pt x="9372" y="6104"/>
                  </a:lnTo>
                  <a:lnTo>
                    <a:pt x="9520" y="6082"/>
                  </a:lnTo>
                  <a:lnTo>
                    <a:pt x="9664" y="6056"/>
                  </a:lnTo>
                  <a:lnTo>
                    <a:pt x="9806" y="6032"/>
                  </a:lnTo>
                  <a:lnTo>
                    <a:pt x="9944" y="6006"/>
                  </a:lnTo>
                  <a:lnTo>
                    <a:pt x="10080" y="5978"/>
                  </a:lnTo>
                  <a:lnTo>
                    <a:pt x="10214" y="5950"/>
                  </a:lnTo>
                  <a:lnTo>
                    <a:pt x="10344" y="5922"/>
                  </a:lnTo>
                  <a:lnTo>
                    <a:pt x="10474" y="5892"/>
                  </a:lnTo>
                  <a:lnTo>
                    <a:pt x="10600" y="5862"/>
                  </a:lnTo>
                  <a:lnTo>
                    <a:pt x="10726" y="5830"/>
                  </a:lnTo>
                  <a:lnTo>
                    <a:pt x="10848" y="5798"/>
                  </a:lnTo>
                  <a:lnTo>
                    <a:pt x="10970" y="5764"/>
                  </a:lnTo>
                  <a:lnTo>
                    <a:pt x="11090" y="5730"/>
                  </a:lnTo>
                  <a:lnTo>
                    <a:pt x="11210" y="5694"/>
                  </a:lnTo>
                  <a:lnTo>
                    <a:pt x="11328" y="5658"/>
                  </a:lnTo>
                  <a:lnTo>
                    <a:pt x="11444" y="5620"/>
                  </a:lnTo>
                  <a:lnTo>
                    <a:pt x="11560" y="5582"/>
                  </a:lnTo>
                  <a:lnTo>
                    <a:pt x="11676" y="5540"/>
                  </a:lnTo>
                  <a:lnTo>
                    <a:pt x="11792" y="5500"/>
                  </a:lnTo>
                  <a:lnTo>
                    <a:pt x="11906" y="5456"/>
                  </a:lnTo>
                  <a:lnTo>
                    <a:pt x="12022" y="5412"/>
                  </a:lnTo>
                  <a:lnTo>
                    <a:pt x="12252" y="5320"/>
                  </a:lnTo>
                  <a:lnTo>
                    <a:pt x="12484" y="5222"/>
                  </a:lnTo>
                  <a:lnTo>
                    <a:pt x="12718" y="5118"/>
                  </a:lnTo>
                  <a:lnTo>
                    <a:pt x="12958" y="5008"/>
                  </a:lnTo>
                  <a:lnTo>
                    <a:pt x="12958" y="5008"/>
                  </a:lnTo>
                  <a:lnTo>
                    <a:pt x="13604" y="4708"/>
                  </a:lnTo>
                  <a:lnTo>
                    <a:pt x="14000" y="4526"/>
                  </a:lnTo>
                  <a:lnTo>
                    <a:pt x="14438" y="4326"/>
                  </a:lnTo>
                  <a:lnTo>
                    <a:pt x="14910" y="4116"/>
                  </a:lnTo>
                  <a:lnTo>
                    <a:pt x="15408" y="3894"/>
                  </a:lnTo>
                  <a:lnTo>
                    <a:pt x="15930" y="3668"/>
                  </a:lnTo>
                  <a:lnTo>
                    <a:pt x="16468" y="3438"/>
                  </a:lnTo>
                  <a:lnTo>
                    <a:pt x="16742" y="3324"/>
                  </a:lnTo>
                  <a:lnTo>
                    <a:pt x="17016" y="3212"/>
                  </a:lnTo>
                  <a:lnTo>
                    <a:pt x="17292" y="3100"/>
                  </a:lnTo>
                  <a:lnTo>
                    <a:pt x="17568" y="2988"/>
                  </a:lnTo>
                  <a:lnTo>
                    <a:pt x="17842" y="2880"/>
                  </a:lnTo>
                  <a:lnTo>
                    <a:pt x="18116" y="2774"/>
                  </a:lnTo>
                  <a:lnTo>
                    <a:pt x="18388" y="2672"/>
                  </a:lnTo>
                  <a:lnTo>
                    <a:pt x="18658" y="2572"/>
                  </a:lnTo>
                  <a:lnTo>
                    <a:pt x="18922" y="2476"/>
                  </a:lnTo>
                  <a:lnTo>
                    <a:pt x="19184" y="2384"/>
                  </a:lnTo>
                  <a:lnTo>
                    <a:pt x="19440" y="2298"/>
                  </a:lnTo>
                  <a:lnTo>
                    <a:pt x="19690" y="2218"/>
                  </a:lnTo>
                  <a:lnTo>
                    <a:pt x="19932" y="2142"/>
                  </a:lnTo>
                  <a:lnTo>
                    <a:pt x="20168" y="2072"/>
                  </a:lnTo>
                  <a:lnTo>
                    <a:pt x="20396" y="2008"/>
                  </a:lnTo>
                  <a:lnTo>
                    <a:pt x="20614" y="1952"/>
                  </a:lnTo>
                  <a:lnTo>
                    <a:pt x="20614" y="1952"/>
                  </a:ln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グループ化 14"/>
          <p:cNvGrpSpPr/>
          <p:nvPr/>
        </p:nvGrpSpPr>
        <p:grpSpPr>
          <a:xfrm>
            <a:off x="857160" y="1222200"/>
            <a:ext cx="5959440" cy="5321520"/>
            <a:chOff x="857160" y="1222200"/>
            <a:chExt cx="5959440" cy="5321520"/>
          </a:xfrm>
        </p:grpSpPr>
        <p:sp>
          <p:nvSpPr>
            <p:cNvPr id="50" name="Freeform 8"/>
            <p:cNvSpPr/>
            <p:nvPr/>
          </p:nvSpPr>
          <p:spPr>
            <a:xfrm>
              <a:off x="882360" y="1222200"/>
              <a:ext cx="5222880" cy="5013720"/>
            </a:xfrm>
            <a:custGeom>
              <a:avLst/>
              <a:gdLst>
                <a:gd name="textAreaLeft" fmla="*/ 0 w 5222880"/>
                <a:gd name="textAreaRight" fmla="*/ 5223240 w 5222880"/>
                <a:gd name="textAreaTop" fmla="*/ 0 h 5013720"/>
                <a:gd name="textAreaBottom" fmla="*/ 5014080 h 5013720"/>
              </a:gdLst>
              <a:ahLst/>
              <a:rect l="textAreaLeft" t="textAreaTop" r="textAreaRight" b="textAreaBottom"/>
              <a:pathLst>
                <a:path w="3290" h="3158">
                  <a:moveTo>
                    <a:pt x="180" y="854"/>
                  </a:moveTo>
                  <a:lnTo>
                    <a:pt x="180" y="854"/>
                  </a:lnTo>
                  <a:lnTo>
                    <a:pt x="210" y="804"/>
                  </a:lnTo>
                  <a:lnTo>
                    <a:pt x="246" y="752"/>
                  </a:lnTo>
                  <a:lnTo>
                    <a:pt x="286" y="698"/>
                  </a:lnTo>
                  <a:lnTo>
                    <a:pt x="332" y="642"/>
                  </a:lnTo>
                  <a:lnTo>
                    <a:pt x="380" y="586"/>
                  </a:lnTo>
                  <a:lnTo>
                    <a:pt x="432" y="530"/>
                  </a:lnTo>
                  <a:lnTo>
                    <a:pt x="486" y="474"/>
                  </a:lnTo>
                  <a:lnTo>
                    <a:pt x="542" y="420"/>
                  </a:lnTo>
                  <a:lnTo>
                    <a:pt x="598" y="368"/>
                  </a:lnTo>
                  <a:lnTo>
                    <a:pt x="652" y="320"/>
                  </a:lnTo>
                  <a:lnTo>
                    <a:pt x="708" y="276"/>
                  </a:lnTo>
                  <a:lnTo>
                    <a:pt x="760" y="236"/>
                  </a:lnTo>
                  <a:lnTo>
                    <a:pt x="808" y="200"/>
                  </a:lnTo>
                  <a:lnTo>
                    <a:pt x="854" y="170"/>
                  </a:lnTo>
                  <a:lnTo>
                    <a:pt x="896" y="148"/>
                  </a:lnTo>
                  <a:lnTo>
                    <a:pt x="916" y="140"/>
                  </a:lnTo>
                  <a:lnTo>
                    <a:pt x="932" y="132"/>
                  </a:lnTo>
                  <a:lnTo>
                    <a:pt x="932" y="132"/>
                  </a:lnTo>
                  <a:lnTo>
                    <a:pt x="1012" y="106"/>
                  </a:lnTo>
                  <a:lnTo>
                    <a:pt x="1116" y="76"/>
                  </a:lnTo>
                  <a:lnTo>
                    <a:pt x="1176" y="60"/>
                  </a:lnTo>
                  <a:lnTo>
                    <a:pt x="1240" y="46"/>
                  </a:lnTo>
                  <a:lnTo>
                    <a:pt x="1306" y="32"/>
                  </a:lnTo>
                  <a:lnTo>
                    <a:pt x="1376" y="20"/>
                  </a:lnTo>
                  <a:lnTo>
                    <a:pt x="1448" y="10"/>
                  </a:lnTo>
                  <a:lnTo>
                    <a:pt x="1520" y="4"/>
                  </a:lnTo>
                  <a:lnTo>
                    <a:pt x="1596" y="0"/>
                  </a:lnTo>
                  <a:lnTo>
                    <a:pt x="1670" y="0"/>
                  </a:lnTo>
                  <a:lnTo>
                    <a:pt x="1746" y="4"/>
                  </a:lnTo>
                  <a:lnTo>
                    <a:pt x="1782" y="8"/>
                  </a:lnTo>
                  <a:lnTo>
                    <a:pt x="1820" y="12"/>
                  </a:lnTo>
                  <a:lnTo>
                    <a:pt x="1856" y="20"/>
                  </a:lnTo>
                  <a:lnTo>
                    <a:pt x="1892" y="28"/>
                  </a:lnTo>
                  <a:lnTo>
                    <a:pt x="1928" y="36"/>
                  </a:lnTo>
                  <a:lnTo>
                    <a:pt x="1964" y="48"/>
                  </a:lnTo>
                  <a:lnTo>
                    <a:pt x="1964" y="48"/>
                  </a:lnTo>
                  <a:lnTo>
                    <a:pt x="2034" y="72"/>
                  </a:lnTo>
                  <a:lnTo>
                    <a:pt x="2108" y="102"/>
                  </a:lnTo>
                  <a:lnTo>
                    <a:pt x="2180" y="136"/>
                  </a:lnTo>
                  <a:lnTo>
                    <a:pt x="2254" y="174"/>
                  </a:lnTo>
                  <a:lnTo>
                    <a:pt x="2328" y="216"/>
                  </a:lnTo>
                  <a:lnTo>
                    <a:pt x="2402" y="260"/>
                  </a:lnTo>
                  <a:lnTo>
                    <a:pt x="2474" y="308"/>
                  </a:lnTo>
                  <a:lnTo>
                    <a:pt x="2544" y="358"/>
                  </a:lnTo>
                  <a:lnTo>
                    <a:pt x="2610" y="410"/>
                  </a:lnTo>
                  <a:lnTo>
                    <a:pt x="2674" y="464"/>
                  </a:lnTo>
                  <a:lnTo>
                    <a:pt x="2734" y="520"/>
                  </a:lnTo>
                  <a:lnTo>
                    <a:pt x="2788" y="578"/>
                  </a:lnTo>
                  <a:lnTo>
                    <a:pt x="2814" y="608"/>
                  </a:lnTo>
                  <a:lnTo>
                    <a:pt x="2838" y="636"/>
                  </a:lnTo>
                  <a:lnTo>
                    <a:pt x="2860" y="666"/>
                  </a:lnTo>
                  <a:lnTo>
                    <a:pt x="2882" y="696"/>
                  </a:lnTo>
                  <a:lnTo>
                    <a:pt x="2900" y="726"/>
                  </a:lnTo>
                  <a:lnTo>
                    <a:pt x="2918" y="756"/>
                  </a:lnTo>
                  <a:lnTo>
                    <a:pt x="2934" y="784"/>
                  </a:lnTo>
                  <a:lnTo>
                    <a:pt x="2948" y="814"/>
                  </a:lnTo>
                  <a:lnTo>
                    <a:pt x="2948" y="814"/>
                  </a:lnTo>
                  <a:lnTo>
                    <a:pt x="3000" y="934"/>
                  </a:lnTo>
                  <a:lnTo>
                    <a:pt x="3022" y="994"/>
                  </a:lnTo>
                  <a:lnTo>
                    <a:pt x="3046" y="1052"/>
                  </a:lnTo>
                  <a:lnTo>
                    <a:pt x="3066" y="1112"/>
                  </a:lnTo>
                  <a:lnTo>
                    <a:pt x="3084" y="1172"/>
                  </a:lnTo>
                  <a:lnTo>
                    <a:pt x="3102" y="1232"/>
                  </a:lnTo>
                  <a:lnTo>
                    <a:pt x="3116" y="1294"/>
                  </a:lnTo>
                  <a:lnTo>
                    <a:pt x="3128" y="1354"/>
                  </a:lnTo>
                  <a:lnTo>
                    <a:pt x="3138" y="1416"/>
                  </a:lnTo>
                  <a:lnTo>
                    <a:pt x="3144" y="1480"/>
                  </a:lnTo>
                  <a:lnTo>
                    <a:pt x="3148" y="1544"/>
                  </a:lnTo>
                  <a:lnTo>
                    <a:pt x="3148" y="1608"/>
                  </a:lnTo>
                  <a:lnTo>
                    <a:pt x="3144" y="1674"/>
                  </a:lnTo>
                  <a:lnTo>
                    <a:pt x="3138" y="1740"/>
                  </a:lnTo>
                  <a:lnTo>
                    <a:pt x="3126" y="1808"/>
                  </a:lnTo>
                  <a:lnTo>
                    <a:pt x="3126" y="1808"/>
                  </a:lnTo>
                  <a:lnTo>
                    <a:pt x="3098" y="1946"/>
                  </a:lnTo>
                  <a:lnTo>
                    <a:pt x="3068" y="2086"/>
                  </a:lnTo>
                  <a:lnTo>
                    <a:pt x="3040" y="2226"/>
                  </a:lnTo>
                  <a:lnTo>
                    <a:pt x="3026" y="2296"/>
                  </a:lnTo>
                  <a:lnTo>
                    <a:pt x="3016" y="2364"/>
                  </a:lnTo>
                  <a:lnTo>
                    <a:pt x="3008" y="2432"/>
                  </a:lnTo>
                  <a:lnTo>
                    <a:pt x="3002" y="2498"/>
                  </a:lnTo>
                  <a:lnTo>
                    <a:pt x="3000" y="2562"/>
                  </a:lnTo>
                  <a:lnTo>
                    <a:pt x="3002" y="2624"/>
                  </a:lnTo>
                  <a:lnTo>
                    <a:pt x="3004" y="2654"/>
                  </a:lnTo>
                  <a:lnTo>
                    <a:pt x="3008" y="2684"/>
                  </a:lnTo>
                  <a:lnTo>
                    <a:pt x="3014" y="2712"/>
                  </a:lnTo>
                  <a:lnTo>
                    <a:pt x="3020" y="2740"/>
                  </a:lnTo>
                  <a:lnTo>
                    <a:pt x="3026" y="2768"/>
                  </a:lnTo>
                  <a:lnTo>
                    <a:pt x="3036" y="2796"/>
                  </a:lnTo>
                  <a:lnTo>
                    <a:pt x="3046" y="2822"/>
                  </a:lnTo>
                  <a:lnTo>
                    <a:pt x="3056" y="2846"/>
                  </a:lnTo>
                  <a:lnTo>
                    <a:pt x="3056" y="2846"/>
                  </a:lnTo>
                  <a:lnTo>
                    <a:pt x="3082" y="2894"/>
                  </a:lnTo>
                  <a:lnTo>
                    <a:pt x="3104" y="2936"/>
                  </a:lnTo>
                  <a:lnTo>
                    <a:pt x="3128" y="2972"/>
                  </a:lnTo>
                  <a:lnTo>
                    <a:pt x="3148" y="3006"/>
                  </a:lnTo>
                  <a:lnTo>
                    <a:pt x="3170" y="3036"/>
                  </a:lnTo>
                  <a:lnTo>
                    <a:pt x="3188" y="3060"/>
                  </a:lnTo>
                  <a:lnTo>
                    <a:pt x="3222" y="3100"/>
                  </a:lnTo>
                  <a:lnTo>
                    <a:pt x="3250" y="3128"/>
                  </a:lnTo>
                  <a:lnTo>
                    <a:pt x="3272" y="3146"/>
                  </a:lnTo>
                  <a:lnTo>
                    <a:pt x="3286" y="3154"/>
                  </a:lnTo>
                  <a:lnTo>
                    <a:pt x="3290" y="3156"/>
                  </a:lnTo>
                  <a:lnTo>
                    <a:pt x="3290" y="3156"/>
                  </a:lnTo>
                  <a:lnTo>
                    <a:pt x="2950" y="3148"/>
                  </a:lnTo>
                  <a:lnTo>
                    <a:pt x="2674" y="3144"/>
                  </a:lnTo>
                  <a:lnTo>
                    <a:pt x="2460" y="3140"/>
                  </a:lnTo>
                  <a:lnTo>
                    <a:pt x="2460" y="3140"/>
                  </a:lnTo>
                  <a:lnTo>
                    <a:pt x="2374" y="3142"/>
                  </a:lnTo>
                  <a:lnTo>
                    <a:pt x="2268" y="3144"/>
                  </a:lnTo>
                  <a:lnTo>
                    <a:pt x="2036" y="3152"/>
                  </a:lnTo>
                  <a:lnTo>
                    <a:pt x="1816" y="3158"/>
                  </a:lnTo>
                  <a:lnTo>
                    <a:pt x="1730" y="3158"/>
                  </a:lnTo>
                  <a:lnTo>
                    <a:pt x="1670" y="3156"/>
                  </a:lnTo>
                  <a:lnTo>
                    <a:pt x="1670" y="3156"/>
                  </a:lnTo>
                  <a:lnTo>
                    <a:pt x="1612" y="3154"/>
                  </a:lnTo>
                  <a:lnTo>
                    <a:pt x="1534" y="3148"/>
                  </a:lnTo>
                  <a:lnTo>
                    <a:pt x="1442" y="3138"/>
                  </a:lnTo>
                  <a:lnTo>
                    <a:pt x="1342" y="3126"/>
                  </a:lnTo>
                  <a:lnTo>
                    <a:pt x="1288" y="3116"/>
                  </a:lnTo>
                  <a:lnTo>
                    <a:pt x="1236" y="3106"/>
                  </a:lnTo>
                  <a:lnTo>
                    <a:pt x="1182" y="3094"/>
                  </a:lnTo>
                  <a:lnTo>
                    <a:pt x="1128" y="3080"/>
                  </a:lnTo>
                  <a:lnTo>
                    <a:pt x="1076" y="3064"/>
                  </a:lnTo>
                  <a:lnTo>
                    <a:pt x="1026" y="3046"/>
                  </a:lnTo>
                  <a:lnTo>
                    <a:pt x="978" y="3024"/>
                  </a:lnTo>
                  <a:lnTo>
                    <a:pt x="932" y="3002"/>
                  </a:lnTo>
                  <a:lnTo>
                    <a:pt x="932" y="3002"/>
                  </a:lnTo>
                  <a:lnTo>
                    <a:pt x="842" y="2950"/>
                  </a:lnTo>
                  <a:lnTo>
                    <a:pt x="744" y="2892"/>
                  </a:lnTo>
                  <a:lnTo>
                    <a:pt x="694" y="2862"/>
                  </a:lnTo>
                  <a:lnTo>
                    <a:pt x="644" y="2828"/>
                  </a:lnTo>
                  <a:lnTo>
                    <a:pt x="594" y="2792"/>
                  </a:lnTo>
                  <a:lnTo>
                    <a:pt x="544" y="2754"/>
                  </a:lnTo>
                  <a:lnTo>
                    <a:pt x="494" y="2712"/>
                  </a:lnTo>
                  <a:lnTo>
                    <a:pt x="446" y="2668"/>
                  </a:lnTo>
                  <a:lnTo>
                    <a:pt x="398" y="2620"/>
                  </a:lnTo>
                  <a:lnTo>
                    <a:pt x="354" y="2568"/>
                  </a:lnTo>
                  <a:lnTo>
                    <a:pt x="310" y="2512"/>
                  </a:lnTo>
                  <a:lnTo>
                    <a:pt x="270" y="2452"/>
                  </a:lnTo>
                  <a:lnTo>
                    <a:pt x="250" y="2420"/>
                  </a:lnTo>
                  <a:lnTo>
                    <a:pt x="230" y="2388"/>
                  </a:lnTo>
                  <a:lnTo>
                    <a:pt x="214" y="2354"/>
                  </a:lnTo>
                  <a:lnTo>
                    <a:pt x="196" y="2320"/>
                  </a:lnTo>
                  <a:lnTo>
                    <a:pt x="196" y="2320"/>
                  </a:lnTo>
                  <a:lnTo>
                    <a:pt x="164" y="2248"/>
                  </a:lnTo>
                  <a:lnTo>
                    <a:pt x="136" y="2176"/>
                  </a:lnTo>
                  <a:lnTo>
                    <a:pt x="110" y="2104"/>
                  </a:lnTo>
                  <a:lnTo>
                    <a:pt x="88" y="2032"/>
                  </a:lnTo>
                  <a:lnTo>
                    <a:pt x="68" y="1960"/>
                  </a:lnTo>
                  <a:lnTo>
                    <a:pt x="50" y="1890"/>
                  </a:lnTo>
                  <a:lnTo>
                    <a:pt x="36" y="1822"/>
                  </a:lnTo>
                  <a:lnTo>
                    <a:pt x="24" y="1754"/>
                  </a:lnTo>
                  <a:lnTo>
                    <a:pt x="16" y="1688"/>
                  </a:lnTo>
                  <a:lnTo>
                    <a:pt x="8" y="1626"/>
                  </a:lnTo>
                  <a:lnTo>
                    <a:pt x="4" y="1564"/>
                  </a:lnTo>
                  <a:lnTo>
                    <a:pt x="0" y="1506"/>
                  </a:lnTo>
                  <a:lnTo>
                    <a:pt x="0" y="1452"/>
                  </a:lnTo>
                  <a:lnTo>
                    <a:pt x="2" y="1402"/>
                  </a:lnTo>
                  <a:lnTo>
                    <a:pt x="4" y="1354"/>
                  </a:lnTo>
                  <a:lnTo>
                    <a:pt x="10" y="1312"/>
                  </a:lnTo>
                  <a:lnTo>
                    <a:pt x="10" y="1312"/>
                  </a:lnTo>
                  <a:lnTo>
                    <a:pt x="16" y="1270"/>
                  </a:lnTo>
                  <a:lnTo>
                    <a:pt x="26" y="1230"/>
                  </a:lnTo>
                  <a:lnTo>
                    <a:pt x="38" y="1188"/>
                  </a:lnTo>
                  <a:lnTo>
                    <a:pt x="50" y="1148"/>
                  </a:lnTo>
                  <a:lnTo>
                    <a:pt x="64" y="1108"/>
                  </a:lnTo>
                  <a:lnTo>
                    <a:pt x="78" y="1070"/>
                  </a:lnTo>
                  <a:lnTo>
                    <a:pt x="106" y="1000"/>
                  </a:lnTo>
                  <a:lnTo>
                    <a:pt x="134" y="942"/>
                  </a:lnTo>
                  <a:lnTo>
                    <a:pt x="158" y="894"/>
                  </a:lnTo>
                  <a:lnTo>
                    <a:pt x="180" y="854"/>
                  </a:lnTo>
                  <a:lnTo>
                    <a:pt x="180" y="8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1250640" y="2390400"/>
              <a:ext cx="155520" cy="276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8" h="174">
                  <a:moveTo>
                    <a:pt x="0" y="174"/>
                  </a:moveTo>
                  <a:lnTo>
                    <a:pt x="16" y="140"/>
                  </a:lnTo>
                  <a:lnTo>
                    <a:pt x="34" y="106"/>
                  </a:lnTo>
                  <a:lnTo>
                    <a:pt x="52" y="72"/>
                  </a:lnTo>
                  <a:lnTo>
                    <a:pt x="72" y="38"/>
                  </a:lnTo>
                  <a:lnTo>
                    <a:pt x="94" y="6"/>
                  </a:lnTo>
                  <a:lnTo>
                    <a:pt x="98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1599840" y="1917360"/>
              <a:ext cx="228600" cy="225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4" h="142">
                  <a:moveTo>
                    <a:pt x="0" y="142"/>
                  </a:moveTo>
                  <a:lnTo>
                    <a:pt x="44" y="94"/>
                  </a:lnTo>
                  <a:lnTo>
                    <a:pt x="96" y="42"/>
                  </a:lnTo>
                  <a:lnTo>
                    <a:pt x="144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2076120" y="1561680"/>
              <a:ext cx="276120" cy="1616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4" h="102">
                  <a:moveTo>
                    <a:pt x="0" y="102"/>
                  </a:moveTo>
                  <a:lnTo>
                    <a:pt x="12" y="94"/>
                  </a:lnTo>
                  <a:lnTo>
                    <a:pt x="62" y="62"/>
                  </a:lnTo>
                  <a:lnTo>
                    <a:pt x="112" y="34"/>
                  </a:lnTo>
                  <a:lnTo>
                    <a:pt x="156" y="10"/>
                  </a:lnTo>
                  <a:lnTo>
                    <a:pt x="174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651040" y="1380960"/>
              <a:ext cx="307800" cy="759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94" h="48">
                  <a:moveTo>
                    <a:pt x="0" y="48"/>
                  </a:moveTo>
                  <a:lnTo>
                    <a:pt x="54" y="32"/>
                  </a:lnTo>
                  <a:lnTo>
                    <a:pt x="114" y="18"/>
                  </a:lnTo>
                  <a:lnTo>
                    <a:pt x="178" y="2"/>
                  </a:lnTo>
                  <a:lnTo>
                    <a:pt x="194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270240" y="1310760"/>
              <a:ext cx="317160" cy="187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0" h="12">
                  <a:moveTo>
                    <a:pt x="0" y="12"/>
                  </a:moveTo>
                  <a:lnTo>
                    <a:pt x="70" y="4"/>
                  </a:lnTo>
                  <a:lnTo>
                    <a:pt x="144" y="0"/>
                  </a:lnTo>
                  <a:lnTo>
                    <a:pt x="20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905280" y="1342800"/>
              <a:ext cx="301320" cy="918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90" h="58">
                  <a:moveTo>
                    <a:pt x="0" y="0"/>
                  </a:moveTo>
                  <a:lnTo>
                    <a:pt x="4" y="0"/>
                  </a:lnTo>
                  <a:lnTo>
                    <a:pt x="40" y="8"/>
                  </a:lnTo>
                  <a:lnTo>
                    <a:pt x="76" y="18"/>
                  </a:lnTo>
                  <a:lnTo>
                    <a:pt x="112" y="28"/>
                  </a:lnTo>
                  <a:lnTo>
                    <a:pt x="182" y="54"/>
                  </a:lnTo>
                  <a:lnTo>
                    <a:pt x="190" y="58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4495680" y="1564920"/>
              <a:ext cx="276120" cy="1587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4" h="100">
                  <a:moveTo>
                    <a:pt x="0" y="0"/>
                  </a:moveTo>
                  <a:lnTo>
                    <a:pt x="32" y="16"/>
                  </a:lnTo>
                  <a:lnTo>
                    <a:pt x="106" y="58"/>
                  </a:lnTo>
                  <a:lnTo>
                    <a:pt x="174" y="10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5032440" y="1904760"/>
              <a:ext cx="241200" cy="2062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52" h="130">
                  <a:moveTo>
                    <a:pt x="0" y="0"/>
                  </a:moveTo>
                  <a:lnTo>
                    <a:pt x="48" y="38"/>
                  </a:lnTo>
                  <a:lnTo>
                    <a:pt x="112" y="92"/>
                  </a:lnTo>
                  <a:lnTo>
                    <a:pt x="152" y="13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486400" y="2346120"/>
              <a:ext cx="164880" cy="2696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4" h="170">
                  <a:moveTo>
                    <a:pt x="0" y="0"/>
                  </a:moveTo>
                  <a:lnTo>
                    <a:pt x="12" y="16"/>
                  </a:lnTo>
                  <a:lnTo>
                    <a:pt x="34" y="44"/>
                  </a:lnTo>
                  <a:lnTo>
                    <a:pt x="52" y="74"/>
                  </a:lnTo>
                  <a:lnTo>
                    <a:pt x="70" y="104"/>
                  </a:lnTo>
                  <a:lnTo>
                    <a:pt x="86" y="134"/>
                  </a:lnTo>
                  <a:lnTo>
                    <a:pt x="100" y="164"/>
                  </a:lnTo>
                  <a:lnTo>
                    <a:pt x="104" y="17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5772240" y="2911320"/>
              <a:ext cx="101520" cy="298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64" h="188">
                  <a:moveTo>
                    <a:pt x="0" y="0"/>
                  </a:moveTo>
                  <a:lnTo>
                    <a:pt x="18" y="46"/>
                  </a:lnTo>
                  <a:lnTo>
                    <a:pt x="38" y="106"/>
                  </a:lnTo>
                  <a:lnTo>
                    <a:pt x="56" y="166"/>
                  </a:lnTo>
                  <a:lnTo>
                    <a:pt x="64" y="188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940360" y="3520800"/>
              <a:ext cx="21960" cy="317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" h="200">
                  <a:moveTo>
                    <a:pt x="0" y="0"/>
                  </a:moveTo>
                  <a:lnTo>
                    <a:pt x="4" y="26"/>
                  </a:lnTo>
                  <a:lnTo>
                    <a:pt x="10" y="88"/>
                  </a:lnTo>
                  <a:lnTo>
                    <a:pt x="14" y="152"/>
                  </a:lnTo>
                  <a:lnTo>
                    <a:pt x="14" y="20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5870520" y="4152960"/>
              <a:ext cx="63360" cy="311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0" h="196">
                  <a:moveTo>
                    <a:pt x="40" y="0"/>
                  </a:moveTo>
                  <a:lnTo>
                    <a:pt x="36" y="18"/>
                  </a:lnTo>
                  <a:lnTo>
                    <a:pt x="8" y="158"/>
                  </a:lnTo>
                  <a:lnTo>
                    <a:pt x="0" y="196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5749920" y="4775400"/>
              <a:ext cx="53640" cy="311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4" h="196">
                  <a:moveTo>
                    <a:pt x="34" y="0"/>
                  </a:moveTo>
                  <a:lnTo>
                    <a:pt x="26" y="46"/>
                  </a:lnTo>
                  <a:lnTo>
                    <a:pt x="12" y="116"/>
                  </a:lnTo>
                  <a:lnTo>
                    <a:pt x="2" y="184"/>
                  </a:lnTo>
                  <a:lnTo>
                    <a:pt x="0" y="196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5730840" y="5403960"/>
              <a:ext cx="41040" cy="3142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" h="198">
                  <a:moveTo>
                    <a:pt x="0" y="0"/>
                  </a:moveTo>
                  <a:lnTo>
                    <a:pt x="0" y="48"/>
                  </a:lnTo>
                  <a:lnTo>
                    <a:pt x="4" y="78"/>
                  </a:lnTo>
                  <a:lnTo>
                    <a:pt x="6" y="108"/>
                  </a:lnTo>
                  <a:lnTo>
                    <a:pt x="12" y="136"/>
                  </a:lnTo>
                  <a:lnTo>
                    <a:pt x="18" y="164"/>
                  </a:lnTo>
                  <a:lnTo>
                    <a:pt x="24" y="192"/>
                  </a:lnTo>
                  <a:lnTo>
                    <a:pt x="26" y="198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5911920" y="6000840"/>
              <a:ext cx="190440" cy="253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0" h="160">
                  <a:moveTo>
                    <a:pt x="0" y="0"/>
                  </a:moveTo>
                  <a:lnTo>
                    <a:pt x="12" y="20"/>
                  </a:lnTo>
                  <a:lnTo>
                    <a:pt x="34" y="54"/>
                  </a:lnTo>
                  <a:lnTo>
                    <a:pt x="54" y="82"/>
                  </a:lnTo>
                  <a:lnTo>
                    <a:pt x="72" y="108"/>
                  </a:lnTo>
                  <a:lnTo>
                    <a:pt x="106" y="148"/>
                  </a:lnTo>
                  <a:lnTo>
                    <a:pt x="120" y="16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 flipH="1" flipV="1">
              <a:off x="5663880" y="6311880"/>
              <a:ext cx="317160" cy="6120"/>
            </a:xfrm>
            <a:prstGeom prst="line">
              <a:avLst/>
            </a:prstGeom>
            <a:ln w="31752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5029200" y="6302520"/>
              <a:ext cx="317160" cy="28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0" h="2">
                  <a:moveTo>
                    <a:pt x="200" y="2"/>
                  </a:moveTo>
                  <a:lnTo>
                    <a:pt x="114" y="0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4394160" y="6302520"/>
              <a:ext cx="317160" cy="936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0" h="6">
                  <a:moveTo>
                    <a:pt x="200" y="0"/>
                  </a:moveTo>
                  <a:lnTo>
                    <a:pt x="108" y="2"/>
                  </a:lnTo>
                  <a:lnTo>
                    <a:pt x="0" y="6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759120" y="6318360"/>
              <a:ext cx="317160" cy="936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0" h="6">
                  <a:moveTo>
                    <a:pt x="200" y="0"/>
                  </a:moveTo>
                  <a:lnTo>
                    <a:pt x="56" y="4"/>
                  </a:lnTo>
                  <a:lnTo>
                    <a:pt x="0" y="6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127320" y="6280200"/>
              <a:ext cx="314280" cy="31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8" h="20">
                  <a:moveTo>
                    <a:pt x="198" y="20"/>
                  </a:moveTo>
                  <a:lnTo>
                    <a:pt x="172" y="18"/>
                  </a:lnTo>
                  <a:lnTo>
                    <a:pt x="80" y="10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2514600" y="6115320"/>
              <a:ext cx="298440" cy="1047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88" h="66">
                  <a:moveTo>
                    <a:pt x="188" y="66"/>
                  </a:moveTo>
                  <a:lnTo>
                    <a:pt x="152" y="56"/>
                  </a:lnTo>
                  <a:lnTo>
                    <a:pt x="100" y="40"/>
                  </a:lnTo>
                  <a:lnTo>
                    <a:pt x="50" y="2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1968120" y="5788080"/>
              <a:ext cx="269640" cy="1713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70" h="108">
                  <a:moveTo>
                    <a:pt x="170" y="108"/>
                  </a:moveTo>
                  <a:lnTo>
                    <a:pt x="112" y="74"/>
                  </a:lnTo>
                  <a:lnTo>
                    <a:pt x="62" y="42"/>
                  </a:lnTo>
                  <a:lnTo>
                    <a:pt x="12" y="10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1504800" y="5359320"/>
              <a:ext cx="215640" cy="23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36" h="146">
                  <a:moveTo>
                    <a:pt x="136" y="146"/>
                  </a:moveTo>
                  <a:lnTo>
                    <a:pt x="106" y="118"/>
                  </a:lnTo>
                  <a:lnTo>
                    <a:pt x="60" y="70"/>
                  </a:lnTo>
                  <a:lnTo>
                    <a:pt x="14" y="18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1196640" y="4807080"/>
              <a:ext cx="129960" cy="288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2" h="182">
                  <a:moveTo>
                    <a:pt x="82" y="182"/>
                  </a:moveTo>
                  <a:lnTo>
                    <a:pt x="68" y="154"/>
                  </a:lnTo>
                  <a:lnTo>
                    <a:pt x="50" y="118"/>
                  </a:lnTo>
                  <a:lnTo>
                    <a:pt x="18" y="46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1022040" y="4200480"/>
              <a:ext cx="72720" cy="3078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6" h="194">
                  <a:moveTo>
                    <a:pt x="46" y="194"/>
                  </a:moveTo>
                  <a:lnTo>
                    <a:pt x="32" y="142"/>
                  </a:lnTo>
                  <a:lnTo>
                    <a:pt x="14" y="7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964800" y="3568680"/>
              <a:ext cx="12600" cy="3175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" h="200">
                  <a:moveTo>
                    <a:pt x="8" y="200"/>
                  </a:moveTo>
                  <a:lnTo>
                    <a:pt x="4" y="144"/>
                  </a:lnTo>
                  <a:lnTo>
                    <a:pt x="0" y="86"/>
                  </a:lnTo>
                  <a:lnTo>
                    <a:pt x="0" y="32"/>
                  </a:lnTo>
                  <a:lnTo>
                    <a:pt x="2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1009440" y="2952720"/>
              <a:ext cx="104760" cy="3013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66" h="190">
                  <a:moveTo>
                    <a:pt x="0" y="190"/>
                  </a:moveTo>
                  <a:lnTo>
                    <a:pt x="10" y="156"/>
                  </a:lnTo>
                  <a:lnTo>
                    <a:pt x="22" y="116"/>
                  </a:lnTo>
                  <a:lnTo>
                    <a:pt x="36" y="76"/>
                  </a:lnTo>
                  <a:lnTo>
                    <a:pt x="50" y="38"/>
                  </a:lnTo>
                  <a:lnTo>
                    <a:pt x="66" y="0"/>
                  </a:lnTo>
                </a:path>
              </a:pathLst>
            </a:custGeom>
            <a:noFill/>
            <a:ln w="31752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6"/>
            <p:cNvSpPr/>
            <p:nvPr/>
          </p:nvSpPr>
          <p:spPr>
            <a:xfrm>
              <a:off x="1250640" y="2666880"/>
              <a:ext cx="1440" cy="1440"/>
            </a:xfrm>
            <a:prstGeom prst="line">
              <a:avLst/>
            </a:prstGeom>
            <a:ln w="31752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1142640" y="2317680"/>
              <a:ext cx="155520" cy="279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98" h="176">
                  <a:moveTo>
                    <a:pt x="0" y="176"/>
                  </a:moveTo>
                  <a:lnTo>
                    <a:pt x="16" y="140"/>
                  </a:lnTo>
                  <a:lnTo>
                    <a:pt x="34" y="106"/>
                  </a:lnTo>
                  <a:lnTo>
                    <a:pt x="52" y="72"/>
                  </a:lnTo>
                  <a:lnTo>
                    <a:pt x="72" y="38"/>
                  </a:lnTo>
                  <a:lnTo>
                    <a:pt x="94" y="6"/>
                  </a:lnTo>
                  <a:lnTo>
                    <a:pt x="98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1491840" y="1847520"/>
              <a:ext cx="228600" cy="222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44" h="140">
                  <a:moveTo>
                    <a:pt x="0" y="140"/>
                  </a:moveTo>
                  <a:lnTo>
                    <a:pt x="44" y="94"/>
                  </a:lnTo>
                  <a:lnTo>
                    <a:pt x="96" y="42"/>
                  </a:lnTo>
                  <a:lnTo>
                    <a:pt x="144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968120" y="1491840"/>
              <a:ext cx="276120" cy="1587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4" h="100">
                  <a:moveTo>
                    <a:pt x="0" y="100"/>
                  </a:moveTo>
                  <a:lnTo>
                    <a:pt x="12" y="94"/>
                  </a:lnTo>
                  <a:lnTo>
                    <a:pt x="62" y="60"/>
                  </a:lnTo>
                  <a:lnTo>
                    <a:pt x="110" y="32"/>
                  </a:lnTo>
                  <a:lnTo>
                    <a:pt x="156" y="8"/>
                  </a:lnTo>
                  <a:lnTo>
                    <a:pt x="174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2543040" y="1307880"/>
              <a:ext cx="307800" cy="792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4" h="50">
                  <a:moveTo>
                    <a:pt x="0" y="50"/>
                  </a:moveTo>
                  <a:lnTo>
                    <a:pt x="54" y="34"/>
                  </a:lnTo>
                  <a:lnTo>
                    <a:pt x="114" y="18"/>
                  </a:lnTo>
                  <a:lnTo>
                    <a:pt x="178" y="4"/>
                  </a:lnTo>
                  <a:lnTo>
                    <a:pt x="194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3162240" y="1240920"/>
              <a:ext cx="317160" cy="158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0" h="10">
                  <a:moveTo>
                    <a:pt x="0" y="10"/>
                  </a:moveTo>
                  <a:lnTo>
                    <a:pt x="68" y="4"/>
                  </a:lnTo>
                  <a:lnTo>
                    <a:pt x="144" y="0"/>
                  </a:lnTo>
                  <a:lnTo>
                    <a:pt x="20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3797280" y="1269720"/>
              <a:ext cx="301320" cy="918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90" h="58">
                  <a:moveTo>
                    <a:pt x="0" y="0"/>
                  </a:moveTo>
                  <a:lnTo>
                    <a:pt x="4" y="2"/>
                  </a:lnTo>
                  <a:lnTo>
                    <a:pt x="40" y="10"/>
                  </a:lnTo>
                  <a:lnTo>
                    <a:pt x="76" y="18"/>
                  </a:lnTo>
                  <a:lnTo>
                    <a:pt x="112" y="30"/>
                  </a:lnTo>
                  <a:lnTo>
                    <a:pt x="182" y="54"/>
                  </a:lnTo>
                  <a:lnTo>
                    <a:pt x="190" y="58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4387680" y="1491840"/>
              <a:ext cx="276120" cy="1587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4" h="100">
                  <a:moveTo>
                    <a:pt x="0" y="0"/>
                  </a:moveTo>
                  <a:lnTo>
                    <a:pt x="32" y="16"/>
                  </a:lnTo>
                  <a:lnTo>
                    <a:pt x="104" y="58"/>
                  </a:lnTo>
                  <a:lnTo>
                    <a:pt x="174" y="10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4924440" y="1831680"/>
              <a:ext cx="241200" cy="2062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52" h="130">
                  <a:moveTo>
                    <a:pt x="0" y="0"/>
                  </a:moveTo>
                  <a:lnTo>
                    <a:pt x="48" y="38"/>
                  </a:lnTo>
                  <a:lnTo>
                    <a:pt x="112" y="92"/>
                  </a:lnTo>
                  <a:lnTo>
                    <a:pt x="152" y="13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5378400" y="2273040"/>
              <a:ext cx="164880" cy="2696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4" h="170">
                  <a:moveTo>
                    <a:pt x="0" y="0"/>
                  </a:moveTo>
                  <a:lnTo>
                    <a:pt x="12" y="16"/>
                  </a:lnTo>
                  <a:lnTo>
                    <a:pt x="34" y="46"/>
                  </a:lnTo>
                  <a:lnTo>
                    <a:pt x="52" y="76"/>
                  </a:lnTo>
                  <a:lnTo>
                    <a:pt x="70" y="106"/>
                  </a:lnTo>
                  <a:lnTo>
                    <a:pt x="86" y="134"/>
                  </a:lnTo>
                  <a:lnTo>
                    <a:pt x="100" y="164"/>
                  </a:lnTo>
                  <a:lnTo>
                    <a:pt x="104" y="17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5664240" y="2838240"/>
              <a:ext cx="101520" cy="301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64" h="190">
                  <a:moveTo>
                    <a:pt x="0" y="0"/>
                  </a:moveTo>
                  <a:lnTo>
                    <a:pt x="18" y="46"/>
                  </a:lnTo>
                  <a:lnTo>
                    <a:pt x="38" y="106"/>
                  </a:lnTo>
                  <a:lnTo>
                    <a:pt x="56" y="166"/>
                  </a:lnTo>
                  <a:lnTo>
                    <a:pt x="64" y="19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5832360" y="3448080"/>
              <a:ext cx="21960" cy="317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" h="200">
                  <a:moveTo>
                    <a:pt x="0" y="0"/>
                  </a:moveTo>
                  <a:lnTo>
                    <a:pt x="4" y="26"/>
                  </a:lnTo>
                  <a:lnTo>
                    <a:pt x="10" y="90"/>
                  </a:lnTo>
                  <a:lnTo>
                    <a:pt x="14" y="154"/>
                  </a:lnTo>
                  <a:lnTo>
                    <a:pt x="14" y="20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5762520" y="4079880"/>
              <a:ext cx="63360" cy="311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0" h="196">
                  <a:moveTo>
                    <a:pt x="40" y="0"/>
                  </a:moveTo>
                  <a:lnTo>
                    <a:pt x="36" y="20"/>
                  </a:lnTo>
                  <a:lnTo>
                    <a:pt x="8" y="158"/>
                  </a:lnTo>
                  <a:lnTo>
                    <a:pt x="0" y="196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5641920" y="4702320"/>
              <a:ext cx="53640" cy="314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4" h="198">
                  <a:moveTo>
                    <a:pt x="34" y="0"/>
                  </a:moveTo>
                  <a:lnTo>
                    <a:pt x="26" y="46"/>
                  </a:lnTo>
                  <a:lnTo>
                    <a:pt x="12" y="116"/>
                  </a:lnTo>
                  <a:lnTo>
                    <a:pt x="2" y="184"/>
                  </a:lnTo>
                  <a:lnTo>
                    <a:pt x="0" y="198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5622840" y="5330880"/>
              <a:ext cx="41040" cy="3142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" h="198">
                  <a:moveTo>
                    <a:pt x="0" y="0"/>
                  </a:moveTo>
                  <a:lnTo>
                    <a:pt x="0" y="48"/>
                  </a:lnTo>
                  <a:lnTo>
                    <a:pt x="4" y="78"/>
                  </a:lnTo>
                  <a:lnTo>
                    <a:pt x="6" y="108"/>
                  </a:lnTo>
                  <a:lnTo>
                    <a:pt x="12" y="136"/>
                  </a:lnTo>
                  <a:lnTo>
                    <a:pt x="18" y="164"/>
                  </a:lnTo>
                  <a:lnTo>
                    <a:pt x="24" y="192"/>
                  </a:lnTo>
                  <a:lnTo>
                    <a:pt x="26" y="198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5803920" y="5931000"/>
              <a:ext cx="190440" cy="250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20" h="158">
                  <a:moveTo>
                    <a:pt x="0" y="0"/>
                  </a:moveTo>
                  <a:lnTo>
                    <a:pt x="12" y="18"/>
                  </a:lnTo>
                  <a:lnTo>
                    <a:pt x="34" y="52"/>
                  </a:lnTo>
                  <a:lnTo>
                    <a:pt x="54" y="82"/>
                  </a:lnTo>
                  <a:lnTo>
                    <a:pt x="72" y="106"/>
                  </a:lnTo>
                  <a:lnTo>
                    <a:pt x="106" y="146"/>
                  </a:lnTo>
                  <a:lnTo>
                    <a:pt x="120" y="158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52"/>
            <p:cNvSpPr/>
            <p:nvPr/>
          </p:nvSpPr>
          <p:spPr>
            <a:xfrm flipH="1" flipV="1">
              <a:off x="5555880" y="6239160"/>
              <a:ext cx="317160" cy="9360"/>
            </a:xfrm>
            <a:prstGeom prst="line">
              <a:avLst/>
            </a:prstGeom>
            <a:ln w="31752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4921200" y="6229440"/>
              <a:ext cx="317160" cy="28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0" h="2">
                  <a:moveTo>
                    <a:pt x="200" y="2"/>
                  </a:moveTo>
                  <a:lnTo>
                    <a:pt x="114" y="2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4286160" y="6229440"/>
              <a:ext cx="317160" cy="936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0" h="6">
                  <a:moveTo>
                    <a:pt x="200" y="0"/>
                  </a:moveTo>
                  <a:lnTo>
                    <a:pt x="108" y="2"/>
                  </a:lnTo>
                  <a:lnTo>
                    <a:pt x="0" y="6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3651120" y="6248520"/>
              <a:ext cx="317160" cy="61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0" h="4">
                  <a:moveTo>
                    <a:pt x="200" y="0"/>
                  </a:moveTo>
                  <a:lnTo>
                    <a:pt x="56" y="4"/>
                  </a:lnTo>
                  <a:lnTo>
                    <a:pt x="0" y="4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3019320" y="6207480"/>
              <a:ext cx="314280" cy="349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98" h="22">
                  <a:moveTo>
                    <a:pt x="198" y="22"/>
                  </a:moveTo>
                  <a:lnTo>
                    <a:pt x="172" y="20"/>
                  </a:lnTo>
                  <a:lnTo>
                    <a:pt x="80" y="10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2406600" y="6042240"/>
              <a:ext cx="298440" cy="1047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88" h="66">
                  <a:moveTo>
                    <a:pt x="188" y="66"/>
                  </a:moveTo>
                  <a:lnTo>
                    <a:pt x="152" y="56"/>
                  </a:lnTo>
                  <a:lnTo>
                    <a:pt x="100" y="40"/>
                  </a:lnTo>
                  <a:lnTo>
                    <a:pt x="50" y="2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1860480" y="5718240"/>
              <a:ext cx="269640" cy="168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70" h="106">
                  <a:moveTo>
                    <a:pt x="170" y="106"/>
                  </a:moveTo>
                  <a:lnTo>
                    <a:pt x="112" y="72"/>
                  </a:lnTo>
                  <a:lnTo>
                    <a:pt x="62" y="42"/>
                  </a:lnTo>
                  <a:lnTo>
                    <a:pt x="12" y="8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1396800" y="5289480"/>
              <a:ext cx="215640" cy="23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36" h="146">
                  <a:moveTo>
                    <a:pt x="136" y="146"/>
                  </a:moveTo>
                  <a:lnTo>
                    <a:pt x="106" y="118"/>
                  </a:lnTo>
                  <a:lnTo>
                    <a:pt x="58" y="70"/>
                  </a:lnTo>
                  <a:lnTo>
                    <a:pt x="14" y="18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1088640" y="4737240"/>
              <a:ext cx="129960" cy="288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2" h="182">
                  <a:moveTo>
                    <a:pt x="82" y="182"/>
                  </a:moveTo>
                  <a:lnTo>
                    <a:pt x="68" y="152"/>
                  </a:lnTo>
                  <a:lnTo>
                    <a:pt x="50" y="118"/>
                  </a:lnTo>
                  <a:lnTo>
                    <a:pt x="18" y="46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14040" y="4127400"/>
              <a:ext cx="72720" cy="3078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6" h="194">
                  <a:moveTo>
                    <a:pt x="46" y="194"/>
                  </a:moveTo>
                  <a:lnTo>
                    <a:pt x="32" y="142"/>
                  </a:lnTo>
                  <a:lnTo>
                    <a:pt x="14" y="72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857160" y="3495600"/>
              <a:ext cx="12600" cy="3175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" h="200">
                  <a:moveTo>
                    <a:pt x="8" y="200"/>
                  </a:moveTo>
                  <a:lnTo>
                    <a:pt x="4" y="144"/>
                  </a:lnTo>
                  <a:lnTo>
                    <a:pt x="0" y="86"/>
                  </a:lnTo>
                  <a:lnTo>
                    <a:pt x="0" y="32"/>
                  </a:lnTo>
                  <a:lnTo>
                    <a:pt x="2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01440" y="2882880"/>
              <a:ext cx="104760" cy="298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66" h="188">
                  <a:moveTo>
                    <a:pt x="0" y="188"/>
                  </a:moveTo>
                  <a:lnTo>
                    <a:pt x="10" y="154"/>
                  </a:lnTo>
                  <a:lnTo>
                    <a:pt x="22" y="114"/>
                  </a:lnTo>
                  <a:lnTo>
                    <a:pt x="36" y="74"/>
                  </a:lnTo>
                  <a:lnTo>
                    <a:pt x="50" y="36"/>
                  </a:lnTo>
                  <a:lnTo>
                    <a:pt x="66" y="0"/>
                  </a:lnTo>
                </a:path>
              </a:pathLst>
            </a:custGeom>
            <a:noFill/>
            <a:ln w="3175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1142640" y="2597040"/>
              <a:ext cx="1440" cy="1440"/>
            </a:xfrm>
            <a:prstGeom prst="line">
              <a:avLst/>
            </a:prstGeom>
            <a:ln w="31752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5940360" y="6080400"/>
              <a:ext cx="876240" cy="46332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552" h="292">
                  <a:moveTo>
                    <a:pt x="190" y="0"/>
                  </a:moveTo>
                  <a:lnTo>
                    <a:pt x="552" y="292"/>
                  </a:lnTo>
                  <a:lnTo>
                    <a:pt x="0" y="23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5743440" y="6026400"/>
              <a:ext cx="876240" cy="46332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552" h="292">
                  <a:moveTo>
                    <a:pt x="190" y="0"/>
                  </a:moveTo>
                  <a:lnTo>
                    <a:pt x="552" y="292"/>
                  </a:lnTo>
                  <a:lnTo>
                    <a:pt x="0" y="228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テキスト ボックス 80"/>
          <p:cNvSpPr/>
          <p:nvPr/>
        </p:nvSpPr>
        <p:spPr>
          <a:xfrm rot="20175000">
            <a:off x="671400" y="1806480"/>
            <a:ext cx="56167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5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週末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の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lm01_ab06016-s" descr=""/>
          <p:cNvPicPr/>
          <p:nvPr/>
        </p:nvPicPr>
        <p:blipFill>
          <a:blip r:embed="rId5"/>
          <a:stretch/>
        </p:blipFill>
        <p:spPr>
          <a:xfrm>
            <a:off x="26441280" y="838080"/>
            <a:ext cx="14651280" cy="9555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5880" y="1219320"/>
            <a:ext cx="21488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15000" spc="-1" strike="noStrike">
                <a:solidFill>
                  <a:srgbClr val="000000"/>
                </a:solidFill>
                <a:latin typeface="Arial"/>
              </a:rPr>
              <a:t>社員旅行などにも…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4724280"/>
            <a:ext cx="149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ご利用うけたまわっております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7:13:30Z</dcterms:created>
  <dc:creator>seisaku</dc:creator>
  <dc:description/>
  <dc:language>en-US</dc:language>
  <cp:lastModifiedBy>ttec</cp:lastModifiedBy>
  <dcterms:modified xsi:type="dcterms:W3CDTF">2012-06-18T09:29:55Z</dcterms:modified>
  <cp:revision>7</cp:revision>
  <dc:subject/>
  <dc:title>スライド 1</dc:title>
</cp:coreProperties>
</file>