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6988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F97D-72DE-49B1-8942-028810334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73A4-2A03-4369-9854-E875C7BD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FD97-85F8-42B4-9083-AC5E5F19B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720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404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36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720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404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954D-AB71-4069-8BF0-7CE79DA62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73B7-7977-4D89-9DD6-96EC43B9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E1B7-53E9-434A-BF8D-EE259F24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B51D-EDC1-431F-97C5-2CCFB653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986A-CAE9-404D-9E45-396A3566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360" y="428400"/>
            <a:ext cx="3888396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0ED9-CF7C-48AB-928A-0275363F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D9A4-877B-4CD0-AB1C-2A2C885F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632E-0EF0-4AB9-A849-DE121675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3359-6B79-48DA-BA60-F47348F4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49000"/>
          </a:bodyPr>
          <a:p>
            <a:pPr marL="565200" indent="-56520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1" marL="1225800" indent="-4712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2" marL="1886400" indent="-37728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3" marL="2640600" indent="-37728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4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5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6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1800" y="9910440"/>
            <a:ext cx="1368108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39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BDA2217A-89DB-4837-B6C0-FEA3CE8062FD}" type="slidenum">
              <a:rPr b="0" lang="ja-JP" sz="4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グループ化 82"/>
          <p:cNvGrpSpPr/>
          <p:nvPr/>
        </p:nvGrpSpPr>
        <p:grpSpPr>
          <a:xfrm>
            <a:off x="3240" y="3240"/>
            <a:ext cx="43195680" cy="10690200"/>
            <a:chOff x="3240" y="3240"/>
            <a:chExt cx="43195680" cy="10690200"/>
          </a:xfrm>
        </p:grpSpPr>
        <p:pic>
          <p:nvPicPr>
            <p:cNvPr id="42" name="Picture 5" descr=""/>
            <p:cNvPicPr/>
            <p:nvPr/>
          </p:nvPicPr>
          <p:blipFill>
            <a:blip r:embed="rId1"/>
            <a:stretch/>
          </p:blipFill>
          <p:spPr>
            <a:xfrm>
              <a:off x="3240" y="3240"/>
              <a:ext cx="36728280" cy="747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6" descr=""/>
            <p:cNvPicPr/>
            <p:nvPr/>
          </p:nvPicPr>
          <p:blipFill>
            <a:blip r:embed="rId2"/>
            <a:stretch/>
          </p:blipFill>
          <p:spPr>
            <a:xfrm>
              <a:off x="14128560" y="2759040"/>
              <a:ext cx="29070360" cy="793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3240" y="3240"/>
            <a:ext cx="4319568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4"/>
          <a:stretch/>
        </p:blipFill>
        <p:spPr>
          <a:xfrm>
            <a:off x="3240" y="9779040"/>
            <a:ext cx="43195680" cy="914400"/>
          </a:xfrm>
          <a:prstGeom prst="rect">
            <a:avLst/>
          </a:prstGeom>
          <a:ln w="0">
            <a:noFill/>
          </a:ln>
        </p:spPr>
      </p:pic>
      <p:grpSp>
        <p:nvGrpSpPr>
          <p:cNvPr id="46" name="グループ化 85"/>
          <p:cNvGrpSpPr/>
          <p:nvPr/>
        </p:nvGrpSpPr>
        <p:grpSpPr>
          <a:xfrm>
            <a:off x="3240" y="0"/>
            <a:ext cx="43198920" cy="10693440"/>
            <a:chOff x="3240" y="0"/>
            <a:chExt cx="43198920" cy="10693440"/>
          </a:xfrm>
        </p:grpSpPr>
        <p:sp>
          <p:nvSpPr>
            <p:cNvPr id="47" name="Freeform 10"/>
            <p:cNvSpPr/>
            <p:nvPr/>
          </p:nvSpPr>
          <p:spPr>
            <a:xfrm>
              <a:off x="3240" y="0"/>
              <a:ext cx="43198920" cy="1005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3079800"/>
                  <a:tab algn="l" pos="6159600"/>
                  <a:tab algn="l" pos="9239400"/>
                </a:tabLst>
              </a:pPr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1"/>
            <p:cNvSpPr/>
            <p:nvPr/>
          </p:nvSpPr>
          <p:spPr>
            <a:xfrm>
              <a:off x="3240" y="269640"/>
              <a:ext cx="43198920" cy="10404720"/>
            </a:xfrm>
            <a:prstGeom prst="pie">
              <a:avLst/>
            </a:pr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3079800"/>
                  <a:tab algn="l" pos="6159600"/>
                  <a:tab algn="l" pos="9239400"/>
                </a:tabLst>
              </a:pPr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2"/>
            <p:cNvSpPr/>
            <p:nvPr/>
          </p:nvSpPr>
          <p:spPr>
            <a:xfrm>
              <a:off x="3240" y="895320"/>
              <a:ext cx="43198920" cy="9798120"/>
            </a:xfrm>
            <a:prstGeom prst="pie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3079800"/>
                  <a:tab algn="l" pos="6159600"/>
                  <a:tab algn="l" pos="9239400"/>
                </a:tabLst>
              </a:pPr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ilm17_ba02001-s" descr=""/>
          <p:cNvPicPr/>
          <p:nvPr/>
        </p:nvPicPr>
        <p:blipFill>
          <a:blip r:embed="rId5"/>
          <a:stretch/>
        </p:blipFill>
        <p:spPr>
          <a:xfrm>
            <a:off x="27279720" y="777960"/>
            <a:ext cx="11441160" cy="9136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15280" y="1219320"/>
            <a:ext cx="10848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20000" spc="-1" strike="noStrike">
                <a:solidFill>
                  <a:srgbClr val="000000"/>
                </a:solidFill>
                <a:latin typeface="Arial"/>
              </a:rPr>
              <a:t>高齢者優先バス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4538520"/>
            <a:ext cx="20421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8000" spc="-1" strike="noStrike">
                <a:solidFill>
                  <a:srgbClr val="000000"/>
                </a:solidFill>
                <a:latin typeface="Arial"/>
              </a:rPr>
              <a:t>みなさまの御協力よろしくお願いいたします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07:13:30Z</dcterms:created>
  <dc:creator>seisaku</dc:creator>
  <dc:description/>
  <dc:language>en-US</dc:language>
  <cp:lastModifiedBy>ttec</cp:lastModifiedBy>
  <dcterms:modified xsi:type="dcterms:W3CDTF">2012-06-18T09:27:01Z</dcterms:modified>
  <cp:revision>15</cp:revision>
  <dc:subject/>
  <dc:title>スライド 1</dc:title>
</cp:coreProperties>
</file>