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14113" cy="45720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E24C-0FF6-44F4-8A13-6D07BCDF5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4063680"/>
            <a:ext cx="9617040" cy="7620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49240" y="13208040"/>
            <a:ext cx="961704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49240" y="27536400"/>
            <a:ext cx="961704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1217-9655-4D85-B5DD-5727D93AE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49240" y="4063680"/>
            <a:ext cx="9617040" cy="7620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9240" y="13208040"/>
            <a:ext cx="46929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77280" y="13208040"/>
            <a:ext cx="46929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49240" y="27536400"/>
            <a:ext cx="46929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77280" y="27536400"/>
            <a:ext cx="46929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BBFB-AC11-48AC-8FE9-DE0A208A6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49240" y="4063680"/>
            <a:ext cx="9617040" cy="7620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49240" y="13208040"/>
            <a:ext cx="30963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88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00760" y="13208040"/>
            <a:ext cx="30963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88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352280" y="13208040"/>
            <a:ext cx="30963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88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49240" y="27536400"/>
            <a:ext cx="30963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88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00760" y="27536400"/>
            <a:ext cx="30963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88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352280" y="27536400"/>
            <a:ext cx="30963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88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13DA-51C5-4E81-8A57-F5DAD3168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49240" y="4063680"/>
            <a:ext cx="9617040" cy="7620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49240" y="13208040"/>
            <a:ext cx="9617040" cy="27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49"/>
              </a:spcBef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2D0C-A2B8-4388-8552-251796AC3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9240" y="4063680"/>
            <a:ext cx="9617040" cy="7620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49240" y="13208040"/>
            <a:ext cx="9617040" cy="27432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1822-E91E-4D72-84E5-F73CF74D9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4063680"/>
            <a:ext cx="9617040" cy="7620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49240" y="13208040"/>
            <a:ext cx="4692960" cy="27432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77280" y="13208040"/>
            <a:ext cx="4692960" cy="27432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1FF8-334A-4EB7-A4C9-8CD0FBB78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49240" y="4063680"/>
            <a:ext cx="9617040" cy="7620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F6AC-F606-4B1C-AEEF-B4A45CEBF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49240" y="4063680"/>
            <a:ext cx="9617040" cy="3532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49"/>
              </a:spcBef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B589-DD96-4BC8-9183-F55D835B1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9240" y="4063680"/>
            <a:ext cx="9617040" cy="7620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49240" y="13208040"/>
            <a:ext cx="46929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77280" y="13208040"/>
            <a:ext cx="4692960" cy="27432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49240" y="27536400"/>
            <a:ext cx="46929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03C1-EA73-4FA7-B7EA-6DBDCEDD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49240" y="4063680"/>
            <a:ext cx="9617040" cy="7620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49240" y="13208040"/>
            <a:ext cx="4692960" cy="27432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77280" y="13208040"/>
            <a:ext cx="46929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77280" y="27536400"/>
            <a:ext cx="46929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ED36-E2A2-4F56-BBAF-42A8A131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49240" y="4063680"/>
            <a:ext cx="9617040" cy="7620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49240" y="13208040"/>
            <a:ext cx="46929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77280" y="13208040"/>
            <a:ext cx="46929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49240" y="27536400"/>
            <a:ext cx="961704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BBBC-7CBB-419D-9356-9725F6AE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4063680"/>
            <a:ext cx="9617040" cy="7620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r>
              <a:rPr b="0" lang="en-US" sz="15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49240" y="13208040"/>
            <a:ext cx="9617040" cy="27432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74000"/>
          </a:bodyPr>
          <a:p>
            <a:pPr marL="904320" indent="-904320">
              <a:spcBef>
                <a:spcPts val="2849"/>
              </a:spcBef>
              <a:buClr>
                <a:srgbClr val="000000"/>
              </a:buClr>
              <a:buFont typeface="Times New Roman"/>
              <a:buChar char="•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59120" indent="-753840">
              <a:spcBef>
                <a:spcPts val="2849"/>
              </a:spcBef>
              <a:buClr>
                <a:srgbClr val="000000"/>
              </a:buClr>
              <a:buFont typeface="Times New Roman"/>
              <a:buChar char="–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014280" indent="-602280">
              <a:spcBef>
                <a:spcPts val="2849"/>
              </a:spcBef>
              <a:buClr>
                <a:srgbClr val="000000"/>
              </a:buClr>
              <a:buFont typeface="Times New Roman"/>
              <a:buChar char="•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3" marL="4220640" indent="-603360">
              <a:spcBef>
                <a:spcPts val="2849"/>
              </a:spcBef>
              <a:buClr>
                <a:srgbClr val="000000"/>
              </a:buClr>
              <a:buFont typeface="Times New Roman"/>
              <a:buChar char="–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4" marL="5426280" indent="-602640">
              <a:spcBef>
                <a:spcPts val="2849"/>
              </a:spcBef>
              <a:buClr>
                <a:srgbClr val="000000"/>
              </a:buClr>
              <a:buFont typeface="Times New Roman"/>
              <a:buChar char="»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5" marL="5426280" indent="-602640">
              <a:spcBef>
                <a:spcPts val="2849"/>
              </a:spcBef>
              <a:buClr>
                <a:srgbClr val="000000"/>
              </a:buClr>
              <a:buFont typeface="Times New Roman"/>
              <a:buChar char="»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6" marL="5426280" indent="-602640">
              <a:spcBef>
                <a:spcPts val="2849"/>
              </a:spcBef>
              <a:buClr>
                <a:srgbClr val="000000"/>
              </a:buClr>
              <a:buFont typeface="Times New Roman"/>
              <a:buChar char="»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48880" y="41655600"/>
            <a:ext cx="2357640" cy="3048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Autofit/>
          </a:bodyPr>
          <a:lstStyle>
            <a:lvl1pPr indent="0">
              <a:buNone/>
              <a:tabLst>
                <a:tab algn="l" pos="0"/>
                <a:tab algn="l" pos="3259080"/>
                <a:tab algn="l" pos="6518160"/>
                <a:tab algn="l" pos="9777240"/>
              </a:tabLst>
              <a:defRPr b="0" lang="en-US" sz="5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65320" y="41655600"/>
            <a:ext cx="3584520" cy="3048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Autofit/>
          </a:bodyPr>
          <a:lstStyle>
            <a:lvl1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  <a:defRPr b="0" lang="en-US" sz="5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09000" y="41655600"/>
            <a:ext cx="2357280" cy="3048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Autofit/>
          </a:bodyPr>
          <a:lstStyle>
            <a:lvl1pPr indent="0" algn="r">
              <a:buNone/>
              <a:tabLst>
                <a:tab algn="l" pos="0"/>
                <a:tab algn="l" pos="3259080"/>
                <a:tab algn="l" pos="6518160"/>
                <a:tab algn="l" pos="9777240"/>
              </a:tabLst>
              <a:defRPr b="0" lang="en-US" sz="5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fld id="{E60F8915-5173-48C4-9395-561EF78183E8}" type="slidenum"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84080" y="1689120"/>
            <a:ext cx="9626760" cy="7848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38080" y="914400"/>
            <a:ext cx="9601200" cy="43586280"/>
          </a:xfrm>
          <a:prstGeom prst="rect">
            <a:avLst/>
          </a:prstGeom>
          <a:noFill/>
          <a:ln w="127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3280" y="2743200"/>
            <a:ext cx="7799400" cy="419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0" spc="-1" strike="noStrike">
                <a:solidFill>
                  <a:srgbClr val="000000"/>
                </a:solidFill>
                <a:latin typeface="Times New Roman"/>
                <a:ea typeface="ＤＦＧ超極太ゴシック体"/>
              </a:rPr>
              <a:t>秋の全国交通安全運動実施中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2:12:56Z</dcterms:created>
  <dc:creator>ttec</dc:creator>
  <dc:description/>
  <dc:language>en-US</dc:language>
  <cp:lastModifiedBy>fukase3</cp:lastModifiedBy>
  <dcterms:modified xsi:type="dcterms:W3CDTF">2009-01-16T08:26:11Z</dcterms:modified>
  <cp:revision>7</cp:revision>
  <dc:subject/>
  <dc:title>PowerPoint プレゼンテーション</dc:title>
</cp:coreProperties>
</file>