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10234613" cy="4274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F83-A51B-4A65-86A5-F8FD0995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286-562E-4900-AB92-50CF0591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A51-7E39-4CEF-B65E-53C7431C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320-96C4-407F-821F-C8E507AD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3D6-8265-487D-91D9-99EFDDFB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B8C-2B16-4D4A-A742-CCD182E1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FFA-E7B5-4760-8DAE-714E67BA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A11-54DE-4BB8-A3DE-E9B96CEE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9F9-0032-4FD2-968C-173BB3D9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4DD-20EA-4AAA-BE2B-195A6FE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B25-5B3D-42A8-A0AE-6092D404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A30-52E8-440D-8BC8-6C5312E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33458731-F0D6-4090-8D17-A03A98E74CC5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81040" y="1330200"/>
            <a:ext cx="8783640" cy="893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914400"/>
            <a:ext cx="9601200" cy="43586280"/>
          </a:xfrm>
          <a:prstGeom prst="rect">
            <a:avLst/>
          </a:prstGeom>
          <a:noFill/>
          <a:ln w="127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743200"/>
            <a:ext cx="7799400" cy="41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春の全国交通安全運動実施中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8:21:35Z</dcterms:modified>
  <cp:revision>10</cp:revision>
  <dc:subject/>
  <dc:title>PowerPoint プレゼンテーション</dc:title>
</cp:coreProperties>
</file>