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22D-CFC2-49B6-96EB-BF9C874F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2A0-FBC2-417F-92D6-5A6BD73F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C56-8D2C-4029-AEA8-C91576E5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7DB-26CE-461C-896D-AF125DB9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374-D4A8-41CD-AFF0-29202C48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50A-3127-44DF-A2F5-C90D7201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E6C-A551-4A70-8C82-770D82EA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8A7-2317-4EED-AA47-17F5B594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4063680"/>
            <a:ext cx="9617040" cy="353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CE4-8291-42E7-837F-713A5806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F59-8039-4676-8D6F-0FBDF772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EFF-BF01-4DE9-912E-18A66C19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C53-6FE3-45E8-815F-F0345ED4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4000"/>
          </a:bodyPr>
          <a:p>
            <a:pPr marL="904320" indent="-9043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9120" indent="-753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014280" indent="-6022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4220640" indent="-60336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41655600"/>
            <a:ext cx="235764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41655600"/>
            <a:ext cx="358452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41655600"/>
            <a:ext cx="235728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838E4C98-C1D5-4A8B-B8E4-57E89F12FAA1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8680" y="1473120"/>
            <a:ext cx="7620120" cy="981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914400"/>
            <a:ext cx="9601200" cy="435862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2743200"/>
            <a:ext cx="7799400" cy="419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夏の全国交通安全運動実施中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fukase3</cp:lastModifiedBy>
  <dcterms:modified xsi:type="dcterms:W3CDTF">2009-01-16T08:24:04Z</dcterms:modified>
  <cp:revision>9</cp:revision>
  <dc:subject/>
  <dc:title>PowerPoint プレゼンテーション</dc:title>
</cp:coreProperties>
</file>