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9BA-AF11-4278-812F-548B95D4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FF3-70FE-4539-9093-96B5789E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EDE-B9C2-4CA3-A3B3-1D94A60A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9E8-6691-4C6C-9797-9A96D6C9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643-BD27-467C-AADA-A6AAC10D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0F1-3353-4FEB-89C4-13CFA1E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E46-6B59-4C35-B76A-CEFBEF37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31A-C7B9-48F5-A46D-562873FB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886-3F65-471C-8357-DFC0623C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B4D-D666-42B1-A0C1-6FEE7B6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265-0481-4ACC-9786-B5FD3D19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20F-A6E2-42F5-B1E4-41FBB04F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9AC0089E-F27F-4E76-8FED-33F095D61A39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9720" y="1257480"/>
            <a:ext cx="8477280" cy="1022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914400"/>
            <a:ext cx="9601200" cy="43586280"/>
          </a:xfrm>
          <a:prstGeom prst="rect">
            <a:avLst/>
          </a:prstGeom>
          <a:noFill/>
          <a:ln w="127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770200"/>
            <a:ext cx="7799400" cy="41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冬の全国交通安全運動実施中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8:31:02Z</dcterms:modified>
  <cp:revision>10</cp:revision>
  <dc:subject/>
  <dc:title>PowerPoint プレゼンテーション</dc:title>
</cp:coreProperties>
</file>