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7225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D36-57F0-4482-AEFA-F1A65ECC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026-5F7D-4A7B-A44D-16DFE8ED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DA3-76C7-4D8D-8F1F-EE3E6B2E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2600" y="249408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784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2600" y="6178320"/>
            <a:ext cx="93924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1D6-07B1-4886-9B38-761DB875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0D4-7D86-4332-B01D-32B15648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2DE-2D43-4BE1-850A-E28F5301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DCC-F43F-429F-9963-196560F4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FAA-75A3-4E60-84CC-67E03537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7840" y="428400"/>
            <a:ext cx="291700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E62-6160-4583-8141-4A402FFC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370-028A-4857-885C-4D0A86B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4680" y="617832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AF9-9577-4111-9885-0BB39F4E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784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4680" y="2494080"/>
            <a:ext cx="1423476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7840" y="6178320"/>
            <a:ext cx="291700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7E0-D59D-4D8D-ADDE-BFBBDD4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7840" y="428400"/>
            <a:ext cx="291700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7840" y="2494080"/>
            <a:ext cx="291700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7840" y="9905760"/>
            <a:ext cx="75657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9640" y="9905760"/>
            <a:ext cx="102664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1440" y="9905760"/>
            <a:ext cx="75661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D8A83336-E424-4325-B324-1314C39F1932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3"/>
          <p:cNvSpPr/>
          <p:nvPr/>
        </p:nvSpPr>
        <p:spPr>
          <a:xfrm>
            <a:off x="635040" y="584280"/>
            <a:ext cx="31127760" cy="9512280"/>
          </a:xfrm>
          <a:prstGeom prst="roundRect">
            <a:avLst>
              <a:gd name="adj" fmla="val 13329"/>
            </a:avLst>
          </a:prstGeom>
          <a:solidFill>
            <a:srgbClr val="e51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角丸四角形 5"/>
          <p:cNvSpPr/>
          <p:nvPr/>
        </p:nvSpPr>
        <p:spPr>
          <a:xfrm>
            <a:off x="4222800" y="1197000"/>
            <a:ext cx="26447760" cy="6518160"/>
          </a:xfrm>
          <a:prstGeom prst="roundRect">
            <a:avLst>
              <a:gd name="adj" fmla="val 12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4" descr=""/>
          <p:cNvPicPr/>
          <p:nvPr/>
        </p:nvPicPr>
        <p:blipFill>
          <a:blip r:embed="rId1"/>
          <a:stretch/>
        </p:blipFill>
        <p:spPr>
          <a:xfrm>
            <a:off x="9283680" y="1949400"/>
            <a:ext cx="19913760" cy="5054760"/>
          </a:xfrm>
          <a:prstGeom prst="rect">
            <a:avLst/>
          </a:prstGeom>
          <a:ln w="0">
            <a:noFill/>
          </a:ln>
        </p:spPr>
      </p:pic>
      <p:sp>
        <p:nvSpPr>
          <p:cNvPr id="44" name="円/楕円 6"/>
          <p:cNvSpPr/>
          <p:nvPr/>
        </p:nvSpPr>
        <p:spPr>
          <a:xfrm>
            <a:off x="1936800" y="1333440"/>
            <a:ext cx="6286320" cy="6286680"/>
          </a:xfrm>
          <a:prstGeom prst="ellipse">
            <a:avLst/>
          </a:prstGeom>
          <a:solidFill>
            <a:srgbClr val="e51572"/>
          </a:soli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7" descr=""/>
          <p:cNvPicPr/>
          <p:nvPr/>
        </p:nvPicPr>
        <p:blipFill>
          <a:blip r:embed="rId2"/>
          <a:stretch/>
        </p:blipFill>
        <p:spPr>
          <a:xfrm>
            <a:off x="3181320" y="3149640"/>
            <a:ext cx="3746520" cy="260352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8"/>
          <p:cNvSpPr/>
          <p:nvPr/>
        </p:nvSpPr>
        <p:spPr>
          <a:xfrm>
            <a:off x="9603720" y="821196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7200" spc="-1" strike="noStrike">
                <a:solidFill>
                  <a:srgbClr val="ffff00"/>
                </a:solidFill>
                <a:latin typeface="Calibri"/>
              </a:rPr>
              <a:t>私たちは安心・安全運転を心がけています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3"/>
          <p:cNvSpPr/>
          <p:nvPr/>
        </p:nvSpPr>
        <p:spPr>
          <a:xfrm>
            <a:off x="24381000" y="821196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7200" spc="-1" strike="noStrike">
                <a:solidFill>
                  <a:srgbClr val="ffffff"/>
                </a:solidFill>
                <a:latin typeface="Calibri"/>
              </a:rPr>
              <a:t>（株） エコクリ観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株式会社ジーン macpro2</cp:lastModifiedBy>
  <cp:lastPrinted>2013-02-18T10:15:44Z</cp:lastPrinted>
  <dcterms:modified xsi:type="dcterms:W3CDTF">2013-02-18T11:08:20Z</dcterms:modified>
  <cp:revision>17</cp:revision>
  <dc:subject/>
  <dc:title>PowerPoint プレゼンテーション</dc:title>
</cp:coreProperties>
</file>